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187-7E1D-4D69-B481-2D58AD03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C00-A6A1-4405-967B-FEA8061C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40F-B997-4246-AA07-7062C247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4D7-F272-4250-B25D-3321464E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CE6-7DEF-4DC4-995A-59E9CA2B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BD8-8B8A-4294-B55A-32E5D961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ABD-54F9-48F0-B9AA-D45869BB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02A-E111-4E93-B759-79B775C2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215-A9D2-4FE2-AF75-BD0A27B0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A44-AB64-4635-96ED-6DD7641A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51A-C8FF-4801-9BE4-FCB7AF6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6AE-928B-4892-B95E-4AE99A4A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6D92-0AC9-44D5-AEDF-919F682B2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04920"/>
            <a:ext cx="8382240" cy="60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ereaRM01" descr=""/>
          <p:cNvPicPr/>
          <p:nvPr/>
        </p:nvPicPr>
        <p:blipFill>
          <a:blip r:embed="rId1"/>
          <a:stretch/>
        </p:blipFill>
        <p:spPr>
          <a:xfrm>
            <a:off x="1076400" y="0"/>
            <a:ext cx="8067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entury Gothic"/>
              </a:rPr>
              <a:t>SantiagoRegió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65293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Secretaría Ministerial Metropolitana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534000"/>
            <a:ext cx="1104840" cy="293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5280" y="152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Modificación 48 P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Desarrollos Condi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906-1D14-486D-BD70-BF4B5C40D25C}" type="slidenum">
              <a:t>1</a:t>
            </a:fld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029200" y="281952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5410080"/>
            <a:ext cx="373392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581280"/>
            <a:ext cx="373392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434340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1295280"/>
            <a:ext cx="365760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838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2057400"/>
            <a:ext cx="365760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VENTA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65160"/>
            <a:ext cx="5083200" cy="6723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029200" y="0"/>
            <a:ext cx="4114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Incorporación Provincia de Chacabuco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20574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Fortalecimiento de ciudades secundarias</a:t>
            </a:r>
            <a:r>
              <a:rPr b="0" lang="es-MX" sz="1600" spc="-1" strike="noStrike">
                <a:solidFill>
                  <a:srgbClr val="ff99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2971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Incorporación Sector Pri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129528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10.000 Há. nuevo suelo urbano                para Santiag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44956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Desarrollos Urbanos Plan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4100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Falta de Mecanismos                             de financiamiento</a:t>
            </a:r>
            <a:r>
              <a:rPr b="1" lang="es-MX" sz="1200" spc="-1" strike="noStrike">
                <a:solidFill>
                  <a:srgbClr val="ff9900"/>
                </a:solidFill>
                <a:latin typeface="Century Goth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3581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Creación Sistema de Desarrollo Condi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617220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63244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Discrecionalidad normativa</a:t>
            </a:r>
            <a:r>
              <a:rPr b="1" lang="es-MX" sz="1200" spc="-1" strike="noStrike">
                <a:solidFill>
                  <a:srgbClr val="ff9900"/>
                </a:solidFill>
                <a:latin typeface="Century Goth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3DB-1BC6-4E18-869A-EF4215C3B507}" type="slidenum">
              <a:t>10</a:t>
            </a:fld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9880" y="331920"/>
            <a:ext cx="52578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Modelo Chacabuco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US$ 106 MILLONES</a:t>
            </a: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089000"/>
            <a:ext cx="6265800" cy="5388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34120" y="1447920"/>
            <a:ext cx="365760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16002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Planificación de 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2209680"/>
            <a:ext cx="365760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2362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Internalización de impactos</a:t>
            </a:r>
            <a:r>
              <a:rPr b="0" lang="es-MX" sz="1200" spc="-1" strike="noStrike">
                <a:solidFill>
                  <a:srgbClr val="ff99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2971800"/>
            <a:ext cx="365760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124080"/>
            <a:ext cx="3657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Sistema de Ciudades Financi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952880"/>
            <a:ext cx="2819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Aporte de nuevas Areas Urbanas a financiamiento de inversiones regionales y locales por más de $ 4.5 millones de 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F4A-2F58-425F-94FC-FF252B4D35F2}" type="slidenum">
              <a:t>11</a:t>
            </a:fld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78760" y="580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286000"/>
            <a:ext cx="4572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MECAN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MODIFICACIÓN 48 P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Proyectos de Desarrollo Condicio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407-12BD-48B8-9704-D1FDE4BBDA48}" type="slidenum">
              <a:t>12</a:t>
            </a:fld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zonacentro06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84072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0" y="1546200"/>
            <a:ext cx="9010800" cy="4465080"/>
            <a:chOff x="0" y="1546200"/>
            <a:chExt cx="9010800" cy="4465080"/>
          </a:xfrm>
        </p:grpSpPr>
        <p:grpSp>
          <p:nvGrpSpPr>
            <p:cNvPr id="240" name=""/>
            <p:cNvGrpSpPr/>
            <p:nvPr/>
          </p:nvGrpSpPr>
          <p:grpSpPr>
            <a:xfrm>
              <a:off x="4702320" y="1546200"/>
              <a:ext cx="4308480" cy="4465080"/>
              <a:chOff x="4702320" y="1546200"/>
              <a:chExt cx="4308480" cy="44650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212080" y="1546200"/>
                <a:ext cx="2977920" cy="4044600"/>
                <a:chOff x="5212080" y="1546200"/>
                <a:chExt cx="2977920" cy="40446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7307280" y="4717800"/>
                  <a:ext cx="63720" cy="6984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29" y="0"/>
                      </a:moveTo>
                      <a:lnTo>
                        <a:pt x="82" y="8"/>
                      </a:lnTo>
                      <a:lnTo>
                        <a:pt x="81" y="27"/>
                      </a:lnTo>
                      <a:lnTo>
                        <a:pt x="80" y="39"/>
                      </a:lnTo>
                      <a:lnTo>
                        <a:pt x="81" y="43"/>
                      </a:lnTo>
                      <a:lnTo>
                        <a:pt x="81" y="44"/>
                      </a:lnTo>
                      <a:lnTo>
                        <a:pt x="82" y="46"/>
                      </a:lnTo>
                      <a:lnTo>
                        <a:pt x="105" y="47"/>
                      </a:lnTo>
                      <a:lnTo>
                        <a:pt x="122" y="48"/>
                      </a:lnTo>
                      <a:lnTo>
                        <a:pt x="110" y="92"/>
                      </a:lnTo>
                      <a:lnTo>
                        <a:pt x="44" y="131"/>
                      </a:lnTo>
                      <a:lnTo>
                        <a:pt x="37" y="133"/>
                      </a:lnTo>
                      <a:lnTo>
                        <a:pt x="23" y="134"/>
                      </a:lnTo>
                      <a:lnTo>
                        <a:pt x="15" y="134"/>
                      </a:lnTo>
                      <a:lnTo>
                        <a:pt x="10" y="134"/>
                      </a:lnTo>
                      <a:lnTo>
                        <a:pt x="7" y="134"/>
                      </a:lnTo>
                      <a:lnTo>
                        <a:pt x="4" y="134"/>
                      </a:lnTo>
                      <a:lnTo>
                        <a:pt x="4" y="133"/>
                      </a:lnTo>
                      <a:lnTo>
                        <a:pt x="4" y="131"/>
                      </a:lnTo>
                      <a:lnTo>
                        <a:pt x="4" y="128"/>
                      </a:lnTo>
                      <a:lnTo>
                        <a:pt x="4" y="120"/>
                      </a:lnTo>
                      <a:lnTo>
                        <a:pt x="2" y="101"/>
                      </a:lnTo>
                      <a:lnTo>
                        <a:pt x="0" y="91"/>
                      </a:lnTo>
                      <a:lnTo>
                        <a:pt x="0" y="81"/>
                      </a:lnTo>
                      <a:lnTo>
                        <a:pt x="2" y="76"/>
                      </a:lnTo>
                      <a:lnTo>
                        <a:pt x="2" y="73"/>
                      </a:lnTo>
                      <a:lnTo>
                        <a:pt x="3" y="73"/>
                      </a:lnTo>
                      <a:lnTo>
                        <a:pt x="18" y="69"/>
                      </a:lnTo>
                      <a:lnTo>
                        <a:pt x="25" y="66"/>
                      </a:lnTo>
                      <a:lnTo>
                        <a:pt x="28" y="64"/>
                      </a:lnTo>
                      <a:lnTo>
                        <a:pt x="29" y="62"/>
                      </a:lnTo>
                      <a:lnTo>
                        <a:pt x="29" y="50"/>
                      </a:lnTo>
                      <a:lnTo>
                        <a:pt x="28" y="30"/>
                      </a:lnTo>
                      <a:lnTo>
                        <a:pt x="25" y="2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685280" y="2236680"/>
                  <a:ext cx="98280" cy="181080"/>
                </a:xfrm>
                <a:custGeom>
                  <a:avLst/>
                  <a:gdLst/>
                  <a:ahLst/>
                  <a:rect l="l" t="t" r="r" b="b"/>
                  <a:pathLst>
                    <a:path w="191" h="351">
                      <a:moveTo>
                        <a:pt x="1" y="340"/>
                      </a:moveTo>
                      <a:lnTo>
                        <a:pt x="0" y="326"/>
                      </a:lnTo>
                      <a:lnTo>
                        <a:pt x="11" y="319"/>
                      </a:lnTo>
                      <a:lnTo>
                        <a:pt x="16" y="315"/>
                      </a:lnTo>
                      <a:lnTo>
                        <a:pt x="21" y="311"/>
                      </a:lnTo>
                      <a:lnTo>
                        <a:pt x="28" y="304"/>
                      </a:lnTo>
                      <a:lnTo>
                        <a:pt x="34" y="299"/>
                      </a:lnTo>
                      <a:lnTo>
                        <a:pt x="46" y="291"/>
                      </a:lnTo>
                      <a:lnTo>
                        <a:pt x="61" y="282"/>
                      </a:lnTo>
                      <a:lnTo>
                        <a:pt x="67" y="275"/>
                      </a:lnTo>
                      <a:lnTo>
                        <a:pt x="73" y="272"/>
                      </a:lnTo>
                      <a:lnTo>
                        <a:pt x="79" y="260"/>
                      </a:lnTo>
                      <a:lnTo>
                        <a:pt x="86" y="249"/>
                      </a:lnTo>
                      <a:lnTo>
                        <a:pt x="90" y="239"/>
                      </a:lnTo>
                      <a:lnTo>
                        <a:pt x="91" y="233"/>
                      </a:lnTo>
                      <a:lnTo>
                        <a:pt x="95" y="227"/>
                      </a:lnTo>
                      <a:lnTo>
                        <a:pt x="99" y="216"/>
                      </a:lnTo>
                      <a:lnTo>
                        <a:pt x="103" y="204"/>
                      </a:lnTo>
                      <a:lnTo>
                        <a:pt x="106" y="192"/>
                      </a:lnTo>
                      <a:lnTo>
                        <a:pt x="107" y="184"/>
                      </a:lnTo>
                      <a:lnTo>
                        <a:pt x="107" y="155"/>
                      </a:lnTo>
                      <a:lnTo>
                        <a:pt x="107" y="152"/>
                      </a:lnTo>
                      <a:lnTo>
                        <a:pt x="107" y="146"/>
                      </a:lnTo>
                      <a:lnTo>
                        <a:pt x="108" y="134"/>
                      </a:lnTo>
                      <a:lnTo>
                        <a:pt x="110" y="128"/>
                      </a:lnTo>
                      <a:lnTo>
                        <a:pt x="112" y="123"/>
                      </a:lnTo>
                      <a:lnTo>
                        <a:pt x="113" y="119"/>
                      </a:lnTo>
                      <a:lnTo>
                        <a:pt x="116" y="115"/>
                      </a:lnTo>
                      <a:lnTo>
                        <a:pt x="123" y="108"/>
                      </a:lnTo>
                      <a:lnTo>
                        <a:pt x="131" y="100"/>
                      </a:lnTo>
                      <a:lnTo>
                        <a:pt x="137" y="92"/>
                      </a:lnTo>
                      <a:lnTo>
                        <a:pt x="139" y="90"/>
                      </a:lnTo>
                      <a:lnTo>
                        <a:pt x="142" y="84"/>
                      </a:lnTo>
                      <a:lnTo>
                        <a:pt x="145" y="80"/>
                      </a:lnTo>
                      <a:lnTo>
                        <a:pt x="146" y="76"/>
                      </a:lnTo>
                      <a:lnTo>
                        <a:pt x="148" y="72"/>
                      </a:lnTo>
                      <a:lnTo>
                        <a:pt x="148" y="68"/>
                      </a:lnTo>
                      <a:lnTo>
                        <a:pt x="148" y="39"/>
                      </a:lnTo>
                      <a:lnTo>
                        <a:pt x="146" y="38"/>
                      </a:lnTo>
                      <a:lnTo>
                        <a:pt x="145" y="33"/>
                      </a:lnTo>
                      <a:lnTo>
                        <a:pt x="145" y="29"/>
                      </a:lnTo>
                      <a:lnTo>
                        <a:pt x="145" y="26"/>
                      </a:lnTo>
                      <a:lnTo>
                        <a:pt x="145" y="24"/>
                      </a:lnTo>
                      <a:lnTo>
                        <a:pt x="146" y="22"/>
                      </a:lnTo>
                      <a:lnTo>
                        <a:pt x="146" y="20"/>
                      </a:lnTo>
                      <a:lnTo>
                        <a:pt x="148" y="18"/>
                      </a:lnTo>
                      <a:lnTo>
                        <a:pt x="154" y="12"/>
                      </a:lnTo>
                      <a:lnTo>
                        <a:pt x="161" y="6"/>
                      </a:lnTo>
                      <a:lnTo>
                        <a:pt x="169" y="1"/>
                      </a:lnTo>
                      <a:lnTo>
                        <a:pt x="179" y="0"/>
                      </a:lnTo>
                      <a:lnTo>
                        <a:pt x="183" y="16"/>
                      </a:lnTo>
                      <a:lnTo>
                        <a:pt x="182" y="24"/>
                      </a:lnTo>
                      <a:lnTo>
                        <a:pt x="181" y="29"/>
                      </a:lnTo>
                      <a:lnTo>
                        <a:pt x="179" y="34"/>
                      </a:lnTo>
                      <a:lnTo>
                        <a:pt x="183" y="43"/>
                      </a:lnTo>
                      <a:lnTo>
                        <a:pt x="185" y="49"/>
                      </a:lnTo>
                      <a:lnTo>
                        <a:pt x="185" y="53"/>
                      </a:lnTo>
                      <a:lnTo>
                        <a:pt x="186" y="61"/>
                      </a:lnTo>
                      <a:lnTo>
                        <a:pt x="186" y="70"/>
                      </a:lnTo>
                      <a:lnTo>
                        <a:pt x="187" y="80"/>
                      </a:lnTo>
                      <a:lnTo>
                        <a:pt x="187" y="91"/>
                      </a:lnTo>
                      <a:lnTo>
                        <a:pt x="190" y="100"/>
                      </a:lnTo>
                      <a:lnTo>
                        <a:pt x="191" y="105"/>
                      </a:lnTo>
                      <a:lnTo>
                        <a:pt x="190" y="109"/>
                      </a:lnTo>
                      <a:lnTo>
                        <a:pt x="189" y="112"/>
                      </a:lnTo>
                      <a:lnTo>
                        <a:pt x="187" y="119"/>
                      </a:lnTo>
                      <a:lnTo>
                        <a:pt x="186" y="124"/>
                      </a:lnTo>
                      <a:lnTo>
                        <a:pt x="183" y="133"/>
                      </a:lnTo>
                      <a:lnTo>
                        <a:pt x="182" y="137"/>
                      </a:lnTo>
                      <a:lnTo>
                        <a:pt x="178" y="142"/>
                      </a:lnTo>
                      <a:lnTo>
                        <a:pt x="175" y="145"/>
                      </a:lnTo>
                      <a:lnTo>
                        <a:pt x="173" y="146"/>
                      </a:lnTo>
                      <a:lnTo>
                        <a:pt x="170" y="148"/>
                      </a:lnTo>
                      <a:lnTo>
                        <a:pt x="168" y="149"/>
                      </a:lnTo>
                      <a:lnTo>
                        <a:pt x="160" y="150"/>
                      </a:lnTo>
                      <a:lnTo>
                        <a:pt x="153" y="153"/>
                      </a:lnTo>
                      <a:lnTo>
                        <a:pt x="146" y="155"/>
                      </a:lnTo>
                      <a:lnTo>
                        <a:pt x="145" y="157"/>
                      </a:lnTo>
                      <a:lnTo>
                        <a:pt x="144" y="162"/>
                      </a:lnTo>
                      <a:lnTo>
                        <a:pt x="144" y="171"/>
                      </a:lnTo>
                      <a:lnTo>
                        <a:pt x="145" y="190"/>
                      </a:lnTo>
                      <a:lnTo>
                        <a:pt x="146" y="194"/>
                      </a:lnTo>
                      <a:lnTo>
                        <a:pt x="148" y="199"/>
                      </a:lnTo>
                      <a:lnTo>
                        <a:pt x="152" y="208"/>
                      </a:lnTo>
                      <a:lnTo>
                        <a:pt x="153" y="214"/>
                      </a:lnTo>
                      <a:lnTo>
                        <a:pt x="153" y="216"/>
                      </a:lnTo>
                      <a:lnTo>
                        <a:pt x="152" y="219"/>
                      </a:lnTo>
                      <a:lnTo>
                        <a:pt x="149" y="225"/>
                      </a:lnTo>
                      <a:lnTo>
                        <a:pt x="145" y="231"/>
                      </a:lnTo>
                      <a:lnTo>
                        <a:pt x="141" y="236"/>
                      </a:lnTo>
                      <a:lnTo>
                        <a:pt x="136" y="243"/>
                      </a:lnTo>
                      <a:lnTo>
                        <a:pt x="128" y="254"/>
                      </a:lnTo>
                      <a:lnTo>
                        <a:pt x="119" y="265"/>
                      </a:lnTo>
                      <a:lnTo>
                        <a:pt x="110" y="277"/>
                      </a:lnTo>
                      <a:lnTo>
                        <a:pt x="100" y="287"/>
                      </a:lnTo>
                      <a:lnTo>
                        <a:pt x="94" y="293"/>
                      </a:lnTo>
                      <a:lnTo>
                        <a:pt x="88" y="297"/>
                      </a:lnTo>
                      <a:lnTo>
                        <a:pt x="82" y="301"/>
                      </a:lnTo>
                      <a:lnTo>
                        <a:pt x="77" y="306"/>
                      </a:lnTo>
                      <a:lnTo>
                        <a:pt x="70" y="314"/>
                      </a:lnTo>
                      <a:lnTo>
                        <a:pt x="66" y="318"/>
                      </a:lnTo>
                      <a:lnTo>
                        <a:pt x="61" y="324"/>
                      </a:lnTo>
                      <a:lnTo>
                        <a:pt x="55" y="330"/>
                      </a:lnTo>
                      <a:lnTo>
                        <a:pt x="50" y="334"/>
                      </a:lnTo>
                      <a:lnTo>
                        <a:pt x="45" y="337"/>
                      </a:lnTo>
                      <a:lnTo>
                        <a:pt x="40" y="341"/>
                      </a:lnTo>
                      <a:lnTo>
                        <a:pt x="36" y="344"/>
                      </a:lnTo>
                      <a:lnTo>
                        <a:pt x="32" y="347"/>
                      </a:lnTo>
                      <a:lnTo>
                        <a:pt x="24" y="349"/>
                      </a:lnTo>
                      <a:lnTo>
                        <a:pt x="17" y="351"/>
                      </a:lnTo>
                      <a:lnTo>
                        <a:pt x="15" y="351"/>
                      </a:lnTo>
                      <a:lnTo>
                        <a:pt x="1" y="34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5212080" y="1546200"/>
                  <a:ext cx="2977920" cy="4044600"/>
                  <a:chOff x="5212080" y="1546200"/>
                  <a:chExt cx="2977920" cy="40446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8047080" y="4483080"/>
                    <a:ext cx="1429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35">
                        <a:moveTo>
                          <a:pt x="223" y="0"/>
                        </a:moveTo>
                        <a:lnTo>
                          <a:pt x="278" y="112"/>
                        </a:lnTo>
                        <a:lnTo>
                          <a:pt x="34" y="235"/>
                        </a:lnTo>
                        <a:lnTo>
                          <a:pt x="0" y="162"/>
                        </a:lnTo>
                        <a:lnTo>
                          <a:pt x="30" y="149"/>
                        </a:lnTo>
                        <a:lnTo>
                          <a:pt x="34" y="146"/>
                        </a:lnTo>
                        <a:lnTo>
                          <a:pt x="44" y="138"/>
                        </a:lnTo>
                        <a:lnTo>
                          <a:pt x="50" y="132"/>
                        </a:lnTo>
                        <a:lnTo>
                          <a:pt x="56" y="123"/>
                        </a:lnTo>
                        <a:lnTo>
                          <a:pt x="64" y="112"/>
                        </a:lnTo>
                        <a:lnTo>
                          <a:pt x="70" y="100"/>
                        </a:lnTo>
                        <a:lnTo>
                          <a:pt x="75" y="88"/>
                        </a:lnTo>
                        <a:lnTo>
                          <a:pt x="79" y="79"/>
                        </a:lnTo>
                        <a:lnTo>
                          <a:pt x="83" y="66"/>
                        </a:lnTo>
                        <a:lnTo>
                          <a:pt x="84" y="62"/>
                        </a:lnTo>
                        <a:lnTo>
                          <a:pt x="87" y="59"/>
                        </a:lnTo>
                        <a:lnTo>
                          <a:pt x="89" y="58"/>
                        </a:lnTo>
                        <a:lnTo>
                          <a:pt x="95" y="58"/>
                        </a:lnTo>
                        <a:lnTo>
                          <a:pt x="108" y="57"/>
                        </a:lnTo>
                        <a:lnTo>
                          <a:pt x="125" y="58"/>
                        </a:lnTo>
                        <a:lnTo>
                          <a:pt x="146" y="58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147080" y="4506840"/>
                    <a:ext cx="149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148">
                        <a:moveTo>
                          <a:pt x="15" y="13"/>
                        </a:moveTo>
                        <a:lnTo>
                          <a:pt x="106" y="0"/>
                        </a:lnTo>
                        <a:lnTo>
                          <a:pt x="112" y="1"/>
                        </a:lnTo>
                        <a:lnTo>
                          <a:pt x="129" y="4"/>
                        </a:lnTo>
                        <a:lnTo>
                          <a:pt x="141" y="7"/>
                        </a:lnTo>
                        <a:lnTo>
                          <a:pt x="154" y="11"/>
                        </a:lnTo>
                        <a:lnTo>
                          <a:pt x="187" y="21"/>
                        </a:lnTo>
                        <a:lnTo>
                          <a:pt x="204" y="28"/>
                        </a:lnTo>
                        <a:lnTo>
                          <a:pt x="222" y="34"/>
                        </a:lnTo>
                        <a:lnTo>
                          <a:pt x="257" y="44"/>
                        </a:lnTo>
                        <a:lnTo>
                          <a:pt x="282" y="50"/>
                        </a:lnTo>
                        <a:lnTo>
                          <a:pt x="292" y="53"/>
                        </a:lnTo>
                        <a:lnTo>
                          <a:pt x="287" y="124"/>
                        </a:lnTo>
                        <a:lnTo>
                          <a:pt x="282" y="131"/>
                        </a:lnTo>
                        <a:lnTo>
                          <a:pt x="278" y="136"/>
                        </a:lnTo>
                        <a:lnTo>
                          <a:pt x="271" y="141"/>
                        </a:lnTo>
                        <a:lnTo>
                          <a:pt x="263" y="145"/>
                        </a:lnTo>
                        <a:lnTo>
                          <a:pt x="258" y="146"/>
                        </a:lnTo>
                        <a:lnTo>
                          <a:pt x="253" y="148"/>
                        </a:lnTo>
                        <a:lnTo>
                          <a:pt x="247" y="148"/>
                        </a:lnTo>
                        <a:lnTo>
                          <a:pt x="242" y="148"/>
                        </a:lnTo>
                        <a:lnTo>
                          <a:pt x="237" y="145"/>
                        </a:lnTo>
                        <a:lnTo>
                          <a:pt x="232" y="143"/>
                        </a:lnTo>
                        <a:lnTo>
                          <a:pt x="201" y="125"/>
                        </a:lnTo>
                        <a:lnTo>
                          <a:pt x="167" y="107"/>
                        </a:lnTo>
                        <a:lnTo>
                          <a:pt x="127" y="86"/>
                        </a:lnTo>
                        <a:lnTo>
                          <a:pt x="124" y="83"/>
                        </a:lnTo>
                        <a:lnTo>
                          <a:pt x="113" y="78"/>
                        </a:lnTo>
                        <a:lnTo>
                          <a:pt x="96" y="71"/>
                        </a:lnTo>
                        <a:lnTo>
                          <a:pt x="85" y="70"/>
                        </a:lnTo>
                        <a:lnTo>
                          <a:pt x="75" y="67"/>
                        </a:lnTo>
                        <a:lnTo>
                          <a:pt x="48" y="65"/>
                        </a:lnTo>
                        <a:lnTo>
                          <a:pt x="25" y="61"/>
                        </a:lnTo>
                        <a:lnTo>
                          <a:pt x="6" y="57"/>
                        </a:lnTo>
                        <a:lnTo>
                          <a:pt x="1" y="55"/>
                        </a:lnTo>
                        <a:lnTo>
                          <a:pt x="0" y="54"/>
                        </a:lnTo>
                        <a:lnTo>
                          <a:pt x="15" y="13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639200" y="2701800"/>
                    <a:ext cx="20160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308">
                        <a:moveTo>
                          <a:pt x="379" y="200"/>
                        </a:moveTo>
                        <a:lnTo>
                          <a:pt x="380" y="203"/>
                        </a:lnTo>
                        <a:lnTo>
                          <a:pt x="382" y="205"/>
                        </a:lnTo>
                        <a:lnTo>
                          <a:pt x="388" y="211"/>
                        </a:lnTo>
                        <a:lnTo>
                          <a:pt x="390" y="213"/>
                        </a:lnTo>
                        <a:lnTo>
                          <a:pt x="393" y="216"/>
                        </a:lnTo>
                        <a:lnTo>
                          <a:pt x="393" y="218"/>
                        </a:lnTo>
                        <a:lnTo>
                          <a:pt x="392" y="221"/>
                        </a:lnTo>
                        <a:lnTo>
                          <a:pt x="389" y="225"/>
                        </a:lnTo>
                        <a:lnTo>
                          <a:pt x="388" y="229"/>
                        </a:lnTo>
                        <a:lnTo>
                          <a:pt x="386" y="234"/>
                        </a:lnTo>
                        <a:lnTo>
                          <a:pt x="386" y="238"/>
                        </a:lnTo>
                        <a:lnTo>
                          <a:pt x="388" y="242"/>
                        </a:lnTo>
                        <a:lnTo>
                          <a:pt x="388" y="245"/>
                        </a:lnTo>
                        <a:lnTo>
                          <a:pt x="389" y="247"/>
                        </a:lnTo>
                        <a:lnTo>
                          <a:pt x="386" y="253"/>
                        </a:lnTo>
                        <a:lnTo>
                          <a:pt x="385" y="259"/>
                        </a:lnTo>
                        <a:lnTo>
                          <a:pt x="385" y="265"/>
                        </a:lnTo>
                        <a:lnTo>
                          <a:pt x="384" y="267"/>
                        </a:lnTo>
                        <a:lnTo>
                          <a:pt x="382" y="271"/>
                        </a:lnTo>
                        <a:lnTo>
                          <a:pt x="379" y="275"/>
                        </a:lnTo>
                        <a:lnTo>
                          <a:pt x="373" y="280"/>
                        </a:lnTo>
                        <a:lnTo>
                          <a:pt x="367" y="299"/>
                        </a:lnTo>
                        <a:lnTo>
                          <a:pt x="346" y="308"/>
                        </a:lnTo>
                        <a:lnTo>
                          <a:pt x="322" y="299"/>
                        </a:lnTo>
                        <a:lnTo>
                          <a:pt x="318" y="298"/>
                        </a:lnTo>
                        <a:lnTo>
                          <a:pt x="307" y="294"/>
                        </a:lnTo>
                        <a:lnTo>
                          <a:pt x="302" y="292"/>
                        </a:lnTo>
                        <a:lnTo>
                          <a:pt x="297" y="292"/>
                        </a:lnTo>
                        <a:lnTo>
                          <a:pt x="292" y="292"/>
                        </a:lnTo>
                        <a:lnTo>
                          <a:pt x="288" y="294"/>
                        </a:lnTo>
                        <a:lnTo>
                          <a:pt x="286" y="294"/>
                        </a:lnTo>
                        <a:lnTo>
                          <a:pt x="285" y="294"/>
                        </a:lnTo>
                        <a:lnTo>
                          <a:pt x="284" y="294"/>
                        </a:lnTo>
                        <a:lnTo>
                          <a:pt x="282" y="292"/>
                        </a:lnTo>
                        <a:lnTo>
                          <a:pt x="278" y="290"/>
                        </a:lnTo>
                        <a:lnTo>
                          <a:pt x="276" y="286"/>
                        </a:lnTo>
                        <a:lnTo>
                          <a:pt x="272" y="277"/>
                        </a:lnTo>
                        <a:lnTo>
                          <a:pt x="270" y="273"/>
                        </a:lnTo>
                        <a:lnTo>
                          <a:pt x="251" y="287"/>
                        </a:lnTo>
                        <a:lnTo>
                          <a:pt x="248" y="286"/>
                        </a:lnTo>
                        <a:lnTo>
                          <a:pt x="244" y="284"/>
                        </a:lnTo>
                        <a:lnTo>
                          <a:pt x="237" y="284"/>
                        </a:lnTo>
                        <a:lnTo>
                          <a:pt x="235" y="286"/>
                        </a:lnTo>
                        <a:lnTo>
                          <a:pt x="232" y="288"/>
                        </a:lnTo>
                        <a:lnTo>
                          <a:pt x="230" y="291"/>
                        </a:lnTo>
                        <a:lnTo>
                          <a:pt x="226" y="294"/>
                        </a:lnTo>
                        <a:lnTo>
                          <a:pt x="222" y="295"/>
                        </a:lnTo>
                        <a:lnTo>
                          <a:pt x="218" y="298"/>
                        </a:lnTo>
                        <a:lnTo>
                          <a:pt x="207" y="300"/>
                        </a:lnTo>
                        <a:lnTo>
                          <a:pt x="182" y="298"/>
                        </a:lnTo>
                        <a:lnTo>
                          <a:pt x="177" y="275"/>
                        </a:lnTo>
                        <a:lnTo>
                          <a:pt x="158" y="259"/>
                        </a:lnTo>
                        <a:lnTo>
                          <a:pt x="139" y="249"/>
                        </a:lnTo>
                        <a:lnTo>
                          <a:pt x="116" y="240"/>
                        </a:lnTo>
                        <a:lnTo>
                          <a:pt x="113" y="236"/>
                        </a:lnTo>
                        <a:lnTo>
                          <a:pt x="110" y="233"/>
                        </a:lnTo>
                        <a:lnTo>
                          <a:pt x="104" y="229"/>
                        </a:lnTo>
                        <a:lnTo>
                          <a:pt x="100" y="228"/>
                        </a:lnTo>
                        <a:lnTo>
                          <a:pt x="99" y="226"/>
                        </a:lnTo>
                        <a:lnTo>
                          <a:pt x="98" y="226"/>
                        </a:lnTo>
                        <a:lnTo>
                          <a:pt x="96" y="224"/>
                        </a:lnTo>
                        <a:lnTo>
                          <a:pt x="96" y="218"/>
                        </a:lnTo>
                        <a:lnTo>
                          <a:pt x="96" y="216"/>
                        </a:lnTo>
                        <a:lnTo>
                          <a:pt x="95" y="213"/>
                        </a:lnTo>
                        <a:lnTo>
                          <a:pt x="92" y="212"/>
                        </a:lnTo>
                        <a:lnTo>
                          <a:pt x="88" y="209"/>
                        </a:lnTo>
                        <a:lnTo>
                          <a:pt x="87" y="207"/>
                        </a:lnTo>
                        <a:lnTo>
                          <a:pt x="84" y="204"/>
                        </a:lnTo>
                        <a:lnTo>
                          <a:pt x="83" y="201"/>
                        </a:lnTo>
                        <a:lnTo>
                          <a:pt x="83" y="199"/>
                        </a:lnTo>
                        <a:lnTo>
                          <a:pt x="84" y="197"/>
                        </a:lnTo>
                        <a:lnTo>
                          <a:pt x="86" y="196"/>
                        </a:lnTo>
                        <a:lnTo>
                          <a:pt x="87" y="195"/>
                        </a:lnTo>
                        <a:lnTo>
                          <a:pt x="90" y="193"/>
                        </a:lnTo>
                        <a:lnTo>
                          <a:pt x="90" y="191"/>
                        </a:lnTo>
                        <a:lnTo>
                          <a:pt x="90" y="188"/>
                        </a:lnTo>
                        <a:lnTo>
                          <a:pt x="90" y="184"/>
                        </a:lnTo>
                        <a:lnTo>
                          <a:pt x="91" y="180"/>
                        </a:lnTo>
                        <a:lnTo>
                          <a:pt x="95" y="175"/>
                        </a:lnTo>
                        <a:lnTo>
                          <a:pt x="99" y="170"/>
                        </a:lnTo>
                        <a:lnTo>
                          <a:pt x="100" y="168"/>
                        </a:lnTo>
                        <a:lnTo>
                          <a:pt x="100" y="166"/>
                        </a:lnTo>
                        <a:lnTo>
                          <a:pt x="102" y="163"/>
                        </a:lnTo>
                        <a:lnTo>
                          <a:pt x="103" y="159"/>
                        </a:lnTo>
                        <a:lnTo>
                          <a:pt x="107" y="150"/>
                        </a:lnTo>
                        <a:lnTo>
                          <a:pt x="111" y="139"/>
                        </a:lnTo>
                        <a:lnTo>
                          <a:pt x="111" y="135"/>
                        </a:lnTo>
                        <a:lnTo>
                          <a:pt x="111" y="134"/>
                        </a:lnTo>
                        <a:lnTo>
                          <a:pt x="110" y="131"/>
                        </a:lnTo>
                        <a:lnTo>
                          <a:pt x="99" y="118"/>
                        </a:lnTo>
                        <a:lnTo>
                          <a:pt x="94" y="110"/>
                        </a:lnTo>
                        <a:lnTo>
                          <a:pt x="90" y="105"/>
                        </a:lnTo>
                        <a:lnTo>
                          <a:pt x="90" y="104"/>
                        </a:lnTo>
                        <a:lnTo>
                          <a:pt x="88" y="102"/>
                        </a:lnTo>
                        <a:lnTo>
                          <a:pt x="84" y="100"/>
                        </a:lnTo>
                        <a:lnTo>
                          <a:pt x="79" y="97"/>
                        </a:lnTo>
                        <a:lnTo>
                          <a:pt x="74" y="95"/>
                        </a:lnTo>
                        <a:lnTo>
                          <a:pt x="63" y="91"/>
                        </a:lnTo>
                        <a:lnTo>
                          <a:pt x="57" y="88"/>
                        </a:lnTo>
                        <a:lnTo>
                          <a:pt x="54" y="89"/>
                        </a:lnTo>
                        <a:lnTo>
                          <a:pt x="51" y="91"/>
                        </a:lnTo>
                        <a:lnTo>
                          <a:pt x="44" y="97"/>
                        </a:lnTo>
                        <a:lnTo>
                          <a:pt x="36" y="104"/>
                        </a:lnTo>
                        <a:lnTo>
                          <a:pt x="33" y="106"/>
                        </a:lnTo>
                        <a:lnTo>
                          <a:pt x="29" y="108"/>
                        </a:lnTo>
                        <a:lnTo>
                          <a:pt x="28" y="108"/>
                        </a:lnTo>
                        <a:lnTo>
                          <a:pt x="26" y="106"/>
                        </a:lnTo>
                        <a:lnTo>
                          <a:pt x="21" y="104"/>
                        </a:lnTo>
                        <a:lnTo>
                          <a:pt x="17" y="100"/>
                        </a:lnTo>
                        <a:lnTo>
                          <a:pt x="12" y="95"/>
                        </a:lnTo>
                        <a:lnTo>
                          <a:pt x="7" y="89"/>
                        </a:lnTo>
                        <a:lnTo>
                          <a:pt x="3" y="84"/>
                        </a:lnTo>
                        <a:lnTo>
                          <a:pt x="0" y="79"/>
                        </a:lnTo>
                        <a:lnTo>
                          <a:pt x="36" y="68"/>
                        </a:lnTo>
                        <a:lnTo>
                          <a:pt x="36" y="64"/>
                        </a:lnTo>
                        <a:lnTo>
                          <a:pt x="36" y="54"/>
                        </a:lnTo>
                        <a:lnTo>
                          <a:pt x="37" y="42"/>
                        </a:lnTo>
                        <a:lnTo>
                          <a:pt x="40" y="36"/>
                        </a:lnTo>
                        <a:lnTo>
                          <a:pt x="44" y="31"/>
                        </a:lnTo>
                        <a:lnTo>
                          <a:pt x="48" y="27"/>
                        </a:lnTo>
                        <a:lnTo>
                          <a:pt x="53" y="22"/>
                        </a:lnTo>
                        <a:lnTo>
                          <a:pt x="61" y="11"/>
                        </a:lnTo>
                        <a:lnTo>
                          <a:pt x="70" y="0"/>
                        </a:lnTo>
                        <a:lnTo>
                          <a:pt x="142" y="69"/>
                        </a:lnTo>
                        <a:lnTo>
                          <a:pt x="146" y="81"/>
                        </a:lnTo>
                        <a:lnTo>
                          <a:pt x="149" y="95"/>
                        </a:lnTo>
                        <a:lnTo>
                          <a:pt x="154" y="109"/>
                        </a:lnTo>
                        <a:lnTo>
                          <a:pt x="187" y="116"/>
                        </a:lnTo>
                        <a:lnTo>
                          <a:pt x="215" y="122"/>
                        </a:lnTo>
                        <a:lnTo>
                          <a:pt x="239" y="126"/>
                        </a:lnTo>
                        <a:lnTo>
                          <a:pt x="243" y="129"/>
                        </a:lnTo>
                        <a:lnTo>
                          <a:pt x="245" y="130"/>
                        </a:lnTo>
                        <a:lnTo>
                          <a:pt x="245" y="131"/>
                        </a:lnTo>
                        <a:lnTo>
                          <a:pt x="247" y="133"/>
                        </a:lnTo>
                        <a:lnTo>
                          <a:pt x="247" y="135"/>
                        </a:lnTo>
                        <a:lnTo>
                          <a:pt x="247" y="139"/>
                        </a:lnTo>
                        <a:lnTo>
                          <a:pt x="245" y="146"/>
                        </a:lnTo>
                        <a:lnTo>
                          <a:pt x="244" y="150"/>
                        </a:lnTo>
                        <a:lnTo>
                          <a:pt x="235" y="175"/>
                        </a:lnTo>
                        <a:lnTo>
                          <a:pt x="285" y="184"/>
                        </a:lnTo>
                        <a:lnTo>
                          <a:pt x="290" y="138"/>
                        </a:lnTo>
                        <a:lnTo>
                          <a:pt x="311" y="141"/>
                        </a:lnTo>
                        <a:lnTo>
                          <a:pt x="328" y="143"/>
                        </a:lnTo>
                        <a:lnTo>
                          <a:pt x="343" y="147"/>
                        </a:lnTo>
                        <a:lnTo>
                          <a:pt x="353" y="150"/>
                        </a:lnTo>
                        <a:lnTo>
                          <a:pt x="359" y="153"/>
                        </a:lnTo>
                        <a:lnTo>
                          <a:pt x="363" y="155"/>
                        </a:lnTo>
                        <a:lnTo>
                          <a:pt x="369" y="174"/>
                        </a:lnTo>
                        <a:lnTo>
                          <a:pt x="375" y="188"/>
                        </a:lnTo>
                        <a:lnTo>
                          <a:pt x="379" y="20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212080" y="1546200"/>
                    <a:ext cx="2697120" cy="4044600"/>
                    <a:chOff x="5212080" y="1546200"/>
                    <a:chExt cx="2697120" cy="404460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5212080" y="3201840"/>
                      <a:ext cx="2277720" cy="2388960"/>
                      <a:chOff x="5212080" y="3201840"/>
                      <a:chExt cx="2277720" cy="238896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913440" y="433368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0" y="5"/>
                            </a:moveTo>
                            <a:lnTo>
                              <a:pt x="3" y="0"/>
                            </a:lnTo>
                            <a:lnTo>
                              <a:pt x="8" y="5"/>
                            </a:lnTo>
                            <a:lnTo>
                              <a:pt x="0" y="11"/>
                            </a:lnTo>
                            <a:lnTo>
                              <a:pt x="8" y="11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6699960" y="4321440"/>
                        <a:ext cx="207000" cy="6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" h="117">
                            <a:moveTo>
                              <a:pt x="0" y="53"/>
                            </a:moveTo>
                            <a:lnTo>
                              <a:pt x="44" y="20"/>
                            </a:lnTo>
                            <a:lnTo>
                              <a:pt x="302" y="53"/>
                            </a:lnTo>
                            <a:lnTo>
                              <a:pt x="342" y="0"/>
                            </a:lnTo>
                            <a:lnTo>
                              <a:pt x="402" y="19"/>
                            </a:lnTo>
                            <a:lnTo>
                              <a:pt x="384" y="12"/>
                            </a:lnTo>
                            <a:lnTo>
                              <a:pt x="354" y="61"/>
                            </a:lnTo>
                            <a:lnTo>
                              <a:pt x="302" y="40"/>
                            </a:lnTo>
                            <a:lnTo>
                              <a:pt x="280" y="117"/>
                            </a:lnTo>
                            <a:lnTo>
                              <a:pt x="24" y="81"/>
                            </a:lnTo>
                            <a:lnTo>
                              <a:pt x="24" y="41"/>
                            </a:lnTo>
                            <a:lnTo>
                              <a:pt x="0" y="55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320" bIns="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6698520" y="4330800"/>
                        <a:ext cx="2448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41">
                            <a:moveTo>
                              <a:pt x="0" y="33"/>
                            </a:moveTo>
                            <a:lnTo>
                              <a:pt x="7" y="41"/>
                            </a:lnTo>
                            <a:lnTo>
                              <a:pt x="50" y="8"/>
                            </a:lnTo>
                            <a:lnTo>
                              <a:pt x="44" y="0"/>
                            </a:lnTo>
                            <a:lnTo>
                              <a:pt x="0" y="3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6721920" y="4329000"/>
                        <a:ext cx="1342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0" h="43">
                            <a:moveTo>
                              <a:pt x="2" y="0"/>
                            </a:moveTo>
                            <a:lnTo>
                              <a:pt x="0" y="10"/>
                            </a:lnTo>
                            <a:lnTo>
                              <a:pt x="259" y="43"/>
                            </a:lnTo>
                            <a:lnTo>
                              <a:pt x="260" y="3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6720480" y="432900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"/>
                            </a:moveTo>
                            <a:lnTo>
                              <a:pt x="2" y="0"/>
                            </a:lnTo>
                            <a:lnTo>
                              <a:pt x="4" y="0"/>
                            </a:lnTo>
                            <a:lnTo>
                              <a:pt x="2" y="10"/>
                            </a:lnTo>
                            <a:lnTo>
                              <a:pt x="6" y="9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6853320" y="4320000"/>
                        <a:ext cx="24480" cy="3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0">
                            <a:moveTo>
                              <a:pt x="0" y="53"/>
                            </a:moveTo>
                            <a:lnTo>
                              <a:pt x="8" y="60"/>
                            </a:lnTo>
                            <a:lnTo>
                              <a:pt x="48" y="7"/>
                            </a:lnTo>
                            <a:lnTo>
                              <a:pt x="40" y="0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6853320" y="434628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3" y="10"/>
                            </a:moveTo>
                            <a:lnTo>
                              <a:pt x="7" y="10"/>
                            </a:lnTo>
                            <a:lnTo>
                              <a:pt x="8" y="9"/>
                            </a:lnTo>
                            <a:lnTo>
                              <a:pt x="0" y="2"/>
                            </a:lnTo>
                            <a:lnTo>
                              <a:pt x="4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74920" y="4320000"/>
                        <a:ext cx="338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29">
                            <a:moveTo>
                              <a:pt x="3" y="0"/>
                            </a:moveTo>
                            <a:lnTo>
                              <a:pt x="0" y="10"/>
                            </a:lnTo>
                            <a:lnTo>
                              <a:pt x="61" y="29"/>
                            </a:lnTo>
                            <a:lnTo>
                              <a:pt x="64" y="18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6874920" y="431820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2">
                            <a:moveTo>
                              <a:pt x="0" y="4"/>
                            </a:moveTo>
                            <a:lnTo>
                              <a:pt x="2" y="0"/>
                            </a:lnTo>
                            <a:lnTo>
                              <a:pt x="5" y="2"/>
                            </a:lnTo>
                            <a:lnTo>
                              <a:pt x="2" y="12"/>
                            </a:lnTo>
                            <a:lnTo>
                              <a:pt x="8" y="11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896160" y="4326120"/>
                        <a:ext cx="126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6">
                            <a:moveTo>
                              <a:pt x="19" y="16"/>
                            </a:moveTo>
                            <a:lnTo>
                              <a:pt x="23" y="7"/>
                            </a:lnTo>
                            <a:lnTo>
                              <a:pt x="4" y="0"/>
                            </a:lnTo>
                            <a:lnTo>
                              <a:pt x="0" y="9"/>
                            </a:lnTo>
                            <a:lnTo>
                              <a:pt x="19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905880" y="432900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1">
                            <a:moveTo>
                              <a:pt x="1" y="11"/>
                            </a:moveTo>
                            <a:lnTo>
                              <a:pt x="4" y="2"/>
                            </a:lnTo>
                            <a:lnTo>
                              <a:pt x="0" y="11"/>
                            </a:lnTo>
                            <a:lnTo>
                              <a:pt x="4" y="0"/>
                            </a:lnTo>
                            <a:lnTo>
                              <a:pt x="1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879600" y="4326120"/>
                        <a:ext cx="1980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54">
                            <a:moveTo>
                              <a:pt x="40" y="6"/>
                            </a:moveTo>
                            <a:lnTo>
                              <a:pt x="31" y="0"/>
                            </a:lnTo>
                            <a:lnTo>
                              <a:pt x="0" y="49"/>
                            </a:lnTo>
                            <a:lnTo>
                              <a:pt x="10" y="54"/>
                            </a:lnTo>
                            <a:lnTo>
                              <a:pt x="4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894720" y="432612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6" y="1"/>
                            </a:moveTo>
                            <a:lnTo>
                              <a:pt x="1" y="0"/>
                            </a:lnTo>
                            <a:lnTo>
                              <a:pt x="0" y="2"/>
                            </a:lnTo>
                            <a:lnTo>
                              <a:pt x="9" y="8"/>
                            </a:lnTo>
                            <a:lnTo>
                              <a:pt x="2" y="10"/>
                            </a:lnTo>
                            <a:lnTo>
                              <a:pt x="6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854400" y="4340160"/>
                        <a:ext cx="29160" cy="1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30">
                            <a:moveTo>
                              <a:pt x="52" y="30"/>
                            </a:moveTo>
                            <a:lnTo>
                              <a:pt x="57" y="21"/>
                            </a:lnTo>
                            <a:lnTo>
                              <a:pt x="6" y="0"/>
                            </a:lnTo>
                            <a:lnTo>
                              <a:pt x="0" y="9"/>
                            </a:lnTo>
                            <a:lnTo>
                              <a:pt x="52" y="3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879600" y="435096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6"/>
                            </a:moveTo>
                            <a:lnTo>
                              <a:pt x="7" y="10"/>
                            </a:lnTo>
                            <a:lnTo>
                              <a:pt x="3" y="9"/>
                            </a:lnTo>
                            <a:lnTo>
                              <a:pt x="8" y="0"/>
                            </a:lnTo>
                            <a:lnTo>
                              <a:pt x="0" y="1"/>
                            </a:lnTo>
                            <a:lnTo>
                              <a:pt x="1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6841080" y="4341600"/>
                        <a:ext cx="16560" cy="4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81">
                            <a:moveTo>
                              <a:pt x="33" y="3"/>
                            </a:moveTo>
                            <a:lnTo>
                              <a:pt x="23" y="0"/>
                            </a:lnTo>
                            <a:lnTo>
                              <a:pt x="0" y="78"/>
                            </a:lnTo>
                            <a:lnTo>
                              <a:pt x="11" y="81"/>
                            </a:lnTo>
                            <a:lnTo>
                              <a:pt x="33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6853320" y="433872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2">
                            <a:moveTo>
                              <a:pt x="8" y="3"/>
                            </a:moveTo>
                            <a:lnTo>
                              <a:pt x="1" y="0"/>
                            </a:lnTo>
                            <a:lnTo>
                              <a:pt x="0" y="5"/>
                            </a:lnTo>
                            <a:lnTo>
                              <a:pt x="10" y="8"/>
                            </a:lnTo>
                            <a:lnTo>
                              <a:pt x="2" y="12"/>
                            </a:lnTo>
                            <a:lnTo>
                              <a:pt x="8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712560" y="4361760"/>
                        <a:ext cx="1324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8" h="46">
                            <a:moveTo>
                              <a:pt x="255" y="46"/>
                            </a:moveTo>
                            <a:lnTo>
                              <a:pt x="258" y="37"/>
                            </a:lnTo>
                            <a:lnTo>
                              <a:pt x="2" y="0"/>
                            </a:lnTo>
                            <a:lnTo>
                              <a:pt x="0" y="9"/>
                            </a:lnTo>
                            <a:lnTo>
                              <a:pt x="255" y="4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6841080" y="4380480"/>
                        <a:ext cx="57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5"/>
                            </a:moveTo>
                            <a:lnTo>
                              <a:pt x="10" y="10"/>
                            </a:lnTo>
                            <a:lnTo>
                              <a:pt x="4" y="9"/>
                            </a:lnTo>
                            <a:lnTo>
                              <a:pt x="7" y="0"/>
                            </a:lnTo>
                            <a:lnTo>
                              <a:pt x="0" y="2"/>
                            </a:lnTo>
                            <a:lnTo>
                              <a:pt x="11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6709320" y="4343040"/>
                        <a:ext cx="5760" cy="1980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709320" y="436176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4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6" y="0"/>
                            </a:lnTo>
                            <a:lnTo>
                              <a:pt x="4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6698520" y="4341600"/>
                        <a:ext cx="1512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2">
                            <a:moveTo>
                              <a:pt x="30" y="8"/>
                            </a:moveTo>
                            <a:lnTo>
                              <a:pt x="24" y="0"/>
                            </a:lnTo>
                            <a:lnTo>
                              <a:pt x="0" y="15"/>
                            </a:lnTo>
                            <a:lnTo>
                              <a:pt x="7" y="22"/>
                            </a:lnTo>
                            <a:lnTo>
                              <a:pt x="30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709320" y="4338720"/>
                        <a:ext cx="57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10" y="9"/>
                            </a:moveTo>
                            <a:lnTo>
                              <a:pt x="10" y="0"/>
                            </a:lnTo>
                            <a:lnTo>
                              <a:pt x="1" y="5"/>
                            </a:lnTo>
                            <a:lnTo>
                              <a:pt x="7" y="13"/>
                            </a:lnTo>
                            <a:lnTo>
                              <a:pt x="0" y="9"/>
                            </a:lnTo>
                            <a:lnTo>
                              <a:pt x="1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696720" y="4349160"/>
                        <a:ext cx="46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2"/>
                            </a:moveTo>
                            <a:lnTo>
                              <a:pt x="9" y="5"/>
                            </a:lnTo>
                            <a:lnTo>
                              <a:pt x="9" y="2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6696720" y="434916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9" y="7"/>
                            </a:moveTo>
                            <a:lnTo>
                              <a:pt x="0" y="13"/>
                            </a:lnTo>
                            <a:lnTo>
                              <a:pt x="1" y="2"/>
                            </a:lnTo>
                            <a:lnTo>
                              <a:pt x="10" y="5"/>
                            </a:lnTo>
                            <a:lnTo>
                              <a:pt x="2" y="0"/>
                            </a:lnTo>
                            <a:lnTo>
                              <a:pt x="9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6696720" y="4347720"/>
                        <a:ext cx="468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3"/>
                            </a:moveTo>
                            <a:lnTo>
                              <a:pt x="0" y="1"/>
                            </a:lnTo>
                            <a:lnTo>
                              <a:pt x="1" y="0"/>
                            </a:lnTo>
                            <a:lnTo>
                              <a:pt x="8" y="8"/>
                            </a:lnTo>
                            <a:lnTo>
                              <a:pt x="9" y="5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7354080" y="5450400"/>
                        <a:ext cx="1033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23">
                            <a:moveTo>
                              <a:pt x="0" y="123"/>
                            </a:moveTo>
                            <a:lnTo>
                              <a:pt x="4" y="0"/>
                            </a:lnTo>
                            <a:lnTo>
                              <a:pt x="198" y="13"/>
                            </a:lnTo>
                            <a:lnTo>
                              <a:pt x="201" y="81"/>
                            </a:lnTo>
                            <a:lnTo>
                              <a:pt x="199" y="27"/>
                            </a:lnTo>
                            <a:lnTo>
                              <a:pt x="189" y="73"/>
                            </a:lnTo>
                            <a:lnTo>
                              <a:pt x="136" y="77"/>
                            </a:lnTo>
                            <a:lnTo>
                              <a:pt x="136" y="71"/>
                            </a:lnTo>
                            <a:lnTo>
                              <a:pt x="137" y="60"/>
                            </a:lnTo>
                            <a:lnTo>
                              <a:pt x="137" y="53"/>
                            </a:lnTo>
                            <a:lnTo>
                              <a:pt x="137" y="50"/>
                            </a:lnTo>
                            <a:lnTo>
                              <a:pt x="137" y="48"/>
                            </a:lnTo>
                            <a:lnTo>
                              <a:pt x="136" y="46"/>
                            </a:lnTo>
                            <a:lnTo>
                              <a:pt x="135" y="44"/>
                            </a:lnTo>
                            <a:lnTo>
                              <a:pt x="133" y="44"/>
                            </a:lnTo>
                            <a:lnTo>
                              <a:pt x="132" y="42"/>
                            </a:lnTo>
                            <a:lnTo>
                              <a:pt x="96" y="41"/>
                            </a:lnTo>
                            <a:lnTo>
                              <a:pt x="69" y="38"/>
                            </a:lnTo>
                            <a:lnTo>
                              <a:pt x="63" y="78"/>
                            </a:lnTo>
                            <a:lnTo>
                              <a:pt x="12" y="77"/>
                            </a:lnTo>
                            <a:lnTo>
                              <a:pt x="5" y="123"/>
                            </a:lnTo>
                            <a:lnTo>
                              <a:pt x="0" y="12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7352280" y="5450400"/>
                        <a:ext cx="61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3">
                            <a:moveTo>
                              <a:pt x="0" y="123"/>
                            </a:moveTo>
                            <a:lnTo>
                              <a:pt x="9" y="123"/>
                            </a:lnTo>
                            <a:lnTo>
                              <a:pt x="12" y="0"/>
                            </a:lnTo>
                            <a:lnTo>
                              <a:pt x="2" y="0"/>
                            </a:lnTo>
                            <a:lnTo>
                              <a:pt x="0" y="12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7355520" y="5447160"/>
                        <a:ext cx="10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7" h="24">
                            <a:moveTo>
                              <a:pt x="2" y="0"/>
                            </a:moveTo>
                            <a:lnTo>
                              <a:pt x="0" y="10"/>
                            </a:lnTo>
                            <a:lnTo>
                              <a:pt x="196" y="24"/>
                            </a:lnTo>
                            <a:lnTo>
                              <a:pt x="197" y="1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7352280" y="544716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4" y="1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7454160" y="5456520"/>
                        <a:ext cx="61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68">
                            <a:moveTo>
                              <a:pt x="10" y="0"/>
                            </a:moveTo>
                            <a:lnTo>
                              <a:pt x="0" y="0"/>
                            </a:lnTo>
                            <a:lnTo>
                              <a:pt x="2" y="68"/>
                            </a:lnTo>
                            <a:lnTo>
                              <a:pt x="13" y="68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7454160" y="545508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5" y="0"/>
                            </a:moveTo>
                            <a:lnTo>
                              <a:pt x="10" y="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lnTo>
                              <a:pt x="4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7454160" y="5464440"/>
                        <a:ext cx="612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54">
                            <a:moveTo>
                              <a:pt x="1" y="54"/>
                            </a:moveTo>
                            <a:lnTo>
                              <a:pt x="11" y="54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1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7454160" y="549216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0">
                            <a:moveTo>
                              <a:pt x="11" y="0"/>
                            </a:move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7448400" y="5462640"/>
                        <a:ext cx="1224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8">
                            <a:moveTo>
                              <a:pt x="22" y="2"/>
                            </a:moveTo>
                            <a:lnTo>
                              <a:pt x="11" y="0"/>
                            </a:lnTo>
                            <a:lnTo>
                              <a:pt x="0" y="46"/>
                            </a:lnTo>
                            <a:lnTo>
                              <a:pt x="11" y="48"/>
                            </a:lnTo>
                            <a:lnTo>
                              <a:pt x="22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7454160" y="546264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">
                            <a:moveTo>
                              <a:pt x="9" y="2"/>
                            </a:moveTo>
                            <a:lnTo>
                              <a:pt x="0" y="0"/>
                            </a:lnTo>
                            <a:lnTo>
                              <a:pt x="11" y="2"/>
                            </a:lnTo>
                            <a:lnTo>
                              <a:pt x="0" y="2"/>
                            </a:lnTo>
                            <a:lnTo>
                              <a:pt x="9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7423560" y="5486040"/>
                        <a:ext cx="291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13">
                            <a:moveTo>
                              <a:pt x="57" y="9"/>
                            </a:moveTo>
                            <a:lnTo>
                              <a:pt x="54" y="0"/>
                            </a:lnTo>
                            <a:lnTo>
                              <a:pt x="0" y="4"/>
                            </a:lnTo>
                            <a:lnTo>
                              <a:pt x="3" y="13"/>
                            </a:lnTo>
                            <a:lnTo>
                              <a:pt x="57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7448400" y="54860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7" y="9"/>
                            </a:lnTo>
                            <a:lnTo>
                              <a:pt x="4" y="0"/>
                            </a:lnTo>
                            <a:lnTo>
                              <a:pt x="0" y="2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7420320" y="5470560"/>
                        <a:ext cx="612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40">
                            <a:moveTo>
                              <a:pt x="1" y="37"/>
                            </a:moveTo>
                            <a:lnTo>
                              <a:pt x="4" y="22"/>
                            </a:lnTo>
                            <a:lnTo>
                              <a:pt x="4" y="11"/>
                            </a:lnTo>
                            <a:lnTo>
                              <a:pt x="3" y="10"/>
                            </a:lnTo>
                            <a:lnTo>
                              <a:pt x="0" y="10"/>
                            </a:ln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  <a:lnTo>
                              <a:pt x="13" y="8"/>
                            </a:lnTo>
                            <a:lnTo>
                              <a:pt x="13" y="22"/>
                            </a:lnTo>
                            <a:lnTo>
                              <a:pt x="11" y="40"/>
                            </a:lnTo>
                            <a:lnTo>
                              <a:pt x="1" y="3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" name=""/>
                      <p:cNvSpPr/>
                      <p:nvPr/>
                    </p:nvSpPr>
                    <p:spPr>
                      <a:xfrm>
                        <a:off x="7420320" y="548748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8" y="9"/>
                            </a:moveTo>
                            <a:lnTo>
                              <a:pt x="0" y="9"/>
                            </a:lnTo>
                            <a:lnTo>
                              <a:pt x="1" y="2"/>
                            </a:lnTo>
                            <a:lnTo>
                              <a:pt x="11" y="5"/>
                            </a:lnTo>
                            <a:lnTo>
                              <a:pt x="5" y="0"/>
                            </a:lnTo>
                            <a:lnTo>
                              <a:pt x="8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7389360" y="5467680"/>
                        <a:ext cx="324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14">
                            <a:moveTo>
                              <a:pt x="62" y="14"/>
                            </a:moveTo>
                            <a:lnTo>
                              <a:pt x="0" y="10"/>
                            </a:lnTo>
                            <a:lnTo>
                              <a:pt x="0" y="0"/>
                            </a:lnTo>
                            <a:lnTo>
                              <a:pt x="62" y="4"/>
                            </a:lnTo>
                            <a:lnTo>
                              <a:pt x="62" y="1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7420320" y="547056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0">
                            <a:moveTo>
                              <a:pt x="5" y="0"/>
                            </a:moveTo>
                            <a:lnTo>
                              <a:pt x="3" y="0"/>
                            </a:lnTo>
                            <a:lnTo>
                              <a:pt x="3" y="10"/>
                            </a:lnTo>
                            <a:lnTo>
                              <a:pt x="0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7383240" y="5469120"/>
                        <a:ext cx="936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1">
                            <a:moveTo>
                              <a:pt x="17" y="1"/>
                            </a:moveTo>
                            <a:lnTo>
                              <a:pt x="6" y="0"/>
                            </a:lnTo>
                            <a:lnTo>
                              <a:pt x="0" y="40"/>
                            </a:lnTo>
                            <a:lnTo>
                              <a:pt x="10" y="41"/>
                            </a:lnTo>
                            <a:lnTo>
                              <a:pt x="17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7386120" y="546768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6" y="0"/>
                            </a:move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lnTo>
                              <a:pt x="6" y="10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7359840" y="5487480"/>
                        <a:ext cx="262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0">
                            <a:moveTo>
                              <a:pt x="50" y="10"/>
                            </a:moveTo>
                            <a:lnTo>
                              <a:pt x="50" y="1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5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7383240" y="548892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10" y="4"/>
                            </a:moveTo>
                            <a:lnTo>
                              <a:pt x="9" y="9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7354080" y="5488920"/>
                        <a:ext cx="900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8">
                            <a:moveTo>
                              <a:pt x="17" y="2"/>
                            </a:moveTo>
                            <a:lnTo>
                              <a:pt x="7" y="0"/>
                            </a:lnTo>
                            <a:lnTo>
                              <a:pt x="0" y="47"/>
                            </a:lnTo>
                            <a:lnTo>
                              <a:pt x="11" y="48"/>
                            </a:lnTo>
                            <a:lnTo>
                              <a:pt x="17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7358400" y="5487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7354080" y="5512320"/>
                        <a:ext cx="252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7354080" y="551232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9" y="9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7352280" y="55123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5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7347600" y="5549400"/>
                        <a:ext cx="446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74">
                            <a:moveTo>
                              <a:pt x="88" y="67"/>
                            </a:moveTo>
                            <a:lnTo>
                              <a:pt x="0" y="74"/>
                            </a:ln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  <a:lnTo>
                              <a:pt x="9" y="5"/>
                            </a:lnTo>
                            <a:lnTo>
                              <a:pt x="52" y="5"/>
                            </a:lnTo>
                            <a:lnTo>
                              <a:pt x="51" y="30"/>
                            </a:lnTo>
                            <a:lnTo>
                              <a:pt x="51" y="39"/>
                            </a:lnTo>
                            <a:lnTo>
                              <a:pt x="52" y="47"/>
                            </a:lnTo>
                            <a:lnTo>
                              <a:pt x="54" y="54"/>
                            </a:lnTo>
                            <a:lnTo>
                              <a:pt x="55" y="55"/>
                            </a:lnTo>
                            <a:lnTo>
                              <a:pt x="56" y="56"/>
                            </a:lnTo>
                            <a:lnTo>
                              <a:pt x="67" y="58"/>
                            </a:lnTo>
                            <a:lnTo>
                              <a:pt x="87" y="58"/>
                            </a:lnTo>
                            <a:lnTo>
                              <a:pt x="88" y="6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7346160" y="5581800"/>
                        <a:ext cx="4608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16">
                            <a:moveTo>
                              <a:pt x="91" y="9"/>
                            </a:moveTo>
                            <a:lnTo>
                              <a:pt x="89" y="0"/>
                            </a:lnTo>
                            <a:lnTo>
                              <a:pt x="0" y="7"/>
                            </a:lnTo>
                            <a:lnTo>
                              <a:pt x="3" y="16"/>
                            </a:lnTo>
                            <a:lnTo>
                              <a:pt x="91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7344720" y="5549400"/>
                        <a:ext cx="61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74">
                            <a:moveTo>
                              <a:pt x="0" y="74"/>
                            </a:moveTo>
                            <a:lnTo>
                              <a:pt x="10" y="74"/>
                            </a:lnTo>
                            <a:lnTo>
                              <a:pt x="14" y="0"/>
                            </a:lnTo>
                            <a:lnTo>
                              <a:pt x="4" y="0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7344720" y="5586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7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4" y="0"/>
                            </a:lnTo>
                            <a:lnTo>
                              <a:pt x="7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7349040" y="5546520"/>
                        <a:ext cx="2880" cy="576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7346160" y="554652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6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6" y="11"/>
                            </a:lnTo>
                            <a:lnTo>
                              <a:pt x="10" y="6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7349040" y="5549400"/>
                        <a:ext cx="468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7">
                            <a:moveTo>
                              <a:pt x="10" y="2"/>
                            </a:moveTo>
                            <a:lnTo>
                              <a:pt x="0" y="0"/>
                            </a:lnTo>
                            <a:lnTo>
                              <a:pt x="0" y="6"/>
                            </a:lnTo>
                            <a:lnTo>
                              <a:pt x="10" y="7"/>
                            </a:lnTo>
                            <a:lnTo>
                              <a:pt x="1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7349040" y="554652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5" y="0"/>
                            </a:moveTo>
                            <a:lnTo>
                              <a:pt x="11" y="0"/>
                            </a:lnTo>
                            <a:lnTo>
                              <a:pt x="10" y="6"/>
                            </a:lnTo>
                            <a:lnTo>
                              <a:pt x="0" y="4"/>
                            </a:lnTo>
                            <a:lnTo>
                              <a:pt x="5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7352280" y="5549400"/>
                        <a:ext cx="2160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7349040" y="55494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0" y="4"/>
                            </a:moveTo>
                            <a:lnTo>
                              <a:pt x="0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10" y="5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7371000" y="5552280"/>
                        <a:ext cx="75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55">
                            <a:moveTo>
                              <a:pt x="12" y="0"/>
                            </a:moveTo>
                            <a:lnTo>
                              <a:pt x="10" y="25"/>
                            </a:lnTo>
                            <a:lnTo>
                              <a:pt x="12" y="42"/>
                            </a:lnTo>
                            <a:lnTo>
                              <a:pt x="12" y="46"/>
                            </a:lnTo>
                            <a:lnTo>
                              <a:pt x="14" y="49"/>
                            </a:lnTo>
                            <a:lnTo>
                              <a:pt x="6" y="55"/>
                            </a:lnTo>
                            <a:lnTo>
                              <a:pt x="2" y="51"/>
                            </a:lnTo>
                            <a:lnTo>
                              <a:pt x="1" y="44"/>
                            </a:lnTo>
                            <a:lnTo>
                              <a:pt x="0" y="25"/>
                            </a:lnTo>
                            <a:lnTo>
                              <a:pt x="1" y="0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7371000" y="554940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5" y="0"/>
                            </a:moveTo>
                            <a:lnTo>
                              <a:pt x="11" y="0"/>
                            </a:lnTo>
                            <a:lnTo>
                              <a:pt x="11" y="5"/>
                            </a:lnTo>
                            <a:lnTo>
                              <a:pt x="0" y="5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7375320" y="5575680"/>
                        <a:ext cx="169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12">
                            <a:moveTo>
                              <a:pt x="0" y="0"/>
                            </a:moveTo>
                            <a:lnTo>
                              <a:pt x="31" y="1"/>
                            </a:lnTo>
                            <a:lnTo>
                              <a:pt x="31" y="1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373880" y="557568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0" y="9"/>
                            </a:moveTo>
                            <a:lnTo>
                              <a:pt x="2" y="11"/>
                            </a:lnTo>
                            <a:lnTo>
                              <a:pt x="4" y="11"/>
                            </a:lnTo>
                            <a:lnTo>
                              <a:pt x="4" y="0"/>
                            </a:lnTo>
                            <a:lnTo>
                              <a:pt x="8" y="3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7389360" y="558036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0">
                            <a:moveTo>
                              <a:pt x="11" y="0"/>
                            </a:moveTo>
                            <a:lnTo>
                              <a:pt x="0" y="1"/>
                            </a:lnTo>
                            <a:lnTo>
                              <a:pt x="2" y="10"/>
                            </a:lnTo>
                            <a:lnTo>
                              <a:pt x="12" y="9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7389360" y="5577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6" y="0"/>
                            </a:moveTo>
                            <a:lnTo>
                              <a:pt x="10" y="0"/>
                            </a:lnTo>
                            <a:lnTo>
                              <a:pt x="11" y="6"/>
                            </a:lnTo>
                            <a:lnTo>
                              <a:pt x="0" y="7"/>
                            </a:lnTo>
                            <a:lnTo>
                              <a:pt x="6" y="11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7389360" y="558180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9">
                            <a:moveTo>
                              <a:pt x="10" y="4"/>
                            </a:moveTo>
                            <a:lnTo>
                              <a:pt x="12" y="9"/>
                            </a:lnTo>
                            <a:lnTo>
                              <a:pt x="6" y="9"/>
                            </a:lnTo>
                            <a:lnTo>
                              <a:pt x="4" y="0"/>
                            </a:lnTo>
                            <a:lnTo>
                              <a:pt x="0" y="5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7397280" y="5082480"/>
                        <a:ext cx="89640" cy="77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4" h="151">
                            <a:moveTo>
                              <a:pt x="86" y="0"/>
                            </a:moveTo>
                            <a:lnTo>
                              <a:pt x="174" y="11"/>
                            </a:lnTo>
                            <a:lnTo>
                              <a:pt x="164" y="82"/>
                            </a:lnTo>
                            <a:lnTo>
                              <a:pt x="96" y="76"/>
                            </a:lnTo>
                            <a:lnTo>
                              <a:pt x="96" y="151"/>
                            </a:lnTo>
                            <a:lnTo>
                              <a:pt x="44" y="151"/>
                            </a:lnTo>
                            <a:lnTo>
                              <a:pt x="0" y="144"/>
                            </a:lnTo>
                            <a:lnTo>
                              <a:pt x="17" y="143"/>
                            </a:lnTo>
                            <a:lnTo>
                              <a:pt x="19" y="143"/>
                            </a:lnTo>
                            <a:lnTo>
                              <a:pt x="20" y="140"/>
                            </a:lnTo>
                            <a:lnTo>
                              <a:pt x="23" y="130"/>
                            </a:lnTo>
                            <a:lnTo>
                              <a:pt x="24" y="116"/>
                            </a:lnTo>
                            <a:lnTo>
                              <a:pt x="24" y="102"/>
                            </a:lnTo>
                            <a:lnTo>
                              <a:pt x="25" y="74"/>
                            </a:lnTo>
                            <a:lnTo>
                              <a:pt x="25" y="61"/>
                            </a:lnTo>
                            <a:lnTo>
                              <a:pt x="78" y="58"/>
                            </a:lnTo>
                            <a:lnTo>
                              <a:pt x="85" y="16"/>
                            </a:lnTo>
                            <a:lnTo>
                              <a:pt x="85" y="2"/>
                            </a:lnTo>
                            <a:lnTo>
                              <a:pt x="8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240" bIns="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7440480" y="5079240"/>
                        <a:ext cx="460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21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88" y="21"/>
                            </a:lnTo>
                            <a:lnTo>
                              <a:pt x="89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7479000" y="5087160"/>
                        <a:ext cx="10800" cy="3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72">
                            <a:moveTo>
                              <a:pt x="22" y="1"/>
                            </a:moveTo>
                            <a:lnTo>
                              <a:pt x="11" y="0"/>
                            </a:lnTo>
                            <a:lnTo>
                              <a:pt x="0" y="71"/>
                            </a:lnTo>
                            <a:lnTo>
                              <a:pt x="11" y="72"/>
                            </a:lnTo>
                            <a:lnTo>
                              <a:pt x="22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7483680" y="508572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0">
                            <a:moveTo>
                              <a:pt x="5" y="0"/>
                            </a:moveTo>
                            <a:lnTo>
                              <a:pt x="12" y="1"/>
                            </a:lnTo>
                            <a:lnTo>
                              <a:pt x="11" y="5"/>
                            </a:lnTo>
                            <a:lnTo>
                              <a:pt x="0" y="4"/>
                            </a:lnTo>
                            <a:lnTo>
                              <a:pt x="4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7446600" y="5119560"/>
                        <a:ext cx="356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5">
                            <a:moveTo>
                              <a:pt x="69" y="15"/>
                            </a:moveTo>
                            <a:lnTo>
                              <a:pt x="69" y="6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69" y="1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7479000" y="512244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6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7443360" y="5121000"/>
                        <a:ext cx="4680" cy="385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7443360" y="511956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7420320" y="5156640"/>
                        <a:ext cx="2628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7443360" y="51566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5"/>
                            </a:moveTo>
                            <a:lnTo>
                              <a:pt x="10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5"/>
                            </a:lnTo>
                            <a:lnTo>
                              <a:pt x="1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7397280" y="5153760"/>
                        <a:ext cx="2304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16">
                            <a:moveTo>
                              <a:pt x="43" y="16"/>
                            </a:moveTo>
                            <a:lnTo>
                              <a:pt x="46" y="7"/>
                            </a:lnTo>
                            <a:lnTo>
                              <a:pt x="3" y="0"/>
                            </a:lnTo>
                            <a:lnTo>
                              <a:pt x="0" y="9"/>
                            </a:lnTo>
                            <a:lnTo>
                              <a:pt x="43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7418880" y="51566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0">
                            <a:moveTo>
                              <a:pt x="2" y="10"/>
                            </a:moveTo>
                            <a:lnTo>
                              <a:pt x="0" y="10"/>
                            </a:lnTo>
                            <a:lnTo>
                              <a:pt x="3" y="1"/>
                            </a:lnTo>
                            <a:lnTo>
                              <a:pt x="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7397280" y="5153760"/>
                        <a:ext cx="93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0" y="1"/>
                            </a:moveTo>
                            <a:lnTo>
                              <a:pt x="17" y="0"/>
                            </a:lnTo>
                            <a:lnTo>
                              <a:pt x="17" y="10"/>
                            </a:lnTo>
                            <a:lnTo>
                              <a:pt x="0" y="1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7397280" y="515376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0">
                            <a:moveTo>
                              <a:pt x="0" y="10"/>
                            </a:moveTo>
                            <a:lnTo>
                              <a:pt x="1" y="0"/>
                            </a:lnTo>
                            <a:lnTo>
                              <a:pt x="1" y="10"/>
                            </a:lnTo>
                            <a:lnTo>
                              <a:pt x="3" y="1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7403400" y="5113440"/>
                        <a:ext cx="900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86">
                            <a:moveTo>
                              <a:pt x="0" y="79"/>
                            </a:moveTo>
                            <a:lnTo>
                              <a:pt x="2" y="75"/>
                            </a:lnTo>
                            <a:lnTo>
                              <a:pt x="3" y="67"/>
                            </a:lnTo>
                            <a:lnTo>
                              <a:pt x="6" y="41"/>
                            </a:lnTo>
                            <a:lnTo>
                              <a:pt x="7" y="0"/>
                            </a:lnTo>
                            <a:lnTo>
                              <a:pt x="16" y="0"/>
                            </a:lnTo>
                            <a:lnTo>
                              <a:pt x="15" y="41"/>
                            </a:lnTo>
                            <a:lnTo>
                              <a:pt x="12" y="70"/>
                            </a:lnTo>
                            <a:lnTo>
                              <a:pt x="11" y="81"/>
                            </a:lnTo>
                            <a:lnTo>
                              <a:pt x="8" y="86"/>
                            </a:lnTo>
                            <a:lnTo>
                              <a:pt x="0" y="7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7403400" y="515376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4" y="10"/>
                            </a:moveTo>
                            <a:lnTo>
                              <a:pt x="7" y="10"/>
                            </a:lnTo>
                            <a:lnTo>
                              <a:pt x="8" y="9"/>
                            </a:lnTo>
                            <a:lnTo>
                              <a:pt x="0" y="2"/>
                            </a:lnTo>
                            <a:lnTo>
                              <a:pt x="4" y="0"/>
                            </a:lnTo>
                            <a:lnTo>
                              <a:pt x="4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7409520" y="5108760"/>
                        <a:ext cx="2772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13">
                            <a:moveTo>
                              <a:pt x="0" y="3"/>
                            </a:moveTo>
                            <a:lnTo>
                              <a:pt x="0" y="13"/>
                            </a:lnTo>
                            <a:lnTo>
                              <a:pt x="53" y="11"/>
                            </a:lnTo>
                            <a:lnTo>
                              <a:pt x="53" y="0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7408080" y="51102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  <a:lnTo>
                              <a:pt x="5" y="10"/>
                            </a:lnTo>
                            <a:lnTo>
                              <a:pt x="9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7434360" y="5090040"/>
                        <a:ext cx="90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45">
                            <a:moveTo>
                              <a:pt x="0" y="42"/>
                            </a:moveTo>
                            <a:lnTo>
                              <a:pt x="9" y="45"/>
                            </a:lnTo>
                            <a:lnTo>
                              <a:pt x="16" y="3"/>
                            </a:lnTo>
                            <a:lnTo>
                              <a:pt x="6" y="0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7434360" y="510876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5" y="11"/>
                            </a:moveTo>
                            <a:lnTo>
                              <a:pt x="9" y="11"/>
                            </a:lnTo>
                            <a:lnTo>
                              <a:pt x="9" y="7"/>
                            </a:lnTo>
                            <a:lnTo>
                              <a:pt x="0" y="4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7437240" y="5080680"/>
                        <a:ext cx="57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9">
                            <a:moveTo>
                              <a:pt x="0" y="16"/>
                            </a:moveTo>
                            <a:lnTo>
                              <a:pt x="10" y="19"/>
                            </a:lnTo>
                            <a:lnTo>
                              <a:pt x="10" y="3"/>
                            </a:ln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7437240" y="5090040"/>
                        <a:ext cx="576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3">
                            <a:moveTo>
                              <a:pt x="10" y="3"/>
                            </a:moveTo>
                            <a:lnTo>
                              <a:pt x="0" y="0"/>
                            </a:lnTo>
                            <a:lnTo>
                              <a:pt x="1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7440480" y="50792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0" y="0"/>
                            </a:moveTo>
                            <a:lnTo>
                              <a:pt x="1" y="11"/>
                            </a:lnTo>
                            <a:lnTo>
                              <a:pt x="2" y="11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7437240" y="5079240"/>
                        <a:ext cx="576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4"/>
                            </a:moveTo>
                            <a:lnTo>
                              <a:pt x="0" y="1"/>
                            </a:lnTo>
                            <a:lnTo>
                              <a:pt x="6" y="0"/>
                            </a:lnTo>
                            <a:lnTo>
                              <a:pt x="7" y="11"/>
                            </a:lnTo>
                            <a:lnTo>
                              <a:pt x="10" y="7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7440480" y="50792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2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7403400" y="4989600"/>
                        <a:ext cx="4752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131">
                            <a:moveTo>
                              <a:pt x="80" y="126"/>
                            </a:moveTo>
                            <a:lnTo>
                              <a:pt x="80" y="128"/>
                            </a:lnTo>
                            <a:lnTo>
                              <a:pt x="80" y="130"/>
                            </a:lnTo>
                            <a:lnTo>
                              <a:pt x="76" y="131"/>
                            </a:lnTo>
                            <a:lnTo>
                              <a:pt x="77" y="99"/>
                            </a:lnTo>
                            <a:lnTo>
                              <a:pt x="52" y="99"/>
                            </a:lnTo>
                            <a:lnTo>
                              <a:pt x="23" y="99"/>
                            </a:lnTo>
                            <a:lnTo>
                              <a:pt x="0" y="45"/>
                            </a:lnTo>
                            <a:lnTo>
                              <a:pt x="18" y="0"/>
                            </a:lnTo>
                            <a:lnTo>
                              <a:pt x="91" y="3"/>
                            </a:lnTo>
                            <a:lnTo>
                              <a:pt x="89" y="20"/>
                            </a:lnTo>
                            <a:lnTo>
                              <a:pt x="83" y="60"/>
                            </a:lnTo>
                            <a:lnTo>
                              <a:pt x="81" y="101"/>
                            </a:lnTo>
                            <a:lnTo>
                              <a:pt x="80" y="116"/>
                            </a:lnTo>
                            <a:lnTo>
                              <a:pt x="80" y="123"/>
                            </a:lnTo>
                            <a:lnTo>
                              <a:pt x="80" y="12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7440480" y="5054400"/>
                        <a:ext cx="75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3" y="3"/>
                            </a:moveTo>
                            <a:lnTo>
                              <a:pt x="10" y="8"/>
                            </a:lnTo>
                            <a:lnTo>
                              <a:pt x="6" y="11"/>
                            </a:lnTo>
                            <a:lnTo>
                              <a:pt x="0" y="3"/>
                            </a:lnTo>
                            <a:lnTo>
                              <a:pt x="4" y="0"/>
                            </a:lnTo>
                            <a:lnTo>
                              <a:pt x="2" y="0"/>
                            </a:lnTo>
                            <a:lnTo>
                              <a:pt x="13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7440480" y="5040720"/>
                        <a:ext cx="43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4">
                            <a:moveTo>
                              <a:pt x="0" y="32"/>
                            </a:moveTo>
                            <a:lnTo>
                              <a:pt x="10" y="34"/>
                            </a:lnTo>
                            <a:lnTo>
                              <a:pt x="11" y="3"/>
                            </a:lnTo>
                            <a:lnTo>
                              <a:pt x="2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7438680" y="5056200"/>
                        <a:ext cx="612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9" y="8"/>
                            </a:moveTo>
                            <a:lnTo>
                              <a:pt x="0" y="16"/>
                            </a:lnTo>
                            <a:lnTo>
                              <a:pt x="1" y="3"/>
                            </a:lnTo>
                            <a:lnTo>
                              <a:pt x="11" y="5"/>
                            </a:lnTo>
                            <a:lnTo>
                              <a:pt x="3" y="0"/>
                            </a:lnTo>
                            <a:lnTo>
                              <a:pt x="9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" name=""/>
                      <p:cNvSpPr/>
                      <p:nvPr/>
                    </p:nvSpPr>
                    <p:spPr>
                      <a:xfrm>
                        <a:off x="7429680" y="5038920"/>
                        <a:ext cx="1332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7440480" y="50389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9" y="7"/>
                            </a:moveTo>
                            <a:lnTo>
                              <a:pt x="9" y="0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lnTo>
                              <a:pt x="0" y="4"/>
                            </a:lnTo>
                            <a:lnTo>
                              <a:pt x="9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7415640" y="5038920"/>
                        <a:ext cx="1368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7429680" y="503892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0" h="11">
                            <a:moveTo>
                              <a:pt x="0" y="0"/>
                            </a:move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>
                        <a:off x="7401600" y="5012640"/>
                        <a:ext cx="15120" cy="2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58">
                            <a:moveTo>
                              <a:pt x="23" y="58"/>
                            </a:moveTo>
                            <a:lnTo>
                              <a:pt x="32" y="54"/>
                            </a:lnTo>
                            <a:lnTo>
                              <a:pt x="9" y="0"/>
                            </a:lnTo>
                            <a:lnTo>
                              <a:pt x="0" y="4"/>
                            </a:lnTo>
                            <a:lnTo>
                              <a:pt x="23" y="5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" name=""/>
                      <p:cNvSpPr/>
                      <p:nvPr/>
                    </p:nvSpPr>
                    <p:spPr>
                      <a:xfrm>
                        <a:off x="7412400" y="50389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5" y="11"/>
                            </a:moveTo>
                            <a:lnTo>
                              <a:pt x="1" y="11"/>
                            </a:lnTo>
                            <a:lnTo>
                              <a:pt x="0" y="8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7401600" y="4989600"/>
                        <a:ext cx="1260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50">
                            <a:moveTo>
                              <a:pt x="0" y="45"/>
                            </a:moveTo>
                            <a:lnTo>
                              <a:pt x="9" y="50"/>
                            </a:lnTo>
                            <a:lnTo>
                              <a:pt x="26" y="5"/>
                            </a:lnTo>
                            <a:lnTo>
                              <a:pt x="17" y="0"/>
                            </a:lnTo>
                            <a:lnTo>
                              <a:pt x="0" y="4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7400160" y="501264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5">
                            <a:moveTo>
                              <a:pt x="1" y="5"/>
                            </a:moveTo>
                            <a:lnTo>
                              <a:pt x="0" y="2"/>
                            </a:lnTo>
                            <a:lnTo>
                              <a:pt x="1" y="0"/>
                            </a:lnTo>
                            <a:lnTo>
                              <a:pt x="10" y="5"/>
                            </a:lnTo>
                            <a:lnTo>
                              <a:pt x="10" y="1"/>
                            </a:lnTo>
                            <a:lnTo>
                              <a:pt x="1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7412400" y="4988160"/>
                        <a:ext cx="370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3">
                            <a:moveTo>
                              <a:pt x="0" y="0"/>
                            </a:moveTo>
                            <a:lnTo>
                              <a:pt x="0" y="11"/>
                            </a:lnTo>
                            <a:lnTo>
                              <a:pt x="72" y="13"/>
                            </a:lnTo>
                            <a:lnTo>
                              <a:pt x="72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7409520" y="498816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3"/>
                            </a:moveTo>
                            <a:lnTo>
                              <a:pt x="2" y="0"/>
                            </a:lnTo>
                            <a:lnTo>
                              <a:pt x="6" y="0"/>
                            </a:lnTo>
                            <a:lnTo>
                              <a:pt x="6" y="11"/>
                            </a:lnTo>
                            <a:lnTo>
                              <a:pt x="9" y="8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7441920" y="4991400"/>
                        <a:ext cx="108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23">
                            <a:moveTo>
                              <a:pt x="21" y="0"/>
                            </a:moveTo>
                            <a:lnTo>
                              <a:pt x="15" y="57"/>
                            </a:lnTo>
                            <a:lnTo>
                              <a:pt x="11" y="98"/>
                            </a:lnTo>
                            <a:lnTo>
                              <a:pt x="11" y="123"/>
                            </a:lnTo>
                            <a:lnTo>
                              <a:pt x="0" y="123"/>
                            </a:lnTo>
                            <a:lnTo>
                              <a:pt x="0" y="98"/>
                            </a:lnTo>
                            <a:lnTo>
                              <a:pt x="4" y="57"/>
                            </a:lnTo>
                            <a:lnTo>
                              <a:pt x="11" y="0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7448400" y="49896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5" y="0"/>
                            </a:moveTo>
                            <a:lnTo>
                              <a:pt x="10" y="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7441920" y="505440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">
                            <a:moveTo>
                              <a:pt x="11" y="2"/>
                            </a:moveTo>
                            <a:lnTo>
                              <a:pt x="11" y="3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1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>
                        <a:off x="7207200" y="5090040"/>
                        <a:ext cx="493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0">
                            <a:moveTo>
                              <a:pt x="81" y="4"/>
                            </a:moveTo>
                            <a:lnTo>
                              <a:pt x="96" y="0"/>
                            </a:lnTo>
                            <a:lnTo>
                              <a:pt x="83" y="67"/>
                            </a:lnTo>
                            <a:lnTo>
                              <a:pt x="59" y="69"/>
                            </a:lnTo>
                            <a:lnTo>
                              <a:pt x="33" y="70"/>
                            </a:lnTo>
                            <a:lnTo>
                              <a:pt x="19" y="70"/>
                            </a:lnTo>
                            <a:lnTo>
                              <a:pt x="10" y="70"/>
                            </a:lnTo>
                            <a:lnTo>
                              <a:pt x="2" y="69"/>
                            </a:lnTo>
                            <a:lnTo>
                              <a:pt x="1" y="67"/>
                            </a:lnTo>
                            <a:lnTo>
                              <a:pt x="0" y="67"/>
                            </a:lnTo>
                            <a:lnTo>
                              <a:pt x="10" y="66"/>
                            </a:lnTo>
                            <a:lnTo>
                              <a:pt x="9" y="40"/>
                            </a:lnTo>
                            <a:lnTo>
                              <a:pt x="18" y="42"/>
                            </a:lnTo>
                            <a:lnTo>
                              <a:pt x="27" y="42"/>
                            </a:lnTo>
                            <a:lnTo>
                              <a:pt x="33" y="42"/>
                            </a:lnTo>
                            <a:lnTo>
                              <a:pt x="38" y="42"/>
                            </a:lnTo>
                            <a:lnTo>
                              <a:pt x="42" y="41"/>
                            </a:lnTo>
                            <a:lnTo>
                              <a:pt x="47" y="37"/>
                            </a:lnTo>
                            <a:lnTo>
                              <a:pt x="59" y="28"/>
                            </a:lnTo>
                            <a:lnTo>
                              <a:pt x="71" y="16"/>
                            </a:lnTo>
                            <a:lnTo>
                              <a:pt x="8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>
                        <a:off x="7247160" y="5087160"/>
                        <a:ext cx="936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4">
                            <a:moveTo>
                              <a:pt x="0" y="4"/>
                            </a:moveTo>
                            <a:lnTo>
                              <a:pt x="3" y="14"/>
                            </a:lnTo>
                            <a:lnTo>
                              <a:pt x="17" y="10"/>
                            </a:lnTo>
                            <a:lnTo>
                              <a:pt x="15" y="0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" name=""/>
                      <p:cNvSpPr/>
                      <p:nvPr/>
                    </p:nvSpPr>
                    <p:spPr>
                      <a:xfrm>
                        <a:off x="7245720" y="5088600"/>
                        <a:ext cx="122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68">
                            <a:moveTo>
                              <a:pt x="24" y="1"/>
                            </a:moveTo>
                            <a:lnTo>
                              <a:pt x="14" y="0"/>
                            </a:lnTo>
                            <a:lnTo>
                              <a:pt x="0" y="67"/>
                            </a:lnTo>
                            <a:lnTo>
                              <a:pt x="11" y="68"/>
                            </a:lnTo>
                            <a:lnTo>
                              <a:pt x="24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7253280" y="508572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3">
                            <a:moveTo>
                              <a:pt x="4" y="3"/>
                            </a:moveTo>
                            <a:lnTo>
                              <a:pt x="11" y="0"/>
                            </a:lnTo>
                            <a:lnTo>
                              <a:pt x="10" y="8"/>
                            </a:lnTo>
                            <a:lnTo>
                              <a:pt x="0" y="7"/>
                            </a:lnTo>
                            <a:lnTo>
                              <a:pt x="6" y="13"/>
                            </a:lnTo>
                            <a:lnTo>
                              <a:pt x="4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7205400" y="5122440"/>
                        <a:ext cx="4320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2">
                            <a:moveTo>
                              <a:pt x="86" y="9"/>
                            </a:moveTo>
                            <a:lnTo>
                              <a:pt x="36" y="12"/>
                            </a:lnTo>
                            <a:lnTo>
                              <a:pt x="11" y="12"/>
                            </a:lnTo>
                            <a:lnTo>
                              <a:pt x="0" y="9"/>
                            </a:lnTo>
                            <a:lnTo>
                              <a:pt x="4" y="0"/>
                            </a:lnTo>
                            <a:lnTo>
                              <a:pt x="13" y="3"/>
                            </a:lnTo>
                            <a:lnTo>
                              <a:pt x="36" y="3"/>
                            </a:lnTo>
                            <a:lnTo>
                              <a:pt x="86" y="0"/>
                            </a:lnTo>
                            <a:lnTo>
                              <a:pt x="8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7245720" y="512244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6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7207200" y="51210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1"/>
                            </a:moveTo>
                            <a:lnTo>
                              <a:pt x="0" y="11"/>
                            </a:lnTo>
                            <a:lnTo>
                              <a:pt x="10" y="10"/>
                            </a:lnTo>
                            <a:lnTo>
                              <a:pt x="10" y="0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7205400" y="5121000"/>
                        <a:ext cx="14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0">
                            <a:moveTo>
                              <a:pt x="0" y="10"/>
                            </a:moveTo>
                            <a:lnTo>
                              <a:pt x="3" y="0"/>
                            </a:lnTo>
                            <a:lnTo>
                              <a:pt x="3" y="10"/>
                            </a:lnTo>
                            <a:lnTo>
                              <a:pt x="4" y="1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7207200" y="5110200"/>
                        <a:ext cx="576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26">
                            <a:moveTo>
                              <a:pt x="3" y="26"/>
                            </a:moveTo>
                            <a:lnTo>
                              <a:pt x="12" y="26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3" y="2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7208640" y="51210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5" y="10"/>
                            </a:moveTo>
                            <a:lnTo>
                              <a:pt x="9" y="10"/>
                            </a:lnTo>
                            <a:lnTo>
                              <a:pt x="9" y="5"/>
                            </a:lnTo>
                            <a:lnTo>
                              <a:pt x="0" y="5"/>
                            </a:lnTo>
                            <a:lnTo>
                              <a:pt x="5" y="0"/>
                            </a:lnTo>
                            <a:lnTo>
                              <a:pt x="5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7210440" y="5106960"/>
                        <a:ext cx="15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3">
                            <a:moveTo>
                              <a:pt x="2" y="0"/>
                            </a:moveTo>
                            <a:lnTo>
                              <a:pt x="12" y="2"/>
                            </a:lnTo>
                            <a:lnTo>
                              <a:pt x="32" y="3"/>
                            </a:lnTo>
                            <a:lnTo>
                              <a:pt x="31" y="13"/>
                            </a:lnTo>
                            <a:lnTo>
                              <a:pt x="11" y="12"/>
                            </a:lnTo>
                            <a:lnTo>
                              <a:pt x="0" y="11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7207200" y="510696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7"/>
                            </a:moveTo>
                            <a:lnTo>
                              <a:pt x="0" y="0"/>
                            </a:lnTo>
                            <a:lnTo>
                              <a:pt x="6" y="1"/>
                            </a:lnTo>
                            <a:lnTo>
                              <a:pt x="4" y="12"/>
                            </a:lnTo>
                            <a:lnTo>
                              <a:pt x="9" y="7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7224120" y="5090040"/>
                        <a:ext cx="262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47">
                            <a:moveTo>
                              <a:pt x="0" y="38"/>
                            </a:moveTo>
                            <a:lnTo>
                              <a:pt x="9" y="33"/>
                            </a:lnTo>
                            <a:lnTo>
                              <a:pt x="19" y="24"/>
                            </a:lnTo>
                            <a:lnTo>
                              <a:pt x="42" y="0"/>
                            </a:lnTo>
                            <a:lnTo>
                              <a:pt x="49" y="8"/>
                            </a:lnTo>
                            <a:lnTo>
                              <a:pt x="25" y="32"/>
                            </a:lnTo>
                            <a:lnTo>
                              <a:pt x="15" y="42"/>
                            </a:lnTo>
                            <a:lnTo>
                              <a:pt x="5" y="47"/>
                            </a:lnTo>
                            <a:lnTo>
                              <a:pt x="0" y="3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" name=""/>
                      <p:cNvSpPr/>
                      <p:nvPr/>
                    </p:nvSpPr>
                    <p:spPr>
                      <a:xfrm>
                        <a:off x="7224120" y="510876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0">
                            <a:moveTo>
                              <a:pt x="2" y="10"/>
                            </a:moveTo>
                            <a:lnTo>
                              <a:pt x="5" y="10"/>
                            </a:lnTo>
                            <a:lnTo>
                              <a:pt x="0" y="1"/>
                            </a:lnTo>
                            <a:lnTo>
                              <a:pt x="3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7245720" y="50886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"/>
                            </a:move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6" y="10"/>
                            </a:lnTo>
                            <a:lnTo>
                              <a:pt x="7" y="9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7301520" y="5085720"/>
                        <a:ext cx="5688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45">
                            <a:moveTo>
                              <a:pt x="0" y="0"/>
                            </a:moveTo>
                            <a:lnTo>
                              <a:pt x="7" y="33"/>
                            </a:lnTo>
                            <a:lnTo>
                              <a:pt x="70" y="37"/>
                            </a:lnTo>
                            <a:lnTo>
                              <a:pt x="81" y="40"/>
                            </a:lnTo>
                            <a:lnTo>
                              <a:pt x="112" y="64"/>
                            </a:lnTo>
                            <a:lnTo>
                              <a:pt x="110" y="90"/>
                            </a:lnTo>
                            <a:lnTo>
                              <a:pt x="110" y="108"/>
                            </a:lnTo>
                            <a:lnTo>
                              <a:pt x="108" y="110"/>
                            </a:lnTo>
                            <a:lnTo>
                              <a:pt x="107" y="111"/>
                            </a:lnTo>
                            <a:lnTo>
                              <a:pt x="104" y="112"/>
                            </a:lnTo>
                            <a:lnTo>
                              <a:pt x="100" y="114"/>
                            </a:lnTo>
                            <a:lnTo>
                              <a:pt x="91" y="115"/>
                            </a:lnTo>
                            <a:lnTo>
                              <a:pt x="79" y="116"/>
                            </a:lnTo>
                            <a:lnTo>
                              <a:pt x="60" y="118"/>
                            </a:lnTo>
                            <a:lnTo>
                              <a:pt x="50" y="118"/>
                            </a:lnTo>
                            <a:lnTo>
                              <a:pt x="45" y="145"/>
                            </a:lnTo>
                            <a:lnTo>
                              <a:pt x="9" y="143"/>
                            </a:lnTo>
                            <a:lnTo>
                              <a:pt x="6" y="7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7298280" y="5085720"/>
                        <a:ext cx="900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6">
                            <a:moveTo>
                              <a:pt x="11" y="0"/>
                            </a:moveTo>
                            <a:lnTo>
                              <a:pt x="0" y="3"/>
                            </a:lnTo>
                            <a:lnTo>
                              <a:pt x="7" y="36"/>
                            </a:lnTo>
                            <a:lnTo>
                              <a:pt x="17" y="33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7304400" y="5101200"/>
                        <a:ext cx="324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5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62" y="15"/>
                            </a:lnTo>
                            <a:lnTo>
                              <a:pt x="63" y="4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7302960" y="51012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7"/>
                            </a:moveTo>
                            <a:lnTo>
                              <a:pt x="1" y="11"/>
                            </a:lnTo>
                            <a:lnTo>
                              <a:pt x="4" y="11"/>
                            </a:lnTo>
                            <a:lnTo>
                              <a:pt x="5" y="0"/>
                            </a:lnTo>
                            <a:lnTo>
                              <a:pt x="10" y="4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7336800" y="510264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3">
                            <a:moveTo>
                              <a:pt x="2" y="0"/>
                            </a:moveTo>
                            <a:lnTo>
                              <a:pt x="0" y="11"/>
                            </a:lnTo>
                            <a:lnTo>
                              <a:pt x="10" y="13"/>
                            </a:lnTo>
                            <a:lnTo>
                              <a:pt x="13" y="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7336800" y="5102640"/>
                        <a:ext cx="14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1" y="0"/>
                            </a:moveTo>
                            <a:lnTo>
                              <a:pt x="2" y="0"/>
                            </a:lnTo>
                            <a:lnTo>
                              <a:pt x="0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7340040" y="5103720"/>
                        <a:ext cx="1980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32">
                            <a:moveTo>
                              <a:pt x="7" y="0"/>
                            </a:moveTo>
                            <a:lnTo>
                              <a:pt x="0" y="8"/>
                            </a:lnTo>
                            <a:lnTo>
                              <a:pt x="33" y="32"/>
                            </a:lnTo>
                            <a:lnTo>
                              <a:pt x="40" y="24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7340040" y="5103720"/>
                        <a:ext cx="28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6" y="0"/>
                            </a:moveTo>
                            <a:lnTo>
                              <a:pt x="7" y="1"/>
                            </a:lnTo>
                            <a:lnTo>
                              <a:pt x="0" y="9"/>
                            </a:lnTo>
                            <a:lnTo>
                              <a:pt x="3" y="10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7355520" y="5119560"/>
                        <a:ext cx="61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44">
                            <a:moveTo>
                              <a:pt x="14" y="0"/>
                            </a:moveTo>
                            <a:lnTo>
                              <a:pt x="11" y="44"/>
                            </a:lnTo>
                            <a:lnTo>
                              <a:pt x="0" y="44"/>
                            </a:lnTo>
                            <a:lnTo>
                              <a:pt x="3" y="0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7356960" y="511632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8">
                            <a:moveTo>
                              <a:pt x="8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0" y="4"/>
                            </a:lnTo>
                            <a:lnTo>
                              <a:pt x="1" y="8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7327800" y="5141160"/>
                        <a:ext cx="32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7">
                            <a:moveTo>
                              <a:pt x="64" y="6"/>
                            </a:moveTo>
                            <a:lnTo>
                              <a:pt x="60" y="9"/>
                            </a:lnTo>
                            <a:lnTo>
                              <a:pt x="52" y="13"/>
                            </a:lnTo>
                            <a:lnTo>
                              <a:pt x="31" y="16"/>
                            </a:lnTo>
                            <a:lnTo>
                              <a:pt x="0" y="17"/>
                            </a:lnTo>
                            <a:lnTo>
                              <a:pt x="0" y="8"/>
                            </a:lnTo>
                            <a:lnTo>
                              <a:pt x="28" y="6"/>
                            </a:lnTo>
                            <a:lnTo>
                              <a:pt x="48" y="4"/>
                            </a:lnTo>
                            <a:lnTo>
                              <a:pt x="53" y="1"/>
                            </a:lnTo>
                            <a:lnTo>
                              <a:pt x="56" y="0"/>
                            </a:lnTo>
                            <a:lnTo>
                              <a:pt x="64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7355520" y="5141160"/>
                        <a:ext cx="43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6">
                            <a:moveTo>
                              <a:pt x="11" y="2"/>
                            </a:moveTo>
                            <a:lnTo>
                              <a:pt x="11" y="5"/>
                            </a:lnTo>
                            <a:lnTo>
                              <a:pt x="10" y="6"/>
                            </a:lnTo>
                            <a:lnTo>
                              <a:pt x="2" y="0"/>
                            </a:lnTo>
                            <a:lnTo>
                              <a:pt x="0" y="2"/>
                            </a:lnTo>
                            <a:lnTo>
                              <a:pt x="11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7321320" y="5145480"/>
                        <a:ext cx="90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9">
                            <a:moveTo>
                              <a:pt x="16" y="2"/>
                            </a:moveTo>
                            <a:lnTo>
                              <a:pt x="5" y="0"/>
                            </a:lnTo>
                            <a:lnTo>
                              <a:pt x="0" y="28"/>
                            </a:lnTo>
                            <a:lnTo>
                              <a:pt x="10" y="29"/>
                            </a:lnTo>
                            <a:lnTo>
                              <a:pt x="16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7324560" y="51440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1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7305840" y="5158080"/>
                        <a:ext cx="183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2">
                            <a:moveTo>
                              <a:pt x="36" y="12"/>
                            </a:moveTo>
                            <a:lnTo>
                              <a:pt x="36" y="2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36" y="1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" name=""/>
                      <p:cNvSpPr/>
                      <p:nvPr/>
                    </p:nvSpPr>
                    <p:spPr>
                      <a:xfrm>
                        <a:off x="7321320" y="515808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4"/>
                            </a:moveTo>
                            <a:lnTo>
                              <a:pt x="9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7301520" y="5124240"/>
                        <a:ext cx="576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69">
                            <a:moveTo>
                              <a:pt x="4" y="69"/>
                            </a:moveTo>
                            <a:lnTo>
                              <a:pt x="13" y="69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4" y="6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7302960" y="51580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5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7298280" y="5085720"/>
                        <a:ext cx="7560" cy="3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74">
                            <a:moveTo>
                              <a:pt x="5" y="74"/>
                            </a:moveTo>
                            <a:lnTo>
                              <a:pt x="14" y="74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5" y="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7301520" y="512424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0">
                            <a:moveTo>
                              <a:pt x="9" y="0"/>
                            </a:moveTo>
                            <a:lnTo>
                              <a:pt x="0" y="0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7298280" y="5085720"/>
                        <a:ext cx="576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">
                            <a:moveTo>
                              <a:pt x="0" y="1"/>
                            </a:moveTo>
                            <a:lnTo>
                              <a:pt x="11" y="0"/>
                            </a:lnTo>
                            <a:lnTo>
                              <a:pt x="0" y="3"/>
                            </a:lnTo>
                            <a:lnTo>
                              <a:pt x="9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5214960" y="4790160"/>
                        <a:ext cx="280800" cy="23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7" h="449">
                            <a:moveTo>
                              <a:pt x="3" y="400"/>
                            </a:moveTo>
                            <a:lnTo>
                              <a:pt x="3" y="374"/>
                            </a:lnTo>
                            <a:lnTo>
                              <a:pt x="3" y="339"/>
                            </a:lnTo>
                            <a:lnTo>
                              <a:pt x="22" y="341"/>
                            </a:lnTo>
                            <a:lnTo>
                              <a:pt x="36" y="342"/>
                            </a:lnTo>
                            <a:lnTo>
                              <a:pt x="53" y="342"/>
                            </a:lnTo>
                            <a:lnTo>
                              <a:pt x="58" y="341"/>
                            </a:lnTo>
                            <a:lnTo>
                              <a:pt x="63" y="339"/>
                            </a:lnTo>
                            <a:lnTo>
                              <a:pt x="71" y="337"/>
                            </a:lnTo>
                            <a:lnTo>
                              <a:pt x="78" y="331"/>
                            </a:lnTo>
                            <a:lnTo>
                              <a:pt x="82" y="325"/>
                            </a:lnTo>
                            <a:lnTo>
                              <a:pt x="84" y="320"/>
                            </a:lnTo>
                            <a:lnTo>
                              <a:pt x="86" y="313"/>
                            </a:lnTo>
                            <a:lnTo>
                              <a:pt x="87" y="304"/>
                            </a:lnTo>
                            <a:lnTo>
                              <a:pt x="88" y="296"/>
                            </a:lnTo>
                            <a:lnTo>
                              <a:pt x="91" y="281"/>
                            </a:lnTo>
                            <a:lnTo>
                              <a:pt x="101" y="231"/>
                            </a:lnTo>
                            <a:lnTo>
                              <a:pt x="103" y="223"/>
                            </a:lnTo>
                            <a:lnTo>
                              <a:pt x="105" y="217"/>
                            </a:lnTo>
                            <a:lnTo>
                              <a:pt x="111" y="205"/>
                            </a:lnTo>
                            <a:lnTo>
                              <a:pt x="116" y="194"/>
                            </a:lnTo>
                            <a:lnTo>
                              <a:pt x="123" y="186"/>
                            </a:lnTo>
                            <a:lnTo>
                              <a:pt x="128" y="181"/>
                            </a:lnTo>
                            <a:lnTo>
                              <a:pt x="132" y="177"/>
                            </a:lnTo>
                            <a:lnTo>
                              <a:pt x="137" y="174"/>
                            </a:lnTo>
                            <a:lnTo>
                              <a:pt x="195" y="165"/>
                            </a:lnTo>
                            <a:lnTo>
                              <a:pt x="215" y="134"/>
                            </a:lnTo>
                            <a:lnTo>
                              <a:pt x="262" y="110"/>
                            </a:lnTo>
                            <a:lnTo>
                              <a:pt x="264" y="141"/>
                            </a:lnTo>
                            <a:lnTo>
                              <a:pt x="320" y="130"/>
                            </a:lnTo>
                            <a:lnTo>
                              <a:pt x="384" y="97"/>
                            </a:lnTo>
                            <a:lnTo>
                              <a:pt x="370" y="2"/>
                            </a:lnTo>
                            <a:lnTo>
                              <a:pt x="372" y="0"/>
                            </a:lnTo>
                            <a:lnTo>
                              <a:pt x="547" y="0"/>
                            </a:lnTo>
                            <a:lnTo>
                              <a:pt x="529" y="91"/>
                            </a:lnTo>
                            <a:lnTo>
                              <a:pt x="427" y="82"/>
                            </a:lnTo>
                            <a:lnTo>
                              <a:pt x="427" y="114"/>
                            </a:lnTo>
                            <a:lnTo>
                              <a:pt x="398" y="149"/>
                            </a:lnTo>
                            <a:lnTo>
                              <a:pt x="294" y="192"/>
                            </a:lnTo>
                            <a:lnTo>
                              <a:pt x="278" y="194"/>
                            </a:lnTo>
                            <a:lnTo>
                              <a:pt x="261" y="197"/>
                            </a:lnTo>
                            <a:lnTo>
                              <a:pt x="240" y="202"/>
                            </a:lnTo>
                            <a:lnTo>
                              <a:pt x="228" y="205"/>
                            </a:lnTo>
                            <a:lnTo>
                              <a:pt x="216" y="207"/>
                            </a:lnTo>
                            <a:lnTo>
                              <a:pt x="192" y="214"/>
                            </a:lnTo>
                            <a:lnTo>
                              <a:pt x="182" y="218"/>
                            </a:lnTo>
                            <a:lnTo>
                              <a:pt x="173" y="222"/>
                            </a:lnTo>
                            <a:lnTo>
                              <a:pt x="163" y="226"/>
                            </a:lnTo>
                            <a:lnTo>
                              <a:pt x="154" y="231"/>
                            </a:lnTo>
                            <a:lnTo>
                              <a:pt x="148" y="236"/>
                            </a:lnTo>
                            <a:lnTo>
                              <a:pt x="145" y="240"/>
                            </a:lnTo>
                            <a:lnTo>
                              <a:pt x="141" y="246"/>
                            </a:lnTo>
                            <a:lnTo>
                              <a:pt x="136" y="255"/>
                            </a:lnTo>
                            <a:lnTo>
                              <a:pt x="132" y="267"/>
                            </a:lnTo>
                            <a:lnTo>
                              <a:pt x="127" y="280"/>
                            </a:lnTo>
                            <a:lnTo>
                              <a:pt x="124" y="293"/>
                            </a:lnTo>
                            <a:lnTo>
                              <a:pt x="120" y="306"/>
                            </a:lnTo>
                            <a:lnTo>
                              <a:pt x="117" y="321"/>
                            </a:lnTo>
                            <a:lnTo>
                              <a:pt x="113" y="346"/>
                            </a:lnTo>
                            <a:lnTo>
                              <a:pt x="112" y="358"/>
                            </a:lnTo>
                            <a:lnTo>
                              <a:pt x="111" y="368"/>
                            </a:lnTo>
                            <a:lnTo>
                              <a:pt x="109" y="389"/>
                            </a:lnTo>
                            <a:lnTo>
                              <a:pt x="67" y="393"/>
                            </a:lnTo>
                            <a:lnTo>
                              <a:pt x="67" y="438"/>
                            </a:lnTo>
                            <a:lnTo>
                              <a:pt x="39" y="443"/>
                            </a:lnTo>
                            <a:lnTo>
                              <a:pt x="20" y="447"/>
                            </a:lnTo>
                            <a:lnTo>
                              <a:pt x="5" y="449"/>
                            </a:lnTo>
                            <a:lnTo>
                              <a:pt x="4" y="447"/>
                            </a:lnTo>
                            <a:lnTo>
                              <a:pt x="3" y="446"/>
                            </a:lnTo>
                            <a:lnTo>
                              <a:pt x="1" y="441"/>
                            </a:lnTo>
                            <a:lnTo>
                              <a:pt x="0" y="433"/>
                            </a:lnTo>
                            <a:lnTo>
                              <a:pt x="0" y="424"/>
                            </a:lnTo>
                            <a:lnTo>
                              <a:pt x="1" y="408"/>
                            </a:lnTo>
                            <a:lnTo>
                              <a:pt x="3" y="4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5213160" y="4981680"/>
                        <a:ext cx="4320" cy="1368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5213160" y="4965120"/>
                        <a:ext cx="4320" cy="1656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9" name=""/>
                      <p:cNvSpPr/>
                      <p:nvPr/>
                    </p:nvSpPr>
                    <p:spPr>
                      <a:xfrm>
                        <a:off x="5213160" y="498168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0">
                            <a:moveTo>
                              <a:pt x="0" y="0"/>
                            </a:moveTo>
                            <a:lnTo>
                              <a:pt x="1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5214960" y="4961880"/>
                        <a:ext cx="262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13">
                            <a:moveTo>
                              <a:pt x="2" y="0"/>
                            </a:moveTo>
                            <a:lnTo>
                              <a:pt x="21" y="1"/>
                            </a:lnTo>
                            <a:lnTo>
                              <a:pt x="52" y="3"/>
                            </a:lnTo>
                            <a:lnTo>
                              <a:pt x="52" y="13"/>
                            </a:lnTo>
                            <a:lnTo>
                              <a:pt x="21" y="12"/>
                            </a:lnTo>
                            <a:lnTo>
                              <a:pt x="0" y="11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5213160" y="496188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4" y="11"/>
                            </a:lnTo>
                            <a:lnTo>
                              <a:pt x="11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5241240" y="4944600"/>
                        <a:ext cx="198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5">
                            <a:moveTo>
                              <a:pt x="0" y="35"/>
                            </a:moveTo>
                            <a:lnTo>
                              <a:pt x="9" y="32"/>
                            </a:lnTo>
                            <a:lnTo>
                              <a:pt x="15" y="29"/>
                            </a:lnTo>
                            <a:lnTo>
                              <a:pt x="19" y="25"/>
                            </a:lnTo>
                            <a:lnTo>
                              <a:pt x="23" y="20"/>
                            </a:lnTo>
                            <a:lnTo>
                              <a:pt x="27" y="10"/>
                            </a:lnTo>
                            <a:lnTo>
                              <a:pt x="29" y="0"/>
                            </a:lnTo>
                            <a:lnTo>
                              <a:pt x="38" y="3"/>
                            </a:lnTo>
                            <a:lnTo>
                              <a:pt x="37" y="14"/>
                            </a:lnTo>
                            <a:lnTo>
                              <a:pt x="33" y="25"/>
                            </a:lnTo>
                            <a:lnTo>
                              <a:pt x="26" y="33"/>
                            </a:lnTo>
                            <a:lnTo>
                              <a:pt x="21" y="39"/>
                            </a:lnTo>
                            <a:lnTo>
                              <a:pt x="12" y="43"/>
                            </a:lnTo>
                            <a:lnTo>
                              <a:pt x="1" y="45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5241240" y="496332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10">
                            <a:moveTo>
                              <a:pt x="0" y="10"/>
                            </a:moveTo>
                            <a:lnTo>
                              <a:pt x="1" y="10"/>
                            </a:lnTo>
                            <a:lnTo>
                              <a:pt x="0" y="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5256720" y="4907520"/>
                        <a:ext cx="122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75">
                            <a:moveTo>
                              <a:pt x="0" y="72"/>
                            </a:moveTo>
                            <a:lnTo>
                              <a:pt x="2" y="50"/>
                            </a:lnTo>
                            <a:lnTo>
                              <a:pt x="14" y="0"/>
                            </a:lnTo>
                            <a:lnTo>
                              <a:pt x="23" y="4"/>
                            </a:lnTo>
                            <a:lnTo>
                              <a:pt x="12" y="54"/>
                            </a:lnTo>
                            <a:lnTo>
                              <a:pt x="9" y="75"/>
                            </a:lnTo>
                            <a:lnTo>
                              <a:pt x="0" y="7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5256720" y="4944600"/>
                        <a:ext cx="43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9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5264640" y="4878360"/>
                        <a:ext cx="2124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3">
                            <a:moveTo>
                              <a:pt x="0" y="58"/>
                            </a:moveTo>
                            <a:lnTo>
                              <a:pt x="9" y="30"/>
                            </a:lnTo>
                            <a:lnTo>
                              <a:pt x="23" y="13"/>
                            </a:lnTo>
                            <a:lnTo>
                              <a:pt x="32" y="2"/>
                            </a:lnTo>
                            <a:lnTo>
                              <a:pt x="38" y="0"/>
                            </a:lnTo>
                            <a:lnTo>
                              <a:pt x="44" y="9"/>
                            </a:lnTo>
                            <a:lnTo>
                              <a:pt x="38" y="10"/>
                            </a:lnTo>
                            <a:lnTo>
                              <a:pt x="31" y="19"/>
                            </a:lnTo>
                            <a:lnTo>
                              <a:pt x="19" y="35"/>
                            </a:lnTo>
                            <a:lnTo>
                              <a:pt x="9" y="63"/>
                            </a:lnTo>
                            <a:lnTo>
                              <a:pt x="0" y="5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5264640" y="4907520"/>
                        <a:ext cx="43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1"/>
                            </a:moveTo>
                            <a:lnTo>
                              <a:pt x="0" y="0"/>
                            </a:lnTo>
                            <a:lnTo>
                              <a:pt x="9" y="5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5284440" y="4871880"/>
                        <a:ext cx="30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20">
                            <a:moveTo>
                              <a:pt x="0" y="9"/>
                            </a:moveTo>
                            <a:lnTo>
                              <a:pt x="1" y="20"/>
                            </a:lnTo>
                            <a:lnTo>
                              <a:pt x="59" y="11"/>
                            </a:lnTo>
                            <a:lnTo>
                              <a:pt x="58" y="0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5283000" y="487656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2"/>
                            </a:move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4" y="11"/>
                            </a:lnTo>
                            <a:lnTo>
                              <a:pt x="6" y="11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5312160" y="4856760"/>
                        <a:ext cx="1512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8">
                            <a:moveTo>
                              <a:pt x="0" y="32"/>
                            </a:moveTo>
                            <a:lnTo>
                              <a:pt x="8" y="38"/>
                            </a:lnTo>
                            <a:lnTo>
                              <a:pt x="28" y="7"/>
                            </a:lnTo>
                            <a:lnTo>
                              <a:pt x="2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5312160" y="487188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5" y="11"/>
                            </a:moveTo>
                            <a:lnTo>
                              <a:pt x="8" y="11"/>
                            </a:lnTo>
                            <a:lnTo>
                              <a:pt x="8" y="9"/>
                            </a:lnTo>
                            <a:lnTo>
                              <a:pt x="0" y="3"/>
                            </a:lnTo>
                            <a:lnTo>
                              <a:pt x="4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5322960" y="4844520"/>
                        <a:ext cx="277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33">
                            <a:moveTo>
                              <a:pt x="0" y="24"/>
                            </a:moveTo>
                            <a:lnTo>
                              <a:pt x="6" y="33"/>
                            </a:lnTo>
                            <a:lnTo>
                              <a:pt x="52" y="9"/>
                            </a:lnTo>
                            <a:lnTo>
                              <a:pt x="46" y="0"/>
                            </a:lnTo>
                            <a:lnTo>
                              <a:pt x="0" y="2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5322960" y="485676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9">
                            <a:moveTo>
                              <a:pt x="0" y="1"/>
                            </a:moveTo>
                            <a:lnTo>
                              <a:pt x="1" y="0"/>
                            </a:lnTo>
                            <a:lnTo>
                              <a:pt x="7" y="9"/>
                            </a:lnTo>
                            <a:lnTo>
                              <a:pt x="8" y="8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5346000" y="4845600"/>
                        <a:ext cx="612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3">
                            <a:moveTo>
                              <a:pt x="10" y="0"/>
                            </a:moveTo>
                            <a:lnTo>
                              <a:pt x="0" y="1"/>
                            </a:lnTo>
                            <a:lnTo>
                              <a:pt x="2" y="33"/>
                            </a:lnTo>
                            <a:lnTo>
                              <a:pt x="13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>
                        <a:off x="5346000" y="484272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2" y="4"/>
                            </a:moveTo>
                            <a:lnTo>
                              <a:pt x="10" y="0"/>
                            </a:lnTo>
                            <a:lnTo>
                              <a:pt x="10" y="8"/>
                            </a:lnTo>
                            <a:lnTo>
                              <a:pt x="0" y="9"/>
                            </a:lnTo>
                            <a:lnTo>
                              <a:pt x="8" y="13"/>
                            </a:lnTo>
                            <a:lnTo>
                              <a:pt x="2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5351040" y="4853520"/>
                        <a:ext cx="288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23">
                            <a:moveTo>
                              <a:pt x="0" y="12"/>
                            </a:moveTo>
                            <a:lnTo>
                              <a:pt x="1" y="23"/>
                            </a:lnTo>
                            <a:lnTo>
                              <a:pt x="58" y="11"/>
                            </a:lnTo>
                            <a:lnTo>
                              <a:pt x="56" y="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5347800" y="485964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2">
                            <a:moveTo>
                              <a:pt x="0" y="7"/>
                            </a:moveTo>
                            <a:lnTo>
                              <a:pt x="0" y="12"/>
                            </a:lnTo>
                            <a:lnTo>
                              <a:pt x="7" y="11"/>
                            </a:lnTo>
                            <a:lnTo>
                              <a:pt x="6" y="0"/>
                            </a:lnTo>
                            <a:lnTo>
                              <a:pt x="11" y="5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5378760" y="4838040"/>
                        <a:ext cx="3384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33"/>
                            </a:moveTo>
                            <a:lnTo>
                              <a:pt x="5" y="42"/>
                            </a:lnTo>
                            <a:lnTo>
                              <a:pt x="68" y="9"/>
                            </a:lnTo>
                            <a:lnTo>
                              <a:pt x="63" y="0"/>
                            </a:lnTo>
                            <a:lnTo>
                              <a:pt x="0" y="3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5378760" y="485352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1">
                            <a:moveTo>
                              <a:pt x="4" y="11"/>
                            </a:moveTo>
                            <a:lnTo>
                              <a:pt x="5" y="11"/>
                            </a:lnTo>
                            <a:lnTo>
                              <a:pt x="0" y="2"/>
                            </a:lnTo>
                            <a:lnTo>
                              <a:pt x="2" y="0"/>
                            </a:lnTo>
                            <a:lnTo>
                              <a:pt x="4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5401800" y="4790160"/>
                        <a:ext cx="1224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98">
                            <a:moveTo>
                              <a:pt x="13" y="98"/>
                            </a:moveTo>
                            <a:lnTo>
                              <a:pt x="23" y="95"/>
                            </a:lnTo>
                            <a:lnTo>
                              <a:pt x="9" y="0"/>
                            </a:lnTo>
                            <a:lnTo>
                              <a:pt x="0" y="3"/>
                            </a:lnTo>
                            <a:lnTo>
                              <a:pt x="13" y="9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5409720" y="483804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8" y="9"/>
                            </a:moveTo>
                            <a:lnTo>
                              <a:pt x="11" y="8"/>
                            </a:lnTo>
                            <a:lnTo>
                              <a:pt x="10" y="2"/>
                            </a:lnTo>
                            <a:lnTo>
                              <a:pt x="0" y="5"/>
                            </a:lnTo>
                            <a:lnTo>
                              <a:pt x="3" y="0"/>
                            </a:lnTo>
                            <a:lnTo>
                              <a:pt x="8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5403600" y="478692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1">
                            <a:moveTo>
                              <a:pt x="0" y="2"/>
                            </a:moveTo>
                            <a:lnTo>
                              <a:pt x="4" y="11"/>
                            </a:lnTo>
                            <a:lnTo>
                              <a:pt x="5" y="10"/>
                            </a:lnTo>
                            <a:lnTo>
                              <a:pt x="1" y="0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3" name=""/>
                      <p:cNvSpPr/>
                      <p:nvPr/>
                    </p:nvSpPr>
                    <p:spPr>
                      <a:xfrm>
                        <a:off x="5401800" y="47887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5"/>
                            </a:moveTo>
                            <a:lnTo>
                              <a:pt x="0" y="1"/>
                            </a:lnTo>
                            <a:lnTo>
                              <a:pt x="3" y="0"/>
                            </a:lnTo>
                            <a:lnTo>
                              <a:pt x="7" y="9"/>
                            </a:lnTo>
                            <a:lnTo>
                              <a:pt x="9" y="2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5406480" y="4786920"/>
                        <a:ext cx="8964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5405040" y="478692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1">
                            <a:moveTo>
                              <a:pt x="0" y="1"/>
                            </a:move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3" y="11"/>
                            </a:lnTo>
                            <a:lnTo>
                              <a:pt x="4" y="1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5483880" y="4788720"/>
                        <a:ext cx="15120" cy="4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92">
                            <a:moveTo>
                              <a:pt x="30" y="1"/>
                            </a:moveTo>
                            <a:lnTo>
                              <a:pt x="20" y="0"/>
                            </a:lnTo>
                            <a:lnTo>
                              <a:pt x="0" y="91"/>
                            </a:lnTo>
                            <a:lnTo>
                              <a:pt x="11" y="92"/>
                            </a:lnTo>
                            <a:lnTo>
                              <a:pt x="3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5492880" y="478692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5" y="0"/>
                            </a:moveTo>
                            <a:lnTo>
                              <a:pt x="12" y="0"/>
                            </a:lnTo>
                            <a:lnTo>
                              <a:pt x="10" y="5"/>
                            </a:lnTo>
                            <a:lnTo>
                              <a:pt x="0" y="4"/>
                            </a:lnTo>
                            <a:lnTo>
                              <a:pt x="5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5434560" y="4830480"/>
                        <a:ext cx="50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9">
                            <a:moveTo>
                              <a:pt x="100" y="19"/>
                            </a:moveTo>
                            <a:lnTo>
                              <a:pt x="100" y="9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100" y="1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5483880" y="48348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4"/>
                            </a:moveTo>
                            <a:lnTo>
                              <a:pt x="9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5431320" y="4831560"/>
                        <a:ext cx="6120" cy="169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5431320" y="483048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5417280" y="4847040"/>
                        <a:ext cx="1836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42">
                            <a:moveTo>
                              <a:pt x="37" y="7"/>
                            </a:moveTo>
                            <a:lnTo>
                              <a:pt x="29" y="0"/>
                            </a:lnTo>
                            <a:lnTo>
                              <a:pt x="0" y="36"/>
                            </a:lnTo>
                            <a:lnTo>
                              <a:pt x="8" y="42"/>
                            </a:lnTo>
                            <a:lnTo>
                              <a:pt x="37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5431320" y="4847040"/>
                        <a:ext cx="61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7">
                            <a:moveTo>
                              <a:pt x="10" y="3"/>
                            </a:moveTo>
                            <a:lnTo>
                              <a:pt x="10" y="5"/>
                            </a:lnTo>
                            <a:lnTo>
                              <a:pt x="9" y="7"/>
                            </a:lnTo>
                            <a:lnTo>
                              <a:pt x="1" y="0"/>
                            </a:lnTo>
                            <a:lnTo>
                              <a:pt x="0" y="3"/>
                            </a:lnTo>
                            <a:lnTo>
                              <a:pt x="1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5364720" y="4864320"/>
                        <a:ext cx="55440" cy="2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52">
                            <a:moveTo>
                              <a:pt x="110" y="10"/>
                            </a:moveTo>
                            <a:lnTo>
                              <a:pt x="105" y="0"/>
                            </a:lnTo>
                            <a:lnTo>
                              <a:pt x="0" y="43"/>
                            </a:lnTo>
                            <a:lnTo>
                              <a:pt x="6" y="52"/>
                            </a:lnTo>
                            <a:lnTo>
                              <a:pt x="11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5417280" y="48643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8" y="8"/>
                            </a:moveTo>
                            <a:lnTo>
                              <a:pt x="7" y="10"/>
                            </a:lnTo>
                            <a:lnTo>
                              <a:pt x="2" y="0"/>
                            </a:lnTo>
                            <a:lnTo>
                              <a:pt x="0" y="2"/>
                            </a:lnTo>
                            <a:lnTo>
                              <a:pt x="8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5292000" y="4885920"/>
                        <a:ext cx="7416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48">
                            <a:moveTo>
                              <a:pt x="143" y="9"/>
                            </a:moveTo>
                            <a:lnTo>
                              <a:pt x="127" y="12"/>
                            </a:lnTo>
                            <a:lnTo>
                              <a:pt x="88" y="19"/>
                            </a:lnTo>
                            <a:lnTo>
                              <a:pt x="42" y="31"/>
                            </a:lnTo>
                            <a:lnTo>
                              <a:pt x="22" y="39"/>
                            </a:lnTo>
                            <a:lnTo>
                              <a:pt x="5" y="48"/>
                            </a:lnTo>
                            <a:lnTo>
                              <a:pt x="0" y="39"/>
                            </a:lnTo>
                            <a:lnTo>
                              <a:pt x="17" y="30"/>
                            </a:lnTo>
                            <a:lnTo>
                              <a:pt x="38" y="22"/>
                            </a:lnTo>
                            <a:lnTo>
                              <a:pt x="84" y="10"/>
                            </a:lnTo>
                            <a:lnTo>
                              <a:pt x="125" y="2"/>
                            </a:lnTo>
                            <a:lnTo>
                              <a:pt x="141" y="0"/>
                            </a:lnTo>
                            <a:lnTo>
                              <a:pt x="143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5364720" y="488592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9">
                            <a:moveTo>
                              <a:pt x="6" y="9"/>
                            </a:moveTo>
                            <a:lnTo>
                              <a:pt x="4" y="9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5267160" y="4906080"/>
                        <a:ext cx="27720" cy="8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162">
                            <a:moveTo>
                              <a:pt x="53" y="8"/>
                            </a:moveTo>
                            <a:lnTo>
                              <a:pt x="48" y="13"/>
                            </a:lnTo>
                            <a:lnTo>
                              <a:pt x="41" y="21"/>
                            </a:lnTo>
                            <a:lnTo>
                              <a:pt x="30" y="42"/>
                            </a:lnTo>
                            <a:lnTo>
                              <a:pt x="24" y="66"/>
                            </a:lnTo>
                            <a:lnTo>
                              <a:pt x="19" y="93"/>
                            </a:lnTo>
                            <a:lnTo>
                              <a:pt x="12" y="141"/>
                            </a:lnTo>
                            <a:lnTo>
                              <a:pt x="11" y="162"/>
                            </a:lnTo>
                            <a:lnTo>
                              <a:pt x="0" y="162"/>
                            </a:lnTo>
                            <a:lnTo>
                              <a:pt x="1" y="141"/>
                            </a:lnTo>
                            <a:lnTo>
                              <a:pt x="8" y="91"/>
                            </a:lnTo>
                            <a:lnTo>
                              <a:pt x="13" y="65"/>
                            </a:lnTo>
                            <a:lnTo>
                              <a:pt x="21" y="38"/>
                            </a:lnTo>
                            <a:lnTo>
                              <a:pt x="32" y="16"/>
                            </a:lnTo>
                            <a:lnTo>
                              <a:pt x="40" y="7"/>
                            </a:lnTo>
                            <a:lnTo>
                              <a:pt x="46" y="0"/>
                            </a:lnTo>
                            <a:lnTo>
                              <a:pt x="53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5292000" y="490608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2" y="0"/>
                            </a:moveTo>
                            <a:lnTo>
                              <a:pt x="0" y="0"/>
                            </a:lnTo>
                            <a:lnTo>
                              <a:pt x="7" y="8"/>
                            </a:lnTo>
                            <a:lnTo>
                              <a:pt x="7" y="9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5249160" y="4988160"/>
                        <a:ext cx="23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14">
                            <a:moveTo>
                              <a:pt x="45" y="10"/>
                            </a:moveTo>
                            <a:lnTo>
                              <a:pt x="42" y="0"/>
                            </a:lnTo>
                            <a:lnTo>
                              <a:pt x="0" y="4"/>
                            </a:lnTo>
                            <a:lnTo>
                              <a:pt x="2" y="14"/>
                            </a:lnTo>
                            <a:lnTo>
                              <a:pt x="45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5267160" y="498816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4"/>
                            </a:moveTo>
                            <a:lnTo>
                              <a:pt x="11" y="10"/>
                            </a:lnTo>
                            <a:lnTo>
                              <a:pt x="7" y="10"/>
                            </a:lnTo>
                            <a:lnTo>
                              <a:pt x="4" y="0"/>
                            </a:lnTo>
                            <a:lnTo>
                              <a:pt x="0" y="4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5245920" y="4992840"/>
                        <a:ext cx="5760" cy="2304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5245920" y="4989600"/>
                        <a:ext cx="576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4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6" y="10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5216400" y="5012640"/>
                        <a:ext cx="324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20">
                            <a:moveTo>
                              <a:pt x="64" y="9"/>
                            </a:moveTo>
                            <a:lnTo>
                              <a:pt x="37" y="15"/>
                            </a:lnTo>
                            <a:lnTo>
                              <a:pt x="3" y="20"/>
                            </a:lnTo>
                            <a:lnTo>
                              <a:pt x="0" y="11"/>
                            </a:lnTo>
                            <a:lnTo>
                              <a:pt x="34" y="6"/>
                            </a:lnTo>
                            <a:lnTo>
                              <a:pt x="62" y="0"/>
                            </a:lnTo>
                            <a:lnTo>
                              <a:pt x="64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5245920" y="50126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10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4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5212080" y="4995720"/>
                        <a:ext cx="57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54">
                            <a:moveTo>
                              <a:pt x="6" y="54"/>
                            </a:moveTo>
                            <a:lnTo>
                              <a:pt x="4" y="51"/>
                            </a:lnTo>
                            <a:lnTo>
                              <a:pt x="1" y="42"/>
                            </a:lnTo>
                            <a:lnTo>
                              <a:pt x="0" y="25"/>
                            </a:lnTo>
                            <a:lnTo>
                              <a:pt x="2" y="0"/>
                            </a:lnTo>
                            <a:lnTo>
                              <a:pt x="12" y="2"/>
                            </a:lnTo>
                            <a:lnTo>
                              <a:pt x="9" y="25"/>
                            </a:lnTo>
                            <a:lnTo>
                              <a:pt x="10" y="42"/>
                            </a:lnTo>
                            <a:lnTo>
                              <a:pt x="12" y="44"/>
                            </a:lnTo>
                            <a:lnTo>
                              <a:pt x="13" y="46"/>
                            </a:lnTo>
                            <a:lnTo>
                              <a:pt x="6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5214960" y="5019120"/>
                        <a:ext cx="25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6" y="9"/>
                            </a:moveTo>
                            <a:lnTo>
                              <a:pt x="3" y="9"/>
                            </a:lnTo>
                            <a:lnTo>
                              <a:pt x="0" y="8"/>
                            </a:lnTo>
                            <a:lnTo>
                              <a:pt x="7" y="0"/>
                            </a:lnTo>
                            <a:lnTo>
                              <a:pt x="3" y="0"/>
                            </a:lnTo>
                            <a:lnTo>
                              <a:pt x="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5213160" y="499572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">
                            <a:moveTo>
                              <a:pt x="10" y="2"/>
                            </a:moveTo>
                            <a:lnTo>
                              <a:pt x="11" y="1"/>
                            </a:lnTo>
                            <a:lnTo>
                              <a:pt x="0" y="1"/>
                            </a:lnTo>
                            <a:lnTo>
                              <a:pt x="0" y="0"/>
                            </a:lnTo>
                            <a:lnTo>
                              <a:pt x="1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5400360" y="3201840"/>
                        <a:ext cx="305640" cy="23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5" h="452">
                            <a:moveTo>
                              <a:pt x="451" y="258"/>
                            </a:moveTo>
                            <a:lnTo>
                              <a:pt x="476" y="279"/>
                            </a:lnTo>
                            <a:lnTo>
                              <a:pt x="436" y="327"/>
                            </a:lnTo>
                            <a:lnTo>
                              <a:pt x="348" y="370"/>
                            </a:lnTo>
                            <a:lnTo>
                              <a:pt x="249" y="386"/>
                            </a:lnTo>
                            <a:lnTo>
                              <a:pt x="245" y="395"/>
                            </a:lnTo>
                            <a:lnTo>
                              <a:pt x="241" y="406"/>
                            </a:lnTo>
                            <a:lnTo>
                              <a:pt x="236" y="419"/>
                            </a:lnTo>
                            <a:lnTo>
                              <a:pt x="229" y="431"/>
                            </a:lnTo>
                            <a:lnTo>
                              <a:pt x="223" y="442"/>
                            </a:lnTo>
                            <a:lnTo>
                              <a:pt x="219" y="446"/>
                            </a:lnTo>
                            <a:lnTo>
                              <a:pt x="215" y="448"/>
                            </a:lnTo>
                            <a:lnTo>
                              <a:pt x="212" y="451"/>
                            </a:lnTo>
                            <a:lnTo>
                              <a:pt x="208" y="452"/>
                            </a:lnTo>
                            <a:lnTo>
                              <a:pt x="196" y="451"/>
                            </a:lnTo>
                            <a:lnTo>
                              <a:pt x="173" y="448"/>
                            </a:lnTo>
                            <a:lnTo>
                              <a:pt x="112" y="440"/>
                            </a:lnTo>
                            <a:lnTo>
                              <a:pt x="29" y="430"/>
                            </a:lnTo>
                            <a:lnTo>
                              <a:pt x="37" y="374"/>
                            </a:lnTo>
                            <a:lnTo>
                              <a:pt x="0" y="370"/>
                            </a:lnTo>
                            <a:lnTo>
                              <a:pt x="37" y="209"/>
                            </a:lnTo>
                            <a:lnTo>
                              <a:pt x="63" y="215"/>
                            </a:lnTo>
                            <a:lnTo>
                              <a:pt x="63" y="253"/>
                            </a:lnTo>
                            <a:lnTo>
                              <a:pt x="90" y="302"/>
                            </a:lnTo>
                            <a:lnTo>
                              <a:pt x="58" y="304"/>
                            </a:lnTo>
                            <a:lnTo>
                              <a:pt x="55" y="331"/>
                            </a:lnTo>
                            <a:lnTo>
                              <a:pt x="53" y="351"/>
                            </a:lnTo>
                            <a:lnTo>
                              <a:pt x="51" y="364"/>
                            </a:lnTo>
                            <a:lnTo>
                              <a:pt x="53" y="365"/>
                            </a:lnTo>
                            <a:lnTo>
                              <a:pt x="54" y="366"/>
                            </a:lnTo>
                            <a:lnTo>
                              <a:pt x="57" y="368"/>
                            </a:lnTo>
                            <a:lnTo>
                              <a:pt x="61" y="369"/>
                            </a:lnTo>
                            <a:lnTo>
                              <a:pt x="69" y="370"/>
                            </a:lnTo>
                            <a:lnTo>
                              <a:pt x="79" y="370"/>
                            </a:lnTo>
                            <a:lnTo>
                              <a:pt x="98" y="372"/>
                            </a:lnTo>
                            <a:lnTo>
                              <a:pt x="107" y="372"/>
                            </a:lnTo>
                            <a:lnTo>
                              <a:pt x="224" y="381"/>
                            </a:lnTo>
                            <a:lnTo>
                              <a:pt x="235" y="347"/>
                            </a:lnTo>
                            <a:lnTo>
                              <a:pt x="311" y="327"/>
                            </a:lnTo>
                            <a:lnTo>
                              <a:pt x="398" y="307"/>
                            </a:lnTo>
                            <a:lnTo>
                              <a:pt x="451" y="258"/>
                            </a:lnTo>
                            <a:close/>
                            <a:moveTo>
                              <a:pt x="332" y="45"/>
                            </a:moveTo>
                            <a:lnTo>
                              <a:pt x="364" y="0"/>
                            </a:lnTo>
                            <a:lnTo>
                              <a:pt x="414" y="41"/>
                            </a:lnTo>
                            <a:lnTo>
                              <a:pt x="430" y="22"/>
                            </a:lnTo>
                            <a:lnTo>
                              <a:pt x="595" y="96"/>
                            </a:lnTo>
                            <a:lnTo>
                              <a:pt x="525" y="145"/>
                            </a:lnTo>
                            <a:lnTo>
                              <a:pt x="520" y="116"/>
                            </a:lnTo>
                            <a:lnTo>
                              <a:pt x="452" y="58"/>
                            </a:lnTo>
                            <a:lnTo>
                              <a:pt x="433" y="63"/>
                            </a:lnTo>
                            <a:lnTo>
                              <a:pt x="433" y="104"/>
                            </a:lnTo>
                            <a:lnTo>
                              <a:pt x="374" y="99"/>
                            </a:lnTo>
                            <a:lnTo>
                              <a:pt x="378" y="60"/>
                            </a:lnTo>
                            <a:lnTo>
                              <a:pt x="332" y="4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0" name=""/>
                    <p:cNvGrpSpPr/>
                    <p:nvPr/>
                  </p:nvGrpSpPr>
                  <p:grpSpPr>
                    <a:xfrm>
                      <a:off x="6321600" y="1546200"/>
                      <a:ext cx="1587600" cy="2050920"/>
                      <a:chOff x="6321600" y="1546200"/>
                      <a:chExt cx="1587600" cy="2050920"/>
                    </a:xfrm>
                  </p:grpSpPr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6820200" y="3497040"/>
                        <a:ext cx="1159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193">
                            <a:moveTo>
                              <a:pt x="48" y="54"/>
                            </a:moveTo>
                            <a:lnTo>
                              <a:pt x="217" y="0"/>
                            </a:lnTo>
                            <a:lnTo>
                              <a:pt x="220" y="4"/>
                            </a:lnTo>
                            <a:lnTo>
                              <a:pt x="221" y="9"/>
                            </a:lnTo>
                            <a:lnTo>
                              <a:pt x="224" y="16"/>
                            </a:lnTo>
                            <a:lnTo>
                              <a:pt x="224" y="23"/>
                            </a:lnTo>
                            <a:lnTo>
                              <a:pt x="222" y="30"/>
                            </a:lnTo>
                            <a:lnTo>
                              <a:pt x="221" y="34"/>
                            </a:lnTo>
                            <a:lnTo>
                              <a:pt x="220" y="38"/>
                            </a:lnTo>
                            <a:lnTo>
                              <a:pt x="216" y="42"/>
                            </a:lnTo>
                            <a:lnTo>
                              <a:pt x="213" y="46"/>
                            </a:lnTo>
                            <a:lnTo>
                              <a:pt x="204" y="56"/>
                            </a:lnTo>
                            <a:lnTo>
                              <a:pt x="195" y="66"/>
                            </a:lnTo>
                            <a:lnTo>
                              <a:pt x="179" y="86"/>
                            </a:lnTo>
                            <a:lnTo>
                              <a:pt x="160" y="110"/>
                            </a:lnTo>
                            <a:lnTo>
                              <a:pt x="155" y="108"/>
                            </a:lnTo>
                            <a:lnTo>
                              <a:pt x="143" y="110"/>
                            </a:lnTo>
                            <a:lnTo>
                              <a:pt x="135" y="112"/>
                            </a:lnTo>
                            <a:lnTo>
                              <a:pt x="130" y="115"/>
                            </a:lnTo>
                            <a:lnTo>
                              <a:pt x="127" y="118"/>
                            </a:lnTo>
                            <a:lnTo>
                              <a:pt x="125" y="120"/>
                            </a:lnTo>
                            <a:lnTo>
                              <a:pt x="124" y="124"/>
                            </a:lnTo>
                            <a:lnTo>
                              <a:pt x="122" y="128"/>
                            </a:lnTo>
                            <a:lnTo>
                              <a:pt x="121" y="136"/>
                            </a:lnTo>
                            <a:lnTo>
                              <a:pt x="117" y="147"/>
                            </a:lnTo>
                            <a:lnTo>
                              <a:pt x="113" y="157"/>
                            </a:lnTo>
                            <a:lnTo>
                              <a:pt x="108" y="168"/>
                            </a:lnTo>
                            <a:lnTo>
                              <a:pt x="98" y="185"/>
                            </a:lnTo>
                            <a:lnTo>
                              <a:pt x="93" y="193"/>
                            </a:lnTo>
                            <a:lnTo>
                              <a:pt x="51" y="161"/>
                            </a:lnTo>
                            <a:lnTo>
                              <a:pt x="48" y="158"/>
                            </a:lnTo>
                            <a:lnTo>
                              <a:pt x="44" y="154"/>
                            </a:lnTo>
                            <a:lnTo>
                              <a:pt x="40" y="149"/>
                            </a:lnTo>
                            <a:lnTo>
                              <a:pt x="36" y="143"/>
                            </a:lnTo>
                            <a:lnTo>
                              <a:pt x="27" y="129"/>
                            </a:lnTo>
                            <a:lnTo>
                              <a:pt x="19" y="115"/>
                            </a:lnTo>
                            <a:lnTo>
                              <a:pt x="5" y="90"/>
                            </a:lnTo>
                            <a:lnTo>
                              <a:pt x="0" y="78"/>
                            </a:lnTo>
                            <a:lnTo>
                              <a:pt x="48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7083720" y="2636640"/>
                        <a:ext cx="250560" cy="26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511">
                            <a:moveTo>
                              <a:pt x="43" y="500"/>
                            </a:moveTo>
                            <a:lnTo>
                              <a:pt x="21" y="497"/>
                            </a:lnTo>
                            <a:lnTo>
                              <a:pt x="22" y="493"/>
                            </a:lnTo>
                            <a:lnTo>
                              <a:pt x="23" y="487"/>
                            </a:lnTo>
                            <a:lnTo>
                              <a:pt x="25" y="482"/>
                            </a:lnTo>
                            <a:lnTo>
                              <a:pt x="25" y="476"/>
                            </a:lnTo>
                            <a:lnTo>
                              <a:pt x="25" y="470"/>
                            </a:lnTo>
                            <a:lnTo>
                              <a:pt x="23" y="464"/>
                            </a:lnTo>
                            <a:lnTo>
                              <a:pt x="18" y="442"/>
                            </a:lnTo>
                            <a:lnTo>
                              <a:pt x="13" y="425"/>
                            </a:lnTo>
                            <a:lnTo>
                              <a:pt x="9" y="414"/>
                            </a:lnTo>
                            <a:lnTo>
                              <a:pt x="8" y="410"/>
                            </a:lnTo>
                            <a:lnTo>
                              <a:pt x="0" y="362"/>
                            </a:lnTo>
                            <a:lnTo>
                              <a:pt x="1" y="313"/>
                            </a:lnTo>
                            <a:lnTo>
                              <a:pt x="29" y="290"/>
                            </a:lnTo>
                            <a:lnTo>
                              <a:pt x="48" y="259"/>
                            </a:lnTo>
                            <a:lnTo>
                              <a:pt x="102" y="120"/>
                            </a:lnTo>
                            <a:lnTo>
                              <a:pt x="126" y="66"/>
                            </a:lnTo>
                            <a:lnTo>
                              <a:pt x="153" y="24"/>
                            </a:lnTo>
                            <a:lnTo>
                              <a:pt x="178" y="13"/>
                            </a:lnTo>
                            <a:lnTo>
                              <a:pt x="211" y="0"/>
                            </a:lnTo>
                            <a:lnTo>
                              <a:pt x="488" y="405"/>
                            </a:lnTo>
                            <a:lnTo>
                              <a:pt x="226" y="480"/>
                            </a:lnTo>
                            <a:lnTo>
                              <a:pt x="166" y="500"/>
                            </a:lnTo>
                            <a:lnTo>
                              <a:pt x="125" y="511"/>
                            </a:lnTo>
                            <a:lnTo>
                              <a:pt x="87" y="508"/>
                            </a:lnTo>
                            <a:lnTo>
                              <a:pt x="68" y="503"/>
                            </a:lnTo>
                            <a:lnTo>
                              <a:pt x="43" y="5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7526520" y="2712960"/>
                        <a:ext cx="16344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8" h="245">
                            <a:moveTo>
                              <a:pt x="310" y="240"/>
                            </a:moveTo>
                            <a:lnTo>
                              <a:pt x="298" y="241"/>
                            </a:lnTo>
                            <a:lnTo>
                              <a:pt x="286" y="241"/>
                            </a:lnTo>
                            <a:lnTo>
                              <a:pt x="274" y="223"/>
                            </a:lnTo>
                            <a:lnTo>
                              <a:pt x="263" y="233"/>
                            </a:lnTo>
                            <a:lnTo>
                              <a:pt x="247" y="240"/>
                            </a:lnTo>
                            <a:lnTo>
                              <a:pt x="215" y="244"/>
                            </a:lnTo>
                            <a:lnTo>
                              <a:pt x="214" y="242"/>
                            </a:lnTo>
                            <a:lnTo>
                              <a:pt x="211" y="242"/>
                            </a:lnTo>
                            <a:lnTo>
                              <a:pt x="203" y="244"/>
                            </a:lnTo>
                            <a:lnTo>
                              <a:pt x="194" y="244"/>
                            </a:lnTo>
                            <a:lnTo>
                              <a:pt x="185" y="245"/>
                            </a:lnTo>
                            <a:lnTo>
                              <a:pt x="177" y="245"/>
                            </a:lnTo>
                            <a:lnTo>
                              <a:pt x="158" y="244"/>
                            </a:lnTo>
                            <a:lnTo>
                              <a:pt x="143" y="236"/>
                            </a:lnTo>
                            <a:lnTo>
                              <a:pt x="133" y="224"/>
                            </a:lnTo>
                            <a:lnTo>
                              <a:pt x="124" y="213"/>
                            </a:lnTo>
                            <a:lnTo>
                              <a:pt x="119" y="197"/>
                            </a:lnTo>
                            <a:lnTo>
                              <a:pt x="82" y="175"/>
                            </a:lnTo>
                            <a:lnTo>
                              <a:pt x="78" y="159"/>
                            </a:lnTo>
                            <a:lnTo>
                              <a:pt x="77" y="147"/>
                            </a:lnTo>
                            <a:lnTo>
                              <a:pt x="75" y="139"/>
                            </a:lnTo>
                            <a:lnTo>
                              <a:pt x="75" y="128"/>
                            </a:lnTo>
                            <a:lnTo>
                              <a:pt x="79" y="109"/>
                            </a:lnTo>
                            <a:lnTo>
                              <a:pt x="88" y="92"/>
                            </a:lnTo>
                            <a:lnTo>
                              <a:pt x="79" y="80"/>
                            </a:lnTo>
                            <a:lnTo>
                              <a:pt x="63" y="89"/>
                            </a:lnTo>
                            <a:lnTo>
                              <a:pt x="41" y="97"/>
                            </a:lnTo>
                            <a:lnTo>
                              <a:pt x="23" y="101"/>
                            </a:lnTo>
                            <a:lnTo>
                              <a:pt x="12" y="96"/>
                            </a:lnTo>
                            <a:lnTo>
                              <a:pt x="0" y="91"/>
                            </a:lnTo>
                            <a:lnTo>
                              <a:pt x="61" y="0"/>
                            </a:lnTo>
                            <a:lnTo>
                              <a:pt x="79" y="6"/>
                            </a:lnTo>
                            <a:lnTo>
                              <a:pt x="127" y="23"/>
                            </a:lnTo>
                            <a:lnTo>
                              <a:pt x="193" y="46"/>
                            </a:lnTo>
                            <a:lnTo>
                              <a:pt x="206" y="56"/>
                            </a:lnTo>
                            <a:lnTo>
                              <a:pt x="224" y="101"/>
                            </a:lnTo>
                            <a:lnTo>
                              <a:pt x="224" y="118"/>
                            </a:lnTo>
                            <a:lnTo>
                              <a:pt x="223" y="120"/>
                            </a:lnTo>
                            <a:lnTo>
                              <a:pt x="222" y="122"/>
                            </a:lnTo>
                            <a:lnTo>
                              <a:pt x="222" y="125"/>
                            </a:lnTo>
                            <a:lnTo>
                              <a:pt x="222" y="130"/>
                            </a:lnTo>
                            <a:lnTo>
                              <a:pt x="224" y="138"/>
                            </a:lnTo>
                            <a:lnTo>
                              <a:pt x="226" y="142"/>
                            </a:lnTo>
                            <a:lnTo>
                              <a:pt x="230" y="146"/>
                            </a:lnTo>
                            <a:lnTo>
                              <a:pt x="232" y="150"/>
                            </a:lnTo>
                            <a:lnTo>
                              <a:pt x="235" y="154"/>
                            </a:lnTo>
                            <a:lnTo>
                              <a:pt x="239" y="158"/>
                            </a:lnTo>
                            <a:lnTo>
                              <a:pt x="244" y="162"/>
                            </a:lnTo>
                            <a:lnTo>
                              <a:pt x="256" y="168"/>
                            </a:lnTo>
                            <a:lnTo>
                              <a:pt x="268" y="175"/>
                            </a:lnTo>
                            <a:lnTo>
                              <a:pt x="277" y="179"/>
                            </a:lnTo>
                            <a:lnTo>
                              <a:pt x="286" y="182"/>
                            </a:lnTo>
                            <a:lnTo>
                              <a:pt x="297" y="186"/>
                            </a:lnTo>
                            <a:lnTo>
                              <a:pt x="311" y="195"/>
                            </a:lnTo>
                            <a:lnTo>
                              <a:pt x="314" y="203"/>
                            </a:lnTo>
                            <a:lnTo>
                              <a:pt x="318" y="217"/>
                            </a:lnTo>
                            <a:lnTo>
                              <a:pt x="318" y="220"/>
                            </a:lnTo>
                            <a:lnTo>
                              <a:pt x="318" y="224"/>
                            </a:lnTo>
                            <a:lnTo>
                              <a:pt x="315" y="230"/>
                            </a:lnTo>
                            <a:lnTo>
                              <a:pt x="310" y="24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7705800" y="2354040"/>
                        <a:ext cx="203400" cy="31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4" h="605">
                            <a:moveTo>
                              <a:pt x="0" y="274"/>
                            </a:moveTo>
                            <a:lnTo>
                              <a:pt x="6" y="322"/>
                            </a:lnTo>
                            <a:lnTo>
                              <a:pt x="4" y="375"/>
                            </a:lnTo>
                            <a:lnTo>
                              <a:pt x="27" y="425"/>
                            </a:lnTo>
                            <a:lnTo>
                              <a:pt x="37" y="468"/>
                            </a:lnTo>
                            <a:lnTo>
                              <a:pt x="47" y="497"/>
                            </a:lnTo>
                            <a:lnTo>
                              <a:pt x="43" y="551"/>
                            </a:lnTo>
                            <a:lnTo>
                              <a:pt x="150" y="520"/>
                            </a:lnTo>
                            <a:lnTo>
                              <a:pt x="228" y="496"/>
                            </a:lnTo>
                            <a:lnTo>
                              <a:pt x="270" y="483"/>
                            </a:lnTo>
                            <a:lnTo>
                              <a:pt x="273" y="483"/>
                            </a:lnTo>
                            <a:lnTo>
                              <a:pt x="275" y="483"/>
                            </a:lnTo>
                            <a:lnTo>
                              <a:pt x="277" y="484"/>
                            </a:lnTo>
                            <a:lnTo>
                              <a:pt x="275" y="488"/>
                            </a:lnTo>
                            <a:lnTo>
                              <a:pt x="273" y="493"/>
                            </a:lnTo>
                            <a:lnTo>
                              <a:pt x="266" y="502"/>
                            </a:lnTo>
                            <a:lnTo>
                              <a:pt x="262" y="506"/>
                            </a:lnTo>
                            <a:lnTo>
                              <a:pt x="292" y="497"/>
                            </a:lnTo>
                            <a:lnTo>
                              <a:pt x="274" y="528"/>
                            </a:lnTo>
                            <a:lnTo>
                              <a:pt x="259" y="549"/>
                            </a:lnTo>
                            <a:lnTo>
                              <a:pt x="319" y="605"/>
                            </a:lnTo>
                            <a:lnTo>
                              <a:pt x="329" y="597"/>
                            </a:lnTo>
                            <a:lnTo>
                              <a:pt x="329" y="588"/>
                            </a:lnTo>
                            <a:lnTo>
                              <a:pt x="331" y="574"/>
                            </a:lnTo>
                            <a:lnTo>
                              <a:pt x="342" y="568"/>
                            </a:lnTo>
                            <a:lnTo>
                              <a:pt x="345" y="566"/>
                            </a:lnTo>
                            <a:lnTo>
                              <a:pt x="346" y="563"/>
                            </a:lnTo>
                            <a:lnTo>
                              <a:pt x="348" y="559"/>
                            </a:lnTo>
                            <a:lnTo>
                              <a:pt x="349" y="555"/>
                            </a:lnTo>
                            <a:lnTo>
                              <a:pt x="350" y="549"/>
                            </a:lnTo>
                            <a:lnTo>
                              <a:pt x="350" y="546"/>
                            </a:lnTo>
                            <a:lnTo>
                              <a:pt x="358" y="541"/>
                            </a:lnTo>
                            <a:lnTo>
                              <a:pt x="385" y="541"/>
                            </a:lnTo>
                            <a:lnTo>
                              <a:pt x="389" y="529"/>
                            </a:lnTo>
                            <a:lnTo>
                              <a:pt x="394" y="513"/>
                            </a:lnTo>
                            <a:lnTo>
                              <a:pt x="385" y="500"/>
                            </a:lnTo>
                            <a:lnTo>
                              <a:pt x="374" y="493"/>
                            </a:lnTo>
                            <a:lnTo>
                              <a:pt x="361" y="487"/>
                            </a:lnTo>
                            <a:lnTo>
                              <a:pt x="366" y="471"/>
                            </a:lnTo>
                            <a:lnTo>
                              <a:pt x="381" y="458"/>
                            </a:lnTo>
                            <a:lnTo>
                              <a:pt x="378" y="443"/>
                            </a:lnTo>
                            <a:lnTo>
                              <a:pt x="366" y="430"/>
                            </a:lnTo>
                            <a:lnTo>
                              <a:pt x="356" y="421"/>
                            </a:lnTo>
                            <a:lnTo>
                              <a:pt x="366" y="415"/>
                            </a:lnTo>
                            <a:lnTo>
                              <a:pt x="377" y="414"/>
                            </a:lnTo>
                            <a:lnTo>
                              <a:pt x="370" y="393"/>
                            </a:lnTo>
                            <a:lnTo>
                              <a:pt x="379" y="384"/>
                            </a:lnTo>
                            <a:lnTo>
                              <a:pt x="383" y="375"/>
                            </a:lnTo>
                            <a:lnTo>
                              <a:pt x="379" y="360"/>
                            </a:lnTo>
                            <a:lnTo>
                              <a:pt x="378" y="348"/>
                            </a:lnTo>
                            <a:lnTo>
                              <a:pt x="377" y="334"/>
                            </a:lnTo>
                            <a:lnTo>
                              <a:pt x="373" y="322"/>
                            </a:lnTo>
                            <a:lnTo>
                              <a:pt x="369" y="313"/>
                            </a:lnTo>
                            <a:lnTo>
                              <a:pt x="370" y="289"/>
                            </a:lnTo>
                            <a:lnTo>
                              <a:pt x="366" y="256"/>
                            </a:lnTo>
                            <a:lnTo>
                              <a:pt x="348" y="235"/>
                            </a:lnTo>
                            <a:lnTo>
                              <a:pt x="346" y="211"/>
                            </a:lnTo>
                            <a:lnTo>
                              <a:pt x="342" y="198"/>
                            </a:lnTo>
                            <a:lnTo>
                              <a:pt x="344" y="173"/>
                            </a:lnTo>
                            <a:lnTo>
                              <a:pt x="352" y="150"/>
                            </a:lnTo>
                            <a:lnTo>
                              <a:pt x="348" y="121"/>
                            </a:lnTo>
                            <a:lnTo>
                              <a:pt x="341" y="104"/>
                            </a:lnTo>
                            <a:lnTo>
                              <a:pt x="324" y="90"/>
                            </a:lnTo>
                            <a:lnTo>
                              <a:pt x="324" y="75"/>
                            </a:lnTo>
                            <a:lnTo>
                              <a:pt x="321" y="59"/>
                            </a:lnTo>
                            <a:lnTo>
                              <a:pt x="319" y="49"/>
                            </a:lnTo>
                            <a:lnTo>
                              <a:pt x="328" y="20"/>
                            </a:lnTo>
                            <a:lnTo>
                              <a:pt x="284" y="3"/>
                            </a:lnTo>
                            <a:lnTo>
                              <a:pt x="273" y="3"/>
                            </a:lnTo>
                            <a:lnTo>
                              <a:pt x="254" y="0"/>
                            </a:lnTo>
                            <a:lnTo>
                              <a:pt x="250" y="5"/>
                            </a:lnTo>
                            <a:lnTo>
                              <a:pt x="246" y="12"/>
                            </a:lnTo>
                            <a:lnTo>
                              <a:pt x="241" y="20"/>
                            </a:lnTo>
                            <a:lnTo>
                              <a:pt x="237" y="28"/>
                            </a:lnTo>
                            <a:lnTo>
                              <a:pt x="233" y="37"/>
                            </a:lnTo>
                            <a:lnTo>
                              <a:pt x="232" y="42"/>
                            </a:lnTo>
                            <a:lnTo>
                              <a:pt x="230" y="46"/>
                            </a:lnTo>
                            <a:lnTo>
                              <a:pt x="230" y="51"/>
                            </a:lnTo>
                            <a:lnTo>
                              <a:pt x="230" y="55"/>
                            </a:lnTo>
                            <a:lnTo>
                              <a:pt x="233" y="69"/>
                            </a:lnTo>
                            <a:lnTo>
                              <a:pt x="234" y="76"/>
                            </a:lnTo>
                            <a:lnTo>
                              <a:pt x="236" y="82"/>
                            </a:lnTo>
                            <a:lnTo>
                              <a:pt x="236" y="87"/>
                            </a:lnTo>
                            <a:lnTo>
                              <a:pt x="234" y="92"/>
                            </a:lnTo>
                            <a:lnTo>
                              <a:pt x="233" y="98"/>
                            </a:lnTo>
                            <a:lnTo>
                              <a:pt x="230" y="100"/>
                            </a:lnTo>
                            <a:lnTo>
                              <a:pt x="228" y="102"/>
                            </a:lnTo>
                            <a:lnTo>
                              <a:pt x="225" y="104"/>
                            </a:lnTo>
                            <a:lnTo>
                              <a:pt x="221" y="106"/>
                            </a:lnTo>
                            <a:lnTo>
                              <a:pt x="217" y="107"/>
                            </a:lnTo>
                            <a:lnTo>
                              <a:pt x="213" y="107"/>
                            </a:lnTo>
                            <a:lnTo>
                              <a:pt x="204" y="106"/>
                            </a:lnTo>
                            <a:lnTo>
                              <a:pt x="200" y="106"/>
                            </a:lnTo>
                            <a:lnTo>
                              <a:pt x="196" y="106"/>
                            </a:lnTo>
                            <a:lnTo>
                              <a:pt x="192" y="108"/>
                            </a:lnTo>
                            <a:lnTo>
                              <a:pt x="188" y="111"/>
                            </a:lnTo>
                            <a:lnTo>
                              <a:pt x="176" y="123"/>
                            </a:lnTo>
                            <a:lnTo>
                              <a:pt x="161" y="137"/>
                            </a:lnTo>
                            <a:lnTo>
                              <a:pt x="154" y="141"/>
                            </a:lnTo>
                            <a:lnTo>
                              <a:pt x="145" y="146"/>
                            </a:lnTo>
                            <a:lnTo>
                              <a:pt x="125" y="158"/>
                            </a:lnTo>
                            <a:lnTo>
                              <a:pt x="105" y="169"/>
                            </a:lnTo>
                            <a:lnTo>
                              <a:pt x="89" y="174"/>
                            </a:lnTo>
                            <a:lnTo>
                              <a:pt x="79" y="179"/>
                            </a:lnTo>
                            <a:lnTo>
                              <a:pt x="71" y="183"/>
                            </a:lnTo>
                            <a:lnTo>
                              <a:pt x="64" y="189"/>
                            </a:lnTo>
                            <a:lnTo>
                              <a:pt x="60" y="193"/>
                            </a:lnTo>
                            <a:lnTo>
                              <a:pt x="55" y="200"/>
                            </a:lnTo>
                            <a:lnTo>
                              <a:pt x="50" y="211"/>
                            </a:lnTo>
                            <a:lnTo>
                              <a:pt x="48" y="215"/>
                            </a:lnTo>
                            <a:lnTo>
                              <a:pt x="46" y="219"/>
                            </a:lnTo>
                            <a:lnTo>
                              <a:pt x="43" y="223"/>
                            </a:lnTo>
                            <a:lnTo>
                              <a:pt x="39" y="227"/>
                            </a:lnTo>
                            <a:lnTo>
                              <a:pt x="37" y="229"/>
                            </a:lnTo>
                            <a:lnTo>
                              <a:pt x="34" y="232"/>
                            </a:lnTo>
                            <a:lnTo>
                              <a:pt x="30" y="233"/>
                            </a:lnTo>
                            <a:lnTo>
                              <a:pt x="27" y="235"/>
                            </a:lnTo>
                            <a:lnTo>
                              <a:pt x="22" y="235"/>
                            </a:lnTo>
                            <a:lnTo>
                              <a:pt x="14" y="236"/>
                            </a:lnTo>
                            <a:lnTo>
                              <a:pt x="10" y="237"/>
                            </a:lnTo>
                            <a:lnTo>
                              <a:pt x="8" y="240"/>
                            </a:lnTo>
                            <a:lnTo>
                              <a:pt x="5" y="241"/>
                            </a:lnTo>
                            <a:lnTo>
                              <a:pt x="4" y="244"/>
                            </a:lnTo>
                            <a:lnTo>
                              <a:pt x="2" y="247"/>
                            </a:lnTo>
                            <a:lnTo>
                              <a:pt x="1" y="252"/>
                            </a:lnTo>
                            <a:lnTo>
                              <a:pt x="0" y="261"/>
                            </a:lnTo>
                            <a:lnTo>
                              <a:pt x="0" y="2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7101000" y="1858680"/>
                        <a:ext cx="152640" cy="15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8" h="301">
                            <a:moveTo>
                              <a:pt x="41" y="265"/>
                            </a:moveTo>
                            <a:lnTo>
                              <a:pt x="66" y="301"/>
                            </a:lnTo>
                            <a:lnTo>
                              <a:pt x="92" y="274"/>
                            </a:lnTo>
                            <a:lnTo>
                              <a:pt x="107" y="256"/>
                            </a:lnTo>
                            <a:lnTo>
                              <a:pt x="125" y="269"/>
                            </a:lnTo>
                            <a:lnTo>
                              <a:pt x="148" y="273"/>
                            </a:lnTo>
                            <a:lnTo>
                              <a:pt x="181" y="283"/>
                            </a:lnTo>
                            <a:lnTo>
                              <a:pt x="199" y="274"/>
                            </a:lnTo>
                            <a:lnTo>
                              <a:pt x="199" y="260"/>
                            </a:lnTo>
                            <a:lnTo>
                              <a:pt x="215" y="260"/>
                            </a:lnTo>
                            <a:lnTo>
                              <a:pt x="233" y="261"/>
                            </a:lnTo>
                            <a:lnTo>
                              <a:pt x="243" y="253"/>
                            </a:lnTo>
                            <a:lnTo>
                              <a:pt x="241" y="241"/>
                            </a:lnTo>
                            <a:lnTo>
                              <a:pt x="231" y="224"/>
                            </a:lnTo>
                            <a:lnTo>
                              <a:pt x="220" y="215"/>
                            </a:lnTo>
                            <a:lnTo>
                              <a:pt x="217" y="192"/>
                            </a:lnTo>
                            <a:lnTo>
                              <a:pt x="206" y="187"/>
                            </a:lnTo>
                            <a:lnTo>
                              <a:pt x="199" y="178"/>
                            </a:lnTo>
                            <a:lnTo>
                              <a:pt x="203" y="170"/>
                            </a:lnTo>
                            <a:lnTo>
                              <a:pt x="211" y="153"/>
                            </a:lnTo>
                            <a:lnTo>
                              <a:pt x="219" y="136"/>
                            </a:lnTo>
                            <a:lnTo>
                              <a:pt x="228" y="125"/>
                            </a:lnTo>
                            <a:lnTo>
                              <a:pt x="232" y="112"/>
                            </a:lnTo>
                            <a:lnTo>
                              <a:pt x="236" y="102"/>
                            </a:lnTo>
                            <a:lnTo>
                              <a:pt x="268" y="96"/>
                            </a:lnTo>
                            <a:lnTo>
                              <a:pt x="272" y="79"/>
                            </a:lnTo>
                            <a:lnTo>
                              <a:pt x="283" y="63"/>
                            </a:lnTo>
                            <a:lnTo>
                              <a:pt x="287" y="49"/>
                            </a:lnTo>
                            <a:lnTo>
                              <a:pt x="295" y="32"/>
                            </a:lnTo>
                            <a:lnTo>
                              <a:pt x="298" y="20"/>
                            </a:lnTo>
                            <a:lnTo>
                              <a:pt x="298" y="4"/>
                            </a:lnTo>
                            <a:lnTo>
                              <a:pt x="290" y="4"/>
                            </a:lnTo>
                            <a:lnTo>
                              <a:pt x="276" y="7"/>
                            </a:lnTo>
                            <a:lnTo>
                              <a:pt x="237" y="0"/>
                            </a:lnTo>
                            <a:lnTo>
                              <a:pt x="229" y="0"/>
                            </a:lnTo>
                            <a:lnTo>
                              <a:pt x="216" y="4"/>
                            </a:lnTo>
                            <a:lnTo>
                              <a:pt x="207" y="4"/>
                            </a:lnTo>
                            <a:lnTo>
                              <a:pt x="194" y="1"/>
                            </a:lnTo>
                            <a:lnTo>
                              <a:pt x="169" y="13"/>
                            </a:lnTo>
                            <a:lnTo>
                              <a:pt x="165" y="17"/>
                            </a:lnTo>
                            <a:lnTo>
                              <a:pt x="154" y="22"/>
                            </a:lnTo>
                            <a:lnTo>
                              <a:pt x="138" y="30"/>
                            </a:lnTo>
                            <a:lnTo>
                              <a:pt x="128" y="42"/>
                            </a:lnTo>
                            <a:lnTo>
                              <a:pt x="112" y="50"/>
                            </a:lnTo>
                            <a:lnTo>
                              <a:pt x="104" y="46"/>
                            </a:lnTo>
                            <a:lnTo>
                              <a:pt x="97" y="46"/>
                            </a:lnTo>
                            <a:lnTo>
                              <a:pt x="91" y="49"/>
                            </a:lnTo>
                            <a:lnTo>
                              <a:pt x="88" y="50"/>
                            </a:lnTo>
                            <a:lnTo>
                              <a:pt x="70" y="51"/>
                            </a:lnTo>
                            <a:lnTo>
                              <a:pt x="55" y="51"/>
                            </a:lnTo>
                            <a:lnTo>
                              <a:pt x="46" y="51"/>
                            </a:lnTo>
                            <a:lnTo>
                              <a:pt x="42" y="50"/>
                            </a:lnTo>
                            <a:lnTo>
                              <a:pt x="38" y="38"/>
                            </a:lnTo>
                            <a:lnTo>
                              <a:pt x="34" y="37"/>
                            </a:lnTo>
                            <a:lnTo>
                              <a:pt x="34" y="36"/>
                            </a:lnTo>
                            <a:lnTo>
                              <a:pt x="32" y="36"/>
                            </a:lnTo>
                            <a:lnTo>
                              <a:pt x="24" y="38"/>
                            </a:lnTo>
                            <a:lnTo>
                              <a:pt x="18" y="40"/>
                            </a:lnTo>
                            <a:lnTo>
                              <a:pt x="14" y="40"/>
                            </a:lnTo>
                            <a:lnTo>
                              <a:pt x="12" y="40"/>
                            </a:lnTo>
                            <a:lnTo>
                              <a:pt x="10" y="38"/>
                            </a:lnTo>
                            <a:lnTo>
                              <a:pt x="9" y="38"/>
                            </a:lnTo>
                            <a:lnTo>
                              <a:pt x="8" y="38"/>
                            </a:lnTo>
                            <a:lnTo>
                              <a:pt x="6" y="43"/>
                            </a:lnTo>
                            <a:lnTo>
                              <a:pt x="1" y="55"/>
                            </a:lnTo>
                            <a:lnTo>
                              <a:pt x="0" y="58"/>
                            </a:lnTo>
                            <a:lnTo>
                              <a:pt x="41" y="26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6329520" y="1546200"/>
                        <a:ext cx="193680" cy="26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" h="508">
                            <a:moveTo>
                              <a:pt x="366" y="450"/>
                            </a:moveTo>
                            <a:lnTo>
                              <a:pt x="378" y="472"/>
                            </a:lnTo>
                            <a:lnTo>
                              <a:pt x="303" y="508"/>
                            </a:lnTo>
                            <a:lnTo>
                              <a:pt x="295" y="500"/>
                            </a:lnTo>
                            <a:lnTo>
                              <a:pt x="278" y="494"/>
                            </a:lnTo>
                            <a:lnTo>
                              <a:pt x="263" y="484"/>
                            </a:lnTo>
                            <a:lnTo>
                              <a:pt x="240" y="446"/>
                            </a:lnTo>
                            <a:lnTo>
                              <a:pt x="228" y="425"/>
                            </a:lnTo>
                            <a:lnTo>
                              <a:pt x="217" y="389"/>
                            </a:lnTo>
                            <a:lnTo>
                              <a:pt x="191" y="371"/>
                            </a:lnTo>
                            <a:lnTo>
                              <a:pt x="176" y="363"/>
                            </a:lnTo>
                            <a:lnTo>
                              <a:pt x="169" y="351"/>
                            </a:lnTo>
                            <a:lnTo>
                              <a:pt x="150" y="345"/>
                            </a:lnTo>
                            <a:lnTo>
                              <a:pt x="136" y="330"/>
                            </a:lnTo>
                            <a:lnTo>
                              <a:pt x="121" y="325"/>
                            </a:lnTo>
                            <a:lnTo>
                              <a:pt x="113" y="310"/>
                            </a:lnTo>
                            <a:lnTo>
                              <a:pt x="96" y="304"/>
                            </a:lnTo>
                            <a:lnTo>
                              <a:pt x="83" y="319"/>
                            </a:lnTo>
                            <a:lnTo>
                              <a:pt x="92" y="334"/>
                            </a:lnTo>
                            <a:lnTo>
                              <a:pt x="79" y="347"/>
                            </a:lnTo>
                            <a:lnTo>
                              <a:pt x="60" y="331"/>
                            </a:lnTo>
                            <a:lnTo>
                              <a:pt x="45" y="331"/>
                            </a:lnTo>
                            <a:lnTo>
                              <a:pt x="20" y="338"/>
                            </a:lnTo>
                            <a:lnTo>
                              <a:pt x="0" y="339"/>
                            </a:lnTo>
                            <a:lnTo>
                              <a:pt x="27" y="318"/>
                            </a:lnTo>
                            <a:lnTo>
                              <a:pt x="45" y="298"/>
                            </a:lnTo>
                            <a:lnTo>
                              <a:pt x="46" y="279"/>
                            </a:lnTo>
                            <a:lnTo>
                              <a:pt x="13" y="276"/>
                            </a:lnTo>
                            <a:lnTo>
                              <a:pt x="45" y="251"/>
                            </a:lnTo>
                            <a:lnTo>
                              <a:pt x="68" y="244"/>
                            </a:lnTo>
                            <a:lnTo>
                              <a:pt x="95" y="244"/>
                            </a:lnTo>
                            <a:lnTo>
                              <a:pt x="116" y="225"/>
                            </a:lnTo>
                            <a:lnTo>
                              <a:pt x="130" y="205"/>
                            </a:lnTo>
                            <a:lnTo>
                              <a:pt x="134" y="185"/>
                            </a:lnTo>
                            <a:lnTo>
                              <a:pt x="120" y="168"/>
                            </a:lnTo>
                            <a:lnTo>
                              <a:pt x="108" y="147"/>
                            </a:lnTo>
                            <a:lnTo>
                              <a:pt x="111" y="130"/>
                            </a:lnTo>
                            <a:lnTo>
                              <a:pt x="117" y="107"/>
                            </a:lnTo>
                            <a:lnTo>
                              <a:pt x="128" y="95"/>
                            </a:lnTo>
                            <a:lnTo>
                              <a:pt x="140" y="82"/>
                            </a:lnTo>
                            <a:lnTo>
                              <a:pt x="143" y="66"/>
                            </a:lnTo>
                            <a:lnTo>
                              <a:pt x="142" y="50"/>
                            </a:lnTo>
                            <a:lnTo>
                              <a:pt x="150" y="37"/>
                            </a:lnTo>
                            <a:lnTo>
                              <a:pt x="171" y="29"/>
                            </a:lnTo>
                            <a:lnTo>
                              <a:pt x="178" y="33"/>
                            </a:lnTo>
                            <a:lnTo>
                              <a:pt x="204" y="37"/>
                            </a:lnTo>
                            <a:lnTo>
                              <a:pt x="215" y="21"/>
                            </a:lnTo>
                            <a:lnTo>
                              <a:pt x="211" y="0"/>
                            </a:lnTo>
                            <a:lnTo>
                              <a:pt x="223" y="0"/>
                            </a:lnTo>
                            <a:lnTo>
                              <a:pt x="234" y="20"/>
                            </a:lnTo>
                            <a:lnTo>
                              <a:pt x="252" y="45"/>
                            </a:lnTo>
                            <a:lnTo>
                              <a:pt x="265" y="78"/>
                            </a:lnTo>
                            <a:lnTo>
                              <a:pt x="285" y="89"/>
                            </a:lnTo>
                            <a:lnTo>
                              <a:pt x="296" y="99"/>
                            </a:lnTo>
                            <a:lnTo>
                              <a:pt x="315" y="134"/>
                            </a:lnTo>
                            <a:lnTo>
                              <a:pt x="341" y="140"/>
                            </a:lnTo>
                            <a:lnTo>
                              <a:pt x="329" y="161"/>
                            </a:lnTo>
                            <a:lnTo>
                              <a:pt x="304" y="190"/>
                            </a:lnTo>
                            <a:lnTo>
                              <a:pt x="283" y="217"/>
                            </a:lnTo>
                            <a:lnTo>
                              <a:pt x="282" y="221"/>
                            </a:lnTo>
                            <a:lnTo>
                              <a:pt x="281" y="226"/>
                            </a:lnTo>
                            <a:lnTo>
                              <a:pt x="281" y="232"/>
                            </a:lnTo>
                            <a:lnTo>
                              <a:pt x="281" y="240"/>
                            </a:lnTo>
                            <a:lnTo>
                              <a:pt x="281" y="251"/>
                            </a:lnTo>
                            <a:lnTo>
                              <a:pt x="282" y="260"/>
                            </a:lnTo>
                            <a:lnTo>
                              <a:pt x="285" y="267"/>
                            </a:lnTo>
                            <a:lnTo>
                              <a:pt x="286" y="272"/>
                            </a:lnTo>
                            <a:lnTo>
                              <a:pt x="293" y="288"/>
                            </a:lnTo>
                            <a:lnTo>
                              <a:pt x="303" y="312"/>
                            </a:lnTo>
                            <a:lnTo>
                              <a:pt x="329" y="372"/>
                            </a:lnTo>
                            <a:lnTo>
                              <a:pt x="366" y="45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6475680" y="1827000"/>
                        <a:ext cx="169920" cy="25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9" h="492">
                            <a:moveTo>
                              <a:pt x="115" y="0"/>
                            </a:moveTo>
                            <a:lnTo>
                              <a:pt x="214" y="108"/>
                            </a:lnTo>
                            <a:lnTo>
                              <a:pt x="234" y="139"/>
                            </a:lnTo>
                            <a:lnTo>
                              <a:pt x="272" y="163"/>
                            </a:lnTo>
                            <a:lnTo>
                              <a:pt x="281" y="185"/>
                            </a:lnTo>
                            <a:lnTo>
                              <a:pt x="294" y="227"/>
                            </a:lnTo>
                            <a:lnTo>
                              <a:pt x="292" y="265"/>
                            </a:lnTo>
                            <a:lnTo>
                              <a:pt x="311" y="317"/>
                            </a:lnTo>
                            <a:lnTo>
                              <a:pt x="319" y="360"/>
                            </a:lnTo>
                            <a:lnTo>
                              <a:pt x="329" y="412"/>
                            </a:lnTo>
                            <a:lnTo>
                              <a:pt x="322" y="433"/>
                            </a:lnTo>
                            <a:lnTo>
                              <a:pt x="315" y="446"/>
                            </a:lnTo>
                            <a:lnTo>
                              <a:pt x="310" y="462"/>
                            </a:lnTo>
                            <a:lnTo>
                              <a:pt x="298" y="492"/>
                            </a:lnTo>
                            <a:lnTo>
                              <a:pt x="240" y="467"/>
                            </a:lnTo>
                            <a:lnTo>
                              <a:pt x="257" y="443"/>
                            </a:lnTo>
                            <a:lnTo>
                              <a:pt x="260" y="430"/>
                            </a:lnTo>
                            <a:lnTo>
                              <a:pt x="252" y="408"/>
                            </a:lnTo>
                            <a:lnTo>
                              <a:pt x="253" y="387"/>
                            </a:lnTo>
                            <a:lnTo>
                              <a:pt x="248" y="364"/>
                            </a:lnTo>
                            <a:lnTo>
                              <a:pt x="231" y="344"/>
                            </a:lnTo>
                            <a:lnTo>
                              <a:pt x="223" y="329"/>
                            </a:lnTo>
                            <a:lnTo>
                              <a:pt x="239" y="298"/>
                            </a:lnTo>
                            <a:lnTo>
                              <a:pt x="217" y="288"/>
                            </a:lnTo>
                            <a:lnTo>
                              <a:pt x="193" y="273"/>
                            </a:lnTo>
                            <a:lnTo>
                              <a:pt x="177" y="257"/>
                            </a:lnTo>
                            <a:lnTo>
                              <a:pt x="185" y="242"/>
                            </a:lnTo>
                            <a:lnTo>
                              <a:pt x="178" y="211"/>
                            </a:lnTo>
                            <a:lnTo>
                              <a:pt x="174" y="198"/>
                            </a:lnTo>
                            <a:lnTo>
                              <a:pt x="160" y="186"/>
                            </a:lnTo>
                            <a:lnTo>
                              <a:pt x="143" y="173"/>
                            </a:lnTo>
                            <a:lnTo>
                              <a:pt x="133" y="168"/>
                            </a:lnTo>
                            <a:lnTo>
                              <a:pt x="132" y="152"/>
                            </a:lnTo>
                            <a:lnTo>
                              <a:pt x="120" y="145"/>
                            </a:lnTo>
                            <a:lnTo>
                              <a:pt x="106" y="147"/>
                            </a:lnTo>
                            <a:lnTo>
                              <a:pt x="96" y="161"/>
                            </a:lnTo>
                            <a:lnTo>
                              <a:pt x="86" y="173"/>
                            </a:lnTo>
                            <a:lnTo>
                              <a:pt x="77" y="180"/>
                            </a:lnTo>
                            <a:lnTo>
                              <a:pt x="67" y="163"/>
                            </a:lnTo>
                            <a:lnTo>
                              <a:pt x="65" y="132"/>
                            </a:lnTo>
                            <a:lnTo>
                              <a:pt x="62" y="103"/>
                            </a:lnTo>
                            <a:lnTo>
                              <a:pt x="48" y="86"/>
                            </a:lnTo>
                            <a:lnTo>
                              <a:pt x="24" y="82"/>
                            </a:lnTo>
                            <a:lnTo>
                              <a:pt x="0" y="78"/>
                            </a:lnTo>
                            <a:lnTo>
                              <a:pt x="20" y="50"/>
                            </a:lnTo>
                            <a:lnTo>
                              <a:pt x="23" y="27"/>
                            </a:lnTo>
                            <a:lnTo>
                              <a:pt x="40" y="16"/>
                            </a:lnTo>
                            <a:lnTo>
                              <a:pt x="11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7288560" y="2016000"/>
                        <a:ext cx="152280" cy="258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8" h="502">
                            <a:moveTo>
                              <a:pt x="93" y="501"/>
                            </a:moveTo>
                            <a:lnTo>
                              <a:pt x="92" y="502"/>
                            </a:lnTo>
                            <a:lnTo>
                              <a:pt x="87" y="502"/>
                            </a:lnTo>
                            <a:lnTo>
                              <a:pt x="77" y="502"/>
                            </a:lnTo>
                            <a:lnTo>
                              <a:pt x="63" y="501"/>
                            </a:lnTo>
                            <a:lnTo>
                              <a:pt x="40" y="499"/>
                            </a:lnTo>
                            <a:lnTo>
                              <a:pt x="34" y="498"/>
                            </a:lnTo>
                            <a:lnTo>
                              <a:pt x="33" y="497"/>
                            </a:lnTo>
                            <a:lnTo>
                              <a:pt x="31" y="494"/>
                            </a:lnTo>
                            <a:lnTo>
                              <a:pt x="29" y="488"/>
                            </a:lnTo>
                            <a:lnTo>
                              <a:pt x="25" y="480"/>
                            </a:lnTo>
                            <a:lnTo>
                              <a:pt x="22" y="470"/>
                            </a:lnTo>
                            <a:lnTo>
                              <a:pt x="21" y="461"/>
                            </a:lnTo>
                            <a:lnTo>
                              <a:pt x="21" y="455"/>
                            </a:lnTo>
                            <a:lnTo>
                              <a:pt x="21" y="452"/>
                            </a:lnTo>
                            <a:lnTo>
                              <a:pt x="22" y="449"/>
                            </a:lnTo>
                            <a:lnTo>
                              <a:pt x="23" y="445"/>
                            </a:lnTo>
                            <a:lnTo>
                              <a:pt x="23" y="440"/>
                            </a:lnTo>
                            <a:lnTo>
                              <a:pt x="25" y="435"/>
                            </a:lnTo>
                            <a:lnTo>
                              <a:pt x="26" y="431"/>
                            </a:lnTo>
                            <a:lnTo>
                              <a:pt x="27" y="424"/>
                            </a:lnTo>
                            <a:lnTo>
                              <a:pt x="27" y="416"/>
                            </a:lnTo>
                            <a:lnTo>
                              <a:pt x="26" y="407"/>
                            </a:lnTo>
                            <a:lnTo>
                              <a:pt x="25" y="399"/>
                            </a:lnTo>
                            <a:lnTo>
                              <a:pt x="22" y="391"/>
                            </a:lnTo>
                            <a:lnTo>
                              <a:pt x="22" y="379"/>
                            </a:lnTo>
                            <a:lnTo>
                              <a:pt x="23" y="369"/>
                            </a:lnTo>
                            <a:lnTo>
                              <a:pt x="25" y="361"/>
                            </a:lnTo>
                            <a:lnTo>
                              <a:pt x="23" y="358"/>
                            </a:lnTo>
                            <a:lnTo>
                              <a:pt x="23" y="354"/>
                            </a:lnTo>
                            <a:lnTo>
                              <a:pt x="22" y="352"/>
                            </a:lnTo>
                            <a:lnTo>
                              <a:pt x="19" y="348"/>
                            </a:lnTo>
                            <a:lnTo>
                              <a:pt x="14" y="340"/>
                            </a:lnTo>
                            <a:lnTo>
                              <a:pt x="10" y="332"/>
                            </a:lnTo>
                            <a:lnTo>
                              <a:pt x="6" y="323"/>
                            </a:lnTo>
                            <a:lnTo>
                              <a:pt x="7" y="320"/>
                            </a:lnTo>
                            <a:lnTo>
                              <a:pt x="7" y="313"/>
                            </a:lnTo>
                            <a:lnTo>
                              <a:pt x="7" y="304"/>
                            </a:lnTo>
                            <a:lnTo>
                              <a:pt x="7" y="302"/>
                            </a:lnTo>
                            <a:lnTo>
                              <a:pt x="6" y="299"/>
                            </a:lnTo>
                            <a:lnTo>
                              <a:pt x="4" y="296"/>
                            </a:lnTo>
                            <a:lnTo>
                              <a:pt x="2" y="294"/>
                            </a:lnTo>
                            <a:lnTo>
                              <a:pt x="1" y="291"/>
                            </a:lnTo>
                            <a:lnTo>
                              <a:pt x="0" y="283"/>
                            </a:lnTo>
                            <a:lnTo>
                              <a:pt x="0" y="271"/>
                            </a:lnTo>
                            <a:lnTo>
                              <a:pt x="0" y="261"/>
                            </a:lnTo>
                            <a:lnTo>
                              <a:pt x="1" y="248"/>
                            </a:lnTo>
                            <a:lnTo>
                              <a:pt x="1" y="241"/>
                            </a:lnTo>
                            <a:lnTo>
                              <a:pt x="1" y="234"/>
                            </a:lnTo>
                            <a:lnTo>
                              <a:pt x="1" y="224"/>
                            </a:lnTo>
                            <a:lnTo>
                              <a:pt x="4" y="217"/>
                            </a:lnTo>
                            <a:lnTo>
                              <a:pt x="4" y="207"/>
                            </a:lnTo>
                            <a:lnTo>
                              <a:pt x="4" y="200"/>
                            </a:lnTo>
                            <a:lnTo>
                              <a:pt x="2" y="195"/>
                            </a:lnTo>
                            <a:lnTo>
                              <a:pt x="1" y="189"/>
                            </a:lnTo>
                            <a:lnTo>
                              <a:pt x="13" y="118"/>
                            </a:lnTo>
                            <a:lnTo>
                              <a:pt x="15" y="114"/>
                            </a:lnTo>
                            <a:lnTo>
                              <a:pt x="18" y="110"/>
                            </a:lnTo>
                            <a:lnTo>
                              <a:pt x="21" y="105"/>
                            </a:lnTo>
                            <a:lnTo>
                              <a:pt x="23" y="98"/>
                            </a:lnTo>
                            <a:lnTo>
                              <a:pt x="27" y="95"/>
                            </a:lnTo>
                            <a:lnTo>
                              <a:pt x="30" y="88"/>
                            </a:lnTo>
                            <a:lnTo>
                              <a:pt x="31" y="85"/>
                            </a:lnTo>
                            <a:lnTo>
                              <a:pt x="33" y="81"/>
                            </a:lnTo>
                            <a:lnTo>
                              <a:pt x="34" y="75"/>
                            </a:lnTo>
                            <a:lnTo>
                              <a:pt x="35" y="71"/>
                            </a:lnTo>
                            <a:lnTo>
                              <a:pt x="35" y="69"/>
                            </a:lnTo>
                            <a:lnTo>
                              <a:pt x="35" y="68"/>
                            </a:lnTo>
                            <a:lnTo>
                              <a:pt x="34" y="67"/>
                            </a:lnTo>
                            <a:lnTo>
                              <a:pt x="31" y="66"/>
                            </a:lnTo>
                            <a:lnTo>
                              <a:pt x="25" y="62"/>
                            </a:lnTo>
                            <a:lnTo>
                              <a:pt x="21" y="60"/>
                            </a:lnTo>
                            <a:lnTo>
                              <a:pt x="19" y="59"/>
                            </a:lnTo>
                            <a:lnTo>
                              <a:pt x="18" y="58"/>
                            </a:lnTo>
                            <a:lnTo>
                              <a:pt x="17" y="55"/>
                            </a:lnTo>
                            <a:lnTo>
                              <a:pt x="17" y="52"/>
                            </a:lnTo>
                            <a:lnTo>
                              <a:pt x="17" y="47"/>
                            </a:lnTo>
                            <a:lnTo>
                              <a:pt x="17" y="43"/>
                            </a:lnTo>
                            <a:lnTo>
                              <a:pt x="18" y="40"/>
                            </a:lnTo>
                            <a:lnTo>
                              <a:pt x="19" y="39"/>
                            </a:lnTo>
                            <a:lnTo>
                              <a:pt x="21" y="38"/>
                            </a:lnTo>
                            <a:lnTo>
                              <a:pt x="23" y="37"/>
                            </a:lnTo>
                            <a:lnTo>
                              <a:pt x="30" y="34"/>
                            </a:lnTo>
                            <a:lnTo>
                              <a:pt x="35" y="31"/>
                            </a:lnTo>
                            <a:lnTo>
                              <a:pt x="42" y="27"/>
                            </a:lnTo>
                            <a:lnTo>
                              <a:pt x="43" y="23"/>
                            </a:lnTo>
                            <a:lnTo>
                              <a:pt x="46" y="19"/>
                            </a:lnTo>
                            <a:lnTo>
                              <a:pt x="48" y="18"/>
                            </a:lnTo>
                            <a:lnTo>
                              <a:pt x="52" y="17"/>
                            </a:lnTo>
                            <a:lnTo>
                              <a:pt x="58" y="13"/>
                            </a:lnTo>
                            <a:lnTo>
                              <a:pt x="62" y="9"/>
                            </a:lnTo>
                            <a:lnTo>
                              <a:pt x="64" y="6"/>
                            </a:lnTo>
                            <a:lnTo>
                              <a:pt x="67" y="6"/>
                            </a:lnTo>
                            <a:lnTo>
                              <a:pt x="69" y="6"/>
                            </a:lnTo>
                            <a:lnTo>
                              <a:pt x="72" y="6"/>
                            </a:lnTo>
                            <a:lnTo>
                              <a:pt x="79" y="10"/>
                            </a:lnTo>
                            <a:lnTo>
                              <a:pt x="85" y="14"/>
                            </a:lnTo>
                            <a:lnTo>
                              <a:pt x="91" y="19"/>
                            </a:lnTo>
                            <a:lnTo>
                              <a:pt x="92" y="18"/>
                            </a:lnTo>
                            <a:lnTo>
                              <a:pt x="96" y="18"/>
                            </a:lnTo>
                            <a:lnTo>
                              <a:pt x="98" y="18"/>
                            </a:lnTo>
                            <a:lnTo>
                              <a:pt x="101" y="18"/>
                            </a:lnTo>
                            <a:lnTo>
                              <a:pt x="104" y="18"/>
                            </a:lnTo>
                            <a:lnTo>
                              <a:pt x="108" y="21"/>
                            </a:lnTo>
                            <a:lnTo>
                              <a:pt x="110" y="22"/>
                            </a:lnTo>
                            <a:lnTo>
                              <a:pt x="114" y="23"/>
                            </a:lnTo>
                            <a:lnTo>
                              <a:pt x="122" y="26"/>
                            </a:lnTo>
                            <a:lnTo>
                              <a:pt x="131" y="27"/>
                            </a:lnTo>
                            <a:lnTo>
                              <a:pt x="146" y="30"/>
                            </a:lnTo>
                            <a:lnTo>
                              <a:pt x="151" y="30"/>
                            </a:lnTo>
                            <a:lnTo>
                              <a:pt x="155" y="29"/>
                            </a:lnTo>
                            <a:lnTo>
                              <a:pt x="158" y="29"/>
                            </a:lnTo>
                            <a:lnTo>
                              <a:pt x="160" y="27"/>
                            </a:lnTo>
                            <a:lnTo>
                              <a:pt x="162" y="26"/>
                            </a:lnTo>
                            <a:lnTo>
                              <a:pt x="163" y="23"/>
                            </a:lnTo>
                            <a:lnTo>
                              <a:pt x="166" y="18"/>
                            </a:lnTo>
                            <a:lnTo>
                              <a:pt x="168" y="14"/>
                            </a:lnTo>
                            <a:lnTo>
                              <a:pt x="170" y="13"/>
                            </a:lnTo>
                            <a:lnTo>
                              <a:pt x="172" y="13"/>
                            </a:lnTo>
                            <a:lnTo>
                              <a:pt x="180" y="11"/>
                            </a:lnTo>
                            <a:lnTo>
                              <a:pt x="188" y="10"/>
                            </a:lnTo>
                            <a:lnTo>
                              <a:pt x="191" y="10"/>
                            </a:lnTo>
                            <a:lnTo>
                              <a:pt x="192" y="9"/>
                            </a:lnTo>
                            <a:lnTo>
                              <a:pt x="196" y="6"/>
                            </a:lnTo>
                            <a:lnTo>
                              <a:pt x="200" y="4"/>
                            </a:lnTo>
                            <a:lnTo>
                              <a:pt x="201" y="2"/>
                            </a:lnTo>
                            <a:lnTo>
                              <a:pt x="204" y="1"/>
                            </a:lnTo>
                            <a:lnTo>
                              <a:pt x="212" y="0"/>
                            </a:lnTo>
                            <a:lnTo>
                              <a:pt x="213" y="1"/>
                            </a:lnTo>
                            <a:lnTo>
                              <a:pt x="215" y="4"/>
                            </a:lnTo>
                            <a:lnTo>
                              <a:pt x="217" y="8"/>
                            </a:lnTo>
                            <a:lnTo>
                              <a:pt x="217" y="10"/>
                            </a:lnTo>
                            <a:lnTo>
                              <a:pt x="218" y="11"/>
                            </a:lnTo>
                            <a:lnTo>
                              <a:pt x="220" y="15"/>
                            </a:lnTo>
                            <a:lnTo>
                              <a:pt x="217" y="22"/>
                            </a:lnTo>
                            <a:lnTo>
                              <a:pt x="216" y="26"/>
                            </a:lnTo>
                            <a:lnTo>
                              <a:pt x="215" y="29"/>
                            </a:lnTo>
                            <a:lnTo>
                              <a:pt x="216" y="35"/>
                            </a:lnTo>
                            <a:lnTo>
                              <a:pt x="217" y="37"/>
                            </a:lnTo>
                            <a:lnTo>
                              <a:pt x="217" y="38"/>
                            </a:lnTo>
                            <a:lnTo>
                              <a:pt x="218" y="39"/>
                            </a:lnTo>
                            <a:lnTo>
                              <a:pt x="205" y="59"/>
                            </a:lnTo>
                            <a:lnTo>
                              <a:pt x="203" y="75"/>
                            </a:lnTo>
                            <a:lnTo>
                              <a:pt x="204" y="76"/>
                            </a:lnTo>
                            <a:lnTo>
                              <a:pt x="204" y="79"/>
                            </a:lnTo>
                            <a:lnTo>
                              <a:pt x="204" y="85"/>
                            </a:lnTo>
                            <a:lnTo>
                              <a:pt x="205" y="91"/>
                            </a:lnTo>
                            <a:lnTo>
                              <a:pt x="205" y="93"/>
                            </a:lnTo>
                            <a:lnTo>
                              <a:pt x="205" y="95"/>
                            </a:lnTo>
                            <a:lnTo>
                              <a:pt x="201" y="101"/>
                            </a:lnTo>
                            <a:lnTo>
                              <a:pt x="196" y="113"/>
                            </a:lnTo>
                            <a:lnTo>
                              <a:pt x="195" y="116"/>
                            </a:lnTo>
                            <a:lnTo>
                              <a:pt x="195" y="121"/>
                            </a:lnTo>
                            <a:lnTo>
                              <a:pt x="195" y="138"/>
                            </a:lnTo>
                            <a:lnTo>
                              <a:pt x="195" y="145"/>
                            </a:lnTo>
                            <a:lnTo>
                              <a:pt x="195" y="149"/>
                            </a:lnTo>
                            <a:lnTo>
                              <a:pt x="193" y="153"/>
                            </a:lnTo>
                            <a:lnTo>
                              <a:pt x="195" y="159"/>
                            </a:lnTo>
                            <a:lnTo>
                              <a:pt x="197" y="171"/>
                            </a:lnTo>
                            <a:lnTo>
                              <a:pt x="199" y="176"/>
                            </a:lnTo>
                            <a:lnTo>
                              <a:pt x="199" y="182"/>
                            </a:lnTo>
                            <a:lnTo>
                              <a:pt x="199" y="197"/>
                            </a:lnTo>
                            <a:lnTo>
                              <a:pt x="199" y="211"/>
                            </a:lnTo>
                            <a:lnTo>
                              <a:pt x="199" y="225"/>
                            </a:lnTo>
                            <a:lnTo>
                              <a:pt x="199" y="228"/>
                            </a:lnTo>
                            <a:lnTo>
                              <a:pt x="199" y="229"/>
                            </a:lnTo>
                            <a:lnTo>
                              <a:pt x="196" y="232"/>
                            </a:lnTo>
                            <a:lnTo>
                              <a:pt x="196" y="233"/>
                            </a:lnTo>
                            <a:lnTo>
                              <a:pt x="196" y="234"/>
                            </a:lnTo>
                            <a:lnTo>
                              <a:pt x="197" y="238"/>
                            </a:lnTo>
                            <a:lnTo>
                              <a:pt x="199" y="242"/>
                            </a:lnTo>
                            <a:lnTo>
                              <a:pt x="204" y="249"/>
                            </a:lnTo>
                            <a:lnTo>
                              <a:pt x="207" y="253"/>
                            </a:lnTo>
                            <a:lnTo>
                              <a:pt x="208" y="255"/>
                            </a:lnTo>
                            <a:lnTo>
                              <a:pt x="209" y="258"/>
                            </a:lnTo>
                            <a:lnTo>
                              <a:pt x="209" y="265"/>
                            </a:lnTo>
                            <a:lnTo>
                              <a:pt x="209" y="269"/>
                            </a:lnTo>
                            <a:lnTo>
                              <a:pt x="208" y="273"/>
                            </a:lnTo>
                            <a:lnTo>
                              <a:pt x="207" y="277"/>
                            </a:lnTo>
                            <a:lnTo>
                              <a:pt x="207" y="279"/>
                            </a:lnTo>
                            <a:lnTo>
                              <a:pt x="208" y="280"/>
                            </a:lnTo>
                            <a:lnTo>
                              <a:pt x="209" y="283"/>
                            </a:lnTo>
                            <a:lnTo>
                              <a:pt x="213" y="287"/>
                            </a:lnTo>
                            <a:lnTo>
                              <a:pt x="218" y="290"/>
                            </a:lnTo>
                            <a:lnTo>
                              <a:pt x="222" y="292"/>
                            </a:lnTo>
                            <a:lnTo>
                              <a:pt x="229" y="295"/>
                            </a:lnTo>
                            <a:lnTo>
                              <a:pt x="234" y="298"/>
                            </a:lnTo>
                            <a:lnTo>
                              <a:pt x="245" y="300"/>
                            </a:lnTo>
                            <a:lnTo>
                              <a:pt x="251" y="302"/>
                            </a:lnTo>
                            <a:lnTo>
                              <a:pt x="257" y="302"/>
                            </a:lnTo>
                            <a:lnTo>
                              <a:pt x="261" y="300"/>
                            </a:lnTo>
                            <a:lnTo>
                              <a:pt x="270" y="299"/>
                            </a:lnTo>
                            <a:lnTo>
                              <a:pt x="275" y="299"/>
                            </a:lnTo>
                            <a:lnTo>
                              <a:pt x="280" y="299"/>
                            </a:lnTo>
                            <a:lnTo>
                              <a:pt x="286" y="300"/>
                            </a:lnTo>
                            <a:lnTo>
                              <a:pt x="298" y="303"/>
                            </a:lnTo>
                            <a:lnTo>
                              <a:pt x="282" y="324"/>
                            </a:lnTo>
                            <a:lnTo>
                              <a:pt x="267" y="345"/>
                            </a:lnTo>
                            <a:lnTo>
                              <a:pt x="250" y="365"/>
                            </a:lnTo>
                            <a:lnTo>
                              <a:pt x="242" y="375"/>
                            </a:lnTo>
                            <a:lnTo>
                              <a:pt x="232" y="386"/>
                            </a:lnTo>
                            <a:lnTo>
                              <a:pt x="221" y="398"/>
                            </a:lnTo>
                            <a:lnTo>
                              <a:pt x="209" y="408"/>
                            </a:lnTo>
                            <a:lnTo>
                              <a:pt x="185" y="430"/>
                            </a:lnTo>
                            <a:lnTo>
                              <a:pt x="166" y="445"/>
                            </a:lnTo>
                            <a:lnTo>
                              <a:pt x="145" y="461"/>
                            </a:lnTo>
                            <a:lnTo>
                              <a:pt x="121" y="480"/>
                            </a:lnTo>
                            <a:lnTo>
                              <a:pt x="93" y="50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>
                        <a:off x="6321600" y="2827080"/>
                        <a:ext cx="376200" cy="23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462">
                            <a:moveTo>
                              <a:pt x="15" y="374"/>
                            </a:moveTo>
                            <a:lnTo>
                              <a:pt x="5" y="344"/>
                            </a:lnTo>
                            <a:lnTo>
                              <a:pt x="0" y="317"/>
                            </a:lnTo>
                            <a:lnTo>
                              <a:pt x="7" y="303"/>
                            </a:lnTo>
                            <a:lnTo>
                              <a:pt x="24" y="309"/>
                            </a:lnTo>
                            <a:lnTo>
                              <a:pt x="37" y="321"/>
                            </a:lnTo>
                            <a:lnTo>
                              <a:pt x="53" y="325"/>
                            </a:lnTo>
                            <a:lnTo>
                              <a:pt x="57" y="317"/>
                            </a:lnTo>
                            <a:lnTo>
                              <a:pt x="60" y="311"/>
                            </a:lnTo>
                            <a:lnTo>
                              <a:pt x="64" y="303"/>
                            </a:lnTo>
                            <a:lnTo>
                              <a:pt x="74" y="282"/>
                            </a:lnTo>
                            <a:lnTo>
                              <a:pt x="81" y="270"/>
                            </a:lnTo>
                            <a:lnTo>
                              <a:pt x="82" y="246"/>
                            </a:lnTo>
                            <a:lnTo>
                              <a:pt x="83" y="228"/>
                            </a:lnTo>
                            <a:lnTo>
                              <a:pt x="83" y="220"/>
                            </a:lnTo>
                            <a:lnTo>
                              <a:pt x="85" y="212"/>
                            </a:lnTo>
                            <a:lnTo>
                              <a:pt x="85" y="205"/>
                            </a:lnTo>
                            <a:lnTo>
                              <a:pt x="86" y="200"/>
                            </a:lnTo>
                            <a:lnTo>
                              <a:pt x="86" y="196"/>
                            </a:lnTo>
                            <a:lnTo>
                              <a:pt x="87" y="192"/>
                            </a:lnTo>
                            <a:lnTo>
                              <a:pt x="91" y="183"/>
                            </a:lnTo>
                            <a:lnTo>
                              <a:pt x="95" y="174"/>
                            </a:lnTo>
                            <a:lnTo>
                              <a:pt x="86" y="159"/>
                            </a:lnTo>
                            <a:lnTo>
                              <a:pt x="82" y="146"/>
                            </a:lnTo>
                            <a:lnTo>
                              <a:pt x="100" y="137"/>
                            </a:lnTo>
                            <a:lnTo>
                              <a:pt x="127" y="109"/>
                            </a:lnTo>
                            <a:lnTo>
                              <a:pt x="155" y="87"/>
                            </a:lnTo>
                            <a:lnTo>
                              <a:pt x="178" y="75"/>
                            </a:lnTo>
                            <a:lnTo>
                              <a:pt x="207" y="52"/>
                            </a:lnTo>
                            <a:lnTo>
                              <a:pt x="228" y="40"/>
                            </a:lnTo>
                            <a:lnTo>
                              <a:pt x="251" y="36"/>
                            </a:lnTo>
                            <a:lnTo>
                              <a:pt x="275" y="33"/>
                            </a:lnTo>
                            <a:lnTo>
                              <a:pt x="298" y="52"/>
                            </a:lnTo>
                            <a:lnTo>
                              <a:pt x="322" y="52"/>
                            </a:lnTo>
                            <a:lnTo>
                              <a:pt x="350" y="50"/>
                            </a:lnTo>
                            <a:lnTo>
                              <a:pt x="369" y="43"/>
                            </a:lnTo>
                            <a:lnTo>
                              <a:pt x="372" y="42"/>
                            </a:lnTo>
                            <a:lnTo>
                              <a:pt x="377" y="38"/>
                            </a:lnTo>
                            <a:lnTo>
                              <a:pt x="381" y="35"/>
                            </a:lnTo>
                            <a:lnTo>
                              <a:pt x="384" y="33"/>
                            </a:lnTo>
                            <a:lnTo>
                              <a:pt x="385" y="30"/>
                            </a:lnTo>
                            <a:lnTo>
                              <a:pt x="388" y="27"/>
                            </a:lnTo>
                            <a:lnTo>
                              <a:pt x="391" y="23"/>
                            </a:lnTo>
                            <a:lnTo>
                              <a:pt x="397" y="7"/>
                            </a:lnTo>
                            <a:lnTo>
                              <a:pt x="398" y="2"/>
                            </a:lnTo>
                            <a:lnTo>
                              <a:pt x="414" y="27"/>
                            </a:lnTo>
                            <a:lnTo>
                              <a:pt x="416" y="30"/>
                            </a:lnTo>
                            <a:lnTo>
                              <a:pt x="420" y="33"/>
                            </a:lnTo>
                            <a:lnTo>
                              <a:pt x="430" y="38"/>
                            </a:lnTo>
                            <a:lnTo>
                              <a:pt x="443" y="42"/>
                            </a:lnTo>
                            <a:lnTo>
                              <a:pt x="446" y="43"/>
                            </a:lnTo>
                            <a:lnTo>
                              <a:pt x="451" y="44"/>
                            </a:lnTo>
                            <a:lnTo>
                              <a:pt x="454" y="44"/>
                            </a:lnTo>
                            <a:lnTo>
                              <a:pt x="458" y="44"/>
                            </a:lnTo>
                            <a:lnTo>
                              <a:pt x="463" y="43"/>
                            </a:lnTo>
                            <a:lnTo>
                              <a:pt x="467" y="40"/>
                            </a:lnTo>
                            <a:lnTo>
                              <a:pt x="474" y="36"/>
                            </a:lnTo>
                            <a:lnTo>
                              <a:pt x="476" y="34"/>
                            </a:lnTo>
                            <a:lnTo>
                              <a:pt x="478" y="30"/>
                            </a:lnTo>
                            <a:lnTo>
                              <a:pt x="482" y="22"/>
                            </a:lnTo>
                            <a:lnTo>
                              <a:pt x="486" y="13"/>
                            </a:lnTo>
                            <a:lnTo>
                              <a:pt x="488" y="6"/>
                            </a:lnTo>
                            <a:lnTo>
                              <a:pt x="492" y="2"/>
                            </a:lnTo>
                            <a:lnTo>
                              <a:pt x="516" y="0"/>
                            </a:lnTo>
                            <a:lnTo>
                              <a:pt x="537" y="9"/>
                            </a:lnTo>
                            <a:lnTo>
                              <a:pt x="559" y="26"/>
                            </a:lnTo>
                            <a:lnTo>
                              <a:pt x="574" y="43"/>
                            </a:lnTo>
                            <a:lnTo>
                              <a:pt x="582" y="58"/>
                            </a:lnTo>
                            <a:lnTo>
                              <a:pt x="570" y="68"/>
                            </a:lnTo>
                            <a:lnTo>
                              <a:pt x="542" y="92"/>
                            </a:lnTo>
                            <a:lnTo>
                              <a:pt x="526" y="104"/>
                            </a:lnTo>
                            <a:lnTo>
                              <a:pt x="512" y="116"/>
                            </a:lnTo>
                            <a:lnTo>
                              <a:pt x="501" y="123"/>
                            </a:lnTo>
                            <a:lnTo>
                              <a:pt x="496" y="126"/>
                            </a:lnTo>
                            <a:lnTo>
                              <a:pt x="493" y="126"/>
                            </a:lnTo>
                            <a:lnTo>
                              <a:pt x="486" y="129"/>
                            </a:lnTo>
                            <a:lnTo>
                              <a:pt x="474" y="133"/>
                            </a:lnTo>
                            <a:lnTo>
                              <a:pt x="443" y="143"/>
                            </a:lnTo>
                            <a:lnTo>
                              <a:pt x="401" y="159"/>
                            </a:lnTo>
                            <a:lnTo>
                              <a:pt x="416" y="187"/>
                            </a:lnTo>
                            <a:lnTo>
                              <a:pt x="397" y="204"/>
                            </a:lnTo>
                            <a:lnTo>
                              <a:pt x="410" y="236"/>
                            </a:lnTo>
                            <a:lnTo>
                              <a:pt x="414" y="240"/>
                            </a:lnTo>
                            <a:lnTo>
                              <a:pt x="422" y="250"/>
                            </a:lnTo>
                            <a:lnTo>
                              <a:pt x="429" y="254"/>
                            </a:lnTo>
                            <a:lnTo>
                              <a:pt x="434" y="259"/>
                            </a:lnTo>
                            <a:lnTo>
                              <a:pt x="441" y="262"/>
                            </a:lnTo>
                            <a:lnTo>
                              <a:pt x="443" y="263"/>
                            </a:lnTo>
                            <a:lnTo>
                              <a:pt x="446" y="263"/>
                            </a:lnTo>
                            <a:lnTo>
                              <a:pt x="457" y="265"/>
                            </a:lnTo>
                            <a:lnTo>
                              <a:pt x="466" y="265"/>
                            </a:lnTo>
                            <a:lnTo>
                              <a:pt x="482" y="266"/>
                            </a:lnTo>
                            <a:lnTo>
                              <a:pt x="522" y="267"/>
                            </a:lnTo>
                            <a:lnTo>
                              <a:pt x="562" y="276"/>
                            </a:lnTo>
                            <a:lnTo>
                              <a:pt x="565" y="275"/>
                            </a:lnTo>
                            <a:lnTo>
                              <a:pt x="569" y="274"/>
                            </a:lnTo>
                            <a:lnTo>
                              <a:pt x="571" y="274"/>
                            </a:lnTo>
                            <a:lnTo>
                              <a:pt x="575" y="275"/>
                            </a:lnTo>
                            <a:lnTo>
                              <a:pt x="579" y="278"/>
                            </a:lnTo>
                            <a:lnTo>
                              <a:pt x="582" y="283"/>
                            </a:lnTo>
                            <a:lnTo>
                              <a:pt x="584" y="286"/>
                            </a:lnTo>
                            <a:lnTo>
                              <a:pt x="587" y="287"/>
                            </a:lnTo>
                            <a:lnTo>
                              <a:pt x="588" y="288"/>
                            </a:lnTo>
                            <a:lnTo>
                              <a:pt x="591" y="288"/>
                            </a:lnTo>
                            <a:lnTo>
                              <a:pt x="598" y="287"/>
                            </a:lnTo>
                            <a:lnTo>
                              <a:pt x="603" y="286"/>
                            </a:lnTo>
                            <a:lnTo>
                              <a:pt x="608" y="283"/>
                            </a:lnTo>
                            <a:lnTo>
                              <a:pt x="612" y="280"/>
                            </a:lnTo>
                            <a:lnTo>
                              <a:pt x="616" y="276"/>
                            </a:lnTo>
                            <a:lnTo>
                              <a:pt x="677" y="290"/>
                            </a:lnTo>
                            <a:lnTo>
                              <a:pt x="707" y="305"/>
                            </a:lnTo>
                            <a:lnTo>
                              <a:pt x="732" y="311"/>
                            </a:lnTo>
                            <a:lnTo>
                              <a:pt x="724" y="327"/>
                            </a:lnTo>
                            <a:lnTo>
                              <a:pt x="701" y="348"/>
                            </a:lnTo>
                            <a:lnTo>
                              <a:pt x="685" y="366"/>
                            </a:lnTo>
                            <a:lnTo>
                              <a:pt x="660" y="375"/>
                            </a:lnTo>
                            <a:lnTo>
                              <a:pt x="640" y="375"/>
                            </a:lnTo>
                            <a:lnTo>
                              <a:pt x="624" y="378"/>
                            </a:lnTo>
                            <a:lnTo>
                              <a:pt x="607" y="391"/>
                            </a:lnTo>
                            <a:lnTo>
                              <a:pt x="603" y="393"/>
                            </a:lnTo>
                            <a:lnTo>
                              <a:pt x="596" y="396"/>
                            </a:lnTo>
                            <a:lnTo>
                              <a:pt x="592" y="399"/>
                            </a:lnTo>
                            <a:lnTo>
                              <a:pt x="588" y="402"/>
                            </a:lnTo>
                            <a:lnTo>
                              <a:pt x="586" y="406"/>
                            </a:lnTo>
                            <a:lnTo>
                              <a:pt x="584" y="410"/>
                            </a:lnTo>
                            <a:lnTo>
                              <a:pt x="583" y="415"/>
                            </a:lnTo>
                            <a:lnTo>
                              <a:pt x="583" y="420"/>
                            </a:lnTo>
                            <a:lnTo>
                              <a:pt x="584" y="431"/>
                            </a:lnTo>
                            <a:lnTo>
                              <a:pt x="586" y="441"/>
                            </a:lnTo>
                            <a:lnTo>
                              <a:pt x="591" y="462"/>
                            </a:lnTo>
                            <a:lnTo>
                              <a:pt x="584" y="462"/>
                            </a:lnTo>
                            <a:lnTo>
                              <a:pt x="578" y="462"/>
                            </a:lnTo>
                            <a:lnTo>
                              <a:pt x="571" y="462"/>
                            </a:lnTo>
                            <a:lnTo>
                              <a:pt x="536" y="453"/>
                            </a:lnTo>
                            <a:lnTo>
                              <a:pt x="515" y="447"/>
                            </a:lnTo>
                            <a:lnTo>
                              <a:pt x="492" y="436"/>
                            </a:lnTo>
                            <a:lnTo>
                              <a:pt x="467" y="433"/>
                            </a:lnTo>
                            <a:lnTo>
                              <a:pt x="441" y="449"/>
                            </a:lnTo>
                            <a:lnTo>
                              <a:pt x="421" y="451"/>
                            </a:lnTo>
                            <a:lnTo>
                              <a:pt x="397" y="448"/>
                            </a:lnTo>
                            <a:lnTo>
                              <a:pt x="381" y="437"/>
                            </a:lnTo>
                            <a:lnTo>
                              <a:pt x="371" y="427"/>
                            </a:lnTo>
                            <a:lnTo>
                              <a:pt x="350" y="424"/>
                            </a:lnTo>
                            <a:lnTo>
                              <a:pt x="319" y="424"/>
                            </a:lnTo>
                            <a:lnTo>
                              <a:pt x="309" y="407"/>
                            </a:lnTo>
                            <a:lnTo>
                              <a:pt x="309" y="386"/>
                            </a:lnTo>
                            <a:lnTo>
                              <a:pt x="290" y="389"/>
                            </a:lnTo>
                            <a:lnTo>
                              <a:pt x="267" y="398"/>
                            </a:lnTo>
                            <a:lnTo>
                              <a:pt x="255" y="391"/>
                            </a:lnTo>
                            <a:lnTo>
                              <a:pt x="243" y="402"/>
                            </a:lnTo>
                            <a:lnTo>
                              <a:pt x="235" y="410"/>
                            </a:lnTo>
                            <a:lnTo>
                              <a:pt x="203" y="407"/>
                            </a:lnTo>
                            <a:lnTo>
                              <a:pt x="164" y="394"/>
                            </a:lnTo>
                            <a:lnTo>
                              <a:pt x="141" y="394"/>
                            </a:lnTo>
                            <a:lnTo>
                              <a:pt x="116" y="393"/>
                            </a:lnTo>
                            <a:lnTo>
                              <a:pt x="100" y="391"/>
                            </a:lnTo>
                            <a:lnTo>
                              <a:pt x="86" y="400"/>
                            </a:lnTo>
                            <a:lnTo>
                              <a:pt x="71" y="414"/>
                            </a:lnTo>
                            <a:lnTo>
                              <a:pt x="31" y="406"/>
                            </a:lnTo>
                            <a:lnTo>
                              <a:pt x="15" y="3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4702320" y="2720880"/>
                <a:ext cx="3968280" cy="3290400"/>
                <a:chOff x="4702320" y="2720880"/>
                <a:chExt cx="3968280" cy="32904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629680" y="3332880"/>
                  <a:ext cx="15120" cy="13680"/>
                </a:xfrm>
                <a:custGeom>
                  <a:avLst/>
                  <a:gdLst/>
                  <a:ahLst/>
                  <a:rect l="l" t="t" r="r" b="b"/>
                  <a:pathLst>
                    <a:path w="32" h="29">
                      <a:moveTo>
                        <a:pt x="7" y="0"/>
                      </a:moveTo>
                      <a:lnTo>
                        <a:pt x="0" y="8"/>
                      </a:lnTo>
                      <a:lnTo>
                        <a:pt x="25" y="29"/>
                      </a:lnTo>
                      <a:lnTo>
                        <a:pt x="32" y="2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622120" y="3343680"/>
                  <a:ext cx="24480" cy="2772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7" y="6"/>
                      </a:moveTo>
                      <a:lnTo>
                        <a:pt x="39" y="0"/>
                      </a:lnTo>
                      <a:lnTo>
                        <a:pt x="0" y="47"/>
                      </a:lnTo>
                      <a:lnTo>
                        <a:pt x="7" y="54"/>
                      </a:lnTo>
                      <a:lnTo>
                        <a:pt x="47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641920" y="334368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7" y="0"/>
                      </a:moveTo>
                      <a:lnTo>
                        <a:pt x="12" y="4"/>
                      </a:lnTo>
                      <a:lnTo>
                        <a:pt x="8" y="8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577120" y="3368880"/>
                  <a:ext cx="47880" cy="26280"/>
                </a:xfrm>
                <a:custGeom>
                  <a:avLst/>
                  <a:gdLst/>
                  <a:ahLst/>
                  <a:rect l="l" t="t" r="r" b="b"/>
                  <a:pathLst>
                    <a:path w="94" h="53">
                      <a:moveTo>
                        <a:pt x="94" y="9"/>
                      </a:moveTo>
                      <a:lnTo>
                        <a:pt x="89" y="0"/>
                      </a:lnTo>
                      <a:lnTo>
                        <a:pt x="0" y="43"/>
                      </a:lnTo>
                      <a:lnTo>
                        <a:pt x="6" y="53"/>
                      </a:lnTo>
                      <a:lnTo>
                        <a:pt x="9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622120" y="336888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8"/>
                      </a:moveTo>
                      <a:lnTo>
                        <a:pt x="6" y="9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526000" y="3390120"/>
                  <a:ext cx="52560" cy="12600"/>
                </a:xfrm>
                <a:custGeom>
                  <a:avLst/>
                  <a:gdLst/>
                  <a:ahLst/>
                  <a:rect l="l" t="t" r="r" b="b"/>
                  <a:pathLst>
                    <a:path w="101" h="24">
                      <a:moveTo>
                        <a:pt x="101" y="10"/>
                      </a:moveTo>
                      <a:lnTo>
                        <a:pt x="99" y="0"/>
                      </a:lnTo>
                      <a:lnTo>
                        <a:pt x="0" y="15"/>
                      </a:lnTo>
                      <a:lnTo>
                        <a:pt x="3" y="24"/>
                      </a:lnTo>
                      <a:lnTo>
                        <a:pt x="101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577120" y="339012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10"/>
                      </a:moveTo>
                      <a:lnTo>
                        <a:pt x="4" y="1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504760" y="3398040"/>
                  <a:ext cx="24480" cy="38520"/>
                </a:xfrm>
                <a:custGeom>
                  <a:avLst/>
                  <a:gdLst/>
                  <a:ahLst/>
                  <a:rect l="l" t="t" r="r" b="b"/>
                  <a:pathLst>
                    <a:path w="47" h="74">
                      <a:moveTo>
                        <a:pt x="47" y="6"/>
                      </a:moveTo>
                      <a:lnTo>
                        <a:pt x="34" y="38"/>
                      </a:lnTo>
                      <a:lnTo>
                        <a:pt x="21" y="62"/>
                      </a:lnTo>
                      <a:lnTo>
                        <a:pt x="12" y="71"/>
                      </a:lnTo>
                      <a:lnTo>
                        <a:pt x="5" y="74"/>
                      </a:lnTo>
                      <a:lnTo>
                        <a:pt x="0" y="65"/>
                      </a:lnTo>
                      <a:lnTo>
                        <a:pt x="6" y="62"/>
                      </a:lnTo>
                      <a:lnTo>
                        <a:pt x="12" y="57"/>
                      </a:lnTo>
                      <a:lnTo>
                        <a:pt x="25" y="33"/>
                      </a:lnTo>
                      <a:lnTo>
                        <a:pt x="38" y="0"/>
                      </a:lnTo>
                      <a:lnTo>
                        <a:pt x="47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524560" y="33980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9" y="7"/>
                      </a:lnTo>
                      <a:lnTo>
                        <a:pt x="7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12960" y="3421440"/>
                  <a:ext cx="92880" cy="15120"/>
                </a:xfrm>
                <a:custGeom>
                  <a:avLst/>
                  <a:gdLst/>
                  <a:ahLst/>
                  <a:rect l="l" t="t" r="r" b="b"/>
                  <a:pathLst>
                    <a:path w="179" h="30">
                      <a:moveTo>
                        <a:pt x="179" y="30"/>
                      </a:moveTo>
                      <a:lnTo>
                        <a:pt x="83" y="20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83" y="10"/>
                      </a:lnTo>
                      <a:lnTo>
                        <a:pt x="179" y="21"/>
                      </a:lnTo>
                      <a:lnTo>
                        <a:pt x="179" y="3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504760" y="3432240"/>
                  <a:ext cx="2520" cy="4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9"/>
                      </a:moveTo>
                      <a:lnTo>
                        <a:pt x="2" y="9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411880" y="3393360"/>
                  <a:ext cx="7560" cy="30600"/>
                </a:xfrm>
                <a:custGeom>
                  <a:avLst/>
                  <a:gdLst/>
                  <a:ahLst/>
                  <a:rect l="l" t="t" r="r" b="b"/>
                  <a:pathLst>
                    <a:path w="17" h="58">
                      <a:moveTo>
                        <a:pt x="0" y="55"/>
                      </a:moveTo>
                      <a:lnTo>
                        <a:pt x="9" y="58"/>
                      </a:lnTo>
                      <a:lnTo>
                        <a:pt x="17" y="3"/>
                      </a:lnTo>
                      <a:lnTo>
                        <a:pt x="8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410440" y="34214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7" y="9"/>
                      </a:move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11" y="5"/>
                      </a:lnTo>
                      <a:lnTo>
                        <a:pt x="7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399280" y="3390120"/>
                  <a:ext cx="18360" cy="7920"/>
                </a:xfrm>
                <a:custGeom>
                  <a:avLst/>
                  <a:gdLst/>
                  <a:ahLst/>
                  <a:rect l="l" t="t" r="r" b="b"/>
                  <a:pathLst>
                    <a:path w="37" h="14">
                      <a:moveTo>
                        <a:pt x="37" y="14"/>
                      </a:moveTo>
                      <a:lnTo>
                        <a:pt x="37" y="4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14760" y="33919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6"/>
                      </a:move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0" y="3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396400" y="3308400"/>
                  <a:ext cx="23040" cy="84600"/>
                </a:xfrm>
                <a:custGeom>
                  <a:avLst/>
                  <a:gdLst/>
                  <a:ahLst/>
                  <a:rect l="l" t="t" r="r" b="b"/>
                  <a:pathLst>
                    <a:path w="46" h="165">
                      <a:moveTo>
                        <a:pt x="0" y="161"/>
                      </a:moveTo>
                      <a:lnTo>
                        <a:pt x="9" y="165"/>
                      </a:lnTo>
                      <a:lnTo>
                        <a:pt x="46" y="4"/>
                      </a:lnTo>
                      <a:lnTo>
                        <a:pt x="37" y="0"/>
                      </a:lnTo>
                      <a:lnTo>
                        <a:pt x="0" y="16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394600" y="33901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10"/>
                      </a:move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7" y="0"/>
                      </a:lnTo>
                      <a:lnTo>
                        <a:pt x="7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418000" y="3306600"/>
                  <a:ext cx="13320" cy="756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26" y="16"/>
                      </a:lnTo>
                      <a:lnTo>
                        <a:pt x="29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414760" y="33066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6" y="1"/>
                      </a:lnTo>
                      <a:lnTo>
                        <a:pt x="4" y="12"/>
                      </a:lnTo>
                      <a:lnTo>
                        <a:pt x="9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428800" y="3313080"/>
                  <a:ext cx="5760" cy="183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428800" y="33098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7" y="0"/>
                      </a:moveTo>
                      <a:lnTo>
                        <a:pt x="11" y="2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428800" y="33300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36" h="54">
                      <a:moveTo>
                        <a:pt x="9" y="0"/>
                      </a:moveTo>
                      <a:lnTo>
                        <a:pt x="0" y="6"/>
                      </a:lnTo>
                      <a:lnTo>
                        <a:pt x="26" y="54"/>
                      </a:lnTo>
                      <a:lnTo>
                        <a:pt x="36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428800" y="3330000"/>
                  <a:ext cx="5760" cy="288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428800" y="335484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34" h="12">
                      <a:moveTo>
                        <a:pt x="34" y="9"/>
                      </a:moveTo>
                      <a:lnTo>
                        <a:pt x="31" y="0"/>
                      </a:lnTo>
                      <a:lnTo>
                        <a:pt x="0" y="2"/>
                      </a:lnTo>
                      <a:lnTo>
                        <a:pt x="2" y="12"/>
                      </a:lnTo>
                      <a:lnTo>
                        <a:pt x="3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442480" y="33548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0" y="1"/>
                      </a:moveTo>
                      <a:lnTo>
                        <a:pt x="14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6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422680" y="3357720"/>
                  <a:ext cx="9000" cy="30600"/>
                </a:xfrm>
                <a:custGeom>
                  <a:avLst/>
                  <a:gdLst/>
                  <a:ahLst/>
                  <a:rect l="l" t="t" r="r" b="b"/>
                  <a:pathLst>
                    <a:path w="17" h="60">
                      <a:moveTo>
                        <a:pt x="17" y="0"/>
                      </a:moveTo>
                      <a:lnTo>
                        <a:pt x="11" y="60"/>
                      </a:lnTo>
                      <a:lnTo>
                        <a:pt x="0" y="60"/>
                      </a:lnTo>
                      <a:lnTo>
                        <a:pt x="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425920" y="33562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lnTo>
                        <a:pt x="6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422680" y="3387240"/>
                  <a:ext cx="30600" cy="9000"/>
                </a:xfrm>
                <a:custGeom>
                  <a:avLst/>
                  <a:gdLst/>
                  <a:ahLst/>
                  <a:rect l="l" t="t" r="r" b="b"/>
                  <a:pathLst>
                    <a:path w="60" h="16">
                      <a:moveTo>
                        <a:pt x="8" y="0"/>
                      </a:moveTo>
                      <a:lnTo>
                        <a:pt x="10" y="1"/>
                      </a:lnTo>
                      <a:lnTo>
                        <a:pt x="14" y="1"/>
                      </a:lnTo>
                      <a:lnTo>
                        <a:pt x="32" y="4"/>
                      </a:lnTo>
                      <a:lnTo>
                        <a:pt x="60" y="5"/>
                      </a:lnTo>
                      <a:lnTo>
                        <a:pt x="60" y="16"/>
                      </a:lnTo>
                      <a:lnTo>
                        <a:pt x="31" y="15"/>
                      </a:lnTo>
                      <a:lnTo>
                        <a:pt x="12" y="12"/>
                      </a:lnTo>
                      <a:lnTo>
                        <a:pt x="4" y="11"/>
                      </a:lnTo>
                      <a:lnTo>
                        <a:pt x="0" y="7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422680" y="33872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453280" y="3390120"/>
                  <a:ext cx="60120" cy="10800"/>
                </a:xfrm>
                <a:custGeom>
                  <a:avLst/>
                  <a:gdLst/>
                  <a:ahLst/>
                  <a:rect l="l" t="t" r="r" b="b"/>
                  <a:pathLst>
                    <a:path w="118" h="20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116" y="20"/>
                      </a:lnTo>
                      <a:lnTo>
                        <a:pt x="118" y="1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53280" y="3390120"/>
                  <a:ext cx="1080" cy="612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510520" y="3379680"/>
                  <a:ext cx="10800" cy="19800"/>
                </a:xfrm>
                <a:custGeom>
                  <a:avLst/>
                  <a:gdLst/>
                  <a:ahLst/>
                  <a:rect l="l" t="t" r="r" b="b"/>
                  <a:pathLst>
                    <a:path w="21" h="40">
                      <a:moveTo>
                        <a:pt x="0" y="34"/>
                      </a:moveTo>
                      <a:lnTo>
                        <a:pt x="9" y="40"/>
                      </a:lnTo>
                      <a:lnTo>
                        <a:pt x="21" y="5"/>
                      </a:lnTo>
                      <a:lnTo>
                        <a:pt x="11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510520" y="339516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3" y="10"/>
                      </a:move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0" y="2"/>
                      </a:lnTo>
                      <a:lnTo>
                        <a:pt x="5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518440" y="3367080"/>
                  <a:ext cx="41400" cy="15120"/>
                </a:xfrm>
                <a:custGeom>
                  <a:avLst/>
                  <a:gdLst/>
                  <a:ahLst/>
                  <a:rect l="l" t="t" r="r" b="b"/>
                  <a:pathLst>
                    <a:path w="79" h="32">
                      <a:moveTo>
                        <a:pt x="0" y="21"/>
                      </a:moveTo>
                      <a:lnTo>
                        <a:pt x="3" y="32"/>
                      </a:lnTo>
                      <a:lnTo>
                        <a:pt x="79" y="11"/>
                      </a:lnTo>
                      <a:lnTo>
                        <a:pt x="7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517000" y="33778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3"/>
                      </a:move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11"/>
                      </a:lnTo>
                      <a:lnTo>
                        <a:pt x="10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558760" y="3357720"/>
                  <a:ext cx="46080" cy="13680"/>
                </a:xfrm>
                <a:custGeom>
                  <a:avLst/>
                  <a:gdLst/>
                  <a:ahLst/>
                  <a:rect l="l" t="t" r="r" b="b"/>
                  <a:pathLst>
                    <a:path w="89" h="29">
                      <a:moveTo>
                        <a:pt x="0" y="18"/>
                      </a:moveTo>
                      <a:lnTo>
                        <a:pt x="1" y="29"/>
                      </a:lnTo>
                      <a:lnTo>
                        <a:pt x="89" y="10"/>
                      </a:lnTo>
                      <a:lnTo>
                        <a:pt x="87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558760" y="3367080"/>
                  <a:ext cx="1080" cy="468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601600" y="3332880"/>
                  <a:ext cx="30960" cy="29160"/>
                </a:xfrm>
                <a:custGeom>
                  <a:avLst/>
                  <a:gdLst/>
                  <a:ahLst/>
                  <a:rect l="l" t="t" r="r" b="b"/>
                  <a:pathLst>
                    <a:path w="60" h="57">
                      <a:moveTo>
                        <a:pt x="0" y="49"/>
                      </a:moveTo>
                      <a:lnTo>
                        <a:pt x="7" y="57"/>
                      </a:lnTo>
                      <a:lnTo>
                        <a:pt x="60" y="8"/>
                      </a:lnTo>
                      <a:lnTo>
                        <a:pt x="53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601600" y="33577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6" y="10"/>
                      </a:moveTo>
                      <a:lnTo>
                        <a:pt x="7" y="9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629680" y="333144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7" y="2"/>
                      </a:lnTo>
                      <a:lnTo>
                        <a:pt x="0" y="10"/>
                      </a:lnTo>
                      <a:lnTo>
                        <a:pt x="7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67760" y="320004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0" y="45"/>
                      </a:moveTo>
                      <a:lnTo>
                        <a:pt x="8" y="52"/>
                      </a:lnTo>
                      <a:lnTo>
                        <a:pt x="39" y="7"/>
                      </a:lnTo>
                      <a:lnTo>
                        <a:pt x="31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583240" y="3200040"/>
                  <a:ext cx="30960" cy="24840"/>
                </a:xfrm>
                <a:custGeom>
                  <a:avLst/>
                  <a:gdLst/>
                  <a:ahLst/>
                  <a:rect l="l" t="t" r="r" b="b"/>
                  <a:pathLst>
                    <a:path w="58" h="49">
                      <a:moveTo>
                        <a:pt x="6" y="0"/>
                      </a:moveTo>
                      <a:lnTo>
                        <a:pt x="0" y="8"/>
                      </a:lnTo>
                      <a:lnTo>
                        <a:pt x="51" y="49"/>
                      </a:lnTo>
                      <a:lnTo>
                        <a:pt x="58" y="4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583240" y="31986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609520" y="321228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0" y="18"/>
                      </a:moveTo>
                      <a:lnTo>
                        <a:pt x="8" y="25"/>
                      </a:lnTo>
                      <a:lnTo>
                        <a:pt x="23" y="6"/>
                      </a:lnTo>
                      <a:lnTo>
                        <a:pt x="15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609520" y="32202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8"/>
                      </a:move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0" y="1"/>
                      </a:lnTo>
                      <a:lnTo>
                        <a:pt x="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618880" y="3210840"/>
                  <a:ext cx="87840" cy="41400"/>
                </a:xfrm>
                <a:custGeom>
                  <a:avLst/>
                  <a:gdLst/>
                  <a:ahLst/>
                  <a:rect l="l" t="t" r="r" b="b"/>
                  <a:pathLst>
                    <a:path w="171" h="82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66" y="82"/>
                      </a:lnTo>
                      <a:lnTo>
                        <a:pt x="171" y="7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17080" y="32108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6" y="1"/>
                      </a:lnTo>
                      <a:lnTo>
                        <a:pt x="1" y="10"/>
                      </a:lnTo>
                      <a:lnTo>
                        <a:pt x="8" y="9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667120" y="3248280"/>
                  <a:ext cx="39960" cy="3060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76" y="8"/>
                      </a:moveTo>
                      <a:lnTo>
                        <a:pt x="70" y="0"/>
                      </a:lnTo>
                      <a:lnTo>
                        <a:pt x="0" y="50"/>
                      </a:lnTo>
                      <a:lnTo>
                        <a:pt x="6" y="58"/>
                      </a:lnTo>
                      <a:lnTo>
                        <a:pt x="76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703840" y="32482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6" y="0"/>
                      </a:moveTo>
                      <a:lnTo>
                        <a:pt x="13" y="2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663880" y="3260520"/>
                  <a:ext cx="7560" cy="1692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6" y="31"/>
                      </a:moveTo>
                      <a:lnTo>
                        <a:pt x="15" y="29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6" y="3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667120" y="327456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7" y="8"/>
                      </a:move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9" y="3"/>
                      </a:lnTo>
                      <a:lnTo>
                        <a:pt x="1" y="0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629680" y="3229560"/>
                  <a:ext cx="38520" cy="33840"/>
                </a:xfrm>
                <a:custGeom>
                  <a:avLst/>
                  <a:gdLst/>
                  <a:ahLst/>
                  <a:rect l="l" t="t" r="r" b="b"/>
                  <a:pathLst>
                    <a:path w="74" h="66">
                      <a:moveTo>
                        <a:pt x="68" y="66"/>
                      </a:moveTo>
                      <a:lnTo>
                        <a:pt x="74" y="58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63880" y="32590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2" y="8"/>
                      </a:lnTo>
                      <a:lnTo>
                        <a:pt x="0" y="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620320" y="32295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4" h="14">
                      <a:moveTo>
                        <a:pt x="24" y="9"/>
                      </a:moveTo>
                      <a:lnTo>
                        <a:pt x="20" y="0"/>
                      </a:lnTo>
                      <a:lnTo>
                        <a:pt x="0" y="5"/>
                      </a:lnTo>
                      <a:lnTo>
                        <a:pt x="4" y="14"/>
                      </a:lnTo>
                      <a:lnTo>
                        <a:pt x="2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629680" y="322956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1"/>
                      </a:move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6" y="10"/>
                      </a:lnTo>
                      <a:lnTo>
                        <a:pt x="0" y="9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618880" y="3234240"/>
                  <a:ext cx="6120" cy="21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618880" y="3232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591160" y="3251160"/>
                  <a:ext cx="30600" cy="5760"/>
                </a:xfrm>
                <a:custGeom>
                  <a:avLst/>
                  <a:gdLst/>
                  <a:ahLst/>
                  <a:rect l="l" t="t" r="r" b="b"/>
                  <a:pathLst>
                    <a:path w="60" h="14">
                      <a:moveTo>
                        <a:pt x="60" y="14"/>
                      </a:moveTo>
                      <a:lnTo>
                        <a:pt x="60" y="5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0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618880" y="32526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587920" y="3232800"/>
                  <a:ext cx="7560" cy="19800"/>
                </a:xfrm>
                <a:custGeom>
                  <a:avLst/>
                  <a:gdLst/>
                  <a:ahLst/>
                  <a:rect l="l" t="t" r="r" b="b"/>
                  <a:pathLst>
                    <a:path w="14" h="41">
                      <a:moveTo>
                        <a:pt x="0" y="38"/>
                      </a:moveTo>
                      <a:lnTo>
                        <a:pt x="9" y="41"/>
                      </a:lnTo>
                      <a:lnTo>
                        <a:pt x="14" y="3"/>
                      </a:lnTo>
                      <a:lnTo>
                        <a:pt x="5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587920" y="32511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6" y="9"/>
                      </a:move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10" y="5"/>
                      </a:lnTo>
                      <a:lnTo>
                        <a:pt x="6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569560" y="3223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46" y="25"/>
                      </a:moveTo>
                      <a:lnTo>
                        <a:pt x="50" y="1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46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591160" y="323100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5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3" y="9"/>
                      </a:lnTo>
                      <a:lnTo>
                        <a:pt x="0" y="2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566320" y="32230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8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0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829560" y="4935240"/>
                  <a:ext cx="72360" cy="97200"/>
                </a:xfrm>
                <a:custGeom>
                  <a:avLst/>
                  <a:gdLst/>
                  <a:ahLst/>
                  <a:rect l="l" t="t" r="r" b="b"/>
                  <a:pathLst>
                    <a:path w="141" h="189">
                      <a:moveTo>
                        <a:pt x="53" y="4"/>
                      </a:moveTo>
                      <a:lnTo>
                        <a:pt x="4" y="63"/>
                      </a:lnTo>
                      <a:lnTo>
                        <a:pt x="0" y="116"/>
                      </a:lnTo>
                      <a:lnTo>
                        <a:pt x="72" y="189"/>
                      </a:lnTo>
                      <a:lnTo>
                        <a:pt x="141" y="147"/>
                      </a:lnTo>
                      <a:lnTo>
                        <a:pt x="141" y="95"/>
                      </a:lnTo>
                      <a:lnTo>
                        <a:pt x="110" y="102"/>
                      </a:lnTo>
                      <a:lnTo>
                        <a:pt x="78" y="71"/>
                      </a:lnTo>
                      <a:lnTo>
                        <a:pt x="85" y="0"/>
                      </a:lnTo>
                      <a:lnTo>
                        <a:pt x="53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829560" y="4935240"/>
                  <a:ext cx="28800" cy="33840"/>
                </a:xfrm>
                <a:custGeom>
                  <a:avLst/>
                  <a:gdLst/>
                  <a:ahLst/>
                  <a:rect l="l" t="t" r="r" b="b"/>
                  <a:pathLst>
                    <a:path w="57" h="66">
                      <a:moveTo>
                        <a:pt x="57" y="7"/>
                      </a:moveTo>
                      <a:lnTo>
                        <a:pt x="49" y="0"/>
                      </a:lnTo>
                      <a:lnTo>
                        <a:pt x="0" y="59"/>
                      </a:lnTo>
                      <a:lnTo>
                        <a:pt x="8" y="66"/>
                      </a:lnTo>
                      <a:lnTo>
                        <a:pt x="57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827760" y="4967640"/>
                  <a:ext cx="7560" cy="27720"/>
                </a:xfrm>
                <a:custGeom>
                  <a:avLst/>
                  <a:gdLst/>
                  <a:ahLst/>
                  <a:rect l="l" t="t" r="r" b="b"/>
                  <a:pathLst>
                    <a:path w="15" h="53">
                      <a:moveTo>
                        <a:pt x="15" y="0"/>
                      </a:moveTo>
                      <a:lnTo>
                        <a:pt x="4" y="0"/>
                      </a:lnTo>
                      <a:lnTo>
                        <a:pt x="0" y="53"/>
                      </a:lnTo>
                      <a:lnTo>
                        <a:pt x="11" y="5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829560" y="4966200"/>
                  <a:ext cx="5760" cy="288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9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827760" y="4993920"/>
                  <a:ext cx="39960" cy="40320"/>
                </a:xfrm>
                <a:custGeom>
                  <a:avLst/>
                  <a:gdLst/>
                  <a:ahLst/>
                  <a:rect l="l" t="t" r="r" b="b"/>
                  <a:pathLst>
                    <a:path w="79" h="80">
                      <a:moveTo>
                        <a:pt x="8" y="0"/>
                      </a:moveTo>
                      <a:lnTo>
                        <a:pt x="0" y="7"/>
                      </a:lnTo>
                      <a:lnTo>
                        <a:pt x="72" y="80"/>
                      </a:lnTo>
                      <a:lnTo>
                        <a:pt x="79" y="7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827760" y="49939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864840" y="5009400"/>
                  <a:ext cx="38520" cy="26280"/>
                </a:xfrm>
                <a:custGeom>
                  <a:avLst/>
                  <a:gdLst/>
                  <a:ahLst/>
                  <a:rect l="l" t="t" r="r" b="b"/>
                  <a:pathLst>
                    <a:path w="75" h="52">
                      <a:moveTo>
                        <a:pt x="0" y="43"/>
                      </a:moveTo>
                      <a:lnTo>
                        <a:pt x="5" y="52"/>
                      </a:lnTo>
                      <a:lnTo>
                        <a:pt x="75" y="10"/>
                      </a:lnTo>
                      <a:lnTo>
                        <a:pt x="70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864840" y="50310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0" y="7"/>
                      </a:moveTo>
                      <a:lnTo>
                        <a:pt x="2" y="11"/>
                      </a:lnTo>
                      <a:lnTo>
                        <a:pt x="6" y="9"/>
                      </a:lnTo>
                      <a:lnTo>
                        <a:pt x="1" y="0"/>
                      </a:lnTo>
                      <a:lnTo>
                        <a:pt x="7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900840" y="4984560"/>
                  <a:ext cx="4320" cy="26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00840" y="50094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10"/>
                      </a:moveTo>
                      <a:lnTo>
                        <a:pt x="11" y="8"/>
                      </a:lnTo>
                      <a:lnTo>
                        <a:pt x="11" y="4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8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885000" y="498168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36" h="17">
                      <a:moveTo>
                        <a:pt x="36" y="9"/>
                      </a:moveTo>
                      <a:lnTo>
                        <a:pt x="32" y="0"/>
                      </a:lnTo>
                      <a:lnTo>
                        <a:pt x="0" y="8"/>
                      </a:lnTo>
                      <a:lnTo>
                        <a:pt x="4" y="17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900840" y="49816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6"/>
                      </a:moveTo>
                      <a:lnTo>
                        <a:pt x="11" y="0"/>
                      </a:lnTo>
                      <a:lnTo>
                        <a:pt x="3" y="2"/>
                      </a:lnTo>
                      <a:lnTo>
                        <a:pt x="7" y="11"/>
                      </a:lnTo>
                      <a:lnTo>
                        <a:pt x="0" y="6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68080" y="496908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2" y="39"/>
                      </a:moveTo>
                      <a:lnTo>
                        <a:pt x="38" y="3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32" y="3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885000" y="4986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5" y="9"/>
                      </a:moveTo>
                      <a:lnTo>
                        <a:pt x="2" y="10"/>
                      </a:lnTo>
                      <a:lnTo>
                        <a:pt x="0" y="7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68080" y="4933440"/>
                  <a:ext cx="7560" cy="38880"/>
                </a:xfrm>
                <a:custGeom>
                  <a:avLst/>
                  <a:gdLst/>
                  <a:ahLst/>
                  <a:rect l="l" t="t" r="r" b="b"/>
                  <a:pathLst>
                    <a:path w="16" h="74">
                      <a:moveTo>
                        <a:pt x="0" y="71"/>
                      </a:moveTo>
                      <a:lnTo>
                        <a:pt x="9" y="74"/>
                      </a:lnTo>
                      <a:lnTo>
                        <a:pt x="16" y="3"/>
                      </a:lnTo>
                      <a:lnTo>
                        <a:pt x="6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868080" y="49690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9" y="5"/>
                      </a:lnTo>
                      <a:lnTo>
                        <a:pt x="8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857280" y="4933440"/>
                  <a:ext cx="16920" cy="6120"/>
                </a:xfrm>
                <a:custGeom>
                  <a:avLst/>
                  <a:gdLst/>
                  <a:ahLst/>
                  <a:rect l="l" t="t" r="r" b="b"/>
                  <a:pathLst>
                    <a:path w="34" h="13">
                      <a:moveTo>
                        <a:pt x="34" y="9"/>
                      </a:moveTo>
                      <a:lnTo>
                        <a:pt x="31" y="0"/>
                      </a:lnTo>
                      <a:lnTo>
                        <a:pt x="0" y="4"/>
                      </a:lnTo>
                      <a:lnTo>
                        <a:pt x="2" y="13"/>
                      </a:lnTo>
                      <a:lnTo>
                        <a:pt x="3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871320" y="49334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5"/>
                      </a:move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7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855840" y="4935240"/>
                  <a:ext cx="252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832800" y="5479560"/>
                  <a:ext cx="66240" cy="64800"/>
                </a:xfrm>
                <a:custGeom>
                  <a:avLst/>
                  <a:gdLst/>
                  <a:ahLst/>
                  <a:rect l="l" t="t" r="r" b="b"/>
                  <a:pathLst>
                    <a:path w="131" h="126">
                      <a:moveTo>
                        <a:pt x="64" y="0"/>
                      </a:moveTo>
                      <a:lnTo>
                        <a:pt x="131" y="52"/>
                      </a:lnTo>
                      <a:lnTo>
                        <a:pt x="57" y="126"/>
                      </a:lnTo>
                      <a:lnTo>
                        <a:pt x="0" y="10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63400" y="5476320"/>
                  <a:ext cx="37080" cy="30600"/>
                </a:xfrm>
                <a:custGeom>
                  <a:avLst/>
                  <a:gdLst/>
                  <a:ahLst/>
                  <a:rect l="l" t="t" r="r" b="b"/>
                  <a:pathLst>
                    <a:path w="73" h="60">
                      <a:moveTo>
                        <a:pt x="6" y="0"/>
                      </a:moveTo>
                      <a:lnTo>
                        <a:pt x="0" y="8"/>
                      </a:lnTo>
                      <a:lnTo>
                        <a:pt x="67" y="60"/>
                      </a:lnTo>
                      <a:lnTo>
                        <a:pt x="73" y="5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858720" y="5504400"/>
                  <a:ext cx="43200" cy="41400"/>
                </a:xfrm>
                <a:custGeom>
                  <a:avLst/>
                  <a:gdLst/>
                  <a:ahLst/>
                  <a:rect l="l" t="t" r="r" b="b"/>
                  <a:pathLst>
                    <a:path w="82" h="80">
                      <a:moveTo>
                        <a:pt x="82" y="6"/>
                      </a:moveTo>
                      <a:lnTo>
                        <a:pt x="74" y="0"/>
                      </a:lnTo>
                      <a:lnTo>
                        <a:pt x="0" y="74"/>
                      </a:lnTo>
                      <a:lnTo>
                        <a:pt x="8" y="80"/>
                      </a:lnTo>
                      <a:lnTo>
                        <a:pt x="82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897600" y="550440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6" y="0"/>
                      </a:moveTo>
                      <a:lnTo>
                        <a:pt x="12" y="4"/>
                      </a:lnTo>
                      <a:lnTo>
                        <a:pt x="8" y="8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831000" y="553356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56" y="26"/>
                      </a:moveTo>
                      <a:lnTo>
                        <a:pt x="60" y="17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56" y="2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8720" y="5541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8"/>
                      </a:moveTo>
                      <a:lnTo>
                        <a:pt x="5" y="11"/>
                      </a:lnTo>
                      <a:lnTo>
                        <a:pt x="1" y="9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829560" y="5478120"/>
                  <a:ext cx="37080" cy="58320"/>
                </a:xfrm>
                <a:custGeom>
                  <a:avLst/>
                  <a:gdLst/>
                  <a:ahLst/>
                  <a:rect l="l" t="t" r="r" b="b"/>
                  <a:pathLst>
                    <a:path w="72" h="116">
                      <a:moveTo>
                        <a:pt x="0" y="109"/>
                      </a:moveTo>
                      <a:lnTo>
                        <a:pt x="8" y="116"/>
                      </a:lnTo>
                      <a:lnTo>
                        <a:pt x="72" y="7"/>
                      </a:lnTo>
                      <a:lnTo>
                        <a:pt x="64" y="0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827760" y="55335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8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0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863400" y="547488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109280" y="5280120"/>
                  <a:ext cx="210240" cy="255240"/>
                </a:xfrm>
                <a:custGeom>
                  <a:avLst/>
                  <a:gdLst/>
                  <a:ahLst/>
                  <a:rect l="l" t="t" r="r" b="b"/>
                  <a:pathLst>
                    <a:path w="408" h="496">
                      <a:moveTo>
                        <a:pt x="64" y="0"/>
                      </a:moveTo>
                      <a:lnTo>
                        <a:pt x="99" y="25"/>
                      </a:lnTo>
                      <a:lnTo>
                        <a:pt x="68" y="91"/>
                      </a:lnTo>
                      <a:lnTo>
                        <a:pt x="102" y="133"/>
                      </a:lnTo>
                      <a:lnTo>
                        <a:pt x="134" y="81"/>
                      </a:lnTo>
                      <a:lnTo>
                        <a:pt x="163" y="89"/>
                      </a:lnTo>
                      <a:lnTo>
                        <a:pt x="127" y="169"/>
                      </a:lnTo>
                      <a:lnTo>
                        <a:pt x="408" y="475"/>
                      </a:lnTo>
                      <a:lnTo>
                        <a:pt x="380" y="496"/>
                      </a:lnTo>
                      <a:lnTo>
                        <a:pt x="0" y="74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811280" y="5546160"/>
                  <a:ext cx="84600" cy="171360"/>
                </a:xfrm>
                <a:custGeom>
                  <a:avLst/>
                  <a:gdLst/>
                  <a:ahLst/>
                  <a:rect l="l" t="t" r="r" b="b"/>
                  <a:pathLst>
                    <a:path w="165" h="334">
                      <a:moveTo>
                        <a:pt x="0" y="15"/>
                      </a:moveTo>
                      <a:lnTo>
                        <a:pt x="39" y="0"/>
                      </a:lnTo>
                      <a:lnTo>
                        <a:pt x="78" y="91"/>
                      </a:lnTo>
                      <a:lnTo>
                        <a:pt x="141" y="70"/>
                      </a:lnTo>
                      <a:lnTo>
                        <a:pt x="163" y="110"/>
                      </a:lnTo>
                      <a:lnTo>
                        <a:pt x="95" y="141"/>
                      </a:lnTo>
                      <a:lnTo>
                        <a:pt x="165" y="306"/>
                      </a:lnTo>
                      <a:lnTo>
                        <a:pt x="99" y="334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727760" y="5281560"/>
                  <a:ext cx="64800" cy="114120"/>
                </a:xfrm>
                <a:custGeom>
                  <a:avLst/>
                  <a:gdLst/>
                  <a:ahLst/>
                  <a:rect l="l" t="t" r="r" b="b"/>
                  <a:pathLst>
                    <a:path w="127" h="222">
                      <a:moveTo>
                        <a:pt x="0" y="11"/>
                      </a:moveTo>
                      <a:lnTo>
                        <a:pt x="61" y="0"/>
                      </a:lnTo>
                      <a:lnTo>
                        <a:pt x="127" y="201"/>
                      </a:lnTo>
                      <a:lnTo>
                        <a:pt x="63" y="2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718400" y="5957640"/>
                  <a:ext cx="80280" cy="50760"/>
                </a:xfrm>
                <a:custGeom>
                  <a:avLst/>
                  <a:gdLst/>
                  <a:ahLst/>
                  <a:rect l="l" t="t" r="r" b="b"/>
                  <a:pathLst>
                    <a:path w="156" h="100">
                      <a:moveTo>
                        <a:pt x="74" y="4"/>
                      </a:moveTo>
                      <a:lnTo>
                        <a:pt x="87" y="0"/>
                      </a:lnTo>
                      <a:lnTo>
                        <a:pt x="114" y="65"/>
                      </a:lnTo>
                      <a:lnTo>
                        <a:pt x="156" y="69"/>
                      </a:lnTo>
                      <a:lnTo>
                        <a:pt x="152" y="100"/>
                      </a:lnTo>
                      <a:lnTo>
                        <a:pt x="0" y="91"/>
                      </a:lnTo>
                      <a:lnTo>
                        <a:pt x="3" y="58"/>
                      </a:lnTo>
                      <a:lnTo>
                        <a:pt x="74" y="69"/>
                      </a:lnTo>
                      <a:lnTo>
                        <a:pt x="74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57280" y="5954400"/>
                  <a:ext cx="7560" cy="75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4"/>
                      </a:moveTo>
                      <a:lnTo>
                        <a:pt x="1" y="14"/>
                      </a:lnTo>
                      <a:lnTo>
                        <a:pt x="15" y="10"/>
                      </a:lnTo>
                      <a:lnTo>
                        <a:pt x="1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761600" y="5955840"/>
                  <a:ext cx="18360" cy="35640"/>
                </a:xfrm>
                <a:custGeom>
                  <a:avLst/>
                  <a:gdLst/>
                  <a:ahLst/>
                  <a:rect l="l" t="t" r="r" b="b"/>
                  <a:pathLst>
                    <a:path w="36" h="70">
                      <a:moveTo>
                        <a:pt x="9" y="0"/>
                      </a:moveTo>
                      <a:lnTo>
                        <a:pt x="0" y="6"/>
                      </a:lnTo>
                      <a:lnTo>
                        <a:pt x="26" y="70"/>
                      </a:lnTo>
                      <a:lnTo>
                        <a:pt x="36" y="6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761600" y="595440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5" y="2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0" y="10"/>
                      </a:lnTo>
                      <a:lnTo>
                        <a:pt x="7" y="1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777080" y="5988240"/>
                  <a:ext cx="21600" cy="756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43" y="15"/>
                      </a:lnTo>
                      <a:lnTo>
                        <a:pt x="44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773840" y="59882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8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0"/>
                      </a:lnTo>
                      <a:lnTo>
                        <a:pt x="10" y="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794000" y="5992920"/>
                  <a:ext cx="7560" cy="151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4" y="0"/>
                      </a:moveTo>
                      <a:lnTo>
                        <a:pt x="4" y="0"/>
                      </a:lnTo>
                      <a:lnTo>
                        <a:pt x="0" y="31"/>
                      </a:lnTo>
                      <a:lnTo>
                        <a:pt x="10" y="3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797240" y="59896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718400" y="6001920"/>
                  <a:ext cx="78840" cy="9360"/>
                </a:xfrm>
                <a:custGeom>
                  <a:avLst/>
                  <a:gdLst/>
                  <a:ahLst/>
                  <a:rect l="l" t="t" r="r" b="b"/>
                  <a:pathLst>
                    <a:path w="152" h="18">
                      <a:moveTo>
                        <a:pt x="152" y="18"/>
                      </a:moveTo>
                      <a:lnTo>
                        <a:pt x="152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52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794000" y="60069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10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716960" y="5986440"/>
                  <a:ext cx="6120" cy="18360"/>
                </a:xfrm>
                <a:custGeom>
                  <a:avLst/>
                  <a:gdLst/>
                  <a:ahLst/>
                  <a:rect l="l" t="t" r="r" b="b"/>
                  <a:pathLst>
                    <a:path w="12" h="35">
                      <a:moveTo>
                        <a:pt x="0" y="33"/>
                      </a:moveTo>
                      <a:lnTo>
                        <a:pt x="9" y="35"/>
                      </a:lnTo>
                      <a:lnTo>
                        <a:pt x="12" y="2"/>
                      </a:lnTo>
                      <a:lnTo>
                        <a:pt x="3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716960" y="60019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719840" y="5985000"/>
                  <a:ext cx="37080" cy="10800"/>
                </a:xfrm>
                <a:custGeom>
                  <a:avLst/>
                  <a:gdLst/>
                  <a:ahLst/>
                  <a:rect l="l" t="t" r="r" b="b"/>
                  <a:pathLst>
                    <a:path w="72" h="21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71" y="21"/>
                      </a:lnTo>
                      <a:lnTo>
                        <a:pt x="72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718400" y="59850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0"/>
                      </a:lnTo>
                      <a:lnTo>
                        <a:pt x="9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754040" y="5958720"/>
                  <a:ext cx="5760" cy="338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754040" y="59896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4" y="11"/>
                      </a:moveTo>
                      <a:lnTo>
                        <a:pt x="10" y="12"/>
                      </a:lnTo>
                      <a:lnTo>
                        <a:pt x="10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754040" y="59576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6" y="10"/>
                      </a:lnTo>
                      <a:lnTo>
                        <a:pt x="1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275800" y="5132880"/>
                  <a:ext cx="83160" cy="108000"/>
                </a:xfrm>
                <a:custGeom>
                  <a:avLst/>
                  <a:gdLst/>
                  <a:ahLst/>
                  <a:rect l="l" t="t" r="r" b="b"/>
                  <a:pathLst>
                    <a:path w="162" h="210">
                      <a:moveTo>
                        <a:pt x="37" y="0"/>
                      </a:moveTo>
                      <a:lnTo>
                        <a:pt x="46" y="2"/>
                      </a:lnTo>
                      <a:lnTo>
                        <a:pt x="61" y="4"/>
                      </a:lnTo>
                      <a:lnTo>
                        <a:pt x="103" y="15"/>
                      </a:lnTo>
                      <a:lnTo>
                        <a:pt x="162" y="31"/>
                      </a:lnTo>
                      <a:lnTo>
                        <a:pt x="121" y="105"/>
                      </a:lnTo>
                      <a:lnTo>
                        <a:pt x="134" y="126"/>
                      </a:lnTo>
                      <a:lnTo>
                        <a:pt x="119" y="206"/>
                      </a:lnTo>
                      <a:lnTo>
                        <a:pt x="119" y="207"/>
                      </a:lnTo>
                      <a:lnTo>
                        <a:pt x="119" y="209"/>
                      </a:lnTo>
                      <a:lnTo>
                        <a:pt x="117" y="209"/>
                      </a:lnTo>
                      <a:lnTo>
                        <a:pt x="117" y="210"/>
                      </a:lnTo>
                      <a:lnTo>
                        <a:pt x="115" y="210"/>
                      </a:lnTo>
                      <a:lnTo>
                        <a:pt x="112" y="209"/>
                      </a:lnTo>
                      <a:lnTo>
                        <a:pt x="108" y="206"/>
                      </a:lnTo>
                      <a:lnTo>
                        <a:pt x="92" y="197"/>
                      </a:lnTo>
                      <a:lnTo>
                        <a:pt x="71" y="184"/>
                      </a:lnTo>
                      <a:lnTo>
                        <a:pt x="43" y="165"/>
                      </a:lnTo>
                      <a:lnTo>
                        <a:pt x="3" y="156"/>
                      </a:lnTo>
                      <a:lnTo>
                        <a:pt x="0" y="91"/>
                      </a:lnTo>
                      <a:lnTo>
                        <a:pt x="28" y="81"/>
                      </a:lnTo>
                      <a:lnTo>
                        <a:pt x="28" y="69"/>
                      </a:lnTo>
                      <a:lnTo>
                        <a:pt x="29" y="41"/>
                      </a:lnTo>
                      <a:lnTo>
                        <a:pt x="30" y="25"/>
                      </a:lnTo>
                      <a:lnTo>
                        <a:pt x="32" y="12"/>
                      </a:lnTo>
                      <a:lnTo>
                        <a:pt x="33" y="8"/>
                      </a:lnTo>
                      <a:lnTo>
                        <a:pt x="34" y="3"/>
                      </a:lnTo>
                      <a:lnTo>
                        <a:pt x="36" y="2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294160" y="5130000"/>
                  <a:ext cx="64800" cy="21600"/>
                </a:xfrm>
                <a:custGeom>
                  <a:avLst/>
                  <a:gdLst/>
                  <a:ahLst/>
                  <a:rect l="l" t="t" r="r" b="b"/>
                  <a:pathLst>
                    <a:path w="127" h="41">
                      <a:moveTo>
                        <a:pt x="2" y="0"/>
                      </a:moveTo>
                      <a:lnTo>
                        <a:pt x="68" y="15"/>
                      </a:lnTo>
                      <a:lnTo>
                        <a:pt x="127" y="30"/>
                      </a:lnTo>
                      <a:lnTo>
                        <a:pt x="125" y="41"/>
                      </a:lnTo>
                      <a:lnTo>
                        <a:pt x="65" y="25"/>
                      </a:lnTo>
                      <a:lnTo>
                        <a:pt x="0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334480" y="5146920"/>
                  <a:ext cx="25920" cy="40320"/>
                </a:xfrm>
                <a:custGeom>
                  <a:avLst/>
                  <a:gdLst/>
                  <a:ahLst/>
                  <a:rect l="l" t="t" r="r" b="b"/>
                  <a:pathLst>
                    <a:path w="50" h="79">
                      <a:moveTo>
                        <a:pt x="50" y="5"/>
                      </a:moveTo>
                      <a:lnTo>
                        <a:pt x="41" y="0"/>
                      </a:lnTo>
                      <a:lnTo>
                        <a:pt x="0" y="74"/>
                      </a:lnTo>
                      <a:lnTo>
                        <a:pt x="9" y="79"/>
                      </a:lnTo>
                      <a:lnTo>
                        <a:pt x="5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356080" y="514512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6" y="0"/>
                      </a:moveTo>
                      <a:lnTo>
                        <a:pt x="13" y="2"/>
                      </a:lnTo>
                      <a:lnTo>
                        <a:pt x="9" y="8"/>
                      </a:ln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334480" y="5185800"/>
                  <a:ext cx="12240" cy="122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13" y="26"/>
                      </a:lnTo>
                      <a:lnTo>
                        <a:pt x="22" y="2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334480" y="518580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332680" y="5196600"/>
                  <a:ext cx="13680" cy="41400"/>
                </a:xfrm>
                <a:custGeom>
                  <a:avLst/>
                  <a:gdLst/>
                  <a:ahLst/>
                  <a:rect l="l" t="t" r="r" b="b"/>
                  <a:pathLst>
                    <a:path w="27" h="82">
                      <a:moveTo>
                        <a:pt x="27" y="2"/>
                      </a:moveTo>
                      <a:lnTo>
                        <a:pt x="16" y="0"/>
                      </a:lnTo>
                      <a:lnTo>
                        <a:pt x="0" y="81"/>
                      </a:lnTo>
                      <a:lnTo>
                        <a:pt x="11" y="82"/>
                      </a:lnTo>
                      <a:lnTo>
                        <a:pt x="27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342400" y="5196600"/>
                  <a:ext cx="4320" cy="108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9" y="0"/>
                      </a:moveTo>
                      <a:lnTo>
                        <a:pt x="11" y="3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328360" y="5236920"/>
                  <a:ext cx="10800" cy="576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20" y="4"/>
                      </a:moveTo>
                      <a:lnTo>
                        <a:pt x="16" y="11"/>
                      </a:lnTo>
                      <a:lnTo>
                        <a:pt x="8" y="13"/>
                      </a:lnTo>
                      <a:lnTo>
                        <a:pt x="0" y="9"/>
                      </a:lnTo>
                      <a:lnTo>
                        <a:pt x="5" y="0"/>
                      </a:lnTo>
                      <a:lnTo>
                        <a:pt x="12" y="4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32680" y="5238360"/>
                  <a:ext cx="6120" cy="1080"/>
                </a:xfrm>
                <a:custGeom>
                  <a:avLst/>
                  <a:gdLst/>
                  <a:ahLst/>
                  <a:rect l="l" t="t" r="r" b="b"/>
                  <a:pathLst>
                    <a:path w="11" h="1">
                      <a:moveTo>
                        <a:pt x="0" y="0"/>
                      </a:moveTo>
                      <a:lnTo>
                        <a:pt x="1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295600" y="5214960"/>
                  <a:ext cx="35640" cy="26280"/>
                </a:xfrm>
                <a:custGeom>
                  <a:avLst/>
                  <a:gdLst/>
                  <a:ahLst/>
                  <a:rect l="l" t="t" r="r" b="b"/>
                  <a:pathLst>
                    <a:path w="70" h="49">
                      <a:moveTo>
                        <a:pt x="64" y="49"/>
                      </a:move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70" y="41"/>
                      </a:lnTo>
                      <a:lnTo>
                        <a:pt x="64" y="4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328360" y="52369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1" y="9"/>
                      </a:move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275800" y="5210640"/>
                  <a:ext cx="23040" cy="9000"/>
                </a:xfrm>
                <a:custGeom>
                  <a:avLst/>
                  <a:gdLst/>
                  <a:ahLst/>
                  <a:rect l="l" t="t" r="r" b="b"/>
                  <a:pathLst>
                    <a:path w="44" h="18">
                      <a:moveTo>
                        <a:pt x="41" y="18"/>
                      </a:moveTo>
                      <a:lnTo>
                        <a:pt x="44" y="9"/>
                      </a:lnTo>
                      <a:lnTo>
                        <a:pt x="3" y="0"/>
                      </a:lnTo>
                      <a:lnTo>
                        <a:pt x="0" y="9"/>
                      </a:lnTo>
                      <a:lnTo>
                        <a:pt x="41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295600" y="521496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3" y="9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272560" y="5179680"/>
                  <a:ext cx="6120" cy="33840"/>
                </a:xfrm>
                <a:custGeom>
                  <a:avLst/>
                  <a:gdLst/>
                  <a:ahLst/>
                  <a:rect l="l" t="t" r="r" b="b"/>
                  <a:pathLst>
                    <a:path w="12" h="65">
                      <a:moveTo>
                        <a:pt x="2" y="65"/>
                      </a:moveTo>
                      <a:lnTo>
                        <a:pt x="12" y="6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6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274360" y="52106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4" y="9"/>
                      </a:move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274360" y="5171760"/>
                  <a:ext cx="15120" cy="1080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0" y="10"/>
                      </a:moveTo>
                      <a:lnTo>
                        <a:pt x="2" y="21"/>
                      </a:lnTo>
                      <a:lnTo>
                        <a:pt x="30" y="1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272560" y="517644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11"/>
                      </a:lnTo>
                      <a:lnTo>
                        <a:pt x="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286600" y="5130000"/>
                  <a:ext cx="9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85">
                      <a:moveTo>
                        <a:pt x="0" y="85"/>
                      </a:moveTo>
                      <a:lnTo>
                        <a:pt x="2" y="44"/>
                      </a:lnTo>
                      <a:lnTo>
                        <a:pt x="4" y="15"/>
                      </a:lnTo>
                      <a:lnTo>
                        <a:pt x="8" y="4"/>
                      </a:lnTo>
                      <a:lnTo>
                        <a:pt x="11" y="0"/>
                      </a:lnTo>
                      <a:lnTo>
                        <a:pt x="17" y="8"/>
                      </a:lnTo>
                      <a:lnTo>
                        <a:pt x="16" y="11"/>
                      </a:lnTo>
                      <a:lnTo>
                        <a:pt x="14" y="18"/>
                      </a:lnTo>
                      <a:lnTo>
                        <a:pt x="11" y="44"/>
                      </a:lnTo>
                      <a:lnTo>
                        <a:pt x="10" y="85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286600" y="51717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10"/>
                      </a:moveTo>
                      <a:lnTo>
                        <a:pt x="10" y="9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7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292360" y="51300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5" y="1"/>
                      </a:lnTo>
                      <a:lnTo>
                        <a:pt x="3" y="12"/>
                      </a:lnTo>
                      <a:lnTo>
                        <a:pt x="6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171760" y="4438800"/>
                  <a:ext cx="26280" cy="55440"/>
                </a:xfrm>
                <a:custGeom>
                  <a:avLst/>
                  <a:gdLst/>
                  <a:ahLst/>
                  <a:rect l="l" t="t" r="r" b="b"/>
                  <a:pathLst>
                    <a:path w="51" h="109">
                      <a:moveTo>
                        <a:pt x="4" y="0"/>
                      </a:moveTo>
                      <a:lnTo>
                        <a:pt x="51" y="5"/>
                      </a:lnTo>
                      <a:lnTo>
                        <a:pt x="51" y="109"/>
                      </a:lnTo>
                      <a:lnTo>
                        <a:pt x="0" y="10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173560" y="4435560"/>
                  <a:ext cx="24480" cy="756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46" y="16"/>
                      </a:lnTo>
                      <a:lnTo>
                        <a:pt x="48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195520" y="4440600"/>
                  <a:ext cx="4320" cy="54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195520" y="443880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4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171760" y="4491360"/>
                  <a:ext cx="26280" cy="6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195520" y="449136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5"/>
                      </a:move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169240" y="4438800"/>
                  <a:ext cx="5760" cy="55440"/>
                </a:xfrm>
                <a:custGeom>
                  <a:avLst/>
                  <a:gdLst/>
                  <a:ahLst/>
                  <a:rect l="l" t="t" r="r" b="b"/>
                  <a:pathLst>
                    <a:path w="13" h="109">
                      <a:moveTo>
                        <a:pt x="0" y="109"/>
                      </a:moveTo>
                      <a:lnTo>
                        <a:pt x="9" y="109"/>
                      </a:lnTo>
                      <a:lnTo>
                        <a:pt x="13" y="0"/>
                      </a:lnTo>
                      <a:lnTo>
                        <a:pt x="4" y="0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169240" y="449136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170680" y="44355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1"/>
                      </a:lnTo>
                      <a:lnTo>
                        <a:pt x="9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196960" y="4219200"/>
                  <a:ext cx="174240" cy="43200"/>
                </a:xfrm>
                <a:custGeom>
                  <a:avLst/>
                  <a:gdLst/>
                  <a:ahLst/>
                  <a:rect l="l" t="t" r="r" b="b"/>
                  <a:pathLst>
                    <a:path w="340" h="84">
                      <a:moveTo>
                        <a:pt x="5" y="0"/>
                      </a:moveTo>
                      <a:lnTo>
                        <a:pt x="37" y="9"/>
                      </a:lnTo>
                      <a:lnTo>
                        <a:pt x="61" y="15"/>
                      </a:lnTo>
                      <a:lnTo>
                        <a:pt x="69" y="18"/>
                      </a:lnTo>
                      <a:lnTo>
                        <a:pt x="74" y="19"/>
                      </a:lnTo>
                      <a:lnTo>
                        <a:pt x="80" y="21"/>
                      </a:lnTo>
                      <a:lnTo>
                        <a:pt x="92" y="23"/>
                      </a:lnTo>
                      <a:lnTo>
                        <a:pt x="124" y="33"/>
                      </a:lnTo>
                      <a:lnTo>
                        <a:pt x="157" y="42"/>
                      </a:lnTo>
                      <a:lnTo>
                        <a:pt x="169" y="44"/>
                      </a:lnTo>
                      <a:lnTo>
                        <a:pt x="175" y="46"/>
                      </a:lnTo>
                      <a:lnTo>
                        <a:pt x="290" y="46"/>
                      </a:lnTo>
                      <a:lnTo>
                        <a:pt x="301" y="46"/>
                      </a:lnTo>
                      <a:lnTo>
                        <a:pt x="314" y="47"/>
                      </a:lnTo>
                      <a:lnTo>
                        <a:pt x="327" y="48"/>
                      </a:lnTo>
                      <a:lnTo>
                        <a:pt x="340" y="73"/>
                      </a:lnTo>
                      <a:lnTo>
                        <a:pt x="310" y="84"/>
                      </a:lnTo>
                      <a:lnTo>
                        <a:pt x="290" y="63"/>
                      </a:lnTo>
                      <a:lnTo>
                        <a:pt x="224" y="60"/>
                      </a:lnTo>
                      <a:lnTo>
                        <a:pt x="150" y="56"/>
                      </a:lnTo>
                      <a:lnTo>
                        <a:pt x="133" y="54"/>
                      </a:lnTo>
                      <a:lnTo>
                        <a:pt x="104" y="50"/>
                      </a:lnTo>
                      <a:lnTo>
                        <a:pt x="74" y="44"/>
                      </a:lnTo>
                      <a:lnTo>
                        <a:pt x="57" y="41"/>
                      </a:lnTo>
                      <a:lnTo>
                        <a:pt x="0" y="2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198400" y="4214520"/>
                  <a:ext cx="37080" cy="16560"/>
                </a:xfrm>
                <a:custGeom>
                  <a:avLst/>
                  <a:gdLst/>
                  <a:ahLst/>
                  <a:rect l="l" t="t" r="r" b="b"/>
                  <a:pathLst>
                    <a:path w="72" h="32">
                      <a:moveTo>
                        <a:pt x="2" y="0"/>
                      </a:moveTo>
                      <a:lnTo>
                        <a:pt x="35" y="11"/>
                      </a:lnTo>
                      <a:lnTo>
                        <a:pt x="72" y="21"/>
                      </a:lnTo>
                      <a:lnTo>
                        <a:pt x="69" y="32"/>
                      </a:lnTo>
                      <a:lnTo>
                        <a:pt x="33" y="21"/>
                      </a:lnTo>
                      <a:lnTo>
                        <a:pt x="0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234040" y="4225320"/>
                  <a:ext cx="53640" cy="19800"/>
                </a:xfrm>
                <a:custGeom>
                  <a:avLst/>
                  <a:gdLst/>
                  <a:ahLst/>
                  <a:rect l="l" t="t" r="r" b="b"/>
                  <a:pathLst>
                    <a:path w="105" h="37">
                      <a:moveTo>
                        <a:pt x="3" y="0"/>
                      </a:moveTo>
                      <a:lnTo>
                        <a:pt x="53" y="13"/>
                      </a:lnTo>
                      <a:lnTo>
                        <a:pt x="105" y="27"/>
                      </a:lnTo>
                      <a:lnTo>
                        <a:pt x="102" y="37"/>
                      </a:lnTo>
                      <a:lnTo>
                        <a:pt x="51" y="24"/>
                      </a:lnTo>
                      <a:lnTo>
                        <a:pt x="0" y="1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234040" y="4225320"/>
                  <a:ext cx="1080" cy="57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11"/>
                      </a:moveTo>
                      <a:lnTo>
                        <a:pt x="3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286600" y="4239000"/>
                  <a:ext cx="58320" cy="6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286600" y="4239000"/>
                  <a:ext cx="1080" cy="61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345280" y="4239000"/>
                  <a:ext cx="20160" cy="7560"/>
                </a:xfrm>
                <a:custGeom>
                  <a:avLst/>
                  <a:gdLst/>
                  <a:ahLst/>
                  <a:rect l="l" t="t" r="r" b="b"/>
                  <a:pathLst>
                    <a:path w="38" h="13">
                      <a:moveTo>
                        <a:pt x="1" y="0"/>
                      </a:moveTo>
                      <a:lnTo>
                        <a:pt x="38" y="2"/>
                      </a:lnTo>
                      <a:lnTo>
                        <a:pt x="37" y="13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345280" y="423900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362200" y="4242240"/>
                  <a:ext cx="10800" cy="1512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12" y="30"/>
                      </a:lnTo>
                      <a:lnTo>
                        <a:pt x="21" y="2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362200" y="424080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354640" y="425448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35" h="18">
                      <a:moveTo>
                        <a:pt x="35" y="9"/>
                      </a:moveTo>
                      <a:lnTo>
                        <a:pt x="29" y="0"/>
                      </a:lnTo>
                      <a:lnTo>
                        <a:pt x="0" y="9"/>
                      </a:lnTo>
                      <a:lnTo>
                        <a:pt x="5" y="18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368680" y="42544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1"/>
                      </a:moveTo>
                      <a:lnTo>
                        <a:pt x="11" y="7"/>
                      </a:lnTo>
                      <a:lnTo>
                        <a:pt x="8" y="9"/>
                      </a:lnTo>
                      <a:lnTo>
                        <a:pt x="2" y="0"/>
                      </a:lnTo>
                      <a:lnTo>
                        <a:pt x="0" y="6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343840" y="4248720"/>
                  <a:ext cx="13680" cy="15120"/>
                </a:xfrm>
                <a:custGeom>
                  <a:avLst/>
                  <a:gdLst/>
                  <a:ahLst/>
                  <a:rect l="l" t="t" r="r" b="b"/>
                  <a:pathLst>
                    <a:path w="26" h="28">
                      <a:moveTo>
                        <a:pt x="20" y="28"/>
                      </a:moveTo>
                      <a:lnTo>
                        <a:pt x="26" y="20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20" y="2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354640" y="42595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9"/>
                      </a:moveTo>
                      <a:lnTo>
                        <a:pt x="3" y="10"/>
                      </a:ln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274360" y="4245480"/>
                  <a:ext cx="70560" cy="7560"/>
                </a:xfrm>
                <a:custGeom>
                  <a:avLst/>
                  <a:gdLst/>
                  <a:ahLst/>
                  <a:rect l="l" t="t" r="r" b="b"/>
                  <a:pathLst>
                    <a:path w="140" h="16">
                      <a:moveTo>
                        <a:pt x="140" y="16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40" y="7"/>
                      </a:lnTo>
                      <a:lnTo>
                        <a:pt x="140" y="1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343840" y="42487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4" y="9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224680" y="4237560"/>
                  <a:ext cx="49680" cy="12240"/>
                </a:xfrm>
                <a:custGeom>
                  <a:avLst/>
                  <a:gdLst/>
                  <a:ahLst/>
                  <a:rect l="l" t="t" r="r" b="b"/>
                  <a:pathLst>
                    <a:path w="97" h="25">
                      <a:moveTo>
                        <a:pt x="94" y="25"/>
                      </a:moveTo>
                      <a:lnTo>
                        <a:pt x="48" y="18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50" y="9"/>
                      </a:lnTo>
                      <a:lnTo>
                        <a:pt x="97" y="15"/>
                      </a:lnTo>
                      <a:lnTo>
                        <a:pt x="94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272560" y="4245480"/>
                  <a:ext cx="1440" cy="43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1" y="10"/>
                      </a:move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95520" y="4228560"/>
                  <a:ext cx="30600" cy="1332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57" y="27"/>
                      </a:move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61" y="18"/>
                      </a:lnTo>
                      <a:lnTo>
                        <a:pt x="57" y="2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224680" y="4237560"/>
                  <a:ext cx="1440" cy="43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1" y="9"/>
                      </a:moveTo>
                      <a:lnTo>
                        <a:pt x="0" y="9"/>
                      </a:lnTo>
                      <a:lnTo>
                        <a:pt x="4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193720" y="4217760"/>
                  <a:ext cx="6120" cy="1332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0" y="25"/>
                      </a:moveTo>
                      <a:lnTo>
                        <a:pt x="9" y="29"/>
                      </a:lnTo>
                      <a:lnTo>
                        <a:pt x="13" y="4"/>
                      </a:lnTo>
                      <a:lnTo>
                        <a:pt x="4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192280" y="422856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10"/>
                      </a:move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8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195520" y="42145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6" y="1"/>
                      </a:lnTo>
                      <a:lnTo>
                        <a:pt x="4" y="12"/>
                      </a:lnTo>
                      <a:lnTo>
                        <a:pt x="9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705200" y="5253480"/>
                  <a:ext cx="39960" cy="38520"/>
                </a:xfrm>
                <a:custGeom>
                  <a:avLst/>
                  <a:gdLst/>
                  <a:ahLst/>
                  <a:rect l="l" t="t" r="r" b="b"/>
                  <a:pathLst>
                    <a:path w="78" h="75">
                      <a:moveTo>
                        <a:pt x="43" y="1"/>
                      </a:moveTo>
                      <a:lnTo>
                        <a:pt x="78" y="35"/>
                      </a:lnTo>
                      <a:lnTo>
                        <a:pt x="25" y="75"/>
                      </a:lnTo>
                      <a:lnTo>
                        <a:pt x="0" y="42"/>
                      </a:lnTo>
                      <a:lnTo>
                        <a:pt x="39" y="0"/>
                      </a:lnTo>
                      <a:lnTo>
                        <a:pt x="43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725360" y="5252400"/>
                  <a:ext cx="23040" cy="21600"/>
                </a:xfrm>
                <a:custGeom>
                  <a:avLst/>
                  <a:gdLst/>
                  <a:ahLst/>
                  <a:rect l="l" t="t" r="r" b="b"/>
                  <a:pathLst>
                    <a:path w="43" h="41">
                      <a:moveTo>
                        <a:pt x="8" y="0"/>
                      </a:moveTo>
                      <a:lnTo>
                        <a:pt x="0" y="7"/>
                      </a:lnTo>
                      <a:lnTo>
                        <a:pt x="35" y="41"/>
                      </a:lnTo>
                      <a:lnTo>
                        <a:pt x="43" y="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716000" y="526896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59" h="48">
                      <a:moveTo>
                        <a:pt x="59" y="8"/>
                      </a:moveTo>
                      <a:lnTo>
                        <a:pt x="53" y="0"/>
                      </a:lnTo>
                      <a:lnTo>
                        <a:pt x="0" y="40"/>
                      </a:lnTo>
                      <a:lnTo>
                        <a:pt x="6" y="48"/>
                      </a:lnTo>
                      <a:lnTo>
                        <a:pt x="59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743720" y="52689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8" y="2"/>
                      </a:moveTo>
                      <a:lnTo>
                        <a:pt x="10" y="4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703400" y="5274000"/>
                  <a:ext cx="16920" cy="19800"/>
                </a:xfrm>
                <a:custGeom>
                  <a:avLst/>
                  <a:gdLst/>
                  <a:ahLst/>
                  <a:rect l="l" t="t" r="r" b="b"/>
                  <a:pathLst>
                    <a:path w="33" h="40">
                      <a:moveTo>
                        <a:pt x="25" y="40"/>
                      </a:moveTo>
                      <a:lnTo>
                        <a:pt x="33" y="33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25" y="4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716000" y="528948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6" y="8"/>
                      </a:move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8" y="1"/>
                      </a:lnTo>
                      <a:lnTo>
                        <a:pt x="0" y="0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703400" y="5250600"/>
                  <a:ext cx="23040" cy="262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0" y="42"/>
                      </a:moveTo>
                      <a:lnTo>
                        <a:pt x="6" y="50"/>
                      </a:lnTo>
                      <a:lnTo>
                        <a:pt x="46" y="8"/>
                      </a:lnTo>
                      <a:lnTo>
                        <a:pt x="39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702320" y="5272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8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9" y="8"/>
                      </a:lnTo>
                      <a:lnTo>
                        <a:pt x="11" y="1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25360" y="52506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3" y="0"/>
                      </a:moveTo>
                      <a:lnTo>
                        <a:pt x="0" y="11"/>
                      </a:lnTo>
                      <a:lnTo>
                        <a:pt x="4" y="12"/>
                      </a:lnTo>
                      <a:lnTo>
                        <a:pt x="7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723920" y="5249160"/>
                  <a:ext cx="2520" cy="61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3" y="12"/>
                      </a:lnTo>
                      <a:lnTo>
                        <a:pt x="7" y="1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725360" y="52506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6" y="0"/>
                      </a:moveTo>
                      <a:lnTo>
                        <a:pt x="8" y="2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19680" y="3606840"/>
                  <a:ext cx="46080" cy="33840"/>
                </a:xfrm>
                <a:custGeom>
                  <a:avLst/>
                  <a:gdLst/>
                  <a:ahLst/>
                  <a:rect l="l" t="t" r="r" b="b"/>
                  <a:pathLst>
                    <a:path w="89" h="66">
                      <a:moveTo>
                        <a:pt x="89" y="20"/>
                      </a:moveTo>
                      <a:lnTo>
                        <a:pt x="86" y="24"/>
                      </a:lnTo>
                      <a:lnTo>
                        <a:pt x="81" y="30"/>
                      </a:lnTo>
                      <a:lnTo>
                        <a:pt x="68" y="46"/>
                      </a:lnTo>
                      <a:lnTo>
                        <a:pt x="53" y="61"/>
                      </a:lnTo>
                      <a:lnTo>
                        <a:pt x="48" y="66"/>
                      </a:lnTo>
                      <a:lnTo>
                        <a:pt x="0" y="45"/>
                      </a:lnTo>
                      <a:lnTo>
                        <a:pt x="35" y="0"/>
                      </a:lnTo>
                      <a:lnTo>
                        <a:pt x="44" y="1"/>
                      </a:lnTo>
                      <a:lnTo>
                        <a:pt x="62" y="5"/>
                      </a:lnTo>
                      <a:lnTo>
                        <a:pt x="73" y="9"/>
                      </a:lnTo>
                      <a:lnTo>
                        <a:pt x="77" y="11"/>
                      </a:lnTo>
                      <a:lnTo>
                        <a:pt x="81" y="12"/>
                      </a:lnTo>
                      <a:lnTo>
                        <a:pt x="85" y="13"/>
                      </a:lnTo>
                      <a:lnTo>
                        <a:pt x="87" y="16"/>
                      </a:lnTo>
                      <a:lnTo>
                        <a:pt x="89" y="17"/>
                      </a:lnTo>
                      <a:lnTo>
                        <a:pt x="89" y="2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40920" y="36158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50" h="54">
                      <a:moveTo>
                        <a:pt x="50" y="5"/>
                      </a:moveTo>
                      <a:lnTo>
                        <a:pt x="42" y="18"/>
                      </a:lnTo>
                      <a:lnTo>
                        <a:pt x="29" y="34"/>
                      </a:lnTo>
                      <a:lnTo>
                        <a:pt x="8" y="54"/>
                      </a:lnTo>
                      <a:lnTo>
                        <a:pt x="0" y="47"/>
                      </a:lnTo>
                      <a:lnTo>
                        <a:pt x="21" y="28"/>
                      </a:lnTo>
                      <a:lnTo>
                        <a:pt x="34" y="12"/>
                      </a:lnTo>
                      <a:lnTo>
                        <a:pt x="40" y="0"/>
                      </a:lnTo>
                      <a:lnTo>
                        <a:pt x="5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17880" y="3628440"/>
                  <a:ext cx="26280" cy="15120"/>
                </a:xfrm>
                <a:custGeom>
                  <a:avLst/>
                  <a:gdLst/>
                  <a:ahLst/>
                  <a:rect l="l" t="t" r="r" b="b"/>
                  <a:pathLst>
                    <a:path w="51" h="30">
                      <a:moveTo>
                        <a:pt x="46" y="30"/>
                      </a:moveTo>
                      <a:lnTo>
                        <a:pt x="51" y="21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46" y="3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0920" y="36392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8"/>
                      </a:moveTo>
                      <a:lnTo>
                        <a:pt x="5" y="11"/>
                      </a:lnTo>
                      <a:lnTo>
                        <a:pt x="1" y="9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17880" y="3605040"/>
                  <a:ext cx="21600" cy="27720"/>
                </a:xfrm>
                <a:custGeom>
                  <a:avLst/>
                  <a:gdLst/>
                  <a:ahLst/>
                  <a:rect l="l" t="t" r="r" b="b"/>
                  <a:pathLst>
                    <a:path w="43" h="52">
                      <a:moveTo>
                        <a:pt x="0" y="45"/>
                      </a:moveTo>
                      <a:lnTo>
                        <a:pt x="8" y="52"/>
                      </a:lnTo>
                      <a:lnTo>
                        <a:pt x="43" y="7"/>
                      </a:lnTo>
                      <a:lnTo>
                        <a:pt x="35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14640" y="3628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7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1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36240" y="360504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3" y="0"/>
                      </a:moveTo>
                      <a:lnTo>
                        <a:pt x="31" y="5"/>
                      </a:lnTo>
                      <a:lnTo>
                        <a:pt x="50" y="13"/>
                      </a:lnTo>
                      <a:lnTo>
                        <a:pt x="57" y="17"/>
                      </a:lnTo>
                      <a:lnTo>
                        <a:pt x="61" y="21"/>
                      </a:lnTo>
                      <a:lnTo>
                        <a:pt x="61" y="24"/>
                      </a:lnTo>
                      <a:lnTo>
                        <a:pt x="50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45" y="22"/>
                      </a:lnTo>
                      <a:lnTo>
                        <a:pt x="28" y="16"/>
                      </a:lnTo>
                      <a:lnTo>
                        <a:pt x="0" y="1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34800" y="36050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2" y="10"/>
                      </a:lnTo>
                      <a:lnTo>
                        <a:pt x="8" y="9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62520" y="361584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11" y="3"/>
                      </a:moveTo>
                      <a:lnTo>
                        <a:pt x="10" y="5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676120" y="365616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79" h="55">
                      <a:moveTo>
                        <a:pt x="0" y="0"/>
                      </a:moveTo>
                      <a:lnTo>
                        <a:pt x="79" y="7"/>
                      </a:lnTo>
                      <a:lnTo>
                        <a:pt x="77" y="53"/>
                      </a:lnTo>
                      <a:lnTo>
                        <a:pt x="11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676120" y="3653280"/>
                  <a:ext cx="41400" cy="9360"/>
                </a:xfrm>
                <a:custGeom>
                  <a:avLst/>
                  <a:gdLst/>
                  <a:ahLst/>
                  <a:rect l="l" t="t" r="r" b="b"/>
                  <a:pathLst>
                    <a:path w="80" h="17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79" y="17"/>
                      </a:lnTo>
                      <a:lnTo>
                        <a:pt x="80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13200" y="3659400"/>
                  <a:ext cx="7560" cy="24480"/>
                </a:xfrm>
                <a:custGeom>
                  <a:avLst/>
                  <a:gdLst/>
                  <a:ahLst/>
                  <a:rect l="l" t="t" r="r" b="b"/>
                  <a:pathLst>
                    <a:path w="13" h="46">
                      <a:moveTo>
                        <a:pt x="13" y="0"/>
                      </a:moveTo>
                      <a:lnTo>
                        <a:pt x="2" y="0"/>
                      </a:lnTo>
                      <a:lnTo>
                        <a:pt x="0" y="46"/>
                      </a:lnTo>
                      <a:lnTo>
                        <a:pt x="10" y="46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14640" y="365616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11" y="0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682240" y="3681000"/>
                  <a:ext cx="33840" cy="6120"/>
                </a:xfrm>
                <a:custGeom>
                  <a:avLst/>
                  <a:gdLst/>
                  <a:ahLst/>
                  <a:rect l="l" t="t" r="r" b="b"/>
                  <a:pathLst>
                    <a:path w="66" h="12">
                      <a:moveTo>
                        <a:pt x="66" y="9"/>
                      </a:moveTo>
                      <a:lnTo>
                        <a:pt x="66" y="0"/>
                      </a:lnTo>
                      <a:lnTo>
                        <a:pt x="0" y="2"/>
                      </a:lnTo>
                      <a:lnTo>
                        <a:pt x="0" y="12"/>
                      </a:lnTo>
                      <a:lnTo>
                        <a:pt x="6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13200" y="36810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10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674680" y="3656160"/>
                  <a:ext cx="9000" cy="29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1" y="58"/>
                      </a:moveTo>
                      <a:lnTo>
                        <a:pt x="20" y="55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679360" y="36824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672880" y="36532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5" y="10"/>
                      </a:lnTo>
                      <a:lnTo>
                        <a:pt x="1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039360" y="3515760"/>
                  <a:ext cx="15120" cy="95400"/>
                </a:xfrm>
                <a:custGeom>
                  <a:avLst/>
                  <a:gdLst/>
                  <a:ahLst/>
                  <a:rect l="l" t="t" r="r" b="b"/>
                  <a:pathLst>
                    <a:path w="31" h="188">
                      <a:moveTo>
                        <a:pt x="0" y="0"/>
                      </a:moveTo>
                      <a:lnTo>
                        <a:pt x="31" y="9"/>
                      </a:lnTo>
                      <a:lnTo>
                        <a:pt x="31" y="188"/>
                      </a:lnTo>
                      <a:lnTo>
                        <a:pt x="6" y="18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046000" y="3271320"/>
                  <a:ext cx="47880" cy="24480"/>
                </a:xfrm>
                <a:custGeom>
                  <a:avLst/>
                  <a:gdLst/>
                  <a:ahLst/>
                  <a:rect l="l" t="t" r="r" b="b"/>
                  <a:pathLst>
                    <a:path w="92" h="48">
                      <a:moveTo>
                        <a:pt x="92" y="48"/>
                      </a:moveTo>
                      <a:lnTo>
                        <a:pt x="73" y="37"/>
                      </a:lnTo>
                      <a:lnTo>
                        <a:pt x="66" y="32"/>
                      </a:lnTo>
                      <a:lnTo>
                        <a:pt x="56" y="27"/>
                      </a:lnTo>
                      <a:lnTo>
                        <a:pt x="39" y="13"/>
                      </a:lnTo>
                      <a:lnTo>
                        <a:pt x="22" y="0"/>
                      </a:lnTo>
                      <a:lnTo>
                        <a:pt x="10" y="23"/>
                      </a:lnTo>
                      <a:lnTo>
                        <a:pt x="0" y="45"/>
                      </a:lnTo>
                      <a:lnTo>
                        <a:pt x="92" y="4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079760" y="2720880"/>
                  <a:ext cx="1590840" cy="1934640"/>
                </a:xfrm>
                <a:custGeom>
                  <a:avLst/>
                  <a:gdLst/>
                  <a:ahLst/>
                  <a:rect l="l" t="t" r="r" b="b"/>
                  <a:pathLst>
                    <a:path w="3089" h="3752">
                      <a:moveTo>
                        <a:pt x="1711" y="872"/>
                      </a:moveTo>
                      <a:lnTo>
                        <a:pt x="1711" y="862"/>
                      </a:lnTo>
                      <a:lnTo>
                        <a:pt x="1712" y="851"/>
                      </a:lnTo>
                      <a:lnTo>
                        <a:pt x="1713" y="842"/>
                      </a:lnTo>
                      <a:lnTo>
                        <a:pt x="1716" y="834"/>
                      </a:lnTo>
                      <a:lnTo>
                        <a:pt x="1719" y="825"/>
                      </a:lnTo>
                      <a:lnTo>
                        <a:pt x="1723" y="817"/>
                      </a:lnTo>
                      <a:lnTo>
                        <a:pt x="1727" y="809"/>
                      </a:lnTo>
                      <a:lnTo>
                        <a:pt x="1731" y="801"/>
                      </a:lnTo>
                      <a:lnTo>
                        <a:pt x="1741" y="785"/>
                      </a:lnTo>
                      <a:lnTo>
                        <a:pt x="1752" y="771"/>
                      </a:lnTo>
                      <a:lnTo>
                        <a:pt x="1777" y="739"/>
                      </a:lnTo>
                      <a:lnTo>
                        <a:pt x="1782" y="732"/>
                      </a:lnTo>
                      <a:lnTo>
                        <a:pt x="1786" y="726"/>
                      </a:lnTo>
                      <a:lnTo>
                        <a:pt x="1791" y="711"/>
                      </a:lnTo>
                      <a:lnTo>
                        <a:pt x="1802" y="682"/>
                      </a:lnTo>
                      <a:lnTo>
                        <a:pt x="1807" y="670"/>
                      </a:lnTo>
                      <a:lnTo>
                        <a:pt x="1811" y="665"/>
                      </a:lnTo>
                      <a:lnTo>
                        <a:pt x="1815" y="660"/>
                      </a:lnTo>
                      <a:lnTo>
                        <a:pt x="1820" y="656"/>
                      </a:lnTo>
                      <a:lnTo>
                        <a:pt x="1826" y="653"/>
                      </a:lnTo>
                      <a:lnTo>
                        <a:pt x="1831" y="652"/>
                      </a:lnTo>
                      <a:lnTo>
                        <a:pt x="1839" y="651"/>
                      </a:lnTo>
                      <a:lnTo>
                        <a:pt x="1844" y="652"/>
                      </a:lnTo>
                      <a:lnTo>
                        <a:pt x="1849" y="653"/>
                      </a:lnTo>
                      <a:lnTo>
                        <a:pt x="1855" y="655"/>
                      </a:lnTo>
                      <a:lnTo>
                        <a:pt x="1858" y="657"/>
                      </a:lnTo>
                      <a:lnTo>
                        <a:pt x="1868" y="661"/>
                      </a:lnTo>
                      <a:lnTo>
                        <a:pt x="1873" y="662"/>
                      </a:lnTo>
                      <a:lnTo>
                        <a:pt x="1878" y="664"/>
                      </a:lnTo>
                      <a:lnTo>
                        <a:pt x="1884" y="662"/>
                      </a:lnTo>
                      <a:lnTo>
                        <a:pt x="1888" y="661"/>
                      </a:lnTo>
                      <a:lnTo>
                        <a:pt x="1890" y="659"/>
                      </a:lnTo>
                      <a:lnTo>
                        <a:pt x="1894" y="656"/>
                      </a:lnTo>
                      <a:lnTo>
                        <a:pt x="1899" y="648"/>
                      </a:lnTo>
                      <a:lnTo>
                        <a:pt x="1903" y="640"/>
                      </a:lnTo>
                      <a:lnTo>
                        <a:pt x="1909" y="631"/>
                      </a:lnTo>
                      <a:lnTo>
                        <a:pt x="1914" y="623"/>
                      </a:lnTo>
                      <a:lnTo>
                        <a:pt x="1917" y="620"/>
                      </a:lnTo>
                      <a:lnTo>
                        <a:pt x="1920" y="618"/>
                      </a:lnTo>
                      <a:lnTo>
                        <a:pt x="1924" y="616"/>
                      </a:lnTo>
                      <a:lnTo>
                        <a:pt x="1930" y="616"/>
                      </a:lnTo>
                      <a:lnTo>
                        <a:pt x="1964" y="616"/>
                      </a:lnTo>
                      <a:lnTo>
                        <a:pt x="1961" y="628"/>
                      </a:lnTo>
                      <a:lnTo>
                        <a:pt x="1961" y="639"/>
                      </a:lnTo>
                      <a:lnTo>
                        <a:pt x="1964" y="659"/>
                      </a:lnTo>
                      <a:lnTo>
                        <a:pt x="1964" y="669"/>
                      </a:lnTo>
                      <a:lnTo>
                        <a:pt x="1965" y="680"/>
                      </a:lnTo>
                      <a:lnTo>
                        <a:pt x="1965" y="690"/>
                      </a:lnTo>
                      <a:lnTo>
                        <a:pt x="1964" y="695"/>
                      </a:lnTo>
                      <a:lnTo>
                        <a:pt x="1964" y="702"/>
                      </a:lnTo>
                      <a:lnTo>
                        <a:pt x="1980" y="707"/>
                      </a:lnTo>
                      <a:lnTo>
                        <a:pt x="1984" y="699"/>
                      </a:lnTo>
                      <a:lnTo>
                        <a:pt x="1985" y="697"/>
                      </a:lnTo>
                      <a:lnTo>
                        <a:pt x="1986" y="693"/>
                      </a:lnTo>
                      <a:lnTo>
                        <a:pt x="1986" y="645"/>
                      </a:lnTo>
                      <a:lnTo>
                        <a:pt x="1986" y="643"/>
                      </a:lnTo>
                      <a:lnTo>
                        <a:pt x="1988" y="639"/>
                      </a:lnTo>
                      <a:lnTo>
                        <a:pt x="1989" y="636"/>
                      </a:lnTo>
                      <a:lnTo>
                        <a:pt x="1992" y="633"/>
                      </a:lnTo>
                      <a:lnTo>
                        <a:pt x="1997" y="629"/>
                      </a:lnTo>
                      <a:lnTo>
                        <a:pt x="2001" y="628"/>
                      </a:lnTo>
                      <a:lnTo>
                        <a:pt x="2004" y="627"/>
                      </a:lnTo>
                      <a:lnTo>
                        <a:pt x="2004" y="698"/>
                      </a:lnTo>
                      <a:lnTo>
                        <a:pt x="2015" y="703"/>
                      </a:lnTo>
                      <a:lnTo>
                        <a:pt x="2021" y="706"/>
                      </a:lnTo>
                      <a:lnTo>
                        <a:pt x="2026" y="707"/>
                      </a:lnTo>
                      <a:lnTo>
                        <a:pt x="2029" y="703"/>
                      </a:lnTo>
                      <a:lnTo>
                        <a:pt x="2029" y="699"/>
                      </a:lnTo>
                      <a:lnTo>
                        <a:pt x="2030" y="691"/>
                      </a:lnTo>
                      <a:lnTo>
                        <a:pt x="2030" y="676"/>
                      </a:lnTo>
                      <a:lnTo>
                        <a:pt x="2030" y="669"/>
                      </a:lnTo>
                      <a:lnTo>
                        <a:pt x="2031" y="661"/>
                      </a:lnTo>
                      <a:lnTo>
                        <a:pt x="2034" y="655"/>
                      </a:lnTo>
                      <a:lnTo>
                        <a:pt x="2037" y="648"/>
                      </a:lnTo>
                      <a:lnTo>
                        <a:pt x="2039" y="644"/>
                      </a:lnTo>
                      <a:lnTo>
                        <a:pt x="2043" y="641"/>
                      </a:lnTo>
                      <a:lnTo>
                        <a:pt x="2050" y="636"/>
                      </a:lnTo>
                      <a:lnTo>
                        <a:pt x="2056" y="633"/>
                      </a:lnTo>
                      <a:lnTo>
                        <a:pt x="2064" y="631"/>
                      </a:lnTo>
                      <a:lnTo>
                        <a:pt x="2072" y="628"/>
                      </a:lnTo>
                      <a:lnTo>
                        <a:pt x="2081" y="627"/>
                      </a:lnTo>
                      <a:lnTo>
                        <a:pt x="2099" y="624"/>
                      </a:lnTo>
                      <a:lnTo>
                        <a:pt x="2114" y="623"/>
                      </a:lnTo>
                      <a:lnTo>
                        <a:pt x="2121" y="620"/>
                      </a:lnTo>
                      <a:lnTo>
                        <a:pt x="2126" y="618"/>
                      </a:lnTo>
                      <a:lnTo>
                        <a:pt x="2131" y="614"/>
                      </a:lnTo>
                      <a:lnTo>
                        <a:pt x="2134" y="612"/>
                      </a:lnTo>
                      <a:lnTo>
                        <a:pt x="2135" y="610"/>
                      </a:lnTo>
                      <a:lnTo>
                        <a:pt x="2137" y="607"/>
                      </a:lnTo>
                      <a:lnTo>
                        <a:pt x="2138" y="603"/>
                      </a:lnTo>
                      <a:lnTo>
                        <a:pt x="2139" y="599"/>
                      </a:lnTo>
                      <a:lnTo>
                        <a:pt x="2139" y="595"/>
                      </a:lnTo>
                      <a:lnTo>
                        <a:pt x="2139" y="512"/>
                      </a:lnTo>
                      <a:lnTo>
                        <a:pt x="2126" y="511"/>
                      </a:lnTo>
                      <a:lnTo>
                        <a:pt x="2120" y="509"/>
                      </a:lnTo>
                      <a:lnTo>
                        <a:pt x="2114" y="508"/>
                      </a:lnTo>
                      <a:lnTo>
                        <a:pt x="2102" y="504"/>
                      </a:lnTo>
                      <a:lnTo>
                        <a:pt x="2092" y="498"/>
                      </a:lnTo>
                      <a:lnTo>
                        <a:pt x="2088" y="494"/>
                      </a:lnTo>
                      <a:lnTo>
                        <a:pt x="2085" y="491"/>
                      </a:lnTo>
                      <a:lnTo>
                        <a:pt x="2084" y="490"/>
                      </a:lnTo>
                      <a:lnTo>
                        <a:pt x="2080" y="484"/>
                      </a:lnTo>
                      <a:lnTo>
                        <a:pt x="2077" y="480"/>
                      </a:lnTo>
                      <a:lnTo>
                        <a:pt x="2075" y="475"/>
                      </a:lnTo>
                      <a:lnTo>
                        <a:pt x="2072" y="469"/>
                      </a:lnTo>
                      <a:lnTo>
                        <a:pt x="2071" y="463"/>
                      </a:lnTo>
                      <a:lnTo>
                        <a:pt x="2071" y="457"/>
                      </a:lnTo>
                      <a:lnTo>
                        <a:pt x="1982" y="457"/>
                      </a:lnTo>
                      <a:lnTo>
                        <a:pt x="1980" y="448"/>
                      </a:lnTo>
                      <a:lnTo>
                        <a:pt x="1980" y="444"/>
                      </a:lnTo>
                      <a:lnTo>
                        <a:pt x="1980" y="438"/>
                      </a:lnTo>
                      <a:lnTo>
                        <a:pt x="1980" y="433"/>
                      </a:lnTo>
                      <a:lnTo>
                        <a:pt x="1980" y="429"/>
                      </a:lnTo>
                      <a:lnTo>
                        <a:pt x="1982" y="426"/>
                      </a:lnTo>
                      <a:lnTo>
                        <a:pt x="1984" y="422"/>
                      </a:lnTo>
                      <a:lnTo>
                        <a:pt x="1988" y="417"/>
                      </a:lnTo>
                      <a:lnTo>
                        <a:pt x="1993" y="411"/>
                      </a:lnTo>
                      <a:lnTo>
                        <a:pt x="1998" y="405"/>
                      </a:lnTo>
                      <a:lnTo>
                        <a:pt x="2004" y="399"/>
                      </a:lnTo>
                      <a:lnTo>
                        <a:pt x="2006" y="392"/>
                      </a:lnTo>
                      <a:lnTo>
                        <a:pt x="2008" y="388"/>
                      </a:lnTo>
                      <a:lnTo>
                        <a:pt x="2008" y="384"/>
                      </a:lnTo>
                      <a:lnTo>
                        <a:pt x="2006" y="378"/>
                      </a:lnTo>
                      <a:lnTo>
                        <a:pt x="2006" y="374"/>
                      </a:lnTo>
                      <a:lnTo>
                        <a:pt x="2005" y="371"/>
                      </a:lnTo>
                      <a:lnTo>
                        <a:pt x="2004" y="368"/>
                      </a:lnTo>
                      <a:lnTo>
                        <a:pt x="2002" y="364"/>
                      </a:lnTo>
                      <a:lnTo>
                        <a:pt x="2000" y="362"/>
                      </a:lnTo>
                      <a:lnTo>
                        <a:pt x="1998" y="360"/>
                      </a:lnTo>
                      <a:lnTo>
                        <a:pt x="1993" y="355"/>
                      </a:lnTo>
                      <a:lnTo>
                        <a:pt x="1988" y="351"/>
                      </a:lnTo>
                      <a:lnTo>
                        <a:pt x="1976" y="343"/>
                      </a:lnTo>
                      <a:lnTo>
                        <a:pt x="1976" y="325"/>
                      </a:lnTo>
                      <a:lnTo>
                        <a:pt x="2010" y="325"/>
                      </a:lnTo>
                      <a:lnTo>
                        <a:pt x="2017" y="326"/>
                      </a:lnTo>
                      <a:lnTo>
                        <a:pt x="2023" y="329"/>
                      </a:lnTo>
                      <a:lnTo>
                        <a:pt x="2030" y="331"/>
                      </a:lnTo>
                      <a:lnTo>
                        <a:pt x="2037" y="333"/>
                      </a:lnTo>
                      <a:lnTo>
                        <a:pt x="2043" y="331"/>
                      </a:lnTo>
                      <a:lnTo>
                        <a:pt x="2048" y="331"/>
                      </a:lnTo>
                      <a:lnTo>
                        <a:pt x="2052" y="330"/>
                      </a:lnTo>
                      <a:lnTo>
                        <a:pt x="2058" y="327"/>
                      </a:lnTo>
                      <a:lnTo>
                        <a:pt x="2062" y="325"/>
                      </a:lnTo>
                      <a:lnTo>
                        <a:pt x="2067" y="322"/>
                      </a:lnTo>
                      <a:lnTo>
                        <a:pt x="2073" y="314"/>
                      </a:lnTo>
                      <a:lnTo>
                        <a:pt x="2077" y="310"/>
                      </a:lnTo>
                      <a:lnTo>
                        <a:pt x="2080" y="306"/>
                      </a:lnTo>
                      <a:lnTo>
                        <a:pt x="2084" y="296"/>
                      </a:lnTo>
                      <a:lnTo>
                        <a:pt x="2085" y="291"/>
                      </a:lnTo>
                      <a:lnTo>
                        <a:pt x="2087" y="285"/>
                      </a:lnTo>
                      <a:lnTo>
                        <a:pt x="2088" y="280"/>
                      </a:lnTo>
                      <a:lnTo>
                        <a:pt x="2088" y="275"/>
                      </a:lnTo>
                      <a:lnTo>
                        <a:pt x="2087" y="264"/>
                      </a:lnTo>
                      <a:lnTo>
                        <a:pt x="2084" y="254"/>
                      </a:lnTo>
                      <a:lnTo>
                        <a:pt x="2080" y="244"/>
                      </a:lnTo>
                      <a:lnTo>
                        <a:pt x="2077" y="239"/>
                      </a:lnTo>
                      <a:lnTo>
                        <a:pt x="2075" y="235"/>
                      </a:lnTo>
                      <a:lnTo>
                        <a:pt x="2067" y="229"/>
                      </a:lnTo>
                      <a:lnTo>
                        <a:pt x="2063" y="226"/>
                      </a:lnTo>
                      <a:lnTo>
                        <a:pt x="2059" y="223"/>
                      </a:lnTo>
                      <a:lnTo>
                        <a:pt x="2054" y="221"/>
                      </a:lnTo>
                      <a:lnTo>
                        <a:pt x="2050" y="219"/>
                      </a:lnTo>
                      <a:lnTo>
                        <a:pt x="2044" y="218"/>
                      </a:lnTo>
                      <a:lnTo>
                        <a:pt x="2039" y="218"/>
                      </a:lnTo>
                      <a:lnTo>
                        <a:pt x="2033" y="219"/>
                      </a:lnTo>
                      <a:lnTo>
                        <a:pt x="2026" y="221"/>
                      </a:lnTo>
                      <a:lnTo>
                        <a:pt x="2021" y="223"/>
                      </a:lnTo>
                      <a:lnTo>
                        <a:pt x="2015" y="226"/>
                      </a:lnTo>
                      <a:lnTo>
                        <a:pt x="2010" y="229"/>
                      </a:lnTo>
                      <a:lnTo>
                        <a:pt x="2005" y="231"/>
                      </a:lnTo>
                      <a:lnTo>
                        <a:pt x="1998" y="234"/>
                      </a:lnTo>
                      <a:lnTo>
                        <a:pt x="1992" y="234"/>
                      </a:lnTo>
                      <a:lnTo>
                        <a:pt x="1986" y="234"/>
                      </a:lnTo>
                      <a:lnTo>
                        <a:pt x="1982" y="233"/>
                      </a:lnTo>
                      <a:lnTo>
                        <a:pt x="1979" y="230"/>
                      </a:lnTo>
                      <a:lnTo>
                        <a:pt x="1976" y="227"/>
                      </a:lnTo>
                      <a:lnTo>
                        <a:pt x="1973" y="223"/>
                      </a:lnTo>
                      <a:lnTo>
                        <a:pt x="1972" y="219"/>
                      </a:lnTo>
                      <a:lnTo>
                        <a:pt x="1969" y="209"/>
                      </a:lnTo>
                      <a:lnTo>
                        <a:pt x="1965" y="186"/>
                      </a:lnTo>
                      <a:lnTo>
                        <a:pt x="1964" y="175"/>
                      </a:lnTo>
                      <a:lnTo>
                        <a:pt x="1961" y="169"/>
                      </a:lnTo>
                      <a:lnTo>
                        <a:pt x="1960" y="164"/>
                      </a:lnTo>
                      <a:lnTo>
                        <a:pt x="1957" y="160"/>
                      </a:lnTo>
                      <a:lnTo>
                        <a:pt x="1955" y="156"/>
                      </a:lnTo>
                      <a:lnTo>
                        <a:pt x="1952" y="152"/>
                      </a:lnTo>
                      <a:lnTo>
                        <a:pt x="1949" y="148"/>
                      </a:lnTo>
                      <a:lnTo>
                        <a:pt x="1938" y="136"/>
                      </a:lnTo>
                      <a:lnTo>
                        <a:pt x="1932" y="131"/>
                      </a:lnTo>
                      <a:lnTo>
                        <a:pt x="1927" y="124"/>
                      </a:lnTo>
                      <a:lnTo>
                        <a:pt x="1926" y="120"/>
                      </a:lnTo>
                      <a:lnTo>
                        <a:pt x="1924" y="116"/>
                      </a:lnTo>
                      <a:lnTo>
                        <a:pt x="1923" y="113"/>
                      </a:lnTo>
                      <a:lnTo>
                        <a:pt x="1923" y="107"/>
                      </a:lnTo>
                      <a:lnTo>
                        <a:pt x="1923" y="105"/>
                      </a:lnTo>
                      <a:lnTo>
                        <a:pt x="1924" y="102"/>
                      </a:lnTo>
                      <a:lnTo>
                        <a:pt x="1927" y="97"/>
                      </a:lnTo>
                      <a:lnTo>
                        <a:pt x="1928" y="94"/>
                      </a:lnTo>
                      <a:lnTo>
                        <a:pt x="1931" y="93"/>
                      </a:lnTo>
                      <a:lnTo>
                        <a:pt x="1935" y="89"/>
                      </a:lnTo>
                      <a:lnTo>
                        <a:pt x="1949" y="93"/>
                      </a:lnTo>
                      <a:lnTo>
                        <a:pt x="1963" y="95"/>
                      </a:lnTo>
                      <a:lnTo>
                        <a:pt x="1988" y="101"/>
                      </a:lnTo>
                      <a:lnTo>
                        <a:pt x="2001" y="103"/>
                      </a:lnTo>
                      <a:lnTo>
                        <a:pt x="2013" y="107"/>
                      </a:lnTo>
                      <a:lnTo>
                        <a:pt x="2025" y="113"/>
                      </a:lnTo>
                      <a:lnTo>
                        <a:pt x="2031" y="116"/>
                      </a:lnTo>
                      <a:lnTo>
                        <a:pt x="2037" y="120"/>
                      </a:lnTo>
                      <a:lnTo>
                        <a:pt x="2042" y="123"/>
                      </a:lnTo>
                      <a:lnTo>
                        <a:pt x="2044" y="126"/>
                      </a:lnTo>
                      <a:lnTo>
                        <a:pt x="2051" y="134"/>
                      </a:lnTo>
                      <a:lnTo>
                        <a:pt x="2056" y="142"/>
                      </a:lnTo>
                      <a:lnTo>
                        <a:pt x="2062" y="149"/>
                      </a:lnTo>
                      <a:lnTo>
                        <a:pt x="2066" y="156"/>
                      </a:lnTo>
                      <a:lnTo>
                        <a:pt x="2068" y="159"/>
                      </a:lnTo>
                      <a:lnTo>
                        <a:pt x="2072" y="161"/>
                      </a:lnTo>
                      <a:lnTo>
                        <a:pt x="2075" y="164"/>
                      </a:lnTo>
                      <a:lnTo>
                        <a:pt x="2079" y="165"/>
                      </a:lnTo>
                      <a:lnTo>
                        <a:pt x="2083" y="167"/>
                      </a:lnTo>
                      <a:lnTo>
                        <a:pt x="2088" y="168"/>
                      </a:lnTo>
                      <a:lnTo>
                        <a:pt x="2092" y="167"/>
                      </a:lnTo>
                      <a:lnTo>
                        <a:pt x="2095" y="165"/>
                      </a:lnTo>
                      <a:lnTo>
                        <a:pt x="2097" y="164"/>
                      </a:lnTo>
                      <a:lnTo>
                        <a:pt x="2100" y="161"/>
                      </a:lnTo>
                      <a:lnTo>
                        <a:pt x="2102" y="159"/>
                      </a:lnTo>
                      <a:lnTo>
                        <a:pt x="2104" y="155"/>
                      </a:lnTo>
                      <a:lnTo>
                        <a:pt x="2105" y="152"/>
                      </a:lnTo>
                      <a:lnTo>
                        <a:pt x="2105" y="148"/>
                      </a:lnTo>
                      <a:lnTo>
                        <a:pt x="2105" y="142"/>
                      </a:lnTo>
                      <a:lnTo>
                        <a:pt x="2104" y="139"/>
                      </a:lnTo>
                      <a:lnTo>
                        <a:pt x="2102" y="136"/>
                      </a:lnTo>
                      <a:lnTo>
                        <a:pt x="2100" y="132"/>
                      </a:lnTo>
                      <a:lnTo>
                        <a:pt x="2096" y="128"/>
                      </a:lnTo>
                      <a:lnTo>
                        <a:pt x="2091" y="126"/>
                      </a:lnTo>
                      <a:lnTo>
                        <a:pt x="2085" y="122"/>
                      </a:lnTo>
                      <a:lnTo>
                        <a:pt x="2073" y="116"/>
                      </a:lnTo>
                      <a:lnTo>
                        <a:pt x="2085" y="111"/>
                      </a:lnTo>
                      <a:lnTo>
                        <a:pt x="2096" y="106"/>
                      </a:lnTo>
                      <a:lnTo>
                        <a:pt x="2106" y="99"/>
                      </a:lnTo>
                      <a:lnTo>
                        <a:pt x="2110" y="97"/>
                      </a:lnTo>
                      <a:lnTo>
                        <a:pt x="2114" y="93"/>
                      </a:lnTo>
                      <a:lnTo>
                        <a:pt x="2122" y="86"/>
                      </a:lnTo>
                      <a:lnTo>
                        <a:pt x="2126" y="81"/>
                      </a:lnTo>
                      <a:lnTo>
                        <a:pt x="2129" y="77"/>
                      </a:lnTo>
                      <a:lnTo>
                        <a:pt x="2131" y="72"/>
                      </a:lnTo>
                      <a:lnTo>
                        <a:pt x="2133" y="66"/>
                      </a:lnTo>
                      <a:lnTo>
                        <a:pt x="2134" y="61"/>
                      </a:lnTo>
                      <a:lnTo>
                        <a:pt x="2135" y="55"/>
                      </a:lnTo>
                      <a:lnTo>
                        <a:pt x="2141" y="56"/>
                      </a:lnTo>
                      <a:lnTo>
                        <a:pt x="2146" y="57"/>
                      </a:lnTo>
                      <a:lnTo>
                        <a:pt x="2151" y="58"/>
                      </a:lnTo>
                      <a:lnTo>
                        <a:pt x="2157" y="58"/>
                      </a:lnTo>
                      <a:lnTo>
                        <a:pt x="2161" y="58"/>
                      </a:lnTo>
                      <a:lnTo>
                        <a:pt x="2166" y="57"/>
                      </a:lnTo>
                      <a:lnTo>
                        <a:pt x="2168" y="55"/>
                      </a:lnTo>
                      <a:lnTo>
                        <a:pt x="2171" y="53"/>
                      </a:lnTo>
                      <a:lnTo>
                        <a:pt x="2174" y="49"/>
                      </a:lnTo>
                      <a:lnTo>
                        <a:pt x="2176" y="47"/>
                      </a:lnTo>
                      <a:lnTo>
                        <a:pt x="2180" y="39"/>
                      </a:lnTo>
                      <a:lnTo>
                        <a:pt x="2183" y="29"/>
                      </a:lnTo>
                      <a:lnTo>
                        <a:pt x="2186" y="19"/>
                      </a:lnTo>
                      <a:lnTo>
                        <a:pt x="2190" y="10"/>
                      </a:lnTo>
                      <a:lnTo>
                        <a:pt x="2193" y="0"/>
                      </a:lnTo>
                      <a:lnTo>
                        <a:pt x="2200" y="16"/>
                      </a:lnTo>
                      <a:lnTo>
                        <a:pt x="2207" y="31"/>
                      </a:lnTo>
                      <a:lnTo>
                        <a:pt x="2221" y="56"/>
                      </a:lnTo>
                      <a:lnTo>
                        <a:pt x="2228" y="68"/>
                      </a:lnTo>
                      <a:lnTo>
                        <a:pt x="2234" y="82"/>
                      </a:lnTo>
                      <a:lnTo>
                        <a:pt x="2236" y="89"/>
                      </a:lnTo>
                      <a:lnTo>
                        <a:pt x="2238" y="97"/>
                      </a:lnTo>
                      <a:lnTo>
                        <a:pt x="2240" y="105"/>
                      </a:lnTo>
                      <a:lnTo>
                        <a:pt x="2241" y="113"/>
                      </a:lnTo>
                      <a:lnTo>
                        <a:pt x="2245" y="113"/>
                      </a:lnTo>
                      <a:lnTo>
                        <a:pt x="2248" y="111"/>
                      </a:lnTo>
                      <a:lnTo>
                        <a:pt x="2254" y="107"/>
                      </a:lnTo>
                      <a:lnTo>
                        <a:pt x="2257" y="106"/>
                      </a:lnTo>
                      <a:lnTo>
                        <a:pt x="2258" y="103"/>
                      </a:lnTo>
                      <a:lnTo>
                        <a:pt x="2262" y="97"/>
                      </a:lnTo>
                      <a:lnTo>
                        <a:pt x="2265" y="90"/>
                      </a:lnTo>
                      <a:lnTo>
                        <a:pt x="2266" y="82"/>
                      </a:lnTo>
                      <a:lnTo>
                        <a:pt x="2270" y="65"/>
                      </a:lnTo>
                      <a:lnTo>
                        <a:pt x="2291" y="99"/>
                      </a:lnTo>
                      <a:lnTo>
                        <a:pt x="2302" y="116"/>
                      </a:lnTo>
                      <a:lnTo>
                        <a:pt x="2313" y="131"/>
                      </a:lnTo>
                      <a:lnTo>
                        <a:pt x="2319" y="139"/>
                      </a:lnTo>
                      <a:lnTo>
                        <a:pt x="2324" y="147"/>
                      </a:lnTo>
                      <a:lnTo>
                        <a:pt x="2336" y="161"/>
                      </a:lnTo>
                      <a:lnTo>
                        <a:pt x="2348" y="175"/>
                      </a:lnTo>
                      <a:lnTo>
                        <a:pt x="2360" y="186"/>
                      </a:lnTo>
                      <a:lnTo>
                        <a:pt x="2373" y="198"/>
                      </a:lnTo>
                      <a:lnTo>
                        <a:pt x="2379" y="202"/>
                      </a:lnTo>
                      <a:lnTo>
                        <a:pt x="2386" y="207"/>
                      </a:lnTo>
                      <a:lnTo>
                        <a:pt x="2401" y="217"/>
                      </a:lnTo>
                      <a:lnTo>
                        <a:pt x="2407" y="221"/>
                      </a:lnTo>
                      <a:lnTo>
                        <a:pt x="2415" y="223"/>
                      </a:lnTo>
                      <a:lnTo>
                        <a:pt x="2423" y="227"/>
                      </a:lnTo>
                      <a:lnTo>
                        <a:pt x="2431" y="230"/>
                      </a:lnTo>
                      <a:lnTo>
                        <a:pt x="2440" y="233"/>
                      </a:lnTo>
                      <a:lnTo>
                        <a:pt x="2448" y="234"/>
                      </a:lnTo>
                      <a:lnTo>
                        <a:pt x="2457" y="235"/>
                      </a:lnTo>
                      <a:lnTo>
                        <a:pt x="2466" y="237"/>
                      </a:lnTo>
                      <a:lnTo>
                        <a:pt x="2486" y="238"/>
                      </a:lnTo>
                      <a:lnTo>
                        <a:pt x="2492" y="237"/>
                      </a:lnTo>
                      <a:lnTo>
                        <a:pt x="2497" y="235"/>
                      </a:lnTo>
                      <a:lnTo>
                        <a:pt x="2501" y="234"/>
                      </a:lnTo>
                      <a:lnTo>
                        <a:pt x="2505" y="231"/>
                      </a:lnTo>
                      <a:lnTo>
                        <a:pt x="2509" y="227"/>
                      </a:lnTo>
                      <a:lnTo>
                        <a:pt x="2513" y="223"/>
                      </a:lnTo>
                      <a:lnTo>
                        <a:pt x="2519" y="215"/>
                      </a:lnTo>
                      <a:lnTo>
                        <a:pt x="2524" y="207"/>
                      </a:lnTo>
                      <a:lnTo>
                        <a:pt x="2528" y="204"/>
                      </a:lnTo>
                      <a:lnTo>
                        <a:pt x="2532" y="201"/>
                      </a:lnTo>
                      <a:lnTo>
                        <a:pt x="2536" y="198"/>
                      </a:lnTo>
                      <a:lnTo>
                        <a:pt x="2540" y="196"/>
                      </a:lnTo>
                      <a:lnTo>
                        <a:pt x="2546" y="194"/>
                      </a:lnTo>
                      <a:lnTo>
                        <a:pt x="2551" y="194"/>
                      </a:lnTo>
                      <a:lnTo>
                        <a:pt x="2559" y="194"/>
                      </a:lnTo>
                      <a:lnTo>
                        <a:pt x="2567" y="197"/>
                      </a:lnTo>
                      <a:lnTo>
                        <a:pt x="2573" y="201"/>
                      </a:lnTo>
                      <a:lnTo>
                        <a:pt x="2576" y="202"/>
                      </a:lnTo>
                      <a:lnTo>
                        <a:pt x="2579" y="205"/>
                      </a:lnTo>
                      <a:lnTo>
                        <a:pt x="2581" y="207"/>
                      </a:lnTo>
                      <a:lnTo>
                        <a:pt x="2584" y="211"/>
                      </a:lnTo>
                      <a:lnTo>
                        <a:pt x="2588" y="218"/>
                      </a:lnTo>
                      <a:lnTo>
                        <a:pt x="2589" y="222"/>
                      </a:lnTo>
                      <a:lnTo>
                        <a:pt x="2590" y="225"/>
                      </a:lnTo>
                      <a:lnTo>
                        <a:pt x="2590" y="233"/>
                      </a:lnTo>
                      <a:lnTo>
                        <a:pt x="2590" y="239"/>
                      </a:lnTo>
                      <a:lnTo>
                        <a:pt x="2589" y="243"/>
                      </a:lnTo>
                      <a:lnTo>
                        <a:pt x="2586" y="252"/>
                      </a:lnTo>
                      <a:lnTo>
                        <a:pt x="2585" y="256"/>
                      </a:lnTo>
                      <a:lnTo>
                        <a:pt x="2584" y="262"/>
                      </a:lnTo>
                      <a:lnTo>
                        <a:pt x="2583" y="267"/>
                      </a:lnTo>
                      <a:lnTo>
                        <a:pt x="2583" y="272"/>
                      </a:lnTo>
                      <a:lnTo>
                        <a:pt x="2583" y="280"/>
                      </a:lnTo>
                      <a:lnTo>
                        <a:pt x="2584" y="288"/>
                      </a:lnTo>
                      <a:lnTo>
                        <a:pt x="2586" y="296"/>
                      </a:lnTo>
                      <a:lnTo>
                        <a:pt x="2589" y="302"/>
                      </a:lnTo>
                      <a:lnTo>
                        <a:pt x="2593" y="309"/>
                      </a:lnTo>
                      <a:lnTo>
                        <a:pt x="2597" y="316"/>
                      </a:lnTo>
                      <a:lnTo>
                        <a:pt x="2601" y="322"/>
                      </a:lnTo>
                      <a:lnTo>
                        <a:pt x="2608" y="327"/>
                      </a:lnTo>
                      <a:lnTo>
                        <a:pt x="2613" y="333"/>
                      </a:lnTo>
                      <a:lnTo>
                        <a:pt x="2619" y="337"/>
                      </a:lnTo>
                      <a:lnTo>
                        <a:pt x="2626" y="341"/>
                      </a:lnTo>
                      <a:lnTo>
                        <a:pt x="2634" y="343"/>
                      </a:lnTo>
                      <a:lnTo>
                        <a:pt x="2641" y="346"/>
                      </a:lnTo>
                      <a:lnTo>
                        <a:pt x="2648" y="349"/>
                      </a:lnTo>
                      <a:lnTo>
                        <a:pt x="2656" y="350"/>
                      </a:lnTo>
                      <a:lnTo>
                        <a:pt x="2664" y="350"/>
                      </a:lnTo>
                      <a:lnTo>
                        <a:pt x="2671" y="350"/>
                      </a:lnTo>
                      <a:lnTo>
                        <a:pt x="2677" y="349"/>
                      </a:lnTo>
                      <a:lnTo>
                        <a:pt x="2688" y="345"/>
                      </a:lnTo>
                      <a:lnTo>
                        <a:pt x="2700" y="341"/>
                      </a:lnTo>
                      <a:lnTo>
                        <a:pt x="2705" y="339"/>
                      </a:lnTo>
                      <a:lnTo>
                        <a:pt x="2712" y="339"/>
                      </a:lnTo>
                      <a:lnTo>
                        <a:pt x="2720" y="339"/>
                      </a:lnTo>
                      <a:lnTo>
                        <a:pt x="2725" y="342"/>
                      </a:lnTo>
                      <a:lnTo>
                        <a:pt x="2732" y="345"/>
                      </a:lnTo>
                      <a:lnTo>
                        <a:pt x="2737" y="347"/>
                      </a:lnTo>
                      <a:lnTo>
                        <a:pt x="2741" y="351"/>
                      </a:lnTo>
                      <a:lnTo>
                        <a:pt x="2746" y="357"/>
                      </a:lnTo>
                      <a:lnTo>
                        <a:pt x="2755" y="366"/>
                      </a:lnTo>
                      <a:lnTo>
                        <a:pt x="2763" y="376"/>
                      </a:lnTo>
                      <a:lnTo>
                        <a:pt x="2768" y="380"/>
                      </a:lnTo>
                      <a:lnTo>
                        <a:pt x="2774" y="384"/>
                      </a:lnTo>
                      <a:lnTo>
                        <a:pt x="2779" y="388"/>
                      </a:lnTo>
                      <a:lnTo>
                        <a:pt x="2784" y="391"/>
                      </a:lnTo>
                      <a:lnTo>
                        <a:pt x="2791" y="392"/>
                      </a:lnTo>
                      <a:lnTo>
                        <a:pt x="2797" y="393"/>
                      </a:lnTo>
                      <a:lnTo>
                        <a:pt x="2803" y="392"/>
                      </a:lnTo>
                      <a:lnTo>
                        <a:pt x="2807" y="391"/>
                      </a:lnTo>
                      <a:lnTo>
                        <a:pt x="2809" y="388"/>
                      </a:lnTo>
                      <a:lnTo>
                        <a:pt x="2811" y="384"/>
                      </a:lnTo>
                      <a:lnTo>
                        <a:pt x="2812" y="380"/>
                      </a:lnTo>
                      <a:lnTo>
                        <a:pt x="2813" y="376"/>
                      </a:lnTo>
                      <a:lnTo>
                        <a:pt x="2815" y="364"/>
                      </a:lnTo>
                      <a:lnTo>
                        <a:pt x="2815" y="353"/>
                      </a:lnTo>
                      <a:lnTo>
                        <a:pt x="2815" y="341"/>
                      </a:lnTo>
                      <a:lnTo>
                        <a:pt x="2816" y="335"/>
                      </a:lnTo>
                      <a:lnTo>
                        <a:pt x="2817" y="330"/>
                      </a:lnTo>
                      <a:lnTo>
                        <a:pt x="2820" y="325"/>
                      </a:lnTo>
                      <a:lnTo>
                        <a:pt x="2824" y="320"/>
                      </a:lnTo>
                      <a:lnTo>
                        <a:pt x="2830" y="313"/>
                      </a:lnTo>
                      <a:lnTo>
                        <a:pt x="2837" y="308"/>
                      </a:lnTo>
                      <a:lnTo>
                        <a:pt x="2850" y="297"/>
                      </a:lnTo>
                      <a:lnTo>
                        <a:pt x="2865" y="289"/>
                      </a:lnTo>
                      <a:lnTo>
                        <a:pt x="2878" y="281"/>
                      </a:lnTo>
                      <a:lnTo>
                        <a:pt x="2891" y="273"/>
                      </a:lnTo>
                      <a:lnTo>
                        <a:pt x="2898" y="268"/>
                      </a:lnTo>
                      <a:lnTo>
                        <a:pt x="2903" y="263"/>
                      </a:lnTo>
                      <a:lnTo>
                        <a:pt x="2910" y="258"/>
                      </a:lnTo>
                      <a:lnTo>
                        <a:pt x="2915" y="252"/>
                      </a:lnTo>
                      <a:lnTo>
                        <a:pt x="2917" y="248"/>
                      </a:lnTo>
                      <a:lnTo>
                        <a:pt x="2920" y="246"/>
                      </a:lnTo>
                      <a:lnTo>
                        <a:pt x="2925" y="238"/>
                      </a:lnTo>
                      <a:lnTo>
                        <a:pt x="2943" y="238"/>
                      </a:lnTo>
                      <a:lnTo>
                        <a:pt x="2943" y="275"/>
                      </a:lnTo>
                      <a:lnTo>
                        <a:pt x="2943" y="281"/>
                      </a:lnTo>
                      <a:lnTo>
                        <a:pt x="2941" y="288"/>
                      </a:lnTo>
                      <a:lnTo>
                        <a:pt x="2940" y="295"/>
                      </a:lnTo>
                      <a:lnTo>
                        <a:pt x="2939" y="300"/>
                      </a:lnTo>
                      <a:lnTo>
                        <a:pt x="2936" y="305"/>
                      </a:lnTo>
                      <a:lnTo>
                        <a:pt x="2933" y="310"/>
                      </a:lnTo>
                      <a:lnTo>
                        <a:pt x="2927" y="320"/>
                      </a:lnTo>
                      <a:lnTo>
                        <a:pt x="2919" y="329"/>
                      </a:lnTo>
                      <a:lnTo>
                        <a:pt x="2910" y="337"/>
                      </a:lnTo>
                      <a:lnTo>
                        <a:pt x="2890" y="353"/>
                      </a:lnTo>
                      <a:lnTo>
                        <a:pt x="2871" y="368"/>
                      </a:lnTo>
                      <a:lnTo>
                        <a:pt x="2862" y="376"/>
                      </a:lnTo>
                      <a:lnTo>
                        <a:pt x="2858" y="380"/>
                      </a:lnTo>
                      <a:lnTo>
                        <a:pt x="2854" y="386"/>
                      </a:lnTo>
                      <a:lnTo>
                        <a:pt x="2848" y="395"/>
                      </a:lnTo>
                      <a:lnTo>
                        <a:pt x="2842" y="405"/>
                      </a:lnTo>
                      <a:lnTo>
                        <a:pt x="2840" y="411"/>
                      </a:lnTo>
                      <a:lnTo>
                        <a:pt x="2838" y="417"/>
                      </a:lnTo>
                      <a:lnTo>
                        <a:pt x="2838" y="424"/>
                      </a:lnTo>
                      <a:lnTo>
                        <a:pt x="2837" y="430"/>
                      </a:lnTo>
                      <a:lnTo>
                        <a:pt x="2837" y="488"/>
                      </a:lnTo>
                      <a:lnTo>
                        <a:pt x="2837" y="492"/>
                      </a:lnTo>
                      <a:lnTo>
                        <a:pt x="2836" y="496"/>
                      </a:lnTo>
                      <a:lnTo>
                        <a:pt x="2833" y="500"/>
                      </a:lnTo>
                      <a:lnTo>
                        <a:pt x="2830" y="503"/>
                      </a:lnTo>
                      <a:lnTo>
                        <a:pt x="2824" y="508"/>
                      </a:lnTo>
                      <a:lnTo>
                        <a:pt x="2816" y="512"/>
                      </a:lnTo>
                      <a:lnTo>
                        <a:pt x="2808" y="516"/>
                      </a:lnTo>
                      <a:lnTo>
                        <a:pt x="2804" y="519"/>
                      </a:lnTo>
                      <a:lnTo>
                        <a:pt x="2800" y="521"/>
                      </a:lnTo>
                      <a:lnTo>
                        <a:pt x="2797" y="524"/>
                      </a:lnTo>
                      <a:lnTo>
                        <a:pt x="2796" y="527"/>
                      </a:lnTo>
                      <a:lnTo>
                        <a:pt x="2795" y="531"/>
                      </a:lnTo>
                      <a:lnTo>
                        <a:pt x="2794" y="535"/>
                      </a:lnTo>
                      <a:lnTo>
                        <a:pt x="2795" y="542"/>
                      </a:lnTo>
                      <a:lnTo>
                        <a:pt x="2796" y="549"/>
                      </a:lnTo>
                      <a:lnTo>
                        <a:pt x="2797" y="552"/>
                      </a:lnTo>
                      <a:lnTo>
                        <a:pt x="2799" y="554"/>
                      </a:lnTo>
                      <a:lnTo>
                        <a:pt x="2803" y="560"/>
                      </a:lnTo>
                      <a:lnTo>
                        <a:pt x="2807" y="564"/>
                      </a:lnTo>
                      <a:lnTo>
                        <a:pt x="2812" y="568"/>
                      </a:lnTo>
                      <a:lnTo>
                        <a:pt x="2819" y="571"/>
                      </a:lnTo>
                      <a:lnTo>
                        <a:pt x="2824" y="575"/>
                      </a:lnTo>
                      <a:lnTo>
                        <a:pt x="2837" y="582"/>
                      </a:lnTo>
                      <a:lnTo>
                        <a:pt x="2850" y="589"/>
                      </a:lnTo>
                      <a:lnTo>
                        <a:pt x="2863" y="597"/>
                      </a:lnTo>
                      <a:lnTo>
                        <a:pt x="2869" y="602"/>
                      </a:lnTo>
                      <a:lnTo>
                        <a:pt x="2874" y="607"/>
                      </a:lnTo>
                      <a:lnTo>
                        <a:pt x="2886" y="620"/>
                      </a:lnTo>
                      <a:lnTo>
                        <a:pt x="2898" y="632"/>
                      </a:lnTo>
                      <a:lnTo>
                        <a:pt x="2908" y="643"/>
                      </a:lnTo>
                      <a:lnTo>
                        <a:pt x="2920" y="652"/>
                      </a:lnTo>
                      <a:lnTo>
                        <a:pt x="2932" y="661"/>
                      </a:lnTo>
                      <a:lnTo>
                        <a:pt x="2944" y="669"/>
                      </a:lnTo>
                      <a:lnTo>
                        <a:pt x="2957" y="677"/>
                      </a:lnTo>
                      <a:lnTo>
                        <a:pt x="2969" y="684"/>
                      </a:lnTo>
                      <a:lnTo>
                        <a:pt x="2982" y="689"/>
                      </a:lnTo>
                      <a:lnTo>
                        <a:pt x="2997" y="694"/>
                      </a:lnTo>
                      <a:lnTo>
                        <a:pt x="3003" y="697"/>
                      </a:lnTo>
                      <a:lnTo>
                        <a:pt x="3010" y="698"/>
                      </a:lnTo>
                      <a:lnTo>
                        <a:pt x="3024" y="702"/>
                      </a:lnTo>
                      <a:lnTo>
                        <a:pt x="3040" y="703"/>
                      </a:lnTo>
                      <a:lnTo>
                        <a:pt x="3056" y="706"/>
                      </a:lnTo>
                      <a:lnTo>
                        <a:pt x="3072" y="707"/>
                      </a:lnTo>
                      <a:lnTo>
                        <a:pt x="3089" y="707"/>
                      </a:lnTo>
                      <a:lnTo>
                        <a:pt x="3089" y="726"/>
                      </a:lnTo>
                      <a:lnTo>
                        <a:pt x="3089" y="730"/>
                      </a:lnTo>
                      <a:lnTo>
                        <a:pt x="3088" y="732"/>
                      </a:lnTo>
                      <a:lnTo>
                        <a:pt x="3086" y="735"/>
                      </a:lnTo>
                      <a:lnTo>
                        <a:pt x="3084" y="736"/>
                      </a:lnTo>
                      <a:lnTo>
                        <a:pt x="3078" y="739"/>
                      </a:lnTo>
                      <a:lnTo>
                        <a:pt x="3070" y="740"/>
                      </a:lnTo>
                      <a:lnTo>
                        <a:pt x="3055" y="740"/>
                      </a:lnTo>
                      <a:lnTo>
                        <a:pt x="3038" y="739"/>
                      </a:lnTo>
                      <a:lnTo>
                        <a:pt x="3024" y="739"/>
                      </a:lnTo>
                      <a:lnTo>
                        <a:pt x="3012" y="739"/>
                      </a:lnTo>
                      <a:lnTo>
                        <a:pt x="2990" y="742"/>
                      </a:lnTo>
                      <a:lnTo>
                        <a:pt x="2968" y="744"/>
                      </a:lnTo>
                      <a:lnTo>
                        <a:pt x="2956" y="746"/>
                      </a:lnTo>
                      <a:lnTo>
                        <a:pt x="2943" y="746"/>
                      </a:lnTo>
                      <a:lnTo>
                        <a:pt x="2936" y="744"/>
                      </a:lnTo>
                      <a:lnTo>
                        <a:pt x="2929" y="742"/>
                      </a:lnTo>
                      <a:lnTo>
                        <a:pt x="2923" y="739"/>
                      </a:lnTo>
                      <a:lnTo>
                        <a:pt x="2917" y="734"/>
                      </a:lnTo>
                      <a:lnTo>
                        <a:pt x="2912" y="730"/>
                      </a:lnTo>
                      <a:lnTo>
                        <a:pt x="2906" y="726"/>
                      </a:lnTo>
                      <a:lnTo>
                        <a:pt x="2903" y="724"/>
                      </a:lnTo>
                      <a:lnTo>
                        <a:pt x="2899" y="723"/>
                      </a:lnTo>
                      <a:lnTo>
                        <a:pt x="2892" y="722"/>
                      </a:lnTo>
                      <a:lnTo>
                        <a:pt x="2891" y="726"/>
                      </a:lnTo>
                      <a:lnTo>
                        <a:pt x="2890" y="731"/>
                      </a:lnTo>
                      <a:lnTo>
                        <a:pt x="2887" y="739"/>
                      </a:lnTo>
                      <a:lnTo>
                        <a:pt x="2881" y="747"/>
                      </a:lnTo>
                      <a:lnTo>
                        <a:pt x="2874" y="755"/>
                      </a:lnTo>
                      <a:lnTo>
                        <a:pt x="2848" y="755"/>
                      </a:lnTo>
                      <a:lnTo>
                        <a:pt x="2848" y="749"/>
                      </a:lnTo>
                      <a:lnTo>
                        <a:pt x="2846" y="746"/>
                      </a:lnTo>
                      <a:lnTo>
                        <a:pt x="2845" y="742"/>
                      </a:lnTo>
                      <a:lnTo>
                        <a:pt x="2845" y="736"/>
                      </a:lnTo>
                      <a:lnTo>
                        <a:pt x="2845" y="731"/>
                      </a:lnTo>
                      <a:lnTo>
                        <a:pt x="2846" y="726"/>
                      </a:lnTo>
                      <a:lnTo>
                        <a:pt x="2848" y="715"/>
                      </a:lnTo>
                      <a:lnTo>
                        <a:pt x="2850" y="706"/>
                      </a:lnTo>
                      <a:lnTo>
                        <a:pt x="2852" y="701"/>
                      </a:lnTo>
                      <a:lnTo>
                        <a:pt x="2852" y="695"/>
                      </a:lnTo>
                      <a:lnTo>
                        <a:pt x="2850" y="686"/>
                      </a:lnTo>
                      <a:lnTo>
                        <a:pt x="2848" y="678"/>
                      </a:lnTo>
                      <a:lnTo>
                        <a:pt x="2844" y="670"/>
                      </a:lnTo>
                      <a:lnTo>
                        <a:pt x="2838" y="664"/>
                      </a:lnTo>
                      <a:lnTo>
                        <a:pt x="2834" y="661"/>
                      </a:lnTo>
                      <a:lnTo>
                        <a:pt x="2832" y="659"/>
                      </a:lnTo>
                      <a:lnTo>
                        <a:pt x="2828" y="656"/>
                      </a:lnTo>
                      <a:lnTo>
                        <a:pt x="2824" y="655"/>
                      </a:lnTo>
                      <a:lnTo>
                        <a:pt x="2815" y="652"/>
                      </a:lnTo>
                      <a:lnTo>
                        <a:pt x="2805" y="651"/>
                      </a:lnTo>
                      <a:lnTo>
                        <a:pt x="2803" y="652"/>
                      </a:lnTo>
                      <a:lnTo>
                        <a:pt x="2799" y="652"/>
                      </a:lnTo>
                      <a:lnTo>
                        <a:pt x="2796" y="655"/>
                      </a:lnTo>
                      <a:lnTo>
                        <a:pt x="2794" y="656"/>
                      </a:lnTo>
                      <a:lnTo>
                        <a:pt x="2792" y="659"/>
                      </a:lnTo>
                      <a:lnTo>
                        <a:pt x="2790" y="662"/>
                      </a:lnTo>
                      <a:lnTo>
                        <a:pt x="2787" y="669"/>
                      </a:lnTo>
                      <a:lnTo>
                        <a:pt x="2783" y="676"/>
                      </a:lnTo>
                      <a:lnTo>
                        <a:pt x="2782" y="680"/>
                      </a:lnTo>
                      <a:lnTo>
                        <a:pt x="2779" y="682"/>
                      </a:lnTo>
                      <a:lnTo>
                        <a:pt x="2778" y="685"/>
                      </a:lnTo>
                      <a:lnTo>
                        <a:pt x="2775" y="688"/>
                      </a:lnTo>
                      <a:lnTo>
                        <a:pt x="2771" y="690"/>
                      </a:lnTo>
                      <a:lnTo>
                        <a:pt x="2768" y="691"/>
                      </a:lnTo>
                      <a:lnTo>
                        <a:pt x="2763" y="693"/>
                      </a:lnTo>
                      <a:lnTo>
                        <a:pt x="2757" y="694"/>
                      </a:lnTo>
                      <a:lnTo>
                        <a:pt x="2751" y="694"/>
                      </a:lnTo>
                      <a:lnTo>
                        <a:pt x="2746" y="693"/>
                      </a:lnTo>
                      <a:lnTo>
                        <a:pt x="2734" y="691"/>
                      </a:lnTo>
                      <a:lnTo>
                        <a:pt x="2724" y="690"/>
                      </a:lnTo>
                      <a:lnTo>
                        <a:pt x="2714" y="689"/>
                      </a:lnTo>
                      <a:lnTo>
                        <a:pt x="2709" y="689"/>
                      </a:lnTo>
                      <a:lnTo>
                        <a:pt x="2704" y="689"/>
                      </a:lnTo>
                      <a:lnTo>
                        <a:pt x="2700" y="690"/>
                      </a:lnTo>
                      <a:lnTo>
                        <a:pt x="2695" y="691"/>
                      </a:lnTo>
                      <a:lnTo>
                        <a:pt x="2691" y="694"/>
                      </a:lnTo>
                      <a:lnTo>
                        <a:pt x="2685" y="698"/>
                      </a:lnTo>
                      <a:lnTo>
                        <a:pt x="2693" y="714"/>
                      </a:lnTo>
                      <a:lnTo>
                        <a:pt x="2696" y="722"/>
                      </a:lnTo>
                      <a:lnTo>
                        <a:pt x="2696" y="726"/>
                      </a:lnTo>
                      <a:lnTo>
                        <a:pt x="2696" y="730"/>
                      </a:lnTo>
                      <a:lnTo>
                        <a:pt x="2696" y="738"/>
                      </a:lnTo>
                      <a:lnTo>
                        <a:pt x="2695" y="744"/>
                      </a:lnTo>
                      <a:lnTo>
                        <a:pt x="2692" y="749"/>
                      </a:lnTo>
                      <a:lnTo>
                        <a:pt x="2689" y="756"/>
                      </a:lnTo>
                      <a:lnTo>
                        <a:pt x="2681" y="765"/>
                      </a:lnTo>
                      <a:lnTo>
                        <a:pt x="2672" y="776"/>
                      </a:lnTo>
                      <a:lnTo>
                        <a:pt x="2664" y="785"/>
                      </a:lnTo>
                      <a:lnTo>
                        <a:pt x="2656" y="796"/>
                      </a:lnTo>
                      <a:lnTo>
                        <a:pt x="2654" y="801"/>
                      </a:lnTo>
                      <a:lnTo>
                        <a:pt x="2651" y="808"/>
                      </a:lnTo>
                      <a:lnTo>
                        <a:pt x="2650" y="814"/>
                      </a:lnTo>
                      <a:lnTo>
                        <a:pt x="2648" y="821"/>
                      </a:lnTo>
                      <a:lnTo>
                        <a:pt x="2650" y="834"/>
                      </a:lnTo>
                      <a:lnTo>
                        <a:pt x="2651" y="846"/>
                      </a:lnTo>
                      <a:lnTo>
                        <a:pt x="2654" y="856"/>
                      </a:lnTo>
                      <a:lnTo>
                        <a:pt x="2656" y="867"/>
                      </a:lnTo>
                      <a:lnTo>
                        <a:pt x="2659" y="877"/>
                      </a:lnTo>
                      <a:lnTo>
                        <a:pt x="2660" y="888"/>
                      </a:lnTo>
                      <a:lnTo>
                        <a:pt x="2663" y="900"/>
                      </a:lnTo>
                      <a:lnTo>
                        <a:pt x="2663" y="913"/>
                      </a:lnTo>
                      <a:lnTo>
                        <a:pt x="2663" y="924"/>
                      </a:lnTo>
                      <a:lnTo>
                        <a:pt x="2660" y="934"/>
                      </a:lnTo>
                      <a:lnTo>
                        <a:pt x="2658" y="943"/>
                      </a:lnTo>
                      <a:lnTo>
                        <a:pt x="2654" y="953"/>
                      </a:lnTo>
                      <a:lnTo>
                        <a:pt x="2650" y="960"/>
                      </a:lnTo>
                      <a:lnTo>
                        <a:pt x="2644" y="968"/>
                      </a:lnTo>
                      <a:lnTo>
                        <a:pt x="2639" y="976"/>
                      </a:lnTo>
                      <a:lnTo>
                        <a:pt x="2633" y="983"/>
                      </a:lnTo>
                      <a:lnTo>
                        <a:pt x="2619" y="999"/>
                      </a:lnTo>
                      <a:lnTo>
                        <a:pt x="2608" y="1015"/>
                      </a:lnTo>
                      <a:lnTo>
                        <a:pt x="2601" y="1022"/>
                      </a:lnTo>
                      <a:lnTo>
                        <a:pt x="2596" y="1032"/>
                      </a:lnTo>
                      <a:lnTo>
                        <a:pt x="2590" y="1041"/>
                      </a:lnTo>
                      <a:lnTo>
                        <a:pt x="2585" y="1051"/>
                      </a:lnTo>
                      <a:lnTo>
                        <a:pt x="2583" y="1061"/>
                      </a:lnTo>
                      <a:lnTo>
                        <a:pt x="2580" y="1071"/>
                      </a:lnTo>
                      <a:lnTo>
                        <a:pt x="2575" y="1094"/>
                      </a:lnTo>
                      <a:lnTo>
                        <a:pt x="2571" y="1115"/>
                      </a:lnTo>
                      <a:lnTo>
                        <a:pt x="2565" y="1135"/>
                      </a:lnTo>
                      <a:lnTo>
                        <a:pt x="2563" y="1144"/>
                      </a:lnTo>
                      <a:lnTo>
                        <a:pt x="2560" y="1153"/>
                      </a:lnTo>
                      <a:lnTo>
                        <a:pt x="2555" y="1160"/>
                      </a:lnTo>
                      <a:lnTo>
                        <a:pt x="2551" y="1166"/>
                      </a:lnTo>
                      <a:lnTo>
                        <a:pt x="2544" y="1171"/>
                      </a:lnTo>
                      <a:lnTo>
                        <a:pt x="2540" y="1174"/>
                      </a:lnTo>
                      <a:lnTo>
                        <a:pt x="2538" y="1175"/>
                      </a:lnTo>
                      <a:lnTo>
                        <a:pt x="2528" y="1178"/>
                      </a:lnTo>
                      <a:lnTo>
                        <a:pt x="2524" y="1179"/>
                      </a:lnTo>
                      <a:lnTo>
                        <a:pt x="2519" y="1179"/>
                      </a:lnTo>
                      <a:lnTo>
                        <a:pt x="2507" y="1178"/>
                      </a:lnTo>
                      <a:lnTo>
                        <a:pt x="2498" y="1175"/>
                      </a:lnTo>
                      <a:lnTo>
                        <a:pt x="2489" y="1173"/>
                      </a:lnTo>
                      <a:lnTo>
                        <a:pt x="2480" y="1168"/>
                      </a:lnTo>
                      <a:lnTo>
                        <a:pt x="2470" y="1164"/>
                      </a:lnTo>
                      <a:lnTo>
                        <a:pt x="2461" y="1160"/>
                      </a:lnTo>
                      <a:lnTo>
                        <a:pt x="2451" y="1157"/>
                      </a:lnTo>
                      <a:lnTo>
                        <a:pt x="2440" y="1157"/>
                      </a:lnTo>
                      <a:lnTo>
                        <a:pt x="2436" y="1157"/>
                      </a:lnTo>
                      <a:lnTo>
                        <a:pt x="2433" y="1158"/>
                      </a:lnTo>
                      <a:lnTo>
                        <a:pt x="2430" y="1160"/>
                      </a:lnTo>
                      <a:lnTo>
                        <a:pt x="2427" y="1161"/>
                      </a:lnTo>
                      <a:lnTo>
                        <a:pt x="2423" y="1165"/>
                      </a:lnTo>
                      <a:lnTo>
                        <a:pt x="2418" y="1170"/>
                      </a:lnTo>
                      <a:lnTo>
                        <a:pt x="2414" y="1174"/>
                      </a:lnTo>
                      <a:lnTo>
                        <a:pt x="2408" y="1178"/>
                      </a:lnTo>
                      <a:lnTo>
                        <a:pt x="2406" y="1181"/>
                      </a:lnTo>
                      <a:lnTo>
                        <a:pt x="2402" y="1182"/>
                      </a:lnTo>
                      <a:lnTo>
                        <a:pt x="2399" y="1182"/>
                      </a:lnTo>
                      <a:lnTo>
                        <a:pt x="2395" y="1183"/>
                      </a:lnTo>
                      <a:lnTo>
                        <a:pt x="2397" y="1194"/>
                      </a:lnTo>
                      <a:lnTo>
                        <a:pt x="2398" y="1203"/>
                      </a:lnTo>
                      <a:lnTo>
                        <a:pt x="2399" y="1214"/>
                      </a:lnTo>
                      <a:lnTo>
                        <a:pt x="2402" y="1223"/>
                      </a:lnTo>
                      <a:lnTo>
                        <a:pt x="2404" y="1232"/>
                      </a:lnTo>
                      <a:lnTo>
                        <a:pt x="2407" y="1240"/>
                      </a:lnTo>
                      <a:lnTo>
                        <a:pt x="2415" y="1257"/>
                      </a:lnTo>
                      <a:lnTo>
                        <a:pt x="2419" y="1265"/>
                      </a:lnTo>
                      <a:lnTo>
                        <a:pt x="2424" y="1273"/>
                      </a:lnTo>
                      <a:lnTo>
                        <a:pt x="2433" y="1289"/>
                      </a:lnTo>
                      <a:lnTo>
                        <a:pt x="2444" y="1303"/>
                      </a:lnTo>
                      <a:lnTo>
                        <a:pt x="2455" y="1318"/>
                      </a:lnTo>
                      <a:lnTo>
                        <a:pt x="2476" y="1348"/>
                      </a:lnTo>
                      <a:lnTo>
                        <a:pt x="2486" y="1364"/>
                      </a:lnTo>
                      <a:lnTo>
                        <a:pt x="2494" y="1380"/>
                      </a:lnTo>
                      <a:lnTo>
                        <a:pt x="2502" y="1397"/>
                      </a:lnTo>
                      <a:lnTo>
                        <a:pt x="2505" y="1406"/>
                      </a:lnTo>
                      <a:lnTo>
                        <a:pt x="2507" y="1415"/>
                      </a:lnTo>
                      <a:lnTo>
                        <a:pt x="2509" y="1425"/>
                      </a:lnTo>
                      <a:lnTo>
                        <a:pt x="2511" y="1434"/>
                      </a:lnTo>
                      <a:lnTo>
                        <a:pt x="2511" y="1444"/>
                      </a:lnTo>
                      <a:lnTo>
                        <a:pt x="2511" y="1455"/>
                      </a:lnTo>
                      <a:lnTo>
                        <a:pt x="2511" y="1558"/>
                      </a:lnTo>
                      <a:lnTo>
                        <a:pt x="2511" y="1571"/>
                      </a:lnTo>
                      <a:lnTo>
                        <a:pt x="2510" y="1583"/>
                      </a:lnTo>
                      <a:lnTo>
                        <a:pt x="2507" y="1595"/>
                      </a:lnTo>
                      <a:lnTo>
                        <a:pt x="2503" y="1605"/>
                      </a:lnTo>
                      <a:lnTo>
                        <a:pt x="2501" y="1616"/>
                      </a:lnTo>
                      <a:lnTo>
                        <a:pt x="2495" y="1626"/>
                      </a:lnTo>
                      <a:lnTo>
                        <a:pt x="2486" y="1646"/>
                      </a:lnTo>
                      <a:lnTo>
                        <a:pt x="2477" y="1666"/>
                      </a:lnTo>
                      <a:lnTo>
                        <a:pt x="2473" y="1677"/>
                      </a:lnTo>
                      <a:lnTo>
                        <a:pt x="2469" y="1687"/>
                      </a:lnTo>
                      <a:lnTo>
                        <a:pt x="2465" y="1698"/>
                      </a:lnTo>
                      <a:lnTo>
                        <a:pt x="2463" y="1710"/>
                      </a:lnTo>
                      <a:lnTo>
                        <a:pt x="2461" y="1721"/>
                      </a:lnTo>
                      <a:lnTo>
                        <a:pt x="2461" y="1735"/>
                      </a:lnTo>
                      <a:lnTo>
                        <a:pt x="2461" y="1880"/>
                      </a:lnTo>
                      <a:lnTo>
                        <a:pt x="2460" y="1892"/>
                      </a:lnTo>
                      <a:lnTo>
                        <a:pt x="2459" y="1901"/>
                      </a:lnTo>
                      <a:lnTo>
                        <a:pt x="2455" y="1921"/>
                      </a:lnTo>
                      <a:lnTo>
                        <a:pt x="2449" y="1939"/>
                      </a:lnTo>
                      <a:lnTo>
                        <a:pt x="2448" y="1950"/>
                      </a:lnTo>
                      <a:lnTo>
                        <a:pt x="2448" y="1961"/>
                      </a:lnTo>
                      <a:lnTo>
                        <a:pt x="2448" y="1969"/>
                      </a:lnTo>
                      <a:lnTo>
                        <a:pt x="2451" y="1977"/>
                      </a:lnTo>
                      <a:lnTo>
                        <a:pt x="2456" y="1990"/>
                      </a:lnTo>
                      <a:lnTo>
                        <a:pt x="2459" y="1997"/>
                      </a:lnTo>
                      <a:lnTo>
                        <a:pt x="2463" y="2004"/>
                      </a:lnTo>
                      <a:lnTo>
                        <a:pt x="2464" y="2012"/>
                      </a:lnTo>
                      <a:lnTo>
                        <a:pt x="2464" y="2019"/>
                      </a:lnTo>
                      <a:lnTo>
                        <a:pt x="2464" y="2030"/>
                      </a:lnTo>
                      <a:lnTo>
                        <a:pt x="2463" y="2038"/>
                      </a:lnTo>
                      <a:lnTo>
                        <a:pt x="2456" y="2055"/>
                      </a:lnTo>
                      <a:lnTo>
                        <a:pt x="2453" y="2063"/>
                      </a:lnTo>
                      <a:lnTo>
                        <a:pt x="2451" y="2071"/>
                      </a:lnTo>
                      <a:lnTo>
                        <a:pt x="2448" y="2080"/>
                      </a:lnTo>
                      <a:lnTo>
                        <a:pt x="2448" y="2089"/>
                      </a:lnTo>
                      <a:lnTo>
                        <a:pt x="2448" y="2225"/>
                      </a:lnTo>
                      <a:lnTo>
                        <a:pt x="2447" y="2252"/>
                      </a:lnTo>
                      <a:lnTo>
                        <a:pt x="2445" y="2265"/>
                      </a:lnTo>
                      <a:lnTo>
                        <a:pt x="2444" y="2279"/>
                      </a:lnTo>
                      <a:lnTo>
                        <a:pt x="2443" y="2292"/>
                      </a:lnTo>
                      <a:lnTo>
                        <a:pt x="2440" y="2306"/>
                      </a:lnTo>
                      <a:lnTo>
                        <a:pt x="2433" y="2332"/>
                      </a:lnTo>
                      <a:lnTo>
                        <a:pt x="2431" y="2345"/>
                      </a:lnTo>
                      <a:lnTo>
                        <a:pt x="2426" y="2357"/>
                      </a:lnTo>
                      <a:lnTo>
                        <a:pt x="2422" y="2369"/>
                      </a:lnTo>
                      <a:lnTo>
                        <a:pt x="2416" y="2382"/>
                      </a:lnTo>
                      <a:lnTo>
                        <a:pt x="2406" y="2405"/>
                      </a:lnTo>
                      <a:lnTo>
                        <a:pt x="2399" y="2415"/>
                      </a:lnTo>
                      <a:lnTo>
                        <a:pt x="2393" y="2426"/>
                      </a:lnTo>
                      <a:lnTo>
                        <a:pt x="2390" y="2440"/>
                      </a:lnTo>
                      <a:lnTo>
                        <a:pt x="2387" y="2455"/>
                      </a:lnTo>
                      <a:lnTo>
                        <a:pt x="2382" y="2468"/>
                      </a:lnTo>
                      <a:lnTo>
                        <a:pt x="2377" y="2481"/>
                      </a:lnTo>
                      <a:lnTo>
                        <a:pt x="2373" y="2486"/>
                      </a:lnTo>
                      <a:lnTo>
                        <a:pt x="2370" y="2492"/>
                      </a:lnTo>
                      <a:lnTo>
                        <a:pt x="2365" y="2497"/>
                      </a:lnTo>
                      <a:lnTo>
                        <a:pt x="2361" y="2501"/>
                      </a:lnTo>
                      <a:lnTo>
                        <a:pt x="2356" y="2505"/>
                      </a:lnTo>
                      <a:lnTo>
                        <a:pt x="2349" y="2507"/>
                      </a:lnTo>
                      <a:lnTo>
                        <a:pt x="2344" y="2510"/>
                      </a:lnTo>
                      <a:lnTo>
                        <a:pt x="2336" y="2510"/>
                      </a:lnTo>
                      <a:lnTo>
                        <a:pt x="2328" y="2511"/>
                      </a:lnTo>
                      <a:lnTo>
                        <a:pt x="2320" y="2513"/>
                      </a:lnTo>
                      <a:lnTo>
                        <a:pt x="2310" y="2515"/>
                      </a:lnTo>
                      <a:lnTo>
                        <a:pt x="2300" y="2519"/>
                      </a:lnTo>
                      <a:lnTo>
                        <a:pt x="2298" y="2521"/>
                      </a:lnTo>
                      <a:lnTo>
                        <a:pt x="2295" y="2523"/>
                      </a:lnTo>
                      <a:lnTo>
                        <a:pt x="2292" y="2526"/>
                      </a:lnTo>
                      <a:lnTo>
                        <a:pt x="2291" y="2530"/>
                      </a:lnTo>
                      <a:lnTo>
                        <a:pt x="2290" y="2532"/>
                      </a:lnTo>
                      <a:lnTo>
                        <a:pt x="2290" y="2536"/>
                      </a:lnTo>
                      <a:lnTo>
                        <a:pt x="2288" y="2544"/>
                      </a:lnTo>
                      <a:lnTo>
                        <a:pt x="2288" y="2554"/>
                      </a:lnTo>
                      <a:lnTo>
                        <a:pt x="2288" y="2572"/>
                      </a:lnTo>
                      <a:lnTo>
                        <a:pt x="2290" y="2576"/>
                      </a:lnTo>
                      <a:lnTo>
                        <a:pt x="2290" y="2580"/>
                      </a:lnTo>
                      <a:lnTo>
                        <a:pt x="2292" y="2587"/>
                      </a:lnTo>
                      <a:lnTo>
                        <a:pt x="2294" y="2589"/>
                      </a:lnTo>
                      <a:lnTo>
                        <a:pt x="2296" y="2590"/>
                      </a:lnTo>
                      <a:lnTo>
                        <a:pt x="2300" y="2593"/>
                      </a:lnTo>
                      <a:lnTo>
                        <a:pt x="2304" y="2594"/>
                      </a:lnTo>
                      <a:lnTo>
                        <a:pt x="2315" y="2597"/>
                      </a:lnTo>
                      <a:lnTo>
                        <a:pt x="2328" y="2597"/>
                      </a:lnTo>
                      <a:lnTo>
                        <a:pt x="2336" y="2598"/>
                      </a:lnTo>
                      <a:lnTo>
                        <a:pt x="2342" y="2600"/>
                      </a:lnTo>
                      <a:lnTo>
                        <a:pt x="2348" y="2601"/>
                      </a:lnTo>
                      <a:lnTo>
                        <a:pt x="2352" y="2604"/>
                      </a:lnTo>
                      <a:lnTo>
                        <a:pt x="2353" y="2606"/>
                      </a:lnTo>
                      <a:lnTo>
                        <a:pt x="2354" y="2608"/>
                      </a:lnTo>
                      <a:lnTo>
                        <a:pt x="2356" y="2612"/>
                      </a:lnTo>
                      <a:lnTo>
                        <a:pt x="2358" y="2616"/>
                      </a:lnTo>
                      <a:lnTo>
                        <a:pt x="2358" y="2619"/>
                      </a:lnTo>
                      <a:lnTo>
                        <a:pt x="2358" y="2627"/>
                      </a:lnTo>
                      <a:lnTo>
                        <a:pt x="2358" y="2630"/>
                      </a:lnTo>
                      <a:lnTo>
                        <a:pt x="2358" y="2634"/>
                      </a:lnTo>
                      <a:lnTo>
                        <a:pt x="2356" y="2641"/>
                      </a:lnTo>
                      <a:lnTo>
                        <a:pt x="2352" y="2732"/>
                      </a:lnTo>
                      <a:lnTo>
                        <a:pt x="2352" y="2746"/>
                      </a:lnTo>
                      <a:lnTo>
                        <a:pt x="2353" y="2782"/>
                      </a:lnTo>
                      <a:lnTo>
                        <a:pt x="2354" y="2804"/>
                      </a:lnTo>
                      <a:lnTo>
                        <a:pt x="2357" y="2827"/>
                      </a:lnTo>
                      <a:lnTo>
                        <a:pt x="2360" y="2848"/>
                      </a:lnTo>
                      <a:lnTo>
                        <a:pt x="2364" y="2865"/>
                      </a:lnTo>
                      <a:lnTo>
                        <a:pt x="2365" y="2869"/>
                      </a:lnTo>
                      <a:lnTo>
                        <a:pt x="2368" y="2873"/>
                      </a:lnTo>
                      <a:lnTo>
                        <a:pt x="2372" y="2879"/>
                      </a:lnTo>
                      <a:lnTo>
                        <a:pt x="2377" y="2885"/>
                      </a:lnTo>
                      <a:lnTo>
                        <a:pt x="2385" y="2888"/>
                      </a:lnTo>
                      <a:lnTo>
                        <a:pt x="2393" y="2892"/>
                      </a:lnTo>
                      <a:lnTo>
                        <a:pt x="2397" y="2894"/>
                      </a:lnTo>
                      <a:lnTo>
                        <a:pt x="2402" y="2896"/>
                      </a:lnTo>
                      <a:lnTo>
                        <a:pt x="2411" y="2899"/>
                      </a:lnTo>
                      <a:lnTo>
                        <a:pt x="2423" y="2900"/>
                      </a:lnTo>
                      <a:lnTo>
                        <a:pt x="2447" y="2906"/>
                      </a:lnTo>
                      <a:lnTo>
                        <a:pt x="2474" y="2910"/>
                      </a:lnTo>
                      <a:lnTo>
                        <a:pt x="2503" y="2916"/>
                      </a:lnTo>
                      <a:lnTo>
                        <a:pt x="2518" y="2920"/>
                      </a:lnTo>
                      <a:lnTo>
                        <a:pt x="2534" y="2924"/>
                      </a:lnTo>
                      <a:lnTo>
                        <a:pt x="2540" y="2927"/>
                      </a:lnTo>
                      <a:lnTo>
                        <a:pt x="2547" y="2929"/>
                      </a:lnTo>
                      <a:lnTo>
                        <a:pt x="2559" y="2936"/>
                      </a:lnTo>
                      <a:lnTo>
                        <a:pt x="2564" y="2940"/>
                      </a:lnTo>
                      <a:lnTo>
                        <a:pt x="2569" y="2944"/>
                      </a:lnTo>
                      <a:lnTo>
                        <a:pt x="2577" y="2952"/>
                      </a:lnTo>
                      <a:lnTo>
                        <a:pt x="2580" y="2956"/>
                      </a:lnTo>
                      <a:lnTo>
                        <a:pt x="2583" y="2960"/>
                      </a:lnTo>
                      <a:lnTo>
                        <a:pt x="2585" y="2965"/>
                      </a:lnTo>
                      <a:lnTo>
                        <a:pt x="2586" y="2969"/>
                      </a:lnTo>
                      <a:lnTo>
                        <a:pt x="2589" y="2974"/>
                      </a:lnTo>
                      <a:lnTo>
                        <a:pt x="2590" y="2978"/>
                      </a:lnTo>
                      <a:lnTo>
                        <a:pt x="2592" y="2987"/>
                      </a:lnTo>
                      <a:lnTo>
                        <a:pt x="2593" y="2997"/>
                      </a:lnTo>
                      <a:lnTo>
                        <a:pt x="2593" y="3006"/>
                      </a:lnTo>
                      <a:lnTo>
                        <a:pt x="2592" y="3015"/>
                      </a:lnTo>
                      <a:lnTo>
                        <a:pt x="2592" y="3023"/>
                      </a:lnTo>
                      <a:lnTo>
                        <a:pt x="2589" y="3039"/>
                      </a:lnTo>
                      <a:lnTo>
                        <a:pt x="2588" y="3051"/>
                      </a:lnTo>
                      <a:lnTo>
                        <a:pt x="2589" y="3056"/>
                      </a:lnTo>
                      <a:lnTo>
                        <a:pt x="2592" y="3063"/>
                      </a:lnTo>
                      <a:lnTo>
                        <a:pt x="2596" y="3069"/>
                      </a:lnTo>
                      <a:lnTo>
                        <a:pt x="2601" y="3076"/>
                      </a:lnTo>
                      <a:lnTo>
                        <a:pt x="2614" y="3090"/>
                      </a:lnTo>
                      <a:lnTo>
                        <a:pt x="2630" y="3105"/>
                      </a:lnTo>
                      <a:lnTo>
                        <a:pt x="2644" y="3117"/>
                      </a:lnTo>
                      <a:lnTo>
                        <a:pt x="2659" y="3127"/>
                      </a:lnTo>
                      <a:lnTo>
                        <a:pt x="2671" y="3138"/>
                      </a:lnTo>
                      <a:lnTo>
                        <a:pt x="2643" y="3154"/>
                      </a:lnTo>
                      <a:lnTo>
                        <a:pt x="2614" y="3171"/>
                      </a:lnTo>
                      <a:lnTo>
                        <a:pt x="2581" y="3193"/>
                      </a:lnTo>
                      <a:lnTo>
                        <a:pt x="2572" y="3198"/>
                      </a:lnTo>
                      <a:lnTo>
                        <a:pt x="2564" y="3205"/>
                      </a:lnTo>
                      <a:lnTo>
                        <a:pt x="2556" y="3212"/>
                      </a:lnTo>
                      <a:lnTo>
                        <a:pt x="2548" y="3217"/>
                      </a:lnTo>
                      <a:lnTo>
                        <a:pt x="2542" y="3223"/>
                      </a:lnTo>
                      <a:lnTo>
                        <a:pt x="2535" y="3230"/>
                      </a:lnTo>
                      <a:lnTo>
                        <a:pt x="2522" y="3245"/>
                      </a:lnTo>
                      <a:lnTo>
                        <a:pt x="2510" y="3258"/>
                      </a:lnTo>
                      <a:lnTo>
                        <a:pt x="2499" y="3271"/>
                      </a:lnTo>
                      <a:lnTo>
                        <a:pt x="2478" y="3295"/>
                      </a:lnTo>
                      <a:lnTo>
                        <a:pt x="2473" y="3300"/>
                      </a:lnTo>
                      <a:lnTo>
                        <a:pt x="2466" y="3305"/>
                      </a:lnTo>
                      <a:lnTo>
                        <a:pt x="2460" y="3309"/>
                      </a:lnTo>
                      <a:lnTo>
                        <a:pt x="2452" y="3312"/>
                      </a:lnTo>
                      <a:lnTo>
                        <a:pt x="2444" y="3314"/>
                      </a:lnTo>
                      <a:lnTo>
                        <a:pt x="2435" y="3317"/>
                      </a:lnTo>
                      <a:lnTo>
                        <a:pt x="2427" y="3318"/>
                      </a:lnTo>
                      <a:lnTo>
                        <a:pt x="2418" y="3320"/>
                      </a:lnTo>
                      <a:lnTo>
                        <a:pt x="2401" y="3321"/>
                      </a:lnTo>
                      <a:lnTo>
                        <a:pt x="2382" y="3322"/>
                      </a:lnTo>
                      <a:lnTo>
                        <a:pt x="2366" y="3325"/>
                      </a:lnTo>
                      <a:lnTo>
                        <a:pt x="2352" y="3326"/>
                      </a:lnTo>
                      <a:lnTo>
                        <a:pt x="2339" y="3330"/>
                      </a:lnTo>
                      <a:lnTo>
                        <a:pt x="2325" y="3334"/>
                      </a:lnTo>
                      <a:lnTo>
                        <a:pt x="2302" y="3343"/>
                      </a:lnTo>
                      <a:lnTo>
                        <a:pt x="2284" y="3351"/>
                      </a:lnTo>
                      <a:lnTo>
                        <a:pt x="2277" y="3354"/>
                      </a:lnTo>
                      <a:lnTo>
                        <a:pt x="2267" y="3354"/>
                      </a:lnTo>
                      <a:lnTo>
                        <a:pt x="2257" y="3354"/>
                      </a:lnTo>
                      <a:lnTo>
                        <a:pt x="2242" y="3354"/>
                      </a:lnTo>
                      <a:lnTo>
                        <a:pt x="2224" y="3355"/>
                      </a:lnTo>
                      <a:lnTo>
                        <a:pt x="2204" y="3358"/>
                      </a:lnTo>
                      <a:lnTo>
                        <a:pt x="2193" y="3359"/>
                      </a:lnTo>
                      <a:lnTo>
                        <a:pt x="2182" y="3361"/>
                      </a:lnTo>
                      <a:lnTo>
                        <a:pt x="2171" y="3363"/>
                      </a:lnTo>
                      <a:lnTo>
                        <a:pt x="2159" y="3366"/>
                      </a:lnTo>
                      <a:lnTo>
                        <a:pt x="2146" y="3370"/>
                      </a:lnTo>
                      <a:lnTo>
                        <a:pt x="2133" y="3374"/>
                      </a:lnTo>
                      <a:lnTo>
                        <a:pt x="2105" y="3383"/>
                      </a:lnTo>
                      <a:lnTo>
                        <a:pt x="2077" y="3395"/>
                      </a:lnTo>
                      <a:lnTo>
                        <a:pt x="2050" y="3405"/>
                      </a:lnTo>
                      <a:lnTo>
                        <a:pt x="2008" y="3425"/>
                      </a:lnTo>
                      <a:lnTo>
                        <a:pt x="1989" y="3433"/>
                      </a:lnTo>
                      <a:lnTo>
                        <a:pt x="1914" y="3482"/>
                      </a:lnTo>
                      <a:lnTo>
                        <a:pt x="1852" y="3521"/>
                      </a:lnTo>
                      <a:lnTo>
                        <a:pt x="1823" y="3539"/>
                      </a:lnTo>
                      <a:lnTo>
                        <a:pt x="1800" y="3552"/>
                      </a:lnTo>
                      <a:lnTo>
                        <a:pt x="1790" y="3557"/>
                      </a:lnTo>
                      <a:lnTo>
                        <a:pt x="1781" y="3561"/>
                      </a:lnTo>
                      <a:lnTo>
                        <a:pt x="1761" y="3570"/>
                      </a:lnTo>
                      <a:lnTo>
                        <a:pt x="1742" y="3577"/>
                      </a:lnTo>
                      <a:lnTo>
                        <a:pt x="1725" y="3582"/>
                      </a:lnTo>
                      <a:lnTo>
                        <a:pt x="1711" y="3586"/>
                      </a:lnTo>
                      <a:lnTo>
                        <a:pt x="1700" y="3589"/>
                      </a:lnTo>
                      <a:lnTo>
                        <a:pt x="1690" y="3591"/>
                      </a:lnTo>
                      <a:lnTo>
                        <a:pt x="1637" y="3601"/>
                      </a:lnTo>
                      <a:lnTo>
                        <a:pt x="1555" y="3615"/>
                      </a:lnTo>
                      <a:lnTo>
                        <a:pt x="1542" y="3616"/>
                      </a:lnTo>
                      <a:lnTo>
                        <a:pt x="1525" y="3619"/>
                      </a:lnTo>
                      <a:lnTo>
                        <a:pt x="1489" y="3622"/>
                      </a:lnTo>
                      <a:lnTo>
                        <a:pt x="1458" y="3622"/>
                      </a:lnTo>
                      <a:lnTo>
                        <a:pt x="1436" y="3623"/>
                      </a:lnTo>
                      <a:lnTo>
                        <a:pt x="1440" y="3622"/>
                      </a:lnTo>
                      <a:lnTo>
                        <a:pt x="1440" y="3589"/>
                      </a:lnTo>
                      <a:lnTo>
                        <a:pt x="1439" y="3560"/>
                      </a:lnTo>
                      <a:lnTo>
                        <a:pt x="1438" y="3533"/>
                      </a:lnTo>
                      <a:lnTo>
                        <a:pt x="1438" y="3528"/>
                      </a:lnTo>
                      <a:lnTo>
                        <a:pt x="1438" y="3524"/>
                      </a:lnTo>
                      <a:lnTo>
                        <a:pt x="1439" y="3520"/>
                      </a:lnTo>
                      <a:lnTo>
                        <a:pt x="1442" y="3519"/>
                      </a:lnTo>
                      <a:lnTo>
                        <a:pt x="1443" y="3518"/>
                      </a:lnTo>
                      <a:lnTo>
                        <a:pt x="1446" y="3516"/>
                      </a:lnTo>
                      <a:lnTo>
                        <a:pt x="1448" y="3516"/>
                      </a:lnTo>
                      <a:lnTo>
                        <a:pt x="1452" y="3518"/>
                      </a:lnTo>
                      <a:lnTo>
                        <a:pt x="1458" y="3519"/>
                      </a:lnTo>
                      <a:lnTo>
                        <a:pt x="1463" y="3521"/>
                      </a:lnTo>
                      <a:lnTo>
                        <a:pt x="1468" y="3524"/>
                      </a:lnTo>
                      <a:lnTo>
                        <a:pt x="1473" y="3489"/>
                      </a:lnTo>
                      <a:lnTo>
                        <a:pt x="1338" y="3491"/>
                      </a:lnTo>
                      <a:lnTo>
                        <a:pt x="1338" y="3396"/>
                      </a:lnTo>
                      <a:lnTo>
                        <a:pt x="1345" y="3280"/>
                      </a:lnTo>
                      <a:lnTo>
                        <a:pt x="1455" y="3283"/>
                      </a:lnTo>
                      <a:lnTo>
                        <a:pt x="1460" y="3065"/>
                      </a:lnTo>
                      <a:lnTo>
                        <a:pt x="1182" y="3048"/>
                      </a:lnTo>
                      <a:lnTo>
                        <a:pt x="1117" y="3299"/>
                      </a:lnTo>
                      <a:lnTo>
                        <a:pt x="1115" y="3312"/>
                      </a:lnTo>
                      <a:lnTo>
                        <a:pt x="1107" y="3346"/>
                      </a:lnTo>
                      <a:lnTo>
                        <a:pt x="1103" y="3336"/>
                      </a:lnTo>
                      <a:lnTo>
                        <a:pt x="1098" y="3322"/>
                      </a:lnTo>
                      <a:lnTo>
                        <a:pt x="1095" y="3313"/>
                      </a:lnTo>
                      <a:lnTo>
                        <a:pt x="1091" y="3307"/>
                      </a:lnTo>
                      <a:lnTo>
                        <a:pt x="1088" y="3301"/>
                      </a:lnTo>
                      <a:lnTo>
                        <a:pt x="1084" y="3300"/>
                      </a:lnTo>
                      <a:lnTo>
                        <a:pt x="1083" y="3300"/>
                      </a:lnTo>
                      <a:lnTo>
                        <a:pt x="1082" y="3301"/>
                      </a:lnTo>
                      <a:lnTo>
                        <a:pt x="1079" y="3304"/>
                      </a:lnTo>
                      <a:lnTo>
                        <a:pt x="1076" y="3308"/>
                      </a:lnTo>
                      <a:lnTo>
                        <a:pt x="1075" y="3313"/>
                      </a:lnTo>
                      <a:lnTo>
                        <a:pt x="1071" y="3328"/>
                      </a:lnTo>
                      <a:lnTo>
                        <a:pt x="1069" y="3342"/>
                      </a:lnTo>
                      <a:lnTo>
                        <a:pt x="1067" y="3357"/>
                      </a:lnTo>
                      <a:lnTo>
                        <a:pt x="1066" y="3366"/>
                      </a:lnTo>
                      <a:lnTo>
                        <a:pt x="1067" y="3374"/>
                      </a:lnTo>
                      <a:lnTo>
                        <a:pt x="1069" y="3383"/>
                      </a:lnTo>
                      <a:lnTo>
                        <a:pt x="1070" y="3399"/>
                      </a:lnTo>
                      <a:lnTo>
                        <a:pt x="1070" y="3408"/>
                      </a:lnTo>
                      <a:lnTo>
                        <a:pt x="1070" y="3412"/>
                      </a:lnTo>
                      <a:lnTo>
                        <a:pt x="1069" y="3416"/>
                      </a:lnTo>
                      <a:lnTo>
                        <a:pt x="1067" y="3420"/>
                      </a:lnTo>
                      <a:lnTo>
                        <a:pt x="1065" y="3423"/>
                      </a:lnTo>
                      <a:lnTo>
                        <a:pt x="1062" y="3427"/>
                      </a:lnTo>
                      <a:lnTo>
                        <a:pt x="1058" y="3429"/>
                      </a:lnTo>
                      <a:lnTo>
                        <a:pt x="1055" y="3432"/>
                      </a:lnTo>
                      <a:lnTo>
                        <a:pt x="1054" y="3436"/>
                      </a:lnTo>
                      <a:lnTo>
                        <a:pt x="1053" y="3440"/>
                      </a:lnTo>
                      <a:lnTo>
                        <a:pt x="1053" y="3444"/>
                      </a:lnTo>
                      <a:lnTo>
                        <a:pt x="1054" y="3448"/>
                      </a:lnTo>
                      <a:lnTo>
                        <a:pt x="1055" y="3452"/>
                      </a:lnTo>
                      <a:lnTo>
                        <a:pt x="1061" y="3461"/>
                      </a:lnTo>
                      <a:lnTo>
                        <a:pt x="1069" y="3470"/>
                      </a:lnTo>
                      <a:lnTo>
                        <a:pt x="1075" y="3479"/>
                      </a:lnTo>
                      <a:lnTo>
                        <a:pt x="1091" y="3496"/>
                      </a:lnTo>
                      <a:lnTo>
                        <a:pt x="1096" y="3506"/>
                      </a:lnTo>
                      <a:lnTo>
                        <a:pt x="1099" y="3512"/>
                      </a:lnTo>
                      <a:lnTo>
                        <a:pt x="1102" y="3518"/>
                      </a:lnTo>
                      <a:lnTo>
                        <a:pt x="1107" y="3532"/>
                      </a:lnTo>
                      <a:lnTo>
                        <a:pt x="1112" y="3545"/>
                      </a:lnTo>
                      <a:lnTo>
                        <a:pt x="1119" y="3569"/>
                      </a:lnTo>
                      <a:lnTo>
                        <a:pt x="1121" y="3580"/>
                      </a:lnTo>
                      <a:lnTo>
                        <a:pt x="1120" y="3585"/>
                      </a:lnTo>
                      <a:lnTo>
                        <a:pt x="1121" y="3589"/>
                      </a:lnTo>
                      <a:lnTo>
                        <a:pt x="1123" y="3593"/>
                      </a:lnTo>
                      <a:lnTo>
                        <a:pt x="1125" y="3597"/>
                      </a:lnTo>
                      <a:lnTo>
                        <a:pt x="1129" y="3601"/>
                      </a:lnTo>
                      <a:lnTo>
                        <a:pt x="1132" y="3602"/>
                      </a:lnTo>
                      <a:lnTo>
                        <a:pt x="1219" y="3727"/>
                      </a:lnTo>
                      <a:lnTo>
                        <a:pt x="1193" y="3752"/>
                      </a:lnTo>
                      <a:lnTo>
                        <a:pt x="1153" y="3701"/>
                      </a:lnTo>
                      <a:lnTo>
                        <a:pt x="1154" y="3696"/>
                      </a:lnTo>
                      <a:lnTo>
                        <a:pt x="1153" y="3693"/>
                      </a:lnTo>
                      <a:lnTo>
                        <a:pt x="1152" y="3690"/>
                      </a:lnTo>
                      <a:lnTo>
                        <a:pt x="1148" y="3689"/>
                      </a:lnTo>
                      <a:lnTo>
                        <a:pt x="1140" y="3686"/>
                      </a:lnTo>
                      <a:lnTo>
                        <a:pt x="1129" y="3686"/>
                      </a:lnTo>
                      <a:lnTo>
                        <a:pt x="1119" y="3686"/>
                      </a:lnTo>
                      <a:lnTo>
                        <a:pt x="1108" y="3689"/>
                      </a:lnTo>
                      <a:lnTo>
                        <a:pt x="1100" y="3690"/>
                      </a:lnTo>
                      <a:lnTo>
                        <a:pt x="1095" y="3692"/>
                      </a:lnTo>
                      <a:lnTo>
                        <a:pt x="1088" y="3693"/>
                      </a:lnTo>
                      <a:lnTo>
                        <a:pt x="1074" y="3694"/>
                      </a:lnTo>
                      <a:lnTo>
                        <a:pt x="1029" y="3698"/>
                      </a:lnTo>
                      <a:lnTo>
                        <a:pt x="1004" y="3701"/>
                      </a:lnTo>
                      <a:lnTo>
                        <a:pt x="976" y="3703"/>
                      </a:lnTo>
                      <a:lnTo>
                        <a:pt x="951" y="3707"/>
                      </a:lnTo>
                      <a:lnTo>
                        <a:pt x="929" y="3711"/>
                      </a:lnTo>
                      <a:lnTo>
                        <a:pt x="908" y="3715"/>
                      </a:lnTo>
                      <a:lnTo>
                        <a:pt x="887" y="3722"/>
                      </a:lnTo>
                      <a:lnTo>
                        <a:pt x="851" y="3734"/>
                      </a:lnTo>
                      <a:lnTo>
                        <a:pt x="825" y="3743"/>
                      </a:lnTo>
                      <a:lnTo>
                        <a:pt x="814" y="3747"/>
                      </a:lnTo>
                      <a:lnTo>
                        <a:pt x="813" y="3752"/>
                      </a:lnTo>
                      <a:lnTo>
                        <a:pt x="782" y="3740"/>
                      </a:lnTo>
                      <a:lnTo>
                        <a:pt x="731" y="3225"/>
                      </a:lnTo>
                      <a:lnTo>
                        <a:pt x="735" y="3142"/>
                      </a:lnTo>
                      <a:lnTo>
                        <a:pt x="705" y="3146"/>
                      </a:lnTo>
                      <a:lnTo>
                        <a:pt x="699" y="3121"/>
                      </a:lnTo>
                      <a:lnTo>
                        <a:pt x="694" y="3099"/>
                      </a:lnTo>
                      <a:lnTo>
                        <a:pt x="687" y="3078"/>
                      </a:lnTo>
                      <a:lnTo>
                        <a:pt x="685" y="3070"/>
                      </a:lnTo>
                      <a:lnTo>
                        <a:pt x="681" y="3061"/>
                      </a:lnTo>
                      <a:lnTo>
                        <a:pt x="676" y="3053"/>
                      </a:lnTo>
                      <a:lnTo>
                        <a:pt x="672" y="3045"/>
                      </a:lnTo>
                      <a:lnTo>
                        <a:pt x="653" y="3015"/>
                      </a:lnTo>
                      <a:lnTo>
                        <a:pt x="649" y="3007"/>
                      </a:lnTo>
                      <a:lnTo>
                        <a:pt x="645" y="3001"/>
                      </a:lnTo>
                      <a:lnTo>
                        <a:pt x="644" y="2994"/>
                      </a:lnTo>
                      <a:lnTo>
                        <a:pt x="643" y="2987"/>
                      </a:lnTo>
                      <a:lnTo>
                        <a:pt x="643" y="2979"/>
                      </a:lnTo>
                      <a:lnTo>
                        <a:pt x="644" y="2973"/>
                      </a:lnTo>
                      <a:lnTo>
                        <a:pt x="648" y="2965"/>
                      </a:lnTo>
                      <a:lnTo>
                        <a:pt x="653" y="2956"/>
                      </a:lnTo>
                      <a:lnTo>
                        <a:pt x="658" y="2947"/>
                      </a:lnTo>
                      <a:lnTo>
                        <a:pt x="662" y="2935"/>
                      </a:lnTo>
                      <a:lnTo>
                        <a:pt x="666" y="2923"/>
                      </a:lnTo>
                      <a:lnTo>
                        <a:pt x="669" y="2912"/>
                      </a:lnTo>
                      <a:lnTo>
                        <a:pt x="672" y="2892"/>
                      </a:lnTo>
                      <a:lnTo>
                        <a:pt x="672" y="2886"/>
                      </a:lnTo>
                      <a:lnTo>
                        <a:pt x="640" y="2845"/>
                      </a:lnTo>
                      <a:lnTo>
                        <a:pt x="650" y="2825"/>
                      </a:lnTo>
                      <a:lnTo>
                        <a:pt x="654" y="2819"/>
                      </a:lnTo>
                      <a:lnTo>
                        <a:pt x="738" y="2505"/>
                      </a:lnTo>
                      <a:lnTo>
                        <a:pt x="631" y="2457"/>
                      </a:lnTo>
                      <a:lnTo>
                        <a:pt x="288" y="2907"/>
                      </a:lnTo>
                      <a:lnTo>
                        <a:pt x="203" y="2878"/>
                      </a:lnTo>
                      <a:lnTo>
                        <a:pt x="192" y="2858"/>
                      </a:lnTo>
                      <a:lnTo>
                        <a:pt x="156" y="2854"/>
                      </a:lnTo>
                      <a:lnTo>
                        <a:pt x="0" y="2709"/>
                      </a:lnTo>
                      <a:lnTo>
                        <a:pt x="110" y="2617"/>
                      </a:lnTo>
                      <a:lnTo>
                        <a:pt x="103" y="2612"/>
                      </a:lnTo>
                      <a:lnTo>
                        <a:pt x="97" y="2605"/>
                      </a:lnTo>
                      <a:lnTo>
                        <a:pt x="89" y="2597"/>
                      </a:lnTo>
                      <a:lnTo>
                        <a:pt x="81" y="2588"/>
                      </a:lnTo>
                      <a:lnTo>
                        <a:pt x="73" y="2577"/>
                      </a:lnTo>
                      <a:lnTo>
                        <a:pt x="66" y="2567"/>
                      </a:lnTo>
                      <a:lnTo>
                        <a:pt x="65" y="2560"/>
                      </a:lnTo>
                      <a:lnTo>
                        <a:pt x="64" y="2555"/>
                      </a:lnTo>
                      <a:lnTo>
                        <a:pt x="58" y="2534"/>
                      </a:lnTo>
                      <a:lnTo>
                        <a:pt x="54" y="2514"/>
                      </a:lnTo>
                      <a:lnTo>
                        <a:pt x="45" y="2477"/>
                      </a:lnTo>
                      <a:lnTo>
                        <a:pt x="27" y="2407"/>
                      </a:lnTo>
                      <a:lnTo>
                        <a:pt x="23" y="2390"/>
                      </a:lnTo>
                      <a:lnTo>
                        <a:pt x="19" y="2373"/>
                      </a:lnTo>
                      <a:lnTo>
                        <a:pt x="16" y="2356"/>
                      </a:lnTo>
                      <a:lnTo>
                        <a:pt x="12" y="2339"/>
                      </a:lnTo>
                      <a:lnTo>
                        <a:pt x="10" y="2320"/>
                      </a:lnTo>
                      <a:lnTo>
                        <a:pt x="8" y="2300"/>
                      </a:lnTo>
                      <a:lnTo>
                        <a:pt x="8" y="2290"/>
                      </a:lnTo>
                      <a:lnTo>
                        <a:pt x="7" y="2279"/>
                      </a:lnTo>
                      <a:lnTo>
                        <a:pt x="7" y="2258"/>
                      </a:lnTo>
                      <a:lnTo>
                        <a:pt x="7" y="2224"/>
                      </a:lnTo>
                      <a:lnTo>
                        <a:pt x="211" y="2175"/>
                      </a:lnTo>
                      <a:lnTo>
                        <a:pt x="223" y="2081"/>
                      </a:lnTo>
                      <a:lnTo>
                        <a:pt x="172" y="2085"/>
                      </a:lnTo>
                      <a:lnTo>
                        <a:pt x="155" y="2034"/>
                      </a:lnTo>
                      <a:lnTo>
                        <a:pt x="155" y="2019"/>
                      </a:lnTo>
                      <a:lnTo>
                        <a:pt x="326" y="1898"/>
                      </a:lnTo>
                      <a:lnTo>
                        <a:pt x="368" y="1886"/>
                      </a:lnTo>
                      <a:lnTo>
                        <a:pt x="309" y="1745"/>
                      </a:lnTo>
                      <a:lnTo>
                        <a:pt x="226" y="1750"/>
                      </a:lnTo>
                      <a:lnTo>
                        <a:pt x="161" y="1737"/>
                      </a:lnTo>
                      <a:lnTo>
                        <a:pt x="114" y="1728"/>
                      </a:lnTo>
                      <a:lnTo>
                        <a:pt x="97" y="1725"/>
                      </a:lnTo>
                      <a:lnTo>
                        <a:pt x="86" y="1724"/>
                      </a:lnTo>
                      <a:lnTo>
                        <a:pt x="86" y="1723"/>
                      </a:lnTo>
                      <a:lnTo>
                        <a:pt x="85" y="1721"/>
                      </a:lnTo>
                      <a:lnTo>
                        <a:pt x="85" y="1715"/>
                      </a:lnTo>
                      <a:lnTo>
                        <a:pt x="85" y="1691"/>
                      </a:lnTo>
                      <a:lnTo>
                        <a:pt x="89" y="1657"/>
                      </a:lnTo>
                      <a:lnTo>
                        <a:pt x="94" y="1619"/>
                      </a:lnTo>
                      <a:lnTo>
                        <a:pt x="105" y="1546"/>
                      </a:lnTo>
                      <a:lnTo>
                        <a:pt x="110" y="1514"/>
                      </a:lnTo>
                      <a:lnTo>
                        <a:pt x="81" y="1463"/>
                      </a:lnTo>
                      <a:lnTo>
                        <a:pt x="78" y="1381"/>
                      </a:lnTo>
                      <a:lnTo>
                        <a:pt x="45" y="1381"/>
                      </a:lnTo>
                      <a:lnTo>
                        <a:pt x="48" y="1380"/>
                      </a:lnTo>
                      <a:lnTo>
                        <a:pt x="53" y="1379"/>
                      </a:lnTo>
                      <a:lnTo>
                        <a:pt x="64" y="1376"/>
                      </a:lnTo>
                      <a:lnTo>
                        <a:pt x="75" y="1373"/>
                      </a:lnTo>
                      <a:lnTo>
                        <a:pt x="89" y="1372"/>
                      </a:lnTo>
                      <a:lnTo>
                        <a:pt x="110" y="1371"/>
                      </a:lnTo>
                      <a:lnTo>
                        <a:pt x="120" y="1371"/>
                      </a:lnTo>
                      <a:lnTo>
                        <a:pt x="132" y="1119"/>
                      </a:lnTo>
                      <a:lnTo>
                        <a:pt x="149" y="1104"/>
                      </a:lnTo>
                      <a:lnTo>
                        <a:pt x="149" y="1106"/>
                      </a:lnTo>
                      <a:lnTo>
                        <a:pt x="151" y="1103"/>
                      </a:lnTo>
                      <a:lnTo>
                        <a:pt x="156" y="1099"/>
                      </a:lnTo>
                      <a:lnTo>
                        <a:pt x="156" y="1096"/>
                      </a:lnTo>
                      <a:lnTo>
                        <a:pt x="190" y="1049"/>
                      </a:lnTo>
                      <a:lnTo>
                        <a:pt x="185" y="1034"/>
                      </a:lnTo>
                      <a:lnTo>
                        <a:pt x="176" y="1008"/>
                      </a:lnTo>
                      <a:lnTo>
                        <a:pt x="173" y="1003"/>
                      </a:lnTo>
                      <a:lnTo>
                        <a:pt x="170" y="996"/>
                      </a:lnTo>
                      <a:lnTo>
                        <a:pt x="169" y="990"/>
                      </a:lnTo>
                      <a:lnTo>
                        <a:pt x="169" y="982"/>
                      </a:lnTo>
                      <a:lnTo>
                        <a:pt x="170" y="970"/>
                      </a:lnTo>
                      <a:lnTo>
                        <a:pt x="173" y="963"/>
                      </a:lnTo>
                      <a:lnTo>
                        <a:pt x="174" y="957"/>
                      </a:lnTo>
                      <a:lnTo>
                        <a:pt x="181" y="938"/>
                      </a:lnTo>
                      <a:lnTo>
                        <a:pt x="190" y="917"/>
                      </a:lnTo>
                      <a:lnTo>
                        <a:pt x="199" y="893"/>
                      </a:lnTo>
                      <a:lnTo>
                        <a:pt x="206" y="873"/>
                      </a:lnTo>
                      <a:lnTo>
                        <a:pt x="214" y="839"/>
                      </a:lnTo>
                      <a:lnTo>
                        <a:pt x="218" y="825"/>
                      </a:lnTo>
                      <a:lnTo>
                        <a:pt x="221" y="818"/>
                      </a:lnTo>
                      <a:lnTo>
                        <a:pt x="223" y="813"/>
                      </a:lnTo>
                      <a:lnTo>
                        <a:pt x="227" y="806"/>
                      </a:lnTo>
                      <a:lnTo>
                        <a:pt x="231" y="801"/>
                      </a:lnTo>
                      <a:lnTo>
                        <a:pt x="236" y="794"/>
                      </a:lnTo>
                      <a:lnTo>
                        <a:pt x="243" y="789"/>
                      </a:lnTo>
                      <a:lnTo>
                        <a:pt x="255" y="781"/>
                      </a:lnTo>
                      <a:lnTo>
                        <a:pt x="267" y="773"/>
                      </a:lnTo>
                      <a:lnTo>
                        <a:pt x="280" y="768"/>
                      </a:lnTo>
                      <a:lnTo>
                        <a:pt x="290" y="763"/>
                      </a:lnTo>
                      <a:lnTo>
                        <a:pt x="329" y="760"/>
                      </a:lnTo>
                      <a:lnTo>
                        <a:pt x="345" y="705"/>
                      </a:lnTo>
                      <a:lnTo>
                        <a:pt x="420" y="550"/>
                      </a:lnTo>
                      <a:lnTo>
                        <a:pt x="570" y="495"/>
                      </a:lnTo>
                      <a:lnTo>
                        <a:pt x="665" y="515"/>
                      </a:lnTo>
                      <a:lnTo>
                        <a:pt x="682" y="513"/>
                      </a:lnTo>
                      <a:lnTo>
                        <a:pt x="686" y="512"/>
                      </a:lnTo>
                      <a:lnTo>
                        <a:pt x="691" y="511"/>
                      </a:lnTo>
                      <a:lnTo>
                        <a:pt x="538" y="318"/>
                      </a:lnTo>
                      <a:lnTo>
                        <a:pt x="798" y="231"/>
                      </a:lnTo>
                      <a:lnTo>
                        <a:pt x="803" y="251"/>
                      </a:lnTo>
                      <a:lnTo>
                        <a:pt x="823" y="263"/>
                      </a:lnTo>
                      <a:lnTo>
                        <a:pt x="842" y="276"/>
                      </a:lnTo>
                      <a:lnTo>
                        <a:pt x="851" y="284"/>
                      </a:lnTo>
                      <a:lnTo>
                        <a:pt x="859" y="291"/>
                      </a:lnTo>
                      <a:lnTo>
                        <a:pt x="867" y="297"/>
                      </a:lnTo>
                      <a:lnTo>
                        <a:pt x="875" y="305"/>
                      </a:lnTo>
                      <a:lnTo>
                        <a:pt x="881" y="313"/>
                      </a:lnTo>
                      <a:lnTo>
                        <a:pt x="888" y="321"/>
                      </a:lnTo>
                      <a:lnTo>
                        <a:pt x="893" y="330"/>
                      </a:lnTo>
                      <a:lnTo>
                        <a:pt x="897" y="339"/>
                      </a:lnTo>
                      <a:lnTo>
                        <a:pt x="901" y="349"/>
                      </a:lnTo>
                      <a:lnTo>
                        <a:pt x="904" y="359"/>
                      </a:lnTo>
                      <a:lnTo>
                        <a:pt x="905" y="371"/>
                      </a:lnTo>
                      <a:lnTo>
                        <a:pt x="906" y="383"/>
                      </a:lnTo>
                      <a:lnTo>
                        <a:pt x="906" y="475"/>
                      </a:lnTo>
                      <a:lnTo>
                        <a:pt x="906" y="479"/>
                      </a:lnTo>
                      <a:lnTo>
                        <a:pt x="908" y="483"/>
                      </a:lnTo>
                      <a:lnTo>
                        <a:pt x="909" y="487"/>
                      </a:lnTo>
                      <a:lnTo>
                        <a:pt x="912" y="490"/>
                      </a:lnTo>
                      <a:lnTo>
                        <a:pt x="917" y="496"/>
                      </a:lnTo>
                      <a:lnTo>
                        <a:pt x="921" y="503"/>
                      </a:lnTo>
                      <a:lnTo>
                        <a:pt x="935" y="496"/>
                      </a:lnTo>
                      <a:lnTo>
                        <a:pt x="947" y="490"/>
                      </a:lnTo>
                      <a:lnTo>
                        <a:pt x="954" y="487"/>
                      </a:lnTo>
                      <a:lnTo>
                        <a:pt x="960" y="486"/>
                      </a:lnTo>
                      <a:lnTo>
                        <a:pt x="968" y="484"/>
                      </a:lnTo>
                      <a:lnTo>
                        <a:pt x="976" y="483"/>
                      </a:lnTo>
                      <a:lnTo>
                        <a:pt x="984" y="484"/>
                      </a:lnTo>
                      <a:lnTo>
                        <a:pt x="987" y="486"/>
                      </a:lnTo>
                      <a:lnTo>
                        <a:pt x="991" y="487"/>
                      </a:lnTo>
                      <a:lnTo>
                        <a:pt x="996" y="490"/>
                      </a:lnTo>
                      <a:lnTo>
                        <a:pt x="1003" y="492"/>
                      </a:lnTo>
                      <a:lnTo>
                        <a:pt x="1008" y="496"/>
                      </a:lnTo>
                      <a:lnTo>
                        <a:pt x="1013" y="500"/>
                      </a:lnTo>
                      <a:lnTo>
                        <a:pt x="1020" y="504"/>
                      </a:lnTo>
                      <a:lnTo>
                        <a:pt x="1028" y="507"/>
                      </a:lnTo>
                      <a:lnTo>
                        <a:pt x="1030" y="503"/>
                      </a:lnTo>
                      <a:lnTo>
                        <a:pt x="1033" y="498"/>
                      </a:lnTo>
                      <a:lnTo>
                        <a:pt x="1034" y="494"/>
                      </a:lnTo>
                      <a:lnTo>
                        <a:pt x="1036" y="491"/>
                      </a:lnTo>
                      <a:lnTo>
                        <a:pt x="1036" y="487"/>
                      </a:lnTo>
                      <a:lnTo>
                        <a:pt x="1036" y="483"/>
                      </a:lnTo>
                      <a:lnTo>
                        <a:pt x="1034" y="478"/>
                      </a:lnTo>
                      <a:lnTo>
                        <a:pt x="1032" y="474"/>
                      </a:lnTo>
                      <a:lnTo>
                        <a:pt x="1029" y="470"/>
                      </a:lnTo>
                      <a:lnTo>
                        <a:pt x="1028" y="466"/>
                      </a:lnTo>
                      <a:lnTo>
                        <a:pt x="1025" y="462"/>
                      </a:lnTo>
                      <a:lnTo>
                        <a:pt x="1024" y="457"/>
                      </a:lnTo>
                      <a:lnTo>
                        <a:pt x="1024" y="453"/>
                      </a:lnTo>
                      <a:lnTo>
                        <a:pt x="1024" y="449"/>
                      </a:lnTo>
                      <a:lnTo>
                        <a:pt x="1025" y="445"/>
                      </a:lnTo>
                      <a:lnTo>
                        <a:pt x="1026" y="442"/>
                      </a:lnTo>
                      <a:lnTo>
                        <a:pt x="1029" y="440"/>
                      </a:lnTo>
                      <a:lnTo>
                        <a:pt x="1032" y="437"/>
                      </a:lnTo>
                      <a:lnTo>
                        <a:pt x="1034" y="434"/>
                      </a:lnTo>
                      <a:lnTo>
                        <a:pt x="1041" y="432"/>
                      </a:lnTo>
                      <a:lnTo>
                        <a:pt x="1049" y="429"/>
                      </a:lnTo>
                      <a:lnTo>
                        <a:pt x="1057" y="428"/>
                      </a:lnTo>
                      <a:lnTo>
                        <a:pt x="1075" y="425"/>
                      </a:lnTo>
                      <a:lnTo>
                        <a:pt x="1075" y="386"/>
                      </a:lnTo>
                      <a:lnTo>
                        <a:pt x="1115" y="386"/>
                      </a:lnTo>
                      <a:lnTo>
                        <a:pt x="1115" y="400"/>
                      </a:lnTo>
                      <a:lnTo>
                        <a:pt x="1116" y="415"/>
                      </a:lnTo>
                      <a:lnTo>
                        <a:pt x="1117" y="421"/>
                      </a:lnTo>
                      <a:lnTo>
                        <a:pt x="1121" y="426"/>
                      </a:lnTo>
                      <a:lnTo>
                        <a:pt x="1123" y="429"/>
                      </a:lnTo>
                      <a:lnTo>
                        <a:pt x="1125" y="432"/>
                      </a:lnTo>
                      <a:lnTo>
                        <a:pt x="1131" y="437"/>
                      </a:lnTo>
                      <a:lnTo>
                        <a:pt x="1134" y="430"/>
                      </a:lnTo>
                      <a:lnTo>
                        <a:pt x="1138" y="425"/>
                      </a:lnTo>
                      <a:lnTo>
                        <a:pt x="1145" y="412"/>
                      </a:lnTo>
                      <a:lnTo>
                        <a:pt x="1148" y="418"/>
                      </a:lnTo>
                      <a:lnTo>
                        <a:pt x="1148" y="424"/>
                      </a:lnTo>
                      <a:lnTo>
                        <a:pt x="1148" y="429"/>
                      </a:lnTo>
                      <a:lnTo>
                        <a:pt x="1148" y="434"/>
                      </a:lnTo>
                      <a:lnTo>
                        <a:pt x="1146" y="445"/>
                      </a:lnTo>
                      <a:lnTo>
                        <a:pt x="1145" y="457"/>
                      </a:lnTo>
                      <a:lnTo>
                        <a:pt x="1146" y="459"/>
                      </a:lnTo>
                      <a:lnTo>
                        <a:pt x="1146" y="461"/>
                      </a:lnTo>
                      <a:lnTo>
                        <a:pt x="1149" y="465"/>
                      </a:lnTo>
                      <a:lnTo>
                        <a:pt x="1152" y="469"/>
                      </a:lnTo>
                      <a:lnTo>
                        <a:pt x="1156" y="473"/>
                      </a:lnTo>
                      <a:lnTo>
                        <a:pt x="1160" y="475"/>
                      </a:lnTo>
                      <a:lnTo>
                        <a:pt x="1162" y="479"/>
                      </a:lnTo>
                      <a:lnTo>
                        <a:pt x="1165" y="483"/>
                      </a:lnTo>
                      <a:lnTo>
                        <a:pt x="1165" y="486"/>
                      </a:lnTo>
                      <a:lnTo>
                        <a:pt x="1165" y="487"/>
                      </a:lnTo>
                      <a:lnTo>
                        <a:pt x="1165" y="498"/>
                      </a:lnTo>
                      <a:lnTo>
                        <a:pt x="1163" y="506"/>
                      </a:lnTo>
                      <a:lnTo>
                        <a:pt x="1162" y="515"/>
                      </a:lnTo>
                      <a:lnTo>
                        <a:pt x="1161" y="524"/>
                      </a:lnTo>
                      <a:lnTo>
                        <a:pt x="1170" y="519"/>
                      </a:lnTo>
                      <a:lnTo>
                        <a:pt x="1178" y="513"/>
                      </a:lnTo>
                      <a:lnTo>
                        <a:pt x="1183" y="511"/>
                      </a:lnTo>
                      <a:lnTo>
                        <a:pt x="1187" y="508"/>
                      </a:lnTo>
                      <a:lnTo>
                        <a:pt x="1193" y="508"/>
                      </a:lnTo>
                      <a:lnTo>
                        <a:pt x="1198" y="507"/>
                      </a:lnTo>
                      <a:lnTo>
                        <a:pt x="1204" y="508"/>
                      </a:lnTo>
                      <a:lnTo>
                        <a:pt x="1212" y="508"/>
                      </a:lnTo>
                      <a:lnTo>
                        <a:pt x="1219" y="511"/>
                      </a:lnTo>
                      <a:lnTo>
                        <a:pt x="1225" y="513"/>
                      </a:lnTo>
                      <a:lnTo>
                        <a:pt x="1231" y="516"/>
                      </a:lnTo>
                      <a:lnTo>
                        <a:pt x="1236" y="520"/>
                      </a:lnTo>
                      <a:lnTo>
                        <a:pt x="1241" y="525"/>
                      </a:lnTo>
                      <a:lnTo>
                        <a:pt x="1247" y="529"/>
                      </a:lnTo>
                      <a:lnTo>
                        <a:pt x="1254" y="541"/>
                      </a:lnTo>
                      <a:lnTo>
                        <a:pt x="1262" y="553"/>
                      </a:lnTo>
                      <a:lnTo>
                        <a:pt x="1268" y="568"/>
                      </a:lnTo>
                      <a:lnTo>
                        <a:pt x="1273" y="582"/>
                      </a:lnTo>
                      <a:lnTo>
                        <a:pt x="1273" y="599"/>
                      </a:lnTo>
                      <a:lnTo>
                        <a:pt x="1272" y="614"/>
                      </a:lnTo>
                      <a:lnTo>
                        <a:pt x="1270" y="641"/>
                      </a:lnTo>
                      <a:lnTo>
                        <a:pt x="1269" y="655"/>
                      </a:lnTo>
                      <a:lnTo>
                        <a:pt x="1270" y="669"/>
                      </a:lnTo>
                      <a:lnTo>
                        <a:pt x="1270" y="684"/>
                      </a:lnTo>
                      <a:lnTo>
                        <a:pt x="1272" y="691"/>
                      </a:lnTo>
                      <a:lnTo>
                        <a:pt x="1273" y="701"/>
                      </a:lnTo>
                      <a:lnTo>
                        <a:pt x="1294" y="703"/>
                      </a:lnTo>
                      <a:lnTo>
                        <a:pt x="1303" y="705"/>
                      </a:lnTo>
                      <a:lnTo>
                        <a:pt x="1314" y="705"/>
                      </a:lnTo>
                      <a:lnTo>
                        <a:pt x="1319" y="705"/>
                      </a:lnTo>
                      <a:lnTo>
                        <a:pt x="1324" y="703"/>
                      </a:lnTo>
                      <a:lnTo>
                        <a:pt x="1328" y="702"/>
                      </a:lnTo>
                      <a:lnTo>
                        <a:pt x="1334" y="701"/>
                      </a:lnTo>
                      <a:lnTo>
                        <a:pt x="1338" y="698"/>
                      </a:lnTo>
                      <a:lnTo>
                        <a:pt x="1342" y="695"/>
                      </a:lnTo>
                      <a:lnTo>
                        <a:pt x="1345" y="691"/>
                      </a:lnTo>
                      <a:lnTo>
                        <a:pt x="1348" y="689"/>
                      </a:lnTo>
                      <a:lnTo>
                        <a:pt x="1355" y="680"/>
                      </a:lnTo>
                      <a:lnTo>
                        <a:pt x="1360" y="672"/>
                      </a:lnTo>
                      <a:lnTo>
                        <a:pt x="1371" y="652"/>
                      </a:lnTo>
                      <a:lnTo>
                        <a:pt x="1381" y="632"/>
                      </a:lnTo>
                      <a:lnTo>
                        <a:pt x="1386" y="623"/>
                      </a:lnTo>
                      <a:lnTo>
                        <a:pt x="1393" y="615"/>
                      </a:lnTo>
                      <a:lnTo>
                        <a:pt x="1400" y="608"/>
                      </a:lnTo>
                      <a:lnTo>
                        <a:pt x="1407" y="603"/>
                      </a:lnTo>
                      <a:lnTo>
                        <a:pt x="1413" y="600"/>
                      </a:lnTo>
                      <a:lnTo>
                        <a:pt x="1417" y="599"/>
                      </a:lnTo>
                      <a:lnTo>
                        <a:pt x="1422" y="598"/>
                      </a:lnTo>
                      <a:lnTo>
                        <a:pt x="1427" y="598"/>
                      </a:lnTo>
                      <a:lnTo>
                        <a:pt x="1435" y="598"/>
                      </a:lnTo>
                      <a:lnTo>
                        <a:pt x="1442" y="600"/>
                      </a:lnTo>
                      <a:lnTo>
                        <a:pt x="1447" y="602"/>
                      </a:lnTo>
                      <a:lnTo>
                        <a:pt x="1452" y="606"/>
                      </a:lnTo>
                      <a:lnTo>
                        <a:pt x="1458" y="610"/>
                      </a:lnTo>
                      <a:lnTo>
                        <a:pt x="1459" y="612"/>
                      </a:lnTo>
                      <a:lnTo>
                        <a:pt x="1462" y="615"/>
                      </a:lnTo>
                      <a:lnTo>
                        <a:pt x="1465" y="620"/>
                      </a:lnTo>
                      <a:lnTo>
                        <a:pt x="1467" y="623"/>
                      </a:lnTo>
                      <a:lnTo>
                        <a:pt x="1468" y="627"/>
                      </a:lnTo>
                      <a:lnTo>
                        <a:pt x="1471" y="633"/>
                      </a:lnTo>
                      <a:lnTo>
                        <a:pt x="1473" y="640"/>
                      </a:lnTo>
                      <a:lnTo>
                        <a:pt x="1477" y="656"/>
                      </a:lnTo>
                      <a:lnTo>
                        <a:pt x="1480" y="672"/>
                      </a:lnTo>
                      <a:lnTo>
                        <a:pt x="1483" y="689"/>
                      </a:lnTo>
                      <a:lnTo>
                        <a:pt x="1485" y="706"/>
                      </a:lnTo>
                      <a:lnTo>
                        <a:pt x="1488" y="722"/>
                      </a:lnTo>
                      <a:lnTo>
                        <a:pt x="1491" y="730"/>
                      </a:lnTo>
                      <a:lnTo>
                        <a:pt x="1492" y="738"/>
                      </a:lnTo>
                      <a:lnTo>
                        <a:pt x="1495" y="744"/>
                      </a:lnTo>
                      <a:lnTo>
                        <a:pt x="1497" y="751"/>
                      </a:lnTo>
                      <a:lnTo>
                        <a:pt x="1500" y="757"/>
                      </a:lnTo>
                      <a:lnTo>
                        <a:pt x="1504" y="763"/>
                      </a:lnTo>
                      <a:lnTo>
                        <a:pt x="1508" y="768"/>
                      </a:lnTo>
                      <a:lnTo>
                        <a:pt x="1510" y="769"/>
                      </a:lnTo>
                      <a:lnTo>
                        <a:pt x="1513" y="772"/>
                      </a:lnTo>
                      <a:lnTo>
                        <a:pt x="1518" y="775"/>
                      </a:lnTo>
                      <a:lnTo>
                        <a:pt x="1524" y="777"/>
                      </a:lnTo>
                      <a:lnTo>
                        <a:pt x="1530" y="779"/>
                      </a:lnTo>
                      <a:lnTo>
                        <a:pt x="1538" y="780"/>
                      </a:lnTo>
                      <a:lnTo>
                        <a:pt x="1542" y="779"/>
                      </a:lnTo>
                      <a:lnTo>
                        <a:pt x="1545" y="779"/>
                      </a:lnTo>
                      <a:lnTo>
                        <a:pt x="1551" y="776"/>
                      </a:lnTo>
                      <a:lnTo>
                        <a:pt x="1558" y="772"/>
                      </a:lnTo>
                      <a:lnTo>
                        <a:pt x="1563" y="768"/>
                      </a:lnTo>
                      <a:lnTo>
                        <a:pt x="1568" y="763"/>
                      </a:lnTo>
                      <a:lnTo>
                        <a:pt x="1574" y="760"/>
                      </a:lnTo>
                      <a:lnTo>
                        <a:pt x="1580" y="757"/>
                      </a:lnTo>
                      <a:lnTo>
                        <a:pt x="1588" y="756"/>
                      </a:lnTo>
                      <a:lnTo>
                        <a:pt x="1592" y="756"/>
                      </a:lnTo>
                      <a:lnTo>
                        <a:pt x="1596" y="759"/>
                      </a:lnTo>
                      <a:lnTo>
                        <a:pt x="1599" y="761"/>
                      </a:lnTo>
                      <a:lnTo>
                        <a:pt x="1601" y="764"/>
                      </a:lnTo>
                      <a:lnTo>
                        <a:pt x="1604" y="768"/>
                      </a:lnTo>
                      <a:lnTo>
                        <a:pt x="1605" y="773"/>
                      </a:lnTo>
                      <a:lnTo>
                        <a:pt x="1609" y="784"/>
                      </a:lnTo>
                      <a:lnTo>
                        <a:pt x="1612" y="793"/>
                      </a:lnTo>
                      <a:lnTo>
                        <a:pt x="1613" y="798"/>
                      </a:lnTo>
                      <a:lnTo>
                        <a:pt x="1616" y="802"/>
                      </a:lnTo>
                      <a:lnTo>
                        <a:pt x="1618" y="805"/>
                      </a:lnTo>
                      <a:lnTo>
                        <a:pt x="1622" y="808"/>
                      </a:lnTo>
                      <a:lnTo>
                        <a:pt x="1625" y="810"/>
                      </a:lnTo>
                      <a:lnTo>
                        <a:pt x="1630" y="810"/>
                      </a:lnTo>
                      <a:lnTo>
                        <a:pt x="1634" y="810"/>
                      </a:lnTo>
                      <a:lnTo>
                        <a:pt x="1637" y="809"/>
                      </a:lnTo>
                      <a:lnTo>
                        <a:pt x="1642" y="806"/>
                      </a:lnTo>
                      <a:lnTo>
                        <a:pt x="1649" y="804"/>
                      </a:lnTo>
                      <a:lnTo>
                        <a:pt x="1651" y="804"/>
                      </a:lnTo>
                      <a:lnTo>
                        <a:pt x="1655" y="802"/>
                      </a:lnTo>
                      <a:lnTo>
                        <a:pt x="1661" y="804"/>
                      </a:lnTo>
                      <a:lnTo>
                        <a:pt x="1662" y="805"/>
                      </a:lnTo>
                      <a:lnTo>
                        <a:pt x="1665" y="806"/>
                      </a:lnTo>
                      <a:lnTo>
                        <a:pt x="1666" y="808"/>
                      </a:lnTo>
                      <a:lnTo>
                        <a:pt x="1667" y="810"/>
                      </a:lnTo>
                      <a:lnTo>
                        <a:pt x="1670" y="814"/>
                      </a:lnTo>
                      <a:lnTo>
                        <a:pt x="1674" y="826"/>
                      </a:lnTo>
                      <a:lnTo>
                        <a:pt x="1678" y="838"/>
                      </a:lnTo>
                      <a:lnTo>
                        <a:pt x="1669" y="839"/>
                      </a:lnTo>
                      <a:lnTo>
                        <a:pt x="1663" y="839"/>
                      </a:lnTo>
                      <a:lnTo>
                        <a:pt x="1659" y="840"/>
                      </a:lnTo>
                      <a:lnTo>
                        <a:pt x="1651" y="843"/>
                      </a:lnTo>
                      <a:lnTo>
                        <a:pt x="1642" y="847"/>
                      </a:lnTo>
                      <a:lnTo>
                        <a:pt x="1644" y="852"/>
                      </a:lnTo>
                      <a:lnTo>
                        <a:pt x="1645" y="858"/>
                      </a:lnTo>
                      <a:lnTo>
                        <a:pt x="1650" y="868"/>
                      </a:lnTo>
                      <a:lnTo>
                        <a:pt x="1653" y="872"/>
                      </a:lnTo>
                      <a:lnTo>
                        <a:pt x="1655" y="876"/>
                      </a:lnTo>
                      <a:lnTo>
                        <a:pt x="1659" y="880"/>
                      </a:lnTo>
                      <a:lnTo>
                        <a:pt x="1663" y="884"/>
                      </a:lnTo>
                      <a:lnTo>
                        <a:pt x="1667" y="887"/>
                      </a:lnTo>
                      <a:lnTo>
                        <a:pt x="1673" y="889"/>
                      </a:lnTo>
                      <a:lnTo>
                        <a:pt x="1682" y="893"/>
                      </a:lnTo>
                      <a:lnTo>
                        <a:pt x="1687" y="896"/>
                      </a:lnTo>
                      <a:lnTo>
                        <a:pt x="1692" y="896"/>
                      </a:lnTo>
                      <a:lnTo>
                        <a:pt x="1704" y="897"/>
                      </a:lnTo>
                      <a:lnTo>
                        <a:pt x="1713" y="897"/>
                      </a:lnTo>
                      <a:lnTo>
                        <a:pt x="1711" y="885"/>
                      </a:lnTo>
                      <a:lnTo>
                        <a:pt x="1711" y="879"/>
                      </a:lnTo>
                      <a:lnTo>
                        <a:pt x="1711" y="87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463600" y="4280760"/>
                  <a:ext cx="46080" cy="38880"/>
                </a:xfrm>
                <a:custGeom>
                  <a:avLst/>
                  <a:gdLst/>
                  <a:ahLst/>
                  <a:rect l="l" t="t" r="r" b="b"/>
                  <a:pathLst>
                    <a:path w="91" h="74">
                      <a:moveTo>
                        <a:pt x="8" y="50"/>
                      </a:moveTo>
                      <a:lnTo>
                        <a:pt x="12" y="47"/>
                      </a:lnTo>
                      <a:lnTo>
                        <a:pt x="18" y="42"/>
                      </a:lnTo>
                      <a:lnTo>
                        <a:pt x="28" y="30"/>
                      </a:lnTo>
                      <a:lnTo>
                        <a:pt x="35" y="25"/>
                      </a:lnTo>
                      <a:lnTo>
                        <a:pt x="41" y="20"/>
                      </a:lnTo>
                      <a:lnTo>
                        <a:pt x="48" y="14"/>
                      </a:lnTo>
                      <a:lnTo>
                        <a:pt x="57" y="11"/>
                      </a:lnTo>
                      <a:lnTo>
                        <a:pt x="81" y="3"/>
                      </a:lnTo>
                      <a:lnTo>
                        <a:pt x="86" y="0"/>
                      </a:lnTo>
                      <a:lnTo>
                        <a:pt x="91" y="17"/>
                      </a:lnTo>
                      <a:lnTo>
                        <a:pt x="86" y="46"/>
                      </a:lnTo>
                      <a:lnTo>
                        <a:pt x="76" y="61"/>
                      </a:lnTo>
                      <a:lnTo>
                        <a:pt x="66" y="70"/>
                      </a:lnTo>
                      <a:lnTo>
                        <a:pt x="62" y="72"/>
                      </a:lnTo>
                      <a:lnTo>
                        <a:pt x="60" y="74"/>
                      </a:lnTo>
                      <a:lnTo>
                        <a:pt x="56" y="74"/>
                      </a:lnTo>
                      <a:lnTo>
                        <a:pt x="49" y="71"/>
                      </a:lnTo>
                      <a:lnTo>
                        <a:pt x="29" y="62"/>
                      </a:lnTo>
                      <a:lnTo>
                        <a:pt x="3" y="50"/>
                      </a:lnTo>
                      <a:lnTo>
                        <a:pt x="0" y="54"/>
                      </a:lnTo>
                      <a:lnTo>
                        <a:pt x="2" y="54"/>
                      </a:lnTo>
                      <a:lnTo>
                        <a:pt x="8" y="5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528400" y="4253040"/>
                  <a:ext cx="63360" cy="51120"/>
                </a:xfrm>
                <a:custGeom>
                  <a:avLst/>
                  <a:gdLst/>
                  <a:ahLst/>
                  <a:rect l="l" t="t" r="r" b="b"/>
                  <a:pathLst>
                    <a:path w="124" h="101">
                      <a:moveTo>
                        <a:pt x="0" y="46"/>
                      </a:moveTo>
                      <a:lnTo>
                        <a:pt x="19" y="46"/>
                      </a:lnTo>
                      <a:lnTo>
                        <a:pt x="35" y="44"/>
                      </a:lnTo>
                      <a:lnTo>
                        <a:pt x="43" y="43"/>
                      </a:lnTo>
                      <a:lnTo>
                        <a:pt x="51" y="40"/>
                      </a:lnTo>
                      <a:lnTo>
                        <a:pt x="54" y="39"/>
                      </a:lnTo>
                      <a:lnTo>
                        <a:pt x="58" y="38"/>
                      </a:lnTo>
                      <a:lnTo>
                        <a:pt x="66" y="33"/>
                      </a:lnTo>
                      <a:lnTo>
                        <a:pt x="83" y="18"/>
                      </a:lnTo>
                      <a:lnTo>
                        <a:pt x="96" y="5"/>
                      </a:lnTo>
                      <a:lnTo>
                        <a:pt x="101" y="0"/>
                      </a:lnTo>
                      <a:lnTo>
                        <a:pt x="117" y="9"/>
                      </a:lnTo>
                      <a:lnTo>
                        <a:pt x="124" y="83"/>
                      </a:lnTo>
                      <a:lnTo>
                        <a:pt x="101" y="88"/>
                      </a:lnTo>
                      <a:lnTo>
                        <a:pt x="41" y="101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610480" y="4200480"/>
                  <a:ext cx="49320" cy="49320"/>
                </a:xfrm>
                <a:custGeom>
                  <a:avLst/>
                  <a:gdLst/>
                  <a:ahLst/>
                  <a:rect l="l" t="t" r="r" b="b"/>
                  <a:pathLst>
                    <a:path w="95" h="98">
                      <a:moveTo>
                        <a:pt x="0" y="96"/>
                      </a:moveTo>
                      <a:lnTo>
                        <a:pt x="1" y="80"/>
                      </a:lnTo>
                      <a:lnTo>
                        <a:pt x="1" y="53"/>
                      </a:lnTo>
                      <a:lnTo>
                        <a:pt x="0" y="13"/>
                      </a:lnTo>
                      <a:lnTo>
                        <a:pt x="21" y="11"/>
                      </a:lnTo>
                      <a:lnTo>
                        <a:pt x="38" y="7"/>
                      </a:lnTo>
                      <a:lnTo>
                        <a:pt x="51" y="4"/>
                      </a:lnTo>
                      <a:lnTo>
                        <a:pt x="60" y="1"/>
                      </a:lnTo>
                      <a:lnTo>
                        <a:pt x="67" y="1"/>
                      </a:lnTo>
                      <a:lnTo>
                        <a:pt x="72" y="0"/>
                      </a:lnTo>
                      <a:lnTo>
                        <a:pt x="77" y="1"/>
                      </a:lnTo>
                      <a:lnTo>
                        <a:pt x="83" y="3"/>
                      </a:lnTo>
                      <a:lnTo>
                        <a:pt x="84" y="4"/>
                      </a:lnTo>
                      <a:lnTo>
                        <a:pt x="87" y="5"/>
                      </a:lnTo>
                      <a:lnTo>
                        <a:pt x="88" y="7"/>
                      </a:lnTo>
                      <a:lnTo>
                        <a:pt x="91" y="9"/>
                      </a:lnTo>
                      <a:lnTo>
                        <a:pt x="92" y="15"/>
                      </a:lnTo>
                      <a:lnTo>
                        <a:pt x="95" y="20"/>
                      </a:lnTo>
                      <a:lnTo>
                        <a:pt x="95" y="32"/>
                      </a:lnTo>
                      <a:lnTo>
                        <a:pt x="95" y="41"/>
                      </a:lnTo>
                      <a:lnTo>
                        <a:pt x="95" y="45"/>
                      </a:lnTo>
                      <a:lnTo>
                        <a:pt x="83" y="59"/>
                      </a:lnTo>
                      <a:lnTo>
                        <a:pt x="47" y="70"/>
                      </a:lnTo>
                      <a:lnTo>
                        <a:pt x="40" y="88"/>
                      </a:lnTo>
                      <a:lnTo>
                        <a:pt x="34" y="90"/>
                      </a:lnTo>
                      <a:lnTo>
                        <a:pt x="19" y="94"/>
                      </a:lnTo>
                      <a:lnTo>
                        <a:pt x="13" y="96"/>
                      </a:lnTo>
                      <a:lnTo>
                        <a:pt x="6" y="98"/>
                      </a:lnTo>
                      <a:lnTo>
                        <a:pt x="1" y="98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7242480" y="505764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16" y="56"/>
                    </a:moveTo>
                    <a:lnTo>
                      <a:pt x="25" y="52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16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251840" y="5083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8"/>
                    </a:moveTo>
                    <a:lnTo>
                      <a:pt x="10" y="5"/>
                    </a:lnTo>
                    <a:lnTo>
                      <a:pt x="9" y="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07560" y="5056200"/>
                <a:ext cx="37800" cy="61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6" y="9"/>
                    </a:moveTo>
                    <a:lnTo>
                      <a:pt x="76" y="0"/>
                    </a:lnTo>
                    <a:lnTo>
                      <a:pt x="0" y="4"/>
                    </a:lnTo>
                    <a:lnTo>
                      <a:pt x="0" y="13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242480" y="5056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204320" y="5057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6" y="9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1" y="4"/>
                    </a:lnTo>
                    <a:lnTo>
                      <a:pt x="6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205760" y="50403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11" y="3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204320" y="5038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0" y="8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3" y="14"/>
                    </a:lnTo>
                    <a:lnTo>
                      <a:pt x="1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207560" y="50450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4" y="9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62720" y="321948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2" y="0"/>
                    </a:moveTo>
                    <a:lnTo>
                      <a:pt x="0" y="11"/>
                    </a:lnTo>
                    <a:lnTo>
                      <a:pt x="59" y="32"/>
                    </a:lnTo>
                    <a:lnTo>
                      <a:pt x="6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88280" y="32335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6" y="0"/>
                    </a:moveTo>
                    <a:lnTo>
                      <a:pt x="5" y="0"/>
                    </a:lnTo>
                    <a:lnTo>
                      <a:pt x="0" y="39"/>
                    </a:lnTo>
                    <a:lnTo>
                      <a:pt x="10" y="3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91520" y="32302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7" y="0"/>
                    </a:moveTo>
                    <a:lnTo>
                      <a:pt x="11" y="2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91520" y="324936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61" h="16">
                    <a:moveTo>
                      <a:pt x="1" y="0"/>
                    </a:moveTo>
                    <a:lnTo>
                      <a:pt x="0" y="11"/>
                    </a:lnTo>
                    <a:lnTo>
                      <a:pt x="59" y="16"/>
                    </a:lnTo>
                    <a:lnTo>
                      <a:pt x="61" y="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88280" y="3249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0" y="11"/>
                    </a:lnTo>
                    <a:lnTo>
                      <a:pt x="4" y="11"/>
                    </a:lnTo>
                    <a:lnTo>
                      <a:pt x="5" y="0"/>
                    </a:lnTo>
                    <a:lnTo>
                      <a:pt x="1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18520" y="3252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10"/>
                    </a:moveTo>
                    <a:lnTo>
                      <a:pt x="11" y="1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19960" y="32302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0" y="5"/>
                    </a:moveTo>
                    <a:lnTo>
                      <a:pt x="3" y="15"/>
                    </a:lnTo>
                    <a:lnTo>
                      <a:pt x="23" y="10"/>
                    </a:ln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618520" y="32320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29320" y="323028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7" y="0"/>
                    </a:moveTo>
                    <a:lnTo>
                      <a:pt x="0" y="8"/>
                    </a:lnTo>
                    <a:lnTo>
                      <a:pt x="68" y="66"/>
                    </a:lnTo>
                    <a:lnTo>
                      <a:pt x="74" y="5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29320" y="3230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0" y="9"/>
                    </a:lnTo>
                    <a:lnTo>
                      <a:pt x="6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64240" y="32623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1" y="0"/>
                    </a:moveTo>
                    <a:lnTo>
                      <a:pt x="0" y="1"/>
                    </a:lnTo>
                    <a:lnTo>
                      <a:pt x="6" y="33"/>
                    </a:lnTo>
                    <a:lnTo>
                      <a:pt x="16" y="3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64240" y="3259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8" y="0"/>
                    </a:moveTo>
                    <a:lnTo>
                      <a:pt x="11" y="3"/>
                    </a:lnTo>
                    <a:lnTo>
                      <a:pt x="11" y="4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654880" y="3276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7"/>
                    </a:moveTo>
                    <a:lnTo>
                      <a:pt x="25" y="0"/>
                    </a:lnTo>
                    <a:lnTo>
                      <a:pt x="0" y="23"/>
                    </a:lnTo>
                    <a:lnTo>
                      <a:pt x="6" y="31"/>
                    </a:lnTo>
                    <a:lnTo>
                      <a:pt x="3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67480" y="3276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3"/>
                    </a:moveTo>
                    <a:lnTo>
                      <a:pt x="10" y="5"/>
                    </a:lnTo>
                    <a:lnTo>
                      <a:pt x="7" y="7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56320" y="32875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" y="0"/>
                    </a:moveTo>
                    <a:lnTo>
                      <a:pt x="0" y="11"/>
                    </a:lnTo>
                    <a:lnTo>
                      <a:pt x="20" y="13"/>
                    </a:lnTo>
                    <a:lnTo>
                      <a:pt x="2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50200" y="3287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8" y="1"/>
                    </a:moveTo>
                    <a:lnTo>
                      <a:pt x="0" y="9"/>
                    </a:lnTo>
                    <a:lnTo>
                      <a:pt x="10" y="11"/>
                    </a:lnTo>
                    <a:lnTo>
                      <a:pt x="12" y="0"/>
                    </a:lnTo>
                    <a:lnTo>
                      <a:pt x="14" y="9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664240" y="328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11" y="1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02320" y="3301920"/>
                <a:ext cx="66960" cy="61920"/>
              </a:xfrm>
              <a:custGeom>
                <a:avLst/>
                <a:gdLst/>
                <a:ahLst/>
                <a:rect l="l" t="t" r="r" b="b"/>
                <a:pathLst>
                  <a:path w="128" h="120">
                    <a:moveTo>
                      <a:pt x="128" y="8"/>
                    </a:moveTo>
                    <a:lnTo>
                      <a:pt x="122" y="0"/>
                    </a:lnTo>
                    <a:lnTo>
                      <a:pt x="0" y="112"/>
                    </a:lnTo>
                    <a:lnTo>
                      <a:pt x="7" y="120"/>
                    </a:lnTo>
                    <a:lnTo>
                      <a:pt x="12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664240" y="33019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4"/>
                    </a:moveTo>
                    <a:lnTo>
                      <a:pt x="11" y="7"/>
                    </a:lnTo>
                    <a:lnTo>
                      <a:pt x="8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58040" y="3359160"/>
                <a:ext cx="47520" cy="12600"/>
              </a:xfrm>
              <a:custGeom>
                <a:avLst/>
                <a:gdLst/>
                <a:ahLst/>
                <a:rect l="l" t="t" r="r" b="b"/>
                <a:pathLst>
                  <a:path w="91" h="28">
                    <a:moveTo>
                      <a:pt x="91" y="9"/>
                    </a:moveTo>
                    <a:lnTo>
                      <a:pt x="87" y="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91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602320" y="3359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8"/>
                    </a:moveTo>
                    <a:lnTo>
                      <a:pt x="6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18440" y="3368520"/>
                <a:ext cx="41040" cy="1440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80" y="9"/>
                    </a:moveTo>
                    <a:lnTo>
                      <a:pt x="77" y="0"/>
                    </a:lnTo>
                    <a:lnTo>
                      <a:pt x="0" y="21"/>
                    </a:lnTo>
                    <a:lnTo>
                      <a:pt x="4" y="30"/>
                    </a:lnTo>
                    <a:lnTo>
                      <a:pt x="80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58040" y="3368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10520" y="33796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22" y="3"/>
                    </a:moveTo>
                    <a:lnTo>
                      <a:pt x="11" y="0"/>
                    </a:lnTo>
                    <a:lnTo>
                      <a:pt x="0" y="35"/>
                    </a:lnTo>
                    <a:lnTo>
                      <a:pt x="10" y="37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516640" y="3378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11" y="5"/>
                    </a:lnTo>
                    <a:lnTo>
                      <a:pt x="7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453280" y="3392280"/>
                <a:ext cx="60120" cy="9720"/>
              </a:xfrm>
              <a:custGeom>
                <a:avLst/>
                <a:gdLst/>
                <a:ahLst/>
                <a:rect l="l" t="t" r="r" b="b"/>
                <a:pathLst>
                  <a:path w="116" h="18">
                    <a:moveTo>
                      <a:pt x="116" y="18"/>
                    </a:moveTo>
                    <a:lnTo>
                      <a:pt x="116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6" y="1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10520" y="33969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9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423040" y="338760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60" h="16">
                    <a:moveTo>
                      <a:pt x="60" y="16"/>
                    </a:moveTo>
                    <a:lnTo>
                      <a:pt x="32" y="15"/>
                    </a:lnTo>
                    <a:lnTo>
                      <a:pt x="12" y="12"/>
                    </a:lnTo>
                    <a:lnTo>
                      <a:pt x="3" y="9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5" y="3"/>
                    </a:lnTo>
                    <a:lnTo>
                      <a:pt x="32" y="5"/>
                    </a:lnTo>
                    <a:lnTo>
                      <a:pt x="60" y="7"/>
                    </a:lnTo>
                    <a:lnTo>
                      <a:pt x="60" y="1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53280" y="33922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23040" y="335916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59"/>
                    </a:moveTo>
                    <a:lnTo>
                      <a:pt x="7" y="0"/>
                    </a:lnTo>
                    <a:lnTo>
                      <a:pt x="16" y="3"/>
                    </a:lnTo>
                    <a:lnTo>
                      <a:pt x="9" y="62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23040" y="338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1" y="7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29520" y="335592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32" h="13">
                    <a:moveTo>
                      <a:pt x="0" y="2"/>
                    </a:moveTo>
                    <a:lnTo>
                      <a:pt x="0" y="13"/>
                    </a:lnTo>
                    <a:lnTo>
                      <a:pt x="32" y="10"/>
                    </a:lnTo>
                    <a:lnTo>
                      <a:pt x="3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426280" y="3357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29520" y="333036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26" y="54"/>
                    </a:moveTo>
                    <a:lnTo>
                      <a:pt x="36" y="49"/>
                    </a:lnTo>
                    <a:lnTo>
                      <a:pt x="9" y="0"/>
                    </a:lnTo>
                    <a:lnTo>
                      <a:pt x="0" y="6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442120" y="33559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6" y="10"/>
                    </a:moveTo>
                    <a:lnTo>
                      <a:pt x="14" y="9"/>
                    </a:lnTo>
                    <a:lnTo>
                      <a:pt x="10" y="2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429520" y="3330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0" y="3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432760" y="3298680"/>
                <a:ext cx="42840" cy="972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0" y="12"/>
                    </a:moveTo>
                    <a:lnTo>
                      <a:pt x="2" y="22"/>
                    </a:lnTo>
                    <a:lnTo>
                      <a:pt x="86" y="10"/>
                    </a:lnTo>
                    <a:lnTo>
                      <a:pt x="8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29520" y="33051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"/>
                    </a:lnTo>
                    <a:lnTo>
                      <a:pt x="5" y="0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73800" y="32986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5" y="0"/>
                    </a:moveTo>
                    <a:lnTo>
                      <a:pt x="0" y="9"/>
                    </a:lnTo>
                    <a:lnTo>
                      <a:pt x="26" y="21"/>
                    </a:lnTo>
                    <a:lnTo>
                      <a:pt x="32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473800" y="3298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0"/>
                    </a:moveTo>
                    <a:lnTo>
                      <a:pt x="5" y="1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488200" y="3305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3" y="1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507280" y="322092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12" h="170">
                    <a:moveTo>
                      <a:pt x="0" y="163"/>
                    </a:moveTo>
                    <a:lnTo>
                      <a:pt x="8" y="170"/>
                    </a:lnTo>
                    <a:lnTo>
                      <a:pt x="112" y="6"/>
                    </a:lnTo>
                    <a:lnTo>
                      <a:pt x="104" y="0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507280" y="330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1280" y="32194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12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81840" y="424800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7" y="0"/>
                    </a:moveTo>
                    <a:lnTo>
                      <a:pt x="0" y="8"/>
                    </a:lnTo>
                    <a:lnTo>
                      <a:pt x="24" y="29"/>
                    </a:lnTo>
                    <a:lnTo>
                      <a:pt x="30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94800" y="42289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59"/>
                    </a:moveTo>
                    <a:lnTo>
                      <a:pt x="8" y="66"/>
                    </a:lnTo>
                    <a:lnTo>
                      <a:pt x="54" y="7"/>
                    </a:lnTo>
                    <a:lnTo>
                      <a:pt x="46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994800" y="425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8"/>
                    </a:moveTo>
                    <a:lnTo>
                      <a:pt x="5" y="12"/>
                    </a:lnTo>
                    <a:lnTo>
                      <a:pt x="8" y="8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18560" y="42289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54" h="57">
                    <a:moveTo>
                      <a:pt x="9" y="0"/>
                    </a:moveTo>
                    <a:lnTo>
                      <a:pt x="30" y="29"/>
                    </a:lnTo>
                    <a:lnTo>
                      <a:pt x="44" y="44"/>
                    </a:lnTo>
                    <a:lnTo>
                      <a:pt x="48" y="46"/>
                    </a:lnTo>
                    <a:lnTo>
                      <a:pt x="51" y="45"/>
                    </a:lnTo>
                    <a:lnTo>
                      <a:pt x="54" y="55"/>
                    </a:lnTo>
                    <a:lnTo>
                      <a:pt x="48" y="57"/>
                    </a:lnTo>
                    <a:lnTo>
                      <a:pt x="38" y="52"/>
                    </a:lnTo>
                    <a:lnTo>
                      <a:pt x="22" y="36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18560" y="42256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1" y="5"/>
                    </a:moveTo>
                    <a:lnTo>
                      <a:pt x="5" y="0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9" y="1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2320" y="420372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102" h="101">
                    <a:moveTo>
                      <a:pt x="0" y="93"/>
                    </a:moveTo>
                    <a:lnTo>
                      <a:pt x="52" y="42"/>
                    </a:lnTo>
                    <a:lnTo>
                      <a:pt x="95" y="0"/>
                    </a:lnTo>
                    <a:lnTo>
                      <a:pt x="102" y="8"/>
                    </a:lnTo>
                    <a:lnTo>
                      <a:pt x="58" y="50"/>
                    </a:lnTo>
                    <a:lnTo>
                      <a:pt x="7" y="10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42320" y="4252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10"/>
                    </a:moveTo>
                    <a:lnTo>
                      <a:pt x="7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91640" y="4203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8" y="0"/>
                    </a:moveTo>
                    <a:lnTo>
                      <a:pt x="0" y="7"/>
                    </a:lnTo>
                    <a:lnTo>
                      <a:pt x="21" y="28"/>
                    </a:lnTo>
                    <a:lnTo>
                      <a:pt x="29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91640" y="420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8" y="5"/>
                    </a:lnTo>
                    <a:lnTo>
                      <a:pt x="0" y="12"/>
                    </a:lnTo>
                    <a:lnTo>
                      <a:pt x="7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02800" y="419256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47"/>
                    </a:moveTo>
                    <a:lnTo>
                      <a:pt x="8" y="54"/>
                    </a:lnTo>
                    <a:lnTo>
                      <a:pt x="37" y="6"/>
                    </a:lnTo>
                    <a:lnTo>
                      <a:pt x="29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102800" y="4214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7"/>
                    </a:moveTo>
                    <a:lnTo>
                      <a:pt x="6" y="12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118640" y="41907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75" h="49">
                    <a:moveTo>
                      <a:pt x="5" y="0"/>
                    </a:moveTo>
                    <a:lnTo>
                      <a:pt x="0" y="9"/>
                    </a:lnTo>
                    <a:lnTo>
                      <a:pt x="70" y="49"/>
                    </a:lnTo>
                    <a:lnTo>
                      <a:pt x="75" y="4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118640" y="4189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4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2" y="11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53560" y="41972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28"/>
                    </a:moveTo>
                    <a:lnTo>
                      <a:pt x="7" y="36"/>
                    </a:lnTo>
                    <a:lnTo>
                      <a:pt x="36" y="8"/>
                    </a:lnTo>
                    <a:lnTo>
                      <a:pt x="29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53560" y="42098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9"/>
                    </a:moveTo>
                    <a:lnTo>
                      <a:pt x="4" y="10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04240" y="4122720"/>
                <a:ext cx="68400" cy="79200"/>
              </a:xfrm>
              <a:custGeom>
                <a:avLst/>
                <a:gdLst/>
                <a:ahLst/>
                <a:rect l="l" t="t" r="r" b="b"/>
                <a:pathLst>
                  <a:path w="133" h="152">
                    <a:moveTo>
                      <a:pt x="125" y="152"/>
                    </a:moveTo>
                    <a:lnTo>
                      <a:pt x="133" y="145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25" y="15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69400" y="4197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7" y="8"/>
                    </a:moveTo>
                    <a:lnTo>
                      <a:pt x="11" y="4"/>
                    </a:lnTo>
                    <a:lnTo>
                      <a:pt x="8" y="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58160" y="412272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98" h="92">
                    <a:moveTo>
                      <a:pt x="98" y="8"/>
                    </a:moveTo>
                    <a:lnTo>
                      <a:pt x="91" y="0"/>
                    </a:lnTo>
                    <a:lnTo>
                      <a:pt x="0" y="84"/>
                    </a:lnTo>
                    <a:lnTo>
                      <a:pt x="7" y="92"/>
                    </a:lnTo>
                    <a:lnTo>
                      <a:pt x="9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04240" y="4119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029720" y="412884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65" h="79">
                    <a:moveTo>
                      <a:pt x="57" y="79"/>
                    </a:moveTo>
                    <a:lnTo>
                      <a:pt x="65" y="73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58160" y="41655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3" y="12"/>
                    </a:lnTo>
                    <a:lnTo>
                      <a:pt x="0" y="8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29720" y="40989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57" h="63">
                    <a:moveTo>
                      <a:pt x="0" y="56"/>
                    </a:moveTo>
                    <a:lnTo>
                      <a:pt x="8" y="63"/>
                    </a:lnTo>
                    <a:lnTo>
                      <a:pt x="57" y="6"/>
                    </a:lnTo>
                    <a:lnTo>
                      <a:pt x="4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027920" y="4128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2" y="7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045560" y="4086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4" y="32"/>
                    </a:moveTo>
                    <a:lnTo>
                      <a:pt x="22" y="26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053480" y="40989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6"/>
                    </a:moveTo>
                    <a:lnTo>
                      <a:pt x="11" y="3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980400" y="408456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2" h="120">
                    <a:moveTo>
                      <a:pt x="132" y="8"/>
                    </a:moveTo>
                    <a:lnTo>
                      <a:pt x="126" y="0"/>
                    </a:lnTo>
                    <a:lnTo>
                      <a:pt x="0" y="112"/>
                    </a:lnTo>
                    <a:lnTo>
                      <a:pt x="7" y="120"/>
                    </a:lnTo>
                    <a:lnTo>
                      <a:pt x="132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45560" y="40827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80400" y="414324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90" h="106">
                    <a:moveTo>
                      <a:pt x="8" y="0"/>
                    </a:moveTo>
                    <a:lnTo>
                      <a:pt x="0" y="6"/>
                    </a:lnTo>
                    <a:lnTo>
                      <a:pt x="82" y="106"/>
                    </a:lnTo>
                    <a:lnTo>
                      <a:pt x="90" y="10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978960" y="41432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4" y="0"/>
                    </a:moveTo>
                    <a:lnTo>
                      <a:pt x="0" y="4"/>
                    </a:lnTo>
                    <a:lnTo>
                      <a:pt x="4" y="8"/>
                    </a:lnTo>
                    <a:lnTo>
                      <a:pt x="12" y="2"/>
                    </a:lnTo>
                    <a:lnTo>
                      <a:pt x="11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981840" y="4197240"/>
                <a:ext cx="46080" cy="5544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87" y="6"/>
                    </a:moveTo>
                    <a:lnTo>
                      <a:pt x="79" y="0"/>
                    </a:lnTo>
                    <a:lnTo>
                      <a:pt x="0" y="101"/>
                    </a:lnTo>
                    <a:lnTo>
                      <a:pt x="8" y="108"/>
                    </a:lnTo>
                    <a:lnTo>
                      <a:pt x="87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025040" y="419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0"/>
                    </a:moveTo>
                    <a:lnTo>
                      <a:pt x="11" y="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80400" y="4248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1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10" y="0"/>
                    </a:lnTo>
                    <a:lnTo>
                      <a:pt x="11" y="8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170840" y="4197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3" y="0"/>
                    </a:moveTo>
                    <a:lnTo>
                      <a:pt x="0" y="10"/>
                    </a:lnTo>
                    <a:lnTo>
                      <a:pt x="5" y="12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161480" y="41986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9" y="6"/>
                    </a:moveTo>
                    <a:lnTo>
                      <a:pt x="21" y="0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29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172640" y="4197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5" y="0"/>
                    </a:moveTo>
                    <a:lnTo>
                      <a:pt x="14" y="3"/>
                    </a:lnTo>
                    <a:lnTo>
                      <a:pt x="8" y="9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61480" y="4197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3"/>
                    </a:moveTo>
                    <a:lnTo>
                      <a:pt x="7" y="29"/>
                    </a:lnTo>
                    <a:lnTo>
                      <a:pt x="23" y="7"/>
                    </a:lnTo>
                    <a:lnTo>
                      <a:pt x="15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61480" y="4208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0" y="0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169400" y="41958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3" y="12"/>
                    </a:lnTo>
                    <a:lnTo>
                      <a:pt x="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14960" y="498132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0" h="29">
                    <a:moveTo>
                      <a:pt x="0" y="26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212080" y="4995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11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12080" y="49971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1" h="1">
                    <a:moveTo>
                      <a:pt x="0" y="1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212080" y="4981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0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48920" y="459252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0" y="26"/>
                    </a:moveTo>
                    <a:lnTo>
                      <a:pt x="41" y="0"/>
                    </a:lnTo>
                    <a:lnTo>
                      <a:pt x="122" y="92"/>
                    </a:lnTo>
                    <a:lnTo>
                      <a:pt x="85" y="12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301160" y="4714920"/>
                <a:ext cx="66600" cy="77760"/>
              </a:xfrm>
              <a:custGeom>
                <a:avLst/>
                <a:gdLst/>
                <a:ahLst/>
                <a:rect l="l" t="t" r="r" b="b"/>
                <a:pathLst>
                  <a:path w="129" h="149">
                    <a:moveTo>
                      <a:pt x="0" y="148"/>
                    </a:moveTo>
                    <a:lnTo>
                      <a:pt x="3" y="58"/>
                    </a:lnTo>
                    <a:lnTo>
                      <a:pt x="38" y="48"/>
                    </a:lnTo>
                    <a:lnTo>
                      <a:pt x="38" y="0"/>
                    </a:lnTo>
                    <a:lnTo>
                      <a:pt x="104" y="2"/>
                    </a:lnTo>
                    <a:lnTo>
                      <a:pt x="104" y="44"/>
                    </a:lnTo>
                    <a:lnTo>
                      <a:pt x="129" y="49"/>
                    </a:lnTo>
                    <a:lnTo>
                      <a:pt x="123" y="119"/>
                    </a:lnTo>
                    <a:lnTo>
                      <a:pt x="71" y="123"/>
                    </a:lnTo>
                    <a:lnTo>
                      <a:pt x="66" y="149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145640" y="4491000"/>
                <a:ext cx="160200" cy="90360"/>
              </a:xfrm>
              <a:custGeom>
                <a:avLst/>
                <a:gdLst/>
                <a:ahLst/>
                <a:rect l="l" t="t" r="r" b="b"/>
                <a:pathLst>
                  <a:path w="313" h="174">
                    <a:moveTo>
                      <a:pt x="0" y="20"/>
                    </a:moveTo>
                    <a:lnTo>
                      <a:pt x="112" y="0"/>
                    </a:lnTo>
                    <a:lnTo>
                      <a:pt x="313" y="79"/>
                    </a:lnTo>
                    <a:lnTo>
                      <a:pt x="277" y="174"/>
                    </a:lnTo>
                    <a:lnTo>
                      <a:pt x="55" y="74"/>
                    </a:lnTo>
                    <a:lnTo>
                      <a:pt x="9" y="7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371000" y="4846680"/>
                <a:ext cx="71280" cy="110880"/>
              </a:xfrm>
              <a:custGeom>
                <a:avLst/>
                <a:gdLst/>
                <a:ahLst/>
                <a:rect l="l" t="t" r="r" b="b"/>
                <a:pathLst>
                  <a:path w="137" h="216">
                    <a:moveTo>
                      <a:pt x="77" y="0"/>
                    </a:moveTo>
                    <a:lnTo>
                      <a:pt x="59" y="59"/>
                    </a:lnTo>
                    <a:lnTo>
                      <a:pt x="107" y="52"/>
                    </a:lnTo>
                    <a:lnTo>
                      <a:pt x="137" y="85"/>
                    </a:lnTo>
                    <a:lnTo>
                      <a:pt x="98" y="125"/>
                    </a:lnTo>
                    <a:lnTo>
                      <a:pt x="112" y="174"/>
                    </a:lnTo>
                    <a:lnTo>
                      <a:pt x="74" y="200"/>
                    </a:lnTo>
                    <a:lnTo>
                      <a:pt x="17" y="216"/>
                    </a:lnTo>
                    <a:lnTo>
                      <a:pt x="0" y="149"/>
                    </a:lnTo>
                    <a:lnTo>
                      <a:pt x="5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372520" y="4214520"/>
                <a:ext cx="351000" cy="154080"/>
              </a:xfrm>
              <a:custGeom>
                <a:avLst/>
                <a:gdLst/>
                <a:ahLst/>
                <a:rect l="l" t="t" r="r" b="b"/>
                <a:pathLst>
                  <a:path w="680" h="300">
                    <a:moveTo>
                      <a:pt x="190" y="219"/>
                    </a:moveTo>
                    <a:lnTo>
                      <a:pt x="216" y="247"/>
                    </a:lnTo>
                    <a:lnTo>
                      <a:pt x="265" y="240"/>
                    </a:lnTo>
                    <a:lnTo>
                      <a:pt x="285" y="217"/>
                    </a:lnTo>
                    <a:lnTo>
                      <a:pt x="289" y="197"/>
                    </a:lnTo>
                    <a:lnTo>
                      <a:pt x="319" y="185"/>
                    </a:lnTo>
                    <a:lnTo>
                      <a:pt x="324" y="186"/>
                    </a:lnTo>
                    <a:lnTo>
                      <a:pt x="330" y="188"/>
                    </a:lnTo>
                    <a:lnTo>
                      <a:pt x="334" y="189"/>
                    </a:lnTo>
                    <a:lnTo>
                      <a:pt x="338" y="190"/>
                    </a:lnTo>
                    <a:lnTo>
                      <a:pt x="343" y="193"/>
                    </a:lnTo>
                    <a:lnTo>
                      <a:pt x="346" y="194"/>
                    </a:lnTo>
                    <a:lnTo>
                      <a:pt x="390" y="198"/>
                    </a:lnTo>
                    <a:lnTo>
                      <a:pt x="429" y="196"/>
                    </a:lnTo>
                    <a:lnTo>
                      <a:pt x="430" y="136"/>
                    </a:lnTo>
                    <a:lnTo>
                      <a:pt x="456" y="109"/>
                    </a:lnTo>
                    <a:lnTo>
                      <a:pt x="495" y="86"/>
                    </a:lnTo>
                    <a:lnTo>
                      <a:pt x="559" y="70"/>
                    </a:lnTo>
                    <a:lnTo>
                      <a:pt x="608" y="72"/>
                    </a:lnTo>
                    <a:lnTo>
                      <a:pt x="680" y="77"/>
                    </a:lnTo>
                    <a:lnTo>
                      <a:pt x="680" y="22"/>
                    </a:lnTo>
                    <a:lnTo>
                      <a:pt x="597" y="20"/>
                    </a:lnTo>
                    <a:lnTo>
                      <a:pt x="571" y="27"/>
                    </a:lnTo>
                    <a:lnTo>
                      <a:pt x="545" y="11"/>
                    </a:lnTo>
                    <a:lnTo>
                      <a:pt x="526" y="3"/>
                    </a:lnTo>
                    <a:lnTo>
                      <a:pt x="514" y="0"/>
                    </a:lnTo>
                    <a:lnTo>
                      <a:pt x="509" y="0"/>
                    </a:lnTo>
                    <a:lnTo>
                      <a:pt x="504" y="0"/>
                    </a:lnTo>
                    <a:lnTo>
                      <a:pt x="498" y="0"/>
                    </a:lnTo>
                    <a:lnTo>
                      <a:pt x="492" y="2"/>
                    </a:lnTo>
                    <a:lnTo>
                      <a:pt x="479" y="6"/>
                    </a:lnTo>
                    <a:lnTo>
                      <a:pt x="464" y="11"/>
                    </a:lnTo>
                    <a:lnTo>
                      <a:pt x="447" y="18"/>
                    </a:lnTo>
                    <a:lnTo>
                      <a:pt x="454" y="49"/>
                    </a:lnTo>
                    <a:lnTo>
                      <a:pt x="438" y="65"/>
                    </a:lnTo>
                    <a:lnTo>
                      <a:pt x="393" y="87"/>
                    </a:lnTo>
                    <a:lnTo>
                      <a:pt x="384" y="98"/>
                    </a:lnTo>
                    <a:lnTo>
                      <a:pt x="380" y="102"/>
                    </a:lnTo>
                    <a:lnTo>
                      <a:pt x="376" y="103"/>
                    </a:lnTo>
                    <a:lnTo>
                      <a:pt x="375" y="103"/>
                    </a:lnTo>
                    <a:lnTo>
                      <a:pt x="372" y="105"/>
                    </a:lnTo>
                    <a:lnTo>
                      <a:pt x="368" y="105"/>
                    </a:lnTo>
                    <a:lnTo>
                      <a:pt x="355" y="107"/>
                    </a:lnTo>
                    <a:lnTo>
                      <a:pt x="336" y="110"/>
                    </a:lnTo>
                    <a:lnTo>
                      <a:pt x="318" y="114"/>
                    </a:lnTo>
                    <a:lnTo>
                      <a:pt x="298" y="118"/>
                    </a:lnTo>
                    <a:lnTo>
                      <a:pt x="297" y="149"/>
                    </a:lnTo>
                    <a:lnTo>
                      <a:pt x="270" y="161"/>
                    </a:lnTo>
                    <a:lnTo>
                      <a:pt x="264" y="163"/>
                    </a:lnTo>
                    <a:lnTo>
                      <a:pt x="257" y="165"/>
                    </a:lnTo>
                    <a:lnTo>
                      <a:pt x="249" y="167"/>
                    </a:lnTo>
                    <a:lnTo>
                      <a:pt x="241" y="168"/>
                    </a:lnTo>
                    <a:lnTo>
                      <a:pt x="233" y="167"/>
                    </a:lnTo>
                    <a:lnTo>
                      <a:pt x="229" y="167"/>
                    </a:lnTo>
                    <a:lnTo>
                      <a:pt x="227" y="165"/>
                    </a:lnTo>
                    <a:lnTo>
                      <a:pt x="224" y="163"/>
                    </a:lnTo>
                    <a:lnTo>
                      <a:pt x="222" y="160"/>
                    </a:lnTo>
                    <a:lnTo>
                      <a:pt x="219" y="153"/>
                    </a:lnTo>
                    <a:lnTo>
                      <a:pt x="218" y="148"/>
                    </a:lnTo>
                    <a:lnTo>
                      <a:pt x="218" y="139"/>
                    </a:lnTo>
                    <a:lnTo>
                      <a:pt x="218" y="136"/>
                    </a:lnTo>
                    <a:lnTo>
                      <a:pt x="216" y="135"/>
                    </a:lnTo>
                    <a:lnTo>
                      <a:pt x="215" y="134"/>
                    </a:lnTo>
                    <a:lnTo>
                      <a:pt x="214" y="132"/>
                    </a:lnTo>
                    <a:lnTo>
                      <a:pt x="211" y="132"/>
                    </a:lnTo>
                    <a:lnTo>
                      <a:pt x="208" y="131"/>
                    </a:lnTo>
                    <a:lnTo>
                      <a:pt x="199" y="132"/>
                    </a:lnTo>
                    <a:lnTo>
                      <a:pt x="189" y="132"/>
                    </a:lnTo>
                    <a:lnTo>
                      <a:pt x="182" y="132"/>
                    </a:lnTo>
                    <a:lnTo>
                      <a:pt x="171" y="131"/>
                    </a:lnTo>
                    <a:lnTo>
                      <a:pt x="169" y="131"/>
                    </a:lnTo>
                    <a:lnTo>
                      <a:pt x="167" y="132"/>
                    </a:lnTo>
                    <a:lnTo>
                      <a:pt x="166" y="135"/>
                    </a:lnTo>
                    <a:lnTo>
                      <a:pt x="165" y="139"/>
                    </a:lnTo>
                    <a:lnTo>
                      <a:pt x="162" y="145"/>
                    </a:lnTo>
                    <a:lnTo>
                      <a:pt x="158" y="153"/>
                    </a:lnTo>
                    <a:lnTo>
                      <a:pt x="153" y="161"/>
                    </a:lnTo>
                    <a:lnTo>
                      <a:pt x="148" y="168"/>
                    </a:lnTo>
                    <a:lnTo>
                      <a:pt x="138" y="181"/>
                    </a:lnTo>
                    <a:lnTo>
                      <a:pt x="133" y="186"/>
                    </a:lnTo>
                    <a:lnTo>
                      <a:pt x="160" y="206"/>
                    </a:lnTo>
                    <a:lnTo>
                      <a:pt x="117" y="242"/>
                    </a:lnTo>
                    <a:lnTo>
                      <a:pt x="76" y="248"/>
                    </a:lnTo>
                    <a:lnTo>
                      <a:pt x="8" y="247"/>
                    </a:lnTo>
                    <a:lnTo>
                      <a:pt x="0" y="291"/>
                    </a:lnTo>
                    <a:lnTo>
                      <a:pt x="67" y="300"/>
                    </a:lnTo>
                    <a:lnTo>
                      <a:pt x="128" y="277"/>
                    </a:lnTo>
                    <a:lnTo>
                      <a:pt x="190" y="243"/>
                    </a:lnTo>
                    <a:lnTo>
                      <a:pt x="175" y="215"/>
                    </a:lnTo>
                    <a:lnTo>
                      <a:pt x="190" y="21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793360" y="4241520"/>
                <a:ext cx="217440" cy="117720"/>
              </a:xfrm>
              <a:custGeom>
                <a:avLst/>
                <a:gdLst/>
                <a:ahLst/>
                <a:rect l="l" t="t" r="r" b="b"/>
                <a:pathLst>
                  <a:path w="420" h="228">
                    <a:moveTo>
                      <a:pt x="68" y="16"/>
                    </a:moveTo>
                    <a:lnTo>
                      <a:pt x="79" y="0"/>
                    </a:lnTo>
                    <a:lnTo>
                      <a:pt x="128" y="13"/>
                    </a:lnTo>
                    <a:lnTo>
                      <a:pt x="170" y="17"/>
                    </a:lnTo>
                    <a:lnTo>
                      <a:pt x="193" y="50"/>
                    </a:lnTo>
                    <a:lnTo>
                      <a:pt x="275" y="87"/>
                    </a:lnTo>
                    <a:lnTo>
                      <a:pt x="309" y="95"/>
                    </a:lnTo>
                    <a:lnTo>
                      <a:pt x="319" y="120"/>
                    </a:lnTo>
                    <a:lnTo>
                      <a:pt x="354" y="140"/>
                    </a:lnTo>
                    <a:lnTo>
                      <a:pt x="384" y="145"/>
                    </a:lnTo>
                    <a:lnTo>
                      <a:pt x="387" y="161"/>
                    </a:lnTo>
                    <a:lnTo>
                      <a:pt x="417" y="173"/>
                    </a:lnTo>
                    <a:lnTo>
                      <a:pt x="420" y="216"/>
                    </a:lnTo>
                    <a:lnTo>
                      <a:pt x="385" y="228"/>
                    </a:lnTo>
                    <a:lnTo>
                      <a:pt x="348" y="223"/>
                    </a:lnTo>
                    <a:lnTo>
                      <a:pt x="292" y="194"/>
                    </a:lnTo>
                    <a:lnTo>
                      <a:pt x="206" y="145"/>
                    </a:lnTo>
                    <a:lnTo>
                      <a:pt x="172" y="125"/>
                    </a:lnTo>
                    <a:lnTo>
                      <a:pt x="139" y="124"/>
                    </a:lnTo>
                    <a:lnTo>
                      <a:pt x="127" y="108"/>
                    </a:lnTo>
                    <a:lnTo>
                      <a:pt x="127" y="85"/>
                    </a:lnTo>
                    <a:lnTo>
                      <a:pt x="74" y="71"/>
                    </a:lnTo>
                    <a:lnTo>
                      <a:pt x="0" y="42"/>
                    </a:lnTo>
                    <a:lnTo>
                      <a:pt x="0" y="19"/>
                    </a:lnTo>
                    <a:lnTo>
                      <a:pt x="68" y="1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942240" y="3497040"/>
                <a:ext cx="66600" cy="114480"/>
              </a:xfrm>
              <a:custGeom>
                <a:avLst/>
                <a:gdLst/>
                <a:ahLst/>
                <a:rect l="l" t="t" r="r" b="b"/>
                <a:pathLst>
                  <a:path w="130" h="221">
                    <a:moveTo>
                      <a:pt x="26" y="0"/>
                    </a:moveTo>
                    <a:lnTo>
                      <a:pt x="26" y="9"/>
                    </a:lnTo>
                    <a:lnTo>
                      <a:pt x="29" y="31"/>
                    </a:lnTo>
                    <a:lnTo>
                      <a:pt x="33" y="59"/>
                    </a:lnTo>
                    <a:lnTo>
                      <a:pt x="35" y="72"/>
                    </a:lnTo>
                    <a:lnTo>
                      <a:pt x="40" y="83"/>
                    </a:lnTo>
                    <a:lnTo>
                      <a:pt x="43" y="89"/>
                    </a:lnTo>
                    <a:lnTo>
                      <a:pt x="48" y="96"/>
                    </a:lnTo>
                    <a:lnTo>
                      <a:pt x="60" y="111"/>
                    </a:lnTo>
                    <a:lnTo>
                      <a:pt x="75" y="128"/>
                    </a:lnTo>
                    <a:lnTo>
                      <a:pt x="91" y="144"/>
                    </a:lnTo>
                    <a:lnTo>
                      <a:pt x="118" y="173"/>
                    </a:lnTo>
                    <a:lnTo>
                      <a:pt x="130" y="184"/>
                    </a:lnTo>
                    <a:lnTo>
                      <a:pt x="108" y="221"/>
                    </a:lnTo>
                    <a:lnTo>
                      <a:pt x="100" y="217"/>
                    </a:lnTo>
                    <a:lnTo>
                      <a:pt x="81" y="207"/>
                    </a:lnTo>
                    <a:lnTo>
                      <a:pt x="72" y="202"/>
                    </a:lnTo>
                    <a:lnTo>
                      <a:pt x="63" y="195"/>
                    </a:lnTo>
                    <a:lnTo>
                      <a:pt x="56" y="190"/>
                    </a:lnTo>
                    <a:lnTo>
                      <a:pt x="55" y="187"/>
                    </a:lnTo>
                    <a:lnTo>
                      <a:pt x="54" y="184"/>
                    </a:lnTo>
                    <a:lnTo>
                      <a:pt x="51" y="179"/>
                    </a:lnTo>
                    <a:lnTo>
                      <a:pt x="46" y="170"/>
                    </a:lnTo>
                    <a:lnTo>
                      <a:pt x="30" y="149"/>
                    </a:lnTo>
                    <a:lnTo>
                      <a:pt x="14" y="128"/>
                    </a:lnTo>
                    <a:lnTo>
                      <a:pt x="9" y="120"/>
                    </a:lnTo>
                    <a:lnTo>
                      <a:pt x="8" y="117"/>
                    </a:lnTo>
                    <a:lnTo>
                      <a:pt x="6" y="115"/>
                    </a:lnTo>
                    <a:lnTo>
                      <a:pt x="4" y="55"/>
                    </a:lnTo>
                    <a:lnTo>
                      <a:pt x="0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061240" y="4751280"/>
                <a:ext cx="55440" cy="61920"/>
              </a:xfrm>
              <a:custGeom>
                <a:avLst/>
                <a:gdLst/>
                <a:ahLst/>
                <a:rect l="l" t="t" r="r" b="b"/>
                <a:pathLst>
                  <a:path w="110" h="120">
                    <a:moveTo>
                      <a:pt x="110" y="65"/>
                    </a:moveTo>
                    <a:lnTo>
                      <a:pt x="15" y="0"/>
                    </a:lnTo>
                    <a:lnTo>
                      <a:pt x="0" y="50"/>
                    </a:lnTo>
                    <a:lnTo>
                      <a:pt x="15" y="87"/>
                    </a:lnTo>
                    <a:lnTo>
                      <a:pt x="67" y="96"/>
                    </a:lnTo>
                    <a:lnTo>
                      <a:pt x="67" y="120"/>
                    </a:lnTo>
                    <a:lnTo>
                      <a:pt x="110" y="58"/>
                    </a:lnTo>
                    <a:lnTo>
                      <a:pt x="110" y="6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065920" y="4749840"/>
                <a:ext cx="52200" cy="36360"/>
              </a:xfrm>
              <a:custGeom>
                <a:avLst/>
                <a:gdLst/>
                <a:ahLst/>
                <a:rect l="l" t="t" r="r" b="b"/>
                <a:pathLst>
                  <a:path w="101" h="72">
                    <a:moveTo>
                      <a:pt x="95" y="72"/>
                    </a:moveTo>
                    <a:lnTo>
                      <a:pt x="101" y="65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95" y="7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058000" y="475128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25" h="52">
                    <a:moveTo>
                      <a:pt x="25" y="2"/>
                    </a:moveTo>
                    <a:lnTo>
                      <a:pt x="14" y="0"/>
                    </a:lnTo>
                    <a:lnTo>
                      <a:pt x="0" y="50"/>
                    </a:lnTo>
                    <a:lnTo>
                      <a:pt x="10" y="52"/>
                    </a:lnTo>
                    <a:lnTo>
                      <a:pt x="25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065920" y="4748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8" y="4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11" y="9"/>
                    </a:lnTo>
                    <a:lnTo>
                      <a:pt x="2" y="1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058000" y="47750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24" h="43">
                    <a:moveTo>
                      <a:pt x="9" y="0"/>
                    </a:moveTo>
                    <a:lnTo>
                      <a:pt x="0" y="6"/>
                    </a:lnTo>
                    <a:lnTo>
                      <a:pt x="14" y="43"/>
                    </a:lnTo>
                    <a:lnTo>
                      <a:pt x="24" y="3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8000" y="4775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" y="2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10" y="0"/>
                    </a:lnTo>
                    <a:lnTo>
                      <a:pt x="11" y="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67360" y="47941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2" y="0"/>
                    </a:moveTo>
                    <a:lnTo>
                      <a:pt x="0" y="10"/>
                    </a:lnTo>
                    <a:lnTo>
                      <a:pt x="53" y="19"/>
                    </a:lnTo>
                    <a:lnTo>
                      <a:pt x="54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065920" y="4794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8"/>
                    </a:moveTo>
                    <a:lnTo>
                      <a:pt x="2" y="10"/>
                    </a:lnTo>
                    <a:lnTo>
                      <a:pt x="4" y="1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091120" y="4798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5" y="0"/>
                    </a:moveTo>
                    <a:lnTo>
                      <a:pt x="11" y="1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092920" y="477972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0" y="62"/>
                    </a:moveTo>
                    <a:lnTo>
                      <a:pt x="8" y="69"/>
                    </a:lnTo>
                    <a:lnTo>
                      <a:pt x="51" y="7"/>
                    </a:lnTo>
                    <a:lnTo>
                      <a:pt x="43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091120" y="481176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0" y="3"/>
                    </a:moveTo>
                    <a:lnTo>
                      <a:pt x="0" y="20"/>
                    </a:lnTo>
                    <a:lnTo>
                      <a:pt x="9" y="7"/>
                    </a:lnTo>
                    <a:lnTo>
                      <a:pt x="1" y="0"/>
                    </a:lnTo>
                    <a:lnTo>
                      <a:pt x="1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113440" y="4771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2" y="13"/>
                    </a:moveTo>
                    <a:lnTo>
                      <a:pt x="11" y="0"/>
                    </a:lnTo>
                    <a:lnTo>
                      <a:pt x="11" y="16"/>
                    </a:lnTo>
                    <a:lnTo>
                      <a:pt x="0" y="16"/>
                    </a:lnTo>
                    <a:lnTo>
                      <a:pt x="10" y="2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13440" y="4782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4"/>
                    </a:moveTo>
                    <a:lnTo>
                      <a:pt x="11" y="14"/>
                    </a:lnTo>
                    <a:lnTo>
                      <a:pt x="2" y="7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377040" y="4673520"/>
                <a:ext cx="274680" cy="225360"/>
              </a:xfrm>
              <a:custGeom>
                <a:avLst/>
                <a:gdLst/>
                <a:ahLst/>
                <a:rect l="l" t="t" r="r" b="b"/>
                <a:pathLst>
                  <a:path w="536" h="439">
                    <a:moveTo>
                      <a:pt x="64" y="242"/>
                    </a:moveTo>
                    <a:lnTo>
                      <a:pt x="79" y="239"/>
                    </a:lnTo>
                    <a:lnTo>
                      <a:pt x="69" y="248"/>
                    </a:lnTo>
                    <a:lnTo>
                      <a:pt x="97" y="346"/>
                    </a:lnTo>
                    <a:lnTo>
                      <a:pt x="145" y="314"/>
                    </a:lnTo>
                    <a:lnTo>
                      <a:pt x="165" y="255"/>
                    </a:lnTo>
                    <a:lnTo>
                      <a:pt x="206" y="236"/>
                    </a:lnTo>
                    <a:lnTo>
                      <a:pt x="218" y="205"/>
                    </a:lnTo>
                    <a:lnTo>
                      <a:pt x="261" y="185"/>
                    </a:lnTo>
                    <a:lnTo>
                      <a:pt x="288" y="201"/>
                    </a:lnTo>
                    <a:lnTo>
                      <a:pt x="297" y="198"/>
                    </a:lnTo>
                    <a:lnTo>
                      <a:pt x="312" y="195"/>
                    </a:lnTo>
                    <a:lnTo>
                      <a:pt x="317" y="193"/>
                    </a:lnTo>
                    <a:lnTo>
                      <a:pt x="322" y="191"/>
                    </a:lnTo>
                    <a:lnTo>
                      <a:pt x="325" y="189"/>
                    </a:lnTo>
                    <a:lnTo>
                      <a:pt x="327" y="186"/>
                    </a:lnTo>
                    <a:lnTo>
                      <a:pt x="330" y="182"/>
                    </a:lnTo>
                    <a:lnTo>
                      <a:pt x="330" y="181"/>
                    </a:lnTo>
                    <a:lnTo>
                      <a:pt x="359" y="135"/>
                    </a:lnTo>
                    <a:lnTo>
                      <a:pt x="381" y="102"/>
                    </a:lnTo>
                    <a:lnTo>
                      <a:pt x="389" y="90"/>
                    </a:lnTo>
                    <a:lnTo>
                      <a:pt x="395" y="83"/>
                    </a:lnTo>
                    <a:lnTo>
                      <a:pt x="411" y="73"/>
                    </a:lnTo>
                    <a:lnTo>
                      <a:pt x="442" y="52"/>
                    </a:lnTo>
                    <a:lnTo>
                      <a:pt x="513" y="8"/>
                    </a:lnTo>
                    <a:lnTo>
                      <a:pt x="536" y="0"/>
                    </a:lnTo>
                    <a:lnTo>
                      <a:pt x="536" y="85"/>
                    </a:lnTo>
                    <a:lnTo>
                      <a:pt x="367" y="195"/>
                    </a:lnTo>
                    <a:lnTo>
                      <a:pt x="192" y="314"/>
                    </a:lnTo>
                    <a:lnTo>
                      <a:pt x="70" y="397"/>
                    </a:lnTo>
                    <a:lnTo>
                      <a:pt x="31" y="426"/>
                    </a:lnTo>
                    <a:lnTo>
                      <a:pt x="19" y="435"/>
                    </a:lnTo>
                    <a:lnTo>
                      <a:pt x="15" y="439"/>
                    </a:lnTo>
                    <a:lnTo>
                      <a:pt x="14" y="438"/>
                    </a:lnTo>
                    <a:lnTo>
                      <a:pt x="14" y="435"/>
                    </a:lnTo>
                    <a:lnTo>
                      <a:pt x="11" y="420"/>
                    </a:lnTo>
                    <a:lnTo>
                      <a:pt x="7" y="372"/>
                    </a:lnTo>
                    <a:lnTo>
                      <a:pt x="0" y="300"/>
                    </a:lnTo>
                    <a:lnTo>
                      <a:pt x="64" y="24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409080" y="47941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2"/>
                    </a:moveTo>
                    <a:lnTo>
                      <a:pt x="0" y="13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409080" y="4794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1" y="0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415200" y="47926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3" y="3"/>
                    </a:moveTo>
                    <a:lnTo>
                      <a:pt x="21" y="0"/>
                    </a:lnTo>
                    <a:lnTo>
                      <a:pt x="6" y="12"/>
                    </a:lnTo>
                    <a:lnTo>
                      <a:pt x="0" y="4"/>
                    </a:lnTo>
                    <a:lnTo>
                      <a:pt x="3" y="1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409080" y="4800600"/>
                <a:ext cx="18720" cy="50760"/>
              </a:xfrm>
              <a:custGeom>
                <a:avLst/>
                <a:gdLst/>
                <a:ahLst/>
                <a:rect l="l" t="t" r="r" b="b"/>
                <a:pathLst>
                  <a:path w="37" h="100">
                    <a:moveTo>
                      <a:pt x="10" y="0"/>
                    </a:moveTo>
                    <a:lnTo>
                      <a:pt x="0" y="2"/>
                    </a:lnTo>
                    <a:lnTo>
                      <a:pt x="26" y="100"/>
                    </a:lnTo>
                    <a:lnTo>
                      <a:pt x="37" y="9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407280" y="4798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3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12" y="3"/>
                    </a:lnTo>
                    <a:lnTo>
                      <a:pt x="10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424920" y="48322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32"/>
                    </a:moveTo>
                    <a:lnTo>
                      <a:pt x="5" y="41"/>
                    </a:lnTo>
                    <a:lnTo>
                      <a:pt x="55" y="9"/>
                    </a:lnTo>
                    <a:lnTo>
                      <a:pt x="5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423120" y="4849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5"/>
                    </a:moveTo>
                    <a:lnTo>
                      <a:pt x="3" y="13"/>
                    </a:lnTo>
                    <a:lnTo>
                      <a:pt x="8" y="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448680" y="4803480"/>
                <a:ext cx="14040" cy="32040"/>
              </a:xfrm>
              <a:custGeom>
                <a:avLst/>
                <a:gdLst/>
                <a:ahLst/>
                <a:rect l="l" t="t" r="r" b="b"/>
                <a:pathLst>
                  <a:path w="29" h="65">
                    <a:moveTo>
                      <a:pt x="0" y="59"/>
                    </a:moveTo>
                    <a:lnTo>
                      <a:pt x="9" y="65"/>
                    </a:lnTo>
                    <a:lnTo>
                      <a:pt x="29" y="5"/>
                    </a:lnTo>
                    <a:lnTo>
                      <a:pt x="2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448680" y="4832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9"/>
                    </a:moveTo>
                    <a:lnTo>
                      <a:pt x="9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459840" y="479268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0" y="19"/>
                    </a:moveTo>
                    <a:lnTo>
                      <a:pt x="5" y="28"/>
                    </a:lnTo>
                    <a:lnTo>
                      <a:pt x="46" y="10"/>
                    </a:lnTo>
                    <a:lnTo>
                      <a:pt x="4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58040" y="4802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1"/>
                    </a:moveTo>
                    <a:lnTo>
                      <a:pt x="3" y="0"/>
                    </a:lnTo>
                    <a:lnTo>
                      <a:pt x="8" y="9"/>
                    </a:lnTo>
                    <a:lnTo>
                      <a:pt x="9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80360" y="4776840"/>
                <a:ext cx="11160" cy="1872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32"/>
                    </a:moveTo>
                    <a:lnTo>
                      <a:pt x="9" y="37"/>
                    </a:lnTo>
                    <a:lnTo>
                      <a:pt x="21" y="5"/>
                    </a:lnTo>
                    <a:lnTo>
                      <a:pt x="1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48036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10"/>
                    </a:moveTo>
                    <a:lnTo>
                      <a:pt x="9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486840" y="47671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0" y="20"/>
                    </a:moveTo>
                    <a:lnTo>
                      <a:pt x="6" y="29"/>
                    </a:lnTo>
                    <a:lnTo>
                      <a:pt x="48" y="9"/>
                    </a:lnTo>
                    <a:lnTo>
                      <a:pt x="4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486840" y="477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1"/>
                    </a:moveTo>
                    <a:lnTo>
                      <a:pt x="2" y="0"/>
                    </a:lnTo>
                    <a:lnTo>
                      <a:pt x="8" y="9"/>
                    </a:lnTo>
                    <a:lnTo>
                      <a:pt x="9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510600" y="47671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5" y="0"/>
                    </a:moveTo>
                    <a:lnTo>
                      <a:pt x="0" y="9"/>
                    </a:lnTo>
                    <a:lnTo>
                      <a:pt x="26" y="24"/>
                    </a:lnTo>
                    <a:lnTo>
                      <a:pt x="31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510600" y="476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523200" y="47703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4"/>
                    </a:moveTo>
                    <a:lnTo>
                      <a:pt x="25" y="0"/>
                    </a:lnTo>
                    <a:lnTo>
                      <a:pt x="26" y="11"/>
                    </a:lnTo>
                    <a:lnTo>
                      <a:pt x="1" y="1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521760" y="477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1" y="11"/>
                    </a:lnTo>
                    <a:lnTo>
                      <a:pt x="4" y="1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535800" y="476568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13"/>
                    </a:moveTo>
                    <a:lnTo>
                      <a:pt x="11" y="8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25" y="6"/>
                    </a:lnTo>
                    <a:lnTo>
                      <a:pt x="22" y="12"/>
                    </a:lnTo>
                    <a:lnTo>
                      <a:pt x="16" y="17"/>
                    </a:lnTo>
                    <a:lnTo>
                      <a:pt x="5" y="2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535800" y="4770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11"/>
                    </a:moveTo>
                    <a:lnTo>
                      <a:pt x="5" y="1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543720" y="4714920"/>
                <a:ext cx="38160" cy="5220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97"/>
                    </a:moveTo>
                    <a:lnTo>
                      <a:pt x="29" y="51"/>
                    </a:lnTo>
                    <a:lnTo>
                      <a:pt x="52" y="18"/>
                    </a:lnTo>
                    <a:lnTo>
                      <a:pt x="65" y="0"/>
                    </a:lnTo>
                    <a:lnTo>
                      <a:pt x="73" y="6"/>
                    </a:lnTo>
                    <a:lnTo>
                      <a:pt x="59" y="25"/>
                    </a:lnTo>
                    <a:lnTo>
                      <a:pt x="37" y="58"/>
                    </a:lnTo>
                    <a:lnTo>
                      <a:pt x="8" y="104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543720" y="47656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1" y="0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577200" y="467496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123" h="85">
                    <a:moveTo>
                      <a:pt x="0" y="75"/>
                    </a:moveTo>
                    <a:lnTo>
                      <a:pt x="117" y="0"/>
                    </a:lnTo>
                    <a:lnTo>
                      <a:pt x="123" y="9"/>
                    </a:lnTo>
                    <a:lnTo>
                      <a:pt x="5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577200" y="471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2"/>
                    </a:moveTo>
                    <a:lnTo>
                      <a:pt x="1" y="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639120" y="46702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0" y="8"/>
                    </a:moveTo>
                    <a:lnTo>
                      <a:pt x="2" y="18"/>
                    </a:lnTo>
                    <a:lnTo>
                      <a:pt x="26" y="11"/>
                    </a:lnTo>
                    <a:lnTo>
                      <a:pt x="2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637680" y="46749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"/>
                    </a:moveTo>
                    <a:lnTo>
                      <a:pt x="2" y="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650280" y="4670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3" y="1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564600" y="47149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175" h="118">
                    <a:moveTo>
                      <a:pt x="175" y="8"/>
                    </a:moveTo>
                    <a:lnTo>
                      <a:pt x="169" y="0"/>
                    </a:lnTo>
                    <a:lnTo>
                      <a:pt x="0" y="110"/>
                    </a:lnTo>
                    <a:lnTo>
                      <a:pt x="7" y="118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650280" y="471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4"/>
                    </a:moveTo>
                    <a:lnTo>
                      <a:pt x="10" y="6"/>
                    </a:lnTo>
                    <a:lnTo>
                      <a:pt x="7" y="8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382080" y="4770360"/>
                <a:ext cx="185760" cy="129960"/>
              </a:xfrm>
              <a:custGeom>
                <a:avLst/>
                <a:gdLst/>
                <a:ahLst/>
                <a:rect l="l" t="t" r="r" b="b"/>
                <a:pathLst>
                  <a:path w="359" h="251">
                    <a:moveTo>
                      <a:pt x="359" y="8"/>
                    </a:moveTo>
                    <a:lnTo>
                      <a:pt x="183" y="127"/>
                    </a:lnTo>
                    <a:lnTo>
                      <a:pt x="62" y="210"/>
                    </a:lnTo>
                    <a:lnTo>
                      <a:pt x="7" y="251"/>
                    </a:lnTo>
                    <a:lnTo>
                      <a:pt x="0" y="243"/>
                    </a:lnTo>
                    <a:lnTo>
                      <a:pt x="55" y="202"/>
                    </a:lnTo>
                    <a:lnTo>
                      <a:pt x="177" y="119"/>
                    </a:lnTo>
                    <a:lnTo>
                      <a:pt x="352" y="0"/>
                    </a:lnTo>
                    <a:lnTo>
                      <a:pt x="35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564600" y="4770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374160" y="4825800"/>
                <a:ext cx="12600" cy="73080"/>
              </a:xfrm>
              <a:custGeom>
                <a:avLst/>
                <a:gdLst/>
                <a:ahLst/>
                <a:rect l="l" t="t" r="r" b="b"/>
                <a:pathLst>
                  <a:path w="24" h="141">
                    <a:moveTo>
                      <a:pt x="15" y="141"/>
                    </a:moveTo>
                    <a:lnTo>
                      <a:pt x="11" y="122"/>
                    </a:lnTo>
                    <a:lnTo>
                      <a:pt x="7" y="74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74"/>
                    </a:lnTo>
                    <a:lnTo>
                      <a:pt x="20" y="122"/>
                    </a:lnTo>
                    <a:lnTo>
                      <a:pt x="24" y="139"/>
                    </a:lnTo>
                    <a:lnTo>
                      <a:pt x="15" y="14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382080" y="48956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8" y="8"/>
                    </a:moveTo>
                    <a:lnTo>
                      <a:pt x="1" y="13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74160" y="479556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70" h="64">
                    <a:moveTo>
                      <a:pt x="0" y="56"/>
                    </a:moveTo>
                    <a:lnTo>
                      <a:pt x="7" y="64"/>
                    </a:lnTo>
                    <a:lnTo>
                      <a:pt x="70" y="8"/>
                    </a:lnTo>
                    <a:lnTo>
                      <a:pt x="6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374160" y="48258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8" y="8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407280" y="4794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00880" y="460188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75" h="95">
                    <a:moveTo>
                      <a:pt x="75" y="73"/>
                    </a:moveTo>
                    <a:lnTo>
                      <a:pt x="9" y="95"/>
                    </a:lnTo>
                    <a:lnTo>
                      <a:pt x="0" y="20"/>
                    </a:lnTo>
                    <a:lnTo>
                      <a:pt x="41" y="0"/>
                    </a:lnTo>
                    <a:lnTo>
                      <a:pt x="75" y="7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504120" y="4638600"/>
                <a:ext cx="36720" cy="15840"/>
              </a:xfrm>
              <a:custGeom>
                <a:avLst/>
                <a:gdLst/>
                <a:ahLst/>
                <a:rect l="l" t="t" r="r" b="b"/>
                <a:pathLst>
                  <a:path w="72" h="32">
                    <a:moveTo>
                      <a:pt x="72" y="9"/>
                    </a:moveTo>
                    <a:lnTo>
                      <a:pt x="66" y="0"/>
                    </a:lnTo>
                    <a:lnTo>
                      <a:pt x="0" y="22"/>
                    </a:lnTo>
                    <a:lnTo>
                      <a:pt x="6" y="32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97640" y="46130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9" h="78">
                    <a:moveTo>
                      <a:pt x="10" y="78"/>
                    </a:moveTo>
                    <a:lnTo>
                      <a:pt x="19" y="75"/>
                    </a:lnTo>
                    <a:lnTo>
                      <a:pt x="10" y="0"/>
                    </a:lnTo>
                    <a:lnTo>
                      <a:pt x="0" y="3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504120" y="4649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10"/>
                    </a:moveTo>
                    <a:lnTo>
                      <a:pt x="1" y="12"/>
                    </a:lnTo>
                    <a:lnTo>
                      <a:pt x="0" y="6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99440" y="460044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0"/>
                    </a:moveTo>
                    <a:lnTo>
                      <a:pt x="5" y="29"/>
                    </a:lnTo>
                    <a:lnTo>
                      <a:pt x="46" y="10"/>
                    </a:lnTo>
                    <a:lnTo>
                      <a:pt x="41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97640" y="4611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8" y="9"/>
                    </a:lnTo>
                    <a:lnTo>
                      <a:pt x="1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18520" y="460188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44" h="78">
                    <a:moveTo>
                      <a:pt x="10" y="0"/>
                    </a:moveTo>
                    <a:lnTo>
                      <a:pt x="0" y="5"/>
                    </a:lnTo>
                    <a:lnTo>
                      <a:pt x="35" y="78"/>
                    </a:lnTo>
                    <a:lnTo>
                      <a:pt x="44" y="7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518520" y="45990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3" y="2"/>
                    </a:moveTo>
                    <a:lnTo>
                      <a:pt x="8" y="0"/>
                    </a:lnTo>
                    <a:lnTo>
                      <a:pt x="10" y="4"/>
                    </a:lnTo>
                    <a:lnTo>
                      <a:pt x="0" y="9"/>
                    </a:lnTo>
                    <a:lnTo>
                      <a:pt x="8" y="1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537600" y="463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1"/>
                    </a:moveTo>
                    <a:lnTo>
                      <a:pt x="11" y="8"/>
                    </a:lnTo>
                    <a:lnTo>
                      <a:pt x="8" y="9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031160" y="408780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145" h="155">
                    <a:moveTo>
                      <a:pt x="145" y="76"/>
                    </a:moveTo>
                    <a:lnTo>
                      <a:pt x="144" y="75"/>
                    </a:lnTo>
                    <a:lnTo>
                      <a:pt x="57" y="155"/>
                    </a:lnTo>
                    <a:lnTo>
                      <a:pt x="0" y="83"/>
                    </a:lnTo>
                    <a:lnTo>
                      <a:pt x="49" y="26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35" y="0"/>
                    </a:lnTo>
                    <a:lnTo>
                      <a:pt x="144" y="75"/>
                    </a:lnTo>
                    <a:lnTo>
                      <a:pt x="145" y="7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104240" y="4124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1" y="9"/>
                    </a:moveTo>
                    <a:lnTo>
                      <a:pt x="8" y="1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58160" y="4124160"/>
                <a:ext cx="49320" cy="44640"/>
              </a:xfrm>
              <a:custGeom>
                <a:avLst/>
                <a:gdLst/>
                <a:ahLst/>
                <a:rect l="l" t="t" r="r" b="b"/>
                <a:pathLst>
                  <a:path w="94" h="88">
                    <a:moveTo>
                      <a:pt x="94" y="8"/>
                    </a:moveTo>
                    <a:lnTo>
                      <a:pt x="87" y="0"/>
                    </a:lnTo>
                    <a:lnTo>
                      <a:pt x="0" y="80"/>
                    </a:lnTo>
                    <a:lnTo>
                      <a:pt x="7" y="88"/>
                    </a:lnTo>
                    <a:lnTo>
                      <a:pt x="9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104240" y="4122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11"/>
                    </a:lnTo>
                    <a:lnTo>
                      <a:pt x="0" y="1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29720" y="412884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65" h="79">
                    <a:moveTo>
                      <a:pt x="57" y="79"/>
                    </a:moveTo>
                    <a:lnTo>
                      <a:pt x="65" y="73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58160" y="416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3" y="12"/>
                    </a:lnTo>
                    <a:lnTo>
                      <a:pt x="0" y="8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29720" y="4100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57" h="63">
                    <a:moveTo>
                      <a:pt x="0" y="56"/>
                    </a:moveTo>
                    <a:lnTo>
                      <a:pt x="8" y="63"/>
                    </a:lnTo>
                    <a:lnTo>
                      <a:pt x="57" y="6"/>
                    </a:lnTo>
                    <a:lnTo>
                      <a:pt x="4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27920" y="41288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2" y="7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47000" y="40878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4" y="32"/>
                    </a:moveTo>
                    <a:lnTo>
                      <a:pt x="22" y="26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53480" y="41004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6"/>
                    </a:moveTo>
                    <a:lnTo>
                      <a:pt x="11" y="3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45560" y="40860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8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7" y="12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47000" y="4084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45560" y="40860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8" y="12"/>
                    </a:lnTo>
                    <a:lnTo>
                      <a:pt x="11" y="7"/>
                    </a:lnTo>
                    <a:lnTo>
                      <a:pt x="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45560" y="408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0" y="1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8800" y="408600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5" y="0"/>
                    </a:moveTo>
                    <a:lnTo>
                      <a:pt x="0" y="9"/>
                    </a:lnTo>
                    <a:lnTo>
                      <a:pt x="109" y="84"/>
                    </a:lnTo>
                    <a:lnTo>
                      <a:pt x="115" y="7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47000" y="4084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2" y="0"/>
                    </a:lnTo>
                    <a:lnTo>
                      <a:pt x="6" y="3"/>
                    </a:lnTo>
                    <a:lnTo>
                      <a:pt x="1" y="12"/>
                    </a:lnTo>
                    <a:lnTo>
                      <a:pt x="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104240" y="4124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0" y="9"/>
                    </a:lnTo>
                    <a:lnTo>
                      <a:pt x="2" y="11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104240" y="4124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104240" y="4124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10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939000" y="4147920"/>
                <a:ext cx="87480" cy="103320"/>
              </a:xfrm>
              <a:custGeom>
                <a:avLst/>
                <a:gdLst/>
                <a:ahLst/>
                <a:rect l="l" t="t" r="r" b="b"/>
                <a:pathLst>
                  <a:path w="169" h="201">
                    <a:moveTo>
                      <a:pt x="107" y="178"/>
                    </a:moveTo>
                    <a:lnTo>
                      <a:pt x="85" y="201"/>
                    </a:lnTo>
                    <a:lnTo>
                      <a:pt x="0" y="62"/>
                    </a:lnTo>
                    <a:lnTo>
                      <a:pt x="89" y="0"/>
                    </a:lnTo>
                    <a:lnTo>
                      <a:pt x="169" y="98"/>
                    </a:lnTo>
                    <a:lnTo>
                      <a:pt x="107" y="17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981840" y="42368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7"/>
                    </a:moveTo>
                    <a:lnTo>
                      <a:pt x="22" y="0"/>
                    </a:lnTo>
                    <a:lnTo>
                      <a:pt x="0" y="24"/>
                    </a:lnTo>
                    <a:lnTo>
                      <a:pt x="8" y="30"/>
                    </a:lnTo>
                    <a:lnTo>
                      <a:pt x="3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936120" y="4176720"/>
                <a:ext cx="48960" cy="75960"/>
              </a:xfrm>
              <a:custGeom>
                <a:avLst/>
                <a:gdLst/>
                <a:ahLst/>
                <a:rect l="l" t="t" r="r" b="b"/>
                <a:pathLst>
                  <a:path w="93" h="146">
                    <a:moveTo>
                      <a:pt x="85" y="146"/>
                    </a:moveTo>
                    <a:lnTo>
                      <a:pt x="93" y="140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85" y="14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981840" y="42494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6"/>
                    </a:moveTo>
                    <a:lnTo>
                      <a:pt x="2" y="12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937560" y="4144680"/>
                <a:ext cx="49320" cy="36720"/>
              </a:xfrm>
              <a:custGeom>
                <a:avLst/>
                <a:gdLst/>
                <a:ahLst/>
                <a:rect l="l" t="t" r="r" b="b"/>
                <a:pathLst>
                  <a:path w="93" h="71">
                    <a:moveTo>
                      <a:pt x="0" y="62"/>
                    </a:moveTo>
                    <a:lnTo>
                      <a:pt x="5" y="71"/>
                    </a:lnTo>
                    <a:lnTo>
                      <a:pt x="93" y="9"/>
                    </a:lnTo>
                    <a:lnTo>
                      <a:pt x="88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936120" y="41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7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10" y="1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983640" y="4146480"/>
                <a:ext cx="44280" cy="54000"/>
              </a:xfrm>
              <a:custGeom>
                <a:avLst/>
                <a:gdLst/>
                <a:ahLst/>
                <a:rect l="l" t="t" r="r" b="b"/>
                <a:pathLst>
                  <a:path w="88" h="105">
                    <a:moveTo>
                      <a:pt x="8" y="0"/>
                    </a:moveTo>
                    <a:lnTo>
                      <a:pt x="0" y="6"/>
                    </a:lnTo>
                    <a:lnTo>
                      <a:pt x="80" y="105"/>
                    </a:lnTo>
                    <a:lnTo>
                      <a:pt x="88" y="9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983640" y="4143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1" y="3"/>
                    </a:moveTo>
                    <a:lnTo>
                      <a:pt x="5" y="0"/>
                    </a:lnTo>
                    <a:lnTo>
                      <a:pt x="8" y="4"/>
                    </a:lnTo>
                    <a:lnTo>
                      <a:pt x="0" y="10"/>
                    </a:lnTo>
                    <a:lnTo>
                      <a:pt x="6" y="1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91560" y="419724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70" h="86">
                    <a:moveTo>
                      <a:pt x="70" y="6"/>
                    </a:moveTo>
                    <a:lnTo>
                      <a:pt x="62" y="0"/>
                    </a:lnTo>
                    <a:lnTo>
                      <a:pt x="0" y="79"/>
                    </a:lnTo>
                    <a:lnTo>
                      <a:pt x="8" y="8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25040" y="419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0"/>
                    </a:moveTo>
                    <a:lnTo>
                      <a:pt x="11" y="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991560" y="4236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0" y="0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993000" y="4192560"/>
                <a:ext cx="165240" cy="91800"/>
              </a:xfrm>
              <a:custGeom>
                <a:avLst/>
                <a:gdLst/>
                <a:ahLst/>
                <a:rect l="l" t="t" r="r" b="b"/>
                <a:pathLst>
                  <a:path w="317" h="176">
                    <a:moveTo>
                      <a:pt x="0" y="131"/>
                    </a:moveTo>
                    <a:lnTo>
                      <a:pt x="37" y="93"/>
                    </a:lnTo>
                    <a:lnTo>
                      <a:pt x="57" y="79"/>
                    </a:lnTo>
                    <a:lnTo>
                      <a:pt x="67" y="93"/>
                    </a:lnTo>
                    <a:lnTo>
                      <a:pt x="81" y="108"/>
                    </a:lnTo>
                    <a:lnTo>
                      <a:pt x="86" y="116"/>
                    </a:lnTo>
                    <a:lnTo>
                      <a:pt x="90" y="119"/>
                    </a:lnTo>
                    <a:lnTo>
                      <a:pt x="92" y="120"/>
                    </a:lnTo>
                    <a:lnTo>
                      <a:pt x="95" y="122"/>
                    </a:lnTo>
                    <a:lnTo>
                      <a:pt x="98" y="123"/>
                    </a:lnTo>
                    <a:lnTo>
                      <a:pt x="99" y="122"/>
                    </a:lnTo>
                    <a:lnTo>
                      <a:pt x="102" y="120"/>
                    </a:lnTo>
                    <a:lnTo>
                      <a:pt x="108" y="114"/>
                    </a:lnTo>
                    <a:lnTo>
                      <a:pt x="120" y="100"/>
                    </a:lnTo>
                    <a:lnTo>
                      <a:pt x="152" y="69"/>
                    </a:lnTo>
                    <a:lnTo>
                      <a:pt x="195" y="27"/>
                    </a:lnTo>
                    <a:lnTo>
                      <a:pt x="218" y="49"/>
                    </a:lnTo>
                    <a:lnTo>
                      <a:pt x="245" y="0"/>
                    </a:lnTo>
                    <a:lnTo>
                      <a:pt x="317" y="46"/>
                    </a:lnTo>
                    <a:lnTo>
                      <a:pt x="273" y="90"/>
                    </a:lnTo>
                    <a:lnTo>
                      <a:pt x="239" y="70"/>
                    </a:lnTo>
                    <a:lnTo>
                      <a:pt x="129" y="176"/>
                    </a:lnTo>
                    <a:lnTo>
                      <a:pt x="89" y="136"/>
                    </a:lnTo>
                    <a:lnTo>
                      <a:pt x="30" y="169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991560" y="4238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38"/>
                    </a:moveTo>
                    <a:lnTo>
                      <a:pt x="7" y="46"/>
                    </a:lnTo>
                    <a:lnTo>
                      <a:pt x="44" y="7"/>
                    </a:lnTo>
                    <a:lnTo>
                      <a:pt x="37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10640" y="423072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5"/>
                    </a:moveTo>
                    <a:lnTo>
                      <a:pt x="7" y="22"/>
                    </a:lnTo>
                    <a:lnTo>
                      <a:pt x="26" y="8"/>
                    </a:lnTo>
                    <a:lnTo>
                      <a:pt x="2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10640" y="4238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21800" y="423072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8" y="0"/>
                    </a:moveTo>
                    <a:lnTo>
                      <a:pt x="30" y="31"/>
                    </a:lnTo>
                    <a:lnTo>
                      <a:pt x="42" y="41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50" y="50"/>
                    </a:lnTo>
                    <a:lnTo>
                      <a:pt x="46" y="52"/>
                    </a:lnTo>
                    <a:lnTo>
                      <a:pt x="37" y="50"/>
                    </a:lnTo>
                    <a:lnTo>
                      <a:pt x="22" y="37"/>
                    </a:lnTo>
                    <a:lnTo>
                      <a:pt x="0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21800" y="42289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3"/>
                    </a:moveTo>
                    <a:lnTo>
                      <a:pt x="4" y="0"/>
                    </a:lnTo>
                    <a:lnTo>
                      <a:pt x="8" y="4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043760" y="42051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102" h="101">
                    <a:moveTo>
                      <a:pt x="0" y="93"/>
                    </a:moveTo>
                    <a:lnTo>
                      <a:pt x="52" y="42"/>
                    </a:lnTo>
                    <a:lnTo>
                      <a:pt x="95" y="0"/>
                    </a:lnTo>
                    <a:lnTo>
                      <a:pt x="102" y="8"/>
                    </a:lnTo>
                    <a:lnTo>
                      <a:pt x="58" y="50"/>
                    </a:lnTo>
                    <a:lnTo>
                      <a:pt x="7" y="10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043760" y="4252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093080" y="4205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8" y="0"/>
                    </a:moveTo>
                    <a:lnTo>
                      <a:pt x="0" y="7"/>
                    </a:lnTo>
                    <a:lnTo>
                      <a:pt x="21" y="28"/>
                    </a:lnTo>
                    <a:lnTo>
                      <a:pt x="29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093080" y="4203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8" y="5"/>
                    </a:lnTo>
                    <a:lnTo>
                      <a:pt x="0" y="12"/>
                    </a:lnTo>
                    <a:lnTo>
                      <a:pt x="7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104240" y="419256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47"/>
                    </a:moveTo>
                    <a:lnTo>
                      <a:pt x="8" y="54"/>
                    </a:lnTo>
                    <a:lnTo>
                      <a:pt x="37" y="6"/>
                    </a:lnTo>
                    <a:lnTo>
                      <a:pt x="29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104240" y="4216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7"/>
                    </a:moveTo>
                    <a:lnTo>
                      <a:pt x="6" y="12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118640" y="41907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75" h="56">
                    <a:moveTo>
                      <a:pt x="5" y="0"/>
                    </a:moveTo>
                    <a:lnTo>
                      <a:pt x="0" y="9"/>
                    </a:lnTo>
                    <a:lnTo>
                      <a:pt x="70" y="56"/>
                    </a:lnTo>
                    <a:lnTo>
                      <a:pt x="75" y="4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118640" y="4189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4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2" y="11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132680" y="421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6"/>
                    </a:moveTo>
                    <a:lnTo>
                      <a:pt x="42" y="0"/>
                    </a:lnTo>
                    <a:lnTo>
                      <a:pt x="0" y="43"/>
                    </a:lnTo>
                    <a:lnTo>
                      <a:pt x="8" y="50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155000" y="4214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7" y="0"/>
                    </a:moveTo>
                    <a:lnTo>
                      <a:pt x="12" y="4"/>
                    </a:lnTo>
                    <a:lnTo>
                      <a:pt x="8" y="8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115400" y="422748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35" y="28"/>
                    </a:moveTo>
                    <a:lnTo>
                      <a:pt x="40" y="20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132680" y="4236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8"/>
                    </a:moveTo>
                    <a:lnTo>
                      <a:pt x="5" y="10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058160" y="422892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119" h="113">
                    <a:moveTo>
                      <a:pt x="119" y="7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8" y="113"/>
                    </a:lnTo>
                    <a:lnTo>
                      <a:pt x="119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115400" y="4227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6" y="1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8" y="9"/>
                    </a:lnTo>
                    <a:lnTo>
                      <a:pt x="1" y="9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39080" y="4260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39" y="48"/>
                    </a:moveTo>
                    <a:lnTo>
                      <a:pt x="46" y="40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39" y="4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058160" y="4282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8"/>
                    </a:moveTo>
                    <a:lnTo>
                      <a:pt x="4" y="12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07400" y="4260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4" y="8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6" y="41"/>
                    </a:lnTo>
                    <a:lnTo>
                      <a:pt x="6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039080" y="4259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3"/>
                    </a:moveTo>
                    <a:lnTo>
                      <a:pt x="4" y="0"/>
                    </a:lnTo>
                    <a:lnTo>
                      <a:pt x="0" y="3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991560" y="425916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31" y="45"/>
                    </a:moveTo>
                    <a:lnTo>
                      <a:pt x="38" y="38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31" y="4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007400" y="42782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8"/>
                    </a:moveTo>
                    <a:lnTo>
                      <a:pt x="2" y="11"/>
                    </a:lnTo>
                    <a:lnTo>
                      <a:pt x="0" y="8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990120" y="42591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4" y="8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11" y="8"/>
                    </a:lnTo>
                    <a:lnTo>
                      <a:pt x="12" y="1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616800" y="4338360"/>
                <a:ext cx="317520" cy="149400"/>
              </a:xfrm>
              <a:custGeom>
                <a:avLst/>
                <a:gdLst/>
                <a:ahLst/>
                <a:rect l="l" t="t" r="r" b="b"/>
                <a:pathLst>
                  <a:path w="617" h="289">
                    <a:moveTo>
                      <a:pt x="579" y="0"/>
                    </a:moveTo>
                    <a:lnTo>
                      <a:pt x="617" y="37"/>
                    </a:lnTo>
                    <a:lnTo>
                      <a:pt x="468" y="284"/>
                    </a:lnTo>
                    <a:lnTo>
                      <a:pt x="0" y="289"/>
                    </a:lnTo>
                    <a:lnTo>
                      <a:pt x="7" y="235"/>
                    </a:lnTo>
                    <a:lnTo>
                      <a:pt x="8" y="244"/>
                    </a:lnTo>
                    <a:lnTo>
                      <a:pt x="40" y="244"/>
                    </a:lnTo>
                    <a:lnTo>
                      <a:pt x="111" y="243"/>
                    </a:lnTo>
                    <a:lnTo>
                      <a:pt x="148" y="242"/>
                    </a:lnTo>
                    <a:lnTo>
                      <a:pt x="182" y="239"/>
                    </a:lnTo>
                    <a:lnTo>
                      <a:pt x="206" y="238"/>
                    </a:lnTo>
                    <a:lnTo>
                      <a:pt x="213" y="236"/>
                    </a:lnTo>
                    <a:lnTo>
                      <a:pt x="217" y="235"/>
                    </a:lnTo>
                    <a:lnTo>
                      <a:pt x="217" y="231"/>
                    </a:lnTo>
                    <a:lnTo>
                      <a:pt x="218" y="229"/>
                    </a:lnTo>
                    <a:lnTo>
                      <a:pt x="218" y="225"/>
                    </a:lnTo>
                    <a:lnTo>
                      <a:pt x="218" y="221"/>
                    </a:lnTo>
                    <a:lnTo>
                      <a:pt x="217" y="211"/>
                    </a:lnTo>
                    <a:lnTo>
                      <a:pt x="292" y="206"/>
                    </a:lnTo>
                    <a:lnTo>
                      <a:pt x="292" y="226"/>
                    </a:lnTo>
                    <a:lnTo>
                      <a:pt x="356" y="229"/>
                    </a:lnTo>
                    <a:lnTo>
                      <a:pt x="355" y="226"/>
                    </a:lnTo>
                    <a:lnTo>
                      <a:pt x="355" y="221"/>
                    </a:lnTo>
                    <a:lnTo>
                      <a:pt x="356" y="217"/>
                    </a:lnTo>
                    <a:lnTo>
                      <a:pt x="356" y="214"/>
                    </a:lnTo>
                    <a:lnTo>
                      <a:pt x="358" y="213"/>
                    </a:lnTo>
                    <a:lnTo>
                      <a:pt x="360" y="211"/>
                    </a:lnTo>
                    <a:lnTo>
                      <a:pt x="398" y="214"/>
                    </a:lnTo>
                    <a:lnTo>
                      <a:pt x="402" y="218"/>
                    </a:lnTo>
                    <a:lnTo>
                      <a:pt x="410" y="226"/>
                    </a:lnTo>
                    <a:lnTo>
                      <a:pt x="416" y="231"/>
                    </a:lnTo>
                    <a:lnTo>
                      <a:pt x="421" y="234"/>
                    </a:lnTo>
                    <a:lnTo>
                      <a:pt x="424" y="235"/>
                    </a:lnTo>
                    <a:lnTo>
                      <a:pt x="426" y="235"/>
                    </a:lnTo>
                    <a:lnTo>
                      <a:pt x="428" y="235"/>
                    </a:lnTo>
                    <a:lnTo>
                      <a:pt x="430" y="235"/>
                    </a:lnTo>
                    <a:lnTo>
                      <a:pt x="435" y="231"/>
                    </a:lnTo>
                    <a:lnTo>
                      <a:pt x="442" y="226"/>
                    </a:lnTo>
                    <a:lnTo>
                      <a:pt x="455" y="213"/>
                    </a:lnTo>
                    <a:lnTo>
                      <a:pt x="471" y="196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913800" y="433836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8" y="0"/>
                    </a:moveTo>
                    <a:lnTo>
                      <a:pt x="0" y="6"/>
                    </a:lnTo>
                    <a:lnTo>
                      <a:pt x="38" y="43"/>
                    </a:lnTo>
                    <a:lnTo>
                      <a:pt x="46" y="3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856560" y="4356000"/>
                <a:ext cx="79560" cy="130320"/>
              </a:xfrm>
              <a:custGeom>
                <a:avLst/>
                <a:gdLst/>
                <a:ahLst/>
                <a:rect l="l" t="t" r="r" b="b"/>
                <a:pathLst>
                  <a:path w="158" h="252">
                    <a:moveTo>
                      <a:pt x="158" y="5"/>
                    </a:moveTo>
                    <a:lnTo>
                      <a:pt x="149" y="0"/>
                    </a:lnTo>
                    <a:lnTo>
                      <a:pt x="0" y="246"/>
                    </a:lnTo>
                    <a:lnTo>
                      <a:pt x="9" y="252"/>
                    </a:lnTo>
                    <a:lnTo>
                      <a:pt x="15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931080" y="43560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9" y="0"/>
                    </a:moveTo>
                    <a:lnTo>
                      <a:pt x="12" y="1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16800" y="4481280"/>
                <a:ext cx="241200" cy="9720"/>
              </a:xfrm>
              <a:custGeom>
                <a:avLst/>
                <a:gdLst/>
                <a:ahLst/>
                <a:rect l="l" t="t" r="r" b="b"/>
                <a:pathLst>
                  <a:path w="468" h="16">
                    <a:moveTo>
                      <a:pt x="468" y="10"/>
                    </a:moveTo>
                    <a:lnTo>
                      <a:pt x="468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46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56560" y="4481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8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615360" y="445932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16" h="57">
                    <a:moveTo>
                      <a:pt x="0" y="54"/>
                    </a:moveTo>
                    <a:lnTo>
                      <a:pt x="9" y="57"/>
                    </a:lnTo>
                    <a:lnTo>
                      <a:pt x="16" y="2"/>
                    </a:lnTo>
                    <a:lnTo>
                      <a:pt x="7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613560" y="4484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11"/>
                    </a:moveTo>
                    <a:lnTo>
                      <a:pt x="0" y="11"/>
                    </a:lnTo>
                    <a:lnTo>
                      <a:pt x="1" y="4"/>
                    </a:lnTo>
                    <a:lnTo>
                      <a:pt x="10" y="7"/>
                    </a:lnTo>
                    <a:lnTo>
                      <a:pt x="6" y="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18600" y="44607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0" y="0"/>
                    </a:moveTo>
                    <a:lnTo>
                      <a:pt x="0" y="1"/>
                    </a:lnTo>
                    <a:lnTo>
                      <a:pt x="1" y="11"/>
                    </a:lnTo>
                    <a:lnTo>
                      <a:pt x="11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618600" y="44593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10" y="1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21480" y="4457520"/>
                <a:ext cx="108000" cy="9720"/>
              </a:xfrm>
              <a:custGeom>
                <a:avLst/>
                <a:gdLst/>
                <a:ahLst/>
                <a:rect l="l" t="t" r="r" b="b"/>
                <a:pathLst>
                  <a:path w="209" h="20">
                    <a:moveTo>
                      <a:pt x="0" y="9"/>
                    </a:moveTo>
                    <a:lnTo>
                      <a:pt x="103" y="6"/>
                    </a:lnTo>
                    <a:lnTo>
                      <a:pt x="174" y="4"/>
                    </a:lnTo>
                    <a:lnTo>
                      <a:pt x="207" y="0"/>
                    </a:lnTo>
                    <a:lnTo>
                      <a:pt x="209" y="10"/>
                    </a:lnTo>
                    <a:lnTo>
                      <a:pt x="174" y="14"/>
                    </a:lnTo>
                    <a:lnTo>
                      <a:pt x="103" y="17"/>
                    </a:lnTo>
                    <a:lnTo>
                      <a:pt x="0" y="2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18600" y="4462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1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724800" y="44463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12" h="28">
                    <a:moveTo>
                      <a:pt x="0" y="24"/>
                    </a:moveTo>
                    <a:lnTo>
                      <a:pt x="3" y="17"/>
                    </a:lnTo>
                    <a:lnTo>
                      <a:pt x="3" y="11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2" y="11"/>
                    </a:lnTo>
                    <a:lnTo>
                      <a:pt x="12" y="20"/>
                    </a:lnTo>
                    <a:lnTo>
                      <a:pt x="9" y="2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24800" y="4457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728040" y="4441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77" h="16">
                    <a:moveTo>
                      <a:pt x="0" y="5"/>
                    </a:moveTo>
                    <a:lnTo>
                      <a:pt x="0" y="16"/>
                    </a:lnTo>
                    <a:lnTo>
                      <a:pt x="77" y="10"/>
                    </a:lnTo>
                    <a:lnTo>
                      <a:pt x="7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724800" y="44449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11"/>
                    </a:lnTo>
                    <a:lnTo>
                      <a:pt x="1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764400" y="44416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11" y="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767640" y="445284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0"/>
                    </a:moveTo>
                    <a:lnTo>
                      <a:pt x="0" y="10"/>
                    </a:lnTo>
                    <a:lnTo>
                      <a:pt x="64" y="13"/>
                    </a:lnTo>
                    <a:lnTo>
                      <a:pt x="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64400" y="4452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797880" y="44449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" y="22"/>
                    </a:moveTo>
                    <a:lnTo>
                      <a:pt x="0" y="14"/>
                    </a:lnTo>
                    <a:lnTo>
                      <a:pt x="1" y="4"/>
                    </a:lnTo>
                    <a:lnTo>
                      <a:pt x="6" y="0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9" y="14"/>
                    </a:lnTo>
                    <a:lnTo>
                      <a:pt x="10" y="22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797880" y="4454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5" y="11"/>
                    </a:moveTo>
                    <a:lnTo>
                      <a:pt x="9" y="11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802560" y="444492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8" y="3"/>
                    </a:lnTo>
                    <a:lnTo>
                      <a:pt x="38" y="13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801120" y="44449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820200" y="44481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7" y="0"/>
                    </a:moveTo>
                    <a:lnTo>
                      <a:pt x="18" y="11"/>
                    </a:lnTo>
                    <a:lnTo>
                      <a:pt x="27" y="19"/>
                    </a:lnTo>
                    <a:lnTo>
                      <a:pt x="30" y="19"/>
                    </a:lnTo>
                    <a:lnTo>
                      <a:pt x="35" y="19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2" y="28"/>
                    </a:lnTo>
                    <a:lnTo>
                      <a:pt x="11" y="19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820200" y="44463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0"/>
                    </a:moveTo>
                    <a:lnTo>
                      <a:pt x="5" y="0"/>
                    </a:lnTo>
                    <a:lnTo>
                      <a:pt x="7" y="2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836040" y="443700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39"/>
                    </a:moveTo>
                    <a:lnTo>
                      <a:pt x="12" y="30"/>
                    </a:lnTo>
                    <a:lnTo>
                      <a:pt x="25" y="17"/>
                    </a:lnTo>
                    <a:lnTo>
                      <a:pt x="41" y="0"/>
                    </a:lnTo>
                    <a:lnTo>
                      <a:pt x="48" y="8"/>
                    </a:lnTo>
                    <a:lnTo>
                      <a:pt x="32" y="25"/>
                    </a:lnTo>
                    <a:lnTo>
                      <a:pt x="19" y="38"/>
                    </a:lnTo>
                    <a:lnTo>
                      <a:pt x="7" y="4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836040" y="4457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0"/>
                    </a:moveTo>
                    <a:lnTo>
                      <a:pt x="7" y="9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858000" y="4338360"/>
                <a:ext cx="60480" cy="103320"/>
              </a:xfrm>
              <a:custGeom>
                <a:avLst/>
                <a:gdLst/>
                <a:ahLst/>
                <a:rect l="l" t="t" r="r" b="b"/>
                <a:pathLst>
                  <a:path w="116" h="202">
                    <a:moveTo>
                      <a:pt x="0" y="195"/>
                    </a:moveTo>
                    <a:lnTo>
                      <a:pt x="8" y="202"/>
                    </a:lnTo>
                    <a:lnTo>
                      <a:pt x="116" y="6"/>
                    </a:lnTo>
                    <a:lnTo>
                      <a:pt x="108" y="0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858000" y="443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8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2880" y="2671920"/>
              <a:ext cx="25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cc00"/>
                  </a:solidFill>
                  <a:latin typeface="Arial"/>
                </a:rPr>
                <a:t>Areas Urbanizables 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0" y="2995920"/>
              <a:ext cx="64008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6058080" y="3521160"/>
            <a:ext cx="612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0" y="2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68880" y="3200400"/>
            <a:ext cx="504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0"/>
                </a:lnTo>
                <a:lnTo>
                  <a:pt x="0" y="2"/>
                </a:lnTo>
                <a:lnTo>
                  <a:pt x="1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035760" y="3328920"/>
            <a:ext cx="612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58080" y="3392640"/>
            <a:ext cx="612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0" y="0"/>
                </a:lnTo>
                <a:lnTo>
                  <a:pt x="0" y="2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888160" y="3362400"/>
            <a:ext cx="6120" cy="324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2"/>
                </a:moveTo>
                <a:lnTo>
                  <a:pt x="10" y="0"/>
                </a:lnTo>
                <a:lnTo>
                  <a:pt x="0" y="6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850000" y="3208320"/>
            <a:ext cx="6120" cy="4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850000" y="3213000"/>
            <a:ext cx="6120" cy="1800"/>
          </a:xfrm>
          <a:custGeom>
            <a:avLst/>
            <a:gdLst/>
            <a:ahLst/>
            <a:rect l="l" t="t" r="r" b="b"/>
            <a:pathLst>
              <a:path w="11" h="0">
                <a:moveTo>
                  <a:pt x="9" y="0"/>
                </a:moveTo>
                <a:lnTo>
                  <a:pt x="11" y="0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191280" y="2922480"/>
            <a:ext cx="6480" cy="85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583240" y="3046320"/>
            <a:ext cx="6480" cy="129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583240" y="3046320"/>
            <a:ext cx="648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0" y="0"/>
                </a:lnTo>
                <a:lnTo>
                  <a:pt x="0" y="1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595840" y="3092400"/>
            <a:ext cx="5040" cy="180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43480" y="3060720"/>
            <a:ext cx="4680" cy="4680"/>
          </a:xfrm>
          <a:custGeom>
            <a:avLst/>
            <a:gdLst/>
            <a:ahLst/>
            <a:rect l="l" t="t" r="r" b="b"/>
            <a:pathLst>
              <a:path w="10" h="7">
                <a:moveTo>
                  <a:pt x="2" y="7"/>
                </a:moveTo>
                <a:lnTo>
                  <a:pt x="0" y="6"/>
                </a:lnTo>
                <a:lnTo>
                  <a:pt x="10" y="0"/>
                </a:lnTo>
                <a:lnTo>
                  <a:pt x="2" y="7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299200" y="2989440"/>
            <a:ext cx="15840" cy="2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332320" y="3164040"/>
            <a:ext cx="71640" cy="61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43680" y="3332160"/>
            <a:ext cx="2880" cy="32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2" y="3"/>
                </a:lnTo>
                <a:lnTo>
                  <a:pt x="5" y="0"/>
                </a:lnTo>
                <a:lnTo>
                  <a:pt x="0" y="6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354640" y="3559320"/>
            <a:ext cx="1440" cy="6120"/>
          </a:xfrm>
          <a:custGeom>
            <a:avLst/>
            <a:gdLst/>
            <a:ahLst/>
            <a:rect l="l" t="t" r="r" b="b"/>
            <a:pathLst>
              <a:path w="0" h="10">
                <a:moveTo>
                  <a:pt x="0" y="10"/>
                </a:moveTo>
                <a:lnTo>
                  <a:pt x="0" y="0"/>
                </a:lnTo>
                <a:lnTo>
                  <a:pt x="0" y="1"/>
                </a:lnTo>
                <a:lnTo>
                  <a:pt x="0" y="1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315040" y="3887640"/>
            <a:ext cx="6120" cy="25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15040" y="3887640"/>
            <a:ext cx="6120" cy="180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9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92720" y="3487680"/>
            <a:ext cx="648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254560" y="3551400"/>
            <a:ext cx="648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016600" y="3525840"/>
            <a:ext cx="4680" cy="32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2"/>
                </a:moveTo>
                <a:lnTo>
                  <a:pt x="7" y="0"/>
                </a:lnTo>
                <a:lnTo>
                  <a:pt x="0" y="8"/>
                </a:lnTo>
                <a:lnTo>
                  <a:pt x="8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64200" y="336384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1" y="0"/>
                </a:moveTo>
                <a:lnTo>
                  <a:pt x="0" y="10"/>
                </a:lnTo>
                <a:lnTo>
                  <a:pt x="1" y="10"/>
                </a:lnTo>
                <a:lnTo>
                  <a:pt x="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199120" y="3398760"/>
            <a:ext cx="3240" cy="468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8"/>
                </a:moveTo>
                <a:lnTo>
                  <a:pt x="1" y="9"/>
                </a:lnTo>
                <a:lnTo>
                  <a:pt x="6" y="0"/>
                </a:lnTo>
                <a:lnTo>
                  <a:pt x="0" y="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219640" y="3416400"/>
            <a:ext cx="6480" cy="144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286240" y="3394080"/>
            <a:ext cx="180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048200" y="5745240"/>
            <a:ext cx="612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700680" y="3967200"/>
            <a:ext cx="6480" cy="20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4435560"/>
            <a:ext cx="468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262560" y="4846680"/>
            <a:ext cx="3240" cy="4680"/>
          </a:xfrm>
          <a:custGeom>
            <a:avLst/>
            <a:gdLst/>
            <a:ahLst/>
            <a:rect l="l" t="t" r="r" b="b"/>
            <a:pathLst>
              <a:path w="6" h="9">
                <a:moveTo>
                  <a:pt x="6" y="9"/>
                </a:moveTo>
                <a:lnTo>
                  <a:pt x="4" y="9"/>
                </a:lnTo>
                <a:lnTo>
                  <a:pt x="0" y="0"/>
                </a:lnTo>
                <a:lnTo>
                  <a:pt x="6" y="9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067360" y="4481640"/>
            <a:ext cx="4680" cy="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149960" y="4778280"/>
            <a:ext cx="5040" cy="111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186680" y="4724280"/>
            <a:ext cx="3240" cy="158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600880" y="2916360"/>
            <a:ext cx="6120" cy="2052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411880" y="2989440"/>
            <a:ext cx="6120" cy="237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472000" y="2986200"/>
            <a:ext cx="19080" cy="32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194440" y="4662360"/>
            <a:ext cx="4680" cy="1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94440" y="4662360"/>
            <a:ext cx="4680" cy="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095800" y="4676760"/>
            <a:ext cx="6480" cy="3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32640" y="4354560"/>
            <a:ext cx="4680" cy="4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46760" y="4125960"/>
            <a:ext cx="5040" cy="11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67640" y="2514600"/>
            <a:ext cx="6480" cy="3240"/>
          </a:xfrm>
          <a:prstGeom prst="rect">
            <a:avLst/>
          </a:prstGeom>
          <a:solidFill>
            <a:srgbClr val="8db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537320" y="5789520"/>
            <a:ext cx="5040" cy="1584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0" y="29"/>
                </a:lnTo>
                <a:lnTo>
                  <a:pt x="1" y="29"/>
                </a:lnTo>
                <a:lnTo>
                  <a:pt x="9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861160" y="6342120"/>
            <a:ext cx="3240" cy="14400"/>
          </a:xfrm>
          <a:custGeom>
            <a:avLst/>
            <a:gdLst/>
            <a:ahLst/>
            <a:rect l="l" t="t" r="r" b="b"/>
            <a:pathLst>
              <a:path w="6" h="28">
                <a:moveTo>
                  <a:pt x="6" y="0"/>
                </a:moveTo>
                <a:lnTo>
                  <a:pt x="1" y="28"/>
                </a:lnTo>
                <a:lnTo>
                  <a:pt x="0" y="28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38800" y="6076800"/>
            <a:ext cx="10800" cy="11160"/>
          </a:xfrm>
          <a:custGeom>
            <a:avLst/>
            <a:gdLst/>
            <a:ahLst/>
            <a:rect l="l" t="t" r="r" b="b"/>
            <a:pathLst>
              <a:path w="20" h="21">
                <a:moveTo>
                  <a:pt x="20" y="0"/>
                </a:moveTo>
                <a:lnTo>
                  <a:pt x="0" y="21"/>
                </a:lnTo>
                <a:lnTo>
                  <a:pt x="0" y="20"/>
                </a:lnTo>
                <a:lnTo>
                  <a:pt x="2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97400" y="6138720"/>
            <a:ext cx="15840" cy="5040"/>
          </a:xfrm>
          <a:custGeom>
            <a:avLst/>
            <a:gdLst/>
            <a:ahLst/>
            <a:rect l="l" t="t" r="r" b="b"/>
            <a:pathLst>
              <a:path w="29" h="7">
                <a:moveTo>
                  <a:pt x="0" y="7"/>
                </a:moveTo>
                <a:lnTo>
                  <a:pt x="29" y="1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27480" y="5092560"/>
            <a:ext cx="12960" cy="792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24" y="17"/>
                </a:lnTo>
                <a:lnTo>
                  <a:pt x="24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1560" y="2384280"/>
            <a:ext cx="11160" cy="111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0" y="20"/>
                </a:lnTo>
                <a:lnTo>
                  <a:pt x="1" y="21"/>
                </a:lnTo>
                <a:lnTo>
                  <a:pt x="22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30800" y="443556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318280" y="4802040"/>
            <a:ext cx="1440" cy="64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11"/>
                </a:moveTo>
                <a:lnTo>
                  <a:pt x="1" y="11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375160" y="4492800"/>
            <a:ext cx="1800" cy="4680"/>
          </a:xfrm>
          <a:custGeom>
            <a:avLst/>
            <a:gdLst/>
            <a:ahLst/>
            <a:rect l="l" t="t" r="r" b="b"/>
            <a:pathLst>
              <a:path w="5" h="9">
                <a:moveTo>
                  <a:pt x="5" y="9"/>
                </a:moveTo>
                <a:lnTo>
                  <a:pt x="4" y="9"/>
                </a:lnTo>
                <a:lnTo>
                  <a:pt x="0" y="0"/>
                </a:lnTo>
                <a:lnTo>
                  <a:pt x="5" y="9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261040" y="4545000"/>
            <a:ext cx="468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11" y="1"/>
                </a:lnTo>
                <a:lnTo>
                  <a:pt x="11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53120" y="4581360"/>
            <a:ext cx="4680" cy="180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079960" y="4900680"/>
            <a:ext cx="9720" cy="61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684840" y="4870440"/>
            <a:ext cx="6480" cy="324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0"/>
                </a:moveTo>
                <a:lnTo>
                  <a:pt x="11" y="1"/>
                </a:lnTo>
                <a:lnTo>
                  <a:pt x="1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589800" y="4881600"/>
            <a:ext cx="4680" cy="20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423200" y="5183280"/>
            <a:ext cx="12600" cy="46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446960" y="5502240"/>
            <a:ext cx="6480" cy="15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434360" y="4727520"/>
            <a:ext cx="612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1"/>
                </a:moveTo>
                <a:lnTo>
                  <a:pt x="0" y="0"/>
                </a:lnTo>
                <a:lnTo>
                  <a:pt x="0" y="1"/>
                </a:lnTo>
                <a:lnTo>
                  <a:pt x="11" y="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048200" y="6121440"/>
            <a:ext cx="9360" cy="7920"/>
          </a:xfrm>
          <a:custGeom>
            <a:avLst/>
            <a:gdLst/>
            <a:ahLst/>
            <a:rect l="l" t="t" r="r" b="b"/>
            <a:pathLst>
              <a:path w="16" h="17">
                <a:moveTo>
                  <a:pt x="8" y="0"/>
                </a:moveTo>
                <a:lnTo>
                  <a:pt x="16" y="10"/>
                </a:lnTo>
                <a:lnTo>
                  <a:pt x="8" y="17"/>
                </a:lnTo>
                <a:lnTo>
                  <a:pt x="0" y="6"/>
                </a:lnTo>
                <a:lnTo>
                  <a:pt x="8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048200" y="6111720"/>
            <a:ext cx="9360" cy="16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8" y="33"/>
                </a:moveTo>
                <a:lnTo>
                  <a:pt x="17" y="30"/>
                </a:lnTo>
                <a:lnTo>
                  <a:pt x="9" y="0"/>
                </a:lnTo>
                <a:lnTo>
                  <a:pt x="0" y="3"/>
                </a:lnTo>
                <a:lnTo>
                  <a:pt x="8" y="3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052880" y="6126120"/>
            <a:ext cx="4680" cy="3240"/>
          </a:xfrm>
          <a:custGeom>
            <a:avLst/>
            <a:gdLst/>
            <a:ahLst/>
            <a:rect l="l" t="t" r="r" b="b"/>
            <a:pathLst>
              <a:path w="9" h="7">
                <a:moveTo>
                  <a:pt x="1" y="7"/>
                </a:moveTo>
                <a:lnTo>
                  <a:pt x="9" y="1"/>
                </a:lnTo>
                <a:lnTo>
                  <a:pt x="0" y="4"/>
                </a:lnTo>
                <a:lnTo>
                  <a:pt x="9" y="0"/>
                </a:lnTo>
                <a:lnTo>
                  <a:pt x="1" y="7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48200" y="6111720"/>
            <a:ext cx="6120" cy="1800"/>
          </a:xfrm>
          <a:custGeom>
            <a:avLst/>
            <a:gdLst/>
            <a:ahLst/>
            <a:rect l="l" t="t" r="r" b="b"/>
            <a:pathLst>
              <a:path w="11" h="3">
                <a:moveTo>
                  <a:pt x="9" y="0"/>
                </a:moveTo>
                <a:lnTo>
                  <a:pt x="0" y="1"/>
                </a:lnTo>
                <a:lnTo>
                  <a:pt x="11" y="1"/>
                </a:lnTo>
                <a:lnTo>
                  <a:pt x="0" y="3"/>
                </a:lnTo>
                <a:lnTo>
                  <a:pt x="9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048200" y="6121440"/>
            <a:ext cx="6120" cy="324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2"/>
                </a:moveTo>
                <a:lnTo>
                  <a:pt x="0" y="5"/>
                </a:lnTo>
                <a:lnTo>
                  <a:pt x="1" y="6"/>
                </a:lnTo>
                <a:lnTo>
                  <a:pt x="9" y="0"/>
                </a:lnTo>
                <a:lnTo>
                  <a:pt x="11" y="2"/>
                </a:lnTo>
                <a:lnTo>
                  <a:pt x="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0" y="1450800"/>
            <a:ext cx="8462880" cy="4122720"/>
            <a:chOff x="0" y="1450800"/>
            <a:chExt cx="8462880" cy="4122720"/>
          </a:xfrm>
        </p:grpSpPr>
        <p:grpSp>
          <p:nvGrpSpPr>
            <p:cNvPr id="974" name=""/>
            <p:cNvGrpSpPr/>
            <p:nvPr/>
          </p:nvGrpSpPr>
          <p:grpSpPr>
            <a:xfrm>
              <a:off x="5084640" y="1450800"/>
              <a:ext cx="3378240" cy="4122720"/>
              <a:chOff x="5084640" y="1450800"/>
              <a:chExt cx="3378240" cy="4122720"/>
            </a:xfrm>
          </p:grpSpPr>
          <p:sp>
            <p:nvSpPr>
              <p:cNvPr id="975" name=""/>
              <p:cNvSpPr/>
              <p:nvPr/>
            </p:nvSpPr>
            <p:spPr>
              <a:xfrm>
                <a:off x="5084640" y="4768560"/>
                <a:ext cx="336600" cy="212760"/>
              </a:xfrm>
              <a:custGeom>
                <a:avLst/>
                <a:gdLst/>
                <a:ahLst/>
                <a:rect l="l" t="t" r="r" b="b"/>
                <a:pathLst>
                  <a:path w="654" h="413">
                    <a:moveTo>
                      <a:pt x="38" y="79"/>
                    </a:moveTo>
                    <a:lnTo>
                      <a:pt x="36" y="63"/>
                    </a:lnTo>
                    <a:lnTo>
                      <a:pt x="83" y="0"/>
                    </a:lnTo>
                    <a:lnTo>
                      <a:pt x="124" y="26"/>
                    </a:lnTo>
                    <a:lnTo>
                      <a:pt x="131" y="30"/>
                    </a:lnTo>
                    <a:lnTo>
                      <a:pt x="141" y="33"/>
                    </a:lnTo>
                    <a:lnTo>
                      <a:pt x="153" y="38"/>
                    </a:lnTo>
                    <a:lnTo>
                      <a:pt x="166" y="41"/>
                    </a:lnTo>
                    <a:lnTo>
                      <a:pt x="183" y="43"/>
                    </a:lnTo>
                    <a:lnTo>
                      <a:pt x="192" y="45"/>
                    </a:lnTo>
                    <a:lnTo>
                      <a:pt x="201" y="45"/>
                    </a:lnTo>
                    <a:lnTo>
                      <a:pt x="211" y="45"/>
                    </a:lnTo>
                    <a:lnTo>
                      <a:pt x="220" y="43"/>
                    </a:lnTo>
                    <a:lnTo>
                      <a:pt x="240" y="39"/>
                    </a:lnTo>
                    <a:lnTo>
                      <a:pt x="257" y="37"/>
                    </a:lnTo>
                    <a:lnTo>
                      <a:pt x="284" y="30"/>
                    </a:lnTo>
                    <a:lnTo>
                      <a:pt x="304" y="23"/>
                    </a:lnTo>
                    <a:lnTo>
                      <a:pt x="311" y="22"/>
                    </a:lnTo>
                    <a:lnTo>
                      <a:pt x="344" y="23"/>
                    </a:lnTo>
                    <a:lnTo>
                      <a:pt x="369" y="25"/>
                    </a:lnTo>
                    <a:lnTo>
                      <a:pt x="387" y="26"/>
                    </a:lnTo>
                    <a:lnTo>
                      <a:pt x="394" y="26"/>
                    </a:lnTo>
                    <a:lnTo>
                      <a:pt x="406" y="26"/>
                    </a:lnTo>
                    <a:lnTo>
                      <a:pt x="432" y="26"/>
                    </a:lnTo>
                    <a:lnTo>
                      <a:pt x="477" y="23"/>
                    </a:lnTo>
                    <a:lnTo>
                      <a:pt x="488" y="23"/>
                    </a:lnTo>
                    <a:lnTo>
                      <a:pt x="507" y="20"/>
                    </a:lnTo>
                    <a:lnTo>
                      <a:pt x="563" y="12"/>
                    </a:lnTo>
                    <a:lnTo>
                      <a:pt x="640" y="0"/>
                    </a:lnTo>
                    <a:lnTo>
                      <a:pt x="654" y="99"/>
                    </a:lnTo>
                    <a:lnTo>
                      <a:pt x="590" y="132"/>
                    </a:lnTo>
                    <a:lnTo>
                      <a:pt x="534" y="143"/>
                    </a:lnTo>
                    <a:lnTo>
                      <a:pt x="532" y="112"/>
                    </a:lnTo>
                    <a:lnTo>
                      <a:pt x="485" y="136"/>
                    </a:lnTo>
                    <a:lnTo>
                      <a:pt x="465" y="167"/>
                    </a:lnTo>
                    <a:lnTo>
                      <a:pt x="407" y="176"/>
                    </a:lnTo>
                    <a:lnTo>
                      <a:pt x="402" y="179"/>
                    </a:lnTo>
                    <a:lnTo>
                      <a:pt x="398" y="183"/>
                    </a:lnTo>
                    <a:lnTo>
                      <a:pt x="393" y="188"/>
                    </a:lnTo>
                    <a:lnTo>
                      <a:pt x="386" y="196"/>
                    </a:lnTo>
                    <a:lnTo>
                      <a:pt x="381" y="207"/>
                    </a:lnTo>
                    <a:lnTo>
                      <a:pt x="378" y="212"/>
                    </a:lnTo>
                    <a:lnTo>
                      <a:pt x="375" y="219"/>
                    </a:lnTo>
                    <a:lnTo>
                      <a:pt x="373" y="225"/>
                    </a:lnTo>
                    <a:lnTo>
                      <a:pt x="371" y="233"/>
                    </a:lnTo>
                    <a:lnTo>
                      <a:pt x="365" y="262"/>
                    </a:lnTo>
                    <a:lnTo>
                      <a:pt x="361" y="283"/>
                    </a:lnTo>
                    <a:lnTo>
                      <a:pt x="358" y="298"/>
                    </a:lnTo>
                    <a:lnTo>
                      <a:pt x="357" y="303"/>
                    </a:lnTo>
                    <a:lnTo>
                      <a:pt x="357" y="306"/>
                    </a:lnTo>
                    <a:lnTo>
                      <a:pt x="356" y="315"/>
                    </a:lnTo>
                    <a:lnTo>
                      <a:pt x="354" y="322"/>
                    </a:lnTo>
                    <a:lnTo>
                      <a:pt x="352" y="327"/>
                    </a:lnTo>
                    <a:lnTo>
                      <a:pt x="348" y="333"/>
                    </a:lnTo>
                    <a:lnTo>
                      <a:pt x="346" y="335"/>
                    </a:lnTo>
                    <a:lnTo>
                      <a:pt x="344" y="336"/>
                    </a:lnTo>
                    <a:lnTo>
                      <a:pt x="341" y="339"/>
                    </a:lnTo>
                    <a:lnTo>
                      <a:pt x="337" y="340"/>
                    </a:lnTo>
                    <a:lnTo>
                      <a:pt x="333" y="341"/>
                    </a:lnTo>
                    <a:lnTo>
                      <a:pt x="328" y="343"/>
                    </a:lnTo>
                    <a:lnTo>
                      <a:pt x="323" y="344"/>
                    </a:lnTo>
                    <a:lnTo>
                      <a:pt x="311" y="344"/>
                    </a:lnTo>
                    <a:lnTo>
                      <a:pt x="300" y="344"/>
                    </a:lnTo>
                    <a:lnTo>
                      <a:pt x="282" y="343"/>
                    </a:lnTo>
                    <a:lnTo>
                      <a:pt x="275" y="341"/>
                    </a:lnTo>
                    <a:lnTo>
                      <a:pt x="271" y="341"/>
                    </a:lnTo>
                    <a:lnTo>
                      <a:pt x="269" y="343"/>
                    </a:lnTo>
                    <a:lnTo>
                      <a:pt x="269" y="344"/>
                    </a:lnTo>
                    <a:lnTo>
                      <a:pt x="270" y="345"/>
                    </a:lnTo>
                    <a:lnTo>
                      <a:pt x="270" y="348"/>
                    </a:lnTo>
                    <a:lnTo>
                      <a:pt x="271" y="354"/>
                    </a:lnTo>
                    <a:lnTo>
                      <a:pt x="273" y="374"/>
                    </a:lnTo>
                    <a:lnTo>
                      <a:pt x="273" y="393"/>
                    </a:lnTo>
                    <a:lnTo>
                      <a:pt x="273" y="405"/>
                    </a:lnTo>
                    <a:lnTo>
                      <a:pt x="273" y="406"/>
                    </a:lnTo>
                    <a:lnTo>
                      <a:pt x="271" y="406"/>
                    </a:lnTo>
                    <a:lnTo>
                      <a:pt x="265" y="409"/>
                    </a:lnTo>
                    <a:lnTo>
                      <a:pt x="257" y="410"/>
                    </a:lnTo>
                    <a:lnTo>
                      <a:pt x="249" y="410"/>
                    </a:lnTo>
                    <a:lnTo>
                      <a:pt x="232" y="411"/>
                    </a:lnTo>
                    <a:lnTo>
                      <a:pt x="224" y="413"/>
                    </a:lnTo>
                    <a:lnTo>
                      <a:pt x="228" y="360"/>
                    </a:lnTo>
                    <a:lnTo>
                      <a:pt x="188" y="318"/>
                    </a:lnTo>
                    <a:lnTo>
                      <a:pt x="184" y="286"/>
                    </a:lnTo>
                    <a:lnTo>
                      <a:pt x="127" y="257"/>
                    </a:lnTo>
                    <a:lnTo>
                      <a:pt x="35" y="216"/>
                    </a:lnTo>
                    <a:lnTo>
                      <a:pt x="18" y="216"/>
                    </a:lnTo>
                    <a:lnTo>
                      <a:pt x="18" y="137"/>
                    </a:lnTo>
                    <a:lnTo>
                      <a:pt x="7" y="134"/>
                    </a:lnTo>
                    <a:lnTo>
                      <a:pt x="5" y="132"/>
                    </a:lnTo>
                    <a:lnTo>
                      <a:pt x="2" y="120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7"/>
                    </a:lnTo>
                    <a:lnTo>
                      <a:pt x="0" y="83"/>
                    </a:lnTo>
                    <a:lnTo>
                      <a:pt x="1" y="82"/>
                    </a:lnTo>
                    <a:lnTo>
                      <a:pt x="2" y="80"/>
                    </a:lnTo>
                    <a:lnTo>
                      <a:pt x="22" y="80"/>
                    </a:lnTo>
                    <a:lnTo>
                      <a:pt x="38" y="79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5084640" y="1450800"/>
                <a:ext cx="3378240" cy="4122720"/>
                <a:chOff x="5084640" y="1450800"/>
                <a:chExt cx="3378240" cy="412272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7661160" y="503208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115" h="91">
                      <a:moveTo>
                        <a:pt x="38" y="0"/>
                      </a:moveTo>
                      <a:lnTo>
                        <a:pt x="80" y="2"/>
                      </a:lnTo>
                      <a:lnTo>
                        <a:pt x="113" y="25"/>
                      </a:lnTo>
                      <a:lnTo>
                        <a:pt x="115" y="74"/>
                      </a:lnTo>
                      <a:lnTo>
                        <a:pt x="96" y="91"/>
                      </a:lnTo>
                      <a:lnTo>
                        <a:pt x="9" y="85"/>
                      </a:lnTo>
                      <a:lnTo>
                        <a:pt x="0" y="45"/>
                      </a:lnTo>
                      <a:lnTo>
                        <a:pt x="30" y="39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997680" y="4079520"/>
                  <a:ext cx="187200" cy="174600"/>
                </a:xfrm>
                <a:custGeom>
                  <a:avLst/>
                  <a:gdLst/>
                  <a:ahLst/>
                  <a:rect l="l" t="t" r="r" b="b"/>
                  <a:pathLst>
                    <a:path w="364" h="336">
                      <a:moveTo>
                        <a:pt x="3" y="314"/>
                      </a:moveTo>
                      <a:lnTo>
                        <a:pt x="27" y="336"/>
                      </a:lnTo>
                      <a:lnTo>
                        <a:pt x="73" y="276"/>
                      </a:lnTo>
                      <a:lnTo>
                        <a:pt x="79" y="285"/>
                      </a:lnTo>
                      <a:lnTo>
                        <a:pt x="86" y="294"/>
                      </a:lnTo>
                      <a:lnTo>
                        <a:pt x="94" y="305"/>
                      </a:lnTo>
                      <a:lnTo>
                        <a:pt x="102" y="314"/>
                      </a:lnTo>
                      <a:lnTo>
                        <a:pt x="106" y="318"/>
                      </a:lnTo>
                      <a:lnTo>
                        <a:pt x="110" y="322"/>
                      </a:lnTo>
                      <a:lnTo>
                        <a:pt x="111" y="323"/>
                      </a:lnTo>
                      <a:lnTo>
                        <a:pt x="114" y="323"/>
                      </a:lnTo>
                      <a:lnTo>
                        <a:pt x="116" y="325"/>
                      </a:lnTo>
                      <a:lnTo>
                        <a:pt x="119" y="326"/>
                      </a:lnTo>
                      <a:lnTo>
                        <a:pt x="122" y="323"/>
                      </a:lnTo>
                      <a:lnTo>
                        <a:pt x="128" y="317"/>
                      </a:lnTo>
                      <a:lnTo>
                        <a:pt x="140" y="303"/>
                      </a:lnTo>
                      <a:lnTo>
                        <a:pt x="172" y="272"/>
                      </a:lnTo>
                      <a:lnTo>
                        <a:pt x="215" y="230"/>
                      </a:lnTo>
                      <a:lnTo>
                        <a:pt x="238" y="252"/>
                      </a:lnTo>
                      <a:lnTo>
                        <a:pt x="265" y="203"/>
                      </a:lnTo>
                      <a:lnTo>
                        <a:pt x="335" y="243"/>
                      </a:lnTo>
                      <a:lnTo>
                        <a:pt x="364" y="215"/>
                      </a:lnTo>
                      <a:lnTo>
                        <a:pt x="239" y="70"/>
                      </a:lnTo>
                      <a:lnTo>
                        <a:pt x="148" y="154"/>
                      </a:lnTo>
                      <a:lnTo>
                        <a:pt x="93" y="83"/>
                      </a:lnTo>
                      <a:lnTo>
                        <a:pt x="140" y="25"/>
                      </a:lnTo>
                      <a:lnTo>
                        <a:pt x="126" y="0"/>
                      </a:lnTo>
                      <a:lnTo>
                        <a:pt x="0" y="112"/>
                      </a:lnTo>
                      <a:lnTo>
                        <a:pt x="83" y="212"/>
                      </a:lnTo>
                      <a:lnTo>
                        <a:pt x="3" y="3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681680" y="502884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2" y="14"/>
                      </a:lnTo>
                      <a:lnTo>
                        <a:pt x="4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13480" y="5208480"/>
                  <a:ext cx="60120" cy="79200"/>
                </a:xfrm>
                <a:custGeom>
                  <a:avLst/>
                  <a:gdLst/>
                  <a:ahLst/>
                  <a:rect l="l" t="t" r="r" b="b"/>
                  <a:pathLst>
                    <a:path w="119" h="158">
                      <a:moveTo>
                        <a:pt x="11" y="10"/>
                      </a:moveTo>
                      <a:lnTo>
                        <a:pt x="45" y="14"/>
                      </a:lnTo>
                      <a:lnTo>
                        <a:pt x="53" y="42"/>
                      </a:lnTo>
                      <a:lnTo>
                        <a:pt x="106" y="0"/>
                      </a:lnTo>
                      <a:lnTo>
                        <a:pt x="119" y="31"/>
                      </a:lnTo>
                      <a:lnTo>
                        <a:pt x="49" y="88"/>
                      </a:lnTo>
                      <a:lnTo>
                        <a:pt x="45" y="158"/>
                      </a:lnTo>
                      <a:lnTo>
                        <a:pt x="0" y="158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980040" y="2244600"/>
                  <a:ext cx="82440" cy="110880"/>
                </a:xfrm>
                <a:custGeom>
                  <a:avLst/>
                  <a:gdLst/>
                  <a:ahLst/>
                  <a:rect l="l" t="t" r="r" b="b"/>
                  <a:pathLst>
                    <a:path w="162" h="217">
                      <a:moveTo>
                        <a:pt x="126" y="197"/>
                      </a:moveTo>
                      <a:lnTo>
                        <a:pt x="76" y="217"/>
                      </a:lnTo>
                      <a:lnTo>
                        <a:pt x="0" y="143"/>
                      </a:lnTo>
                      <a:lnTo>
                        <a:pt x="47" y="91"/>
                      </a:lnTo>
                      <a:lnTo>
                        <a:pt x="38" y="44"/>
                      </a:lnTo>
                      <a:lnTo>
                        <a:pt x="37" y="14"/>
                      </a:lnTo>
                      <a:lnTo>
                        <a:pt x="130" y="0"/>
                      </a:lnTo>
                      <a:lnTo>
                        <a:pt x="150" y="58"/>
                      </a:lnTo>
                      <a:lnTo>
                        <a:pt x="162" y="98"/>
                      </a:lnTo>
                      <a:lnTo>
                        <a:pt x="111" y="139"/>
                      </a:lnTo>
                      <a:lnTo>
                        <a:pt x="126" y="19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289480" y="479088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90" h="13">
                      <a:moveTo>
                        <a:pt x="0" y="3"/>
                      </a:moveTo>
                      <a:lnTo>
                        <a:pt x="45" y="2"/>
                      </a:lnTo>
                      <a:lnTo>
                        <a:pt x="90" y="0"/>
                      </a:lnTo>
                      <a:lnTo>
                        <a:pt x="90" y="11"/>
                      </a:lnTo>
                      <a:lnTo>
                        <a:pt x="45" y="12"/>
                      </a:lnTo>
                      <a:lnTo>
                        <a:pt x="0" y="1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289480" y="479232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35560" y="4777920"/>
                  <a:ext cx="83880" cy="19080"/>
                </a:xfrm>
                <a:custGeom>
                  <a:avLst/>
                  <a:gdLst/>
                  <a:ahLst/>
                  <a:rect l="l" t="t" r="r" b="b"/>
                  <a:pathLst>
                    <a:path w="165" h="35">
                      <a:moveTo>
                        <a:pt x="0" y="24"/>
                      </a:moveTo>
                      <a:lnTo>
                        <a:pt x="86" y="12"/>
                      </a:lnTo>
                      <a:lnTo>
                        <a:pt x="163" y="0"/>
                      </a:lnTo>
                      <a:lnTo>
                        <a:pt x="165" y="11"/>
                      </a:lnTo>
                      <a:lnTo>
                        <a:pt x="87" y="23"/>
                      </a:lnTo>
                      <a:lnTo>
                        <a:pt x="1" y="3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414760" y="4781160"/>
                  <a:ext cx="12600" cy="50760"/>
                </a:xfrm>
                <a:custGeom>
                  <a:avLst/>
                  <a:gdLst/>
                  <a:ahLst/>
                  <a:rect l="l" t="t" r="r" b="b"/>
                  <a:pathLst>
                    <a:path w="24" h="100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13" y="100"/>
                      </a:lnTo>
                      <a:lnTo>
                        <a:pt x="24" y="9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414760" y="47779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9" y="0"/>
                      </a:lnTo>
                      <a:lnTo>
                        <a:pt x="11" y="6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392440" y="48304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68" h="42">
                      <a:moveTo>
                        <a:pt x="68" y="9"/>
                      </a:moveTo>
                      <a:lnTo>
                        <a:pt x="63" y="0"/>
                      </a:lnTo>
                      <a:lnTo>
                        <a:pt x="0" y="33"/>
                      </a:lnTo>
                      <a:lnTo>
                        <a:pt x="5" y="42"/>
                      </a:lnTo>
                      <a:lnTo>
                        <a:pt x="68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22680" y="4830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362560" y="484812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1" h="21">
                      <a:moveTo>
                        <a:pt x="61" y="9"/>
                      </a:moveTo>
                      <a:lnTo>
                        <a:pt x="57" y="0"/>
                      </a:lnTo>
                      <a:lnTo>
                        <a:pt x="0" y="12"/>
                      </a:lnTo>
                      <a:lnTo>
                        <a:pt x="4" y="21"/>
                      </a:lnTo>
                      <a:lnTo>
                        <a:pt x="61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359320" y="4838400"/>
                  <a:ext cx="6120" cy="1764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2" y="31"/>
                      </a:moveTo>
                      <a:lnTo>
                        <a:pt x="12" y="3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3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360760" y="4854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9"/>
                      </a:move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337000" y="4836960"/>
                  <a:ext cx="27000" cy="17280"/>
                </a:xfrm>
                <a:custGeom>
                  <a:avLst/>
                  <a:gdLst/>
                  <a:ahLst/>
                  <a:rect l="l" t="t" r="r" b="b"/>
                  <a:pathLst>
                    <a:path w="52" h="33">
                      <a:moveTo>
                        <a:pt x="52" y="9"/>
                      </a:moveTo>
                      <a:lnTo>
                        <a:pt x="46" y="0"/>
                      </a:lnTo>
                      <a:lnTo>
                        <a:pt x="0" y="24"/>
                      </a:lnTo>
                      <a:lnTo>
                        <a:pt x="6" y="33"/>
                      </a:lnTo>
                      <a:lnTo>
                        <a:pt x="52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359320" y="48351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7"/>
                      </a:move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8" y="12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25840" y="4849560"/>
                  <a:ext cx="15840" cy="19080"/>
                </a:xfrm>
                <a:custGeom>
                  <a:avLst/>
                  <a:gdLst/>
                  <a:ahLst/>
                  <a:rect l="l" t="t" r="r" b="b"/>
                  <a:pathLst>
                    <a:path w="29" h="37">
                      <a:moveTo>
                        <a:pt x="29" y="5"/>
                      </a:moveTo>
                      <a:lnTo>
                        <a:pt x="20" y="0"/>
                      </a:lnTo>
                      <a:lnTo>
                        <a:pt x="0" y="32"/>
                      </a:lnTo>
                      <a:lnTo>
                        <a:pt x="9" y="37"/>
                      </a:lnTo>
                      <a:lnTo>
                        <a:pt x="29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337000" y="4849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9" y="6"/>
                      </a:lnTo>
                      <a:lnTo>
                        <a:pt x="8" y="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297400" y="486396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0" h="19">
                      <a:moveTo>
                        <a:pt x="60" y="10"/>
                      </a:moveTo>
                      <a:lnTo>
                        <a:pt x="58" y="0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6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325840" y="4863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7"/>
                      </a:move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278320" y="4870080"/>
                  <a:ext cx="20520" cy="3168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44" y="7"/>
                      </a:moveTo>
                      <a:lnTo>
                        <a:pt x="38" y="10"/>
                      </a:lnTo>
                      <a:lnTo>
                        <a:pt x="31" y="19"/>
                      </a:lnTo>
                      <a:lnTo>
                        <a:pt x="19" y="35"/>
                      </a:lnTo>
                      <a:lnTo>
                        <a:pt x="15" y="47"/>
                      </a:lnTo>
                      <a:lnTo>
                        <a:pt x="11" y="61"/>
                      </a:lnTo>
                      <a:lnTo>
                        <a:pt x="0" y="59"/>
                      </a:lnTo>
                      <a:lnTo>
                        <a:pt x="4" y="44"/>
                      </a:lnTo>
                      <a:lnTo>
                        <a:pt x="9" y="30"/>
                      </a:lnTo>
                      <a:lnTo>
                        <a:pt x="23" y="13"/>
                      </a:lnTo>
                      <a:lnTo>
                        <a:pt x="32" y="2"/>
                      </a:lnTo>
                      <a:lnTo>
                        <a:pt x="37" y="0"/>
                      </a:lnTo>
                      <a:lnTo>
                        <a:pt x="44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95600" y="48700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270400" y="49003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25" y="1"/>
                      </a:moveTo>
                      <a:lnTo>
                        <a:pt x="13" y="51"/>
                      </a:lnTo>
                      <a:lnTo>
                        <a:pt x="10" y="74"/>
                      </a:lnTo>
                      <a:lnTo>
                        <a:pt x="0" y="72"/>
                      </a:lnTo>
                      <a:lnTo>
                        <a:pt x="2" y="50"/>
                      </a:lnTo>
                      <a:lnTo>
                        <a:pt x="14" y="0"/>
                      </a:lnTo>
                      <a:lnTo>
                        <a:pt x="25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254560" y="493848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41" y="0"/>
                      </a:moveTo>
                      <a:lnTo>
                        <a:pt x="40" y="10"/>
                      </a:lnTo>
                      <a:lnTo>
                        <a:pt x="35" y="23"/>
                      </a:lnTo>
                      <a:lnTo>
                        <a:pt x="29" y="31"/>
                      </a:lnTo>
                      <a:lnTo>
                        <a:pt x="23" y="35"/>
                      </a:lnTo>
                      <a:lnTo>
                        <a:pt x="14" y="41"/>
                      </a:lnTo>
                      <a:lnTo>
                        <a:pt x="3" y="43"/>
                      </a:lnTo>
                      <a:lnTo>
                        <a:pt x="0" y="34"/>
                      </a:lnTo>
                      <a:lnTo>
                        <a:pt x="10" y="31"/>
                      </a:lnTo>
                      <a:lnTo>
                        <a:pt x="16" y="27"/>
                      </a:lnTo>
                      <a:lnTo>
                        <a:pt x="21" y="25"/>
                      </a:lnTo>
                      <a:lnTo>
                        <a:pt x="25" y="18"/>
                      </a:lnTo>
                      <a:lnTo>
                        <a:pt x="29" y="8"/>
                      </a:lnTo>
                      <a:lnTo>
                        <a:pt x="3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224320" y="495432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60" y="13"/>
                      </a:moveTo>
                      <a:lnTo>
                        <a:pt x="37" y="13"/>
                      </a:lnTo>
                      <a:lnTo>
                        <a:pt x="19" y="12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1" y="8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8" y="0"/>
                      </a:lnTo>
                      <a:lnTo>
                        <a:pt x="19" y="3"/>
                      </a:lnTo>
                      <a:lnTo>
                        <a:pt x="37" y="4"/>
                      </a:lnTo>
                      <a:lnTo>
                        <a:pt x="60" y="3"/>
                      </a:lnTo>
                      <a:lnTo>
                        <a:pt x="60" y="1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254560" y="4955760"/>
                  <a:ext cx="1440" cy="50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224320" y="4957560"/>
                  <a:ext cx="7920" cy="31680"/>
                </a:xfrm>
                <a:custGeom>
                  <a:avLst/>
                  <a:gdLst/>
                  <a:ahLst/>
                  <a:rect l="l" t="t" r="r" b="b"/>
                  <a:pathLst>
                    <a:path w="15" h="62">
                      <a:moveTo>
                        <a:pt x="11" y="0"/>
                      </a:moveTo>
                      <a:lnTo>
                        <a:pt x="14" y="11"/>
                      </a:lnTo>
                      <a:lnTo>
                        <a:pt x="15" y="31"/>
                      </a:lnTo>
                      <a:lnTo>
                        <a:pt x="15" y="62"/>
                      </a:lnTo>
                      <a:lnTo>
                        <a:pt x="4" y="62"/>
                      </a:lnTo>
                      <a:lnTo>
                        <a:pt x="4" y="31"/>
                      </a:lnTo>
                      <a:lnTo>
                        <a:pt x="3" y="13"/>
                      </a:lnTo>
                      <a:lnTo>
                        <a:pt x="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203800" y="498780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53" y="9"/>
                      </a:moveTo>
                      <a:lnTo>
                        <a:pt x="44" y="12"/>
                      </a:lnTo>
                      <a:lnTo>
                        <a:pt x="28" y="14"/>
                      </a:lnTo>
                      <a:lnTo>
                        <a:pt x="3" y="17"/>
                      </a:lnTo>
                      <a:lnTo>
                        <a:pt x="0" y="8"/>
                      </a:lnTo>
                      <a:lnTo>
                        <a:pt x="25" y="5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227560" y="4987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200560" y="4965480"/>
                  <a:ext cx="7920" cy="28440"/>
                </a:xfrm>
                <a:custGeom>
                  <a:avLst/>
                  <a:gdLst/>
                  <a:ahLst/>
                  <a:rect l="l" t="t" r="r" b="b"/>
                  <a:pathLst>
                    <a:path w="14" h="56">
                      <a:moveTo>
                        <a:pt x="0" y="53"/>
                      </a:moveTo>
                      <a:lnTo>
                        <a:pt x="10" y="56"/>
                      </a:lnTo>
                      <a:lnTo>
                        <a:pt x="14" y="3"/>
                      </a:lnTo>
                      <a:lnTo>
                        <a:pt x="4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200560" y="499068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7" y="9"/>
                      </a:moveTo>
                      <a:lnTo>
                        <a:pt x="0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lnTo>
                        <a:pt x="4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182920" y="4943160"/>
                  <a:ext cx="23760" cy="2556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0" y="50"/>
                      </a:moveTo>
                      <a:lnTo>
                        <a:pt x="46" y="4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0" y="5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203800" y="49654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10" y="5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2" y="8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179680" y="4927320"/>
                  <a:ext cx="7920" cy="1764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4" y="32"/>
                      </a:moveTo>
                      <a:lnTo>
                        <a:pt x="13" y="3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182920" y="49431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8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152680" y="4911480"/>
                  <a:ext cx="32040" cy="1908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57" y="38"/>
                      </a:moveTo>
                      <a:lnTo>
                        <a:pt x="62" y="29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57" y="3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5179680" y="49258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4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5106960" y="4890960"/>
                  <a:ext cx="48960" cy="25200"/>
                </a:xfrm>
                <a:custGeom>
                  <a:avLst/>
                  <a:gdLst/>
                  <a:ahLst/>
                  <a:rect l="l" t="t" r="r" b="b"/>
                  <a:pathLst>
                    <a:path w="97" h="50">
                      <a:moveTo>
                        <a:pt x="92" y="50"/>
                      </a:moveTo>
                      <a:lnTo>
                        <a:pt x="97" y="41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92" y="5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5152680" y="49114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106960" y="488916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5094000" y="4852800"/>
                  <a:ext cx="6480" cy="3960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094000" y="48891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10"/>
                      </a:move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11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090760" y="484812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12"/>
                      </a:moveTo>
                      <a:lnTo>
                        <a:pt x="13" y="3"/>
                      </a:ln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9" y="1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094000" y="48495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089320" y="4848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3" y="10"/>
                      </a:move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0" y="8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090760" y="484812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1" y="10"/>
                      </a:move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084640" y="4821120"/>
                  <a:ext cx="9360" cy="28440"/>
                </a:xfrm>
                <a:custGeom>
                  <a:avLst/>
                  <a:gdLst/>
                  <a:ahLst/>
                  <a:rect l="l" t="t" r="r" b="b"/>
                  <a:pathLst>
                    <a:path w="16" h="55">
                      <a:moveTo>
                        <a:pt x="7" y="55"/>
                      </a:moveTo>
                      <a:lnTo>
                        <a:pt x="1" y="26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12" y="5"/>
                      </a:lnTo>
                      <a:lnTo>
                        <a:pt x="9" y="10"/>
                      </a:lnTo>
                      <a:lnTo>
                        <a:pt x="11" y="23"/>
                      </a:lnTo>
                      <a:lnTo>
                        <a:pt x="16" y="52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089320" y="48481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089320" y="481932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0" y="1"/>
                      </a:moveTo>
                      <a:lnTo>
                        <a:pt x="37" y="0"/>
                      </a:lnTo>
                      <a:lnTo>
                        <a:pt x="37" y="10"/>
                      </a:lnTo>
                      <a:lnTo>
                        <a:pt x="0" y="1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086080" y="4819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106960" y="4819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6789600" y="5074920"/>
                  <a:ext cx="93600" cy="149400"/>
                </a:xfrm>
                <a:custGeom>
                  <a:avLst/>
                  <a:gdLst/>
                  <a:ahLst/>
                  <a:rect l="l" t="t" r="r" b="b"/>
                  <a:pathLst>
                    <a:path w="185" h="291">
                      <a:moveTo>
                        <a:pt x="79" y="6"/>
                      </a:moveTo>
                      <a:lnTo>
                        <a:pt x="179" y="48"/>
                      </a:lnTo>
                      <a:lnTo>
                        <a:pt x="185" y="105"/>
                      </a:lnTo>
                      <a:lnTo>
                        <a:pt x="167" y="134"/>
                      </a:lnTo>
                      <a:lnTo>
                        <a:pt x="126" y="200"/>
                      </a:lnTo>
                      <a:lnTo>
                        <a:pt x="105" y="234"/>
                      </a:lnTo>
                      <a:lnTo>
                        <a:pt x="85" y="263"/>
                      </a:lnTo>
                      <a:lnTo>
                        <a:pt x="71" y="284"/>
                      </a:lnTo>
                      <a:lnTo>
                        <a:pt x="65" y="289"/>
                      </a:lnTo>
                      <a:lnTo>
                        <a:pt x="64" y="291"/>
                      </a:lnTo>
                      <a:lnTo>
                        <a:pt x="55" y="288"/>
                      </a:lnTo>
                      <a:lnTo>
                        <a:pt x="43" y="284"/>
                      </a:lnTo>
                      <a:lnTo>
                        <a:pt x="38" y="283"/>
                      </a:lnTo>
                      <a:lnTo>
                        <a:pt x="33" y="280"/>
                      </a:lnTo>
                      <a:lnTo>
                        <a:pt x="30" y="277"/>
                      </a:lnTo>
                      <a:lnTo>
                        <a:pt x="30" y="276"/>
                      </a:lnTo>
                      <a:lnTo>
                        <a:pt x="30" y="275"/>
                      </a:lnTo>
                      <a:lnTo>
                        <a:pt x="44" y="248"/>
                      </a:lnTo>
                      <a:lnTo>
                        <a:pt x="48" y="240"/>
                      </a:lnTo>
                      <a:lnTo>
                        <a:pt x="51" y="233"/>
                      </a:lnTo>
                      <a:lnTo>
                        <a:pt x="51" y="230"/>
                      </a:lnTo>
                      <a:lnTo>
                        <a:pt x="51" y="229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38" y="221"/>
                      </a:lnTo>
                      <a:lnTo>
                        <a:pt x="18" y="211"/>
                      </a:lnTo>
                      <a:lnTo>
                        <a:pt x="10" y="206"/>
                      </a:lnTo>
                      <a:lnTo>
                        <a:pt x="2" y="200"/>
                      </a:lnTo>
                      <a:lnTo>
                        <a:pt x="0" y="196"/>
                      </a:lnTo>
                      <a:lnTo>
                        <a:pt x="0" y="193"/>
                      </a:lnTo>
                      <a:lnTo>
                        <a:pt x="1" y="190"/>
                      </a:lnTo>
                      <a:lnTo>
                        <a:pt x="3" y="186"/>
                      </a:lnTo>
                      <a:lnTo>
                        <a:pt x="6" y="180"/>
                      </a:lnTo>
                      <a:lnTo>
                        <a:pt x="17" y="157"/>
                      </a:lnTo>
                      <a:lnTo>
                        <a:pt x="44" y="91"/>
                      </a:lnTo>
                      <a:lnTo>
                        <a:pt x="81" y="0"/>
                      </a:lnTo>
                      <a:lnTo>
                        <a:pt x="79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827760" y="5074920"/>
                  <a:ext cx="54000" cy="25560"/>
                </a:xfrm>
                <a:custGeom>
                  <a:avLst/>
                  <a:gdLst/>
                  <a:ahLst/>
                  <a:rect l="l" t="t" r="r" b="b"/>
                  <a:pathLst>
                    <a:path w="106" h="5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00" y="51"/>
                      </a:lnTo>
                      <a:lnTo>
                        <a:pt x="106" y="4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878520" y="5098680"/>
                  <a:ext cx="7920" cy="3024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10" y="0"/>
                      </a:moveTo>
                      <a:lnTo>
                        <a:pt x="0" y="1"/>
                      </a:lnTo>
                      <a:lnTo>
                        <a:pt x="5" y="58"/>
                      </a:lnTo>
                      <a:lnTo>
                        <a:pt x="15" y="5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878520" y="50954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0"/>
                      </a:moveTo>
                      <a:lnTo>
                        <a:pt x="10" y="1"/>
                      </a:lnTo>
                      <a:lnTo>
                        <a:pt x="10" y="4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819840" y="5127480"/>
                  <a:ext cx="64800" cy="98280"/>
                </a:xfrm>
                <a:custGeom>
                  <a:avLst/>
                  <a:gdLst/>
                  <a:ahLst/>
                  <a:rect l="l" t="t" r="r" b="b"/>
                  <a:pathLst>
                    <a:path w="128" h="193">
                      <a:moveTo>
                        <a:pt x="128" y="5"/>
                      </a:moveTo>
                      <a:lnTo>
                        <a:pt x="70" y="100"/>
                      </a:lnTo>
                      <a:lnTo>
                        <a:pt x="29" y="164"/>
                      </a:lnTo>
                      <a:lnTo>
                        <a:pt x="15" y="186"/>
                      </a:lnTo>
                      <a:lnTo>
                        <a:pt x="8" y="193"/>
                      </a:lnTo>
                      <a:lnTo>
                        <a:pt x="0" y="186"/>
                      </a:lnTo>
                      <a:lnTo>
                        <a:pt x="7" y="179"/>
                      </a:lnTo>
                      <a:lnTo>
                        <a:pt x="20" y="158"/>
                      </a:lnTo>
                      <a:lnTo>
                        <a:pt x="61" y="95"/>
                      </a:lnTo>
                      <a:lnTo>
                        <a:pt x="119" y="0"/>
                      </a:lnTo>
                      <a:lnTo>
                        <a:pt x="128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879960" y="512748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3"/>
                      </a:moveTo>
                      <a:lnTo>
                        <a:pt x="9" y="5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800760" y="5214600"/>
                  <a:ext cx="20520" cy="1116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37" y="21"/>
                      </a:moveTo>
                      <a:lnTo>
                        <a:pt x="27" y="18"/>
                      </a:lnTo>
                      <a:lnTo>
                        <a:pt x="15" y="14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9" y="5"/>
                      </a:lnTo>
                      <a:lnTo>
                        <a:pt x="31" y="9"/>
                      </a:lnTo>
                      <a:lnTo>
                        <a:pt x="40" y="12"/>
                      </a:lnTo>
                      <a:lnTo>
                        <a:pt x="37" y="2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819840" y="5221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8"/>
                      </a:moveTo>
                      <a:lnTo>
                        <a:pt x="5" y="10"/>
                      </a:lnTo>
                      <a:lnTo>
                        <a:pt x="2" y="9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800760" y="5189400"/>
                  <a:ext cx="15840" cy="27000"/>
                </a:xfrm>
                <a:custGeom>
                  <a:avLst/>
                  <a:gdLst/>
                  <a:ahLst/>
                  <a:rect l="l" t="t" r="r" b="b"/>
                  <a:pathLst>
                    <a:path w="30" h="54">
                      <a:moveTo>
                        <a:pt x="0" y="49"/>
                      </a:moveTo>
                      <a:lnTo>
                        <a:pt x="14" y="23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9" y="0"/>
                      </a:lnTo>
                      <a:lnTo>
                        <a:pt x="30" y="3"/>
                      </a:lnTo>
                      <a:lnTo>
                        <a:pt x="30" y="12"/>
                      </a:lnTo>
                      <a:lnTo>
                        <a:pt x="23" y="28"/>
                      </a:lnTo>
                      <a:lnTo>
                        <a:pt x="9" y="54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800760" y="52131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786360" y="5171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53" y="42"/>
                      </a:moveTo>
                      <a:lnTo>
                        <a:pt x="41" y="37"/>
                      </a:lnTo>
                      <a:lnTo>
                        <a:pt x="20" y="26"/>
                      </a:lnTo>
                      <a:lnTo>
                        <a:pt x="4" y="1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11" y="7"/>
                      </a:lnTo>
                      <a:lnTo>
                        <a:pt x="27" y="18"/>
                      </a:lnTo>
                      <a:lnTo>
                        <a:pt x="46" y="28"/>
                      </a:lnTo>
                      <a:lnTo>
                        <a:pt x="57" y="33"/>
                      </a:lnTo>
                      <a:lnTo>
                        <a:pt x="53" y="4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811920" y="5189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1"/>
                      </a:moveTo>
                      <a:lnTo>
                        <a:pt x="5" y="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786360" y="5073480"/>
                  <a:ext cx="46080" cy="100080"/>
                </a:xfrm>
                <a:custGeom>
                  <a:avLst/>
                  <a:gdLst/>
                  <a:ahLst/>
                  <a:rect l="l" t="t" r="r" b="b"/>
                  <a:pathLst>
                    <a:path w="90" h="195">
                      <a:moveTo>
                        <a:pt x="0" y="190"/>
                      </a:moveTo>
                      <a:lnTo>
                        <a:pt x="17" y="155"/>
                      </a:lnTo>
                      <a:lnTo>
                        <a:pt x="45" y="91"/>
                      </a:lnTo>
                      <a:lnTo>
                        <a:pt x="81" y="0"/>
                      </a:lnTo>
                      <a:lnTo>
                        <a:pt x="90" y="5"/>
                      </a:lnTo>
                      <a:lnTo>
                        <a:pt x="54" y="96"/>
                      </a:lnTo>
                      <a:lnTo>
                        <a:pt x="27" y="161"/>
                      </a:lnTo>
                      <a:lnTo>
                        <a:pt x="9" y="195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786360" y="51703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825960" y="507348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3"/>
                      </a:move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11" y="8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827760" y="50734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0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9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825960" y="50749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2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9" y="0"/>
                      </a:lnTo>
                      <a:lnTo>
                        <a:pt x="12" y="5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610320" y="5148000"/>
                  <a:ext cx="114120" cy="201600"/>
                </a:xfrm>
                <a:custGeom>
                  <a:avLst/>
                  <a:gdLst/>
                  <a:ahLst/>
                  <a:rect l="l" t="t" r="r" b="b"/>
                  <a:pathLst>
                    <a:path w="223" h="389">
                      <a:moveTo>
                        <a:pt x="112" y="0"/>
                      </a:moveTo>
                      <a:lnTo>
                        <a:pt x="223" y="59"/>
                      </a:lnTo>
                      <a:lnTo>
                        <a:pt x="187" y="151"/>
                      </a:lnTo>
                      <a:lnTo>
                        <a:pt x="175" y="209"/>
                      </a:lnTo>
                      <a:lnTo>
                        <a:pt x="167" y="250"/>
                      </a:lnTo>
                      <a:lnTo>
                        <a:pt x="163" y="272"/>
                      </a:lnTo>
                      <a:lnTo>
                        <a:pt x="159" y="292"/>
                      </a:lnTo>
                      <a:lnTo>
                        <a:pt x="151" y="332"/>
                      </a:lnTo>
                      <a:lnTo>
                        <a:pt x="146" y="353"/>
                      </a:lnTo>
                      <a:lnTo>
                        <a:pt x="141" y="371"/>
                      </a:lnTo>
                      <a:lnTo>
                        <a:pt x="138" y="378"/>
                      </a:lnTo>
                      <a:lnTo>
                        <a:pt x="136" y="383"/>
                      </a:lnTo>
                      <a:lnTo>
                        <a:pt x="134" y="387"/>
                      </a:lnTo>
                      <a:lnTo>
                        <a:pt x="132" y="389"/>
                      </a:lnTo>
                      <a:lnTo>
                        <a:pt x="124" y="387"/>
                      </a:lnTo>
                      <a:lnTo>
                        <a:pt x="116" y="386"/>
                      </a:lnTo>
                      <a:lnTo>
                        <a:pt x="107" y="385"/>
                      </a:lnTo>
                      <a:lnTo>
                        <a:pt x="97" y="365"/>
                      </a:lnTo>
                      <a:lnTo>
                        <a:pt x="95" y="357"/>
                      </a:lnTo>
                      <a:lnTo>
                        <a:pt x="92" y="350"/>
                      </a:lnTo>
                      <a:lnTo>
                        <a:pt x="91" y="344"/>
                      </a:lnTo>
                      <a:lnTo>
                        <a:pt x="91" y="341"/>
                      </a:lnTo>
                      <a:lnTo>
                        <a:pt x="91" y="333"/>
                      </a:lnTo>
                      <a:lnTo>
                        <a:pt x="91" y="319"/>
                      </a:lnTo>
                      <a:lnTo>
                        <a:pt x="92" y="275"/>
                      </a:lnTo>
                      <a:lnTo>
                        <a:pt x="92" y="236"/>
                      </a:lnTo>
                      <a:lnTo>
                        <a:pt x="93" y="222"/>
                      </a:lnTo>
                      <a:lnTo>
                        <a:pt x="93" y="220"/>
                      </a:lnTo>
                      <a:lnTo>
                        <a:pt x="95" y="220"/>
                      </a:lnTo>
                      <a:lnTo>
                        <a:pt x="95" y="221"/>
                      </a:lnTo>
                      <a:lnTo>
                        <a:pt x="92" y="221"/>
                      </a:lnTo>
                      <a:lnTo>
                        <a:pt x="85" y="222"/>
                      </a:lnTo>
                      <a:lnTo>
                        <a:pt x="74" y="224"/>
                      </a:lnTo>
                      <a:lnTo>
                        <a:pt x="62" y="224"/>
                      </a:lnTo>
                      <a:lnTo>
                        <a:pt x="37" y="224"/>
                      </a:lnTo>
                      <a:lnTo>
                        <a:pt x="26" y="224"/>
                      </a:lnTo>
                      <a:lnTo>
                        <a:pt x="0" y="209"/>
                      </a:lnTo>
                      <a:lnTo>
                        <a:pt x="0" y="170"/>
                      </a:lnTo>
                      <a:lnTo>
                        <a:pt x="23" y="166"/>
                      </a:lnTo>
                      <a:lnTo>
                        <a:pt x="23" y="121"/>
                      </a:lnTo>
                      <a:lnTo>
                        <a:pt x="47" y="125"/>
                      </a:lnTo>
                      <a:lnTo>
                        <a:pt x="48" y="120"/>
                      </a:lnTo>
                      <a:lnTo>
                        <a:pt x="50" y="108"/>
                      </a:lnTo>
                      <a:lnTo>
                        <a:pt x="51" y="101"/>
                      </a:lnTo>
                      <a:lnTo>
                        <a:pt x="51" y="96"/>
                      </a:lnTo>
                      <a:lnTo>
                        <a:pt x="50" y="92"/>
                      </a:lnTo>
                      <a:lnTo>
                        <a:pt x="47" y="92"/>
                      </a:lnTo>
                      <a:lnTo>
                        <a:pt x="43" y="92"/>
                      </a:lnTo>
                      <a:lnTo>
                        <a:pt x="38" y="92"/>
                      </a:lnTo>
                      <a:lnTo>
                        <a:pt x="23" y="92"/>
                      </a:lnTo>
                      <a:lnTo>
                        <a:pt x="6" y="89"/>
                      </a:lnTo>
                      <a:lnTo>
                        <a:pt x="8" y="32"/>
                      </a:lnTo>
                      <a:lnTo>
                        <a:pt x="84" y="3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665760" y="5148000"/>
                  <a:ext cx="60120" cy="34920"/>
                </a:xfrm>
                <a:custGeom>
                  <a:avLst/>
                  <a:gdLst/>
                  <a:ahLst/>
                  <a:rect l="l" t="t" r="r" b="b"/>
                  <a:pathLst>
                    <a:path w="116" h="68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11" y="68"/>
                      </a:lnTo>
                      <a:lnTo>
                        <a:pt x="116" y="5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702120" y="5179680"/>
                  <a:ext cx="25560" cy="4932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47" y="3"/>
                      </a:moveTo>
                      <a:lnTo>
                        <a:pt x="37" y="0"/>
                      </a:lnTo>
                      <a:lnTo>
                        <a:pt x="0" y="92"/>
                      </a:lnTo>
                      <a:lnTo>
                        <a:pt x="10" y="96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721200" y="5178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0"/>
                      </a:moveTo>
                      <a:lnTo>
                        <a:pt x="11" y="1"/>
                      </a:lnTo>
                      <a:lnTo>
                        <a:pt x="10" y="6"/>
                      </a:lnTo>
                      <a:lnTo>
                        <a:pt x="0" y="3"/>
                      </a:lnTo>
                      <a:lnTo>
                        <a:pt x="3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690960" y="5225760"/>
                  <a:ext cx="17640" cy="63360"/>
                </a:xfrm>
                <a:custGeom>
                  <a:avLst/>
                  <a:gdLst/>
                  <a:ahLst/>
                  <a:rect l="l" t="t" r="r" b="b"/>
                  <a:pathLst>
                    <a:path w="33" h="122">
                      <a:moveTo>
                        <a:pt x="33" y="1"/>
                      </a:moveTo>
                      <a:lnTo>
                        <a:pt x="11" y="122"/>
                      </a:lnTo>
                      <a:lnTo>
                        <a:pt x="0" y="121"/>
                      </a:lnTo>
                      <a:lnTo>
                        <a:pt x="22" y="0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675120" y="5289120"/>
                  <a:ext cx="20880" cy="61920"/>
                </a:xfrm>
                <a:custGeom>
                  <a:avLst/>
                  <a:gdLst/>
                  <a:ahLst/>
                  <a:rect l="l" t="t" r="r" b="b"/>
                  <a:pathLst>
                    <a:path w="41" h="121">
                      <a:moveTo>
                        <a:pt x="41" y="1"/>
                      </a:moveTo>
                      <a:lnTo>
                        <a:pt x="29" y="61"/>
                      </a:lnTo>
                      <a:lnTo>
                        <a:pt x="18" y="102"/>
                      </a:lnTo>
                      <a:lnTo>
                        <a:pt x="11" y="115"/>
                      </a:lnTo>
                      <a:lnTo>
                        <a:pt x="8" y="121"/>
                      </a:lnTo>
                      <a:lnTo>
                        <a:pt x="0" y="115"/>
                      </a:lnTo>
                      <a:lnTo>
                        <a:pt x="2" y="110"/>
                      </a:lnTo>
                      <a:lnTo>
                        <a:pt x="8" y="99"/>
                      </a:lnTo>
                      <a:lnTo>
                        <a:pt x="18" y="60"/>
                      </a:lnTo>
                      <a:lnTo>
                        <a:pt x="30" y="0"/>
                      </a:lnTo>
                      <a:lnTo>
                        <a:pt x="4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690960" y="528912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11" h="1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664320" y="53449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8" y="13"/>
                      </a:moveTo>
                      <a:lnTo>
                        <a:pt x="9" y="10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12" y="1"/>
                      </a:lnTo>
                      <a:lnTo>
                        <a:pt x="28" y="4"/>
                      </a:lnTo>
                      <a:lnTo>
                        <a:pt x="28" y="1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675120" y="534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7"/>
                      </a:move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653160" y="5324040"/>
                  <a:ext cx="12600" cy="2412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16" y="46"/>
                      </a:moveTo>
                      <a:lnTo>
                        <a:pt x="8" y="26"/>
                      </a:lnTo>
                      <a:lnTo>
                        <a:pt x="3" y="12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1" y="1"/>
                      </a:lnTo>
                      <a:lnTo>
                        <a:pt x="12" y="8"/>
                      </a:lnTo>
                      <a:lnTo>
                        <a:pt x="17" y="21"/>
                      </a:lnTo>
                      <a:lnTo>
                        <a:pt x="25" y="41"/>
                      </a:lnTo>
                      <a:lnTo>
                        <a:pt x="16" y="4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661080" y="53449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9"/>
                      </a:move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653160" y="5260680"/>
                  <a:ext cx="6120" cy="63360"/>
                </a:xfrm>
                <a:custGeom>
                  <a:avLst/>
                  <a:gdLst/>
                  <a:ahLst/>
                  <a:rect l="l" t="t" r="r" b="b"/>
                  <a:pathLst>
                    <a:path w="13" h="124">
                      <a:moveTo>
                        <a:pt x="0" y="124"/>
                      </a:moveTo>
                      <a:lnTo>
                        <a:pt x="1" y="58"/>
                      </a:lnTo>
                      <a:lnTo>
                        <a:pt x="3" y="1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2" y="17"/>
                      </a:lnTo>
                      <a:lnTo>
                        <a:pt x="11" y="58"/>
                      </a:lnTo>
                      <a:lnTo>
                        <a:pt x="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653160" y="532404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621120" y="5260680"/>
                  <a:ext cx="38160" cy="6480"/>
                </a:xfrm>
                <a:custGeom>
                  <a:avLst/>
                  <a:gdLst/>
                  <a:ahLst/>
                  <a:rect l="l" t="t" r="r" b="b"/>
                  <a:pathLst>
                    <a:path w="72" h="12">
                      <a:moveTo>
                        <a:pt x="72" y="7"/>
                      </a:moveTo>
                      <a:lnTo>
                        <a:pt x="70" y="9"/>
                      </a:lnTo>
                      <a:lnTo>
                        <a:pt x="62" y="11"/>
                      </a:lnTo>
                      <a:lnTo>
                        <a:pt x="37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37" y="3"/>
                      </a:lnTo>
                      <a:lnTo>
                        <a:pt x="59" y="1"/>
                      </a:lnTo>
                      <a:lnTo>
                        <a:pt x="64" y="0"/>
                      </a:lnTo>
                      <a:lnTo>
                        <a:pt x="64" y="0"/>
                      </a:lnTo>
                      <a:lnTo>
                        <a:pt x="72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654600" y="526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5"/>
                      </a:moveTo>
                      <a:lnTo>
                        <a:pt x="1" y="0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608520" y="5256000"/>
                  <a:ext cx="14400" cy="11160"/>
                </a:xfrm>
                <a:custGeom>
                  <a:avLst/>
                  <a:gdLst/>
                  <a:ahLst/>
                  <a:rect l="l" t="t" r="r" b="b"/>
                  <a:pathLst>
                    <a:path w="30" h="24">
                      <a:moveTo>
                        <a:pt x="25" y="24"/>
                      </a:moveTo>
                      <a:lnTo>
                        <a:pt x="30" y="15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25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619680" y="52606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3" y="11"/>
                      </a:moveTo>
                      <a:lnTo>
                        <a:pt x="0" y="11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607080" y="5256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9"/>
                      </a:move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610320" y="52322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4"/>
                      </a:moveTo>
                      <a:lnTo>
                        <a:pt x="1" y="15"/>
                      </a:lnTo>
                      <a:lnTo>
                        <a:pt x="25" y="11"/>
                      </a:lnTo>
                      <a:lnTo>
                        <a:pt x="2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607080" y="5233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6"/>
                      </a:moveTo>
                      <a:lnTo>
                        <a:pt x="0" y="2"/>
                      </a:lnTo>
                      <a:lnTo>
                        <a:pt x="6" y="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618240" y="5211360"/>
                  <a:ext cx="6120" cy="2376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618240" y="52322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7" y="11"/>
                      </a:moveTo>
                      <a:lnTo>
                        <a:pt x="11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619680" y="520848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24" y="14"/>
                      </a:lnTo>
                      <a:lnTo>
                        <a:pt x="25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618240" y="52084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630840" y="5195520"/>
                  <a:ext cx="6480" cy="17640"/>
                </a:xfrm>
                <a:custGeom>
                  <a:avLst/>
                  <a:gdLst/>
                  <a:ahLst/>
                  <a:rect l="l" t="t" r="r" b="b"/>
                  <a:pathLst>
                    <a:path w="13" h="38">
                      <a:moveTo>
                        <a:pt x="0" y="35"/>
                      </a:moveTo>
                      <a:lnTo>
                        <a:pt x="3" y="18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9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8"/>
                      </a:lnTo>
                      <a:lnTo>
                        <a:pt x="12" y="21"/>
                      </a:lnTo>
                      <a:lnTo>
                        <a:pt x="9" y="38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630840" y="52099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4" y="10"/>
                      </a:moveTo>
                      <a:lnTo>
                        <a:pt x="8" y="11"/>
                      </a:lnTo>
                      <a:lnTo>
                        <a:pt x="9" y="6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611760" y="5194080"/>
                  <a:ext cx="22320" cy="6120"/>
                </a:xfrm>
                <a:custGeom>
                  <a:avLst/>
                  <a:gdLst/>
                  <a:ahLst/>
                  <a:rect l="l" t="t" r="r" b="b"/>
                  <a:pathLst>
                    <a:path w="42" h="12">
                      <a:moveTo>
                        <a:pt x="42" y="12"/>
                      </a:moveTo>
                      <a:lnTo>
                        <a:pt x="18" y="11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18" y="2"/>
                      </a:lnTo>
                      <a:lnTo>
                        <a:pt x="42" y="2"/>
                      </a:lnTo>
                      <a:lnTo>
                        <a:pt x="42" y="1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632280" y="5194080"/>
                  <a:ext cx="1800" cy="61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610320" y="5165280"/>
                  <a:ext cx="4680" cy="30240"/>
                </a:xfrm>
                <a:custGeom>
                  <a:avLst/>
                  <a:gdLst/>
                  <a:ahLst/>
                  <a:rect l="l" t="t" r="r" b="b"/>
                  <a:pathLst>
                    <a:path w="12" h="57">
                      <a:moveTo>
                        <a:pt x="0" y="57"/>
                      </a:moveTo>
                      <a:lnTo>
                        <a:pt x="9" y="57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610320" y="519408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5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6613200" y="516240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76" y="15"/>
                      </a:lnTo>
                      <a:lnTo>
                        <a:pt x="7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6611760" y="516240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1"/>
                      </a:lnTo>
                      <a:lnTo>
                        <a:pt x="1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6651360" y="514800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36" h="43">
                      <a:moveTo>
                        <a:pt x="0" y="37"/>
                      </a:moveTo>
                      <a:lnTo>
                        <a:pt x="8" y="43"/>
                      </a:lnTo>
                      <a:lnTo>
                        <a:pt x="36" y="6"/>
                      </a:lnTo>
                      <a:lnTo>
                        <a:pt x="28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6651360" y="516528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4" y="11"/>
                      </a:move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665760" y="5146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1" y="12"/>
                      </a:lnTo>
                      <a:lnTo>
                        <a:pt x="8" y="1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367400" y="5454360"/>
                  <a:ext cx="169920" cy="117360"/>
                </a:xfrm>
                <a:custGeom>
                  <a:avLst/>
                  <a:gdLst/>
                  <a:ahLst/>
                  <a:rect l="l" t="t" r="r" b="b"/>
                  <a:pathLst>
                    <a:path w="331" h="228">
                      <a:moveTo>
                        <a:pt x="327" y="0"/>
                      </a:moveTo>
                      <a:lnTo>
                        <a:pt x="324" y="1"/>
                      </a:lnTo>
                      <a:lnTo>
                        <a:pt x="319" y="1"/>
                      </a:lnTo>
                      <a:lnTo>
                        <a:pt x="304" y="2"/>
                      </a:lnTo>
                      <a:lnTo>
                        <a:pt x="262" y="4"/>
                      </a:lnTo>
                      <a:lnTo>
                        <a:pt x="204" y="4"/>
                      </a:lnTo>
                      <a:lnTo>
                        <a:pt x="194" y="50"/>
                      </a:lnTo>
                      <a:lnTo>
                        <a:pt x="141" y="54"/>
                      </a:lnTo>
                      <a:lnTo>
                        <a:pt x="141" y="48"/>
                      </a:lnTo>
                      <a:lnTo>
                        <a:pt x="142" y="37"/>
                      </a:lnTo>
                      <a:lnTo>
                        <a:pt x="142" y="30"/>
                      </a:lnTo>
                      <a:lnTo>
                        <a:pt x="142" y="27"/>
                      </a:lnTo>
                      <a:lnTo>
                        <a:pt x="142" y="25"/>
                      </a:lnTo>
                      <a:lnTo>
                        <a:pt x="141" y="23"/>
                      </a:lnTo>
                      <a:lnTo>
                        <a:pt x="140" y="21"/>
                      </a:lnTo>
                      <a:lnTo>
                        <a:pt x="138" y="21"/>
                      </a:lnTo>
                      <a:lnTo>
                        <a:pt x="137" y="19"/>
                      </a:lnTo>
                      <a:lnTo>
                        <a:pt x="101" y="18"/>
                      </a:lnTo>
                      <a:lnTo>
                        <a:pt x="74" y="15"/>
                      </a:lnTo>
                      <a:lnTo>
                        <a:pt x="68" y="55"/>
                      </a:lnTo>
                      <a:lnTo>
                        <a:pt x="17" y="54"/>
                      </a:lnTo>
                      <a:lnTo>
                        <a:pt x="0" y="175"/>
                      </a:lnTo>
                      <a:lnTo>
                        <a:pt x="43" y="175"/>
                      </a:lnTo>
                      <a:lnTo>
                        <a:pt x="42" y="200"/>
                      </a:lnTo>
                      <a:lnTo>
                        <a:pt x="42" y="209"/>
                      </a:lnTo>
                      <a:lnTo>
                        <a:pt x="43" y="217"/>
                      </a:lnTo>
                      <a:lnTo>
                        <a:pt x="45" y="224"/>
                      </a:lnTo>
                      <a:lnTo>
                        <a:pt x="46" y="225"/>
                      </a:lnTo>
                      <a:lnTo>
                        <a:pt x="47" y="226"/>
                      </a:lnTo>
                      <a:lnTo>
                        <a:pt x="53" y="226"/>
                      </a:lnTo>
                      <a:lnTo>
                        <a:pt x="62" y="228"/>
                      </a:lnTo>
                      <a:lnTo>
                        <a:pt x="87" y="228"/>
                      </a:lnTo>
                      <a:lnTo>
                        <a:pt x="121" y="228"/>
                      </a:lnTo>
                      <a:lnTo>
                        <a:pt x="142" y="167"/>
                      </a:lnTo>
                      <a:lnTo>
                        <a:pt x="169" y="167"/>
                      </a:lnTo>
                      <a:lnTo>
                        <a:pt x="166" y="102"/>
                      </a:lnTo>
                      <a:lnTo>
                        <a:pt x="196" y="104"/>
                      </a:lnTo>
                      <a:lnTo>
                        <a:pt x="196" y="72"/>
                      </a:lnTo>
                      <a:lnTo>
                        <a:pt x="330" y="58"/>
                      </a:lnTo>
                      <a:lnTo>
                        <a:pt x="330" y="48"/>
                      </a:lnTo>
                      <a:lnTo>
                        <a:pt x="331" y="27"/>
                      </a:lnTo>
                      <a:lnTo>
                        <a:pt x="331" y="17"/>
                      </a:lnTo>
                      <a:lnTo>
                        <a:pt x="331" y="8"/>
                      </a:lnTo>
                      <a:lnTo>
                        <a:pt x="330" y="1"/>
                      </a:lnTo>
                      <a:lnTo>
                        <a:pt x="328" y="0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472160" y="5451120"/>
                  <a:ext cx="63360" cy="7920"/>
                </a:xfrm>
                <a:custGeom>
                  <a:avLst/>
                  <a:gdLst/>
                  <a:ahLst/>
                  <a:rect l="l" t="t" r="r" b="b"/>
                  <a:pathLst>
                    <a:path w="124" h="13">
                      <a:moveTo>
                        <a:pt x="124" y="9"/>
                      </a:moveTo>
                      <a:lnTo>
                        <a:pt x="100" y="12"/>
                      </a:lnTo>
                      <a:lnTo>
                        <a:pt x="58" y="13"/>
                      </a:lnTo>
                      <a:lnTo>
                        <a:pt x="0" y="13"/>
                      </a:lnTo>
                      <a:lnTo>
                        <a:pt x="0" y="2"/>
                      </a:lnTo>
                      <a:lnTo>
                        <a:pt x="58" y="4"/>
                      </a:lnTo>
                      <a:lnTo>
                        <a:pt x="100" y="2"/>
                      </a:lnTo>
                      <a:lnTo>
                        <a:pt x="122" y="0"/>
                      </a:lnTo>
                      <a:lnTo>
                        <a:pt x="124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462800" y="5454360"/>
                  <a:ext cx="12600" cy="2556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22" y="2"/>
                      </a:moveTo>
                      <a:lnTo>
                        <a:pt x="11" y="0"/>
                      </a:lnTo>
                      <a:lnTo>
                        <a:pt x="0" y="46"/>
                      </a:lnTo>
                      <a:lnTo>
                        <a:pt x="11" y="48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468920" y="5452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1" y="6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438680" y="5478120"/>
                  <a:ext cx="28800" cy="6480"/>
                </a:xfrm>
                <a:custGeom>
                  <a:avLst/>
                  <a:gdLst/>
                  <a:ahLst/>
                  <a:rect l="l" t="t" r="r" b="b"/>
                  <a:pathLst>
                    <a:path w="57" h="13">
                      <a:moveTo>
                        <a:pt x="57" y="9"/>
                      </a:moveTo>
                      <a:lnTo>
                        <a:pt x="54" y="0"/>
                      </a:lnTo>
                      <a:lnTo>
                        <a:pt x="0" y="4"/>
                      </a:lnTo>
                      <a:lnTo>
                        <a:pt x="3" y="13"/>
                      </a:lnTo>
                      <a:lnTo>
                        <a:pt x="5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462800" y="54781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0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435800" y="546228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13" h="40">
                      <a:moveTo>
                        <a:pt x="1" y="37"/>
                      </a:moveTo>
                      <a:lnTo>
                        <a:pt x="4" y="22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lnTo>
                        <a:pt x="9" y="2"/>
                      </a:lnTo>
                      <a:lnTo>
                        <a:pt x="13" y="8"/>
                      </a:lnTo>
                      <a:lnTo>
                        <a:pt x="13" y="22"/>
                      </a:lnTo>
                      <a:lnTo>
                        <a:pt x="11" y="40"/>
                      </a:lnTo>
                      <a:lnTo>
                        <a:pt x="1" y="3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435800" y="54799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9"/>
                      </a:move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403760" y="545904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62" y="4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435800" y="546228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97640" y="5460840"/>
                  <a:ext cx="9360" cy="219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0"/>
                      </a:lnTo>
                      <a:lnTo>
                        <a:pt x="10" y="41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400880" y="5459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4"/>
                      </a:lnTo>
                      <a:lnTo>
                        <a:pt x="6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375320" y="547992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0" y="10"/>
                      </a:moveTo>
                      <a:lnTo>
                        <a:pt x="5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5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397640" y="54813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364160" y="5481360"/>
                  <a:ext cx="14400" cy="63360"/>
                </a:xfrm>
                <a:custGeom>
                  <a:avLst/>
                  <a:gdLst/>
                  <a:ahLst/>
                  <a:rect l="l" t="t" r="r" b="b"/>
                  <a:pathLst>
                    <a:path w="27" h="123">
                      <a:moveTo>
                        <a:pt x="27" y="2"/>
                      </a:moveTo>
                      <a:lnTo>
                        <a:pt x="17" y="0"/>
                      </a:lnTo>
                      <a:lnTo>
                        <a:pt x="0" y="122"/>
                      </a:lnTo>
                      <a:lnTo>
                        <a:pt x="10" y="123"/>
                      </a:lnTo>
                      <a:lnTo>
                        <a:pt x="27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373880" y="54799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367400" y="5541840"/>
                  <a:ext cx="22320" cy="468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364160" y="5541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4"/>
                      </a:move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5" y="0"/>
                      </a:lnTo>
                      <a:lnTo>
                        <a:pt x="1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7386480" y="5544720"/>
                  <a:ext cx="6480" cy="2700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12" y="0"/>
                      </a:moveTo>
                      <a:lnTo>
                        <a:pt x="10" y="25"/>
                      </a:lnTo>
                      <a:lnTo>
                        <a:pt x="12" y="42"/>
                      </a:lnTo>
                      <a:lnTo>
                        <a:pt x="12" y="46"/>
                      </a:lnTo>
                      <a:lnTo>
                        <a:pt x="14" y="49"/>
                      </a:lnTo>
                      <a:lnTo>
                        <a:pt x="6" y="55"/>
                      </a:lnTo>
                      <a:lnTo>
                        <a:pt x="2" y="51"/>
                      </a:lnTo>
                      <a:lnTo>
                        <a:pt x="1" y="44"/>
                      </a:lnTo>
                      <a:lnTo>
                        <a:pt x="0" y="25"/>
                      </a:lnTo>
                      <a:lnTo>
                        <a:pt x="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7386480" y="5541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5" y="0"/>
                      </a:move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389720" y="5567040"/>
                  <a:ext cx="39600" cy="6480"/>
                </a:xfrm>
                <a:custGeom>
                  <a:avLst/>
                  <a:gdLst/>
                  <a:ahLst/>
                  <a:rect l="l" t="t" r="r" b="b"/>
                  <a:pathLst>
                    <a:path w="74" h="12">
                      <a:moveTo>
                        <a:pt x="0" y="0"/>
                      </a:moveTo>
                      <a:lnTo>
                        <a:pt x="40" y="1"/>
                      </a:lnTo>
                      <a:lnTo>
                        <a:pt x="74" y="1"/>
                      </a:lnTo>
                      <a:lnTo>
                        <a:pt x="74" y="12"/>
                      </a:lnTo>
                      <a:lnTo>
                        <a:pt x="40" y="12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7389720" y="55670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9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4" y="0"/>
                      </a:lnTo>
                      <a:lnTo>
                        <a:pt x="8" y="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7426080" y="553860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30" h="66">
                      <a:moveTo>
                        <a:pt x="0" y="61"/>
                      </a:moveTo>
                      <a:lnTo>
                        <a:pt x="9" y="66"/>
                      </a:lnTo>
                      <a:lnTo>
                        <a:pt x="30" y="6"/>
                      </a:lnTo>
                      <a:lnTo>
                        <a:pt x="21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7426080" y="5568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8" y="11"/>
                      </a:lnTo>
                      <a:lnTo>
                        <a:pt x="9" y="8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7437240" y="5538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7448400" y="5506920"/>
                  <a:ext cx="6480" cy="33120"/>
                </a:xfrm>
                <a:custGeom>
                  <a:avLst/>
                  <a:gdLst/>
                  <a:ahLst/>
                  <a:rect l="l" t="t" r="r" b="b"/>
                  <a:pathLst>
                    <a:path w="12" h="65">
                      <a:moveTo>
                        <a:pt x="2" y="65"/>
                      </a:moveTo>
                      <a:lnTo>
                        <a:pt x="12" y="6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6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7449840" y="55386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10"/>
                      </a:moveTo>
                      <a:lnTo>
                        <a:pt x="10" y="1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7451640" y="5503680"/>
                  <a:ext cx="15840" cy="612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30" y="12"/>
                      </a:lnTo>
                      <a:lnTo>
                        <a:pt x="3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448400" y="5503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1"/>
                      </a:lnTo>
                      <a:lnTo>
                        <a:pt x="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7464240" y="55051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10"/>
                      </a:moveTo>
                      <a:lnTo>
                        <a:pt x="11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7467480" y="548136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132" h="25">
                      <a:moveTo>
                        <a:pt x="0" y="15"/>
                      </a:moveTo>
                      <a:lnTo>
                        <a:pt x="0" y="25"/>
                      </a:lnTo>
                      <a:lnTo>
                        <a:pt x="132" y="11"/>
                      </a:lnTo>
                      <a:lnTo>
                        <a:pt x="132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7464240" y="54878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7532640" y="5451120"/>
                  <a:ext cx="6120" cy="33480"/>
                </a:xfrm>
                <a:custGeom>
                  <a:avLst/>
                  <a:gdLst/>
                  <a:ahLst/>
                  <a:rect l="l" t="t" r="r" b="b"/>
                  <a:pathLst>
                    <a:path w="12" h="63">
                      <a:moveTo>
                        <a:pt x="0" y="60"/>
                      </a:moveTo>
                      <a:lnTo>
                        <a:pt x="3" y="31"/>
                      </a:lnTo>
                      <a:lnTo>
                        <a:pt x="3" y="12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12"/>
                      </a:lnTo>
                      <a:lnTo>
                        <a:pt x="12" y="31"/>
                      </a:lnTo>
                      <a:lnTo>
                        <a:pt x="9" y="63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7532640" y="5481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9" y="11"/>
                      </a:lnTo>
                      <a:lnTo>
                        <a:pt x="9" y="7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534080" y="545112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4" y="9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7316640" y="4949640"/>
                  <a:ext cx="141120" cy="223920"/>
                </a:xfrm>
                <a:custGeom>
                  <a:avLst/>
                  <a:gdLst/>
                  <a:ahLst/>
                  <a:rect l="l" t="t" r="r" b="b"/>
                  <a:pathLst>
                    <a:path w="277" h="436">
                      <a:moveTo>
                        <a:pt x="185" y="0"/>
                      </a:moveTo>
                      <a:lnTo>
                        <a:pt x="219" y="63"/>
                      </a:lnTo>
                      <a:lnTo>
                        <a:pt x="200" y="109"/>
                      </a:lnTo>
                      <a:lnTo>
                        <a:pt x="223" y="163"/>
                      </a:lnTo>
                      <a:lnTo>
                        <a:pt x="252" y="163"/>
                      </a:lnTo>
                      <a:lnTo>
                        <a:pt x="277" y="163"/>
                      </a:lnTo>
                      <a:lnTo>
                        <a:pt x="272" y="258"/>
                      </a:lnTo>
                      <a:lnTo>
                        <a:pt x="265" y="300"/>
                      </a:lnTo>
                      <a:lnTo>
                        <a:pt x="212" y="303"/>
                      </a:lnTo>
                      <a:lnTo>
                        <a:pt x="212" y="316"/>
                      </a:lnTo>
                      <a:lnTo>
                        <a:pt x="211" y="344"/>
                      </a:lnTo>
                      <a:lnTo>
                        <a:pt x="211" y="358"/>
                      </a:lnTo>
                      <a:lnTo>
                        <a:pt x="210" y="372"/>
                      </a:lnTo>
                      <a:lnTo>
                        <a:pt x="207" y="382"/>
                      </a:lnTo>
                      <a:lnTo>
                        <a:pt x="206" y="385"/>
                      </a:lnTo>
                      <a:lnTo>
                        <a:pt x="204" y="385"/>
                      </a:lnTo>
                      <a:lnTo>
                        <a:pt x="190" y="386"/>
                      </a:lnTo>
                      <a:lnTo>
                        <a:pt x="163" y="389"/>
                      </a:lnTo>
                      <a:lnTo>
                        <a:pt x="128" y="393"/>
                      </a:lnTo>
                      <a:lnTo>
                        <a:pt x="91" y="436"/>
                      </a:lnTo>
                      <a:lnTo>
                        <a:pt x="46" y="395"/>
                      </a:lnTo>
                      <a:lnTo>
                        <a:pt x="51" y="368"/>
                      </a:lnTo>
                      <a:lnTo>
                        <a:pt x="61" y="368"/>
                      </a:lnTo>
                      <a:lnTo>
                        <a:pt x="80" y="366"/>
                      </a:lnTo>
                      <a:lnTo>
                        <a:pt x="92" y="365"/>
                      </a:lnTo>
                      <a:lnTo>
                        <a:pt x="101" y="364"/>
                      </a:lnTo>
                      <a:lnTo>
                        <a:pt x="108" y="361"/>
                      </a:lnTo>
                      <a:lnTo>
                        <a:pt x="109" y="360"/>
                      </a:lnTo>
                      <a:lnTo>
                        <a:pt x="111" y="358"/>
                      </a:lnTo>
                      <a:lnTo>
                        <a:pt x="112" y="324"/>
                      </a:lnTo>
                      <a:lnTo>
                        <a:pt x="115" y="297"/>
                      </a:lnTo>
                      <a:lnTo>
                        <a:pt x="71" y="287"/>
                      </a:lnTo>
                      <a:lnTo>
                        <a:pt x="8" y="283"/>
                      </a:lnTo>
                      <a:lnTo>
                        <a:pt x="0" y="252"/>
                      </a:lnTo>
                      <a:lnTo>
                        <a:pt x="28" y="228"/>
                      </a:lnTo>
                      <a:lnTo>
                        <a:pt x="72" y="236"/>
                      </a:lnTo>
                      <a:lnTo>
                        <a:pt x="69" y="212"/>
                      </a:lnTo>
                      <a:lnTo>
                        <a:pt x="153" y="130"/>
                      </a:lnTo>
                      <a:lnTo>
                        <a:pt x="136" y="39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407000" y="494784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44" h="69">
                      <a:moveTo>
                        <a:pt x="10" y="0"/>
                      </a:moveTo>
                      <a:lnTo>
                        <a:pt x="0" y="5"/>
                      </a:lnTo>
                      <a:lnTo>
                        <a:pt x="35" y="69"/>
                      </a:lnTo>
                      <a:lnTo>
                        <a:pt x="44" y="6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7416720" y="4981320"/>
                  <a:ext cx="14040" cy="25200"/>
                </a:xfrm>
                <a:custGeom>
                  <a:avLst/>
                  <a:gdLst/>
                  <a:ahLst/>
                  <a:rect l="l" t="t" r="r" b="b"/>
                  <a:pathLst>
                    <a:path w="28" h="50">
                      <a:moveTo>
                        <a:pt x="28" y="4"/>
                      </a:moveTo>
                      <a:lnTo>
                        <a:pt x="19" y="0"/>
                      </a:lnTo>
                      <a:lnTo>
                        <a:pt x="0" y="46"/>
                      </a:lnTo>
                      <a:lnTo>
                        <a:pt x="9" y="50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426080" y="497988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9" y="0"/>
                      </a:moveTo>
                      <a:lnTo>
                        <a:pt x="10" y="3"/>
                      </a:lnTo>
                      <a:lnTo>
                        <a:pt x="9" y="6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416720" y="5005080"/>
                  <a:ext cx="15840" cy="28440"/>
                </a:xfrm>
                <a:custGeom>
                  <a:avLst/>
                  <a:gdLst/>
                  <a:ahLst/>
                  <a:rect l="l" t="t" r="r" b="b"/>
                  <a:pathLst>
                    <a:path w="32" h="59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3" y="59"/>
                      </a:lnTo>
                      <a:lnTo>
                        <a:pt x="32" y="5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414920" y="500508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430760" y="5032080"/>
                  <a:ext cx="14400" cy="324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7427880" y="50320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8"/>
                      </a:moveTo>
                      <a:lnTo>
                        <a:pt x="1" y="11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9" y="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445160" y="5032080"/>
                  <a:ext cx="12600" cy="324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445160" y="50320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451640" y="5033520"/>
                  <a:ext cx="9360" cy="49320"/>
                </a:xfrm>
                <a:custGeom>
                  <a:avLst/>
                  <a:gdLst/>
                  <a:ahLst/>
                  <a:rect l="l" t="t" r="r" b="b"/>
                  <a:pathLst>
                    <a:path w="16" h="95">
                      <a:moveTo>
                        <a:pt x="16" y="0"/>
                      </a:moveTo>
                      <a:lnTo>
                        <a:pt x="6" y="0"/>
                      </a:lnTo>
                      <a:lnTo>
                        <a:pt x="0" y="95"/>
                      </a:lnTo>
                      <a:lnTo>
                        <a:pt x="11" y="9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454880" y="50320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448400" y="5082840"/>
                  <a:ext cx="9360" cy="2052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2"/>
                      </a:lnTo>
                      <a:lnTo>
                        <a:pt x="10" y="43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424640" y="5101920"/>
                  <a:ext cx="27000" cy="6480"/>
                </a:xfrm>
                <a:custGeom>
                  <a:avLst/>
                  <a:gdLst/>
                  <a:ahLst/>
                  <a:rect l="l" t="t" r="r" b="b"/>
                  <a:pathLst>
                    <a:path w="53" h="11">
                      <a:moveTo>
                        <a:pt x="53" y="9"/>
                      </a:moveTo>
                      <a:lnTo>
                        <a:pt x="53" y="0"/>
                      </a:lnTo>
                      <a:lnTo>
                        <a:pt x="0" y="2"/>
                      </a:lnTo>
                      <a:lnTo>
                        <a:pt x="0" y="11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7448400" y="51019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3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418160" y="5105160"/>
                  <a:ext cx="9720" cy="42840"/>
                </a:xfrm>
                <a:custGeom>
                  <a:avLst/>
                  <a:gdLst/>
                  <a:ahLst/>
                  <a:rect l="l" t="t" r="r" b="b"/>
                  <a:pathLst>
                    <a:path w="19" h="83">
                      <a:moveTo>
                        <a:pt x="19" y="0"/>
                      </a:moveTo>
                      <a:lnTo>
                        <a:pt x="17" y="41"/>
                      </a:lnTo>
                      <a:lnTo>
                        <a:pt x="15" y="69"/>
                      </a:lnTo>
                      <a:lnTo>
                        <a:pt x="11" y="83"/>
                      </a:lnTo>
                      <a:lnTo>
                        <a:pt x="0" y="81"/>
                      </a:lnTo>
                      <a:lnTo>
                        <a:pt x="4" y="67"/>
                      </a:lnTo>
                      <a:lnTo>
                        <a:pt x="7" y="41"/>
                      </a:lnTo>
                      <a:lnTo>
                        <a:pt x="8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422840" y="51033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381800" y="514656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79" h="17">
                      <a:moveTo>
                        <a:pt x="79" y="9"/>
                      </a:moveTo>
                      <a:lnTo>
                        <a:pt x="2" y="17"/>
                      </a:lnTo>
                      <a:lnTo>
                        <a:pt x="0" y="8"/>
                      </a:lnTo>
                      <a:lnTo>
                        <a:pt x="76" y="0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7418160" y="5146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5"/>
                      </a:move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7359480" y="514944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6" y="7"/>
                      </a:moveTo>
                      <a:lnTo>
                        <a:pt x="38" y="0"/>
                      </a:lnTo>
                      <a:lnTo>
                        <a:pt x="0" y="44"/>
                      </a:lnTo>
                      <a:lnTo>
                        <a:pt x="8" y="50"/>
                      </a:lnTo>
                      <a:lnTo>
                        <a:pt x="46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7380000" y="514944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7337160" y="514944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44" y="49"/>
                      </a:moveTo>
                      <a:lnTo>
                        <a:pt x="50" y="41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4" y="4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7359480" y="51717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8" y="8"/>
                      </a:moveTo>
                      <a:lnTo>
                        <a:pt x="4" y="12"/>
                      </a:ln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7335720" y="5138280"/>
                  <a:ext cx="7920" cy="1620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28"/>
                      </a:moveTo>
                      <a:lnTo>
                        <a:pt x="9" y="32"/>
                      </a:lnTo>
                      <a:lnTo>
                        <a:pt x="14" y="4"/>
                      </a:lnTo>
                      <a:lnTo>
                        <a:pt x="5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7335720" y="51494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8"/>
                      </a:move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10" y="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341840" y="513360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6"/>
                      </a:moveTo>
                      <a:lnTo>
                        <a:pt x="29" y="5"/>
                      </a:lnTo>
                      <a:lnTo>
                        <a:pt x="50" y="2"/>
                      </a:lnTo>
                      <a:lnTo>
                        <a:pt x="53" y="1"/>
                      </a:lnTo>
                      <a:lnTo>
                        <a:pt x="56" y="0"/>
                      </a:lnTo>
                      <a:lnTo>
                        <a:pt x="64" y="6"/>
                      </a:lnTo>
                      <a:lnTo>
                        <a:pt x="60" y="9"/>
                      </a:lnTo>
                      <a:lnTo>
                        <a:pt x="52" y="13"/>
                      </a:lnTo>
                      <a:lnTo>
                        <a:pt x="29" y="16"/>
                      </a:lnTo>
                      <a:lnTo>
                        <a:pt x="0" y="1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7338960" y="5136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4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lnTo>
                        <a:pt x="9" y="8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7370640" y="5100480"/>
                  <a:ext cx="6120" cy="34920"/>
                </a:xfrm>
                <a:custGeom>
                  <a:avLst/>
                  <a:gdLst/>
                  <a:ahLst/>
                  <a:rect l="l" t="t" r="r" b="b"/>
                  <a:pathLst>
                    <a:path w="14" h="65">
                      <a:moveTo>
                        <a:pt x="0" y="62"/>
                      </a:moveTo>
                      <a:lnTo>
                        <a:pt x="4" y="0"/>
                      </a:lnTo>
                      <a:lnTo>
                        <a:pt x="14" y="3"/>
                      </a:lnTo>
                      <a:lnTo>
                        <a:pt x="10" y="65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7370640" y="51336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1560" y="509400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4" y="19"/>
                      </a:moveTo>
                      <a:lnTo>
                        <a:pt x="47" y="10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44" y="1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7372080" y="5100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5"/>
                      </a:move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319880" y="5092560"/>
                  <a:ext cx="316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62" y="4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351560" y="509400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2" h="10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7313400" y="5078160"/>
                  <a:ext cx="9720" cy="17280"/>
                </a:xfrm>
                <a:custGeom>
                  <a:avLst/>
                  <a:gdLst/>
                  <a:ahLst/>
                  <a:rect l="l" t="t" r="r" b="b"/>
                  <a:pathLst>
                    <a:path w="17" h="35">
                      <a:moveTo>
                        <a:pt x="8" y="35"/>
                      </a:moveTo>
                      <a:lnTo>
                        <a:pt x="17" y="3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318080" y="509256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313400" y="5065560"/>
                  <a:ext cx="17640" cy="15840"/>
                </a:xfrm>
                <a:custGeom>
                  <a:avLst/>
                  <a:gdLst/>
                  <a:ahLst/>
                  <a:rect l="l" t="t" r="r" b="b"/>
                  <a:pathLst>
                    <a:path w="34" h="32">
                      <a:moveTo>
                        <a:pt x="0" y="24"/>
                      </a:moveTo>
                      <a:lnTo>
                        <a:pt x="7" y="32"/>
                      </a:lnTo>
                      <a:lnTo>
                        <a:pt x="34" y="8"/>
                      </a:lnTo>
                      <a:lnTo>
                        <a:pt x="28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7311960" y="507816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5"/>
                      </a:move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10" y="8"/>
                      </a:lnTo>
                      <a:lnTo>
                        <a:pt x="11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329240" y="5063760"/>
                  <a:ext cx="23760" cy="97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45" y="18"/>
                      </a:lnTo>
                      <a:lnTo>
                        <a:pt x="46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7329240" y="506376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348320" y="5057640"/>
                  <a:ext cx="6480" cy="1404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4" y="26"/>
                      </a:moveTo>
                      <a:lnTo>
                        <a:pt x="13" y="24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7350120" y="50684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10"/>
                      </a:moveTo>
                      <a:lnTo>
                        <a:pt x="11" y="11"/>
                      </a:lnTo>
                      <a:lnTo>
                        <a:pt x="9" y="4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348320" y="5014800"/>
                  <a:ext cx="47520" cy="45720"/>
                </a:xfrm>
                <a:custGeom>
                  <a:avLst/>
                  <a:gdLst/>
                  <a:ahLst/>
                  <a:rect l="l" t="t" r="r" b="b"/>
                  <a:pathLst>
                    <a:path w="91" h="90">
                      <a:moveTo>
                        <a:pt x="0" y="82"/>
                      </a:moveTo>
                      <a:lnTo>
                        <a:pt x="6" y="90"/>
                      </a:lnTo>
                      <a:lnTo>
                        <a:pt x="91" y="8"/>
                      </a:lnTo>
                      <a:lnTo>
                        <a:pt x="84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348320" y="5055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8"/>
                      </a:lnTo>
                      <a:lnTo>
                        <a:pt x="9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383240" y="4970160"/>
                  <a:ext cx="12600" cy="4752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8" y="94"/>
                      </a:moveTo>
                      <a:lnTo>
                        <a:pt x="27" y="91"/>
                      </a:lnTo>
                      <a:lnTo>
                        <a:pt x="10" y="0"/>
                      </a:lnTo>
                      <a:lnTo>
                        <a:pt x="0" y="3"/>
                      </a:lnTo>
                      <a:lnTo>
                        <a:pt x="18" y="9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7391160" y="5014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8"/>
                      </a:moveTo>
                      <a:lnTo>
                        <a:pt x="9" y="7"/>
                      </a:lnTo>
                      <a:lnTo>
                        <a:pt x="9" y="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385040" y="4947840"/>
                  <a:ext cx="26640" cy="237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0" y="39"/>
                      </a:moveTo>
                      <a:lnTo>
                        <a:pt x="6" y="47"/>
                      </a:lnTo>
                      <a:lnTo>
                        <a:pt x="55" y="8"/>
                      </a:lnTo>
                      <a:lnTo>
                        <a:pt x="49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383240" y="49687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1" y="6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9" y="8"/>
                      </a:lnTo>
                      <a:lnTo>
                        <a:pt x="11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407000" y="49449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2" y="4"/>
                      </a:moveTo>
                      <a:lnTo>
                        <a:pt x="7" y="0"/>
                      </a:lnTo>
                      <a:lnTo>
                        <a:pt x="10" y="5"/>
                      </a:lnTo>
                      <a:lnTo>
                        <a:pt x="0" y="10"/>
                      </a:lnTo>
                      <a:lnTo>
                        <a:pt x="8" y="12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7167240" y="5035320"/>
                  <a:ext cx="101880" cy="82440"/>
                </a:xfrm>
                <a:custGeom>
                  <a:avLst/>
                  <a:gdLst/>
                  <a:ahLst/>
                  <a:rect l="l" t="t" r="r" b="b"/>
                  <a:pathLst>
                    <a:path w="196" h="160">
                      <a:moveTo>
                        <a:pt x="105" y="7"/>
                      </a:moveTo>
                      <a:lnTo>
                        <a:pt x="96" y="8"/>
                      </a:lnTo>
                      <a:lnTo>
                        <a:pt x="84" y="10"/>
                      </a:lnTo>
                      <a:lnTo>
                        <a:pt x="71" y="11"/>
                      </a:lnTo>
                      <a:lnTo>
                        <a:pt x="0" y="61"/>
                      </a:lnTo>
                      <a:lnTo>
                        <a:pt x="2" y="85"/>
                      </a:lnTo>
                      <a:lnTo>
                        <a:pt x="56" y="87"/>
                      </a:lnTo>
                      <a:lnTo>
                        <a:pt x="60" y="104"/>
                      </a:lnTo>
                      <a:lnTo>
                        <a:pt x="35" y="103"/>
                      </a:lnTo>
                      <a:lnTo>
                        <a:pt x="35" y="126"/>
                      </a:lnTo>
                      <a:lnTo>
                        <a:pt x="68" y="132"/>
                      </a:lnTo>
                      <a:lnTo>
                        <a:pt x="67" y="136"/>
                      </a:lnTo>
                      <a:lnTo>
                        <a:pt x="64" y="145"/>
                      </a:lnTo>
                      <a:lnTo>
                        <a:pt x="64" y="151"/>
                      </a:lnTo>
                      <a:lnTo>
                        <a:pt x="64" y="155"/>
                      </a:lnTo>
                      <a:lnTo>
                        <a:pt x="66" y="159"/>
                      </a:lnTo>
                      <a:lnTo>
                        <a:pt x="67" y="160"/>
                      </a:lnTo>
                      <a:lnTo>
                        <a:pt x="68" y="160"/>
                      </a:lnTo>
                      <a:lnTo>
                        <a:pt x="80" y="159"/>
                      </a:lnTo>
                      <a:lnTo>
                        <a:pt x="95" y="157"/>
                      </a:lnTo>
                      <a:lnTo>
                        <a:pt x="113" y="156"/>
                      </a:lnTo>
                      <a:lnTo>
                        <a:pt x="112" y="130"/>
                      </a:lnTo>
                      <a:lnTo>
                        <a:pt x="121" y="132"/>
                      </a:lnTo>
                      <a:lnTo>
                        <a:pt x="130" y="132"/>
                      </a:lnTo>
                      <a:lnTo>
                        <a:pt x="136" y="132"/>
                      </a:lnTo>
                      <a:lnTo>
                        <a:pt x="141" y="132"/>
                      </a:lnTo>
                      <a:lnTo>
                        <a:pt x="147" y="130"/>
                      </a:lnTo>
                      <a:lnTo>
                        <a:pt x="155" y="123"/>
                      </a:lnTo>
                      <a:lnTo>
                        <a:pt x="165" y="115"/>
                      </a:lnTo>
                      <a:lnTo>
                        <a:pt x="174" y="106"/>
                      </a:lnTo>
                      <a:lnTo>
                        <a:pt x="190" y="89"/>
                      </a:lnTo>
                      <a:lnTo>
                        <a:pt x="196" y="81"/>
                      </a:lnTo>
                      <a:lnTo>
                        <a:pt x="179" y="28"/>
                      </a:lnTo>
                      <a:lnTo>
                        <a:pt x="104" y="32"/>
                      </a:lnTo>
                      <a:lnTo>
                        <a:pt x="104" y="0"/>
                      </a:lnTo>
                      <a:lnTo>
                        <a:pt x="105" y="2"/>
                      </a:lnTo>
                      <a:lnTo>
                        <a:pt x="108" y="3"/>
                      </a:lnTo>
                      <a:lnTo>
                        <a:pt x="109" y="4"/>
                      </a:lnTo>
                      <a:lnTo>
                        <a:pt x="108" y="6"/>
                      </a:lnTo>
                      <a:lnTo>
                        <a:pt x="105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205400" y="5036760"/>
                  <a:ext cx="17640" cy="648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37" y="9"/>
                      </a:moveTo>
                      <a:lnTo>
                        <a:pt x="2" y="13"/>
                      </a:lnTo>
                      <a:lnTo>
                        <a:pt x="0" y="4"/>
                      </a:lnTo>
                      <a:lnTo>
                        <a:pt x="34" y="0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7165800" y="5038560"/>
                  <a:ext cx="41400" cy="29880"/>
                </a:xfrm>
                <a:custGeom>
                  <a:avLst/>
                  <a:gdLst/>
                  <a:ahLst/>
                  <a:rect l="l" t="t" r="r" b="b"/>
                  <a:pathLst>
                    <a:path w="78" h="58">
                      <a:moveTo>
                        <a:pt x="78" y="8"/>
                      </a:moveTo>
                      <a:lnTo>
                        <a:pt x="71" y="0"/>
                      </a:lnTo>
                      <a:lnTo>
                        <a:pt x="0" y="50"/>
                      </a:lnTo>
                      <a:lnTo>
                        <a:pt x="6" y="58"/>
                      </a:lnTo>
                      <a:lnTo>
                        <a:pt x="7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203960" y="50385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7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164360" y="50670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3" y="25"/>
                      </a:lnTo>
                      <a:lnTo>
                        <a:pt x="14" y="2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7164360" y="506556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11" y="4"/>
                      </a:lnTo>
                      <a:lnTo>
                        <a:pt x="8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440320" y="3215880"/>
                  <a:ext cx="244440" cy="174600"/>
                </a:xfrm>
                <a:custGeom>
                  <a:avLst/>
                  <a:gdLst/>
                  <a:ahLst/>
                  <a:rect l="l" t="t" r="r" b="b"/>
                  <a:pathLst>
                    <a:path w="474" h="340">
                      <a:moveTo>
                        <a:pt x="268" y="0"/>
                      </a:moveTo>
                      <a:lnTo>
                        <a:pt x="327" y="19"/>
                      </a:lnTo>
                      <a:lnTo>
                        <a:pt x="323" y="58"/>
                      </a:lnTo>
                      <a:lnTo>
                        <a:pt x="382" y="63"/>
                      </a:lnTo>
                      <a:lnTo>
                        <a:pt x="382" y="22"/>
                      </a:lnTo>
                      <a:lnTo>
                        <a:pt x="401" y="17"/>
                      </a:lnTo>
                      <a:lnTo>
                        <a:pt x="469" y="75"/>
                      </a:lnTo>
                      <a:lnTo>
                        <a:pt x="474" y="106"/>
                      </a:lnTo>
                      <a:lnTo>
                        <a:pt x="449" y="130"/>
                      </a:lnTo>
                      <a:lnTo>
                        <a:pt x="469" y="134"/>
                      </a:lnTo>
                      <a:lnTo>
                        <a:pt x="469" y="154"/>
                      </a:lnTo>
                      <a:lnTo>
                        <a:pt x="347" y="266"/>
                      </a:lnTo>
                      <a:lnTo>
                        <a:pt x="260" y="286"/>
                      </a:lnTo>
                      <a:lnTo>
                        <a:pt x="184" y="306"/>
                      </a:lnTo>
                      <a:lnTo>
                        <a:pt x="173" y="340"/>
                      </a:lnTo>
                      <a:lnTo>
                        <a:pt x="56" y="331"/>
                      </a:lnTo>
                      <a:lnTo>
                        <a:pt x="47" y="331"/>
                      </a:lnTo>
                      <a:lnTo>
                        <a:pt x="28" y="329"/>
                      </a:lnTo>
                      <a:lnTo>
                        <a:pt x="18" y="329"/>
                      </a:lnTo>
                      <a:lnTo>
                        <a:pt x="10" y="328"/>
                      </a:lnTo>
                      <a:lnTo>
                        <a:pt x="3" y="325"/>
                      </a:lnTo>
                      <a:lnTo>
                        <a:pt x="2" y="324"/>
                      </a:lnTo>
                      <a:lnTo>
                        <a:pt x="0" y="323"/>
                      </a:lnTo>
                      <a:lnTo>
                        <a:pt x="2" y="310"/>
                      </a:lnTo>
                      <a:lnTo>
                        <a:pt x="4" y="290"/>
                      </a:lnTo>
                      <a:lnTo>
                        <a:pt x="7" y="263"/>
                      </a:lnTo>
                      <a:lnTo>
                        <a:pt x="39" y="261"/>
                      </a:lnTo>
                      <a:lnTo>
                        <a:pt x="12" y="212"/>
                      </a:lnTo>
                      <a:lnTo>
                        <a:pt x="12" y="162"/>
                      </a:lnTo>
                      <a:lnTo>
                        <a:pt x="97" y="151"/>
                      </a:lnTo>
                      <a:lnTo>
                        <a:pt x="123" y="162"/>
                      </a:lnTo>
                      <a:lnTo>
                        <a:pt x="164" y="162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210080" y="2514240"/>
                  <a:ext cx="125640" cy="108000"/>
                </a:xfrm>
                <a:custGeom>
                  <a:avLst/>
                  <a:gdLst/>
                  <a:ahLst/>
                  <a:rect l="l" t="t" r="r" b="b"/>
                  <a:pathLst>
                    <a:path w="243" h="208">
                      <a:moveTo>
                        <a:pt x="1" y="207"/>
                      </a:moveTo>
                      <a:lnTo>
                        <a:pt x="6" y="206"/>
                      </a:lnTo>
                      <a:lnTo>
                        <a:pt x="11" y="202"/>
                      </a:lnTo>
                      <a:lnTo>
                        <a:pt x="19" y="195"/>
                      </a:lnTo>
                      <a:lnTo>
                        <a:pt x="27" y="187"/>
                      </a:lnTo>
                      <a:lnTo>
                        <a:pt x="34" y="179"/>
                      </a:lnTo>
                      <a:lnTo>
                        <a:pt x="39" y="170"/>
                      </a:lnTo>
                      <a:lnTo>
                        <a:pt x="46" y="162"/>
                      </a:lnTo>
                      <a:lnTo>
                        <a:pt x="50" y="158"/>
                      </a:lnTo>
                      <a:lnTo>
                        <a:pt x="54" y="156"/>
                      </a:lnTo>
                      <a:lnTo>
                        <a:pt x="59" y="152"/>
                      </a:lnTo>
                      <a:lnTo>
                        <a:pt x="63" y="149"/>
                      </a:lnTo>
                      <a:lnTo>
                        <a:pt x="75" y="142"/>
                      </a:lnTo>
                      <a:lnTo>
                        <a:pt x="88" y="132"/>
                      </a:lnTo>
                      <a:lnTo>
                        <a:pt x="102" y="120"/>
                      </a:lnTo>
                      <a:lnTo>
                        <a:pt x="108" y="117"/>
                      </a:lnTo>
                      <a:lnTo>
                        <a:pt x="121" y="110"/>
                      </a:lnTo>
                      <a:lnTo>
                        <a:pt x="134" y="99"/>
                      </a:lnTo>
                      <a:lnTo>
                        <a:pt x="141" y="94"/>
                      </a:lnTo>
                      <a:lnTo>
                        <a:pt x="146" y="88"/>
                      </a:lnTo>
                      <a:lnTo>
                        <a:pt x="164" y="65"/>
                      </a:lnTo>
                      <a:lnTo>
                        <a:pt x="172" y="54"/>
                      </a:lnTo>
                      <a:lnTo>
                        <a:pt x="178" y="45"/>
                      </a:lnTo>
                      <a:lnTo>
                        <a:pt x="188" y="24"/>
                      </a:lnTo>
                      <a:lnTo>
                        <a:pt x="192" y="19"/>
                      </a:lnTo>
                      <a:lnTo>
                        <a:pt x="196" y="13"/>
                      </a:lnTo>
                      <a:lnTo>
                        <a:pt x="200" y="9"/>
                      </a:lnTo>
                      <a:lnTo>
                        <a:pt x="204" y="7"/>
                      </a:lnTo>
                      <a:lnTo>
                        <a:pt x="209" y="5"/>
                      </a:lnTo>
                      <a:lnTo>
                        <a:pt x="214" y="3"/>
                      </a:lnTo>
                      <a:lnTo>
                        <a:pt x="228" y="1"/>
                      </a:lnTo>
                      <a:lnTo>
                        <a:pt x="242" y="0"/>
                      </a:lnTo>
                      <a:lnTo>
                        <a:pt x="243" y="11"/>
                      </a:lnTo>
                      <a:lnTo>
                        <a:pt x="214" y="11"/>
                      </a:lnTo>
                      <a:lnTo>
                        <a:pt x="207" y="16"/>
                      </a:lnTo>
                      <a:lnTo>
                        <a:pt x="201" y="21"/>
                      </a:lnTo>
                      <a:lnTo>
                        <a:pt x="197" y="25"/>
                      </a:lnTo>
                      <a:lnTo>
                        <a:pt x="192" y="34"/>
                      </a:lnTo>
                      <a:lnTo>
                        <a:pt x="189" y="40"/>
                      </a:lnTo>
                      <a:lnTo>
                        <a:pt x="182" y="61"/>
                      </a:lnTo>
                      <a:lnTo>
                        <a:pt x="163" y="90"/>
                      </a:lnTo>
                      <a:lnTo>
                        <a:pt x="156" y="96"/>
                      </a:lnTo>
                      <a:lnTo>
                        <a:pt x="150" y="102"/>
                      </a:lnTo>
                      <a:lnTo>
                        <a:pt x="142" y="108"/>
                      </a:lnTo>
                      <a:lnTo>
                        <a:pt x="137" y="115"/>
                      </a:lnTo>
                      <a:lnTo>
                        <a:pt x="133" y="120"/>
                      </a:lnTo>
                      <a:lnTo>
                        <a:pt x="129" y="124"/>
                      </a:lnTo>
                      <a:lnTo>
                        <a:pt x="126" y="127"/>
                      </a:lnTo>
                      <a:lnTo>
                        <a:pt x="123" y="128"/>
                      </a:lnTo>
                      <a:lnTo>
                        <a:pt x="110" y="133"/>
                      </a:lnTo>
                      <a:lnTo>
                        <a:pt x="102" y="135"/>
                      </a:lnTo>
                      <a:lnTo>
                        <a:pt x="98" y="139"/>
                      </a:lnTo>
                      <a:lnTo>
                        <a:pt x="93" y="141"/>
                      </a:lnTo>
                      <a:lnTo>
                        <a:pt x="89" y="142"/>
                      </a:lnTo>
                      <a:lnTo>
                        <a:pt x="80" y="146"/>
                      </a:lnTo>
                      <a:lnTo>
                        <a:pt x="72" y="149"/>
                      </a:lnTo>
                      <a:lnTo>
                        <a:pt x="58" y="152"/>
                      </a:lnTo>
                      <a:lnTo>
                        <a:pt x="47" y="161"/>
                      </a:lnTo>
                      <a:lnTo>
                        <a:pt x="25" y="182"/>
                      </a:lnTo>
                      <a:lnTo>
                        <a:pt x="3" y="201"/>
                      </a:lnTo>
                      <a:lnTo>
                        <a:pt x="0" y="207"/>
                      </a:lnTo>
                      <a:lnTo>
                        <a:pt x="0" y="208"/>
                      </a:lnTo>
                      <a:lnTo>
                        <a:pt x="1" y="20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680160" y="2552400"/>
                  <a:ext cx="133200" cy="106560"/>
                </a:xfrm>
                <a:custGeom>
                  <a:avLst/>
                  <a:gdLst/>
                  <a:ahLst/>
                  <a:rect l="l" t="t" r="r" b="b"/>
                  <a:pathLst>
                    <a:path w="258" h="205">
                      <a:moveTo>
                        <a:pt x="70" y="205"/>
                      </a:moveTo>
                      <a:lnTo>
                        <a:pt x="258" y="164"/>
                      </a:lnTo>
                      <a:lnTo>
                        <a:pt x="251" y="146"/>
                      </a:lnTo>
                      <a:lnTo>
                        <a:pt x="244" y="131"/>
                      </a:lnTo>
                      <a:lnTo>
                        <a:pt x="241" y="124"/>
                      </a:lnTo>
                      <a:lnTo>
                        <a:pt x="237" y="118"/>
                      </a:lnTo>
                      <a:lnTo>
                        <a:pt x="233" y="114"/>
                      </a:lnTo>
                      <a:lnTo>
                        <a:pt x="231" y="112"/>
                      </a:lnTo>
                      <a:lnTo>
                        <a:pt x="229" y="110"/>
                      </a:lnTo>
                      <a:lnTo>
                        <a:pt x="225" y="109"/>
                      </a:lnTo>
                      <a:lnTo>
                        <a:pt x="221" y="108"/>
                      </a:lnTo>
                      <a:lnTo>
                        <a:pt x="218" y="108"/>
                      </a:lnTo>
                      <a:lnTo>
                        <a:pt x="215" y="108"/>
                      </a:lnTo>
                      <a:lnTo>
                        <a:pt x="213" y="108"/>
                      </a:lnTo>
                      <a:lnTo>
                        <a:pt x="210" y="109"/>
                      </a:lnTo>
                      <a:lnTo>
                        <a:pt x="204" y="112"/>
                      </a:lnTo>
                      <a:lnTo>
                        <a:pt x="201" y="112"/>
                      </a:lnTo>
                      <a:lnTo>
                        <a:pt x="197" y="112"/>
                      </a:lnTo>
                      <a:lnTo>
                        <a:pt x="194" y="109"/>
                      </a:lnTo>
                      <a:lnTo>
                        <a:pt x="194" y="108"/>
                      </a:lnTo>
                      <a:lnTo>
                        <a:pt x="193" y="106"/>
                      </a:lnTo>
                      <a:lnTo>
                        <a:pt x="193" y="102"/>
                      </a:lnTo>
                      <a:lnTo>
                        <a:pt x="193" y="100"/>
                      </a:lnTo>
                      <a:lnTo>
                        <a:pt x="196" y="96"/>
                      </a:lnTo>
                      <a:lnTo>
                        <a:pt x="196" y="95"/>
                      </a:lnTo>
                      <a:lnTo>
                        <a:pt x="196" y="93"/>
                      </a:lnTo>
                      <a:lnTo>
                        <a:pt x="189" y="87"/>
                      </a:lnTo>
                      <a:lnTo>
                        <a:pt x="180" y="81"/>
                      </a:lnTo>
                      <a:lnTo>
                        <a:pt x="173" y="79"/>
                      </a:lnTo>
                      <a:lnTo>
                        <a:pt x="172" y="77"/>
                      </a:lnTo>
                      <a:lnTo>
                        <a:pt x="169" y="76"/>
                      </a:lnTo>
                      <a:lnTo>
                        <a:pt x="169" y="75"/>
                      </a:lnTo>
                      <a:lnTo>
                        <a:pt x="168" y="71"/>
                      </a:lnTo>
                      <a:lnTo>
                        <a:pt x="169" y="67"/>
                      </a:lnTo>
                      <a:lnTo>
                        <a:pt x="169" y="66"/>
                      </a:lnTo>
                      <a:lnTo>
                        <a:pt x="172" y="63"/>
                      </a:lnTo>
                      <a:lnTo>
                        <a:pt x="172" y="60"/>
                      </a:lnTo>
                      <a:lnTo>
                        <a:pt x="172" y="59"/>
                      </a:lnTo>
                      <a:lnTo>
                        <a:pt x="171" y="56"/>
                      </a:lnTo>
                      <a:lnTo>
                        <a:pt x="168" y="52"/>
                      </a:lnTo>
                      <a:lnTo>
                        <a:pt x="165" y="47"/>
                      </a:lnTo>
                      <a:lnTo>
                        <a:pt x="163" y="43"/>
                      </a:lnTo>
                      <a:lnTo>
                        <a:pt x="157" y="39"/>
                      </a:lnTo>
                      <a:lnTo>
                        <a:pt x="155" y="37"/>
                      </a:lnTo>
                      <a:lnTo>
                        <a:pt x="152" y="34"/>
                      </a:lnTo>
                      <a:lnTo>
                        <a:pt x="151" y="31"/>
                      </a:lnTo>
                      <a:lnTo>
                        <a:pt x="151" y="29"/>
                      </a:lnTo>
                      <a:lnTo>
                        <a:pt x="150" y="22"/>
                      </a:lnTo>
                      <a:lnTo>
                        <a:pt x="148" y="18"/>
                      </a:lnTo>
                      <a:lnTo>
                        <a:pt x="148" y="14"/>
                      </a:lnTo>
                      <a:lnTo>
                        <a:pt x="146" y="11"/>
                      </a:lnTo>
                      <a:lnTo>
                        <a:pt x="144" y="10"/>
                      </a:lnTo>
                      <a:lnTo>
                        <a:pt x="142" y="7"/>
                      </a:lnTo>
                      <a:lnTo>
                        <a:pt x="139" y="7"/>
                      </a:lnTo>
                      <a:lnTo>
                        <a:pt x="134" y="5"/>
                      </a:lnTo>
                      <a:lnTo>
                        <a:pt x="131" y="4"/>
                      </a:lnTo>
                      <a:lnTo>
                        <a:pt x="128" y="4"/>
                      </a:lnTo>
                      <a:lnTo>
                        <a:pt x="124" y="2"/>
                      </a:lnTo>
                      <a:lnTo>
                        <a:pt x="111" y="2"/>
                      </a:lnTo>
                      <a:lnTo>
                        <a:pt x="81" y="5"/>
                      </a:lnTo>
                      <a:lnTo>
                        <a:pt x="69" y="5"/>
                      </a:lnTo>
                      <a:lnTo>
                        <a:pt x="64" y="5"/>
                      </a:lnTo>
                      <a:lnTo>
                        <a:pt x="60" y="4"/>
                      </a:lnTo>
                      <a:lnTo>
                        <a:pt x="47" y="1"/>
                      </a:lnTo>
                      <a:lnTo>
                        <a:pt x="40" y="0"/>
                      </a:lnTo>
                      <a:lnTo>
                        <a:pt x="0" y="27"/>
                      </a:lnTo>
                      <a:lnTo>
                        <a:pt x="12" y="42"/>
                      </a:lnTo>
                      <a:lnTo>
                        <a:pt x="23" y="54"/>
                      </a:lnTo>
                      <a:lnTo>
                        <a:pt x="27" y="60"/>
                      </a:lnTo>
                      <a:lnTo>
                        <a:pt x="30" y="66"/>
                      </a:lnTo>
                      <a:lnTo>
                        <a:pt x="35" y="81"/>
                      </a:lnTo>
                      <a:lnTo>
                        <a:pt x="39" y="97"/>
                      </a:lnTo>
                      <a:lnTo>
                        <a:pt x="41" y="105"/>
                      </a:lnTo>
                      <a:lnTo>
                        <a:pt x="43" y="118"/>
                      </a:lnTo>
                      <a:lnTo>
                        <a:pt x="45" y="129"/>
                      </a:lnTo>
                      <a:lnTo>
                        <a:pt x="48" y="135"/>
                      </a:lnTo>
                      <a:lnTo>
                        <a:pt x="49" y="142"/>
                      </a:lnTo>
                      <a:lnTo>
                        <a:pt x="49" y="150"/>
                      </a:lnTo>
                      <a:lnTo>
                        <a:pt x="49" y="160"/>
                      </a:lnTo>
                      <a:lnTo>
                        <a:pt x="51" y="164"/>
                      </a:lnTo>
                      <a:lnTo>
                        <a:pt x="52" y="171"/>
                      </a:lnTo>
                      <a:lnTo>
                        <a:pt x="57" y="182"/>
                      </a:lnTo>
                      <a:lnTo>
                        <a:pt x="62" y="192"/>
                      </a:lnTo>
                      <a:lnTo>
                        <a:pt x="70" y="20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094520" y="2796840"/>
                  <a:ext cx="1368360" cy="1797120"/>
                </a:xfrm>
                <a:custGeom>
                  <a:avLst/>
                  <a:gdLst/>
                  <a:ahLst/>
                  <a:rect l="l" t="t" r="r" b="b"/>
                  <a:pathLst>
                    <a:path w="2655" h="3486">
                      <a:moveTo>
                        <a:pt x="1208" y="532"/>
                      </a:moveTo>
                      <a:lnTo>
                        <a:pt x="1198" y="501"/>
                      </a:lnTo>
                      <a:lnTo>
                        <a:pt x="1153" y="484"/>
                      </a:lnTo>
                      <a:lnTo>
                        <a:pt x="1111" y="480"/>
                      </a:lnTo>
                      <a:lnTo>
                        <a:pt x="1084" y="474"/>
                      </a:lnTo>
                      <a:lnTo>
                        <a:pt x="1082" y="474"/>
                      </a:lnTo>
                      <a:lnTo>
                        <a:pt x="1072" y="472"/>
                      </a:lnTo>
                      <a:lnTo>
                        <a:pt x="1067" y="470"/>
                      </a:lnTo>
                      <a:lnTo>
                        <a:pt x="1061" y="468"/>
                      </a:lnTo>
                      <a:lnTo>
                        <a:pt x="1058" y="465"/>
                      </a:lnTo>
                      <a:lnTo>
                        <a:pt x="1055" y="464"/>
                      </a:lnTo>
                      <a:lnTo>
                        <a:pt x="1051" y="459"/>
                      </a:lnTo>
                      <a:lnTo>
                        <a:pt x="1043" y="447"/>
                      </a:lnTo>
                      <a:lnTo>
                        <a:pt x="1037" y="437"/>
                      </a:lnTo>
                      <a:lnTo>
                        <a:pt x="1033" y="428"/>
                      </a:lnTo>
                      <a:lnTo>
                        <a:pt x="1030" y="423"/>
                      </a:lnTo>
                      <a:lnTo>
                        <a:pt x="1029" y="418"/>
                      </a:lnTo>
                      <a:lnTo>
                        <a:pt x="1026" y="407"/>
                      </a:lnTo>
                      <a:lnTo>
                        <a:pt x="1024" y="398"/>
                      </a:lnTo>
                      <a:lnTo>
                        <a:pt x="1021" y="389"/>
                      </a:lnTo>
                      <a:lnTo>
                        <a:pt x="1018" y="378"/>
                      </a:lnTo>
                      <a:lnTo>
                        <a:pt x="1018" y="373"/>
                      </a:lnTo>
                      <a:lnTo>
                        <a:pt x="1018" y="368"/>
                      </a:lnTo>
                      <a:lnTo>
                        <a:pt x="1020" y="358"/>
                      </a:lnTo>
                      <a:lnTo>
                        <a:pt x="1020" y="354"/>
                      </a:lnTo>
                      <a:lnTo>
                        <a:pt x="1020" y="353"/>
                      </a:lnTo>
                      <a:lnTo>
                        <a:pt x="1018" y="352"/>
                      </a:lnTo>
                      <a:lnTo>
                        <a:pt x="1014" y="350"/>
                      </a:lnTo>
                      <a:lnTo>
                        <a:pt x="1008" y="350"/>
                      </a:lnTo>
                      <a:lnTo>
                        <a:pt x="978" y="349"/>
                      </a:lnTo>
                      <a:lnTo>
                        <a:pt x="954" y="365"/>
                      </a:lnTo>
                      <a:lnTo>
                        <a:pt x="925" y="353"/>
                      </a:lnTo>
                      <a:lnTo>
                        <a:pt x="887" y="348"/>
                      </a:lnTo>
                      <a:lnTo>
                        <a:pt x="879" y="387"/>
                      </a:lnTo>
                      <a:lnTo>
                        <a:pt x="855" y="419"/>
                      </a:lnTo>
                      <a:lnTo>
                        <a:pt x="836" y="406"/>
                      </a:lnTo>
                      <a:lnTo>
                        <a:pt x="810" y="374"/>
                      </a:lnTo>
                      <a:lnTo>
                        <a:pt x="773" y="373"/>
                      </a:lnTo>
                      <a:lnTo>
                        <a:pt x="749" y="385"/>
                      </a:lnTo>
                      <a:lnTo>
                        <a:pt x="741" y="412"/>
                      </a:lnTo>
                      <a:lnTo>
                        <a:pt x="738" y="432"/>
                      </a:lnTo>
                      <a:lnTo>
                        <a:pt x="730" y="441"/>
                      </a:lnTo>
                      <a:lnTo>
                        <a:pt x="726" y="445"/>
                      </a:lnTo>
                      <a:lnTo>
                        <a:pt x="722" y="449"/>
                      </a:lnTo>
                      <a:lnTo>
                        <a:pt x="716" y="452"/>
                      </a:lnTo>
                      <a:lnTo>
                        <a:pt x="711" y="456"/>
                      </a:lnTo>
                      <a:lnTo>
                        <a:pt x="706" y="459"/>
                      </a:lnTo>
                      <a:lnTo>
                        <a:pt x="702" y="464"/>
                      </a:lnTo>
                      <a:lnTo>
                        <a:pt x="699" y="468"/>
                      </a:lnTo>
                      <a:lnTo>
                        <a:pt x="698" y="473"/>
                      </a:lnTo>
                      <a:lnTo>
                        <a:pt x="697" y="477"/>
                      </a:lnTo>
                      <a:lnTo>
                        <a:pt x="695" y="480"/>
                      </a:lnTo>
                      <a:lnTo>
                        <a:pt x="695" y="484"/>
                      </a:lnTo>
                      <a:lnTo>
                        <a:pt x="657" y="498"/>
                      </a:lnTo>
                      <a:lnTo>
                        <a:pt x="635" y="482"/>
                      </a:lnTo>
                      <a:lnTo>
                        <a:pt x="608" y="470"/>
                      </a:lnTo>
                      <a:lnTo>
                        <a:pt x="590" y="426"/>
                      </a:lnTo>
                      <a:lnTo>
                        <a:pt x="567" y="410"/>
                      </a:lnTo>
                      <a:lnTo>
                        <a:pt x="515" y="405"/>
                      </a:lnTo>
                      <a:lnTo>
                        <a:pt x="492" y="432"/>
                      </a:lnTo>
                      <a:lnTo>
                        <a:pt x="454" y="466"/>
                      </a:lnTo>
                      <a:lnTo>
                        <a:pt x="446" y="466"/>
                      </a:lnTo>
                      <a:lnTo>
                        <a:pt x="438" y="466"/>
                      </a:lnTo>
                      <a:lnTo>
                        <a:pt x="429" y="468"/>
                      </a:lnTo>
                      <a:lnTo>
                        <a:pt x="421" y="470"/>
                      </a:lnTo>
                      <a:lnTo>
                        <a:pt x="417" y="472"/>
                      </a:lnTo>
                      <a:lnTo>
                        <a:pt x="413" y="474"/>
                      </a:lnTo>
                      <a:lnTo>
                        <a:pt x="410" y="477"/>
                      </a:lnTo>
                      <a:lnTo>
                        <a:pt x="409" y="481"/>
                      </a:lnTo>
                      <a:lnTo>
                        <a:pt x="408" y="484"/>
                      </a:lnTo>
                      <a:lnTo>
                        <a:pt x="408" y="485"/>
                      </a:lnTo>
                      <a:lnTo>
                        <a:pt x="408" y="490"/>
                      </a:lnTo>
                      <a:lnTo>
                        <a:pt x="409" y="499"/>
                      </a:lnTo>
                      <a:lnTo>
                        <a:pt x="409" y="506"/>
                      </a:lnTo>
                      <a:lnTo>
                        <a:pt x="409" y="514"/>
                      </a:lnTo>
                      <a:lnTo>
                        <a:pt x="408" y="518"/>
                      </a:lnTo>
                      <a:lnTo>
                        <a:pt x="410" y="538"/>
                      </a:lnTo>
                      <a:lnTo>
                        <a:pt x="388" y="573"/>
                      </a:lnTo>
                      <a:lnTo>
                        <a:pt x="338" y="568"/>
                      </a:lnTo>
                      <a:lnTo>
                        <a:pt x="305" y="568"/>
                      </a:lnTo>
                      <a:lnTo>
                        <a:pt x="289" y="588"/>
                      </a:lnTo>
                      <a:lnTo>
                        <a:pt x="289" y="608"/>
                      </a:lnTo>
                      <a:lnTo>
                        <a:pt x="300" y="635"/>
                      </a:lnTo>
                      <a:lnTo>
                        <a:pt x="306" y="667"/>
                      </a:lnTo>
                      <a:lnTo>
                        <a:pt x="268" y="695"/>
                      </a:lnTo>
                      <a:lnTo>
                        <a:pt x="242" y="721"/>
                      </a:lnTo>
                      <a:lnTo>
                        <a:pt x="256" y="758"/>
                      </a:lnTo>
                      <a:lnTo>
                        <a:pt x="285" y="813"/>
                      </a:lnTo>
                      <a:lnTo>
                        <a:pt x="269" y="829"/>
                      </a:lnTo>
                      <a:lnTo>
                        <a:pt x="269" y="892"/>
                      </a:lnTo>
                      <a:lnTo>
                        <a:pt x="294" y="914"/>
                      </a:lnTo>
                      <a:lnTo>
                        <a:pt x="325" y="925"/>
                      </a:lnTo>
                      <a:lnTo>
                        <a:pt x="337" y="894"/>
                      </a:lnTo>
                      <a:lnTo>
                        <a:pt x="360" y="858"/>
                      </a:lnTo>
                      <a:lnTo>
                        <a:pt x="405" y="875"/>
                      </a:lnTo>
                      <a:lnTo>
                        <a:pt x="393" y="911"/>
                      </a:lnTo>
                      <a:lnTo>
                        <a:pt x="434" y="932"/>
                      </a:lnTo>
                      <a:lnTo>
                        <a:pt x="487" y="952"/>
                      </a:lnTo>
                      <a:lnTo>
                        <a:pt x="491" y="969"/>
                      </a:lnTo>
                      <a:lnTo>
                        <a:pt x="400" y="974"/>
                      </a:lnTo>
                      <a:lnTo>
                        <a:pt x="362" y="986"/>
                      </a:lnTo>
                      <a:lnTo>
                        <a:pt x="309" y="973"/>
                      </a:lnTo>
                      <a:lnTo>
                        <a:pt x="298" y="937"/>
                      </a:lnTo>
                      <a:lnTo>
                        <a:pt x="260" y="936"/>
                      </a:lnTo>
                      <a:lnTo>
                        <a:pt x="260" y="964"/>
                      </a:lnTo>
                      <a:lnTo>
                        <a:pt x="240" y="987"/>
                      </a:lnTo>
                      <a:lnTo>
                        <a:pt x="203" y="983"/>
                      </a:lnTo>
                      <a:lnTo>
                        <a:pt x="207" y="923"/>
                      </a:lnTo>
                      <a:lnTo>
                        <a:pt x="174" y="927"/>
                      </a:lnTo>
                      <a:lnTo>
                        <a:pt x="157" y="1010"/>
                      </a:lnTo>
                      <a:lnTo>
                        <a:pt x="160" y="1109"/>
                      </a:lnTo>
                      <a:lnTo>
                        <a:pt x="231" y="1122"/>
                      </a:lnTo>
                      <a:lnTo>
                        <a:pt x="261" y="1123"/>
                      </a:lnTo>
                      <a:lnTo>
                        <a:pt x="284" y="1103"/>
                      </a:lnTo>
                      <a:lnTo>
                        <a:pt x="285" y="1068"/>
                      </a:lnTo>
                      <a:lnTo>
                        <a:pt x="304" y="1060"/>
                      </a:lnTo>
                      <a:lnTo>
                        <a:pt x="310" y="1140"/>
                      </a:lnTo>
                      <a:lnTo>
                        <a:pt x="333" y="1172"/>
                      </a:lnTo>
                      <a:lnTo>
                        <a:pt x="317" y="1188"/>
                      </a:lnTo>
                      <a:lnTo>
                        <a:pt x="280" y="1175"/>
                      </a:lnTo>
                      <a:lnTo>
                        <a:pt x="264" y="1159"/>
                      </a:lnTo>
                      <a:lnTo>
                        <a:pt x="242" y="1155"/>
                      </a:lnTo>
                      <a:lnTo>
                        <a:pt x="205" y="1150"/>
                      </a:lnTo>
                      <a:lnTo>
                        <a:pt x="173" y="1233"/>
                      </a:lnTo>
                      <a:lnTo>
                        <a:pt x="214" y="1262"/>
                      </a:lnTo>
                      <a:lnTo>
                        <a:pt x="236" y="1285"/>
                      </a:lnTo>
                      <a:lnTo>
                        <a:pt x="223" y="1337"/>
                      </a:lnTo>
                      <a:lnTo>
                        <a:pt x="223" y="1372"/>
                      </a:lnTo>
                      <a:lnTo>
                        <a:pt x="250" y="1382"/>
                      </a:lnTo>
                      <a:lnTo>
                        <a:pt x="203" y="1388"/>
                      </a:lnTo>
                      <a:lnTo>
                        <a:pt x="170" y="1367"/>
                      </a:lnTo>
                      <a:lnTo>
                        <a:pt x="178" y="1332"/>
                      </a:lnTo>
                      <a:lnTo>
                        <a:pt x="126" y="1312"/>
                      </a:lnTo>
                      <a:lnTo>
                        <a:pt x="118" y="1351"/>
                      </a:lnTo>
                      <a:lnTo>
                        <a:pt x="116" y="1387"/>
                      </a:lnTo>
                      <a:lnTo>
                        <a:pt x="124" y="1423"/>
                      </a:lnTo>
                      <a:lnTo>
                        <a:pt x="147" y="1411"/>
                      </a:lnTo>
                      <a:lnTo>
                        <a:pt x="181" y="1404"/>
                      </a:lnTo>
                      <a:lnTo>
                        <a:pt x="176" y="1460"/>
                      </a:lnTo>
                      <a:lnTo>
                        <a:pt x="232" y="1477"/>
                      </a:lnTo>
                      <a:lnTo>
                        <a:pt x="236" y="1508"/>
                      </a:lnTo>
                      <a:lnTo>
                        <a:pt x="277" y="1524"/>
                      </a:lnTo>
                      <a:lnTo>
                        <a:pt x="322" y="1549"/>
                      </a:lnTo>
                      <a:lnTo>
                        <a:pt x="370" y="1685"/>
                      </a:lnTo>
                      <a:lnTo>
                        <a:pt x="391" y="1718"/>
                      </a:lnTo>
                      <a:lnTo>
                        <a:pt x="346" y="1744"/>
                      </a:lnTo>
                      <a:lnTo>
                        <a:pt x="356" y="1792"/>
                      </a:lnTo>
                      <a:lnTo>
                        <a:pt x="371" y="1825"/>
                      </a:lnTo>
                      <a:lnTo>
                        <a:pt x="329" y="1835"/>
                      </a:lnTo>
                      <a:lnTo>
                        <a:pt x="325" y="1863"/>
                      </a:lnTo>
                      <a:lnTo>
                        <a:pt x="301" y="1891"/>
                      </a:lnTo>
                      <a:lnTo>
                        <a:pt x="210" y="1925"/>
                      </a:lnTo>
                      <a:lnTo>
                        <a:pt x="188" y="1937"/>
                      </a:lnTo>
                      <a:lnTo>
                        <a:pt x="198" y="1992"/>
                      </a:lnTo>
                      <a:lnTo>
                        <a:pt x="160" y="1999"/>
                      </a:lnTo>
                      <a:lnTo>
                        <a:pt x="118" y="2007"/>
                      </a:lnTo>
                      <a:lnTo>
                        <a:pt x="110" y="2042"/>
                      </a:lnTo>
                      <a:lnTo>
                        <a:pt x="112" y="2090"/>
                      </a:lnTo>
                      <a:lnTo>
                        <a:pt x="86" y="2114"/>
                      </a:lnTo>
                      <a:lnTo>
                        <a:pt x="40" y="2128"/>
                      </a:lnTo>
                      <a:lnTo>
                        <a:pt x="46" y="2183"/>
                      </a:lnTo>
                      <a:lnTo>
                        <a:pt x="101" y="2173"/>
                      </a:lnTo>
                      <a:lnTo>
                        <a:pt x="110" y="2242"/>
                      </a:lnTo>
                      <a:lnTo>
                        <a:pt x="148" y="2285"/>
                      </a:lnTo>
                      <a:lnTo>
                        <a:pt x="120" y="2317"/>
                      </a:lnTo>
                      <a:lnTo>
                        <a:pt x="78" y="2339"/>
                      </a:lnTo>
                      <a:lnTo>
                        <a:pt x="112" y="2376"/>
                      </a:lnTo>
                      <a:lnTo>
                        <a:pt x="155" y="2336"/>
                      </a:lnTo>
                      <a:lnTo>
                        <a:pt x="201" y="2286"/>
                      </a:lnTo>
                      <a:lnTo>
                        <a:pt x="235" y="2259"/>
                      </a:lnTo>
                      <a:lnTo>
                        <a:pt x="260" y="2307"/>
                      </a:lnTo>
                      <a:lnTo>
                        <a:pt x="199" y="2342"/>
                      </a:lnTo>
                      <a:lnTo>
                        <a:pt x="173" y="2373"/>
                      </a:lnTo>
                      <a:lnTo>
                        <a:pt x="168" y="2405"/>
                      </a:lnTo>
                      <a:lnTo>
                        <a:pt x="89" y="2439"/>
                      </a:lnTo>
                      <a:lnTo>
                        <a:pt x="0" y="2509"/>
                      </a:lnTo>
                      <a:lnTo>
                        <a:pt x="60" y="2582"/>
                      </a:lnTo>
                      <a:lnTo>
                        <a:pt x="132" y="2540"/>
                      </a:lnTo>
                      <a:lnTo>
                        <a:pt x="155" y="2516"/>
                      </a:lnTo>
                      <a:lnTo>
                        <a:pt x="189" y="2541"/>
                      </a:lnTo>
                      <a:lnTo>
                        <a:pt x="265" y="2462"/>
                      </a:lnTo>
                      <a:lnTo>
                        <a:pt x="310" y="2487"/>
                      </a:lnTo>
                      <a:lnTo>
                        <a:pt x="352" y="2449"/>
                      </a:lnTo>
                      <a:lnTo>
                        <a:pt x="397" y="2472"/>
                      </a:lnTo>
                      <a:lnTo>
                        <a:pt x="447" y="2406"/>
                      </a:lnTo>
                      <a:lnTo>
                        <a:pt x="407" y="2362"/>
                      </a:lnTo>
                      <a:lnTo>
                        <a:pt x="385" y="2334"/>
                      </a:lnTo>
                      <a:lnTo>
                        <a:pt x="420" y="2282"/>
                      </a:lnTo>
                      <a:lnTo>
                        <a:pt x="458" y="2290"/>
                      </a:lnTo>
                      <a:lnTo>
                        <a:pt x="504" y="2248"/>
                      </a:lnTo>
                      <a:lnTo>
                        <a:pt x="533" y="2268"/>
                      </a:lnTo>
                      <a:lnTo>
                        <a:pt x="495" y="2327"/>
                      </a:lnTo>
                      <a:lnTo>
                        <a:pt x="524" y="2364"/>
                      </a:lnTo>
                      <a:lnTo>
                        <a:pt x="490" y="2402"/>
                      </a:lnTo>
                      <a:lnTo>
                        <a:pt x="508" y="2420"/>
                      </a:lnTo>
                      <a:lnTo>
                        <a:pt x="619" y="2284"/>
                      </a:lnTo>
                      <a:lnTo>
                        <a:pt x="712" y="2352"/>
                      </a:lnTo>
                      <a:lnTo>
                        <a:pt x="702" y="2402"/>
                      </a:lnTo>
                      <a:lnTo>
                        <a:pt x="693" y="2450"/>
                      </a:lnTo>
                      <a:lnTo>
                        <a:pt x="673" y="2513"/>
                      </a:lnTo>
                      <a:lnTo>
                        <a:pt x="718" y="2530"/>
                      </a:lnTo>
                      <a:lnTo>
                        <a:pt x="698" y="2598"/>
                      </a:lnTo>
                      <a:lnTo>
                        <a:pt x="728" y="2605"/>
                      </a:lnTo>
                      <a:lnTo>
                        <a:pt x="697" y="2704"/>
                      </a:lnTo>
                      <a:lnTo>
                        <a:pt x="734" y="2714"/>
                      </a:lnTo>
                      <a:lnTo>
                        <a:pt x="744" y="2777"/>
                      </a:lnTo>
                      <a:lnTo>
                        <a:pt x="747" y="2836"/>
                      </a:lnTo>
                      <a:lnTo>
                        <a:pt x="740" y="2988"/>
                      </a:lnTo>
                      <a:lnTo>
                        <a:pt x="732" y="3083"/>
                      </a:lnTo>
                      <a:lnTo>
                        <a:pt x="741" y="3182"/>
                      </a:lnTo>
                      <a:lnTo>
                        <a:pt x="759" y="3298"/>
                      </a:lnTo>
                      <a:lnTo>
                        <a:pt x="796" y="3315"/>
                      </a:lnTo>
                      <a:lnTo>
                        <a:pt x="802" y="3355"/>
                      </a:lnTo>
                      <a:lnTo>
                        <a:pt x="840" y="3370"/>
                      </a:lnTo>
                      <a:lnTo>
                        <a:pt x="860" y="3315"/>
                      </a:lnTo>
                      <a:lnTo>
                        <a:pt x="923" y="3360"/>
                      </a:lnTo>
                      <a:lnTo>
                        <a:pt x="980" y="3377"/>
                      </a:lnTo>
                      <a:lnTo>
                        <a:pt x="996" y="3349"/>
                      </a:lnTo>
                      <a:lnTo>
                        <a:pt x="989" y="3282"/>
                      </a:lnTo>
                      <a:lnTo>
                        <a:pt x="1034" y="3283"/>
                      </a:lnTo>
                      <a:lnTo>
                        <a:pt x="1021" y="3207"/>
                      </a:lnTo>
                      <a:lnTo>
                        <a:pt x="1059" y="3196"/>
                      </a:lnTo>
                      <a:lnTo>
                        <a:pt x="1057" y="3121"/>
                      </a:lnTo>
                      <a:lnTo>
                        <a:pt x="1011" y="3108"/>
                      </a:lnTo>
                      <a:lnTo>
                        <a:pt x="1038" y="3029"/>
                      </a:lnTo>
                      <a:lnTo>
                        <a:pt x="1091" y="3038"/>
                      </a:lnTo>
                      <a:lnTo>
                        <a:pt x="1124" y="2931"/>
                      </a:lnTo>
                      <a:lnTo>
                        <a:pt x="1098" y="2910"/>
                      </a:lnTo>
                      <a:lnTo>
                        <a:pt x="1107" y="2839"/>
                      </a:lnTo>
                      <a:lnTo>
                        <a:pt x="1460" y="2909"/>
                      </a:lnTo>
                      <a:lnTo>
                        <a:pt x="1481" y="2766"/>
                      </a:lnTo>
                      <a:lnTo>
                        <a:pt x="1248" y="2707"/>
                      </a:lnTo>
                      <a:lnTo>
                        <a:pt x="1274" y="2541"/>
                      </a:lnTo>
                      <a:lnTo>
                        <a:pt x="1469" y="2583"/>
                      </a:lnTo>
                      <a:lnTo>
                        <a:pt x="1587" y="2562"/>
                      </a:lnTo>
                      <a:lnTo>
                        <a:pt x="1616" y="2627"/>
                      </a:lnTo>
                      <a:lnTo>
                        <a:pt x="1625" y="2781"/>
                      </a:lnTo>
                      <a:lnTo>
                        <a:pt x="1477" y="2814"/>
                      </a:lnTo>
                      <a:lnTo>
                        <a:pt x="1469" y="2849"/>
                      </a:lnTo>
                      <a:lnTo>
                        <a:pt x="1468" y="2852"/>
                      </a:lnTo>
                      <a:lnTo>
                        <a:pt x="1467" y="2855"/>
                      </a:lnTo>
                      <a:lnTo>
                        <a:pt x="1464" y="2859"/>
                      </a:lnTo>
                      <a:lnTo>
                        <a:pt x="1463" y="2865"/>
                      </a:lnTo>
                      <a:lnTo>
                        <a:pt x="1460" y="2873"/>
                      </a:lnTo>
                      <a:lnTo>
                        <a:pt x="1459" y="2884"/>
                      </a:lnTo>
                      <a:lnTo>
                        <a:pt x="1456" y="2897"/>
                      </a:lnTo>
                      <a:lnTo>
                        <a:pt x="1455" y="2913"/>
                      </a:lnTo>
                      <a:lnTo>
                        <a:pt x="1456" y="2897"/>
                      </a:lnTo>
                      <a:lnTo>
                        <a:pt x="1459" y="2969"/>
                      </a:lnTo>
                      <a:lnTo>
                        <a:pt x="1588" y="2975"/>
                      </a:lnTo>
                      <a:lnTo>
                        <a:pt x="1663" y="2952"/>
                      </a:lnTo>
                      <a:lnTo>
                        <a:pt x="1686" y="2993"/>
                      </a:lnTo>
                      <a:lnTo>
                        <a:pt x="1712" y="2991"/>
                      </a:lnTo>
                      <a:lnTo>
                        <a:pt x="1766" y="2987"/>
                      </a:lnTo>
                      <a:lnTo>
                        <a:pt x="1782" y="2959"/>
                      </a:lnTo>
                      <a:lnTo>
                        <a:pt x="1753" y="2803"/>
                      </a:lnTo>
                      <a:lnTo>
                        <a:pt x="1833" y="2777"/>
                      </a:lnTo>
                      <a:lnTo>
                        <a:pt x="1852" y="2826"/>
                      </a:lnTo>
                      <a:lnTo>
                        <a:pt x="1877" y="2881"/>
                      </a:lnTo>
                      <a:lnTo>
                        <a:pt x="1907" y="2849"/>
                      </a:lnTo>
                      <a:lnTo>
                        <a:pt x="1961" y="2835"/>
                      </a:lnTo>
                      <a:lnTo>
                        <a:pt x="2005" y="2919"/>
                      </a:lnTo>
                      <a:lnTo>
                        <a:pt x="1868" y="2964"/>
                      </a:lnTo>
                      <a:lnTo>
                        <a:pt x="1878" y="3053"/>
                      </a:lnTo>
                      <a:lnTo>
                        <a:pt x="1715" y="3082"/>
                      </a:lnTo>
                      <a:lnTo>
                        <a:pt x="1732" y="3184"/>
                      </a:lnTo>
                      <a:lnTo>
                        <a:pt x="1576" y="3194"/>
                      </a:lnTo>
                      <a:lnTo>
                        <a:pt x="1543" y="3149"/>
                      </a:lnTo>
                      <a:lnTo>
                        <a:pt x="1530" y="3236"/>
                      </a:lnTo>
                      <a:lnTo>
                        <a:pt x="1591" y="3265"/>
                      </a:lnTo>
                      <a:lnTo>
                        <a:pt x="1670" y="3268"/>
                      </a:lnTo>
                      <a:lnTo>
                        <a:pt x="1731" y="3268"/>
                      </a:lnTo>
                      <a:lnTo>
                        <a:pt x="1773" y="3249"/>
                      </a:lnTo>
                      <a:lnTo>
                        <a:pt x="1787" y="3285"/>
                      </a:lnTo>
                      <a:lnTo>
                        <a:pt x="1790" y="3348"/>
                      </a:lnTo>
                      <a:lnTo>
                        <a:pt x="1816" y="3369"/>
                      </a:lnTo>
                      <a:lnTo>
                        <a:pt x="1873" y="3355"/>
                      </a:lnTo>
                      <a:lnTo>
                        <a:pt x="1919" y="3323"/>
                      </a:lnTo>
                      <a:lnTo>
                        <a:pt x="1948" y="3344"/>
                      </a:lnTo>
                      <a:lnTo>
                        <a:pt x="1918" y="3366"/>
                      </a:lnTo>
                      <a:lnTo>
                        <a:pt x="1890" y="3406"/>
                      </a:lnTo>
                      <a:lnTo>
                        <a:pt x="1845" y="3418"/>
                      </a:lnTo>
                      <a:lnTo>
                        <a:pt x="1864" y="3461"/>
                      </a:lnTo>
                      <a:lnTo>
                        <a:pt x="1899" y="3486"/>
                      </a:lnTo>
                      <a:lnTo>
                        <a:pt x="1956" y="3469"/>
                      </a:lnTo>
                      <a:lnTo>
                        <a:pt x="2084" y="3436"/>
                      </a:lnTo>
                      <a:lnTo>
                        <a:pt x="2159" y="3413"/>
                      </a:lnTo>
                      <a:lnTo>
                        <a:pt x="2104" y="3265"/>
                      </a:lnTo>
                      <a:lnTo>
                        <a:pt x="2079" y="3227"/>
                      </a:lnTo>
                      <a:lnTo>
                        <a:pt x="2163" y="3196"/>
                      </a:lnTo>
                      <a:lnTo>
                        <a:pt x="2224" y="3170"/>
                      </a:lnTo>
                      <a:lnTo>
                        <a:pt x="2157" y="3086"/>
                      </a:lnTo>
                      <a:lnTo>
                        <a:pt x="2121" y="3005"/>
                      </a:lnTo>
                      <a:lnTo>
                        <a:pt x="2155" y="2977"/>
                      </a:lnTo>
                      <a:lnTo>
                        <a:pt x="2201" y="2927"/>
                      </a:lnTo>
                      <a:lnTo>
                        <a:pt x="2279" y="3024"/>
                      </a:lnTo>
                      <a:lnTo>
                        <a:pt x="2310" y="2992"/>
                      </a:lnTo>
                      <a:lnTo>
                        <a:pt x="2151" y="2776"/>
                      </a:lnTo>
                      <a:lnTo>
                        <a:pt x="2175" y="2708"/>
                      </a:lnTo>
                      <a:lnTo>
                        <a:pt x="2175" y="2665"/>
                      </a:lnTo>
                      <a:lnTo>
                        <a:pt x="2164" y="2624"/>
                      </a:lnTo>
                      <a:lnTo>
                        <a:pt x="2145" y="2460"/>
                      </a:lnTo>
                      <a:lnTo>
                        <a:pt x="2150" y="2365"/>
                      </a:lnTo>
                      <a:lnTo>
                        <a:pt x="2180" y="2335"/>
                      </a:lnTo>
                      <a:lnTo>
                        <a:pt x="2219" y="2335"/>
                      </a:lnTo>
                      <a:lnTo>
                        <a:pt x="2236" y="2201"/>
                      </a:lnTo>
                      <a:lnTo>
                        <a:pt x="2253" y="2078"/>
                      </a:lnTo>
                      <a:lnTo>
                        <a:pt x="2208" y="2057"/>
                      </a:lnTo>
                      <a:lnTo>
                        <a:pt x="2213" y="1962"/>
                      </a:lnTo>
                      <a:lnTo>
                        <a:pt x="2249" y="1859"/>
                      </a:lnTo>
                      <a:lnTo>
                        <a:pt x="2296" y="1748"/>
                      </a:lnTo>
                      <a:lnTo>
                        <a:pt x="2375" y="1761"/>
                      </a:lnTo>
                      <a:lnTo>
                        <a:pt x="2408" y="1607"/>
                      </a:lnTo>
                      <a:lnTo>
                        <a:pt x="2229" y="1586"/>
                      </a:lnTo>
                      <a:lnTo>
                        <a:pt x="2224" y="1481"/>
                      </a:lnTo>
                      <a:lnTo>
                        <a:pt x="2426" y="1469"/>
                      </a:lnTo>
                      <a:lnTo>
                        <a:pt x="2389" y="1456"/>
                      </a:lnTo>
                      <a:lnTo>
                        <a:pt x="2389" y="1436"/>
                      </a:lnTo>
                      <a:lnTo>
                        <a:pt x="2389" y="1404"/>
                      </a:lnTo>
                      <a:lnTo>
                        <a:pt x="2457" y="1405"/>
                      </a:lnTo>
                      <a:lnTo>
                        <a:pt x="2455" y="1362"/>
                      </a:lnTo>
                      <a:lnTo>
                        <a:pt x="2436" y="1326"/>
                      </a:lnTo>
                      <a:lnTo>
                        <a:pt x="2478" y="1287"/>
                      </a:lnTo>
                      <a:lnTo>
                        <a:pt x="2460" y="1239"/>
                      </a:lnTo>
                      <a:lnTo>
                        <a:pt x="2411" y="1246"/>
                      </a:lnTo>
                      <a:lnTo>
                        <a:pt x="2397" y="1210"/>
                      </a:lnTo>
                      <a:lnTo>
                        <a:pt x="2435" y="1175"/>
                      </a:lnTo>
                      <a:lnTo>
                        <a:pt x="2394" y="1106"/>
                      </a:lnTo>
                      <a:lnTo>
                        <a:pt x="2345" y="1063"/>
                      </a:lnTo>
                      <a:lnTo>
                        <a:pt x="2342" y="1014"/>
                      </a:lnTo>
                      <a:lnTo>
                        <a:pt x="2381" y="999"/>
                      </a:lnTo>
                      <a:lnTo>
                        <a:pt x="2430" y="987"/>
                      </a:lnTo>
                      <a:lnTo>
                        <a:pt x="2435" y="952"/>
                      </a:lnTo>
                      <a:lnTo>
                        <a:pt x="2492" y="949"/>
                      </a:lnTo>
                      <a:lnTo>
                        <a:pt x="2518" y="939"/>
                      </a:lnTo>
                      <a:lnTo>
                        <a:pt x="2511" y="902"/>
                      </a:lnTo>
                      <a:lnTo>
                        <a:pt x="2459" y="861"/>
                      </a:lnTo>
                      <a:lnTo>
                        <a:pt x="2398" y="869"/>
                      </a:lnTo>
                      <a:lnTo>
                        <a:pt x="2369" y="824"/>
                      </a:lnTo>
                      <a:lnTo>
                        <a:pt x="2426" y="797"/>
                      </a:lnTo>
                      <a:lnTo>
                        <a:pt x="2476" y="758"/>
                      </a:lnTo>
                      <a:lnTo>
                        <a:pt x="2528" y="728"/>
                      </a:lnTo>
                      <a:lnTo>
                        <a:pt x="2567" y="692"/>
                      </a:lnTo>
                      <a:lnTo>
                        <a:pt x="2546" y="645"/>
                      </a:lnTo>
                      <a:lnTo>
                        <a:pt x="2527" y="609"/>
                      </a:lnTo>
                      <a:lnTo>
                        <a:pt x="2569" y="605"/>
                      </a:lnTo>
                      <a:lnTo>
                        <a:pt x="2614" y="579"/>
                      </a:lnTo>
                      <a:lnTo>
                        <a:pt x="2597" y="498"/>
                      </a:lnTo>
                      <a:lnTo>
                        <a:pt x="2597" y="474"/>
                      </a:lnTo>
                      <a:lnTo>
                        <a:pt x="2651" y="444"/>
                      </a:lnTo>
                      <a:lnTo>
                        <a:pt x="2655" y="416"/>
                      </a:lnTo>
                      <a:lnTo>
                        <a:pt x="2641" y="387"/>
                      </a:lnTo>
                      <a:lnTo>
                        <a:pt x="2600" y="308"/>
                      </a:lnTo>
                      <a:lnTo>
                        <a:pt x="2540" y="303"/>
                      </a:lnTo>
                      <a:lnTo>
                        <a:pt x="2526" y="246"/>
                      </a:lnTo>
                      <a:lnTo>
                        <a:pt x="2527" y="183"/>
                      </a:lnTo>
                      <a:lnTo>
                        <a:pt x="2481" y="183"/>
                      </a:lnTo>
                      <a:lnTo>
                        <a:pt x="2459" y="197"/>
                      </a:lnTo>
                      <a:lnTo>
                        <a:pt x="2435" y="213"/>
                      </a:lnTo>
                      <a:lnTo>
                        <a:pt x="2378" y="220"/>
                      </a:lnTo>
                      <a:lnTo>
                        <a:pt x="2368" y="184"/>
                      </a:lnTo>
                      <a:lnTo>
                        <a:pt x="2369" y="105"/>
                      </a:lnTo>
                      <a:lnTo>
                        <a:pt x="2324" y="100"/>
                      </a:lnTo>
                      <a:lnTo>
                        <a:pt x="2313" y="29"/>
                      </a:lnTo>
                      <a:lnTo>
                        <a:pt x="2250" y="0"/>
                      </a:lnTo>
                      <a:lnTo>
                        <a:pt x="2212" y="34"/>
                      </a:lnTo>
                      <a:lnTo>
                        <a:pt x="2229" y="87"/>
                      </a:lnTo>
                      <a:lnTo>
                        <a:pt x="2211" y="126"/>
                      </a:lnTo>
                      <a:lnTo>
                        <a:pt x="2161" y="161"/>
                      </a:lnTo>
                      <a:lnTo>
                        <a:pt x="2163" y="232"/>
                      </a:lnTo>
                      <a:lnTo>
                        <a:pt x="2212" y="229"/>
                      </a:lnTo>
                      <a:lnTo>
                        <a:pt x="2216" y="194"/>
                      </a:lnTo>
                      <a:lnTo>
                        <a:pt x="2270" y="195"/>
                      </a:lnTo>
                      <a:lnTo>
                        <a:pt x="2277" y="230"/>
                      </a:lnTo>
                      <a:lnTo>
                        <a:pt x="2230" y="245"/>
                      </a:lnTo>
                      <a:lnTo>
                        <a:pt x="2265" y="266"/>
                      </a:lnTo>
                      <a:lnTo>
                        <a:pt x="2294" y="302"/>
                      </a:lnTo>
                      <a:lnTo>
                        <a:pt x="2336" y="323"/>
                      </a:lnTo>
                      <a:lnTo>
                        <a:pt x="2391" y="336"/>
                      </a:lnTo>
                      <a:lnTo>
                        <a:pt x="2373" y="372"/>
                      </a:lnTo>
                      <a:lnTo>
                        <a:pt x="2319" y="366"/>
                      </a:lnTo>
                      <a:lnTo>
                        <a:pt x="2286" y="329"/>
                      </a:lnTo>
                      <a:lnTo>
                        <a:pt x="2251" y="325"/>
                      </a:lnTo>
                      <a:lnTo>
                        <a:pt x="2225" y="332"/>
                      </a:lnTo>
                      <a:lnTo>
                        <a:pt x="2236" y="389"/>
                      </a:lnTo>
                      <a:lnTo>
                        <a:pt x="2205" y="399"/>
                      </a:lnTo>
                      <a:lnTo>
                        <a:pt x="2201" y="448"/>
                      </a:lnTo>
                      <a:lnTo>
                        <a:pt x="2182" y="490"/>
                      </a:lnTo>
                      <a:lnTo>
                        <a:pt x="2166" y="534"/>
                      </a:lnTo>
                      <a:lnTo>
                        <a:pt x="2219" y="531"/>
                      </a:lnTo>
                      <a:lnTo>
                        <a:pt x="2253" y="503"/>
                      </a:lnTo>
                      <a:lnTo>
                        <a:pt x="2313" y="521"/>
                      </a:lnTo>
                      <a:lnTo>
                        <a:pt x="2352" y="490"/>
                      </a:lnTo>
                      <a:lnTo>
                        <a:pt x="2412" y="468"/>
                      </a:lnTo>
                      <a:lnTo>
                        <a:pt x="2423" y="503"/>
                      </a:lnTo>
                      <a:lnTo>
                        <a:pt x="2419" y="539"/>
                      </a:lnTo>
                      <a:lnTo>
                        <a:pt x="2366" y="538"/>
                      </a:lnTo>
                      <a:lnTo>
                        <a:pt x="2346" y="569"/>
                      </a:lnTo>
                      <a:lnTo>
                        <a:pt x="2298" y="576"/>
                      </a:lnTo>
                      <a:lnTo>
                        <a:pt x="2259" y="584"/>
                      </a:lnTo>
                      <a:lnTo>
                        <a:pt x="2225" y="594"/>
                      </a:lnTo>
                      <a:lnTo>
                        <a:pt x="2180" y="559"/>
                      </a:lnTo>
                      <a:lnTo>
                        <a:pt x="2150" y="557"/>
                      </a:lnTo>
                      <a:lnTo>
                        <a:pt x="2138" y="573"/>
                      </a:lnTo>
                      <a:lnTo>
                        <a:pt x="2112" y="597"/>
                      </a:lnTo>
                      <a:lnTo>
                        <a:pt x="2070" y="588"/>
                      </a:lnTo>
                      <a:lnTo>
                        <a:pt x="2037" y="548"/>
                      </a:lnTo>
                      <a:lnTo>
                        <a:pt x="1998" y="555"/>
                      </a:lnTo>
                      <a:lnTo>
                        <a:pt x="2017" y="608"/>
                      </a:lnTo>
                      <a:lnTo>
                        <a:pt x="1967" y="622"/>
                      </a:lnTo>
                      <a:lnTo>
                        <a:pt x="1903" y="633"/>
                      </a:lnTo>
                      <a:lnTo>
                        <a:pt x="1865" y="668"/>
                      </a:lnTo>
                      <a:lnTo>
                        <a:pt x="1831" y="635"/>
                      </a:lnTo>
                      <a:lnTo>
                        <a:pt x="1781" y="666"/>
                      </a:lnTo>
                      <a:lnTo>
                        <a:pt x="1756" y="634"/>
                      </a:lnTo>
                      <a:lnTo>
                        <a:pt x="1709" y="693"/>
                      </a:lnTo>
                      <a:lnTo>
                        <a:pt x="1671" y="708"/>
                      </a:lnTo>
                      <a:lnTo>
                        <a:pt x="1634" y="675"/>
                      </a:lnTo>
                      <a:lnTo>
                        <a:pt x="1626" y="647"/>
                      </a:lnTo>
                      <a:lnTo>
                        <a:pt x="1589" y="631"/>
                      </a:lnTo>
                      <a:lnTo>
                        <a:pt x="1558" y="662"/>
                      </a:lnTo>
                      <a:lnTo>
                        <a:pt x="1546" y="689"/>
                      </a:lnTo>
                      <a:lnTo>
                        <a:pt x="1539" y="638"/>
                      </a:lnTo>
                      <a:lnTo>
                        <a:pt x="1517" y="626"/>
                      </a:lnTo>
                      <a:lnTo>
                        <a:pt x="1472" y="597"/>
                      </a:lnTo>
                      <a:lnTo>
                        <a:pt x="1447" y="556"/>
                      </a:lnTo>
                      <a:lnTo>
                        <a:pt x="1451" y="551"/>
                      </a:lnTo>
                      <a:lnTo>
                        <a:pt x="1460" y="536"/>
                      </a:lnTo>
                      <a:lnTo>
                        <a:pt x="1465" y="527"/>
                      </a:lnTo>
                      <a:lnTo>
                        <a:pt x="1469" y="519"/>
                      </a:lnTo>
                      <a:lnTo>
                        <a:pt x="1472" y="510"/>
                      </a:lnTo>
                      <a:lnTo>
                        <a:pt x="1473" y="506"/>
                      </a:lnTo>
                      <a:lnTo>
                        <a:pt x="1473" y="502"/>
                      </a:lnTo>
                      <a:lnTo>
                        <a:pt x="1473" y="493"/>
                      </a:lnTo>
                      <a:lnTo>
                        <a:pt x="1472" y="482"/>
                      </a:lnTo>
                      <a:lnTo>
                        <a:pt x="1469" y="470"/>
                      </a:lnTo>
                      <a:lnTo>
                        <a:pt x="1467" y="460"/>
                      </a:lnTo>
                      <a:lnTo>
                        <a:pt x="1464" y="456"/>
                      </a:lnTo>
                      <a:lnTo>
                        <a:pt x="1463" y="451"/>
                      </a:lnTo>
                      <a:lnTo>
                        <a:pt x="1460" y="448"/>
                      </a:lnTo>
                      <a:lnTo>
                        <a:pt x="1458" y="445"/>
                      </a:lnTo>
                      <a:lnTo>
                        <a:pt x="1455" y="443"/>
                      </a:lnTo>
                      <a:lnTo>
                        <a:pt x="1451" y="443"/>
                      </a:lnTo>
                      <a:lnTo>
                        <a:pt x="1448" y="443"/>
                      </a:lnTo>
                      <a:lnTo>
                        <a:pt x="1444" y="445"/>
                      </a:lnTo>
                      <a:lnTo>
                        <a:pt x="1440" y="448"/>
                      </a:lnTo>
                      <a:lnTo>
                        <a:pt x="1436" y="451"/>
                      </a:lnTo>
                      <a:lnTo>
                        <a:pt x="1427" y="455"/>
                      </a:lnTo>
                      <a:lnTo>
                        <a:pt x="1407" y="463"/>
                      </a:lnTo>
                      <a:lnTo>
                        <a:pt x="1398" y="466"/>
                      </a:lnTo>
                      <a:lnTo>
                        <a:pt x="1390" y="470"/>
                      </a:lnTo>
                      <a:lnTo>
                        <a:pt x="1388" y="472"/>
                      </a:lnTo>
                      <a:lnTo>
                        <a:pt x="1385" y="474"/>
                      </a:lnTo>
                      <a:lnTo>
                        <a:pt x="1384" y="477"/>
                      </a:lnTo>
                      <a:lnTo>
                        <a:pt x="1384" y="480"/>
                      </a:lnTo>
                      <a:lnTo>
                        <a:pt x="1382" y="486"/>
                      </a:lnTo>
                      <a:lnTo>
                        <a:pt x="1381" y="493"/>
                      </a:lnTo>
                      <a:lnTo>
                        <a:pt x="1375" y="507"/>
                      </a:lnTo>
                      <a:lnTo>
                        <a:pt x="1367" y="522"/>
                      </a:lnTo>
                      <a:lnTo>
                        <a:pt x="1360" y="535"/>
                      </a:lnTo>
                      <a:lnTo>
                        <a:pt x="1347" y="563"/>
                      </a:lnTo>
                      <a:lnTo>
                        <a:pt x="1340" y="579"/>
                      </a:lnTo>
                      <a:lnTo>
                        <a:pt x="1303" y="561"/>
                      </a:lnTo>
                      <a:lnTo>
                        <a:pt x="1273" y="530"/>
                      </a:lnTo>
                      <a:lnTo>
                        <a:pt x="1232" y="528"/>
                      </a:lnTo>
                      <a:lnTo>
                        <a:pt x="1208" y="53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608600" y="2045880"/>
                  <a:ext cx="130320" cy="150840"/>
                </a:xfrm>
                <a:custGeom>
                  <a:avLst/>
                  <a:gdLst/>
                  <a:ahLst/>
                  <a:rect l="l" t="t" r="r" b="b"/>
                  <a:pathLst>
                    <a:path w="253" h="295">
                      <a:moveTo>
                        <a:pt x="0" y="295"/>
                      </a:moveTo>
                      <a:lnTo>
                        <a:pt x="37" y="294"/>
                      </a:lnTo>
                      <a:lnTo>
                        <a:pt x="37" y="268"/>
                      </a:lnTo>
                      <a:lnTo>
                        <a:pt x="75" y="281"/>
                      </a:lnTo>
                      <a:lnTo>
                        <a:pt x="96" y="261"/>
                      </a:lnTo>
                      <a:lnTo>
                        <a:pt x="98" y="241"/>
                      </a:lnTo>
                      <a:lnTo>
                        <a:pt x="136" y="262"/>
                      </a:lnTo>
                      <a:lnTo>
                        <a:pt x="152" y="220"/>
                      </a:lnTo>
                      <a:lnTo>
                        <a:pt x="193" y="148"/>
                      </a:lnTo>
                      <a:lnTo>
                        <a:pt x="182" y="120"/>
                      </a:lnTo>
                      <a:lnTo>
                        <a:pt x="182" y="93"/>
                      </a:lnTo>
                      <a:lnTo>
                        <a:pt x="189" y="68"/>
                      </a:lnTo>
                      <a:lnTo>
                        <a:pt x="216" y="59"/>
                      </a:lnTo>
                      <a:lnTo>
                        <a:pt x="232" y="24"/>
                      </a:lnTo>
                      <a:lnTo>
                        <a:pt x="253" y="8"/>
                      </a:lnTo>
                      <a:lnTo>
                        <a:pt x="225" y="0"/>
                      </a:lnTo>
                      <a:lnTo>
                        <a:pt x="208" y="17"/>
                      </a:lnTo>
                      <a:lnTo>
                        <a:pt x="179" y="33"/>
                      </a:lnTo>
                      <a:lnTo>
                        <a:pt x="108" y="38"/>
                      </a:lnTo>
                      <a:lnTo>
                        <a:pt x="108" y="62"/>
                      </a:lnTo>
                      <a:lnTo>
                        <a:pt x="58" y="78"/>
                      </a:lnTo>
                      <a:lnTo>
                        <a:pt x="49" y="175"/>
                      </a:lnTo>
                      <a:lnTo>
                        <a:pt x="4" y="211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6476760" y="145080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157" h="138">
                      <a:moveTo>
                        <a:pt x="21" y="104"/>
                      </a:moveTo>
                      <a:lnTo>
                        <a:pt x="0" y="67"/>
                      </a:lnTo>
                      <a:lnTo>
                        <a:pt x="0" y="29"/>
                      </a:lnTo>
                      <a:lnTo>
                        <a:pt x="41" y="1"/>
                      </a:lnTo>
                      <a:lnTo>
                        <a:pt x="91" y="0"/>
                      </a:lnTo>
                      <a:lnTo>
                        <a:pt x="90" y="28"/>
                      </a:lnTo>
                      <a:lnTo>
                        <a:pt x="109" y="46"/>
                      </a:lnTo>
                      <a:lnTo>
                        <a:pt x="116" y="80"/>
                      </a:lnTo>
                      <a:lnTo>
                        <a:pt x="145" y="96"/>
                      </a:lnTo>
                      <a:lnTo>
                        <a:pt x="157" y="115"/>
                      </a:lnTo>
                      <a:lnTo>
                        <a:pt x="117" y="137"/>
                      </a:lnTo>
                      <a:lnTo>
                        <a:pt x="59" y="123"/>
                      </a:lnTo>
                      <a:lnTo>
                        <a:pt x="57" y="138"/>
                      </a:lnTo>
                      <a:lnTo>
                        <a:pt x="21" y="10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492600" y="1485720"/>
                  <a:ext cx="76320" cy="106200"/>
                </a:xfrm>
                <a:custGeom>
                  <a:avLst/>
                  <a:gdLst/>
                  <a:ahLst/>
                  <a:rect l="l" t="t" r="r" b="b"/>
                  <a:pathLst>
                    <a:path w="149" h="209">
                      <a:moveTo>
                        <a:pt x="4" y="120"/>
                      </a:moveTo>
                      <a:lnTo>
                        <a:pt x="5" y="167"/>
                      </a:lnTo>
                      <a:lnTo>
                        <a:pt x="20" y="209"/>
                      </a:lnTo>
                      <a:lnTo>
                        <a:pt x="48" y="196"/>
                      </a:lnTo>
                      <a:lnTo>
                        <a:pt x="71" y="196"/>
                      </a:lnTo>
                      <a:lnTo>
                        <a:pt x="107" y="194"/>
                      </a:lnTo>
                      <a:lnTo>
                        <a:pt x="133" y="185"/>
                      </a:lnTo>
                      <a:lnTo>
                        <a:pt x="149" y="119"/>
                      </a:lnTo>
                      <a:lnTo>
                        <a:pt x="147" y="97"/>
                      </a:lnTo>
                      <a:lnTo>
                        <a:pt x="122" y="84"/>
                      </a:lnTo>
                      <a:lnTo>
                        <a:pt x="119" y="37"/>
                      </a:lnTo>
                      <a:lnTo>
                        <a:pt x="81" y="55"/>
                      </a:lnTo>
                      <a:lnTo>
                        <a:pt x="54" y="22"/>
                      </a:lnTo>
                      <a:lnTo>
                        <a:pt x="48" y="0"/>
                      </a:lnTo>
                      <a:lnTo>
                        <a:pt x="23" y="7"/>
                      </a:lnTo>
                      <a:lnTo>
                        <a:pt x="7" y="47"/>
                      </a:lnTo>
                      <a:lnTo>
                        <a:pt x="11" y="78"/>
                      </a:lnTo>
                      <a:lnTo>
                        <a:pt x="0" y="111"/>
                      </a:lnTo>
                      <a:lnTo>
                        <a:pt x="4" y="12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837120" y="27158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16" y="0"/>
                      </a:moveTo>
                      <a:lnTo>
                        <a:pt x="8" y="13"/>
                      </a:lnTo>
                      <a:lnTo>
                        <a:pt x="0" y="36"/>
                      </a:lnTo>
                      <a:lnTo>
                        <a:pt x="4" y="53"/>
                      </a:lnTo>
                      <a:lnTo>
                        <a:pt x="16" y="70"/>
                      </a:lnTo>
                      <a:lnTo>
                        <a:pt x="32" y="82"/>
                      </a:lnTo>
                      <a:lnTo>
                        <a:pt x="47" y="86"/>
                      </a:lnTo>
                      <a:lnTo>
                        <a:pt x="53" y="74"/>
                      </a:lnTo>
                      <a:lnTo>
                        <a:pt x="64" y="57"/>
                      </a:lnTo>
                      <a:lnTo>
                        <a:pt x="77" y="58"/>
                      </a:lnTo>
                      <a:lnTo>
                        <a:pt x="89" y="5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557840" y="1509480"/>
                  <a:ext cx="39600" cy="3024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4" y="58"/>
                      </a:moveTo>
                      <a:lnTo>
                        <a:pt x="54" y="37"/>
                      </a:lnTo>
                      <a:lnTo>
                        <a:pt x="76" y="33"/>
                      </a:lnTo>
                      <a:lnTo>
                        <a:pt x="66" y="1"/>
                      </a:lnTo>
                      <a:lnTo>
                        <a:pt x="0" y="0"/>
                      </a:lnTo>
                      <a:lnTo>
                        <a:pt x="4" y="5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6960960" y="2287440"/>
                  <a:ext cx="60480" cy="77760"/>
                </a:xfrm>
                <a:custGeom>
                  <a:avLst/>
                  <a:gdLst/>
                  <a:ahLst/>
                  <a:rect l="l" t="t" r="r" b="b"/>
                  <a:pathLst>
                    <a:path w="115" h="152">
                      <a:moveTo>
                        <a:pt x="90" y="139"/>
                      </a:moveTo>
                      <a:lnTo>
                        <a:pt x="55" y="152"/>
                      </a:lnTo>
                      <a:lnTo>
                        <a:pt x="0" y="101"/>
                      </a:lnTo>
                      <a:lnTo>
                        <a:pt x="35" y="64"/>
                      </a:lnTo>
                      <a:lnTo>
                        <a:pt x="28" y="31"/>
                      </a:lnTo>
                      <a:lnTo>
                        <a:pt x="27" y="11"/>
                      </a:lnTo>
                      <a:lnTo>
                        <a:pt x="91" y="0"/>
                      </a:lnTo>
                      <a:lnTo>
                        <a:pt x="106" y="41"/>
                      </a:lnTo>
                      <a:lnTo>
                        <a:pt x="115" y="69"/>
                      </a:lnTo>
                      <a:lnTo>
                        <a:pt x="78" y="98"/>
                      </a:lnTo>
                      <a:lnTo>
                        <a:pt x="90" y="13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024680" y="1728360"/>
                  <a:ext cx="69840" cy="147960"/>
                </a:xfrm>
                <a:custGeom>
                  <a:avLst/>
                  <a:gdLst/>
                  <a:ahLst/>
                  <a:rect l="l" t="t" r="r" b="b"/>
                  <a:pathLst>
                    <a:path w="136" h="286">
                      <a:moveTo>
                        <a:pt x="128" y="286"/>
                      </a:moveTo>
                      <a:lnTo>
                        <a:pt x="136" y="0"/>
                      </a:lnTo>
                      <a:lnTo>
                        <a:pt x="97" y="6"/>
                      </a:lnTo>
                      <a:lnTo>
                        <a:pt x="59" y="20"/>
                      </a:lnTo>
                      <a:lnTo>
                        <a:pt x="0" y="82"/>
                      </a:lnTo>
                      <a:lnTo>
                        <a:pt x="128" y="28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6684840" y="194616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58" h="96">
                      <a:moveTo>
                        <a:pt x="25" y="96"/>
                      </a:moveTo>
                      <a:lnTo>
                        <a:pt x="58" y="29"/>
                      </a:lnTo>
                      <a:lnTo>
                        <a:pt x="12" y="0"/>
                      </a:lnTo>
                      <a:lnTo>
                        <a:pt x="8" y="12"/>
                      </a:lnTo>
                      <a:lnTo>
                        <a:pt x="6" y="22"/>
                      </a:lnTo>
                      <a:lnTo>
                        <a:pt x="4" y="28"/>
                      </a:lnTo>
                      <a:lnTo>
                        <a:pt x="4" y="30"/>
                      </a:lnTo>
                      <a:lnTo>
                        <a:pt x="4" y="36"/>
                      </a:lnTo>
                      <a:lnTo>
                        <a:pt x="3" y="42"/>
                      </a:lnTo>
                      <a:lnTo>
                        <a:pt x="2" y="47"/>
                      </a:lnTo>
                      <a:lnTo>
                        <a:pt x="0" y="50"/>
                      </a:lnTo>
                      <a:lnTo>
                        <a:pt x="25" y="9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2" name=""/>
            <p:cNvSpPr/>
            <p:nvPr/>
          </p:nvSpPr>
          <p:spPr>
            <a:xfrm>
              <a:off x="4320" y="3566880"/>
              <a:ext cx="24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cc3300"/>
                  </a:solidFill>
                  <a:latin typeface="Arial"/>
                </a:rPr>
                <a:t>Area  Urbana Consol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0" y="3890880"/>
              <a:ext cx="72010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11949120" y="4890960"/>
            <a:ext cx="1440" cy="324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1" y="0"/>
                </a:lnTo>
                <a:lnTo>
                  <a:pt x="2" y="8"/>
                </a:lnTo>
                <a:lnTo>
                  <a:pt x="0" y="0"/>
                </a:lnTo>
                <a:close/>
              </a:path>
            </a:pathLst>
          </a:cu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0793520" y="3686040"/>
            <a:ext cx="3240" cy="46080"/>
          </a:xfrm>
          <a:prstGeom prst="rect">
            <a:avLst/>
          </a:pr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0952280" y="4014720"/>
            <a:ext cx="1440" cy="324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8"/>
                </a:moveTo>
                <a:lnTo>
                  <a:pt x="1" y="8"/>
                </a:lnTo>
                <a:lnTo>
                  <a:pt x="1" y="0"/>
                </a:lnTo>
                <a:lnTo>
                  <a:pt x="0" y="8"/>
                </a:lnTo>
                <a:close/>
              </a:path>
            </a:pathLst>
          </a:cu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0991880" y="4011480"/>
            <a:ext cx="1440" cy="3240"/>
          </a:xfrm>
          <a:custGeom>
            <a:avLst/>
            <a:gdLst/>
            <a:ahLst/>
            <a:rect l="l" t="t" r="r" b="b"/>
            <a:pathLst>
              <a:path w="1" h="8">
                <a:moveTo>
                  <a:pt x="1" y="0"/>
                </a:moveTo>
                <a:lnTo>
                  <a:pt x="0" y="8"/>
                </a:lnTo>
                <a:lnTo>
                  <a:pt x="1" y="8"/>
                </a:lnTo>
                <a:lnTo>
                  <a:pt x="1" y="0"/>
                </a:lnTo>
                <a:close/>
              </a:path>
            </a:pathLst>
          </a:cu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1225160" y="4135320"/>
            <a:ext cx="3240" cy="1800"/>
          </a:xfrm>
          <a:custGeom>
            <a:avLst/>
            <a:gdLst/>
            <a:ahLst/>
            <a:rect l="l" t="t" r="r" b="b"/>
            <a:pathLst>
              <a:path w="8" h="5">
                <a:moveTo>
                  <a:pt x="8" y="0"/>
                </a:moveTo>
                <a:lnTo>
                  <a:pt x="0" y="4"/>
                </a:lnTo>
                <a:lnTo>
                  <a:pt x="1" y="5"/>
                </a:lnTo>
                <a:lnTo>
                  <a:pt x="8" y="0"/>
                </a:lnTo>
                <a:close/>
              </a:path>
            </a:pathLst>
          </a:cu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1306160" y="4145040"/>
            <a:ext cx="1440" cy="3240"/>
          </a:xfrm>
          <a:custGeom>
            <a:avLst/>
            <a:gdLst/>
            <a:ahLst/>
            <a:rect l="l" t="t" r="r" b="b"/>
            <a:pathLst>
              <a:path w="1" h="8">
                <a:moveTo>
                  <a:pt x="1" y="0"/>
                </a:moveTo>
                <a:lnTo>
                  <a:pt x="0" y="8"/>
                </a:lnTo>
                <a:lnTo>
                  <a:pt x="1" y="8"/>
                </a:lnTo>
                <a:lnTo>
                  <a:pt x="1" y="0"/>
                </a:lnTo>
                <a:close/>
              </a:path>
            </a:pathLst>
          </a:cu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-360" y="914400"/>
            <a:ext cx="9501120" cy="4417920"/>
            <a:chOff x="-360" y="914400"/>
            <a:chExt cx="9501120" cy="4417920"/>
          </a:xfrm>
        </p:grpSpPr>
        <p:grpSp>
          <p:nvGrpSpPr>
            <p:cNvPr id="1191" name=""/>
            <p:cNvGrpSpPr/>
            <p:nvPr/>
          </p:nvGrpSpPr>
          <p:grpSpPr>
            <a:xfrm>
              <a:off x="6019920" y="914400"/>
              <a:ext cx="3480840" cy="4417920"/>
              <a:chOff x="6019920" y="914400"/>
              <a:chExt cx="3480840" cy="4417920"/>
            </a:xfrm>
          </p:grpSpPr>
          <p:sp>
            <p:nvSpPr>
              <p:cNvPr id="1192" name=""/>
              <p:cNvSpPr/>
              <p:nvPr/>
            </p:nvSpPr>
            <p:spPr>
              <a:xfrm>
                <a:off x="6783120" y="3960720"/>
                <a:ext cx="684000" cy="1131840"/>
              </a:xfrm>
              <a:custGeom>
                <a:avLst/>
                <a:gdLst/>
                <a:ahLst/>
                <a:rect l="l" t="t" r="r" b="b"/>
                <a:pathLst>
                  <a:path w="1725" h="2850">
                    <a:moveTo>
                      <a:pt x="1580" y="0"/>
                    </a:moveTo>
                    <a:lnTo>
                      <a:pt x="1725" y="64"/>
                    </a:lnTo>
                    <a:lnTo>
                      <a:pt x="1612" y="491"/>
                    </a:lnTo>
                    <a:lnTo>
                      <a:pt x="1596" y="522"/>
                    </a:lnTo>
                    <a:lnTo>
                      <a:pt x="1577" y="555"/>
                    </a:lnTo>
                    <a:lnTo>
                      <a:pt x="1554" y="592"/>
                    </a:lnTo>
                    <a:lnTo>
                      <a:pt x="1527" y="631"/>
                    </a:lnTo>
                    <a:lnTo>
                      <a:pt x="1499" y="664"/>
                    </a:lnTo>
                    <a:lnTo>
                      <a:pt x="1485" y="678"/>
                    </a:lnTo>
                    <a:lnTo>
                      <a:pt x="1471" y="689"/>
                    </a:lnTo>
                    <a:lnTo>
                      <a:pt x="1456" y="696"/>
                    </a:lnTo>
                    <a:lnTo>
                      <a:pt x="1443" y="700"/>
                    </a:lnTo>
                    <a:lnTo>
                      <a:pt x="1406" y="705"/>
                    </a:lnTo>
                    <a:lnTo>
                      <a:pt x="1399" y="705"/>
                    </a:lnTo>
                    <a:lnTo>
                      <a:pt x="1397" y="702"/>
                    </a:lnTo>
                    <a:lnTo>
                      <a:pt x="1397" y="695"/>
                    </a:lnTo>
                    <a:lnTo>
                      <a:pt x="1398" y="684"/>
                    </a:lnTo>
                    <a:lnTo>
                      <a:pt x="1397" y="667"/>
                    </a:lnTo>
                    <a:lnTo>
                      <a:pt x="1394" y="644"/>
                    </a:lnTo>
                    <a:lnTo>
                      <a:pt x="1387" y="620"/>
                    </a:lnTo>
                    <a:lnTo>
                      <a:pt x="1379" y="601"/>
                    </a:lnTo>
                    <a:lnTo>
                      <a:pt x="1369" y="587"/>
                    </a:lnTo>
                    <a:lnTo>
                      <a:pt x="1364" y="582"/>
                    </a:lnTo>
                    <a:lnTo>
                      <a:pt x="1359" y="578"/>
                    </a:lnTo>
                    <a:lnTo>
                      <a:pt x="1347" y="573"/>
                    </a:lnTo>
                    <a:lnTo>
                      <a:pt x="1334" y="572"/>
                    </a:lnTo>
                    <a:lnTo>
                      <a:pt x="1320" y="574"/>
                    </a:lnTo>
                    <a:lnTo>
                      <a:pt x="1306" y="579"/>
                    </a:lnTo>
                    <a:lnTo>
                      <a:pt x="1241" y="604"/>
                    </a:lnTo>
                    <a:lnTo>
                      <a:pt x="1152" y="612"/>
                    </a:lnTo>
                    <a:lnTo>
                      <a:pt x="1152" y="676"/>
                    </a:lnTo>
                    <a:lnTo>
                      <a:pt x="1159" y="670"/>
                    </a:lnTo>
                    <a:lnTo>
                      <a:pt x="1167" y="665"/>
                    </a:lnTo>
                    <a:lnTo>
                      <a:pt x="1176" y="661"/>
                    </a:lnTo>
                    <a:lnTo>
                      <a:pt x="1186" y="658"/>
                    </a:lnTo>
                    <a:lnTo>
                      <a:pt x="1197" y="659"/>
                    </a:lnTo>
                    <a:lnTo>
                      <a:pt x="1207" y="665"/>
                    </a:lnTo>
                    <a:lnTo>
                      <a:pt x="1212" y="669"/>
                    </a:lnTo>
                    <a:lnTo>
                      <a:pt x="1217" y="676"/>
                    </a:lnTo>
                    <a:lnTo>
                      <a:pt x="1223" y="689"/>
                    </a:lnTo>
                    <a:lnTo>
                      <a:pt x="1223" y="699"/>
                    </a:lnTo>
                    <a:lnTo>
                      <a:pt x="1220" y="706"/>
                    </a:lnTo>
                    <a:lnTo>
                      <a:pt x="1214" y="713"/>
                    </a:lnTo>
                    <a:lnTo>
                      <a:pt x="1207" y="720"/>
                    </a:lnTo>
                    <a:lnTo>
                      <a:pt x="1200" y="729"/>
                    </a:lnTo>
                    <a:lnTo>
                      <a:pt x="1195" y="740"/>
                    </a:lnTo>
                    <a:lnTo>
                      <a:pt x="1193" y="757"/>
                    </a:lnTo>
                    <a:lnTo>
                      <a:pt x="1193" y="765"/>
                    </a:lnTo>
                    <a:lnTo>
                      <a:pt x="1196" y="772"/>
                    </a:lnTo>
                    <a:lnTo>
                      <a:pt x="1204" y="782"/>
                    </a:lnTo>
                    <a:lnTo>
                      <a:pt x="1209" y="785"/>
                    </a:lnTo>
                    <a:lnTo>
                      <a:pt x="1215" y="788"/>
                    </a:lnTo>
                    <a:lnTo>
                      <a:pt x="1228" y="792"/>
                    </a:lnTo>
                    <a:lnTo>
                      <a:pt x="1240" y="796"/>
                    </a:lnTo>
                    <a:lnTo>
                      <a:pt x="1250" y="801"/>
                    </a:lnTo>
                    <a:lnTo>
                      <a:pt x="1254" y="804"/>
                    </a:lnTo>
                    <a:lnTo>
                      <a:pt x="1256" y="809"/>
                    </a:lnTo>
                    <a:lnTo>
                      <a:pt x="1257" y="821"/>
                    </a:lnTo>
                    <a:lnTo>
                      <a:pt x="1246" y="884"/>
                    </a:lnTo>
                    <a:lnTo>
                      <a:pt x="1241" y="918"/>
                    </a:lnTo>
                    <a:lnTo>
                      <a:pt x="1169" y="982"/>
                    </a:lnTo>
                    <a:lnTo>
                      <a:pt x="1128" y="918"/>
                    </a:lnTo>
                    <a:lnTo>
                      <a:pt x="1117" y="918"/>
                    </a:lnTo>
                    <a:lnTo>
                      <a:pt x="1093" y="921"/>
                    </a:lnTo>
                    <a:lnTo>
                      <a:pt x="1080" y="926"/>
                    </a:lnTo>
                    <a:lnTo>
                      <a:pt x="1075" y="930"/>
                    </a:lnTo>
                    <a:lnTo>
                      <a:pt x="1070" y="935"/>
                    </a:lnTo>
                    <a:lnTo>
                      <a:pt x="1067" y="941"/>
                    </a:lnTo>
                    <a:lnTo>
                      <a:pt x="1064" y="948"/>
                    </a:lnTo>
                    <a:lnTo>
                      <a:pt x="1064" y="966"/>
                    </a:lnTo>
                    <a:lnTo>
                      <a:pt x="1067" y="984"/>
                    </a:lnTo>
                    <a:lnTo>
                      <a:pt x="1071" y="995"/>
                    </a:lnTo>
                    <a:lnTo>
                      <a:pt x="1075" y="1002"/>
                    </a:lnTo>
                    <a:lnTo>
                      <a:pt x="1080" y="1007"/>
                    </a:lnTo>
                    <a:lnTo>
                      <a:pt x="1088" y="1014"/>
                    </a:lnTo>
                    <a:lnTo>
                      <a:pt x="1092" y="1020"/>
                    </a:lnTo>
                    <a:lnTo>
                      <a:pt x="1096" y="1030"/>
                    </a:lnTo>
                    <a:lnTo>
                      <a:pt x="1100" y="1052"/>
                    </a:lnTo>
                    <a:lnTo>
                      <a:pt x="1103" y="1071"/>
                    </a:lnTo>
                    <a:lnTo>
                      <a:pt x="1104" y="1087"/>
                    </a:lnTo>
                    <a:lnTo>
                      <a:pt x="1105" y="1085"/>
                    </a:lnTo>
                    <a:lnTo>
                      <a:pt x="1111" y="1085"/>
                    </a:lnTo>
                    <a:lnTo>
                      <a:pt x="1116" y="1087"/>
                    </a:lnTo>
                    <a:lnTo>
                      <a:pt x="1123" y="1091"/>
                    </a:lnTo>
                    <a:lnTo>
                      <a:pt x="1132" y="1099"/>
                    </a:lnTo>
                    <a:lnTo>
                      <a:pt x="1144" y="1111"/>
                    </a:lnTo>
                    <a:lnTo>
                      <a:pt x="1155" y="1126"/>
                    </a:lnTo>
                    <a:lnTo>
                      <a:pt x="1161" y="1137"/>
                    </a:lnTo>
                    <a:lnTo>
                      <a:pt x="1161" y="1145"/>
                    </a:lnTo>
                    <a:lnTo>
                      <a:pt x="1159" y="1151"/>
                    </a:lnTo>
                    <a:lnTo>
                      <a:pt x="1153" y="1161"/>
                    </a:lnTo>
                    <a:lnTo>
                      <a:pt x="1154" y="1167"/>
                    </a:lnTo>
                    <a:lnTo>
                      <a:pt x="1161" y="1175"/>
                    </a:lnTo>
                    <a:lnTo>
                      <a:pt x="1181" y="1193"/>
                    </a:lnTo>
                    <a:lnTo>
                      <a:pt x="1189" y="1198"/>
                    </a:lnTo>
                    <a:lnTo>
                      <a:pt x="1196" y="1200"/>
                    </a:lnTo>
                    <a:lnTo>
                      <a:pt x="1204" y="1199"/>
                    </a:lnTo>
                    <a:lnTo>
                      <a:pt x="1212" y="1198"/>
                    </a:lnTo>
                    <a:lnTo>
                      <a:pt x="1233" y="1191"/>
                    </a:lnTo>
                    <a:lnTo>
                      <a:pt x="1263" y="1180"/>
                    </a:lnTo>
                    <a:lnTo>
                      <a:pt x="1274" y="1175"/>
                    </a:lnTo>
                    <a:lnTo>
                      <a:pt x="1281" y="1178"/>
                    </a:lnTo>
                    <a:lnTo>
                      <a:pt x="1298" y="1191"/>
                    </a:lnTo>
                    <a:lnTo>
                      <a:pt x="1317" y="1205"/>
                    </a:lnTo>
                    <a:lnTo>
                      <a:pt x="1324" y="1212"/>
                    </a:lnTo>
                    <a:lnTo>
                      <a:pt x="1328" y="1217"/>
                    </a:lnTo>
                    <a:lnTo>
                      <a:pt x="1330" y="1223"/>
                    </a:lnTo>
                    <a:lnTo>
                      <a:pt x="1329" y="1229"/>
                    </a:lnTo>
                    <a:lnTo>
                      <a:pt x="1322" y="1248"/>
                    </a:lnTo>
                    <a:lnTo>
                      <a:pt x="1317" y="1260"/>
                    </a:lnTo>
                    <a:lnTo>
                      <a:pt x="1316" y="1271"/>
                    </a:lnTo>
                    <a:lnTo>
                      <a:pt x="1318" y="1280"/>
                    </a:lnTo>
                    <a:lnTo>
                      <a:pt x="1322" y="1288"/>
                    </a:lnTo>
                    <a:lnTo>
                      <a:pt x="1327" y="1294"/>
                    </a:lnTo>
                    <a:lnTo>
                      <a:pt x="1335" y="1298"/>
                    </a:lnTo>
                    <a:lnTo>
                      <a:pt x="1344" y="1298"/>
                    </a:lnTo>
                    <a:lnTo>
                      <a:pt x="1354" y="1296"/>
                    </a:lnTo>
                    <a:lnTo>
                      <a:pt x="1387" y="1282"/>
                    </a:lnTo>
                    <a:lnTo>
                      <a:pt x="1407" y="1271"/>
                    </a:lnTo>
                    <a:lnTo>
                      <a:pt x="1412" y="1265"/>
                    </a:lnTo>
                    <a:lnTo>
                      <a:pt x="1414" y="1258"/>
                    </a:lnTo>
                    <a:lnTo>
                      <a:pt x="1413" y="1250"/>
                    </a:lnTo>
                    <a:lnTo>
                      <a:pt x="1410" y="1240"/>
                    </a:lnTo>
                    <a:lnTo>
                      <a:pt x="1406" y="1234"/>
                    </a:lnTo>
                    <a:lnTo>
                      <a:pt x="1402" y="1229"/>
                    </a:lnTo>
                    <a:lnTo>
                      <a:pt x="1392" y="1221"/>
                    </a:lnTo>
                    <a:lnTo>
                      <a:pt x="1372" y="1209"/>
                    </a:lnTo>
                    <a:lnTo>
                      <a:pt x="1363" y="1205"/>
                    </a:lnTo>
                    <a:lnTo>
                      <a:pt x="1357" y="1200"/>
                    </a:lnTo>
                    <a:lnTo>
                      <a:pt x="1353" y="1193"/>
                    </a:lnTo>
                    <a:lnTo>
                      <a:pt x="1353" y="1189"/>
                    </a:lnTo>
                    <a:lnTo>
                      <a:pt x="1354" y="1183"/>
                    </a:lnTo>
                    <a:lnTo>
                      <a:pt x="1356" y="1163"/>
                    </a:lnTo>
                    <a:lnTo>
                      <a:pt x="1357" y="1148"/>
                    </a:lnTo>
                    <a:lnTo>
                      <a:pt x="1358" y="1141"/>
                    </a:lnTo>
                    <a:lnTo>
                      <a:pt x="1362" y="1135"/>
                    </a:lnTo>
                    <a:lnTo>
                      <a:pt x="1368" y="1127"/>
                    </a:lnTo>
                    <a:lnTo>
                      <a:pt x="1378" y="1119"/>
                    </a:lnTo>
                    <a:lnTo>
                      <a:pt x="1388" y="1110"/>
                    </a:lnTo>
                    <a:lnTo>
                      <a:pt x="1396" y="1101"/>
                    </a:lnTo>
                    <a:lnTo>
                      <a:pt x="1409" y="1083"/>
                    </a:lnTo>
                    <a:lnTo>
                      <a:pt x="1416" y="1075"/>
                    </a:lnTo>
                    <a:lnTo>
                      <a:pt x="1425" y="1068"/>
                    </a:lnTo>
                    <a:lnTo>
                      <a:pt x="1437" y="1062"/>
                    </a:lnTo>
                    <a:lnTo>
                      <a:pt x="1453" y="1058"/>
                    </a:lnTo>
                    <a:lnTo>
                      <a:pt x="1483" y="1053"/>
                    </a:lnTo>
                    <a:lnTo>
                      <a:pt x="1492" y="1054"/>
                    </a:lnTo>
                    <a:lnTo>
                      <a:pt x="1499" y="1056"/>
                    </a:lnTo>
                    <a:lnTo>
                      <a:pt x="1507" y="1064"/>
                    </a:lnTo>
                    <a:lnTo>
                      <a:pt x="1509" y="1073"/>
                    </a:lnTo>
                    <a:lnTo>
                      <a:pt x="1510" y="1084"/>
                    </a:lnTo>
                    <a:lnTo>
                      <a:pt x="1512" y="1093"/>
                    </a:lnTo>
                    <a:lnTo>
                      <a:pt x="1521" y="1100"/>
                    </a:lnTo>
                    <a:lnTo>
                      <a:pt x="1528" y="1102"/>
                    </a:lnTo>
                    <a:lnTo>
                      <a:pt x="1539" y="1103"/>
                    </a:lnTo>
                    <a:lnTo>
                      <a:pt x="1577" y="1102"/>
                    </a:lnTo>
                    <a:lnTo>
                      <a:pt x="1601" y="1100"/>
                    </a:lnTo>
                    <a:lnTo>
                      <a:pt x="1620" y="1100"/>
                    </a:lnTo>
                    <a:lnTo>
                      <a:pt x="1644" y="1103"/>
                    </a:lnTo>
                    <a:lnTo>
                      <a:pt x="1657" y="1107"/>
                    </a:lnTo>
                    <a:lnTo>
                      <a:pt x="1667" y="1114"/>
                    </a:lnTo>
                    <a:lnTo>
                      <a:pt x="1674" y="1122"/>
                    </a:lnTo>
                    <a:lnTo>
                      <a:pt x="1679" y="1130"/>
                    </a:lnTo>
                    <a:lnTo>
                      <a:pt x="1683" y="1145"/>
                    </a:lnTo>
                    <a:lnTo>
                      <a:pt x="1684" y="1151"/>
                    </a:lnTo>
                    <a:lnTo>
                      <a:pt x="1668" y="1256"/>
                    </a:lnTo>
                    <a:lnTo>
                      <a:pt x="1700" y="1602"/>
                    </a:lnTo>
                    <a:lnTo>
                      <a:pt x="1700" y="1619"/>
                    </a:lnTo>
                    <a:lnTo>
                      <a:pt x="1700" y="1638"/>
                    </a:lnTo>
                    <a:lnTo>
                      <a:pt x="1699" y="1664"/>
                    </a:lnTo>
                    <a:lnTo>
                      <a:pt x="1695" y="1696"/>
                    </a:lnTo>
                    <a:lnTo>
                      <a:pt x="1690" y="1731"/>
                    </a:lnTo>
                    <a:lnTo>
                      <a:pt x="1681" y="1770"/>
                    </a:lnTo>
                    <a:lnTo>
                      <a:pt x="1668" y="1811"/>
                    </a:lnTo>
                    <a:lnTo>
                      <a:pt x="1605" y="1995"/>
                    </a:lnTo>
                    <a:lnTo>
                      <a:pt x="1572" y="2093"/>
                    </a:lnTo>
                    <a:lnTo>
                      <a:pt x="1535" y="2093"/>
                    </a:lnTo>
                    <a:lnTo>
                      <a:pt x="1532" y="2093"/>
                    </a:lnTo>
                    <a:lnTo>
                      <a:pt x="1525" y="2096"/>
                    </a:lnTo>
                    <a:lnTo>
                      <a:pt x="1521" y="2099"/>
                    </a:lnTo>
                    <a:lnTo>
                      <a:pt x="1518" y="2106"/>
                    </a:lnTo>
                    <a:lnTo>
                      <a:pt x="1515" y="2115"/>
                    </a:lnTo>
                    <a:lnTo>
                      <a:pt x="1514" y="2128"/>
                    </a:lnTo>
                    <a:lnTo>
                      <a:pt x="1516" y="2158"/>
                    </a:lnTo>
                    <a:lnTo>
                      <a:pt x="1519" y="2183"/>
                    </a:lnTo>
                    <a:lnTo>
                      <a:pt x="1523" y="2206"/>
                    </a:lnTo>
                    <a:lnTo>
                      <a:pt x="1513" y="2207"/>
                    </a:lnTo>
                    <a:lnTo>
                      <a:pt x="1491" y="2210"/>
                    </a:lnTo>
                    <a:lnTo>
                      <a:pt x="1479" y="2214"/>
                    </a:lnTo>
                    <a:lnTo>
                      <a:pt x="1469" y="2220"/>
                    </a:lnTo>
                    <a:lnTo>
                      <a:pt x="1465" y="2223"/>
                    </a:lnTo>
                    <a:lnTo>
                      <a:pt x="1461" y="2227"/>
                    </a:lnTo>
                    <a:lnTo>
                      <a:pt x="1459" y="2232"/>
                    </a:lnTo>
                    <a:lnTo>
                      <a:pt x="1459" y="2238"/>
                    </a:lnTo>
                    <a:lnTo>
                      <a:pt x="1460" y="2249"/>
                    </a:lnTo>
                    <a:lnTo>
                      <a:pt x="1464" y="2259"/>
                    </a:lnTo>
                    <a:lnTo>
                      <a:pt x="1469" y="2267"/>
                    </a:lnTo>
                    <a:lnTo>
                      <a:pt x="1475" y="2274"/>
                    </a:lnTo>
                    <a:lnTo>
                      <a:pt x="1486" y="2283"/>
                    </a:lnTo>
                    <a:lnTo>
                      <a:pt x="1491" y="2286"/>
                    </a:lnTo>
                    <a:lnTo>
                      <a:pt x="1447" y="2308"/>
                    </a:lnTo>
                    <a:lnTo>
                      <a:pt x="1402" y="2331"/>
                    </a:lnTo>
                    <a:lnTo>
                      <a:pt x="1354" y="2359"/>
                    </a:lnTo>
                    <a:lnTo>
                      <a:pt x="1325" y="2378"/>
                    </a:lnTo>
                    <a:lnTo>
                      <a:pt x="1288" y="2404"/>
                    </a:lnTo>
                    <a:lnTo>
                      <a:pt x="1199" y="2472"/>
                    </a:lnTo>
                    <a:lnTo>
                      <a:pt x="1100" y="2551"/>
                    </a:lnTo>
                    <a:lnTo>
                      <a:pt x="1052" y="2592"/>
                    </a:lnTo>
                    <a:lnTo>
                      <a:pt x="1007" y="2633"/>
                    </a:lnTo>
                    <a:lnTo>
                      <a:pt x="966" y="2672"/>
                    </a:lnTo>
                    <a:lnTo>
                      <a:pt x="929" y="2711"/>
                    </a:lnTo>
                    <a:lnTo>
                      <a:pt x="865" y="2781"/>
                    </a:lnTo>
                    <a:lnTo>
                      <a:pt x="808" y="2850"/>
                    </a:lnTo>
                    <a:lnTo>
                      <a:pt x="806" y="2786"/>
                    </a:lnTo>
                    <a:lnTo>
                      <a:pt x="800" y="2694"/>
                    </a:lnTo>
                    <a:lnTo>
                      <a:pt x="808" y="2676"/>
                    </a:lnTo>
                    <a:lnTo>
                      <a:pt x="818" y="2659"/>
                    </a:lnTo>
                    <a:lnTo>
                      <a:pt x="833" y="2639"/>
                    </a:lnTo>
                    <a:lnTo>
                      <a:pt x="860" y="2608"/>
                    </a:lnTo>
                    <a:lnTo>
                      <a:pt x="872" y="2589"/>
                    </a:lnTo>
                    <a:lnTo>
                      <a:pt x="895" y="2552"/>
                    </a:lnTo>
                    <a:lnTo>
                      <a:pt x="912" y="2522"/>
                    </a:lnTo>
                    <a:lnTo>
                      <a:pt x="921" y="2508"/>
                    </a:lnTo>
                    <a:lnTo>
                      <a:pt x="930" y="2497"/>
                    </a:lnTo>
                    <a:lnTo>
                      <a:pt x="940" y="2489"/>
                    </a:lnTo>
                    <a:lnTo>
                      <a:pt x="951" y="2485"/>
                    </a:lnTo>
                    <a:lnTo>
                      <a:pt x="957" y="2485"/>
                    </a:lnTo>
                    <a:lnTo>
                      <a:pt x="964" y="2487"/>
                    </a:lnTo>
                    <a:lnTo>
                      <a:pt x="978" y="2495"/>
                    </a:lnTo>
                    <a:lnTo>
                      <a:pt x="991" y="2507"/>
                    </a:lnTo>
                    <a:lnTo>
                      <a:pt x="1001" y="2519"/>
                    </a:lnTo>
                    <a:lnTo>
                      <a:pt x="1008" y="2530"/>
                    </a:lnTo>
                    <a:lnTo>
                      <a:pt x="1013" y="2539"/>
                    </a:lnTo>
                    <a:lnTo>
                      <a:pt x="1018" y="2554"/>
                    </a:lnTo>
                    <a:lnTo>
                      <a:pt x="1019" y="2559"/>
                    </a:lnTo>
                    <a:lnTo>
                      <a:pt x="1025" y="2558"/>
                    </a:lnTo>
                    <a:lnTo>
                      <a:pt x="1037" y="2552"/>
                    </a:lnTo>
                    <a:lnTo>
                      <a:pt x="1053" y="2540"/>
                    </a:lnTo>
                    <a:lnTo>
                      <a:pt x="1063" y="2531"/>
                    </a:lnTo>
                    <a:lnTo>
                      <a:pt x="1072" y="2520"/>
                    </a:lnTo>
                    <a:lnTo>
                      <a:pt x="1079" y="2508"/>
                    </a:lnTo>
                    <a:lnTo>
                      <a:pt x="1084" y="2495"/>
                    </a:lnTo>
                    <a:lnTo>
                      <a:pt x="1088" y="2483"/>
                    </a:lnTo>
                    <a:lnTo>
                      <a:pt x="1089" y="2471"/>
                    </a:lnTo>
                    <a:lnTo>
                      <a:pt x="1089" y="2453"/>
                    </a:lnTo>
                    <a:lnTo>
                      <a:pt x="1089" y="2445"/>
                    </a:lnTo>
                    <a:lnTo>
                      <a:pt x="1108" y="2445"/>
                    </a:lnTo>
                    <a:lnTo>
                      <a:pt x="1128" y="2444"/>
                    </a:lnTo>
                    <a:lnTo>
                      <a:pt x="1151" y="2440"/>
                    </a:lnTo>
                    <a:lnTo>
                      <a:pt x="1174" y="2432"/>
                    </a:lnTo>
                    <a:lnTo>
                      <a:pt x="1184" y="2426"/>
                    </a:lnTo>
                    <a:lnTo>
                      <a:pt x="1192" y="2419"/>
                    </a:lnTo>
                    <a:lnTo>
                      <a:pt x="1199" y="2411"/>
                    </a:lnTo>
                    <a:lnTo>
                      <a:pt x="1204" y="2401"/>
                    </a:lnTo>
                    <a:lnTo>
                      <a:pt x="1208" y="2389"/>
                    </a:lnTo>
                    <a:lnTo>
                      <a:pt x="1209" y="2375"/>
                    </a:lnTo>
                    <a:lnTo>
                      <a:pt x="1207" y="2342"/>
                    </a:lnTo>
                    <a:lnTo>
                      <a:pt x="1205" y="2308"/>
                    </a:lnTo>
                    <a:lnTo>
                      <a:pt x="1201" y="2270"/>
                    </a:lnTo>
                    <a:lnTo>
                      <a:pt x="1187" y="2271"/>
                    </a:lnTo>
                    <a:lnTo>
                      <a:pt x="1155" y="2277"/>
                    </a:lnTo>
                    <a:lnTo>
                      <a:pt x="1153" y="2287"/>
                    </a:lnTo>
                    <a:lnTo>
                      <a:pt x="1150" y="2298"/>
                    </a:lnTo>
                    <a:lnTo>
                      <a:pt x="1138" y="2316"/>
                    </a:lnTo>
                    <a:lnTo>
                      <a:pt x="1133" y="2321"/>
                    </a:lnTo>
                    <a:lnTo>
                      <a:pt x="1128" y="2324"/>
                    </a:lnTo>
                    <a:lnTo>
                      <a:pt x="1115" y="2326"/>
                    </a:lnTo>
                    <a:lnTo>
                      <a:pt x="1113" y="2331"/>
                    </a:lnTo>
                    <a:lnTo>
                      <a:pt x="1110" y="2333"/>
                    </a:lnTo>
                    <a:lnTo>
                      <a:pt x="1102" y="2334"/>
                    </a:lnTo>
                    <a:lnTo>
                      <a:pt x="1074" y="2328"/>
                    </a:lnTo>
                    <a:lnTo>
                      <a:pt x="1051" y="2335"/>
                    </a:lnTo>
                    <a:lnTo>
                      <a:pt x="1031" y="2343"/>
                    </a:lnTo>
                    <a:lnTo>
                      <a:pt x="1010" y="2350"/>
                    </a:lnTo>
                    <a:lnTo>
                      <a:pt x="988" y="2354"/>
                    </a:lnTo>
                    <a:lnTo>
                      <a:pt x="983" y="2359"/>
                    </a:lnTo>
                    <a:lnTo>
                      <a:pt x="976" y="2358"/>
                    </a:lnTo>
                    <a:lnTo>
                      <a:pt x="962" y="2353"/>
                    </a:lnTo>
                    <a:lnTo>
                      <a:pt x="945" y="2350"/>
                    </a:lnTo>
                    <a:lnTo>
                      <a:pt x="937" y="2348"/>
                    </a:lnTo>
                    <a:lnTo>
                      <a:pt x="930" y="2345"/>
                    </a:lnTo>
                    <a:lnTo>
                      <a:pt x="919" y="2335"/>
                    </a:lnTo>
                    <a:lnTo>
                      <a:pt x="916" y="2329"/>
                    </a:lnTo>
                    <a:lnTo>
                      <a:pt x="915" y="2321"/>
                    </a:lnTo>
                    <a:lnTo>
                      <a:pt x="915" y="2261"/>
                    </a:lnTo>
                    <a:lnTo>
                      <a:pt x="904" y="2250"/>
                    </a:lnTo>
                    <a:lnTo>
                      <a:pt x="901" y="2244"/>
                    </a:lnTo>
                    <a:lnTo>
                      <a:pt x="899" y="2238"/>
                    </a:lnTo>
                    <a:lnTo>
                      <a:pt x="899" y="2233"/>
                    </a:lnTo>
                    <a:lnTo>
                      <a:pt x="902" y="2227"/>
                    </a:lnTo>
                    <a:lnTo>
                      <a:pt x="909" y="2221"/>
                    </a:lnTo>
                    <a:lnTo>
                      <a:pt x="919" y="2214"/>
                    </a:lnTo>
                    <a:lnTo>
                      <a:pt x="935" y="2202"/>
                    </a:lnTo>
                    <a:lnTo>
                      <a:pt x="948" y="2190"/>
                    </a:lnTo>
                    <a:lnTo>
                      <a:pt x="957" y="2178"/>
                    </a:lnTo>
                    <a:lnTo>
                      <a:pt x="962" y="2166"/>
                    </a:lnTo>
                    <a:lnTo>
                      <a:pt x="931" y="2162"/>
                    </a:lnTo>
                    <a:lnTo>
                      <a:pt x="896" y="2161"/>
                    </a:lnTo>
                    <a:lnTo>
                      <a:pt x="896" y="2137"/>
                    </a:lnTo>
                    <a:lnTo>
                      <a:pt x="908" y="2109"/>
                    </a:lnTo>
                    <a:lnTo>
                      <a:pt x="913" y="2095"/>
                    </a:lnTo>
                    <a:lnTo>
                      <a:pt x="915" y="2079"/>
                    </a:lnTo>
                    <a:lnTo>
                      <a:pt x="914" y="2072"/>
                    </a:lnTo>
                    <a:lnTo>
                      <a:pt x="911" y="2067"/>
                    </a:lnTo>
                    <a:lnTo>
                      <a:pt x="904" y="2056"/>
                    </a:lnTo>
                    <a:lnTo>
                      <a:pt x="896" y="2046"/>
                    </a:lnTo>
                    <a:lnTo>
                      <a:pt x="893" y="2040"/>
                    </a:lnTo>
                    <a:lnTo>
                      <a:pt x="892" y="2033"/>
                    </a:lnTo>
                    <a:lnTo>
                      <a:pt x="894" y="2024"/>
                    </a:lnTo>
                    <a:lnTo>
                      <a:pt x="898" y="2017"/>
                    </a:lnTo>
                    <a:lnTo>
                      <a:pt x="910" y="2005"/>
                    </a:lnTo>
                    <a:lnTo>
                      <a:pt x="923" y="1994"/>
                    </a:lnTo>
                    <a:lnTo>
                      <a:pt x="929" y="1987"/>
                    </a:lnTo>
                    <a:lnTo>
                      <a:pt x="934" y="1978"/>
                    </a:lnTo>
                    <a:lnTo>
                      <a:pt x="943" y="1948"/>
                    </a:lnTo>
                    <a:lnTo>
                      <a:pt x="945" y="1934"/>
                    </a:lnTo>
                    <a:lnTo>
                      <a:pt x="947" y="1920"/>
                    </a:lnTo>
                    <a:lnTo>
                      <a:pt x="949" y="1892"/>
                    </a:lnTo>
                    <a:lnTo>
                      <a:pt x="949" y="1860"/>
                    </a:lnTo>
                    <a:lnTo>
                      <a:pt x="948" y="1850"/>
                    </a:lnTo>
                    <a:lnTo>
                      <a:pt x="946" y="1840"/>
                    </a:lnTo>
                    <a:lnTo>
                      <a:pt x="938" y="1823"/>
                    </a:lnTo>
                    <a:lnTo>
                      <a:pt x="932" y="1816"/>
                    </a:lnTo>
                    <a:lnTo>
                      <a:pt x="926" y="1810"/>
                    </a:lnTo>
                    <a:lnTo>
                      <a:pt x="910" y="1799"/>
                    </a:lnTo>
                    <a:lnTo>
                      <a:pt x="892" y="1790"/>
                    </a:lnTo>
                    <a:lnTo>
                      <a:pt x="872" y="1782"/>
                    </a:lnTo>
                    <a:lnTo>
                      <a:pt x="832" y="1766"/>
                    </a:lnTo>
                    <a:lnTo>
                      <a:pt x="816" y="1758"/>
                    </a:lnTo>
                    <a:lnTo>
                      <a:pt x="803" y="1749"/>
                    </a:lnTo>
                    <a:lnTo>
                      <a:pt x="782" y="1727"/>
                    </a:lnTo>
                    <a:lnTo>
                      <a:pt x="760" y="1705"/>
                    </a:lnTo>
                    <a:lnTo>
                      <a:pt x="748" y="1694"/>
                    </a:lnTo>
                    <a:lnTo>
                      <a:pt x="732" y="1684"/>
                    </a:lnTo>
                    <a:lnTo>
                      <a:pt x="730" y="1695"/>
                    </a:lnTo>
                    <a:lnTo>
                      <a:pt x="728" y="1706"/>
                    </a:lnTo>
                    <a:lnTo>
                      <a:pt x="729" y="1718"/>
                    </a:lnTo>
                    <a:lnTo>
                      <a:pt x="728" y="1729"/>
                    </a:lnTo>
                    <a:lnTo>
                      <a:pt x="712" y="1722"/>
                    </a:lnTo>
                    <a:lnTo>
                      <a:pt x="697" y="1713"/>
                    </a:lnTo>
                    <a:lnTo>
                      <a:pt x="685" y="1702"/>
                    </a:lnTo>
                    <a:lnTo>
                      <a:pt x="675" y="1689"/>
                    </a:lnTo>
                    <a:lnTo>
                      <a:pt x="659" y="1658"/>
                    </a:lnTo>
                    <a:lnTo>
                      <a:pt x="646" y="1623"/>
                    </a:lnTo>
                    <a:lnTo>
                      <a:pt x="574" y="1623"/>
                    </a:lnTo>
                    <a:lnTo>
                      <a:pt x="560" y="1625"/>
                    </a:lnTo>
                    <a:lnTo>
                      <a:pt x="549" y="1629"/>
                    </a:lnTo>
                    <a:lnTo>
                      <a:pt x="538" y="1635"/>
                    </a:lnTo>
                    <a:lnTo>
                      <a:pt x="529" y="1642"/>
                    </a:lnTo>
                    <a:lnTo>
                      <a:pt x="510" y="1658"/>
                    </a:lnTo>
                    <a:lnTo>
                      <a:pt x="499" y="1665"/>
                    </a:lnTo>
                    <a:lnTo>
                      <a:pt x="486" y="1671"/>
                    </a:lnTo>
                    <a:lnTo>
                      <a:pt x="306" y="1924"/>
                    </a:lnTo>
                    <a:lnTo>
                      <a:pt x="0" y="1771"/>
                    </a:lnTo>
                    <a:lnTo>
                      <a:pt x="161" y="1610"/>
                    </a:lnTo>
                    <a:lnTo>
                      <a:pt x="464" y="1196"/>
                    </a:lnTo>
                    <a:lnTo>
                      <a:pt x="462" y="1148"/>
                    </a:lnTo>
                    <a:lnTo>
                      <a:pt x="545" y="961"/>
                    </a:lnTo>
                    <a:lnTo>
                      <a:pt x="596" y="967"/>
                    </a:lnTo>
                    <a:lnTo>
                      <a:pt x="645" y="901"/>
                    </a:lnTo>
                    <a:lnTo>
                      <a:pt x="767" y="642"/>
                    </a:lnTo>
                    <a:lnTo>
                      <a:pt x="898" y="711"/>
                    </a:lnTo>
                    <a:lnTo>
                      <a:pt x="991" y="571"/>
                    </a:lnTo>
                    <a:lnTo>
                      <a:pt x="1112" y="612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665840" y="4281480"/>
                <a:ext cx="199800" cy="368280"/>
              </a:xfrm>
              <a:custGeom>
                <a:avLst/>
                <a:gdLst/>
                <a:ahLst/>
                <a:rect l="l" t="t" r="r" b="b"/>
                <a:pathLst>
                  <a:path w="506" h="928">
                    <a:moveTo>
                      <a:pt x="108" y="0"/>
                    </a:moveTo>
                    <a:lnTo>
                      <a:pt x="487" y="22"/>
                    </a:lnTo>
                    <a:lnTo>
                      <a:pt x="479" y="318"/>
                    </a:lnTo>
                    <a:lnTo>
                      <a:pt x="332" y="314"/>
                    </a:lnTo>
                    <a:lnTo>
                      <a:pt x="320" y="473"/>
                    </a:lnTo>
                    <a:lnTo>
                      <a:pt x="320" y="602"/>
                    </a:lnTo>
                    <a:lnTo>
                      <a:pt x="506" y="598"/>
                    </a:lnTo>
                    <a:lnTo>
                      <a:pt x="498" y="647"/>
                    </a:lnTo>
                    <a:lnTo>
                      <a:pt x="491" y="643"/>
                    </a:lnTo>
                    <a:lnTo>
                      <a:pt x="476" y="638"/>
                    </a:lnTo>
                    <a:lnTo>
                      <a:pt x="468" y="637"/>
                    </a:lnTo>
                    <a:lnTo>
                      <a:pt x="462" y="639"/>
                    </a:lnTo>
                    <a:lnTo>
                      <a:pt x="459" y="642"/>
                    </a:lnTo>
                    <a:lnTo>
                      <a:pt x="458" y="646"/>
                    </a:lnTo>
                    <a:lnTo>
                      <a:pt x="457" y="659"/>
                    </a:lnTo>
                    <a:lnTo>
                      <a:pt x="459" y="695"/>
                    </a:lnTo>
                    <a:lnTo>
                      <a:pt x="460" y="735"/>
                    </a:lnTo>
                    <a:lnTo>
                      <a:pt x="461" y="780"/>
                    </a:lnTo>
                    <a:lnTo>
                      <a:pt x="437" y="784"/>
                    </a:lnTo>
                    <a:lnTo>
                      <a:pt x="381" y="794"/>
                    </a:lnTo>
                    <a:lnTo>
                      <a:pt x="348" y="802"/>
                    </a:lnTo>
                    <a:lnTo>
                      <a:pt x="315" y="812"/>
                    </a:lnTo>
                    <a:lnTo>
                      <a:pt x="284" y="823"/>
                    </a:lnTo>
                    <a:lnTo>
                      <a:pt x="259" y="837"/>
                    </a:lnTo>
                    <a:lnTo>
                      <a:pt x="239" y="851"/>
                    </a:lnTo>
                    <a:lnTo>
                      <a:pt x="220" y="866"/>
                    </a:lnTo>
                    <a:lnTo>
                      <a:pt x="189" y="897"/>
                    </a:lnTo>
                    <a:lnTo>
                      <a:pt x="160" y="928"/>
                    </a:lnTo>
                    <a:lnTo>
                      <a:pt x="40" y="754"/>
                    </a:lnTo>
                    <a:lnTo>
                      <a:pt x="34" y="749"/>
                    </a:lnTo>
                    <a:lnTo>
                      <a:pt x="25" y="737"/>
                    </a:lnTo>
                    <a:lnTo>
                      <a:pt x="24" y="728"/>
                    </a:lnTo>
                    <a:lnTo>
                      <a:pt x="28" y="717"/>
                    </a:lnTo>
                    <a:lnTo>
                      <a:pt x="38" y="703"/>
                    </a:lnTo>
                    <a:lnTo>
                      <a:pt x="55" y="689"/>
                    </a:lnTo>
                    <a:lnTo>
                      <a:pt x="95" y="662"/>
                    </a:lnTo>
                    <a:lnTo>
                      <a:pt x="126" y="643"/>
                    </a:lnTo>
                    <a:lnTo>
                      <a:pt x="138" y="634"/>
                    </a:lnTo>
                    <a:lnTo>
                      <a:pt x="147" y="626"/>
                    </a:lnTo>
                    <a:lnTo>
                      <a:pt x="152" y="616"/>
                    </a:lnTo>
                    <a:lnTo>
                      <a:pt x="153" y="606"/>
                    </a:lnTo>
                    <a:lnTo>
                      <a:pt x="151" y="596"/>
                    </a:lnTo>
                    <a:lnTo>
                      <a:pt x="148" y="588"/>
                    </a:lnTo>
                    <a:lnTo>
                      <a:pt x="144" y="582"/>
                    </a:lnTo>
                    <a:lnTo>
                      <a:pt x="139" y="578"/>
                    </a:lnTo>
                    <a:lnTo>
                      <a:pt x="124" y="573"/>
                    </a:lnTo>
                    <a:lnTo>
                      <a:pt x="100" y="572"/>
                    </a:lnTo>
                    <a:lnTo>
                      <a:pt x="74" y="573"/>
                    </a:lnTo>
                    <a:lnTo>
                      <a:pt x="63" y="572"/>
                    </a:lnTo>
                    <a:lnTo>
                      <a:pt x="53" y="571"/>
                    </a:lnTo>
                    <a:lnTo>
                      <a:pt x="44" y="567"/>
                    </a:lnTo>
                    <a:lnTo>
                      <a:pt x="36" y="560"/>
                    </a:lnTo>
                    <a:lnTo>
                      <a:pt x="29" y="551"/>
                    </a:lnTo>
                    <a:lnTo>
                      <a:pt x="24" y="537"/>
                    </a:lnTo>
                    <a:lnTo>
                      <a:pt x="15" y="511"/>
                    </a:lnTo>
                    <a:lnTo>
                      <a:pt x="5" y="489"/>
                    </a:lnTo>
                    <a:lnTo>
                      <a:pt x="2" y="477"/>
                    </a:lnTo>
                    <a:lnTo>
                      <a:pt x="0" y="465"/>
                    </a:lnTo>
                    <a:lnTo>
                      <a:pt x="0" y="450"/>
                    </a:lnTo>
                    <a:lnTo>
                      <a:pt x="1" y="432"/>
                    </a:lnTo>
                    <a:lnTo>
                      <a:pt x="14" y="366"/>
                    </a:lnTo>
                    <a:lnTo>
                      <a:pt x="20" y="34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491240" y="4626000"/>
                <a:ext cx="201240" cy="101520"/>
              </a:xfrm>
              <a:custGeom>
                <a:avLst/>
                <a:gdLst/>
                <a:ahLst/>
                <a:rect l="l" t="t" r="r" b="b"/>
                <a:pathLst>
                  <a:path w="508" h="258">
                    <a:moveTo>
                      <a:pt x="428" y="8"/>
                    </a:moveTo>
                    <a:lnTo>
                      <a:pt x="448" y="4"/>
                    </a:lnTo>
                    <a:lnTo>
                      <a:pt x="463" y="1"/>
                    </a:lnTo>
                    <a:lnTo>
                      <a:pt x="479" y="0"/>
                    </a:lnTo>
                    <a:lnTo>
                      <a:pt x="493" y="1"/>
                    </a:lnTo>
                    <a:lnTo>
                      <a:pt x="504" y="6"/>
                    </a:lnTo>
                    <a:lnTo>
                      <a:pt x="507" y="10"/>
                    </a:lnTo>
                    <a:lnTo>
                      <a:pt x="508" y="14"/>
                    </a:lnTo>
                    <a:lnTo>
                      <a:pt x="507" y="20"/>
                    </a:lnTo>
                    <a:lnTo>
                      <a:pt x="504" y="27"/>
                    </a:lnTo>
                    <a:lnTo>
                      <a:pt x="482" y="68"/>
                    </a:lnTo>
                    <a:lnTo>
                      <a:pt x="487" y="74"/>
                    </a:lnTo>
                    <a:lnTo>
                      <a:pt x="492" y="81"/>
                    </a:lnTo>
                    <a:lnTo>
                      <a:pt x="496" y="89"/>
                    </a:lnTo>
                    <a:lnTo>
                      <a:pt x="498" y="98"/>
                    </a:lnTo>
                    <a:lnTo>
                      <a:pt x="496" y="107"/>
                    </a:lnTo>
                    <a:lnTo>
                      <a:pt x="488" y="115"/>
                    </a:lnTo>
                    <a:lnTo>
                      <a:pt x="474" y="121"/>
                    </a:lnTo>
                    <a:lnTo>
                      <a:pt x="435" y="137"/>
                    </a:lnTo>
                    <a:lnTo>
                      <a:pt x="393" y="157"/>
                    </a:lnTo>
                    <a:lnTo>
                      <a:pt x="369" y="166"/>
                    </a:lnTo>
                    <a:lnTo>
                      <a:pt x="344" y="172"/>
                    </a:lnTo>
                    <a:lnTo>
                      <a:pt x="315" y="174"/>
                    </a:lnTo>
                    <a:lnTo>
                      <a:pt x="284" y="171"/>
                    </a:lnTo>
                    <a:lnTo>
                      <a:pt x="255" y="167"/>
                    </a:lnTo>
                    <a:lnTo>
                      <a:pt x="233" y="165"/>
                    </a:lnTo>
                    <a:lnTo>
                      <a:pt x="215" y="165"/>
                    </a:lnTo>
                    <a:lnTo>
                      <a:pt x="200" y="168"/>
                    </a:lnTo>
                    <a:lnTo>
                      <a:pt x="171" y="177"/>
                    </a:lnTo>
                    <a:lnTo>
                      <a:pt x="132" y="190"/>
                    </a:lnTo>
                    <a:lnTo>
                      <a:pt x="108" y="198"/>
                    </a:lnTo>
                    <a:lnTo>
                      <a:pt x="85" y="208"/>
                    </a:lnTo>
                    <a:lnTo>
                      <a:pt x="41" y="231"/>
                    </a:lnTo>
                    <a:lnTo>
                      <a:pt x="0" y="258"/>
                    </a:lnTo>
                    <a:lnTo>
                      <a:pt x="45" y="83"/>
                    </a:lnTo>
                    <a:lnTo>
                      <a:pt x="95" y="65"/>
                    </a:lnTo>
                    <a:lnTo>
                      <a:pt x="144" y="49"/>
                    </a:lnTo>
                    <a:lnTo>
                      <a:pt x="201" y="35"/>
                    </a:lnTo>
                    <a:lnTo>
                      <a:pt x="266" y="25"/>
                    </a:lnTo>
                    <a:lnTo>
                      <a:pt x="339" y="17"/>
                    </a:lnTo>
                    <a:lnTo>
                      <a:pt x="398" y="12"/>
                    </a:lnTo>
                    <a:lnTo>
                      <a:pt x="418" y="10"/>
                    </a:lnTo>
                    <a:lnTo>
                      <a:pt x="428" y="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899120" y="4468680"/>
                <a:ext cx="488880" cy="468360"/>
              </a:xfrm>
              <a:custGeom>
                <a:avLst/>
                <a:gdLst/>
                <a:ahLst/>
                <a:rect l="l" t="t" r="r" b="b"/>
                <a:pathLst>
                  <a:path w="1229" h="1180">
                    <a:moveTo>
                      <a:pt x="1220" y="1180"/>
                    </a:moveTo>
                    <a:lnTo>
                      <a:pt x="1212" y="1147"/>
                    </a:lnTo>
                    <a:lnTo>
                      <a:pt x="1120" y="1103"/>
                    </a:lnTo>
                    <a:lnTo>
                      <a:pt x="1079" y="1082"/>
                    </a:lnTo>
                    <a:lnTo>
                      <a:pt x="1040" y="1060"/>
                    </a:lnTo>
                    <a:lnTo>
                      <a:pt x="1004" y="1035"/>
                    </a:lnTo>
                    <a:lnTo>
                      <a:pt x="987" y="1021"/>
                    </a:lnTo>
                    <a:lnTo>
                      <a:pt x="970" y="1005"/>
                    </a:lnTo>
                    <a:lnTo>
                      <a:pt x="954" y="989"/>
                    </a:lnTo>
                    <a:lnTo>
                      <a:pt x="937" y="971"/>
                    </a:lnTo>
                    <a:lnTo>
                      <a:pt x="921" y="951"/>
                    </a:lnTo>
                    <a:lnTo>
                      <a:pt x="906" y="930"/>
                    </a:lnTo>
                    <a:lnTo>
                      <a:pt x="890" y="903"/>
                    </a:lnTo>
                    <a:lnTo>
                      <a:pt x="877" y="876"/>
                    </a:lnTo>
                    <a:lnTo>
                      <a:pt x="854" y="824"/>
                    </a:lnTo>
                    <a:lnTo>
                      <a:pt x="841" y="801"/>
                    </a:lnTo>
                    <a:lnTo>
                      <a:pt x="825" y="781"/>
                    </a:lnTo>
                    <a:lnTo>
                      <a:pt x="815" y="773"/>
                    </a:lnTo>
                    <a:lnTo>
                      <a:pt x="803" y="765"/>
                    </a:lnTo>
                    <a:lnTo>
                      <a:pt x="791" y="758"/>
                    </a:lnTo>
                    <a:lnTo>
                      <a:pt x="777" y="753"/>
                    </a:lnTo>
                    <a:lnTo>
                      <a:pt x="706" y="733"/>
                    </a:lnTo>
                    <a:lnTo>
                      <a:pt x="675" y="720"/>
                    </a:lnTo>
                    <a:lnTo>
                      <a:pt x="660" y="712"/>
                    </a:lnTo>
                    <a:lnTo>
                      <a:pt x="649" y="701"/>
                    </a:lnTo>
                    <a:lnTo>
                      <a:pt x="612" y="708"/>
                    </a:lnTo>
                    <a:lnTo>
                      <a:pt x="556" y="718"/>
                    </a:lnTo>
                    <a:lnTo>
                      <a:pt x="497" y="732"/>
                    </a:lnTo>
                    <a:lnTo>
                      <a:pt x="471" y="740"/>
                    </a:lnTo>
                    <a:lnTo>
                      <a:pt x="451" y="749"/>
                    </a:lnTo>
                    <a:lnTo>
                      <a:pt x="429" y="759"/>
                    </a:lnTo>
                    <a:lnTo>
                      <a:pt x="404" y="767"/>
                    </a:lnTo>
                    <a:lnTo>
                      <a:pt x="376" y="773"/>
                    </a:lnTo>
                    <a:lnTo>
                      <a:pt x="349" y="776"/>
                    </a:lnTo>
                    <a:lnTo>
                      <a:pt x="324" y="777"/>
                    </a:lnTo>
                    <a:lnTo>
                      <a:pt x="313" y="776"/>
                    </a:lnTo>
                    <a:lnTo>
                      <a:pt x="304" y="774"/>
                    </a:lnTo>
                    <a:lnTo>
                      <a:pt x="289" y="767"/>
                    </a:lnTo>
                    <a:lnTo>
                      <a:pt x="284" y="762"/>
                    </a:lnTo>
                    <a:lnTo>
                      <a:pt x="282" y="756"/>
                    </a:lnTo>
                    <a:lnTo>
                      <a:pt x="277" y="751"/>
                    </a:lnTo>
                    <a:lnTo>
                      <a:pt x="272" y="746"/>
                    </a:lnTo>
                    <a:lnTo>
                      <a:pt x="269" y="739"/>
                    </a:lnTo>
                    <a:lnTo>
                      <a:pt x="266" y="731"/>
                    </a:lnTo>
                    <a:lnTo>
                      <a:pt x="264" y="723"/>
                    </a:lnTo>
                    <a:lnTo>
                      <a:pt x="263" y="714"/>
                    </a:lnTo>
                    <a:lnTo>
                      <a:pt x="261" y="696"/>
                    </a:lnTo>
                    <a:lnTo>
                      <a:pt x="261" y="688"/>
                    </a:lnTo>
                    <a:lnTo>
                      <a:pt x="264" y="680"/>
                    </a:lnTo>
                    <a:lnTo>
                      <a:pt x="272" y="668"/>
                    </a:lnTo>
                    <a:lnTo>
                      <a:pt x="282" y="657"/>
                    </a:lnTo>
                    <a:lnTo>
                      <a:pt x="294" y="647"/>
                    </a:lnTo>
                    <a:lnTo>
                      <a:pt x="305" y="637"/>
                    </a:lnTo>
                    <a:lnTo>
                      <a:pt x="316" y="626"/>
                    </a:lnTo>
                    <a:lnTo>
                      <a:pt x="323" y="614"/>
                    </a:lnTo>
                    <a:lnTo>
                      <a:pt x="325" y="606"/>
                    </a:lnTo>
                    <a:lnTo>
                      <a:pt x="326" y="598"/>
                    </a:lnTo>
                    <a:lnTo>
                      <a:pt x="323" y="571"/>
                    </a:lnTo>
                    <a:lnTo>
                      <a:pt x="316" y="545"/>
                    </a:lnTo>
                    <a:lnTo>
                      <a:pt x="311" y="533"/>
                    </a:lnTo>
                    <a:lnTo>
                      <a:pt x="304" y="521"/>
                    </a:lnTo>
                    <a:lnTo>
                      <a:pt x="289" y="501"/>
                    </a:lnTo>
                    <a:lnTo>
                      <a:pt x="270" y="483"/>
                    </a:lnTo>
                    <a:lnTo>
                      <a:pt x="259" y="476"/>
                    </a:lnTo>
                    <a:lnTo>
                      <a:pt x="247" y="470"/>
                    </a:lnTo>
                    <a:lnTo>
                      <a:pt x="236" y="465"/>
                    </a:lnTo>
                    <a:lnTo>
                      <a:pt x="223" y="462"/>
                    </a:lnTo>
                    <a:lnTo>
                      <a:pt x="197" y="459"/>
                    </a:lnTo>
                    <a:lnTo>
                      <a:pt x="177" y="460"/>
                    </a:lnTo>
                    <a:lnTo>
                      <a:pt x="158" y="465"/>
                    </a:lnTo>
                    <a:lnTo>
                      <a:pt x="141" y="472"/>
                    </a:lnTo>
                    <a:lnTo>
                      <a:pt x="126" y="481"/>
                    </a:lnTo>
                    <a:lnTo>
                      <a:pt x="118" y="487"/>
                    </a:lnTo>
                    <a:lnTo>
                      <a:pt x="111" y="493"/>
                    </a:lnTo>
                    <a:lnTo>
                      <a:pt x="98" y="506"/>
                    </a:lnTo>
                    <a:lnTo>
                      <a:pt x="87" y="522"/>
                    </a:lnTo>
                    <a:lnTo>
                      <a:pt x="76" y="539"/>
                    </a:lnTo>
                    <a:lnTo>
                      <a:pt x="64" y="532"/>
                    </a:lnTo>
                    <a:lnTo>
                      <a:pt x="54" y="524"/>
                    </a:lnTo>
                    <a:lnTo>
                      <a:pt x="37" y="507"/>
                    </a:lnTo>
                    <a:lnTo>
                      <a:pt x="24" y="486"/>
                    </a:lnTo>
                    <a:lnTo>
                      <a:pt x="13" y="463"/>
                    </a:lnTo>
                    <a:lnTo>
                      <a:pt x="0" y="463"/>
                    </a:lnTo>
                    <a:lnTo>
                      <a:pt x="12" y="374"/>
                    </a:lnTo>
                    <a:lnTo>
                      <a:pt x="38" y="375"/>
                    </a:lnTo>
                    <a:lnTo>
                      <a:pt x="102" y="374"/>
                    </a:lnTo>
                    <a:lnTo>
                      <a:pt x="142" y="372"/>
                    </a:lnTo>
                    <a:lnTo>
                      <a:pt x="181" y="367"/>
                    </a:lnTo>
                    <a:lnTo>
                      <a:pt x="219" y="360"/>
                    </a:lnTo>
                    <a:lnTo>
                      <a:pt x="253" y="350"/>
                    </a:lnTo>
                    <a:lnTo>
                      <a:pt x="321" y="322"/>
                    </a:lnTo>
                    <a:lnTo>
                      <a:pt x="390" y="290"/>
                    </a:lnTo>
                    <a:lnTo>
                      <a:pt x="467" y="254"/>
                    </a:lnTo>
                    <a:lnTo>
                      <a:pt x="503" y="342"/>
                    </a:lnTo>
                    <a:lnTo>
                      <a:pt x="846" y="185"/>
                    </a:lnTo>
                    <a:lnTo>
                      <a:pt x="773" y="32"/>
                    </a:lnTo>
                    <a:lnTo>
                      <a:pt x="784" y="26"/>
                    </a:lnTo>
                    <a:lnTo>
                      <a:pt x="798" y="21"/>
                    </a:lnTo>
                    <a:lnTo>
                      <a:pt x="817" y="15"/>
                    </a:lnTo>
                    <a:lnTo>
                      <a:pt x="840" y="8"/>
                    </a:lnTo>
                    <a:lnTo>
                      <a:pt x="866" y="3"/>
                    </a:lnTo>
                    <a:lnTo>
                      <a:pt x="897" y="0"/>
                    </a:lnTo>
                    <a:lnTo>
                      <a:pt x="930" y="0"/>
                    </a:lnTo>
                    <a:lnTo>
                      <a:pt x="946" y="1"/>
                    </a:lnTo>
                    <a:lnTo>
                      <a:pt x="961" y="4"/>
                    </a:lnTo>
                    <a:lnTo>
                      <a:pt x="982" y="12"/>
                    </a:lnTo>
                    <a:lnTo>
                      <a:pt x="996" y="22"/>
                    </a:lnTo>
                    <a:lnTo>
                      <a:pt x="1005" y="34"/>
                    </a:lnTo>
                    <a:lnTo>
                      <a:pt x="1010" y="45"/>
                    </a:lnTo>
                    <a:lnTo>
                      <a:pt x="1011" y="55"/>
                    </a:lnTo>
                    <a:lnTo>
                      <a:pt x="1011" y="64"/>
                    </a:lnTo>
                    <a:lnTo>
                      <a:pt x="1028" y="110"/>
                    </a:lnTo>
                    <a:lnTo>
                      <a:pt x="1044" y="148"/>
                    </a:lnTo>
                    <a:lnTo>
                      <a:pt x="1063" y="181"/>
                    </a:lnTo>
                    <a:lnTo>
                      <a:pt x="1078" y="204"/>
                    </a:lnTo>
                    <a:lnTo>
                      <a:pt x="1082" y="214"/>
                    </a:lnTo>
                    <a:lnTo>
                      <a:pt x="1086" y="226"/>
                    </a:lnTo>
                    <a:lnTo>
                      <a:pt x="1094" y="230"/>
                    </a:lnTo>
                    <a:lnTo>
                      <a:pt x="1101" y="235"/>
                    </a:lnTo>
                    <a:lnTo>
                      <a:pt x="1107" y="240"/>
                    </a:lnTo>
                    <a:lnTo>
                      <a:pt x="1113" y="248"/>
                    </a:lnTo>
                    <a:lnTo>
                      <a:pt x="1121" y="262"/>
                    </a:lnTo>
                    <a:lnTo>
                      <a:pt x="1123" y="270"/>
                    </a:lnTo>
                    <a:lnTo>
                      <a:pt x="1124" y="279"/>
                    </a:lnTo>
                    <a:lnTo>
                      <a:pt x="1124" y="370"/>
                    </a:lnTo>
                    <a:lnTo>
                      <a:pt x="1100" y="455"/>
                    </a:lnTo>
                    <a:lnTo>
                      <a:pt x="1100" y="538"/>
                    </a:lnTo>
                    <a:lnTo>
                      <a:pt x="1100" y="557"/>
                    </a:lnTo>
                    <a:lnTo>
                      <a:pt x="1103" y="573"/>
                    </a:lnTo>
                    <a:lnTo>
                      <a:pt x="1111" y="604"/>
                    </a:lnTo>
                    <a:lnTo>
                      <a:pt x="1116" y="619"/>
                    </a:lnTo>
                    <a:lnTo>
                      <a:pt x="1122" y="632"/>
                    </a:lnTo>
                    <a:lnTo>
                      <a:pt x="1136" y="660"/>
                    </a:lnTo>
                    <a:lnTo>
                      <a:pt x="1149" y="687"/>
                    </a:lnTo>
                    <a:lnTo>
                      <a:pt x="1160" y="716"/>
                    </a:lnTo>
                    <a:lnTo>
                      <a:pt x="1169" y="747"/>
                    </a:lnTo>
                    <a:lnTo>
                      <a:pt x="1171" y="763"/>
                    </a:lnTo>
                    <a:lnTo>
                      <a:pt x="1172" y="781"/>
                    </a:lnTo>
                    <a:lnTo>
                      <a:pt x="1170" y="830"/>
                    </a:lnTo>
                    <a:lnTo>
                      <a:pt x="1166" y="874"/>
                    </a:lnTo>
                    <a:lnTo>
                      <a:pt x="1162" y="917"/>
                    </a:lnTo>
                    <a:lnTo>
                      <a:pt x="1160" y="966"/>
                    </a:lnTo>
                    <a:lnTo>
                      <a:pt x="1160" y="979"/>
                    </a:lnTo>
                    <a:lnTo>
                      <a:pt x="1163" y="992"/>
                    </a:lnTo>
                    <a:lnTo>
                      <a:pt x="1170" y="1016"/>
                    </a:lnTo>
                    <a:lnTo>
                      <a:pt x="1181" y="1036"/>
                    </a:lnTo>
                    <a:lnTo>
                      <a:pt x="1194" y="1056"/>
                    </a:lnTo>
                    <a:lnTo>
                      <a:pt x="1206" y="1076"/>
                    </a:lnTo>
                    <a:lnTo>
                      <a:pt x="1217" y="1096"/>
                    </a:lnTo>
                    <a:lnTo>
                      <a:pt x="1226" y="1119"/>
                    </a:lnTo>
                    <a:lnTo>
                      <a:pt x="1228" y="1132"/>
                    </a:lnTo>
                    <a:lnTo>
                      <a:pt x="1229" y="1145"/>
                    </a:lnTo>
                    <a:lnTo>
                      <a:pt x="1228" y="1154"/>
                    </a:lnTo>
                    <a:lnTo>
                      <a:pt x="1226" y="1162"/>
                    </a:lnTo>
                    <a:lnTo>
                      <a:pt x="1220" y="118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810560" y="468144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903" h="1028">
                    <a:moveTo>
                      <a:pt x="89" y="54"/>
                    </a:moveTo>
                    <a:lnTo>
                      <a:pt x="90" y="61"/>
                    </a:lnTo>
                    <a:lnTo>
                      <a:pt x="92" y="67"/>
                    </a:lnTo>
                    <a:lnTo>
                      <a:pt x="101" y="78"/>
                    </a:lnTo>
                    <a:lnTo>
                      <a:pt x="109" y="89"/>
                    </a:lnTo>
                    <a:lnTo>
                      <a:pt x="112" y="95"/>
                    </a:lnTo>
                    <a:lnTo>
                      <a:pt x="113" y="102"/>
                    </a:lnTo>
                    <a:lnTo>
                      <a:pt x="111" y="112"/>
                    </a:lnTo>
                    <a:lnTo>
                      <a:pt x="106" y="120"/>
                    </a:lnTo>
                    <a:lnTo>
                      <a:pt x="93" y="134"/>
                    </a:lnTo>
                    <a:lnTo>
                      <a:pt x="113" y="151"/>
                    </a:lnTo>
                    <a:lnTo>
                      <a:pt x="130" y="167"/>
                    </a:lnTo>
                    <a:lnTo>
                      <a:pt x="139" y="175"/>
                    </a:lnTo>
                    <a:lnTo>
                      <a:pt x="149" y="182"/>
                    </a:lnTo>
                    <a:lnTo>
                      <a:pt x="160" y="187"/>
                    </a:lnTo>
                    <a:lnTo>
                      <a:pt x="173" y="191"/>
                    </a:lnTo>
                    <a:lnTo>
                      <a:pt x="177" y="207"/>
                    </a:lnTo>
                    <a:lnTo>
                      <a:pt x="156" y="222"/>
                    </a:lnTo>
                    <a:lnTo>
                      <a:pt x="144" y="226"/>
                    </a:lnTo>
                    <a:lnTo>
                      <a:pt x="131" y="227"/>
                    </a:lnTo>
                    <a:lnTo>
                      <a:pt x="112" y="225"/>
                    </a:lnTo>
                    <a:lnTo>
                      <a:pt x="96" y="220"/>
                    </a:lnTo>
                    <a:lnTo>
                      <a:pt x="81" y="212"/>
                    </a:lnTo>
                    <a:lnTo>
                      <a:pt x="67" y="202"/>
                    </a:lnTo>
                    <a:lnTo>
                      <a:pt x="42" y="176"/>
                    </a:lnTo>
                    <a:lnTo>
                      <a:pt x="16" y="146"/>
                    </a:lnTo>
                    <a:lnTo>
                      <a:pt x="5" y="153"/>
                    </a:lnTo>
                    <a:lnTo>
                      <a:pt x="1" y="157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2" y="179"/>
                    </a:lnTo>
                    <a:lnTo>
                      <a:pt x="10" y="192"/>
                    </a:lnTo>
                    <a:lnTo>
                      <a:pt x="20" y="203"/>
                    </a:lnTo>
                    <a:lnTo>
                      <a:pt x="32" y="213"/>
                    </a:lnTo>
                    <a:lnTo>
                      <a:pt x="43" y="223"/>
                    </a:lnTo>
                    <a:lnTo>
                      <a:pt x="54" y="234"/>
                    </a:lnTo>
                    <a:lnTo>
                      <a:pt x="61" y="247"/>
                    </a:lnTo>
                    <a:lnTo>
                      <a:pt x="63" y="255"/>
                    </a:lnTo>
                    <a:lnTo>
                      <a:pt x="64" y="263"/>
                    </a:lnTo>
                    <a:lnTo>
                      <a:pt x="63" y="272"/>
                    </a:lnTo>
                    <a:lnTo>
                      <a:pt x="60" y="281"/>
                    </a:lnTo>
                    <a:lnTo>
                      <a:pt x="52" y="295"/>
                    </a:lnTo>
                    <a:lnTo>
                      <a:pt x="43" y="309"/>
                    </a:lnTo>
                    <a:lnTo>
                      <a:pt x="41" y="318"/>
                    </a:lnTo>
                    <a:lnTo>
                      <a:pt x="40" y="328"/>
                    </a:lnTo>
                    <a:lnTo>
                      <a:pt x="40" y="373"/>
                    </a:lnTo>
                    <a:lnTo>
                      <a:pt x="43" y="419"/>
                    </a:lnTo>
                    <a:lnTo>
                      <a:pt x="48" y="465"/>
                    </a:lnTo>
                    <a:lnTo>
                      <a:pt x="58" y="509"/>
                    </a:lnTo>
                    <a:lnTo>
                      <a:pt x="65" y="528"/>
                    </a:lnTo>
                    <a:lnTo>
                      <a:pt x="73" y="546"/>
                    </a:lnTo>
                    <a:lnTo>
                      <a:pt x="84" y="561"/>
                    </a:lnTo>
                    <a:lnTo>
                      <a:pt x="96" y="575"/>
                    </a:lnTo>
                    <a:lnTo>
                      <a:pt x="110" y="586"/>
                    </a:lnTo>
                    <a:lnTo>
                      <a:pt x="126" y="594"/>
                    </a:lnTo>
                    <a:lnTo>
                      <a:pt x="144" y="599"/>
                    </a:lnTo>
                    <a:lnTo>
                      <a:pt x="165" y="601"/>
                    </a:lnTo>
                    <a:lnTo>
                      <a:pt x="177" y="598"/>
                    </a:lnTo>
                    <a:lnTo>
                      <a:pt x="186" y="592"/>
                    </a:lnTo>
                    <a:lnTo>
                      <a:pt x="200" y="571"/>
                    </a:lnTo>
                    <a:lnTo>
                      <a:pt x="206" y="560"/>
                    </a:lnTo>
                    <a:lnTo>
                      <a:pt x="215" y="550"/>
                    </a:lnTo>
                    <a:lnTo>
                      <a:pt x="224" y="544"/>
                    </a:lnTo>
                    <a:lnTo>
                      <a:pt x="229" y="542"/>
                    </a:lnTo>
                    <a:lnTo>
                      <a:pt x="236" y="541"/>
                    </a:lnTo>
                    <a:lnTo>
                      <a:pt x="245" y="542"/>
                    </a:lnTo>
                    <a:lnTo>
                      <a:pt x="253" y="546"/>
                    </a:lnTo>
                    <a:lnTo>
                      <a:pt x="259" y="552"/>
                    </a:lnTo>
                    <a:lnTo>
                      <a:pt x="264" y="559"/>
                    </a:lnTo>
                    <a:lnTo>
                      <a:pt x="271" y="576"/>
                    </a:lnTo>
                    <a:lnTo>
                      <a:pt x="273" y="586"/>
                    </a:lnTo>
                    <a:lnTo>
                      <a:pt x="274" y="596"/>
                    </a:lnTo>
                    <a:lnTo>
                      <a:pt x="274" y="735"/>
                    </a:lnTo>
                    <a:lnTo>
                      <a:pt x="275" y="748"/>
                    </a:lnTo>
                    <a:lnTo>
                      <a:pt x="280" y="760"/>
                    </a:lnTo>
                    <a:lnTo>
                      <a:pt x="287" y="771"/>
                    </a:lnTo>
                    <a:lnTo>
                      <a:pt x="296" y="780"/>
                    </a:lnTo>
                    <a:lnTo>
                      <a:pt x="307" y="788"/>
                    </a:lnTo>
                    <a:lnTo>
                      <a:pt x="320" y="794"/>
                    </a:lnTo>
                    <a:lnTo>
                      <a:pt x="333" y="798"/>
                    </a:lnTo>
                    <a:lnTo>
                      <a:pt x="347" y="799"/>
                    </a:lnTo>
                    <a:lnTo>
                      <a:pt x="450" y="799"/>
                    </a:lnTo>
                    <a:lnTo>
                      <a:pt x="458" y="798"/>
                    </a:lnTo>
                    <a:lnTo>
                      <a:pt x="465" y="795"/>
                    </a:lnTo>
                    <a:lnTo>
                      <a:pt x="477" y="785"/>
                    </a:lnTo>
                    <a:lnTo>
                      <a:pt x="490" y="775"/>
                    </a:lnTo>
                    <a:lnTo>
                      <a:pt x="504" y="766"/>
                    </a:lnTo>
                    <a:lnTo>
                      <a:pt x="518" y="792"/>
                    </a:lnTo>
                    <a:lnTo>
                      <a:pt x="526" y="803"/>
                    </a:lnTo>
                    <a:lnTo>
                      <a:pt x="534" y="813"/>
                    </a:lnTo>
                    <a:lnTo>
                      <a:pt x="551" y="831"/>
                    </a:lnTo>
                    <a:lnTo>
                      <a:pt x="569" y="846"/>
                    </a:lnTo>
                    <a:lnTo>
                      <a:pt x="610" y="875"/>
                    </a:lnTo>
                    <a:lnTo>
                      <a:pt x="657" y="907"/>
                    </a:lnTo>
                    <a:lnTo>
                      <a:pt x="677" y="925"/>
                    </a:lnTo>
                    <a:lnTo>
                      <a:pt x="695" y="946"/>
                    </a:lnTo>
                    <a:lnTo>
                      <a:pt x="727" y="985"/>
                    </a:lnTo>
                    <a:lnTo>
                      <a:pt x="744" y="1002"/>
                    </a:lnTo>
                    <a:lnTo>
                      <a:pt x="763" y="1016"/>
                    </a:lnTo>
                    <a:lnTo>
                      <a:pt x="773" y="1021"/>
                    </a:lnTo>
                    <a:lnTo>
                      <a:pt x="785" y="1025"/>
                    </a:lnTo>
                    <a:lnTo>
                      <a:pt x="797" y="1027"/>
                    </a:lnTo>
                    <a:lnTo>
                      <a:pt x="811" y="1028"/>
                    </a:lnTo>
                    <a:lnTo>
                      <a:pt x="842" y="1028"/>
                    </a:lnTo>
                    <a:lnTo>
                      <a:pt x="837" y="1006"/>
                    </a:lnTo>
                    <a:lnTo>
                      <a:pt x="835" y="996"/>
                    </a:lnTo>
                    <a:lnTo>
                      <a:pt x="834" y="984"/>
                    </a:lnTo>
                    <a:lnTo>
                      <a:pt x="836" y="972"/>
                    </a:lnTo>
                    <a:lnTo>
                      <a:pt x="842" y="963"/>
                    </a:lnTo>
                    <a:lnTo>
                      <a:pt x="850" y="956"/>
                    </a:lnTo>
                    <a:lnTo>
                      <a:pt x="861" y="950"/>
                    </a:lnTo>
                    <a:lnTo>
                      <a:pt x="883" y="937"/>
                    </a:lnTo>
                    <a:lnTo>
                      <a:pt x="894" y="929"/>
                    </a:lnTo>
                    <a:lnTo>
                      <a:pt x="903" y="919"/>
                    </a:lnTo>
                    <a:lnTo>
                      <a:pt x="881" y="900"/>
                    </a:lnTo>
                    <a:lnTo>
                      <a:pt x="860" y="884"/>
                    </a:lnTo>
                    <a:lnTo>
                      <a:pt x="821" y="856"/>
                    </a:lnTo>
                    <a:lnTo>
                      <a:pt x="802" y="841"/>
                    </a:lnTo>
                    <a:lnTo>
                      <a:pt x="785" y="825"/>
                    </a:lnTo>
                    <a:lnTo>
                      <a:pt x="769" y="806"/>
                    </a:lnTo>
                    <a:lnTo>
                      <a:pt x="753" y="782"/>
                    </a:lnTo>
                    <a:lnTo>
                      <a:pt x="737" y="750"/>
                    </a:lnTo>
                    <a:lnTo>
                      <a:pt x="724" y="718"/>
                    </a:lnTo>
                    <a:lnTo>
                      <a:pt x="712" y="688"/>
                    </a:lnTo>
                    <a:lnTo>
                      <a:pt x="700" y="659"/>
                    </a:lnTo>
                    <a:lnTo>
                      <a:pt x="685" y="631"/>
                    </a:lnTo>
                    <a:lnTo>
                      <a:pt x="677" y="619"/>
                    </a:lnTo>
                    <a:lnTo>
                      <a:pt x="667" y="608"/>
                    </a:lnTo>
                    <a:lnTo>
                      <a:pt x="656" y="599"/>
                    </a:lnTo>
                    <a:lnTo>
                      <a:pt x="643" y="590"/>
                    </a:lnTo>
                    <a:lnTo>
                      <a:pt x="629" y="583"/>
                    </a:lnTo>
                    <a:lnTo>
                      <a:pt x="612" y="577"/>
                    </a:lnTo>
                    <a:lnTo>
                      <a:pt x="552" y="558"/>
                    </a:lnTo>
                    <a:lnTo>
                      <a:pt x="496" y="535"/>
                    </a:lnTo>
                    <a:lnTo>
                      <a:pt x="468" y="522"/>
                    </a:lnTo>
                    <a:lnTo>
                      <a:pt x="443" y="507"/>
                    </a:lnTo>
                    <a:lnTo>
                      <a:pt x="397" y="474"/>
                    </a:lnTo>
                    <a:lnTo>
                      <a:pt x="376" y="456"/>
                    </a:lnTo>
                    <a:lnTo>
                      <a:pt x="358" y="437"/>
                    </a:lnTo>
                    <a:lnTo>
                      <a:pt x="341" y="415"/>
                    </a:lnTo>
                    <a:lnTo>
                      <a:pt x="327" y="393"/>
                    </a:lnTo>
                    <a:lnTo>
                      <a:pt x="316" y="368"/>
                    </a:lnTo>
                    <a:lnTo>
                      <a:pt x="308" y="342"/>
                    </a:lnTo>
                    <a:lnTo>
                      <a:pt x="303" y="313"/>
                    </a:lnTo>
                    <a:lnTo>
                      <a:pt x="302" y="283"/>
                    </a:lnTo>
                    <a:lnTo>
                      <a:pt x="303" y="276"/>
                    </a:lnTo>
                    <a:lnTo>
                      <a:pt x="305" y="271"/>
                    </a:lnTo>
                    <a:lnTo>
                      <a:pt x="315" y="263"/>
                    </a:lnTo>
                    <a:lnTo>
                      <a:pt x="328" y="258"/>
                    </a:lnTo>
                    <a:lnTo>
                      <a:pt x="342" y="255"/>
                    </a:lnTo>
                    <a:lnTo>
                      <a:pt x="346" y="239"/>
                    </a:lnTo>
                    <a:lnTo>
                      <a:pt x="335" y="227"/>
                    </a:lnTo>
                    <a:lnTo>
                      <a:pt x="323" y="217"/>
                    </a:lnTo>
                    <a:lnTo>
                      <a:pt x="298" y="200"/>
                    </a:lnTo>
                    <a:lnTo>
                      <a:pt x="287" y="192"/>
                    </a:lnTo>
                    <a:lnTo>
                      <a:pt x="278" y="182"/>
                    </a:lnTo>
                    <a:lnTo>
                      <a:pt x="272" y="169"/>
                    </a:lnTo>
                    <a:lnTo>
                      <a:pt x="270" y="154"/>
                    </a:lnTo>
                    <a:lnTo>
                      <a:pt x="242" y="179"/>
                    </a:lnTo>
                    <a:lnTo>
                      <a:pt x="233" y="168"/>
                    </a:lnTo>
                    <a:lnTo>
                      <a:pt x="226" y="157"/>
                    </a:lnTo>
                    <a:lnTo>
                      <a:pt x="220" y="145"/>
                    </a:lnTo>
                    <a:lnTo>
                      <a:pt x="217" y="132"/>
                    </a:lnTo>
                    <a:lnTo>
                      <a:pt x="211" y="104"/>
                    </a:lnTo>
                    <a:lnTo>
                      <a:pt x="209" y="77"/>
                    </a:lnTo>
                    <a:lnTo>
                      <a:pt x="206" y="50"/>
                    </a:lnTo>
                    <a:lnTo>
                      <a:pt x="203" y="38"/>
                    </a:lnTo>
                    <a:lnTo>
                      <a:pt x="199" y="28"/>
                    </a:lnTo>
                    <a:lnTo>
                      <a:pt x="194" y="19"/>
                    </a:lnTo>
                    <a:lnTo>
                      <a:pt x="186" y="10"/>
                    </a:lnTo>
                    <a:lnTo>
                      <a:pt x="177" y="4"/>
                    </a:lnTo>
                    <a:lnTo>
                      <a:pt x="165" y="1"/>
                    </a:lnTo>
                    <a:lnTo>
                      <a:pt x="151" y="0"/>
                    </a:lnTo>
                    <a:lnTo>
                      <a:pt x="138" y="2"/>
                    </a:lnTo>
                    <a:lnTo>
                      <a:pt x="125" y="5"/>
                    </a:lnTo>
                    <a:lnTo>
                      <a:pt x="114" y="11"/>
                    </a:lnTo>
                    <a:lnTo>
                      <a:pt x="103" y="20"/>
                    </a:lnTo>
                    <a:lnTo>
                      <a:pt x="96" y="30"/>
                    </a:lnTo>
                    <a:lnTo>
                      <a:pt x="90" y="41"/>
                    </a:lnTo>
                    <a:lnTo>
                      <a:pt x="89" y="5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974000" y="4797360"/>
                <a:ext cx="528120" cy="430200"/>
              </a:xfrm>
              <a:custGeom>
                <a:avLst/>
                <a:gdLst/>
                <a:ahLst/>
                <a:rect l="l" t="t" r="r" b="b"/>
                <a:pathLst>
                  <a:path w="1334" h="1083">
                    <a:moveTo>
                      <a:pt x="52" y="137"/>
                    </a:moveTo>
                    <a:lnTo>
                      <a:pt x="17" y="117"/>
                    </a:lnTo>
                    <a:lnTo>
                      <a:pt x="10" y="111"/>
                    </a:lnTo>
                    <a:lnTo>
                      <a:pt x="4" y="105"/>
                    </a:lnTo>
                    <a:lnTo>
                      <a:pt x="1" y="97"/>
                    </a:lnTo>
                    <a:lnTo>
                      <a:pt x="0" y="87"/>
                    </a:lnTo>
                    <a:lnTo>
                      <a:pt x="1" y="71"/>
                    </a:lnTo>
                    <a:lnTo>
                      <a:pt x="4" y="55"/>
                    </a:lnTo>
                    <a:lnTo>
                      <a:pt x="10" y="41"/>
                    </a:lnTo>
                    <a:lnTo>
                      <a:pt x="18" y="27"/>
                    </a:lnTo>
                    <a:lnTo>
                      <a:pt x="27" y="16"/>
                    </a:lnTo>
                    <a:lnTo>
                      <a:pt x="39" y="7"/>
                    </a:lnTo>
                    <a:lnTo>
                      <a:pt x="52" y="2"/>
                    </a:lnTo>
                    <a:lnTo>
                      <a:pt x="68" y="0"/>
                    </a:lnTo>
                    <a:lnTo>
                      <a:pt x="88" y="2"/>
                    </a:lnTo>
                    <a:lnTo>
                      <a:pt x="105" y="8"/>
                    </a:lnTo>
                    <a:lnTo>
                      <a:pt x="120" y="15"/>
                    </a:lnTo>
                    <a:lnTo>
                      <a:pt x="135" y="24"/>
                    </a:lnTo>
                    <a:lnTo>
                      <a:pt x="150" y="33"/>
                    </a:lnTo>
                    <a:lnTo>
                      <a:pt x="165" y="42"/>
                    </a:lnTo>
                    <a:lnTo>
                      <a:pt x="182" y="47"/>
                    </a:lnTo>
                    <a:lnTo>
                      <a:pt x="202" y="49"/>
                    </a:lnTo>
                    <a:lnTo>
                      <a:pt x="281" y="49"/>
                    </a:lnTo>
                    <a:lnTo>
                      <a:pt x="302" y="50"/>
                    </a:lnTo>
                    <a:lnTo>
                      <a:pt x="321" y="54"/>
                    </a:lnTo>
                    <a:lnTo>
                      <a:pt x="339" y="60"/>
                    </a:lnTo>
                    <a:lnTo>
                      <a:pt x="356" y="68"/>
                    </a:lnTo>
                    <a:lnTo>
                      <a:pt x="371" y="78"/>
                    </a:lnTo>
                    <a:lnTo>
                      <a:pt x="385" y="89"/>
                    </a:lnTo>
                    <a:lnTo>
                      <a:pt x="398" y="102"/>
                    </a:lnTo>
                    <a:lnTo>
                      <a:pt x="411" y="116"/>
                    </a:lnTo>
                    <a:lnTo>
                      <a:pt x="435" y="146"/>
                    </a:lnTo>
                    <a:lnTo>
                      <a:pt x="460" y="178"/>
                    </a:lnTo>
                    <a:lnTo>
                      <a:pt x="489" y="211"/>
                    </a:lnTo>
                    <a:lnTo>
                      <a:pt x="520" y="242"/>
                    </a:lnTo>
                    <a:lnTo>
                      <a:pt x="577" y="288"/>
                    </a:lnTo>
                    <a:lnTo>
                      <a:pt x="591" y="297"/>
                    </a:lnTo>
                    <a:lnTo>
                      <a:pt x="605" y="306"/>
                    </a:lnTo>
                    <a:lnTo>
                      <a:pt x="634" y="322"/>
                    </a:lnTo>
                    <a:lnTo>
                      <a:pt x="662" y="337"/>
                    </a:lnTo>
                    <a:lnTo>
                      <a:pt x="692" y="352"/>
                    </a:lnTo>
                    <a:lnTo>
                      <a:pt x="761" y="379"/>
                    </a:lnTo>
                    <a:lnTo>
                      <a:pt x="787" y="389"/>
                    </a:lnTo>
                    <a:lnTo>
                      <a:pt x="810" y="400"/>
                    </a:lnTo>
                    <a:lnTo>
                      <a:pt x="852" y="421"/>
                    </a:lnTo>
                    <a:lnTo>
                      <a:pt x="873" y="430"/>
                    </a:lnTo>
                    <a:lnTo>
                      <a:pt x="896" y="437"/>
                    </a:lnTo>
                    <a:lnTo>
                      <a:pt x="921" y="441"/>
                    </a:lnTo>
                    <a:lnTo>
                      <a:pt x="948" y="443"/>
                    </a:lnTo>
                    <a:lnTo>
                      <a:pt x="1059" y="443"/>
                    </a:lnTo>
                    <a:lnTo>
                      <a:pt x="1093" y="446"/>
                    </a:lnTo>
                    <a:lnTo>
                      <a:pt x="1124" y="454"/>
                    </a:lnTo>
                    <a:lnTo>
                      <a:pt x="1152" y="467"/>
                    </a:lnTo>
                    <a:lnTo>
                      <a:pt x="1178" y="485"/>
                    </a:lnTo>
                    <a:lnTo>
                      <a:pt x="1201" y="507"/>
                    </a:lnTo>
                    <a:lnTo>
                      <a:pt x="1223" y="531"/>
                    </a:lnTo>
                    <a:lnTo>
                      <a:pt x="1244" y="559"/>
                    </a:lnTo>
                    <a:lnTo>
                      <a:pt x="1265" y="588"/>
                    </a:lnTo>
                    <a:lnTo>
                      <a:pt x="1272" y="596"/>
                    </a:lnTo>
                    <a:lnTo>
                      <a:pt x="1282" y="602"/>
                    </a:lnTo>
                    <a:lnTo>
                      <a:pt x="1305" y="609"/>
                    </a:lnTo>
                    <a:lnTo>
                      <a:pt x="1317" y="612"/>
                    </a:lnTo>
                    <a:lnTo>
                      <a:pt x="1325" y="617"/>
                    </a:lnTo>
                    <a:lnTo>
                      <a:pt x="1329" y="620"/>
                    </a:lnTo>
                    <a:lnTo>
                      <a:pt x="1331" y="624"/>
                    </a:lnTo>
                    <a:lnTo>
                      <a:pt x="1334" y="634"/>
                    </a:lnTo>
                    <a:lnTo>
                      <a:pt x="1331" y="649"/>
                    </a:lnTo>
                    <a:lnTo>
                      <a:pt x="1329" y="656"/>
                    </a:lnTo>
                    <a:lnTo>
                      <a:pt x="1326" y="662"/>
                    </a:lnTo>
                    <a:lnTo>
                      <a:pt x="1317" y="674"/>
                    </a:lnTo>
                    <a:lnTo>
                      <a:pt x="1307" y="684"/>
                    </a:lnTo>
                    <a:lnTo>
                      <a:pt x="1297" y="694"/>
                    </a:lnTo>
                    <a:lnTo>
                      <a:pt x="1289" y="706"/>
                    </a:lnTo>
                    <a:lnTo>
                      <a:pt x="1283" y="718"/>
                    </a:lnTo>
                    <a:lnTo>
                      <a:pt x="1281" y="733"/>
                    </a:lnTo>
                    <a:lnTo>
                      <a:pt x="1242" y="733"/>
                    </a:lnTo>
                    <a:lnTo>
                      <a:pt x="1232" y="732"/>
                    </a:lnTo>
                    <a:lnTo>
                      <a:pt x="1223" y="729"/>
                    </a:lnTo>
                    <a:lnTo>
                      <a:pt x="1214" y="726"/>
                    </a:lnTo>
                    <a:lnTo>
                      <a:pt x="1205" y="725"/>
                    </a:lnTo>
                    <a:lnTo>
                      <a:pt x="1197" y="726"/>
                    </a:lnTo>
                    <a:lnTo>
                      <a:pt x="1189" y="729"/>
                    </a:lnTo>
                    <a:lnTo>
                      <a:pt x="1178" y="740"/>
                    </a:lnTo>
                    <a:lnTo>
                      <a:pt x="1170" y="756"/>
                    </a:lnTo>
                    <a:lnTo>
                      <a:pt x="1168" y="764"/>
                    </a:lnTo>
                    <a:lnTo>
                      <a:pt x="1168" y="773"/>
                    </a:lnTo>
                    <a:lnTo>
                      <a:pt x="1169" y="792"/>
                    </a:lnTo>
                    <a:lnTo>
                      <a:pt x="1174" y="811"/>
                    </a:lnTo>
                    <a:lnTo>
                      <a:pt x="1185" y="846"/>
                    </a:lnTo>
                    <a:lnTo>
                      <a:pt x="1166" y="854"/>
                    </a:lnTo>
                    <a:lnTo>
                      <a:pt x="1157" y="857"/>
                    </a:lnTo>
                    <a:lnTo>
                      <a:pt x="1148" y="858"/>
                    </a:lnTo>
                    <a:lnTo>
                      <a:pt x="1136" y="856"/>
                    </a:lnTo>
                    <a:lnTo>
                      <a:pt x="1128" y="849"/>
                    </a:lnTo>
                    <a:lnTo>
                      <a:pt x="1122" y="840"/>
                    </a:lnTo>
                    <a:lnTo>
                      <a:pt x="1118" y="829"/>
                    </a:lnTo>
                    <a:lnTo>
                      <a:pt x="1111" y="801"/>
                    </a:lnTo>
                    <a:lnTo>
                      <a:pt x="1106" y="788"/>
                    </a:lnTo>
                    <a:lnTo>
                      <a:pt x="1100" y="777"/>
                    </a:lnTo>
                    <a:lnTo>
                      <a:pt x="1091" y="767"/>
                    </a:lnTo>
                    <a:lnTo>
                      <a:pt x="1081" y="759"/>
                    </a:lnTo>
                    <a:lnTo>
                      <a:pt x="1060" y="750"/>
                    </a:lnTo>
                    <a:lnTo>
                      <a:pt x="1034" y="746"/>
                    </a:lnTo>
                    <a:lnTo>
                      <a:pt x="1007" y="745"/>
                    </a:lnTo>
                    <a:lnTo>
                      <a:pt x="997" y="746"/>
                    </a:lnTo>
                    <a:lnTo>
                      <a:pt x="989" y="748"/>
                    </a:lnTo>
                    <a:lnTo>
                      <a:pt x="981" y="752"/>
                    </a:lnTo>
                    <a:lnTo>
                      <a:pt x="975" y="757"/>
                    </a:lnTo>
                    <a:lnTo>
                      <a:pt x="970" y="764"/>
                    </a:lnTo>
                    <a:lnTo>
                      <a:pt x="966" y="771"/>
                    </a:lnTo>
                    <a:lnTo>
                      <a:pt x="959" y="788"/>
                    </a:lnTo>
                    <a:lnTo>
                      <a:pt x="949" y="830"/>
                    </a:lnTo>
                    <a:lnTo>
                      <a:pt x="943" y="850"/>
                    </a:lnTo>
                    <a:lnTo>
                      <a:pt x="935" y="870"/>
                    </a:lnTo>
                    <a:lnTo>
                      <a:pt x="917" y="900"/>
                    </a:lnTo>
                    <a:lnTo>
                      <a:pt x="896" y="926"/>
                    </a:lnTo>
                    <a:lnTo>
                      <a:pt x="857" y="974"/>
                    </a:lnTo>
                    <a:lnTo>
                      <a:pt x="838" y="997"/>
                    </a:lnTo>
                    <a:lnTo>
                      <a:pt x="822" y="1022"/>
                    </a:lnTo>
                    <a:lnTo>
                      <a:pt x="808" y="1050"/>
                    </a:lnTo>
                    <a:lnTo>
                      <a:pt x="802" y="1066"/>
                    </a:lnTo>
                    <a:lnTo>
                      <a:pt x="798" y="1083"/>
                    </a:lnTo>
                    <a:lnTo>
                      <a:pt x="787" y="1078"/>
                    </a:lnTo>
                    <a:lnTo>
                      <a:pt x="778" y="1072"/>
                    </a:lnTo>
                    <a:lnTo>
                      <a:pt x="771" y="1065"/>
                    </a:lnTo>
                    <a:lnTo>
                      <a:pt x="765" y="1057"/>
                    </a:lnTo>
                    <a:lnTo>
                      <a:pt x="759" y="1048"/>
                    </a:lnTo>
                    <a:lnTo>
                      <a:pt x="756" y="1039"/>
                    </a:lnTo>
                    <a:lnTo>
                      <a:pt x="751" y="1018"/>
                    </a:lnTo>
                    <a:lnTo>
                      <a:pt x="746" y="972"/>
                    </a:lnTo>
                    <a:lnTo>
                      <a:pt x="744" y="946"/>
                    </a:lnTo>
                    <a:lnTo>
                      <a:pt x="741" y="922"/>
                    </a:lnTo>
                    <a:lnTo>
                      <a:pt x="718" y="805"/>
                    </a:lnTo>
                    <a:lnTo>
                      <a:pt x="705" y="750"/>
                    </a:lnTo>
                    <a:lnTo>
                      <a:pt x="688" y="699"/>
                    </a:lnTo>
                    <a:lnTo>
                      <a:pt x="677" y="675"/>
                    </a:lnTo>
                    <a:lnTo>
                      <a:pt x="665" y="652"/>
                    </a:lnTo>
                    <a:lnTo>
                      <a:pt x="651" y="631"/>
                    </a:lnTo>
                    <a:lnTo>
                      <a:pt x="635" y="611"/>
                    </a:lnTo>
                    <a:lnTo>
                      <a:pt x="615" y="594"/>
                    </a:lnTo>
                    <a:lnTo>
                      <a:pt x="594" y="578"/>
                    </a:lnTo>
                    <a:lnTo>
                      <a:pt x="571" y="564"/>
                    </a:lnTo>
                    <a:lnTo>
                      <a:pt x="544" y="552"/>
                    </a:lnTo>
                    <a:lnTo>
                      <a:pt x="522" y="543"/>
                    </a:lnTo>
                    <a:lnTo>
                      <a:pt x="503" y="533"/>
                    </a:lnTo>
                    <a:lnTo>
                      <a:pt x="486" y="522"/>
                    </a:lnTo>
                    <a:lnTo>
                      <a:pt x="471" y="511"/>
                    </a:lnTo>
                    <a:lnTo>
                      <a:pt x="458" y="499"/>
                    </a:lnTo>
                    <a:lnTo>
                      <a:pt x="447" y="485"/>
                    </a:lnTo>
                    <a:lnTo>
                      <a:pt x="428" y="457"/>
                    </a:lnTo>
                    <a:lnTo>
                      <a:pt x="393" y="393"/>
                    </a:lnTo>
                    <a:lnTo>
                      <a:pt x="372" y="357"/>
                    </a:lnTo>
                    <a:lnTo>
                      <a:pt x="346" y="318"/>
                    </a:lnTo>
                    <a:lnTo>
                      <a:pt x="320" y="287"/>
                    </a:lnTo>
                    <a:lnTo>
                      <a:pt x="295" y="261"/>
                    </a:lnTo>
                    <a:lnTo>
                      <a:pt x="270" y="240"/>
                    </a:lnTo>
                    <a:lnTo>
                      <a:pt x="244" y="222"/>
                    </a:lnTo>
                    <a:lnTo>
                      <a:pt x="215" y="206"/>
                    </a:lnTo>
                    <a:lnTo>
                      <a:pt x="184" y="192"/>
                    </a:lnTo>
                    <a:lnTo>
                      <a:pt x="113" y="161"/>
                    </a:lnTo>
                    <a:lnTo>
                      <a:pt x="52" y="137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153280" y="5084640"/>
                <a:ext cx="149040" cy="247680"/>
              </a:xfrm>
              <a:custGeom>
                <a:avLst/>
                <a:gdLst/>
                <a:ahLst/>
                <a:rect l="l" t="t" r="r" b="b"/>
                <a:pathLst>
                  <a:path w="376" h="624">
                    <a:moveTo>
                      <a:pt x="5" y="117"/>
                    </a:moveTo>
                    <a:lnTo>
                      <a:pt x="3" y="90"/>
                    </a:lnTo>
                    <a:lnTo>
                      <a:pt x="1" y="66"/>
                    </a:lnTo>
                    <a:lnTo>
                      <a:pt x="0" y="43"/>
                    </a:lnTo>
                    <a:lnTo>
                      <a:pt x="3" y="16"/>
                    </a:lnTo>
                    <a:lnTo>
                      <a:pt x="22" y="13"/>
                    </a:lnTo>
                    <a:lnTo>
                      <a:pt x="41" y="7"/>
                    </a:lnTo>
                    <a:lnTo>
                      <a:pt x="58" y="2"/>
                    </a:lnTo>
                    <a:lnTo>
                      <a:pt x="78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3" y="15"/>
                    </a:lnTo>
                    <a:lnTo>
                      <a:pt x="112" y="30"/>
                    </a:lnTo>
                    <a:lnTo>
                      <a:pt x="122" y="44"/>
                    </a:lnTo>
                    <a:lnTo>
                      <a:pt x="136" y="63"/>
                    </a:lnTo>
                    <a:lnTo>
                      <a:pt x="146" y="82"/>
                    </a:lnTo>
                    <a:lnTo>
                      <a:pt x="153" y="102"/>
                    </a:lnTo>
                    <a:lnTo>
                      <a:pt x="159" y="122"/>
                    </a:lnTo>
                    <a:lnTo>
                      <a:pt x="169" y="162"/>
                    </a:lnTo>
                    <a:lnTo>
                      <a:pt x="177" y="183"/>
                    </a:lnTo>
                    <a:lnTo>
                      <a:pt x="187" y="205"/>
                    </a:lnTo>
                    <a:lnTo>
                      <a:pt x="236" y="306"/>
                    </a:lnTo>
                    <a:lnTo>
                      <a:pt x="286" y="417"/>
                    </a:lnTo>
                    <a:lnTo>
                      <a:pt x="334" y="525"/>
                    </a:lnTo>
                    <a:lnTo>
                      <a:pt x="376" y="624"/>
                    </a:lnTo>
                    <a:lnTo>
                      <a:pt x="347" y="593"/>
                    </a:lnTo>
                    <a:lnTo>
                      <a:pt x="318" y="556"/>
                    </a:lnTo>
                    <a:lnTo>
                      <a:pt x="255" y="472"/>
                    </a:lnTo>
                    <a:lnTo>
                      <a:pt x="224" y="429"/>
                    </a:lnTo>
                    <a:lnTo>
                      <a:pt x="194" y="388"/>
                    </a:lnTo>
                    <a:lnTo>
                      <a:pt x="163" y="352"/>
                    </a:lnTo>
                    <a:lnTo>
                      <a:pt x="134" y="322"/>
                    </a:lnTo>
                    <a:lnTo>
                      <a:pt x="85" y="278"/>
                    </a:lnTo>
                    <a:lnTo>
                      <a:pt x="62" y="257"/>
                    </a:lnTo>
                    <a:lnTo>
                      <a:pt x="43" y="234"/>
                    </a:lnTo>
                    <a:lnTo>
                      <a:pt x="25" y="210"/>
                    </a:lnTo>
                    <a:lnTo>
                      <a:pt x="12" y="185"/>
                    </a:lnTo>
                    <a:lnTo>
                      <a:pt x="7" y="171"/>
                    </a:lnTo>
                    <a:lnTo>
                      <a:pt x="4" y="156"/>
                    </a:lnTo>
                    <a:lnTo>
                      <a:pt x="1" y="141"/>
                    </a:lnTo>
                    <a:lnTo>
                      <a:pt x="1" y="124"/>
                    </a:lnTo>
                    <a:lnTo>
                      <a:pt x="1" y="85"/>
                    </a:lnTo>
                    <a:lnTo>
                      <a:pt x="5" y="117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02520" y="5122800"/>
                <a:ext cx="69480" cy="81000"/>
              </a:xfrm>
              <a:custGeom>
                <a:avLst/>
                <a:gdLst/>
                <a:ahLst/>
                <a:rect l="l" t="t" r="r" b="b"/>
                <a:pathLst>
                  <a:path w="174" h="205">
                    <a:moveTo>
                      <a:pt x="174" y="205"/>
                    </a:moveTo>
                    <a:lnTo>
                      <a:pt x="173" y="174"/>
                    </a:lnTo>
                    <a:lnTo>
                      <a:pt x="172" y="144"/>
                    </a:lnTo>
                    <a:lnTo>
                      <a:pt x="169" y="115"/>
                    </a:lnTo>
                    <a:lnTo>
                      <a:pt x="163" y="88"/>
                    </a:lnTo>
                    <a:lnTo>
                      <a:pt x="152" y="63"/>
                    </a:lnTo>
                    <a:lnTo>
                      <a:pt x="139" y="40"/>
                    </a:lnTo>
                    <a:lnTo>
                      <a:pt x="121" y="19"/>
                    </a:lnTo>
                    <a:lnTo>
                      <a:pt x="109" y="9"/>
                    </a:lnTo>
                    <a:lnTo>
                      <a:pt x="97" y="0"/>
                    </a:lnTo>
                    <a:lnTo>
                      <a:pt x="85" y="17"/>
                    </a:lnTo>
                    <a:lnTo>
                      <a:pt x="71" y="30"/>
                    </a:lnTo>
                    <a:lnTo>
                      <a:pt x="55" y="40"/>
                    </a:lnTo>
                    <a:lnTo>
                      <a:pt x="39" y="50"/>
                    </a:lnTo>
                    <a:lnTo>
                      <a:pt x="23" y="60"/>
                    </a:lnTo>
                    <a:lnTo>
                      <a:pt x="11" y="72"/>
                    </a:lnTo>
                    <a:lnTo>
                      <a:pt x="6" y="78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3" y="128"/>
                    </a:lnTo>
                    <a:lnTo>
                      <a:pt x="12" y="149"/>
                    </a:lnTo>
                    <a:lnTo>
                      <a:pt x="28" y="167"/>
                    </a:lnTo>
                    <a:lnTo>
                      <a:pt x="46" y="182"/>
                    </a:lnTo>
                    <a:lnTo>
                      <a:pt x="67" y="193"/>
                    </a:lnTo>
                    <a:lnTo>
                      <a:pt x="91" y="200"/>
                    </a:lnTo>
                    <a:lnTo>
                      <a:pt x="116" y="203"/>
                    </a:lnTo>
                    <a:lnTo>
                      <a:pt x="128" y="202"/>
                    </a:lnTo>
                    <a:lnTo>
                      <a:pt x="141" y="201"/>
                    </a:lnTo>
                    <a:lnTo>
                      <a:pt x="174" y="20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59760" y="5248080"/>
                <a:ext cx="101160" cy="66600"/>
              </a:xfrm>
              <a:custGeom>
                <a:avLst/>
                <a:gdLst/>
                <a:ahLst/>
                <a:rect l="l" t="t" r="r" b="b"/>
                <a:pathLst>
                  <a:path w="258" h="169">
                    <a:moveTo>
                      <a:pt x="250" y="169"/>
                    </a:moveTo>
                    <a:lnTo>
                      <a:pt x="239" y="132"/>
                    </a:lnTo>
                    <a:lnTo>
                      <a:pt x="232" y="116"/>
                    </a:lnTo>
                    <a:lnTo>
                      <a:pt x="223" y="100"/>
                    </a:lnTo>
                    <a:lnTo>
                      <a:pt x="204" y="71"/>
                    </a:lnTo>
                    <a:lnTo>
                      <a:pt x="194" y="59"/>
                    </a:lnTo>
                    <a:lnTo>
                      <a:pt x="182" y="47"/>
                    </a:lnTo>
                    <a:lnTo>
                      <a:pt x="155" y="27"/>
                    </a:lnTo>
                    <a:lnTo>
                      <a:pt x="140" y="19"/>
                    </a:lnTo>
                    <a:lnTo>
                      <a:pt x="125" y="12"/>
                    </a:lnTo>
                    <a:lnTo>
                      <a:pt x="109" y="7"/>
                    </a:lnTo>
                    <a:lnTo>
                      <a:pt x="92" y="3"/>
                    </a:lnTo>
                    <a:lnTo>
                      <a:pt x="75" y="1"/>
                    </a:lnTo>
                    <a:lnTo>
                      <a:pt x="57" y="0"/>
                    </a:lnTo>
                    <a:lnTo>
                      <a:pt x="41" y="3"/>
                    </a:lnTo>
                    <a:lnTo>
                      <a:pt x="29" y="10"/>
                    </a:lnTo>
                    <a:lnTo>
                      <a:pt x="18" y="21"/>
                    </a:lnTo>
                    <a:lnTo>
                      <a:pt x="10" y="35"/>
                    </a:lnTo>
                    <a:lnTo>
                      <a:pt x="5" y="51"/>
                    </a:lnTo>
                    <a:lnTo>
                      <a:pt x="2" y="68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1" y="116"/>
                    </a:lnTo>
                    <a:lnTo>
                      <a:pt x="4" y="126"/>
                    </a:lnTo>
                    <a:lnTo>
                      <a:pt x="9" y="134"/>
                    </a:lnTo>
                    <a:lnTo>
                      <a:pt x="15" y="142"/>
                    </a:lnTo>
                    <a:lnTo>
                      <a:pt x="34" y="153"/>
                    </a:lnTo>
                    <a:lnTo>
                      <a:pt x="56" y="160"/>
                    </a:lnTo>
                    <a:lnTo>
                      <a:pt x="81" y="163"/>
                    </a:lnTo>
                    <a:lnTo>
                      <a:pt x="108" y="165"/>
                    </a:lnTo>
                    <a:lnTo>
                      <a:pt x="162" y="165"/>
                    </a:lnTo>
                    <a:lnTo>
                      <a:pt x="187" y="163"/>
                    </a:lnTo>
                    <a:lnTo>
                      <a:pt x="210" y="157"/>
                    </a:lnTo>
                    <a:lnTo>
                      <a:pt x="232" y="152"/>
                    </a:lnTo>
                    <a:lnTo>
                      <a:pt x="244" y="150"/>
                    </a:lnTo>
                    <a:lnTo>
                      <a:pt x="258" y="149"/>
                    </a:lnTo>
                    <a:lnTo>
                      <a:pt x="250" y="16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72240" y="3647880"/>
                <a:ext cx="342360" cy="355680"/>
              </a:xfrm>
              <a:custGeom>
                <a:avLst/>
                <a:gdLst/>
                <a:ahLst/>
                <a:rect l="l" t="t" r="r" b="b"/>
                <a:pathLst>
                  <a:path w="866" h="893">
                    <a:moveTo>
                      <a:pt x="222" y="760"/>
                    </a:moveTo>
                    <a:lnTo>
                      <a:pt x="218" y="765"/>
                    </a:lnTo>
                    <a:lnTo>
                      <a:pt x="215" y="768"/>
                    </a:lnTo>
                    <a:lnTo>
                      <a:pt x="209" y="776"/>
                    </a:lnTo>
                    <a:lnTo>
                      <a:pt x="203" y="783"/>
                    </a:lnTo>
                    <a:lnTo>
                      <a:pt x="198" y="790"/>
                    </a:lnTo>
                    <a:lnTo>
                      <a:pt x="195" y="793"/>
                    </a:lnTo>
                    <a:lnTo>
                      <a:pt x="192" y="796"/>
                    </a:lnTo>
                    <a:lnTo>
                      <a:pt x="189" y="799"/>
                    </a:lnTo>
                    <a:lnTo>
                      <a:pt x="186" y="801"/>
                    </a:lnTo>
                    <a:lnTo>
                      <a:pt x="182" y="803"/>
                    </a:lnTo>
                    <a:lnTo>
                      <a:pt x="178" y="804"/>
                    </a:lnTo>
                    <a:lnTo>
                      <a:pt x="176" y="804"/>
                    </a:lnTo>
                    <a:lnTo>
                      <a:pt x="174" y="805"/>
                    </a:lnTo>
                    <a:lnTo>
                      <a:pt x="169" y="805"/>
                    </a:lnTo>
                    <a:lnTo>
                      <a:pt x="161" y="804"/>
                    </a:lnTo>
                    <a:lnTo>
                      <a:pt x="154" y="803"/>
                    </a:lnTo>
                    <a:lnTo>
                      <a:pt x="148" y="800"/>
                    </a:lnTo>
                    <a:lnTo>
                      <a:pt x="142" y="796"/>
                    </a:lnTo>
                    <a:lnTo>
                      <a:pt x="136" y="792"/>
                    </a:lnTo>
                    <a:lnTo>
                      <a:pt x="131" y="787"/>
                    </a:lnTo>
                    <a:lnTo>
                      <a:pt x="121" y="777"/>
                    </a:lnTo>
                    <a:lnTo>
                      <a:pt x="111" y="767"/>
                    </a:lnTo>
                    <a:lnTo>
                      <a:pt x="105" y="761"/>
                    </a:lnTo>
                    <a:lnTo>
                      <a:pt x="100" y="757"/>
                    </a:lnTo>
                    <a:lnTo>
                      <a:pt x="94" y="753"/>
                    </a:lnTo>
                    <a:lnTo>
                      <a:pt x="87" y="751"/>
                    </a:lnTo>
                    <a:lnTo>
                      <a:pt x="80" y="749"/>
                    </a:lnTo>
                    <a:lnTo>
                      <a:pt x="73" y="748"/>
                    </a:lnTo>
                    <a:lnTo>
                      <a:pt x="74" y="743"/>
                    </a:lnTo>
                    <a:lnTo>
                      <a:pt x="75" y="739"/>
                    </a:lnTo>
                    <a:lnTo>
                      <a:pt x="78" y="730"/>
                    </a:lnTo>
                    <a:lnTo>
                      <a:pt x="80" y="722"/>
                    </a:lnTo>
                    <a:lnTo>
                      <a:pt x="84" y="714"/>
                    </a:lnTo>
                    <a:lnTo>
                      <a:pt x="90" y="698"/>
                    </a:lnTo>
                    <a:lnTo>
                      <a:pt x="94" y="689"/>
                    </a:lnTo>
                    <a:lnTo>
                      <a:pt x="97" y="680"/>
                    </a:lnTo>
                    <a:lnTo>
                      <a:pt x="87" y="677"/>
                    </a:lnTo>
                    <a:lnTo>
                      <a:pt x="82" y="675"/>
                    </a:lnTo>
                    <a:lnTo>
                      <a:pt x="77" y="672"/>
                    </a:lnTo>
                    <a:lnTo>
                      <a:pt x="73" y="670"/>
                    </a:lnTo>
                    <a:lnTo>
                      <a:pt x="68" y="667"/>
                    </a:lnTo>
                    <a:lnTo>
                      <a:pt x="65" y="663"/>
                    </a:lnTo>
                    <a:lnTo>
                      <a:pt x="61" y="660"/>
                    </a:lnTo>
                    <a:lnTo>
                      <a:pt x="58" y="656"/>
                    </a:lnTo>
                    <a:lnTo>
                      <a:pt x="56" y="652"/>
                    </a:lnTo>
                    <a:lnTo>
                      <a:pt x="53" y="648"/>
                    </a:lnTo>
                    <a:lnTo>
                      <a:pt x="51" y="644"/>
                    </a:lnTo>
                    <a:lnTo>
                      <a:pt x="50" y="639"/>
                    </a:lnTo>
                    <a:lnTo>
                      <a:pt x="49" y="634"/>
                    </a:lnTo>
                    <a:lnTo>
                      <a:pt x="48" y="629"/>
                    </a:lnTo>
                    <a:lnTo>
                      <a:pt x="48" y="624"/>
                    </a:lnTo>
                    <a:lnTo>
                      <a:pt x="48" y="620"/>
                    </a:lnTo>
                    <a:lnTo>
                      <a:pt x="49" y="618"/>
                    </a:lnTo>
                    <a:lnTo>
                      <a:pt x="50" y="616"/>
                    </a:lnTo>
                    <a:lnTo>
                      <a:pt x="51" y="614"/>
                    </a:lnTo>
                    <a:lnTo>
                      <a:pt x="52" y="613"/>
                    </a:lnTo>
                    <a:lnTo>
                      <a:pt x="55" y="610"/>
                    </a:lnTo>
                    <a:lnTo>
                      <a:pt x="62" y="604"/>
                    </a:lnTo>
                    <a:lnTo>
                      <a:pt x="71" y="599"/>
                    </a:lnTo>
                    <a:lnTo>
                      <a:pt x="79" y="595"/>
                    </a:lnTo>
                    <a:lnTo>
                      <a:pt x="86" y="590"/>
                    </a:lnTo>
                    <a:lnTo>
                      <a:pt x="89" y="587"/>
                    </a:lnTo>
                    <a:lnTo>
                      <a:pt x="91" y="583"/>
                    </a:lnTo>
                    <a:lnTo>
                      <a:pt x="92" y="580"/>
                    </a:lnTo>
                    <a:lnTo>
                      <a:pt x="93" y="575"/>
                    </a:lnTo>
                    <a:lnTo>
                      <a:pt x="93" y="572"/>
                    </a:lnTo>
                    <a:lnTo>
                      <a:pt x="92" y="569"/>
                    </a:lnTo>
                    <a:lnTo>
                      <a:pt x="90" y="564"/>
                    </a:lnTo>
                    <a:lnTo>
                      <a:pt x="88" y="560"/>
                    </a:lnTo>
                    <a:lnTo>
                      <a:pt x="84" y="556"/>
                    </a:lnTo>
                    <a:lnTo>
                      <a:pt x="80" y="552"/>
                    </a:lnTo>
                    <a:lnTo>
                      <a:pt x="75" y="549"/>
                    </a:lnTo>
                    <a:lnTo>
                      <a:pt x="64" y="543"/>
                    </a:lnTo>
                    <a:lnTo>
                      <a:pt x="54" y="537"/>
                    </a:lnTo>
                    <a:lnTo>
                      <a:pt x="49" y="534"/>
                    </a:lnTo>
                    <a:lnTo>
                      <a:pt x="45" y="530"/>
                    </a:lnTo>
                    <a:lnTo>
                      <a:pt x="41" y="526"/>
                    </a:lnTo>
                    <a:lnTo>
                      <a:pt x="38" y="522"/>
                    </a:lnTo>
                    <a:lnTo>
                      <a:pt x="36" y="517"/>
                    </a:lnTo>
                    <a:lnTo>
                      <a:pt x="36" y="514"/>
                    </a:lnTo>
                    <a:lnTo>
                      <a:pt x="36" y="511"/>
                    </a:lnTo>
                    <a:lnTo>
                      <a:pt x="36" y="504"/>
                    </a:lnTo>
                    <a:lnTo>
                      <a:pt x="38" y="498"/>
                    </a:lnTo>
                    <a:lnTo>
                      <a:pt x="41" y="492"/>
                    </a:lnTo>
                    <a:lnTo>
                      <a:pt x="44" y="486"/>
                    </a:lnTo>
                    <a:lnTo>
                      <a:pt x="48" y="481"/>
                    </a:lnTo>
                    <a:lnTo>
                      <a:pt x="52" y="476"/>
                    </a:lnTo>
                    <a:lnTo>
                      <a:pt x="62" y="467"/>
                    </a:lnTo>
                    <a:lnTo>
                      <a:pt x="72" y="458"/>
                    </a:lnTo>
                    <a:lnTo>
                      <a:pt x="77" y="452"/>
                    </a:lnTo>
                    <a:lnTo>
                      <a:pt x="81" y="447"/>
                    </a:lnTo>
                    <a:lnTo>
                      <a:pt x="84" y="442"/>
                    </a:lnTo>
                    <a:lnTo>
                      <a:pt x="87" y="436"/>
                    </a:lnTo>
                    <a:lnTo>
                      <a:pt x="88" y="429"/>
                    </a:lnTo>
                    <a:lnTo>
                      <a:pt x="89" y="426"/>
                    </a:lnTo>
                    <a:lnTo>
                      <a:pt x="89" y="422"/>
                    </a:lnTo>
                    <a:lnTo>
                      <a:pt x="88" y="415"/>
                    </a:lnTo>
                    <a:lnTo>
                      <a:pt x="87" y="409"/>
                    </a:lnTo>
                    <a:lnTo>
                      <a:pt x="84" y="403"/>
                    </a:lnTo>
                    <a:lnTo>
                      <a:pt x="81" y="397"/>
                    </a:lnTo>
                    <a:lnTo>
                      <a:pt x="80" y="395"/>
                    </a:lnTo>
                    <a:lnTo>
                      <a:pt x="78" y="392"/>
                    </a:lnTo>
                    <a:lnTo>
                      <a:pt x="74" y="387"/>
                    </a:lnTo>
                    <a:lnTo>
                      <a:pt x="64" y="378"/>
                    </a:lnTo>
                    <a:lnTo>
                      <a:pt x="55" y="369"/>
                    </a:lnTo>
                    <a:lnTo>
                      <a:pt x="51" y="364"/>
                    </a:lnTo>
                    <a:lnTo>
                      <a:pt x="47" y="359"/>
                    </a:lnTo>
                    <a:lnTo>
                      <a:pt x="46" y="356"/>
                    </a:lnTo>
                    <a:lnTo>
                      <a:pt x="44" y="353"/>
                    </a:lnTo>
                    <a:lnTo>
                      <a:pt x="43" y="351"/>
                    </a:lnTo>
                    <a:lnTo>
                      <a:pt x="42" y="348"/>
                    </a:lnTo>
                    <a:lnTo>
                      <a:pt x="41" y="344"/>
                    </a:lnTo>
                    <a:lnTo>
                      <a:pt x="40" y="341"/>
                    </a:lnTo>
                    <a:lnTo>
                      <a:pt x="40" y="334"/>
                    </a:lnTo>
                    <a:lnTo>
                      <a:pt x="40" y="331"/>
                    </a:lnTo>
                    <a:lnTo>
                      <a:pt x="41" y="328"/>
                    </a:lnTo>
                    <a:lnTo>
                      <a:pt x="44" y="322"/>
                    </a:lnTo>
                    <a:lnTo>
                      <a:pt x="47" y="317"/>
                    </a:lnTo>
                    <a:lnTo>
                      <a:pt x="47" y="314"/>
                    </a:lnTo>
                    <a:lnTo>
                      <a:pt x="48" y="310"/>
                    </a:lnTo>
                    <a:lnTo>
                      <a:pt x="47" y="305"/>
                    </a:lnTo>
                    <a:lnTo>
                      <a:pt x="47" y="302"/>
                    </a:lnTo>
                    <a:lnTo>
                      <a:pt x="46" y="300"/>
                    </a:lnTo>
                    <a:lnTo>
                      <a:pt x="43" y="295"/>
                    </a:lnTo>
                    <a:lnTo>
                      <a:pt x="40" y="291"/>
                    </a:lnTo>
                    <a:lnTo>
                      <a:pt x="37" y="288"/>
                    </a:lnTo>
                    <a:lnTo>
                      <a:pt x="33" y="285"/>
                    </a:lnTo>
                    <a:lnTo>
                      <a:pt x="24" y="279"/>
                    </a:lnTo>
                    <a:lnTo>
                      <a:pt x="15" y="273"/>
                    </a:lnTo>
                    <a:lnTo>
                      <a:pt x="11" y="270"/>
                    </a:lnTo>
                    <a:lnTo>
                      <a:pt x="7" y="267"/>
                    </a:lnTo>
                    <a:lnTo>
                      <a:pt x="4" y="263"/>
                    </a:lnTo>
                    <a:lnTo>
                      <a:pt x="3" y="261"/>
                    </a:lnTo>
                    <a:lnTo>
                      <a:pt x="2" y="259"/>
                    </a:lnTo>
                    <a:lnTo>
                      <a:pt x="1" y="257"/>
                    </a:lnTo>
                    <a:lnTo>
                      <a:pt x="0" y="254"/>
                    </a:lnTo>
                    <a:lnTo>
                      <a:pt x="0" y="249"/>
                    </a:lnTo>
                    <a:lnTo>
                      <a:pt x="0" y="242"/>
                    </a:lnTo>
                    <a:lnTo>
                      <a:pt x="2" y="236"/>
                    </a:lnTo>
                    <a:lnTo>
                      <a:pt x="5" y="230"/>
                    </a:lnTo>
                    <a:lnTo>
                      <a:pt x="7" y="228"/>
                    </a:lnTo>
                    <a:lnTo>
                      <a:pt x="9" y="226"/>
                    </a:lnTo>
                    <a:lnTo>
                      <a:pt x="13" y="222"/>
                    </a:lnTo>
                    <a:lnTo>
                      <a:pt x="18" y="218"/>
                    </a:lnTo>
                    <a:lnTo>
                      <a:pt x="24" y="215"/>
                    </a:lnTo>
                    <a:lnTo>
                      <a:pt x="31" y="212"/>
                    </a:lnTo>
                    <a:lnTo>
                      <a:pt x="44" y="206"/>
                    </a:lnTo>
                    <a:lnTo>
                      <a:pt x="58" y="201"/>
                    </a:lnTo>
                    <a:lnTo>
                      <a:pt x="65" y="198"/>
                    </a:lnTo>
                    <a:lnTo>
                      <a:pt x="73" y="194"/>
                    </a:lnTo>
                    <a:lnTo>
                      <a:pt x="79" y="190"/>
                    </a:lnTo>
                    <a:lnTo>
                      <a:pt x="85" y="185"/>
                    </a:lnTo>
                    <a:lnTo>
                      <a:pt x="92" y="178"/>
                    </a:lnTo>
                    <a:lnTo>
                      <a:pt x="98" y="170"/>
                    </a:lnTo>
                    <a:lnTo>
                      <a:pt x="104" y="161"/>
                    </a:lnTo>
                    <a:lnTo>
                      <a:pt x="109" y="152"/>
                    </a:lnTo>
                    <a:lnTo>
                      <a:pt x="118" y="133"/>
                    </a:lnTo>
                    <a:lnTo>
                      <a:pt x="127" y="116"/>
                    </a:lnTo>
                    <a:lnTo>
                      <a:pt x="132" y="108"/>
                    </a:lnTo>
                    <a:lnTo>
                      <a:pt x="137" y="100"/>
                    </a:lnTo>
                    <a:lnTo>
                      <a:pt x="142" y="94"/>
                    </a:lnTo>
                    <a:lnTo>
                      <a:pt x="145" y="90"/>
                    </a:lnTo>
                    <a:lnTo>
                      <a:pt x="148" y="88"/>
                    </a:lnTo>
                    <a:lnTo>
                      <a:pt x="151" y="85"/>
                    </a:lnTo>
                    <a:lnTo>
                      <a:pt x="155" y="83"/>
                    </a:lnTo>
                    <a:lnTo>
                      <a:pt x="162" y="79"/>
                    </a:lnTo>
                    <a:lnTo>
                      <a:pt x="166" y="78"/>
                    </a:lnTo>
                    <a:lnTo>
                      <a:pt x="171" y="77"/>
                    </a:lnTo>
                    <a:lnTo>
                      <a:pt x="176" y="76"/>
                    </a:lnTo>
                    <a:lnTo>
                      <a:pt x="181" y="76"/>
                    </a:lnTo>
                    <a:lnTo>
                      <a:pt x="187" y="76"/>
                    </a:lnTo>
                    <a:lnTo>
                      <a:pt x="192" y="77"/>
                    </a:lnTo>
                    <a:lnTo>
                      <a:pt x="198" y="79"/>
                    </a:lnTo>
                    <a:lnTo>
                      <a:pt x="203" y="80"/>
                    </a:lnTo>
                    <a:lnTo>
                      <a:pt x="209" y="83"/>
                    </a:lnTo>
                    <a:lnTo>
                      <a:pt x="213" y="85"/>
                    </a:lnTo>
                    <a:lnTo>
                      <a:pt x="217" y="88"/>
                    </a:lnTo>
                    <a:lnTo>
                      <a:pt x="222" y="92"/>
                    </a:lnTo>
                    <a:lnTo>
                      <a:pt x="226" y="95"/>
                    </a:lnTo>
                    <a:lnTo>
                      <a:pt x="229" y="99"/>
                    </a:lnTo>
                    <a:lnTo>
                      <a:pt x="236" y="108"/>
                    </a:lnTo>
                    <a:lnTo>
                      <a:pt x="250" y="126"/>
                    </a:lnTo>
                    <a:lnTo>
                      <a:pt x="263" y="145"/>
                    </a:lnTo>
                    <a:lnTo>
                      <a:pt x="270" y="154"/>
                    </a:lnTo>
                    <a:lnTo>
                      <a:pt x="274" y="158"/>
                    </a:lnTo>
                    <a:lnTo>
                      <a:pt x="278" y="162"/>
                    </a:lnTo>
                    <a:lnTo>
                      <a:pt x="286" y="168"/>
                    </a:lnTo>
                    <a:lnTo>
                      <a:pt x="291" y="171"/>
                    </a:lnTo>
                    <a:lnTo>
                      <a:pt x="296" y="173"/>
                    </a:lnTo>
                    <a:lnTo>
                      <a:pt x="301" y="175"/>
                    </a:lnTo>
                    <a:lnTo>
                      <a:pt x="306" y="176"/>
                    </a:lnTo>
                    <a:lnTo>
                      <a:pt x="312" y="177"/>
                    </a:lnTo>
                    <a:lnTo>
                      <a:pt x="318" y="177"/>
                    </a:lnTo>
                    <a:lnTo>
                      <a:pt x="321" y="177"/>
                    </a:lnTo>
                    <a:lnTo>
                      <a:pt x="325" y="176"/>
                    </a:lnTo>
                    <a:lnTo>
                      <a:pt x="327" y="174"/>
                    </a:lnTo>
                    <a:lnTo>
                      <a:pt x="330" y="172"/>
                    </a:lnTo>
                    <a:lnTo>
                      <a:pt x="332" y="170"/>
                    </a:lnTo>
                    <a:lnTo>
                      <a:pt x="335" y="167"/>
                    </a:lnTo>
                    <a:lnTo>
                      <a:pt x="339" y="161"/>
                    </a:lnTo>
                    <a:lnTo>
                      <a:pt x="344" y="155"/>
                    </a:lnTo>
                    <a:lnTo>
                      <a:pt x="349" y="150"/>
                    </a:lnTo>
                    <a:lnTo>
                      <a:pt x="351" y="148"/>
                    </a:lnTo>
                    <a:lnTo>
                      <a:pt x="354" y="147"/>
                    </a:lnTo>
                    <a:lnTo>
                      <a:pt x="357" y="145"/>
                    </a:lnTo>
                    <a:lnTo>
                      <a:pt x="361" y="145"/>
                    </a:lnTo>
                    <a:lnTo>
                      <a:pt x="366" y="145"/>
                    </a:lnTo>
                    <a:lnTo>
                      <a:pt x="370" y="146"/>
                    </a:lnTo>
                    <a:lnTo>
                      <a:pt x="375" y="147"/>
                    </a:lnTo>
                    <a:lnTo>
                      <a:pt x="379" y="148"/>
                    </a:lnTo>
                    <a:lnTo>
                      <a:pt x="383" y="150"/>
                    </a:lnTo>
                    <a:lnTo>
                      <a:pt x="386" y="152"/>
                    </a:lnTo>
                    <a:lnTo>
                      <a:pt x="393" y="157"/>
                    </a:lnTo>
                    <a:lnTo>
                      <a:pt x="399" y="163"/>
                    </a:lnTo>
                    <a:lnTo>
                      <a:pt x="404" y="170"/>
                    </a:lnTo>
                    <a:lnTo>
                      <a:pt x="409" y="178"/>
                    </a:lnTo>
                    <a:lnTo>
                      <a:pt x="414" y="186"/>
                    </a:lnTo>
                    <a:lnTo>
                      <a:pt x="423" y="202"/>
                    </a:lnTo>
                    <a:lnTo>
                      <a:pt x="428" y="211"/>
                    </a:lnTo>
                    <a:lnTo>
                      <a:pt x="433" y="219"/>
                    </a:lnTo>
                    <a:lnTo>
                      <a:pt x="440" y="227"/>
                    </a:lnTo>
                    <a:lnTo>
                      <a:pt x="446" y="234"/>
                    </a:lnTo>
                    <a:lnTo>
                      <a:pt x="454" y="240"/>
                    </a:lnTo>
                    <a:lnTo>
                      <a:pt x="458" y="243"/>
                    </a:lnTo>
                    <a:lnTo>
                      <a:pt x="463" y="245"/>
                    </a:lnTo>
                    <a:lnTo>
                      <a:pt x="492" y="245"/>
                    </a:lnTo>
                    <a:lnTo>
                      <a:pt x="492" y="214"/>
                    </a:lnTo>
                    <a:lnTo>
                      <a:pt x="492" y="209"/>
                    </a:lnTo>
                    <a:lnTo>
                      <a:pt x="491" y="204"/>
                    </a:lnTo>
                    <a:lnTo>
                      <a:pt x="490" y="199"/>
                    </a:lnTo>
                    <a:lnTo>
                      <a:pt x="489" y="195"/>
                    </a:lnTo>
                    <a:lnTo>
                      <a:pt x="485" y="186"/>
                    </a:lnTo>
                    <a:lnTo>
                      <a:pt x="482" y="178"/>
                    </a:lnTo>
                    <a:lnTo>
                      <a:pt x="477" y="169"/>
                    </a:lnTo>
                    <a:lnTo>
                      <a:pt x="474" y="161"/>
                    </a:lnTo>
                    <a:lnTo>
                      <a:pt x="473" y="156"/>
                    </a:lnTo>
                    <a:lnTo>
                      <a:pt x="472" y="151"/>
                    </a:lnTo>
                    <a:lnTo>
                      <a:pt x="471" y="146"/>
                    </a:lnTo>
                    <a:lnTo>
                      <a:pt x="471" y="140"/>
                    </a:lnTo>
                    <a:lnTo>
                      <a:pt x="471" y="134"/>
                    </a:lnTo>
                    <a:lnTo>
                      <a:pt x="472" y="128"/>
                    </a:lnTo>
                    <a:lnTo>
                      <a:pt x="475" y="123"/>
                    </a:lnTo>
                    <a:lnTo>
                      <a:pt x="477" y="118"/>
                    </a:lnTo>
                    <a:lnTo>
                      <a:pt x="482" y="113"/>
                    </a:lnTo>
                    <a:lnTo>
                      <a:pt x="486" y="109"/>
                    </a:lnTo>
                    <a:lnTo>
                      <a:pt x="490" y="105"/>
                    </a:lnTo>
                    <a:lnTo>
                      <a:pt x="495" y="102"/>
                    </a:lnTo>
                    <a:lnTo>
                      <a:pt x="500" y="99"/>
                    </a:lnTo>
                    <a:lnTo>
                      <a:pt x="506" y="96"/>
                    </a:lnTo>
                    <a:lnTo>
                      <a:pt x="518" y="91"/>
                    </a:lnTo>
                    <a:lnTo>
                      <a:pt x="531" y="87"/>
                    </a:lnTo>
                    <a:lnTo>
                      <a:pt x="544" y="84"/>
                    </a:lnTo>
                    <a:lnTo>
                      <a:pt x="551" y="103"/>
                    </a:lnTo>
                    <a:lnTo>
                      <a:pt x="558" y="119"/>
                    </a:lnTo>
                    <a:lnTo>
                      <a:pt x="562" y="127"/>
                    </a:lnTo>
                    <a:lnTo>
                      <a:pt x="564" y="131"/>
                    </a:lnTo>
                    <a:lnTo>
                      <a:pt x="567" y="134"/>
                    </a:lnTo>
                    <a:lnTo>
                      <a:pt x="570" y="138"/>
                    </a:lnTo>
                    <a:lnTo>
                      <a:pt x="573" y="141"/>
                    </a:lnTo>
                    <a:lnTo>
                      <a:pt x="580" y="149"/>
                    </a:lnTo>
                    <a:lnTo>
                      <a:pt x="586" y="145"/>
                    </a:lnTo>
                    <a:lnTo>
                      <a:pt x="591" y="139"/>
                    </a:lnTo>
                    <a:lnTo>
                      <a:pt x="596" y="134"/>
                    </a:lnTo>
                    <a:lnTo>
                      <a:pt x="600" y="128"/>
                    </a:lnTo>
                    <a:lnTo>
                      <a:pt x="603" y="122"/>
                    </a:lnTo>
                    <a:lnTo>
                      <a:pt x="606" y="115"/>
                    </a:lnTo>
                    <a:lnTo>
                      <a:pt x="607" y="111"/>
                    </a:lnTo>
                    <a:lnTo>
                      <a:pt x="607" y="108"/>
                    </a:lnTo>
                    <a:lnTo>
                      <a:pt x="608" y="100"/>
                    </a:lnTo>
                    <a:lnTo>
                      <a:pt x="608" y="97"/>
                    </a:lnTo>
                    <a:lnTo>
                      <a:pt x="607" y="94"/>
                    </a:lnTo>
                    <a:lnTo>
                      <a:pt x="605" y="89"/>
                    </a:lnTo>
                    <a:lnTo>
                      <a:pt x="603" y="84"/>
                    </a:lnTo>
                    <a:lnTo>
                      <a:pt x="600" y="80"/>
                    </a:lnTo>
                    <a:lnTo>
                      <a:pt x="597" y="76"/>
                    </a:lnTo>
                    <a:lnTo>
                      <a:pt x="594" y="71"/>
                    </a:lnTo>
                    <a:lnTo>
                      <a:pt x="593" y="69"/>
                    </a:lnTo>
                    <a:lnTo>
                      <a:pt x="592" y="66"/>
                    </a:lnTo>
                    <a:lnTo>
                      <a:pt x="592" y="63"/>
                    </a:lnTo>
                    <a:lnTo>
                      <a:pt x="592" y="60"/>
                    </a:lnTo>
                    <a:lnTo>
                      <a:pt x="592" y="56"/>
                    </a:lnTo>
                    <a:lnTo>
                      <a:pt x="593" y="53"/>
                    </a:lnTo>
                    <a:lnTo>
                      <a:pt x="596" y="46"/>
                    </a:lnTo>
                    <a:lnTo>
                      <a:pt x="598" y="44"/>
                    </a:lnTo>
                    <a:lnTo>
                      <a:pt x="600" y="41"/>
                    </a:lnTo>
                    <a:lnTo>
                      <a:pt x="603" y="39"/>
                    </a:lnTo>
                    <a:lnTo>
                      <a:pt x="605" y="36"/>
                    </a:lnTo>
                    <a:lnTo>
                      <a:pt x="612" y="32"/>
                    </a:lnTo>
                    <a:lnTo>
                      <a:pt x="619" y="28"/>
                    </a:lnTo>
                    <a:lnTo>
                      <a:pt x="626" y="24"/>
                    </a:lnTo>
                    <a:lnTo>
                      <a:pt x="633" y="20"/>
                    </a:lnTo>
                    <a:lnTo>
                      <a:pt x="636" y="27"/>
                    </a:lnTo>
                    <a:lnTo>
                      <a:pt x="640" y="33"/>
                    </a:lnTo>
                    <a:lnTo>
                      <a:pt x="642" y="36"/>
                    </a:lnTo>
                    <a:lnTo>
                      <a:pt x="644" y="38"/>
                    </a:lnTo>
                    <a:lnTo>
                      <a:pt x="646" y="41"/>
                    </a:lnTo>
                    <a:lnTo>
                      <a:pt x="649" y="43"/>
                    </a:lnTo>
                    <a:lnTo>
                      <a:pt x="654" y="47"/>
                    </a:lnTo>
                    <a:lnTo>
                      <a:pt x="660" y="50"/>
                    </a:lnTo>
                    <a:lnTo>
                      <a:pt x="666" y="53"/>
                    </a:lnTo>
                    <a:lnTo>
                      <a:pt x="673" y="56"/>
                    </a:lnTo>
                    <a:lnTo>
                      <a:pt x="676" y="50"/>
                    </a:lnTo>
                    <a:lnTo>
                      <a:pt x="679" y="43"/>
                    </a:lnTo>
                    <a:lnTo>
                      <a:pt x="683" y="31"/>
                    </a:lnTo>
                    <a:lnTo>
                      <a:pt x="684" y="25"/>
                    </a:lnTo>
                    <a:lnTo>
                      <a:pt x="684" y="19"/>
                    </a:lnTo>
                    <a:lnTo>
                      <a:pt x="685" y="4"/>
                    </a:lnTo>
                    <a:lnTo>
                      <a:pt x="705" y="0"/>
                    </a:lnTo>
                    <a:lnTo>
                      <a:pt x="716" y="6"/>
                    </a:lnTo>
                    <a:lnTo>
                      <a:pt x="721" y="9"/>
                    </a:lnTo>
                    <a:lnTo>
                      <a:pt x="726" y="12"/>
                    </a:lnTo>
                    <a:lnTo>
                      <a:pt x="730" y="15"/>
                    </a:lnTo>
                    <a:lnTo>
                      <a:pt x="734" y="19"/>
                    </a:lnTo>
                    <a:lnTo>
                      <a:pt x="735" y="22"/>
                    </a:lnTo>
                    <a:lnTo>
                      <a:pt x="736" y="24"/>
                    </a:lnTo>
                    <a:lnTo>
                      <a:pt x="737" y="27"/>
                    </a:lnTo>
                    <a:lnTo>
                      <a:pt x="737" y="30"/>
                    </a:lnTo>
                    <a:lnTo>
                      <a:pt x="736" y="36"/>
                    </a:lnTo>
                    <a:lnTo>
                      <a:pt x="735" y="42"/>
                    </a:lnTo>
                    <a:lnTo>
                      <a:pt x="733" y="48"/>
                    </a:lnTo>
                    <a:lnTo>
                      <a:pt x="731" y="53"/>
                    </a:lnTo>
                    <a:lnTo>
                      <a:pt x="728" y="58"/>
                    </a:lnTo>
                    <a:lnTo>
                      <a:pt x="724" y="62"/>
                    </a:lnTo>
                    <a:lnTo>
                      <a:pt x="717" y="71"/>
                    </a:lnTo>
                    <a:lnTo>
                      <a:pt x="713" y="76"/>
                    </a:lnTo>
                    <a:lnTo>
                      <a:pt x="709" y="80"/>
                    </a:lnTo>
                    <a:lnTo>
                      <a:pt x="703" y="89"/>
                    </a:lnTo>
                    <a:lnTo>
                      <a:pt x="700" y="95"/>
                    </a:lnTo>
                    <a:lnTo>
                      <a:pt x="699" y="100"/>
                    </a:lnTo>
                    <a:lnTo>
                      <a:pt x="697" y="106"/>
                    </a:lnTo>
                    <a:lnTo>
                      <a:pt x="697" y="112"/>
                    </a:lnTo>
                    <a:lnTo>
                      <a:pt x="697" y="120"/>
                    </a:lnTo>
                    <a:lnTo>
                      <a:pt x="698" y="127"/>
                    </a:lnTo>
                    <a:lnTo>
                      <a:pt x="701" y="134"/>
                    </a:lnTo>
                    <a:lnTo>
                      <a:pt x="703" y="140"/>
                    </a:lnTo>
                    <a:lnTo>
                      <a:pt x="707" y="147"/>
                    </a:lnTo>
                    <a:lnTo>
                      <a:pt x="711" y="152"/>
                    </a:lnTo>
                    <a:lnTo>
                      <a:pt x="715" y="157"/>
                    </a:lnTo>
                    <a:lnTo>
                      <a:pt x="721" y="162"/>
                    </a:lnTo>
                    <a:lnTo>
                      <a:pt x="732" y="171"/>
                    </a:lnTo>
                    <a:lnTo>
                      <a:pt x="745" y="179"/>
                    </a:lnTo>
                    <a:lnTo>
                      <a:pt x="760" y="186"/>
                    </a:lnTo>
                    <a:lnTo>
                      <a:pt x="774" y="193"/>
                    </a:lnTo>
                    <a:lnTo>
                      <a:pt x="772" y="197"/>
                    </a:lnTo>
                    <a:lnTo>
                      <a:pt x="771" y="200"/>
                    </a:lnTo>
                    <a:lnTo>
                      <a:pt x="767" y="206"/>
                    </a:lnTo>
                    <a:lnTo>
                      <a:pt x="763" y="211"/>
                    </a:lnTo>
                    <a:lnTo>
                      <a:pt x="759" y="216"/>
                    </a:lnTo>
                    <a:lnTo>
                      <a:pt x="753" y="220"/>
                    </a:lnTo>
                    <a:lnTo>
                      <a:pt x="748" y="224"/>
                    </a:lnTo>
                    <a:lnTo>
                      <a:pt x="742" y="227"/>
                    </a:lnTo>
                    <a:lnTo>
                      <a:pt x="737" y="231"/>
                    </a:lnTo>
                    <a:lnTo>
                      <a:pt x="725" y="237"/>
                    </a:lnTo>
                    <a:lnTo>
                      <a:pt x="715" y="245"/>
                    </a:lnTo>
                    <a:lnTo>
                      <a:pt x="710" y="249"/>
                    </a:lnTo>
                    <a:lnTo>
                      <a:pt x="705" y="254"/>
                    </a:lnTo>
                    <a:lnTo>
                      <a:pt x="701" y="259"/>
                    </a:lnTo>
                    <a:lnTo>
                      <a:pt x="699" y="262"/>
                    </a:lnTo>
                    <a:lnTo>
                      <a:pt x="697" y="265"/>
                    </a:lnTo>
                    <a:lnTo>
                      <a:pt x="693" y="272"/>
                    </a:lnTo>
                    <a:lnTo>
                      <a:pt x="690" y="279"/>
                    </a:lnTo>
                    <a:lnTo>
                      <a:pt x="684" y="293"/>
                    </a:lnTo>
                    <a:lnTo>
                      <a:pt x="682" y="301"/>
                    </a:lnTo>
                    <a:lnTo>
                      <a:pt x="680" y="308"/>
                    </a:lnTo>
                    <a:lnTo>
                      <a:pt x="677" y="321"/>
                    </a:lnTo>
                    <a:lnTo>
                      <a:pt x="674" y="334"/>
                    </a:lnTo>
                    <a:lnTo>
                      <a:pt x="673" y="347"/>
                    </a:lnTo>
                    <a:lnTo>
                      <a:pt x="673" y="361"/>
                    </a:lnTo>
                    <a:lnTo>
                      <a:pt x="673" y="374"/>
                    </a:lnTo>
                    <a:lnTo>
                      <a:pt x="674" y="387"/>
                    </a:lnTo>
                    <a:lnTo>
                      <a:pt x="675" y="401"/>
                    </a:lnTo>
                    <a:lnTo>
                      <a:pt x="677" y="429"/>
                    </a:lnTo>
                    <a:lnTo>
                      <a:pt x="679" y="444"/>
                    </a:lnTo>
                    <a:lnTo>
                      <a:pt x="680" y="460"/>
                    </a:lnTo>
                    <a:lnTo>
                      <a:pt x="681" y="475"/>
                    </a:lnTo>
                    <a:lnTo>
                      <a:pt x="681" y="491"/>
                    </a:lnTo>
                    <a:lnTo>
                      <a:pt x="681" y="504"/>
                    </a:lnTo>
                    <a:lnTo>
                      <a:pt x="682" y="517"/>
                    </a:lnTo>
                    <a:lnTo>
                      <a:pt x="683" y="530"/>
                    </a:lnTo>
                    <a:lnTo>
                      <a:pt x="684" y="542"/>
                    </a:lnTo>
                    <a:lnTo>
                      <a:pt x="686" y="554"/>
                    </a:lnTo>
                    <a:lnTo>
                      <a:pt x="689" y="565"/>
                    </a:lnTo>
                    <a:lnTo>
                      <a:pt x="692" y="576"/>
                    </a:lnTo>
                    <a:lnTo>
                      <a:pt x="695" y="587"/>
                    </a:lnTo>
                    <a:lnTo>
                      <a:pt x="699" y="598"/>
                    </a:lnTo>
                    <a:lnTo>
                      <a:pt x="703" y="609"/>
                    </a:lnTo>
                    <a:lnTo>
                      <a:pt x="707" y="619"/>
                    </a:lnTo>
                    <a:lnTo>
                      <a:pt x="712" y="629"/>
                    </a:lnTo>
                    <a:lnTo>
                      <a:pt x="717" y="639"/>
                    </a:lnTo>
                    <a:lnTo>
                      <a:pt x="722" y="648"/>
                    </a:lnTo>
                    <a:lnTo>
                      <a:pt x="734" y="667"/>
                    </a:lnTo>
                    <a:lnTo>
                      <a:pt x="747" y="685"/>
                    </a:lnTo>
                    <a:lnTo>
                      <a:pt x="762" y="703"/>
                    </a:lnTo>
                    <a:lnTo>
                      <a:pt x="777" y="721"/>
                    </a:lnTo>
                    <a:lnTo>
                      <a:pt x="793" y="739"/>
                    </a:lnTo>
                    <a:lnTo>
                      <a:pt x="828" y="775"/>
                    </a:lnTo>
                    <a:lnTo>
                      <a:pt x="866" y="813"/>
                    </a:lnTo>
                    <a:lnTo>
                      <a:pt x="848" y="830"/>
                    </a:lnTo>
                    <a:lnTo>
                      <a:pt x="839" y="838"/>
                    </a:lnTo>
                    <a:lnTo>
                      <a:pt x="831" y="846"/>
                    </a:lnTo>
                    <a:lnTo>
                      <a:pt x="822" y="853"/>
                    </a:lnTo>
                    <a:lnTo>
                      <a:pt x="813" y="860"/>
                    </a:lnTo>
                    <a:lnTo>
                      <a:pt x="804" y="866"/>
                    </a:lnTo>
                    <a:lnTo>
                      <a:pt x="795" y="871"/>
                    </a:lnTo>
                    <a:lnTo>
                      <a:pt x="786" y="876"/>
                    </a:lnTo>
                    <a:lnTo>
                      <a:pt x="776" y="880"/>
                    </a:lnTo>
                    <a:lnTo>
                      <a:pt x="766" y="884"/>
                    </a:lnTo>
                    <a:lnTo>
                      <a:pt x="756" y="887"/>
                    </a:lnTo>
                    <a:lnTo>
                      <a:pt x="744" y="890"/>
                    </a:lnTo>
                    <a:lnTo>
                      <a:pt x="733" y="892"/>
                    </a:lnTo>
                    <a:lnTo>
                      <a:pt x="721" y="893"/>
                    </a:lnTo>
                    <a:lnTo>
                      <a:pt x="709" y="893"/>
                    </a:lnTo>
                    <a:lnTo>
                      <a:pt x="701" y="893"/>
                    </a:lnTo>
                    <a:lnTo>
                      <a:pt x="697" y="892"/>
                    </a:lnTo>
                    <a:lnTo>
                      <a:pt x="694" y="891"/>
                    </a:lnTo>
                    <a:lnTo>
                      <a:pt x="687" y="889"/>
                    </a:lnTo>
                    <a:lnTo>
                      <a:pt x="684" y="888"/>
                    </a:lnTo>
                    <a:lnTo>
                      <a:pt x="681" y="886"/>
                    </a:lnTo>
                    <a:lnTo>
                      <a:pt x="675" y="883"/>
                    </a:lnTo>
                    <a:lnTo>
                      <a:pt x="669" y="879"/>
                    </a:lnTo>
                    <a:lnTo>
                      <a:pt x="663" y="874"/>
                    </a:lnTo>
                    <a:lnTo>
                      <a:pt x="658" y="870"/>
                    </a:lnTo>
                    <a:lnTo>
                      <a:pt x="647" y="860"/>
                    </a:lnTo>
                    <a:lnTo>
                      <a:pt x="636" y="851"/>
                    </a:lnTo>
                    <a:lnTo>
                      <a:pt x="630" y="847"/>
                    </a:lnTo>
                    <a:lnTo>
                      <a:pt x="623" y="843"/>
                    </a:lnTo>
                    <a:lnTo>
                      <a:pt x="615" y="840"/>
                    </a:lnTo>
                    <a:lnTo>
                      <a:pt x="608" y="837"/>
                    </a:lnTo>
                    <a:lnTo>
                      <a:pt x="596" y="834"/>
                    </a:lnTo>
                    <a:lnTo>
                      <a:pt x="584" y="832"/>
                    </a:lnTo>
                    <a:lnTo>
                      <a:pt x="573" y="831"/>
                    </a:lnTo>
                    <a:lnTo>
                      <a:pt x="562" y="831"/>
                    </a:lnTo>
                    <a:lnTo>
                      <a:pt x="552" y="831"/>
                    </a:lnTo>
                    <a:lnTo>
                      <a:pt x="541" y="832"/>
                    </a:lnTo>
                    <a:lnTo>
                      <a:pt x="521" y="834"/>
                    </a:lnTo>
                    <a:lnTo>
                      <a:pt x="500" y="836"/>
                    </a:lnTo>
                    <a:lnTo>
                      <a:pt x="490" y="836"/>
                    </a:lnTo>
                    <a:lnTo>
                      <a:pt x="479" y="836"/>
                    </a:lnTo>
                    <a:lnTo>
                      <a:pt x="468" y="835"/>
                    </a:lnTo>
                    <a:lnTo>
                      <a:pt x="457" y="833"/>
                    </a:lnTo>
                    <a:lnTo>
                      <a:pt x="446" y="830"/>
                    </a:lnTo>
                    <a:lnTo>
                      <a:pt x="435" y="825"/>
                    </a:lnTo>
                    <a:lnTo>
                      <a:pt x="426" y="820"/>
                    </a:lnTo>
                    <a:lnTo>
                      <a:pt x="417" y="815"/>
                    </a:lnTo>
                    <a:lnTo>
                      <a:pt x="410" y="808"/>
                    </a:lnTo>
                    <a:lnTo>
                      <a:pt x="403" y="801"/>
                    </a:lnTo>
                    <a:lnTo>
                      <a:pt x="400" y="797"/>
                    </a:lnTo>
                    <a:lnTo>
                      <a:pt x="397" y="793"/>
                    </a:lnTo>
                    <a:lnTo>
                      <a:pt x="392" y="785"/>
                    </a:lnTo>
                    <a:lnTo>
                      <a:pt x="381" y="769"/>
                    </a:lnTo>
                    <a:lnTo>
                      <a:pt x="370" y="753"/>
                    </a:lnTo>
                    <a:lnTo>
                      <a:pt x="364" y="746"/>
                    </a:lnTo>
                    <a:lnTo>
                      <a:pt x="357" y="740"/>
                    </a:lnTo>
                    <a:lnTo>
                      <a:pt x="350" y="735"/>
                    </a:lnTo>
                    <a:lnTo>
                      <a:pt x="346" y="733"/>
                    </a:lnTo>
                    <a:lnTo>
                      <a:pt x="341" y="731"/>
                    </a:lnTo>
                    <a:lnTo>
                      <a:pt x="332" y="729"/>
                    </a:lnTo>
                    <a:lnTo>
                      <a:pt x="322" y="728"/>
                    </a:lnTo>
                    <a:lnTo>
                      <a:pt x="315" y="729"/>
                    </a:lnTo>
                    <a:lnTo>
                      <a:pt x="309" y="730"/>
                    </a:lnTo>
                    <a:lnTo>
                      <a:pt x="304" y="732"/>
                    </a:lnTo>
                    <a:lnTo>
                      <a:pt x="299" y="735"/>
                    </a:lnTo>
                    <a:lnTo>
                      <a:pt x="294" y="738"/>
                    </a:lnTo>
                    <a:lnTo>
                      <a:pt x="290" y="741"/>
                    </a:lnTo>
                    <a:lnTo>
                      <a:pt x="281" y="749"/>
                    </a:lnTo>
                    <a:lnTo>
                      <a:pt x="273" y="757"/>
                    </a:lnTo>
                    <a:lnTo>
                      <a:pt x="269" y="761"/>
                    </a:lnTo>
                    <a:lnTo>
                      <a:pt x="264" y="766"/>
                    </a:lnTo>
                    <a:lnTo>
                      <a:pt x="259" y="770"/>
                    </a:lnTo>
                    <a:lnTo>
                      <a:pt x="254" y="773"/>
                    </a:lnTo>
                    <a:lnTo>
                      <a:pt x="248" y="775"/>
                    </a:lnTo>
                    <a:lnTo>
                      <a:pt x="242" y="777"/>
                    </a:lnTo>
                    <a:lnTo>
                      <a:pt x="222" y="76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030800" y="3792600"/>
                <a:ext cx="98280" cy="306360"/>
              </a:xfrm>
              <a:custGeom>
                <a:avLst/>
                <a:gdLst/>
                <a:ahLst/>
                <a:rect l="l" t="t" r="r" b="b"/>
                <a:pathLst>
                  <a:path w="245" h="773">
                    <a:moveTo>
                      <a:pt x="96" y="0"/>
                    </a:moveTo>
                    <a:lnTo>
                      <a:pt x="89" y="0"/>
                    </a:lnTo>
                    <a:lnTo>
                      <a:pt x="83" y="1"/>
                    </a:lnTo>
                    <a:lnTo>
                      <a:pt x="77" y="2"/>
                    </a:lnTo>
                    <a:lnTo>
                      <a:pt x="72" y="4"/>
                    </a:lnTo>
                    <a:lnTo>
                      <a:pt x="61" y="8"/>
                    </a:lnTo>
                    <a:lnTo>
                      <a:pt x="56" y="11"/>
                    </a:lnTo>
                    <a:lnTo>
                      <a:pt x="51" y="14"/>
                    </a:lnTo>
                    <a:lnTo>
                      <a:pt x="47" y="17"/>
                    </a:lnTo>
                    <a:lnTo>
                      <a:pt x="42" y="21"/>
                    </a:lnTo>
                    <a:lnTo>
                      <a:pt x="38" y="25"/>
                    </a:lnTo>
                    <a:lnTo>
                      <a:pt x="35" y="30"/>
                    </a:lnTo>
                    <a:lnTo>
                      <a:pt x="28" y="39"/>
                    </a:lnTo>
                    <a:lnTo>
                      <a:pt x="22" y="50"/>
                    </a:lnTo>
                    <a:lnTo>
                      <a:pt x="16" y="61"/>
                    </a:lnTo>
                    <a:lnTo>
                      <a:pt x="12" y="73"/>
                    </a:lnTo>
                    <a:lnTo>
                      <a:pt x="10" y="80"/>
                    </a:lnTo>
                    <a:lnTo>
                      <a:pt x="8" y="86"/>
                    </a:lnTo>
                    <a:lnTo>
                      <a:pt x="6" y="93"/>
                    </a:lnTo>
                    <a:lnTo>
                      <a:pt x="5" y="100"/>
                    </a:lnTo>
                    <a:lnTo>
                      <a:pt x="3" y="113"/>
                    </a:lnTo>
                    <a:lnTo>
                      <a:pt x="1" y="126"/>
                    </a:lnTo>
                    <a:lnTo>
                      <a:pt x="0" y="140"/>
                    </a:lnTo>
                    <a:lnTo>
                      <a:pt x="0" y="153"/>
                    </a:lnTo>
                    <a:lnTo>
                      <a:pt x="0" y="166"/>
                    </a:lnTo>
                    <a:lnTo>
                      <a:pt x="1" y="178"/>
                    </a:lnTo>
                    <a:lnTo>
                      <a:pt x="2" y="190"/>
                    </a:lnTo>
                    <a:lnTo>
                      <a:pt x="4" y="201"/>
                    </a:lnTo>
                    <a:lnTo>
                      <a:pt x="6" y="212"/>
                    </a:lnTo>
                    <a:lnTo>
                      <a:pt x="9" y="223"/>
                    </a:lnTo>
                    <a:lnTo>
                      <a:pt x="12" y="234"/>
                    </a:lnTo>
                    <a:lnTo>
                      <a:pt x="15" y="244"/>
                    </a:lnTo>
                    <a:lnTo>
                      <a:pt x="23" y="265"/>
                    </a:lnTo>
                    <a:lnTo>
                      <a:pt x="31" y="285"/>
                    </a:lnTo>
                    <a:lnTo>
                      <a:pt x="40" y="303"/>
                    </a:lnTo>
                    <a:lnTo>
                      <a:pt x="50" y="322"/>
                    </a:lnTo>
                    <a:lnTo>
                      <a:pt x="59" y="341"/>
                    </a:lnTo>
                    <a:lnTo>
                      <a:pt x="68" y="360"/>
                    </a:lnTo>
                    <a:lnTo>
                      <a:pt x="77" y="379"/>
                    </a:lnTo>
                    <a:lnTo>
                      <a:pt x="81" y="389"/>
                    </a:lnTo>
                    <a:lnTo>
                      <a:pt x="84" y="399"/>
                    </a:lnTo>
                    <a:lnTo>
                      <a:pt x="91" y="421"/>
                    </a:lnTo>
                    <a:lnTo>
                      <a:pt x="93" y="432"/>
                    </a:lnTo>
                    <a:lnTo>
                      <a:pt x="95" y="443"/>
                    </a:lnTo>
                    <a:lnTo>
                      <a:pt x="97" y="454"/>
                    </a:lnTo>
                    <a:lnTo>
                      <a:pt x="99" y="466"/>
                    </a:lnTo>
                    <a:lnTo>
                      <a:pt x="99" y="472"/>
                    </a:lnTo>
                    <a:lnTo>
                      <a:pt x="99" y="478"/>
                    </a:lnTo>
                    <a:lnTo>
                      <a:pt x="100" y="491"/>
                    </a:lnTo>
                    <a:lnTo>
                      <a:pt x="100" y="499"/>
                    </a:lnTo>
                    <a:lnTo>
                      <a:pt x="99" y="508"/>
                    </a:lnTo>
                    <a:lnTo>
                      <a:pt x="96" y="524"/>
                    </a:lnTo>
                    <a:lnTo>
                      <a:pt x="94" y="533"/>
                    </a:lnTo>
                    <a:lnTo>
                      <a:pt x="91" y="542"/>
                    </a:lnTo>
                    <a:lnTo>
                      <a:pt x="85" y="560"/>
                    </a:lnTo>
                    <a:lnTo>
                      <a:pt x="78" y="577"/>
                    </a:lnTo>
                    <a:lnTo>
                      <a:pt x="71" y="593"/>
                    </a:lnTo>
                    <a:lnTo>
                      <a:pt x="62" y="609"/>
                    </a:lnTo>
                    <a:lnTo>
                      <a:pt x="54" y="624"/>
                    </a:lnTo>
                    <a:lnTo>
                      <a:pt x="45" y="639"/>
                    </a:lnTo>
                    <a:lnTo>
                      <a:pt x="37" y="652"/>
                    </a:lnTo>
                    <a:lnTo>
                      <a:pt x="22" y="673"/>
                    </a:lnTo>
                    <a:lnTo>
                      <a:pt x="12" y="687"/>
                    </a:lnTo>
                    <a:lnTo>
                      <a:pt x="8" y="692"/>
                    </a:lnTo>
                    <a:lnTo>
                      <a:pt x="92" y="773"/>
                    </a:lnTo>
                    <a:lnTo>
                      <a:pt x="245" y="644"/>
                    </a:lnTo>
                    <a:lnTo>
                      <a:pt x="236" y="637"/>
                    </a:lnTo>
                    <a:lnTo>
                      <a:pt x="226" y="628"/>
                    </a:lnTo>
                    <a:lnTo>
                      <a:pt x="215" y="617"/>
                    </a:lnTo>
                    <a:lnTo>
                      <a:pt x="204" y="604"/>
                    </a:lnTo>
                    <a:lnTo>
                      <a:pt x="199" y="597"/>
                    </a:lnTo>
                    <a:lnTo>
                      <a:pt x="194" y="590"/>
                    </a:lnTo>
                    <a:lnTo>
                      <a:pt x="189" y="583"/>
                    </a:lnTo>
                    <a:lnTo>
                      <a:pt x="186" y="575"/>
                    </a:lnTo>
                    <a:lnTo>
                      <a:pt x="183" y="568"/>
                    </a:lnTo>
                    <a:lnTo>
                      <a:pt x="182" y="564"/>
                    </a:lnTo>
                    <a:lnTo>
                      <a:pt x="181" y="560"/>
                    </a:lnTo>
                    <a:lnTo>
                      <a:pt x="175" y="531"/>
                    </a:lnTo>
                    <a:lnTo>
                      <a:pt x="169" y="504"/>
                    </a:lnTo>
                    <a:lnTo>
                      <a:pt x="163" y="478"/>
                    </a:lnTo>
                    <a:lnTo>
                      <a:pt x="157" y="453"/>
                    </a:lnTo>
                    <a:lnTo>
                      <a:pt x="144" y="406"/>
                    </a:lnTo>
                    <a:lnTo>
                      <a:pt x="132" y="359"/>
                    </a:lnTo>
                    <a:lnTo>
                      <a:pt x="126" y="336"/>
                    </a:lnTo>
                    <a:lnTo>
                      <a:pt x="120" y="313"/>
                    </a:lnTo>
                    <a:lnTo>
                      <a:pt x="118" y="301"/>
                    </a:lnTo>
                    <a:lnTo>
                      <a:pt x="116" y="289"/>
                    </a:lnTo>
                    <a:lnTo>
                      <a:pt x="112" y="265"/>
                    </a:lnTo>
                    <a:lnTo>
                      <a:pt x="108" y="239"/>
                    </a:lnTo>
                    <a:lnTo>
                      <a:pt x="106" y="213"/>
                    </a:lnTo>
                    <a:lnTo>
                      <a:pt x="105" y="199"/>
                    </a:lnTo>
                    <a:lnTo>
                      <a:pt x="104" y="185"/>
                    </a:lnTo>
                    <a:lnTo>
                      <a:pt x="104" y="156"/>
                    </a:lnTo>
                    <a:lnTo>
                      <a:pt x="104" y="60"/>
                    </a:lnTo>
                    <a:lnTo>
                      <a:pt x="96" y="28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441840" y="3354120"/>
                <a:ext cx="474480" cy="320760"/>
              </a:xfrm>
              <a:custGeom>
                <a:avLst/>
                <a:gdLst/>
                <a:ahLst/>
                <a:rect l="l" t="t" r="r" b="b"/>
                <a:pathLst>
                  <a:path w="1195" h="809">
                    <a:moveTo>
                      <a:pt x="1195" y="225"/>
                    </a:moveTo>
                    <a:lnTo>
                      <a:pt x="1195" y="232"/>
                    </a:lnTo>
                    <a:lnTo>
                      <a:pt x="1194" y="239"/>
                    </a:lnTo>
                    <a:lnTo>
                      <a:pt x="1193" y="245"/>
                    </a:lnTo>
                    <a:lnTo>
                      <a:pt x="1192" y="251"/>
                    </a:lnTo>
                    <a:lnTo>
                      <a:pt x="1191" y="257"/>
                    </a:lnTo>
                    <a:lnTo>
                      <a:pt x="1189" y="263"/>
                    </a:lnTo>
                    <a:lnTo>
                      <a:pt x="1185" y="275"/>
                    </a:lnTo>
                    <a:lnTo>
                      <a:pt x="1182" y="280"/>
                    </a:lnTo>
                    <a:lnTo>
                      <a:pt x="1180" y="285"/>
                    </a:lnTo>
                    <a:lnTo>
                      <a:pt x="1174" y="295"/>
                    </a:lnTo>
                    <a:lnTo>
                      <a:pt x="1167" y="304"/>
                    </a:lnTo>
                    <a:lnTo>
                      <a:pt x="1159" y="313"/>
                    </a:lnTo>
                    <a:lnTo>
                      <a:pt x="1151" y="322"/>
                    </a:lnTo>
                    <a:lnTo>
                      <a:pt x="1142" y="330"/>
                    </a:lnTo>
                    <a:lnTo>
                      <a:pt x="1124" y="348"/>
                    </a:lnTo>
                    <a:lnTo>
                      <a:pt x="1105" y="366"/>
                    </a:lnTo>
                    <a:lnTo>
                      <a:pt x="1096" y="376"/>
                    </a:lnTo>
                    <a:lnTo>
                      <a:pt x="1087" y="386"/>
                    </a:lnTo>
                    <a:lnTo>
                      <a:pt x="1081" y="393"/>
                    </a:lnTo>
                    <a:lnTo>
                      <a:pt x="1076" y="401"/>
                    </a:lnTo>
                    <a:lnTo>
                      <a:pt x="1072" y="409"/>
                    </a:lnTo>
                    <a:lnTo>
                      <a:pt x="1068" y="417"/>
                    </a:lnTo>
                    <a:lnTo>
                      <a:pt x="1061" y="435"/>
                    </a:lnTo>
                    <a:lnTo>
                      <a:pt x="1053" y="451"/>
                    </a:lnTo>
                    <a:lnTo>
                      <a:pt x="1050" y="458"/>
                    </a:lnTo>
                    <a:lnTo>
                      <a:pt x="1046" y="465"/>
                    </a:lnTo>
                    <a:lnTo>
                      <a:pt x="1041" y="471"/>
                    </a:lnTo>
                    <a:lnTo>
                      <a:pt x="1039" y="474"/>
                    </a:lnTo>
                    <a:lnTo>
                      <a:pt x="1036" y="477"/>
                    </a:lnTo>
                    <a:lnTo>
                      <a:pt x="1030" y="481"/>
                    </a:lnTo>
                    <a:lnTo>
                      <a:pt x="1027" y="483"/>
                    </a:lnTo>
                    <a:lnTo>
                      <a:pt x="1024" y="484"/>
                    </a:lnTo>
                    <a:lnTo>
                      <a:pt x="1020" y="486"/>
                    </a:lnTo>
                    <a:lnTo>
                      <a:pt x="1016" y="486"/>
                    </a:lnTo>
                    <a:lnTo>
                      <a:pt x="1008" y="487"/>
                    </a:lnTo>
                    <a:lnTo>
                      <a:pt x="996" y="486"/>
                    </a:lnTo>
                    <a:lnTo>
                      <a:pt x="991" y="485"/>
                    </a:lnTo>
                    <a:lnTo>
                      <a:pt x="986" y="484"/>
                    </a:lnTo>
                    <a:lnTo>
                      <a:pt x="981" y="482"/>
                    </a:lnTo>
                    <a:lnTo>
                      <a:pt x="977" y="480"/>
                    </a:lnTo>
                    <a:lnTo>
                      <a:pt x="972" y="477"/>
                    </a:lnTo>
                    <a:lnTo>
                      <a:pt x="968" y="475"/>
                    </a:lnTo>
                    <a:lnTo>
                      <a:pt x="960" y="468"/>
                    </a:lnTo>
                    <a:lnTo>
                      <a:pt x="953" y="461"/>
                    </a:lnTo>
                    <a:lnTo>
                      <a:pt x="945" y="452"/>
                    </a:lnTo>
                    <a:lnTo>
                      <a:pt x="938" y="443"/>
                    </a:lnTo>
                    <a:lnTo>
                      <a:pt x="934" y="427"/>
                    </a:lnTo>
                    <a:lnTo>
                      <a:pt x="932" y="439"/>
                    </a:lnTo>
                    <a:lnTo>
                      <a:pt x="929" y="450"/>
                    </a:lnTo>
                    <a:lnTo>
                      <a:pt x="926" y="461"/>
                    </a:lnTo>
                    <a:lnTo>
                      <a:pt x="923" y="466"/>
                    </a:lnTo>
                    <a:lnTo>
                      <a:pt x="920" y="471"/>
                    </a:lnTo>
                    <a:lnTo>
                      <a:pt x="915" y="479"/>
                    </a:lnTo>
                    <a:lnTo>
                      <a:pt x="911" y="483"/>
                    </a:lnTo>
                    <a:lnTo>
                      <a:pt x="908" y="486"/>
                    </a:lnTo>
                    <a:lnTo>
                      <a:pt x="904" y="489"/>
                    </a:lnTo>
                    <a:lnTo>
                      <a:pt x="899" y="492"/>
                    </a:lnTo>
                    <a:lnTo>
                      <a:pt x="894" y="494"/>
                    </a:lnTo>
                    <a:lnTo>
                      <a:pt x="889" y="495"/>
                    </a:lnTo>
                    <a:lnTo>
                      <a:pt x="898" y="504"/>
                    </a:lnTo>
                    <a:lnTo>
                      <a:pt x="907" y="512"/>
                    </a:lnTo>
                    <a:lnTo>
                      <a:pt x="916" y="521"/>
                    </a:lnTo>
                    <a:lnTo>
                      <a:pt x="925" y="529"/>
                    </a:lnTo>
                    <a:lnTo>
                      <a:pt x="929" y="533"/>
                    </a:lnTo>
                    <a:lnTo>
                      <a:pt x="932" y="538"/>
                    </a:lnTo>
                    <a:lnTo>
                      <a:pt x="935" y="543"/>
                    </a:lnTo>
                    <a:lnTo>
                      <a:pt x="937" y="548"/>
                    </a:lnTo>
                    <a:lnTo>
                      <a:pt x="939" y="553"/>
                    </a:lnTo>
                    <a:lnTo>
                      <a:pt x="941" y="559"/>
                    </a:lnTo>
                    <a:lnTo>
                      <a:pt x="941" y="565"/>
                    </a:lnTo>
                    <a:lnTo>
                      <a:pt x="942" y="571"/>
                    </a:lnTo>
                    <a:lnTo>
                      <a:pt x="941" y="582"/>
                    </a:lnTo>
                    <a:lnTo>
                      <a:pt x="940" y="593"/>
                    </a:lnTo>
                    <a:lnTo>
                      <a:pt x="938" y="603"/>
                    </a:lnTo>
                    <a:lnTo>
                      <a:pt x="935" y="612"/>
                    </a:lnTo>
                    <a:lnTo>
                      <a:pt x="932" y="622"/>
                    </a:lnTo>
                    <a:lnTo>
                      <a:pt x="927" y="630"/>
                    </a:lnTo>
                    <a:lnTo>
                      <a:pt x="921" y="639"/>
                    </a:lnTo>
                    <a:lnTo>
                      <a:pt x="915" y="647"/>
                    </a:lnTo>
                    <a:lnTo>
                      <a:pt x="909" y="654"/>
                    </a:lnTo>
                    <a:lnTo>
                      <a:pt x="902" y="660"/>
                    </a:lnTo>
                    <a:lnTo>
                      <a:pt x="894" y="666"/>
                    </a:lnTo>
                    <a:lnTo>
                      <a:pt x="886" y="671"/>
                    </a:lnTo>
                    <a:lnTo>
                      <a:pt x="878" y="675"/>
                    </a:lnTo>
                    <a:lnTo>
                      <a:pt x="873" y="676"/>
                    </a:lnTo>
                    <a:lnTo>
                      <a:pt x="869" y="678"/>
                    </a:lnTo>
                    <a:lnTo>
                      <a:pt x="859" y="680"/>
                    </a:lnTo>
                    <a:lnTo>
                      <a:pt x="854" y="680"/>
                    </a:lnTo>
                    <a:lnTo>
                      <a:pt x="849" y="680"/>
                    </a:lnTo>
                    <a:lnTo>
                      <a:pt x="843" y="680"/>
                    </a:lnTo>
                    <a:lnTo>
                      <a:pt x="838" y="679"/>
                    </a:lnTo>
                    <a:lnTo>
                      <a:pt x="834" y="677"/>
                    </a:lnTo>
                    <a:lnTo>
                      <a:pt x="830" y="675"/>
                    </a:lnTo>
                    <a:lnTo>
                      <a:pt x="826" y="672"/>
                    </a:lnTo>
                    <a:lnTo>
                      <a:pt x="822" y="669"/>
                    </a:lnTo>
                    <a:lnTo>
                      <a:pt x="819" y="665"/>
                    </a:lnTo>
                    <a:lnTo>
                      <a:pt x="816" y="661"/>
                    </a:lnTo>
                    <a:lnTo>
                      <a:pt x="811" y="652"/>
                    </a:lnTo>
                    <a:lnTo>
                      <a:pt x="807" y="642"/>
                    </a:lnTo>
                    <a:lnTo>
                      <a:pt x="804" y="631"/>
                    </a:lnTo>
                    <a:lnTo>
                      <a:pt x="801" y="620"/>
                    </a:lnTo>
                    <a:lnTo>
                      <a:pt x="795" y="626"/>
                    </a:lnTo>
                    <a:lnTo>
                      <a:pt x="789" y="632"/>
                    </a:lnTo>
                    <a:lnTo>
                      <a:pt x="778" y="645"/>
                    </a:lnTo>
                    <a:lnTo>
                      <a:pt x="770" y="658"/>
                    </a:lnTo>
                    <a:lnTo>
                      <a:pt x="767" y="664"/>
                    </a:lnTo>
                    <a:lnTo>
                      <a:pt x="763" y="671"/>
                    </a:lnTo>
                    <a:lnTo>
                      <a:pt x="761" y="678"/>
                    </a:lnTo>
                    <a:lnTo>
                      <a:pt x="758" y="685"/>
                    </a:lnTo>
                    <a:lnTo>
                      <a:pt x="756" y="692"/>
                    </a:lnTo>
                    <a:lnTo>
                      <a:pt x="755" y="699"/>
                    </a:lnTo>
                    <a:lnTo>
                      <a:pt x="753" y="707"/>
                    </a:lnTo>
                    <a:lnTo>
                      <a:pt x="752" y="715"/>
                    </a:lnTo>
                    <a:lnTo>
                      <a:pt x="752" y="723"/>
                    </a:lnTo>
                    <a:lnTo>
                      <a:pt x="752" y="733"/>
                    </a:lnTo>
                    <a:lnTo>
                      <a:pt x="752" y="741"/>
                    </a:lnTo>
                    <a:lnTo>
                      <a:pt x="754" y="747"/>
                    </a:lnTo>
                    <a:lnTo>
                      <a:pt x="757" y="753"/>
                    </a:lnTo>
                    <a:lnTo>
                      <a:pt x="761" y="759"/>
                    </a:lnTo>
                    <a:lnTo>
                      <a:pt x="770" y="769"/>
                    </a:lnTo>
                    <a:lnTo>
                      <a:pt x="775" y="775"/>
                    </a:lnTo>
                    <a:lnTo>
                      <a:pt x="780" y="781"/>
                    </a:lnTo>
                    <a:lnTo>
                      <a:pt x="771" y="791"/>
                    </a:lnTo>
                    <a:lnTo>
                      <a:pt x="762" y="800"/>
                    </a:lnTo>
                    <a:lnTo>
                      <a:pt x="757" y="804"/>
                    </a:lnTo>
                    <a:lnTo>
                      <a:pt x="752" y="807"/>
                    </a:lnTo>
                    <a:lnTo>
                      <a:pt x="746" y="808"/>
                    </a:lnTo>
                    <a:lnTo>
                      <a:pt x="742" y="809"/>
                    </a:lnTo>
                    <a:lnTo>
                      <a:pt x="739" y="809"/>
                    </a:lnTo>
                    <a:lnTo>
                      <a:pt x="661" y="809"/>
                    </a:lnTo>
                    <a:lnTo>
                      <a:pt x="656" y="809"/>
                    </a:lnTo>
                    <a:lnTo>
                      <a:pt x="651" y="807"/>
                    </a:lnTo>
                    <a:lnTo>
                      <a:pt x="649" y="806"/>
                    </a:lnTo>
                    <a:lnTo>
                      <a:pt x="646" y="805"/>
                    </a:lnTo>
                    <a:lnTo>
                      <a:pt x="642" y="802"/>
                    </a:lnTo>
                    <a:lnTo>
                      <a:pt x="639" y="798"/>
                    </a:lnTo>
                    <a:lnTo>
                      <a:pt x="637" y="794"/>
                    </a:lnTo>
                    <a:lnTo>
                      <a:pt x="635" y="790"/>
                    </a:lnTo>
                    <a:lnTo>
                      <a:pt x="635" y="785"/>
                    </a:lnTo>
                    <a:lnTo>
                      <a:pt x="635" y="782"/>
                    </a:lnTo>
                    <a:lnTo>
                      <a:pt x="635" y="779"/>
                    </a:lnTo>
                    <a:lnTo>
                      <a:pt x="637" y="774"/>
                    </a:lnTo>
                    <a:lnTo>
                      <a:pt x="640" y="769"/>
                    </a:lnTo>
                    <a:lnTo>
                      <a:pt x="643" y="765"/>
                    </a:lnTo>
                    <a:lnTo>
                      <a:pt x="646" y="761"/>
                    </a:lnTo>
                    <a:lnTo>
                      <a:pt x="649" y="756"/>
                    </a:lnTo>
                    <a:lnTo>
                      <a:pt x="651" y="751"/>
                    </a:lnTo>
                    <a:lnTo>
                      <a:pt x="652" y="748"/>
                    </a:lnTo>
                    <a:lnTo>
                      <a:pt x="652" y="745"/>
                    </a:lnTo>
                    <a:lnTo>
                      <a:pt x="651" y="737"/>
                    </a:lnTo>
                    <a:lnTo>
                      <a:pt x="650" y="728"/>
                    </a:lnTo>
                    <a:lnTo>
                      <a:pt x="649" y="721"/>
                    </a:lnTo>
                    <a:lnTo>
                      <a:pt x="646" y="714"/>
                    </a:lnTo>
                    <a:lnTo>
                      <a:pt x="643" y="708"/>
                    </a:lnTo>
                    <a:lnTo>
                      <a:pt x="640" y="702"/>
                    </a:lnTo>
                    <a:lnTo>
                      <a:pt x="637" y="696"/>
                    </a:lnTo>
                    <a:lnTo>
                      <a:pt x="633" y="690"/>
                    </a:lnTo>
                    <a:lnTo>
                      <a:pt x="625" y="678"/>
                    </a:lnTo>
                    <a:lnTo>
                      <a:pt x="617" y="667"/>
                    </a:lnTo>
                    <a:lnTo>
                      <a:pt x="608" y="654"/>
                    </a:lnTo>
                    <a:lnTo>
                      <a:pt x="599" y="640"/>
                    </a:lnTo>
                    <a:lnTo>
                      <a:pt x="595" y="633"/>
                    </a:lnTo>
                    <a:lnTo>
                      <a:pt x="592" y="625"/>
                    </a:lnTo>
                    <a:lnTo>
                      <a:pt x="587" y="609"/>
                    </a:lnTo>
                    <a:lnTo>
                      <a:pt x="584" y="602"/>
                    </a:lnTo>
                    <a:lnTo>
                      <a:pt x="582" y="599"/>
                    </a:lnTo>
                    <a:lnTo>
                      <a:pt x="580" y="597"/>
                    </a:lnTo>
                    <a:lnTo>
                      <a:pt x="577" y="595"/>
                    </a:lnTo>
                    <a:lnTo>
                      <a:pt x="574" y="593"/>
                    </a:lnTo>
                    <a:lnTo>
                      <a:pt x="571" y="592"/>
                    </a:lnTo>
                    <a:lnTo>
                      <a:pt x="567" y="592"/>
                    </a:lnTo>
                    <a:lnTo>
                      <a:pt x="562" y="593"/>
                    </a:lnTo>
                    <a:lnTo>
                      <a:pt x="557" y="594"/>
                    </a:lnTo>
                    <a:lnTo>
                      <a:pt x="553" y="596"/>
                    </a:lnTo>
                    <a:lnTo>
                      <a:pt x="550" y="599"/>
                    </a:lnTo>
                    <a:lnTo>
                      <a:pt x="542" y="605"/>
                    </a:lnTo>
                    <a:lnTo>
                      <a:pt x="535" y="612"/>
                    </a:lnTo>
                    <a:lnTo>
                      <a:pt x="527" y="605"/>
                    </a:lnTo>
                    <a:lnTo>
                      <a:pt x="520" y="598"/>
                    </a:lnTo>
                    <a:lnTo>
                      <a:pt x="514" y="590"/>
                    </a:lnTo>
                    <a:lnTo>
                      <a:pt x="507" y="582"/>
                    </a:lnTo>
                    <a:lnTo>
                      <a:pt x="496" y="565"/>
                    </a:lnTo>
                    <a:lnTo>
                      <a:pt x="486" y="550"/>
                    </a:lnTo>
                    <a:lnTo>
                      <a:pt x="481" y="543"/>
                    </a:lnTo>
                    <a:lnTo>
                      <a:pt x="476" y="536"/>
                    </a:lnTo>
                    <a:lnTo>
                      <a:pt x="470" y="530"/>
                    </a:lnTo>
                    <a:lnTo>
                      <a:pt x="463" y="525"/>
                    </a:lnTo>
                    <a:lnTo>
                      <a:pt x="456" y="521"/>
                    </a:lnTo>
                    <a:lnTo>
                      <a:pt x="448" y="518"/>
                    </a:lnTo>
                    <a:lnTo>
                      <a:pt x="440" y="516"/>
                    </a:lnTo>
                    <a:lnTo>
                      <a:pt x="435" y="515"/>
                    </a:lnTo>
                    <a:lnTo>
                      <a:pt x="430" y="515"/>
                    </a:lnTo>
                    <a:lnTo>
                      <a:pt x="422" y="516"/>
                    </a:lnTo>
                    <a:lnTo>
                      <a:pt x="414" y="517"/>
                    </a:lnTo>
                    <a:lnTo>
                      <a:pt x="407" y="519"/>
                    </a:lnTo>
                    <a:lnTo>
                      <a:pt x="400" y="523"/>
                    </a:lnTo>
                    <a:lnTo>
                      <a:pt x="394" y="527"/>
                    </a:lnTo>
                    <a:lnTo>
                      <a:pt x="388" y="531"/>
                    </a:lnTo>
                    <a:lnTo>
                      <a:pt x="382" y="537"/>
                    </a:lnTo>
                    <a:lnTo>
                      <a:pt x="380" y="540"/>
                    </a:lnTo>
                    <a:lnTo>
                      <a:pt x="377" y="543"/>
                    </a:lnTo>
                    <a:lnTo>
                      <a:pt x="372" y="549"/>
                    </a:lnTo>
                    <a:lnTo>
                      <a:pt x="368" y="556"/>
                    </a:lnTo>
                    <a:lnTo>
                      <a:pt x="365" y="563"/>
                    </a:lnTo>
                    <a:lnTo>
                      <a:pt x="362" y="571"/>
                    </a:lnTo>
                    <a:lnTo>
                      <a:pt x="360" y="580"/>
                    </a:lnTo>
                    <a:lnTo>
                      <a:pt x="358" y="588"/>
                    </a:lnTo>
                    <a:lnTo>
                      <a:pt x="357" y="596"/>
                    </a:lnTo>
                    <a:lnTo>
                      <a:pt x="357" y="604"/>
                    </a:lnTo>
                    <a:lnTo>
                      <a:pt x="358" y="612"/>
                    </a:lnTo>
                    <a:lnTo>
                      <a:pt x="358" y="615"/>
                    </a:lnTo>
                    <a:lnTo>
                      <a:pt x="360" y="618"/>
                    </a:lnTo>
                    <a:lnTo>
                      <a:pt x="363" y="624"/>
                    </a:lnTo>
                    <a:lnTo>
                      <a:pt x="367" y="629"/>
                    </a:lnTo>
                    <a:lnTo>
                      <a:pt x="372" y="634"/>
                    </a:lnTo>
                    <a:lnTo>
                      <a:pt x="378" y="639"/>
                    </a:lnTo>
                    <a:lnTo>
                      <a:pt x="390" y="648"/>
                    </a:lnTo>
                    <a:lnTo>
                      <a:pt x="390" y="668"/>
                    </a:lnTo>
                    <a:lnTo>
                      <a:pt x="369" y="672"/>
                    </a:lnTo>
                    <a:lnTo>
                      <a:pt x="337" y="664"/>
                    </a:lnTo>
                    <a:lnTo>
                      <a:pt x="328" y="671"/>
                    </a:lnTo>
                    <a:lnTo>
                      <a:pt x="320" y="678"/>
                    </a:lnTo>
                    <a:lnTo>
                      <a:pt x="316" y="680"/>
                    </a:lnTo>
                    <a:lnTo>
                      <a:pt x="311" y="682"/>
                    </a:lnTo>
                    <a:lnTo>
                      <a:pt x="306" y="684"/>
                    </a:lnTo>
                    <a:lnTo>
                      <a:pt x="301" y="684"/>
                    </a:lnTo>
                    <a:lnTo>
                      <a:pt x="298" y="684"/>
                    </a:lnTo>
                    <a:lnTo>
                      <a:pt x="296" y="683"/>
                    </a:lnTo>
                    <a:lnTo>
                      <a:pt x="293" y="680"/>
                    </a:lnTo>
                    <a:lnTo>
                      <a:pt x="289" y="677"/>
                    </a:lnTo>
                    <a:lnTo>
                      <a:pt x="287" y="676"/>
                    </a:lnTo>
                    <a:lnTo>
                      <a:pt x="285" y="676"/>
                    </a:lnTo>
                    <a:lnTo>
                      <a:pt x="280" y="677"/>
                    </a:lnTo>
                    <a:lnTo>
                      <a:pt x="276" y="678"/>
                    </a:lnTo>
                    <a:lnTo>
                      <a:pt x="272" y="681"/>
                    </a:lnTo>
                    <a:lnTo>
                      <a:pt x="269" y="684"/>
                    </a:lnTo>
                    <a:lnTo>
                      <a:pt x="268" y="685"/>
                    </a:lnTo>
                    <a:lnTo>
                      <a:pt x="266" y="687"/>
                    </a:lnTo>
                    <a:lnTo>
                      <a:pt x="264" y="691"/>
                    </a:lnTo>
                    <a:lnTo>
                      <a:pt x="259" y="700"/>
                    </a:lnTo>
                    <a:lnTo>
                      <a:pt x="254" y="709"/>
                    </a:lnTo>
                    <a:lnTo>
                      <a:pt x="251" y="713"/>
                    </a:lnTo>
                    <a:lnTo>
                      <a:pt x="249" y="717"/>
                    </a:lnTo>
                    <a:lnTo>
                      <a:pt x="247" y="718"/>
                    </a:lnTo>
                    <a:lnTo>
                      <a:pt x="245" y="720"/>
                    </a:lnTo>
                    <a:lnTo>
                      <a:pt x="244" y="721"/>
                    </a:lnTo>
                    <a:lnTo>
                      <a:pt x="242" y="722"/>
                    </a:lnTo>
                    <a:lnTo>
                      <a:pt x="240" y="723"/>
                    </a:lnTo>
                    <a:lnTo>
                      <a:pt x="238" y="724"/>
                    </a:lnTo>
                    <a:lnTo>
                      <a:pt x="232" y="724"/>
                    </a:lnTo>
                    <a:lnTo>
                      <a:pt x="222" y="724"/>
                    </a:lnTo>
                    <a:lnTo>
                      <a:pt x="211" y="723"/>
                    </a:lnTo>
                    <a:lnTo>
                      <a:pt x="202" y="722"/>
                    </a:lnTo>
                    <a:lnTo>
                      <a:pt x="192" y="721"/>
                    </a:lnTo>
                    <a:lnTo>
                      <a:pt x="183" y="719"/>
                    </a:lnTo>
                    <a:lnTo>
                      <a:pt x="174" y="716"/>
                    </a:lnTo>
                    <a:lnTo>
                      <a:pt x="165" y="713"/>
                    </a:lnTo>
                    <a:lnTo>
                      <a:pt x="157" y="710"/>
                    </a:lnTo>
                    <a:lnTo>
                      <a:pt x="149" y="705"/>
                    </a:lnTo>
                    <a:lnTo>
                      <a:pt x="141" y="700"/>
                    </a:lnTo>
                    <a:lnTo>
                      <a:pt x="134" y="695"/>
                    </a:lnTo>
                    <a:lnTo>
                      <a:pt x="128" y="689"/>
                    </a:lnTo>
                    <a:lnTo>
                      <a:pt x="122" y="682"/>
                    </a:lnTo>
                    <a:lnTo>
                      <a:pt x="119" y="678"/>
                    </a:lnTo>
                    <a:lnTo>
                      <a:pt x="117" y="674"/>
                    </a:lnTo>
                    <a:lnTo>
                      <a:pt x="112" y="665"/>
                    </a:lnTo>
                    <a:lnTo>
                      <a:pt x="108" y="656"/>
                    </a:lnTo>
                    <a:lnTo>
                      <a:pt x="128" y="644"/>
                    </a:lnTo>
                    <a:lnTo>
                      <a:pt x="124" y="635"/>
                    </a:lnTo>
                    <a:lnTo>
                      <a:pt x="119" y="627"/>
                    </a:lnTo>
                    <a:lnTo>
                      <a:pt x="117" y="622"/>
                    </a:lnTo>
                    <a:lnTo>
                      <a:pt x="114" y="618"/>
                    </a:lnTo>
                    <a:lnTo>
                      <a:pt x="111" y="615"/>
                    </a:lnTo>
                    <a:lnTo>
                      <a:pt x="108" y="611"/>
                    </a:lnTo>
                    <a:lnTo>
                      <a:pt x="105" y="608"/>
                    </a:lnTo>
                    <a:lnTo>
                      <a:pt x="101" y="605"/>
                    </a:lnTo>
                    <a:lnTo>
                      <a:pt x="93" y="600"/>
                    </a:lnTo>
                    <a:lnTo>
                      <a:pt x="89" y="598"/>
                    </a:lnTo>
                    <a:lnTo>
                      <a:pt x="84" y="597"/>
                    </a:lnTo>
                    <a:lnTo>
                      <a:pt x="80" y="596"/>
                    </a:lnTo>
                    <a:lnTo>
                      <a:pt x="75" y="596"/>
                    </a:lnTo>
                    <a:lnTo>
                      <a:pt x="71" y="596"/>
                    </a:lnTo>
                    <a:lnTo>
                      <a:pt x="68" y="597"/>
                    </a:lnTo>
                    <a:lnTo>
                      <a:pt x="65" y="598"/>
                    </a:lnTo>
                    <a:lnTo>
                      <a:pt x="62" y="600"/>
                    </a:lnTo>
                    <a:lnTo>
                      <a:pt x="60" y="601"/>
                    </a:lnTo>
                    <a:lnTo>
                      <a:pt x="57" y="604"/>
                    </a:lnTo>
                    <a:lnTo>
                      <a:pt x="53" y="609"/>
                    </a:lnTo>
                    <a:lnTo>
                      <a:pt x="50" y="615"/>
                    </a:lnTo>
                    <a:lnTo>
                      <a:pt x="47" y="621"/>
                    </a:lnTo>
                    <a:lnTo>
                      <a:pt x="45" y="629"/>
                    </a:lnTo>
                    <a:lnTo>
                      <a:pt x="43" y="636"/>
                    </a:lnTo>
                    <a:lnTo>
                      <a:pt x="35" y="633"/>
                    </a:lnTo>
                    <a:lnTo>
                      <a:pt x="28" y="629"/>
                    </a:lnTo>
                    <a:lnTo>
                      <a:pt x="21" y="625"/>
                    </a:lnTo>
                    <a:lnTo>
                      <a:pt x="18" y="622"/>
                    </a:lnTo>
                    <a:lnTo>
                      <a:pt x="15" y="620"/>
                    </a:lnTo>
                    <a:lnTo>
                      <a:pt x="10" y="614"/>
                    </a:lnTo>
                    <a:lnTo>
                      <a:pt x="8" y="611"/>
                    </a:lnTo>
                    <a:lnTo>
                      <a:pt x="6" y="608"/>
                    </a:lnTo>
                    <a:lnTo>
                      <a:pt x="5" y="604"/>
                    </a:lnTo>
                    <a:lnTo>
                      <a:pt x="4" y="600"/>
                    </a:lnTo>
                    <a:lnTo>
                      <a:pt x="3" y="596"/>
                    </a:lnTo>
                    <a:lnTo>
                      <a:pt x="3" y="592"/>
                    </a:lnTo>
                    <a:lnTo>
                      <a:pt x="2" y="582"/>
                    </a:lnTo>
                    <a:lnTo>
                      <a:pt x="1" y="570"/>
                    </a:lnTo>
                    <a:lnTo>
                      <a:pt x="1" y="558"/>
                    </a:lnTo>
                    <a:lnTo>
                      <a:pt x="0" y="552"/>
                    </a:lnTo>
                    <a:lnTo>
                      <a:pt x="0" y="546"/>
                    </a:lnTo>
                    <a:lnTo>
                      <a:pt x="0" y="540"/>
                    </a:lnTo>
                    <a:lnTo>
                      <a:pt x="1" y="535"/>
                    </a:lnTo>
                    <a:lnTo>
                      <a:pt x="2" y="530"/>
                    </a:lnTo>
                    <a:lnTo>
                      <a:pt x="3" y="526"/>
                    </a:lnTo>
                    <a:lnTo>
                      <a:pt x="5" y="523"/>
                    </a:lnTo>
                    <a:lnTo>
                      <a:pt x="6" y="522"/>
                    </a:lnTo>
                    <a:lnTo>
                      <a:pt x="8" y="521"/>
                    </a:lnTo>
                    <a:lnTo>
                      <a:pt x="11" y="519"/>
                    </a:lnTo>
                    <a:lnTo>
                      <a:pt x="15" y="519"/>
                    </a:lnTo>
                    <a:lnTo>
                      <a:pt x="30" y="520"/>
                    </a:lnTo>
                    <a:lnTo>
                      <a:pt x="44" y="520"/>
                    </a:lnTo>
                    <a:lnTo>
                      <a:pt x="51" y="520"/>
                    </a:lnTo>
                    <a:lnTo>
                      <a:pt x="57" y="520"/>
                    </a:lnTo>
                    <a:lnTo>
                      <a:pt x="69" y="518"/>
                    </a:lnTo>
                    <a:lnTo>
                      <a:pt x="74" y="517"/>
                    </a:lnTo>
                    <a:lnTo>
                      <a:pt x="79" y="516"/>
                    </a:lnTo>
                    <a:lnTo>
                      <a:pt x="88" y="513"/>
                    </a:lnTo>
                    <a:lnTo>
                      <a:pt x="97" y="510"/>
                    </a:lnTo>
                    <a:lnTo>
                      <a:pt x="105" y="506"/>
                    </a:lnTo>
                    <a:lnTo>
                      <a:pt x="111" y="501"/>
                    </a:lnTo>
                    <a:lnTo>
                      <a:pt x="117" y="496"/>
                    </a:lnTo>
                    <a:lnTo>
                      <a:pt x="121" y="491"/>
                    </a:lnTo>
                    <a:lnTo>
                      <a:pt x="125" y="486"/>
                    </a:lnTo>
                    <a:lnTo>
                      <a:pt x="129" y="481"/>
                    </a:lnTo>
                    <a:lnTo>
                      <a:pt x="131" y="475"/>
                    </a:lnTo>
                    <a:lnTo>
                      <a:pt x="135" y="464"/>
                    </a:lnTo>
                    <a:lnTo>
                      <a:pt x="136" y="459"/>
                    </a:lnTo>
                    <a:lnTo>
                      <a:pt x="137" y="453"/>
                    </a:lnTo>
                    <a:lnTo>
                      <a:pt x="138" y="444"/>
                    </a:lnTo>
                    <a:lnTo>
                      <a:pt x="138" y="435"/>
                    </a:lnTo>
                    <a:lnTo>
                      <a:pt x="137" y="429"/>
                    </a:lnTo>
                    <a:lnTo>
                      <a:pt x="137" y="425"/>
                    </a:lnTo>
                    <a:lnTo>
                      <a:pt x="138" y="425"/>
                    </a:lnTo>
                    <a:lnTo>
                      <a:pt x="140" y="428"/>
                    </a:lnTo>
                    <a:lnTo>
                      <a:pt x="144" y="435"/>
                    </a:lnTo>
                    <a:lnTo>
                      <a:pt x="176" y="410"/>
                    </a:lnTo>
                    <a:lnTo>
                      <a:pt x="312" y="410"/>
                    </a:lnTo>
                    <a:lnTo>
                      <a:pt x="317" y="410"/>
                    </a:lnTo>
                    <a:lnTo>
                      <a:pt x="321" y="408"/>
                    </a:lnTo>
                    <a:lnTo>
                      <a:pt x="328" y="404"/>
                    </a:lnTo>
                    <a:lnTo>
                      <a:pt x="336" y="400"/>
                    </a:lnTo>
                    <a:lnTo>
                      <a:pt x="340" y="399"/>
                    </a:lnTo>
                    <a:lnTo>
                      <a:pt x="345" y="398"/>
                    </a:lnTo>
                    <a:lnTo>
                      <a:pt x="352" y="399"/>
                    </a:lnTo>
                    <a:lnTo>
                      <a:pt x="359" y="401"/>
                    </a:lnTo>
                    <a:lnTo>
                      <a:pt x="365" y="404"/>
                    </a:lnTo>
                    <a:lnTo>
                      <a:pt x="371" y="408"/>
                    </a:lnTo>
                    <a:lnTo>
                      <a:pt x="378" y="412"/>
                    </a:lnTo>
                    <a:lnTo>
                      <a:pt x="384" y="415"/>
                    </a:lnTo>
                    <a:lnTo>
                      <a:pt x="387" y="416"/>
                    </a:lnTo>
                    <a:lnTo>
                      <a:pt x="390" y="417"/>
                    </a:lnTo>
                    <a:lnTo>
                      <a:pt x="394" y="418"/>
                    </a:lnTo>
                    <a:lnTo>
                      <a:pt x="398" y="418"/>
                    </a:lnTo>
                    <a:lnTo>
                      <a:pt x="418" y="417"/>
                    </a:lnTo>
                    <a:lnTo>
                      <a:pt x="438" y="415"/>
                    </a:lnTo>
                    <a:lnTo>
                      <a:pt x="448" y="413"/>
                    </a:lnTo>
                    <a:lnTo>
                      <a:pt x="457" y="411"/>
                    </a:lnTo>
                    <a:lnTo>
                      <a:pt x="462" y="410"/>
                    </a:lnTo>
                    <a:lnTo>
                      <a:pt x="467" y="408"/>
                    </a:lnTo>
                    <a:lnTo>
                      <a:pt x="475" y="405"/>
                    </a:lnTo>
                    <a:lnTo>
                      <a:pt x="483" y="401"/>
                    </a:lnTo>
                    <a:lnTo>
                      <a:pt x="491" y="396"/>
                    </a:lnTo>
                    <a:lnTo>
                      <a:pt x="497" y="390"/>
                    </a:lnTo>
                    <a:lnTo>
                      <a:pt x="503" y="384"/>
                    </a:lnTo>
                    <a:lnTo>
                      <a:pt x="508" y="378"/>
                    </a:lnTo>
                    <a:lnTo>
                      <a:pt x="512" y="370"/>
                    </a:lnTo>
                    <a:lnTo>
                      <a:pt x="513" y="366"/>
                    </a:lnTo>
                    <a:lnTo>
                      <a:pt x="514" y="361"/>
                    </a:lnTo>
                    <a:lnTo>
                      <a:pt x="515" y="357"/>
                    </a:lnTo>
                    <a:lnTo>
                      <a:pt x="515" y="352"/>
                    </a:lnTo>
                    <a:lnTo>
                      <a:pt x="514" y="341"/>
                    </a:lnTo>
                    <a:lnTo>
                      <a:pt x="514" y="336"/>
                    </a:lnTo>
                    <a:lnTo>
                      <a:pt x="513" y="331"/>
                    </a:lnTo>
                    <a:lnTo>
                      <a:pt x="512" y="327"/>
                    </a:lnTo>
                    <a:lnTo>
                      <a:pt x="510" y="322"/>
                    </a:lnTo>
                    <a:lnTo>
                      <a:pt x="507" y="313"/>
                    </a:lnTo>
                    <a:lnTo>
                      <a:pt x="504" y="304"/>
                    </a:lnTo>
                    <a:lnTo>
                      <a:pt x="500" y="296"/>
                    </a:lnTo>
                    <a:lnTo>
                      <a:pt x="492" y="279"/>
                    </a:lnTo>
                    <a:lnTo>
                      <a:pt x="484" y="262"/>
                    </a:lnTo>
                    <a:lnTo>
                      <a:pt x="480" y="253"/>
                    </a:lnTo>
                    <a:lnTo>
                      <a:pt x="477" y="245"/>
                    </a:lnTo>
                    <a:lnTo>
                      <a:pt x="474" y="235"/>
                    </a:lnTo>
                    <a:lnTo>
                      <a:pt x="472" y="226"/>
                    </a:lnTo>
                    <a:lnTo>
                      <a:pt x="470" y="216"/>
                    </a:lnTo>
                    <a:lnTo>
                      <a:pt x="470" y="205"/>
                    </a:lnTo>
                    <a:lnTo>
                      <a:pt x="470" y="200"/>
                    </a:lnTo>
                    <a:lnTo>
                      <a:pt x="471" y="195"/>
                    </a:lnTo>
                    <a:lnTo>
                      <a:pt x="472" y="190"/>
                    </a:lnTo>
                    <a:lnTo>
                      <a:pt x="473" y="185"/>
                    </a:lnTo>
                    <a:lnTo>
                      <a:pt x="475" y="181"/>
                    </a:lnTo>
                    <a:lnTo>
                      <a:pt x="477" y="177"/>
                    </a:lnTo>
                    <a:lnTo>
                      <a:pt x="482" y="169"/>
                    </a:lnTo>
                    <a:lnTo>
                      <a:pt x="486" y="161"/>
                    </a:lnTo>
                    <a:lnTo>
                      <a:pt x="491" y="152"/>
                    </a:lnTo>
                    <a:lnTo>
                      <a:pt x="495" y="143"/>
                    </a:lnTo>
                    <a:lnTo>
                      <a:pt x="496" y="138"/>
                    </a:lnTo>
                    <a:lnTo>
                      <a:pt x="498" y="133"/>
                    </a:lnTo>
                    <a:lnTo>
                      <a:pt x="499" y="124"/>
                    </a:lnTo>
                    <a:lnTo>
                      <a:pt x="501" y="114"/>
                    </a:lnTo>
                    <a:lnTo>
                      <a:pt x="503" y="94"/>
                    </a:lnTo>
                    <a:lnTo>
                      <a:pt x="505" y="74"/>
                    </a:lnTo>
                    <a:lnTo>
                      <a:pt x="506" y="65"/>
                    </a:lnTo>
                    <a:lnTo>
                      <a:pt x="508" y="56"/>
                    </a:lnTo>
                    <a:lnTo>
                      <a:pt x="510" y="48"/>
                    </a:lnTo>
                    <a:lnTo>
                      <a:pt x="513" y="40"/>
                    </a:lnTo>
                    <a:lnTo>
                      <a:pt x="517" y="33"/>
                    </a:lnTo>
                    <a:lnTo>
                      <a:pt x="519" y="30"/>
                    </a:lnTo>
                    <a:lnTo>
                      <a:pt x="521" y="28"/>
                    </a:lnTo>
                    <a:lnTo>
                      <a:pt x="523" y="25"/>
                    </a:lnTo>
                    <a:lnTo>
                      <a:pt x="526" y="23"/>
                    </a:lnTo>
                    <a:lnTo>
                      <a:pt x="529" y="21"/>
                    </a:lnTo>
                    <a:lnTo>
                      <a:pt x="532" y="19"/>
                    </a:lnTo>
                    <a:lnTo>
                      <a:pt x="535" y="18"/>
                    </a:lnTo>
                    <a:lnTo>
                      <a:pt x="539" y="17"/>
                    </a:lnTo>
                    <a:lnTo>
                      <a:pt x="543" y="16"/>
                    </a:lnTo>
                    <a:lnTo>
                      <a:pt x="548" y="16"/>
                    </a:lnTo>
                    <a:lnTo>
                      <a:pt x="555" y="15"/>
                    </a:lnTo>
                    <a:lnTo>
                      <a:pt x="563" y="14"/>
                    </a:lnTo>
                    <a:lnTo>
                      <a:pt x="570" y="11"/>
                    </a:lnTo>
                    <a:lnTo>
                      <a:pt x="577" y="8"/>
                    </a:lnTo>
                    <a:lnTo>
                      <a:pt x="587" y="3"/>
                    </a:lnTo>
                    <a:lnTo>
                      <a:pt x="591" y="0"/>
                    </a:lnTo>
                    <a:lnTo>
                      <a:pt x="720" y="394"/>
                    </a:lnTo>
                    <a:lnTo>
                      <a:pt x="1195" y="22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557760" y="3090600"/>
                <a:ext cx="179280" cy="223920"/>
              </a:xfrm>
              <a:custGeom>
                <a:avLst/>
                <a:gdLst/>
                <a:ahLst/>
                <a:rect l="l" t="t" r="r" b="b"/>
                <a:pathLst>
                  <a:path w="451" h="563">
                    <a:moveTo>
                      <a:pt x="387" y="8"/>
                    </a:moveTo>
                    <a:lnTo>
                      <a:pt x="386" y="29"/>
                    </a:lnTo>
                    <a:lnTo>
                      <a:pt x="385" y="48"/>
                    </a:lnTo>
                    <a:lnTo>
                      <a:pt x="385" y="67"/>
                    </a:lnTo>
                    <a:lnTo>
                      <a:pt x="387" y="88"/>
                    </a:lnTo>
                    <a:lnTo>
                      <a:pt x="339" y="88"/>
                    </a:lnTo>
                    <a:lnTo>
                      <a:pt x="331" y="87"/>
                    </a:lnTo>
                    <a:lnTo>
                      <a:pt x="327" y="86"/>
                    </a:lnTo>
                    <a:lnTo>
                      <a:pt x="324" y="85"/>
                    </a:lnTo>
                    <a:lnTo>
                      <a:pt x="321" y="83"/>
                    </a:lnTo>
                    <a:lnTo>
                      <a:pt x="318" y="81"/>
                    </a:lnTo>
                    <a:lnTo>
                      <a:pt x="313" y="77"/>
                    </a:lnTo>
                    <a:lnTo>
                      <a:pt x="307" y="71"/>
                    </a:lnTo>
                    <a:lnTo>
                      <a:pt x="303" y="65"/>
                    </a:lnTo>
                    <a:lnTo>
                      <a:pt x="294" y="52"/>
                    </a:lnTo>
                    <a:lnTo>
                      <a:pt x="285" y="57"/>
                    </a:lnTo>
                    <a:lnTo>
                      <a:pt x="278" y="61"/>
                    </a:lnTo>
                    <a:lnTo>
                      <a:pt x="271" y="66"/>
                    </a:lnTo>
                    <a:lnTo>
                      <a:pt x="264" y="71"/>
                    </a:lnTo>
                    <a:lnTo>
                      <a:pt x="252" y="80"/>
                    </a:lnTo>
                    <a:lnTo>
                      <a:pt x="241" y="91"/>
                    </a:lnTo>
                    <a:lnTo>
                      <a:pt x="230" y="100"/>
                    </a:lnTo>
                    <a:lnTo>
                      <a:pt x="217" y="110"/>
                    </a:lnTo>
                    <a:lnTo>
                      <a:pt x="211" y="115"/>
                    </a:lnTo>
                    <a:lnTo>
                      <a:pt x="204" y="119"/>
                    </a:lnTo>
                    <a:lnTo>
                      <a:pt x="197" y="124"/>
                    </a:lnTo>
                    <a:lnTo>
                      <a:pt x="189" y="128"/>
                    </a:lnTo>
                    <a:lnTo>
                      <a:pt x="182" y="132"/>
                    </a:lnTo>
                    <a:lnTo>
                      <a:pt x="176" y="137"/>
                    </a:lnTo>
                    <a:lnTo>
                      <a:pt x="171" y="143"/>
                    </a:lnTo>
                    <a:lnTo>
                      <a:pt x="167" y="149"/>
                    </a:lnTo>
                    <a:lnTo>
                      <a:pt x="159" y="163"/>
                    </a:lnTo>
                    <a:lnTo>
                      <a:pt x="152" y="176"/>
                    </a:lnTo>
                    <a:lnTo>
                      <a:pt x="149" y="183"/>
                    </a:lnTo>
                    <a:lnTo>
                      <a:pt x="145" y="189"/>
                    </a:lnTo>
                    <a:lnTo>
                      <a:pt x="141" y="194"/>
                    </a:lnTo>
                    <a:lnTo>
                      <a:pt x="139" y="197"/>
                    </a:lnTo>
                    <a:lnTo>
                      <a:pt x="137" y="199"/>
                    </a:lnTo>
                    <a:lnTo>
                      <a:pt x="132" y="203"/>
                    </a:lnTo>
                    <a:lnTo>
                      <a:pt x="129" y="205"/>
                    </a:lnTo>
                    <a:lnTo>
                      <a:pt x="126" y="206"/>
                    </a:lnTo>
                    <a:lnTo>
                      <a:pt x="119" y="208"/>
                    </a:lnTo>
                    <a:lnTo>
                      <a:pt x="116" y="209"/>
                    </a:lnTo>
                    <a:lnTo>
                      <a:pt x="112" y="209"/>
                    </a:lnTo>
                    <a:lnTo>
                      <a:pt x="8" y="209"/>
                    </a:lnTo>
                    <a:lnTo>
                      <a:pt x="6" y="216"/>
                    </a:lnTo>
                    <a:lnTo>
                      <a:pt x="3" y="221"/>
                    </a:lnTo>
                    <a:lnTo>
                      <a:pt x="2" y="224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3"/>
                    </a:lnTo>
                    <a:lnTo>
                      <a:pt x="0" y="238"/>
                    </a:lnTo>
                    <a:lnTo>
                      <a:pt x="1" y="243"/>
                    </a:lnTo>
                    <a:lnTo>
                      <a:pt x="2" y="247"/>
                    </a:lnTo>
                    <a:lnTo>
                      <a:pt x="4" y="251"/>
                    </a:lnTo>
                    <a:lnTo>
                      <a:pt x="9" y="258"/>
                    </a:lnTo>
                    <a:lnTo>
                      <a:pt x="16" y="264"/>
                    </a:lnTo>
                    <a:lnTo>
                      <a:pt x="30" y="275"/>
                    </a:lnTo>
                    <a:lnTo>
                      <a:pt x="37" y="282"/>
                    </a:lnTo>
                    <a:lnTo>
                      <a:pt x="44" y="289"/>
                    </a:lnTo>
                    <a:lnTo>
                      <a:pt x="36" y="322"/>
                    </a:lnTo>
                    <a:lnTo>
                      <a:pt x="46" y="331"/>
                    </a:lnTo>
                    <a:lnTo>
                      <a:pt x="50" y="335"/>
                    </a:lnTo>
                    <a:lnTo>
                      <a:pt x="55" y="340"/>
                    </a:lnTo>
                    <a:lnTo>
                      <a:pt x="58" y="345"/>
                    </a:lnTo>
                    <a:lnTo>
                      <a:pt x="61" y="350"/>
                    </a:lnTo>
                    <a:lnTo>
                      <a:pt x="63" y="355"/>
                    </a:lnTo>
                    <a:lnTo>
                      <a:pt x="64" y="359"/>
                    </a:lnTo>
                    <a:lnTo>
                      <a:pt x="64" y="362"/>
                    </a:lnTo>
                    <a:lnTo>
                      <a:pt x="63" y="368"/>
                    </a:lnTo>
                    <a:lnTo>
                      <a:pt x="61" y="373"/>
                    </a:lnTo>
                    <a:lnTo>
                      <a:pt x="59" y="378"/>
                    </a:lnTo>
                    <a:lnTo>
                      <a:pt x="56" y="382"/>
                    </a:lnTo>
                    <a:lnTo>
                      <a:pt x="53" y="386"/>
                    </a:lnTo>
                    <a:lnTo>
                      <a:pt x="50" y="391"/>
                    </a:lnTo>
                    <a:lnTo>
                      <a:pt x="49" y="394"/>
                    </a:lnTo>
                    <a:lnTo>
                      <a:pt x="48" y="396"/>
                    </a:lnTo>
                    <a:lnTo>
                      <a:pt x="48" y="399"/>
                    </a:lnTo>
                    <a:lnTo>
                      <a:pt x="48" y="402"/>
                    </a:lnTo>
                    <a:lnTo>
                      <a:pt x="48" y="405"/>
                    </a:lnTo>
                    <a:lnTo>
                      <a:pt x="49" y="407"/>
                    </a:lnTo>
                    <a:lnTo>
                      <a:pt x="51" y="411"/>
                    </a:lnTo>
                    <a:lnTo>
                      <a:pt x="54" y="414"/>
                    </a:lnTo>
                    <a:lnTo>
                      <a:pt x="55" y="416"/>
                    </a:lnTo>
                    <a:lnTo>
                      <a:pt x="56" y="418"/>
                    </a:lnTo>
                    <a:lnTo>
                      <a:pt x="63" y="416"/>
                    </a:lnTo>
                    <a:lnTo>
                      <a:pt x="70" y="414"/>
                    </a:lnTo>
                    <a:lnTo>
                      <a:pt x="76" y="411"/>
                    </a:lnTo>
                    <a:lnTo>
                      <a:pt x="83" y="407"/>
                    </a:lnTo>
                    <a:lnTo>
                      <a:pt x="95" y="400"/>
                    </a:lnTo>
                    <a:lnTo>
                      <a:pt x="105" y="393"/>
                    </a:lnTo>
                    <a:lnTo>
                      <a:pt x="116" y="386"/>
                    </a:lnTo>
                    <a:lnTo>
                      <a:pt x="122" y="383"/>
                    </a:lnTo>
                    <a:lnTo>
                      <a:pt x="128" y="380"/>
                    </a:lnTo>
                    <a:lnTo>
                      <a:pt x="131" y="379"/>
                    </a:lnTo>
                    <a:lnTo>
                      <a:pt x="134" y="377"/>
                    </a:lnTo>
                    <a:lnTo>
                      <a:pt x="140" y="376"/>
                    </a:lnTo>
                    <a:lnTo>
                      <a:pt x="147" y="375"/>
                    </a:lnTo>
                    <a:lnTo>
                      <a:pt x="155" y="374"/>
                    </a:lnTo>
                    <a:lnTo>
                      <a:pt x="164" y="375"/>
                    </a:lnTo>
                    <a:lnTo>
                      <a:pt x="172" y="376"/>
                    </a:lnTo>
                    <a:lnTo>
                      <a:pt x="180" y="378"/>
                    </a:lnTo>
                    <a:lnTo>
                      <a:pt x="187" y="381"/>
                    </a:lnTo>
                    <a:lnTo>
                      <a:pt x="193" y="384"/>
                    </a:lnTo>
                    <a:lnTo>
                      <a:pt x="199" y="388"/>
                    </a:lnTo>
                    <a:lnTo>
                      <a:pt x="205" y="393"/>
                    </a:lnTo>
                    <a:lnTo>
                      <a:pt x="210" y="398"/>
                    </a:lnTo>
                    <a:lnTo>
                      <a:pt x="215" y="404"/>
                    </a:lnTo>
                    <a:lnTo>
                      <a:pt x="221" y="410"/>
                    </a:lnTo>
                    <a:lnTo>
                      <a:pt x="225" y="417"/>
                    </a:lnTo>
                    <a:lnTo>
                      <a:pt x="229" y="424"/>
                    </a:lnTo>
                    <a:lnTo>
                      <a:pt x="233" y="431"/>
                    </a:lnTo>
                    <a:lnTo>
                      <a:pt x="237" y="439"/>
                    </a:lnTo>
                    <a:lnTo>
                      <a:pt x="244" y="454"/>
                    </a:lnTo>
                    <a:lnTo>
                      <a:pt x="258" y="487"/>
                    </a:lnTo>
                    <a:lnTo>
                      <a:pt x="266" y="503"/>
                    </a:lnTo>
                    <a:lnTo>
                      <a:pt x="275" y="518"/>
                    </a:lnTo>
                    <a:lnTo>
                      <a:pt x="280" y="525"/>
                    </a:lnTo>
                    <a:lnTo>
                      <a:pt x="285" y="532"/>
                    </a:lnTo>
                    <a:lnTo>
                      <a:pt x="290" y="538"/>
                    </a:lnTo>
                    <a:lnTo>
                      <a:pt x="296" y="544"/>
                    </a:lnTo>
                    <a:lnTo>
                      <a:pt x="303" y="550"/>
                    </a:lnTo>
                    <a:lnTo>
                      <a:pt x="310" y="555"/>
                    </a:lnTo>
                    <a:lnTo>
                      <a:pt x="318" y="559"/>
                    </a:lnTo>
                    <a:lnTo>
                      <a:pt x="322" y="561"/>
                    </a:lnTo>
                    <a:lnTo>
                      <a:pt x="326" y="563"/>
                    </a:lnTo>
                    <a:lnTo>
                      <a:pt x="329" y="546"/>
                    </a:lnTo>
                    <a:lnTo>
                      <a:pt x="332" y="529"/>
                    </a:lnTo>
                    <a:lnTo>
                      <a:pt x="336" y="514"/>
                    </a:lnTo>
                    <a:lnTo>
                      <a:pt x="340" y="500"/>
                    </a:lnTo>
                    <a:lnTo>
                      <a:pt x="344" y="487"/>
                    </a:lnTo>
                    <a:lnTo>
                      <a:pt x="348" y="474"/>
                    </a:lnTo>
                    <a:lnTo>
                      <a:pt x="353" y="461"/>
                    </a:lnTo>
                    <a:lnTo>
                      <a:pt x="358" y="450"/>
                    </a:lnTo>
                    <a:lnTo>
                      <a:pt x="368" y="429"/>
                    </a:lnTo>
                    <a:lnTo>
                      <a:pt x="378" y="408"/>
                    </a:lnTo>
                    <a:lnTo>
                      <a:pt x="388" y="387"/>
                    </a:lnTo>
                    <a:lnTo>
                      <a:pt x="399" y="365"/>
                    </a:lnTo>
                    <a:lnTo>
                      <a:pt x="404" y="353"/>
                    </a:lnTo>
                    <a:lnTo>
                      <a:pt x="408" y="341"/>
                    </a:lnTo>
                    <a:lnTo>
                      <a:pt x="413" y="327"/>
                    </a:lnTo>
                    <a:lnTo>
                      <a:pt x="418" y="313"/>
                    </a:lnTo>
                    <a:lnTo>
                      <a:pt x="422" y="297"/>
                    </a:lnTo>
                    <a:lnTo>
                      <a:pt x="426" y="280"/>
                    </a:lnTo>
                    <a:lnTo>
                      <a:pt x="430" y="263"/>
                    </a:lnTo>
                    <a:lnTo>
                      <a:pt x="434" y="243"/>
                    </a:lnTo>
                    <a:lnTo>
                      <a:pt x="437" y="223"/>
                    </a:lnTo>
                    <a:lnTo>
                      <a:pt x="440" y="200"/>
                    </a:lnTo>
                    <a:lnTo>
                      <a:pt x="443" y="176"/>
                    </a:lnTo>
                    <a:lnTo>
                      <a:pt x="444" y="164"/>
                    </a:lnTo>
                    <a:lnTo>
                      <a:pt x="446" y="149"/>
                    </a:lnTo>
                    <a:lnTo>
                      <a:pt x="448" y="121"/>
                    </a:lnTo>
                    <a:lnTo>
                      <a:pt x="449" y="91"/>
                    </a:lnTo>
                    <a:lnTo>
                      <a:pt x="450" y="59"/>
                    </a:lnTo>
                    <a:lnTo>
                      <a:pt x="451" y="24"/>
                    </a:lnTo>
                    <a:lnTo>
                      <a:pt x="451" y="18"/>
                    </a:lnTo>
                    <a:lnTo>
                      <a:pt x="450" y="12"/>
                    </a:lnTo>
                    <a:lnTo>
                      <a:pt x="449" y="10"/>
                    </a:lnTo>
                    <a:lnTo>
                      <a:pt x="448" y="8"/>
                    </a:lnTo>
                    <a:lnTo>
                      <a:pt x="446" y="5"/>
                    </a:lnTo>
                    <a:lnTo>
                      <a:pt x="444" y="2"/>
                    </a:lnTo>
                    <a:lnTo>
                      <a:pt x="441" y="1"/>
                    </a:lnTo>
                    <a:lnTo>
                      <a:pt x="438" y="0"/>
                    </a:lnTo>
                    <a:lnTo>
                      <a:pt x="434" y="1"/>
                    </a:lnTo>
                    <a:lnTo>
                      <a:pt x="424" y="2"/>
                    </a:lnTo>
                    <a:lnTo>
                      <a:pt x="413" y="5"/>
                    </a:lnTo>
                    <a:lnTo>
                      <a:pt x="401" y="7"/>
                    </a:lnTo>
                    <a:lnTo>
                      <a:pt x="394" y="8"/>
                    </a:lnTo>
                    <a:lnTo>
                      <a:pt x="387" y="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800760" y="3112920"/>
                <a:ext cx="234720" cy="281160"/>
              </a:xfrm>
              <a:custGeom>
                <a:avLst/>
                <a:gdLst/>
                <a:ahLst/>
                <a:rect l="l" t="t" r="r" b="b"/>
                <a:pathLst>
                  <a:path w="593" h="708">
                    <a:moveTo>
                      <a:pt x="572" y="0"/>
                    </a:moveTo>
                    <a:lnTo>
                      <a:pt x="541" y="10"/>
                    </a:lnTo>
                    <a:lnTo>
                      <a:pt x="510" y="21"/>
                    </a:lnTo>
                    <a:lnTo>
                      <a:pt x="472" y="33"/>
                    </a:lnTo>
                    <a:lnTo>
                      <a:pt x="430" y="45"/>
                    </a:lnTo>
                    <a:lnTo>
                      <a:pt x="410" y="51"/>
                    </a:lnTo>
                    <a:lnTo>
                      <a:pt x="391" y="56"/>
                    </a:lnTo>
                    <a:lnTo>
                      <a:pt x="373" y="60"/>
                    </a:lnTo>
                    <a:lnTo>
                      <a:pt x="356" y="64"/>
                    </a:lnTo>
                    <a:lnTo>
                      <a:pt x="342" y="67"/>
                    </a:lnTo>
                    <a:lnTo>
                      <a:pt x="330" y="68"/>
                    </a:lnTo>
                    <a:lnTo>
                      <a:pt x="309" y="69"/>
                    </a:lnTo>
                    <a:lnTo>
                      <a:pt x="289" y="69"/>
                    </a:lnTo>
                    <a:lnTo>
                      <a:pt x="271" y="68"/>
                    </a:lnTo>
                    <a:lnTo>
                      <a:pt x="262" y="68"/>
                    </a:lnTo>
                    <a:lnTo>
                      <a:pt x="254" y="69"/>
                    </a:lnTo>
                    <a:lnTo>
                      <a:pt x="246" y="69"/>
                    </a:lnTo>
                    <a:lnTo>
                      <a:pt x="238" y="71"/>
                    </a:lnTo>
                    <a:lnTo>
                      <a:pt x="230" y="73"/>
                    </a:lnTo>
                    <a:lnTo>
                      <a:pt x="223" y="75"/>
                    </a:lnTo>
                    <a:lnTo>
                      <a:pt x="216" y="79"/>
                    </a:lnTo>
                    <a:lnTo>
                      <a:pt x="209" y="84"/>
                    </a:lnTo>
                    <a:lnTo>
                      <a:pt x="203" y="89"/>
                    </a:lnTo>
                    <a:lnTo>
                      <a:pt x="197" y="96"/>
                    </a:lnTo>
                    <a:lnTo>
                      <a:pt x="191" y="104"/>
                    </a:lnTo>
                    <a:lnTo>
                      <a:pt x="185" y="111"/>
                    </a:lnTo>
                    <a:lnTo>
                      <a:pt x="173" y="123"/>
                    </a:lnTo>
                    <a:lnTo>
                      <a:pt x="162" y="134"/>
                    </a:lnTo>
                    <a:lnTo>
                      <a:pt x="158" y="139"/>
                    </a:lnTo>
                    <a:lnTo>
                      <a:pt x="153" y="145"/>
                    </a:lnTo>
                    <a:lnTo>
                      <a:pt x="149" y="151"/>
                    </a:lnTo>
                    <a:lnTo>
                      <a:pt x="147" y="158"/>
                    </a:lnTo>
                    <a:lnTo>
                      <a:pt x="145" y="165"/>
                    </a:lnTo>
                    <a:lnTo>
                      <a:pt x="144" y="174"/>
                    </a:lnTo>
                    <a:lnTo>
                      <a:pt x="144" y="178"/>
                    </a:lnTo>
                    <a:lnTo>
                      <a:pt x="144" y="183"/>
                    </a:lnTo>
                    <a:lnTo>
                      <a:pt x="145" y="193"/>
                    </a:lnTo>
                    <a:lnTo>
                      <a:pt x="148" y="204"/>
                    </a:lnTo>
                    <a:lnTo>
                      <a:pt x="152" y="217"/>
                    </a:lnTo>
                    <a:lnTo>
                      <a:pt x="158" y="231"/>
                    </a:lnTo>
                    <a:lnTo>
                      <a:pt x="164" y="246"/>
                    </a:lnTo>
                    <a:lnTo>
                      <a:pt x="176" y="279"/>
                    </a:lnTo>
                    <a:lnTo>
                      <a:pt x="189" y="310"/>
                    </a:lnTo>
                    <a:lnTo>
                      <a:pt x="194" y="325"/>
                    </a:lnTo>
                    <a:lnTo>
                      <a:pt x="198" y="339"/>
                    </a:lnTo>
                    <a:lnTo>
                      <a:pt x="200" y="345"/>
                    </a:lnTo>
                    <a:lnTo>
                      <a:pt x="201" y="351"/>
                    </a:lnTo>
                    <a:lnTo>
                      <a:pt x="202" y="357"/>
                    </a:lnTo>
                    <a:lnTo>
                      <a:pt x="202" y="362"/>
                    </a:lnTo>
                    <a:lnTo>
                      <a:pt x="202" y="367"/>
                    </a:lnTo>
                    <a:lnTo>
                      <a:pt x="202" y="369"/>
                    </a:lnTo>
                    <a:lnTo>
                      <a:pt x="201" y="371"/>
                    </a:lnTo>
                    <a:lnTo>
                      <a:pt x="200" y="375"/>
                    </a:lnTo>
                    <a:lnTo>
                      <a:pt x="198" y="378"/>
                    </a:lnTo>
                    <a:lnTo>
                      <a:pt x="196" y="381"/>
                    </a:lnTo>
                    <a:lnTo>
                      <a:pt x="193" y="383"/>
                    </a:lnTo>
                    <a:lnTo>
                      <a:pt x="189" y="384"/>
                    </a:lnTo>
                    <a:lnTo>
                      <a:pt x="184" y="385"/>
                    </a:lnTo>
                    <a:lnTo>
                      <a:pt x="179" y="384"/>
                    </a:lnTo>
                    <a:lnTo>
                      <a:pt x="172" y="383"/>
                    </a:lnTo>
                    <a:lnTo>
                      <a:pt x="165" y="381"/>
                    </a:lnTo>
                    <a:lnTo>
                      <a:pt x="156" y="378"/>
                    </a:lnTo>
                    <a:lnTo>
                      <a:pt x="124" y="366"/>
                    </a:lnTo>
                    <a:lnTo>
                      <a:pt x="98" y="357"/>
                    </a:lnTo>
                    <a:lnTo>
                      <a:pt x="87" y="354"/>
                    </a:lnTo>
                    <a:lnTo>
                      <a:pt x="77" y="352"/>
                    </a:lnTo>
                    <a:lnTo>
                      <a:pt x="68" y="350"/>
                    </a:lnTo>
                    <a:lnTo>
                      <a:pt x="60" y="349"/>
                    </a:lnTo>
                    <a:lnTo>
                      <a:pt x="53" y="349"/>
                    </a:lnTo>
                    <a:lnTo>
                      <a:pt x="47" y="350"/>
                    </a:lnTo>
                    <a:lnTo>
                      <a:pt x="41" y="352"/>
                    </a:lnTo>
                    <a:lnTo>
                      <a:pt x="39" y="353"/>
                    </a:lnTo>
                    <a:lnTo>
                      <a:pt x="37" y="355"/>
                    </a:lnTo>
                    <a:lnTo>
                      <a:pt x="33" y="358"/>
                    </a:lnTo>
                    <a:lnTo>
                      <a:pt x="29" y="362"/>
                    </a:lnTo>
                    <a:lnTo>
                      <a:pt x="26" y="368"/>
                    </a:lnTo>
                    <a:lnTo>
                      <a:pt x="24" y="374"/>
                    </a:lnTo>
                    <a:lnTo>
                      <a:pt x="18" y="387"/>
                    </a:lnTo>
                    <a:lnTo>
                      <a:pt x="12" y="400"/>
                    </a:lnTo>
                    <a:lnTo>
                      <a:pt x="6" y="413"/>
                    </a:lnTo>
                    <a:lnTo>
                      <a:pt x="5" y="416"/>
                    </a:lnTo>
                    <a:lnTo>
                      <a:pt x="4" y="419"/>
                    </a:lnTo>
                    <a:lnTo>
                      <a:pt x="2" y="426"/>
                    </a:lnTo>
                    <a:lnTo>
                      <a:pt x="1" y="432"/>
                    </a:lnTo>
                    <a:lnTo>
                      <a:pt x="0" y="435"/>
                    </a:lnTo>
                    <a:lnTo>
                      <a:pt x="0" y="438"/>
                    </a:lnTo>
                    <a:lnTo>
                      <a:pt x="1" y="445"/>
                    </a:lnTo>
                    <a:lnTo>
                      <a:pt x="2" y="448"/>
                    </a:lnTo>
                    <a:lnTo>
                      <a:pt x="3" y="451"/>
                    </a:lnTo>
                    <a:lnTo>
                      <a:pt x="5" y="458"/>
                    </a:lnTo>
                    <a:lnTo>
                      <a:pt x="10" y="465"/>
                    </a:lnTo>
                    <a:lnTo>
                      <a:pt x="12" y="468"/>
                    </a:lnTo>
                    <a:lnTo>
                      <a:pt x="15" y="472"/>
                    </a:lnTo>
                    <a:lnTo>
                      <a:pt x="24" y="479"/>
                    </a:lnTo>
                    <a:lnTo>
                      <a:pt x="32" y="486"/>
                    </a:lnTo>
                    <a:lnTo>
                      <a:pt x="39" y="493"/>
                    </a:lnTo>
                    <a:lnTo>
                      <a:pt x="47" y="498"/>
                    </a:lnTo>
                    <a:lnTo>
                      <a:pt x="54" y="503"/>
                    </a:lnTo>
                    <a:lnTo>
                      <a:pt x="60" y="507"/>
                    </a:lnTo>
                    <a:lnTo>
                      <a:pt x="67" y="511"/>
                    </a:lnTo>
                    <a:lnTo>
                      <a:pt x="73" y="514"/>
                    </a:lnTo>
                    <a:lnTo>
                      <a:pt x="80" y="516"/>
                    </a:lnTo>
                    <a:lnTo>
                      <a:pt x="86" y="518"/>
                    </a:lnTo>
                    <a:lnTo>
                      <a:pt x="93" y="520"/>
                    </a:lnTo>
                    <a:lnTo>
                      <a:pt x="99" y="521"/>
                    </a:lnTo>
                    <a:lnTo>
                      <a:pt x="106" y="522"/>
                    </a:lnTo>
                    <a:lnTo>
                      <a:pt x="120" y="523"/>
                    </a:lnTo>
                    <a:lnTo>
                      <a:pt x="136" y="523"/>
                    </a:lnTo>
                    <a:lnTo>
                      <a:pt x="166" y="523"/>
                    </a:lnTo>
                    <a:lnTo>
                      <a:pt x="177" y="522"/>
                    </a:lnTo>
                    <a:lnTo>
                      <a:pt x="182" y="521"/>
                    </a:lnTo>
                    <a:lnTo>
                      <a:pt x="187" y="521"/>
                    </a:lnTo>
                    <a:lnTo>
                      <a:pt x="195" y="518"/>
                    </a:lnTo>
                    <a:lnTo>
                      <a:pt x="202" y="515"/>
                    </a:lnTo>
                    <a:lnTo>
                      <a:pt x="205" y="512"/>
                    </a:lnTo>
                    <a:lnTo>
                      <a:pt x="208" y="510"/>
                    </a:lnTo>
                    <a:lnTo>
                      <a:pt x="210" y="507"/>
                    </a:lnTo>
                    <a:lnTo>
                      <a:pt x="213" y="503"/>
                    </a:lnTo>
                    <a:lnTo>
                      <a:pt x="215" y="499"/>
                    </a:lnTo>
                    <a:lnTo>
                      <a:pt x="218" y="496"/>
                    </a:lnTo>
                    <a:lnTo>
                      <a:pt x="222" y="492"/>
                    </a:lnTo>
                    <a:lnTo>
                      <a:pt x="225" y="490"/>
                    </a:lnTo>
                    <a:lnTo>
                      <a:pt x="230" y="487"/>
                    </a:lnTo>
                    <a:lnTo>
                      <a:pt x="234" y="485"/>
                    </a:lnTo>
                    <a:lnTo>
                      <a:pt x="239" y="484"/>
                    </a:lnTo>
                    <a:lnTo>
                      <a:pt x="244" y="484"/>
                    </a:lnTo>
                    <a:lnTo>
                      <a:pt x="247" y="484"/>
                    </a:lnTo>
                    <a:lnTo>
                      <a:pt x="250" y="485"/>
                    </a:lnTo>
                    <a:lnTo>
                      <a:pt x="256" y="487"/>
                    </a:lnTo>
                    <a:lnTo>
                      <a:pt x="262" y="490"/>
                    </a:lnTo>
                    <a:lnTo>
                      <a:pt x="268" y="495"/>
                    </a:lnTo>
                    <a:lnTo>
                      <a:pt x="275" y="502"/>
                    </a:lnTo>
                    <a:lnTo>
                      <a:pt x="282" y="510"/>
                    </a:lnTo>
                    <a:lnTo>
                      <a:pt x="289" y="519"/>
                    </a:lnTo>
                    <a:lnTo>
                      <a:pt x="298" y="531"/>
                    </a:lnTo>
                    <a:lnTo>
                      <a:pt x="314" y="558"/>
                    </a:lnTo>
                    <a:lnTo>
                      <a:pt x="333" y="588"/>
                    </a:lnTo>
                    <a:lnTo>
                      <a:pt x="352" y="618"/>
                    </a:lnTo>
                    <a:lnTo>
                      <a:pt x="371" y="646"/>
                    </a:lnTo>
                    <a:lnTo>
                      <a:pt x="401" y="690"/>
                    </a:lnTo>
                    <a:lnTo>
                      <a:pt x="414" y="708"/>
                    </a:lnTo>
                    <a:lnTo>
                      <a:pt x="414" y="706"/>
                    </a:lnTo>
                    <a:lnTo>
                      <a:pt x="416" y="701"/>
                    </a:lnTo>
                    <a:lnTo>
                      <a:pt x="418" y="697"/>
                    </a:lnTo>
                    <a:lnTo>
                      <a:pt x="421" y="693"/>
                    </a:lnTo>
                    <a:lnTo>
                      <a:pt x="425" y="688"/>
                    </a:lnTo>
                    <a:lnTo>
                      <a:pt x="429" y="682"/>
                    </a:lnTo>
                    <a:lnTo>
                      <a:pt x="436" y="676"/>
                    </a:lnTo>
                    <a:lnTo>
                      <a:pt x="443" y="670"/>
                    </a:lnTo>
                    <a:lnTo>
                      <a:pt x="451" y="664"/>
                    </a:lnTo>
                    <a:lnTo>
                      <a:pt x="460" y="658"/>
                    </a:lnTo>
                    <a:lnTo>
                      <a:pt x="471" y="651"/>
                    </a:lnTo>
                    <a:lnTo>
                      <a:pt x="484" y="645"/>
                    </a:lnTo>
                    <a:lnTo>
                      <a:pt x="491" y="641"/>
                    </a:lnTo>
                    <a:lnTo>
                      <a:pt x="498" y="638"/>
                    </a:lnTo>
                    <a:lnTo>
                      <a:pt x="515" y="632"/>
                    </a:lnTo>
                    <a:lnTo>
                      <a:pt x="544" y="622"/>
                    </a:lnTo>
                    <a:lnTo>
                      <a:pt x="556" y="619"/>
                    </a:lnTo>
                    <a:lnTo>
                      <a:pt x="565" y="616"/>
                    </a:lnTo>
                    <a:lnTo>
                      <a:pt x="580" y="613"/>
                    </a:lnTo>
                    <a:lnTo>
                      <a:pt x="585" y="612"/>
                    </a:lnTo>
                    <a:lnTo>
                      <a:pt x="588" y="612"/>
                    </a:lnTo>
                    <a:lnTo>
                      <a:pt x="592" y="613"/>
                    </a:lnTo>
                    <a:lnTo>
                      <a:pt x="593" y="613"/>
                    </a:lnTo>
                    <a:lnTo>
                      <a:pt x="593" y="614"/>
                    </a:lnTo>
                    <a:lnTo>
                      <a:pt x="592" y="615"/>
                    </a:lnTo>
                    <a:lnTo>
                      <a:pt x="592" y="616"/>
                    </a:lnTo>
                    <a:lnTo>
                      <a:pt x="572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107120" y="3004920"/>
                <a:ext cx="142560" cy="225720"/>
              </a:xfrm>
              <a:custGeom>
                <a:avLst/>
                <a:gdLst/>
                <a:ahLst/>
                <a:rect l="l" t="t" r="r" b="b"/>
                <a:pathLst>
                  <a:path w="363" h="572">
                    <a:moveTo>
                      <a:pt x="363" y="24"/>
                    </a:moveTo>
                    <a:lnTo>
                      <a:pt x="350" y="20"/>
                    </a:lnTo>
                    <a:lnTo>
                      <a:pt x="335" y="15"/>
                    </a:lnTo>
                    <a:lnTo>
                      <a:pt x="315" y="11"/>
                    </a:lnTo>
                    <a:lnTo>
                      <a:pt x="292" y="6"/>
                    </a:lnTo>
                    <a:lnTo>
                      <a:pt x="279" y="4"/>
                    </a:lnTo>
                    <a:lnTo>
                      <a:pt x="266" y="2"/>
                    </a:lnTo>
                    <a:lnTo>
                      <a:pt x="251" y="1"/>
                    </a:lnTo>
                    <a:lnTo>
                      <a:pt x="237" y="0"/>
                    </a:lnTo>
                    <a:lnTo>
                      <a:pt x="221" y="0"/>
                    </a:lnTo>
                    <a:lnTo>
                      <a:pt x="205" y="0"/>
                    </a:lnTo>
                    <a:lnTo>
                      <a:pt x="197" y="1"/>
                    </a:lnTo>
                    <a:lnTo>
                      <a:pt x="189" y="2"/>
                    </a:lnTo>
                    <a:lnTo>
                      <a:pt x="172" y="6"/>
                    </a:lnTo>
                    <a:lnTo>
                      <a:pt x="155" y="11"/>
                    </a:lnTo>
                    <a:lnTo>
                      <a:pt x="137" y="17"/>
                    </a:lnTo>
                    <a:lnTo>
                      <a:pt x="120" y="25"/>
                    </a:lnTo>
                    <a:lnTo>
                      <a:pt x="103" y="34"/>
                    </a:lnTo>
                    <a:lnTo>
                      <a:pt x="87" y="42"/>
                    </a:lnTo>
                    <a:lnTo>
                      <a:pt x="71" y="52"/>
                    </a:lnTo>
                    <a:lnTo>
                      <a:pt x="56" y="61"/>
                    </a:lnTo>
                    <a:lnTo>
                      <a:pt x="42" y="71"/>
                    </a:lnTo>
                    <a:lnTo>
                      <a:pt x="20" y="86"/>
                    </a:lnTo>
                    <a:lnTo>
                      <a:pt x="5" y="97"/>
                    </a:lnTo>
                    <a:lnTo>
                      <a:pt x="0" y="101"/>
                    </a:lnTo>
                    <a:lnTo>
                      <a:pt x="97" y="105"/>
                    </a:lnTo>
                    <a:lnTo>
                      <a:pt x="109" y="572"/>
                    </a:lnTo>
                    <a:lnTo>
                      <a:pt x="165" y="495"/>
                    </a:lnTo>
                    <a:lnTo>
                      <a:pt x="158" y="475"/>
                    </a:lnTo>
                    <a:lnTo>
                      <a:pt x="151" y="456"/>
                    </a:lnTo>
                    <a:lnTo>
                      <a:pt x="145" y="439"/>
                    </a:lnTo>
                    <a:lnTo>
                      <a:pt x="142" y="432"/>
                    </a:lnTo>
                    <a:lnTo>
                      <a:pt x="139" y="424"/>
                    </a:lnTo>
                    <a:lnTo>
                      <a:pt x="138" y="419"/>
                    </a:lnTo>
                    <a:lnTo>
                      <a:pt x="137" y="414"/>
                    </a:lnTo>
                    <a:lnTo>
                      <a:pt x="137" y="409"/>
                    </a:lnTo>
                    <a:lnTo>
                      <a:pt x="137" y="403"/>
                    </a:lnTo>
                    <a:lnTo>
                      <a:pt x="137" y="396"/>
                    </a:lnTo>
                    <a:lnTo>
                      <a:pt x="139" y="388"/>
                    </a:lnTo>
                    <a:lnTo>
                      <a:pt x="141" y="379"/>
                    </a:lnTo>
                    <a:lnTo>
                      <a:pt x="144" y="368"/>
                    </a:lnTo>
                    <a:lnTo>
                      <a:pt x="147" y="357"/>
                    </a:lnTo>
                    <a:lnTo>
                      <a:pt x="152" y="344"/>
                    </a:lnTo>
                    <a:lnTo>
                      <a:pt x="158" y="330"/>
                    </a:lnTo>
                    <a:lnTo>
                      <a:pt x="165" y="314"/>
                    </a:lnTo>
                    <a:lnTo>
                      <a:pt x="172" y="298"/>
                    </a:lnTo>
                    <a:lnTo>
                      <a:pt x="177" y="283"/>
                    </a:lnTo>
                    <a:lnTo>
                      <a:pt x="182" y="269"/>
                    </a:lnTo>
                    <a:lnTo>
                      <a:pt x="186" y="256"/>
                    </a:lnTo>
                    <a:lnTo>
                      <a:pt x="189" y="243"/>
                    </a:lnTo>
                    <a:lnTo>
                      <a:pt x="191" y="232"/>
                    </a:lnTo>
                    <a:lnTo>
                      <a:pt x="196" y="209"/>
                    </a:lnTo>
                    <a:lnTo>
                      <a:pt x="199" y="199"/>
                    </a:lnTo>
                    <a:lnTo>
                      <a:pt x="202" y="190"/>
                    </a:lnTo>
                    <a:lnTo>
                      <a:pt x="205" y="181"/>
                    </a:lnTo>
                    <a:lnTo>
                      <a:pt x="210" y="173"/>
                    </a:lnTo>
                    <a:lnTo>
                      <a:pt x="215" y="164"/>
                    </a:lnTo>
                    <a:lnTo>
                      <a:pt x="218" y="160"/>
                    </a:lnTo>
                    <a:lnTo>
                      <a:pt x="221" y="156"/>
                    </a:lnTo>
                    <a:lnTo>
                      <a:pt x="229" y="149"/>
                    </a:lnTo>
                    <a:lnTo>
                      <a:pt x="238" y="141"/>
                    </a:lnTo>
                    <a:lnTo>
                      <a:pt x="248" y="134"/>
                    </a:lnTo>
                    <a:lnTo>
                      <a:pt x="258" y="127"/>
                    </a:lnTo>
                    <a:lnTo>
                      <a:pt x="268" y="121"/>
                    </a:lnTo>
                    <a:lnTo>
                      <a:pt x="278" y="116"/>
                    </a:lnTo>
                    <a:lnTo>
                      <a:pt x="288" y="111"/>
                    </a:lnTo>
                    <a:lnTo>
                      <a:pt x="297" y="107"/>
                    </a:lnTo>
                    <a:lnTo>
                      <a:pt x="307" y="103"/>
                    </a:lnTo>
                    <a:lnTo>
                      <a:pt x="315" y="100"/>
                    </a:lnTo>
                    <a:lnTo>
                      <a:pt x="331" y="95"/>
                    </a:lnTo>
                    <a:lnTo>
                      <a:pt x="344" y="92"/>
                    </a:lnTo>
                    <a:lnTo>
                      <a:pt x="355" y="89"/>
                    </a:lnTo>
                    <a:lnTo>
                      <a:pt x="363" y="2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972120" y="3376440"/>
                <a:ext cx="294840" cy="384120"/>
              </a:xfrm>
              <a:custGeom>
                <a:avLst/>
                <a:gdLst/>
                <a:ahLst/>
                <a:rect l="l" t="t" r="r" b="b"/>
                <a:pathLst>
                  <a:path w="746" h="968">
                    <a:moveTo>
                      <a:pt x="351" y="9"/>
                    </a:moveTo>
                    <a:lnTo>
                      <a:pt x="355" y="122"/>
                    </a:lnTo>
                    <a:lnTo>
                      <a:pt x="395" y="190"/>
                    </a:lnTo>
                    <a:lnTo>
                      <a:pt x="388" y="236"/>
                    </a:lnTo>
                    <a:lnTo>
                      <a:pt x="380" y="281"/>
                    </a:lnTo>
                    <a:lnTo>
                      <a:pt x="373" y="333"/>
                    </a:lnTo>
                    <a:lnTo>
                      <a:pt x="366" y="386"/>
                    </a:lnTo>
                    <a:lnTo>
                      <a:pt x="363" y="410"/>
                    </a:lnTo>
                    <a:lnTo>
                      <a:pt x="361" y="432"/>
                    </a:lnTo>
                    <a:lnTo>
                      <a:pt x="360" y="450"/>
                    </a:lnTo>
                    <a:lnTo>
                      <a:pt x="360" y="464"/>
                    </a:lnTo>
                    <a:lnTo>
                      <a:pt x="360" y="469"/>
                    </a:lnTo>
                    <a:lnTo>
                      <a:pt x="360" y="471"/>
                    </a:lnTo>
                    <a:lnTo>
                      <a:pt x="361" y="473"/>
                    </a:lnTo>
                    <a:lnTo>
                      <a:pt x="361" y="475"/>
                    </a:lnTo>
                    <a:lnTo>
                      <a:pt x="363" y="476"/>
                    </a:lnTo>
                    <a:lnTo>
                      <a:pt x="375" y="478"/>
                    </a:lnTo>
                    <a:lnTo>
                      <a:pt x="399" y="482"/>
                    </a:lnTo>
                    <a:lnTo>
                      <a:pt x="464" y="494"/>
                    </a:lnTo>
                    <a:lnTo>
                      <a:pt x="553" y="512"/>
                    </a:lnTo>
                    <a:lnTo>
                      <a:pt x="665" y="504"/>
                    </a:lnTo>
                    <a:lnTo>
                      <a:pt x="746" y="698"/>
                    </a:lnTo>
                    <a:lnTo>
                      <a:pt x="690" y="714"/>
                    </a:lnTo>
                    <a:lnTo>
                      <a:pt x="456" y="879"/>
                    </a:lnTo>
                    <a:lnTo>
                      <a:pt x="456" y="903"/>
                    </a:lnTo>
                    <a:lnTo>
                      <a:pt x="443" y="905"/>
                    </a:lnTo>
                    <a:lnTo>
                      <a:pt x="430" y="908"/>
                    </a:lnTo>
                    <a:lnTo>
                      <a:pt x="414" y="912"/>
                    </a:lnTo>
                    <a:lnTo>
                      <a:pt x="404" y="915"/>
                    </a:lnTo>
                    <a:lnTo>
                      <a:pt x="396" y="918"/>
                    </a:lnTo>
                    <a:lnTo>
                      <a:pt x="388" y="922"/>
                    </a:lnTo>
                    <a:lnTo>
                      <a:pt x="381" y="927"/>
                    </a:lnTo>
                    <a:lnTo>
                      <a:pt x="374" y="932"/>
                    </a:lnTo>
                    <a:lnTo>
                      <a:pt x="370" y="935"/>
                    </a:lnTo>
                    <a:lnTo>
                      <a:pt x="368" y="938"/>
                    </a:lnTo>
                    <a:lnTo>
                      <a:pt x="362" y="944"/>
                    </a:lnTo>
                    <a:lnTo>
                      <a:pt x="360" y="947"/>
                    </a:lnTo>
                    <a:lnTo>
                      <a:pt x="359" y="951"/>
                    </a:lnTo>
                    <a:lnTo>
                      <a:pt x="357" y="955"/>
                    </a:lnTo>
                    <a:lnTo>
                      <a:pt x="356" y="958"/>
                    </a:lnTo>
                    <a:lnTo>
                      <a:pt x="352" y="962"/>
                    </a:lnTo>
                    <a:lnTo>
                      <a:pt x="349" y="966"/>
                    </a:lnTo>
                    <a:lnTo>
                      <a:pt x="345" y="967"/>
                    </a:lnTo>
                    <a:lnTo>
                      <a:pt x="341" y="968"/>
                    </a:lnTo>
                    <a:lnTo>
                      <a:pt x="338" y="967"/>
                    </a:lnTo>
                    <a:lnTo>
                      <a:pt x="334" y="966"/>
                    </a:lnTo>
                    <a:lnTo>
                      <a:pt x="331" y="964"/>
                    </a:lnTo>
                    <a:lnTo>
                      <a:pt x="328" y="962"/>
                    </a:lnTo>
                    <a:lnTo>
                      <a:pt x="324" y="959"/>
                    </a:lnTo>
                    <a:lnTo>
                      <a:pt x="319" y="953"/>
                    </a:lnTo>
                    <a:lnTo>
                      <a:pt x="315" y="947"/>
                    </a:lnTo>
                    <a:lnTo>
                      <a:pt x="310" y="945"/>
                    </a:lnTo>
                    <a:lnTo>
                      <a:pt x="296" y="939"/>
                    </a:lnTo>
                    <a:lnTo>
                      <a:pt x="286" y="933"/>
                    </a:lnTo>
                    <a:lnTo>
                      <a:pt x="276" y="926"/>
                    </a:lnTo>
                    <a:lnTo>
                      <a:pt x="263" y="918"/>
                    </a:lnTo>
                    <a:lnTo>
                      <a:pt x="251" y="908"/>
                    </a:lnTo>
                    <a:lnTo>
                      <a:pt x="245" y="902"/>
                    </a:lnTo>
                    <a:lnTo>
                      <a:pt x="239" y="896"/>
                    </a:lnTo>
                    <a:lnTo>
                      <a:pt x="233" y="890"/>
                    </a:lnTo>
                    <a:lnTo>
                      <a:pt x="227" y="883"/>
                    </a:lnTo>
                    <a:lnTo>
                      <a:pt x="221" y="875"/>
                    </a:lnTo>
                    <a:lnTo>
                      <a:pt x="215" y="867"/>
                    </a:lnTo>
                    <a:lnTo>
                      <a:pt x="209" y="858"/>
                    </a:lnTo>
                    <a:lnTo>
                      <a:pt x="204" y="849"/>
                    </a:lnTo>
                    <a:lnTo>
                      <a:pt x="199" y="840"/>
                    </a:lnTo>
                    <a:lnTo>
                      <a:pt x="194" y="828"/>
                    </a:lnTo>
                    <a:lnTo>
                      <a:pt x="190" y="817"/>
                    </a:lnTo>
                    <a:lnTo>
                      <a:pt x="186" y="806"/>
                    </a:lnTo>
                    <a:lnTo>
                      <a:pt x="182" y="794"/>
                    </a:lnTo>
                    <a:lnTo>
                      <a:pt x="179" y="781"/>
                    </a:lnTo>
                    <a:lnTo>
                      <a:pt x="176" y="768"/>
                    </a:lnTo>
                    <a:lnTo>
                      <a:pt x="174" y="754"/>
                    </a:lnTo>
                    <a:lnTo>
                      <a:pt x="168" y="704"/>
                    </a:lnTo>
                    <a:lnTo>
                      <a:pt x="166" y="684"/>
                    </a:lnTo>
                    <a:lnTo>
                      <a:pt x="165" y="666"/>
                    </a:lnTo>
                    <a:lnTo>
                      <a:pt x="164" y="652"/>
                    </a:lnTo>
                    <a:lnTo>
                      <a:pt x="164" y="640"/>
                    </a:lnTo>
                    <a:lnTo>
                      <a:pt x="165" y="629"/>
                    </a:lnTo>
                    <a:lnTo>
                      <a:pt x="166" y="621"/>
                    </a:lnTo>
                    <a:lnTo>
                      <a:pt x="167" y="614"/>
                    </a:lnTo>
                    <a:lnTo>
                      <a:pt x="169" y="609"/>
                    </a:lnTo>
                    <a:lnTo>
                      <a:pt x="171" y="604"/>
                    </a:lnTo>
                    <a:lnTo>
                      <a:pt x="173" y="600"/>
                    </a:lnTo>
                    <a:lnTo>
                      <a:pt x="177" y="593"/>
                    </a:lnTo>
                    <a:lnTo>
                      <a:pt x="182" y="585"/>
                    </a:lnTo>
                    <a:lnTo>
                      <a:pt x="188" y="574"/>
                    </a:lnTo>
                    <a:lnTo>
                      <a:pt x="197" y="559"/>
                    </a:lnTo>
                    <a:lnTo>
                      <a:pt x="201" y="550"/>
                    </a:lnTo>
                    <a:lnTo>
                      <a:pt x="205" y="541"/>
                    </a:lnTo>
                    <a:lnTo>
                      <a:pt x="208" y="531"/>
                    </a:lnTo>
                    <a:lnTo>
                      <a:pt x="209" y="526"/>
                    </a:lnTo>
                    <a:lnTo>
                      <a:pt x="210" y="519"/>
                    </a:lnTo>
                    <a:lnTo>
                      <a:pt x="211" y="514"/>
                    </a:lnTo>
                    <a:lnTo>
                      <a:pt x="211" y="508"/>
                    </a:lnTo>
                    <a:lnTo>
                      <a:pt x="211" y="502"/>
                    </a:lnTo>
                    <a:lnTo>
                      <a:pt x="211" y="497"/>
                    </a:lnTo>
                    <a:lnTo>
                      <a:pt x="210" y="491"/>
                    </a:lnTo>
                    <a:lnTo>
                      <a:pt x="208" y="485"/>
                    </a:lnTo>
                    <a:lnTo>
                      <a:pt x="204" y="473"/>
                    </a:lnTo>
                    <a:lnTo>
                      <a:pt x="197" y="461"/>
                    </a:lnTo>
                    <a:lnTo>
                      <a:pt x="192" y="454"/>
                    </a:lnTo>
                    <a:lnTo>
                      <a:pt x="187" y="448"/>
                    </a:lnTo>
                    <a:lnTo>
                      <a:pt x="181" y="442"/>
                    </a:lnTo>
                    <a:lnTo>
                      <a:pt x="174" y="436"/>
                    </a:lnTo>
                    <a:lnTo>
                      <a:pt x="166" y="430"/>
                    </a:lnTo>
                    <a:lnTo>
                      <a:pt x="158" y="424"/>
                    </a:lnTo>
                    <a:lnTo>
                      <a:pt x="140" y="412"/>
                    </a:lnTo>
                    <a:lnTo>
                      <a:pt x="122" y="400"/>
                    </a:lnTo>
                    <a:lnTo>
                      <a:pt x="106" y="388"/>
                    </a:lnTo>
                    <a:lnTo>
                      <a:pt x="91" y="376"/>
                    </a:lnTo>
                    <a:lnTo>
                      <a:pt x="76" y="362"/>
                    </a:lnTo>
                    <a:lnTo>
                      <a:pt x="63" y="349"/>
                    </a:lnTo>
                    <a:lnTo>
                      <a:pt x="51" y="336"/>
                    </a:lnTo>
                    <a:lnTo>
                      <a:pt x="45" y="329"/>
                    </a:lnTo>
                    <a:lnTo>
                      <a:pt x="40" y="322"/>
                    </a:lnTo>
                    <a:lnTo>
                      <a:pt x="30" y="307"/>
                    </a:lnTo>
                    <a:lnTo>
                      <a:pt x="25" y="299"/>
                    </a:lnTo>
                    <a:lnTo>
                      <a:pt x="21" y="291"/>
                    </a:lnTo>
                    <a:lnTo>
                      <a:pt x="18" y="283"/>
                    </a:lnTo>
                    <a:lnTo>
                      <a:pt x="14" y="275"/>
                    </a:lnTo>
                    <a:lnTo>
                      <a:pt x="11" y="266"/>
                    </a:lnTo>
                    <a:lnTo>
                      <a:pt x="8" y="257"/>
                    </a:lnTo>
                    <a:lnTo>
                      <a:pt x="7" y="253"/>
                    </a:lnTo>
                    <a:lnTo>
                      <a:pt x="6" y="248"/>
                    </a:lnTo>
                    <a:lnTo>
                      <a:pt x="4" y="239"/>
                    </a:lnTo>
                    <a:lnTo>
                      <a:pt x="2" y="229"/>
                    </a:lnTo>
                    <a:lnTo>
                      <a:pt x="1" y="219"/>
                    </a:lnTo>
                    <a:lnTo>
                      <a:pt x="0" y="207"/>
                    </a:lnTo>
                    <a:lnTo>
                      <a:pt x="0" y="197"/>
                    </a:lnTo>
                    <a:lnTo>
                      <a:pt x="0" y="186"/>
                    </a:lnTo>
                    <a:lnTo>
                      <a:pt x="1" y="174"/>
                    </a:lnTo>
                    <a:lnTo>
                      <a:pt x="2" y="153"/>
                    </a:lnTo>
                    <a:lnTo>
                      <a:pt x="4" y="134"/>
                    </a:lnTo>
                    <a:lnTo>
                      <a:pt x="6" y="119"/>
                    </a:lnTo>
                    <a:lnTo>
                      <a:pt x="9" y="105"/>
                    </a:lnTo>
                    <a:lnTo>
                      <a:pt x="12" y="95"/>
                    </a:lnTo>
                    <a:lnTo>
                      <a:pt x="16" y="85"/>
                    </a:lnTo>
                    <a:lnTo>
                      <a:pt x="20" y="78"/>
                    </a:lnTo>
                    <a:lnTo>
                      <a:pt x="25" y="72"/>
                    </a:lnTo>
                    <a:lnTo>
                      <a:pt x="28" y="69"/>
                    </a:lnTo>
                    <a:lnTo>
                      <a:pt x="30" y="66"/>
                    </a:lnTo>
                    <a:lnTo>
                      <a:pt x="37" y="61"/>
                    </a:lnTo>
                    <a:lnTo>
                      <a:pt x="44" y="56"/>
                    </a:lnTo>
                    <a:lnTo>
                      <a:pt x="53" y="51"/>
                    </a:lnTo>
                    <a:lnTo>
                      <a:pt x="72" y="40"/>
                    </a:lnTo>
                    <a:lnTo>
                      <a:pt x="84" y="33"/>
                    </a:lnTo>
                    <a:lnTo>
                      <a:pt x="97" y="25"/>
                    </a:lnTo>
                    <a:lnTo>
                      <a:pt x="109" y="17"/>
                    </a:lnTo>
                    <a:lnTo>
                      <a:pt x="120" y="11"/>
                    </a:lnTo>
                    <a:lnTo>
                      <a:pt x="130" y="6"/>
                    </a:lnTo>
                    <a:lnTo>
                      <a:pt x="139" y="3"/>
                    </a:lnTo>
                    <a:lnTo>
                      <a:pt x="145" y="1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9" y="1"/>
                    </a:lnTo>
                    <a:lnTo>
                      <a:pt x="160" y="2"/>
                    </a:lnTo>
                    <a:lnTo>
                      <a:pt x="161" y="3"/>
                    </a:lnTo>
                    <a:lnTo>
                      <a:pt x="163" y="4"/>
                    </a:lnTo>
                    <a:lnTo>
                      <a:pt x="165" y="6"/>
                    </a:lnTo>
                    <a:lnTo>
                      <a:pt x="165" y="8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351" y="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959520" y="2803320"/>
                <a:ext cx="429840" cy="235080"/>
              </a:xfrm>
              <a:custGeom>
                <a:avLst/>
                <a:gdLst/>
                <a:ahLst/>
                <a:rect l="l" t="t" r="r" b="b"/>
                <a:pathLst>
                  <a:path w="1086" h="592">
                    <a:moveTo>
                      <a:pt x="1010" y="0"/>
                    </a:moveTo>
                    <a:lnTo>
                      <a:pt x="377" y="189"/>
                    </a:lnTo>
                    <a:lnTo>
                      <a:pt x="315" y="247"/>
                    </a:lnTo>
                    <a:lnTo>
                      <a:pt x="291" y="271"/>
                    </a:lnTo>
                    <a:lnTo>
                      <a:pt x="269" y="291"/>
                    </a:lnTo>
                    <a:lnTo>
                      <a:pt x="260" y="300"/>
                    </a:lnTo>
                    <a:lnTo>
                      <a:pt x="253" y="308"/>
                    </a:lnTo>
                    <a:lnTo>
                      <a:pt x="247" y="314"/>
                    </a:lnTo>
                    <a:lnTo>
                      <a:pt x="244" y="318"/>
                    </a:lnTo>
                    <a:lnTo>
                      <a:pt x="225" y="342"/>
                    </a:lnTo>
                    <a:lnTo>
                      <a:pt x="194" y="380"/>
                    </a:lnTo>
                    <a:lnTo>
                      <a:pt x="177" y="400"/>
                    </a:lnTo>
                    <a:lnTo>
                      <a:pt x="160" y="419"/>
                    </a:lnTo>
                    <a:lnTo>
                      <a:pt x="146" y="434"/>
                    </a:lnTo>
                    <a:lnTo>
                      <a:pt x="140" y="439"/>
                    </a:lnTo>
                    <a:lnTo>
                      <a:pt x="135" y="443"/>
                    </a:lnTo>
                    <a:lnTo>
                      <a:pt x="107" y="463"/>
                    </a:lnTo>
                    <a:lnTo>
                      <a:pt x="68" y="491"/>
                    </a:lnTo>
                    <a:lnTo>
                      <a:pt x="18" y="527"/>
                    </a:lnTo>
                    <a:lnTo>
                      <a:pt x="2" y="592"/>
                    </a:lnTo>
                    <a:lnTo>
                      <a:pt x="1" y="592"/>
                    </a:lnTo>
                    <a:lnTo>
                      <a:pt x="0" y="592"/>
                    </a:lnTo>
                    <a:lnTo>
                      <a:pt x="1" y="591"/>
                    </a:lnTo>
                    <a:lnTo>
                      <a:pt x="4" y="588"/>
                    </a:lnTo>
                    <a:lnTo>
                      <a:pt x="12" y="581"/>
                    </a:lnTo>
                    <a:lnTo>
                      <a:pt x="25" y="569"/>
                    </a:lnTo>
                    <a:lnTo>
                      <a:pt x="48" y="553"/>
                    </a:lnTo>
                    <a:lnTo>
                      <a:pt x="79" y="531"/>
                    </a:lnTo>
                    <a:lnTo>
                      <a:pt x="140" y="489"/>
                    </a:lnTo>
                    <a:lnTo>
                      <a:pt x="164" y="473"/>
                    </a:lnTo>
                    <a:lnTo>
                      <a:pt x="186" y="459"/>
                    </a:lnTo>
                    <a:lnTo>
                      <a:pt x="206" y="447"/>
                    </a:lnTo>
                    <a:lnTo>
                      <a:pt x="227" y="436"/>
                    </a:lnTo>
                    <a:lnTo>
                      <a:pt x="272" y="410"/>
                    </a:lnTo>
                    <a:lnTo>
                      <a:pt x="297" y="397"/>
                    </a:lnTo>
                    <a:lnTo>
                      <a:pt x="324" y="384"/>
                    </a:lnTo>
                    <a:lnTo>
                      <a:pt x="350" y="372"/>
                    </a:lnTo>
                    <a:lnTo>
                      <a:pt x="377" y="359"/>
                    </a:lnTo>
                    <a:lnTo>
                      <a:pt x="434" y="333"/>
                    </a:lnTo>
                    <a:lnTo>
                      <a:pt x="498" y="302"/>
                    </a:lnTo>
                    <a:lnTo>
                      <a:pt x="531" y="285"/>
                    </a:lnTo>
                    <a:lnTo>
                      <a:pt x="564" y="267"/>
                    </a:lnTo>
                    <a:lnTo>
                      <a:pt x="597" y="248"/>
                    </a:lnTo>
                    <a:lnTo>
                      <a:pt x="626" y="231"/>
                    </a:lnTo>
                    <a:lnTo>
                      <a:pt x="670" y="204"/>
                    </a:lnTo>
                    <a:lnTo>
                      <a:pt x="687" y="193"/>
                    </a:lnTo>
                    <a:lnTo>
                      <a:pt x="691" y="183"/>
                    </a:lnTo>
                    <a:lnTo>
                      <a:pt x="695" y="173"/>
                    </a:lnTo>
                    <a:lnTo>
                      <a:pt x="702" y="160"/>
                    </a:lnTo>
                    <a:lnTo>
                      <a:pt x="706" y="153"/>
                    </a:lnTo>
                    <a:lnTo>
                      <a:pt x="710" y="145"/>
                    </a:lnTo>
                    <a:lnTo>
                      <a:pt x="715" y="138"/>
                    </a:lnTo>
                    <a:lnTo>
                      <a:pt x="722" y="131"/>
                    </a:lnTo>
                    <a:lnTo>
                      <a:pt x="727" y="124"/>
                    </a:lnTo>
                    <a:lnTo>
                      <a:pt x="734" y="117"/>
                    </a:lnTo>
                    <a:lnTo>
                      <a:pt x="741" y="111"/>
                    </a:lnTo>
                    <a:lnTo>
                      <a:pt x="748" y="104"/>
                    </a:lnTo>
                    <a:lnTo>
                      <a:pt x="772" y="86"/>
                    </a:lnTo>
                    <a:lnTo>
                      <a:pt x="782" y="80"/>
                    </a:lnTo>
                    <a:lnTo>
                      <a:pt x="787" y="78"/>
                    </a:lnTo>
                    <a:lnTo>
                      <a:pt x="792" y="76"/>
                    </a:lnTo>
                    <a:lnTo>
                      <a:pt x="798" y="75"/>
                    </a:lnTo>
                    <a:lnTo>
                      <a:pt x="804" y="74"/>
                    </a:lnTo>
                    <a:lnTo>
                      <a:pt x="811" y="74"/>
                    </a:lnTo>
                    <a:lnTo>
                      <a:pt x="819" y="75"/>
                    </a:lnTo>
                    <a:lnTo>
                      <a:pt x="828" y="76"/>
                    </a:lnTo>
                    <a:lnTo>
                      <a:pt x="839" y="78"/>
                    </a:lnTo>
                    <a:lnTo>
                      <a:pt x="865" y="84"/>
                    </a:lnTo>
                    <a:lnTo>
                      <a:pt x="880" y="88"/>
                    </a:lnTo>
                    <a:lnTo>
                      <a:pt x="896" y="91"/>
                    </a:lnTo>
                    <a:lnTo>
                      <a:pt x="913" y="93"/>
                    </a:lnTo>
                    <a:lnTo>
                      <a:pt x="931" y="95"/>
                    </a:lnTo>
                    <a:lnTo>
                      <a:pt x="949" y="97"/>
                    </a:lnTo>
                    <a:lnTo>
                      <a:pt x="968" y="98"/>
                    </a:lnTo>
                    <a:lnTo>
                      <a:pt x="1004" y="100"/>
                    </a:lnTo>
                    <a:lnTo>
                      <a:pt x="1036" y="100"/>
                    </a:lnTo>
                    <a:lnTo>
                      <a:pt x="1062" y="100"/>
                    </a:lnTo>
                    <a:lnTo>
                      <a:pt x="1086" y="100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491160" y="1950840"/>
                <a:ext cx="1375920" cy="1138320"/>
              </a:xfrm>
              <a:custGeom>
                <a:avLst/>
                <a:gdLst/>
                <a:ahLst/>
                <a:rect l="l" t="t" r="r" b="b"/>
                <a:pathLst>
                  <a:path w="3467" h="2868">
                    <a:moveTo>
                      <a:pt x="1442" y="2241"/>
                    </a:moveTo>
                    <a:lnTo>
                      <a:pt x="1024" y="2418"/>
                    </a:lnTo>
                    <a:lnTo>
                      <a:pt x="606" y="2595"/>
                    </a:lnTo>
                    <a:lnTo>
                      <a:pt x="630" y="2740"/>
                    </a:lnTo>
                    <a:lnTo>
                      <a:pt x="654" y="2860"/>
                    </a:lnTo>
                    <a:lnTo>
                      <a:pt x="566" y="2868"/>
                    </a:lnTo>
                    <a:lnTo>
                      <a:pt x="477" y="2868"/>
                    </a:lnTo>
                    <a:lnTo>
                      <a:pt x="478" y="2824"/>
                    </a:lnTo>
                    <a:lnTo>
                      <a:pt x="475" y="2821"/>
                    </a:lnTo>
                    <a:lnTo>
                      <a:pt x="472" y="2819"/>
                    </a:lnTo>
                    <a:lnTo>
                      <a:pt x="469" y="2817"/>
                    </a:lnTo>
                    <a:lnTo>
                      <a:pt x="466" y="2816"/>
                    </a:lnTo>
                    <a:lnTo>
                      <a:pt x="459" y="2814"/>
                    </a:lnTo>
                    <a:lnTo>
                      <a:pt x="444" y="2812"/>
                    </a:lnTo>
                    <a:lnTo>
                      <a:pt x="438" y="2811"/>
                    </a:lnTo>
                    <a:lnTo>
                      <a:pt x="435" y="2810"/>
                    </a:lnTo>
                    <a:lnTo>
                      <a:pt x="433" y="2809"/>
                    </a:lnTo>
                    <a:lnTo>
                      <a:pt x="431" y="2807"/>
                    </a:lnTo>
                    <a:lnTo>
                      <a:pt x="429" y="2805"/>
                    </a:lnTo>
                    <a:lnTo>
                      <a:pt x="428" y="2803"/>
                    </a:lnTo>
                    <a:lnTo>
                      <a:pt x="428" y="2799"/>
                    </a:lnTo>
                    <a:lnTo>
                      <a:pt x="428" y="2795"/>
                    </a:lnTo>
                    <a:lnTo>
                      <a:pt x="430" y="2791"/>
                    </a:lnTo>
                    <a:lnTo>
                      <a:pt x="431" y="2788"/>
                    </a:lnTo>
                    <a:lnTo>
                      <a:pt x="433" y="2784"/>
                    </a:lnTo>
                    <a:lnTo>
                      <a:pt x="437" y="2777"/>
                    </a:lnTo>
                    <a:lnTo>
                      <a:pt x="439" y="2773"/>
                    </a:lnTo>
                    <a:lnTo>
                      <a:pt x="439" y="2769"/>
                    </a:lnTo>
                    <a:lnTo>
                      <a:pt x="439" y="2765"/>
                    </a:lnTo>
                    <a:lnTo>
                      <a:pt x="437" y="2761"/>
                    </a:lnTo>
                    <a:lnTo>
                      <a:pt x="435" y="2758"/>
                    </a:lnTo>
                    <a:lnTo>
                      <a:pt x="432" y="2756"/>
                    </a:lnTo>
                    <a:lnTo>
                      <a:pt x="426" y="2751"/>
                    </a:lnTo>
                    <a:lnTo>
                      <a:pt x="419" y="2746"/>
                    </a:lnTo>
                    <a:lnTo>
                      <a:pt x="438" y="2738"/>
                    </a:lnTo>
                    <a:lnTo>
                      <a:pt x="447" y="2733"/>
                    </a:lnTo>
                    <a:lnTo>
                      <a:pt x="455" y="2729"/>
                    </a:lnTo>
                    <a:lnTo>
                      <a:pt x="459" y="2726"/>
                    </a:lnTo>
                    <a:lnTo>
                      <a:pt x="463" y="2723"/>
                    </a:lnTo>
                    <a:lnTo>
                      <a:pt x="470" y="2717"/>
                    </a:lnTo>
                    <a:lnTo>
                      <a:pt x="477" y="2711"/>
                    </a:lnTo>
                    <a:lnTo>
                      <a:pt x="479" y="2707"/>
                    </a:lnTo>
                    <a:lnTo>
                      <a:pt x="482" y="2704"/>
                    </a:lnTo>
                    <a:lnTo>
                      <a:pt x="484" y="2626"/>
                    </a:lnTo>
                    <a:lnTo>
                      <a:pt x="481" y="2622"/>
                    </a:lnTo>
                    <a:lnTo>
                      <a:pt x="478" y="2620"/>
                    </a:lnTo>
                    <a:lnTo>
                      <a:pt x="475" y="2619"/>
                    </a:lnTo>
                    <a:lnTo>
                      <a:pt x="471" y="2618"/>
                    </a:lnTo>
                    <a:lnTo>
                      <a:pt x="468" y="2617"/>
                    </a:lnTo>
                    <a:lnTo>
                      <a:pt x="461" y="2616"/>
                    </a:lnTo>
                    <a:lnTo>
                      <a:pt x="454" y="2616"/>
                    </a:lnTo>
                    <a:lnTo>
                      <a:pt x="447" y="2616"/>
                    </a:lnTo>
                    <a:lnTo>
                      <a:pt x="441" y="2615"/>
                    </a:lnTo>
                    <a:lnTo>
                      <a:pt x="438" y="2614"/>
                    </a:lnTo>
                    <a:lnTo>
                      <a:pt x="435" y="2612"/>
                    </a:lnTo>
                    <a:lnTo>
                      <a:pt x="433" y="2610"/>
                    </a:lnTo>
                    <a:lnTo>
                      <a:pt x="431" y="2607"/>
                    </a:lnTo>
                    <a:lnTo>
                      <a:pt x="428" y="2603"/>
                    </a:lnTo>
                    <a:lnTo>
                      <a:pt x="425" y="2599"/>
                    </a:lnTo>
                    <a:lnTo>
                      <a:pt x="421" y="2590"/>
                    </a:lnTo>
                    <a:lnTo>
                      <a:pt x="419" y="2581"/>
                    </a:lnTo>
                    <a:lnTo>
                      <a:pt x="418" y="2572"/>
                    </a:lnTo>
                    <a:lnTo>
                      <a:pt x="418" y="2562"/>
                    </a:lnTo>
                    <a:lnTo>
                      <a:pt x="418" y="2552"/>
                    </a:lnTo>
                    <a:lnTo>
                      <a:pt x="419" y="2542"/>
                    </a:lnTo>
                    <a:lnTo>
                      <a:pt x="419" y="2531"/>
                    </a:lnTo>
                    <a:lnTo>
                      <a:pt x="420" y="2526"/>
                    </a:lnTo>
                    <a:lnTo>
                      <a:pt x="420" y="2521"/>
                    </a:lnTo>
                    <a:lnTo>
                      <a:pt x="422" y="2516"/>
                    </a:lnTo>
                    <a:lnTo>
                      <a:pt x="424" y="2512"/>
                    </a:lnTo>
                    <a:lnTo>
                      <a:pt x="426" y="2508"/>
                    </a:lnTo>
                    <a:lnTo>
                      <a:pt x="429" y="2505"/>
                    </a:lnTo>
                    <a:lnTo>
                      <a:pt x="435" y="2498"/>
                    </a:lnTo>
                    <a:lnTo>
                      <a:pt x="439" y="2495"/>
                    </a:lnTo>
                    <a:lnTo>
                      <a:pt x="443" y="2492"/>
                    </a:lnTo>
                    <a:lnTo>
                      <a:pt x="451" y="2486"/>
                    </a:lnTo>
                    <a:lnTo>
                      <a:pt x="459" y="2479"/>
                    </a:lnTo>
                    <a:lnTo>
                      <a:pt x="468" y="2472"/>
                    </a:lnTo>
                    <a:lnTo>
                      <a:pt x="459" y="2471"/>
                    </a:lnTo>
                    <a:lnTo>
                      <a:pt x="452" y="2470"/>
                    </a:lnTo>
                    <a:lnTo>
                      <a:pt x="437" y="2467"/>
                    </a:lnTo>
                    <a:lnTo>
                      <a:pt x="423" y="2464"/>
                    </a:lnTo>
                    <a:lnTo>
                      <a:pt x="410" y="2461"/>
                    </a:lnTo>
                    <a:lnTo>
                      <a:pt x="397" y="2458"/>
                    </a:lnTo>
                    <a:lnTo>
                      <a:pt x="383" y="2455"/>
                    </a:lnTo>
                    <a:lnTo>
                      <a:pt x="368" y="2453"/>
                    </a:lnTo>
                    <a:lnTo>
                      <a:pt x="360" y="2453"/>
                    </a:lnTo>
                    <a:lnTo>
                      <a:pt x="352" y="2453"/>
                    </a:lnTo>
                    <a:lnTo>
                      <a:pt x="344" y="2453"/>
                    </a:lnTo>
                    <a:lnTo>
                      <a:pt x="338" y="2454"/>
                    </a:lnTo>
                    <a:lnTo>
                      <a:pt x="331" y="2456"/>
                    </a:lnTo>
                    <a:lnTo>
                      <a:pt x="325" y="2458"/>
                    </a:lnTo>
                    <a:lnTo>
                      <a:pt x="313" y="2462"/>
                    </a:lnTo>
                    <a:lnTo>
                      <a:pt x="306" y="2463"/>
                    </a:lnTo>
                    <a:lnTo>
                      <a:pt x="298" y="2464"/>
                    </a:lnTo>
                    <a:lnTo>
                      <a:pt x="292" y="2464"/>
                    </a:lnTo>
                    <a:lnTo>
                      <a:pt x="286" y="2462"/>
                    </a:lnTo>
                    <a:lnTo>
                      <a:pt x="280" y="2461"/>
                    </a:lnTo>
                    <a:lnTo>
                      <a:pt x="274" y="2459"/>
                    </a:lnTo>
                    <a:lnTo>
                      <a:pt x="269" y="2456"/>
                    </a:lnTo>
                    <a:lnTo>
                      <a:pt x="264" y="2453"/>
                    </a:lnTo>
                    <a:lnTo>
                      <a:pt x="254" y="2447"/>
                    </a:lnTo>
                    <a:lnTo>
                      <a:pt x="243" y="2441"/>
                    </a:lnTo>
                    <a:lnTo>
                      <a:pt x="238" y="2438"/>
                    </a:lnTo>
                    <a:lnTo>
                      <a:pt x="233" y="2435"/>
                    </a:lnTo>
                    <a:lnTo>
                      <a:pt x="228" y="2433"/>
                    </a:lnTo>
                    <a:lnTo>
                      <a:pt x="222" y="2431"/>
                    </a:lnTo>
                    <a:lnTo>
                      <a:pt x="216" y="2430"/>
                    </a:lnTo>
                    <a:lnTo>
                      <a:pt x="209" y="2430"/>
                    </a:lnTo>
                    <a:lnTo>
                      <a:pt x="203" y="2430"/>
                    </a:lnTo>
                    <a:lnTo>
                      <a:pt x="198" y="2430"/>
                    </a:lnTo>
                    <a:lnTo>
                      <a:pt x="188" y="2432"/>
                    </a:lnTo>
                    <a:lnTo>
                      <a:pt x="178" y="2435"/>
                    </a:lnTo>
                    <a:lnTo>
                      <a:pt x="169" y="2438"/>
                    </a:lnTo>
                    <a:lnTo>
                      <a:pt x="160" y="2441"/>
                    </a:lnTo>
                    <a:lnTo>
                      <a:pt x="151" y="2444"/>
                    </a:lnTo>
                    <a:lnTo>
                      <a:pt x="140" y="2446"/>
                    </a:lnTo>
                    <a:lnTo>
                      <a:pt x="135" y="2447"/>
                    </a:lnTo>
                    <a:lnTo>
                      <a:pt x="129" y="2447"/>
                    </a:lnTo>
                    <a:lnTo>
                      <a:pt x="123" y="2447"/>
                    </a:lnTo>
                    <a:lnTo>
                      <a:pt x="117" y="2446"/>
                    </a:lnTo>
                    <a:lnTo>
                      <a:pt x="112" y="2445"/>
                    </a:lnTo>
                    <a:lnTo>
                      <a:pt x="106" y="2444"/>
                    </a:lnTo>
                    <a:lnTo>
                      <a:pt x="101" y="2442"/>
                    </a:lnTo>
                    <a:lnTo>
                      <a:pt x="96" y="2441"/>
                    </a:lnTo>
                    <a:lnTo>
                      <a:pt x="87" y="2436"/>
                    </a:lnTo>
                    <a:lnTo>
                      <a:pt x="79" y="2430"/>
                    </a:lnTo>
                    <a:lnTo>
                      <a:pt x="71" y="2424"/>
                    </a:lnTo>
                    <a:lnTo>
                      <a:pt x="64" y="2416"/>
                    </a:lnTo>
                    <a:lnTo>
                      <a:pt x="57" y="2407"/>
                    </a:lnTo>
                    <a:lnTo>
                      <a:pt x="51" y="2399"/>
                    </a:lnTo>
                    <a:lnTo>
                      <a:pt x="44" y="2390"/>
                    </a:lnTo>
                    <a:lnTo>
                      <a:pt x="31" y="2371"/>
                    </a:lnTo>
                    <a:lnTo>
                      <a:pt x="24" y="2361"/>
                    </a:lnTo>
                    <a:lnTo>
                      <a:pt x="17" y="2351"/>
                    </a:lnTo>
                    <a:lnTo>
                      <a:pt x="9" y="2342"/>
                    </a:lnTo>
                    <a:lnTo>
                      <a:pt x="0" y="2333"/>
                    </a:lnTo>
                    <a:lnTo>
                      <a:pt x="133" y="2280"/>
                    </a:lnTo>
                    <a:lnTo>
                      <a:pt x="149" y="2270"/>
                    </a:lnTo>
                    <a:lnTo>
                      <a:pt x="166" y="2259"/>
                    </a:lnTo>
                    <a:lnTo>
                      <a:pt x="184" y="2245"/>
                    </a:lnTo>
                    <a:lnTo>
                      <a:pt x="202" y="2232"/>
                    </a:lnTo>
                    <a:lnTo>
                      <a:pt x="220" y="2218"/>
                    </a:lnTo>
                    <a:lnTo>
                      <a:pt x="229" y="2210"/>
                    </a:lnTo>
                    <a:lnTo>
                      <a:pt x="238" y="2202"/>
                    </a:lnTo>
                    <a:lnTo>
                      <a:pt x="257" y="2186"/>
                    </a:lnTo>
                    <a:lnTo>
                      <a:pt x="267" y="2177"/>
                    </a:lnTo>
                    <a:lnTo>
                      <a:pt x="276" y="2168"/>
                    </a:lnTo>
                    <a:lnTo>
                      <a:pt x="301" y="2142"/>
                    </a:lnTo>
                    <a:lnTo>
                      <a:pt x="328" y="2114"/>
                    </a:lnTo>
                    <a:lnTo>
                      <a:pt x="388" y="2048"/>
                    </a:lnTo>
                    <a:lnTo>
                      <a:pt x="449" y="1979"/>
                    </a:lnTo>
                    <a:lnTo>
                      <a:pt x="509" y="1910"/>
                    </a:lnTo>
                    <a:lnTo>
                      <a:pt x="563" y="1848"/>
                    </a:lnTo>
                    <a:lnTo>
                      <a:pt x="606" y="1797"/>
                    </a:lnTo>
                    <a:lnTo>
                      <a:pt x="646" y="1749"/>
                    </a:lnTo>
                    <a:lnTo>
                      <a:pt x="703" y="1669"/>
                    </a:lnTo>
                    <a:lnTo>
                      <a:pt x="824" y="1419"/>
                    </a:lnTo>
                    <a:lnTo>
                      <a:pt x="826" y="1414"/>
                    </a:lnTo>
                    <a:lnTo>
                      <a:pt x="833" y="1400"/>
                    </a:lnTo>
                    <a:lnTo>
                      <a:pt x="844" y="1379"/>
                    </a:lnTo>
                    <a:lnTo>
                      <a:pt x="860" y="1353"/>
                    </a:lnTo>
                    <a:lnTo>
                      <a:pt x="869" y="1338"/>
                    </a:lnTo>
                    <a:lnTo>
                      <a:pt x="880" y="1322"/>
                    </a:lnTo>
                    <a:lnTo>
                      <a:pt x="892" y="1306"/>
                    </a:lnTo>
                    <a:lnTo>
                      <a:pt x="905" y="1290"/>
                    </a:lnTo>
                    <a:lnTo>
                      <a:pt x="919" y="1274"/>
                    </a:lnTo>
                    <a:lnTo>
                      <a:pt x="926" y="1265"/>
                    </a:lnTo>
                    <a:lnTo>
                      <a:pt x="935" y="1257"/>
                    </a:lnTo>
                    <a:lnTo>
                      <a:pt x="951" y="1241"/>
                    </a:lnTo>
                    <a:lnTo>
                      <a:pt x="960" y="1234"/>
                    </a:lnTo>
                    <a:lnTo>
                      <a:pt x="969" y="1226"/>
                    </a:lnTo>
                    <a:lnTo>
                      <a:pt x="986" y="1212"/>
                    </a:lnTo>
                    <a:lnTo>
                      <a:pt x="1000" y="1199"/>
                    </a:lnTo>
                    <a:lnTo>
                      <a:pt x="1012" y="1188"/>
                    </a:lnTo>
                    <a:lnTo>
                      <a:pt x="1022" y="1177"/>
                    </a:lnTo>
                    <a:lnTo>
                      <a:pt x="1030" y="1167"/>
                    </a:lnTo>
                    <a:lnTo>
                      <a:pt x="1036" y="1160"/>
                    </a:lnTo>
                    <a:lnTo>
                      <a:pt x="1041" y="1153"/>
                    </a:lnTo>
                    <a:lnTo>
                      <a:pt x="1045" y="1147"/>
                    </a:lnTo>
                    <a:lnTo>
                      <a:pt x="1047" y="1142"/>
                    </a:lnTo>
                    <a:lnTo>
                      <a:pt x="1049" y="1138"/>
                    </a:lnTo>
                    <a:lnTo>
                      <a:pt x="1050" y="1135"/>
                    </a:lnTo>
                    <a:lnTo>
                      <a:pt x="1050" y="1133"/>
                    </a:lnTo>
                    <a:lnTo>
                      <a:pt x="1049" y="1130"/>
                    </a:lnTo>
                    <a:lnTo>
                      <a:pt x="1049" y="1129"/>
                    </a:lnTo>
                    <a:lnTo>
                      <a:pt x="1291" y="1008"/>
                    </a:lnTo>
                    <a:lnTo>
                      <a:pt x="1485" y="1025"/>
                    </a:lnTo>
                    <a:lnTo>
                      <a:pt x="1476" y="686"/>
                    </a:lnTo>
                    <a:lnTo>
                      <a:pt x="1227" y="743"/>
                    </a:lnTo>
                    <a:lnTo>
                      <a:pt x="1202" y="268"/>
                    </a:lnTo>
                    <a:lnTo>
                      <a:pt x="1228" y="257"/>
                    </a:lnTo>
                    <a:lnTo>
                      <a:pt x="1255" y="244"/>
                    </a:lnTo>
                    <a:lnTo>
                      <a:pt x="1287" y="229"/>
                    </a:lnTo>
                    <a:lnTo>
                      <a:pt x="1320" y="212"/>
                    </a:lnTo>
                    <a:lnTo>
                      <a:pt x="1336" y="202"/>
                    </a:lnTo>
                    <a:lnTo>
                      <a:pt x="1352" y="193"/>
                    </a:lnTo>
                    <a:lnTo>
                      <a:pt x="1366" y="183"/>
                    </a:lnTo>
                    <a:lnTo>
                      <a:pt x="1378" y="174"/>
                    </a:lnTo>
                    <a:lnTo>
                      <a:pt x="1384" y="169"/>
                    </a:lnTo>
                    <a:lnTo>
                      <a:pt x="1388" y="164"/>
                    </a:lnTo>
                    <a:lnTo>
                      <a:pt x="1392" y="160"/>
                    </a:lnTo>
                    <a:lnTo>
                      <a:pt x="1396" y="155"/>
                    </a:lnTo>
                    <a:lnTo>
                      <a:pt x="1402" y="146"/>
                    </a:lnTo>
                    <a:lnTo>
                      <a:pt x="1408" y="138"/>
                    </a:lnTo>
                    <a:lnTo>
                      <a:pt x="1414" y="131"/>
                    </a:lnTo>
                    <a:lnTo>
                      <a:pt x="1421" y="124"/>
                    </a:lnTo>
                    <a:lnTo>
                      <a:pt x="1433" y="111"/>
                    </a:lnTo>
                    <a:lnTo>
                      <a:pt x="1444" y="101"/>
                    </a:lnTo>
                    <a:lnTo>
                      <a:pt x="1453" y="93"/>
                    </a:lnTo>
                    <a:lnTo>
                      <a:pt x="1461" y="87"/>
                    </a:lnTo>
                    <a:lnTo>
                      <a:pt x="1468" y="82"/>
                    </a:lnTo>
                    <a:lnTo>
                      <a:pt x="1525" y="58"/>
                    </a:lnTo>
                    <a:lnTo>
                      <a:pt x="1573" y="115"/>
                    </a:lnTo>
                    <a:lnTo>
                      <a:pt x="1646" y="74"/>
                    </a:lnTo>
                    <a:lnTo>
                      <a:pt x="1742" y="179"/>
                    </a:lnTo>
                    <a:lnTo>
                      <a:pt x="1732" y="190"/>
                    </a:lnTo>
                    <a:lnTo>
                      <a:pt x="1728" y="195"/>
                    </a:lnTo>
                    <a:lnTo>
                      <a:pt x="1723" y="201"/>
                    </a:lnTo>
                    <a:lnTo>
                      <a:pt x="1718" y="207"/>
                    </a:lnTo>
                    <a:lnTo>
                      <a:pt x="1714" y="214"/>
                    </a:lnTo>
                    <a:lnTo>
                      <a:pt x="1710" y="221"/>
                    </a:lnTo>
                    <a:lnTo>
                      <a:pt x="1706" y="229"/>
                    </a:lnTo>
                    <a:lnTo>
                      <a:pt x="1703" y="236"/>
                    </a:lnTo>
                    <a:lnTo>
                      <a:pt x="1701" y="243"/>
                    </a:lnTo>
                    <a:lnTo>
                      <a:pt x="1701" y="248"/>
                    </a:lnTo>
                    <a:lnTo>
                      <a:pt x="1701" y="251"/>
                    </a:lnTo>
                    <a:lnTo>
                      <a:pt x="1701" y="254"/>
                    </a:lnTo>
                    <a:lnTo>
                      <a:pt x="1702" y="257"/>
                    </a:lnTo>
                    <a:lnTo>
                      <a:pt x="1703" y="260"/>
                    </a:lnTo>
                    <a:lnTo>
                      <a:pt x="1705" y="263"/>
                    </a:lnTo>
                    <a:lnTo>
                      <a:pt x="1707" y="266"/>
                    </a:lnTo>
                    <a:lnTo>
                      <a:pt x="1710" y="268"/>
                    </a:lnTo>
                    <a:lnTo>
                      <a:pt x="1716" y="272"/>
                    </a:lnTo>
                    <a:lnTo>
                      <a:pt x="1724" y="276"/>
                    </a:lnTo>
                    <a:lnTo>
                      <a:pt x="1733" y="279"/>
                    </a:lnTo>
                    <a:lnTo>
                      <a:pt x="1742" y="282"/>
                    </a:lnTo>
                    <a:lnTo>
                      <a:pt x="1752" y="284"/>
                    </a:lnTo>
                    <a:lnTo>
                      <a:pt x="1763" y="286"/>
                    </a:lnTo>
                    <a:lnTo>
                      <a:pt x="1773" y="288"/>
                    </a:lnTo>
                    <a:lnTo>
                      <a:pt x="1783" y="289"/>
                    </a:lnTo>
                    <a:lnTo>
                      <a:pt x="1801" y="291"/>
                    </a:lnTo>
                    <a:lnTo>
                      <a:pt x="1817" y="292"/>
                    </a:lnTo>
                    <a:lnTo>
                      <a:pt x="1831" y="292"/>
                    </a:lnTo>
                    <a:lnTo>
                      <a:pt x="1833" y="293"/>
                    </a:lnTo>
                    <a:lnTo>
                      <a:pt x="1840" y="296"/>
                    </a:lnTo>
                    <a:lnTo>
                      <a:pt x="1850" y="302"/>
                    </a:lnTo>
                    <a:lnTo>
                      <a:pt x="1856" y="306"/>
                    </a:lnTo>
                    <a:lnTo>
                      <a:pt x="1863" y="311"/>
                    </a:lnTo>
                    <a:lnTo>
                      <a:pt x="1870" y="317"/>
                    </a:lnTo>
                    <a:lnTo>
                      <a:pt x="1877" y="325"/>
                    </a:lnTo>
                    <a:lnTo>
                      <a:pt x="1881" y="329"/>
                    </a:lnTo>
                    <a:lnTo>
                      <a:pt x="1884" y="333"/>
                    </a:lnTo>
                    <a:lnTo>
                      <a:pt x="1888" y="338"/>
                    </a:lnTo>
                    <a:lnTo>
                      <a:pt x="1893" y="343"/>
                    </a:lnTo>
                    <a:lnTo>
                      <a:pt x="1900" y="354"/>
                    </a:lnTo>
                    <a:lnTo>
                      <a:pt x="1907" y="366"/>
                    </a:lnTo>
                    <a:lnTo>
                      <a:pt x="1914" y="380"/>
                    </a:lnTo>
                    <a:lnTo>
                      <a:pt x="1920" y="396"/>
                    </a:lnTo>
                    <a:lnTo>
                      <a:pt x="1931" y="429"/>
                    </a:lnTo>
                    <a:lnTo>
                      <a:pt x="1941" y="459"/>
                    </a:lnTo>
                    <a:lnTo>
                      <a:pt x="1949" y="487"/>
                    </a:lnTo>
                    <a:lnTo>
                      <a:pt x="1956" y="514"/>
                    </a:lnTo>
                    <a:lnTo>
                      <a:pt x="1961" y="540"/>
                    </a:lnTo>
                    <a:lnTo>
                      <a:pt x="1965" y="566"/>
                    </a:lnTo>
                    <a:lnTo>
                      <a:pt x="1967" y="590"/>
                    </a:lnTo>
                    <a:lnTo>
                      <a:pt x="1968" y="614"/>
                    </a:lnTo>
                    <a:lnTo>
                      <a:pt x="1968" y="637"/>
                    </a:lnTo>
                    <a:lnTo>
                      <a:pt x="1968" y="656"/>
                    </a:lnTo>
                    <a:lnTo>
                      <a:pt x="1968" y="665"/>
                    </a:lnTo>
                    <a:lnTo>
                      <a:pt x="1969" y="673"/>
                    </a:lnTo>
                    <a:lnTo>
                      <a:pt x="1970" y="680"/>
                    </a:lnTo>
                    <a:lnTo>
                      <a:pt x="1972" y="687"/>
                    </a:lnTo>
                    <a:lnTo>
                      <a:pt x="1973" y="690"/>
                    </a:lnTo>
                    <a:lnTo>
                      <a:pt x="1974" y="693"/>
                    </a:lnTo>
                    <a:lnTo>
                      <a:pt x="1978" y="699"/>
                    </a:lnTo>
                    <a:lnTo>
                      <a:pt x="1980" y="701"/>
                    </a:lnTo>
                    <a:lnTo>
                      <a:pt x="1982" y="703"/>
                    </a:lnTo>
                    <a:lnTo>
                      <a:pt x="1988" y="708"/>
                    </a:lnTo>
                    <a:lnTo>
                      <a:pt x="1995" y="712"/>
                    </a:lnTo>
                    <a:lnTo>
                      <a:pt x="2003" y="715"/>
                    </a:lnTo>
                    <a:lnTo>
                      <a:pt x="2008" y="716"/>
                    </a:lnTo>
                    <a:lnTo>
                      <a:pt x="2013" y="717"/>
                    </a:lnTo>
                    <a:lnTo>
                      <a:pt x="2024" y="719"/>
                    </a:lnTo>
                    <a:lnTo>
                      <a:pt x="2036" y="721"/>
                    </a:lnTo>
                    <a:lnTo>
                      <a:pt x="2047" y="723"/>
                    </a:lnTo>
                    <a:lnTo>
                      <a:pt x="2057" y="726"/>
                    </a:lnTo>
                    <a:lnTo>
                      <a:pt x="2066" y="729"/>
                    </a:lnTo>
                    <a:lnTo>
                      <a:pt x="2074" y="732"/>
                    </a:lnTo>
                    <a:lnTo>
                      <a:pt x="2081" y="735"/>
                    </a:lnTo>
                    <a:lnTo>
                      <a:pt x="2093" y="742"/>
                    </a:lnTo>
                    <a:lnTo>
                      <a:pt x="2102" y="749"/>
                    </a:lnTo>
                    <a:lnTo>
                      <a:pt x="2108" y="754"/>
                    </a:lnTo>
                    <a:lnTo>
                      <a:pt x="2112" y="758"/>
                    </a:lnTo>
                    <a:lnTo>
                      <a:pt x="2113" y="759"/>
                    </a:lnTo>
                    <a:lnTo>
                      <a:pt x="2289" y="534"/>
                    </a:lnTo>
                    <a:lnTo>
                      <a:pt x="2345" y="460"/>
                    </a:lnTo>
                    <a:lnTo>
                      <a:pt x="2364" y="424"/>
                    </a:lnTo>
                    <a:lnTo>
                      <a:pt x="2381" y="391"/>
                    </a:lnTo>
                    <a:lnTo>
                      <a:pt x="2390" y="375"/>
                    </a:lnTo>
                    <a:lnTo>
                      <a:pt x="2399" y="360"/>
                    </a:lnTo>
                    <a:lnTo>
                      <a:pt x="2403" y="352"/>
                    </a:lnTo>
                    <a:lnTo>
                      <a:pt x="2406" y="343"/>
                    </a:lnTo>
                    <a:lnTo>
                      <a:pt x="2410" y="332"/>
                    </a:lnTo>
                    <a:lnTo>
                      <a:pt x="2413" y="321"/>
                    </a:lnTo>
                    <a:lnTo>
                      <a:pt x="2415" y="308"/>
                    </a:lnTo>
                    <a:lnTo>
                      <a:pt x="2417" y="294"/>
                    </a:lnTo>
                    <a:lnTo>
                      <a:pt x="2421" y="265"/>
                    </a:lnTo>
                    <a:lnTo>
                      <a:pt x="2422" y="250"/>
                    </a:lnTo>
                    <a:lnTo>
                      <a:pt x="2423" y="235"/>
                    </a:lnTo>
                    <a:lnTo>
                      <a:pt x="2423" y="206"/>
                    </a:lnTo>
                    <a:lnTo>
                      <a:pt x="2423" y="193"/>
                    </a:lnTo>
                    <a:lnTo>
                      <a:pt x="2423" y="181"/>
                    </a:lnTo>
                    <a:lnTo>
                      <a:pt x="2422" y="169"/>
                    </a:lnTo>
                    <a:lnTo>
                      <a:pt x="2421" y="159"/>
                    </a:lnTo>
                    <a:lnTo>
                      <a:pt x="2417" y="140"/>
                    </a:lnTo>
                    <a:lnTo>
                      <a:pt x="2414" y="119"/>
                    </a:lnTo>
                    <a:lnTo>
                      <a:pt x="2412" y="109"/>
                    </a:lnTo>
                    <a:lnTo>
                      <a:pt x="2412" y="98"/>
                    </a:lnTo>
                    <a:lnTo>
                      <a:pt x="2412" y="87"/>
                    </a:lnTo>
                    <a:lnTo>
                      <a:pt x="2413" y="77"/>
                    </a:lnTo>
                    <a:lnTo>
                      <a:pt x="2414" y="72"/>
                    </a:lnTo>
                    <a:lnTo>
                      <a:pt x="2415" y="67"/>
                    </a:lnTo>
                    <a:lnTo>
                      <a:pt x="2419" y="57"/>
                    </a:lnTo>
                    <a:lnTo>
                      <a:pt x="2422" y="53"/>
                    </a:lnTo>
                    <a:lnTo>
                      <a:pt x="2424" y="49"/>
                    </a:lnTo>
                    <a:lnTo>
                      <a:pt x="2428" y="44"/>
                    </a:lnTo>
                    <a:lnTo>
                      <a:pt x="2432" y="40"/>
                    </a:lnTo>
                    <a:lnTo>
                      <a:pt x="2442" y="33"/>
                    </a:lnTo>
                    <a:lnTo>
                      <a:pt x="2448" y="30"/>
                    </a:lnTo>
                    <a:lnTo>
                      <a:pt x="2454" y="26"/>
                    </a:lnTo>
                    <a:lnTo>
                      <a:pt x="2461" y="23"/>
                    </a:lnTo>
                    <a:lnTo>
                      <a:pt x="2469" y="21"/>
                    </a:lnTo>
                    <a:lnTo>
                      <a:pt x="2477" y="18"/>
                    </a:lnTo>
                    <a:lnTo>
                      <a:pt x="2486" y="16"/>
                    </a:lnTo>
                    <a:lnTo>
                      <a:pt x="2521" y="9"/>
                    </a:lnTo>
                    <a:lnTo>
                      <a:pt x="2552" y="4"/>
                    </a:lnTo>
                    <a:lnTo>
                      <a:pt x="2566" y="3"/>
                    </a:lnTo>
                    <a:lnTo>
                      <a:pt x="2581" y="1"/>
                    </a:lnTo>
                    <a:lnTo>
                      <a:pt x="2606" y="0"/>
                    </a:lnTo>
                    <a:lnTo>
                      <a:pt x="2629" y="0"/>
                    </a:lnTo>
                    <a:lnTo>
                      <a:pt x="2650" y="1"/>
                    </a:lnTo>
                    <a:lnTo>
                      <a:pt x="2670" y="3"/>
                    </a:lnTo>
                    <a:lnTo>
                      <a:pt x="2690" y="7"/>
                    </a:lnTo>
                    <a:lnTo>
                      <a:pt x="2703" y="10"/>
                    </a:lnTo>
                    <a:lnTo>
                      <a:pt x="2717" y="12"/>
                    </a:lnTo>
                    <a:lnTo>
                      <a:pt x="2738" y="18"/>
                    </a:lnTo>
                    <a:lnTo>
                      <a:pt x="2757" y="23"/>
                    </a:lnTo>
                    <a:lnTo>
                      <a:pt x="2773" y="28"/>
                    </a:lnTo>
                    <a:lnTo>
                      <a:pt x="2794" y="35"/>
                    </a:lnTo>
                    <a:lnTo>
                      <a:pt x="2801" y="38"/>
                    </a:lnTo>
                    <a:lnTo>
                      <a:pt x="2779" y="296"/>
                    </a:lnTo>
                    <a:lnTo>
                      <a:pt x="2715" y="288"/>
                    </a:lnTo>
                    <a:lnTo>
                      <a:pt x="2686" y="374"/>
                    </a:lnTo>
                    <a:lnTo>
                      <a:pt x="2751" y="510"/>
                    </a:lnTo>
                    <a:lnTo>
                      <a:pt x="2641" y="510"/>
                    </a:lnTo>
                    <a:lnTo>
                      <a:pt x="2608" y="538"/>
                    </a:lnTo>
                    <a:lnTo>
                      <a:pt x="2601" y="739"/>
                    </a:lnTo>
                    <a:lnTo>
                      <a:pt x="2679" y="739"/>
                    </a:lnTo>
                    <a:lnTo>
                      <a:pt x="2693" y="811"/>
                    </a:lnTo>
                    <a:lnTo>
                      <a:pt x="2882" y="561"/>
                    </a:lnTo>
                    <a:lnTo>
                      <a:pt x="3169" y="608"/>
                    </a:lnTo>
                    <a:lnTo>
                      <a:pt x="3176" y="624"/>
                    </a:lnTo>
                    <a:lnTo>
                      <a:pt x="3184" y="641"/>
                    </a:lnTo>
                    <a:lnTo>
                      <a:pt x="3192" y="663"/>
                    </a:lnTo>
                    <a:lnTo>
                      <a:pt x="3197" y="675"/>
                    </a:lnTo>
                    <a:lnTo>
                      <a:pt x="3201" y="687"/>
                    </a:lnTo>
                    <a:lnTo>
                      <a:pt x="3205" y="700"/>
                    </a:lnTo>
                    <a:lnTo>
                      <a:pt x="3208" y="713"/>
                    </a:lnTo>
                    <a:lnTo>
                      <a:pt x="3211" y="726"/>
                    </a:lnTo>
                    <a:lnTo>
                      <a:pt x="3214" y="738"/>
                    </a:lnTo>
                    <a:lnTo>
                      <a:pt x="3215" y="750"/>
                    </a:lnTo>
                    <a:lnTo>
                      <a:pt x="3216" y="761"/>
                    </a:lnTo>
                    <a:lnTo>
                      <a:pt x="3216" y="773"/>
                    </a:lnTo>
                    <a:lnTo>
                      <a:pt x="3215" y="786"/>
                    </a:lnTo>
                    <a:lnTo>
                      <a:pt x="3212" y="815"/>
                    </a:lnTo>
                    <a:lnTo>
                      <a:pt x="3210" y="832"/>
                    </a:lnTo>
                    <a:lnTo>
                      <a:pt x="3207" y="848"/>
                    </a:lnTo>
                    <a:lnTo>
                      <a:pt x="3204" y="866"/>
                    </a:lnTo>
                    <a:lnTo>
                      <a:pt x="3201" y="883"/>
                    </a:lnTo>
                    <a:lnTo>
                      <a:pt x="3197" y="899"/>
                    </a:lnTo>
                    <a:lnTo>
                      <a:pt x="3192" y="915"/>
                    </a:lnTo>
                    <a:lnTo>
                      <a:pt x="3188" y="930"/>
                    </a:lnTo>
                    <a:lnTo>
                      <a:pt x="3183" y="944"/>
                    </a:lnTo>
                    <a:lnTo>
                      <a:pt x="3177" y="956"/>
                    </a:lnTo>
                    <a:lnTo>
                      <a:pt x="3171" y="967"/>
                    </a:lnTo>
                    <a:lnTo>
                      <a:pt x="3165" y="976"/>
                    </a:lnTo>
                    <a:lnTo>
                      <a:pt x="3162" y="979"/>
                    </a:lnTo>
                    <a:lnTo>
                      <a:pt x="3159" y="982"/>
                    </a:lnTo>
                    <a:lnTo>
                      <a:pt x="3152" y="987"/>
                    </a:lnTo>
                    <a:lnTo>
                      <a:pt x="3145" y="992"/>
                    </a:lnTo>
                    <a:lnTo>
                      <a:pt x="3139" y="996"/>
                    </a:lnTo>
                    <a:lnTo>
                      <a:pt x="3132" y="999"/>
                    </a:lnTo>
                    <a:lnTo>
                      <a:pt x="3124" y="1002"/>
                    </a:lnTo>
                    <a:lnTo>
                      <a:pt x="3116" y="1005"/>
                    </a:lnTo>
                    <a:lnTo>
                      <a:pt x="3109" y="1007"/>
                    </a:lnTo>
                    <a:lnTo>
                      <a:pt x="3101" y="1008"/>
                    </a:lnTo>
                    <a:lnTo>
                      <a:pt x="3093" y="1009"/>
                    </a:lnTo>
                    <a:lnTo>
                      <a:pt x="3085" y="1010"/>
                    </a:lnTo>
                    <a:lnTo>
                      <a:pt x="3068" y="1011"/>
                    </a:lnTo>
                    <a:lnTo>
                      <a:pt x="3050" y="1012"/>
                    </a:lnTo>
                    <a:lnTo>
                      <a:pt x="3030" y="1011"/>
                    </a:lnTo>
                    <a:lnTo>
                      <a:pt x="3022" y="1011"/>
                    </a:lnTo>
                    <a:lnTo>
                      <a:pt x="3015" y="1011"/>
                    </a:lnTo>
                    <a:lnTo>
                      <a:pt x="3008" y="1012"/>
                    </a:lnTo>
                    <a:lnTo>
                      <a:pt x="3002" y="1013"/>
                    </a:lnTo>
                    <a:lnTo>
                      <a:pt x="2996" y="1015"/>
                    </a:lnTo>
                    <a:lnTo>
                      <a:pt x="2991" y="1017"/>
                    </a:lnTo>
                    <a:lnTo>
                      <a:pt x="2986" y="1021"/>
                    </a:lnTo>
                    <a:lnTo>
                      <a:pt x="2982" y="1024"/>
                    </a:lnTo>
                    <a:lnTo>
                      <a:pt x="2978" y="1028"/>
                    </a:lnTo>
                    <a:lnTo>
                      <a:pt x="2976" y="1032"/>
                    </a:lnTo>
                    <a:lnTo>
                      <a:pt x="2973" y="1037"/>
                    </a:lnTo>
                    <a:lnTo>
                      <a:pt x="2972" y="1042"/>
                    </a:lnTo>
                    <a:lnTo>
                      <a:pt x="2971" y="1048"/>
                    </a:lnTo>
                    <a:lnTo>
                      <a:pt x="2971" y="1054"/>
                    </a:lnTo>
                    <a:lnTo>
                      <a:pt x="2971" y="1061"/>
                    </a:lnTo>
                    <a:lnTo>
                      <a:pt x="2972" y="1069"/>
                    </a:lnTo>
                    <a:lnTo>
                      <a:pt x="2974" y="1077"/>
                    </a:lnTo>
                    <a:lnTo>
                      <a:pt x="2976" y="1084"/>
                    </a:lnTo>
                    <a:lnTo>
                      <a:pt x="2980" y="1092"/>
                    </a:lnTo>
                    <a:lnTo>
                      <a:pt x="2984" y="1099"/>
                    </a:lnTo>
                    <a:lnTo>
                      <a:pt x="2989" y="1106"/>
                    </a:lnTo>
                    <a:lnTo>
                      <a:pt x="2994" y="1112"/>
                    </a:lnTo>
                    <a:lnTo>
                      <a:pt x="2999" y="1118"/>
                    </a:lnTo>
                    <a:lnTo>
                      <a:pt x="3004" y="1124"/>
                    </a:lnTo>
                    <a:lnTo>
                      <a:pt x="3014" y="1133"/>
                    </a:lnTo>
                    <a:lnTo>
                      <a:pt x="3022" y="1141"/>
                    </a:lnTo>
                    <a:lnTo>
                      <a:pt x="3030" y="1147"/>
                    </a:lnTo>
                    <a:lnTo>
                      <a:pt x="3032" y="1147"/>
                    </a:lnTo>
                    <a:lnTo>
                      <a:pt x="3034" y="1146"/>
                    </a:lnTo>
                    <a:lnTo>
                      <a:pt x="3037" y="1146"/>
                    </a:lnTo>
                    <a:lnTo>
                      <a:pt x="3040" y="1147"/>
                    </a:lnTo>
                    <a:lnTo>
                      <a:pt x="3045" y="1149"/>
                    </a:lnTo>
                    <a:lnTo>
                      <a:pt x="3049" y="1152"/>
                    </a:lnTo>
                    <a:lnTo>
                      <a:pt x="3051" y="1154"/>
                    </a:lnTo>
                    <a:lnTo>
                      <a:pt x="3054" y="1156"/>
                    </a:lnTo>
                    <a:lnTo>
                      <a:pt x="3056" y="1159"/>
                    </a:lnTo>
                    <a:lnTo>
                      <a:pt x="3059" y="1162"/>
                    </a:lnTo>
                    <a:lnTo>
                      <a:pt x="3064" y="1170"/>
                    </a:lnTo>
                    <a:lnTo>
                      <a:pt x="3070" y="1181"/>
                    </a:lnTo>
                    <a:lnTo>
                      <a:pt x="3075" y="1194"/>
                    </a:lnTo>
                    <a:lnTo>
                      <a:pt x="3080" y="1210"/>
                    </a:lnTo>
                    <a:lnTo>
                      <a:pt x="3085" y="1228"/>
                    </a:lnTo>
                    <a:lnTo>
                      <a:pt x="3090" y="1250"/>
                    </a:lnTo>
                    <a:lnTo>
                      <a:pt x="3092" y="1263"/>
                    </a:lnTo>
                    <a:lnTo>
                      <a:pt x="3094" y="1276"/>
                    </a:lnTo>
                    <a:lnTo>
                      <a:pt x="3097" y="1296"/>
                    </a:lnTo>
                    <a:lnTo>
                      <a:pt x="3101" y="1317"/>
                    </a:lnTo>
                    <a:lnTo>
                      <a:pt x="3105" y="1339"/>
                    </a:lnTo>
                    <a:lnTo>
                      <a:pt x="3109" y="1359"/>
                    </a:lnTo>
                    <a:lnTo>
                      <a:pt x="3119" y="1398"/>
                    </a:lnTo>
                    <a:lnTo>
                      <a:pt x="3129" y="1434"/>
                    </a:lnTo>
                    <a:lnTo>
                      <a:pt x="3138" y="1465"/>
                    </a:lnTo>
                    <a:lnTo>
                      <a:pt x="3145" y="1491"/>
                    </a:lnTo>
                    <a:lnTo>
                      <a:pt x="3152" y="1512"/>
                    </a:lnTo>
                    <a:lnTo>
                      <a:pt x="3467" y="1462"/>
                    </a:lnTo>
                    <a:lnTo>
                      <a:pt x="3452" y="1491"/>
                    </a:lnTo>
                    <a:lnTo>
                      <a:pt x="3417" y="1562"/>
                    </a:lnTo>
                    <a:lnTo>
                      <a:pt x="3407" y="1583"/>
                    </a:lnTo>
                    <a:lnTo>
                      <a:pt x="3398" y="1601"/>
                    </a:lnTo>
                    <a:lnTo>
                      <a:pt x="3390" y="1618"/>
                    </a:lnTo>
                    <a:lnTo>
                      <a:pt x="3387" y="1625"/>
                    </a:lnTo>
                    <a:lnTo>
                      <a:pt x="3383" y="1632"/>
                    </a:lnTo>
                    <a:lnTo>
                      <a:pt x="3379" y="1639"/>
                    </a:lnTo>
                    <a:lnTo>
                      <a:pt x="3376" y="1645"/>
                    </a:lnTo>
                    <a:lnTo>
                      <a:pt x="3372" y="1649"/>
                    </a:lnTo>
                    <a:lnTo>
                      <a:pt x="3368" y="1653"/>
                    </a:lnTo>
                    <a:lnTo>
                      <a:pt x="3366" y="1655"/>
                    </a:lnTo>
                    <a:lnTo>
                      <a:pt x="3364" y="1656"/>
                    </a:lnTo>
                    <a:lnTo>
                      <a:pt x="3360" y="1659"/>
                    </a:lnTo>
                    <a:lnTo>
                      <a:pt x="3355" y="1660"/>
                    </a:lnTo>
                    <a:lnTo>
                      <a:pt x="3350" y="1660"/>
                    </a:lnTo>
                    <a:lnTo>
                      <a:pt x="3341" y="1660"/>
                    </a:lnTo>
                    <a:lnTo>
                      <a:pt x="3335" y="1659"/>
                    </a:lnTo>
                    <a:lnTo>
                      <a:pt x="3333" y="1658"/>
                    </a:lnTo>
                    <a:lnTo>
                      <a:pt x="3331" y="1656"/>
                    </a:lnTo>
                    <a:lnTo>
                      <a:pt x="3326" y="1653"/>
                    </a:lnTo>
                    <a:lnTo>
                      <a:pt x="3320" y="1648"/>
                    </a:lnTo>
                    <a:lnTo>
                      <a:pt x="3310" y="1643"/>
                    </a:lnTo>
                    <a:lnTo>
                      <a:pt x="3303" y="1639"/>
                    </a:lnTo>
                    <a:lnTo>
                      <a:pt x="3295" y="1635"/>
                    </a:lnTo>
                    <a:lnTo>
                      <a:pt x="3274" y="1626"/>
                    </a:lnTo>
                    <a:lnTo>
                      <a:pt x="3256" y="1621"/>
                    </a:lnTo>
                    <a:lnTo>
                      <a:pt x="3249" y="1619"/>
                    </a:lnTo>
                    <a:lnTo>
                      <a:pt x="3241" y="1617"/>
                    </a:lnTo>
                    <a:lnTo>
                      <a:pt x="3234" y="1616"/>
                    </a:lnTo>
                    <a:lnTo>
                      <a:pt x="3228" y="1616"/>
                    </a:lnTo>
                    <a:lnTo>
                      <a:pt x="3217" y="1616"/>
                    </a:lnTo>
                    <a:lnTo>
                      <a:pt x="3212" y="1616"/>
                    </a:lnTo>
                    <a:lnTo>
                      <a:pt x="3209" y="1617"/>
                    </a:lnTo>
                    <a:lnTo>
                      <a:pt x="3206" y="1619"/>
                    </a:lnTo>
                    <a:lnTo>
                      <a:pt x="3204" y="1621"/>
                    </a:lnTo>
                    <a:lnTo>
                      <a:pt x="3204" y="1623"/>
                    </a:lnTo>
                    <a:lnTo>
                      <a:pt x="3204" y="1625"/>
                    </a:lnTo>
                    <a:lnTo>
                      <a:pt x="3204" y="1626"/>
                    </a:lnTo>
                    <a:lnTo>
                      <a:pt x="3206" y="1630"/>
                    </a:lnTo>
                    <a:lnTo>
                      <a:pt x="3209" y="1633"/>
                    </a:lnTo>
                    <a:lnTo>
                      <a:pt x="3213" y="1639"/>
                    </a:lnTo>
                    <a:lnTo>
                      <a:pt x="3215" y="1643"/>
                    </a:lnTo>
                    <a:lnTo>
                      <a:pt x="3217" y="1647"/>
                    </a:lnTo>
                    <a:lnTo>
                      <a:pt x="3218" y="1649"/>
                    </a:lnTo>
                    <a:lnTo>
                      <a:pt x="3218" y="1651"/>
                    </a:lnTo>
                    <a:lnTo>
                      <a:pt x="3238" y="1670"/>
                    </a:lnTo>
                    <a:lnTo>
                      <a:pt x="3258" y="1687"/>
                    </a:lnTo>
                    <a:lnTo>
                      <a:pt x="3297" y="1721"/>
                    </a:lnTo>
                    <a:lnTo>
                      <a:pt x="3316" y="1739"/>
                    </a:lnTo>
                    <a:lnTo>
                      <a:pt x="3325" y="1748"/>
                    </a:lnTo>
                    <a:lnTo>
                      <a:pt x="3334" y="1758"/>
                    </a:lnTo>
                    <a:lnTo>
                      <a:pt x="3342" y="1768"/>
                    </a:lnTo>
                    <a:lnTo>
                      <a:pt x="3351" y="1778"/>
                    </a:lnTo>
                    <a:lnTo>
                      <a:pt x="3359" y="1789"/>
                    </a:lnTo>
                    <a:lnTo>
                      <a:pt x="3366" y="1801"/>
                    </a:lnTo>
                    <a:lnTo>
                      <a:pt x="3364" y="1811"/>
                    </a:lnTo>
                    <a:lnTo>
                      <a:pt x="3326" y="1811"/>
                    </a:lnTo>
                    <a:lnTo>
                      <a:pt x="3316" y="1810"/>
                    </a:lnTo>
                    <a:lnTo>
                      <a:pt x="3306" y="1809"/>
                    </a:lnTo>
                    <a:lnTo>
                      <a:pt x="3297" y="1808"/>
                    </a:lnTo>
                    <a:lnTo>
                      <a:pt x="3292" y="1807"/>
                    </a:lnTo>
                    <a:lnTo>
                      <a:pt x="3288" y="1805"/>
                    </a:lnTo>
                    <a:lnTo>
                      <a:pt x="3280" y="1803"/>
                    </a:lnTo>
                    <a:lnTo>
                      <a:pt x="3271" y="1800"/>
                    </a:lnTo>
                    <a:lnTo>
                      <a:pt x="3254" y="1794"/>
                    </a:lnTo>
                    <a:lnTo>
                      <a:pt x="3247" y="1790"/>
                    </a:lnTo>
                    <a:lnTo>
                      <a:pt x="3239" y="1787"/>
                    </a:lnTo>
                    <a:lnTo>
                      <a:pt x="3230" y="1784"/>
                    </a:lnTo>
                    <a:lnTo>
                      <a:pt x="3222" y="1782"/>
                    </a:lnTo>
                    <a:lnTo>
                      <a:pt x="3213" y="1779"/>
                    </a:lnTo>
                    <a:lnTo>
                      <a:pt x="3204" y="1778"/>
                    </a:lnTo>
                    <a:lnTo>
                      <a:pt x="3194" y="1777"/>
                    </a:lnTo>
                    <a:lnTo>
                      <a:pt x="3184" y="1776"/>
                    </a:lnTo>
                    <a:lnTo>
                      <a:pt x="3140" y="1776"/>
                    </a:lnTo>
                    <a:lnTo>
                      <a:pt x="3135" y="1776"/>
                    </a:lnTo>
                    <a:lnTo>
                      <a:pt x="3131" y="1775"/>
                    </a:lnTo>
                    <a:lnTo>
                      <a:pt x="3126" y="1773"/>
                    </a:lnTo>
                    <a:lnTo>
                      <a:pt x="3121" y="1771"/>
                    </a:lnTo>
                    <a:lnTo>
                      <a:pt x="3114" y="1765"/>
                    </a:lnTo>
                    <a:lnTo>
                      <a:pt x="3107" y="1758"/>
                    </a:lnTo>
                    <a:lnTo>
                      <a:pt x="3100" y="1752"/>
                    </a:lnTo>
                    <a:lnTo>
                      <a:pt x="3096" y="1749"/>
                    </a:lnTo>
                    <a:lnTo>
                      <a:pt x="3093" y="1746"/>
                    </a:lnTo>
                    <a:lnTo>
                      <a:pt x="3089" y="1744"/>
                    </a:lnTo>
                    <a:lnTo>
                      <a:pt x="3084" y="1742"/>
                    </a:lnTo>
                    <a:lnTo>
                      <a:pt x="3080" y="1741"/>
                    </a:lnTo>
                    <a:lnTo>
                      <a:pt x="3074" y="1741"/>
                    </a:lnTo>
                    <a:lnTo>
                      <a:pt x="3071" y="1741"/>
                    </a:lnTo>
                    <a:lnTo>
                      <a:pt x="3068" y="1742"/>
                    </a:lnTo>
                    <a:lnTo>
                      <a:pt x="3065" y="1743"/>
                    </a:lnTo>
                    <a:lnTo>
                      <a:pt x="3063" y="1745"/>
                    </a:lnTo>
                    <a:lnTo>
                      <a:pt x="3060" y="1747"/>
                    </a:lnTo>
                    <a:lnTo>
                      <a:pt x="3058" y="1749"/>
                    </a:lnTo>
                    <a:lnTo>
                      <a:pt x="3055" y="1755"/>
                    </a:lnTo>
                    <a:lnTo>
                      <a:pt x="3048" y="1767"/>
                    </a:lnTo>
                    <a:lnTo>
                      <a:pt x="3044" y="1773"/>
                    </a:lnTo>
                    <a:lnTo>
                      <a:pt x="3042" y="1776"/>
                    </a:lnTo>
                    <a:lnTo>
                      <a:pt x="3039" y="1779"/>
                    </a:lnTo>
                    <a:lnTo>
                      <a:pt x="3010" y="1807"/>
                    </a:lnTo>
                    <a:lnTo>
                      <a:pt x="2997" y="1819"/>
                    </a:lnTo>
                    <a:lnTo>
                      <a:pt x="2990" y="1825"/>
                    </a:lnTo>
                    <a:lnTo>
                      <a:pt x="2982" y="1830"/>
                    </a:lnTo>
                    <a:lnTo>
                      <a:pt x="2975" y="1835"/>
                    </a:lnTo>
                    <a:lnTo>
                      <a:pt x="2968" y="1840"/>
                    </a:lnTo>
                    <a:lnTo>
                      <a:pt x="2960" y="1844"/>
                    </a:lnTo>
                    <a:lnTo>
                      <a:pt x="2952" y="1847"/>
                    </a:lnTo>
                    <a:lnTo>
                      <a:pt x="2944" y="1849"/>
                    </a:lnTo>
                    <a:lnTo>
                      <a:pt x="2935" y="1851"/>
                    </a:lnTo>
                    <a:lnTo>
                      <a:pt x="2925" y="1853"/>
                    </a:lnTo>
                    <a:lnTo>
                      <a:pt x="2915" y="1853"/>
                    </a:lnTo>
                    <a:lnTo>
                      <a:pt x="2887" y="1853"/>
                    </a:lnTo>
                    <a:lnTo>
                      <a:pt x="2874" y="1853"/>
                    </a:lnTo>
                    <a:lnTo>
                      <a:pt x="2862" y="1853"/>
                    </a:lnTo>
                    <a:lnTo>
                      <a:pt x="2856" y="1853"/>
                    </a:lnTo>
                    <a:lnTo>
                      <a:pt x="2849" y="1852"/>
                    </a:lnTo>
                    <a:lnTo>
                      <a:pt x="2836" y="1850"/>
                    </a:lnTo>
                    <a:lnTo>
                      <a:pt x="2830" y="1848"/>
                    </a:lnTo>
                    <a:lnTo>
                      <a:pt x="2824" y="1846"/>
                    </a:lnTo>
                    <a:lnTo>
                      <a:pt x="2817" y="1844"/>
                    </a:lnTo>
                    <a:lnTo>
                      <a:pt x="2810" y="1841"/>
                    </a:lnTo>
                    <a:lnTo>
                      <a:pt x="2803" y="1838"/>
                    </a:lnTo>
                    <a:lnTo>
                      <a:pt x="2797" y="1834"/>
                    </a:lnTo>
                    <a:lnTo>
                      <a:pt x="2791" y="1831"/>
                    </a:lnTo>
                    <a:lnTo>
                      <a:pt x="2785" y="1827"/>
                    </a:lnTo>
                    <a:lnTo>
                      <a:pt x="2764" y="1810"/>
                    </a:lnTo>
                    <a:lnTo>
                      <a:pt x="2754" y="1803"/>
                    </a:lnTo>
                    <a:lnTo>
                      <a:pt x="2749" y="1800"/>
                    </a:lnTo>
                    <a:lnTo>
                      <a:pt x="2743" y="1797"/>
                    </a:lnTo>
                    <a:lnTo>
                      <a:pt x="2737" y="1795"/>
                    </a:lnTo>
                    <a:lnTo>
                      <a:pt x="2731" y="1792"/>
                    </a:lnTo>
                    <a:lnTo>
                      <a:pt x="2724" y="1791"/>
                    </a:lnTo>
                    <a:lnTo>
                      <a:pt x="2717" y="1791"/>
                    </a:lnTo>
                    <a:lnTo>
                      <a:pt x="2609" y="1791"/>
                    </a:lnTo>
                    <a:lnTo>
                      <a:pt x="2609" y="1773"/>
                    </a:lnTo>
                    <a:lnTo>
                      <a:pt x="2608" y="1756"/>
                    </a:lnTo>
                    <a:lnTo>
                      <a:pt x="2606" y="1739"/>
                    </a:lnTo>
                    <a:lnTo>
                      <a:pt x="2603" y="1722"/>
                    </a:lnTo>
                    <a:lnTo>
                      <a:pt x="2601" y="1714"/>
                    </a:lnTo>
                    <a:lnTo>
                      <a:pt x="2599" y="1706"/>
                    </a:lnTo>
                    <a:lnTo>
                      <a:pt x="2594" y="1691"/>
                    </a:lnTo>
                    <a:lnTo>
                      <a:pt x="2591" y="1684"/>
                    </a:lnTo>
                    <a:lnTo>
                      <a:pt x="2588" y="1677"/>
                    </a:lnTo>
                    <a:lnTo>
                      <a:pt x="2584" y="1670"/>
                    </a:lnTo>
                    <a:lnTo>
                      <a:pt x="2580" y="1664"/>
                    </a:lnTo>
                    <a:lnTo>
                      <a:pt x="2581" y="1669"/>
                    </a:lnTo>
                    <a:lnTo>
                      <a:pt x="2411" y="1709"/>
                    </a:lnTo>
                    <a:lnTo>
                      <a:pt x="2339" y="1709"/>
                    </a:lnTo>
                    <a:lnTo>
                      <a:pt x="2129" y="1290"/>
                    </a:lnTo>
                    <a:lnTo>
                      <a:pt x="2024" y="1419"/>
                    </a:lnTo>
                    <a:lnTo>
                      <a:pt x="1976" y="1411"/>
                    </a:lnTo>
                    <a:lnTo>
                      <a:pt x="1936" y="1443"/>
                    </a:lnTo>
                    <a:lnTo>
                      <a:pt x="1565" y="1459"/>
                    </a:lnTo>
                    <a:lnTo>
                      <a:pt x="1750" y="1628"/>
                    </a:lnTo>
                    <a:lnTo>
                      <a:pt x="1726" y="1633"/>
                    </a:lnTo>
                    <a:lnTo>
                      <a:pt x="1726" y="1636"/>
                    </a:lnTo>
                    <a:lnTo>
                      <a:pt x="1725" y="1643"/>
                    </a:lnTo>
                    <a:lnTo>
                      <a:pt x="1724" y="1649"/>
                    </a:lnTo>
                    <a:lnTo>
                      <a:pt x="1723" y="1654"/>
                    </a:lnTo>
                    <a:lnTo>
                      <a:pt x="1721" y="1659"/>
                    </a:lnTo>
                    <a:lnTo>
                      <a:pt x="1719" y="1663"/>
                    </a:lnTo>
                    <a:lnTo>
                      <a:pt x="1716" y="1667"/>
                    </a:lnTo>
                    <a:lnTo>
                      <a:pt x="1712" y="1670"/>
                    </a:lnTo>
                    <a:lnTo>
                      <a:pt x="1709" y="1673"/>
                    </a:lnTo>
                    <a:lnTo>
                      <a:pt x="1700" y="1679"/>
                    </a:lnTo>
                    <a:lnTo>
                      <a:pt x="1690" y="1684"/>
                    </a:lnTo>
                    <a:lnTo>
                      <a:pt x="1667" y="1694"/>
                    </a:lnTo>
                    <a:lnTo>
                      <a:pt x="1625" y="1713"/>
                    </a:lnTo>
                    <a:lnTo>
                      <a:pt x="1604" y="1722"/>
                    </a:lnTo>
                    <a:lnTo>
                      <a:pt x="1595" y="1727"/>
                    </a:lnTo>
                    <a:lnTo>
                      <a:pt x="1587" y="1733"/>
                    </a:lnTo>
                    <a:lnTo>
                      <a:pt x="1579" y="1739"/>
                    </a:lnTo>
                    <a:lnTo>
                      <a:pt x="1575" y="1742"/>
                    </a:lnTo>
                    <a:lnTo>
                      <a:pt x="1572" y="1745"/>
                    </a:lnTo>
                    <a:lnTo>
                      <a:pt x="1565" y="1752"/>
                    </a:lnTo>
                    <a:lnTo>
                      <a:pt x="1563" y="1756"/>
                    </a:lnTo>
                    <a:lnTo>
                      <a:pt x="1560" y="1760"/>
                    </a:lnTo>
                    <a:lnTo>
                      <a:pt x="1556" y="1768"/>
                    </a:lnTo>
                    <a:lnTo>
                      <a:pt x="1553" y="1778"/>
                    </a:lnTo>
                    <a:lnTo>
                      <a:pt x="1551" y="1788"/>
                    </a:lnTo>
                    <a:lnTo>
                      <a:pt x="1550" y="1795"/>
                    </a:lnTo>
                    <a:lnTo>
                      <a:pt x="1550" y="1800"/>
                    </a:lnTo>
                    <a:lnTo>
                      <a:pt x="1550" y="1806"/>
                    </a:lnTo>
                    <a:lnTo>
                      <a:pt x="1549" y="1812"/>
                    </a:lnTo>
                    <a:lnTo>
                      <a:pt x="1547" y="1822"/>
                    </a:lnTo>
                    <a:lnTo>
                      <a:pt x="1544" y="1832"/>
                    </a:lnTo>
                    <a:lnTo>
                      <a:pt x="1541" y="1842"/>
                    </a:lnTo>
                    <a:lnTo>
                      <a:pt x="1538" y="1852"/>
                    </a:lnTo>
                    <a:lnTo>
                      <a:pt x="1535" y="1862"/>
                    </a:lnTo>
                    <a:lnTo>
                      <a:pt x="1533" y="1873"/>
                    </a:lnTo>
                    <a:lnTo>
                      <a:pt x="1532" y="1884"/>
                    </a:lnTo>
                    <a:lnTo>
                      <a:pt x="1532" y="1897"/>
                    </a:lnTo>
                    <a:lnTo>
                      <a:pt x="1532" y="1909"/>
                    </a:lnTo>
                    <a:lnTo>
                      <a:pt x="1531" y="1920"/>
                    </a:lnTo>
                    <a:lnTo>
                      <a:pt x="1530" y="1931"/>
                    </a:lnTo>
                    <a:lnTo>
                      <a:pt x="1529" y="1942"/>
                    </a:lnTo>
                    <a:lnTo>
                      <a:pt x="1528" y="1953"/>
                    </a:lnTo>
                    <a:lnTo>
                      <a:pt x="1526" y="1964"/>
                    </a:lnTo>
                    <a:lnTo>
                      <a:pt x="1523" y="1974"/>
                    </a:lnTo>
                    <a:lnTo>
                      <a:pt x="1520" y="1984"/>
                    </a:lnTo>
                    <a:lnTo>
                      <a:pt x="1517" y="1993"/>
                    </a:lnTo>
                    <a:lnTo>
                      <a:pt x="1513" y="2003"/>
                    </a:lnTo>
                    <a:lnTo>
                      <a:pt x="1508" y="2013"/>
                    </a:lnTo>
                    <a:lnTo>
                      <a:pt x="1503" y="2022"/>
                    </a:lnTo>
                    <a:lnTo>
                      <a:pt x="1497" y="2032"/>
                    </a:lnTo>
                    <a:lnTo>
                      <a:pt x="1490" y="2042"/>
                    </a:lnTo>
                    <a:lnTo>
                      <a:pt x="1483" y="2052"/>
                    </a:lnTo>
                    <a:lnTo>
                      <a:pt x="1478" y="2056"/>
                    </a:lnTo>
                    <a:lnTo>
                      <a:pt x="1474" y="2060"/>
                    </a:lnTo>
                    <a:lnTo>
                      <a:pt x="1470" y="2063"/>
                    </a:lnTo>
                    <a:lnTo>
                      <a:pt x="1465" y="2066"/>
                    </a:lnTo>
                    <a:lnTo>
                      <a:pt x="1455" y="2071"/>
                    </a:lnTo>
                    <a:lnTo>
                      <a:pt x="1445" y="2076"/>
                    </a:lnTo>
                    <a:lnTo>
                      <a:pt x="1440" y="2078"/>
                    </a:lnTo>
                    <a:lnTo>
                      <a:pt x="1436" y="2081"/>
                    </a:lnTo>
                    <a:lnTo>
                      <a:pt x="1432" y="2084"/>
                    </a:lnTo>
                    <a:lnTo>
                      <a:pt x="1428" y="2087"/>
                    </a:lnTo>
                    <a:lnTo>
                      <a:pt x="1425" y="2090"/>
                    </a:lnTo>
                    <a:lnTo>
                      <a:pt x="1423" y="2095"/>
                    </a:lnTo>
                    <a:lnTo>
                      <a:pt x="1422" y="2099"/>
                    </a:lnTo>
                    <a:lnTo>
                      <a:pt x="1421" y="2106"/>
                    </a:lnTo>
                    <a:lnTo>
                      <a:pt x="1421" y="2153"/>
                    </a:lnTo>
                    <a:lnTo>
                      <a:pt x="1422" y="2172"/>
                    </a:lnTo>
                    <a:lnTo>
                      <a:pt x="1422" y="2181"/>
                    </a:lnTo>
                    <a:lnTo>
                      <a:pt x="1423" y="2190"/>
                    </a:lnTo>
                    <a:lnTo>
                      <a:pt x="1424" y="2198"/>
                    </a:lnTo>
                    <a:lnTo>
                      <a:pt x="1426" y="2207"/>
                    </a:lnTo>
                    <a:lnTo>
                      <a:pt x="1429" y="2214"/>
                    </a:lnTo>
                    <a:lnTo>
                      <a:pt x="1433" y="2222"/>
                    </a:lnTo>
                    <a:lnTo>
                      <a:pt x="1437" y="2228"/>
                    </a:lnTo>
                    <a:lnTo>
                      <a:pt x="1442" y="2235"/>
                    </a:lnTo>
                    <a:lnTo>
                      <a:pt x="1448" y="2242"/>
                    </a:lnTo>
                    <a:lnTo>
                      <a:pt x="1442" y="2241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535440" y="1090440"/>
                <a:ext cx="182520" cy="200160"/>
              </a:xfrm>
              <a:custGeom>
                <a:avLst/>
                <a:gdLst/>
                <a:ahLst/>
                <a:rect l="l" t="t" r="r" b="b"/>
                <a:pathLst>
                  <a:path w="462" h="501">
                    <a:moveTo>
                      <a:pt x="187" y="0"/>
                    </a:moveTo>
                    <a:lnTo>
                      <a:pt x="255" y="86"/>
                    </a:lnTo>
                    <a:lnTo>
                      <a:pt x="262" y="95"/>
                    </a:lnTo>
                    <a:lnTo>
                      <a:pt x="270" y="104"/>
                    </a:lnTo>
                    <a:lnTo>
                      <a:pt x="282" y="114"/>
                    </a:lnTo>
                    <a:lnTo>
                      <a:pt x="295" y="125"/>
                    </a:lnTo>
                    <a:lnTo>
                      <a:pt x="303" y="130"/>
                    </a:lnTo>
                    <a:lnTo>
                      <a:pt x="311" y="134"/>
                    </a:lnTo>
                    <a:lnTo>
                      <a:pt x="319" y="139"/>
                    </a:lnTo>
                    <a:lnTo>
                      <a:pt x="328" y="142"/>
                    </a:lnTo>
                    <a:lnTo>
                      <a:pt x="337" y="145"/>
                    </a:lnTo>
                    <a:lnTo>
                      <a:pt x="347" y="147"/>
                    </a:lnTo>
                    <a:lnTo>
                      <a:pt x="368" y="151"/>
                    </a:lnTo>
                    <a:lnTo>
                      <a:pt x="379" y="153"/>
                    </a:lnTo>
                    <a:lnTo>
                      <a:pt x="390" y="157"/>
                    </a:lnTo>
                    <a:lnTo>
                      <a:pt x="401" y="160"/>
                    </a:lnTo>
                    <a:lnTo>
                      <a:pt x="412" y="165"/>
                    </a:lnTo>
                    <a:lnTo>
                      <a:pt x="418" y="167"/>
                    </a:lnTo>
                    <a:lnTo>
                      <a:pt x="423" y="170"/>
                    </a:lnTo>
                    <a:lnTo>
                      <a:pt x="432" y="176"/>
                    </a:lnTo>
                    <a:lnTo>
                      <a:pt x="441" y="183"/>
                    </a:lnTo>
                    <a:lnTo>
                      <a:pt x="445" y="187"/>
                    </a:lnTo>
                    <a:lnTo>
                      <a:pt x="448" y="191"/>
                    </a:lnTo>
                    <a:lnTo>
                      <a:pt x="451" y="195"/>
                    </a:lnTo>
                    <a:lnTo>
                      <a:pt x="454" y="200"/>
                    </a:lnTo>
                    <a:lnTo>
                      <a:pt x="456" y="205"/>
                    </a:lnTo>
                    <a:lnTo>
                      <a:pt x="459" y="210"/>
                    </a:lnTo>
                    <a:lnTo>
                      <a:pt x="460" y="215"/>
                    </a:lnTo>
                    <a:lnTo>
                      <a:pt x="461" y="221"/>
                    </a:lnTo>
                    <a:lnTo>
                      <a:pt x="462" y="227"/>
                    </a:lnTo>
                    <a:lnTo>
                      <a:pt x="462" y="233"/>
                    </a:lnTo>
                    <a:lnTo>
                      <a:pt x="462" y="239"/>
                    </a:lnTo>
                    <a:lnTo>
                      <a:pt x="461" y="247"/>
                    </a:lnTo>
                    <a:lnTo>
                      <a:pt x="459" y="255"/>
                    </a:lnTo>
                    <a:lnTo>
                      <a:pt x="457" y="262"/>
                    </a:lnTo>
                    <a:lnTo>
                      <a:pt x="447" y="292"/>
                    </a:lnTo>
                    <a:lnTo>
                      <a:pt x="436" y="321"/>
                    </a:lnTo>
                    <a:lnTo>
                      <a:pt x="427" y="347"/>
                    </a:lnTo>
                    <a:lnTo>
                      <a:pt x="417" y="371"/>
                    </a:lnTo>
                    <a:lnTo>
                      <a:pt x="407" y="391"/>
                    </a:lnTo>
                    <a:lnTo>
                      <a:pt x="400" y="409"/>
                    </a:lnTo>
                    <a:lnTo>
                      <a:pt x="396" y="416"/>
                    </a:lnTo>
                    <a:lnTo>
                      <a:pt x="393" y="421"/>
                    </a:lnTo>
                    <a:lnTo>
                      <a:pt x="388" y="428"/>
                    </a:lnTo>
                    <a:lnTo>
                      <a:pt x="386" y="431"/>
                    </a:lnTo>
                    <a:lnTo>
                      <a:pt x="385" y="434"/>
                    </a:lnTo>
                    <a:lnTo>
                      <a:pt x="384" y="443"/>
                    </a:lnTo>
                    <a:lnTo>
                      <a:pt x="383" y="454"/>
                    </a:lnTo>
                    <a:lnTo>
                      <a:pt x="382" y="459"/>
                    </a:lnTo>
                    <a:lnTo>
                      <a:pt x="380" y="465"/>
                    </a:lnTo>
                    <a:lnTo>
                      <a:pt x="379" y="468"/>
                    </a:lnTo>
                    <a:lnTo>
                      <a:pt x="377" y="471"/>
                    </a:lnTo>
                    <a:lnTo>
                      <a:pt x="372" y="476"/>
                    </a:lnTo>
                    <a:lnTo>
                      <a:pt x="370" y="478"/>
                    </a:lnTo>
                    <a:lnTo>
                      <a:pt x="366" y="481"/>
                    </a:lnTo>
                    <a:lnTo>
                      <a:pt x="359" y="485"/>
                    </a:lnTo>
                    <a:lnTo>
                      <a:pt x="349" y="489"/>
                    </a:lnTo>
                    <a:lnTo>
                      <a:pt x="337" y="492"/>
                    </a:lnTo>
                    <a:lnTo>
                      <a:pt x="330" y="494"/>
                    </a:lnTo>
                    <a:lnTo>
                      <a:pt x="322" y="495"/>
                    </a:lnTo>
                    <a:lnTo>
                      <a:pt x="305" y="496"/>
                    </a:lnTo>
                    <a:lnTo>
                      <a:pt x="270" y="498"/>
                    </a:lnTo>
                    <a:lnTo>
                      <a:pt x="244" y="500"/>
                    </a:lnTo>
                    <a:lnTo>
                      <a:pt x="223" y="501"/>
                    </a:lnTo>
                    <a:lnTo>
                      <a:pt x="214" y="500"/>
                    </a:lnTo>
                    <a:lnTo>
                      <a:pt x="209" y="499"/>
                    </a:lnTo>
                    <a:lnTo>
                      <a:pt x="205" y="499"/>
                    </a:lnTo>
                    <a:lnTo>
                      <a:pt x="197" y="496"/>
                    </a:lnTo>
                    <a:lnTo>
                      <a:pt x="190" y="492"/>
                    </a:lnTo>
                    <a:lnTo>
                      <a:pt x="186" y="490"/>
                    </a:lnTo>
                    <a:lnTo>
                      <a:pt x="182" y="487"/>
                    </a:lnTo>
                    <a:lnTo>
                      <a:pt x="174" y="481"/>
                    </a:lnTo>
                    <a:lnTo>
                      <a:pt x="165" y="473"/>
                    </a:lnTo>
                    <a:lnTo>
                      <a:pt x="156" y="462"/>
                    </a:lnTo>
                    <a:lnTo>
                      <a:pt x="146" y="450"/>
                    </a:lnTo>
                    <a:lnTo>
                      <a:pt x="134" y="436"/>
                    </a:lnTo>
                    <a:lnTo>
                      <a:pt x="92" y="381"/>
                    </a:lnTo>
                    <a:lnTo>
                      <a:pt x="63" y="342"/>
                    </a:lnTo>
                    <a:lnTo>
                      <a:pt x="52" y="327"/>
                    </a:lnTo>
                    <a:lnTo>
                      <a:pt x="44" y="315"/>
                    </a:lnTo>
                    <a:lnTo>
                      <a:pt x="39" y="306"/>
                    </a:lnTo>
                    <a:lnTo>
                      <a:pt x="37" y="299"/>
                    </a:lnTo>
                    <a:lnTo>
                      <a:pt x="35" y="296"/>
                    </a:lnTo>
                    <a:lnTo>
                      <a:pt x="34" y="292"/>
                    </a:lnTo>
                    <a:lnTo>
                      <a:pt x="28" y="283"/>
                    </a:lnTo>
                    <a:lnTo>
                      <a:pt x="22" y="271"/>
                    </a:lnTo>
                    <a:lnTo>
                      <a:pt x="15" y="257"/>
                    </a:lnTo>
                    <a:lnTo>
                      <a:pt x="8" y="240"/>
                    </a:lnTo>
                    <a:lnTo>
                      <a:pt x="6" y="231"/>
                    </a:lnTo>
                    <a:lnTo>
                      <a:pt x="4" y="221"/>
                    </a:lnTo>
                    <a:lnTo>
                      <a:pt x="1" y="211"/>
                    </a:lnTo>
                    <a:lnTo>
                      <a:pt x="0" y="201"/>
                    </a:lnTo>
                    <a:lnTo>
                      <a:pt x="0" y="190"/>
                    </a:lnTo>
                    <a:lnTo>
                      <a:pt x="1" y="178"/>
                    </a:lnTo>
                    <a:lnTo>
                      <a:pt x="5" y="155"/>
                    </a:lnTo>
                    <a:lnTo>
                      <a:pt x="8" y="135"/>
                    </a:lnTo>
                    <a:lnTo>
                      <a:pt x="13" y="105"/>
                    </a:lnTo>
                    <a:lnTo>
                      <a:pt x="17" y="78"/>
                    </a:lnTo>
                    <a:lnTo>
                      <a:pt x="20" y="83"/>
                    </a:lnTo>
                    <a:lnTo>
                      <a:pt x="23" y="88"/>
                    </a:lnTo>
                    <a:lnTo>
                      <a:pt x="28" y="94"/>
                    </a:lnTo>
                    <a:lnTo>
                      <a:pt x="34" y="99"/>
                    </a:lnTo>
                    <a:lnTo>
                      <a:pt x="42" y="104"/>
                    </a:lnTo>
                    <a:lnTo>
                      <a:pt x="47" y="105"/>
                    </a:lnTo>
                    <a:lnTo>
                      <a:pt x="51" y="106"/>
                    </a:lnTo>
                    <a:lnTo>
                      <a:pt x="57" y="106"/>
                    </a:lnTo>
                    <a:lnTo>
                      <a:pt x="62" y="106"/>
                    </a:lnTo>
                    <a:lnTo>
                      <a:pt x="65" y="106"/>
                    </a:lnTo>
                    <a:lnTo>
                      <a:pt x="68" y="105"/>
                    </a:lnTo>
                    <a:lnTo>
                      <a:pt x="74" y="102"/>
                    </a:lnTo>
                    <a:lnTo>
                      <a:pt x="80" y="98"/>
                    </a:lnTo>
                    <a:lnTo>
                      <a:pt x="86" y="93"/>
                    </a:lnTo>
                    <a:lnTo>
                      <a:pt x="92" y="86"/>
                    </a:lnTo>
                    <a:lnTo>
                      <a:pt x="98" y="80"/>
                    </a:lnTo>
                    <a:lnTo>
                      <a:pt x="109" y="66"/>
                    </a:lnTo>
                    <a:lnTo>
                      <a:pt x="119" y="52"/>
                    </a:lnTo>
                    <a:lnTo>
                      <a:pt x="127" y="41"/>
                    </a:lnTo>
                    <a:lnTo>
                      <a:pt x="134" y="30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514920" y="941400"/>
                <a:ext cx="47160" cy="90360"/>
              </a:xfrm>
              <a:custGeom>
                <a:avLst/>
                <a:gdLst/>
                <a:ahLst/>
                <a:rect l="l" t="t" r="r" b="b"/>
                <a:pathLst>
                  <a:path w="122" h="231">
                    <a:moveTo>
                      <a:pt x="26" y="231"/>
                    </a:moveTo>
                    <a:lnTo>
                      <a:pt x="114" y="143"/>
                    </a:lnTo>
                    <a:lnTo>
                      <a:pt x="122" y="114"/>
                    </a:lnTo>
                    <a:lnTo>
                      <a:pt x="53" y="0"/>
                    </a:lnTo>
                    <a:lnTo>
                      <a:pt x="0" y="23"/>
                    </a:lnTo>
                    <a:lnTo>
                      <a:pt x="5" y="29"/>
                    </a:lnTo>
                    <a:lnTo>
                      <a:pt x="10" y="37"/>
                    </a:lnTo>
                    <a:lnTo>
                      <a:pt x="15" y="47"/>
                    </a:lnTo>
                    <a:lnTo>
                      <a:pt x="21" y="61"/>
                    </a:lnTo>
                    <a:lnTo>
                      <a:pt x="23" y="69"/>
                    </a:lnTo>
                    <a:lnTo>
                      <a:pt x="25" y="77"/>
                    </a:lnTo>
                    <a:lnTo>
                      <a:pt x="27" y="86"/>
                    </a:lnTo>
                    <a:lnTo>
                      <a:pt x="29" y="96"/>
                    </a:lnTo>
                    <a:lnTo>
                      <a:pt x="30" y="106"/>
                    </a:lnTo>
                    <a:lnTo>
                      <a:pt x="30" y="117"/>
                    </a:lnTo>
                    <a:lnTo>
                      <a:pt x="29" y="160"/>
                    </a:lnTo>
                    <a:lnTo>
                      <a:pt x="28" y="197"/>
                    </a:lnTo>
                    <a:lnTo>
                      <a:pt x="26" y="231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019920" y="914400"/>
                <a:ext cx="326880" cy="166680"/>
              </a:xfrm>
              <a:custGeom>
                <a:avLst/>
                <a:gdLst/>
                <a:ahLst/>
                <a:rect l="l" t="t" r="r" b="b"/>
                <a:pathLst>
                  <a:path w="825" h="420">
                    <a:moveTo>
                      <a:pt x="110" y="397"/>
                    </a:moveTo>
                    <a:lnTo>
                      <a:pt x="31" y="397"/>
                    </a:lnTo>
                    <a:lnTo>
                      <a:pt x="25" y="386"/>
                    </a:lnTo>
                    <a:lnTo>
                      <a:pt x="20" y="374"/>
                    </a:lnTo>
                    <a:lnTo>
                      <a:pt x="14" y="364"/>
                    </a:lnTo>
                    <a:lnTo>
                      <a:pt x="10" y="354"/>
                    </a:lnTo>
                    <a:lnTo>
                      <a:pt x="6" y="344"/>
                    </a:lnTo>
                    <a:lnTo>
                      <a:pt x="3" y="334"/>
                    </a:lnTo>
                    <a:lnTo>
                      <a:pt x="1" y="322"/>
                    </a:lnTo>
                    <a:lnTo>
                      <a:pt x="0" y="316"/>
                    </a:lnTo>
                    <a:lnTo>
                      <a:pt x="0" y="310"/>
                    </a:lnTo>
                    <a:lnTo>
                      <a:pt x="0" y="284"/>
                    </a:lnTo>
                    <a:lnTo>
                      <a:pt x="4" y="284"/>
                    </a:lnTo>
                    <a:lnTo>
                      <a:pt x="7" y="285"/>
                    </a:lnTo>
                    <a:lnTo>
                      <a:pt x="10" y="286"/>
                    </a:lnTo>
                    <a:lnTo>
                      <a:pt x="13" y="287"/>
                    </a:lnTo>
                    <a:lnTo>
                      <a:pt x="16" y="289"/>
                    </a:lnTo>
                    <a:lnTo>
                      <a:pt x="18" y="290"/>
                    </a:lnTo>
                    <a:lnTo>
                      <a:pt x="21" y="292"/>
                    </a:lnTo>
                    <a:lnTo>
                      <a:pt x="23" y="294"/>
                    </a:lnTo>
                    <a:lnTo>
                      <a:pt x="28" y="298"/>
                    </a:lnTo>
                    <a:lnTo>
                      <a:pt x="32" y="303"/>
                    </a:lnTo>
                    <a:lnTo>
                      <a:pt x="39" y="315"/>
                    </a:lnTo>
                    <a:lnTo>
                      <a:pt x="42" y="308"/>
                    </a:lnTo>
                    <a:lnTo>
                      <a:pt x="45" y="301"/>
                    </a:lnTo>
                    <a:lnTo>
                      <a:pt x="50" y="287"/>
                    </a:lnTo>
                    <a:lnTo>
                      <a:pt x="55" y="273"/>
                    </a:lnTo>
                    <a:lnTo>
                      <a:pt x="59" y="260"/>
                    </a:lnTo>
                    <a:lnTo>
                      <a:pt x="62" y="254"/>
                    </a:lnTo>
                    <a:lnTo>
                      <a:pt x="65" y="249"/>
                    </a:lnTo>
                    <a:lnTo>
                      <a:pt x="70" y="244"/>
                    </a:lnTo>
                    <a:lnTo>
                      <a:pt x="73" y="240"/>
                    </a:lnTo>
                    <a:lnTo>
                      <a:pt x="78" y="237"/>
                    </a:lnTo>
                    <a:lnTo>
                      <a:pt x="83" y="234"/>
                    </a:lnTo>
                    <a:lnTo>
                      <a:pt x="89" y="232"/>
                    </a:lnTo>
                    <a:lnTo>
                      <a:pt x="96" y="232"/>
                    </a:lnTo>
                    <a:lnTo>
                      <a:pt x="192" y="232"/>
                    </a:lnTo>
                    <a:lnTo>
                      <a:pt x="195" y="225"/>
                    </a:lnTo>
                    <a:lnTo>
                      <a:pt x="197" y="220"/>
                    </a:lnTo>
                    <a:lnTo>
                      <a:pt x="199" y="214"/>
                    </a:lnTo>
                    <a:lnTo>
                      <a:pt x="200" y="211"/>
                    </a:lnTo>
                    <a:lnTo>
                      <a:pt x="200" y="208"/>
                    </a:lnTo>
                    <a:lnTo>
                      <a:pt x="200" y="205"/>
                    </a:lnTo>
                    <a:lnTo>
                      <a:pt x="199" y="203"/>
                    </a:lnTo>
                    <a:lnTo>
                      <a:pt x="197" y="202"/>
                    </a:lnTo>
                    <a:lnTo>
                      <a:pt x="195" y="200"/>
                    </a:lnTo>
                    <a:lnTo>
                      <a:pt x="192" y="197"/>
                    </a:lnTo>
                    <a:lnTo>
                      <a:pt x="190" y="195"/>
                    </a:lnTo>
                    <a:lnTo>
                      <a:pt x="189" y="193"/>
                    </a:lnTo>
                    <a:lnTo>
                      <a:pt x="189" y="166"/>
                    </a:lnTo>
                    <a:lnTo>
                      <a:pt x="193" y="166"/>
                    </a:lnTo>
                    <a:lnTo>
                      <a:pt x="197" y="165"/>
                    </a:lnTo>
                    <a:lnTo>
                      <a:pt x="201" y="163"/>
                    </a:lnTo>
                    <a:lnTo>
                      <a:pt x="207" y="163"/>
                    </a:lnTo>
                    <a:lnTo>
                      <a:pt x="212" y="163"/>
                    </a:lnTo>
                    <a:lnTo>
                      <a:pt x="215" y="164"/>
                    </a:lnTo>
                    <a:lnTo>
                      <a:pt x="217" y="165"/>
                    </a:lnTo>
                    <a:lnTo>
                      <a:pt x="219" y="166"/>
                    </a:lnTo>
                    <a:lnTo>
                      <a:pt x="221" y="167"/>
                    </a:lnTo>
                    <a:lnTo>
                      <a:pt x="225" y="169"/>
                    </a:lnTo>
                    <a:lnTo>
                      <a:pt x="233" y="176"/>
                    </a:lnTo>
                    <a:lnTo>
                      <a:pt x="241" y="182"/>
                    </a:lnTo>
                    <a:lnTo>
                      <a:pt x="243" y="173"/>
                    </a:lnTo>
                    <a:lnTo>
                      <a:pt x="243" y="164"/>
                    </a:lnTo>
                    <a:lnTo>
                      <a:pt x="244" y="156"/>
                    </a:lnTo>
                    <a:lnTo>
                      <a:pt x="243" y="148"/>
                    </a:lnTo>
                    <a:lnTo>
                      <a:pt x="242" y="132"/>
                    </a:lnTo>
                    <a:lnTo>
                      <a:pt x="242" y="124"/>
                    </a:lnTo>
                    <a:lnTo>
                      <a:pt x="241" y="115"/>
                    </a:lnTo>
                    <a:lnTo>
                      <a:pt x="264" y="115"/>
                    </a:lnTo>
                    <a:lnTo>
                      <a:pt x="283" y="115"/>
                    </a:lnTo>
                    <a:lnTo>
                      <a:pt x="303" y="115"/>
                    </a:lnTo>
                    <a:lnTo>
                      <a:pt x="325" y="115"/>
                    </a:lnTo>
                    <a:lnTo>
                      <a:pt x="325" y="38"/>
                    </a:lnTo>
                    <a:lnTo>
                      <a:pt x="331" y="32"/>
                    </a:lnTo>
                    <a:lnTo>
                      <a:pt x="336" y="27"/>
                    </a:lnTo>
                    <a:lnTo>
                      <a:pt x="339" y="25"/>
                    </a:lnTo>
                    <a:lnTo>
                      <a:pt x="343" y="24"/>
                    </a:lnTo>
                    <a:lnTo>
                      <a:pt x="347" y="23"/>
                    </a:lnTo>
                    <a:lnTo>
                      <a:pt x="351" y="22"/>
                    </a:lnTo>
                    <a:lnTo>
                      <a:pt x="354" y="22"/>
                    </a:lnTo>
                    <a:lnTo>
                      <a:pt x="357" y="23"/>
                    </a:lnTo>
                    <a:lnTo>
                      <a:pt x="359" y="24"/>
                    </a:lnTo>
                    <a:lnTo>
                      <a:pt x="361" y="25"/>
                    </a:lnTo>
                    <a:lnTo>
                      <a:pt x="363" y="26"/>
                    </a:lnTo>
                    <a:lnTo>
                      <a:pt x="364" y="28"/>
                    </a:lnTo>
                    <a:lnTo>
                      <a:pt x="365" y="30"/>
                    </a:lnTo>
                    <a:lnTo>
                      <a:pt x="366" y="32"/>
                    </a:lnTo>
                    <a:lnTo>
                      <a:pt x="367" y="37"/>
                    </a:lnTo>
                    <a:lnTo>
                      <a:pt x="367" y="43"/>
                    </a:lnTo>
                    <a:lnTo>
                      <a:pt x="366" y="56"/>
                    </a:lnTo>
                    <a:lnTo>
                      <a:pt x="363" y="71"/>
                    </a:lnTo>
                    <a:lnTo>
                      <a:pt x="361" y="87"/>
                    </a:lnTo>
                    <a:lnTo>
                      <a:pt x="361" y="94"/>
                    </a:lnTo>
                    <a:lnTo>
                      <a:pt x="361" y="102"/>
                    </a:lnTo>
                    <a:lnTo>
                      <a:pt x="362" y="108"/>
                    </a:lnTo>
                    <a:lnTo>
                      <a:pt x="363" y="111"/>
                    </a:lnTo>
                    <a:lnTo>
                      <a:pt x="365" y="115"/>
                    </a:lnTo>
                    <a:lnTo>
                      <a:pt x="368" y="121"/>
                    </a:lnTo>
                    <a:lnTo>
                      <a:pt x="371" y="127"/>
                    </a:lnTo>
                    <a:lnTo>
                      <a:pt x="375" y="132"/>
                    </a:lnTo>
                    <a:lnTo>
                      <a:pt x="379" y="136"/>
                    </a:lnTo>
                    <a:lnTo>
                      <a:pt x="383" y="140"/>
                    </a:lnTo>
                    <a:lnTo>
                      <a:pt x="388" y="144"/>
                    </a:lnTo>
                    <a:lnTo>
                      <a:pt x="392" y="148"/>
                    </a:lnTo>
                    <a:lnTo>
                      <a:pt x="397" y="151"/>
                    </a:lnTo>
                    <a:lnTo>
                      <a:pt x="408" y="157"/>
                    </a:lnTo>
                    <a:lnTo>
                      <a:pt x="419" y="163"/>
                    </a:lnTo>
                    <a:lnTo>
                      <a:pt x="430" y="170"/>
                    </a:lnTo>
                    <a:lnTo>
                      <a:pt x="442" y="178"/>
                    </a:lnTo>
                    <a:lnTo>
                      <a:pt x="445" y="174"/>
                    </a:lnTo>
                    <a:lnTo>
                      <a:pt x="447" y="169"/>
                    </a:lnTo>
                    <a:lnTo>
                      <a:pt x="449" y="165"/>
                    </a:lnTo>
                    <a:lnTo>
                      <a:pt x="450" y="161"/>
                    </a:lnTo>
                    <a:lnTo>
                      <a:pt x="451" y="156"/>
                    </a:lnTo>
                    <a:lnTo>
                      <a:pt x="451" y="152"/>
                    </a:lnTo>
                    <a:lnTo>
                      <a:pt x="451" y="147"/>
                    </a:lnTo>
                    <a:lnTo>
                      <a:pt x="450" y="141"/>
                    </a:lnTo>
                    <a:lnTo>
                      <a:pt x="523" y="141"/>
                    </a:lnTo>
                    <a:lnTo>
                      <a:pt x="529" y="141"/>
                    </a:lnTo>
                    <a:lnTo>
                      <a:pt x="534" y="140"/>
                    </a:lnTo>
                    <a:lnTo>
                      <a:pt x="539" y="139"/>
                    </a:lnTo>
                    <a:lnTo>
                      <a:pt x="543" y="137"/>
                    </a:lnTo>
                    <a:lnTo>
                      <a:pt x="547" y="135"/>
                    </a:lnTo>
                    <a:lnTo>
                      <a:pt x="551" y="133"/>
                    </a:lnTo>
                    <a:lnTo>
                      <a:pt x="554" y="130"/>
                    </a:lnTo>
                    <a:lnTo>
                      <a:pt x="557" y="126"/>
                    </a:lnTo>
                    <a:lnTo>
                      <a:pt x="562" y="118"/>
                    </a:lnTo>
                    <a:lnTo>
                      <a:pt x="566" y="109"/>
                    </a:lnTo>
                    <a:lnTo>
                      <a:pt x="569" y="100"/>
                    </a:lnTo>
                    <a:lnTo>
                      <a:pt x="572" y="89"/>
                    </a:lnTo>
                    <a:lnTo>
                      <a:pt x="577" y="65"/>
                    </a:lnTo>
                    <a:lnTo>
                      <a:pt x="580" y="54"/>
                    </a:lnTo>
                    <a:lnTo>
                      <a:pt x="584" y="42"/>
                    </a:lnTo>
                    <a:lnTo>
                      <a:pt x="588" y="31"/>
                    </a:lnTo>
                    <a:lnTo>
                      <a:pt x="592" y="20"/>
                    </a:lnTo>
                    <a:lnTo>
                      <a:pt x="595" y="14"/>
                    </a:lnTo>
                    <a:lnTo>
                      <a:pt x="598" y="9"/>
                    </a:lnTo>
                    <a:lnTo>
                      <a:pt x="606" y="0"/>
                    </a:lnTo>
                    <a:lnTo>
                      <a:pt x="610" y="5"/>
                    </a:lnTo>
                    <a:lnTo>
                      <a:pt x="613" y="9"/>
                    </a:lnTo>
                    <a:lnTo>
                      <a:pt x="617" y="14"/>
                    </a:lnTo>
                    <a:lnTo>
                      <a:pt x="619" y="20"/>
                    </a:lnTo>
                    <a:lnTo>
                      <a:pt x="621" y="25"/>
                    </a:lnTo>
                    <a:lnTo>
                      <a:pt x="622" y="31"/>
                    </a:lnTo>
                    <a:lnTo>
                      <a:pt x="622" y="37"/>
                    </a:lnTo>
                    <a:lnTo>
                      <a:pt x="622" y="43"/>
                    </a:lnTo>
                    <a:lnTo>
                      <a:pt x="622" y="50"/>
                    </a:lnTo>
                    <a:lnTo>
                      <a:pt x="621" y="56"/>
                    </a:lnTo>
                    <a:lnTo>
                      <a:pt x="620" y="62"/>
                    </a:lnTo>
                    <a:lnTo>
                      <a:pt x="618" y="67"/>
                    </a:lnTo>
                    <a:lnTo>
                      <a:pt x="613" y="79"/>
                    </a:lnTo>
                    <a:lnTo>
                      <a:pt x="608" y="89"/>
                    </a:lnTo>
                    <a:lnTo>
                      <a:pt x="603" y="99"/>
                    </a:lnTo>
                    <a:lnTo>
                      <a:pt x="598" y="109"/>
                    </a:lnTo>
                    <a:lnTo>
                      <a:pt x="597" y="114"/>
                    </a:lnTo>
                    <a:lnTo>
                      <a:pt x="595" y="120"/>
                    </a:lnTo>
                    <a:lnTo>
                      <a:pt x="595" y="126"/>
                    </a:lnTo>
                    <a:lnTo>
                      <a:pt x="594" y="133"/>
                    </a:lnTo>
                    <a:lnTo>
                      <a:pt x="595" y="137"/>
                    </a:lnTo>
                    <a:lnTo>
                      <a:pt x="596" y="141"/>
                    </a:lnTo>
                    <a:lnTo>
                      <a:pt x="598" y="145"/>
                    </a:lnTo>
                    <a:lnTo>
                      <a:pt x="601" y="147"/>
                    </a:lnTo>
                    <a:lnTo>
                      <a:pt x="604" y="150"/>
                    </a:lnTo>
                    <a:lnTo>
                      <a:pt x="608" y="152"/>
                    </a:lnTo>
                    <a:lnTo>
                      <a:pt x="618" y="154"/>
                    </a:lnTo>
                    <a:lnTo>
                      <a:pt x="629" y="156"/>
                    </a:lnTo>
                    <a:lnTo>
                      <a:pt x="639" y="158"/>
                    </a:lnTo>
                    <a:lnTo>
                      <a:pt x="650" y="160"/>
                    </a:lnTo>
                    <a:lnTo>
                      <a:pt x="655" y="161"/>
                    </a:lnTo>
                    <a:lnTo>
                      <a:pt x="660" y="163"/>
                    </a:lnTo>
                    <a:lnTo>
                      <a:pt x="665" y="165"/>
                    </a:lnTo>
                    <a:lnTo>
                      <a:pt x="670" y="168"/>
                    </a:lnTo>
                    <a:lnTo>
                      <a:pt x="679" y="174"/>
                    </a:lnTo>
                    <a:lnTo>
                      <a:pt x="687" y="181"/>
                    </a:lnTo>
                    <a:lnTo>
                      <a:pt x="694" y="189"/>
                    </a:lnTo>
                    <a:lnTo>
                      <a:pt x="707" y="206"/>
                    </a:lnTo>
                    <a:lnTo>
                      <a:pt x="715" y="215"/>
                    </a:lnTo>
                    <a:lnTo>
                      <a:pt x="723" y="223"/>
                    </a:lnTo>
                    <a:lnTo>
                      <a:pt x="730" y="230"/>
                    </a:lnTo>
                    <a:lnTo>
                      <a:pt x="738" y="236"/>
                    </a:lnTo>
                    <a:lnTo>
                      <a:pt x="752" y="246"/>
                    </a:lnTo>
                    <a:lnTo>
                      <a:pt x="768" y="254"/>
                    </a:lnTo>
                    <a:lnTo>
                      <a:pt x="782" y="262"/>
                    </a:lnTo>
                    <a:lnTo>
                      <a:pt x="789" y="267"/>
                    </a:lnTo>
                    <a:lnTo>
                      <a:pt x="795" y="271"/>
                    </a:lnTo>
                    <a:lnTo>
                      <a:pt x="802" y="276"/>
                    </a:lnTo>
                    <a:lnTo>
                      <a:pt x="807" y="282"/>
                    </a:lnTo>
                    <a:lnTo>
                      <a:pt x="813" y="288"/>
                    </a:lnTo>
                    <a:lnTo>
                      <a:pt x="817" y="295"/>
                    </a:lnTo>
                    <a:lnTo>
                      <a:pt x="821" y="302"/>
                    </a:lnTo>
                    <a:lnTo>
                      <a:pt x="825" y="311"/>
                    </a:lnTo>
                    <a:lnTo>
                      <a:pt x="823" y="311"/>
                    </a:lnTo>
                    <a:lnTo>
                      <a:pt x="820" y="312"/>
                    </a:lnTo>
                    <a:lnTo>
                      <a:pt x="816" y="315"/>
                    </a:lnTo>
                    <a:lnTo>
                      <a:pt x="812" y="317"/>
                    </a:lnTo>
                    <a:lnTo>
                      <a:pt x="810" y="318"/>
                    </a:lnTo>
                    <a:lnTo>
                      <a:pt x="808" y="318"/>
                    </a:lnTo>
                    <a:lnTo>
                      <a:pt x="802" y="318"/>
                    </a:lnTo>
                    <a:lnTo>
                      <a:pt x="796" y="317"/>
                    </a:lnTo>
                    <a:lnTo>
                      <a:pt x="791" y="315"/>
                    </a:lnTo>
                    <a:lnTo>
                      <a:pt x="786" y="313"/>
                    </a:lnTo>
                    <a:lnTo>
                      <a:pt x="782" y="310"/>
                    </a:lnTo>
                    <a:lnTo>
                      <a:pt x="777" y="307"/>
                    </a:lnTo>
                    <a:lnTo>
                      <a:pt x="769" y="301"/>
                    </a:lnTo>
                    <a:lnTo>
                      <a:pt x="760" y="295"/>
                    </a:lnTo>
                    <a:lnTo>
                      <a:pt x="756" y="292"/>
                    </a:lnTo>
                    <a:lnTo>
                      <a:pt x="750" y="289"/>
                    </a:lnTo>
                    <a:lnTo>
                      <a:pt x="745" y="287"/>
                    </a:lnTo>
                    <a:lnTo>
                      <a:pt x="740" y="285"/>
                    </a:lnTo>
                    <a:lnTo>
                      <a:pt x="735" y="284"/>
                    </a:lnTo>
                    <a:lnTo>
                      <a:pt x="729" y="284"/>
                    </a:lnTo>
                    <a:lnTo>
                      <a:pt x="726" y="284"/>
                    </a:lnTo>
                    <a:lnTo>
                      <a:pt x="724" y="285"/>
                    </a:lnTo>
                    <a:lnTo>
                      <a:pt x="722" y="286"/>
                    </a:lnTo>
                    <a:lnTo>
                      <a:pt x="720" y="287"/>
                    </a:lnTo>
                    <a:lnTo>
                      <a:pt x="716" y="289"/>
                    </a:lnTo>
                    <a:lnTo>
                      <a:pt x="712" y="291"/>
                    </a:lnTo>
                    <a:lnTo>
                      <a:pt x="713" y="294"/>
                    </a:lnTo>
                    <a:lnTo>
                      <a:pt x="714" y="297"/>
                    </a:lnTo>
                    <a:lnTo>
                      <a:pt x="717" y="302"/>
                    </a:lnTo>
                    <a:lnTo>
                      <a:pt x="718" y="305"/>
                    </a:lnTo>
                    <a:lnTo>
                      <a:pt x="720" y="307"/>
                    </a:lnTo>
                    <a:lnTo>
                      <a:pt x="723" y="311"/>
                    </a:lnTo>
                    <a:lnTo>
                      <a:pt x="726" y="316"/>
                    </a:lnTo>
                    <a:lnTo>
                      <a:pt x="728" y="321"/>
                    </a:lnTo>
                    <a:lnTo>
                      <a:pt x="730" y="326"/>
                    </a:lnTo>
                    <a:lnTo>
                      <a:pt x="731" y="329"/>
                    </a:lnTo>
                    <a:lnTo>
                      <a:pt x="731" y="332"/>
                    </a:lnTo>
                    <a:lnTo>
                      <a:pt x="731" y="420"/>
                    </a:lnTo>
                    <a:lnTo>
                      <a:pt x="722" y="413"/>
                    </a:lnTo>
                    <a:lnTo>
                      <a:pt x="718" y="409"/>
                    </a:lnTo>
                    <a:lnTo>
                      <a:pt x="714" y="405"/>
                    </a:lnTo>
                    <a:lnTo>
                      <a:pt x="708" y="397"/>
                    </a:lnTo>
                    <a:lnTo>
                      <a:pt x="704" y="388"/>
                    </a:lnTo>
                    <a:lnTo>
                      <a:pt x="702" y="382"/>
                    </a:lnTo>
                    <a:lnTo>
                      <a:pt x="700" y="378"/>
                    </a:lnTo>
                    <a:lnTo>
                      <a:pt x="697" y="367"/>
                    </a:lnTo>
                    <a:lnTo>
                      <a:pt x="692" y="344"/>
                    </a:lnTo>
                    <a:lnTo>
                      <a:pt x="685" y="350"/>
                    </a:lnTo>
                    <a:lnTo>
                      <a:pt x="677" y="357"/>
                    </a:lnTo>
                    <a:lnTo>
                      <a:pt x="664" y="369"/>
                    </a:lnTo>
                    <a:lnTo>
                      <a:pt x="652" y="381"/>
                    </a:lnTo>
                    <a:lnTo>
                      <a:pt x="639" y="393"/>
                    </a:lnTo>
                    <a:lnTo>
                      <a:pt x="633" y="398"/>
                    </a:lnTo>
                    <a:lnTo>
                      <a:pt x="626" y="403"/>
                    </a:lnTo>
                    <a:lnTo>
                      <a:pt x="619" y="407"/>
                    </a:lnTo>
                    <a:lnTo>
                      <a:pt x="611" y="410"/>
                    </a:lnTo>
                    <a:lnTo>
                      <a:pt x="604" y="413"/>
                    </a:lnTo>
                    <a:lnTo>
                      <a:pt x="595" y="415"/>
                    </a:lnTo>
                    <a:lnTo>
                      <a:pt x="587" y="416"/>
                    </a:lnTo>
                    <a:lnTo>
                      <a:pt x="577" y="416"/>
                    </a:lnTo>
                    <a:lnTo>
                      <a:pt x="573" y="416"/>
                    </a:lnTo>
                    <a:lnTo>
                      <a:pt x="568" y="415"/>
                    </a:lnTo>
                    <a:lnTo>
                      <a:pt x="564" y="413"/>
                    </a:lnTo>
                    <a:lnTo>
                      <a:pt x="561" y="411"/>
                    </a:lnTo>
                    <a:lnTo>
                      <a:pt x="558" y="408"/>
                    </a:lnTo>
                    <a:lnTo>
                      <a:pt x="555" y="405"/>
                    </a:lnTo>
                    <a:lnTo>
                      <a:pt x="554" y="401"/>
                    </a:lnTo>
                    <a:lnTo>
                      <a:pt x="553" y="397"/>
                    </a:lnTo>
                    <a:lnTo>
                      <a:pt x="553" y="391"/>
                    </a:lnTo>
                    <a:lnTo>
                      <a:pt x="554" y="388"/>
                    </a:lnTo>
                    <a:lnTo>
                      <a:pt x="555" y="386"/>
                    </a:lnTo>
                    <a:lnTo>
                      <a:pt x="557" y="380"/>
                    </a:lnTo>
                    <a:lnTo>
                      <a:pt x="561" y="376"/>
                    </a:lnTo>
                    <a:lnTo>
                      <a:pt x="565" y="373"/>
                    </a:lnTo>
                    <a:lnTo>
                      <a:pt x="569" y="370"/>
                    </a:lnTo>
                    <a:lnTo>
                      <a:pt x="574" y="367"/>
                    </a:lnTo>
                    <a:lnTo>
                      <a:pt x="580" y="364"/>
                    </a:lnTo>
                    <a:lnTo>
                      <a:pt x="591" y="360"/>
                    </a:lnTo>
                    <a:lnTo>
                      <a:pt x="603" y="355"/>
                    </a:lnTo>
                    <a:lnTo>
                      <a:pt x="606" y="353"/>
                    </a:lnTo>
                    <a:lnTo>
                      <a:pt x="609" y="352"/>
                    </a:lnTo>
                    <a:lnTo>
                      <a:pt x="615" y="349"/>
                    </a:lnTo>
                    <a:lnTo>
                      <a:pt x="621" y="345"/>
                    </a:lnTo>
                    <a:lnTo>
                      <a:pt x="626" y="340"/>
                    </a:lnTo>
                    <a:lnTo>
                      <a:pt x="626" y="268"/>
                    </a:lnTo>
                    <a:lnTo>
                      <a:pt x="642" y="254"/>
                    </a:lnTo>
                    <a:lnTo>
                      <a:pt x="650" y="249"/>
                    </a:lnTo>
                    <a:lnTo>
                      <a:pt x="660" y="243"/>
                    </a:lnTo>
                    <a:lnTo>
                      <a:pt x="660" y="219"/>
                    </a:lnTo>
                    <a:lnTo>
                      <a:pt x="633" y="219"/>
                    </a:lnTo>
                    <a:lnTo>
                      <a:pt x="587" y="243"/>
                    </a:lnTo>
                    <a:lnTo>
                      <a:pt x="572" y="235"/>
                    </a:lnTo>
                    <a:lnTo>
                      <a:pt x="564" y="231"/>
                    </a:lnTo>
                    <a:lnTo>
                      <a:pt x="557" y="227"/>
                    </a:lnTo>
                    <a:lnTo>
                      <a:pt x="553" y="232"/>
                    </a:lnTo>
                    <a:lnTo>
                      <a:pt x="550" y="236"/>
                    </a:lnTo>
                    <a:lnTo>
                      <a:pt x="548" y="238"/>
                    </a:lnTo>
                    <a:lnTo>
                      <a:pt x="547" y="240"/>
                    </a:lnTo>
                    <a:lnTo>
                      <a:pt x="546" y="243"/>
                    </a:lnTo>
                    <a:lnTo>
                      <a:pt x="545" y="245"/>
                    </a:lnTo>
                    <a:lnTo>
                      <a:pt x="546" y="250"/>
                    </a:lnTo>
                    <a:lnTo>
                      <a:pt x="547" y="254"/>
                    </a:lnTo>
                    <a:lnTo>
                      <a:pt x="549" y="258"/>
                    </a:lnTo>
                    <a:lnTo>
                      <a:pt x="551" y="262"/>
                    </a:lnTo>
                    <a:lnTo>
                      <a:pt x="553" y="266"/>
                    </a:lnTo>
                    <a:lnTo>
                      <a:pt x="555" y="270"/>
                    </a:lnTo>
                    <a:lnTo>
                      <a:pt x="556" y="274"/>
                    </a:lnTo>
                    <a:lnTo>
                      <a:pt x="557" y="279"/>
                    </a:lnTo>
                    <a:lnTo>
                      <a:pt x="557" y="307"/>
                    </a:lnTo>
                    <a:lnTo>
                      <a:pt x="553" y="307"/>
                    </a:lnTo>
                    <a:lnTo>
                      <a:pt x="550" y="309"/>
                    </a:lnTo>
                    <a:lnTo>
                      <a:pt x="546" y="310"/>
                    </a:lnTo>
                    <a:lnTo>
                      <a:pt x="542" y="311"/>
                    </a:lnTo>
                    <a:lnTo>
                      <a:pt x="534" y="310"/>
                    </a:lnTo>
                    <a:lnTo>
                      <a:pt x="527" y="309"/>
                    </a:lnTo>
                    <a:lnTo>
                      <a:pt x="520" y="306"/>
                    </a:lnTo>
                    <a:lnTo>
                      <a:pt x="514" y="303"/>
                    </a:lnTo>
                    <a:lnTo>
                      <a:pt x="508" y="300"/>
                    </a:lnTo>
                    <a:lnTo>
                      <a:pt x="502" y="296"/>
                    </a:lnTo>
                    <a:lnTo>
                      <a:pt x="490" y="288"/>
                    </a:lnTo>
                    <a:lnTo>
                      <a:pt x="478" y="279"/>
                    </a:lnTo>
                    <a:lnTo>
                      <a:pt x="472" y="275"/>
                    </a:lnTo>
                    <a:lnTo>
                      <a:pt x="466" y="272"/>
                    </a:lnTo>
                    <a:lnTo>
                      <a:pt x="460" y="269"/>
                    </a:lnTo>
                    <a:lnTo>
                      <a:pt x="453" y="267"/>
                    </a:lnTo>
                    <a:lnTo>
                      <a:pt x="449" y="266"/>
                    </a:lnTo>
                    <a:lnTo>
                      <a:pt x="446" y="265"/>
                    </a:lnTo>
                    <a:lnTo>
                      <a:pt x="438" y="265"/>
                    </a:lnTo>
                    <a:lnTo>
                      <a:pt x="377" y="265"/>
                    </a:lnTo>
                    <a:lnTo>
                      <a:pt x="315" y="265"/>
                    </a:lnTo>
                    <a:lnTo>
                      <a:pt x="306" y="266"/>
                    </a:lnTo>
                    <a:lnTo>
                      <a:pt x="298" y="267"/>
                    </a:lnTo>
                    <a:lnTo>
                      <a:pt x="290" y="269"/>
                    </a:lnTo>
                    <a:lnTo>
                      <a:pt x="283" y="271"/>
                    </a:lnTo>
                    <a:lnTo>
                      <a:pt x="276" y="274"/>
                    </a:lnTo>
                    <a:lnTo>
                      <a:pt x="269" y="278"/>
                    </a:lnTo>
                    <a:lnTo>
                      <a:pt x="262" y="282"/>
                    </a:lnTo>
                    <a:lnTo>
                      <a:pt x="256" y="286"/>
                    </a:lnTo>
                    <a:lnTo>
                      <a:pt x="250" y="291"/>
                    </a:lnTo>
                    <a:lnTo>
                      <a:pt x="244" y="296"/>
                    </a:lnTo>
                    <a:lnTo>
                      <a:pt x="233" y="307"/>
                    </a:lnTo>
                    <a:lnTo>
                      <a:pt x="223" y="319"/>
                    </a:lnTo>
                    <a:lnTo>
                      <a:pt x="213" y="331"/>
                    </a:lnTo>
                    <a:lnTo>
                      <a:pt x="201" y="343"/>
                    </a:lnTo>
                    <a:lnTo>
                      <a:pt x="191" y="355"/>
                    </a:lnTo>
                    <a:lnTo>
                      <a:pt x="180" y="366"/>
                    </a:lnTo>
                    <a:lnTo>
                      <a:pt x="168" y="376"/>
                    </a:lnTo>
                    <a:lnTo>
                      <a:pt x="162" y="380"/>
                    </a:lnTo>
                    <a:lnTo>
                      <a:pt x="155" y="385"/>
                    </a:lnTo>
                    <a:lnTo>
                      <a:pt x="149" y="389"/>
                    </a:lnTo>
                    <a:lnTo>
                      <a:pt x="142" y="392"/>
                    </a:lnTo>
                    <a:lnTo>
                      <a:pt x="134" y="394"/>
                    </a:lnTo>
                    <a:lnTo>
                      <a:pt x="127" y="396"/>
                    </a:lnTo>
                    <a:lnTo>
                      <a:pt x="118" y="397"/>
                    </a:lnTo>
                    <a:lnTo>
                      <a:pt x="110" y="397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107040" y="1089000"/>
                <a:ext cx="167760" cy="206280"/>
              </a:xfrm>
              <a:custGeom>
                <a:avLst/>
                <a:gdLst/>
                <a:ahLst/>
                <a:rect l="l" t="t" r="r" b="b"/>
                <a:pathLst>
                  <a:path w="423" h="522">
                    <a:moveTo>
                      <a:pt x="385" y="129"/>
                    </a:moveTo>
                    <a:lnTo>
                      <a:pt x="380" y="127"/>
                    </a:lnTo>
                    <a:lnTo>
                      <a:pt x="375" y="126"/>
                    </a:lnTo>
                    <a:lnTo>
                      <a:pt x="370" y="124"/>
                    </a:lnTo>
                    <a:lnTo>
                      <a:pt x="366" y="122"/>
                    </a:lnTo>
                    <a:lnTo>
                      <a:pt x="358" y="117"/>
                    </a:lnTo>
                    <a:lnTo>
                      <a:pt x="350" y="111"/>
                    </a:lnTo>
                    <a:lnTo>
                      <a:pt x="342" y="106"/>
                    </a:lnTo>
                    <a:lnTo>
                      <a:pt x="334" y="102"/>
                    </a:lnTo>
                    <a:lnTo>
                      <a:pt x="329" y="100"/>
                    </a:lnTo>
                    <a:lnTo>
                      <a:pt x="325" y="99"/>
                    </a:lnTo>
                    <a:lnTo>
                      <a:pt x="320" y="97"/>
                    </a:lnTo>
                    <a:lnTo>
                      <a:pt x="314" y="97"/>
                    </a:lnTo>
                    <a:lnTo>
                      <a:pt x="310" y="97"/>
                    </a:lnTo>
                    <a:lnTo>
                      <a:pt x="306" y="97"/>
                    </a:lnTo>
                    <a:lnTo>
                      <a:pt x="298" y="100"/>
                    </a:lnTo>
                    <a:lnTo>
                      <a:pt x="295" y="102"/>
                    </a:lnTo>
                    <a:lnTo>
                      <a:pt x="292" y="104"/>
                    </a:lnTo>
                    <a:lnTo>
                      <a:pt x="285" y="108"/>
                    </a:lnTo>
                    <a:lnTo>
                      <a:pt x="280" y="113"/>
                    </a:lnTo>
                    <a:lnTo>
                      <a:pt x="274" y="119"/>
                    </a:lnTo>
                    <a:lnTo>
                      <a:pt x="270" y="125"/>
                    </a:lnTo>
                    <a:lnTo>
                      <a:pt x="265" y="132"/>
                    </a:lnTo>
                    <a:lnTo>
                      <a:pt x="259" y="125"/>
                    </a:lnTo>
                    <a:lnTo>
                      <a:pt x="255" y="122"/>
                    </a:lnTo>
                    <a:lnTo>
                      <a:pt x="253" y="118"/>
                    </a:lnTo>
                    <a:lnTo>
                      <a:pt x="251" y="115"/>
                    </a:lnTo>
                    <a:lnTo>
                      <a:pt x="250" y="111"/>
                    </a:lnTo>
                    <a:lnTo>
                      <a:pt x="249" y="106"/>
                    </a:lnTo>
                    <a:lnTo>
                      <a:pt x="249" y="102"/>
                    </a:lnTo>
                    <a:lnTo>
                      <a:pt x="249" y="96"/>
                    </a:lnTo>
                    <a:lnTo>
                      <a:pt x="250" y="92"/>
                    </a:lnTo>
                    <a:lnTo>
                      <a:pt x="252" y="88"/>
                    </a:lnTo>
                    <a:lnTo>
                      <a:pt x="254" y="85"/>
                    </a:lnTo>
                    <a:lnTo>
                      <a:pt x="257" y="82"/>
                    </a:lnTo>
                    <a:lnTo>
                      <a:pt x="260" y="79"/>
                    </a:lnTo>
                    <a:lnTo>
                      <a:pt x="267" y="74"/>
                    </a:lnTo>
                    <a:lnTo>
                      <a:pt x="273" y="68"/>
                    </a:lnTo>
                    <a:lnTo>
                      <a:pt x="278" y="62"/>
                    </a:lnTo>
                    <a:lnTo>
                      <a:pt x="280" y="59"/>
                    </a:lnTo>
                    <a:lnTo>
                      <a:pt x="282" y="55"/>
                    </a:lnTo>
                    <a:lnTo>
                      <a:pt x="283" y="51"/>
                    </a:lnTo>
                    <a:lnTo>
                      <a:pt x="283" y="47"/>
                    </a:lnTo>
                    <a:lnTo>
                      <a:pt x="283" y="42"/>
                    </a:lnTo>
                    <a:lnTo>
                      <a:pt x="282" y="37"/>
                    </a:lnTo>
                    <a:lnTo>
                      <a:pt x="281" y="32"/>
                    </a:lnTo>
                    <a:lnTo>
                      <a:pt x="279" y="28"/>
                    </a:lnTo>
                    <a:lnTo>
                      <a:pt x="276" y="23"/>
                    </a:lnTo>
                    <a:lnTo>
                      <a:pt x="273" y="20"/>
                    </a:lnTo>
                    <a:lnTo>
                      <a:pt x="270" y="16"/>
                    </a:lnTo>
                    <a:lnTo>
                      <a:pt x="266" y="13"/>
                    </a:lnTo>
                    <a:lnTo>
                      <a:pt x="262" y="10"/>
                    </a:lnTo>
                    <a:lnTo>
                      <a:pt x="257" y="7"/>
                    </a:lnTo>
                    <a:lnTo>
                      <a:pt x="252" y="5"/>
                    </a:lnTo>
                    <a:lnTo>
                      <a:pt x="247" y="3"/>
                    </a:lnTo>
                    <a:lnTo>
                      <a:pt x="242" y="2"/>
                    </a:lnTo>
                    <a:lnTo>
                      <a:pt x="237" y="1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21" y="0"/>
                    </a:lnTo>
                    <a:lnTo>
                      <a:pt x="216" y="1"/>
                    </a:lnTo>
                    <a:lnTo>
                      <a:pt x="211" y="3"/>
                    </a:lnTo>
                    <a:lnTo>
                      <a:pt x="206" y="6"/>
                    </a:lnTo>
                    <a:lnTo>
                      <a:pt x="202" y="9"/>
                    </a:lnTo>
                    <a:lnTo>
                      <a:pt x="198" y="13"/>
                    </a:lnTo>
                    <a:lnTo>
                      <a:pt x="195" y="17"/>
                    </a:lnTo>
                    <a:lnTo>
                      <a:pt x="192" y="22"/>
                    </a:lnTo>
                    <a:lnTo>
                      <a:pt x="190" y="27"/>
                    </a:lnTo>
                    <a:lnTo>
                      <a:pt x="187" y="32"/>
                    </a:lnTo>
                    <a:lnTo>
                      <a:pt x="186" y="38"/>
                    </a:lnTo>
                    <a:lnTo>
                      <a:pt x="184" y="44"/>
                    </a:lnTo>
                    <a:lnTo>
                      <a:pt x="183" y="50"/>
                    </a:lnTo>
                    <a:lnTo>
                      <a:pt x="182" y="56"/>
                    </a:lnTo>
                    <a:lnTo>
                      <a:pt x="182" y="68"/>
                    </a:lnTo>
                    <a:lnTo>
                      <a:pt x="123" y="68"/>
                    </a:lnTo>
                    <a:lnTo>
                      <a:pt x="123" y="118"/>
                    </a:lnTo>
                    <a:lnTo>
                      <a:pt x="123" y="127"/>
                    </a:lnTo>
                    <a:lnTo>
                      <a:pt x="124" y="136"/>
                    </a:lnTo>
                    <a:lnTo>
                      <a:pt x="128" y="152"/>
                    </a:lnTo>
                    <a:lnTo>
                      <a:pt x="129" y="160"/>
                    </a:lnTo>
                    <a:lnTo>
                      <a:pt x="131" y="168"/>
                    </a:lnTo>
                    <a:lnTo>
                      <a:pt x="132" y="177"/>
                    </a:lnTo>
                    <a:lnTo>
                      <a:pt x="132" y="186"/>
                    </a:lnTo>
                    <a:lnTo>
                      <a:pt x="132" y="192"/>
                    </a:lnTo>
                    <a:lnTo>
                      <a:pt x="131" y="197"/>
                    </a:lnTo>
                    <a:lnTo>
                      <a:pt x="129" y="202"/>
                    </a:lnTo>
                    <a:lnTo>
                      <a:pt x="127" y="206"/>
                    </a:lnTo>
                    <a:lnTo>
                      <a:pt x="124" y="210"/>
                    </a:lnTo>
                    <a:lnTo>
                      <a:pt x="120" y="213"/>
                    </a:lnTo>
                    <a:lnTo>
                      <a:pt x="112" y="220"/>
                    </a:lnTo>
                    <a:lnTo>
                      <a:pt x="95" y="233"/>
                    </a:lnTo>
                    <a:lnTo>
                      <a:pt x="87" y="240"/>
                    </a:lnTo>
                    <a:lnTo>
                      <a:pt x="83" y="244"/>
                    </a:lnTo>
                    <a:lnTo>
                      <a:pt x="80" y="249"/>
                    </a:lnTo>
                    <a:lnTo>
                      <a:pt x="77" y="254"/>
                    </a:lnTo>
                    <a:lnTo>
                      <a:pt x="75" y="258"/>
                    </a:lnTo>
                    <a:lnTo>
                      <a:pt x="72" y="266"/>
                    </a:lnTo>
                    <a:lnTo>
                      <a:pt x="70" y="274"/>
                    </a:lnTo>
                    <a:lnTo>
                      <a:pt x="69" y="283"/>
                    </a:lnTo>
                    <a:lnTo>
                      <a:pt x="67" y="300"/>
                    </a:lnTo>
                    <a:lnTo>
                      <a:pt x="66" y="304"/>
                    </a:lnTo>
                    <a:lnTo>
                      <a:pt x="65" y="306"/>
                    </a:lnTo>
                    <a:lnTo>
                      <a:pt x="64" y="308"/>
                    </a:lnTo>
                    <a:lnTo>
                      <a:pt x="63" y="313"/>
                    </a:lnTo>
                    <a:lnTo>
                      <a:pt x="60" y="317"/>
                    </a:lnTo>
                    <a:lnTo>
                      <a:pt x="51" y="331"/>
                    </a:lnTo>
                    <a:lnTo>
                      <a:pt x="41" y="344"/>
                    </a:lnTo>
                    <a:lnTo>
                      <a:pt x="21" y="368"/>
                    </a:lnTo>
                    <a:lnTo>
                      <a:pt x="17" y="374"/>
                    </a:lnTo>
                    <a:lnTo>
                      <a:pt x="13" y="380"/>
                    </a:lnTo>
                    <a:lnTo>
                      <a:pt x="9" y="386"/>
                    </a:lnTo>
                    <a:lnTo>
                      <a:pt x="6" y="393"/>
                    </a:lnTo>
                    <a:lnTo>
                      <a:pt x="3" y="400"/>
                    </a:lnTo>
                    <a:lnTo>
                      <a:pt x="1" y="409"/>
                    </a:lnTo>
                    <a:lnTo>
                      <a:pt x="0" y="417"/>
                    </a:lnTo>
                    <a:lnTo>
                      <a:pt x="0" y="426"/>
                    </a:lnTo>
                    <a:lnTo>
                      <a:pt x="0" y="432"/>
                    </a:lnTo>
                    <a:lnTo>
                      <a:pt x="1" y="439"/>
                    </a:lnTo>
                    <a:lnTo>
                      <a:pt x="2" y="445"/>
                    </a:lnTo>
                    <a:lnTo>
                      <a:pt x="3" y="451"/>
                    </a:lnTo>
                    <a:lnTo>
                      <a:pt x="6" y="463"/>
                    </a:lnTo>
                    <a:lnTo>
                      <a:pt x="9" y="474"/>
                    </a:lnTo>
                    <a:lnTo>
                      <a:pt x="13" y="485"/>
                    </a:lnTo>
                    <a:lnTo>
                      <a:pt x="15" y="490"/>
                    </a:lnTo>
                    <a:lnTo>
                      <a:pt x="16" y="496"/>
                    </a:lnTo>
                    <a:lnTo>
                      <a:pt x="17" y="502"/>
                    </a:lnTo>
                    <a:lnTo>
                      <a:pt x="18" y="508"/>
                    </a:lnTo>
                    <a:lnTo>
                      <a:pt x="19" y="515"/>
                    </a:lnTo>
                    <a:lnTo>
                      <a:pt x="19" y="522"/>
                    </a:lnTo>
                    <a:lnTo>
                      <a:pt x="20" y="517"/>
                    </a:lnTo>
                    <a:lnTo>
                      <a:pt x="20" y="513"/>
                    </a:lnTo>
                    <a:lnTo>
                      <a:pt x="22" y="508"/>
                    </a:lnTo>
                    <a:lnTo>
                      <a:pt x="23" y="504"/>
                    </a:lnTo>
                    <a:lnTo>
                      <a:pt x="28" y="497"/>
                    </a:lnTo>
                    <a:lnTo>
                      <a:pt x="33" y="490"/>
                    </a:lnTo>
                    <a:lnTo>
                      <a:pt x="39" y="484"/>
                    </a:lnTo>
                    <a:lnTo>
                      <a:pt x="46" y="479"/>
                    </a:lnTo>
                    <a:lnTo>
                      <a:pt x="61" y="468"/>
                    </a:lnTo>
                    <a:lnTo>
                      <a:pt x="68" y="463"/>
                    </a:lnTo>
                    <a:lnTo>
                      <a:pt x="76" y="458"/>
                    </a:lnTo>
                    <a:lnTo>
                      <a:pt x="82" y="452"/>
                    </a:lnTo>
                    <a:lnTo>
                      <a:pt x="88" y="446"/>
                    </a:lnTo>
                    <a:lnTo>
                      <a:pt x="93" y="440"/>
                    </a:lnTo>
                    <a:lnTo>
                      <a:pt x="97" y="432"/>
                    </a:lnTo>
                    <a:lnTo>
                      <a:pt x="99" y="428"/>
                    </a:lnTo>
                    <a:lnTo>
                      <a:pt x="100" y="424"/>
                    </a:lnTo>
                    <a:lnTo>
                      <a:pt x="101" y="420"/>
                    </a:lnTo>
                    <a:lnTo>
                      <a:pt x="101" y="415"/>
                    </a:lnTo>
                    <a:lnTo>
                      <a:pt x="100" y="410"/>
                    </a:lnTo>
                    <a:lnTo>
                      <a:pt x="99" y="404"/>
                    </a:lnTo>
                    <a:lnTo>
                      <a:pt x="97" y="400"/>
                    </a:lnTo>
                    <a:lnTo>
                      <a:pt x="95" y="396"/>
                    </a:lnTo>
                    <a:lnTo>
                      <a:pt x="89" y="389"/>
                    </a:lnTo>
                    <a:lnTo>
                      <a:pt x="82" y="383"/>
                    </a:lnTo>
                    <a:lnTo>
                      <a:pt x="76" y="376"/>
                    </a:lnTo>
                    <a:lnTo>
                      <a:pt x="73" y="373"/>
                    </a:lnTo>
                    <a:lnTo>
                      <a:pt x="70" y="369"/>
                    </a:lnTo>
                    <a:lnTo>
                      <a:pt x="68" y="365"/>
                    </a:lnTo>
                    <a:lnTo>
                      <a:pt x="66" y="361"/>
                    </a:lnTo>
                    <a:lnTo>
                      <a:pt x="65" y="357"/>
                    </a:lnTo>
                    <a:lnTo>
                      <a:pt x="64" y="352"/>
                    </a:lnTo>
                    <a:lnTo>
                      <a:pt x="64" y="347"/>
                    </a:lnTo>
                    <a:lnTo>
                      <a:pt x="65" y="343"/>
                    </a:lnTo>
                    <a:lnTo>
                      <a:pt x="67" y="339"/>
                    </a:lnTo>
                    <a:lnTo>
                      <a:pt x="68" y="335"/>
                    </a:lnTo>
                    <a:lnTo>
                      <a:pt x="72" y="329"/>
                    </a:lnTo>
                    <a:lnTo>
                      <a:pt x="78" y="323"/>
                    </a:lnTo>
                    <a:lnTo>
                      <a:pt x="90" y="311"/>
                    </a:lnTo>
                    <a:lnTo>
                      <a:pt x="96" y="305"/>
                    </a:lnTo>
                    <a:lnTo>
                      <a:pt x="101" y="298"/>
                    </a:lnTo>
                    <a:lnTo>
                      <a:pt x="103" y="292"/>
                    </a:lnTo>
                    <a:lnTo>
                      <a:pt x="105" y="285"/>
                    </a:lnTo>
                    <a:lnTo>
                      <a:pt x="109" y="272"/>
                    </a:lnTo>
                    <a:lnTo>
                      <a:pt x="111" y="266"/>
                    </a:lnTo>
                    <a:lnTo>
                      <a:pt x="112" y="264"/>
                    </a:lnTo>
                    <a:lnTo>
                      <a:pt x="114" y="262"/>
                    </a:lnTo>
                    <a:lnTo>
                      <a:pt x="116" y="260"/>
                    </a:lnTo>
                    <a:lnTo>
                      <a:pt x="118" y="258"/>
                    </a:lnTo>
                    <a:lnTo>
                      <a:pt x="122" y="258"/>
                    </a:lnTo>
                    <a:lnTo>
                      <a:pt x="125" y="257"/>
                    </a:lnTo>
                    <a:lnTo>
                      <a:pt x="127" y="258"/>
                    </a:lnTo>
                    <a:lnTo>
                      <a:pt x="129" y="259"/>
                    </a:lnTo>
                    <a:lnTo>
                      <a:pt x="131" y="261"/>
                    </a:lnTo>
                    <a:lnTo>
                      <a:pt x="132" y="263"/>
                    </a:lnTo>
                    <a:lnTo>
                      <a:pt x="136" y="267"/>
                    </a:lnTo>
                    <a:lnTo>
                      <a:pt x="138" y="268"/>
                    </a:lnTo>
                    <a:lnTo>
                      <a:pt x="140" y="269"/>
                    </a:lnTo>
                    <a:lnTo>
                      <a:pt x="147" y="268"/>
                    </a:lnTo>
                    <a:lnTo>
                      <a:pt x="153" y="267"/>
                    </a:lnTo>
                    <a:lnTo>
                      <a:pt x="158" y="266"/>
                    </a:lnTo>
                    <a:lnTo>
                      <a:pt x="164" y="263"/>
                    </a:lnTo>
                    <a:lnTo>
                      <a:pt x="169" y="261"/>
                    </a:lnTo>
                    <a:lnTo>
                      <a:pt x="173" y="258"/>
                    </a:lnTo>
                    <a:lnTo>
                      <a:pt x="183" y="251"/>
                    </a:lnTo>
                    <a:lnTo>
                      <a:pt x="192" y="244"/>
                    </a:lnTo>
                    <a:lnTo>
                      <a:pt x="197" y="241"/>
                    </a:lnTo>
                    <a:lnTo>
                      <a:pt x="202" y="239"/>
                    </a:lnTo>
                    <a:lnTo>
                      <a:pt x="208" y="236"/>
                    </a:lnTo>
                    <a:lnTo>
                      <a:pt x="213" y="235"/>
                    </a:lnTo>
                    <a:lnTo>
                      <a:pt x="219" y="234"/>
                    </a:lnTo>
                    <a:lnTo>
                      <a:pt x="226" y="233"/>
                    </a:lnTo>
                    <a:lnTo>
                      <a:pt x="231" y="233"/>
                    </a:lnTo>
                    <a:lnTo>
                      <a:pt x="237" y="234"/>
                    </a:lnTo>
                    <a:lnTo>
                      <a:pt x="242" y="235"/>
                    </a:lnTo>
                    <a:lnTo>
                      <a:pt x="245" y="236"/>
                    </a:lnTo>
                    <a:lnTo>
                      <a:pt x="247" y="237"/>
                    </a:lnTo>
                    <a:lnTo>
                      <a:pt x="252" y="238"/>
                    </a:lnTo>
                    <a:lnTo>
                      <a:pt x="257" y="240"/>
                    </a:lnTo>
                    <a:lnTo>
                      <a:pt x="262" y="243"/>
                    </a:lnTo>
                    <a:lnTo>
                      <a:pt x="267" y="246"/>
                    </a:lnTo>
                    <a:lnTo>
                      <a:pt x="271" y="249"/>
                    </a:lnTo>
                    <a:lnTo>
                      <a:pt x="275" y="252"/>
                    </a:lnTo>
                    <a:lnTo>
                      <a:pt x="278" y="257"/>
                    </a:lnTo>
                    <a:lnTo>
                      <a:pt x="282" y="261"/>
                    </a:lnTo>
                    <a:lnTo>
                      <a:pt x="288" y="269"/>
                    </a:lnTo>
                    <a:lnTo>
                      <a:pt x="294" y="279"/>
                    </a:lnTo>
                    <a:lnTo>
                      <a:pt x="299" y="289"/>
                    </a:lnTo>
                    <a:lnTo>
                      <a:pt x="303" y="299"/>
                    </a:lnTo>
                    <a:lnTo>
                      <a:pt x="306" y="311"/>
                    </a:lnTo>
                    <a:lnTo>
                      <a:pt x="309" y="322"/>
                    </a:lnTo>
                    <a:lnTo>
                      <a:pt x="311" y="334"/>
                    </a:lnTo>
                    <a:lnTo>
                      <a:pt x="313" y="346"/>
                    </a:lnTo>
                    <a:lnTo>
                      <a:pt x="314" y="358"/>
                    </a:lnTo>
                    <a:lnTo>
                      <a:pt x="314" y="370"/>
                    </a:lnTo>
                    <a:lnTo>
                      <a:pt x="321" y="364"/>
                    </a:lnTo>
                    <a:lnTo>
                      <a:pt x="327" y="358"/>
                    </a:lnTo>
                    <a:lnTo>
                      <a:pt x="332" y="351"/>
                    </a:lnTo>
                    <a:lnTo>
                      <a:pt x="336" y="344"/>
                    </a:lnTo>
                    <a:lnTo>
                      <a:pt x="339" y="337"/>
                    </a:lnTo>
                    <a:lnTo>
                      <a:pt x="340" y="333"/>
                    </a:lnTo>
                    <a:lnTo>
                      <a:pt x="341" y="329"/>
                    </a:lnTo>
                    <a:lnTo>
                      <a:pt x="343" y="320"/>
                    </a:lnTo>
                    <a:lnTo>
                      <a:pt x="343" y="311"/>
                    </a:lnTo>
                    <a:lnTo>
                      <a:pt x="343" y="303"/>
                    </a:lnTo>
                    <a:lnTo>
                      <a:pt x="342" y="295"/>
                    </a:lnTo>
                    <a:lnTo>
                      <a:pt x="338" y="280"/>
                    </a:lnTo>
                    <a:lnTo>
                      <a:pt x="336" y="273"/>
                    </a:lnTo>
                    <a:lnTo>
                      <a:pt x="335" y="266"/>
                    </a:lnTo>
                    <a:lnTo>
                      <a:pt x="334" y="258"/>
                    </a:lnTo>
                    <a:lnTo>
                      <a:pt x="333" y="249"/>
                    </a:lnTo>
                    <a:lnTo>
                      <a:pt x="334" y="244"/>
                    </a:lnTo>
                    <a:lnTo>
                      <a:pt x="334" y="240"/>
                    </a:lnTo>
                    <a:lnTo>
                      <a:pt x="336" y="237"/>
                    </a:lnTo>
                    <a:lnTo>
                      <a:pt x="337" y="233"/>
                    </a:lnTo>
                    <a:lnTo>
                      <a:pt x="339" y="230"/>
                    </a:lnTo>
                    <a:lnTo>
                      <a:pt x="342" y="227"/>
                    </a:lnTo>
                    <a:lnTo>
                      <a:pt x="347" y="222"/>
                    </a:lnTo>
                    <a:lnTo>
                      <a:pt x="354" y="218"/>
                    </a:lnTo>
                    <a:lnTo>
                      <a:pt x="361" y="214"/>
                    </a:lnTo>
                    <a:lnTo>
                      <a:pt x="378" y="207"/>
                    </a:lnTo>
                    <a:lnTo>
                      <a:pt x="394" y="200"/>
                    </a:lnTo>
                    <a:lnTo>
                      <a:pt x="402" y="196"/>
                    </a:lnTo>
                    <a:lnTo>
                      <a:pt x="409" y="191"/>
                    </a:lnTo>
                    <a:lnTo>
                      <a:pt x="412" y="189"/>
                    </a:lnTo>
                    <a:lnTo>
                      <a:pt x="415" y="186"/>
                    </a:lnTo>
                    <a:lnTo>
                      <a:pt x="417" y="183"/>
                    </a:lnTo>
                    <a:lnTo>
                      <a:pt x="419" y="180"/>
                    </a:lnTo>
                    <a:lnTo>
                      <a:pt x="421" y="177"/>
                    </a:lnTo>
                    <a:lnTo>
                      <a:pt x="422" y="173"/>
                    </a:lnTo>
                    <a:lnTo>
                      <a:pt x="423" y="169"/>
                    </a:lnTo>
                    <a:lnTo>
                      <a:pt x="423" y="165"/>
                    </a:lnTo>
                    <a:lnTo>
                      <a:pt x="385" y="12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037200" y="1154160"/>
                <a:ext cx="85320" cy="110880"/>
              </a:xfrm>
              <a:custGeom>
                <a:avLst/>
                <a:gdLst/>
                <a:ahLst/>
                <a:rect l="l" t="t" r="r" b="b"/>
                <a:pathLst>
                  <a:path w="219" h="280">
                    <a:moveTo>
                      <a:pt x="22" y="86"/>
                    </a:moveTo>
                    <a:lnTo>
                      <a:pt x="22" y="92"/>
                    </a:lnTo>
                    <a:lnTo>
                      <a:pt x="23" y="96"/>
                    </a:lnTo>
                    <a:lnTo>
                      <a:pt x="25" y="104"/>
                    </a:lnTo>
                    <a:lnTo>
                      <a:pt x="29" y="112"/>
                    </a:lnTo>
                    <a:lnTo>
                      <a:pt x="30" y="116"/>
                    </a:lnTo>
                    <a:lnTo>
                      <a:pt x="30" y="121"/>
                    </a:lnTo>
                    <a:lnTo>
                      <a:pt x="30" y="128"/>
                    </a:lnTo>
                    <a:lnTo>
                      <a:pt x="29" y="134"/>
                    </a:lnTo>
                    <a:lnTo>
                      <a:pt x="28" y="140"/>
                    </a:lnTo>
                    <a:lnTo>
                      <a:pt x="25" y="146"/>
                    </a:lnTo>
                    <a:lnTo>
                      <a:pt x="20" y="157"/>
                    </a:lnTo>
                    <a:lnTo>
                      <a:pt x="15" y="168"/>
                    </a:lnTo>
                    <a:lnTo>
                      <a:pt x="10" y="178"/>
                    </a:lnTo>
                    <a:lnTo>
                      <a:pt x="7" y="184"/>
                    </a:lnTo>
                    <a:lnTo>
                      <a:pt x="5" y="189"/>
                    </a:lnTo>
                    <a:lnTo>
                      <a:pt x="3" y="195"/>
                    </a:lnTo>
                    <a:lnTo>
                      <a:pt x="2" y="201"/>
                    </a:lnTo>
                    <a:lnTo>
                      <a:pt x="1" y="208"/>
                    </a:lnTo>
                    <a:lnTo>
                      <a:pt x="0" y="215"/>
                    </a:lnTo>
                    <a:lnTo>
                      <a:pt x="1" y="221"/>
                    </a:lnTo>
                    <a:lnTo>
                      <a:pt x="1" y="226"/>
                    </a:lnTo>
                    <a:lnTo>
                      <a:pt x="2" y="231"/>
                    </a:lnTo>
                    <a:lnTo>
                      <a:pt x="3" y="236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9" y="251"/>
                    </a:lnTo>
                    <a:lnTo>
                      <a:pt x="12" y="255"/>
                    </a:lnTo>
                    <a:lnTo>
                      <a:pt x="18" y="263"/>
                    </a:lnTo>
                    <a:lnTo>
                      <a:pt x="22" y="266"/>
                    </a:lnTo>
                    <a:lnTo>
                      <a:pt x="27" y="270"/>
                    </a:lnTo>
                    <a:lnTo>
                      <a:pt x="36" y="276"/>
                    </a:lnTo>
                    <a:lnTo>
                      <a:pt x="41" y="278"/>
                    </a:lnTo>
                    <a:lnTo>
                      <a:pt x="46" y="280"/>
                    </a:lnTo>
                    <a:lnTo>
                      <a:pt x="53" y="265"/>
                    </a:lnTo>
                    <a:lnTo>
                      <a:pt x="59" y="250"/>
                    </a:lnTo>
                    <a:lnTo>
                      <a:pt x="64" y="234"/>
                    </a:lnTo>
                    <a:lnTo>
                      <a:pt x="68" y="220"/>
                    </a:lnTo>
                    <a:lnTo>
                      <a:pt x="71" y="205"/>
                    </a:lnTo>
                    <a:lnTo>
                      <a:pt x="74" y="191"/>
                    </a:lnTo>
                    <a:lnTo>
                      <a:pt x="80" y="162"/>
                    </a:lnTo>
                    <a:lnTo>
                      <a:pt x="82" y="148"/>
                    </a:lnTo>
                    <a:lnTo>
                      <a:pt x="86" y="134"/>
                    </a:lnTo>
                    <a:lnTo>
                      <a:pt x="90" y="121"/>
                    </a:lnTo>
                    <a:lnTo>
                      <a:pt x="95" y="107"/>
                    </a:lnTo>
                    <a:lnTo>
                      <a:pt x="98" y="101"/>
                    </a:lnTo>
                    <a:lnTo>
                      <a:pt x="101" y="94"/>
                    </a:lnTo>
                    <a:lnTo>
                      <a:pt x="105" y="88"/>
                    </a:lnTo>
                    <a:lnTo>
                      <a:pt x="109" y="80"/>
                    </a:lnTo>
                    <a:lnTo>
                      <a:pt x="118" y="68"/>
                    </a:lnTo>
                    <a:lnTo>
                      <a:pt x="129" y="55"/>
                    </a:lnTo>
                    <a:lnTo>
                      <a:pt x="135" y="51"/>
                    </a:lnTo>
                    <a:lnTo>
                      <a:pt x="141" y="47"/>
                    </a:lnTo>
                    <a:lnTo>
                      <a:pt x="147" y="44"/>
                    </a:lnTo>
                    <a:lnTo>
                      <a:pt x="153" y="41"/>
                    </a:lnTo>
                    <a:lnTo>
                      <a:pt x="167" y="37"/>
                    </a:lnTo>
                    <a:lnTo>
                      <a:pt x="180" y="34"/>
                    </a:lnTo>
                    <a:lnTo>
                      <a:pt x="187" y="32"/>
                    </a:lnTo>
                    <a:lnTo>
                      <a:pt x="193" y="30"/>
                    </a:lnTo>
                    <a:lnTo>
                      <a:pt x="198" y="27"/>
                    </a:lnTo>
                    <a:lnTo>
                      <a:pt x="204" y="24"/>
                    </a:lnTo>
                    <a:lnTo>
                      <a:pt x="208" y="20"/>
                    </a:lnTo>
                    <a:lnTo>
                      <a:pt x="212" y="16"/>
                    </a:lnTo>
                    <a:lnTo>
                      <a:pt x="214" y="13"/>
                    </a:lnTo>
                    <a:lnTo>
                      <a:pt x="216" y="10"/>
                    </a:lnTo>
                    <a:lnTo>
                      <a:pt x="219" y="3"/>
                    </a:lnTo>
                    <a:lnTo>
                      <a:pt x="212" y="1"/>
                    </a:lnTo>
                    <a:lnTo>
                      <a:pt x="205" y="0"/>
                    </a:lnTo>
                    <a:lnTo>
                      <a:pt x="199" y="0"/>
                    </a:lnTo>
                    <a:lnTo>
                      <a:pt x="193" y="1"/>
                    </a:lnTo>
                    <a:lnTo>
                      <a:pt x="187" y="2"/>
                    </a:lnTo>
                    <a:lnTo>
                      <a:pt x="181" y="4"/>
                    </a:lnTo>
                    <a:lnTo>
                      <a:pt x="176" y="7"/>
                    </a:lnTo>
                    <a:lnTo>
                      <a:pt x="170" y="10"/>
                    </a:lnTo>
                    <a:lnTo>
                      <a:pt x="165" y="13"/>
                    </a:lnTo>
                    <a:lnTo>
                      <a:pt x="159" y="17"/>
                    </a:lnTo>
                    <a:lnTo>
                      <a:pt x="148" y="25"/>
                    </a:lnTo>
                    <a:lnTo>
                      <a:pt x="137" y="34"/>
                    </a:lnTo>
                    <a:lnTo>
                      <a:pt x="131" y="38"/>
                    </a:lnTo>
                    <a:lnTo>
                      <a:pt x="125" y="42"/>
                    </a:lnTo>
                    <a:lnTo>
                      <a:pt x="118" y="46"/>
                    </a:lnTo>
                    <a:lnTo>
                      <a:pt x="111" y="49"/>
                    </a:lnTo>
                    <a:lnTo>
                      <a:pt x="107" y="50"/>
                    </a:lnTo>
                    <a:lnTo>
                      <a:pt x="103" y="51"/>
                    </a:lnTo>
                    <a:lnTo>
                      <a:pt x="94" y="53"/>
                    </a:lnTo>
                    <a:lnTo>
                      <a:pt x="77" y="55"/>
                    </a:lnTo>
                    <a:lnTo>
                      <a:pt x="61" y="57"/>
                    </a:lnTo>
                    <a:lnTo>
                      <a:pt x="53" y="58"/>
                    </a:lnTo>
                    <a:lnTo>
                      <a:pt x="46" y="59"/>
                    </a:lnTo>
                    <a:lnTo>
                      <a:pt x="39" y="62"/>
                    </a:lnTo>
                    <a:lnTo>
                      <a:pt x="34" y="64"/>
                    </a:lnTo>
                    <a:lnTo>
                      <a:pt x="31" y="66"/>
                    </a:lnTo>
                    <a:lnTo>
                      <a:pt x="29" y="68"/>
                    </a:lnTo>
                    <a:lnTo>
                      <a:pt x="25" y="73"/>
                    </a:lnTo>
                    <a:lnTo>
                      <a:pt x="23" y="76"/>
                    </a:lnTo>
                    <a:lnTo>
                      <a:pt x="22" y="79"/>
                    </a:lnTo>
                    <a:lnTo>
                      <a:pt x="22" y="82"/>
                    </a:lnTo>
                    <a:lnTo>
                      <a:pt x="22" y="8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387840" y="1582560"/>
                <a:ext cx="461880" cy="1030320"/>
              </a:xfrm>
              <a:custGeom>
                <a:avLst/>
                <a:gdLst/>
                <a:ahLst/>
                <a:rect l="l" t="t" r="r" b="b"/>
                <a:pathLst>
                  <a:path w="1163" h="2596">
                    <a:moveTo>
                      <a:pt x="103" y="0"/>
                    </a:moveTo>
                    <a:lnTo>
                      <a:pt x="112" y="1"/>
                    </a:lnTo>
                    <a:lnTo>
                      <a:pt x="120" y="2"/>
                    </a:lnTo>
                    <a:lnTo>
                      <a:pt x="128" y="3"/>
                    </a:lnTo>
                    <a:lnTo>
                      <a:pt x="137" y="4"/>
                    </a:lnTo>
                    <a:lnTo>
                      <a:pt x="76" y="4"/>
                    </a:lnTo>
                    <a:lnTo>
                      <a:pt x="82" y="4"/>
                    </a:lnTo>
                    <a:lnTo>
                      <a:pt x="89" y="5"/>
                    </a:lnTo>
                    <a:lnTo>
                      <a:pt x="102" y="7"/>
                    </a:lnTo>
                    <a:lnTo>
                      <a:pt x="107" y="9"/>
                    </a:lnTo>
                    <a:lnTo>
                      <a:pt x="113" y="11"/>
                    </a:lnTo>
                    <a:lnTo>
                      <a:pt x="118" y="13"/>
                    </a:lnTo>
                    <a:lnTo>
                      <a:pt x="124" y="15"/>
                    </a:lnTo>
                    <a:lnTo>
                      <a:pt x="134" y="21"/>
                    </a:lnTo>
                    <a:lnTo>
                      <a:pt x="143" y="27"/>
                    </a:lnTo>
                    <a:lnTo>
                      <a:pt x="148" y="31"/>
                    </a:lnTo>
                    <a:lnTo>
                      <a:pt x="152" y="35"/>
                    </a:lnTo>
                    <a:lnTo>
                      <a:pt x="160" y="43"/>
                    </a:lnTo>
                    <a:lnTo>
                      <a:pt x="168" y="52"/>
                    </a:lnTo>
                    <a:lnTo>
                      <a:pt x="174" y="62"/>
                    </a:lnTo>
                    <a:lnTo>
                      <a:pt x="181" y="72"/>
                    </a:lnTo>
                    <a:lnTo>
                      <a:pt x="186" y="83"/>
                    </a:lnTo>
                    <a:lnTo>
                      <a:pt x="191" y="96"/>
                    </a:lnTo>
                    <a:lnTo>
                      <a:pt x="195" y="108"/>
                    </a:lnTo>
                    <a:lnTo>
                      <a:pt x="198" y="120"/>
                    </a:lnTo>
                    <a:lnTo>
                      <a:pt x="200" y="133"/>
                    </a:lnTo>
                    <a:lnTo>
                      <a:pt x="203" y="153"/>
                    </a:lnTo>
                    <a:lnTo>
                      <a:pt x="204" y="172"/>
                    </a:lnTo>
                    <a:lnTo>
                      <a:pt x="205" y="191"/>
                    </a:lnTo>
                    <a:lnTo>
                      <a:pt x="205" y="200"/>
                    </a:lnTo>
                    <a:lnTo>
                      <a:pt x="206" y="208"/>
                    </a:lnTo>
                    <a:lnTo>
                      <a:pt x="208" y="217"/>
                    </a:lnTo>
                    <a:lnTo>
                      <a:pt x="209" y="225"/>
                    </a:lnTo>
                    <a:lnTo>
                      <a:pt x="212" y="233"/>
                    </a:lnTo>
                    <a:lnTo>
                      <a:pt x="215" y="241"/>
                    </a:lnTo>
                    <a:lnTo>
                      <a:pt x="219" y="249"/>
                    </a:lnTo>
                    <a:lnTo>
                      <a:pt x="224" y="256"/>
                    </a:lnTo>
                    <a:lnTo>
                      <a:pt x="230" y="263"/>
                    </a:lnTo>
                    <a:lnTo>
                      <a:pt x="239" y="269"/>
                    </a:lnTo>
                    <a:lnTo>
                      <a:pt x="242" y="271"/>
                    </a:lnTo>
                    <a:lnTo>
                      <a:pt x="244" y="273"/>
                    </a:lnTo>
                    <a:lnTo>
                      <a:pt x="250" y="276"/>
                    </a:lnTo>
                    <a:lnTo>
                      <a:pt x="255" y="279"/>
                    </a:lnTo>
                    <a:lnTo>
                      <a:pt x="261" y="281"/>
                    </a:lnTo>
                    <a:lnTo>
                      <a:pt x="266" y="283"/>
                    </a:lnTo>
                    <a:lnTo>
                      <a:pt x="272" y="284"/>
                    </a:lnTo>
                    <a:lnTo>
                      <a:pt x="278" y="285"/>
                    </a:lnTo>
                    <a:lnTo>
                      <a:pt x="283" y="285"/>
                    </a:lnTo>
                    <a:lnTo>
                      <a:pt x="295" y="286"/>
                    </a:lnTo>
                    <a:lnTo>
                      <a:pt x="307" y="286"/>
                    </a:lnTo>
                    <a:lnTo>
                      <a:pt x="320" y="285"/>
                    </a:lnTo>
                    <a:lnTo>
                      <a:pt x="334" y="285"/>
                    </a:lnTo>
                    <a:lnTo>
                      <a:pt x="341" y="284"/>
                    </a:lnTo>
                    <a:lnTo>
                      <a:pt x="347" y="283"/>
                    </a:lnTo>
                    <a:lnTo>
                      <a:pt x="353" y="282"/>
                    </a:lnTo>
                    <a:lnTo>
                      <a:pt x="359" y="280"/>
                    </a:lnTo>
                    <a:lnTo>
                      <a:pt x="364" y="277"/>
                    </a:lnTo>
                    <a:lnTo>
                      <a:pt x="369" y="274"/>
                    </a:lnTo>
                    <a:lnTo>
                      <a:pt x="380" y="268"/>
                    </a:lnTo>
                    <a:lnTo>
                      <a:pt x="390" y="262"/>
                    </a:lnTo>
                    <a:lnTo>
                      <a:pt x="401" y="256"/>
                    </a:lnTo>
                    <a:lnTo>
                      <a:pt x="406" y="254"/>
                    </a:lnTo>
                    <a:lnTo>
                      <a:pt x="412" y="253"/>
                    </a:lnTo>
                    <a:lnTo>
                      <a:pt x="419" y="252"/>
                    </a:lnTo>
                    <a:lnTo>
                      <a:pt x="425" y="251"/>
                    </a:lnTo>
                    <a:lnTo>
                      <a:pt x="429" y="252"/>
                    </a:lnTo>
                    <a:lnTo>
                      <a:pt x="432" y="253"/>
                    </a:lnTo>
                    <a:lnTo>
                      <a:pt x="435" y="254"/>
                    </a:lnTo>
                    <a:lnTo>
                      <a:pt x="438" y="257"/>
                    </a:lnTo>
                    <a:lnTo>
                      <a:pt x="440" y="259"/>
                    </a:lnTo>
                    <a:lnTo>
                      <a:pt x="441" y="263"/>
                    </a:lnTo>
                    <a:lnTo>
                      <a:pt x="442" y="266"/>
                    </a:lnTo>
                    <a:lnTo>
                      <a:pt x="443" y="269"/>
                    </a:lnTo>
                    <a:lnTo>
                      <a:pt x="442" y="277"/>
                    </a:lnTo>
                    <a:lnTo>
                      <a:pt x="441" y="284"/>
                    </a:lnTo>
                    <a:lnTo>
                      <a:pt x="439" y="291"/>
                    </a:lnTo>
                    <a:lnTo>
                      <a:pt x="437" y="297"/>
                    </a:lnTo>
                    <a:lnTo>
                      <a:pt x="434" y="303"/>
                    </a:lnTo>
                    <a:lnTo>
                      <a:pt x="431" y="309"/>
                    </a:lnTo>
                    <a:lnTo>
                      <a:pt x="427" y="314"/>
                    </a:lnTo>
                    <a:lnTo>
                      <a:pt x="422" y="319"/>
                    </a:lnTo>
                    <a:lnTo>
                      <a:pt x="417" y="324"/>
                    </a:lnTo>
                    <a:lnTo>
                      <a:pt x="412" y="329"/>
                    </a:lnTo>
                    <a:lnTo>
                      <a:pt x="401" y="337"/>
                    </a:lnTo>
                    <a:lnTo>
                      <a:pt x="377" y="354"/>
                    </a:lnTo>
                    <a:lnTo>
                      <a:pt x="364" y="361"/>
                    </a:lnTo>
                    <a:lnTo>
                      <a:pt x="352" y="370"/>
                    </a:lnTo>
                    <a:lnTo>
                      <a:pt x="341" y="378"/>
                    </a:lnTo>
                    <a:lnTo>
                      <a:pt x="335" y="383"/>
                    </a:lnTo>
                    <a:lnTo>
                      <a:pt x="331" y="388"/>
                    </a:lnTo>
                    <a:lnTo>
                      <a:pt x="326" y="393"/>
                    </a:lnTo>
                    <a:lnTo>
                      <a:pt x="322" y="398"/>
                    </a:lnTo>
                    <a:lnTo>
                      <a:pt x="319" y="405"/>
                    </a:lnTo>
                    <a:lnTo>
                      <a:pt x="316" y="411"/>
                    </a:lnTo>
                    <a:lnTo>
                      <a:pt x="313" y="417"/>
                    </a:lnTo>
                    <a:lnTo>
                      <a:pt x="312" y="424"/>
                    </a:lnTo>
                    <a:lnTo>
                      <a:pt x="310" y="431"/>
                    </a:lnTo>
                    <a:lnTo>
                      <a:pt x="310" y="439"/>
                    </a:lnTo>
                    <a:lnTo>
                      <a:pt x="310" y="449"/>
                    </a:lnTo>
                    <a:lnTo>
                      <a:pt x="312" y="460"/>
                    </a:lnTo>
                    <a:lnTo>
                      <a:pt x="314" y="471"/>
                    </a:lnTo>
                    <a:lnTo>
                      <a:pt x="317" y="481"/>
                    </a:lnTo>
                    <a:lnTo>
                      <a:pt x="320" y="491"/>
                    </a:lnTo>
                    <a:lnTo>
                      <a:pt x="325" y="500"/>
                    </a:lnTo>
                    <a:lnTo>
                      <a:pt x="330" y="509"/>
                    </a:lnTo>
                    <a:lnTo>
                      <a:pt x="333" y="513"/>
                    </a:lnTo>
                    <a:lnTo>
                      <a:pt x="336" y="517"/>
                    </a:lnTo>
                    <a:lnTo>
                      <a:pt x="342" y="525"/>
                    </a:lnTo>
                    <a:lnTo>
                      <a:pt x="349" y="532"/>
                    </a:lnTo>
                    <a:lnTo>
                      <a:pt x="353" y="535"/>
                    </a:lnTo>
                    <a:lnTo>
                      <a:pt x="357" y="538"/>
                    </a:lnTo>
                    <a:lnTo>
                      <a:pt x="365" y="543"/>
                    </a:lnTo>
                    <a:lnTo>
                      <a:pt x="375" y="547"/>
                    </a:lnTo>
                    <a:lnTo>
                      <a:pt x="380" y="549"/>
                    </a:lnTo>
                    <a:lnTo>
                      <a:pt x="385" y="550"/>
                    </a:lnTo>
                    <a:lnTo>
                      <a:pt x="395" y="552"/>
                    </a:lnTo>
                    <a:lnTo>
                      <a:pt x="405" y="553"/>
                    </a:lnTo>
                    <a:lnTo>
                      <a:pt x="426" y="553"/>
                    </a:lnTo>
                    <a:lnTo>
                      <a:pt x="445" y="551"/>
                    </a:lnTo>
                    <a:lnTo>
                      <a:pt x="462" y="549"/>
                    </a:lnTo>
                    <a:lnTo>
                      <a:pt x="479" y="547"/>
                    </a:lnTo>
                    <a:lnTo>
                      <a:pt x="496" y="545"/>
                    </a:lnTo>
                    <a:lnTo>
                      <a:pt x="515" y="543"/>
                    </a:lnTo>
                    <a:lnTo>
                      <a:pt x="534" y="542"/>
                    </a:lnTo>
                    <a:lnTo>
                      <a:pt x="554" y="541"/>
                    </a:lnTo>
                    <a:lnTo>
                      <a:pt x="677" y="541"/>
                    </a:lnTo>
                    <a:lnTo>
                      <a:pt x="687" y="541"/>
                    </a:lnTo>
                    <a:lnTo>
                      <a:pt x="697" y="540"/>
                    </a:lnTo>
                    <a:lnTo>
                      <a:pt x="702" y="539"/>
                    </a:lnTo>
                    <a:lnTo>
                      <a:pt x="707" y="538"/>
                    </a:lnTo>
                    <a:lnTo>
                      <a:pt x="712" y="537"/>
                    </a:lnTo>
                    <a:lnTo>
                      <a:pt x="716" y="535"/>
                    </a:lnTo>
                    <a:lnTo>
                      <a:pt x="720" y="533"/>
                    </a:lnTo>
                    <a:lnTo>
                      <a:pt x="724" y="531"/>
                    </a:lnTo>
                    <a:lnTo>
                      <a:pt x="727" y="529"/>
                    </a:lnTo>
                    <a:lnTo>
                      <a:pt x="730" y="526"/>
                    </a:lnTo>
                    <a:lnTo>
                      <a:pt x="732" y="522"/>
                    </a:lnTo>
                    <a:lnTo>
                      <a:pt x="734" y="519"/>
                    </a:lnTo>
                    <a:lnTo>
                      <a:pt x="735" y="514"/>
                    </a:lnTo>
                    <a:lnTo>
                      <a:pt x="735" y="510"/>
                    </a:lnTo>
                    <a:lnTo>
                      <a:pt x="735" y="188"/>
                    </a:lnTo>
                    <a:lnTo>
                      <a:pt x="735" y="185"/>
                    </a:lnTo>
                    <a:lnTo>
                      <a:pt x="736" y="182"/>
                    </a:lnTo>
                    <a:lnTo>
                      <a:pt x="737" y="179"/>
                    </a:lnTo>
                    <a:lnTo>
                      <a:pt x="738" y="177"/>
                    </a:lnTo>
                    <a:lnTo>
                      <a:pt x="740" y="175"/>
                    </a:lnTo>
                    <a:lnTo>
                      <a:pt x="742" y="173"/>
                    </a:lnTo>
                    <a:lnTo>
                      <a:pt x="747" y="170"/>
                    </a:lnTo>
                    <a:lnTo>
                      <a:pt x="752" y="167"/>
                    </a:lnTo>
                    <a:lnTo>
                      <a:pt x="758" y="165"/>
                    </a:lnTo>
                    <a:lnTo>
                      <a:pt x="764" y="164"/>
                    </a:lnTo>
                    <a:lnTo>
                      <a:pt x="771" y="164"/>
                    </a:lnTo>
                    <a:lnTo>
                      <a:pt x="786" y="164"/>
                    </a:lnTo>
                    <a:lnTo>
                      <a:pt x="801" y="165"/>
                    </a:lnTo>
                    <a:lnTo>
                      <a:pt x="815" y="167"/>
                    </a:lnTo>
                    <a:lnTo>
                      <a:pt x="829" y="170"/>
                    </a:lnTo>
                    <a:lnTo>
                      <a:pt x="843" y="173"/>
                    </a:lnTo>
                    <a:lnTo>
                      <a:pt x="857" y="177"/>
                    </a:lnTo>
                    <a:lnTo>
                      <a:pt x="870" y="182"/>
                    </a:lnTo>
                    <a:lnTo>
                      <a:pt x="883" y="188"/>
                    </a:lnTo>
                    <a:lnTo>
                      <a:pt x="895" y="194"/>
                    </a:lnTo>
                    <a:lnTo>
                      <a:pt x="907" y="201"/>
                    </a:lnTo>
                    <a:lnTo>
                      <a:pt x="919" y="208"/>
                    </a:lnTo>
                    <a:lnTo>
                      <a:pt x="931" y="216"/>
                    </a:lnTo>
                    <a:lnTo>
                      <a:pt x="942" y="224"/>
                    </a:lnTo>
                    <a:lnTo>
                      <a:pt x="953" y="233"/>
                    </a:lnTo>
                    <a:lnTo>
                      <a:pt x="963" y="243"/>
                    </a:lnTo>
                    <a:lnTo>
                      <a:pt x="972" y="254"/>
                    </a:lnTo>
                    <a:lnTo>
                      <a:pt x="981" y="264"/>
                    </a:lnTo>
                    <a:lnTo>
                      <a:pt x="990" y="275"/>
                    </a:lnTo>
                    <a:lnTo>
                      <a:pt x="998" y="286"/>
                    </a:lnTo>
                    <a:lnTo>
                      <a:pt x="1006" y="298"/>
                    </a:lnTo>
                    <a:lnTo>
                      <a:pt x="1013" y="310"/>
                    </a:lnTo>
                    <a:lnTo>
                      <a:pt x="1020" y="323"/>
                    </a:lnTo>
                    <a:lnTo>
                      <a:pt x="1026" y="336"/>
                    </a:lnTo>
                    <a:lnTo>
                      <a:pt x="1031" y="349"/>
                    </a:lnTo>
                    <a:lnTo>
                      <a:pt x="1036" y="362"/>
                    </a:lnTo>
                    <a:lnTo>
                      <a:pt x="1040" y="376"/>
                    </a:lnTo>
                    <a:lnTo>
                      <a:pt x="1044" y="390"/>
                    </a:lnTo>
                    <a:lnTo>
                      <a:pt x="1047" y="405"/>
                    </a:lnTo>
                    <a:lnTo>
                      <a:pt x="1048" y="412"/>
                    </a:lnTo>
                    <a:lnTo>
                      <a:pt x="1049" y="419"/>
                    </a:lnTo>
                    <a:lnTo>
                      <a:pt x="1051" y="434"/>
                    </a:lnTo>
                    <a:lnTo>
                      <a:pt x="1052" y="449"/>
                    </a:lnTo>
                    <a:lnTo>
                      <a:pt x="1052" y="464"/>
                    </a:lnTo>
                    <a:lnTo>
                      <a:pt x="1052" y="476"/>
                    </a:lnTo>
                    <a:lnTo>
                      <a:pt x="1051" y="489"/>
                    </a:lnTo>
                    <a:lnTo>
                      <a:pt x="1050" y="501"/>
                    </a:lnTo>
                    <a:lnTo>
                      <a:pt x="1049" y="513"/>
                    </a:lnTo>
                    <a:lnTo>
                      <a:pt x="1047" y="524"/>
                    </a:lnTo>
                    <a:lnTo>
                      <a:pt x="1045" y="535"/>
                    </a:lnTo>
                    <a:lnTo>
                      <a:pt x="1040" y="557"/>
                    </a:lnTo>
                    <a:lnTo>
                      <a:pt x="1037" y="568"/>
                    </a:lnTo>
                    <a:lnTo>
                      <a:pt x="1034" y="578"/>
                    </a:lnTo>
                    <a:lnTo>
                      <a:pt x="1028" y="598"/>
                    </a:lnTo>
                    <a:lnTo>
                      <a:pt x="1021" y="618"/>
                    </a:lnTo>
                    <a:lnTo>
                      <a:pt x="1013" y="637"/>
                    </a:lnTo>
                    <a:lnTo>
                      <a:pt x="1006" y="657"/>
                    </a:lnTo>
                    <a:lnTo>
                      <a:pt x="999" y="676"/>
                    </a:lnTo>
                    <a:lnTo>
                      <a:pt x="992" y="696"/>
                    </a:lnTo>
                    <a:lnTo>
                      <a:pt x="987" y="718"/>
                    </a:lnTo>
                    <a:lnTo>
                      <a:pt x="982" y="739"/>
                    </a:lnTo>
                    <a:lnTo>
                      <a:pt x="980" y="750"/>
                    </a:lnTo>
                    <a:lnTo>
                      <a:pt x="978" y="762"/>
                    </a:lnTo>
                    <a:lnTo>
                      <a:pt x="976" y="773"/>
                    </a:lnTo>
                    <a:lnTo>
                      <a:pt x="975" y="786"/>
                    </a:lnTo>
                    <a:lnTo>
                      <a:pt x="975" y="798"/>
                    </a:lnTo>
                    <a:lnTo>
                      <a:pt x="974" y="811"/>
                    </a:lnTo>
                    <a:lnTo>
                      <a:pt x="975" y="820"/>
                    </a:lnTo>
                    <a:lnTo>
                      <a:pt x="976" y="829"/>
                    </a:lnTo>
                    <a:lnTo>
                      <a:pt x="978" y="837"/>
                    </a:lnTo>
                    <a:lnTo>
                      <a:pt x="980" y="845"/>
                    </a:lnTo>
                    <a:lnTo>
                      <a:pt x="982" y="852"/>
                    </a:lnTo>
                    <a:lnTo>
                      <a:pt x="985" y="859"/>
                    </a:lnTo>
                    <a:lnTo>
                      <a:pt x="991" y="875"/>
                    </a:lnTo>
                    <a:lnTo>
                      <a:pt x="997" y="889"/>
                    </a:lnTo>
                    <a:lnTo>
                      <a:pt x="1003" y="904"/>
                    </a:lnTo>
                    <a:lnTo>
                      <a:pt x="1005" y="911"/>
                    </a:lnTo>
                    <a:lnTo>
                      <a:pt x="1007" y="920"/>
                    </a:lnTo>
                    <a:lnTo>
                      <a:pt x="1008" y="928"/>
                    </a:lnTo>
                    <a:lnTo>
                      <a:pt x="1008" y="938"/>
                    </a:lnTo>
                    <a:lnTo>
                      <a:pt x="1008" y="969"/>
                    </a:lnTo>
                    <a:lnTo>
                      <a:pt x="986" y="973"/>
                    </a:lnTo>
                    <a:lnTo>
                      <a:pt x="984" y="972"/>
                    </a:lnTo>
                    <a:lnTo>
                      <a:pt x="983" y="977"/>
                    </a:lnTo>
                    <a:lnTo>
                      <a:pt x="980" y="982"/>
                    </a:lnTo>
                    <a:lnTo>
                      <a:pt x="977" y="987"/>
                    </a:lnTo>
                    <a:lnTo>
                      <a:pt x="974" y="991"/>
                    </a:lnTo>
                    <a:lnTo>
                      <a:pt x="970" y="995"/>
                    </a:lnTo>
                    <a:lnTo>
                      <a:pt x="966" y="999"/>
                    </a:lnTo>
                    <a:lnTo>
                      <a:pt x="962" y="1002"/>
                    </a:lnTo>
                    <a:lnTo>
                      <a:pt x="957" y="1006"/>
                    </a:lnTo>
                    <a:lnTo>
                      <a:pt x="947" y="1012"/>
                    </a:lnTo>
                    <a:lnTo>
                      <a:pt x="936" y="1018"/>
                    </a:lnTo>
                    <a:lnTo>
                      <a:pt x="912" y="1030"/>
                    </a:lnTo>
                    <a:lnTo>
                      <a:pt x="901" y="1035"/>
                    </a:lnTo>
                    <a:lnTo>
                      <a:pt x="890" y="1041"/>
                    </a:lnTo>
                    <a:lnTo>
                      <a:pt x="881" y="1047"/>
                    </a:lnTo>
                    <a:lnTo>
                      <a:pt x="872" y="1055"/>
                    </a:lnTo>
                    <a:lnTo>
                      <a:pt x="868" y="1058"/>
                    </a:lnTo>
                    <a:lnTo>
                      <a:pt x="864" y="1063"/>
                    </a:lnTo>
                    <a:lnTo>
                      <a:pt x="861" y="1067"/>
                    </a:lnTo>
                    <a:lnTo>
                      <a:pt x="859" y="1072"/>
                    </a:lnTo>
                    <a:lnTo>
                      <a:pt x="857" y="1077"/>
                    </a:lnTo>
                    <a:lnTo>
                      <a:pt x="855" y="1082"/>
                    </a:lnTo>
                    <a:lnTo>
                      <a:pt x="854" y="1088"/>
                    </a:lnTo>
                    <a:lnTo>
                      <a:pt x="854" y="1094"/>
                    </a:lnTo>
                    <a:lnTo>
                      <a:pt x="854" y="1102"/>
                    </a:lnTo>
                    <a:lnTo>
                      <a:pt x="855" y="1105"/>
                    </a:lnTo>
                    <a:lnTo>
                      <a:pt x="856" y="1109"/>
                    </a:lnTo>
                    <a:lnTo>
                      <a:pt x="858" y="1116"/>
                    </a:lnTo>
                    <a:lnTo>
                      <a:pt x="861" y="1122"/>
                    </a:lnTo>
                    <a:lnTo>
                      <a:pt x="865" y="1128"/>
                    </a:lnTo>
                    <a:lnTo>
                      <a:pt x="870" y="1134"/>
                    </a:lnTo>
                    <a:lnTo>
                      <a:pt x="875" y="1139"/>
                    </a:lnTo>
                    <a:lnTo>
                      <a:pt x="881" y="1144"/>
                    </a:lnTo>
                    <a:lnTo>
                      <a:pt x="888" y="1148"/>
                    </a:lnTo>
                    <a:lnTo>
                      <a:pt x="894" y="1152"/>
                    </a:lnTo>
                    <a:lnTo>
                      <a:pt x="902" y="1155"/>
                    </a:lnTo>
                    <a:lnTo>
                      <a:pt x="909" y="1157"/>
                    </a:lnTo>
                    <a:lnTo>
                      <a:pt x="917" y="1159"/>
                    </a:lnTo>
                    <a:lnTo>
                      <a:pt x="926" y="1161"/>
                    </a:lnTo>
                    <a:lnTo>
                      <a:pt x="933" y="1162"/>
                    </a:lnTo>
                    <a:lnTo>
                      <a:pt x="941" y="1162"/>
                    </a:lnTo>
                    <a:lnTo>
                      <a:pt x="1045" y="1162"/>
                    </a:lnTo>
                    <a:lnTo>
                      <a:pt x="1049" y="1163"/>
                    </a:lnTo>
                    <a:lnTo>
                      <a:pt x="1053" y="1164"/>
                    </a:lnTo>
                    <a:lnTo>
                      <a:pt x="1056" y="1166"/>
                    </a:lnTo>
                    <a:lnTo>
                      <a:pt x="1060" y="1169"/>
                    </a:lnTo>
                    <a:lnTo>
                      <a:pt x="1064" y="1176"/>
                    </a:lnTo>
                    <a:lnTo>
                      <a:pt x="1069" y="1182"/>
                    </a:lnTo>
                    <a:lnTo>
                      <a:pt x="1069" y="1271"/>
                    </a:lnTo>
                    <a:lnTo>
                      <a:pt x="1069" y="1279"/>
                    </a:lnTo>
                    <a:lnTo>
                      <a:pt x="1068" y="1287"/>
                    </a:lnTo>
                    <a:lnTo>
                      <a:pt x="1067" y="1294"/>
                    </a:lnTo>
                    <a:lnTo>
                      <a:pt x="1065" y="1302"/>
                    </a:lnTo>
                    <a:lnTo>
                      <a:pt x="1063" y="1308"/>
                    </a:lnTo>
                    <a:lnTo>
                      <a:pt x="1060" y="1315"/>
                    </a:lnTo>
                    <a:lnTo>
                      <a:pt x="1056" y="1321"/>
                    </a:lnTo>
                    <a:lnTo>
                      <a:pt x="1053" y="1327"/>
                    </a:lnTo>
                    <a:lnTo>
                      <a:pt x="1045" y="1339"/>
                    </a:lnTo>
                    <a:lnTo>
                      <a:pt x="1036" y="1349"/>
                    </a:lnTo>
                    <a:lnTo>
                      <a:pt x="1026" y="1359"/>
                    </a:lnTo>
                    <a:lnTo>
                      <a:pt x="1015" y="1369"/>
                    </a:lnTo>
                    <a:lnTo>
                      <a:pt x="1003" y="1378"/>
                    </a:lnTo>
                    <a:lnTo>
                      <a:pt x="991" y="1387"/>
                    </a:lnTo>
                    <a:lnTo>
                      <a:pt x="979" y="1396"/>
                    </a:lnTo>
                    <a:lnTo>
                      <a:pt x="966" y="1406"/>
                    </a:lnTo>
                    <a:lnTo>
                      <a:pt x="954" y="1416"/>
                    </a:lnTo>
                    <a:lnTo>
                      <a:pt x="942" y="1427"/>
                    </a:lnTo>
                    <a:lnTo>
                      <a:pt x="930" y="1439"/>
                    </a:lnTo>
                    <a:lnTo>
                      <a:pt x="925" y="1445"/>
                    </a:lnTo>
                    <a:lnTo>
                      <a:pt x="918" y="1452"/>
                    </a:lnTo>
                    <a:lnTo>
                      <a:pt x="854" y="1452"/>
                    </a:lnTo>
                    <a:lnTo>
                      <a:pt x="854" y="1406"/>
                    </a:lnTo>
                    <a:lnTo>
                      <a:pt x="865" y="1394"/>
                    </a:lnTo>
                    <a:lnTo>
                      <a:pt x="870" y="1389"/>
                    </a:lnTo>
                    <a:lnTo>
                      <a:pt x="874" y="1383"/>
                    </a:lnTo>
                    <a:lnTo>
                      <a:pt x="878" y="1377"/>
                    </a:lnTo>
                    <a:lnTo>
                      <a:pt x="880" y="1374"/>
                    </a:lnTo>
                    <a:lnTo>
                      <a:pt x="881" y="1371"/>
                    </a:lnTo>
                    <a:lnTo>
                      <a:pt x="883" y="1364"/>
                    </a:lnTo>
                    <a:lnTo>
                      <a:pt x="883" y="1360"/>
                    </a:lnTo>
                    <a:lnTo>
                      <a:pt x="884" y="1356"/>
                    </a:lnTo>
                    <a:lnTo>
                      <a:pt x="883" y="1353"/>
                    </a:lnTo>
                    <a:lnTo>
                      <a:pt x="883" y="1350"/>
                    </a:lnTo>
                    <a:lnTo>
                      <a:pt x="882" y="1348"/>
                    </a:lnTo>
                    <a:lnTo>
                      <a:pt x="880" y="1345"/>
                    </a:lnTo>
                    <a:lnTo>
                      <a:pt x="876" y="1341"/>
                    </a:lnTo>
                    <a:lnTo>
                      <a:pt x="871" y="1337"/>
                    </a:lnTo>
                    <a:lnTo>
                      <a:pt x="865" y="1335"/>
                    </a:lnTo>
                    <a:lnTo>
                      <a:pt x="862" y="1334"/>
                    </a:lnTo>
                    <a:lnTo>
                      <a:pt x="859" y="1333"/>
                    </a:lnTo>
                    <a:lnTo>
                      <a:pt x="852" y="1332"/>
                    </a:lnTo>
                    <a:lnTo>
                      <a:pt x="845" y="1331"/>
                    </a:lnTo>
                    <a:lnTo>
                      <a:pt x="812" y="1331"/>
                    </a:lnTo>
                    <a:lnTo>
                      <a:pt x="812" y="1365"/>
                    </a:lnTo>
                    <a:lnTo>
                      <a:pt x="812" y="1369"/>
                    </a:lnTo>
                    <a:lnTo>
                      <a:pt x="812" y="1372"/>
                    </a:lnTo>
                    <a:lnTo>
                      <a:pt x="814" y="1378"/>
                    </a:lnTo>
                    <a:lnTo>
                      <a:pt x="817" y="1384"/>
                    </a:lnTo>
                    <a:lnTo>
                      <a:pt x="819" y="1391"/>
                    </a:lnTo>
                    <a:lnTo>
                      <a:pt x="814" y="1392"/>
                    </a:lnTo>
                    <a:lnTo>
                      <a:pt x="809" y="1393"/>
                    </a:lnTo>
                    <a:lnTo>
                      <a:pt x="804" y="1394"/>
                    </a:lnTo>
                    <a:lnTo>
                      <a:pt x="798" y="1395"/>
                    </a:lnTo>
                    <a:lnTo>
                      <a:pt x="791" y="1394"/>
                    </a:lnTo>
                    <a:lnTo>
                      <a:pt x="785" y="1393"/>
                    </a:lnTo>
                    <a:lnTo>
                      <a:pt x="779" y="1390"/>
                    </a:lnTo>
                    <a:lnTo>
                      <a:pt x="774" y="1387"/>
                    </a:lnTo>
                    <a:lnTo>
                      <a:pt x="769" y="1383"/>
                    </a:lnTo>
                    <a:lnTo>
                      <a:pt x="765" y="1378"/>
                    </a:lnTo>
                    <a:lnTo>
                      <a:pt x="756" y="1369"/>
                    </a:lnTo>
                    <a:lnTo>
                      <a:pt x="748" y="1359"/>
                    </a:lnTo>
                    <a:lnTo>
                      <a:pt x="743" y="1355"/>
                    </a:lnTo>
                    <a:lnTo>
                      <a:pt x="739" y="1351"/>
                    </a:lnTo>
                    <a:lnTo>
                      <a:pt x="734" y="1348"/>
                    </a:lnTo>
                    <a:lnTo>
                      <a:pt x="728" y="1345"/>
                    </a:lnTo>
                    <a:lnTo>
                      <a:pt x="722" y="1344"/>
                    </a:lnTo>
                    <a:lnTo>
                      <a:pt x="719" y="1343"/>
                    </a:lnTo>
                    <a:lnTo>
                      <a:pt x="715" y="1343"/>
                    </a:lnTo>
                    <a:lnTo>
                      <a:pt x="712" y="1343"/>
                    </a:lnTo>
                    <a:lnTo>
                      <a:pt x="709" y="1344"/>
                    </a:lnTo>
                    <a:lnTo>
                      <a:pt x="702" y="1345"/>
                    </a:lnTo>
                    <a:lnTo>
                      <a:pt x="697" y="1348"/>
                    </a:lnTo>
                    <a:lnTo>
                      <a:pt x="692" y="1352"/>
                    </a:lnTo>
                    <a:lnTo>
                      <a:pt x="687" y="1356"/>
                    </a:lnTo>
                    <a:lnTo>
                      <a:pt x="682" y="1361"/>
                    </a:lnTo>
                    <a:lnTo>
                      <a:pt x="674" y="1371"/>
                    </a:lnTo>
                    <a:lnTo>
                      <a:pt x="666" y="1381"/>
                    </a:lnTo>
                    <a:lnTo>
                      <a:pt x="661" y="1386"/>
                    </a:lnTo>
                    <a:lnTo>
                      <a:pt x="656" y="1390"/>
                    </a:lnTo>
                    <a:lnTo>
                      <a:pt x="651" y="1394"/>
                    </a:lnTo>
                    <a:lnTo>
                      <a:pt x="645" y="1396"/>
                    </a:lnTo>
                    <a:lnTo>
                      <a:pt x="639" y="1398"/>
                    </a:lnTo>
                    <a:lnTo>
                      <a:pt x="632" y="1399"/>
                    </a:lnTo>
                    <a:lnTo>
                      <a:pt x="627" y="1398"/>
                    </a:lnTo>
                    <a:lnTo>
                      <a:pt x="623" y="1397"/>
                    </a:lnTo>
                    <a:lnTo>
                      <a:pt x="619" y="1396"/>
                    </a:lnTo>
                    <a:lnTo>
                      <a:pt x="615" y="1393"/>
                    </a:lnTo>
                    <a:lnTo>
                      <a:pt x="609" y="1388"/>
                    </a:lnTo>
                    <a:lnTo>
                      <a:pt x="602" y="1381"/>
                    </a:lnTo>
                    <a:lnTo>
                      <a:pt x="596" y="1375"/>
                    </a:lnTo>
                    <a:lnTo>
                      <a:pt x="593" y="1372"/>
                    </a:lnTo>
                    <a:lnTo>
                      <a:pt x="590" y="1370"/>
                    </a:lnTo>
                    <a:lnTo>
                      <a:pt x="586" y="1367"/>
                    </a:lnTo>
                    <a:lnTo>
                      <a:pt x="582" y="1366"/>
                    </a:lnTo>
                    <a:lnTo>
                      <a:pt x="578" y="1364"/>
                    </a:lnTo>
                    <a:lnTo>
                      <a:pt x="573" y="1364"/>
                    </a:lnTo>
                    <a:lnTo>
                      <a:pt x="564" y="1365"/>
                    </a:lnTo>
                    <a:lnTo>
                      <a:pt x="555" y="1366"/>
                    </a:lnTo>
                    <a:lnTo>
                      <a:pt x="547" y="1369"/>
                    </a:lnTo>
                    <a:lnTo>
                      <a:pt x="539" y="1372"/>
                    </a:lnTo>
                    <a:lnTo>
                      <a:pt x="532" y="1376"/>
                    </a:lnTo>
                    <a:lnTo>
                      <a:pt x="526" y="1381"/>
                    </a:lnTo>
                    <a:lnTo>
                      <a:pt x="520" y="1387"/>
                    </a:lnTo>
                    <a:lnTo>
                      <a:pt x="514" y="1393"/>
                    </a:lnTo>
                    <a:lnTo>
                      <a:pt x="507" y="1400"/>
                    </a:lnTo>
                    <a:lnTo>
                      <a:pt x="502" y="1407"/>
                    </a:lnTo>
                    <a:lnTo>
                      <a:pt x="491" y="1421"/>
                    </a:lnTo>
                    <a:lnTo>
                      <a:pt x="480" y="1436"/>
                    </a:lnTo>
                    <a:lnTo>
                      <a:pt x="474" y="1444"/>
                    </a:lnTo>
                    <a:lnTo>
                      <a:pt x="467" y="1452"/>
                    </a:lnTo>
                    <a:lnTo>
                      <a:pt x="464" y="1456"/>
                    </a:lnTo>
                    <a:lnTo>
                      <a:pt x="460" y="1459"/>
                    </a:lnTo>
                    <a:lnTo>
                      <a:pt x="451" y="1465"/>
                    </a:lnTo>
                    <a:lnTo>
                      <a:pt x="433" y="1477"/>
                    </a:lnTo>
                    <a:lnTo>
                      <a:pt x="425" y="1482"/>
                    </a:lnTo>
                    <a:lnTo>
                      <a:pt x="422" y="1487"/>
                    </a:lnTo>
                    <a:lnTo>
                      <a:pt x="419" y="1490"/>
                    </a:lnTo>
                    <a:lnTo>
                      <a:pt x="417" y="1494"/>
                    </a:lnTo>
                    <a:lnTo>
                      <a:pt x="415" y="1498"/>
                    </a:lnTo>
                    <a:lnTo>
                      <a:pt x="414" y="1503"/>
                    </a:lnTo>
                    <a:lnTo>
                      <a:pt x="414" y="1508"/>
                    </a:lnTo>
                    <a:lnTo>
                      <a:pt x="414" y="1516"/>
                    </a:lnTo>
                    <a:lnTo>
                      <a:pt x="415" y="1522"/>
                    </a:lnTo>
                    <a:lnTo>
                      <a:pt x="417" y="1529"/>
                    </a:lnTo>
                    <a:lnTo>
                      <a:pt x="420" y="1534"/>
                    </a:lnTo>
                    <a:lnTo>
                      <a:pt x="423" y="1540"/>
                    </a:lnTo>
                    <a:lnTo>
                      <a:pt x="427" y="1545"/>
                    </a:lnTo>
                    <a:lnTo>
                      <a:pt x="435" y="1555"/>
                    </a:lnTo>
                    <a:lnTo>
                      <a:pt x="442" y="1566"/>
                    </a:lnTo>
                    <a:lnTo>
                      <a:pt x="446" y="1571"/>
                    </a:lnTo>
                    <a:lnTo>
                      <a:pt x="449" y="1576"/>
                    </a:lnTo>
                    <a:lnTo>
                      <a:pt x="452" y="1582"/>
                    </a:lnTo>
                    <a:lnTo>
                      <a:pt x="454" y="1589"/>
                    </a:lnTo>
                    <a:lnTo>
                      <a:pt x="455" y="1595"/>
                    </a:lnTo>
                    <a:lnTo>
                      <a:pt x="456" y="1603"/>
                    </a:lnTo>
                    <a:lnTo>
                      <a:pt x="456" y="1607"/>
                    </a:lnTo>
                    <a:lnTo>
                      <a:pt x="455" y="1612"/>
                    </a:lnTo>
                    <a:lnTo>
                      <a:pt x="453" y="1616"/>
                    </a:lnTo>
                    <a:lnTo>
                      <a:pt x="452" y="1620"/>
                    </a:lnTo>
                    <a:lnTo>
                      <a:pt x="449" y="1624"/>
                    </a:lnTo>
                    <a:lnTo>
                      <a:pt x="447" y="1627"/>
                    </a:lnTo>
                    <a:lnTo>
                      <a:pt x="444" y="1630"/>
                    </a:lnTo>
                    <a:lnTo>
                      <a:pt x="440" y="1633"/>
                    </a:lnTo>
                    <a:lnTo>
                      <a:pt x="433" y="1639"/>
                    </a:lnTo>
                    <a:lnTo>
                      <a:pt x="424" y="1643"/>
                    </a:lnTo>
                    <a:lnTo>
                      <a:pt x="415" y="1646"/>
                    </a:lnTo>
                    <a:lnTo>
                      <a:pt x="405" y="1647"/>
                    </a:lnTo>
                    <a:lnTo>
                      <a:pt x="414" y="1661"/>
                    </a:lnTo>
                    <a:lnTo>
                      <a:pt x="424" y="1674"/>
                    </a:lnTo>
                    <a:lnTo>
                      <a:pt x="435" y="1688"/>
                    </a:lnTo>
                    <a:lnTo>
                      <a:pt x="447" y="1702"/>
                    </a:lnTo>
                    <a:lnTo>
                      <a:pt x="435" y="1712"/>
                    </a:lnTo>
                    <a:lnTo>
                      <a:pt x="429" y="1717"/>
                    </a:lnTo>
                    <a:lnTo>
                      <a:pt x="423" y="1722"/>
                    </a:lnTo>
                    <a:lnTo>
                      <a:pt x="421" y="1725"/>
                    </a:lnTo>
                    <a:lnTo>
                      <a:pt x="419" y="1728"/>
                    </a:lnTo>
                    <a:lnTo>
                      <a:pt x="415" y="1734"/>
                    </a:lnTo>
                    <a:lnTo>
                      <a:pt x="414" y="1738"/>
                    </a:lnTo>
                    <a:lnTo>
                      <a:pt x="413" y="1741"/>
                    </a:lnTo>
                    <a:lnTo>
                      <a:pt x="413" y="1745"/>
                    </a:lnTo>
                    <a:lnTo>
                      <a:pt x="412" y="1749"/>
                    </a:lnTo>
                    <a:lnTo>
                      <a:pt x="413" y="1755"/>
                    </a:lnTo>
                    <a:lnTo>
                      <a:pt x="414" y="1761"/>
                    </a:lnTo>
                    <a:lnTo>
                      <a:pt x="416" y="1767"/>
                    </a:lnTo>
                    <a:lnTo>
                      <a:pt x="418" y="1772"/>
                    </a:lnTo>
                    <a:lnTo>
                      <a:pt x="421" y="1777"/>
                    </a:lnTo>
                    <a:lnTo>
                      <a:pt x="424" y="1782"/>
                    </a:lnTo>
                    <a:lnTo>
                      <a:pt x="432" y="1791"/>
                    </a:lnTo>
                    <a:lnTo>
                      <a:pt x="439" y="1802"/>
                    </a:lnTo>
                    <a:lnTo>
                      <a:pt x="445" y="1811"/>
                    </a:lnTo>
                    <a:lnTo>
                      <a:pt x="447" y="1817"/>
                    </a:lnTo>
                    <a:lnTo>
                      <a:pt x="449" y="1822"/>
                    </a:lnTo>
                    <a:lnTo>
                      <a:pt x="450" y="1828"/>
                    </a:lnTo>
                    <a:lnTo>
                      <a:pt x="451" y="1835"/>
                    </a:lnTo>
                    <a:lnTo>
                      <a:pt x="488" y="1835"/>
                    </a:lnTo>
                    <a:lnTo>
                      <a:pt x="490" y="1847"/>
                    </a:lnTo>
                    <a:lnTo>
                      <a:pt x="492" y="1859"/>
                    </a:lnTo>
                    <a:lnTo>
                      <a:pt x="494" y="1865"/>
                    </a:lnTo>
                    <a:lnTo>
                      <a:pt x="496" y="1871"/>
                    </a:lnTo>
                    <a:lnTo>
                      <a:pt x="501" y="1882"/>
                    </a:lnTo>
                    <a:lnTo>
                      <a:pt x="504" y="1887"/>
                    </a:lnTo>
                    <a:lnTo>
                      <a:pt x="507" y="1892"/>
                    </a:lnTo>
                    <a:lnTo>
                      <a:pt x="515" y="1901"/>
                    </a:lnTo>
                    <a:lnTo>
                      <a:pt x="522" y="1910"/>
                    </a:lnTo>
                    <a:lnTo>
                      <a:pt x="531" y="1918"/>
                    </a:lnTo>
                    <a:lnTo>
                      <a:pt x="540" y="1926"/>
                    </a:lnTo>
                    <a:lnTo>
                      <a:pt x="550" y="1932"/>
                    </a:lnTo>
                    <a:lnTo>
                      <a:pt x="561" y="1938"/>
                    </a:lnTo>
                    <a:lnTo>
                      <a:pt x="572" y="1942"/>
                    </a:lnTo>
                    <a:lnTo>
                      <a:pt x="578" y="1944"/>
                    </a:lnTo>
                    <a:lnTo>
                      <a:pt x="584" y="1946"/>
                    </a:lnTo>
                    <a:lnTo>
                      <a:pt x="596" y="1950"/>
                    </a:lnTo>
                    <a:lnTo>
                      <a:pt x="608" y="1951"/>
                    </a:lnTo>
                    <a:lnTo>
                      <a:pt x="621" y="1952"/>
                    </a:lnTo>
                    <a:lnTo>
                      <a:pt x="622" y="1956"/>
                    </a:lnTo>
                    <a:lnTo>
                      <a:pt x="623" y="1960"/>
                    </a:lnTo>
                    <a:lnTo>
                      <a:pt x="624" y="1964"/>
                    </a:lnTo>
                    <a:lnTo>
                      <a:pt x="625" y="1968"/>
                    </a:lnTo>
                    <a:lnTo>
                      <a:pt x="624" y="1974"/>
                    </a:lnTo>
                    <a:lnTo>
                      <a:pt x="623" y="1979"/>
                    </a:lnTo>
                    <a:lnTo>
                      <a:pt x="621" y="1983"/>
                    </a:lnTo>
                    <a:lnTo>
                      <a:pt x="619" y="1987"/>
                    </a:lnTo>
                    <a:lnTo>
                      <a:pt x="614" y="1996"/>
                    </a:lnTo>
                    <a:lnTo>
                      <a:pt x="612" y="2000"/>
                    </a:lnTo>
                    <a:lnTo>
                      <a:pt x="609" y="2005"/>
                    </a:lnTo>
                    <a:lnTo>
                      <a:pt x="625" y="2016"/>
                    </a:lnTo>
                    <a:lnTo>
                      <a:pt x="633" y="2021"/>
                    </a:lnTo>
                    <a:lnTo>
                      <a:pt x="640" y="2026"/>
                    </a:lnTo>
                    <a:lnTo>
                      <a:pt x="649" y="2030"/>
                    </a:lnTo>
                    <a:lnTo>
                      <a:pt x="653" y="2032"/>
                    </a:lnTo>
                    <a:lnTo>
                      <a:pt x="657" y="2033"/>
                    </a:lnTo>
                    <a:lnTo>
                      <a:pt x="666" y="2035"/>
                    </a:lnTo>
                    <a:lnTo>
                      <a:pt x="671" y="2035"/>
                    </a:lnTo>
                    <a:lnTo>
                      <a:pt x="676" y="2036"/>
                    </a:lnTo>
                    <a:lnTo>
                      <a:pt x="680" y="2035"/>
                    </a:lnTo>
                    <a:lnTo>
                      <a:pt x="683" y="2034"/>
                    </a:lnTo>
                    <a:lnTo>
                      <a:pt x="687" y="2032"/>
                    </a:lnTo>
                    <a:lnTo>
                      <a:pt x="690" y="2030"/>
                    </a:lnTo>
                    <a:lnTo>
                      <a:pt x="693" y="2028"/>
                    </a:lnTo>
                    <a:lnTo>
                      <a:pt x="697" y="2026"/>
                    </a:lnTo>
                    <a:lnTo>
                      <a:pt x="701" y="2025"/>
                    </a:lnTo>
                    <a:lnTo>
                      <a:pt x="705" y="2024"/>
                    </a:lnTo>
                    <a:lnTo>
                      <a:pt x="708" y="2024"/>
                    </a:lnTo>
                    <a:lnTo>
                      <a:pt x="712" y="2025"/>
                    </a:lnTo>
                    <a:lnTo>
                      <a:pt x="718" y="2028"/>
                    </a:lnTo>
                    <a:lnTo>
                      <a:pt x="721" y="2029"/>
                    </a:lnTo>
                    <a:lnTo>
                      <a:pt x="724" y="2031"/>
                    </a:lnTo>
                    <a:lnTo>
                      <a:pt x="729" y="2036"/>
                    </a:lnTo>
                    <a:lnTo>
                      <a:pt x="734" y="2040"/>
                    </a:lnTo>
                    <a:lnTo>
                      <a:pt x="740" y="2044"/>
                    </a:lnTo>
                    <a:lnTo>
                      <a:pt x="743" y="2045"/>
                    </a:lnTo>
                    <a:lnTo>
                      <a:pt x="746" y="2046"/>
                    </a:lnTo>
                    <a:lnTo>
                      <a:pt x="750" y="2047"/>
                    </a:lnTo>
                    <a:lnTo>
                      <a:pt x="754" y="2047"/>
                    </a:lnTo>
                    <a:lnTo>
                      <a:pt x="759" y="2047"/>
                    </a:lnTo>
                    <a:lnTo>
                      <a:pt x="765" y="2046"/>
                    </a:lnTo>
                    <a:lnTo>
                      <a:pt x="771" y="2045"/>
                    </a:lnTo>
                    <a:lnTo>
                      <a:pt x="776" y="2043"/>
                    </a:lnTo>
                    <a:lnTo>
                      <a:pt x="781" y="2041"/>
                    </a:lnTo>
                    <a:lnTo>
                      <a:pt x="787" y="2039"/>
                    </a:lnTo>
                    <a:lnTo>
                      <a:pt x="797" y="2033"/>
                    </a:lnTo>
                    <a:lnTo>
                      <a:pt x="802" y="2030"/>
                    </a:lnTo>
                    <a:lnTo>
                      <a:pt x="806" y="2026"/>
                    </a:lnTo>
                    <a:lnTo>
                      <a:pt x="815" y="2019"/>
                    </a:lnTo>
                    <a:lnTo>
                      <a:pt x="832" y="2004"/>
                    </a:lnTo>
                    <a:lnTo>
                      <a:pt x="841" y="1997"/>
                    </a:lnTo>
                    <a:lnTo>
                      <a:pt x="849" y="1990"/>
                    </a:lnTo>
                    <a:lnTo>
                      <a:pt x="858" y="1985"/>
                    </a:lnTo>
                    <a:lnTo>
                      <a:pt x="867" y="1981"/>
                    </a:lnTo>
                    <a:lnTo>
                      <a:pt x="871" y="1979"/>
                    </a:lnTo>
                    <a:lnTo>
                      <a:pt x="876" y="1978"/>
                    </a:lnTo>
                    <a:lnTo>
                      <a:pt x="885" y="1977"/>
                    </a:lnTo>
                    <a:lnTo>
                      <a:pt x="890" y="1978"/>
                    </a:lnTo>
                    <a:lnTo>
                      <a:pt x="895" y="1979"/>
                    </a:lnTo>
                    <a:lnTo>
                      <a:pt x="900" y="1980"/>
                    </a:lnTo>
                    <a:lnTo>
                      <a:pt x="906" y="1983"/>
                    </a:lnTo>
                    <a:lnTo>
                      <a:pt x="899" y="1992"/>
                    </a:lnTo>
                    <a:lnTo>
                      <a:pt x="896" y="1996"/>
                    </a:lnTo>
                    <a:lnTo>
                      <a:pt x="892" y="2001"/>
                    </a:lnTo>
                    <a:lnTo>
                      <a:pt x="884" y="2008"/>
                    </a:lnTo>
                    <a:lnTo>
                      <a:pt x="875" y="2014"/>
                    </a:lnTo>
                    <a:lnTo>
                      <a:pt x="866" y="2021"/>
                    </a:lnTo>
                    <a:lnTo>
                      <a:pt x="856" y="2026"/>
                    </a:lnTo>
                    <a:lnTo>
                      <a:pt x="838" y="2037"/>
                    </a:lnTo>
                    <a:lnTo>
                      <a:pt x="829" y="2042"/>
                    </a:lnTo>
                    <a:lnTo>
                      <a:pt x="821" y="2048"/>
                    </a:lnTo>
                    <a:lnTo>
                      <a:pt x="813" y="2054"/>
                    </a:lnTo>
                    <a:lnTo>
                      <a:pt x="809" y="2057"/>
                    </a:lnTo>
                    <a:lnTo>
                      <a:pt x="806" y="2060"/>
                    </a:lnTo>
                    <a:lnTo>
                      <a:pt x="803" y="2064"/>
                    </a:lnTo>
                    <a:lnTo>
                      <a:pt x="801" y="2068"/>
                    </a:lnTo>
                    <a:lnTo>
                      <a:pt x="797" y="2076"/>
                    </a:lnTo>
                    <a:lnTo>
                      <a:pt x="795" y="2081"/>
                    </a:lnTo>
                    <a:lnTo>
                      <a:pt x="794" y="2086"/>
                    </a:lnTo>
                    <a:lnTo>
                      <a:pt x="793" y="2091"/>
                    </a:lnTo>
                    <a:lnTo>
                      <a:pt x="793" y="2097"/>
                    </a:lnTo>
                    <a:lnTo>
                      <a:pt x="793" y="2104"/>
                    </a:lnTo>
                    <a:lnTo>
                      <a:pt x="794" y="2110"/>
                    </a:lnTo>
                    <a:lnTo>
                      <a:pt x="795" y="2115"/>
                    </a:lnTo>
                    <a:lnTo>
                      <a:pt x="796" y="2120"/>
                    </a:lnTo>
                    <a:lnTo>
                      <a:pt x="800" y="2129"/>
                    </a:lnTo>
                    <a:lnTo>
                      <a:pt x="805" y="2138"/>
                    </a:lnTo>
                    <a:lnTo>
                      <a:pt x="807" y="2141"/>
                    </a:lnTo>
                    <a:lnTo>
                      <a:pt x="810" y="2145"/>
                    </a:lnTo>
                    <a:lnTo>
                      <a:pt x="814" y="2149"/>
                    </a:lnTo>
                    <a:lnTo>
                      <a:pt x="817" y="2152"/>
                    </a:lnTo>
                    <a:lnTo>
                      <a:pt x="825" y="2159"/>
                    </a:lnTo>
                    <a:lnTo>
                      <a:pt x="833" y="2165"/>
                    </a:lnTo>
                    <a:lnTo>
                      <a:pt x="851" y="2177"/>
                    </a:lnTo>
                    <a:lnTo>
                      <a:pt x="870" y="2190"/>
                    </a:lnTo>
                    <a:lnTo>
                      <a:pt x="879" y="2197"/>
                    </a:lnTo>
                    <a:lnTo>
                      <a:pt x="888" y="2204"/>
                    </a:lnTo>
                    <a:lnTo>
                      <a:pt x="897" y="2212"/>
                    </a:lnTo>
                    <a:lnTo>
                      <a:pt x="906" y="2220"/>
                    </a:lnTo>
                    <a:lnTo>
                      <a:pt x="911" y="2227"/>
                    </a:lnTo>
                    <a:lnTo>
                      <a:pt x="917" y="2234"/>
                    </a:lnTo>
                    <a:lnTo>
                      <a:pt x="927" y="2247"/>
                    </a:lnTo>
                    <a:lnTo>
                      <a:pt x="944" y="2275"/>
                    </a:lnTo>
                    <a:lnTo>
                      <a:pt x="952" y="2287"/>
                    </a:lnTo>
                    <a:lnTo>
                      <a:pt x="957" y="2293"/>
                    </a:lnTo>
                    <a:lnTo>
                      <a:pt x="962" y="2299"/>
                    </a:lnTo>
                    <a:lnTo>
                      <a:pt x="967" y="2305"/>
                    </a:lnTo>
                    <a:lnTo>
                      <a:pt x="973" y="2311"/>
                    </a:lnTo>
                    <a:lnTo>
                      <a:pt x="979" y="2317"/>
                    </a:lnTo>
                    <a:lnTo>
                      <a:pt x="986" y="2322"/>
                    </a:lnTo>
                    <a:lnTo>
                      <a:pt x="1000" y="2331"/>
                    </a:lnTo>
                    <a:lnTo>
                      <a:pt x="1013" y="2339"/>
                    </a:lnTo>
                    <a:lnTo>
                      <a:pt x="1028" y="2345"/>
                    </a:lnTo>
                    <a:lnTo>
                      <a:pt x="1043" y="2352"/>
                    </a:lnTo>
                    <a:lnTo>
                      <a:pt x="1073" y="2363"/>
                    </a:lnTo>
                    <a:lnTo>
                      <a:pt x="1087" y="2369"/>
                    </a:lnTo>
                    <a:lnTo>
                      <a:pt x="1101" y="2375"/>
                    </a:lnTo>
                    <a:lnTo>
                      <a:pt x="1114" y="2381"/>
                    </a:lnTo>
                    <a:lnTo>
                      <a:pt x="1126" y="2388"/>
                    </a:lnTo>
                    <a:lnTo>
                      <a:pt x="1131" y="2391"/>
                    </a:lnTo>
                    <a:lnTo>
                      <a:pt x="1136" y="2395"/>
                    </a:lnTo>
                    <a:lnTo>
                      <a:pt x="1145" y="2404"/>
                    </a:lnTo>
                    <a:lnTo>
                      <a:pt x="1149" y="2409"/>
                    </a:lnTo>
                    <a:lnTo>
                      <a:pt x="1153" y="2415"/>
                    </a:lnTo>
                    <a:lnTo>
                      <a:pt x="1156" y="2421"/>
                    </a:lnTo>
                    <a:lnTo>
                      <a:pt x="1158" y="2427"/>
                    </a:lnTo>
                    <a:lnTo>
                      <a:pt x="1160" y="2433"/>
                    </a:lnTo>
                    <a:lnTo>
                      <a:pt x="1162" y="2440"/>
                    </a:lnTo>
                    <a:lnTo>
                      <a:pt x="1163" y="2447"/>
                    </a:lnTo>
                    <a:lnTo>
                      <a:pt x="1163" y="2455"/>
                    </a:lnTo>
                    <a:lnTo>
                      <a:pt x="1163" y="2461"/>
                    </a:lnTo>
                    <a:lnTo>
                      <a:pt x="1162" y="2467"/>
                    </a:lnTo>
                    <a:lnTo>
                      <a:pt x="1160" y="2472"/>
                    </a:lnTo>
                    <a:lnTo>
                      <a:pt x="1158" y="2477"/>
                    </a:lnTo>
                    <a:lnTo>
                      <a:pt x="1156" y="2482"/>
                    </a:lnTo>
                    <a:lnTo>
                      <a:pt x="1153" y="2486"/>
                    </a:lnTo>
                    <a:lnTo>
                      <a:pt x="1146" y="2494"/>
                    </a:lnTo>
                    <a:lnTo>
                      <a:pt x="1137" y="2502"/>
                    </a:lnTo>
                    <a:lnTo>
                      <a:pt x="1129" y="2510"/>
                    </a:lnTo>
                    <a:lnTo>
                      <a:pt x="1124" y="2514"/>
                    </a:lnTo>
                    <a:lnTo>
                      <a:pt x="1120" y="2518"/>
                    </a:lnTo>
                    <a:lnTo>
                      <a:pt x="1116" y="2522"/>
                    </a:lnTo>
                    <a:lnTo>
                      <a:pt x="1111" y="2527"/>
                    </a:lnTo>
                    <a:lnTo>
                      <a:pt x="1102" y="2539"/>
                    </a:lnTo>
                    <a:lnTo>
                      <a:pt x="1093" y="2551"/>
                    </a:lnTo>
                    <a:lnTo>
                      <a:pt x="1084" y="2562"/>
                    </a:lnTo>
                    <a:lnTo>
                      <a:pt x="1080" y="2569"/>
                    </a:lnTo>
                    <a:lnTo>
                      <a:pt x="1075" y="2574"/>
                    </a:lnTo>
                    <a:lnTo>
                      <a:pt x="1071" y="2579"/>
                    </a:lnTo>
                    <a:lnTo>
                      <a:pt x="1066" y="2583"/>
                    </a:lnTo>
                    <a:lnTo>
                      <a:pt x="1060" y="2587"/>
                    </a:lnTo>
                    <a:lnTo>
                      <a:pt x="1054" y="2590"/>
                    </a:lnTo>
                    <a:lnTo>
                      <a:pt x="1048" y="2593"/>
                    </a:lnTo>
                    <a:lnTo>
                      <a:pt x="1041" y="2594"/>
                    </a:lnTo>
                    <a:lnTo>
                      <a:pt x="1034" y="2596"/>
                    </a:lnTo>
                    <a:lnTo>
                      <a:pt x="1027" y="2596"/>
                    </a:lnTo>
                    <a:lnTo>
                      <a:pt x="1016" y="2595"/>
                    </a:lnTo>
                    <a:lnTo>
                      <a:pt x="1005" y="2594"/>
                    </a:lnTo>
                    <a:lnTo>
                      <a:pt x="1000" y="2592"/>
                    </a:lnTo>
                    <a:lnTo>
                      <a:pt x="996" y="2591"/>
                    </a:lnTo>
                    <a:lnTo>
                      <a:pt x="987" y="2587"/>
                    </a:lnTo>
                    <a:lnTo>
                      <a:pt x="979" y="2582"/>
                    </a:lnTo>
                    <a:lnTo>
                      <a:pt x="971" y="2576"/>
                    </a:lnTo>
                    <a:lnTo>
                      <a:pt x="964" y="2569"/>
                    </a:lnTo>
                    <a:lnTo>
                      <a:pt x="957" y="2561"/>
                    </a:lnTo>
                    <a:lnTo>
                      <a:pt x="951" y="2553"/>
                    </a:lnTo>
                    <a:lnTo>
                      <a:pt x="945" y="2544"/>
                    </a:lnTo>
                    <a:lnTo>
                      <a:pt x="939" y="2535"/>
                    </a:lnTo>
                    <a:lnTo>
                      <a:pt x="934" y="2526"/>
                    </a:lnTo>
                    <a:lnTo>
                      <a:pt x="924" y="2506"/>
                    </a:lnTo>
                    <a:lnTo>
                      <a:pt x="913" y="2486"/>
                    </a:lnTo>
                    <a:lnTo>
                      <a:pt x="903" y="2466"/>
                    </a:lnTo>
                    <a:lnTo>
                      <a:pt x="893" y="2446"/>
                    </a:lnTo>
                    <a:lnTo>
                      <a:pt x="887" y="2437"/>
                    </a:lnTo>
                    <a:lnTo>
                      <a:pt x="882" y="2428"/>
                    </a:lnTo>
                    <a:lnTo>
                      <a:pt x="876" y="2419"/>
                    </a:lnTo>
                    <a:lnTo>
                      <a:pt x="869" y="2410"/>
                    </a:lnTo>
                    <a:lnTo>
                      <a:pt x="863" y="2403"/>
                    </a:lnTo>
                    <a:lnTo>
                      <a:pt x="855" y="2396"/>
                    </a:lnTo>
                    <a:lnTo>
                      <a:pt x="848" y="2390"/>
                    </a:lnTo>
                    <a:lnTo>
                      <a:pt x="840" y="2385"/>
                    </a:lnTo>
                    <a:lnTo>
                      <a:pt x="831" y="2381"/>
                    </a:lnTo>
                    <a:lnTo>
                      <a:pt x="826" y="2380"/>
                    </a:lnTo>
                    <a:lnTo>
                      <a:pt x="821" y="2378"/>
                    </a:lnTo>
                    <a:lnTo>
                      <a:pt x="816" y="2377"/>
                    </a:lnTo>
                    <a:lnTo>
                      <a:pt x="811" y="2377"/>
                    </a:lnTo>
                    <a:lnTo>
                      <a:pt x="800" y="2376"/>
                    </a:lnTo>
                    <a:lnTo>
                      <a:pt x="792" y="2377"/>
                    </a:lnTo>
                    <a:lnTo>
                      <a:pt x="785" y="2378"/>
                    </a:lnTo>
                    <a:lnTo>
                      <a:pt x="777" y="2380"/>
                    </a:lnTo>
                    <a:lnTo>
                      <a:pt x="770" y="2383"/>
                    </a:lnTo>
                    <a:lnTo>
                      <a:pt x="757" y="2388"/>
                    </a:lnTo>
                    <a:lnTo>
                      <a:pt x="750" y="2390"/>
                    </a:lnTo>
                    <a:lnTo>
                      <a:pt x="746" y="2390"/>
                    </a:lnTo>
                    <a:lnTo>
                      <a:pt x="742" y="2390"/>
                    </a:lnTo>
                    <a:lnTo>
                      <a:pt x="735" y="2390"/>
                    </a:lnTo>
                    <a:lnTo>
                      <a:pt x="728" y="2389"/>
                    </a:lnTo>
                    <a:lnTo>
                      <a:pt x="722" y="2388"/>
                    </a:lnTo>
                    <a:lnTo>
                      <a:pt x="716" y="2387"/>
                    </a:lnTo>
                    <a:lnTo>
                      <a:pt x="710" y="2385"/>
                    </a:lnTo>
                    <a:lnTo>
                      <a:pt x="705" y="2382"/>
                    </a:lnTo>
                    <a:lnTo>
                      <a:pt x="700" y="2380"/>
                    </a:lnTo>
                    <a:lnTo>
                      <a:pt x="695" y="2377"/>
                    </a:lnTo>
                    <a:lnTo>
                      <a:pt x="690" y="2374"/>
                    </a:lnTo>
                    <a:lnTo>
                      <a:pt x="685" y="2370"/>
                    </a:lnTo>
                    <a:lnTo>
                      <a:pt x="677" y="2362"/>
                    </a:lnTo>
                    <a:lnTo>
                      <a:pt x="669" y="2353"/>
                    </a:lnTo>
                    <a:lnTo>
                      <a:pt x="661" y="2344"/>
                    </a:lnTo>
                    <a:lnTo>
                      <a:pt x="645" y="2323"/>
                    </a:lnTo>
                    <a:lnTo>
                      <a:pt x="629" y="2302"/>
                    </a:lnTo>
                    <a:lnTo>
                      <a:pt x="621" y="2291"/>
                    </a:lnTo>
                    <a:lnTo>
                      <a:pt x="612" y="2281"/>
                    </a:lnTo>
                    <a:lnTo>
                      <a:pt x="602" y="2272"/>
                    </a:lnTo>
                    <a:lnTo>
                      <a:pt x="597" y="2267"/>
                    </a:lnTo>
                    <a:lnTo>
                      <a:pt x="591" y="2262"/>
                    </a:lnTo>
                    <a:lnTo>
                      <a:pt x="568" y="2243"/>
                    </a:lnTo>
                    <a:lnTo>
                      <a:pt x="557" y="2234"/>
                    </a:lnTo>
                    <a:lnTo>
                      <a:pt x="547" y="2225"/>
                    </a:lnTo>
                    <a:lnTo>
                      <a:pt x="538" y="2216"/>
                    </a:lnTo>
                    <a:lnTo>
                      <a:pt x="529" y="2207"/>
                    </a:lnTo>
                    <a:lnTo>
                      <a:pt x="511" y="2189"/>
                    </a:lnTo>
                    <a:lnTo>
                      <a:pt x="475" y="2152"/>
                    </a:lnTo>
                    <a:lnTo>
                      <a:pt x="456" y="2132"/>
                    </a:lnTo>
                    <a:lnTo>
                      <a:pt x="435" y="2112"/>
                    </a:lnTo>
                    <a:lnTo>
                      <a:pt x="429" y="2105"/>
                    </a:lnTo>
                    <a:lnTo>
                      <a:pt x="423" y="2098"/>
                    </a:lnTo>
                    <a:lnTo>
                      <a:pt x="413" y="2085"/>
                    </a:lnTo>
                    <a:lnTo>
                      <a:pt x="395" y="2060"/>
                    </a:lnTo>
                    <a:lnTo>
                      <a:pt x="387" y="2047"/>
                    </a:lnTo>
                    <a:lnTo>
                      <a:pt x="377" y="2036"/>
                    </a:lnTo>
                    <a:lnTo>
                      <a:pt x="371" y="2030"/>
                    </a:lnTo>
                    <a:lnTo>
                      <a:pt x="365" y="2024"/>
                    </a:lnTo>
                    <a:lnTo>
                      <a:pt x="359" y="2018"/>
                    </a:lnTo>
                    <a:lnTo>
                      <a:pt x="352" y="2013"/>
                    </a:lnTo>
                    <a:lnTo>
                      <a:pt x="320" y="1989"/>
                    </a:lnTo>
                    <a:lnTo>
                      <a:pt x="290" y="1967"/>
                    </a:lnTo>
                    <a:lnTo>
                      <a:pt x="275" y="1955"/>
                    </a:lnTo>
                    <a:lnTo>
                      <a:pt x="261" y="1943"/>
                    </a:lnTo>
                    <a:lnTo>
                      <a:pt x="248" y="1931"/>
                    </a:lnTo>
                    <a:lnTo>
                      <a:pt x="236" y="1919"/>
                    </a:lnTo>
                    <a:lnTo>
                      <a:pt x="229" y="1913"/>
                    </a:lnTo>
                    <a:lnTo>
                      <a:pt x="224" y="1907"/>
                    </a:lnTo>
                    <a:lnTo>
                      <a:pt x="213" y="1894"/>
                    </a:lnTo>
                    <a:lnTo>
                      <a:pt x="209" y="1887"/>
                    </a:lnTo>
                    <a:lnTo>
                      <a:pt x="204" y="1880"/>
                    </a:lnTo>
                    <a:lnTo>
                      <a:pt x="201" y="1872"/>
                    </a:lnTo>
                    <a:lnTo>
                      <a:pt x="197" y="1865"/>
                    </a:lnTo>
                    <a:lnTo>
                      <a:pt x="194" y="1857"/>
                    </a:lnTo>
                    <a:lnTo>
                      <a:pt x="191" y="1849"/>
                    </a:lnTo>
                    <a:lnTo>
                      <a:pt x="188" y="1841"/>
                    </a:lnTo>
                    <a:lnTo>
                      <a:pt x="186" y="1833"/>
                    </a:lnTo>
                    <a:lnTo>
                      <a:pt x="185" y="1824"/>
                    </a:lnTo>
                    <a:lnTo>
                      <a:pt x="183" y="1815"/>
                    </a:lnTo>
                    <a:lnTo>
                      <a:pt x="183" y="1805"/>
                    </a:lnTo>
                    <a:lnTo>
                      <a:pt x="183" y="1795"/>
                    </a:lnTo>
                    <a:lnTo>
                      <a:pt x="183" y="1778"/>
                    </a:lnTo>
                    <a:lnTo>
                      <a:pt x="184" y="1762"/>
                    </a:lnTo>
                    <a:lnTo>
                      <a:pt x="186" y="1747"/>
                    </a:lnTo>
                    <a:lnTo>
                      <a:pt x="188" y="1732"/>
                    </a:lnTo>
                    <a:lnTo>
                      <a:pt x="191" y="1718"/>
                    </a:lnTo>
                    <a:lnTo>
                      <a:pt x="195" y="1705"/>
                    </a:lnTo>
                    <a:lnTo>
                      <a:pt x="200" y="1691"/>
                    </a:lnTo>
                    <a:lnTo>
                      <a:pt x="205" y="1679"/>
                    </a:lnTo>
                    <a:lnTo>
                      <a:pt x="211" y="1666"/>
                    </a:lnTo>
                    <a:lnTo>
                      <a:pt x="217" y="1654"/>
                    </a:lnTo>
                    <a:lnTo>
                      <a:pt x="224" y="1642"/>
                    </a:lnTo>
                    <a:lnTo>
                      <a:pt x="232" y="1630"/>
                    </a:lnTo>
                    <a:lnTo>
                      <a:pt x="241" y="1618"/>
                    </a:lnTo>
                    <a:lnTo>
                      <a:pt x="250" y="1607"/>
                    </a:lnTo>
                    <a:lnTo>
                      <a:pt x="260" y="1596"/>
                    </a:lnTo>
                    <a:lnTo>
                      <a:pt x="269" y="1585"/>
                    </a:lnTo>
                    <a:lnTo>
                      <a:pt x="267" y="1577"/>
                    </a:lnTo>
                    <a:lnTo>
                      <a:pt x="264" y="1569"/>
                    </a:lnTo>
                    <a:lnTo>
                      <a:pt x="263" y="1560"/>
                    </a:lnTo>
                    <a:lnTo>
                      <a:pt x="263" y="1552"/>
                    </a:lnTo>
                    <a:lnTo>
                      <a:pt x="263" y="1547"/>
                    </a:lnTo>
                    <a:lnTo>
                      <a:pt x="264" y="1542"/>
                    </a:lnTo>
                    <a:lnTo>
                      <a:pt x="265" y="1538"/>
                    </a:lnTo>
                    <a:lnTo>
                      <a:pt x="266" y="1534"/>
                    </a:lnTo>
                    <a:lnTo>
                      <a:pt x="270" y="1526"/>
                    </a:lnTo>
                    <a:lnTo>
                      <a:pt x="275" y="1519"/>
                    </a:lnTo>
                    <a:lnTo>
                      <a:pt x="286" y="1505"/>
                    </a:lnTo>
                    <a:lnTo>
                      <a:pt x="289" y="1501"/>
                    </a:lnTo>
                    <a:lnTo>
                      <a:pt x="291" y="1498"/>
                    </a:lnTo>
                    <a:lnTo>
                      <a:pt x="296" y="1489"/>
                    </a:lnTo>
                    <a:lnTo>
                      <a:pt x="299" y="1481"/>
                    </a:lnTo>
                    <a:lnTo>
                      <a:pt x="302" y="1474"/>
                    </a:lnTo>
                    <a:lnTo>
                      <a:pt x="304" y="1467"/>
                    </a:lnTo>
                    <a:lnTo>
                      <a:pt x="306" y="1460"/>
                    </a:lnTo>
                    <a:lnTo>
                      <a:pt x="313" y="1433"/>
                    </a:lnTo>
                    <a:lnTo>
                      <a:pt x="315" y="1427"/>
                    </a:lnTo>
                    <a:lnTo>
                      <a:pt x="317" y="1421"/>
                    </a:lnTo>
                    <a:lnTo>
                      <a:pt x="320" y="1415"/>
                    </a:lnTo>
                    <a:lnTo>
                      <a:pt x="323" y="1410"/>
                    </a:lnTo>
                    <a:lnTo>
                      <a:pt x="327" y="1404"/>
                    </a:lnTo>
                    <a:lnTo>
                      <a:pt x="331" y="1399"/>
                    </a:lnTo>
                    <a:lnTo>
                      <a:pt x="336" y="1395"/>
                    </a:lnTo>
                    <a:lnTo>
                      <a:pt x="342" y="1391"/>
                    </a:lnTo>
                    <a:lnTo>
                      <a:pt x="356" y="1383"/>
                    </a:lnTo>
                    <a:lnTo>
                      <a:pt x="370" y="1375"/>
                    </a:lnTo>
                    <a:lnTo>
                      <a:pt x="399" y="1361"/>
                    </a:lnTo>
                    <a:lnTo>
                      <a:pt x="426" y="1347"/>
                    </a:lnTo>
                    <a:lnTo>
                      <a:pt x="439" y="1340"/>
                    </a:lnTo>
                    <a:lnTo>
                      <a:pt x="451" y="1332"/>
                    </a:lnTo>
                    <a:lnTo>
                      <a:pt x="462" y="1323"/>
                    </a:lnTo>
                    <a:lnTo>
                      <a:pt x="472" y="1315"/>
                    </a:lnTo>
                    <a:lnTo>
                      <a:pt x="477" y="1310"/>
                    </a:lnTo>
                    <a:lnTo>
                      <a:pt x="481" y="1305"/>
                    </a:lnTo>
                    <a:lnTo>
                      <a:pt x="489" y="1295"/>
                    </a:lnTo>
                    <a:lnTo>
                      <a:pt x="492" y="1289"/>
                    </a:lnTo>
                    <a:lnTo>
                      <a:pt x="495" y="1284"/>
                    </a:lnTo>
                    <a:lnTo>
                      <a:pt x="498" y="1278"/>
                    </a:lnTo>
                    <a:lnTo>
                      <a:pt x="500" y="1271"/>
                    </a:lnTo>
                    <a:lnTo>
                      <a:pt x="502" y="1264"/>
                    </a:lnTo>
                    <a:lnTo>
                      <a:pt x="503" y="1257"/>
                    </a:lnTo>
                    <a:lnTo>
                      <a:pt x="504" y="1250"/>
                    </a:lnTo>
                    <a:lnTo>
                      <a:pt x="504" y="1242"/>
                    </a:lnTo>
                    <a:lnTo>
                      <a:pt x="504" y="1142"/>
                    </a:lnTo>
                    <a:lnTo>
                      <a:pt x="504" y="1133"/>
                    </a:lnTo>
                    <a:lnTo>
                      <a:pt x="505" y="1125"/>
                    </a:lnTo>
                    <a:lnTo>
                      <a:pt x="507" y="1116"/>
                    </a:lnTo>
                    <a:lnTo>
                      <a:pt x="510" y="1107"/>
                    </a:lnTo>
                    <a:lnTo>
                      <a:pt x="513" y="1099"/>
                    </a:lnTo>
                    <a:lnTo>
                      <a:pt x="517" y="1090"/>
                    </a:lnTo>
                    <a:lnTo>
                      <a:pt x="521" y="1082"/>
                    </a:lnTo>
                    <a:lnTo>
                      <a:pt x="525" y="1074"/>
                    </a:lnTo>
                    <a:lnTo>
                      <a:pt x="530" y="1065"/>
                    </a:lnTo>
                    <a:lnTo>
                      <a:pt x="535" y="1057"/>
                    </a:lnTo>
                    <a:lnTo>
                      <a:pt x="545" y="1042"/>
                    </a:lnTo>
                    <a:lnTo>
                      <a:pt x="557" y="1027"/>
                    </a:lnTo>
                    <a:lnTo>
                      <a:pt x="569" y="1012"/>
                    </a:lnTo>
                    <a:lnTo>
                      <a:pt x="581" y="999"/>
                    </a:lnTo>
                    <a:lnTo>
                      <a:pt x="592" y="988"/>
                    </a:lnTo>
                    <a:lnTo>
                      <a:pt x="603" y="977"/>
                    </a:lnTo>
                    <a:lnTo>
                      <a:pt x="613" y="969"/>
                    </a:lnTo>
                    <a:lnTo>
                      <a:pt x="627" y="957"/>
                    </a:lnTo>
                    <a:lnTo>
                      <a:pt x="633" y="952"/>
                    </a:lnTo>
                    <a:lnTo>
                      <a:pt x="466" y="755"/>
                    </a:lnTo>
                    <a:lnTo>
                      <a:pt x="453" y="741"/>
                    </a:lnTo>
                    <a:lnTo>
                      <a:pt x="441" y="727"/>
                    </a:lnTo>
                    <a:lnTo>
                      <a:pt x="428" y="715"/>
                    </a:lnTo>
                    <a:lnTo>
                      <a:pt x="416" y="702"/>
                    </a:lnTo>
                    <a:lnTo>
                      <a:pt x="391" y="681"/>
                    </a:lnTo>
                    <a:lnTo>
                      <a:pt x="366" y="660"/>
                    </a:lnTo>
                    <a:lnTo>
                      <a:pt x="343" y="639"/>
                    </a:lnTo>
                    <a:lnTo>
                      <a:pt x="331" y="627"/>
                    </a:lnTo>
                    <a:lnTo>
                      <a:pt x="320" y="615"/>
                    </a:lnTo>
                    <a:lnTo>
                      <a:pt x="314" y="609"/>
                    </a:lnTo>
                    <a:lnTo>
                      <a:pt x="309" y="603"/>
                    </a:lnTo>
                    <a:lnTo>
                      <a:pt x="298" y="589"/>
                    </a:lnTo>
                    <a:lnTo>
                      <a:pt x="288" y="574"/>
                    </a:lnTo>
                    <a:lnTo>
                      <a:pt x="277" y="558"/>
                    </a:lnTo>
                    <a:lnTo>
                      <a:pt x="272" y="547"/>
                    </a:lnTo>
                    <a:lnTo>
                      <a:pt x="268" y="538"/>
                    </a:lnTo>
                    <a:lnTo>
                      <a:pt x="264" y="529"/>
                    </a:lnTo>
                    <a:lnTo>
                      <a:pt x="261" y="520"/>
                    </a:lnTo>
                    <a:lnTo>
                      <a:pt x="255" y="502"/>
                    </a:lnTo>
                    <a:lnTo>
                      <a:pt x="251" y="492"/>
                    </a:lnTo>
                    <a:lnTo>
                      <a:pt x="247" y="482"/>
                    </a:lnTo>
                    <a:lnTo>
                      <a:pt x="244" y="476"/>
                    </a:lnTo>
                    <a:lnTo>
                      <a:pt x="240" y="472"/>
                    </a:lnTo>
                    <a:lnTo>
                      <a:pt x="234" y="468"/>
                    </a:lnTo>
                    <a:lnTo>
                      <a:pt x="230" y="465"/>
                    </a:lnTo>
                    <a:lnTo>
                      <a:pt x="224" y="463"/>
                    </a:lnTo>
                    <a:lnTo>
                      <a:pt x="218" y="462"/>
                    </a:lnTo>
                    <a:lnTo>
                      <a:pt x="206" y="460"/>
                    </a:lnTo>
                    <a:lnTo>
                      <a:pt x="193" y="458"/>
                    </a:lnTo>
                    <a:lnTo>
                      <a:pt x="181" y="456"/>
                    </a:lnTo>
                    <a:lnTo>
                      <a:pt x="175" y="454"/>
                    </a:lnTo>
                    <a:lnTo>
                      <a:pt x="169" y="452"/>
                    </a:lnTo>
                    <a:lnTo>
                      <a:pt x="163" y="449"/>
                    </a:lnTo>
                    <a:lnTo>
                      <a:pt x="161" y="447"/>
                    </a:lnTo>
                    <a:lnTo>
                      <a:pt x="158" y="444"/>
                    </a:lnTo>
                    <a:lnTo>
                      <a:pt x="140" y="426"/>
                    </a:lnTo>
                    <a:lnTo>
                      <a:pt x="123" y="409"/>
                    </a:lnTo>
                    <a:lnTo>
                      <a:pt x="115" y="399"/>
                    </a:lnTo>
                    <a:lnTo>
                      <a:pt x="107" y="390"/>
                    </a:lnTo>
                    <a:lnTo>
                      <a:pt x="91" y="372"/>
                    </a:lnTo>
                    <a:lnTo>
                      <a:pt x="77" y="354"/>
                    </a:lnTo>
                    <a:lnTo>
                      <a:pt x="64" y="336"/>
                    </a:lnTo>
                    <a:lnTo>
                      <a:pt x="52" y="318"/>
                    </a:lnTo>
                    <a:lnTo>
                      <a:pt x="42" y="299"/>
                    </a:lnTo>
                    <a:lnTo>
                      <a:pt x="32" y="280"/>
                    </a:lnTo>
                    <a:lnTo>
                      <a:pt x="24" y="260"/>
                    </a:lnTo>
                    <a:lnTo>
                      <a:pt x="20" y="250"/>
                    </a:lnTo>
                    <a:lnTo>
                      <a:pt x="17" y="239"/>
                    </a:lnTo>
                    <a:lnTo>
                      <a:pt x="14" y="228"/>
                    </a:lnTo>
                    <a:lnTo>
                      <a:pt x="11" y="217"/>
                    </a:lnTo>
                    <a:lnTo>
                      <a:pt x="9" y="206"/>
                    </a:lnTo>
                    <a:lnTo>
                      <a:pt x="6" y="195"/>
                    </a:lnTo>
                    <a:lnTo>
                      <a:pt x="5" y="184"/>
                    </a:lnTo>
                    <a:lnTo>
                      <a:pt x="3" y="172"/>
                    </a:lnTo>
                    <a:lnTo>
                      <a:pt x="2" y="160"/>
                    </a:lnTo>
                    <a:lnTo>
                      <a:pt x="1" y="148"/>
                    </a:lnTo>
                    <a:lnTo>
                      <a:pt x="1" y="135"/>
                    </a:lnTo>
                    <a:lnTo>
                      <a:pt x="0" y="122"/>
                    </a:lnTo>
                    <a:lnTo>
                      <a:pt x="1" y="113"/>
                    </a:lnTo>
                    <a:lnTo>
                      <a:pt x="2" y="103"/>
                    </a:lnTo>
                    <a:lnTo>
                      <a:pt x="3" y="93"/>
                    </a:lnTo>
                    <a:lnTo>
                      <a:pt x="6" y="83"/>
                    </a:lnTo>
                    <a:lnTo>
                      <a:pt x="9" y="74"/>
                    </a:lnTo>
                    <a:lnTo>
                      <a:pt x="12" y="65"/>
                    </a:lnTo>
                    <a:lnTo>
                      <a:pt x="16" y="57"/>
                    </a:lnTo>
                    <a:lnTo>
                      <a:pt x="21" y="48"/>
                    </a:lnTo>
                    <a:lnTo>
                      <a:pt x="26" y="41"/>
                    </a:lnTo>
                    <a:lnTo>
                      <a:pt x="32" y="34"/>
                    </a:lnTo>
                    <a:lnTo>
                      <a:pt x="38" y="27"/>
                    </a:lnTo>
                    <a:lnTo>
                      <a:pt x="45" y="21"/>
                    </a:lnTo>
                    <a:lnTo>
                      <a:pt x="48" y="18"/>
                    </a:lnTo>
                    <a:lnTo>
                      <a:pt x="52" y="16"/>
                    </a:lnTo>
                    <a:lnTo>
                      <a:pt x="59" y="11"/>
                    </a:lnTo>
                    <a:lnTo>
                      <a:pt x="67" y="7"/>
                    </a:lnTo>
                    <a:lnTo>
                      <a:pt x="72" y="6"/>
                    </a:lnTo>
                    <a:lnTo>
                      <a:pt x="76" y="4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700680" y="947520"/>
                <a:ext cx="1158480" cy="1027080"/>
              </a:xfrm>
              <a:custGeom>
                <a:avLst/>
                <a:gdLst/>
                <a:ahLst/>
                <a:rect l="l" t="t" r="r" b="b"/>
                <a:pathLst>
                  <a:path w="2919" h="2586">
                    <a:moveTo>
                      <a:pt x="1209" y="889"/>
                    </a:moveTo>
                    <a:lnTo>
                      <a:pt x="1214" y="871"/>
                    </a:lnTo>
                    <a:lnTo>
                      <a:pt x="1217" y="862"/>
                    </a:lnTo>
                    <a:lnTo>
                      <a:pt x="1220" y="854"/>
                    </a:lnTo>
                    <a:lnTo>
                      <a:pt x="1224" y="845"/>
                    </a:lnTo>
                    <a:lnTo>
                      <a:pt x="1229" y="837"/>
                    </a:lnTo>
                    <a:lnTo>
                      <a:pt x="1233" y="830"/>
                    </a:lnTo>
                    <a:lnTo>
                      <a:pt x="1238" y="823"/>
                    </a:lnTo>
                    <a:lnTo>
                      <a:pt x="1243" y="816"/>
                    </a:lnTo>
                    <a:lnTo>
                      <a:pt x="1249" y="810"/>
                    </a:lnTo>
                    <a:lnTo>
                      <a:pt x="1255" y="805"/>
                    </a:lnTo>
                    <a:lnTo>
                      <a:pt x="1261" y="801"/>
                    </a:lnTo>
                    <a:lnTo>
                      <a:pt x="1269" y="797"/>
                    </a:lnTo>
                    <a:lnTo>
                      <a:pt x="1276" y="794"/>
                    </a:lnTo>
                    <a:lnTo>
                      <a:pt x="1285" y="793"/>
                    </a:lnTo>
                    <a:lnTo>
                      <a:pt x="1294" y="792"/>
                    </a:lnTo>
                    <a:lnTo>
                      <a:pt x="1299" y="792"/>
                    </a:lnTo>
                    <a:lnTo>
                      <a:pt x="1303" y="793"/>
                    </a:lnTo>
                    <a:lnTo>
                      <a:pt x="1307" y="795"/>
                    </a:lnTo>
                    <a:lnTo>
                      <a:pt x="1310" y="797"/>
                    </a:lnTo>
                    <a:lnTo>
                      <a:pt x="1313" y="800"/>
                    </a:lnTo>
                    <a:lnTo>
                      <a:pt x="1316" y="803"/>
                    </a:lnTo>
                    <a:lnTo>
                      <a:pt x="1321" y="810"/>
                    </a:lnTo>
                    <a:lnTo>
                      <a:pt x="1325" y="819"/>
                    </a:lnTo>
                    <a:lnTo>
                      <a:pt x="1329" y="827"/>
                    </a:lnTo>
                    <a:lnTo>
                      <a:pt x="1333" y="836"/>
                    </a:lnTo>
                    <a:lnTo>
                      <a:pt x="1338" y="845"/>
                    </a:lnTo>
                    <a:lnTo>
                      <a:pt x="1342" y="850"/>
                    </a:lnTo>
                    <a:lnTo>
                      <a:pt x="1345" y="853"/>
                    </a:lnTo>
                    <a:lnTo>
                      <a:pt x="1350" y="856"/>
                    </a:lnTo>
                    <a:lnTo>
                      <a:pt x="1354" y="858"/>
                    </a:lnTo>
                    <a:lnTo>
                      <a:pt x="1359" y="859"/>
                    </a:lnTo>
                    <a:lnTo>
                      <a:pt x="1365" y="860"/>
                    </a:lnTo>
                    <a:lnTo>
                      <a:pt x="1371" y="861"/>
                    </a:lnTo>
                    <a:lnTo>
                      <a:pt x="1376" y="861"/>
                    </a:lnTo>
                    <a:lnTo>
                      <a:pt x="1388" y="861"/>
                    </a:lnTo>
                    <a:lnTo>
                      <a:pt x="1399" y="861"/>
                    </a:lnTo>
                    <a:lnTo>
                      <a:pt x="1405" y="862"/>
                    </a:lnTo>
                    <a:lnTo>
                      <a:pt x="1411" y="864"/>
                    </a:lnTo>
                    <a:lnTo>
                      <a:pt x="1416" y="865"/>
                    </a:lnTo>
                    <a:lnTo>
                      <a:pt x="1419" y="867"/>
                    </a:lnTo>
                    <a:lnTo>
                      <a:pt x="1422" y="868"/>
                    </a:lnTo>
                    <a:lnTo>
                      <a:pt x="1426" y="871"/>
                    </a:lnTo>
                    <a:lnTo>
                      <a:pt x="1429" y="874"/>
                    </a:lnTo>
                    <a:lnTo>
                      <a:pt x="1433" y="877"/>
                    </a:lnTo>
                    <a:lnTo>
                      <a:pt x="1435" y="880"/>
                    </a:lnTo>
                    <a:lnTo>
                      <a:pt x="1440" y="887"/>
                    </a:lnTo>
                    <a:lnTo>
                      <a:pt x="1444" y="894"/>
                    </a:lnTo>
                    <a:lnTo>
                      <a:pt x="1449" y="901"/>
                    </a:lnTo>
                    <a:lnTo>
                      <a:pt x="1453" y="908"/>
                    </a:lnTo>
                    <a:lnTo>
                      <a:pt x="1456" y="911"/>
                    </a:lnTo>
                    <a:lnTo>
                      <a:pt x="1459" y="914"/>
                    </a:lnTo>
                    <a:lnTo>
                      <a:pt x="1463" y="918"/>
                    </a:lnTo>
                    <a:lnTo>
                      <a:pt x="1467" y="921"/>
                    </a:lnTo>
                    <a:lnTo>
                      <a:pt x="1471" y="911"/>
                    </a:lnTo>
                    <a:lnTo>
                      <a:pt x="1475" y="902"/>
                    </a:lnTo>
                    <a:lnTo>
                      <a:pt x="1482" y="885"/>
                    </a:lnTo>
                    <a:lnTo>
                      <a:pt x="1490" y="869"/>
                    </a:lnTo>
                    <a:lnTo>
                      <a:pt x="1497" y="854"/>
                    </a:lnTo>
                    <a:lnTo>
                      <a:pt x="1500" y="846"/>
                    </a:lnTo>
                    <a:lnTo>
                      <a:pt x="1504" y="838"/>
                    </a:lnTo>
                    <a:lnTo>
                      <a:pt x="1506" y="830"/>
                    </a:lnTo>
                    <a:lnTo>
                      <a:pt x="1508" y="822"/>
                    </a:lnTo>
                    <a:lnTo>
                      <a:pt x="1510" y="813"/>
                    </a:lnTo>
                    <a:lnTo>
                      <a:pt x="1511" y="804"/>
                    </a:lnTo>
                    <a:lnTo>
                      <a:pt x="1512" y="795"/>
                    </a:lnTo>
                    <a:lnTo>
                      <a:pt x="1512" y="784"/>
                    </a:lnTo>
                    <a:lnTo>
                      <a:pt x="1537" y="784"/>
                    </a:lnTo>
                    <a:lnTo>
                      <a:pt x="1537" y="801"/>
                    </a:lnTo>
                    <a:lnTo>
                      <a:pt x="1536" y="815"/>
                    </a:lnTo>
                    <a:lnTo>
                      <a:pt x="1536" y="829"/>
                    </a:lnTo>
                    <a:lnTo>
                      <a:pt x="1537" y="845"/>
                    </a:lnTo>
                    <a:lnTo>
                      <a:pt x="1543" y="842"/>
                    </a:lnTo>
                    <a:lnTo>
                      <a:pt x="1549" y="838"/>
                    </a:lnTo>
                    <a:lnTo>
                      <a:pt x="1551" y="836"/>
                    </a:lnTo>
                    <a:lnTo>
                      <a:pt x="1553" y="834"/>
                    </a:lnTo>
                    <a:lnTo>
                      <a:pt x="1555" y="832"/>
                    </a:lnTo>
                    <a:lnTo>
                      <a:pt x="1557" y="829"/>
                    </a:lnTo>
                    <a:lnTo>
                      <a:pt x="1560" y="824"/>
                    </a:lnTo>
                    <a:lnTo>
                      <a:pt x="1563" y="819"/>
                    </a:lnTo>
                    <a:lnTo>
                      <a:pt x="1565" y="813"/>
                    </a:lnTo>
                    <a:lnTo>
                      <a:pt x="1567" y="807"/>
                    </a:lnTo>
                    <a:lnTo>
                      <a:pt x="1569" y="800"/>
                    </a:lnTo>
                    <a:lnTo>
                      <a:pt x="1570" y="794"/>
                    </a:lnTo>
                    <a:lnTo>
                      <a:pt x="1573" y="780"/>
                    </a:lnTo>
                    <a:lnTo>
                      <a:pt x="1576" y="766"/>
                    </a:lnTo>
                    <a:lnTo>
                      <a:pt x="1578" y="758"/>
                    </a:lnTo>
                    <a:lnTo>
                      <a:pt x="1580" y="751"/>
                    </a:lnTo>
                    <a:lnTo>
                      <a:pt x="1576" y="749"/>
                    </a:lnTo>
                    <a:lnTo>
                      <a:pt x="1572" y="747"/>
                    </a:lnTo>
                    <a:lnTo>
                      <a:pt x="1565" y="742"/>
                    </a:lnTo>
                    <a:lnTo>
                      <a:pt x="1558" y="736"/>
                    </a:lnTo>
                    <a:lnTo>
                      <a:pt x="1552" y="731"/>
                    </a:lnTo>
                    <a:lnTo>
                      <a:pt x="1546" y="725"/>
                    </a:lnTo>
                    <a:lnTo>
                      <a:pt x="1543" y="723"/>
                    </a:lnTo>
                    <a:lnTo>
                      <a:pt x="1540" y="720"/>
                    </a:lnTo>
                    <a:lnTo>
                      <a:pt x="1536" y="719"/>
                    </a:lnTo>
                    <a:lnTo>
                      <a:pt x="1533" y="717"/>
                    </a:lnTo>
                    <a:lnTo>
                      <a:pt x="1528" y="716"/>
                    </a:lnTo>
                    <a:lnTo>
                      <a:pt x="1524" y="716"/>
                    </a:lnTo>
                    <a:lnTo>
                      <a:pt x="1516" y="717"/>
                    </a:lnTo>
                    <a:lnTo>
                      <a:pt x="1509" y="719"/>
                    </a:lnTo>
                    <a:lnTo>
                      <a:pt x="1503" y="722"/>
                    </a:lnTo>
                    <a:lnTo>
                      <a:pt x="1497" y="727"/>
                    </a:lnTo>
                    <a:lnTo>
                      <a:pt x="1495" y="729"/>
                    </a:lnTo>
                    <a:lnTo>
                      <a:pt x="1492" y="732"/>
                    </a:lnTo>
                    <a:lnTo>
                      <a:pt x="1488" y="738"/>
                    </a:lnTo>
                    <a:lnTo>
                      <a:pt x="1479" y="751"/>
                    </a:lnTo>
                    <a:lnTo>
                      <a:pt x="1476" y="741"/>
                    </a:lnTo>
                    <a:lnTo>
                      <a:pt x="1474" y="732"/>
                    </a:lnTo>
                    <a:lnTo>
                      <a:pt x="1472" y="723"/>
                    </a:lnTo>
                    <a:lnTo>
                      <a:pt x="1471" y="718"/>
                    </a:lnTo>
                    <a:lnTo>
                      <a:pt x="1471" y="712"/>
                    </a:lnTo>
                    <a:lnTo>
                      <a:pt x="1471" y="707"/>
                    </a:lnTo>
                    <a:lnTo>
                      <a:pt x="1472" y="701"/>
                    </a:lnTo>
                    <a:lnTo>
                      <a:pt x="1474" y="697"/>
                    </a:lnTo>
                    <a:lnTo>
                      <a:pt x="1476" y="692"/>
                    </a:lnTo>
                    <a:lnTo>
                      <a:pt x="1479" y="688"/>
                    </a:lnTo>
                    <a:lnTo>
                      <a:pt x="1482" y="684"/>
                    </a:lnTo>
                    <a:lnTo>
                      <a:pt x="1485" y="681"/>
                    </a:lnTo>
                    <a:lnTo>
                      <a:pt x="1488" y="677"/>
                    </a:lnTo>
                    <a:lnTo>
                      <a:pt x="1496" y="670"/>
                    </a:lnTo>
                    <a:lnTo>
                      <a:pt x="1504" y="662"/>
                    </a:lnTo>
                    <a:lnTo>
                      <a:pt x="1507" y="658"/>
                    </a:lnTo>
                    <a:lnTo>
                      <a:pt x="1511" y="654"/>
                    </a:lnTo>
                    <a:lnTo>
                      <a:pt x="1513" y="649"/>
                    </a:lnTo>
                    <a:lnTo>
                      <a:pt x="1516" y="644"/>
                    </a:lnTo>
                    <a:lnTo>
                      <a:pt x="1524" y="649"/>
                    </a:lnTo>
                    <a:lnTo>
                      <a:pt x="1531" y="654"/>
                    </a:lnTo>
                    <a:lnTo>
                      <a:pt x="1543" y="666"/>
                    </a:lnTo>
                    <a:lnTo>
                      <a:pt x="1549" y="671"/>
                    </a:lnTo>
                    <a:lnTo>
                      <a:pt x="1553" y="673"/>
                    </a:lnTo>
                    <a:lnTo>
                      <a:pt x="1556" y="675"/>
                    </a:lnTo>
                    <a:lnTo>
                      <a:pt x="1560" y="676"/>
                    </a:lnTo>
                    <a:lnTo>
                      <a:pt x="1564" y="678"/>
                    </a:lnTo>
                    <a:lnTo>
                      <a:pt x="1568" y="678"/>
                    </a:lnTo>
                    <a:lnTo>
                      <a:pt x="1573" y="679"/>
                    </a:lnTo>
                    <a:lnTo>
                      <a:pt x="1580" y="678"/>
                    </a:lnTo>
                    <a:lnTo>
                      <a:pt x="1588" y="677"/>
                    </a:lnTo>
                    <a:lnTo>
                      <a:pt x="1595" y="676"/>
                    </a:lnTo>
                    <a:lnTo>
                      <a:pt x="1601" y="673"/>
                    </a:lnTo>
                    <a:lnTo>
                      <a:pt x="1608" y="670"/>
                    </a:lnTo>
                    <a:lnTo>
                      <a:pt x="1614" y="667"/>
                    </a:lnTo>
                    <a:lnTo>
                      <a:pt x="1619" y="663"/>
                    </a:lnTo>
                    <a:lnTo>
                      <a:pt x="1625" y="658"/>
                    </a:lnTo>
                    <a:lnTo>
                      <a:pt x="1629" y="653"/>
                    </a:lnTo>
                    <a:lnTo>
                      <a:pt x="1634" y="648"/>
                    </a:lnTo>
                    <a:lnTo>
                      <a:pt x="1639" y="642"/>
                    </a:lnTo>
                    <a:lnTo>
                      <a:pt x="1643" y="636"/>
                    </a:lnTo>
                    <a:lnTo>
                      <a:pt x="1646" y="629"/>
                    </a:lnTo>
                    <a:lnTo>
                      <a:pt x="1649" y="622"/>
                    </a:lnTo>
                    <a:lnTo>
                      <a:pt x="1652" y="615"/>
                    </a:lnTo>
                    <a:lnTo>
                      <a:pt x="1654" y="608"/>
                    </a:lnTo>
                    <a:lnTo>
                      <a:pt x="1644" y="603"/>
                    </a:lnTo>
                    <a:lnTo>
                      <a:pt x="1639" y="601"/>
                    </a:lnTo>
                    <a:lnTo>
                      <a:pt x="1634" y="598"/>
                    </a:lnTo>
                    <a:lnTo>
                      <a:pt x="1630" y="596"/>
                    </a:lnTo>
                    <a:lnTo>
                      <a:pt x="1626" y="593"/>
                    </a:lnTo>
                    <a:lnTo>
                      <a:pt x="1623" y="590"/>
                    </a:lnTo>
                    <a:lnTo>
                      <a:pt x="1619" y="587"/>
                    </a:lnTo>
                    <a:lnTo>
                      <a:pt x="1613" y="581"/>
                    </a:lnTo>
                    <a:lnTo>
                      <a:pt x="1607" y="573"/>
                    </a:lnTo>
                    <a:lnTo>
                      <a:pt x="1602" y="566"/>
                    </a:lnTo>
                    <a:lnTo>
                      <a:pt x="1598" y="558"/>
                    </a:lnTo>
                    <a:lnTo>
                      <a:pt x="1595" y="549"/>
                    </a:lnTo>
                    <a:lnTo>
                      <a:pt x="1592" y="540"/>
                    </a:lnTo>
                    <a:lnTo>
                      <a:pt x="1589" y="530"/>
                    </a:lnTo>
                    <a:lnTo>
                      <a:pt x="1587" y="521"/>
                    </a:lnTo>
                    <a:lnTo>
                      <a:pt x="1586" y="511"/>
                    </a:lnTo>
                    <a:lnTo>
                      <a:pt x="1585" y="500"/>
                    </a:lnTo>
                    <a:lnTo>
                      <a:pt x="1584" y="490"/>
                    </a:lnTo>
                    <a:lnTo>
                      <a:pt x="1584" y="480"/>
                    </a:lnTo>
                    <a:lnTo>
                      <a:pt x="1585" y="469"/>
                    </a:lnTo>
                    <a:lnTo>
                      <a:pt x="1587" y="460"/>
                    </a:lnTo>
                    <a:lnTo>
                      <a:pt x="1589" y="452"/>
                    </a:lnTo>
                    <a:lnTo>
                      <a:pt x="1593" y="443"/>
                    </a:lnTo>
                    <a:lnTo>
                      <a:pt x="1597" y="435"/>
                    </a:lnTo>
                    <a:lnTo>
                      <a:pt x="1601" y="427"/>
                    </a:lnTo>
                    <a:lnTo>
                      <a:pt x="1611" y="409"/>
                    </a:lnTo>
                    <a:lnTo>
                      <a:pt x="1607" y="390"/>
                    </a:lnTo>
                    <a:lnTo>
                      <a:pt x="1603" y="390"/>
                    </a:lnTo>
                    <a:lnTo>
                      <a:pt x="1598" y="388"/>
                    </a:lnTo>
                    <a:lnTo>
                      <a:pt x="1594" y="387"/>
                    </a:lnTo>
                    <a:lnTo>
                      <a:pt x="1589" y="386"/>
                    </a:lnTo>
                    <a:lnTo>
                      <a:pt x="1584" y="387"/>
                    </a:lnTo>
                    <a:lnTo>
                      <a:pt x="1580" y="388"/>
                    </a:lnTo>
                    <a:lnTo>
                      <a:pt x="1577" y="390"/>
                    </a:lnTo>
                    <a:lnTo>
                      <a:pt x="1573" y="392"/>
                    </a:lnTo>
                    <a:lnTo>
                      <a:pt x="1570" y="394"/>
                    </a:lnTo>
                    <a:lnTo>
                      <a:pt x="1566" y="396"/>
                    </a:lnTo>
                    <a:lnTo>
                      <a:pt x="1562" y="397"/>
                    </a:lnTo>
                    <a:lnTo>
                      <a:pt x="1557" y="398"/>
                    </a:lnTo>
                    <a:lnTo>
                      <a:pt x="1553" y="398"/>
                    </a:lnTo>
                    <a:lnTo>
                      <a:pt x="1550" y="397"/>
                    </a:lnTo>
                    <a:lnTo>
                      <a:pt x="1543" y="394"/>
                    </a:lnTo>
                    <a:lnTo>
                      <a:pt x="1537" y="391"/>
                    </a:lnTo>
                    <a:lnTo>
                      <a:pt x="1531" y="386"/>
                    </a:lnTo>
                    <a:lnTo>
                      <a:pt x="1526" y="382"/>
                    </a:lnTo>
                    <a:lnTo>
                      <a:pt x="1520" y="378"/>
                    </a:lnTo>
                    <a:lnTo>
                      <a:pt x="1517" y="377"/>
                    </a:lnTo>
                    <a:lnTo>
                      <a:pt x="1513" y="376"/>
                    </a:lnTo>
                    <a:lnTo>
                      <a:pt x="1509" y="375"/>
                    </a:lnTo>
                    <a:lnTo>
                      <a:pt x="1505" y="375"/>
                    </a:lnTo>
                    <a:lnTo>
                      <a:pt x="1495" y="375"/>
                    </a:lnTo>
                    <a:lnTo>
                      <a:pt x="1486" y="377"/>
                    </a:lnTo>
                    <a:lnTo>
                      <a:pt x="1478" y="380"/>
                    </a:lnTo>
                    <a:lnTo>
                      <a:pt x="1471" y="383"/>
                    </a:lnTo>
                    <a:lnTo>
                      <a:pt x="1463" y="387"/>
                    </a:lnTo>
                    <a:lnTo>
                      <a:pt x="1457" y="393"/>
                    </a:lnTo>
                    <a:lnTo>
                      <a:pt x="1450" y="399"/>
                    </a:lnTo>
                    <a:lnTo>
                      <a:pt x="1444" y="406"/>
                    </a:lnTo>
                    <a:lnTo>
                      <a:pt x="1438" y="395"/>
                    </a:lnTo>
                    <a:lnTo>
                      <a:pt x="1433" y="385"/>
                    </a:lnTo>
                    <a:lnTo>
                      <a:pt x="1431" y="380"/>
                    </a:lnTo>
                    <a:lnTo>
                      <a:pt x="1430" y="374"/>
                    </a:lnTo>
                    <a:lnTo>
                      <a:pt x="1429" y="369"/>
                    </a:lnTo>
                    <a:lnTo>
                      <a:pt x="1429" y="362"/>
                    </a:lnTo>
                    <a:lnTo>
                      <a:pt x="1429" y="357"/>
                    </a:lnTo>
                    <a:lnTo>
                      <a:pt x="1430" y="352"/>
                    </a:lnTo>
                    <a:lnTo>
                      <a:pt x="1431" y="347"/>
                    </a:lnTo>
                    <a:lnTo>
                      <a:pt x="1433" y="343"/>
                    </a:lnTo>
                    <a:lnTo>
                      <a:pt x="1436" y="339"/>
                    </a:lnTo>
                    <a:lnTo>
                      <a:pt x="1438" y="335"/>
                    </a:lnTo>
                    <a:lnTo>
                      <a:pt x="1444" y="326"/>
                    </a:lnTo>
                    <a:lnTo>
                      <a:pt x="1431" y="318"/>
                    </a:lnTo>
                    <a:lnTo>
                      <a:pt x="1428" y="316"/>
                    </a:lnTo>
                    <a:lnTo>
                      <a:pt x="1425" y="315"/>
                    </a:lnTo>
                    <a:lnTo>
                      <a:pt x="1421" y="315"/>
                    </a:lnTo>
                    <a:lnTo>
                      <a:pt x="1417" y="314"/>
                    </a:lnTo>
                    <a:lnTo>
                      <a:pt x="1413" y="314"/>
                    </a:lnTo>
                    <a:lnTo>
                      <a:pt x="1409" y="315"/>
                    </a:lnTo>
                    <a:lnTo>
                      <a:pt x="1402" y="317"/>
                    </a:lnTo>
                    <a:lnTo>
                      <a:pt x="1387" y="322"/>
                    </a:lnTo>
                    <a:lnTo>
                      <a:pt x="1387" y="320"/>
                    </a:lnTo>
                    <a:lnTo>
                      <a:pt x="1386" y="317"/>
                    </a:lnTo>
                    <a:lnTo>
                      <a:pt x="1383" y="313"/>
                    </a:lnTo>
                    <a:lnTo>
                      <a:pt x="1381" y="309"/>
                    </a:lnTo>
                    <a:lnTo>
                      <a:pt x="1380" y="306"/>
                    </a:lnTo>
                    <a:lnTo>
                      <a:pt x="1380" y="304"/>
                    </a:lnTo>
                    <a:lnTo>
                      <a:pt x="1380" y="300"/>
                    </a:lnTo>
                    <a:lnTo>
                      <a:pt x="1381" y="295"/>
                    </a:lnTo>
                    <a:lnTo>
                      <a:pt x="1382" y="292"/>
                    </a:lnTo>
                    <a:lnTo>
                      <a:pt x="1384" y="289"/>
                    </a:lnTo>
                    <a:lnTo>
                      <a:pt x="1388" y="283"/>
                    </a:lnTo>
                    <a:lnTo>
                      <a:pt x="1393" y="277"/>
                    </a:lnTo>
                    <a:lnTo>
                      <a:pt x="1398" y="272"/>
                    </a:lnTo>
                    <a:lnTo>
                      <a:pt x="1402" y="266"/>
                    </a:lnTo>
                    <a:lnTo>
                      <a:pt x="1404" y="263"/>
                    </a:lnTo>
                    <a:lnTo>
                      <a:pt x="1405" y="259"/>
                    </a:lnTo>
                    <a:lnTo>
                      <a:pt x="1406" y="256"/>
                    </a:lnTo>
                    <a:lnTo>
                      <a:pt x="1406" y="252"/>
                    </a:lnTo>
                    <a:lnTo>
                      <a:pt x="1406" y="246"/>
                    </a:lnTo>
                    <a:lnTo>
                      <a:pt x="1405" y="242"/>
                    </a:lnTo>
                    <a:lnTo>
                      <a:pt x="1403" y="237"/>
                    </a:lnTo>
                    <a:lnTo>
                      <a:pt x="1400" y="234"/>
                    </a:lnTo>
                    <a:lnTo>
                      <a:pt x="1397" y="230"/>
                    </a:lnTo>
                    <a:lnTo>
                      <a:pt x="1394" y="227"/>
                    </a:lnTo>
                    <a:lnTo>
                      <a:pt x="1386" y="222"/>
                    </a:lnTo>
                    <a:lnTo>
                      <a:pt x="1368" y="211"/>
                    </a:lnTo>
                    <a:lnTo>
                      <a:pt x="1358" y="205"/>
                    </a:lnTo>
                    <a:lnTo>
                      <a:pt x="1353" y="201"/>
                    </a:lnTo>
                    <a:lnTo>
                      <a:pt x="1350" y="197"/>
                    </a:lnTo>
                    <a:lnTo>
                      <a:pt x="1354" y="172"/>
                    </a:lnTo>
                    <a:lnTo>
                      <a:pt x="1410" y="172"/>
                    </a:lnTo>
                    <a:lnTo>
                      <a:pt x="1452" y="185"/>
                    </a:lnTo>
                    <a:lnTo>
                      <a:pt x="1475" y="185"/>
                    </a:lnTo>
                    <a:lnTo>
                      <a:pt x="1477" y="171"/>
                    </a:lnTo>
                    <a:lnTo>
                      <a:pt x="1479" y="157"/>
                    </a:lnTo>
                    <a:lnTo>
                      <a:pt x="1470" y="155"/>
                    </a:lnTo>
                    <a:lnTo>
                      <a:pt x="1462" y="152"/>
                    </a:lnTo>
                    <a:lnTo>
                      <a:pt x="1455" y="149"/>
                    </a:lnTo>
                    <a:lnTo>
                      <a:pt x="1448" y="145"/>
                    </a:lnTo>
                    <a:lnTo>
                      <a:pt x="1442" y="139"/>
                    </a:lnTo>
                    <a:lnTo>
                      <a:pt x="1437" y="134"/>
                    </a:lnTo>
                    <a:lnTo>
                      <a:pt x="1432" y="128"/>
                    </a:lnTo>
                    <a:lnTo>
                      <a:pt x="1427" y="122"/>
                    </a:lnTo>
                    <a:lnTo>
                      <a:pt x="1423" y="115"/>
                    </a:lnTo>
                    <a:lnTo>
                      <a:pt x="1420" y="108"/>
                    </a:lnTo>
                    <a:lnTo>
                      <a:pt x="1417" y="100"/>
                    </a:lnTo>
                    <a:lnTo>
                      <a:pt x="1414" y="92"/>
                    </a:lnTo>
                    <a:lnTo>
                      <a:pt x="1413" y="84"/>
                    </a:lnTo>
                    <a:lnTo>
                      <a:pt x="1411" y="76"/>
                    </a:lnTo>
                    <a:lnTo>
                      <a:pt x="1411" y="67"/>
                    </a:lnTo>
                    <a:lnTo>
                      <a:pt x="1410" y="59"/>
                    </a:lnTo>
                    <a:lnTo>
                      <a:pt x="1411" y="50"/>
                    </a:lnTo>
                    <a:lnTo>
                      <a:pt x="1411" y="43"/>
                    </a:lnTo>
                    <a:lnTo>
                      <a:pt x="1414" y="29"/>
                    </a:lnTo>
                    <a:lnTo>
                      <a:pt x="1418" y="16"/>
                    </a:lnTo>
                    <a:lnTo>
                      <a:pt x="1420" y="8"/>
                    </a:lnTo>
                    <a:lnTo>
                      <a:pt x="1422" y="0"/>
                    </a:lnTo>
                    <a:lnTo>
                      <a:pt x="1427" y="2"/>
                    </a:lnTo>
                    <a:lnTo>
                      <a:pt x="1431" y="4"/>
                    </a:lnTo>
                    <a:lnTo>
                      <a:pt x="1436" y="6"/>
                    </a:lnTo>
                    <a:lnTo>
                      <a:pt x="1440" y="9"/>
                    </a:lnTo>
                    <a:lnTo>
                      <a:pt x="1448" y="15"/>
                    </a:lnTo>
                    <a:lnTo>
                      <a:pt x="1451" y="19"/>
                    </a:lnTo>
                    <a:lnTo>
                      <a:pt x="1454" y="23"/>
                    </a:lnTo>
                    <a:lnTo>
                      <a:pt x="1457" y="27"/>
                    </a:lnTo>
                    <a:lnTo>
                      <a:pt x="1460" y="31"/>
                    </a:lnTo>
                    <a:lnTo>
                      <a:pt x="1464" y="40"/>
                    </a:lnTo>
                    <a:lnTo>
                      <a:pt x="1465" y="45"/>
                    </a:lnTo>
                    <a:lnTo>
                      <a:pt x="1466" y="50"/>
                    </a:lnTo>
                    <a:lnTo>
                      <a:pt x="1467" y="60"/>
                    </a:lnTo>
                    <a:lnTo>
                      <a:pt x="1470" y="59"/>
                    </a:lnTo>
                    <a:lnTo>
                      <a:pt x="1472" y="57"/>
                    </a:lnTo>
                    <a:lnTo>
                      <a:pt x="1476" y="52"/>
                    </a:lnTo>
                    <a:lnTo>
                      <a:pt x="1478" y="50"/>
                    </a:lnTo>
                    <a:lnTo>
                      <a:pt x="1480" y="48"/>
                    </a:lnTo>
                    <a:lnTo>
                      <a:pt x="1483" y="47"/>
                    </a:lnTo>
                    <a:lnTo>
                      <a:pt x="1486" y="46"/>
                    </a:lnTo>
                    <a:lnTo>
                      <a:pt x="1493" y="46"/>
                    </a:lnTo>
                    <a:lnTo>
                      <a:pt x="1500" y="48"/>
                    </a:lnTo>
                    <a:lnTo>
                      <a:pt x="1507" y="50"/>
                    </a:lnTo>
                    <a:lnTo>
                      <a:pt x="1512" y="53"/>
                    </a:lnTo>
                    <a:lnTo>
                      <a:pt x="1518" y="56"/>
                    </a:lnTo>
                    <a:lnTo>
                      <a:pt x="1522" y="60"/>
                    </a:lnTo>
                    <a:lnTo>
                      <a:pt x="1527" y="64"/>
                    </a:lnTo>
                    <a:lnTo>
                      <a:pt x="1531" y="69"/>
                    </a:lnTo>
                    <a:lnTo>
                      <a:pt x="1538" y="81"/>
                    </a:lnTo>
                    <a:lnTo>
                      <a:pt x="1544" y="94"/>
                    </a:lnTo>
                    <a:lnTo>
                      <a:pt x="1550" y="107"/>
                    </a:lnTo>
                    <a:lnTo>
                      <a:pt x="1555" y="121"/>
                    </a:lnTo>
                    <a:lnTo>
                      <a:pt x="1560" y="135"/>
                    </a:lnTo>
                    <a:lnTo>
                      <a:pt x="1566" y="150"/>
                    </a:lnTo>
                    <a:lnTo>
                      <a:pt x="1572" y="162"/>
                    </a:lnTo>
                    <a:lnTo>
                      <a:pt x="1576" y="168"/>
                    </a:lnTo>
                    <a:lnTo>
                      <a:pt x="1579" y="174"/>
                    </a:lnTo>
                    <a:lnTo>
                      <a:pt x="1583" y="179"/>
                    </a:lnTo>
                    <a:lnTo>
                      <a:pt x="1588" y="183"/>
                    </a:lnTo>
                    <a:lnTo>
                      <a:pt x="1592" y="187"/>
                    </a:lnTo>
                    <a:lnTo>
                      <a:pt x="1598" y="191"/>
                    </a:lnTo>
                    <a:lnTo>
                      <a:pt x="1603" y="193"/>
                    </a:lnTo>
                    <a:lnTo>
                      <a:pt x="1609" y="195"/>
                    </a:lnTo>
                    <a:lnTo>
                      <a:pt x="1616" y="197"/>
                    </a:lnTo>
                    <a:lnTo>
                      <a:pt x="1623" y="197"/>
                    </a:lnTo>
                    <a:lnTo>
                      <a:pt x="1657" y="197"/>
                    </a:lnTo>
                    <a:lnTo>
                      <a:pt x="1657" y="168"/>
                    </a:lnTo>
                    <a:lnTo>
                      <a:pt x="1642" y="117"/>
                    </a:lnTo>
                    <a:lnTo>
                      <a:pt x="1642" y="43"/>
                    </a:lnTo>
                    <a:lnTo>
                      <a:pt x="1642" y="39"/>
                    </a:lnTo>
                    <a:lnTo>
                      <a:pt x="1643" y="36"/>
                    </a:lnTo>
                    <a:lnTo>
                      <a:pt x="1644" y="33"/>
                    </a:lnTo>
                    <a:lnTo>
                      <a:pt x="1646" y="30"/>
                    </a:lnTo>
                    <a:lnTo>
                      <a:pt x="1648" y="27"/>
                    </a:lnTo>
                    <a:lnTo>
                      <a:pt x="1650" y="24"/>
                    </a:lnTo>
                    <a:lnTo>
                      <a:pt x="1653" y="22"/>
                    </a:lnTo>
                    <a:lnTo>
                      <a:pt x="1656" y="20"/>
                    </a:lnTo>
                    <a:lnTo>
                      <a:pt x="1663" y="16"/>
                    </a:lnTo>
                    <a:lnTo>
                      <a:pt x="1666" y="15"/>
                    </a:lnTo>
                    <a:lnTo>
                      <a:pt x="1670" y="14"/>
                    </a:lnTo>
                    <a:lnTo>
                      <a:pt x="1678" y="12"/>
                    </a:lnTo>
                    <a:lnTo>
                      <a:pt x="1685" y="11"/>
                    </a:lnTo>
                    <a:lnTo>
                      <a:pt x="1689" y="12"/>
                    </a:lnTo>
                    <a:lnTo>
                      <a:pt x="1692" y="12"/>
                    </a:lnTo>
                    <a:lnTo>
                      <a:pt x="1695" y="14"/>
                    </a:lnTo>
                    <a:lnTo>
                      <a:pt x="1698" y="15"/>
                    </a:lnTo>
                    <a:lnTo>
                      <a:pt x="1703" y="19"/>
                    </a:lnTo>
                    <a:lnTo>
                      <a:pt x="1708" y="24"/>
                    </a:lnTo>
                    <a:lnTo>
                      <a:pt x="1717" y="34"/>
                    </a:lnTo>
                    <a:lnTo>
                      <a:pt x="1722" y="39"/>
                    </a:lnTo>
                    <a:lnTo>
                      <a:pt x="1729" y="42"/>
                    </a:lnTo>
                    <a:lnTo>
                      <a:pt x="1748" y="50"/>
                    </a:lnTo>
                    <a:lnTo>
                      <a:pt x="1766" y="59"/>
                    </a:lnTo>
                    <a:lnTo>
                      <a:pt x="1785" y="68"/>
                    </a:lnTo>
                    <a:lnTo>
                      <a:pt x="1793" y="73"/>
                    </a:lnTo>
                    <a:lnTo>
                      <a:pt x="1801" y="79"/>
                    </a:lnTo>
                    <a:lnTo>
                      <a:pt x="1808" y="84"/>
                    </a:lnTo>
                    <a:lnTo>
                      <a:pt x="1815" y="91"/>
                    </a:lnTo>
                    <a:lnTo>
                      <a:pt x="1820" y="97"/>
                    </a:lnTo>
                    <a:lnTo>
                      <a:pt x="1825" y="105"/>
                    </a:lnTo>
                    <a:lnTo>
                      <a:pt x="1829" y="112"/>
                    </a:lnTo>
                    <a:lnTo>
                      <a:pt x="1832" y="121"/>
                    </a:lnTo>
                    <a:lnTo>
                      <a:pt x="1833" y="125"/>
                    </a:lnTo>
                    <a:lnTo>
                      <a:pt x="1834" y="130"/>
                    </a:lnTo>
                    <a:lnTo>
                      <a:pt x="1834" y="135"/>
                    </a:lnTo>
                    <a:lnTo>
                      <a:pt x="1834" y="140"/>
                    </a:lnTo>
                    <a:lnTo>
                      <a:pt x="1834" y="143"/>
                    </a:lnTo>
                    <a:lnTo>
                      <a:pt x="1833" y="145"/>
                    </a:lnTo>
                    <a:lnTo>
                      <a:pt x="1833" y="147"/>
                    </a:lnTo>
                    <a:lnTo>
                      <a:pt x="1831" y="148"/>
                    </a:lnTo>
                    <a:lnTo>
                      <a:pt x="1828" y="151"/>
                    </a:lnTo>
                    <a:lnTo>
                      <a:pt x="1825" y="153"/>
                    </a:lnTo>
                    <a:lnTo>
                      <a:pt x="1821" y="155"/>
                    </a:lnTo>
                    <a:lnTo>
                      <a:pt x="1820" y="156"/>
                    </a:lnTo>
                    <a:lnTo>
                      <a:pt x="1818" y="157"/>
                    </a:lnTo>
                    <a:lnTo>
                      <a:pt x="1816" y="160"/>
                    </a:lnTo>
                    <a:lnTo>
                      <a:pt x="1815" y="164"/>
                    </a:lnTo>
                    <a:lnTo>
                      <a:pt x="1815" y="169"/>
                    </a:lnTo>
                    <a:lnTo>
                      <a:pt x="1816" y="174"/>
                    </a:lnTo>
                    <a:lnTo>
                      <a:pt x="1818" y="178"/>
                    </a:lnTo>
                    <a:lnTo>
                      <a:pt x="1820" y="181"/>
                    </a:lnTo>
                    <a:lnTo>
                      <a:pt x="1823" y="185"/>
                    </a:lnTo>
                    <a:lnTo>
                      <a:pt x="1826" y="187"/>
                    </a:lnTo>
                    <a:lnTo>
                      <a:pt x="1834" y="193"/>
                    </a:lnTo>
                    <a:lnTo>
                      <a:pt x="1842" y="197"/>
                    </a:lnTo>
                    <a:lnTo>
                      <a:pt x="1851" y="202"/>
                    </a:lnTo>
                    <a:lnTo>
                      <a:pt x="1860" y="207"/>
                    </a:lnTo>
                    <a:lnTo>
                      <a:pt x="1869" y="212"/>
                    </a:lnTo>
                    <a:lnTo>
                      <a:pt x="1877" y="219"/>
                    </a:lnTo>
                    <a:lnTo>
                      <a:pt x="1885" y="225"/>
                    </a:lnTo>
                    <a:lnTo>
                      <a:pt x="1892" y="231"/>
                    </a:lnTo>
                    <a:lnTo>
                      <a:pt x="1898" y="237"/>
                    </a:lnTo>
                    <a:lnTo>
                      <a:pt x="1910" y="250"/>
                    </a:lnTo>
                    <a:lnTo>
                      <a:pt x="1922" y="263"/>
                    </a:lnTo>
                    <a:lnTo>
                      <a:pt x="1944" y="289"/>
                    </a:lnTo>
                    <a:lnTo>
                      <a:pt x="1957" y="304"/>
                    </a:lnTo>
                    <a:lnTo>
                      <a:pt x="1964" y="311"/>
                    </a:lnTo>
                    <a:lnTo>
                      <a:pt x="1971" y="318"/>
                    </a:lnTo>
                    <a:lnTo>
                      <a:pt x="1977" y="323"/>
                    </a:lnTo>
                    <a:lnTo>
                      <a:pt x="1983" y="328"/>
                    </a:lnTo>
                    <a:lnTo>
                      <a:pt x="1995" y="336"/>
                    </a:lnTo>
                    <a:lnTo>
                      <a:pt x="2000" y="341"/>
                    </a:lnTo>
                    <a:lnTo>
                      <a:pt x="2003" y="344"/>
                    </a:lnTo>
                    <a:lnTo>
                      <a:pt x="2005" y="347"/>
                    </a:lnTo>
                    <a:lnTo>
                      <a:pt x="2006" y="350"/>
                    </a:lnTo>
                    <a:lnTo>
                      <a:pt x="2007" y="353"/>
                    </a:lnTo>
                    <a:lnTo>
                      <a:pt x="2008" y="356"/>
                    </a:lnTo>
                    <a:lnTo>
                      <a:pt x="2008" y="360"/>
                    </a:lnTo>
                    <a:lnTo>
                      <a:pt x="2008" y="363"/>
                    </a:lnTo>
                    <a:lnTo>
                      <a:pt x="2007" y="366"/>
                    </a:lnTo>
                    <a:lnTo>
                      <a:pt x="2005" y="371"/>
                    </a:lnTo>
                    <a:lnTo>
                      <a:pt x="2003" y="375"/>
                    </a:lnTo>
                    <a:lnTo>
                      <a:pt x="2002" y="378"/>
                    </a:lnTo>
                    <a:lnTo>
                      <a:pt x="2002" y="381"/>
                    </a:lnTo>
                    <a:lnTo>
                      <a:pt x="2002" y="384"/>
                    </a:lnTo>
                    <a:lnTo>
                      <a:pt x="2002" y="386"/>
                    </a:lnTo>
                    <a:lnTo>
                      <a:pt x="2004" y="389"/>
                    </a:lnTo>
                    <a:lnTo>
                      <a:pt x="2005" y="391"/>
                    </a:lnTo>
                    <a:lnTo>
                      <a:pt x="2007" y="393"/>
                    </a:lnTo>
                    <a:lnTo>
                      <a:pt x="2009" y="395"/>
                    </a:lnTo>
                    <a:lnTo>
                      <a:pt x="2013" y="398"/>
                    </a:lnTo>
                    <a:lnTo>
                      <a:pt x="2021" y="405"/>
                    </a:lnTo>
                    <a:lnTo>
                      <a:pt x="2023" y="407"/>
                    </a:lnTo>
                    <a:lnTo>
                      <a:pt x="2025" y="410"/>
                    </a:lnTo>
                    <a:lnTo>
                      <a:pt x="2026" y="412"/>
                    </a:lnTo>
                    <a:lnTo>
                      <a:pt x="2028" y="415"/>
                    </a:lnTo>
                    <a:lnTo>
                      <a:pt x="2016" y="462"/>
                    </a:lnTo>
                    <a:lnTo>
                      <a:pt x="2016" y="545"/>
                    </a:lnTo>
                    <a:lnTo>
                      <a:pt x="2030" y="544"/>
                    </a:lnTo>
                    <a:lnTo>
                      <a:pt x="2043" y="545"/>
                    </a:lnTo>
                    <a:lnTo>
                      <a:pt x="2056" y="546"/>
                    </a:lnTo>
                    <a:lnTo>
                      <a:pt x="2071" y="546"/>
                    </a:lnTo>
                    <a:lnTo>
                      <a:pt x="2079" y="545"/>
                    </a:lnTo>
                    <a:lnTo>
                      <a:pt x="2082" y="545"/>
                    </a:lnTo>
                    <a:lnTo>
                      <a:pt x="2086" y="544"/>
                    </a:lnTo>
                    <a:lnTo>
                      <a:pt x="2092" y="542"/>
                    </a:lnTo>
                    <a:lnTo>
                      <a:pt x="2099" y="539"/>
                    </a:lnTo>
                    <a:lnTo>
                      <a:pt x="2105" y="535"/>
                    </a:lnTo>
                    <a:lnTo>
                      <a:pt x="2110" y="531"/>
                    </a:lnTo>
                    <a:lnTo>
                      <a:pt x="2121" y="523"/>
                    </a:lnTo>
                    <a:lnTo>
                      <a:pt x="2132" y="514"/>
                    </a:lnTo>
                    <a:lnTo>
                      <a:pt x="2138" y="511"/>
                    </a:lnTo>
                    <a:lnTo>
                      <a:pt x="2144" y="507"/>
                    </a:lnTo>
                    <a:lnTo>
                      <a:pt x="2150" y="504"/>
                    </a:lnTo>
                    <a:lnTo>
                      <a:pt x="2157" y="502"/>
                    </a:lnTo>
                    <a:lnTo>
                      <a:pt x="2160" y="501"/>
                    </a:lnTo>
                    <a:lnTo>
                      <a:pt x="2164" y="500"/>
                    </a:lnTo>
                    <a:lnTo>
                      <a:pt x="2172" y="500"/>
                    </a:lnTo>
                    <a:lnTo>
                      <a:pt x="2172" y="486"/>
                    </a:lnTo>
                    <a:lnTo>
                      <a:pt x="2173" y="472"/>
                    </a:lnTo>
                    <a:lnTo>
                      <a:pt x="2174" y="457"/>
                    </a:lnTo>
                    <a:lnTo>
                      <a:pt x="2176" y="442"/>
                    </a:lnTo>
                    <a:lnTo>
                      <a:pt x="2178" y="428"/>
                    </a:lnTo>
                    <a:lnTo>
                      <a:pt x="2182" y="414"/>
                    </a:lnTo>
                    <a:lnTo>
                      <a:pt x="2187" y="401"/>
                    </a:lnTo>
                    <a:lnTo>
                      <a:pt x="2191" y="389"/>
                    </a:lnTo>
                    <a:lnTo>
                      <a:pt x="2197" y="377"/>
                    </a:lnTo>
                    <a:lnTo>
                      <a:pt x="2204" y="367"/>
                    </a:lnTo>
                    <a:lnTo>
                      <a:pt x="2207" y="362"/>
                    </a:lnTo>
                    <a:lnTo>
                      <a:pt x="2211" y="357"/>
                    </a:lnTo>
                    <a:lnTo>
                      <a:pt x="2215" y="353"/>
                    </a:lnTo>
                    <a:lnTo>
                      <a:pt x="2220" y="349"/>
                    </a:lnTo>
                    <a:lnTo>
                      <a:pt x="2224" y="346"/>
                    </a:lnTo>
                    <a:lnTo>
                      <a:pt x="2229" y="343"/>
                    </a:lnTo>
                    <a:lnTo>
                      <a:pt x="2235" y="340"/>
                    </a:lnTo>
                    <a:lnTo>
                      <a:pt x="2240" y="338"/>
                    </a:lnTo>
                    <a:lnTo>
                      <a:pt x="2246" y="336"/>
                    </a:lnTo>
                    <a:lnTo>
                      <a:pt x="2252" y="335"/>
                    </a:lnTo>
                    <a:lnTo>
                      <a:pt x="2258" y="334"/>
                    </a:lnTo>
                    <a:lnTo>
                      <a:pt x="2265" y="334"/>
                    </a:lnTo>
                    <a:lnTo>
                      <a:pt x="2271" y="334"/>
                    </a:lnTo>
                    <a:lnTo>
                      <a:pt x="2276" y="335"/>
                    </a:lnTo>
                    <a:lnTo>
                      <a:pt x="2281" y="336"/>
                    </a:lnTo>
                    <a:lnTo>
                      <a:pt x="2286" y="338"/>
                    </a:lnTo>
                    <a:lnTo>
                      <a:pt x="2291" y="340"/>
                    </a:lnTo>
                    <a:lnTo>
                      <a:pt x="2295" y="342"/>
                    </a:lnTo>
                    <a:lnTo>
                      <a:pt x="2300" y="345"/>
                    </a:lnTo>
                    <a:lnTo>
                      <a:pt x="2304" y="349"/>
                    </a:lnTo>
                    <a:lnTo>
                      <a:pt x="2307" y="353"/>
                    </a:lnTo>
                    <a:lnTo>
                      <a:pt x="2310" y="357"/>
                    </a:lnTo>
                    <a:lnTo>
                      <a:pt x="2313" y="361"/>
                    </a:lnTo>
                    <a:lnTo>
                      <a:pt x="2314" y="363"/>
                    </a:lnTo>
                    <a:lnTo>
                      <a:pt x="2315" y="366"/>
                    </a:lnTo>
                    <a:lnTo>
                      <a:pt x="2317" y="370"/>
                    </a:lnTo>
                    <a:lnTo>
                      <a:pt x="2319" y="376"/>
                    </a:lnTo>
                    <a:lnTo>
                      <a:pt x="2320" y="381"/>
                    </a:lnTo>
                    <a:lnTo>
                      <a:pt x="2320" y="386"/>
                    </a:lnTo>
                    <a:lnTo>
                      <a:pt x="2319" y="392"/>
                    </a:lnTo>
                    <a:lnTo>
                      <a:pt x="2318" y="396"/>
                    </a:lnTo>
                    <a:lnTo>
                      <a:pt x="2316" y="401"/>
                    </a:lnTo>
                    <a:lnTo>
                      <a:pt x="2313" y="405"/>
                    </a:lnTo>
                    <a:lnTo>
                      <a:pt x="2310" y="408"/>
                    </a:lnTo>
                    <a:lnTo>
                      <a:pt x="2306" y="412"/>
                    </a:lnTo>
                    <a:lnTo>
                      <a:pt x="2299" y="418"/>
                    </a:lnTo>
                    <a:lnTo>
                      <a:pt x="2291" y="425"/>
                    </a:lnTo>
                    <a:lnTo>
                      <a:pt x="2287" y="428"/>
                    </a:lnTo>
                    <a:lnTo>
                      <a:pt x="2284" y="432"/>
                    </a:lnTo>
                    <a:lnTo>
                      <a:pt x="2281" y="435"/>
                    </a:lnTo>
                    <a:lnTo>
                      <a:pt x="2279" y="440"/>
                    </a:lnTo>
                    <a:lnTo>
                      <a:pt x="2278" y="445"/>
                    </a:lnTo>
                    <a:lnTo>
                      <a:pt x="2278" y="450"/>
                    </a:lnTo>
                    <a:lnTo>
                      <a:pt x="2278" y="453"/>
                    </a:lnTo>
                    <a:lnTo>
                      <a:pt x="2279" y="455"/>
                    </a:lnTo>
                    <a:lnTo>
                      <a:pt x="2281" y="459"/>
                    </a:lnTo>
                    <a:lnTo>
                      <a:pt x="2284" y="462"/>
                    </a:lnTo>
                    <a:lnTo>
                      <a:pt x="2285" y="464"/>
                    </a:lnTo>
                    <a:lnTo>
                      <a:pt x="2285" y="466"/>
                    </a:lnTo>
                    <a:lnTo>
                      <a:pt x="2285" y="469"/>
                    </a:lnTo>
                    <a:lnTo>
                      <a:pt x="2284" y="471"/>
                    </a:lnTo>
                    <a:lnTo>
                      <a:pt x="2283" y="473"/>
                    </a:lnTo>
                    <a:lnTo>
                      <a:pt x="2282" y="475"/>
                    </a:lnTo>
                    <a:lnTo>
                      <a:pt x="2279" y="478"/>
                    </a:lnTo>
                    <a:lnTo>
                      <a:pt x="2276" y="482"/>
                    </a:lnTo>
                    <a:lnTo>
                      <a:pt x="2272" y="485"/>
                    </a:lnTo>
                    <a:lnTo>
                      <a:pt x="2270" y="487"/>
                    </a:lnTo>
                    <a:lnTo>
                      <a:pt x="2269" y="488"/>
                    </a:lnTo>
                    <a:lnTo>
                      <a:pt x="2268" y="490"/>
                    </a:lnTo>
                    <a:lnTo>
                      <a:pt x="2267" y="492"/>
                    </a:lnTo>
                    <a:lnTo>
                      <a:pt x="2266" y="495"/>
                    </a:lnTo>
                    <a:lnTo>
                      <a:pt x="2266" y="497"/>
                    </a:lnTo>
                    <a:lnTo>
                      <a:pt x="2266" y="501"/>
                    </a:lnTo>
                    <a:lnTo>
                      <a:pt x="2267" y="505"/>
                    </a:lnTo>
                    <a:lnTo>
                      <a:pt x="2269" y="509"/>
                    </a:lnTo>
                    <a:lnTo>
                      <a:pt x="2271" y="512"/>
                    </a:lnTo>
                    <a:lnTo>
                      <a:pt x="2274" y="519"/>
                    </a:lnTo>
                    <a:lnTo>
                      <a:pt x="2276" y="523"/>
                    </a:lnTo>
                    <a:lnTo>
                      <a:pt x="2278" y="527"/>
                    </a:lnTo>
                    <a:lnTo>
                      <a:pt x="2274" y="528"/>
                    </a:lnTo>
                    <a:lnTo>
                      <a:pt x="2270" y="530"/>
                    </a:lnTo>
                    <a:lnTo>
                      <a:pt x="2263" y="534"/>
                    </a:lnTo>
                    <a:lnTo>
                      <a:pt x="2257" y="538"/>
                    </a:lnTo>
                    <a:lnTo>
                      <a:pt x="2254" y="541"/>
                    </a:lnTo>
                    <a:lnTo>
                      <a:pt x="2251" y="544"/>
                    </a:lnTo>
                    <a:lnTo>
                      <a:pt x="2247" y="550"/>
                    </a:lnTo>
                    <a:lnTo>
                      <a:pt x="2244" y="557"/>
                    </a:lnTo>
                    <a:lnTo>
                      <a:pt x="2243" y="560"/>
                    </a:lnTo>
                    <a:lnTo>
                      <a:pt x="2242" y="564"/>
                    </a:lnTo>
                    <a:lnTo>
                      <a:pt x="2241" y="568"/>
                    </a:lnTo>
                    <a:lnTo>
                      <a:pt x="2241" y="572"/>
                    </a:lnTo>
                    <a:lnTo>
                      <a:pt x="2241" y="577"/>
                    </a:lnTo>
                    <a:lnTo>
                      <a:pt x="2242" y="581"/>
                    </a:lnTo>
                    <a:lnTo>
                      <a:pt x="2243" y="585"/>
                    </a:lnTo>
                    <a:lnTo>
                      <a:pt x="2244" y="589"/>
                    </a:lnTo>
                    <a:lnTo>
                      <a:pt x="2246" y="592"/>
                    </a:lnTo>
                    <a:lnTo>
                      <a:pt x="2248" y="596"/>
                    </a:lnTo>
                    <a:lnTo>
                      <a:pt x="2251" y="599"/>
                    </a:lnTo>
                    <a:lnTo>
                      <a:pt x="2253" y="602"/>
                    </a:lnTo>
                    <a:lnTo>
                      <a:pt x="2265" y="615"/>
                    </a:lnTo>
                    <a:lnTo>
                      <a:pt x="2271" y="622"/>
                    </a:lnTo>
                    <a:lnTo>
                      <a:pt x="2274" y="625"/>
                    </a:lnTo>
                    <a:lnTo>
                      <a:pt x="2278" y="629"/>
                    </a:lnTo>
                    <a:lnTo>
                      <a:pt x="2272" y="634"/>
                    </a:lnTo>
                    <a:lnTo>
                      <a:pt x="2266" y="639"/>
                    </a:lnTo>
                    <a:lnTo>
                      <a:pt x="2260" y="644"/>
                    </a:lnTo>
                    <a:lnTo>
                      <a:pt x="2253" y="648"/>
                    </a:lnTo>
                    <a:lnTo>
                      <a:pt x="2247" y="642"/>
                    </a:lnTo>
                    <a:lnTo>
                      <a:pt x="2242" y="637"/>
                    </a:lnTo>
                    <a:lnTo>
                      <a:pt x="2236" y="633"/>
                    </a:lnTo>
                    <a:lnTo>
                      <a:pt x="2230" y="629"/>
                    </a:lnTo>
                    <a:lnTo>
                      <a:pt x="2224" y="625"/>
                    </a:lnTo>
                    <a:lnTo>
                      <a:pt x="2218" y="623"/>
                    </a:lnTo>
                    <a:lnTo>
                      <a:pt x="2210" y="621"/>
                    </a:lnTo>
                    <a:lnTo>
                      <a:pt x="2203" y="619"/>
                    </a:lnTo>
                    <a:lnTo>
                      <a:pt x="2207" y="625"/>
                    </a:lnTo>
                    <a:lnTo>
                      <a:pt x="2212" y="631"/>
                    </a:lnTo>
                    <a:lnTo>
                      <a:pt x="2218" y="636"/>
                    </a:lnTo>
                    <a:lnTo>
                      <a:pt x="2223" y="641"/>
                    </a:lnTo>
                    <a:lnTo>
                      <a:pt x="2235" y="649"/>
                    </a:lnTo>
                    <a:lnTo>
                      <a:pt x="2247" y="657"/>
                    </a:lnTo>
                    <a:lnTo>
                      <a:pt x="2257" y="666"/>
                    </a:lnTo>
                    <a:lnTo>
                      <a:pt x="2262" y="670"/>
                    </a:lnTo>
                    <a:lnTo>
                      <a:pt x="2266" y="675"/>
                    </a:lnTo>
                    <a:lnTo>
                      <a:pt x="2269" y="681"/>
                    </a:lnTo>
                    <a:lnTo>
                      <a:pt x="2272" y="687"/>
                    </a:lnTo>
                    <a:lnTo>
                      <a:pt x="2272" y="690"/>
                    </a:lnTo>
                    <a:lnTo>
                      <a:pt x="2273" y="693"/>
                    </a:lnTo>
                    <a:lnTo>
                      <a:pt x="2274" y="701"/>
                    </a:lnTo>
                    <a:lnTo>
                      <a:pt x="2273" y="705"/>
                    </a:lnTo>
                    <a:lnTo>
                      <a:pt x="2272" y="708"/>
                    </a:lnTo>
                    <a:lnTo>
                      <a:pt x="2270" y="714"/>
                    </a:lnTo>
                    <a:lnTo>
                      <a:pt x="2267" y="721"/>
                    </a:lnTo>
                    <a:lnTo>
                      <a:pt x="2266" y="724"/>
                    </a:lnTo>
                    <a:lnTo>
                      <a:pt x="2266" y="728"/>
                    </a:lnTo>
                    <a:lnTo>
                      <a:pt x="2266" y="730"/>
                    </a:lnTo>
                    <a:lnTo>
                      <a:pt x="2267" y="732"/>
                    </a:lnTo>
                    <a:lnTo>
                      <a:pt x="2268" y="734"/>
                    </a:lnTo>
                    <a:lnTo>
                      <a:pt x="2270" y="735"/>
                    </a:lnTo>
                    <a:lnTo>
                      <a:pt x="2274" y="737"/>
                    </a:lnTo>
                    <a:lnTo>
                      <a:pt x="2279" y="739"/>
                    </a:lnTo>
                    <a:lnTo>
                      <a:pt x="2284" y="741"/>
                    </a:lnTo>
                    <a:lnTo>
                      <a:pt x="2289" y="743"/>
                    </a:lnTo>
                    <a:lnTo>
                      <a:pt x="2290" y="745"/>
                    </a:lnTo>
                    <a:lnTo>
                      <a:pt x="2292" y="746"/>
                    </a:lnTo>
                    <a:lnTo>
                      <a:pt x="2293" y="748"/>
                    </a:lnTo>
                    <a:lnTo>
                      <a:pt x="2293" y="751"/>
                    </a:lnTo>
                    <a:lnTo>
                      <a:pt x="2293" y="755"/>
                    </a:lnTo>
                    <a:lnTo>
                      <a:pt x="2292" y="760"/>
                    </a:lnTo>
                    <a:lnTo>
                      <a:pt x="2291" y="765"/>
                    </a:lnTo>
                    <a:lnTo>
                      <a:pt x="2290" y="769"/>
                    </a:lnTo>
                    <a:lnTo>
                      <a:pt x="2287" y="776"/>
                    </a:lnTo>
                    <a:lnTo>
                      <a:pt x="2283" y="783"/>
                    </a:lnTo>
                    <a:lnTo>
                      <a:pt x="2280" y="790"/>
                    </a:lnTo>
                    <a:lnTo>
                      <a:pt x="2278" y="793"/>
                    </a:lnTo>
                    <a:lnTo>
                      <a:pt x="2277" y="797"/>
                    </a:lnTo>
                    <a:lnTo>
                      <a:pt x="2275" y="801"/>
                    </a:lnTo>
                    <a:lnTo>
                      <a:pt x="2274" y="805"/>
                    </a:lnTo>
                    <a:lnTo>
                      <a:pt x="2274" y="810"/>
                    </a:lnTo>
                    <a:lnTo>
                      <a:pt x="2274" y="814"/>
                    </a:lnTo>
                    <a:lnTo>
                      <a:pt x="2274" y="821"/>
                    </a:lnTo>
                    <a:lnTo>
                      <a:pt x="2275" y="828"/>
                    </a:lnTo>
                    <a:lnTo>
                      <a:pt x="2276" y="834"/>
                    </a:lnTo>
                    <a:lnTo>
                      <a:pt x="2278" y="841"/>
                    </a:lnTo>
                    <a:lnTo>
                      <a:pt x="2284" y="839"/>
                    </a:lnTo>
                    <a:lnTo>
                      <a:pt x="2290" y="837"/>
                    </a:lnTo>
                    <a:lnTo>
                      <a:pt x="2300" y="832"/>
                    </a:lnTo>
                    <a:lnTo>
                      <a:pt x="2305" y="830"/>
                    </a:lnTo>
                    <a:lnTo>
                      <a:pt x="2311" y="828"/>
                    </a:lnTo>
                    <a:lnTo>
                      <a:pt x="2317" y="826"/>
                    </a:lnTo>
                    <a:lnTo>
                      <a:pt x="2325" y="826"/>
                    </a:lnTo>
                    <a:lnTo>
                      <a:pt x="2327" y="826"/>
                    </a:lnTo>
                    <a:lnTo>
                      <a:pt x="2329" y="827"/>
                    </a:lnTo>
                    <a:lnTo>
                      <a:pt x="2332" y="829"/>
                    </a:lnTo>
                    <a:lnTo>
                      <a:pt x="2335" y="832"/>
                    </a:lnTo>
                    <a:lnTo>
                      <a:pt x="2337" y="833"/>
                    </a:lnTo>
                    <a:lnTo>
                      <a:pt x="2339" y="833"/>
                    </a:lnTo>
                    <a:lnTo>
                      <a:pt x="2338" y="836"/>
                    </a:lnTo>
                    <a:lnTo>
                      <a:pt x="2338" y="839"/>
                    </a:lnTo>
                    <a:lnTo>
                      <a:pt x="2335" y="844"/>
                    </a:lnTo>
                    <a:lnTo>
                      <a:pt x="2333" y="848"/>
                    </a:lnTo>
                    <a:lnTo>
                      <a:pt x="2330" y="852"/>
                    </a:lnTo>
                    <a:lnTo>
                      <a:pt x="2321" y="860"/>
                    </a:lnTo>
                    <a:lnTo>
                      <a:pt x="2313" y="866"/>
                    </a:lnTo>
                    <a:lnTo>
                      <a:pt x="2306" y="873"/>
                    </a:lnTo>
                    <a:lnTo>
                      <a:pt x="2302" y="876"/>
                    </a:lnTo>
                    <a:lnTo>
                      <a:pt x="2299" y="880"/>
                    </a:lnTo>
                    <a:lnTo>
                      <a:pt x="2297" y="884"/>
                    </a:lnTo>
                    <a:lnTo>
                      <a:pt x="2295" y="888"/>
                    </a:lnTo>
                    <a:lnTo>
                      <a:pt x="2293" y="893"/>
                    </a:lnTo>
                    <a:lnTo>
                      <a:pt x="2293" y="899"/>
                    </a:lnTo>
                    <a:lnTo>
                      <a:pt x="2293" y="910"/>
                    </a:lnTo>
                    <a:lnTo>
                      <a:pt x="2295" y="922"/>
                    </a:lnTo>
                    <a:lnTo>
                      <a:pt x="2298" y="932"/>
                    </a:lnTo>
                    <a:lnTo>
                      <a:pt x="2300" y="937"/>
                    </a:lnTo>
                    <a:lnTo>
                      <a:pt x="2301" y="942"/>
                    </a:lnTo>
                    <a:lnTo>
                      <a:pt x="2306" y="951"/>
                    </a:lnTo>
                    <a:lnTo>
                      <a:pt x="2311" y="959"/>
                    </a:lnTo>
                    <a:lnTo>
                      <a:pt x="2317" y="967"/>
                    </a:lnTo>
                    <a:lnTo>
                      <a:pt x="2325" y="975"/>
                    </a:lnTo>
                    <a:lnTo>
                      <a:pt x="2332" y="982"/>
                    </a:lnTo>
                    <a:lnTo>
                      <a:pt x="2340" y="989"/>
                    </a:lnTo>
                    <a:lnTo>
                      <a:pt x="2349" y="996"/>
                    </a:lnTo>
                    <a:lnTo>
                      <a:pt x="2357" y="1002"/>
                    </a:lnTo>
                    <a:lnTo>
                      <a:pt x="2375" y="1014"/>
                    </a:lnTo>
                    <a:lnTo>
                      <a:pt x="2394" y="1026"/>
                    </a:lnTo>
                    <a:lnTo>
                      <a:pt x="2412" y="1038"/>
                    </a:lnTo>
                    <a:lnTo>
                      <a:pt x="2431" y="1050"/>
                    </a:lnTo>
                    <a:lnTo>
                      <a:pt x="2447" y="1064"/>
                    </a:lnTo>
                    <a:lnTo>
                      <a:pt x="2455" y="1071"/>
                    </a:lnTo>
                    <a:lnTo>
                      <a:pt x="2464" y="1079"/>
                    </a:lnTo>
                    <a:lnTo>
                      <a:pt x="2470" y="1086"/>
                    </a:lnTo>
                    <a:lnTo>
                      <a:pt x="2473" y="1090"/>
                    </a:lnTo>
                    <a:lnTo>
                      <a:pt x="2476" y="1094"/>
                    </a:lnTo>
                    <a:lnTo>
                      <a:pt x="2479" y="1098"/>
                    </a:lnTo>
                    <a:lnTo>
                      <a:pt x="2482" y="1103"/>
                    </a:lnTo>
                    <a:lnTo>
                      <a:pt x="2486" y="1112"/>
                    </a:lnTo>
                    <a:lnTo>
                      <a:pt x="2490" y="1121"/>
                    </a:lnTo>
                    <a:lnTo>
                      <a:pt x="2493" y="1131"/>
                    </a:lnTo>
                    <a:lnTo>
                      <a:pt x="2494" y="1142"/>
                    </a:lnTo>
                    <a:lnTo>
                      <a:pt x="2495" y="1148"/>
                    </a:lnTo>
                    <a:lnTo>
                      <a:pt x="2495" y="1154"/>
                    </a:lnTo>
                    <a:lnTo>
                      <a:pt x="2495" y="1181"/>
                    </a:lnTo>
                    <a:lnTo>
                      <a:pt x="2558" y="1181"/>
                    </a:lnTo>
                    <a:lnTo>
                      <a:pt x="2564" y="1180"/>
                    </a:lnTo>
                    <a:lnTo>
                      <a:pt x="2566" y="1179"/>
                    </a:lnTo>
                    <a:lnTo>
                      <a:pt x="2569" y="1178"/>
                    </a:lnTo>
                    <a:lnTo>
                      <a:pt x="2573" y="1175"/>
                    </a:lnTo>
                    <a:lnTo>
                      <a:pt x="2577" y="1172"/>
                    </a:lnTo>
                    <a:lnTo>
                      <a:pt x="2581" y="1168"/>
                    </a:lnTo>
                    <a:lnTo>
                      <a:pt x="2583" y="1166"/>
                    </a:lnTo>
                    <a:lnTo>
                      <a:pt x="2585" y="1165"/>
                    </a:lnTo>
                    <a:lnTo>
                      <a:pt x="2588" y="1164"/>
                    </a:lnTo>
                    <a:lnTo>
                      <a:pt x="2590" y="1163"/>
                    </a:lnTo>
                    <a:lnTo>
                      <a:pt x="2593" y="1162"/>
                    </a:lnTo>
                    <a:lnTo>
                      <a:pt x="2596" y="1162"/>
                    </a:lnTo>
                    <a:lnTo>
                      <a:pt x="2611" y="1163"/>
                    </a:lnTo>
                    <a:lnTo>
                      <a:pt x="2625" y="1164"/>
                    </a:lnTo>
                    <a:lnTo>
                      <a:pt x="2637" y="1166"/>
                    </a:lnTo>
                    <a:lnTo>
                      <a:pt x="2649" y="1170"/>
                    </a:lnTo>
                    <a:lnTo>
                      <a:pt x="2661" y="1174"/>
                    </a:lnTo>
                    <a:lnTo>
                      <a:pt x="2672" y="1178"/>
                    </a:lnTo>
                    <a:lnTo>
                      <a:pt x="2683" y="1184"/>
                    </a:lnTo>
                    <a:lnTo>
                      <a:pt x="2693" y="1189"/>
                    </a:lnTo>
                    <a:lnTo>
                      <a:pt x="2714" y="1202"/>
                    </a:lnTo>
                    <a:lnTo>
                      <a:pt x="2736" y="1216"/>
                    </a:lnTo>
                    <a:lnTo>
                      <a:pt x="2758" y="1232"/>
                    </a:lnTo>
                    <a:lnTo>
                      <a:pt x="2782" y="1247"/>
                    </a:lnTo>
                    <a:lnTo>
                      <a:pt x="2781" y="1250"/>
                    </a:lnTo>
                    <a:lnTo>
                      <a:pt x="2779" y="1254"/>
                    </a:lnTo>
                    <a:lnTo>
                      <a:pt x="2776" y="1257"/>
                    </a:lnTo>
                    <a:lnTo>
                      <a:pt x="2773" y="1260"/>
                    </a:lnTo>
                    <a:lnTo>
                      <a:pt x="2767" y="1264"/>
                    </a:lnTo>
                    <a:lnTo>
                      <a:pt x="2761" y="1269"/>
                    </a:lnTo>
                    <a:lnTo>
                      <a:pt x="2758" y="1271"/>
                    </a:lnTo>
                    <a:lnTo>
                      <a:pt x="2755" y="1274"/>
                    </a:lnTo>
                    <a:lnTo>
                      <a:pt x="2752" y="1276"/>
                    </a:lnTo>
                    <a:lnTo>
                      <a:pt x="2750" y="1279"/>
                    </a:lnTo>
                    <a:lnTo>
                      <a:pt x="2748" y="1282"/>
                    </a:lnTo>
                    <a:lnTo>
                      <a:pt x="2746" y="1285"/>
                    </a:lnTo>
                    <a:lnTo>
                      <a:pt x="2745" y="1289"/>
                    </a:lnTo>
                    <a:lnTo>
                      <a:pt x="2745" y="1293"/>
                    </a:lnTo>
                    <a:lnTo>
                      <a:pt x="2745" y="1295"/>
                    </a:lnTo>
                    <a:lnTo>
                      <a:pt x="2746" y="1297"/>
                    </a:lnTo>
                    <a:lnTo>
                      <a:pt x="2747" y="1301"/>
                    </a:lnTo>
                    <a:lnTo>
                      <a:pt x="2753" y="1307"/>
                    </a:lnTo>
                    <a:lnTo>
                      <a:pt x="2755" y="1310"/>
                    </a:lnTo>
                    <a:lnTo>
                      <a:pt x="2758" y="1314"/>
                    </a:lnTo>
                    <a:lnTo>
                      <a:pt x="2760" y="1317"/>
                    </a:lnTo>
                    <a:lnTo>
                      <a:pt x="2760" y="1319"/>
                    </a:lnTo>
                    <a:lnTo>
                      <a:pt x="2760" y="1322"/>
                    </a:lnTo>
                    <a:lnTo>
                      <a:pt x="2760" y="1328"/>
                    </a:lnTo>
                    <a:lnTo>
                      <a:pt x="2759" y="1331"/>
                    </a:lnTo>
                    <a:lnTo>
                      <a:pt x="2758" y="1334"/>
                    </a:lnTo>
                    <a:lnTo>
                      <a:pt x="2756" y="1340"/>
                    </a:lnTo>
                    <a:lnTo>
                      <a:pt x="2753" y="1345"/>
                    </a:lnTo>
                    <a:lnTo>
                      <a:pt x="2750" y="1350"/>
                    </a:lnTo>
                    <a:lnTo>
                      <a:pt x="2746" y="1355"/>
                    </a:lnTo>
                    <a:lnTo>
                      <a:pt x="2737" y="1364"/>
                    </a:lnTo>
                    <a:lnTo>
                      <a:pt x="2728" y="1373"/>
                    </a:lnTo>
                    <a:lnTo>
                      <a:pt x="2724" y="1378"/>
                    </a:lnTo>
                    <a:lnTo>
                      <a:pt x="2720" y="1383"/>
                    </a:lnTo>
                    <a:lnTo>
                      <a:pt x="2717" y="1389"/>
                    </a:lnTo>
                    <a:lnTo>
                      <a:pt x="2716" y="1391"/>
                    </a:lnTo>
                    <a:lnTo>
                      <a:pt x="2715" y="1394"/>
                    </a:lnTo>
                    <a:lnTo>
                      <a:pt x="2714" y="1397"/>
                    </a:lnTo>
                    <a:lnTo>
                      <a:pt x="2714" y="1400"/>
                    </a:lnTo>
                    <a:lnTo>
                      <a:pt x="2713" y="1407"/>
                    </a:lnTo>
                    <a:lnTo>
                      <a:pt x="2714" y="1420"/>
                    </a:lnTo>
                    <a:lnTo>
                      <a:pt x="2715" y="1431"/>
                    </a:lnTo>
                    <a:lnTo>
                      <a:pt x="2717" y="1441"/>
                    </a:lnTo>
                    <a:lnTo>
                      <a:pt x="2719" y="1451"/>
                    </a:lnTo>
                    <a:lnTo>
                      <a:pt x="2721" y="1462"/>
                    </a:lnTo>
                    <a:lnTo>
                      <a:pt x="2723" y="1472"/>
                    </a:lnTo>
                    <a:lnTo>
                      <a:pt x="2724" y="1483"/>
                    </a:lnTo>
                    <a:lnTo>
                      <a:pt x="2725" y="1496"/>
                    </a:lnTo>
                    <a:lnTo>
                      <a:pt x="2685" y="1496"/>
                    </a:lnTo>
                    <a:lnTo>
                      <a:pt x="2677" y="1495"/>
                    </a:lnTo>
                    <a:lnTo>
                      <a:pt x="2670" y="1493"/>
                    </a:lnTo>
                    <a:lnTo>
                      <a:pt x="2663" y="1491"/>
                    </a:lnTo>
                    <a:lnTo>
                      <a:pt x="2656" y="1487"/>
                    </a:lnTo>
                    <a:lnTo>
                      <a:pt x="2650" y="1483"/>
                    </a:lnTo>
                    <a:lnTo>
                      <a:pt x="2645" y="1479"/>
                    </a:lnTo>
                    <a:lnTo>
                      <a:pt x="2634" y="1469"/>
                    </a:lnTo>
                    <a:lnTo>
                      <a:pt x="2623" y="1460"/>
                    </a:lnTo>
                    <a:lnTo>
                      <a:pt x="2617" y="1455"/>
                    </a:lnTo>
                    <a:lnTo>
                      <a:pt x="2611" y="1451"/>
                    </a:lnTo>
                    <a:lnTo>
                      <a:pt x="2605" y="1448"/>
                    </a:lnTo>
                    <a:lnTo>
                      <a:pt x="2601" y="1446"/>
                    </a:lnTo>
                    <a:lnTo>
                      <a:pt x="2598" y="1445"/>
                    </a:lnTo>
                    <a:lnTo>
                      <a:pt x="2590" y="1443"/>
                    </a:lnTo>
                    <a:lnTo>
                      <a:pt x="2586" y="1443"/>
                    </a:lnTo>
                    <a:lnTo>
                      <a:pt x="2581" y="1443"/>
                    </a:lnTo>
                    <a:lnTo>
                      <a:pt x="2571" y="1443"/>
                    </a:lnTo>
                    <a:lnTo>
                      <a:pt x="2561" y="1444"/>
                    </a:lnTo>
                    <a:lnTo>
                      <a:pt x="2552" y="1445"/>
                    </a:lnTo>
                    <a:lnTo>
                      <a:pt x="2542" y="1447"/>
                    </a:lnTo>
                    <a:lnTo>
                      <a:pt x="2533" y="1449"/>
                    </a:lnTo>
                    <a:lnTo>
                      <a:pt x="2524" y="1452"/>
                    </a:lnTo>
                    <a:lnTo>
                      <a:pt x="2516" y="1455"/>
                    </a:lnTo>
                    <a:lnTo>
                      <a:pt x="2508" y="1458"/>
                    </a:lnTo>
                    <a:lnTo>
                      <a:pt x="2500" y="1462"/>
                    </a:lnTo>
                    <a:lnTo>
                      <a:pt x="2492" y="1466"/>
                    </a:lnTo>
                    <a:lnTo>
                      <a:pt x="2476" y="1475"/>
                    </a:lnTo>
                    <a:lnTo>
                      <a:pt x="2461" y="1484"/>
                    </a:lnTo>
                    <a:lnTo>
                      <a:pt x="2446" y="1494"/>
                    </a:lnTo>
                    <a:lnTo>
                      <a:pt x="2417" y="1515"/>
                    </a:lnTo>
                    <a:lnTo>
                      <a:pt x="2403" y="1525"/>
                    </a:lnTo>
                    <a:lnTo>
                      <a:pt x="2388" y="1536"/>
                    </a:lnTo>
                    <a:lnTo>
                      <a:pt x="2373" y="1545"/>
                    </a:lnTo>
                    <a:lnTo>
                      <a:pt x="2365" y="1549"/>
                    </a:lnTo>
                    <a:lnTo>
                      <a:pt x="2357" y="1553"/>
                    </a:lnTo>
                    <a:lnTo>
                      <a:pt x="2349" y="1557"/>
                    </a:lnTo>
                    <a:lnTo>
                      <a:pt x="2341" y="1561"/>
                    </a:lnTo>
                    <a:lnTo>
                      <a:pt x="2332" y="1564"/>
                    </a:lnTo>
                    <a:lnTo>
                      <a:pt x="2324" y="1566"/>
                    </a:lnTo>
                    <a:lnTo>
                      <a:pt x="2119" y="1584"/>
                    </a:lnTo>
                    <a:lnTo>
                      <a:pt x="2373" y="1911"/>
                    </a:lnTo>
                    <a:lnTo>
                      <a:pt x="2350" y="1938"/>
                    </a:lnTo>
                    <a:lnTo>
                      <a:pt x="2353" y="1940"/>
                    </a:lnTo>
                    <a:lnTo>
                      <a:pt x="2363" y="1945"/>
                    </a:lnTo>
                    <a:lnTo>
                      <a:pt x="2375" y="1953"/>
                    </a:lnTo>
                    <a:lnTo>
                      <a:pt x="2382" y="1957"/>
                    </a:lnTo>
                    <a:lnTo>
                      <a:pt x="2389" y="1963"/>
                    </a:lnTo>
                    <a:lnTo>
                      <a:pt x="2395" y="1968"/>
                    </a:lnTo>
                    <a:lnTo>
                      <a:pt x="2401" y="1974"/>
                    </a:lnTo>
                    <a:lnTo>
                      <a:pt x="2406" y="1980"/>
                    </a:lnTo>
                    <a:lnTo>
                      <a:pt x="2408" y="1983"/>
                    </a:lnTo>
                    <a:lnTo>
                      <a:pt x="2409" y="1986"/>
                    </a:lnTo>
                    <a:lnTo>
                      <a:pt x="2410" y="1989"/>
                    </a:lnTo>
                    <a:lnTo>
                      <a:pt x="2411" y="1993"/>
                    </a:lnTo>
                    <a:lnTo>
                      <a:pt x="2411" y="2000"/>
                    </a:lnTo>
                    <a:lnTo>
                      <a:pt x="2410" y="2003"/>
                    </a:lnTo>
                    <a:lnTo>
                      <a:pt x="2409" y="2006"/>
                    </a:lnTo>
                    <a:lnTo>
                      <a:pt x="2407" y="2009"/>
                    </a:lnTo>
                    <a:lnTo>
                      <a:pt x="2404" y="2012"/>
                    </a:lnTo>
                    <a:lnTo>
                      <a:pt x="2380" y="2037"/>
                    </a:lnTo>
                    <a:lnTo>
                      <a:pt x="2358" y="2061"/>
                    </a:lnTo>
                    <a:lnTo>
                      <a:pt x="2342" y="2078"/>
                    </a:lnTo>
                    <a:lnTo>
                      <a:pt x="2336" y="2085"/>
                    </a:lnTo>
                    <a:lnTo>
                      <a:pt x="2350" y="2201"/>
                    </a:lnTo>
                    <a:lnTo>
                      <a:pt x="2603" y="2233"/>
                    </a:lnTo>
                    <a:lnTo>
                      <a:pt x="2690" y="2160"/>
                    </a:lnTo>
                    <a:lnTo>
                      <a:pt x="2699" y="2133"/>
                    </a:lnTo>
                    <a:lnTo>
                      <a:pt x="2721" y="2069"/>
                    </a:lnTo>
                    <a:lnTo>
                      <a:pt x="2768" y="2121"/>
                    </a:lnTo>
                    <a:lnTo>
                      <a:pt x="2768" y="2217"/>
                    </a:lnTo>
                    <a:lnTo>
                      <a:pt x="2767" y="2225"/>
                    </a:lnTo>
                    <a:lnTo>
                      <a:pt x="2766" y="2232"/>
                    </a:lnTo>
                    <a:lnTo>
                      <a:pt x="2763" y="2238"/>
                    </a:lnTo>
                    <a:lnTo>
                      <a:pt x="2759" y="2244"/>
                    </a:lnTo>
                    <a:lnTo>
                      <a:pt x="2755" y="2249"/>
                    </a:lnTo>
                    <a:lnTo>
                      <a:pt x="2750" y="2255"/>
                    </a:lnTo>
                    <a:lnTo>
                      <a:pt x="2740" y="2264"/>
                    </a:lnTo>
                    <a:lnTo>
                      <a:pt x="2729" y="2274"/>
                    </a:lnTo>
                    <a:lnTo>
                      <a:pt x="2725" y="2279"/>
                    </a:lnTo>
                    <a:lnTo>
                      <a:pt x="2720" y="2285"/>
                    </a:lnTo>
                    <a:lnTo>
                      <a:pt x="2717" y="2291"/>
                    </a:lnTo>
                    <a:lnTo>
                      <a:pt x="2714" y="2297"/>
                    </a:lnTo>
                    <a:lnTo>
                      <a:pt x="2712" y="2304"/>
                    </a:lnTo>
                    <a:lnTo>
                      <a:pt x="2712" y="2309"/>
                    </a:lnTo>
                    <a:lnTo>
                      <a:pt x="2712" y="2313"/>
                    </a:lnTo>
                    <a:lnTo>
                      <a:pt x="2712" y="2321"/>
                    </a:lnTo>
                    <a:lnTo>
                      <a:pt x="2714" y="2330"/>
                    </a:lnTo>
                    <a:lnTo>
                      <a:pt x="2717" y="2337"/>
                    </a:lnTo>
                    <a:lnTo>
                      <a:pt x="2721" y="2344"/>
                    </a:lnTo>
                    <a:lnTo>
                      <a:pt x="2725" y="2350"/>
                    </a:lnTo>
                    <a:lnTo>
                      <a:pt x="2731" y="2355"/>
                    </a:lnTo>
                    <a:lnTo>
                      <a:pt x="2738" y="2360"/>
                    </a:lnTo>
                    <a:lnTo>
                      <a:pt x="2745" y="2364"/>
                    </a:lnTo>
                    <a:lnTo>
                      <a:pt x="2752" y="2368"/>
                    </a:lnTo>
                    <a:lnTo>
                      <a:pt x="2760" y="2372"/>
                    </a:lnTo>
                    <a:lnTo>
                      <a:pt x="2778" y="2378"/>
                    </a:lnTo>
                    <a:lnTo>
                      <a:pt x="2787" y="2381"/>
                    </a:lnTo>
                    <a:lnTo>
                      <a:pt x="2796" y="2383"/>
                    </a:lnTo>
                    <a:lnTo>
                      <a:pt x="2816" y="2388"/>
                    </a:lnTo>
                    <a:lnTo>
                      <a:pt x="2835" y="2393"/>
                    </a:lnTo>
                    <a:lnTo>
                      <a:pt x="2853" y="2399"/>
                    </a:lnTo>
                    <a:lnTo>
                      <a:pt x="2872" y="2405"/>
                    </a:lnTo>
                    <a:lnTo>
                      <a:pt x="2880" y="2408"/>
                    </a:lnTo>
                    <a:lnTo>
                      <a:pt x="2887" y="2412"/>
                    </a:lnTo>
                    <a:lnTo>
                      <a:pt x="2894" y="2417"/>
                    </a:lnTo>
                    <a:lnTo>
                      <a:pt x="2900" y="2422"/>
                    </a:lnTo>
                    <a:lnTo>
                      <a:pt x="2906" y="2427"/>
                    </a:lnTo>
                    <a:lnTo>
                      <a:pt x="2911" y="2433"/>
                    </a:lnTo>
                    <a:lnTo>
                      <a:pt x="2913" y="2436"/>
                    </a:lnTo>
                    <a:lnTo>
                      <a:pt x="2914" y="2440"/>
                    </a:lnTo>
                    <a:lnTo>
                      <a:pt x="2917" y="2447"/>
                    </a:lnTo>
                    <a:lnTo>
                      <a:pt x="2919" y="2455"/>
                    </a:lnTo>
                    <a:lnTo>
                      <a:pt x="2919" y="2460"/>
                    </a:lnTo>
                    <a:lnTo>
                      <a:pt x="2919" y="2465"/>
                    </a:lnTo>
                    <a:lnTo>
                      <a:pt x="2919" y="2468"/>
                    </a:lnTo>
                    <a:lnTo>
                      <a:pt x="2918" y="2471"/>
                    </a:lnTo>
                    <a:lnTo>
                      <a:pt x="2917" y="2474"/>
                    </a:lnTo>
                    <a:lnTo>
                      <a:pt x="2916" y="2476"/>
                    </a:lnTo>
                    <a:lnTo>
                      <a:pt x="2913" y="2480"/>
                    </a:lnTo>
                    <a:lnTo>
                      <a:pt x="2908" y="2484"/>
                    </a:lnTo>
                    <a:lnTo>
                      <a:pt x="2904" y="2488"/>
                    </a:lnTo>
                    <a:lnTo>
                      <a:pt x="2901" y="2492"/>
                    </a:lnTo>
                    <a:lnTo>
                      <a:pt x="2900" y="2495"/>
                    </a:lnTo>
                    <a:lnTo>
                      <a:pt x="2899" y="2497"/>
                    </a:lnTo>
                    <a:lnTo>
                      <a:pt x="2898" y="2500"/>
                    </a:lnTo>
                    <a:lnTo>
                      <a:pt x="2898" y="2503"/>
                    </a:lnTo>
                    <a:lnTo>
                      <a:pt x="2898" y="2507"/>
                    </a:lnTo>
                    <a:lnTo>
                      <a:pt x="2899" y="2511"/>
                    </a:lnTo>
                    <a:lnTo>
                      <a:pt x="2900" y="2515"/>
                    </a:lnTo>
                    <a:lnTo>
                      <a:pt x="2901" y="2518"/>
                    </a:lnTo>
                    <a:lnTo>
                      <a:pt x="2904" y="2525"/>
                    </a:lnTo>
                    <a:lnTo>
                      <a:pt x="2908" y="2531"/>
                    </a:lnTo>
                    <a:lnTo>
                      <a:pt x="2913" y="2537"/>
                    </a:lnTo>
                    <a:lnTo>
                      <a:pt x="2916" y="2543"/>
                    </a:lnTo>
                    <a:lnTo>
                      <a:pt x="2917" y="2547"/>
                    </a:lnTo>
                    <a:lnTo>
                      <a:pt x="2918" y="2550"/>
                    </a:lnTo>
                    <a:lnTo>
                      <a:pt x="2919" y="2554"/>
                    </a:lnTo>
                    <a:lnTo>
                      <a:pt x="2919" y="2558"/>
                    </a:lnTo>
                    <a:lnTo>
                      <a:pt x="2919" y="2562"/>
                    </a:lnTo>
                    <a:lnTo>
                      <a:pt x="2919" y="2565"/>
                    </a:lnTo>
                    <a:lnTo>
                      <a:pt x="2917" y="2568"/>
                    </a:lnTo>
                    <a:lnTo>
                      <a:pt x="2916" y="2570"/>
                    </a:lnTo>
                    <a:lnTo>
                      <a:pt x="2914" y="2573"/>
                    </a:lnTo>
                    <a:lnTo>
                      <a:pt x="2912" y="2575"/>
                    </a:lnTo>
                    <a:lnTo>
                      <a:pt x="2907" y="2579"/>
                    </a:lnTo>
                    <a:lnTo>
                      <a:pt x="2905" y="2581"/>
                    </a:lnTo>
                    <a:lnTo>
                      <a:pt x="2902" y="2582"/>
                    </a:lnTo>
                    <a:lnTo>
                      <a:pt x="2895" y="2584"/>
                    </a:lnTo>
                    <a:lnTo>
                      <a:pt x="2888" y="2585"/>
                    </a:lnTo>
                    <a:lnTo>
                      <a:pt x="2881" y="2586"/>
                    </a:lnTo>
                    <a:lnTo>
                      <a:pt x="2866" y="2586"/>
                    </a:lnTo>
                    <a:lnTo>
                      <a:pt x="2852" y="2585"/>
                    </a:lnTo>
                    <a:lnTo>
                      <a:pt x="2838" y="2584"/>
                    </a:lnTo>
                    <a:lnTo>
                      <a:pt x="2824" y="2582"/>
                    </a:lnTo>
                    <a:lnTo>
                      <a:pt x="2811" y="2580"/>
                    </a:lnTo>
                    <a:lnTo>
                      <a:pt x="2798" y="2578"/>
                    </a:lnTo>
                    <a:lnTo>
                      <a:pt x="2785" y="2575"/>
                    </a:lnTo>
                    <a:lnTo>
                      <a:pt x="2773" y="2572"/>
                    </a:lnTo>
                    <a:lnTo>
                      <a:pt x="2761" y="2568"/>
                    </a:lnTo>
                    <a:lnTo>
                      <a:pt x="2749" y="2564"/>
                    </a:lnTo>
                    <a:lnTo>
                      <a:pt x="2737" y="2560"/>
                    </a:lnTo>
                    <a:lnTo>
                      <a:pt x="2725" y="2555"/>
                    </a:lnTo>
                    <a:lnTo>
                      <a:pt x="2713" y="2550"/>
                    </a:lnTo>
                    <a:lnTo>
                      <a:pt x="2702" y="2544"/>
                    </a:lnTo>
                    <a:lnTo>
                      <a:pt x="2692" y="2539"/>
                    </a:lnTo>
                    <a:lnTo>
                      <a:pt x="2681" y="2532"/>
                    </a:lnTo>
                    <a:lnTo>
                      <a:pt x="2671" y="2526"/>
                    </a:lnTo>
                    <a:lnTo>
                      <a:pt x="2660" y="2519"/>
                    </a:lnTo>
                    <a:lnTo>
                      <a:pt x="2650" y="2511"/>
                    </a:lnTo>
                    <a:lnTo>
                      <a:pt x="2640" y="2503"/>
                    </a:lnTo>
                    <a:lnTo>
                      <a:pt x="2621" y="2487"/>
                    </a:lnTo>
                    <a:lnTo>
                      <a:pt x="2611" y="2478"/>
                    </a:lnTo>
                    <a:lnTo>
                      <a:pt x="2602" y="2469"/>
                    </a:lnTo>
                    <a:lnTo>
                      <a:pt x="2592" y="2459"/>
                    </a:lnTo>
                    <a:lnTo>
                      <a:pt x="2582" y="2449"/>
                    </a:lnTo>
                    <a:lnTo>
                      <a:pt x="2573" y="2439"/>
                    </a:lnTo>
                    <a:lnTo>
                      <a:pt x="2564" y="2428"/>
                    </a:lnTo>
                    <a:lnTo>
                      <a:pt x="2546" y="2407"/>
                    </a:lnTo>
                    <a:lnTo>
                      <a:pt x="2528" y="2384"/>
                    </a:lnTo>
                    <a:lnTo>
                      <a:pt x="2508" y="2356"/>
                    </a:lnTo>
                    <a:lnTo>
                      <a:pt x="2488" y="2330"/>
                    </a:lnTo>
                    <a:lnTo>
                      <a:pt x="2478" y="2317"/>
                    </a:lnTo>
                    <a:lnTo>
                      <a:pt x="2473" y="2311"/>
                    </a:lnTo>
                    <a:lnTo>
                      <a:pt x="2468" y="2304"/>
                    </a:lnTo>
                    <a:lnTo>
                      <a:pt x="2457" y="2293"/>
                    </a:lnTo>
                    <a:lnTo>
                      <a:pt x="2447" y="2282"/>
                    </a:lnTo>
                    <a:lnTo>
                      <a:pt x="2436" y="2272"/>
                    </a:lnTo>
                    <a:lnTo>
                      <a:pt x="2425" y="2264"/>
                    </a:lnTo>
                    <a:lnTo>
                      <a:pt x="2413" y="2256"/>
                    </a:lnTo>
                    <a:lnTo>
                      <a:pt x="2406" y="2252"/>
                    </a:lnTo>
                    <a:lnTo>
                      <a:pt x="2400" y="2249"/>
                    </a:lnTo>
                    <a:lnTo>
                      <a:pt x="2393" y="2246"/>
                    </a:lnTo>
                    <a:lnTo>
                      <a:pt x="2386" y="2244"/>
                    </a:lnTo>
                    <a:lnTo>
                      <a:pt x="2372" y="2240"/>
                    </a:lnTo>
                    <a:lnTo>
                      <a:pt x="2356" y="2238"/>
                    </a:lnTo>
                    <a:lnTo>
                      <a:pt x="2348" y="2237"/>
                    </a:lnTo>
                    <a:lnTo>
                      <a:pt x="2340" y="2237"/>
                    </a:lnTo>
                    <a:lnTo>
                      <a:pt x="2337" y="2237"/>
                    </a:lnTo>
                    <a:lnTo>
                      <a:pt x="2334" y="2238"/>
                    </a:lnTo>
                    <a:lnTo>
                      <a:pt x="2331" y="2239"/>
                    </a:lnTo>
                    <a:lnTo>
                      <a:pt x="2329" y="2241"/>
                    </a:lnTo>
                    <a:lnTo>
                      <a:pt x="2326" y="2243"/>
                    </a:lnTo>
                    <a:lnTo>
                      <a:pt x="2324" y="2246"/>
                    </a:lnTo>
                    <a:lnTo>
                      <a:pt x="2319" y="2251"/>
                    </a:lnTo>
                    <a:lnTo>
                      <a:pt x="2315" y="2256"/>
                    </a:lnTo>
                    <a:lnTo>
                      <a:pt x="2311" y="2260"/>
                    </a:lnTo>
                    <a:lnTo>
                      <a:pt x="2309" y="2262"/>
                    </a:lnTo>
                    <a:lnTo>
                      <a:pt x="2306" y="2263"/>
                    </a:lnTo>
                    <a:lnTo>
                      <a:pt x="2303" y="2264"/>
                    </a:lnTo>
                    <a:lnTo>
                      <a:pt x="2300" y="2264"/>
                    </a:lnTo>
                    <a:lnTo>
                      <a:pt x="2291" y="2264"/>
                    </a:lnTo>
                    <a:lnTo>
                      <a:pt x="2288" y="2263"/>
                    </a:lnTo>
                    <a:lnTo>
                      <a:pt x="2284" y="2262"/>
                    </a:lnTo>
                    <a:lnTo>
                      <a:pt x="2277" y="2260"/>
                    </a:lnTo>
                    <a:lnTo>
                      <a:pt x="2270" y="2257"/>
                    </a:lnTo>
                    <a:lnTo>
                      <a:pt x="2264" y="2253"/>
                    </a:lnTo>
                    <a:lnTo>
                      <a:pt x="2259" y="2248"/>
                    </a:lnTo>
                    <a:lnTo>
                      <a:pt x="2254" y="2243"/>
                    </a:lnTo>
                    <a:lnTo>
                      <a:pt x="2249" y="2237"/>
                    </a:lnTo>
                    <a:lnTo>
                      <a:pt x="2240" y="2223"/>
                    </a:lnTo>
                    <a:lnTo>
                      <a:pt x="2233" y="2209"/>
                    </a:lnTo>
                    <a:lnTo>
                      <a:pt x="2227" y="2193"/>
                    </a:lnTo>
                    <a:lnTo>
                      <a:pt x="2220" y="2177"/>
                    </a:lnTo>
                    <a:lnTo>
                      <a:pt x="2215" y="2178"/>
                    </a:lnTo>
                    <a:lnTo>
                      <a:pt x="2209" y="2178"/>
                    </a:lnTo>
                    <a:lnTo>
                      <a:pt x="2204" y="2177"/>
                    </a:lnTo>
                    <a:lnTo>
                      <a:pt x="2200" y="2175"/>
                    </a:lnTo>
                    <a:lnTo>
                      <a:pt x="2197" y="2174"/>
                    </a:lnTo>
                    <a:lnTo>
                      <a:pt x="2195" y="2173"/>
                    </a:lnTo>
                    <a:lnTo>
                      <a:pt x="2191" y="2170"/>
                    </a:lnTo>
                    <a:lnTo>
                      <a:pt x="2187" y="2167"/>
                    </a:lnTo>
                    <a:lnTo>
                      <a:pt x="2182" y="2164"/>
                    </a:lnTo>
                    <a:lnTo>
                      <a:pt x="2175" y="2156"/>
                    </a:lnTo>
                    <a:lnTo>
                      <a:pt x="2167" y="2146"/>
                    </a:lnTo>
                    <a:lnTo>
                      <a:pt x="2159" y="2138"/>
                    </a:lnTo>
                    <a:lnTo>
                      <a:pt x="2155" y="2134"/>
                    </a:lnTo>
                    <a:lnTo>
                      <a:pt x="2151" y="2130"/>
                    </a:lnTo>
                    <a:lnTo>
                      <a:pt x="2145" y="2126"/>
                    </a:lnTo>
                    <a:lnTo>
                      <a:pt x="2138" y="2123"/>
                    </a:lnTo>
                    <a:lnTo>
                      <a:pt x="2132" y="2120"/>
                    </a:lnTo>
                    <a:lnTo>
                      <a:pt x="2126" y="2118"/>
                    </a:lnTo>
                    <a:lnTo>
                      <a:pt x="2113" y="2116"/>
                    </a:lnTo>
                    <a:lnTo>
                      <a:pt x="2100" y="2114"/>
                    </a:lnTo>
                    <a:lnTo>
                      <a:pt x="2087" y="2113"/>
                    </a:lnTo>
                    <a:lnTo>
                      <a:pt x="2074" y="2112"/>
                    </a:lnTo>
                    <a:lnTo>
                      <a:pt x="2068" y="2110"/>
                    </a:lnTo>
                    <a:lnTo>
                      <a:pt x="2062" y="2108"/>
                    </a:lnTo>
                    <a:lnTo>
                      <a:pt x="2056" y="2106"/>
                    </a:lnTo>
                    <a:lnTo>
                      <a:pt x="2050" y="2102"/>
                    </a:lnTo>
                    <a:lnTo>
                      <a:pt x="2021" y="2102"/>
                    </a:lnTo>
                    <a:lnTo>
                      <a:pt x="2021" y="2097"/>
                    </a:lnTo>
                    <a:lnTo>
                      <a:pt x="2022" y="2092"/>
                    </a:lnTo>
                    <a:lnTo>
                      <a:pt x="2025" y="2082"/>
                    </a:lnTo>
                    <a:lnTo>
                      <a:pt x="2027" y="2078"/>
                    </a:lnTo>
                    <a:lnTo>
                      <a:pt x="2029" y="2073"/>
                    </a:lnTo>
                    <a:lnTo>
                      <a:pt x="2034" y="2065"/>
                    </a:lnTo>
                    <a:lnTo>
                      <a:pt x="2039" y="2058"/>
                    </a:lnTo>
                    <a:lnTo>
                      <a:pt x="2045" y="2050"/>
                    </a:lnTo>
                    <a:lnTo>
                      <a:pt x="2059" y="2036"/>
                    </a:lnTo>
                    <a:lnTo>
                      <a:pt x="2072" y="2023"/>
                    </a:lnTo>
                    <a:lnTo>
                      <a:pt x="2078" y="2015"/>
                    </a:lnTo>
                    <a:lnTo>
                      <a:pt x="2083" y="2008"/>
                    </a:lnTo>
                    <a:lnTo>
                      <a:pt x="2088" y="2000"/>
                    </a:lnTo>
                    <a:lnTo>
                      <a:pt x="2091" y="1990"/>
                    </a:lnTo>
                    <a:lnTo>
                      <a:pt x="2092" y="1985"/>
                    </a:lnTo>
                    <a:lnTo>
                      <a:pt x="2093" y="1980"/>
                    </a:lnTo>
                    <a:lnTo>
                      <a:pt x="2094" y="1975"/>
                    </a:lnTo>
                    <a:lnTo>
                      <a:pt x="2094" y="1970"/>
                    </a:lnTo>
                    <a:lnTo>
                      <a:pt x="2094" y="1967"/>
                    </a:lnTo>
                    <a:lnTo>
                      <a:pt x="2093" y="1964"/>
                    </a:lnTo>
                    <a:lnTo>
                      <a:pt x="2090" y="1959"/>
                    </a:lnTo>
                    <a:lnTo>
                      <a:pt x="2089" y="1957"/>
                    </a:lnTo>
                    <a:lnTo>
                      <a:pt x="2087" y="1954"/>
                    </a:lnTo>
                    <a:lnTo>
                      <a:pt x="2082" y="1950"/>
                    </a:lnTo>
                    <a:lnTo>
                      <a:pt x="2078" y="1946"/>
                    </a:lnTo>
                    <a:lnTo>
                      <a:pt x="2075" y="1942"/>
                    </a:lnTo>
                    <a:lnTo>
                      <a:pt x="2073" y="1940"/>
                    </a:lnTo>
                    <a:lnTo>
                      <a:pt x="2072" y="1937"/>
                    </a:lnTo>
                    <a:lnTo>
                      <a:pt x="2071" y="1934"/>
                    </a:lnTo>
                    <a:lnTo>
                      <a:pt x="2071" y="1931"/>
                    </a:lnTo>
                    <a:lnTo>
                      <a:pt x="2071" y="1925"/>
                    </a:lnTo>
                    <a:lnTo>
                      <a:pt x="2072" y="1919"/>
                    </a:lnTo>
                    <a:lnTo>
                      <a:pt x="2075" y="1909"/>
                    </a:lnTo>
                    <a:lnTo>
                      <a:pt x="2077" y="1898"/>
                    </a:lnTo>
                    <a:lnTo>
                      <a:pt x="2078" y="1892"/>
                    </a:lnTo>
                    <a:lnTo>
                      <a:pt x="2079" y="1886"/>
                    </a:lnTo>
                    <a:lnTo>
                      <a:pt x="2078" y="1880"/>
                    </a:lnTo>
                    <a:lnTo>
                      <a:pt x="2077" y="1875"/>
                    </a:lnTo>
                    <a:lnTo>
                      <a:pt x="2076" y="1872"/>
                    </a:lnTo>
                    <a:lnTo>
                      <a:pt x="2074" y="1870"/>
                    </a:lnTo>
                    <a:lnTo>
                      <a:pt x="2072" y="1866"/>
                    </a:lnTo>
                    <a:lnTo>
                      <a:pt x="2068" y="1862"/>
                    </a:lnTo>
                    <a:lnTo>
                      <a:pt x="2064" y="1858"/>
                    </a:lnTo>
                    <a:lnTo>
                      <a:pt x="2056" y="1850"/>
                    </a:lnTo>
                    <a:lnTo>
                      <a:pt x="2047" y="1842"/>
                    </a:lnTo>
                    <a:lnTo>
                      <a:pt x="2043" y="1838"/>
                    </a:lnTo>
                    <a:lnTo>
                      <a:pt x="2039" y="1834"/>
                    </a:lnTo>
                    <a:lnTo>
                      <a:pt x="2037" y="1830"/>
                    </a:lnTo>
                    <a:lnTo>
                      <a:pt x="2034" y="1825"/>
                    </a:lnTo>
                    <a:lnTo>
                      <a:pt x="2033" y="1820"/>
                    </a:lnTo>
                    <a:lnTo>
                      <a:pt x="2032" y="1814"/>
                    </a:lnTo>
                    <a:lnTo>
                      <a:pt x="2033" y="1808"/>
                    </a:lnTo>
                    <a:lnTo>
                      <a:pt x="2033" y="1803"/>
                    </a:lnTo>
                    <a:lnTo>
                      <a:pt x="2035" y="1793"/>
                    </a:lnTo>
                    <a:lnTo>
                      <a:pt x="2038" y="1784"/>
                    </a:lnTo>
                    <a:lnTo>
                      <a:pt x="2040" y="1773"/>
                    </a:lnTo>
                    <a:lnTo>
                      <a:pt x="2026" y="1770"/>
                    </a:lnTo>
                    <a:lnTo>
                      <a:pt x="2019" y="1768"/>
                    </a:lnTo>
                    <a:lnTo>
                      <a:pt x="2013" y="1765"/>
                    </a:lnTo>
                    <a:lnTo>
                      <a:pt x="2006" y="1763"/>
                    </a:lnTo>
                    <a:lnTo>
                      <a:pt x="2000" y="1760"/>
                    </a:lnTo>
                    <a:lnTo>
                      <a:pt x="1994" y="1756"/>
                    </a:lnTo>
                    <a:lnTo>
                      <a:pt x="1989" y="1753"/>
                    </a:lnTo>
                    <a:lnTo>
                      <a:pt x="1984" y="1749"/>
                    </a:lnTo>
                    <a:lnTo>
                      <a:pt x="1980" y="1744"/>
                    </a:lnTo>
                    <a:lnTo>
                      <a:pt x="1976" y="1739"/>
                    </a:lnTo>
                    <a:lnTo>
                      <a:pt x="1973" y="1734"/>
                    </a:lnTo>
                    <a:lnTo>
                      <a:pt x="1970" y="1728"/>
                    </a:lnTo>
                    <a:lnTo>
                      <a:pt x="1969" y="1722"/>
                    </a:lnTo>
                    <a:lnTo>
                      <a:pt x="1968" y="1719"/>
                    </a:lnTo>
                    <a:lnTo>
                      <a:pt x="1968" y="1716"/>
                    </a:lnTo>
                    <a:lnTo>
                      <a:pt x="1968" y="1709"/>
                    </a:lnTo>
                    <a:lnTo>
                      <a:pt x="1953" y="1705"/>
                    </a:lnTo>
                    <a:lnTo>
                      <a:pt x="1942" y="1713"/>
                    </a:lnTo>
                    <a:lnTo>
                      <a:pt x="1939" y="1714"/>
                    </a:lnTo>
                    <a:lnTo>
                      <a:pt x="1936" y="1716"/>
                    </a:lnTo>
                    <a:lnTo>
                      <a:pt x="1933" y="1716"/>
                    </a:lnTo>
                    <a:lnTo>
                      <a:pt x="1930" y="1717"/>
                    </a:lnTo>
                    <a:lnTo>
                      <a:pt x="1926" y="1716"/>
                    </a:lnTo>
                    <a:lnTo>
                      <a:pt x="1922" y="1716"/>
                    </a:lnTo>
                    <a:lnTo>
                      <a:pt x="1915" y="1713"/>
                    </a:lnTo>
                    <a:lnTo>
                      <a:pt x="1907" y="1710"/>
                    </a:lnTo>
                    <a:lnTo>
                      <a:pt x="1904" y="1709"/>
                    </a:lnTo>
                    <a:lnTo>
                      <a:pt x="1900" y="1709"/>
                    </a:lnTo>
                    <a:lnTo>
                      <a:pt x="1895" y="1709"/>
                    </a:lnTo>
                    <a:lnTo>
                      <a:pt x="1890" y="1710"/>
                    </a:lnTo>
                    <a:lnTo>
                      <a:pt x="1886" y="1712"/>
                    </a:lnTo>
                    <a:lnTo>
                      <a:pt x="1882" y="1714"/>
                    </a:lnTo>
                    <a:lnTo>
                      <a:pt x="1879" y="1717"/>
                    </a:lnTo>
                    <a:lnTo>
                      <a:pt x="1875" y="1720"/>
                    </a:lnTo>
                    <a:lnTo>
                      <a:pt x="1870" y="1727"/>
                    </a:lnTo>
                    <a:lnTo>
                      <a:pt x="1865" y="1736"/>
                    </a:lnTo>
                    <a:lnTo>
                      <a:pt x="1861" y="1745"/>
                    </a:lnTo>
                    <a:lnTo>
                      <a:pt x="1855" y="1765"/>
                    </a:lnTo>
                    <a:lnTo>
                      <a:pt x="1851" y="1759"/>
                    </a:lnTo>
                    <a:lnTo>
                      <a:pt x="1846" y="1755"/>
                    </a:lnTo>
                    <a:lnTo>
                      <a:pt x="1838" y="1746"/>
                    </a:lnTo>
                    <a:lnTo>
                      <a:pt x="1835" y="1743"/>
                    </a:lnTo>
                    <a:lnTo>
                      <a:pt x="1834" y="1741"/>
                    </a:lnTo>
                    <a:lnTo>
                      <a:pt x="1831" y="1736"/>
                    </a:lnTo>
                    <a:lnTo>
                      <a:pt x="1829" y="1733"/>
                    </a:lnTo>
                    <a:lnTo>
                      <a:pt x="1828" y="1730"/>
                    </a:lnTo>
                    <a:lnTo>
                      <a:pt x="1828" y="1727"/>
                    </a:lnTo>
                    <a:lnTo>
                      <a:pt x="1828" y="1724"/>
                    </a:lnTo>
                    <a:lnTo>
                      <a:pt x="1828" y="1720"/>
                    </a:lnTo>
                    <a:lnTo>
                      <a:pt x="1828" y="1717"/>
                    </a:lnTo>
                    <a:lnTo>
                      <a:pt x="1829" y="1714"/>
                    </a:lnTo>
                    <a:lnTo>
                      <a:pt x="1831" y="1711"/>
                    </a:lnTo>
                    <a:lnTo>
                      <a:pt x="1834" y="1706"/>
                    </a:lnTo>
                    <a:lnTo>
                      <a:pt x="1837" y="1701"/>
                    </a:lnTo>
                    <a:lnTo>
                      <a:pt x="1841" y="1696"/>
                    </a:lnTo>
                    <a:lnTo>
                      <a:pt x="1844" y="1691"/>
                    </a:lnTo>
                    <a:lnTo>
                      <a:pt x="1845" y="1687"/>
                    </a:lnTo>
                    <a:lnTo>
                      <a:pt x="1846" y="1684"/>
                    </a:lnTo>
                    <a:lnTo>
                      <a:pt x="1847" y="1681"/>
                    </a:lnTo>
                    <a:lnTo>
                      <a:pt x="1847" y="1677"/>
                    </a:lnTo>
                    <a:lnTo>
                      <a:pt x="1846" y="1669"/>
                    </a:lnTo>
                    <a:lnTo>
                      <a:pt x="1845" y="1662"/>
                    </a:lnTo>
                    <a:lnTo>
                      <a:pt x="1844" y="1654"/>
                    </a:lnTo>
                    <a:lnTo>
                      <a:pt x="1841" y="1647"/>
                    </a:lnTo>
                    <a:lnTo>
                      <a:pt x="1838" y="1640"/>
                    </a:lnTo>
                    <a:lnTo>
                      <a:pt x="1836" y="1637"/>
                    </a:lnTo>
                    <a:lnTo>
                      <a:pt x="1834" y="1634"/>
                    </a:lnTo>
                    <a:lnTo>
                      <a:pt x="1830" y="1627"/>
                    </a:lnTo>
                    <a:lnTo>
                      <a:pt x="1825" y="1622"/>
                    </a:lnTo>
                    <a:lnTo>
                      <a:pt x="1820" y="1616"/>
                    </a:lnTo>
                    <a:lnTo>
                      <a:pt x="1814" y="1612"/>
                    </a:lnTo>
                    <a:lnTo>
                      <a:pt x="1808" y="1608"/>
                    </a:lnTo>
                    <a:lnTo>
                      <a:pt x="1801" y="1604"/>
                    </a:lnTo>
                    <a:lnTo>
                      <a:pt x="1795" y="1601"/>
                    </a:lnTo>
                    <a:lnTo>
                      <a:pt x="1787" y="1599"/>
                    </a:lnTo>
                    <a:lnTo>
                      <a:pt x="1780" y="1598"/>
                    </a:lnTo>
                    <a:lnTo>
                      <a:pt x="1771" y="1598"/>
                    </a:lnTo>
                    <a:lnTo>
                      <a:pt x="1769" y="1598"/>
                    </a:lnTo>
                    <a:lnTo>
                      <a:pt x="1767" y="1599"/>
                    </a:lnTo>
                    <a:lnTo>
                      <a:pt x="1766" y="1601"/>
                    </a:lnTo>
                    <a:lnTo>
                      <a:pt x="1765" y="1603"/>
                    </a:lnTo>
                    <a:lnTo>
                      <a:pt x="1763" y="1607"/>
                    </a:lnTo>
                    <a:lnTo>
                      <a:pt x="1761" y="1609"/>
                    </a:lnTo>
                    <a:lnTo>
                      <a:pt x="1759" y="1609"/>
                    </a:lnTo>
                    <a:lnTo>
                      <a:pt x="1755" y="1609"/>
                    </a:lnTo>
                    <a:lnTo>
                      <a:pt x="1751" y="1608"/>
                    </a:lnTo>
                    <a:lnTo>
                      <a:pt x="1748" y="1607"/>
                    </a:lnTo>
                    <a:lnTo>
                      <a:pt x="1744" y="1606"/>
                    </a:lnTo>
                    <a:lnTo>
                      <a:pt x="1737" y="1603"/>
                    </a:lnTo>
                    <a:lnTo>
                      <a:pt x="1730" y="1601"/>
                    </a:lnTo>
                    <a:lnTo>
                      <a:pt x="1729" y="1595"/>
                    </a:lnTo>
                    <a:lnTo>
                      <a:pt x="1727" y="1589"/>
                    </a:lnTo>
                    <a:lnTo>
                      <a:pt x="1726" y="1583"/>
                    </a:lnTo>
                    <a:lnTo>
                      <a:pt x="1726" y="1576"/>
                    </a:lnTo>
                    <a:lnTo>
                      <a:pt x="1726" y="1572"/>
                    </a:lnTo>
                    <a:lnTo>
                      <a:pt x="1727" y="1568"/>
                    </a:lnTo>
                    <a:lnTo>
                      <a:pt x="1729" y="1564"/>
                    </a:lnTo>
                    <a:lnTo>
                      <a:pt x="1732" y="1560"/>
                    </a:lnTo>
                    <a:lnTo>
                      <a:pt x="1734" y="1557"/>
                    </a:lnTo>
                    <a:lnTo>
                      <a:pt x="1738" y="1554"/>
                    </a:lnTo>
                    <a:lnTo>
                      <a:pt x="1744" y="1548"/>
                    </a:lnTo>
                    <a:lnTo>
                      <a:pt x="1751" y="1542"/>
                    </a:lnTo>
                    <a:lnTo>
                      <a:pt x="1755" y="1539"/>
                    </a:lnTo>
                    <a:lnTo>
                      <a:pt x="1757" y="1536"/>
                    </a:lnTo>
                    <a:lnTo>
                      <a:pt x="1760" y="1531"/>
                    </a:lnTo>
                    <a:lnTo>
                      <a:pt x="1762" y="1528"/>
                    </a:lnTo>
                    <a:lnTo>
                      <a:pt x="1763" y="1523"/>
                    </a:lnTo>
                    <a:lnTo>
                      <a:pt x="1763" y="1519"/>
                    </a:lnTo>
                    <a:lnTo>
                      <a:pt x="1763" y="1510"/>
                    </a:lnTo>
                    <a:lnTo>
                      <a:pt x="1762" y="1503"/>
                    </a:lnTo>
                    <a:lnTo>
                      <a:pt x="1760" y="1496"/>
                    </a:lnTo>
                    <a:lnTo>
                      <a:pt x="1757" y="1489"/>
                    </a:lnTo>
                    <a:lnTo>
                      <a:pt x="1754" y="1482"/>
                    </a:lnTo>
                    <a:lnTo>
                      <a:pt x="1750" y="1477"/>
                    </a:lnTo>
                    <a:lnTo>
                      <a:pt x="1745" y="1471"/>
                    </a:lnTo>
                    <a:lnTo>
                      <a:pt x="1740" y="1466"/>
                    </a:lnTo>
                    <a:lnTo>
                      <a:pt x="1735" y="1461"/>
                    </a:lnTo>
                    <a:lnTo>
                      <a:pt x="1729" y="1456"/>
                    </a:lnTo>
                    <a:lnTo>
                      <a:pt x="1716" y="1447"/>
                    </a:lnTo>
                    <a:lnTo>
                      <a:pt x="1702" y="1439"/>
                    </a:lnTo>
                    <a:lnTo>
                      <a:pt x="1688" y="1432"/>
                    </a:lnTo>
                    <a:lnTo>
                      <a:pt x="1658" y="1417"/>
                    </a:lnTo>
                    <a:lnTo>
                      <a:pt x="1644" y="1409"/>
                    </a:lnTo>
                    <a:lnTo>
                      <a:pt x="1630" y="1401"/>
                    </a:lnTo>
                    <a:lnTo>
                      <a:pt x="1623" y="1397"/>
                    </a:lnTo>
                    <a:lnTo>
                      <a:pt x="1617" y="1392"/>
                    </a:lnTo>
                    <a:lnTo>
                      <a:pt x="1612" y="1387"/>
                    </a:lnTo>
                    <a:lnTo>
                      <a:pt x="1607" y="1382"/>
                    </a:lnTo>
                    <a:lnTo>
                      <a:pt x="1603" y="1375"/>
                    </a:lnTo>
                    <a:lnTo>
                      <a:pt x="1599" y="1369"/>
                    </a:lnTo>
                    <a:lnTo>
                      <a:pt x="1595" y="1363"/>
                    </a:lnTo>
                    <a:lnTo>
                      <a:pt x="1593" y="1356"/>
                    </a:lnTo>
                    <a:lnTo>
                      <a:pt x="1586" y="1366"/>
                    </a:lnTo>
                    <a:lnTo>
                      <a:pt x="1582" y="1374"/>
                    </a:lnTo>
                    <a:lnTo>
                      <a:pt x="1579" y="1382"/>
                    </a:lnTo>
                    <a:lnTo>
                      <a:pt x="1578" y="1384"/>
                    </a:lnTo>
                    <a:lnTo>
                      <a:pt x="1578" y="1387"/>
                    </a:lnTo>
                    <a:lnTo>
                      <a:pt x="1574" y="1387"/>
                    </a:lnTo>
                    <a:lnTo>
                      <a:pt x="1570" y="1389"/>
                    </a:lnTo>
                    <a:lnTo>
                      <a:pt x="1567" y="1390"/>
                    </a:lnTo>
                    <a:lnTo>
                      <a:pt x="1563" y="1391"/>
                    </a:lnTo>
                    <a:lnTo>
                      <a:pt x="1556" y="1390"/>
                    </a:lnTo>
                    <a:lnTo>
                      <a:pt x="1553" y="1389"/>
                    </a:lnTo>
                    <a:lnTo>
                      <a:pt x="1550" y="1389"/>
                    </a:lnTo>
                    <a:lnTo>
                      <a:pt x="1544" y="1386"/>
                    </a:lnTo>
                    <a:lnTo>
                      <a:pt x="1539" y="1383"/>
                    </a:lnTo>
                    <a:lnTo>
                      <a:pt x="1535" y="1378"/>
                    </a:lnTo>
                    <a:lnTo>
                      <a:pt x="1531" y="1373"/>
                    </a:lnTo>
                    <a:lnTo>
                      <a:pt x="1528" y="1367"/>
                    </a:lnTo>
                    <a:lnTo>
                      <a:pt x="1526" y="1361"/>
                    </a:lnTo>
                    <a:lnTo>
                      <a:pt x="1523" y="1354"/>
                    </a:lnTo>
                    <a:lnTo>
                      <a:pt x="1521" y="1347"/>
                    </a:lnTo>
                    <a:lnTo>
                      <a:pt x="1519" y="1332"/>
                    </a:lnTo>
                    <a:lnTo>
                      <a:pt x="1517" y="1315"/>
                    </a:lnTo>
                    <a:lnTo>
                      <a:pt x="1515" y="1298"/>
                    </a:lnTo>
                    <a:lnTo>
                      <a:pt x="1514" y="1281"/>
                    </a:lnTo>
                    <a:lnTo>
                      <a:pt x="1512" y="1264"/>
                    </a:lnTo>
                    <a:lnTo>
                      <a:pt x="1509" y="1249"/>
                    </a:lnTo>
                    <a:lnTo>
                      <a:pt x="1507" y="1241"/>
                    </a:lnTo>
                    <a:lnTo>
                      <a:pt x="1505" y="1235"/>
                    </a:lnTo>
                    <a:lnTo>
                      <a:pt x="1502" y="1229"/>
                    </a:lnTo>
                    <a:lnTo>
                      <a:pt x="1498" y="1222"/>
                    </a:lnTo>
                    <a:lnTo>
                      <a:pt x="1496" y="1219"/>
                    </a:lnTo>
                    <a:lnTo>
                      <a:pt x="1494" y="1217"/>
                    </a:lnTo>
                    <a:lnTo>
                      <a:pt x="1490" y="1213"/>
                    </a:lnTo>
                    <a:lnTo>
                      <a:pt x="1488" y="1211"/>
                    </a:lnTo>
                    <a:lnTo>
                      <a:pt x="1485" y="1210"/>
                    </a:lnTo>
                    <a:lnTo>
                      <a:pt x="1480" y="1207"/>
                    </a:lnTo>
                    <a:lnTo>
                      <a:pt x="1477" y="1206"/>
                    </a:lnTo>
                    <a:lnTo>
                      <a:pt x="1473" y="1206"/>
                    </a:lnTo>
                    <a:lnTo>
                      <a:pt x="1466" y="1205"/>
                    </a:lnTo>
                    <a:lnTo>
                      <a:pt x="1461" y="1205"/>
                    </a:lnTo>
                    <a:lnTo>
                      <a:pt x="1456" y="1206"/>
                    </a:lnTo>
                    <a:lnTo>
                      <a:pt x="1451" y="1207"/>
                    </a:lnTo>
                    <a:lnTo>
                      <a:pt x="1447" y="1208"/>
                    </a:lnTo>
                    <a:lnTo>
                      <a:pt x="1443" y="1210"/>
                    </a:lnTo>
                    <a:lnTo>
                      <a:pt x="1439" y="1212"/>
                    </a:lnTo>
                    <a:lnTo>
                      <a:pt x="1431" y="1217"/>
                    </a:lnTo>
                    <a:lnTo>
                      <a:pt x="1428" y="1220"/>
                    </a:lnTo>
                    <a:lnTo>
                      <a:pt x="1425" y="1223"/>
                    </a:lnTo>
                    <a:lnTo>
                      <a:pt x="1420" y="1231"/>
                    </a:lnTo>
                    <a:lnTo>
                      <a:pt x="1414" y="1239"/>
                    </a:lnTo>
                    <a:lnTo>
                      <a:pt x="1410" y="1248"/>
                    </a:lnTo>
                    <a:lnTo>
                      <a:pt x="1401" y="1266"/>
                    </a:lnTo>
                    <a:lnTo>
                      <a:pt x="1392" y="1286"/>
                    </a:lnTo>
                    <a:lnTo>
                      <a:pt x="1387" y="1295"/>
                    </a:lnTo>
                    <a:lnTo>
                      <a:pt x="1382" y="1305"/>
                    </a:lnTo>
                    <a:lnTo>
                      <a:pt x="1379" y="1309"/>
                    </a:lnTo>
                    <a:lnTo>
                      <a:pt x="1376" y="1314"/>
                    </a:lnTo>
                    <a:lnTo>
                      <a:pt x="1369" y="1322"/>
                    </a:lnTo>
                    <a:lnTo>
                      <a:pt x="1359" y="1332"/>
                    </a:lnTo>
                    <a:lnTo>
                      <a:pt x="1350" y="1341"/>
                    </a:lnTo>
                    <a:lnTo>
                      <a:pt x="1341" y="1350"/>
                    </a:lnTo>
                    <a:lnTo>
                      <a:pt x="1332" y="1358"/>
                    </a:lnTo>
                    <a:lnTo>
                      <a:pt x="1313" y="1373"/>
                    </a:lnTo>
                    <a:lnTo>
                      <a:pt x="1305" y="1382"/>
                    </a:lnTo>
                    <a:lnTo>
                      <a:pt x="1296" y="1390"/>
                    </a:lnTo>
                    <a:lnTo>
                      <a:pt x="1289" y="1398"/>
                    </a:lnTo>
                    <a:lnTo>
                      <a:pt x="1282" y="1406"/>
                    </a:lnTo>
                    <a:lnTo>
                      <a:pt x="1275" y="1415"/>
                    </a:lnTo>
                    <a:lnTo>
                      <a:pt x="1270" y="1424"/>
                    </a:lnTo>
                    <a:lnTo>
                      <a:pt x="1265" y="1434"/>
                    </a:lnTo>
                    <a:lnTo>
                      <a:pt x="1264" y="1439"/>
                    </a:lnTo>
                    <a:lnTo>
                      <a:pt x="1262" y="1445"/>
                    </a:lnTo>
                    <a:lnTo>
                      <a:pt x="1261" y="1451"/>
                    </a:lnTo>
                    <a:lnTo>
                      <a:pt x="1260" y="1457"/>
                    </a:lnTo>
                    <a:lnTo>
                      <a:pt x="1260" y="1463"/>
                    </a:lnTo>
                    <a:lnTo>
                      <a:pt x="1259" y="1469"/>
                    </a:lnTo>
                    <a:lnTo>
                      <a:pt x="1260" y="1475"/>
                    </a:lnTo>
                    <a:lnTo>
                      <a:pt x="1261" y="1480"/>
                    </a:lnTo>
                    <a:lnTo>
                      <a:pt x="1263" y="1489"/>
                    </a:lnTo>
                    <a:lnTo>
                      <a:pt x="1266" y="1498"/>
                    </a:lnTo>
                    <a:lnTo>
                      <a:pt x="1267" y="1503"/>
                    </a:lnTo>
                    <a:lnTo>
                      <a:pt x="1267" y="1509"/>
                    </a:lnTo>
                    <a:lnTo>
                      <a:pt x="1267" y="1518"/>
                    </a:lnTo>
                    <a:lnTo>
                      <a:pt x="1266" y="1522"/>
                    </a:lnTo>
                    <a:lnTo>
                      <a:pt x="1265" y="1526"/>
                    </a:lnTo>
                    <a:lnTo>
                      <a:pt x="1264" y="1529"/>
                    </a:lnTo>
                    <a:lnTo>
                      <a:pt x="1263" y="1533"/>
                    </a:lnTo>
                    <a:lnTo>
                      <a:pt x="1260" y="1540"/>
                    </a:lnTo>
                    <a:lnTo>
                      <a:pt x="1256" y="1547"/>
                    </a:lnTo>
                    <a:lnTo>
                      <a:pt x="1252" y="1552"/>
                    </a:lnTo>
                    <a:lnTo>
                      <a:pt x="1247" y="1557"/>
                    </a:lnTo>
                    <a:lnTo>
                      <a:pt x="1241" y="1562"/>
                    </a:lnTo>
                    <a:lnTo>
                      <a:pt x="1088" y="1914"/>
                    </a:lnTo>
                    <a:lnTo>
                      <a:pt x="1083" y="1918"/>
                    </a:lnTo>
                    <a:lnTo>
                      <a:pt x="1078" y="1922"/>
                    </a:lnTo>
                    <a:lnTo>
                      <a:pt x="1075" y="1924"/>
                    </a:lnTo>
                    <a:lnTo>
                      <a:pt x="1072" y="1926"/>
                    </a:lnTo>
                    <a:lnTo>
                      <a:pt x="1065" y="1929"/>
                    </a:lnTo>
                    <a:lnTo>
                      <a:pt x="1062" y="1930"/>
                    </a:lnTo>
                    <a:lnTo>
                      <a:pt x="1058" y="1930"/>
                    </a:lnTo>
                    <a:lnTo>
                      <a:pt x="1055" y="1930"/>
                    </a:lnTo>
                    <a:lnTo>
                      <a:pt x="1052" y="1929"/>
                    </a:lnTo>
                    <a:lnTo>
                      <a:pt x="1048" y="1927"/>
                    </a:lnTo>
                    <a:lnTo>
                      <a:pt x="1046" y="1924"/>
                    </a:lnTo>
                    <a:lnTo>
                      <a:pt x="1044" y="1922"/>
                    </a:lnTo>
                    <a:lnTo>
                      <a:pt x="1042" y="1920"/>
                    </a:lnTo>
                    <a:lnTo>
                      <a:pt x="1034" y="1915"/>
                    </a:lnTo>
                    <a:lnTo>
                      <a:pt x="1025" y="1908"/>
                    </a:lnTo>
                    <a:lnTo>
                      <a:pt x="1013" y="1901"/>
                    </a:lnTo>
                    <a:lnTo>
                      <a:pt x="986" y="1884"/>
                    </a:lnTo>
                    <a:lnTo>
                      <a:pt x="956" y="1867"/>
                    </a:lnTo>
                    <a:lnTo>
                      <a:pt x="900" y="1835"/>
                    </a:lnTo>
                    <a:lnTo>
                      <a:pt x="876" y="1822"/>
                    </a:lnTo>
                    <a:lnTo>
                      <a:pt x="666" y="1951"/>
                    </a:lnTo>
                    <a:lnTo>
                      <a:pt x="585" y="2035"/>
                    </a:lnTo>
                    <a:lnTo>
                      <a:pt x="581" y="2036"/>
                    </a:lnTo>
                    <a:lnTo>
                      <a:pt x="576" y="2037"/>
                    </a:lnTo>
                    <a:lnTo>
                      <a:pt x="571" y="2038"/>
                    </a:lnTo>
                    <a:lnTo>
                      <a:pt x="564" y="2038"/>
                    </a:lnTo>
                    <a:lnTo>
                      <a:pt x="557" y="2037"/>
                    </a:lnTo>
                    <a:lnTo>
                      <a:pt x="553" y="2036"/>
                    </a:lnTo>
                    <a:lnTo>
                      <a:pt x="550" y="2035"/>
                    </a:lnTo>
                    <a:lnTo>
                      <a:pt x="546" y="2033"/>
                    </a:lnTo>
                    <a:lnTo>
                      <a:pt x="541" y="2031"/>
                    </a:lnTo>
                    <a:lnTo>
                      <a:pt x="538" y="2030"/>
                    </a:lnTo>
                    <a:lnTo>
                      <a:pt x="535" y="2029"/>
                    </a:lnTo>
                    <a:lnTo>
                      <a:pt x="533" y="2029"/>
                    </a:lnTo>
                    <a:lnTo>
                      <a:pt x="531" y="2030"/>
                    </a:lnTo>
                    <a:lnTo>
                      <a:pt x="530" y="2031"/>
                    </a:lnTo>
                    <a:lnTo>
                      <a:pt x="529" y="2033"/>
                    </a:lnTo>
                    <a:lnTo>
                      <a:pt x="527" y="2038"/>
                    </a:lnTo>
                    <a:lnTo>
                      <a:pt x="523" y="2053"/>
                    </a:lnTo>
                    <a:lnTo>
                      <a:pt x="520" y="2061"/>
                    </a:lnTo>
                    <a:lnTo>
                      <a:pt x="518" y="2065"/>
                    </a:lnTo>
                    <a:lnTo>
                      <a:pt x="516" y="2068"/>
                    </a:lnTo>
                    <a:lnTo>
                      <a:pt x="513" y="2072"/>
                    </a:lnTo>
                    <a:lnTo>
                      <a:pt x="510" y="2074"/>
                    </a:lnTo>
                    <a:lnTo>
                      <a:pt x="507" y="2076"/>
                    </a:lnTo>
                    <a:lnTo>
                      <a:pt x="503" y="2077"/>
                    </a:lnTo>
                    <a:lnTo>
                      <a:pt x="500" y="2078"/>
                    </a:lnTo>
                    <a:lnTo>
                      <a:pt x="496" y="2079"/>
                    </a:lnTo>
                    <a:lnTo>
                      <a:pt x="489" y="2079"/>
                    </a:lnTo>
                    <a:lnTo>
                      <a:pt x="474" y="2078"/>
                    </a:lnTo>
                    <a:lnTo>
                      <a:pt x="470" y="2078"/>
                    </a:lnTo>
                    <a:lnTo>
                      <a:pt x="466" y="2078"/>
                    </a:lnTo>
                    <a:lnTo>
                      <a:pt x="462" y="2079"/>
                    </a:lnTo>
                    <a:lnTo>
                      <a:pt x="458" y="2080"/>
                    </a:lnTo>
                    <a:lnTo>
                      <a:pt x="454" y="2082"/>
                    </a:lnTo>
                    <a:lnTo>
                      <a:pt x="451" y="2083"/>
                    </a:lnTo>
                    <a:lnTo>
                      <a:pt x="448" y="2086"/>
                    </a:lnTo>
                    <a:lnTo>
                      <a:pt x="445" y="2088"/>
                    </a:lnTo>
                    <a:lnTo>
                      <a:pt x="442" y="2091"/>
                    </a:lnTo>
                    <a:lnTo>
                      <a:pt x="440" y="2094"/>
                    </a:lnTo>
                    <a:lnTo>
                      <a:pt x="435" y="2101"/>
                    </a:lnTo>
                    <a:lnTo>
                      <a:pt x="425" y="2121"/>
                    </a:lnTo>
                    <a:lnTo>
                      <a:pt x="418" y="2133"/>
                    </a:lnTo>
                    <a:lnTo>
                      <a:pt x="409" y="2148"/>
                    </a:lnTo>
                    <a:lnTo>
                      <a:pt x="407" y="2152"/>
                    </a:lnTo>
                    <a:lnTo>
                      <a:pt x="406" y="2156"/>
                    </a:lnTo>
                    <a:lnTo>
                      <a:pt x="403" y="2162"/>
                    </a:lnTo>
                    <a:lnTo>
                      <a:pt x="403" y="2165"/>
                    </a:lnTo>
                    <a:lnTo>
                      <a:pt x="404" y="2168"/>
                    </a:lnTo>
                    <a:lnTo>
                      <a:pt x="406" y="2173"/>
                    </a:lnTo>
                    <a:lnTo>
                      <a:pt x="409" y="2178"/>
                    </a:lnTo>
                    <a:lnTo>
                      <a:pt x="412" y="2182"/>
                    </a:lnTo>
                    <a:lnTo>
                      <a:pt x="418" y="2189"/>
                    </a:lnTo>
                    <a:lnTo>
                      <a:pt x="420" y="2193"/>
                    </a:lnTo>
                    <a:lnTo>
                      <a:pt x="421" y="2197"/>
                    </a:lnTo>
                    <a:lnTo>
                      <a:pt x="421" y="2198"/>
                    </a:lnTo>
                    <a:lnTo>
                      <a:pt x="420" y="2200"/>
                    </a:lnTo>
                    <a:lnTo>
                      <a:pt x="418" y="2204"/>
                    </a:lnTo>
                    <a:lnTo>
                      <a:pt x="416" y="2206"/>
                    </a:lnTo>
                    <a:lnTo>
                      <a:pt x="413" y="2209"/>
                    </a:lnTo>
                    <a:lnTo>
                      <a:pt x="404" y="2213"/>
                    </a:lnTo>
                    <a:lnTo>
                      <a:pt x="393" y="2218"/>
                    </a:lnTo>
                    <a:lnTo>
                      <a:pt x="379" y="2224"/>
                    </a:lnTo>
                    <a:lnTo>
                      <a:pt x="364" y="2230"/>
                    </a:lnTo>
                    <a:lnTo>
                      <a:pt x="350" y="2236"/>
                    </a:lnTo>
                    <a:lnTo>
                      <a:pt x="339" y="2241"/>
                    </a:lnTo>
                    <a:lnTo>
                      <a:pt x="329" y="2246"/>
                    </a:lnTo>
                    <a:lnTo>
                      <a:pt x="313" y="2254"/>
                    </a:lnTo>
                    <a:lnTo>
                      <a:pt x="307" y="2258"/>
                    </a:lnTo>
                    <a:lnTo>
                      <a:pt x="303" y="2261"/>
                    </a:lnTo>
                    <a:lnTo>
                      <a:pt x="297" y="2266"/>
                    </a:lnTo>
                    <a:lnTo>
                      <a:pt x="293" y="2270"/>
                    </a:lnTo>
                    <a:lnTo>
                      <a:pt x="292" y="2272"/>
                    </a:lnTo>
                    <a:lnTo>
                      <a:pt x="292" y="2273"/>
                    </a:lnTo>
                    <a:lnTo>
                      <a:pt x="286" y="2279"/>
                    </a:lnTo>
                    <a:lnTo>
                      <a:pt x="271" y="2295"/>
                    </a:lnTo>
                    <a:lnTo>
                      <a:pt x="260" y="2305"/>
                    </a:lnTo>
                    <a:lnTo>
                      <a:pt x="249" y="2317"/>
                    </a:lnTo>
                    <a:lnTo>
                      <a:pt x="238" y="2327"/>
                    </a:lnTo>
                    <a:lnTo>
                      <a:pt x="232" y="2332"/>
                    </a:lnTo>
                    <a:lnTo>
                      <a:pt x="225" y="2337"/>
                    </a:lnTo>
                    <a:lnTo>
                      <a:pt x="213" y="2346"/>
                    </a:lnTo>
                    <a:lnTo>
                      <a:pt x="202" y="2352"/>
                    </a:lnTo>
                    <a:lnTo>
                      <a:pt x="191" y="2357"/>
                    </a:lnTo>
                    <a:lnTo>
                      <a:pt x="186" y="2358"/>
                    </a:lnTo>
                    <a:lnTo>
                      <a:pt x="181" y="2358"/>
                    </a:lnTo>
                    <a:lnTo>
                      <a:pt x="177" y="2357"/>
                    </a:lnTo>
                    <a:lnTo>
                      <a:pt x="173" y="2355"/>
                    </a:lnTo>
                    <a:lnTo>
                      <a:pt x="172" y="2354"/>
                    </a:lnTo>
                    <a:lnTo>
                      <a:pt x="170" y="2352"/>
                    </a:lnTo>
                    <a:lnTo>
                      <a:pt x="167" y="2348"/>
                    </a:lnTo>
                    <a:lnTo>
                      <a:pt x="165" y="2343"/>
                    </a:lnTo>
                    <a:lnTo>
                      <a:pt x="164" y="2336"/>
                    </a:lnTo>
                    <a:lnTo>
                      <a:pt x="163" y="2332"/>
                    </a:lnTo>
                    <a:lnTo>
                      <a:pt x="163" y="2328"/>
                    </a:lnTo>
                    <a:lnTo>
                      <a:pt x="163" y="2319"/>
                    </a:lnTo>
                    <a:lnTo>
                      <a:pt x="163" y="2308"/>
                    </a:lnTo>
                    <a:lnTo>
                      <a:pt x="162" y="2294"/>
                    </a:lnTo>
                    <a:lnTo>
                      <a:pt x="161" y="2280"/>
                    </a:lnTo>
                    <a:lnTo>
                      <a:pt x="160" y="2264"/>
                    </a:lnTo>
                    <a:lnTo>
                      <a:pt x="155" y="2229"/>
                    </a:lnTo>
                    <a:lnTo>
                      <a:pt x="148" y="2191"/>
                    </a:lnTo>
                    <a:lnTo>
                      <a:pt x="140" y="2148"/>
                    </a:lnTo>
                    <a:lnTo>
                      <a:pt x="132" y="2104"/>
                    </a:lnTo>
                    <a:lnTo>
                      <a:pt x="121" y="2059"/>
                    </a:lnTo>
                    <a:lnTo>
                      <a:pt x="111" y="2015"/>
                    </a:lnTo>
                    <a:lnTo>
                      <a:pt x="92" y="1929"/>
                    </a:lnTo>
                    <a:lnTo>
                      <a:pt x="76" y="1857"/>
                    </a:lnTo>
                    <a:lnTo>
                      <a:pt x="69" y="1827"/>
                    </a:lnTo>
                    <a:lnTo>
                      <a:pt x="64" y="1804"/>
                    </a:lnTo>
                    <a:lnTo>
                      <a:pt x="61" y="1788"/>
                    </a:lnTo>
                    <a:lnTo>
                      <a:pt x="61" y="1784"/>
                    </a:lnTo>
                    <a:lnTo>
                      <a:pt x="61" y="1781"/>
                    </a:lnTo>
                    <a:lnTo>
                      <a:pt x="64" y="1774"/>
                    </a:lnTo>
                    <a:lnTo>
                      <a:pt x="68" y="1764"/>
                    </a:lnTo>
                    <a:lnTo>
                      <a:pt x="81" y="1741"/>
                    </a:lnTo>
                    <a:lnTo>
                      <a:pt x="98" y="1713"/>
                    </a:lnTo>
                    <a:lnTo>
                      <a:pt x="98" y="1711"/>
                    </a:lnTo>
                    <a:lnTo>
                      <a:pt x="99" y="1706"/>
                    </a:lnTo>
                    <a:lnTo>
                      <a:pt x="100" y="1699"/>
                    </a:lnTo>
                    <a:lnTo>
                      <a:pt x="100" y="1690"/>
                    </a:lnTo>
                    <a:lnTo>
                      <a:pt x="99" y="1684"/>
                    </a:lnTo>
                    <a:lnTo>
                      <a:pt x="99" y="1679"/>
                    </a:lnTo>
                    <a:lnTo>
                      <a:pt x="97" y="1673"/>
                    </a:lnTo>
                    <a:lnTo>
                      <a:pt x="96" y="1668"/>
                    </a:lnTo>
                    <a:lnTo>
                      <a:pt x="93" y="1663"/>
                    </a:lnTo>
                    <a:lnTo>
                      <a:pt x="92" y="1660"/>
                    </a:lnTo>
                    <a:lnTo>
                      <a:pt x="91" y="1658"/>
                    </a:lnTo>
                    <a:lnTo>
                      <a:pt x="87" y="1653"/>
                    </a:lnTo>
                    <a:lnTo>
                      <a:pt x="83" y="1648"/>
                    </a:lnTo>
                    <a:lnTo>
                      <a:pt x="78" y="1643"/>
                    </a:lnTo>
                    <a:lnTo>
                      <a:pt x="72" y="1637"/>
                    </a:lnTo>
                    <a:lnTo>
                      <a:pt x="61" y="1620"/>
                    </a:lnTo>
                    <a:lnTo>
                      <a:pt x="50" y="1601"/>
                    </a:lnTo>
                    <a:lnTo>
                      <a:pt x="39" y="1581"/>
                    </a:lnTo>
                    <a:lnTo>
                      <a:pt x="29" y="1562"/>
                    </a:lnTo>
                    <a:lnTo>
                      <a:pt x="22" y="1546"/>
                    </a:lnTo>
                    <a:lnTo>
                      <a:pt x="15" y="1529"/>
                    </a:lnTo>
                    <a:lnTo>
                      <a:pt x="13" y="1526"/>
                    </a:lnTo>
                    <a:lnTo>
                      <a:pt x="10" y="1517"/>
                    </a:lnTo>
                    <a:lnTo>
                      <a:pt x="6" y="1503"/>
                    </a:lnTo>
                    <a:lnTo>
                      <a:pt x="2" y="1486"/>
                    </a:lnTo>
                    <a:lnTo>
                      <a:pt x="1" y="1476"/>
                    </a:lnTo>
                    <a:lnTo>
                      <a:pt x="0" y="1466"/>
                    </a:lnTo>
                    <a:lnTo>
                      <a:pt x="1" y="1455"/>
                    </a:lnTo>
                    <a:lnTo>
                      <a:pt x="2" y="1444"/>
                    </a:lnTo>
                    <a:lnTo>
                      <a:pt x="4" y="1432"/>
                    </a:lnTo>
                    <a:lnTo>
                      <a:pt x="5" y="1427"/>
                    </a:lnTo>
                    <a:lnTo>
                      <a:pt x="7" y="1421"/>
                    </a:lnTo>
                    <a:lnTo>
                      <a:pt x="10" y="1415"/>
                    </a:lnTo>
                    <a:lnTo>
                      <a:pt x="12" y="1410"/>
                    </a:lnTo>
                    <a:lnTo>
                      <a:pt x="15" y="1404"/>
                    </a:lnTo>
                    <a:lnTo>
                      <a:pt x="19" y="1399"/>
                    </a:lnTo>
                    <a:lnTo>
                      <a:pt x="50" y="1350"/>
                    </a:lnTo>
                    <a:lnTo>
                      <a:pt x="82" y="1301"/>
                    </a:lnTo>
                    <a:lnTo>
                      <a:pt x="117" y="1247"/>
                    </a:lnTo>
                    <a:lnTo>
                      <a:pt x="129" y="1233"/>
                    </a:lnTo>
                    <a:lnTo>
                      <a:pt x="144" y="1216"/>
                    </a:lnTo>
                    <a:lnTo>
                      <a:pt x="152" y="1208"/>
                    </a:lnTo>
                    <a:lnTo>
                      <a:pt x="161" y="1199"/>
                    </a:lnTo>
                    <a:lnTo>
                      <a:pt x="170" y="1189"/>
                    </a:lnTo>
                    <a:lnTo>
                      <a:pt x="180" y="1180"/>
                    </a:lnTo>
                    <a:lnTo>
                      <a:pt x="190" y="1171"/>
                    </a:lnTo>
                    <a:lnTo>
                      <a:pt x="201" y="1162"/>
                    </a:lnTo>
                    <a:lnTo>
                      <a:pt x="211" y="1154"/>
                    </a:lnTo>
                    <a:lnTo>
                      <a:pt x="222" y="1147"/>
                    </a:lnTo>
                    <a:lnTo>
                      <a:pt x="232" y="1141"/>
                    </a:lnTo>
                    <a:lnTo>
                      <a:pt x="242" y="1137"/>
                    </a:lnTo>
                    <a:lnTo>
                      <a:pt x="266" y="1128"/>
                    </a:lnTo>
                    <a:lnTo>
                      <a:pt x="298" y="1118"/>
                    </a:lnTo>
                    <a:lnTo>
                      <a:pt x="314" y="1113"/>
                    </a:lnTo>
                    <a:lnTo>
                      <a:pt x="330" y="1109"/>
                    </a:lnTo>
                    <a:lnTo>
                      <a:pt x="338" y="1108"/>
                    </a:lnTo>
                    <a:lnTo>
                      <a:pt x="346" y="1107"/>
                    </a:lnTo>
                    <a:lnTo>
                      <a:pt x="354" y="1106"/>
                    </a:lnTo>
                    <a:lnTo>
                      <a:pt x="361" y="1106"/>
                    </a:lnTo>
                    <a:lnTo>
                      <a:pt x="369" y="1106"/>
                    </a:lnTo>
                    <a:lnTo>
                      <a:pt x="375" y="1107"/>
                    </a:lnTo>
                    <a:lnTo>
                      <a:pt x="382" y="1108"/>
                    </a:lnTo>
                    <a:lnTo>
                      <a:pt x="385" y="1109"/>
                    </a:lnTo>
                    <a:lnTo>
                      <a:pt x="388" y="1111"/>
                    </a:lnTo>
                    <a:lnTo>
                      <a:pt x="393" y="1113"/>
                    </a:lnTo>
                    <a:lnTo>
                      <a:pt x="395" y="1115"/>
                    </a:lnTo>
                    <a:lnTo>
                      <a:pt x="397" y="1117"/>
                    </a:lnTo>
                    <a:lnTo>
                      <a:pt x="400" y="1119"/>
                    </a:lnTo>
                    <a:lnTo>
                      <a:pt x="401" y="1122"/>
                    </a:lnTo>
                    <a:lnTo>
                      <a:pt x="406" y="1127"/>
                    </a:lnTo>
                    <a:lnTo>
                      <a:pt x="408" y="1133"/>
                    </a:lnTo>
                    <a:lnTo>
                      <a:pt x="409" y="1137"/>
                    </a:lnTo>
                    <a:lnTo>
                      <a:pt x="410" y="1140"/>
                    </a:lnTo>
                    <a:lnTo>
                      <a:pt x="410" y="1144"/>
                    </a:lnTo>
                    <a:lnTo>
                      <a:pt x="410" y="1149"/>
                    </a:lnTo>
                    <a:lnTo>
                      <a:pt x="410" y="1158"/>
                    </a:lnTo>
                    <a:lnTo>
                      <a:pt x="409" y="1169"/>
                    </a:lnTo>
                    <a:lnTo>
                      <a:pt x="406" y="1180"/>
                    </a:lnTo>
                    <a:lnTo>
                      <a:pt x="402" y="1193"/>
                    </a:lnTo>
                    <a:lnTo>
                      <a:pt x="397" y="1207"/>
                    </a:lnTo>
                    <a:lnTo>
                      <a:pt x="385" y="1241"/>
                    </a:lnTo>
                    <a:lnTo>
                      <a:pt x="376" y="1270"/>
                    </a:lnTo>
                    <a:lnTo>
                      <a:pt x="373" y="1283"/>
                    </a:lnTo>
                    <a:lnTo>
                      <a:pt x="370" y="1296"/>
                    </a:lnTo>
                    <a:lnTo>
                      <a:pt x="367" y="1308"/>
                    </a:lnTo>
                    <a:lnTo>
                      <a:pt x="365" y="1319"/>
                    </a:lnTo>
                    <a:lnTo>
                      <a:pt x="364" y="1330"/>
                    </a:lnTo>
                    <a:lnTo>
                      <a:pt x="364" y="1339"/>
                    </a:lnTo>
                    <a:lnTo>
                      <a:pt x="365" y="1349"/>
                    </a:lnTo>
                    <a:lnTo>
                      <a:pt x="366" y="1357"/>
                    </a:lnTo>
                    <a:lnTo>
                      <a:pt x="368" y="1365"/>
                    </a:lnTo>
                    <a:lnTo>
                      <a:pt x="371" y="1373"/>
                    </a:lnTo>
                    <a:lnTo>
                      <a:pt x="372" y="1376"/>
                    </a:lnTo>
                    <a:lnTo>
                      <a:pt x="374" y="1381"/>
                    </a:lnTo>
                    <a:lnTo>
                      <a:pt x="379" y="1387"/>
                    </a:lnTo>
                    <a:lnTo>
                      <a:pt x="384" y="1393"/>
                    </a:lnTo>
                    <a:lnTo>
                      <a:pt x="390" y="1399"/>
                    </a:lnTo>
                    <a:lnTo>
                      <a:pt x="396" y="1405"/>
                    </a:lnTo>
                    <a:lnTo>
                      <a:pt x="402" y="1410"/>
                    </a:lnTo>
                    <a:lnTo>
                      <a:pt x="410" y="1415"/>
                    </a:lnTo>
                    <a:lnTo>
                      <a:pt x="416" y="1420"/>
                    </a:lnTo>
                    <a:lnTo>
                      <a:pt x="429" y="1429"/>
                    </a:lnTo>
                    <a:lnTo>
                      <a:pt x="453" y="1445"/>
                    </a:lnTo>
                    <a:lnTo>
                      <a:pt x="462" y="1452"/>
                    </a:lnTo>
                    <a:lnTo>
                      <a:pt x="466" y="1456"/>
                    </a:lnTo>
                    <a:lnTo>
                      <a:pt x="470" y="1459"/>
                    </a:lnTo>
                    <a:lnTo>
                      <a:pt x="477" y="1469"/>
                    </a:lnTo>
                    <a:lnTo>
                      <a:pt x="488" y="1484"/>
                    </a:lnTo>
                    <a:lnTo>
                      <a:pt x="513" y="1522"/>
                    </a:lnTo>
                    <a:lnTo>
                      <a:pt x="546" y="1573"/>
                    </a:lnTo>
                    <a:lnTo>
                      <a:pt x="554" y="1586"/>
                    </a:lnTo>
                    <a:lnTo>
                      <a:pt x="562" y="1599"/>
                    </a:lnTo>
                    <a:lnTo>
                      <a:pt x="572" y="1613"/>
                    </a:lnTo>
                    <a:lnTo>
                      <a:pt x="577" y="1621"/>
                    </a:lnTo>
                    <a:lnTo>
                      <a:pt x="583" y="1628"/>
                    </a:lnTo>
                    <a:lnTo>
                      <a:pt x="589" y="1634"/>
                    </a:lnTo>
                    <a:lnTo>
                      <a:pt x="595" y="1640"/>
                    </a:lnTo>
                    <a:lnTo>
                      <a:pt x="601" y="1644"/>
                    </a:lnTo>
                    <a:lnTo>
                      <a:pt x="607" y="1647"/>
                    </a:lnTo>
                    <a:lnTo>
                      <a:pt x="613" y="1649"/>
                    </a:lnTo>
                    <a:lnTo>
                      <a:pt x="615" y="1649"/>
                    </a:lnTo>
                    <a:lnTo>
                      <a:pt x="618" y="1648"/>
                    </a:lnTo>
                    <a:lnTo>
                      <a:pt x="621" y="1647"/>
                    </a:lnTo>
                    <a:lnTo>
                      <a:pt x="625" y="1644"/>
                    </a:lnTo>
                    <a:lnTo>
                      <a:pt x="629" y="1640"/>
                    </a:lnTo>
                    <a:lnTo>
                      <a:pt x="632" y="1635"/>
                    </a:lnTo>
                    <a:lnTo>
                      <a:pt x="640" y="1623"/>
                    </a:lnTo>
                    <a:lnTo>
                      <a:pt x="648" y="1608"/>
                    </a:lnTo>
                    <a:lnTo>
                      <a:pt x="655" y="1591"/>
                    </a:lnTo>
                    <a:lnTo>
                      <a:pt x="662" y="1574"/>
                    </a:lnTo>
                    <a:lnTo>
                      <a:pt x="675" y="1542"/>
                    </a:lnTo>
                    <a:lnTo>
                      <a:pt x="674" y="1473"/>
                    </a:lnTo>
                    <a:lnTo>
                      <a:pt x="674" y="1468"/>
                    </a:lnTo>
                    <a:lnTo>
                      <a:pt x="676" y="1464"/>
                    </a:lnTo>
                    <a:lnTo>
                      <a:pt x="677" y="1460"/>
                    </a:lnTo>
                    <a:lnTo>
                      <a:pt x="681" y="1456"/>
                    </a:lnTo>
                    <a:lnTo>
                      <a:pt x="683" y="1453"/>
                    </a:lnTo>
                    <a:lnTo>
                      <a:pt x="686" y="1449"/>
                    </a:lnTo>
                    <a:lnTo>
                      <a:pt x="693" y="1442"/>
                    </a:lnTo>
                    <a:lnTo>
                      <a:pt x="699" y="1436"/>
                    </a:lnTo>
                    <a:lnTo>
                      <a:pt x="705" y="1429"/>
                    </a:lnTo>
                    <a:lnTo>
                      <a:pt x="707" y="1425"/>
                    </a:lnTo>
                    <a:lnTo>
                      <a:pt x="709" y="1421"/>
                    </a:lnTo>
                    <a:lnTo>
                      <a:pt x="710" y="1416"/>
                    </a:lnTo>
                    <a:lnTo>
                      <a:pt x="710" y="1412"/>
                    </a:lnTo>
                    <a:lnTo>
                      <a:pt x="710" y="1337"/>
                    </a:lnTo>
                    <a:lnTo>
                      <a:pt x="711" y="1332"/>
                    </a:lnTo>
                    <a:lnTo>
                      <a:pt x="711" y="1328"/>
                    </a:lnTo>
                    <a:lnTo>
                      <a:pt x="712" y="1323"/>
                    </a:lnTo>
                    <a:lnTo>
                      <a:pt x="713" y="1319"/>
                    </a:lnTo>
                    <a:lnTo>
                      <a:pt x="717" y="1312"/>
                    </a:lnTo>
                    <a:lnTo>
                      <a:pt x="722" y="1305"/>
                    </a:lnTo>
                    <a:lnTo>
                      <a:pt x="725" y="1303"/>
                    </a:lnTo>
                    <a:lnTo>
                      <a:pt x="728" y="1300"/>
                    </a:lnTo>
                    <a:lnTo>
                      <a:pt x="735" y="1295"/>
                    </a:lnTo>
                    <a:lnTo>
                      <a:pt x="743" y="1291"/>
                    </a:lnTo>
                    <a:lnTo>
                      <a:pt x="751" y="1288"/>
                    </a:lnTo>
                    <a:lnTo>
                      <a:pt x="760" y="1285"/>
                    </a:lnTo>
                    <a:lnTo>
                      <a:pt x="770" y="1283"/>
                    </a:lnTo>
                    <a:lnTo>
                      <a:pt x="775" y="1282"/>
                    </a:lnTo>
                    <a:lnTo>
                      <a:pt x="780" y="1281"/>
                    </a:lnTo>
                    <a:lnTo>
                      <a:pt x="790" y="1280"/>
                    </a:lnTo>
                    <a:lnTo>
                      <a:pt x="811" y="1279"/>
                    </a:lnTo>
                    <a:lnTo>
                      <a:pt x="832" y="1280"/>
                    </a:lnTo>
                    <a:lnTo>
                      <a:pt x="865" y="1282"/>
                    </a:lnTo>
                    <a:lnTo>
                      <a:pt x="899" y="1284"/>
                    </a:lnTo>
                    <a:lnTo>
                      <a:pt x="915" y="1284"/>
                    </a:lnTo>
                    <a:lnTo>
                      <a:pt x="932" y="1284"/>
                    </a:lnTo>
                    <a:lnTo>
                      <a:pt x="948" y="1284"/>
                    </a:lnTo>
                    <a:lnTo>
                      <a:pt x="965" y="1282"/>
                    </a:lnTo>
                    <a:lnTo>
                      <a:pt x="981" y="1280"/>
                    </a:lnTo>
                    <a:lnTo>
                      <a:pt x="997" y="1278"/>
                    </a:lnTo>
                    <a:lnTo>
                      <a:pt x="1012" y="1274"/>
                    </a:lnTo>
                    <a:lnTo>
                      <a:pt x="1027" y="1269"/>
                    </a:lnTo>
                    <a:lnTo>
                      <a:pt x="1035" y="1267"/>
                    </a:lnTo>
                    <a:lnTo>
                      <a:pt x="1042" y="1264"/>
                    </a:lnTo>
                    <a:lnTo>
                      <a:pt x="1057" y="1257"/>
                    </a:lnTo>
                    <a:lnTo>
                      <a:pt x="1071" y="1249"/>
                    </a:lnTo>
                    <a:lnTo>
                      <a:pt x="1084" y="1239"/>
                    </a:lnTo>
                    <a:lnTo>
                      <a:pt x="1091" y="1234"/>
                    </a:lnTo>
                    <a:lnTo>
                      <a:pt x="1097" y="1229"/>
                    </a:lnTo>
                    <a:lnTo>
                      <a:pt x="1102" y="1223"/>
                    </a:lnTo>
                    <a:lnTo>
                      <a:pt x="1108" y="1217"/>
                    </a:lnTo>
                    <a:lnTo>
                      <a:pt x="1118" y="1204"/>
                    </a:lnTo>
                    <a:lnTo>
                      <a:pt x="1128" y="1191"/>
                    </a:lnTo>
                    <a:lnTo>
                      <a:pt x="1137" y="1177"/>
                    </a:lnTo>
                    <a:lnTo>
                      <a:pt x="1145" y="1163"/>
                    </a:lnTo>
                    <a:lnTo>
                      <a:pt x="1153" y="1149"/>
                    </a:lnTo>
                    <a:lnTo>
                      <a:pt x="1160" y="1135"/>
                    </a:lnTo>
                    <a:lnTo>
                      <a:pt x="1171" y="1110"/>
                    </a:lnTo>
                    <a:lnTo>
                      <a:pt x="1179" y="1089"/>
                    </a:lnTo>
                    <a:lnTo>
                      <a:pt x="1185" y="1074"/>
                    </a:lnTo>
                    <a:lnTo>
                      <a:pt x="1186" y="1068"/>
                    </a:lnTo>
                    <a:lnTo>
                      <a:pt x="1192" y="1058"/>
                    </a:lnTo>
                    <a:lnTo>
                      <a:pt x="1199" y="1048"/>
                    </a:lnTo>
                    <a:lnTo>
                      <a:pt x="1206" y="1035"/>
                    </a:lnTo>
                    <a:lnTo>
                      <a:pt x="1214" y="1020"/>
                    </a:lnTo>
                    <a:lnTo>
                      <a:pt x="1220" y="1005"/>
                    </a:lnTo>
                    <a:lnTo>
                      <a:pt x="1223" y="997"/>
                    </a:lnTo>
                    <a:lnTo>
                      <a:pt x="1225" y="990"/>
                    </a:lnTo>
                    <a:lnTo>
                      <a:pt x="1228" y="983"/>
                    </a:lnTo>
                    <a:lnTo>
                      <a:pt x="1229" y="976"/>
                    </a:lnTo>
                    <a:lnTo>
                      <a:pt x="1217" y="977"/>
                    </a:lnTo>
                    <a:lnTo>
                      <a:pt x="1204" y="977"/>
                    </a:lnTo>
                    <a:lnTo>
                      <a:pt x="1177" y="977"/>
                    </a:lnTo>
                    <a:lnTo>
                      <a:pt x="1149" y="977"/>
                    </a:lnTo>
                    <a:lnTo>
                      <a:pt x="1136" y="976"/>
                    </a:lnTo>
                    <a:lnTo>
                      <a:pt x="1122" y="975"/>
                    </a:lnTo>
                    <a:lnTo>
                      <a:pt x="1109" y="973"/>
                    </a:lnTo>
                    <a:lnTo>
                      <a:pt x="1096" y="971"/>
                    </a:lnTo>
                    <a:lnTo>
                      <a:pt x="1083" y="967"/>
                    </a:lnTo>
                    <a:lnTo>
                      <a:pt x="1078" y="965"/>
                    </a:lnTo>
                    <a:lnTo>
                      <a:pt x="1073" y="963"/>
                    </a:lnTo>
                    <a:lnTo>
                      <a:pt x="1068" y="961"/>
                    </a:lnTo>
                    <a:lnTo>
                      <a:pt x="1063" y="958"/>
                    </a:lnTo>
                    <a:lnTo>
                      <a:pt x="1059" y="955"/>
                    </a:lnTo>
                    <a:lnTo>
                      <a:pt x="1055" y="952"/>
                    </a:lnTo>
                    <a:lnTo>
                      <a:pt x="1051" y="948"/>
                    </a:lnTo>
                    <a:lnTo>
                      <a:pt x="1048" y="944"/>
                    </a:lnTo>
                    <a:lnTo>
                      <a:pt x="1045" y="940"/>
                    </a:lnTo>
                    <a:lnTo>
                      <a:pt x="1043" y="935"/>
                    </a:lnTo>
                    <a:lnTo>
                      <a:pt x="1041" y="930"/>
                    </a:lnTo>
                    <a:lnTo>
                      <a:pt x="1040" y="925"/>
                    </a:lnTo>
                    <a:lnTo>
                      <a:pt x="1039" y="919"/>
                    </a:lnTo>
                    <a:lnTo>
                      <a:pt x="1039" y="912"/>
                    </a:lnTo>
                    <a:lnTo>
                      <a:pt x="1038" y="896"/>
                    </a:lnTo>
                    <a:lnTo>
                      <a:pt x="1036" y="882"/>
                    </a:lnTo>
                    <a:lnTo>
                      <a:pt x="1034" y="869"/>
                    </a:lnTo>
                    <a:lnTo>
                      <a:pt x="1031" y="856"/>
                    </a:lnTo>
                    <a:lnTo>
                      <a:pt x="1026" y="830"/>
                    </a:lnTo>
                    <a:lnTo>
                      <a:pt x="1025" y="816"/>
                    </a:lnTo>
                    <a:lnTo>
                      <a:pt x="1024" y="808"/>
                    </a:lnTo>
                    <a:lnTo>
                      <a:pt x="1024" y="800"/>
                    </a:lnTo>
                    <a:lnTo>
                      <a:pt x="1025" y="794"/>
                    </a:lnTo>
                    <a:lnTo>
                      <a:pt x="1025" y="792"/>
                    </a:lnTo>
                    <a:lnTo>
                      <a:pt x="1026" y="789"/>
                    </a:lnTo>
                    <a:lnTo>
                      <a:pt x="1028" y="784"/>
                    </a:lnTo>
                    <a:lnTo>
                      <a:pt x="1031" y="779"/>
                    </a:lnTo>
                    <a:lnTo>
                      <a:pt x="1035" y="775"/>
                    </a:lnTo>
                    <a:lnTo>
                      <a:pt x="1037" y="773"/>
                    </a:lnTo>
                    <a:lnTo>
                      <a:pt x="1040" y="772"/>
                    </a:lnTo>
                    <a:lnTo>
                      <a:pt x="1045" y="770"/>
                    </a:lnTo>
                    <a:lnTo>
                      <a:pt x="1050" y="769"/>
                    </a:lnTo>
                    <a:lnTo>
                      <a:pt x="1056" y="770"/>
                    </a:lnTo>
                    <a:lnTo>
                      <a:pt x="1063" y="770"/>
                    </a:lnTo>
                    <a:lnTo>
                      <a:pt x="1069" y="772"/>
                    </a:lnTo>
                    <a:lnTo>
                      <a:pt x="1075" y="773"/>
                    </a:lnTo>
                    <a:lnTo>
                      <a:pt x="1081" y="776"/>
                    </a:lnTo>
                    <a:lnTo>
                      <a:pt x="1086" y="778"/>
                    </a:lnTo>
                    <a:lnTo>
                      <a:pt x="1092" y="781"/>
                    </a:lnTo>
                    <a:lnTo>
                      <a:pt x="1097" y="785"/>
                    </a:lnTo>
                    <a:lnTo>
                      <a:pt x="1102" y="789"/>
                    </a:lnTo>
                    <a:lnTo>
                      <a:pt x="1106" y="793"/>
                    </a:lnTo>
                    <a:lnTo>
                      <a:pt x="1110" y="797"/>
                    </a:lnTo>
                    <a:lnTo>
                      <a:pt x="1113" y="802"/>
                    </a:lnTo>
                    <a:lnTo>
                      <a:pt x="1115" y="808"/>
                    </a:lnTo>
                    <a:lnTo>
                      <a:pt x="1117" y="813"/>
                    </a:lnTo>
                    <a:lnTo>
                      <a:pt x="1118" y="819"/>
                    </a:lnTo>
                    <a:lnTo>
                      <a:pt x="1118" y="825"/>
                    </a:lnTo>
                    <a:lnTo>
                      <a:pt x="1113" y="837"/>
                    </a:lnTo>
                    <a:lnTo>
                      <a:pt x="1111" y="843"/>
                    </a:lnTo>
                    <a:lnTo>
                      <a:pt x="1111" y="846"/>
                    </a:lnTo>
                    <a:lnTo>
                      <a:pt x="1111" y="850"/>
                    </a:lnTo>
                    <a:lnTo>
                      <a:pt x="1111" y="858"/>
                    </a:lnTo>
                    <a:lnTo>
                      <a:pt x="1112" y="862"/>
                    </a:lnTo>
                    <a:lnTo>
                      <a:pt x="1113" y="866"/>
                    </a:lnTo>
                    <a:lnTo>
                      <a:pt x="1115" y="872"/>
                    </a:lnTo>
                    <a:lnTo>
                      <a:pt x="1118" y="878"/>
                    </a:lnTo>
                    <a:lnTo>
                      <a:pt x="1122" y="883"/>
                    </a:lnTo>
                    <a:lnTo>
                      <a:pt x="1127" y="887"/>
                    </a:lnTo>
                    <a:lnTo>
                      <a:pt x="1132" y="891"/>
                    </a:lnTo>
                    <a:lnTo>
                      <a:pt x="1138" y="894"/>
                    </a:lnTo>
                    <a:lnTo>
                      <a:pt x="1145" y="897"/>
                    </a:lnTo>
                    <a:lnTo>
                      <a:pt x="1151" y="900"/>
                    </a:lnTo>
                    <a:lnTo>
                      <a:pt x="1159" y="902"/>
                    </a:lnTo>
                    <a:lnTo>
                      <a:pt x="1166" y="905"/>
                    </a:lnTo>
                    <a:lnTo>
                      <a:pt x="1183" y="909"/>
                    </a:lnTo>
                    <a:lnTo>
                      <a:pt x="1199" y="912"/>
                    </a:lnTo>
                    <a:lnTo>
                      <a:pt x="1209" y="88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083440" y="320976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125" h="66">
                    <a:moveTo>
                      <a:pt x="125" y="66"/>
                    </a:moveTo>
                    <a:lnTo>
                      <a:pt x="101" y="52"/>
                    </a:lnTo>
                    <a:lnTo>
                      <a:pt x="89" y="44"/>
                    </a:lnTo>
                    <a:lnTo>
                      <a:pt x="77" y="36"/>
                    </a:lnTo>
                    <a:lnTo>
                      <a:pt x="64" y="28"/>
                    </a:lnTo>
                    <a:lnTo>
                      <a:pt x="52" y="19"/>
                    </a:lnTo>
                    <a:lnTo>
                      <a:pt x="29" y="0"/>
                    </a:lnTo>
                    <a:lnTo>
                      <a:pt x="14" y="31"/>
                    </a:lnTo>
                    <a:lnTo>
                      <a:pt x="7" y="46"/>
                    </a:lnTo>
                    <a:lnTo>
                      <a:pt x="0" y="62"/>
                    </a:lnTo>
                    <a:lnTo>
                      <a:pt x="125" y="6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9424800" y="2768400"/>
                <a:ext cx="75960" cy="133560"/>
              </a:xfrm>
              <a:custGeom>
                <a:avLst/>
                <a:gdLst/>
                <a:ahLst/>
                <a:rect l="l" t="t" r="r" b="b"/>
                <a:pathLst>
                  <a:path w="188" h="337">
                    <a:moveTo>
                      <a:pt x="98" y="29"/>
                    </a:moveTo>
                    <a:lnTo>
                      <a:pt x="144" y="6"/>
                    </a:lnTo>
                    <a:lnTo>
                      <a:pt x="185" y="21"/>
                    </a:lnTo>
                    <a:lnTo>
                      <a:pt x="188" y="40"/>
                    </a:lnTo>
                    <a:lnTo>
                      <a:pt x="188" y="55"/>
                    </a:lnTo>
                    <a:lnTo>
                      <a:pt x="187" y="61"/>
                    </a:lnTo>
                    <a:lnTo>
                      <a:pt x="185" y="65"/>
                    </a:lnTo>
                    <a:lnTo>
                      <a:pt x="93" y="153"/>
                    </a:lnTo>
                    <a:lnTo>
                      <a:pt x="93" y="165"/>
                    </a:lnTo>
                    <a:lnTo>
                      <a:pt x="106" y="163"/>
                    </a:lnTo>
                    <a:lnTo>
                      <a:pt x="116" y="165"/>
                    </a:lnTo>
                    <a:lnTo>
                      <a:pt x="120" y="167"/>
                    </a:lnTo>
                    <a:lnTo>
                      <a:pt x="121" y="170"/>
                    </a:lnTo>
                    <a:lnTo>
                      <a:pt x="119" y="200"/>
                    </a:lnTo>
                    <a:lnTo>
                      <a:pt x="114" y="255"/>
                    </a:lnTo>
                    <a:lnTo>
                      <a:pt x="108" y="308"/>
                    </a:lnTo>
                    <a:lnTo>
                      <a:pt x="104" y="326"/>
                    </a:lnTo>
                    <a:lnTo>
                      <a:pt x="100" y="333"/>
                    </a:lnTo>
                    <a:lnTo>
                      <a:pt x="47" y="337"/>
                    </a:lnTo>
                    <a:lnTo>
                      <a:pt x="15" y="337"/>
                    </a:lnTo>
                    <a:lnTo>
                      <a:pt x="5" y="335"/>
                    </a:lnTo>
                    <a:lnTo>
                      <a:pt x="2" y="333"/>
                    </a:lnTo>
                    <a:lnTo>
                      <a:pt x="2" y="304"/>
                    </a:lnTo>
                    <a:lnTo>
                      <a:pt x="0" y="282"/>
                    </a:lnTo>
                    <a:lnTo>
                      <a:pt x="29" y="271"/>
                    </a:lnTo>
                    <a:lnTo>
                      <a:pt x="29" y="178"/>
                    </a:lnTo>
                    <a:lnTo>
                      <a:pt x="59" y="165"/>
                    </a:lnTo>
                    <a:lnTo>
                      <a:pt x="59" y="148"/>
                    </a:lnTo>
                    <a:lnTo>
                      <a:pt x="51" y="137"/>
                    </a:lnTo>
                    <a:lnTo>
                      <a:pt x="36" y="121"/>
                    </a:lnTo>
                    <a:lnTo>
                      <a:pt x="13" y="101"/>
                    </a:lnTo>
                    <a:lnTo>
                      <a:pt x="147" y="0"/>
                    </a:lnTo>
                    <a:lnTo>
                      <a:pt x="98" y="2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316800" y="2879640"/>
                <a:ext cx="61560" cy="47520"/>
              </a:xfrm>
              <a:custGeom>
                <a:avLst/>
                <a:gdLst/>
                <a:ahLst/>
                <a:rect l="l" t="t" r="r" b="b"/>
                <a:pathLst>
                  <a:path w="156" h="123">
                    <a:moveTo>
                      <a:pt x="155" y="15"/>
                    </a:moveTo>
                    <a:lnTo>
                      <a:pt x="81" y="5"/>
                    </a:lnTo>
                    <a:lnTo>
                      <a:pt x="3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3" y="3"/>
                    </a:lnTo>
                    <a:lnTo>
                      <a:pt x="6" y="66"/>
                    </a:lnTo>
                    <a:lnTo>
                      <a:pt x="0" y="121"/>
                    </a:lnTo>
                    <a:lnTo>
                      <a:pt x="45" y="123"/>
                    </a:lnTo>
                    <a:lnTo>
                      <a:pt x="77" y="123"/>
                    </a:lnTo>
                    <a:lnTo>
                      <a:pt x="89" y="121"/>
                    </a:lnTo>
                    <a:lnTo>
                      <a:pt x="95" y="119"/>
                    </a:lnTo>
                    <a:lnTo>
                      <a:pt x="109" y="99"/>
                    </a:lnTo>
                    <a:lnTo>
                      <a:pt x="133" y="63"/>
                    </a:lnTo>
                    <a:lnTo>
                      <a:pt x="143" y="45"/>
                    </a:lnTo>
                    <a:lnTo>
                      <a:pt x="152" y="30"/>
                    </a:lnTo>
                    <a:lnTo>
                      <a:pt x="156" y="19"/>
                    </a:lnTo>
                    <a:lnTo>
                      <a:pt x="156" y="16"/>
                    </a:lnTo>
                    <a:lnTo>
                      <a:pt x="155" y="1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521560" y="4268520"/>
                <a:ext cx="48960" cy="41400"/>
              </a:xfrm>
              <a:custGeom>
                <a:avLst/>
                <a:gdLst/>
                <a:ahLst/>
                <a:rect l="l" t="t" r="r" b="b"/>
                <a:pathLst>
                  <a:path w="124" h="100">
                    <a:moveTo>
                      <a:pt x="9" y="68"/>
                    </a:moveTo>
                    <a:lnTo>
                      <a:pt x="22" y="57"/>
                    </a:lnTo>
                    <a:lnTo>
                      <a:pt x="37" y="41"/>
                    </a:lnTo>
                    <a:lnTo>
                      <a:pt x="54" y="26"/>
                    </a:lnTo>
                    <a:lnTo>
                      <a:pt x="64" y="19"/>
                    </a:lnTo>
                    <a:lnTo>
                      <a:pt x="77" y="15"/>
                    </a:lnTo>
                    <a:lnTo>
                      <a:pt x="117" y="0"/>
                    </a:lnTo>
                    <a:lnTo>
                      <a:pt x="124" y="23"/>
                    </a:lnTo>
                    <a:lnTo>
                      <a:pt x="117" y="61"/>
                    </a:lnTo>
                    <a:lnTo>
                      <a:pt x="101" y="81"/>
                    </a:lnTo>
                    <a:lnTo>
                      <a:pt x="89" y="94"/>
                    </a:lnTo>
                    <a:lnTo>
                      <a:pt x="81" y="100"/>
                    </a:lnTo>
                    <a:lnTo>
                      <a:pt x="39" y="84"/>
                    </a:lnTo>
                    <a:lnTo>
                      <a:pt x="3" y="68"/>
                    </a:lnTo>
                    <a:lnTo>
                      <a:pt x="0" y="72"/>
                    </a:lnTo>
                    <a:lnTo>
                      <a:pt x="1" y="72"/>
                    </a:lnTo>
                    <a:lnTo>
                      <a:pt x="9" y="6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589960" y="4240080"/>
                <a:ext cx="66240" cy="54000"/>
              </a:xfrm>
              <a:custGeom>
                <a:avLst/>
                <a:gdLst/>
                <a:ahLst/>
                <a:rect l="l" t="t" r="r" b="b"/>
                <a:pathLst>
                  <a:path w="167" h="137">
                    <a:moveTo>
                      <a:pt x="0" y="63"/>
                    </a:moveTo>
                    <a:lnTo>
                      <a:pt x="25" y="63"/>
                    </a:lnTo>
                    <a:lnTo>
                      <a:pt x="48" y="61"/>
                    </a:lnTo>
                    <a:lnTo>
                      <a:pt x="59" y="59"/>
                    </a:lnTo>
                    <a:lnTo>
                      <a:pt x="69" y="57"/>
                    </a:lnTo>
                    <a:lnTo>
                      <a:pt x="78" y="52"/>
                    </a:lnTo>
                    <a:lnTo>
                      <a:pt x="89" y="43"/>
                    </a:lnTo>
                    <a:lnTo>
                      <a:pt x="112" y="25"/>
                    </a:lnTo>
                    <a:lnTo>
                      <a:pt x="137" y="0"/>
                    </a:lnTo>
                    <a:lnTo>
                      <a:pt x="158" y="13"/>
                    </a:lnTo>
                    <a:lnTo>
                      <a:pt x="167" y="112"/>
                    </a:lnTo>
                    <a:lnTo>
                      <a:pt x="137" y="121"/>
                    </a:lnTo>
                    <a:lnTo>
                      <a:pt x="56" y="137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675640" y="4184640"/>
                <a:ext cx="51840" cy="52200"/>
              </a:xfrm>
              <a:custGeom>
                <a:avLst/>
                <a:gdLst/>
                <a:ahLst/>
                <a:rect l="l" t="t" r="r" b="b"/>
                <a:pathLst>
                  <a:path w="130" h="132">
                    <a:moveTo>
                      <a:pt x="0" y="130"/>
                    </a:moveTo>
                    <a:lnTo>
                      <a:pt x="1" y="71"/>
                    </a:lnTo>
                    <a:lnTo>
                      <a:pt x="0" y="17"/>
                    </a:lnTo>
                    <a:lnTo>
                      <a:pt x="28" y="13"/>
                    </a:lnTo>
                    <a:lnTo>
                      <a:pt x="68" y="5"/>
                    </a:lnTo>
                    <a:lnTo>
                      <a:pt x="82" y="2"/>
                    </a:lnTo>
                    <a:lnTo>
                      <a:pt x="99" y="0"/>
                    </a:lnTo>
                    <a:lnTo>
                      <a:pt x="112" y="2"/>
                    </a:lnTo>
                    <a:lnTo>
                      <a:pt x="118" y="6"/>
                    </a:lnTo>
                    <a:lnTo>
                      <a:pt x="123" y="11"/>
                    </a:lnTo>
                    <a:lnTo>
                      <a:pt x="126" y="18"/>
                    </a:lnTo>
                    <a:lnTo>
                      <a:pt x="128" y="26"/>
                    </a:lnTo>
                    <a:lnTo>
                      <a:pt x="130" y="43"/>
                    </a:lnTo>
                    <a:lnTo>
                      <a:pt x="129" y="61"/>
                    </a:lnTo>
                    <a:lnTo>
                      <a:pt x="112" y="80"/>
                    </a:lnTo>
                    <a:lnTo>
                      <a:pt x="64" y="95"/>
                    </a:lnTo>
                    <a:lnTo>
                      <a:pt x="56" y="119"/>
                    </a:lnTo>
                    <a:lnTo>
                      <a:pt x="27" y="127"/>
                    </a:lnTo>
                    <a:lnTo>
                      <a:pt x="8" y="132"/>
                    </a:lnTo>
                    <a:lnTo>
                      <a:pt x="2" y="132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940600" y="4200480"/>
                <a:ext cx="129960" cy="114120"/>
              </a:xfrm>
              <a:custGeom>
                <a:avLst/>
                <a:gdLst/>
                <a:ahLst/>
                <a:rect l="l" t="t" r="r" b="b"/>
                <a:pathLst>
                  <a:path w="329" h="285">
                    <a:moveTo>
                      <a:pt x="5" y="0"/>
                    </a:moveTo>
                    <a:lnTo>
                      <a:pt x="99" y="88"/>
                    </a:lnTo>
                    <a:lnTo>
                      <a:pt x="140" y="94"/>
                    </a:lnTo>
                    <a:lnTo>
                      <a:pt x="329" y="238"/>
                    </a:lnTo>
                    <a:lnTo>
                      <a:pt x="312" y="285"/>
                    </a:lnTo>
                    <a:lnTo>
                      <a:pt x="0" y="14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9180360" y="4410000"/>
                <a:ext cx="23400" cy="61920"/>
              </a:xfrm>
              <a:custGeom>
                <a:avLst/>
                <a:gdLst/>
                <a:ahLst/>
                <a:rect l="l" t="t" r="r" b="b"/>
                <a:pathLst>
                  <a:path w="63" h="156">
                    <a:moveTo>
                      <a:pt x="15" y="0"/>
                    </a:moveTo>
                    <a:lnTo>
                      <a:pt x="63" y="4"/>
                    </a:lnTo>
                    <a:lnTo>
                      <a:pt x="50" y="54"/>
                    </a:lnTo>
                    <a:lnTo>
                      <a:pt x="36" y="127"/>
                    </a:lnTo>
                    <a:lnTo>
                      <a:pt x="33" y="137"/>
                    </a:lnTo>
                    <a:lnTo>
                      <a:pt x="28" y="144"/>
                    </a:lnTo>
                    <a:lnTo>
                      <a:pt x="16" y="153"/>
                    </a:lnTo>
                    <a:lnTo>
                      <a:pt x="5" y="156"/>
                    </a:lnTo>
                    <a:lnTo>
                      <a:pt x="0" y="1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9158040" y="4492440"/>
                <a:ext cx="45720" cy="157320"/>
              </a:xfrm>
              <a:custGeom>
                <a:avLst/>
                <a:gdLst/>
                <a:ahLst/>
                <a:rect l="l" t="t" r="r" b="b"/>
                <a:pathLst>
                  <a:path w="114" h="395">
                    <a:moveTo>
                      <a:pt x="53" y="0"/>
                    </a:moveTo>
                    <a:lnTo>
                      <a:pt x="102" y="0"/>
                    </a:lnTo>
                    <a:lnTo>
                      <a:pt x="98" y="230"/>
                    </a:lnTo>
                    <a:lnTo>
                      <a:pt x="109" y="234"/>
                    </a:lnTo>
                    <a:lnTo>
                      <a:pt x="114" y="359"/>
                    </a:lnTo>
                    <a:lnTo>
                      <a:pt x="34" y="395"/>
                    </a:lnTo>
                    <a:lnTo>
                      <a:pt x="27" y="365"/>
                    </a:lnTo>
                    <a:lnTo>
                      <a:pt x="4" y="365"/>
                    </a:lnTo>
                    <a:lnTo>
                      <a:pt x="2" y="206"/>
                    </a:lnTo>
                    <a:lnTo>
                      <a:pt x="0" y="184"/>
                    </a:lnTo>
                    <a:lnTo>
                      <a:pt x="0" y="154"/>
                    </a:lnTo>
                    <a:lnTo>
                      <a:pt x="6" y="144"/>
                    </a:lnTo>
                    <a:lnTo>
                      <a:pt x="17" y="130"/>
                    </a:lnTo>
                    <a:lnTo>
                      <a:pt x="34" y="112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9264600" y="4879800"/>
                <a:ext cx="31320" cy="61920"/>
              </a:xfrm>
              <a:custGeom>
                <a:avLst/>
                <a:gdLst/>
                <a:ahLst/>
                <a:rect l="l" t="t" r="r" b="b"/>
                <a:pathLst>
                  <a:path w="80" h="157">
                    <a:moveTo>
                      <a:pt x="3" y="0"/>
                    </a:moveTo>
                    <a:lnTo>
                      <a:pt x="69" y="0"/>
                    </a:lnTo>
                    <a:lnTo>
                      <a:pt x="80" y="157"/>
                    </a:lnTo>
                    <a:lnTo>
                      <a:pt x="46" y="157"/>
                    </a:lnTo>
                    <a:lnTo>
                      <a:pt x="22" y="155"/>
                    </a:lnTo>
                    <a:lnTo>
                      <a:pt x="15" y="153"/>
                    </a:lnTo>
                    <a:lnTo>
                      <a:pt x="12" y="150"/>
                    </a:lnTo>
                    <a:lnTo>
                      <a:pt x="3" y="72"/>
                    </a:lnTo>
                    <a:lnTo>
                      <a:pt x="0" y="22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9447120" y="4373640"/>
                <a:ext cx="41040" cy="52200"/>
              </a:xfrm>
              <a:custGeom>
                <a:avLst/>
                <a:gdLst/>
                <a:ahLst/>
                <a:rect l="l" t="t" r="r" b="b"/>
                <a:pathLst>
                  <a:path w="105" h="131">
                    <a:moveTo>
                      <a:pt x="0" y="71"/>
                    </a:moveTo>
                    <a:lnTo>
                      <a:pt x="40" y="35"/>
                    </a:lnTo>
                    <a:lnTo>
                      <a:pt x="76" y="0"/>
                    </a:lnTo>
                    <a:lnTo>
                      <a:pt x="93" y="29"/>
                    </a:lnTo>
                    <a:lnTo>
                      <a:pt x="103" y="51"/>
                    </a:lnTo>
                    <a:lnTo>
                      <a:pt x="105" y="59"/>
                    </a:lnTo>
                    <a:lnTo>
                      <a:pt x="104" y="63"/>
                    </a:lnTo>
                    <a:lnTo>
                      <a:pt x="96" y="78"/>
                    </a:lnTo>
                    <a:lnTo>
                      <a:pt x="85" y="101"/>
                    </a:lnTo>
                    <a:lnTo>
                      <a:pt x="73" y="123"/>
                    </a:lnTo>
                    <a:lnTo>
                      <a:pt x="69" y="130"/>
                    </a:lnTo>
                    <a:lnTo>
                      <a:pt x="65" y="131"/>
                    </a:lnTo>
                    <a:lnTo>
                      <a:pt x="27" y="101"/>
                    </a:lnTo>
                    <a:lnTo>
                      <a:pt x="7" y="8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083440" y="4479840"/>
                <a:ext cx="150480" cy="127080"/>
              </a:xfrm>
              <a:custGeom>
                <a:avLst/>
                <a:gdLst/>
                <a:ahLst/>
                <a:rect l="l" t="t" r="r" b="b"/>
                <a:pathLst>
                  <a:path w="380" h="319">
                    <a:moveTo>
                      <a:pt x="303" y="0"/>
                    </a:moveTo>
                    <a:lnTo>
                      <a:pt x="380" y="151"/>
                    </a:lnTo>
                    <a:lnTo>
                      <a:pt x="47" y="319"/>
                    </a:lnTo>
                    <a:lnTo>
                      <a:pt x="0" y="222"/>
                    </a:lnTo>
                    <a:lnTo>
                      <a:pt x="42" y="202"/>
                    </a:lnTo>
                    <a:lnTo>
                      <a:pt x="47" y="198"/>
                    </a:lnTo>
                    <a:lnTo>
                      <a:pt x="60" y="187"/>
                    </a:lnTo>
                    <a:lnTo>
                      <a:pt x="79" y="167"/>
                    </a:lnTo>
                    <a:lnTo>
                      <a:pt x="88" y="153"/>
                    </a:lnTo>
                    <a:lnTo>
                      <a:pt x="97" y="136"/>
                    </a:lnTo>
                    <a:lnTo>
                      <a:pt x="108" y="107"/>
                    </a:lnTo>
                    <a:lnTo>
                      <a:pt x="114" y="90"/>
                    </a:lnTo>
                    <a:lnTo>
                      <a:pt x="116" y="85"/>
                    </a:lnTo>
                    <a:lnTo>
                      <a:pt x="119" y="82"/>
                    </a:lnTo>
                    <a:lnTo>
                      <a:pt x="123" y="80"/>
                    </a:lnTo>
                    <a:lnTo>
                      <a:pt x="129" y="79"/>
                    </a:lnTo>
                    <a:lnTo>
                      <a:pt x="171" y="78"/>
                    </a:lnTo>
                    <a:lnTo>
                      <a:pt x="199" y="79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308720" y="4725720"/>
                <a:ext cx="66240" cy="73080"/>
              </a:xfrm>
              <a:custGeom>
                <a:avLst/>
                <a:gdLst/>
                <a:ahLst/>
                <a:rect l="l" t="t" r="r" b="b"/>
                <a:pathLst>
                  <a:path w="166" h="184">
                    <a:moveTo>
                      <a:pt x="40" y="0"/>
                    </a:moveTo>
                    <a:lnTo>
                      <a:pt x="112" y="12"/>
                    </a:lnTo>
                    <a:lnTo>
                      <a:pt x="109" y="37"/>
                    </a:lnTo>
                    <a:lnTo>
                      <a:pt x="109" y="54"/>
                    </a:lnTo>
                    <a:lnTo>
                      <a:pt x="110" y="61"/>
                    </a:lnTo>
                    <a:lnTo>
                      <a:pt x="112" y="63"/>
                    </a:lnTo>
                    <a:lnTo>
                      <a:pt x="166" y="68"/>
                    </a:lnTo>
                    <a:lnTo>
                      <a:pt x="149" y="127"/>
                    </a:lnTo>
                    <a:lnTo>
                      <a:pt x="59" y="180"/>
                    </a:lnTo>
                    <a:lnTo>
                      <a:pt x="31" y="183"/>
                    </a:lnTo>
                    <a:lnTo>
                      <a:pt x="12" y="184"/>
                    </a:lnTo>
                    <a:lnTo>
                      <a:pt x="6" y="183"/>
                    </a:lnTo>
                    <a:lnTo>
                      <a:pt x="5" y="182"/>
                    </a:lnTo>
                    <a:lnTo>
                      <a:pt x="5" y="180"/>
                    </a:lnTo>
                    <a:lnTo>
                      <a:pt x="5" y="164"/>
                    </a:lnTo>
                    <a:lnTo>
                      <a:pt x="2" y="138"/>
                    </a:lnTo>
                    <a:lnTo>
                      <a:pt x="0" y="113"/>
                    </a:lnTo>
                    <a:lnTo>
                      <a:pt x="1" y="104"/>
                    </a:lnTo>
                    <a:lnTo>
                      <a:pt x="3" y="101"/>
                    </a:lnTo>
                    <a:lnTo>
                      <a:pt x="24" y="95"/>
                    </a:lnTo>
                    <a:lnTo>
                      <a:pt x="35" y="90"/>
                    </a:lnTo>
                    <a:lnTo>
                      <a:pt x="38" y="88"/>
                    </a:lnTo>
                    <a:lnTo>
                      <a:pt x="40" y="85"/>
                    </a:lnTo>
                    <a:lnTo>
                      <a:pt x="40" y="70"/>
                    </a:lnTo>
                    <a:lnTo>
                      <a:pt x="38" y="41"/>
                    </a:lnTo>
                    <a:lnTo>
                      <a:pt x="35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138800" y="4506840"/>
                <a:ext cx="158400" cy="79200"/>
              </a:xfrm>
              <a:custGeom>
                <a:avLst/>
                <a:gdLst/>
                <a:ahLst/>
                <a:rect l="l" t="t" r="r" b="b"/>
                <a:pathLst>
                  <a:path w="399" h="200">
                    <a:moveTo>
                      <a:pt x="22" y="17"/>
                    </a:moveTo>
                    <a:lnTo>
                      <a:pt x="146" y="0"/>
                    </a:lnTo>
                    <a:lnTo>
                      <a:pt x="177" y="5"/>
                    </a:lnTo>
                    <a:lnTo>
                      <a:pt x="211" y="14"/>
                    </a:lnTo>
                    <a:lnTo>
                      <a:pt x="254" y="29"/>
                    </a:lnTo>
                    <a:lnTo>
                      <a:pt x="304" y="46"/>
                    </a:lnTo>
                    <a:lnTo>
                      <a:pt x="350" y="59"/>
                    </a:lnTo>
                    <a:lnTo>
                      <a:pt x="399" y="70"/>
                    </a:lnTo>
                    <a:lnTo>
                      <a:pt x="391" y="169"/>
                    </a:lnTo>
                    <a:lnTo>
                      <a:pt x="385" y="176"/>
                    </a:lnTo>
                    <a:lnTo>
                      <a:pt x="379" y="183"/>
                    </a:lnTo>
                    <a:lnTo>
                      <a:pt x="370" y="191"/>
                    </a:lnTo>
                    <a:lnTo>
                      <a:pt x="359" y="197"/>
                    </a:lnTo>
                    <a:lnTo>
                      <a:pt x="346" y="200"/>
                    </a:lnTo>
                    <a:lnTo>
                      <a:pt x="332" y="199"/>
                    </a:lnTo>
                    <a:lnTo>
                      <a:pt x="324" y="197"/>
                    </a:lnTo>
                    <a:lnTo>
                      <a:pt x="316" y="193"/>
                    </a:lnTo>
                    <a:lnTo>
                      <a:pt x="276" y="169"/>
                    </a:lnTo>
                    <a:lnTo>
                      <a:pt x="229" y="143"/>
                    </a:lnTo>
                    <a:lnTo>
                      <a:pt x="175" y="116"/>
                    </a:lnTo>
                    <a:lnTo>
                      <a:pt x="155" y="105"/>
                    </a:lnTo>
                    <a:lnTo>
                      <a:pt x="132" y="96"/>
                    </a:lnTo>
                    <a:lnTo>
                      <a:pt x="102" y="91"/>
                    </a:lnTo>
                    <a:lnTo>
                      <a:pt x="67" y="87"/>
                    </a:lnTo>
                    <a:lnTo>
                      <a:pt x="34" y="82"/>
                    </a:lnTo>
                    <a:lnTo>
                      <a:pt x="9" y="77"/>
                    </a:lnTo>
                    <a:lnTo>
                      <a:pt x="2" y="74"/>
                    </a:lnTo>
                    <a:lnTo>
                      <a:pt x="0" y="72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924600" y="3446280"/>
                <a:ext cx="70920" cy="119160"/>
              </a:xfrm>
              <a:custGeom>
                <a:avLst/>
                <a:gdLst/>
                <a:ahLst/>
                <a:rect l="l" t="t" r="r" b="b"/>
                <a:pathLst>
                  <a:path w="178" h="300">
                    <a:moveTo>
                      <a:pt x="36" y="0"/>
                    </a:moveTo>
                    <a:lnTo>
                      <a:pt x="36" y="13"/>
                    </a:lnTo>
                    <a:lnTo>
                      <a:pt x="37" y="26"/>
                    </a:lnTo>
                    <a:lnTo>
                      <a:pt x="38" y="44"/>
                    </a:lnTo>
                    <a:lnTo>
                      <a:pt x="41" y="62"/>
                    </a:lnTo>
                    <a:lnTo>
                      <a:pt x="44" y="81"/>
                    </a:lnTo>
                    <a:lnTo>
                      <a:pt x="46" y="90"/>
                    </a:lnTo>
                    <a:lnTo>
                      <a:pt x="49" y="98"/>
                    </a:lnTo>
                    <a:lnTo>
                      <a:pt x="52" y="106"/>
                    </a:lnTo>
                    <a:lnTo>
                      <a:pt x="55" y="114"/>
                    </a:lnTo>
                    <a:lnTo>
                      <a:pt x="59" y="121"/>
                    </a:lnTo>
                    <a:lnTo>
                      <a:pt x="62" y="125"/>
                    </a:lnTo>
                    <a:lnTo>
                      <a:pt x="65" y="130"/>
                    </a:lnTo>
                    <a:lnTo>
                      <a:pt x="73" y="140"/>
                    </a:lnTo>
                    <a:lnTo>
                      <a:pt x="82" y="150"/>
                    </a:lnTo>
                    <a:lnTo>
                      <a:pt x="102" y="173"/>
                    </a:lnTo>
                    <a:lnTo>
                      <a:pt x="124" y="197"/>
                    </a:lnTo>
                    <a:lnTo>
                      <a:pt x="144" y="218"/>
                    </a:lnTo>
                    <a:lnTo>
                      <a:pt x="161" y="236"/>
                    </a:lnTo>
                    <a:lnTo>
                      <a:pt x="178" y="252"/>
                    </a:lnTo>
                    <a:lnTo>
                      <a:pt x="148" y="300"/>
                    </a:lnTo>
                    <a:lnTo>
                      <a:pt x="137" y="295"/>
                    </a:lnTo>
                    <a:lnTo>
                      <a:pt x="125" y="289"/>
                    </a:lnTo>
                    <a:lnTo>
                      <a:pt x="111" y="282"/>
                    </a:lnTo>
                    <a:lnTo>
                      <a:pt x="98" y="274"/>
                    </a:lnTo>
                    <a:lnTo>
                      <a:pt x="86" y="266"/>
                    </a:lnTo>
                    <a:lnTo>
                      <a:pt x="77" y="259"/>
                    </a:lnTo>
                    <a:lnTo>
                      <a:pt x="75" y="255"/>
                    </a:lnTo>
                    <a:lnTo>
                      <a:pt x="74" y="253"/>
                    </a:lnTo>
                    <a:lnTo>
                      <a:pt x="73" y="252"/>
                    </a:lnTo>
                    <a:lnTo>
                      <a:pt x="73" y="250"/>
                    </a:lnTo>
                    <a:lnTo>
                      <a:pt x="72" y="248"/>
                    </a:lnTo>
                    <a:lnTo>
                      <a:pt x="70" y="244"/>
                    </a:lnTo>
                    <a:lnTo>
                      <a:pt x="66" y="239"/>
                    </a:lnTo>
                    <a:lnTo>
                      <a:pt x="62" y="232"/>
                    </a:lnTo>
                    <a:lnTo>
                      <a:pt x="40" y="203"/>
                    </a:lnTo>
                    <a:lnTo>
                      <a:pt x="29" y="187"/>
                    </a:lnTo>
                    <a:lnTo>
                      <a:pt x="19" y="174"/>
                    </a:lnTo>
                    <a:lnTo>
                      <a:pt x="12" y="163"/>
                    </a:lnTo>
                    <a:lnTo>
                      <a:pt x="10" y="159"/>
                    </a:lnTo>
                    <a:lnTo>
                      <a:pt x="9" y="156"/>
                    </a:lnTo>
                    <a:lnTo>
                      <a:pt x="8" y="127"/>
                    </a:lnTo>
                    <a:lnTo>
                      <a:pt x="5" y="75"/>
                    </a:lnTo>
                    <a:lnTo>
                      <a:pt x="0" y="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797520" y="3448080"/>
                <a:ext cx="120240" cy="102960"/>
              </a:xfrm>
              <a:custGeom>
                <a:avLst/>
                <a:gdLst/>
                <a:ahLst/>
                <a:rect l="l" t="t" r="r" b="b"/>
                <a:pathLst>
                  <a:path w="307" h="261">
                    <a:moveTo>
                      <a:pt x="68" y="74"/>
                    </a:moveTo>
                    <a:lnTo>
                      <a:pt x="297" y="0"/>
                    </a:lnTo>
                    <a:lnTo>
                      <a:pt x="300" y="6"/>
                    </a:lnTo>
                    <a:lnTo>
                      <a:pt x="304" y="12"/>
                    </a:lnTo>
                    <a:lnTo>
                      <a:pt x="306" y="20"/>
                    </a:lnTo>
                    <a:lnTo>
                      <a:pt x="307" y="25"/>
                    </a:lnTo>
                    <a:lnTo>
                      <a:pt x="307" y="29"/>
                    </a:lnTo>
                    <a:lnTo>
                      <a:pt x="307" y="36"/>
                    </a:lnTo>
                    <a:lnTo>
                      <a:pt x="306" y="41"/>
                    </a:lnTo>
                    <a:lnTo>
                      <a:pt x="305" y="44"/>
                    </a:lnTo>
                    <a:lnTo>
                      <a:pt x="304" y="46"/>
                    </a:lnTo>
                    <a:lnTo>
                      <a:pt x="300" y="52"/>
                    </a:lnTo>
                    <a:lnTo>
                      <a:pt x="296" y="58"/>
                    </a:lnTo>
                    <a:lnTo>
                      <a:pt x="294" y="60"/>
                    </a:lnTo>
                    <a:lnTo>
                      <a:pt x="291" y="63"/>
                    </a:lnTo>
                    <a:lnTo>
                      <a:pt x="279" y="75"/>
                    </a:lnTo>
                    <a:lnTo>
                      <a:pt x="267" y="89"/>
                    </a:lnTo>
                    <a:lnTo>
                      <a:pt x="256" y="103"/>
                    </a:lnTo>
                    <a:lnTo>
                      <a:pt x="245" y="117"/>
                    </a:lnTo>
                    <a:lnTo>
                      <a:pt x="221" y="148"/>
                    </a:lnTo>
                    <a:lnTo>
                      <a:pt x="213" y="147"/>
                    </a:lnTo>
                    <a:lnTo>
                      <a:pt x="205" y="148"/>
                    </a:lnTo>
                    <a:lnTo>
                      <a:pt x="201" y="148"/>
                    </a:lnTo>
                    <a:lnTo>
                      <a:pt x="196" y="149"/>
                    </a:lnTo>
                    <a:lnTo>
                      <a:pt x="192" y="150"/>
                    </a:lnTo>
                    <a:lnTo>
                      <a:pt x="187" y="152"/>
                    </a:lnTo>
                    <a:lnTo>
                      <a:pt x="183" y="154"/>
                    </a:lnTo>
                    <a:lnTo>
                      <a:pt x="179" y="156"/>
                    </a:lnTo>
                    <a:lnTo>
                      <a:pt x="175" y="159"/>
                    </a:lnTo>
                    <a:lnTo>
                      <a:pt x="172" y="163"/>
                    </a:lnTo>
                    <a:lnTo>
                      <a:pt x="170" y="167"/>
                    </a:lnTo>
                    <a:lnTo>
                      <a:pt x="170" y="170"/>
                    </a:lnTo>
                    <a:lnTo>
                      <a:pt x="169" y="173"/>
                    </a:lnTo>
                    <a:lnTo>
                      <a:pt x="168" y="178"/>
                    </a:lnTo>
                    <a:lnTo>
                      <a:pt x="167" y="185"/>
                    </a:lnTo>
                    <a:lnTo>
                      <a:pt x="161" y="200"/>
                    </a:lnTo>
                    <a:lnTo>
                      <a:pt x="154" y="214"/>
                    </a:lnTo>
                    <a:lnTo>
                      <a:pt x="148" y="229"/>
                    </a:lnTo>
                    <a:lnTo>
                      <a:pt x="135" y="252"/>
                    </a:lnTo>
                    <a:lnTo>
                      <a:pt x="129" y="261"/>
                    </a:lnTo>
                    <a:lnTo>
                      <a:pt x="108" y="246"/>
                    </a:lnTo>
                    <a:lnTo>
                      <a:pt x="71" y="219"/>
                    </a:lnTo>
                    <a:lnTo>
                      <a:pt x="67" y="215"/>
                    </a:lnTo>
                    <a:lnTo>
                      <a:pt x="62" y="210"/>
                    </a:lnTo>
                    <a:lnTo>
                      <a:pt x="51" y="195"/>
                    </a:lnTo>
                    <a:lnTo>
                      <a:pt x="40" y="176"/>
                    </a:lnTo>
                    <a:lnTo>
                      <a:pt x="27" y="156"/>
                    </a:lnTo>
                    <a:lnTo>
                      <a:pt x="17" y="137"/>
                    </a:lnTo>
                    <a:lnTo>
                      <a:pt x="8" y="121"/>
                    </a:lnTo>
                    <a:lnTo>
                      <a:pt x="0" y="105"/>
                    </a:lnTo>
                    <a:lnTo>
                      <a:pt x="68" y="7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986520" y="5143320"/>
                <a:ext cx="86760" cy="106560"/>
              </a:xfrm>
              <a:custGeom>
                <a:avLst/>
                <a:gdLst/>
                <a:ahLst/>
                <a:rect l="l" t="t" r="r" b="b"/>
                <a:pathLst>
                  <a:path w="216" h="269">
                    <a:moveTo>
                      <a:pt x="0" y="265"/>
                    </a:moveTo>
                    <a:lnTo>
                      <a:pt x="9" y="250"/>
                    </a:lnTo>
                    <a:lnTo>
                      <a:pt x="28" y="222"/>
                    </a:lnTo>
                    <a:lnTo>
                      <a:pt x="86" y="147"/>
                    </a:lnTo>
                    <a:lnTo>
                      <a:pt x="155" y="64"/>
                    </a:lnTo>
                    <a:lnTo>
                      <a:pt x="186" y="27"/>
                    </a:lnTo>
                    <a:lnTo>
                      <a:pt x="211" y="0"/>
                    </a:lnTo>
                    <a:lnTo>
                      <a:pt x="216" y="6"/>
                    </a:lnTo>
                    <a:lnTo>
                      <a:pt x="191" y="33"/>
                    </a:lnTo>
                    <a:lnTo>
                      <a:pt x="161" y="69"/>
                    </a:lnTo>
                    <a:lnTo>
                      <a:pt x="92" y="152"/>
                    </a:lnTo>
                    <a:lnTo>
                      <a:pt x="34" y="227"/>
                    </a:lnTo>
                    <a:lnTo>
                      <a:pt x="15" y="255"/>
                    </a:lnTo>
                    <a:lnTo>
                      <a:pt x="7" y="269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070760" y="5092560"/>
                <a:ext cx="59760" cy="5256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29"/>
                    </a:moveTo>
                    <a:lnTo>
                      <a:pt x="48" y="85"/>
                    </a:lnTo>
                    <a:lnTo>
                      <a:pt x="95" y="42"/>
                    </a:lnTo>
                    <a:lnTo>
                      <a:pt x="146" y="0"/>
                    </a:lnTo>
                    <a:lnTo>
                      <a:pt x="151" y="6"/>
                    </a:lnTo>
                    <a:lnTo>
                      <a:pt x="100" y="48"/>
                    </a:lnTo>
                    <a:lnTo>
                      <a:pt x="53" y="91"/>
                    </a:lnTo>
                    <a:lnTo>
                      <a:pt x="5" y="135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070760" y="514332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129440" y="5035320"/>
                <a:ext cx="63000" cy="59040"/>
              </a:xfrm>
              <a:custGeom>
                <a:avLst/>
                <a:gdLst/>
                <a:ahLst/>
                <a:rect l="l" t="t" r="r" b="b"/>
                <a:pathLst>
                  <a:path w="161" h="150">
                    <a:moveTo>
                      <a:pt x="0" y="144"/>
                    </a:moveTo>
                    <a:lnTo>
                      <a:pt x="20" y="129"/>
                    </a:lnTo>
                    <a:lnTo>
                      <a:pt x="65" y="92"/>
                    </a:lnTo>
                    <a:lnTo>
                      <a:pt x="115" y="43"/>
                    </a:lnTo>
                    <a:lnTo>
                      <a:pt x="137" y="21"/>
                    </a:lnTo>
                    <a:lnTo>
                      <a:pt x="155" y="0"/>
                    </a:lnTo>
                    <a:lnTo>
                      <a:pt x="161" y="5"/>
                    </a:lnTo>
                    <a:lnTo>
                      <a:pt x="143" y="26"/>
                    </a:lnTo>
                    <a:lnTo>
                      <a:pt x="120" y="49"/>
                    </a:lnTo>
                    <a:lnTo>
                      <a:pt x="70" y="98"/>
                    </a:lnTo>
                    <a:lnTo>
                      <a:pt x="25" y="135"/>
                    </a:lnTo>
                    <a:lnTo>
                      <a:pt x="5" y="15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129440" y="509256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189560" y="4952880"/>
                <a:ext cx="101520" cy="84240"/>
              </a:xfrm>
              <a:custGeom>
                <a:avLst/>
                <a:gdLst/>
                <a:ahLst/>
                <a:rect l="l" t="t" r="r" b="b"/>
                <a:pathLst>
                  <a:path w="254" h="213">
                    <a:moveTo>
                      <a:pt x="0" y="208"/>
                    </a:moveTo>
                    <a:lnTo>
                      <a:pt x="21" y="171"/>
                    </a:lnTo>
                    <a:lnTo>
                      <a:pt x="34" y="153"/>
                    </a:lnTo>
                    <a:lnTo>
                      <a:pt x="52" y="132"/>
                    </a:lnTo>
                    <a:lnTo>
                      <a:pt x="79" y="108"/>
                    </a:lnTo>
                    <a:lnTo>
                      <a:pt x="120" y="79"/>
                    </a:lnTo>
                    <a:lnTo>
                      <a:pt x="176" y="43"/>
                    </a:lnTo>
                    <a:lnTo>
                      <a:pt x="250" y="0"/>
                    </a:lnTo>
                    <a:lnTo>
                      <a:pt x="254" y="7"/>
                    </a:lnTo>
                    <a:lnTo>
                      <a:pt x="180" y="50"/>
                    </a:lnTo>
                    <a:lnTo>
                      <a:pt x="124" y="86"/>
                    </a:lnTo>
                    <a:lnTo>
                      <a:pt x="84" y="114"/>
                    </a:lnTo>
                    <a:lnTo>
                      <a:pt x="57" y="138"/>
                    </a:lnTo>
                    <a:lnTo>
                      <a:pt x="40" y="158"/>
                    </a:lnTo>
                    <a:lnTo>
                      <a:pt x="27" y="176"/>
                    </a:lnTo>
                    <a:lnTo>
                      <a:pt x="6" y="213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189560" y="50353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289640" y="4894200"/>
                <a:ext cx="110880" cy="60120"/>
              </a:xfrm>
              <a:custGeom>
                <a:avLst/>
                <a:gdLst/>
                <a:ahLst/>
                <a:rect l="l" t="t" r="r" b="b"/>
                <a:pathLst>
                  <a:path w="281" h="153">
                    <a:moveTo>
                      <a:pt x="0" y="146"/>
                    </a:moveTo>
                    <a:lnTo>
                      <a:pt x="125" y="76"/>
                    </a:lnTo>
                    <a:lnTo>
                      <a:pt x="211" y="32"/>
                    </a:lnTo>
                    <a:lnTo>
                      <a:pt x="277" y="0"/>
                    </a:lnTo>
                    <a:lnTo>
                      <a:pt x="281" y="7"/>
                    </a:lnTo>
                    <a:lnTo>
                      <a:pt x="215" y="39"/>
                    </a:lnTo>
                    <a:lnTo>
                      <a:pt x="129" y="83"/>
                    </a:lnTo>
                    <a:lnTo>
                      <a:pt x="4" y="153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289640" y="4952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0"/>
                    </a:moveTo>
                    <a:lnTo>
                      <a:pt x="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400880" y="4835520"/>
                <a:ext cx="63000" cy="61920"/>
              </a:xfrm>
              <a:custGeom>
                <a:avLst/>
                <a:gdLst/>
                <a:ahLst/>
                <a:rect l="l" t="t" r="r" b="b"/>
                <a:pathLst>
                  <a:path w="161" h="156">
                    <a:moveTo>
                      <a:pt x="0" y="148"/>
                    </a:moveTo>
                    <a:lnTo>
                      <a:pt x="6" y="147"/>
                    </a:lnTo>
                    <a:lnTo>
                      <a:pt x="23" y="143"/>
                    </a:lnTo>
                    <a:lnTo>
                      <a:pt x="45" y="135"/>
                    </a:lnTo>
                    <a:lnTo>
                      <a:pt x="73" y="122"/>
                    </a:lnTo>
                    <a:lnTo>
                      <a:pt x="100" y="103"/>
                    </a:lnTo>
                    <a:lnTo>
                      <a:pt x="113" y="89"/>
                    </a:lnTo>
                    <a:lnTo>
                      <a:pt x="125" y="76"/>
                    </a:lnTo>
                    <a:lnTo>
                      <a:pt x="135" y="60"/>
                    </a:lnTo>
                    <a:lnTo>
                      <a:pt x="143" y="42"/>
                    </a:lnTo>
                    <a:lnTo>
                      <a:pt x="146" y="33"/>
                    </a:lnTo>
                    <a:lnTo>
                      <a:pt x="149" y="23"/>
                    </a:lnTo>
                    <a:lnTo>
                      <a:pt x="154" y="0"/>
                    </a:lnTo>
                    <a:lnTo>
                      <a:pt x="161" y="2"/>
                    </a:lnTo>
                    <a:lnTo>
                      <a:pt x="157" y="26"/>
                    </a:lnTo>
                    <a:lnTo>
                      <a:pt x="154" y="36"/>
                    </a:lnTo>
                    <a:lnTo>
                      <a:pt x="150" y="46"/>
                    </a:lnTo>
                    <a:lnTo>
                      <a:pt x="141" y="65"/>
                    </a:lnTo>
                    <a:lnTo>
                      <a:pt x="131" y="81"/>
                    </a:lnTo>
                    <a:lnTo>
                      <a:pt x="118" y="96"/>
                    </a:lnTo>
                    <a:lnTo>
                      <a:pt x="105" y="109"/>
                    </a:lnTo>
                    <a:lnTo>
                      <a:pt x="77" y="129"/>
                    </a:lnTo>
                    <a:lnTo>
                      <a:pt x="49" y="142"/>
                    </a:lnTo>
                    <a:lnTo>
                      <a:pt x="25" y="151"/>
                    </a:lnTo>
                    <a:lnTo>
                      <a:pt x="7" y="155"/>
                    </a:lnTo>
                    <a:lnTo>
                      <a:pt x="1" y="156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399080" y="4894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1"/>
                    </a:moveTo>
                    <a:lnTo>
                      <a:pt x="2" y="0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461000" y="4736880"/>
                <a:ext cx="69480" cy="98640"/>
              </a:xfrm>
              <a:custGeom>
                <a:avLst/>
                <a:gdLst/>
                <a:ahLst/>
                <a:rect l="l" t="t" r="r" b="b"/>
                <a:pathLst>
                  <a:path w="175" h="252">
                    <a:moveTo>
                      <a:pt x="0" y="250"/>
                    </a:moveTo>
                    <a:lnTo>
                      <a:pt x="6" y="195"/>
                    </a:lnTo>
                    <a:lnTo>
                      <a:pt x="16" y="148"/>
                    </a:lnTo>
                    <a:lnTo>
                      <a:pt x="29" y="109"/>
                    </a:lnTo>
                    <a:lnTo>
                      <a:pt x="47" y="79"/>
                    </a:lnTo>
                    <a:lnTo>
                      <a:pt x="69" y="53"/>
                    </a:lnTo>
                    <a:lnTo>
                      <a:pt x="83" y="42"/>
                    </a:lnTo>
                    <a:lnTo>
                      <a:pt x="98" y="32"/>
                    </a:lnTo>
                    <a:lnTo>
                      <a:pt x="131" y="15"/>
                    </a:lnTo>
                    <a:lnTo>
                      <a:pt x="173" y="0"/>
                    </a:lnTo>
                    <a:lnTo>
                      <a:pt x="175" y="8"/>
                    </a:lnTo>
                    <a:lnTo>
                      <a:pt x="136" y="22"/>
                    </a:lnTo>
                    <a:lnTo>
                      <a:pt x="102" y="40"/>
                    </a:lnTo>
                    <a:lnTo>
                      <a:pt x="87" y="49"/>
                    </a:lnTo>
                    <a:lnTo>
                      <a:pt x="74" y="59"/>
                    </a:lnTo>
                    <a:lnTo>
                      <a:pt x="53" y="84"/>
                    </a:lnTo>
                    <a:lnTo>
                      <a:pt x="36" y="113"/>
                    </a:lnTo>
                    <a:lnTo>
                      <a:pt x="23" y="151"/>
                    </a:lnTo>
                    <a:lnTo>
                      <a:pt x="13" y="197"/>
                    </a:lnTo>
                    <a:lnTo>
                      <a:pt x="7" y="252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461000" y="4835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0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530840" y="4727520"/>
                <a:ext cx="87120" cy="12600"/>
              </a:xfrm>
              <a:custGeom>
                <a:avLst/>
                <a:gdLst/>
                <a:ahLst/>
                <a:rect l="l" t="t" r="r" b="b"/>
                <a:pathLst>
                  <a:path w="222" h="30">
                    <a:moveTo>
                      <a:pt x="0" y="22"/>
                    </a:moveTo>
                    <a:lnTo>
                      <a:pt x="43" y="11"/>
                    </a:lnTo>
                    <a:lnTo>
                      <a:pt x="84" y="4"/>
                    </a:lnTo>
                    <a:lnTo>
                      <a:pt x="122" y="1"/>
                    </a:lnTo>
                    <a:lnTo>
                      <a:pt x="155" y="0"/>
                    </a:lnTo>
                    <a:lnTo>
                      <a:pt x="183" y="1"/>
                    </a:lnTo>
                    <a:lnTo>
                      <a:pt x="204" y="3"/>
                    </a:lnTo>
                    <a:lnTo>
                      <a:pt x="222" y="5"/>
                    </a:lnTo>
                    <a:lnTo>
                      <a:pt x="221" y="13"/>
                    </a:lnTo>
                    <a:lnTo>
                      <a:pt x="203" y="11"/>
                    </a:lnTo>
                    <a:lnTo>
                      <a:pt x="182" y="9"/>
                    </a:lnTo>
                    <a:lnTo>
                      <a:pt x="155" y="8"/>
                    </a:lnTo>
                    <a:lnTo>
                      <a:pt x="122" y="9"/>
                    </a:lnTo>
                    <a:lnTo>
                      <a:pt x="85" y="12"/>
                    </a:lnTo>
                    <a:lnTo>
                      <a:pt x="44" y="19"/>
                    </a:lnTo>
                    <a:lnTo>
                      <a:pt x="1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370560" y="3149640"/>
                <a:ext cx="18720" cy="118800"/>
              </a:xfrm>
              <a:custGeom>
                <a:avLst/>
                <a:gdLst/>
                <a:ahLst/>
                <a:rect l="l" t="t" r="r" b="b"/>
                <a:pathLst>
                  <a:path w="48" h="301">
                    <a:moveTo>
                      <a:pt x="48" y="4"/>
                    </a:moveTo>
                    <a:lnTo>
                      <a:pt x="38" y="24"/>
                    </a:lnTo>
                    <a:lnTo>
                      <a:pt x="29" y="42"/>
                    </a:lnTo>
                    <a:lnTo>
                      <a:pt x="18" y="77"/>
                    </a:lnTo>
                    <a:lnTo>
                      <a:pt x="12" y="111"/>
                    </a:lnTo>
                    <a:lnTo>
                      <a:pt x="9" y="146"/>
                    </a:lnTo>
                    <a:lnTo>
                      <a:pt x="12" y="219"/>
                    </a:lnTo>
                    <a:lnTo>
                      <a:pt x="14" y="259"/>
                    </a:lnTo>
                    <a:lnTo>
                      <a:pt x="15" y="301"/>
                    </a:lnTo>
                    <a:lnTo>
                      <a:pt x="7" y="301"/>
                    </a:lnTo>
                    <a:lnTo>
                      <a:pt x="5" y="259"/>
                    </a:lnTo>
                    <a:lnTo>
                      <a:pt x="3" y="219"/>
                    </a:lnTo>
                    <a:lnTo>
                      <a:pt x="0" y="146"/>
                    </a:lnTo>
                    <a:lnTo>
                      <a:pt x="3" y="111"/>
                    </a:lnTo>
                    <a:lnTo>
                      <a:pt x="10" y="75"/>
                    </a:lnTo>
                    <a:lnTo>
                      <a:pt x="22" y="39"/>
                    </a:lnTo>
                    <a:lnTo>
                      <a:pt x="31" y="20"/>
                    </a:lnTo>
                    <a:lnTo>
                      <a:pt x="41" y="0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373800" y="3268440"/>
                <a:ext cx="13680" cy="125640"/>
              </a:xfrm>
              <a:custGeom>
                <a:avLst/>
                <a:gdLst/>
                <a:ahLst/>
                <a:rect l="l" t="t" r="r" b="b"/>
                <a:pathLst>
                  <a:path w="36" h="313">
                    <a:moveTo>
                      <a:pt x="8" y="0"/>
                    </a:moveTo>
                    <a:lnTo>
                      <a:pt x="9" y="44"/>
                    </a:lnTo>
                    <a:lnTo>
                      <a:pt x="13" y="84"/>
                    </a:lnTo>
                    <a:lnTo>
                      <a:pt x="22" y="157"/>
                    </a:lnTo>
                    <a:lnTo>
                      <a:pt x="32" y="230"/>
                    </a:lnTo>
                    <a:lnTo>
                      <a:pt x="35" y="270"/>
                    </a:lnTo>
                    <a:lnTo>
                      <a:pt x="36" y="313"/>
                    </a:lnTo>
                    <a:lnTo>
                      <a:pt x="28" y="313"/>
                    </a:lnTo>
                    <a:lnTo>
                      <a:pt x="27" y="270"/>
                    </a:lnTo>
                    <a:lnTo>
                      <a:pt x="24" y="231"/>
                    </a:lnTo>
                    <a:lnTo>
                      <a:pt x="14" y="158"/>
                    </a:lnTo>
                    <a:lnTo>
                      <a:pt x="5" y="85"/>
                    </a:lnTo>
                    <a:lnTo>
                      <a:pt x="1" y="44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373800" y="32684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354720" y="3394080"/>
                <a:ext cx="32760" cy="98280"/>
              </a:xfrm>
              <a:custGeom>
                <a:avLst/>
                <a:gdLst/>
                <a:ahLst/>
                <a:rect l="l" t="t" r="r" b="b"/>
                <a:pathLst>
                  <a:path w="83" h="250">
                    <a:moveTo>
                      <a:pt x="83" y="0"/>
                    </a:moveTo>
                    <a:lnTo>
                      <a:pt x="82" y="20"/>
                    </a:lnTo>
                    <a:lnTo>
                      <a:pt x="80" y="37"/>
                    </a:lnTo>
                    <a:lnTo>
                      <a:pt x="72" y="69"/>
                    </a:lnTo>
                    <a:lnTo>
                      <a:pt x="59" y="99"/>
                    </a:lnTo>
                    <a:lnTo>
                      <a:pt x="44" y="127"/>
                    </a:lnTo>
                    <a:lnTo>
                      <a:pt x="30" y="155"/>
                    </a:lnTo>
                    <a:lnTo>
                      <a:pt x="19" y="184"/>
                    </a:lnTo>
                    <a:lnTo>
                      <a:pt x="11" y="214"/>
                    </a:lnTo>
                    <a:lnTo>
                      <a:pt x="9" y="231"/>
                    </a:lnTo>
                    <a:lnTo>
                      <a:pt x="8" y="250"/>
                    </a:lnTo>
                    <a:lnTo>
                      <a:pt x="0" y="250"/>
                    </a:lnTo>
                    <a:lnTo>
                      <a:pt x="1" y="231"/>
                    </a:lnTo>
                    <a:lnTo>
                      <a:pt x="3" y="213"/>
                    </a:lnTo>
                    <a:lnTo>
                      <a:pt x="11" y="182"/>
                    </a:lnTo>
                    <a:lnTo>
                      <a:pt x="23" y="151"/>
                    </a:lnTo>
                    <a:lnTo>
                      <a:pt x="37" y="123"/>
                    </a:lnTo>
                    <a:lnTo>
                      <a:pt x="52" y="95"/>
                    </a:lnTo>
                    <a:lnTo>
                      <a:pt x="64" y="67"/>
                    </a:lnTo>
                    <a:lnTo>
                      <a:pt x="72" y="36"/>
                    </a:lnTo>
                    <a:lnTo>
                      <a:pt x="74" y="20"/>
                    </a:lnTo>
                    <a:lnTo>
                      <a:pt x="75" y="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384960" y="3394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354720" y="34923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54" h="102">
                    <a:moveTo>
                      <a:pt x="8" y="0"/>
                    </a:moveTo>
                    <a:lnTo>
                      <a:pt x="9" y="15"/>
                    </a:lnTo>
                    <a:lnTo>
                      <a:pt x="11" y="27"/>
                    </a:lnTo>
                    <a:lnTo>
                      <a:pt x="14" y="39"/>
                    </a:lnTo>
                    <a:lnTo>
                      <a:pt x="20" y="51"/>
                    </a:lnTo>
                    <a:lnTo>
                      <a:pt x="27" y="62"/>
                    </a:lnTo>
                    <a:lnTo>
                      <a:pt x="35" y="74"/>
                    </a:lnTo>
                    <a:lnTo>
                      <a:pt x="54" y="97"/>
                    </a:lnTo>
                    <a:lnTo>
                      <a:pt x="48" y="102"/>
                    </a:lnTo>
                    <a:lnTo>
                      <a:pt x="29" y="79"/>
                    </a:lnTo>
                    <a:lnTo>
                      <a:pt x="20" y="66"/>
                    </a:lnTo>
                    <a:lnTo>
                      <a:pt x="13" y="55"/>
                    </a:lnTo>
                    <a:lnTo>
                      <a:pt x="7" y="43"/>
                    </a:lnTo>
                    <a:lnTo>
                      <a:pt x="3" y="29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354720" y="3492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373800" y="3530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8" y="1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73800" y="3578040"/>
                <a:ext cx="131400" cy="138240"/>
              </a:xfrm>
              <a:custGeom>
                <a:avLst/>
                <a:gdLst/>
                <a:ahLst/>
                <a:rect l="l" t="t" r="r" b="b"/>
                <a:pathLst>
                  <a:path w="335" h="348">
                    <a:moveTo>
                      <a:pt x="8" y="0"/>
                    </a:moveTo>
                    <a:lnTo>
                      <a:pt x="9" y="17"/>
                    </a:lnTo>
                    <a:lnTo>
                      <a:pt x="12" y="32"/>
                    </a:lnTo>
                    <a:lnTo>
                      <a:pt x="16" y="46"/>
                    </a:lnTo>
                    <a:lnTo>
                      <a:pt x="21" y="59"/>
                    </a:lnTo>
                    <a:lnTo>
                      <a:pt x="28" y="71"/>
                    </a:lnTo>
                    <a:lnTo>
                      <a:pt x="37" y="83"/>
                    </a:lnTo>
                    <a:lnTo>
                      <a:pt x="47" y="94"/>
                    </a:lnTo>
                    <a:lnTo>
                      <a:pt x="57" y="103"/>
                    </a:lnTo>
                    <a:lnTo>
                      <a:pt x="81" y="122"/>
                    </a:lnTo>
                    <a:lnTo>
                      <a:pt x="109" y="139"/>
                    </a:lnTo>
                    <a:lnTo>
                      <a:pt x="169" y="171"/>
                    </a:lnTo>
                    <a:lnTo>
                      <a:pt x="229" y="203"/>
                    </a:lnTo>
                    <a:lnTo>
                      <a:pt x="256" y="220"/>
                    </a:lnTo>
                    <a:lnTo>
                      <a:pt x="282" y="238"/>
                    </a:lnTo>
                    <a:lnTo>
                      <a:pt x="304" y="261"/>
                    </a:lnTo>
                    <a:lnTo>
                      <a:pt x="320" y="285"/>
                    </a:lnTo>
                    <a:lnTo>
                      <a:pt x="327" y="300"/>
                    </a:lnTo>
                    <a:lnTo>
                      <a:pt x="331" y="314"/>
                    </a:lnTo>
                    <a:lnTo>
                      <a:pt x="334" y="332"/>
                    </a:lnTo>
                    <a:lnTo>
                      <a:pt x="335" y="348"/>
                    </a:lnTo>
                    <a:lnTo>
                      <a:pt x="327" y="348"/>
                    </a:lnTo>
                    <a:lnTo>
                      <a:pt x="326" y="333"/>
                    </a:lnTo>
                    <a:lnTo>
                      <a:pt x="323" y="316"/>
                    </a:lnTo>
                    <a:lnTo>
                      <a:pt x="319" y="302"/>
                    </a:lnTo>
                    <a:lnTo>
                      <a:pt x="313" y="289"/>
                    </a:lnTo>
                    <a:lnTo>
                      <a:pt x="298" y="266"/>
                    </a:lnTo>
                    <a:lnTo>
                      <a:pt x="277" y="244"/>
                    </a:lnTo>
                    <a:lnTo>
                      <a:pt x="252" y="227"/>
                    </a:lnTo>
                    <a:lnTo>
                      <a:pt x="225" y="210"/>
                    </a:lnTo>
                    <a:lnTo>
                      <a:pt x="165" y="178"/>
                    </a:lnTo>
                    <a:lnTo>
                      <a:pt x="105" y="146"/>
                    </a:lnTo>
                    <a:lnTo>
                      <a:pt x="77" y="129"/>
                    </a:lnTo>
                    <a:lnTo>
                      <a:pt x="52" y="109"/>
                    </a:lnTo>
                    <a:lnTo>
                      <a:pt x="41" y="99"/>
                    </a:lnTo>
                    <a:lnTo>
                      <a:pt x="31" y="88"/>
                    </a:lnTo>
                    <a:lnTo>
                      <a:pt x="21" y="75"/>
                    </a:lnTo>
                    <a:lnTo>
                      <a:pt x="14" y="63"/>
                    </a:lnTo>
                    <a:lnTo>
                      <a:pt x="8" y="48"/>
                    </a:lnTo>
                    <a:lnTo>
                      <a:pt x="4" y="34"/>
                    </a:lnTo>
                    <a:lnTo>
                      <a:pt x="1" y="18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373800" y="35780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02320" y="3716280"/>
                <a:ext cx="6120" cy="39600"/>
              </a:xfrm>
              <a:custGeom>
                <a:avLst/>
                <a:gdLst/>
                <a:ahLst/>
                <a:rect l="l" t="t" r="r" b="b"/>
                <a:pathLst>
                  <a:path w="14" h="97">
                    <a:moveTo>
                      <a:pt x="8" y="0"/>
                    </a:moveTo>
                    <a:lnTo>
                      <a:pt x="9" y="28"/>
                    </a:lnTo>
                    <a:lnTo>
                      <a:pt x="11" y="49"/>
                    </a:lnTo>
                    <a:lnTo>
                      <a:pt x="13" y="69"/>
                    </a:lnTo>
                    <a:lnTo>
                      <a:pt x="14" y="97"/>
                    </a:lnTo>
                    <a:lnTo>
                      <a:pt x="6" y="97"/>
                    </a:lnTo>
                    <a:lnTo>
                      <a:pt x="5" y="70"/>
                    </a:lnTo>
                    <a:lnTo>
                      <a:pt x="3" y="50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502320" y="37162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70640" y="3755880"/>
                <a:ext cx="37800" cy="5724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95" y="0"/>
                    </a:moveTo>
                    <a:lnTo>
                      <a:pt x="94" y="13"/>
                    </a:lnTo>
                    <a:lnTo>
                      <a:pt x="92" y="25"/>
                    </a:lnTo>
                    <a:lnTo>
                      <a:pt x="86" y="37"/>
                    </a:lnTo>
                    <a:lnTo>
                      <a:pt x="81" y="47"/>
                    </a:lnTo>
                    <a:lnTo>
                      <a:pt x="67" y="62"/>
                    </a:lnTo>
                    <a:lnTo>
                      <a:pt x="50" y="76"/>
                    </a:lnTo>
                    <a:lnTo>
                      <a:pt x="35" y="90"/>
                    </a:lnTo>
                    <a:lnTo>
                      <a:pt x="20" y="105"/>
                    </a:lnTo>
                    <a:lnTo>
                      <a:pt x="11" y="124"/>
                    </a:lnTo>
                    <a:lnTo>
                      <a:pt x="9" y="133"/>
                    </a:lnTo>
                    <a:lnTo>
                      <a:pt x="8" y="146"/>
                    </a:lnTo>
                    <a:lnTo>
                      <a:pt x="0" y="146"/>
                    </a:lnTo>
                    <a:lnTo>
                      <a:pt x="1" y="132"/>
                    </a:lnTo>
                    <a:lnTo>
                      <a:pt x="4" y="120"/>
                    </a:lnTo>
                    <a:lnTo>
                      <a:pt x="13" y="101"/>
                    </a:lnTo>
                    <a:lnTo>
                      <a:pt x="29" y="85"/>
                    </a:lnTo>
                    <a:lnTo>
                      <a:pt x="45" y="70"/>
                    </a:lnTo>
                    <a:lnTo>
                      <a:pt x="61" y="57"/>
                    </a:lnTo>
                    <a:lnTo>
                      <a:pt x="75" y="42"/>
                    </a:lnTo>
                    <a:lnTo>
                      <a:pt x="79" y="33"/>
                    </a:lnTo>
                    <a:lnTo>
                      <a:pt x="84" y="23"/>
                    </a:lnTo>
                    <a:lnTo>
                      <a:pt x="86" y="12"/>
                    </a:lnTo>
                    <a:lnTo>
                      <a:pt x="87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05560" y="37558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470640" y="38131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155" h="127">
                    <a:moveTo>
                      <a:pt x="8" y="0"/>
                    </a:moveTo>
                    <a:lnTo>
                      <a:pt x="9" y="14"/>
                    </a:lnTo>
                    <a:lnTo>
                      <a:pt x="11" y="26"/>
                    </a:lnTo>
                    <a:lnTo>
                      <a:pt x="14" y="38"/>
                    </a:lnTo>
                    <a:lnTo>
                      <a:pt x="20" y="50"/>
                    </a:lnTo>
                    <a:lnTo>
                      <a:pt x="26" y="61"/>
                    </a:lnTo>
                    <a:lnTo>
                      <a:pt x="35" y="71"/>
                    </a:lnTo>
                    <a:lnTo>
                      <a:pt x="53" y="88"/>
                    </a:lnTo>
                    <a:lnTo>
                      <a:pt x="76" y="102"/>
                    </a:lnTo>
                    <a:lnTo>
                      <a:pt x="100" y="111"/>
                    </a:lnTo>
                    <a:lnTo>
                      <a:pt x="127" y="117"/>
                    </a:lnTo>
                    <a:lnTo>
                      <a:pt x="155" y="119"/>
                    </a:lnTo>
                    <a:lnTo>
                      <a:pt x="154" y="127"/>
                    </a:lnTo>
                    <a:lnTo>
                      <a:pt x="126" y="125"/>
                    </a:lnTo>
                    <a:lnTo>
                      <a:pt x="98" y="119"/>
                    </a:lnTo>
                    <a:lnTo>
                      <a:pt x="72" y="109"/>
                    </a:lnTo>
                    <a:lnTo>
                      <a:pt x="48" y="94"/>
                    </a:lnTo>
                    <a:lnTo>
                      <a:pt x="29" y="76"/>
                    </a:lnTo>
                    <a:lnTo>
                      <a:pt x="19" y="65"/>
                    </a:lnTo>
                    <a:lnTo>
                      <a:pt x="13" y="54"/>
                    </a:lnTo>
                    <a:lnTo>
                      <a:pt x="7" y="43"/>
                    </a:lnTo>
                    <a:lnTo>
                      <a:pt x="3" y="28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470640" y="3813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532560" y="3857400"/>
                <a:ext cx="39240" cy="6480"/>
              </a:xfrm>
              <a:custGeom>
                <a:avLst/>
                <a:gdLst/>
                <a:ahLst/>
                <a:rect l="l" t="t" r="r" b="b"/>
                <a:pathLst>
                  <a:path w="99" h="14">
                    <a:moveTo>
                      <a:pt x="0" y="6"/>
                    </a:moveTo>
                    <a:lnTo>
                      <a:pt x="50" y="3"/>
                    </a:lnTo>
                    <a:lnTo>
                      <a:pt x="99" y="0"/>
                    </a:lnTo>
                    <a:lnTo>
                      <a:pt x="99" y="8"/>
                    </a:lnTo>
                    <a:lnTo>
                      <a:pt x="50" y="11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572160" y="385740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115" h="88">
                    <a:moveTo>
                      <a:pt x="1" y="0"/>
                    </a:moveTo>
                    <a:lnTo>
                      <a:pt x="19" y="3"/>
                    </a:lnTo>
                    <a:lnTo>
                      <a:pt x="29" y="6"/>
                    </a:lnTo>
                    <a:lnTo>
                      <a:pt x="37" y="10"/>
                    </a:lnTo>
                    <a:lnTo>
                      <a:pt x="51" y="19"/>
                    </a:lnTo>
                    <a:lnTo>
                      <a:pt x="64" y="32"/>
                    </a:lnTo>
                    <a:lnTo>
                      <a:pt x="88" y="58"/>
                    </a:lnTo>
                    <a:lnTo>
                      <a:pt x="100" y="70"/>
                    </a:lnTo>
                    <a:lnTo>
                      <a:pt x="115" y="82"/>
                    </a:lnTo>
                    <a:lnTo>
                      <a:pt x="110" y="88"/>
                    </a:lnTo>
                    <a:lnTo>
                      <a:pt x="95" y="76"/>
                    </a:lnTo>
                    <a:lnTo>
                      <a:pt x="82" y="63"/>
                    </a:lnTo>
                    <a:lnTo>
                      <a:pt x="58" y="37"/>
                    </a:lnTo>
                    <a:lnTo>
                      <a:pt x="45" y="25"/>
                    </a:lnTo>
                    <a:lnTo>
                      <a:pt x="33" y="17"/>
                    </a:lnTo>
                    <a:lnTo>
                      <a:pt x="25" y="13"/>
                    </a:lnTo>
                    <a:lnTo>
                      <a:pt x="18" y="11"/>
                    </a:lnTo>
                    <a:lnTo>
                      <a:pt x="0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615000" y="3890880"/>
                <a:ext cx="31320" cy="27000"/>
              </a:xfrm>
              <a:custGeom>
                <a:avLst/>
                <a:gdLst/>
                <a:ahLst/>
                <a:rect l="l" t="t" r="r" b="b"/>
                <a:pathLst>
                  <a:path w="82" h="71">
                    <a:moveTo>
                      <a:pt x="5" y="0"/>
                    </a:moveTo>
                    <a:lnTo>
                      <a:pt x="36" y="29"/>
                    </a:lnTo>
                    <a:lnTo>
                      <a:pt x="61" y="50"/>
                    </a:lnTo>
                    <a:lnTo>
                      <a:pt x="82" y="65"/>
                    </a:lnTo>
                    <a:lnTo>
                      <a:pt x="77" y="71"/>
                    </a:lnTo>
                    <a:lnTo>
                      <a:pt x="56" y="56"/>
                    </a:lnTo>
                    <a:lnTo>
                      <a:pt x="31" y="35"/>
                    </a:ln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615000" y="3890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645240" y="391644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75" h="76">
                    <a:moveTo>
                      <a:pt x="5" y="0"/>
                    </a:moveTo>
                    <a:lnTo>
                      <a:pt x="23" y="16"/>
                    </a:lnTo>
                    <a:lnTo>
                      <a:pt x="47" y="40"/>
                    </a:lnTo>
                    <a:lnTo>
                      <a:pt x="75" y="71"/>
                    </a:lnTo>
                    <a:lnTo>
                      <a:pt x="69" y="76"/>
                    </a:lnTo>
                    <a:lnTo>
                      <a:pt x="41" y="45"/>
                    </a:lnTo>
                    <a:lnTo>
                      <a:pt x="18" y="22"/>
                    </a:ln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645240" y="39164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673680" y="3944880"/>
                <a:ext cx="61560" cy="42840"/>
              </a:xfrm>
              <a:custGeom>
                <a:avLst/>
                <a:gdLst/>
                <a:ahLst/>
                <a:rect l="l" t="t" r="r" b="b"/>
                <a:pathLst>
                  <a:path w="158" h="108">
                    <a:moveTo>
                      <a:pt x="4" y="0"/>
                    </a:moveTo>
                    <a:lnTo>
                      <a:pt x="0" y="7"/>
                    </a:lnTo>
                    <a:lnTo>
                      <a:pt x="154" y="108"/>
                    </a:lnTo>
                    <a:lnTo>
                      <a:pt x="158" y="10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673680" y="3944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1" y="7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735600" y="3970080"/>
                <a:ext cx="44280" cy="17640"/>
              </a:xfrm>
              <a:custGeom>
                <a:avLst/>
                <a:gdLst/>
                <a:ahLst/>
                <a:rect l="l" t="t" r="r" b="b"/>
                <a:pathLst>
                  <a:path w="112" h="43">
                    <a:moveTo>
                      <a:pt x="0" y="35"/>
                    </a:moveTo>
                    <a:lnTo>
                      <a:pt x="12" y="32"/>
                    </a:lnTo>
                    <a:lnTo>
                      <a:pt x="40" y="25"/>
                    </a:lnTo>
                    <a:lnTo>
                      <a:pt x="77" y="14"/>
                    </a:lnTo>
                    <a:lnTo>
                      <a:pt x="93" y="8"/>
                    </a:lnTo>
                    <a:lnTo>
                      <a:pt x="108" y="0"/>
                    </a:lnTo>
                    <a:lnTo>
                      <a:pt x="112" y="7"/>
                    </a:lnTo>
                    <a:lnTo>
                      <a:pt x="97" y="15"/>
                    </a:lnTo>
                    <a:lnTo>
                      <a:pt x="79" y="22"/>
                    </a:lnTo>
                    <a:lnTo>
                      <a:pt x="42" y="33"/>
                    </a:lnTo>
                    <a:lnTo>
                      <a:pt x="13" y="40"/>
                    </a:lnTo>
                    <a:lnTo>
                      <a:pt x="1" y="4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734160" y="39844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lnTo>
                      <a:pt x="1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778440" y="3962160"/>
                <a:ext cx="29880" cy="2088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0" y="19"/>
                    </a:moveTo>
                    <a:lnTo>
                      <a:pt x="20" y="5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4"/>
                    </a:lnTo>
                    <a:lnTo>
                      <a:pt x="51" y="14"/>
                    </a:lnTo>
                    <a:lnTo>
                      <a:pt x="78" y="48"/>
                    </a:lnTo>
                    <a:lnTo>
                      <a:pt x="71" y="53"/>
                    </a:lnTo>
                    <a:lnTo>
                      <a:pt x="45" y="19"/>
                    </a:lnTo>
                    <a:lnTo>
                      <a:pt x="38" y="10"/>
                    </a:lnTo>
                    <a:lnTo>
                      <a:pt x="33" y="8"/>
                    </a:lnTo>
                    <a:lnTo>
                      <a:pt x="29" y="8"/>
                    </a:lnTo>
                    <a:lnTo>
                      <a:pt x="24" y="12"/>
                    </a:lnTo>
                    <a:lnTo>
                      <a:pt x="4" y="2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778440" y="3970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0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805440" y="3981240"/>
                <a:ext cx="25200" cy="41400"/>
              </a:xfrm>
              <a:custGeom>
                <a:avLst/>
                <a:gdLst/>
                <a:ahLst/>
                <a:rect l="l" t="t" r="r" b="b"/>
                <a:pathLst>
                  <a:path w="64" h="105">
                    <a:moveTo>
                      <a:pt x="8" y="0"/>
                    </a:moveTo>
                    <a:lnTo>
                      <a:pt x="35" y="43"/>
                    </a:lnTo>
                    <a:lnTo>
                      <a:pt x="53" y="74"/>
                    </a:lnTo>
                    <a:lnTo>
                      <a:pt x="64" y="101"/>
                    </a:lnTo>
                    <a:lnTo>
                      <a:pt x="57" y="105"/>
                    </a:lnTo>
                    <a:lnTo>
                      <a:pt x="46" y="78"/>
                    </a:lnTo>
                    <a:lnTo>
                      <a:pt x="28" y="47"/>
                    </a:ln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829200" y="402120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62" h="19">
                    <a:moveTo>
                      <a:pt x="4" y="0"/>
                    </a:moveTo>
                    <a:lnTo>
                      <a:pt x="11" y="3"/>
                    </a:lnTo>
                    <a:lnTo>
                      <a:pt x="27" y="8"/>
                    </a:lnTo>
                    <a:lnTo>
                      <a:pt x="45" y="11"/>
                    </a:lnTo>
                    <a:lnTo>
                      <a:pt x="53" y="9"/>
                    </a:lnTo>
                    <a:lnTo>
                      <a:pt x="54" y="8"/>
                    </a:lnTo>
                    <a:lnTo>
                      <a:pt x="57" y="6"/>
                    </a:lnTo>
                    <a:lnTo>
                      <a:pt x="62" y="12"/>
                    </a:lnTo>
                    <a:lnTo>
                      <a:pt x="59" y="14"/>
                    </a:lnTo>
                    <a:lnTo>
                      <a:pt x="55" y="17"/>
                    </a:lnTo>
                    <a:lnTo>
                      <a:pt x="45" y="19"/>
                    </a:lnTo>
                    <a:lnTo>
                      <a:pt x="25" y="16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827760" y="4021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6"/>
                    </a:lnTo>
                    <a:lnTo>
                      <a:pt x="2" y="7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851520" y="399096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0" y="84"/>
                    </a:moveTo>
                    <a:lnTo>
                      <a:pt x="4" y="75"/>
                    </a:lnTo>
                    <a:lnTo>
                      <a:pt x="8" y="64"/>
                    </a:lnTo>
                    <a:lnTo>
                      <a:pt x="12" y="48"/>
                    </a:lnTo>
                    <a:lnTo>
                      <a:pt x="18" y="34"/>
                    </a:lnTo>
                    <a:lnTo>
                      <a:pt x="24" y="27"/>
                    </a:lnTo>
                    <a:lnTo>
                      <a:pt x="29" y="19"/>
                    </a:lnTo>
                    <a:lnTo>
                      <a:pt x="43" y="9"/>
                    </a:lnTo>
                    <a:lnTo>
                      <a:pt x="63" y="1"/>
                    </a:lnTo>
                    <a:lnTo>
                      <a:pt x="75" y="0"/>
                    </a:lnTo>
                    <a:lnTo>
                      <a:pt x="88" y="0"/>
                    </a:lnTo>
                    <a:lnTo>
                      <a:pt x="88" y="8"/>
                    </a:lnTo>
                    <a:lnTo>
                      <a:pt x="75" y="8"/>
                    </a:lnTo>
                    <a:lnTo>
                      <a:pt x="65" y="9"/>
                    </a:lnTo>
                    <a:lnTo>
                      <a:pt x="47" y="16"/>
                    </a:lnTo>
                    <a:lnTo>
                      <a:pt x="34" y="25"/>
                    </a:lnTo>
                    <a:lnTo>
                      <a:pt x="31" y="32"/>
                    </a:lnTo>
                    <a:lnTo>
                      <a:pt x="25" y="38"/>
                    </a:lnTo>
                    <a:lnTo>
                      <a:pt x="19" y="52"/>
                    </a:lnTo>
                    <a:lnTo>
                      <a:pt x="15" y="67"/>
                    </a:lnTo>
                    <a:lnTo>
                      <a:pt x="11" y="79"/>
                    </a:lnTo>
                    <a:lnTo>
                      <a:pt x="7" y="88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851520" y="40226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6"/>
                    </a:moveTo>
                    <a:lnTo>
                      <a:pt x="7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886440" y="3990960"/>
                <a:ext cx="72720" cy="25200"/>
              </a:xfrm>
              <a:custGeom>
                <a:avLst/>
                <a:gdLst/>
                <a:ahLst/>
                <a:rect l="l" t="t" r="r" b="b"/>
                <a:pathLst>
                  <a:path w="183" h="67">
                    <a:moveTo>
                      <a:pt x="1" y="0"/>
                    </a:moveTo>
                    <a:lnTo>
                      <a:pt x="44" y="4"/>
                    </a:lnTo>
                    <a:lnTo>
                      <a:pt x="75" y="12"/>
                    </a:lnTo>
                    <a:lnTo>
                      <a:pt x="114" y="29"/>
                    </a:lnTo>
                    <a:lnTo>
                      <a:pt x="183" y="60"/>
                    </a:lnTo>
                    <a:lnTo>
                      <a:pt x="179" y="67"/>
                    </a:lnTo>
                    <a:lnTo>
                      <a:pt x="110" y="36"/>
                    </a:lnTo>
                    <a:lnTo>
                      <a:pt x="71" y="19"/>
                    </a:lnTo>
                    <a:lnTo>
                      <a:pt x="43" y="12"/>
                    </a:lnTo>
                    <a:lnTo>
                      <a:pt x="0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957720" y="40147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199" h="140">
                    <a:moveTo>
                      <a:pt x="4" y="0"/>
                    </a:moveTo>
                    <a:lnTo>
                      <a:pt x="48" y="21"/>
                    </a:lnTo>
                    <a:lnTo>
                      <a:pt x="86" y="43"/>
                    </a:lnTo>
                    <a:lnTo>
                      <a:pt x="119" y="66"/>
                    </a:lnTo>
                    <a:lnTo>
                      <a:pt x="147" y="87"/>
                    </a:lnTo>
                    <a:lnTo>
                      <a:pt x="168" y="105"/>
                    </a:lnTo>
                    <a:lnTo>
                      <a:pt x="186" y="121"/>
                    </a:lnTo>
                    <a:lnTo>
                      <a:pt x="199" y="135"/>
                    </a:lnTo>
                    <a:lnTo>
                      <a:pt x="193" y="140"/>
                    </a:lnTo>
                    <a:lnTo>
                      <a:pt x="180" y="126"/>
                    </a:lnTo>
                    <a:lnTo>
                      <a:pt x="163" y="111"/>
                    </a:lnTo>
                    <a:lnTo>
                      <a:pt x="142" y="93"/>
                    </a:lnTo>
                    <a:lnTo>
                      <a:pt x="114" y="72"/>
                    </a:lnTo>
                    <a:lnTo>
                      <a:pt x="82" y="50"/>
                    </a:lnTo>
                    <a:lnTo>
                      <a:pt x="44" y="28"/>
                    </a:lnTo>
                    <a:lnTo>
                      <a:pt x="0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957720" y="4014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0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3" name=""/>
            <p:cNvSpPr/>
            <p:nvPr/>
          </p:nvSpPr>
          <p:spPr>
            <a:xfrm flipH="1">
              <a:off x="-360" y="1904760"/>
              <a:ext cx="6705720" cy="0"/>
            </a:xfrm>
            <a:prstGeom prst="line">
              <a:avLst/>
            </a:prstGeom>
            <a:ln w="93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60" y="1600200"/>
              <a:ext cx="3277440" cy="3373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reas de Aplicación Mecan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6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287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Areas de Aplicación de Mecanismo Modificación 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0C1-A1A3-4E86-A560-51C0D4604BCC}" type="slidenum">
              <a:t>13</a:t>
            </a:fld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zonacentro06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840720" cy="5396040"/>
          </a:xfrm>
          <a:prstGeom prst="rect">
            <a:avLst/>
          </a:prstGeom>
          <a:ln w="0">
            <a:noFill/>
          </a:ln>
        </p:spPr>
      </p:pic>
      <p:grpSp>
        <p:nvGrpSpPr>
          <p:cNvPr id="1289" name=""/>
          <p:cNvGrpSpPr/>
          <p:nvPr/>
        </p:nvGrpSpPr>
        <p:grpSpPr>
          <a:xfrm>
            <a:off x="0" y="1546200"/>
            <a:ext cx="9010800" cy="4465080"/>
            <a:chOff x="0" y="1546200"/>
            <a:chExt cx="9010800" cy="4465080"/>
          </a:xfrm>
        </p:grpSpPr>
        <p:grpSp>
          <p:nvGrpSpPr>
            <p:cNvPr id="1290" name=""/>
            <p:cNvGrpSpPr/>
            <p:nvPr/>
          </p:nvGrpSpPr>
          <p:grpSpPr>
            <a:xfrm>
              <a:off x="4702320" y="1546200"/>
              <a:ext cx="4308480" cy="4465080"/>
              <a:chOff x="4702320" y="1546200"/>
              <a:chExt cx="4308480" cy="4465080"/>
            </a:xfrm>
          </p:grpSpPr>
          <p:grpSp>
            <p:nvGrpSpPr>
              <p:cNvPr id="1291" name=""/>
              <p:cNvGrpSpPr/>
              <p:nvPr/>
            </p:nvGrpSpPr>
            <p:grpSpPr>
              <a:xfrm>
                <a:off x="5212080" y="1546200"/>
                <a:ext cx="2977920" cy="4044600"/>
                <a:chOff x="5212080" y="1546200"/>
                <a:chExt cx="2977920" cy="404460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7307280" y="4717800"/>
                  <a:ext cx="63720" cy="6984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29" y="0"/>
                      </a:moveTo>
                      <a:lnTo>
                        <a:pt x="82" y="8"/>
                      </a:lnTo>
                      <a:lnTo>
                        <a:pt x="81" y="27"/>
                      </a:lnTo>
                      <a:lnTo>
                        <a:pt x="80" y="39"/>
                      </a:lnTo>
                      <a:lnTo>
                        <a:pt x="81" y="43"/>
                      </a:lnTo>
                      <a:lnTo>
                        <a:pt x="81" y="44"/>
                      </a:lnTo>
                      <a:lnTo>
                        <a:pt x="82" y="46"/>
                      </a:lnTo>
                      <a:lnTo>
                        <a:pt x="105" y="47"/>
                      </a:lnTo>
                      <a:lnTo>
                        <a:pt x="122" y="48"/>
                      </a:lnTo>
                      <a:lnTo>
                        <a:pt x="110" y="92"/>
                      </a:lnTo>
                      <a:lnTo>
                        <a:pt x="44" y="131"/>
                      </a:lnTo>
                      <a:lnTo>
                        <a:pt x="37" y="133"/>
                      </a:lnTo>
                      <a:lnTo>
                        <a:pt x="23" y="134"/>
                      </a:lnTo>
                      <a:lnTo>
                        <a:pt x="15" y="134"/>
                      </a:lnTo>
                      <a:lnTo>
                        <a:pt x="10" y="134"/>
                      </a:lnTo>
                      <a:lnTo>
                        <a:pt x="7" y="134"/>
                      </a:lnTo>
                      <a:lnTo>
                        <a:pt x="4" y="134"/>
                      </a:lnTo>
                      <a:lnTo>
                        <a:pt x="4" y="133"/>
                      </a:lnTo>
                      <a:lnTo>
                        <a:pt x="4" y="131"/>
                      </a:lnTo>
                      <a:lnTo>
                        <a:pt x="4" y="128"/>
                      </a:lnTo>
                      <a:lnTo>
                        <a:pt x="4" y="120"/>
                      </a:lnTo>
                      <a:lnTo>
                        <a:pt x="2" y="101"/>
                      </a:lnTo>
                      <a:lnTo>
                        <a:pt x="0" y="91"/>
                      </a:lnTo>
                      <a:lnTo>
                        <a:pt x="0" y="81"/>
                      </a:lnTo>
                      <a:lnTo>
                        <a:pt x="2" y="76"/>
                      </a:lnTo>
                      <a:lnTo>
                        <a:pt x="2" y="73"/>
                      </a:lnTo>
                      <a:lnTo>
                        <a:pt x="3" y="73"/>
                      </a:lnTo>
                      <a:lnTo>
                        <a:pt x="18" y="69"/>
                      </a:lnTo>
                      <a:lnTo>
                        <a:pt x="25" y="66"/>
                      </a:lnTo>
                      <a:lnTo>
                        <a:pt x="28" y="64"/>
                      </a:lnTo>
                      <a:lnTo>
                        <a:pt x="29" y="62"/>
                      </a:lnTo>
                      <a:lnTo>
                        <a:pt x="29" y="50"/>
                      </a:lnTo>
                      <a:lnTo>
                        <a:pt x="28" y="30"/>
                      </a:lnTo>
                      <a:lnTo>
                        <a:pt x="25" y="2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7685280" y="2236680"/>
                  <a:ext cx="98280" cy="181080"/>
                </a:xfrm>
                <a:custGeom>
                  <a:avLst/>
                  <a:gdLst/>
                  <a:ahLst/>
                  <a:rect l="l" t="t" r="r" b="b"/>
                  <a:pathLst>
                    <a:path w="191" h="351">
                      <a:moveTo>
                        <a:pt x="1" y="340"/>
                      </a:moveTo>
                      <a:lnTo>
                        <a:pt x="0" y="326"/>
                      </a:lnTo>
                      <a:lnTo>
                        <a:pt x="11" y="319"/>
                      </a:lnTo>
                      <a:lnTo>
                        <a:pt x="16" y="315"/>
                      </a:lnTo>
                      <a:lnTo>
                        <a:pt x="21" y="311"/>
                      </a:lnTo>
                      <a:lnTo>
                        <a:pt x="28" y="304"/>
                      </a:lnTo>
                      <a:lnTo>
                        <a:pt x="34" y="299"/>
                      </a:lnTo>
                      <a:lnTo>
                        <a:pt x="46" y="291"/>
                      </a:lnTo>
                      <a:lnTo>
                        <a:pt x="61" y="282"/>
                      </a:lnTo>
                      <a:lnTo>
                        <a:pt x="67" y="275"/>
                      </a:lnTo>
                      <a:lnTo>
                        <a:pt x="73" y="272"/>
                      </a:lnTo>
                      <a:lnTo>
                        <a:pt x="79" y="260"/>
                      </a:lnTo>
                      <a:lnTo>
                        <a:pt x="86" y="249"/>
                      </a:lnTo>
                      <a:lnTo>
                        <a:pt x="90" y="239"/>
                      </a:lnTo>
                      <a:lnTo>
                        <a:pt x="91" y="233"/>
                      </a:lnTo>
                      <a:lnTo>
                        <a:pt x="95" y="227"/>
                      </a:lnTo>
                      <a:lnTo>
                        <a:pt x="99" y="216"/>
                      </a:lnTo>
                      <a:lnTo>
                        <a:pt x="103" y="204"/>
                      </a:lnTo>
                      <a:lnTo>
                        <a:pt x="106" y="192"/>
                      </a:lnTo>
                      <a:lnTo>
                        <a:pt x="107" y="184"/>
                      </a:lnTo>
                      <a:lnTo>
                        <a:pt x="107" y="155"/>
                      </a:lnTo>
                      <a:lnTo>
                        <a:pt x="107" y="152"/>
                      </a:lnTo>
                      <a:lnTo>
                        <a:pt x="107" y="146"/>
                      </a:lnTo>
                      <a:lnTo>
                        <a:pt x="108" y="134"/>
                      </a:lnTo>
                      <a:lnTo>
                        <a:pt x="110" y="128"/>
                      </a:lnTo>
                      <a:lnTo>
                        <a:pt x="112" y="123"/>
                      </a:lnTo>
                      <a:lnTo>
                        <a:pt x="113" y="119"/>
                      </a:lnTo>
                      <a:lnTo>
                        <a:pt x="116" y="115"/>
                      </a:lnTo>
                      <a:lnTo>
                        <a:pt x="123" y="108"/>
                      </a:lnTo>
                      <a:lnTo>
                        <a:pt x="131" y="100"/>
                      </a:lnTo>
                      <a:lnTo>
                        <a:pt x="137" y="92"/>
                      </a:lnTo>
                      <a:lnTo>
                        <a:pt x="139" y="90"/>
                      </a:lnTo>
                      <a:lnTo>
                        <a:pt x="142" y="84"/>
                      </a:lnTo>
                      <a:lnTo>
                        <a:pt x="145" y="80"/>
                      </a:lnTo>
                      <a:lnTo>
                        <a:pt x="146" y="76"/>
                      </a:lnTo>
                      <a:lnTo>
                        <a:pt x="148" y="72"/>
                      </a:lnTo>
                      <a:lnTo>
                        <a:pt x="148" y="68"/>
                      </a:lnTo>
                      <a:lnTo>
                        <a:pt x="148" y="39"/>
                      </a:lnTo>
                      <a:lnTo>
                        <a:pt x="146" y="38"/>
                      </a:lnTo>
                      <a:lnTo>
                        <a:pt x="145" y="33"/>
                      </a:lnTo>
                      <a:lnTo>
                        <a:pt x="145" y="29"/>
                      </a:lnTo>
                      <a:lnTo>
                        <a:pt x="145" y="26"/>
                      </a:lnTo>
                      <a:lnTo>
                        <a:pt x="145" y="24"/>
                      </a:lnTo>
                      <a:lnTo>
                        <a:pt x="146" y="22"/>
                      </a:lnTo>
                      <a:lnTo>
                        <a:pt x="146" y="20"/>
                      </a:lnTo>
                      <a:lnTo>
                        <a:pt x="148" y="18"/>
                      </a:lnTo>
                      <a:lnTo>
                        <a:pt x="154" y="12"/>
                      </a:lnTo>
                      <a:lnTo>
                        <a:pt x="161" y="6"/>
                      </a:lnTo>
                      <a:lnTo>
                        <a:pt x="169" y="1"/>
                      </a:lnTo>
                      <a:lnTo>
                        <a:pt x="179" y="0"/>
                      </a:lnTo>
                      <a:lnTo>
                        <a:pt x="183" y="16"/>
                      </a:lnTo>
                      <a:lnTo>
                        <a:pt x="182" y="24"/>
                      </a:lnTo>
                      <a:lnTo>
                        <a:pt x="181" y="29"/>
                      </a:lnTo>
                      <a:lnTo>
                        <a:pt x="179" y="34"/>
                      </a:lnTo>
                      <a:lnTo>
                        <a:pt x="183" y="43"/>
                      </a:lnTo>
                      <a:lnTo>
                        <a:pt x="185" y="49"/>
                      </a:lnTo>
                      <a:lnTo>
                        <a:pt x="185" y="53"/>
                      </a:lnTo>
                      <a:lnTo>
                        <a:pt x="186" y="61"/>
                      </a:lnTo>
                      <a:lnTo>
                        <a:pt x="186" y="70"/>
                      </a:lnTo>
                      <a:lnTo>
                        <a:pt x="187" y="80"/>
                      </a:lnTo>
                      <a:lnTo>
                        <a:pt x="187" y="91"/>
                      </a:lnTo>
                      <a:lnTo>
                        <a:pt x="190" y="100"/>
                      </a:lnTo>
                      <a:lnTo>
                        <a:pt x="191" y="105"/>
                      </a:lnTo>
                      <a:lnTo>
                        <a:pt x="190" y="109"/>
                      </a:lnTo>
                      <a:lnTo>
                        <a:pt x="189" y="112"/>
                      </a:lnTo>
                      <a:lnTo>
                        <a:pt x="187" y="119"/>
                      </a:lnTo>
                      <a:lnTo>
                        <a:pt x="186" y="124"/>
                      </a:lnTo>
                      <a:lnTo>
                        <a:pt x="183" y="133"/>
                      </a:lnTo>
                      <a:lnTo>
                        <a:pt x="182" y="137"/>
                      </a:lnTo>
                      <a:lnTo>
                        <a:pt x="178" y="142"/>
                      </a:lnTo>
                      <a:lnTo>
                        <a:pt x="175" y="145"/>
                      </a:lnTo>
                      <a:lnTo>
                        <a:pt x="173" y="146"/>
                      </a:lnTo>
                      <a:lnTo>
                        <a:pt x="170" y="148"/>
                      </a:lnTo>
                      <a:lnTo>
                        <a:pt x="168" y="149"/>
                      </a:lnTo>
                      <a:lnTo>
                        <a:pt x="160" y="150"/>
                      </a:lnTo>
                      <a:lnTo>
                        <a:pt x="153" y="153"/>
                      </a:lnTo>
                      <a:lnTo>
                        <a:pt x="146" y="155"/>
                      </a:lnTo>
                      <a:lnTo>
                        <a:pt x="145" y="157"/>
                      </a:lnTo>
                      <a:lnTo>
                        <a:pt x="144" y="162"/>
                      </a:lnTo>
                      <a:lnTo>
                        <a:pt x="144" y="171"/>
                      </a:lnTo>
                      <a:lnTo>
                        <a:pt x="145" y="190"/>
                      </a:lnTo>
                      <a:lnTo>
                        <a:pt x="146" y="194"/>
                      </a:lnTo>
                      <a:lnTo>
                        <a:pt x="148" y="199"/>
                      </a:lnTo>
                      <a:lnTo>
                        <a:pt x="152" y="208"/>
                      </a:lnTo>
                      <a:lnTo>
                        <a:pt x="153" y="214"/>
                      </a:lnTo>
                      <a:lnTo>
                        <a:pt x="153" y="216"/>
                      </a:lnTo>
                      <a:lnTo>
                        <a:pt x="152" y="219"/>
                      </a:lnTo>
                      <a:lnTo>
                        <a:pt x="149" y="225"/>
                      </a:lnTo>
                      <a:lnTo>
                        <a:pt x="145" y="231"/>
                      </a:lnTo>
                      <a:lnTo>
                        <a:pt x="141" y="236"/>
                      </a:lnTo>
                      <a:lnTo>
                        <a:pt x="136" y="243"/>
                      </a:lnTo>
                      <a:lnTo>
                        <a:pt x="128" y="254"/>
                      </a:lnTo>
                      <a:lnTo>
                        <a:pt x="119" y="265"/>
                      </a:lnTo>
                      <a:lnTo>
                        <a:pt x="110" y="277"/>
                      </a:lnTo>
                      <a:lnTo>
                        <a:pt x="100" y="287"/>
                      </a:lnTo>
                      <a:lnTo>
                        <a:pt x="94" y="293"/>
                      </a:lnTo>
                      <a:lnTo>
                        <a:pt x="88" y="297"/>
                      </a:lnTo>
                      <a:lnTo>
                        <a:pt x="82" y="301"/>
                      </a:lnTo>
                      <a:lnTo>
                        <a:pt x="77" y="306"/>
                      </a:lnTo>
                      <a:lnTo>
                        <a:pt x="70" y="314"/>
                      </a:lnTo>
                      <a:lnTo>
                        <a:pt x="66" y="318"/>
                      </a:lnTo>
                      <a:lnTo>
                        <a:pt x="61" y="324"/>
                      </a:lnTo>
                      <a:lnTo>
                        <a:pt x="55" y="330"/>
                      </a:lnTo>
                      <a:lnTo>
                        <a:pt x="50" y="334"/>
                      </a:lnTo>
                      <a:lnTo>
                        <a:pt x="45" y="337"/>
                      </a:lnTo>
                      <a:lnTo>
                        <a:pt x="40" y="341"/>
                      </a:lnTo>
                      <a:lnTo>
                        <a:pt x="36" y="344"/>
                      </a:lnTo>
                      <a:lnTo>
                        <a:pt x="32" y="347"/>
                      </a:lnTo>
                      <a:lnTo>
                        <a:pt x="24" y="349"/>
                      </a:lnTo>
                      <a:lnTo>
                        <a:pt x="17" y="351"/>
                      </a:lnTo>
                      <a:lnTo>
                        <a:pt x="15" y="351"/>
                      </a:lnTo>
                      <a:lnTo>
                        <a:pt x="1" y="34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4" name=""/>
                <p:cNvGrpSpPr/>
                <p:nvPr/>
              </p:nvGrpSpPr>
              <p:grpSpPr>
                <a:xfrm>
                  <a:off x="5212080" y="1546200"/>
                  <a:ext cx="2977920" cy="4044600"/>
                  <a:chOff x="5212080" y="1546200"/>
                  <a:chExt cx="2977920" cy="40446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8047080" y="4483080"/>
                    <a:ext cx="1429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35">
                        <a:moveTo>
                          <a:pt x="223" y="0"/>
                        </a:moveTo>
                        <a:lnTo>
                          <a:pt x="278" y="112"/>
                        </a:lnTo>
                        <a:lnTo>
                          <a:pt x="34" y="235"/>
                        </a:lnTo>
                        <a:lnTo>
                          <a:pt x="0" y="162"/>
                        </a:lnTo>
                        <a:lnTo>
                          <a:pt x="30" y="149"/>
                        </a:lnTo>
                        <a:lnTo>
                          <a:pt x="34" y="146"/>
                        </a:lnTo>
                        <a:lnTo>
                          <a:pt x="44" y="138"/>
                        </a:lnTo>
                        <a:lnTo>
                          <a:pt x="50" y="132"/>
                        </a:lnTo>
                        <a:lnTo>
                          <a:pt x="56" y="123"/>
                        </a:lnTo>
                        <a:lnTo>
                          <a:pt x="64" y="112"/>
                        </a:lnTo>
                        <a:lnTo>
                          <a:pt x="70" y="100"/>
                        </a:lnTo>
                        <a:lnTo>
                          <a:pt x="75" y="88"/>
                        </a:lnTo>
                        <a:lnTo>
                          <a:pt x="79" y="79"/>
                        </a:lnTo>
                        <a:lnTo>
                          <a:pt x="83" y="66"/>
                        </a:lnTo>
                        <a:lnTo>
                          <a:pt x="84" y="62"/>
                        </a:lnTo>
                        <a:lnTo>
                          <a:pt x="87" y="59"/>
                        </a:lnTo>
                        <a:lnTo>
                          <a:pt x="89" y="58"/>
                        </a:lnTo>
                        <a:lnTo>
                          <a:pt x="95" y="58"/>
                        </a:lnTo>
                        <a:lnTo>
                          <a:pt x="108" y="57"/>
                        </a:lnTo>
                        <a:lnTo>
                          <a:pt x="125" y="58"/>
                        </a:lnTo>
                        <a:lnTo>
                          <a:pt x="146" y="58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7147080" y="4506840"/>
                    <a:ext cx="149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148">
                        <a:moveTo>
                          <a:pt x="15" y="13"/>
                        </a:moveTo>
                        <a:lnTo>
                          <a:pt x="106" y="0"/>
                        </a:lnTo>
                        <a:lnTo>
                          <a:pt x="112" y="1"/>
                        </a:lnTo>
                        <a:lnTo>
                          <a:pt x="129" y="4"/>
                        </a:lnTo>
                        <a:lnTo>
                          <a:pt x="141" y="7"/>
                        </a:lnTo>
                        <a:lnTo>
                          <a:pt x="154" y="11"/>
                        </a:lnTo>
                        <a:lnTo>
                          <a:pt x="187" y="21"/>
                        </a:lnTo>
                        <a:lnTo>
                          <a:pt x="204" y="28"/>
                        </a:lnTo>
                        <a:lnTo>
                          <a:pt x="222" y="34"/>
                        </a:lnTo>
                        <a:lnTo>
                          <a:pt x="257" y="44"/>
                        </a:lnTo>
                        <a:lnTo>
                          <a:pt x="282" y="50"/>
                        </a:lnTo>
                        <a:lnTo>
                          <a:pt x="292" y="53"/>
                        </a:lnTo>
                        <a:lnTo>
                          <a:pt x="287" y="124"/>
                        </a:lnTo>
                        <a:lnTo>
                          <a:pt x="282" y="131"/>
                        </a:lnTo>
                        <a:lnTo>
                          <a:pt x="278" y="136"/>
                        </a:lnTo>
                        <a:lnTo>
                          <a:pt x="271" y="141"/>
                        </a:lnTo>
                        <a:lnTo>
                          <a:pt x="263" y="145"/>
                        </a:lnTo>
                        <a:lnTo>
                          <a:pt x="258" y="146"/>
                        </a:lnTo>
                        <a:lnTo>
                          <a:pt x="253" y="148"/>
                        </a:lnTo>
                        <a:lnTo>
                          <a:pt x="247" y="148"/>
                        </a:lnTo>
                        <a:lnTo>
                          <a:pt x="242" y="148"/>
                        </a:lnTo>
                        <a:lnTo>
                          <a:pt x="237" y="145"/>
                        </a:lnTo>
                        <a:lnTo>
                          <a:pt x="232" y="143"/>
                        </a:lnTo>
                        <a:lnTo>
                          <a:pt x="201" y="125"/>
                        </a:lnTo>
                        <a:lnTo>
                          <a:pt x="167" y="107"/>
                        </a:lnTo>
                        <a:lnTo>
                          <a:pt x="127" y="86"/>
                        </a:lnTo>
                        <a:lnTo>
                          <a:pt x="124" y="83"/>
                        </a:lnTo>
                        <a:lnTo>
                          <a:pt x="113" y="78"/>
                        </a:lnTo>
                        <a:lnTo>
                          <a:pt x="96" y="71"/>
                        </a:lnTo>
                        <a:lnTo>
                          <a:pt x="85" y="70"/>
                        </a:lnTo>
                        <a:lnTo>
                          <a:pt x="75" y="67"/>
                        </a:lnTo>
                        <a:lnTo>
                          <a:pt x="48" y="65"/>
                        </a:lnTo>
                        <a:lnTo>
                          <a:pt x="25" y="61"/>
                        </a:lnTo>
                        <a:lnTo>
                          <a:pt x="6" y="57"/>
                        </a:lnTo>
                        <a:lnTo>
                          <a:pt x="1" y="55"/>
                        </a:lnTo>
                        <a:lnTo>
                          <a:pt x="0" y="54"/>
                        </a:lnTo>
                        <a:lnTo>
                          <a:pt x="15" y="13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7639200" y="2701800"/>
                    <a:ext cx="20160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308">
                        <a:moveTo>
                          <a:pt x="379" y="200"/>
                        </a:moveTo>
                        <a:lnTo>
                          <a:pt x="380" y="203"/>
                        </a:lnTo>
                        <a:lnTo>
                          <a:pt x="382" y="205"/>
                        </a:lnTo>
                        <a:lnTo>
                          <a:pt x="388" y="211"/>
                        </a:lnTo>
                        <a:lnTo>
                          <a:pt x="390" y="213"/>
                        </a:lnTo>
                        <a:lnTo>
                          <a:pt x="393" y="216"/>
                        </a:lnTo>
                        <a:lnTo>
                          <a:pt x="393" y="218"/>
                        </a:lnTo>
                        <a:lnTo>
                          <a:pt x="392" y="221"/>
                        </a:lnTo>
                        <a:lnTo>
                          <a:pt x="389" y="225"/>
                        </a:lnTo>
                        <a:lnTo>
                          <a:pt x="388" y="229"/>
                        </a:lnTo>
                        <a:lnTo>
                          <a:pt x="386" y="234"/>
                        </a:lnTo>
                        <a:lnTo>
                          <a:pt x="386" y="238"/>
                        </a:lnTo>
                        <a:lnTo>
                          <a:pt x="388" y="242"/>
                        </a:lnTo>
                        <a:lnTo>
                          <a:pt x="388" y="245"/>
                        </a:lnTo>
                        <a:lnTo>
                          <a:pt x="389" y="247"/>
                        </a:lnTo>
                        <a:lnTo>
                          <a:pt x="386" y="253"/>
                        </a:lnTo>
                        <a:lnTo>
                          <a:pt x="385" y="259"/>
                        </a:lnTo>
                        <a:lnTo>
                          <a:pt x="385" y="265"/>
                        </a:lnTo>
                        <a:lnTo>
                          <a:pt x="384" y="267"/>
                        </a:lnTo>
                        <a:lnTo>
                          <a:pt x="382" y="271"/>
                        </a:lnTo>
                        <a:lnTo>
                          <a:pt x="379" y="275"/>
                        </a:lnTo>
                        <a:lnTo>
                          <a:pt x="373" y="280"/>
                        </a:lnTo>
                        <a:lnTo>
                          <a:pt x="367" y="299"/>
                        </a:lnTo>
                        <a:lnTo>
                          <a:pt x="346" y="308"/>
                        </a:lnTo>
                        <a:lnTo>
                          <a:pt x="322" y="299"/>
                        </a:lnTo>
                        <a:lnTo>
                          <a:pt x="318" y="298"/>
                        </a:lnTo>
                        <a:lnTo>
                          <a:pt x="307" y="294"/>
                        </a:lnTo>
                        <a:lnTo>
                          <a:pt x="302" y="292"/>
                        </a:lnTo>
                        <a:lnTo>
                          <a:pt x="297" y="292"/>
                        </a:lnTo>
                        <a:lnTo>
                          <a:pt x="292" y="292"/>
                        </a:lnTo>
                        <a:lnTo>
                          <a:pt x="288" y="294"/>
                        </a:lnTo>
                        <a:lnTo>
                          <a:pt x="286" y="294"/>
                        </a:lnTo>
                        <a:lnTo>
                          <a:pt x="285" y="294"/>
                        </a:lnTo>
                        <a:lnTo>
                          <a:pt x="284" y="294"/>
                        </a:lnTo>
                        <a:lnTo>
                          <a:pt x="282" y="292"/>
                        </a:lnTo>
                        <a:lnTo>
                          <a:pt x="278" y="290"/>
                        </a:lnTo>
                        <a:lnTo>
                          <a:pt x="276" y="286"/>
                        </a:lnTo>
                        <a:lnTo>
                          <a:pt x="272" y="277"/>
                        </a:lnTo>
                        <a:lnTo>
                          <a:pt x="270" y="273"/>
                        </a:lnTo>
                        <a:lnTo>
                          <a:pt x="251" y="287"/>
                        </a:lnTo>
                        <a:lnTo>
                          <a:pt x="248" y="286"/>
                        </a:lnTo>
                        <a:lnTo>
                          <a:pt x="244" y="284"/>
                        </a:lnTo>
                        <a:lnTo>
                          <a:pt x="237" y="284"/>
                        </a:lnTo>
                        <a:lnTo>
                          <a:pt x="235" y="286"/>
                        </a:lnTo>
                        <a:lnTo>
                          <a:pt x="232" y="288"/>
                        </a:lnTo>
                        <a:lnTo>
                          <a:pt x="230" y="291"/>
                        </a:lnTo>
                        <a:lnTo>
                          <a:pt x="226" y="294"/>
                        </a:lnTo>
                        <a:lnTo>
                          <a:pt x="222" y="295"/>
                        </a:lnTo>
                        <a:lnTo>
                          <a:pt x="218" y="298"/>
                        </a:lnTo>
                        <a:lnTo>
                          <a:pt x="207" y="300"/>
                        </a:lnTo>
                        <a:lnTo>
                          <a:pt x="182" y="298"/>
                        </a:lnTo>
                        <a:lnTo>
                          <a:pt x="177" y="275"/>
                        </a:lnTo>
                        <a:lnTo>
                          <a:pt x="158" y="259"/>
                        </a:lnTo>
                        <a:lnTo>
                          <a:pt x="139" y="249"/>
                        </a:lnTo>
                        <a:lnTo>
                          <a:pt x="116" y="240"/>
                        </a:lnTo>
                        <a:lnTo>
                          <a:pt x="113" y="236"/>
                        </a:lnTo>
                        <a:lnTo>
                          <a:pt x="110" y="233"/>
                        </a:lnTo>
                        <a:lnTo>
                          <a:pt x="104" y="229"/>
                        </a:lnTo>
                        <a:lnTo>
                          <a:pt x="100" y="228"/>
                        </a:lnTo>
                        <a:lnTo>
                          <a:pt x="99" y="226"/>
                        </a:lnTo>
                        <a:lnTo>
                          <a:pt x="98" y="226"/>
                        </a:lnTo>
                        <a:lnTo>
                          <a:pt x="96" y="224"/>
                        </a:lnTo>
                        <a:lnTo>
                          <a:pt x="96" y="218"/>
                        </a:lnTo>
                        <a:lnTo>
                          <a:pt x="96" y="216"/>
                        </a:lnTo>
                        <a:lnTo>
                          <a:pt x="95" y="213"/>
                        </a:lnTo>
                        <a:lnTo>
                          <a:pt x="92" y="212"/>
                        </a:lnTo>
                        <a:lnTo>
                          <a:pt x="88" y="209"/>
                        </a:lnTo>
                        <a:lnTo>
                          <a:pt x="87" y="207"/>
                        </a:lnTo>
                        <a:lnTo>
                          <a:pt x="84" y="204"/>
                        </a:lnTo>
                        <a:lnTo>
                          <a:pt x="83" y="201"/>
                        </a:lnTo>
                        <a:lnTo>
                          <a:pt x="83" y="199"/>
                        </a:lnTo>
                        <a:lnTo>
                          <a:pt x="84" y="197"/>
                        </a:lnTo>
                        <a:lnTo>
                          <a:pt x="86" y="196"/>
                        </a:lnTo>
                        <a:lnTo>
                          <a:pt x="87" y="195"/>
                        </a:lnTo>
                        <a:lnTo>
                          <a:pt x="90" y="193"/>
                        </a:lnTo>
                        <a:lnTo>
                          <a:pt x="90" y="191"/>
                        </a:lnTo>
                        <a:lnTo>
                          <a:pt x="90" y="188"/>
                        </a:lnTo>
                        <a:lnTo>
                          <a:pt x="90" y="184"/>
                        </a:lnTo>
                        <a:lnTo>
                          <a:pt x="91" y="180"/>
                        </a:lnTo>
                        <a:lnTo>
                          <a:pt x="95" y="175"/>
                        </a:lnTo>
                        <a:lnTo>
                          <a:pt x="99" y="170"/>
                        </a:lnTo>
                        <a:lnTo>
                          <a:pt x="100" y="168"/>
                        </a:lnTo>
                        <a:lnTo>
                          <a:pt x="100" y="166"/>
                        </a:lnTo>
                        <a:lnTo>
                          <a:pt x="102" y="163"/>
                        </a:lnTo>
                        <a:lnTo>
                          <a:pt x="103" y="159"/>
                        </a:lnTo>
                        <a:lnTo>
                          <a:pt x="107" y="150"/>
                        </a:lnTo>
                        <a:lnTo>
                          <a:pt x="111" y="139"/>
                        </a:lnTo>
                        <a:lnTo>
                          <a:pt x="111" y="135"/>
                        </a:lnTo>
                        <a:lnTo>
                          <a:pt x="111" y="134"/>
                        </a:lnTo>
                        <a:lnTo>
                          <a:pt x="110" y="131"/>
                        </a:lnTo>
                        <a:lnTo>
                          <a:pt x="99" y="118"/>
                        </a:lnTo>
                        <a:lnTo>
                          <a:pt x="94" y="110"/>
                        </a:lnTo>
                        <a:lnTo>
                          <a:pt x="90" y="105"/>
                        </a:lnTo>
                        <a:lnTo>
                          <a:pt x="90" y="104"/>
                        </a:lnTo>
                        <a:lnTo>
                          <a:pt x="88" y="102"/>
                        </a:lnTo>
                        <a:lnTo>
                          <a:pt x="84" y="100"/>
                        </a:lnTo>
                        <a:lnTo>
                          <a:pt x="79" y="97"/>
                        </a:lnTo>
                        <a:lnTo>
                          <a:pt x="74" y="95"/>
                        </a:lnTo>
                        <a:lnTo>
                          <a:pt x="63" y="91"/>
                        </a:lnTo>
                        <a:lnTo>
                          <a:pt x="57" y="88"/>
                        </a:lnTo>
                        <a:lnTo>
                          <a:pt x="54" y="89"/>
                        </a:lnTo>
                        <a:lnTo>
                          <a:pt x="51" y="91"/>
                        </a:lnTo>
                        <a:lnTo>
                          <a:pt x="44" y="97"/>
                        </a:lnTo>
                        <a:lnTo>
                          <a:pt x="36" y="104"/>
                        </a:lnTo>
                        <a:lnTo>
                          <a:pt x="33" y="106"/>
                        </a:lnTo>
                        <a:lnTo>
                          <a:pt x="29" y="108"/>
                        </a:lnTo>
                        <a:lnTo>
                          <a:pt x="28" y="108"/>
                        </a:lnTo>
                        <a:lnTo>
                          <a:pt x="26" y="106"/>
                        </a:lnTo>
                        <a:lnTo>
                          <a:pt x="21" y="104"/>
                        </a:lnTo>
                        <a:lnTo>
                          <a:pt x="17" y="100"/>
                        </a:lnTo>
                        <a:lnTo>
                          <a:pt x="12" y="95"/>
                        </a:lnTo>
                        <a:lnTo>
                          <a:pt x="7" y="89"/>
                        </a:lnTo>
                        <a:lnTo>
                          <a:pt x="3" y="84"/>
                        </a:lnTo>
                        <a:lnTo>
                          <a:pt x="0" y="79"/>
                        </a:lnTo>
                        <a:lnTo>
                          <a:pt x="36" y="68"/>
                        </a:lnTo>
                        <a:lnTo>
                          <a:pt x="36" y="64"/>
                        </a:lnTo>
                        <a:lnTo>
                          <a:pt x="36" y="54"/>
                        </a:lnTo>
                        <a:lnTo>
                          <a:pt x="37" y="42"/>
                        </a:lnTo>
                        <a:lnTo>
                          <a:pt x="40" y="36"/>
                        </a:lnTo>
                        <a:lnTo>
                          <a:pt x="44" y="31"/>
                        </a:lnTo>
                        <a:lnTo>
                          <a:pt x="48" y="27"/>
                        </a:lnTo>
                        <a:lnTo>
                          <a:pt x="53" y="22"/>
                        </a:lnTo>
                        <a:lnTo>
                          <a:pt x="61" y="11"/>
                        </a:lnTo>
                        <a:lnTo>
                          <a:pt x="70" y="0"/>
                        </a:lnTo>
                        <a:lnTo>
                          <a:pt x="142" y="69"/>
                        </a:lnTo>
                        <a:lnTo>
                          <a:pt x="146" y="81"/>
                        </a:lnTo>
                        <a:lnTo>
                          <a:pt x="149" y="95"/>
                        </a:lnTo>
                        <a:lnTo>
                          <a:pt x="154" y="109"/>
                        </a:lnTo>
                        <a:lnTo>
                          <a:pt x="187" y="116"/>
                        </a:lnTo>
                        <a:lnTo>
                          <a:pt x="215" y="122"/>
                        </a:lnTo>
                        <a:lnTo>
                          <a:pt x="239" y="126"/>
                        </a:lnTo>
                        <a:lnTo>
                          <a:pt x="243" y="129"/>
                        </a:lnTo>
                        <a:lnTo>
                          <a:pt x="245" y="130"/>
                        </a:lnTo>
                        <a:lnTo>
                          <a:pt x="245" y="131"/>
                        </a:lnTo>
                        <a:lnTo>
                          <a:pt x="247" y="133"/>
                        </a:lnTo>
                        <a:lnTo>
                          <a:pt x="247" y="135"/>
                        </a:lnTo>
                        <a:lnTo>
                          <a:pt x="247" y="139"/>
                        </a:lnTo>
                        <a:lnTo>
                          <a:pt x="245" y="146"/>
                        </a:lnTo>
                        <a:lnTo>
                          <a:pt x="244" y="150"/>
                        </a:lnTo>
                        <a:lnTo>
                          <a:pt x="235" y="175"/>
                        </a:lnTo>
                        <a:lnTo>
                          <a:pt x="285" y="184"/>
                        </a:lnTo>
                        <a:lnTo>
                          <a:pt x="290" y="138"/>
                        </a:lnTo>
                        <a:lnTo>
                          <a:pt x="311" y="141"/>
                        </a:lnTo>
                        <a:lnTo>
                          <a:pt x="328" y="143"/>
                        </a:lnTo>
                        <a:lnTo>
                          <a:pt x="343" y="147"/>
                        </a:lnTo>
                        <a:lnTo>
                          <a:pt x="353" y="150"/>
                        </a:lnTo>
                        <a:lnTo>
                          <a:pt x="359" y="153"/>
                        </a:lnTo>
                        <a:lnTo>
                          <a:pt x="363" y="155"/>
                        </a:lnTo>
                        <a:lnTo>
                          <a:pt x="369" y="174"/>
                        </a:lnTo>
                        <a:lnTo>
                          <a:pt x="375" y="188"/>
                        </a:lnTo>
                        <a:lnTo>
                          <a:pt x="379" y="20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5212080" y="1546200"/>
                    <a:ext cx="2697120" cy="4044600"/>
                    <a:chOff x="5212080" y="1546200"/>
                    <a:chExt cx="2697120" cy="4044600"/>
                  </a:xfrm>
                </p:grpSpPr>
                <p:grpSp>
                  <p:nvGrpSpPr>
                    <p:cNvPr id="1299" name=""/>
                    <p:cNvGrpSpPr/>
                    <p:nvPr/>
                  </p:nvGrpSpPr>
                  <p:grpSpPr>
                    <a:xfrm>
                      <a:off x="5212080" y="3201840"/>
                      <a:ext cx="2277720" cy="2388960"/>
                      <a:chOff x="5212080" y="3201840"/>
                      <a:chExt cx="2277720" cy="2388960"/>
                    </a:xfrm>
                  </p:grpSpPr>
                  <p:sp>
                    <p:nvSpPr>
                      <p:cNvPr id="1300" name=""/>
                      <p:cNvSpPr/>
                      <p:nvPr/>
                    </p:nvSpPr>
                    <p:spPr>
                      <a:xfrm>
                        <a:off x="6913440" y="433368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0" y="5"/>
                            </a:moveTo>
                            <a:lnTo>
                              <a:pt x="3" y="0"/>
                            </a:lnTo>
                            <a:lnTo>
                              <a:pt x="8" y="5"/>
                            </a:lnTo>
                            <a:lnTo>
                              <a:pt x="0" y="11"/>
                            </a:lnTo>
                            <a:lnTo>
                              <a:pt x="8" y="11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1" name=""/>
                      <p:cNvSpPr/>
                      <p:nvPr/>
                    </p:nvSpPr>
                    <p:spPr>
                      <a:xfrm>
                        <a:off x="6699960" y="4321440"/>
                        <a:ext cx="207000" cy="6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" h="117">
                            <a:moveTo>
                              <a:pt x="0" y="53"/>
                            </a:moveTo>
                            <a:lnTo>
                              <a:pt x="44" y="20"/>
                            </a:lnTo>
                            <a:lnTo>
                              <a:pt x="302" y="53"/>
                            </a:lnTo>
                            <a:lnTo>
                              <a:pt x="342" y="0"/>
                            </a:lnTo>
                            <a:lnTo>
                              <a:pt x="402" y="19"/>
                            </a:lnTo>
                            <a:lnTo>
                              <a:pt x="384" y="12"/>
                            </a:lnTo>
                            <a:lnTo>
                              <a:pt x="354" y="61"/>
                            </a:lnTo>
                            <a:lnTo>
                              <a:pt x="302" y="40"/>
                            </a:lnTo>
                            <a:lnTo>
                              <a:pt x="280" y="117"/>
                            </a:lnTo>
                            <a:lnTo>
                              <a:pt x="24" y="81"/>
                            </a:lnTo>
                            <a:lnTo>
                              <a:pt x="24" y="41"/>
                            </a:lnTo>
                            <a:lnTo>
                              <a:pt x="0" y="55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320" bIns="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2" name=""/>
                      <p:cNvSpPr/>
                      <p:nvPr/>
                    </p:nvSpPr>
                    <p:spPr>
                      <a:xfrm>
                        <a:off x="6698520" y="4330800"/>
                        <a:ext cx="2448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41">
                            <a:moveTo>
                              <a:pt x="0" y="33"/>
                            </a:moveTo>
                            <a:lnTo>
                              <a:pt x="7" y="41"/>
                            </a:lnTo>
                            <a:lnTo>
                              <a:pt x="50" y="8"/>
                            </a:lnTo>
                            <a:lnTo>
                              <a:pt x="44" y="0"/>
                            </a:lnTo>
                            <a:lnTo>
                              <a:pt x="0" y="3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3" name=""/>
                      <p:cNvSpPr/>
                      <p:nvPr/>
                    </p:nvSpPr>
                    <p:spPr>
                      <a:xfrm>
                        <a:off x="6721920" y="4329000"/>
                        <a:ext cx="1342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0" h="43">
                            <a:moveTo>
                              <a:pt x="2" y="0"/>
                            </a:moveTo>
                            <a:lnTo>
                              <a:pt x="0" y="10"/>
                            </a:lnTo>
                            <a:lnTo>
                              <a:pt x="259" y="43"/>
                            </a:lnTo>
                            <a:lnTo>
                              <a:pt x="260" y="3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4" name=""/>
                      <p:cNvSpPr/>
                      <p:nvPr/>
                    </p:nvSpPr>
                    <p:spPr>
                      <a:xfrm>
                        <a:off x="6720480" y="432900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"/>
                            </a:moveTo>
                            <a:lnTo>
                              <a:pt x="2" y="0"/>
                            </a:lnTo>
                            <a:lnTo>
                              <a:pt x="4" y="0"/>
                            </a:lnTo>
                            <a:lnTo>
                              <a:pt x="2" y="10"/>
                            </a:lnTo>
                            <a:lnTo>
                              <a:pt x="6" y="9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5" name=""/>
                      <p:cNvSpPr/>
                      <p:nvPr/>
                    </p:nvSpPr>
                    <p:spPr>
                      <a:xfrm>
                        <a:off x="6853320" y="4320000"/>
                        <a:ext cx="24480" cy="3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0">
                            <a:moveTo>
                              <a:pt x="0" y="53"/>
                            </a:moveTo>
                            <a:lnTo>
                              <a:pt x="8" y="60"/>
                            </a:lnTo>
                            <a:lnTo>
                              <a:pt x="48" y="7"/>
                            </a:lnTo>
                            <a:lnTo>
                              <a:pt x="40" y="0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6" name=""/>
                      <p:cNvSpPr/>
                      <p:nvPr/>
                    </p:nvSpPr>
                    <p:spPr>
                      <a:xfrm>
                        <a:off x="6853320" y="434628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3" y="10"/>
                            </a:moveTo>
                            <a:lnTo>
                              <a:pt x="7" y="10"/>
                            </a:lnTo>
                            <a:lnTo>
                              <a:pt x="8" y="9"/>
                            </a:lnTo>
                            <a:lnTo>
                              <a:pt x="0" y="2"/>
                            </a:lnTo>
                            <a:lnTo>
                              <a:pt x="4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7" name=""/>
                      <p:cNvSpPr/>
                      <p:nvPr/>
                    </p:nvSpPr>
                    <p:spPr>
                      <a:xfrm>
                        <a:off x="6874920" y="4320000"/>
                        <a:ext cx="338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29">
                            <a:moveTo>
                              <a:pt x="3" y="0"/>
                            </a:moveTo>
                            <a:lnTo>
                              <a:pt x="0" y="10"/>
                            </a:lnTo>
                            <a:lnTo>
                              <a:pt x="61" y="29"/>
                            </a:lnTo>
                            <a:lnTo>
                              <a:pt x="64" y="18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8" name=""/>
                      <p:cNvSpPr/>
                      <p:nvPr/>
                    </p:nvSpPr>
                    <p:spPr>
                      <a:xfrm>
                        <a:off x="6874920" y="431820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2">
                            <a:moveTo>
                              <a:pt x="0" y="4"/>
                            </a:moveTo>
                            <a:lnTo>
                              <a:pt x="2" y="0"/>
                            </a:lnTo>
                            <a:lnTo>
                              <a:pt x="5" y="2"/>
                            </a:lnTo>
                            <a:lnTo>
                              <a:pt x="2" y="12"/>
                            </a:lnTo>
                            <a:lnTo>
                              <a:pt x="8" y="11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9" name=""/>
                      <p:cNvSpPr/>
                      <p:nvPr/>
                    </p:nvSpPr>
                    <p:spPr>
                      <a:xfrm>
                        <a:off x="6896160" y="4326120"/>
                        <a:ext cx="126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6">
                            <a:moveTo>
                              <a:pt x="19" y="16"/>
                            </a:moveTo>
                            <a:lnTo>
                              <a:pt x="23" y="7"/>
                            </a:lnTo>
                            <a:lnTo>
                              <a:pt x="4" y="0"/>
                            </a:lnTo>
                            <a:lnTo>
                              <a:pt x="0" y="9"/>
                            </a:lnTo>
                            <a:lnTo>
                              <a:pt x="19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0" name=""/>
                      <p:cNvSpPr/>
                      <p:nvPr/>
                    </p:nvSpPr>
                    <p:spPr>
                      <a:xfrm>
                        <a:off x="6905880" y="432900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1">
                            <a:moveTo>
                              <a:pt x="1" y="11"/>
                            </a:moveTo>
                            <a:lnTo>
                              <a:pt x="4" y="2"/>
                            </a:lnTo>
                            <a:lnTo>
                              <a:pt x="0" y="11"/>
                            </a:lnTo>
                            <a:lnTo>
                              <a:pt x="4" y="0"/>
                            </a:lnTo>
                            <a:lnTo>
                              <a:pt x="1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1" name=""/>
                      <p:cNvSpPr/>
                      <p:nvPr/>
                    </p:nvSpPr>
                    <p:spPr>
                      <a:xfrm>
                        <a:off x="6879600" y="4326120"/>
                        <a:ext cx="1980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54">
                            <a:moveTo>
                              <a:pt x="40" y="6"/>
                            </a:moveTo>
                            <a:lnTo>
                              <a:pt x="31" y="0"/>
                            </a:lnTo>
                            <a:lnTo>
                              <a:pt x="0" y="49"/>
                            </a:lnTo>
                            <a:lnTo>
                              <a:pt x="10" y="54"/>
                            </a:lnTo>
                            <a:lnTo>
                              <a:pt x="4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2" name=""/>
                      <p:cNvSpPr/>
                      <p:nvPr/>
                    </p:nvSpPr>
                    <p:spPr>
                      <a:xfrm>
                        <a:off x="6894720" y="432612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6" y="1"/>
                            </a:moveTo>
                            <a:lnTo>
                              <a:pt x="1" y="0"/>
                            </a:lnTo>
                            <a:lnTo>
                              <a:pt x="0" y="2"/>
                            </a:lnTo>
                            <a:lnTo>
                              <a:pt x="9" y="8"/>
                            </a:lnTo>
                            <a:lnTo>
                              <a:pt x="2" y="10"/>
                            </a:lnTo>
                            <a:lnTo>
                              <a:pt x="6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3" name=""/>
                      <p:cNvSpPr/>
                      <p:nvPr/>
                    </p:nvSpPr>
                    <p:spPr>
                      <a:xfrm>
                        <a:off x="6854400" y="4340160"/>
                        <a:ext cx="29160" cy="1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30">
                            <a:moveTo>
                              <a:pt x="52" y="30"/>
                            </a:moveTo>
                            <a:lnTo>
                              <a:pt x="57" y="21"/>
                            </a:lnTo>
                            <a:lnTo>
                              <a:pt x="6" y="0"/>
                            </a:lnTo>
                            <a:lnTo>
                              <a:pt x="0" y="9"/>
                            </a:lnTo>
                            <a:lnTo>
                              <a:pt x="52" y="3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4" name=""/>
                      <p:cNvSpPr/>
                      <p:nvPr/>
                    </p:nvSpPr>
                    <p:spPr>
                      <a:xfrm>
                        <a:off x="6879600" y="435096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6"/>
                            </a:moveTo>
                            <a:lnTo>
                              <a:pt x="7" y="10"/>
                            </a:lnTo>
                            <a:lnTo>
                              <a:pt x="3" y="9"/>
                            </a:lnTo>
                            <a:lnTo>
                              <a:pt x="8" y="0"/>
                            </a:lnTo>
                            <a:lnTo>
                              <a:pt x="0" y="1"/>
                            </a:lnTo>
                            <a:lnTo>
                              <a:pt x="1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5" name=""/>
                      <p:cNvSpPr/>
                      <p:nvPr/>
                    </p:nvSpPr>
                    <p:spPr>
                      <a:xfrm>
                        <a:off x="6841080" y="4341600"/>
                        <a:ext cx="16560" cy="4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81">
                            <a:moveTo>
                              <a:pt x="33" y="3"/>
                            </a:moveTo>
                            <a:lnTo>
                              <a:pt x="23" y="0"/>
                            </a:lnTo>
                            <a:lnTo>
                              <a:pt x="0" y="78"/>
                            </a:lnTo>
                            <a:lnTo>
                              <a:pt x="11" y="81"/>
                            </a:lnTo>
                            <a:lnTo>
                              <a:pt x="33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6" name=""/>
                      <p:cNvSpPr/>
                      <p:nvPr/>
                    </p:nvSpPr>
                    <p:spPr>
                      <a:xfrm>
                        <a:off x="6853320" y="433872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2">
                            <a:moveTo>
                              <a:pt x="8" y="3"/>
                            </a:moveTo>
                            <a:lnTo>
                              <a:pt x="1" y="0"/>
                            </a:lnTo>
                            <a:lnTo>
                              <a:pt x="0" y="5"/>
                            </a:lnTo>
                            <a:lnTo>
                              <a:pt x="10" y="8"/>
                            </a:lnTo>
                            <a:lnTo>
                              <a:pt x="2" y="12"/>
                            </a:lnTo>
                            <a:lnTo>
                              <a:pt x="8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7" name=""/>
                      <p:cNvSpPr/>
                      <p:nvPr/>
                    </p:nvSpPr>
                    <p:spPr>
                      <a:xfrm>
                        <a:off x="6712560" y="4361760"/>
                        <a:ext cx="1324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8" h="46">
                            <a:moveTo>
                              <a:pt x="255" y="46"/>
                            </a:moveTo>
                            <a:lnTo>
                              <a:pt x="258" y="37"/>
                            </a:lnTo>
                            <a:lnTo>
                              <a:pt x="2" y="0"/>
                            </a:lnTo>
                            <a:lnTo>
                              <a:pt x="0" y="9"/>
                            </a:lnTo>
                            <a:lnTo>
                              <a:pt x="255" y="4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8" name=""/>
                      <p:cNvSpPr/>
                      <p:nvPr/>
                    </p:nvSpPr>
                    <p:spPr>
                      <a:xfrm>
                        <a:off x="6841080" y="4380480"/>
                        <a:ext cx="57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5"/>
                            </a:moveTo>
                            <a:lnTo>
                              <a:pt x="10" y="10"/>
                            </a:lnTo>
                            <a:lnTo>
                              <a:pt x="4" y="9"/>
                            </a:lnTo>
                            <a:lnTo>
                              <a:pt x="7" y="0"/>
                            </a:lnTo>
                            <a:lnTo>
                              <a:pt x="0" y="2"/>
                            </a:lnTo>
                            <a:lnTo>
                              <a:pt x="11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9" name=""/>
                      <p:cNvSpPr/>
                      <p:nvPr/>
                    </p:nvSpPr>
                    <p:spPr>
                      <a:xfrm>
                        <a:off x="6709320" y="4343040"/>
                        <a:ext cx="5760" cy="1980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6709320" y="436176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4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6" y="0"/>
                            </a:lnTo>
                            <a:lnTo>
                              <a:pt x="4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1" name=""/>
                      <p:cNvSpPr/>
                      <p:nvPr/>
                    </p:nvSpPr>
                    <p:spPr>
                      <a:xfrm>
                        <a:off x="6698520" y="4341600"/>
                        <a:ext cx="1512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2">
                            <a:moveTo>
                              <a:pt x="30" y="8"/>
                            </a:moveTo>
                            <a:lnTo>
                              <a:pt x="24" y="0"/>
                            </a:lnTo>
                            <a:lnTo>
                              <a:pt x="0" y="15"/>
                            </a:lnTo>
                            <a:lnTo>
                              <a:pt x="7" y="22"/>
                            </a:lnTo>
                            <a:lnTo>
                              <a:pt x="30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2" name=""/>
                      <p:cNvSpPr/>
                      <p:nvPr/>
                    </p:nvSpPr>
                    <p:spPr>
                      <a:xfrm>
                        <a:off x="6709320" y="4338720"/>
                        <a:ext cx="57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10" y="9"/>
                            </a:moveTo>
                            <a:lnTo>
                              <a:pt x="10" y="0"/>
                            </a:lnTo>
                            <a:lnTo>
                              <a:pt x="1" y="5"/>
                            </a:lnTo>
                            <a:lnTo>
                              <a:pt x="7" y="13"/>
                            </a:lnTo>
                            <a:lnTo>
                              <a:pt x="0" y="9"/>
                            </a:lnTo>
                            <a:lnTo>
                              <a:pt x="1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6696720" y="4349160"/>
                        <a:ext cx="46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2"/>
                            </a:moveTo>
                            <a:lnTo>
                              <a:pt x="9" y="5"/>
                            </a:lnTo>
                            <a:lnTo>
                              <a:pt x="9" y="2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4" name=""/>
                      <p:cNvSpPr/>
                      <p:nvPr/>
                    </p:nvSpPr>
                    <p:spPr>
                      <a:xfrm>
                        <a:off x="6696720" y="434916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9" y="7"/>
                            </a:moveTo>
                            <a:lnTo>
                              <a:pt x="0" y="13"/>
                            </a:lnTo>
                            <a:lnTo>
                              <a:pt x="1" y="2"/>
                            </a:lnTo>
                            <a:lnTo>
                              <a:pt x="10" y="5"/>
                            </a:lnTo>
                            <a:lnTo>
                              <a:pt x="2" y="0"/>
                            </a:lnTo>
                            <a:lnTo>
                              <a:pt x="9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5" name=""/>
                      <p:cNvSpPr/>
                      <p:nvPr/>
                    </p:nvSpPr>
                    <p:spPr>
                      <a:xfrm>
                        <a:off x="6696720" y="4347720"/>
                        <a:ext cx="468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3"/>
                            </a:moveTo>
                            <a:lnTo>
                              <a:pt x="0" y="1"/>
                            </a:lnTo>
                            <a:lnTo>
                              <a:pt x="1" y="0"/>
                            </a:lnTo>
                            <a:lnTo>
                              <a:pt x="8" y="8"/>
                            </a:lnTo>
                            <a:lnTo>
                              <a:pt x="9" y="5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6" name=""/>
                      <p:cNvSpPr/>
                      <p:nvPr/>
                    </p:nvSpPr>
                    <p:spPr>
                      <a:xfrm>
                        <a:off x="7354080" y="5450400"/>
                        <a:ext cx="1033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23">
                            <a:moveTo>
                              <a:pt x="0" y="123"/>
                            </a:moveTo>
                            <a:lnTo>
                              <a:pt x="4" y="0"/>
                            </a:lnTo>
                            <a:lnTo>
                              <a:pt x="198" y="13"/>
                            </a:lnTo>
                            <a:lnTo>
                              <a:pt x="201" y="81"/>
                            </a:lnTo>
                            <a:lnTo>
                              <a:pt x="199" y="27"/>
                            </a:lnTo>
                            <a:lnTo>
                              <a:pt x="189" y="73"/>
                            </a:lnTo>
                            <a:lnTo>
                              <a:pt x="136" y="77"/>
                            </a:lnTo>
                            <a:lnTo>
                              <a:pt x="136" y="71"/>
                            </a:lnTo>
                            <a:lnTo>
                              <a:pt x="137" y="60"/>
                            </a:lnTo>
                            <a:lnTo>
                              <a:pt x="137" y="53"/>
                            </a:lnTo>
                            <a:lnTo>
                              <a:pt x="137" y="50"/>
                            </a:lnTo>
                            <a:lnTo>
                              <a:pt x="137" y="48"/>
                            </a:lnTo>
                            <a:lnTo>
                              <a:pt x="136" y="46"/>
                            </a:lnTo>
                            <a:lnTo>
                              <a:pt x="135" y="44"/>
                            </a:lnTo>
                            <a:lnTo>
                              <a:pt x="133" y="44"/>
                            </a:lnTo>
                            <a:lnTo>
                              <a:pt x="132" y="42"/>
                            </a:lnTo>
                            <a:lnTo>
                              <a:pt x="96" y="41"/>
                            </a:lnTo>
                            <a:lnTo>
                              <a:pt x="69" y="38"/>
                            </a:lnTo>
                            <a:lnTo>
                              <a:pt x="63" y="78"/>
                            </a:lnTo>
                            <a:lnTo>
                              <a:pt x="12" y="77"/>
                            </a:lnTo>
                            <a:lnTo>
                              <a:pt x="5" y="123"/>
                            </a:lnTo>
                            <a:lnTo>
                              <a:pt x="0" y="12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7" name=""/>
                      <p:cNvSpPr/>
                      <p:nvPr/>
                    </p:nvSpPr>
                    <p:spPr>
                      <a:xfrm>
                        <a:off x="7352280" y="5450400"/>
                        <a:ext cx="61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3">
                            <a:moveTo>
                              <a:pt x="0" y="123"/>
                            </a:moveTo>
                            <a:lnTo>
                              <a:pt x="9" y="123"/>
                            </a:lnTo>
                            <a:lnTo>
                              <a:pt x="12" y="0"/>
                            </a:lnTo>
                            <a:lnTo>
                              <a:pt x="2" y="0"/>
                            </a:lnTo>
                            <a:lnTo>
                              <a:pt x="0" y="12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8" name=""/>
                      <p:cNvSpPr/>
                      <p:nvPr/>
                    </p:nvSpPr>
                    <p:spPr>
                      <a:xfrm>
                        <a:off x="7355520" y="5447160"/>
                        <a:ext cx="10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7" h="24">
                            <a:moveTo>
                              <a:pt x="2" y="0"/>
                            </a:moveTo>
                            <a:lnTo>
                              <a:pt x="0" y="10"/>
                            </a:lnTo>
                            <a:lnTo>
                              <a:pt x="196" y="24"/>
                            </a:lnTo>
                            <a:lnTo>
                              <a:pt x="197" y="1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9" name=""/>
                      <p:cNvSpPr/>
                      <p:nvPr/>
                    </p:nvSpPr>
                    <p:spPr>
                      <a:xfrm>
                        <a:off x="7352280" y="544716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4" y="1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0" name=""/>
                      <p:cNvSpPr/>
                      <p:nvPr/>
                    </p:nvSpPr>
                    <p:spPr>
                      <a:xfrm>
                        <a:off x="7454160" y="5456520"/>
                        <a:ext cx="61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68">
                            <a:moveTo>
                              <a:pt x="10" y="0"/>
                            </a:moveTo>
                            <a:lnTo>
                              <a:pt x="0" y="0"/>
                            </a:lnTo>
                            <a:lnTo>
                              <a:pt x="2" y="68"/>
                            </a:lnTo>
                            <a:lnTo>
                              <a:pt x="13" y="68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1" name=""/>
                      <p:cNvSpPr/>
                      <p:nvPr/>
                    </p:nvSpPr>
                    <p:spPr>
                      <a:xfrm>
                        <a:off x="7454160" y="545508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5" y="0"/>
                            </a:moveTo>
                            <a:lnTo>
                              <a:pt x="10" y="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lnTo>
                              <a:pt x="4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2" name=""/>
                      <p:cNvSpPr/>
                      <p:nvPr/>
                    </p:nvSpPr>
                    <p:spPr>
                      <a:xfrm>
                        <a:off x="7454160" y="5464440"/>
                        <a:ext cx="612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54">
                            <a:moveTo>
                              <a:pt x="1" y="54"/>
                            </a:moveTo>
                            <a:lnTo>
                              <a:pt x="11" y="54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1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3" name=""/>
                      <p:cNvSpPr/>
                      <p:nvPr/>
                    </p:nvSpPr>
                    <p:spPr>
                      <a:xfrm>
                        <a:off x="7454160" y="549216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0">
                            <a:moveTo>
                              <a:pt x="11" y="0"/>
                            </a:move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4" name=""/>
                      <p:cNvSpPr/>
                      <p:nvPr/>
                    </p:nvSpPr>
                    <p:spPr>
                      <a:xfrm>
                        <a:off x="7448400" y="5462640"/>
                        <a:ext cx="1224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8">
                            <a:moveTo>
                              <a:pt x="22" y="2"/>
                            </a:moveTo>
                            <a:lnTo>
                              <a:pt x="11" y="0"/>
                            </a:lnTo>
                            <a:lnTo>
                              <a:pt x="0" y="46"/>
                            </a:lnTo>
                            <a:lnTo>
                              <a:pt x="11" y="48"/>
                            </a:lnTo>
                            <a:lnTo>
                              <a:pt x="22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5" name=""/>
                      <p:cNvSpPr/>
                      <p:nvPr/>
                    </p:nvSpPr>
                    <p:spPr>
                      <a:xfrm>
                        <a:off x="7454160" y="546264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">
                            <a:moveTo>
                              <a:pt x="9" y="2"/>
                            </a:moveTo>
                            <a:lnTo>
                              <a:pt x="0" y="0"/>
                            </a:lnTo>
                            <a:lnTo>
                              <a:pt x="11" y="2"/>
                            </a:lnTo>
                            <a:lnTo>
                              <a:pt x="0" y="2"/>
                            </a:lnTo>
                            <a:lnTo>
                              <a:pt x="9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" name=""/>
                      <p:cNvSpPr/>
                      <p:nvPr/>
                    </p:nvSpPr>
                    <p:spPr>
                      <a:xfrm>
                        <a:off x="7423560" y="5486040"/>
                        <a:ext cx="291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13">
                            <a:moveTo>
                              <a:pt x="57" y="9"/>
                            </a:moveTo>
                            <a:lnTo>
                              <a:pt x="54" y="0"/>
                            </a:lnTo>
                            <a:lnTo>
                              <a:pt x="0" y="4"/>
                            </a:lnTo>
                            <a:lnTo>
                              <a:pt x="3" y="13"/>
                            </a:lnTo>
                            <a:lnTo>
                              <a:pt x="57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7" name=""/>
                      <p:cNvSpPr/>
                      <p:nvPr/>
                    </p:nvSpPr>
                    <p:spPr>
                      <a:xfrm>
                        <a:off x="7448400" y="54860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7" y="9"/>
                            </a:lnTo>
                            <a:lnTo>
                              <a:pt x="4" y="0"/>
                            </a:lnTo>
                            <a:lnTo>
                              <a:pt x="0" y="2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8" name=""/>
                      <p:cNvSpPr/>
                      <p:nvPr/>
                    </p:nvSpPr>
                    <p:spPr>
                      <a:xfrm>
                        <a:off x="7420320" y="5470560"/>
                        <a:ext cx="612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40">
                            <a:moveTo>
                              <a:pt x="1" y="37"/>
                            </a:moveTo>
                            <a:lnTo>
                              <a:pt x="4" y="22"/>
                            </a:lnTo>
                            <a:lnTo>
                              <a:pt x="4" y="11"/>
                            </a:lnTo>
                            <a:lnTo>
                              <a:pt x="3" y="10"/>
                            </a:lnTo>
                            <a:lnTo>
                              <a:pt x="0" y="10"/>
                            </a:ln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  <a:lnTo>
                              <a:pt x="13" y="8"/>
                            </a:lnTo>
                            <a:lnTo>
                              <a:pt x="13" y="22"/>
                            </a:lnTo>
                            <a:lnTo>
                              <a:pt x="11" y="40"/>
                            </a:lnTo>
                            <a:lnTo>
                              <a:pt x="1" y="3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9" name=""/>
                      <p:cNvSpPr/>
                      <p:nvPr/>
                    </p:nvSpPr>
                    <p:spPr>
                      <a:xfrm>
                        <a:off x="7420320" y="548748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8" y="9"/>
                            </a:moveTo>
                            <a:lnTo>
                              <a:pt x="0" y="9"/>
                            </a:lnTo>
                            <a:lnTo>
                              <a:pt x="1" y="2"/>
                            </a:lnTo>
                            <a:lnTo>
                              <a:pt x="11" y="5"/>
                            </a:lnTo>
                            <a:lnTo>
                              <a:pt x="5" y="0"/>
                            </a:lnTo>
                            <a:lnTo>
                              <a:pt x="8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0" name=""/>
                      <p:cNvSpPr/>
                      <p:nvPr/>
                    </p:nvSpPr>
                    <p:spPr>
                      <a:xfrm>
                        <a:off x="7389360" y="5467680"/>
                        <a:ext cx="324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14">
                            <a:moveTo>
                              <a:pt x="62" y="14"/>
                            </a:moveTo>
                            <a:lnTo>
                              <a:pt x="0" y="10"/>
                            </a:lnTo>
                            <a:lnTo>
                              <a:pt x="0" y="0"/>
                            </a:lnTo>
                            <a:lnTo>
                              <a:pt x="62" y="4"/>
                            </a:lnTo>
                            <a:lnTo>
                              <a:pt x="62" y="1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1" name=""/>
                      <p:cNvSpPr/>
                      <p:nvPr/>
                    </p:nvSpPr>
                    <p:spPr>
                      <a:xfrm>
                        <a:off x="7420320" y="547056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0">
                            <a:moveTo>
                              <a:pt x="5" y="0"/>
                            </a:moveTo>
                            <a:lnTo>
                              <a:pt x="3" y="0"/>
                            </a:lnTo>
                            <a:lnTo>
                              <a:pt x="3" y="10"/>
                            </a:lnTo>
                            <a:lnTo>
                              <a:pt x="0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2" name=""/>
                      <p:cNvSpPr/>
                      <p:nvPr/>
                    </p:nvSpPr>
                    <p:spPr>
                      <a:xfrm>
                        <a:off x="7383240" y="5469120"/>
                        <a:ext cx="936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1">
                            <a:moveTo>
                              <a:pt x="17" y="1"/>
                            </a:moveTo>
                            <a:lnTo>
                              <a:pt x="6" y="0"/>
                            </a:lnTo>
                            <a:lnTo>
                              <a:pt x="0" y="40"/>
                            </a:lnTo>
                            <a:lnTo>
                              <a:pt x="10" y="41"/>
                            </a:lnTo>
                            <a:lnTo>
                              <a:pt x="17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3" name=""/>
                      <p:cNvSpPr/>
                      <p:nvPr/>
                    </p:nvSpPr>
                    <p:spPr>
                      <a:xfrm>
                        <a:off x="7386120" y="546768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6" y="0"/>
                            </a:move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lnTo>
                              <a:pt x="6" y="10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4" name=""/>
                      <p:cNvSpPr/>
                      <p:nvPr/>
                    </p:nvSpPr>
                    <p:spPr>
                      <a:xfrm>
                        <a:off x="7359840" y="5487480"/>
                        <a:ext cx="262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0">
                            <a:moveTo>
                              <a:pt x="50" y="10"/>
                            </a:moveTo>
                            <a:lnTo>
                              <a:pt x="50" y="1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5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5" name=""/>
                      <p:cNvSpPr/>
                      <p:nvPr/>
                    </p:nvSpPr>
                    <p:spPr>
                      <a:xfrm>
                        <a:off x="7383240" y="548892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10" y="4"/>
                            </a:moveTo>
                            <a:lnTo>
                              <a:pt x="9" y="9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6" name=""/>
                      <p:cNvSpPr/>
                      <p:nvPr/>
                    </p:nvSpPr>
                    <p:spPr>
                      <a:xfrm>
                        <a:off x="7354080" y="5488920"/>
                        <a:ext cx="900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8">
                            <a:moveTo>
                              <a:pt x="17" y="2"/>
                            </a:moveTo>
                            <a:lnTo>
                              <a:pt x="7" y="0"/>
                            </a:lnTo>
                            <a:lnTo>
                              <a:pt x="0" y="47"/>
                            </a:lnTo>
                            <a:lnTo>
                              <a:pt x="11" y="48"/>
                            </a:lnTo>
                            <a:lnTo>
                              <a:pt x="17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7" name=""/>
                      <p:cNvSpPr/>
                      <p:nvPr/>
                    </p:nvSpPr>
                    <p:spPr>
                      <a:xfrm>
                        <a:off x="7358400" y="5487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8" name=""/>
                      <p:cNvSpPr/>
                      <p:nvPr/>
                    </p:nvSpPr>
                    <p:spPr>
                      <a:xfrm>
                        <a:off x="7354080" y="5512320"/>
                        <a:ext cx="252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9" name=""/>
                      <p:cNvSpPr/>
                      <p:nvPr/>
                    </p:nvSpPr>
                    <p:spPr>
                      <a:xfrm>
                        <a:off x="7354080" y="551232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9" y="9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0" name=""/>
                      <p:cNvSpPr/>
                      <p:nvPr/>
                    </p:nvSpPr>
                    <p:spPr>
                      <a:xfrm>
                        <a:off x="7352280" y="55123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5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1" name=""/>
                      <p:cNvSpPr/>
                      <p:nvPr/>
                    </p:nvSpPr>
                    <p:spPr>
                      <a:xfrm>
                        <a:off x="7347600" y="5549400"/>
                        <a:ext cx="446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74">
                            <a:moveTo>
                              <a:pt x="88" y="67"/>
                            </a:moveTo>
                            <a:lnTo>
                              <a:pt x="0" y="74"/>
                            </a:ln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  <a:lnTo>
                              <a:pt x="9" y="5"/>
                            </a:lnTo>
                            <a:lnTo>
                              <a:pt x="52" y="5"/>
                            </a:lnTo>
                            <a:lnTo>
                              <a:pt x="51" y="30"/>
                            </a:lnTo>
                            <a:lnTo>
                              <a:pt x="51" y="39"/>
                            </a:lnTo>
                            <a:lnTo>
                              <a:pt x="52" y="47"/>
                            </a:lnTo>
                            <a:lnTo>
                              <a:pt x="54" y="54"/>
                            </a:lnTo>
                            <a:lnTo>
                              <a:pt x="55" y="55"/>
                            </a:lnTo>
                            <a:lnTo>
                              <a:pt x="56" y="56"/>
                            </a:lnTo>
                            <a:lnTo>
                              <a:pt x="67" y="58"/>
                            </a:lnTo>
                            <a:lnTo>
                              <a:pt x="87" y="58"/>
                            </a:lnTo>
                            <a:lnTo>
                              <a:pt x="88" y="6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2" name=""/>
                      <p:cNvSpPr/>
                      <p:nvPr/>
                    </p:nvSpPr>
                    <p:spPr>
                      <a:xfrm>
                        <a:off x="7346160" y="5581800"/>
                        <a:ext cx="4608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16">
                            <a:moveTo>
                              <a:pt x="91" y="9"/>
                            </a:moveTo>
                            <a:lnTo>
                              <a:pt x="89" y="0"/>
                            </a:lnTo>
                            <a:lnTo>
                              <a:pt x="0" y="7"/>
                            </a:lnTo>
                            <a:lnTo>
                              <a:pt x="3" y="16"/>
                            </a:lnTo>
                            <a:lnTo>
                              <a:pt x="91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3" name=""/>
                      <p:cNvSpPr/>
                      <p:nvPr/>
                    </p:nvSpPr>
                    <p:spPr>
                      <a:xfrm>
                        <a:off x="7344720" y="5549400"/>
                        <a:ext cx="61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74">
                            <a:moveTo>
                              <a:pt x="0" y="74"/>
                            </a:moveTo>
                            <a:lnTo>
                              <a:pt x="10" y="74"/>
                            </a:lnTo>
                            <a:lnTo>
                              <a:pt x="14" y="0"/>
                            </a:lnTo>
                            <a:lnTo>
                              <a:pt x="4" y="0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4" name=""/>
                      <p:cNvSpPr/>
                      <p:nvPr/>
                    </p:nvSpPr>
                    <p:spPr>
                      <a:xfrm>
                        <a:off x="7344720" y="5586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7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4" y="0"/>
                            </a:lnTo>
                            <a:lnTo>
                              <a:pt x="7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5" name=""/>
                      <p:cNvSpPr/>
                      <p:nvPr/>
                    </p:nvSpPr>
                    <p:spPr>
                      <a:xfrm>
                        <a:off x="7349040" y="5546520"/>
                        <a:ext cx="2880" cy="576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6" name=""/>
                      <p:cNvSpPr/>
                      <p:nvPr/>
                    </p:nvSpPr>
                    <p:spPr>
                      <a:xfrm>
                        <a:off x="7346160" y="554652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6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6" y="11"/>
                            </a:lnTo>
                            <a:lnTo>
                              <a:pt x="10" y="6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7" name=""/>
                      <p:cNvSpPr/>
                      <p:nvPr/>
                    </p:nvSpPr>
                    <p:spPr>
                      <a:xfrm>
                        <a:off x="7349040" y="5549400"/>
                        <a:ext cx="468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7">
                            <a:moveTo>
                              <a:pt x="10" y="2"/>
                            </a:moveTo>
                            <a:lnTo>
                              <a:pt x="0" y="0"/>
                            </a:lnTo>
                            <a:lnTo>
                              <a:pt x="0" y="6"/>
                            </a:lnTo>
                            <a:lnTo>
                              <a:pt x="10" y="7"/>
                            </a:lnTo>
                            <a:lnTo>
                              <a:pt x="1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8" name=""/>
                      <p:cNvSpPr/>
                      <p:nvPr/>
                    </p:nvSpPr>
                    <p:spPr>
                      <a:xfrm>
                        <a:off x="7349040" y="554652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5" y="0"/>
                            </a:moveTo>
                            <a:lnTo>
                              <a:pt x="11" y="0"/>
                            </a:lnTo>
                            <a:lnTo>
                              <a:pt x="10" y="6"/>
                            </a:lnTo>
                            <a:lnTo>
                              <a:pt x="0" y="4"/>
                            </a:lnTo>
                            <a:lnTo>
                              <a:pt x="5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9" name=""/>
                      <p:cNvSpPr/>
                      <p:nvPr/>
                    </p:nvSpPr>
                    <p:spPr>
                      <a:xfrm>
                        <a:off x="7352280" y="5549400"/>
                        <a:ext cx="2160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0" name=""/>
                      <p:cNvSpPr/>
                      <p:nvPr/>
                    </p:nvSpPr>
                    <p:spPr>
                      <a:xfrm>
                        <a:off x="7349040" y="55494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0" y="4"/>
                            </a:moveTo>
                            <a:lnTo>
                              <a:pt x="0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10" y="5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1" name=""/>
                      <p:cNvSpPr/>
                      <p:nvPr/>
                    </p:nvSpPr>
                    <p:spPr>
                      <a:xfrm>
                        <a:off x="7371000" y="5552280"/>
                        <a:ext cx="75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55">
                            <a:moveTo>
                              <a:pt x="12" y="0"/>
                            </a:moveTo>
                            <a:lnTo>
                              <a:pt x="10" y="25"/>
                            </a:lnTo>
                            <a:lnTo>
                              <a:pt x="12" y="42"/>
                            </a:lnTo>
                            <a:lnTo>
                              <a:pt x="12" y="46"/>
                            </a:lnTo>
                            <a:lnTo>
                              <a:pt x="14" y="49"/>
                            </a:lnTo>
                            <a:lnTo>
                              <a:pt x="6" y="55"/>
                            </a:lnTo>
                            <a:lnTo>
                              <a:pt x="2" y="51"/>
                            </a:lnTo>
                            <a:lnTo>
                              <a:pt x="1" y="44"/>
                            </a:lnTo>
                            <a:lnTo>
                              <a:pt x="0" y="25"/>
                            </a:lnTo>
                            <a:lnTo>
                              <a:pt x="1" y="0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2" name=""/>
                      <p:cNvSpPr/>
                      <p:nvPr/>
                    </p:nvSpPr>
                    <p:spPr>
                      <a:xfrm>
                        <a:off x="7371000" y="554940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5" y="0"/>
                            </a:moveTo>
                            <a:lnTo>
                              <a:pt x="11" y="0"/>
                            </a:lnTo>
                            <a:lnTo>
                              <a:pt x="11" y="5"/>
                            </a:lnTo>
                            <a:lnTo>
                              <a:pt x="0" y="5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" name=""/>
                      <p:cNvSpPr/>
                      <p:nvPr/>
                    </p:nvSpPr>
                    <p:spPr>
                      <a:xfrm>
                        <a:off x="7375320" y="5575680"/>
                        <a:ext cx="169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12">
                            <a:moveTo>
                              <a:pt x="0" y="0"/>
                            </a:moveTo>
                            <a:lnTo>
                              <a:pt x="31" y="1"/>
                            </a:lnTo>
                            <a:lnTo>
                              <a:pt x="31" y="1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4" name=""/>
                      <p:cNvSpPr/>
                      <p:nvPr/>
                    </p:nvSpPr>
                    <p:spPr>
                      <a:xfrm>
                        <a:off x="7373880" y="557568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0" y="9"/>
                            </a:moveTo>
                            <a:lnTo>
                              <a:pt x="2" y="11"/>
                            </a:lnTo>
                            <a:lnTo>
                              <a:pt x="4" y="11"/>
                            </a:lnTo>
                            <a:lnTo>
                              <a:pt x="4" y="0"/>
                            </a:lnTo>
                            <a:lnTo>
                              <a:pt x="8" y="3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5" name=""/>
                      <p:cNvSpPr/>
                      <p:nvPr/>
                    </p:nvSpPr>
                    <p:spPr>
                      <a:xfrm>
                        <a:off x="7389360" y="558036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0">
                            <a:moveTo>
                              <a:pt x="11" y="0"/>
                            </a:moveTo>
                            <a:lnTo>
                              <a:pt x="0" y="1"/>
                            </a:lnTo>
                            <a:lnTo>
                              <a:pt x="2" y="10"/>
                            </a:lnTo>
                            <a:lnTo>
                              <a:pt x="12" y="9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6" name=""/>
                      <p:cNvSpPr/>
                      <p:nvPr/>
                    </p:nvSpPr>
                    <p:spPr>
                      <a:xfrm>
                        <a:off x="7389360" y="5577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6" y="0"/>
                            </a:moveTo>
                            <a:lnTo>
                              <a:pt x="10" y="0"/>
                            </a:lnTo>
                            <a:lnTo>
                              <a:pt x="11" y="6"/>
                            </a:lnTo>
                            <a:lnTo>
                              <a:pt x="0" y="7"/>
                            </a:lnTo>
                            <a:lnTo>
                              <a:pt x="6" y="11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7" name=""/>
                      <p:cNvSpPr/>
                      <p:nvPr/>
                    </p:nvSpPr>
                    <p:spPr>
                      <a:xfrm>
                        <a:off x="7389360" y="558180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9">
                            <a:moveTo>
                              <a:pt x="10" y="4"/>
                            </a:moveTo>
                            <a:lnTo>
                              <a:pt x="12" y="9"/>
                            </a:lnTo>
                            <a:lnTo>
                              <a:pt x="6" y="9"/>
                            </a:lnTo>
                            <a:lnTo>
                              <a:pt x="4" y="0"/>
                            </a:lnTo>
                            <a:lnTo>
                              <a:pt x="0" y="5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>
                        <a:off x="7397280" y="5082480"/>
                        <a:ext cx="89640" cy="77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4" h="151">
                            <a:moveTo>
                              <a:pt x="86" y="0"/>
                            </a:moveTo>
                            <a:lnTo>
                              <a:pt x="174" y="11"/>
                            </a:lnTo>
                            <a:lnTo>
                              <a:pt x="164" y="82"/>
                            </a:lnTo>
                            <a:lnTo>
                              <a:pt x="96" y="76"/>
                            </a:lnTo>
                            <a:lnTo>
                              <a:pt x="96" y="151"/>
                            </a:lnTo>
                            <a:lnTo>
                              <a:pt x="44" y="151"/>
                            </a:lnTo>
                            <a:lnTo>
                              <a:pt x="0" y="144"/>
                            </a:lnTo>
                            <a:lnTo>
                              <a:pt x="17" y="143"/>
                            </a:lnTo>
                            <a:lnTo>
                              <a:pt x="19" y="143"/>
                            </a:lnTo>
                            <a:lnTo>
                              <a:pt x="20" y="140"/>
                            </a:lnTo>
                            <a:lnTo>
                              <a:pt x="23" y="130"/>
                            </a:lnTo>
                            <a:lnTo>
                              <a:pt x="24" y="116"/>
                            </a:lnTo>
                            <a:lnTo>
                              <a:pt x="24" y="102"/>
                            </a:lnTo>
                            <a:lnTo>
                              <a:pt x="25" y="74"/>
                            </a:lnTo>
                            <a:lnTo>
                              <a:pt x="25" y="61"/>
                            </a:lnTo>
                            <a:lnTo>
                              <a:pt x="78" y="58"/>
                            </a:lnTo>
                            <a:lnTo>
                              <a:pt x="85" y="16"/>
                            </a:lnTo>
                            <a:lnTo>
                              <a:pt x="85" y="2"/>
                            </a:lnTo>
                            <a:lnTo>
                              <a:pt x="8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240" bIns="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/>
                      <p:nvPr/>
                    </p:nvSpPr>
                    <p:spPr>
                      <a:xfrm>
                        <a:off x="7440480" y="5079240"/>
                        <a:ext cx="460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21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88" y="21"/>
                            </a:lnTo>
                            <a:lnTo>
                              <a:pt x="89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0" name=""/>
                      <p:cNvSpPr/>
                      <p:nvPr/>
                    </p:nvSpPr>
                    <p:spPr>
                      <a:xfrm>
                        <a:off x="7479000" y="5087160"/>
                        <a:ext cx="10800" cy="3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72">
                            <a:moveTo>
                              <a:pt x="22" y="1"/>
                            </a:moveTo>
                            <a:lnTo>
                              <a:pt x="11" y="0"/>
                            </a:lnTo>
                            <a:lnTo>
                              <a:pt x="0" y="71"/>
                            </a:lnTo>
                            <a:lnTo>
                              <a:pt x="11" y="72"/>
                            </a:lnTo>
                            <a:lnTo>
                              <a:pt x="22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7483680" y="508572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0">
                            <a:moveTo>
                              <a:pt x="5" y="0"/>
                            </a:moveTo>
                            <a:lnTo>
                              <a:pt x="12" y="1"/>
                            </a:lnTo>
                            <a:lnTo>
                              <a:pt x="11" y="5"/>
                            </a:lnTo>
                            <a:lnTo>
                              <a:pt x="0" y="4"/>
                            </a:lnTo>
                            <a:lnTo>
                              <a:pt x="4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7446600" y="5119560"/>
                        <a:ext cx="356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5">
                            <a:moveTo>
                              <a:pt x="69" y="15"/>
                            </a:moveTo>
                            <a:lnTo>
                              <a:pt x="69" y="6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69" y="1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7479000" y="512244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6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>
                        <a:off x="7443360" y="5121000"/>
                        <a:ext cx="4680" cy="385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7443360" y="511956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" name=""/>
                      <p:cNvSpPr/>
                      <p:nvPr/>
                    </p:nvSpPr>
                    <p:spPr>
                      <a:xfrm>
                        <a:off x="7420320" y="5156640"/>
                        <a:ext cx="2628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7" name=""/>
                      <p:cNvSpPr/>
                      <p:nvPr/>
                    </p:nvSpPr>
                    <p:spPr>
                      <a:xfrm>
                        <a:off x="7443360" y="51566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5"/>
                            </a:moveTo>
                            <a:lnTo>
                              <a:pt x="10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5"/>
                            </a:lnTo>
                            <a:lnTo>
                              <a:pt x="1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8" name=""/>
                      <p:cNvSpPr/>
                      <p:nvPr/>
                    </p:nvSpPr>
                    <p:spPr>
                      <a:xfrm>
                        <a:off x="7397280" y="5153760"/>
                        <a:ext cx="2304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16">
                            <a:moveTo>
                              <a:pt x="43" y="16"/>
                            </a:moveTo>
                            <a:lnTo>
                              <a:pt x="46" y="7"/>
                            </a:lnTo>
                            <a:lnTo>
                              <a:pt x="3" y="0"/>
                            </a:lnTo>
                            <a:lnTo>
                              <a:pt x="0" y="9"/>
                            </a:lnTo>
                            <a:lnTo>
                              <a:pt x="43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9" name=""/>
                      <p:cNvSpPr/>
                      <p:nvPr/>
                    </p:nvSpPr>
                    <p:spPr>
                      <a:xfrm>
                        <a:off x="7418880" y="51566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0">
                            <a:moveTo>
                              <a:pt x="2" y="10"/>
                            </a:moveTo>
                            <a:lnTo>
                              <a:pt x="0" y="10"/>
                            </a:lnTo>
                            <a:lnTo>
                              <a:pt x="3" y="1"/>
                            </a:lnTo>
                            <a:lnTo>
                              <a:pt x="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0" name=""/>
                      <p:cNvSpPr/>
                      <p:nvPr/>
                    </p:nvSpPr>
                    <p:spPr>
                      <a:xfrm>
                        <a:off x="7397280" y="5153760"/>
                        <a:ext cx="93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0" y="1"/>
                            </a:moveTo>
                            <a:lnTo>
                              <a:pt x="17" y="0"/>
                            </a:lnTo>
                            <a:lnTo>
                              <a:pt x="17" y="10"/>
                            </a:lnTo>
                            <a:lnTo>
                              <a:pt x="0" y="1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1" name=""/>
                      <p:cNvSpPr/>
                      <p:nvPr/>
                    </p:nvSpPr>
                    <p:spPr>
                      <a:xfrm>
                        <a:off x="7397280" y="515376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0">
                            <a:moveTo>
                              <a:pt x="0" y="10"/>
                            </a:moveTo>
                            <a:lnTo>
                              <a:pt x="1" y="0"/>
                            </a:lnTo>
                            <a:lnTo>
                              <a:pt x="1" y="10"/>
                            </a:lnTo>
                            <a:lnTo>
                              <a:pt x="3" y="1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2" name=""/>
                      <p:cNvSpPr/>
                      <p:nvPr/>
                    </p:nvSpPr>
                    <p:spPr>
                      <a:xfrm>
                        <a:off x="7403400" y="5113440"/>
                        <a:ext cx="900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86">
                            <a:moveTo>
                              <a:pt x="0" y="79"/>
                            </a:moveTo>
                            <a:lnTo>
                              <a:pt x="2" y="75"/>
                            </a:lnTo>
                            <a:lnTo>
                              <a:pt x="3" y="67"/>
                            </a:lnTo>
                            <a:lnTo>
                              <a:pt x="6" y="41"/>
                            </a:lnTo>
                            <a:lnTo>
                              <a:pt x="7" y="0"/>
                            </a:lnTo>
                            <a:lnTo>
                              <a:pt x="16" y="0"/>
                            </a:lnTo>
                            <a:lnTo>
                              <a:pt x="15" y="41"/>
                            </a:lnTo>
                            <a:lnTo>
                              <a:pt x="12" y="70"/>
                            </a:lnTo>
                            <a:lnTo>
                              <a:pt x="11" y="81"/>
                            </a:lnTo>
                            <a:lnTo>
                              <a:pt x="8" y="86"/>
                            </a:lnTo>
                            <a:lnTo>
                              <a:pt x="0" y="7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3" name=""/>
                      <p:cNvSpPr/>
                      <p:nvPr/>
                    </p:nvSpPr>
                    <p:spPr>
                      <a:xfrm>
                        <a:off x="7403400" y="515376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4" y="10"/>
                            </a:moveTo>
                            <a:lnTo>
                              <a:pt x="7" y="10"/>
                            </a:lnTo>
                            <a:lnTo>
                              <a:pt x="8" y="9"/>
                            </a:lnTo>
                            <a:lnTo>
                              <a:pt x="0" y="2"/>
                            </a:lnTo>
                            <a:lnTo>
                              <a:pt x="4" y="0"/>
                            </a:lnTo>
                            <a:lnTo>
                              <a:pt x="4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4" name=""/>
                      <p:cNvSpPr/>
                      <p:nvPr/>
                    </p:nvSpPr>
                    <p:spPr>
                      <a:xfrm>
                        <a:off x="7409520" y="5108760"/>
                        <a:ext cx="2772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13">
                            <a:moveTo>
                              <a:pt x="0" y="3"/>
                            </a:moveTo>
                            <a:lnTo>
                              <a:pt x="0" y="13"/>
                            </a:lnTo>
                            <a:lnTo>
                              <a:pt x="53" y="11"/>
                            </a:lnTo>
                            <a:lnTo>
                              <a:pt x="53" y="0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5" name=""/>
                      <p:cNvSpPr/>
                      <p:nvPr/>
                    </p:nvSpPr>
                    <p:spPr>
                      <a:xfrm>
                        <a:off x="7408080" y="51102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  <a:lnTo>
                              <a:pt x="5" y="10"/>
                            </a:lnTo>
                            <a:lnTo>
                              <a:pt x="9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6" name=""/>
                      <p:cNvSpPr/>
                      <p:nvPr/>
                    </p:nvSpPr>
                    <p:spPr>
                      <a:xfrm>
                        <a:off x="7434360" y="5090040"/>
                        <a:ext cx="90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45">
                            <a:moveTo>
                              <a:pt x="0" y="42"/>
                            </a:moveTo>
                            <a:lnTo>
                              <a:pt x="9" y="45"/>
                            </a:lnTo>
                            <a:lnTo>
                              <a:pt x="16" y="3"/>
                            </a:lnTo>
                            <a:lnTo>
                              <a:pt x="6" y="0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7434360" y="510876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5" y="11"/>
                            </a:moveTo>
                            <a:lnTo>
                              <a:pt x="9" y="11"/>
                            </a:lnTo>
                            <a:lnTo>
                              <a:pt x="9" y="7"/>
                            </a:lnTo>
                            <a:lnTo>
                              <a:pt x="0" y="4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>
                        <a:off x="7437240" y="5080680"/>
                        <a:ext cx="57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9">
                            <a:moveTo>
                              <a:pt x="0" y="16"/>
                            </a:moveTo>
                            <a:lnTo>
                              <a:pt x="10" y="19"/>
                            </a:lnTo>
                            <a:lnTo>
                              <a:pt x="10" y="3"/>
                            </a:ln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9" name=""/>
                      <p:cNvSpPr/>
                      <p:nvPr/>
                    </p:nvSpPr>
                    <p:spPr>
                      <a:xfrm>
                        <a:off x="7437240" y="5090040"/>
                        <a:ext cx="576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3">
                            <a:moveTo>
                              <a:pt x="10" y="3"/>
                            </a:moveTo>
                            <a:lnTo>
                              <a:pt x="0" y="0"/>
                            </a:lnTo>
                            <a:lnTo>
                              <a:pt x="1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7440480" y="50792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0" y="0"/>
                            </a:moveTo>
                            <a:lnTo>
                              <a:pt x="1" y="11"/>
                            </a:lnTo>
                            <a:lnTo>
                              <a:pt x="2" y="11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1" name=""/>
                      <p:cNvSpPr/>
                      <p:nvPr/>
                    </p:nvSpPr>
                    <p:spPr>
                      <a:xfrm>
                        <a:off x="7437240" y="5079240"/>
                        <a:ext cx="576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4"/>
                            </a:moveTo>
                            <a:lnTo>
                              <a:pt x="0" y="1"/>
                            </a:lnTo>
                            <a:lnTo>
                              <a:pt x="6" y="0"/>
                            </a:lnTo>
                            <a:lnTo>
                              <a:pt x="7" y="11"/>
                            </a:lnTo>
                            <a:lnTo>
                              <a:pt x="10" y="7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7440480" y="50792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2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/>
                      <p:nvPr/>
                    </p:nvSpPr>
                    <p:spPr>
                      <a:xfrm>
                        <a:off x="7403400" y="4989600"/>
                        <a:ext cx="4752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131">
                            <a:moveTo>
                              <a:pt x="80" y="126"/>
                            </a:moveTo>
                            <a:lnTo>
                              <a:pt x="80" y="128"/>
                            </a:lnTo>
                            <a:lnTo>
                              <a:pt x="80" y="130"/>
                            </a:lnTo>
                            <a:lnTo>
                              <a:pt x="76" y="131"/>
                            </a:lnTo>
                            <a:lnTo>
                              <a:pt x="77" y="99"/>
                            </a:lnTo>
                            <a:lnTo>
                              <a:pt x="52" y="99"/>
                            </a:lnTo>
                            <a:lnTo>
                              <a:pt x="23" y="99"/>
                            </a:lnTo>
                            <a:lnTo>
                              <a:pt x="0" y="45"/>
                            </a:lnTo>
                            <a:lnTo>
                              <a:pt x="18" y="0"/>
                            </a:lnTo>
                            <a:lnTo>
                              <a:pt x="91" y="3"/>
                            </a:lnTo>
                            <a:lnTo>
                              <a:pt x="89" y="20"/>
                            </a:lnTo>
                            <a:lnTo>
                              <a:pt x="83" y="60"/>
                            </a:lnTo>
                            <a:lnTo>
                              <a:pt x="81" y="101"/>
                            </a:lnTo>
                            <a:lnTo>
                              <a:pt x="80" y="116"/>
                            </a:lnTo>
                            <a:lnTo>
                              <a:pt x="80" y="123"/>
                            </a:lnTo>
                            <a:lnTo>
                              <a:pt x="80" y="12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4" name=""/>
                      <p:cNvSpPr/>
                      <p:nvPr/>
                    </p:nvSpPr>
                    <p:spPr>
                      <a:xfrm>
                        <a:off x="7440480" y="5054400"/>
                        <a:ext cx="75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3" y="3"/>
                            </a:moveTo>
                            <a:lnTo>
                              <a:pt x="10" y="8"/>
                            </a:lnTo>
                            <a:lnTo>
                              <a:pt x="6" y="11"/>
                            </a:lnTo>
                            <a:lnTo>
                              <a:pt x="0" y="3"/>
                            </a:lnTo>
                            <a:lnTo>
                              <a:pt x="4" y="0"/>
                            </a:lnTo>
                            <a:lnTo>
                              <a:pt x="2" y="0"/>
                            </a:lnTo>
                            <a:lnTo>
                              <a:pt x="13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5" name=""/>
                      <p:cNvSpPr/>
                      <p:nvPr/>
                    </p:nvSpPr>
                    <p:spPr>
                      <a:xfrm>
                        <a:off x="7440480" y="5040720"/>
                        <a:ext cx="43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4">
                            <a:moveTo>
                              <a:pt x="0" y="32"/>
                            </a:moveTo>
                            <a:lnTo>
                              <a:pt x="10" y="34"/>
                            </a:lnTo>
                            <a:lnTo>
                              <a:pt x="11" y="3"/>
                            </a:lnTo>
                            <a:lnTo>
                              <a:pt x="2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6" name=""/>
                      <p:cNvSpPr/>
                      <p:nvPr/>
                    </p:nvSpPr>
                    <p:spPr>
                      <a:xfrm>
                        <a:off x="7438680" y="5056200"/>
                        <a:ext cx="612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9" y="8"/>
                            </a:moveTo>
                            <a:lnTo>
                              <a:pt x="0" y="16"/>
                            </a:lnTo>
                            <a:lnTo>
                              <a:pt x="1" y="3"/>
                            </a:lnTo>
                            <a:lnTo>
                              <a:pt x="11" y="5"/>
                            </a:lnTo>
                            <a:lnTo>
                              <a:pt x="3" y="0"/>
                            </a:lnTo>
                            <a:lnTo>
                              <a:pt x="9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7" name=""/>
                      <p:cNvSpPr/>
                      <p:nvPr/>
                    </p:nvSpPr>
                    <p:spPr>
                      <a:xfrm>
                        <a:off x="7429680" y="5038920"/>
                        <a:ext cx="1332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8" name=""/>
                      <p:cNvSpPr/>
                      <p:nvPr/>
                    </p:nvSpPr>
                    <p:spPr>
                      <a:xfrm>
                        <a:off x="7440480" y="50389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9" y="7"/>
                            </a:moveTo>
                            <a:lnTo>
                              <a:pt x="9" y="0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lnTo>
                              <a:pt x="0" y="4"/>
                            </a:lnTo>
                            <a:lnTo>
                              <a:pt x="9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9" name=""/>
                      <p:cNvSpPr/>
                      <p:nvPr/>
                    </p:nvSpPr>
                    <p:spPr>
                      <a:xfrm>
                        <a:off x="7415640" y="5038920"/>
                        <a:ext cx="1368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0" name=""/>
                      <p:cNvSpPr/>
                      <p:nvPr/>
                    </p:nvSpPr>
                    <p:spPr>
                      <a:xfrm>
                        <a:off x="7429680" y="503892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0" h="11">
                            <a:moveTo>
                              <a:pt x="0" y="0"/>
                            </a:move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1" name=""/>
                      <p:cNvSpPr/>
                      <p:nvPr/>
                    </p:nvSpPr>
                    <p:spPr>
                      <a:xfrm>
                        <a:off x="7401600" y="5012640"/>
                        <a:ext cx="15120" cy="2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58">
                            <a:moveTo>
                              <a:pt x="23" y="58"/>
                            </a:moveTo>
                            <a:lnTo>
                              <a:pt x="32" y="54"/>
                            </a:lnTo>
                            <a:lnTo>
                              <a:pt x="9" y="0"/>
                            </a:lnTo>
                            <a:lnTo>
                              <a:pt x="0" y="4"/>
                            </a:lnTo>
                            <a:lnTo>
                              <a:pt x="23" y="5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2" name=""/>
                      <p:cNvSpPr/>
                      <p:nvPr/>
                    </p:nvSpPr>
                    <p:spPr>
                      <a:xfrm>
                        <a:off x="7412400" y="50389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5" y="11"/>
                            </a:moveTo>
                            <a:lnTo>
                              <a:pt x="1" y="11"/>
                            </a:lnTo>
                            <a:lnTo>
                              <a:pt x="0" y="8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3" name=""/>
                      <p:cNvSpPr/>
                      <p:nvPr/>
                    </p:nvSpPr>
                    <p:spPr>
                      <a:xfrm>
                        <a:off x="7401600" y="4989600"/>
                        <a:ext cx="1260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50">
                            <a:moveTo>
                              <a:pt x="0" y="45"/>
                            </a:moveTo>
                            <a:lnTo>
                              <a:pt x="9" y="50"/>
                            </a:lnTo>
                            <a:lnTo>
                              <a:pt x="26" y="5"/>
                            </a:lnTo>
                            <a:lnTo>
                              <a:pt x="17" y="0"/>
                            </a:lnTo>
                            <a:lnTo>
                              <a:pt x="0" y="4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4" name=""/>
                      <p:cNvSpPr/>
                      <p:nvPr/>
                    </p:nvSpPr>
                    <p:spPr>
                      <a:xfrm>
                        <a:off x="7400160" y="501264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5">
                            <a:moveTo>
                              <a:pt x="1" y="5"/>
                            </a:moveTo>
                            <a:lnTo>
                              <a:pt x="0" y="2"/>
                            </a:lnTo>
                            <a:lnTo>
                              <a:pt x="1" y="0"/>
                            </a:lnTo>
                            <a:lnTo>
                              <a:pt x="10" y="5"/>
                            </a:lnTo>
                            <a:lnTo>
                              <a:pt x="10" y="1"/>
                            </a:lnTo>
                            <a:lnTo>
                              <a:pt x="1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5" name=""/>
                      <p:cNvSpPr/>
                      <p:nvPr/>
                    </p:nvSpPr>
                    <p:spPr>
                      <a:xfrm>
                        <a:off x="7412400" y="4988160"/>
                        <a:ext cx="370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3">
                            <a:moveTo>
                              <a:pt x="0" y="0"/>
                            </a:moveTo>
                            <a:lnTo>
                              <a:pt x="0" y="11"/>
                            </a:lnTo>
                            <a:lnTo>
                              <a:pt x="72" y="13"/>
                            </a:lnTo>
                            <a:lnTo>
                              <a:pt x="72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7409520" y="498816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3"/>
                            </a:moveTo>
                            <a:lnTo>
                              <a:pt x="2" y="0"/>
                            </a:lnTo>
                            <a:lnTo>
                              <a:pt x="6" y="0"/>
                            </a:lnTo>
                            <a:lnTo>
                              <a:pt x="6" y="11"/>
                            </a:lnTo>
                            <a:lnTo>
                              <a:pt x="9" y="8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7441920" y="4991400"/>
                        <a:ext cx="108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23">
                            <a:moveTo>
                              <a:pt x="21" y="0"/>
                            </a:moveTo>
                            <a:lnTo>
                              <a:pt x="15" y="57"/>
                            </a:lnTo>
                            <a:lnTo>
                              <a:pt x="11" y="98"/>
                            </a:lnTo>
                            <a:lnTo>
                              <a:pt x="11" y="123"/>
                            </a:lnTo>
                            <a:lnTo>
                              <a:pt x="0" y="123"/>
                            </a:lnTo>
                            <a:lnTo>
                              <a:pt x="0" y="98"/>
                            </a:lnTo>
                            <a:lnTo>
                              <a:pt x="4" y="57"/>
                            </a:lnTo>
                            <a:lnTo>
                              <a:pt x="11" y="0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7448400" y="49896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5" y="0"/>
                            </a:moveTo>
                            <a:lnTo>
                              <a:pt x="10" y="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>
                        <a:off x="7441920" y="505440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">
                            <a:moveTo>
                              <a:pt x="11" y="2"/>
                            </a:moveTo>
                            <a:lnTo>
                              <a:pt x="11" y="3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1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0" name=""/>
                      <p:cNvSpPr/>
                      <p:nvPr/>
                    </p:nvSpPr>
                    <p:spPr>
                      <a:xfrm>
                        <a:off x="7207200" y="5090040"/>
                        <a:ext cx="493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0">
                            <a:moveTo>
                              <a:pt x="81" y="4"/>
                            </a:moveTo>
                            <a:lnTo>
                              <a:pt x="96" y="0"/>
                            </a:lnTo>
                            <a:lnTo>
                              <a:pt x="83" y="67"/>
                            </a:lnTo>
                            <a:lnTo>
                              <a:pt x="59" y="69"/>
                            </a:lnTo>
                            <a:lnTo>
                              <a:pt x="33" y="70"/>
                            </a:lnTo>
                            <a:lnTo>
                              <a:pt x="19" y="70"/>
                            </a:lnTo>
                            <a:lnTo>
                              <a:pt x="10" y="70"/>
                            </a:lnTo>
                            <a:lnTo>
                              <a:pt x="2" y="69"/>
                            </a:lnTo>
                            <a:lnTo>
                              <a:pt x="1" y="67"/>
                            </a:lnTo>
                            <a:lnTo>
                              <a:pt x="0" y="67"/>
                            </a:lnTo>
                            <a:lnTo>
                              <a:pt x="10" y="66"/>
                            </a:lnTo>
                            <a:lnTo>
                              <a:pt x="9" y="40"/>
                            </a:lnTo>
                            <a:lnTo>
                              <a:pt x="18" y="42"/>
                            </a:lnTo>
                            <a:lnTo>
                              <a:pt x="27" y="42"/>
                            </a:lnTo>
                            <a:lnTo>
                              <a:pt x="33" y="42"/>
                            </a:lnTo>
                            <a:lnTo>
                              <a:pt x="38" y="42"/>
                            </a:lnTo>
                            <a:lnTo>
                              <a:pt x="42" y="41"/>
                            </a:lnTo>
                            <a:lnTo>
                              <a:pt x="47" y="37"/>
                            </a:lnTo>
                            <a:lnTo>
                              <a:pt x="59" y="28"/>
                            </a:lnTo>
                            <a:lnTo>
                              <a:pt x="71" y="16"/>
                            </a:lnTo>
                            <a:lnTo>
                              <a:pt x="8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>
                        <a:off x="7247160" y="5087160"/>
                        <a:ext cx="936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4">
                            <a:moveTo>
                              <a:pt x="0" y="4"/>
                            </a:moveTo>
                            <a:lnTo>
                              <a:pt x="3" y="14"/>
                            </a:lnTo>
                            <a:lnTo>
                              <a:pt x="17" y="10"/>
                            </a:lnTo>
                            <a:lnTo>
                              <a:pt x="15" y="0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2" name=""/>
                      <p:cNvSpPr/>
                      <p:nvPr/>
                    </p:nvSpPr>
                    <p:spPr>
                      <a:xfrm>
                        <a:off x="7245720" y="5088600"/>
                        <a:ext cx="122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68">
                            <a:moveTo>
                              <a:pt x="24" y="1"/>
                            </a:moveTo>
                            <a:lnTo>
                              <a:pt x="14" y="0"/>
                            </a:lnTo>
                            <a:lnTo>
                              <a:pt x="0" y="67"/>
                            </a:lnTo>
                            <a:lnTo>
                              <a:pt x="11" y="68"/>
                            </a:lnTo>
                            <a:lnTo>
                              <a:pt x="24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7253280" y="508572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3">
                            <a:moveTo>
                              <a:pt x="4" y="3"/>
                            </a:moveTo>
                            <a:lnTo>
                              <a:pt x="11" y="0"/>
                            </a:lnTo>
                            <a:lnTo>
                              <a:pt x="10" y="8"/>
                            </a:lnTo>
                            <a:lnTo>
                              <a:pt x="0" y="7"/>
                            </a:lnTo>
                            <a:lnTo>
                              <a:pt x="6" y="13"/>
                            </a:lnTo>
                            <a:lnTo>
                              <a:pt x="4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>
                        <a:off x="7205400" y="5122440"/>
                        <a:ext cx="4320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2">
                            <a:moveTo>
                              <a:pt x="86" y="9"/>
                            </a:moveTo>
                            <a:lnTo>
                              <a:pt x="36" y="12"/>
                            </a:lnTo>
                            <a:lnTo>
                              <a:pt x="11" y="12"/>
                            </a:lnTo>
                            <a:lnTo>
                              <a:pt x="0" y="9"/>
                            </a:lnTo>
                            <a:lnTo>
                              <a:pt x="4" y="0"/>
                            </a:lnTo>
                            <a:lnTo>
                              <a:pt x="13" y="3"/>
                            </a:lnTo>
                            <a:lnTo>
                              <a:pt x="36" y="3"/>
                            </a:lnTo>
                            <a:lnTo>
                              <a:pt x="86" y="0"/>
                            </a:lnTo>
                            <a:lnTo>
                              <a:pt x="8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>
                        <a:off x="7245720" y="512244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6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6" name=""/>
                      <p:cNvSpPr/>
                      <p:nvPr/>
                    </p:nvSpPr>
                    <p:spPr>
                      <a:xfrm>
                        <a:off x="7207200" y="51210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1"/>
                            </a:moveTo>
                            <a:lnTo>
                              <a:pt x="0" y="11"/>
                            </a:lnTo>
                            <a:lnTo>
                              <a:pt x="10" y="10"/>
                            </a:lnTo>
                            <a:lnTo>
                              <a:pt x="10" y="0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7" name=""/>
                      <p:cNvSpPr/>
                      <p:nvPr/>
                    </p:nvSpPr>
                    <p:spPr>
                      <a:xfrm>
                        <a:off x="7205400" y="5121000"/>
                        <a:ext cx="14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0">
                            <a:moveTo>
                              <a:pt x="0" y="10"/>
                            </a:moveTo>
                            <a:lnTo>
                              <a:pt x="3" y="0"/>
                            </a:lnTo>
                            <a:lnTo>
                              <a:pt x="3" y="10"/>
                            </a:lnTo>
                            <a:lnTo>
                              <a:pt x="4" y="1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8" name=""/>
                      <p:cNvSpPr/>
                      <p:nvPr/>
                    </p:nvSpPr>
                    <p:spPr>
                      <a:xfrm>
                        <a:off x="7207200" y="5110200"/>
                        <a:ext cx="576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26">
                            <a:moveTo>
                              <a:pt x="3" y="26"/>
                            </a:moveTo>
                            <a:lnTo>
                              <a:pt x="12" y="26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3" y="2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9" name=""/>
                      <p:cNvSpPr/>
                      <p:nvPr/>
                    </p:nvSpPr>
                    <p:spPr>
                      <a:xfrm>
                        <a:off x="7208640" y="51210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5" y="10"/>
                            </a:moveTo>
                            <a:lnTo>
                              <a:pt x="9" y="10"/>
                            </a:lnTo>
                            <a:lnTo>
                              <a:pt x="9" y="5"/>
                            </a:lnTo>
                            <a:lnTo>
                              <a:pt x="0" y="5"/>
                            </a:lnTo>
                            <a:lnTo>
                              <a:pt x="5" y="0"/>
                            </a:lnTo>
                            <a:lnTo>
                              <a:pt x="5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0" name=""/>
                      <p:cNvSpPr/>
                      <p:nvPr/>
                    </p:nvSpPr>
                    <p:spPr>
                      <a:xfrm>
                        <a:off x="7210440" y="5106960"/>
                        <a:ext cx="15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3">
                            <a:moveTo>
                              <a:pt x="2" y="0"/>
                            </a:moveTo>
                            <a:lnTo>
                              <a:pt x="12" y="2"/>
                            </a:lnTo>
                            <a:lnTo>
                              <a:pt x="32" y="3"/>
                            </a:lnTo>
                            <a:lnTo>
                              <a:pt x="31" y="13"/>
                            </a:lnTo>
                            <a:lnTo>
                              <a:pt x="11" y="12"/>
                            </a:lnTo>
                            <a:lnTo>
                              <a:pt x="0" y="11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1" name=""/>
                      <p:cNvSpPr/>
                      <p:nvPr/>
                    </p:nvSpPr>
                    <p:spPr>
                      <a:xfrm>
                        <a:off x="7207200" y="510696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7"/>
                            </a:moveTo>
                            <a:lnTo>
                              <a:pt x="0" y="0"/>
                            </a:lnTo>
                            <a:lnTo>
                              <a:pt x="6" y="1"/>
                            </a:lnTo>
                            <a:lnTo>
                              <a:pt x="4" y="12"/>
                            </a:lnTo>
                            <a:lnTo>
                              <a:pt x="9" y="7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2" name=""/>
                      <p:cNvSpPr/>
                      <p:nvPr/>
                    </p:nvSpPr>
                    <p:spPr>
                      <a:xfrm>
                        <a:off x="7224120" y="5090040"/>
                        <a:ext cx="262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47">
                            <a:moveTo>
                              <a:pt x="0" y="38"/>
                            </a:moveTo>
                            <a:lnTo>
                              <a:pt x="9" y="33"/>
                            </a:lnTo>
                            <a:lnTo>
                              <a:pt x="19" y="24"/>
                            </a:lnTo>
                            <a:lnTo>
                              <a:pt x="42" y="0"/>
                            </a:lnTo>
                            <a:lnTo>
                              <a:pt x="49" y="8"/>
                            </a:lnTo>
                            <a:lnTo>
                              <a:pt x="25" y="32"/>
                            </a:lnTo>
                            <a:lnTo>
                              <a:pt x="15" y="42"/>
                            </a:lnTo>
                            <a:lnTo>
                              <a:pt x="5" y="47"/>
                            </a:lnTo>
                            <a:lnTo>
                              <a:pt x="0" y="3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3" name=""/>
                      <p:cNvSpPr/>
                      <p:nvPr/>
                    </p:nvSpPr>
                    <p:spPr>
                      <a:xfrm>
                        <a:off x="7224120" y="510876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0">
                            <a:moveTo>
                              <a:pt x="2" y="10"/>
                            </a:moveTo>
                            <a:lnTo>
                              <a:pt x="5" y="10"/>
                            </a:lnTo>
                            <a:lnTo>
                              <a:pt x="0" y="1"/>
                            </a:lnTo>
                            <a:lnTo>
                              <a:pt x="3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4" name=""/>
                      <p:cNvSpPr/>
                      <p:nvPr/>
                    </p:nvSpPr>
                    <p:spPr>
                      <a:xfrm>
                        <a:off x="7245720" y="50886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"/>
                            </a:move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6" y="10"/>
                            </a:lnTo>
                            <a:lnTo>
                              <a:pt x="7" y="9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5" name=""/>
                      <p:cNvSpPr/>
                      <p:nvPr/>
                    </p:nvSpPr>
                    <p:spPr>
                      <a:xfrm>
                        <a:off x="7301520" y="5085720"/>
                        <a:ext cx="5688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45">
                            <a:moveTo>
                              <a:pt x="0" y="0"/>
                            </a:moveTo>
                            <a:lnTo>
                              <a:pt x="7" y="33"/>
                            </a:lnTo>
                            <a:lnTo>
                              <a:pt x="70" y="37"/>
                            </a:lnTo>
                            <a:lnTo>
                              <a:pt x="81" y="40"/>
                            </a:lnTo>
                            <a:lnTo>
                              <a:pt x="112" y="64"/>
                            </a:lnTo>
                            <a:lnTo>
                              <a:pt x="110" y="90"/>
                            </a:lnTo>
                            <a:lnTo>
                              <a:pt x="110" y="108"/>
                            </a:lnTo>
                            <a:lnTo>
                              <a:pt x="108" y="110"/>
                            </a:lnTo>
                            <a:lnTo>
                              <a:pt x="107" y="111"/>
                            </a:lnTo>
                            <a:lnTo>
                              <a:pt x="104" y="112"/>
                            </a:lnTo>
                            <a:lnTo>
                              <a:pt x="100" y="114"/>
                            </a:lnTo>
                            <a:lnTo>
                              <a:pt x="91" y="115"/>
                            </a:lnTo>
                            <a:lnTo>
                              <a:pt x="79" y="116"/>
                            </a:lnTo>
                            <a:lnTo>
                              <a:pt x="60" y="118"/>
                            </a:lnTo>
                            <a:lnTo>
                              <a:pt x="50" y="118"/>
                            </a:lnTo>
                            <a:lnTo>
                              <a:pt x="45" y="145"/>
                            </a:lnTo>
                            <a:lnTo>
                              <a:pt x="9" y="143"/>
                            </a:lnTo>
                            <a:lnTo>
                              <a:pt x="6" y="7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6" name=""/>
                      <p:cNvSpPr/>
                      <p:nvPr/>
                    </p:nvSpPr>
                    <p:spPr>
                      <a:xfrm>
                        <a:off x="7298280" y="5085720"/>
                        <a:ext cx="900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6">
                            <a:moveTo>
                              <a:pt x="11" y="0"/>
                            </a:moveTo>
                            <a:lnTo>
                              <a:pt x="0" y="3"/>
                            </a:lnTo>
                            <a:lnTo>
                              <a:pt x="7" y="36"/>
                            </a:lnTo>
                            <a:lnTo>
                              <a:pt x="17" y="33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7" name=""/>
                      <p:cNvSpPr/>
                      <p:nvPr/>
                    </p:nvSpPr>
                    <p:spPr>
                      <a:xfrm>
                        <a:off x="7304400" y="5101200"/>
                        <a:ext cx="324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5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62" y="15"/>
                            </a:lnTo>
                            <a:lnTo>
                              <a:pt x="63" y="4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8" name=""/>
                      <p:cNvSpPr/>
                      <p:nvPr/>
                    </p:nvSpPr>
                    <p:spPr>
                      <a:xfrm>
                        <a:off x="7302960" y="51012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7"/>
                            </a:moveTo>
                            <a:lnTo>
                              <a:pt x="1" y="11"/>
                            </a:lnTo>
                            <a:lnTo>
                              <a:pt x="4" y="11"/>
                            </a:lnTo>
                            <a:lnTo>
                              <a:pt x="5" y="0"/>
                            </a:lnTo>
                            <a:lnTo>
                              <a:pt x="10" y="4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9" name=""/>
                      <p:cNvSpPr/>
                      <p:nvPr/>
                    </p:nvSpPr>
                    <p:spPr>
                      <a:xfrm>
                        <a:off x="7336800" y="510264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3">
                            <a:moveTo>
                              <a:pt x="2" y="0"/>
                            </a:moveTo>
                            <a:lnTo>
                              <a:pt x="0" y="11"/>
                            </a:lnTo>
                            <a:lnTo>
                              <a:pt x="10" y="13"/>
                            </a:lnTo>
                            <a:lnTo>
                              <a:pt x="13" y="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0" name=""/>
                      <p:cNvSpPr/>
                      <p:nvPr/>
                    </p:nvSpPr>
                    <p:spPr>
                      <a:xfrm>
                        <a:off x="7336800" y="5102640"/>
                        <a:ext cx="14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1" y="0"/>
                            </a:moveTo>
                            <a:lnTo>
                              <a:pt x="2" y="0"/>
                            </a:lnTo>
                            <a:lnTo>
                              <a:pt x="0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1" name=""/>
                      <p:cNvSpPr/>
                      <p:nvPr/>
                    </p:nvSpPr>
                    <p:spPr>
                      <a:xfrm>
                        <a:off x="7340040" y="5103720"/>
                        <a:ext cx="1980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32">
                            <a:moveTo>
                              <a:pt x="7" y="0"/>
                            </a:moveTo>
                            <a:lnTo>
                              <a:pt x="0" y="8"/>
                            </a:lnTo>
                            <a:lnTo>
                              <a:pt x="33" y="32"/>
                            </a:lnTo>
                            <a:lnTo>
                              <a:pt x="40" y="24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2" name=""/>
                      <p:cNvSpPr/>
                      <p:nvPr/>
                    </p:nvSpPr>
                    <p:spPr>
                      <a:xfrm>
                        <a:off x="7340040" y="5103720"/>
                        <a:ext cx="28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6" y="0"/>
                            </a:moveTo>
                            <a:lnTo>
                              <a:pt x="7" y="1"/>
                            </a:lnTo>
                            <a:lnTo>
                              <a:pt x="0" y="9"/>
                            </a:lnTo>
                            <a:lnTo>
                              <a:pt x="3" y="10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3" name=""/>
                      <p:cNvSpPr/>
                      <p:nvPr/>
                    </p:nvSpPr>
                    <p:spPr>
                      <a:xfrm>
                        <a:off x="7355520" y="5119560"/>
                        <a:ext cx="61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44">
                            <a:moveTo>
                              <a:pt x="14" y="0"/>
                            </a:moveTo>
                            <a:lnTo>
                              <a:pt x="11" y="44"/>
                            </a:lnTo>
                            <a:lnTo>
                              <a:pt x="0" y="44"/>
                            </a:lnTo>
                            <a:lnTo>
                              <a:pt x="3" y="0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4" name=""/>
                      <p:cNvSpPr/>
                      <p:nvPr/>
                    </p:nvSpPr>
                    <p:spPr>
                      <a:xfrm>
                        <a:off x="7356960" y="511632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8">
                            <a:moveTo>
                              <a:pt x="8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0" y="4"/>
                            </a:lnTo>
                            <a:lnTo>
                              <a:pt x="1" y="8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5" name=""/>
                      <p:cNvSpPr/>
                      <p:nvPr/>
                    </p:nvSpPr>
                    <p:spPr>
                      <a:xfrm>
                        <a:off x="7327800" y="5141160"/>
                        <a:ext cx="32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7">
                            <a:moveTo>
                              <a:pt x="64" y="6"/>
                            </a:moveTo>
                            <a:lnTo>
                              <a:pt x="60" y="9"/>
                            </a:lnTo>
                            <a:lnTo>
                              <a:pt x="52" y="13"/>
                            </a:lnTo>
                            <a:lnTo>
                              <a:pt x="31" y="16"/>
                            </a:lnTo>
                            <a:lnTo>
                              <a:pt x="0" y="17"/>
                            </a:lnTo>
                            <a:lnTo>
                              <a:pt x="0" y="8"/>
                            </a:lnTo>
                            <a:lnTo>
                              <a:pt x="28" y="6"/>
                            </a:lnTo>
                            <a:lnTo>
                              <a:pt x="48" y="4"/>
                            </a:lnTo>
                            <a:lnTo>
                              <a:pt x="53" y="1"/>
                            </a:lnTo>
                            <a:lnTo>
                              <a:pt x="56" y="0"/>
                            </a:lnTo>
                            <a:lnTo>
                              <a:pt x="64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6" name=""/>
                      <p:cNvSpPr/>
                      <p:nvPr/>
                    </p:nvSpPr>
                    <p:spPr>
                      <a:xfrm>
                        <a:off x="7355520" y="5141160"/>
                        <a:ext cx="43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6">
                            <a:moveTo>
                              <a:pt x="11" y="2"/>
                            </a:moveTo>
                            <a:lnTo>
                              <a:pt x="11" y="5"/>
                            </a:lnTo>
                            <a:lnTo>
                              <a:pt x="10" y="6"/>
                            </a:lnTo>
                            <a:lnTo>
                              <a:pt x="2" y="0"/>
                            </a:lnTo>
                            <a:lnTo>
                              <a:pt x="0" y="2"/>
                            </a:lnTo>
                            <a:lnTo>
                              <a:pt x="11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7" name=""/>
                      <p:cNvSpPr/>
                      <p:nvPr/>
                    </p:nvSpPr>
                    <p:spPr>
                      <a:xfrm>
                        <a:off x="7321320" y="5145480"/>
                        <a:ext cx="90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9">
                            <a:moveTo>
                              <a:pt x="16" y="2"/>
                            </a:moveTo>
                            <a:lnTo>
                              <a:pt x="5" y="0"/>
                            </a:lnTo>
                            <a:lnTo>
                              <a:pt x="0" y="28"/>
                            </a:lnTo>
                            <a:lnTo>
                              <a:pt x="10" y="29"/>
                            </a:lnTo>
                            <a:lnTo>
                              <a:pt x="16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8" name=""/>
                      <p:cNvSpPr/>
                      <p:nvPr/>
                    </p:nvSpPr>
                    <p:spPr>
                      <a:xfrm>
                        <a:off x="7324560" y="51440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1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9" name=""/>
                      <p:cNvSpPr/>
                      <p:nvPr/>
                    </p:nvSpPr>
                    <p:spPr>
                      <a:xfrm>
                        <a:off x="7305840" y="5158080"/>
                        <a:ext cx="183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2">
                            <a:moveTo>
                              <a:pt x="36" y="12"/>
                            </a:moveTo>
                            <a:lnTo>
                              <a:pt x="36" y="2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36" y="1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0" name=""/>
                      <p:cNvSpPr/>
                      <p:nvPr/>
                    </p:nvSpPr>
                    <p:spPr>
                      <a:xfrm>
                        <a:off x="7321320" y="515808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4"/>
                            </a:moveTo>
                            <a:lnTo>
                              <a:pt x="9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1" name=""/>
                      <p:cNvSpPr/>
                      <p:nvPr/>
                    </p:nvSpPr>
                    <p:spPr>
                      <a:xfrm>
                        <a:off x="7301520" y="5124240"/>
                        <a:ext cx="576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69">
                            <a:moveTo>
                              <a:pt x="4" y="69"/>
                            </a:moveTo>
                            <a:lnTo>
                              <a:pt x="13" y="69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4" y="6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2" name=""/>
                      <p:cNvSpPr/>
                      <p:nvPr/>
                    </p:nvSpPr>
                    <p:spPr>
                      <a:xfrm>
                        <a:off x="7302960" y="51580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5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3" name=""/>
                      <p:cNvSpPr/>
                      <p:nvPr/>
                    </p:nvSpPr>
                    <p:spPr>
                      <a:xfrm>
                        <a:off x="7298280" y="5085720"/>
                        <a:ext cx="7560" cy="3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74">
                            <a:moveTo>
                              <a:pt x="5" y="74"/>
                            </a:moveTo>
                            <a:lnTo>
                              <a:pt x="14" y="74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5" y="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4" name=""/>
                      <p:cNvSpPr/>
                      <p:nvPr/>
                    </p:nvSpPr>
                    <p:spPr>
                      <a:xfrm>
                        <a:off x="7301520" y="512424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0">
                            <a:moveTo>
                              <a:pt x="9" y="0"/>
                            </a:moveTo>
                            <a:lnTo>
                              <a:pt x="0" y="0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5" name=""/>
                      <p:cNvSpPr/>
                      <p:nvPr/>
                    </p:nvSpPr>
                    <p:spPr>
                      <a:xfrm>
                        <a:off x="7298280" y="5085720"/>
                        <a:ext cx="576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">
                            <a:moveTo>
                              <a:pt x="0" y="1"/>
                            </a:moveTo>
                            <a:lnTo>
                              <a:pt x="11" y="0"/>
                            </a:lnTo>
                            <a:lnTo>
                              <a:pt x="0" y="3"/>
                            </a:lnTo>
                            <a:lnTo>
                              <a:pt x="9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6" name=""/>
                      <p:cNvSpPr/>
                      <p:nvPr/>
                    </p:nvSpPr>
                    <p:spPr>
                      <a:xfrm>
                        <a:off x="5214960" y="4790160"/>
                        <a:ext cx="280800" cy="23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7" h="449">
                            <a:moveTo>
                              <a:pt x="3" y="400"/>
                            </a:moveTo>
                            <a:lnTo>
                              <a:pt x="3" y="374"/>
                            </a:lnTo>
                            <a:lnTo>
                              <a:pt x="3" y="339"/>
                            </a:lnTo>
                            <a:lnTo>
                              <a:pt x="22" y="341"/>
                            </a:lnTo>
                            <a:lnTo>
                              <a:pt x="36" y="342"/>
                            </a:lnTo>
                            <a:lnTo>
                              <a:pt x="53" y="342"/>
                            </a:lnTo>
                            <a:lnTo>
                              <a:pt x="58" y="341"/>
                            </a:lnTo>
                            <a:lnTo>
                              <a:pt x="63" y="339"/>
                            </a:lnTo>
                            <a:lnTo>
                              <a:pt x="71" y="337"/>
                            </a:lnTo>
                            <a:lnTo>
                              <a:pt x="78" y="331"/>
                            </a:lnTo>
                            <a:lnTo>
                              <a:pt x="82" y="325"/>
                            </a:lnTo>
                            <a:lnTo>
                              <a:pt x="84" y="320"/>
                            </a:lnTo>
                            <a:lnTo>
                              <a:pt x="86" y="313"/>
                            </a:lnTo>
                            <a:lnTo>
                              <a:pt x="87" y="304"/>
                            </a:lnTo>
                            <a:lnTo>
                              <a:pt x="88" y="296"/>
                            </a:lnTo>
                            <a:lnTo>
                              <a:pt x="91" y="281"/>
                            </a:lnTo>
                            <a:lnTo>
                              <a:pt x="101" y="231"/>
                            </a:lnTo>
                            <a:lnTo>
                              <a:pt x="103" y="223"/>
                            </a:lnTo>
                            <a:lnTo>
                              <a:pt x="105" y="217"/>
                            </a:lnTo>
                            <a:lnTo>
                              <a:pt x="111" y="205"/>
                            </a:lnTo>
                            <a:lnTo>
                              <a:pt x="116" y="194"/>
                            </a:lnTo>
                            <a:lnTo>
                              <a:pt x="123" y="186"/>
                            </a:lnTo>
                            <a:lnTo>
                              <a:pt x="128" y="181"/>
                            </a:lnTo>
                            <a:lnTo>
                              <a:pt x="132" y="177"/>
                            </a:lnTo>
                            <a:lnTo>
                              <a:pt x="137" y="174"/>
                            </a:lnTo>
                            <a:lnTo>
                              <a:pt x="195" y="165"/>
                            </a:lnTo>
                            <a:lnTo>
                              <a:pt x="215" y="134"/>
                            </a:lnTo>
                            <a:lnTo>
                              <a:pt x="262" y="110"/>
                            </a:lnTo>
                            <a:lnTo>
                              <a:pt x="264" y="141"/>
                            </a:lnTo>
                            <a:lnTo>
                              <a:pt x="320" y="130"/>
                            </a:lnTo>
                            <a:lnTo>
                              <a:pt x="384" y="97"/>
                            </a:lnTo>
                            <a:lnTo>
                              <a:pt x="370" y="2"/>
                            </a:lnTo>
                            <a:lnTo>
                              <a:pt x="372" y="0"/>
                            </a:lnTo>
                            <a:lnTo>
                              <a:pt x="547" y="0"/>
                            </a:lnTo>
                            <a:lnTo>
                              <a:pt x="529" y="91"/>
                            </a:lnTo>
                            <a:lnTo>
                              <a:pt x="427" y="82"/>
                            </a:lnTo>
                            <a:lnTo>
                              <a:pt x="427" y="114"/>
                            </a:lnTo>
                            <a:lnTo>
                              <a:pt x="398" y="149"/>
                            </a:lnTo>
                            <a:lnTo>
                              <a:pt x="294" y="192"/>
                            </a:lnTo>
                            <a:lnTo>
                              <a:pt x="278" y="194"/>
                            </a:lnTo>
                            <a:lnTo>
                              <a:pt x="261" y="197"/>
                            </a:lnTo>
                            <a:lnTo>
                              <a:pt x="240" y="202"/>
                            </a:lnTo>
                            <a:lnTo>
                              <a:pt x="228" y="205"/>
                            </a:lnTo>
                            <a:lnTo>
                              <a:pt x="216" y="207"/>
                            </a:lnTo>
                            <a:lnTo>
                              <a:pt x="192" y="214"/>
                            </a:lnTo>
                            <a:lnTo>
                              <a:pt x="182" y="218"/>
                            </a:lnTo>
                            <a:lnTo>
                              <a:pt x="173" y="222"/>
                            </a:lnTo>
                            <a:lnTo>
                              <a:pt x="163" y="226"/>
                            </a:lnTo>
                            <a:lnTo>
                              <a:pt x="154" y="231"/>
                            </a:lnTo>
                            <a:lnTo>
                              <a:pt x="148" y="236"/>
                            </a:lnTo>
                            <a:lnTo>
                              <a:pt x="145" y="240"/>
                            </a:lnTo>
                            <a:lnTo>
                              <a:pt x="141" y="246"/>
                            </a:lnTo>
                            <a:lnTo>
                              <a:pt x="136" y="255"/>
                            </a:lnTo>
                            <a:lnTo>
                              <a:pt x="132" y="267"/>
                            </a:lnTo>
                            <a:lnTo>
                              <a:pt x="127" y="280"/>
                            </a:lnTo>
                            <a:lnTo>
                              <a:pt x="124" y="293"/>
                            </a:lnTo>
                            <a:lnTo>
                              <a:pt x="120" y="306"/>
                            </a:lnTo>
                            <a:lnTo>
                              <a:pt x="117" y="321"/>
                            </a:lnTo>
                            <a:lnTo>
                              <a:pt x="113" y="346"/>
                            </a:lnTo>
                            <a:lnTo>
                              <a:pt x="112" y="358"/>
                            </a:lnTo>
                            <a:lnTo>
                              <a:pt x="111" y="368"/>
                            </a:lnTo>
                            <a:lnTo>
                              <a:pt x="109" y="389"/>
                            </a:lnTo>
                            <a:lnTo>
                              <a:pt x="67" y="393"/>
                            </a:lnTo>
                            <a:lnTo>
                              <a:pt x="67" y="438"/>
                            </a:lnTo>
                            <a:lnTo>
                              <a:pt x="39" y="443"/>
                            </a:lnTo>
                            <a:lnTo>
                              <a:pt x="20" y="447"/>
                            </a:lnTo>
                            <a:lnTo>
                              <a:pt x="5" y="449"/>
                            </a:lnTo>
                            <a:lnTo>
                              <a:pt x="4" y="447"/>
                            </a:lnTo>
                            <a:lnTo>
                              <a:pt x="3" y="446"/>
                            </a:lnTo>
                            <a:lnTo>
                              <a:pt x="1" y="441"/>
                            </a:lnTo>
                            <a:lnTo>
                              <a:pt x="0" y="433"/>
                            </a:lnTo>
                            <a:lnTo>
                              <a:pt x="0" y="424"/>
                            </a:lnTo>
                            <a:lnTo>
                              <a:pt x="1" y="408"/>
                            </a:lnTo>
                            <a:lnTo>
                              <a:pt x="3" y="4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7" name=""/>
                      <p:cNvSpPr/>
                      <p:nvPr/>
                    </p:nvSpPr>
                    <p:spPr>
                      <a:xfrm>
                        <a:off x="5213160" y="4981680"/>
                        <a:ext cx="4320" cy="1368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8" name=""/>
                      <p:cNvSpPr/>
                      <p:nvPr/>
                    </p:nvSpPr>
                    <p:spPr>
                      <a:xfrm>
                        <a:off x="5213160" y="4965120"/>
                        <a:ext cx="4320" cy="1656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9" name=""/>
                      <p:cNvSpPr/>
                      <p:nvPr/>
                    </p:nvSpPr>
                    <p:spPr>
                      <a:xfrm>
                        <a:off x="5213160" y="498168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0">
                            <a:moveTo>
                              <a:pt x="0" y="0"/>
                            </a:moveTo>
                            <a:lnTo>
                              <a:pt x="1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0" name=""/>
                      <p:cNvSpPr/>
                      <p:nvPr/>
                    </p:nvSpPr>
                    <p:spPr>
                      <a:xfrm>
                        <a:off x="5214960" y="4961880"/>
                        <a:ext cx="262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13">
                            <a:moveTo>
                              <a:pt x="2" y="0"/>
                            </a:moveTo>
                            <a:lnTo>
                              <a:pt x="21" y="1"/>
                            </a:lnTo>
                            <a:lnTo>
                              <a:pt x="52" y="3"/>
                            </a:lnTo>
                            <a:lnTo>
                              <a:pt x="52" y="13"/>
                            </a:lnTo>
                            <a:lnTo>
                              <a:pt x="21" y="12"/>
                            </a:lnTo>
                            <a:lnTo>
                              <a:pt x="0" y="11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1" name=""/>
                      <p:cNvSpPr/>
                      <p:nvPr/>
                    </p:nvSpPr>
                    <p:spPr>
                      <a:xfrm>
                        <a:off x="5213160" y="496188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4" y="11"/>
                            </a:lnTo>
                            <a:lnTo>
                              <a:pt x="11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2" name=""/>
                      <p:cNvSpPr/>
                      <p:nvPr/>
                    </p:nvSpPr>
                    <p:spPr>
                      <a:xfrm>
                        <a:off x="5241240" y="4944600"/>
                        <a:ext cx="198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5">
                            <a:moveTo>
                              <a:pt x="0" y="35"/>
                            </a:moveTo>
                            <a:lnTo>
                              <a:pt x="9" y="32"/>
                            </a:lnTo>
                            <a:lnTo>
                              <a:pt x="15" y="29"/>
                            </a:lnTo>
                            <a:lnTo>
                              <a:pt x="19" y="25"/>
                            </a:lnTo>
                            <a:lnTo>
                              <a:pt x="23" y="20"/>
                            </a:lnTo>
                            <a:lnTo>
                              <a:pt x="27" y="10"/>
                            </a:lnTo>
                            <a:lnTo>
                              <a:pt x="29" y="0"/>
                            </a:lnTo>
                            <a:lnTo>
                              <a:pt x="38" y="3"/>
                            </a:lnTo>
                            <a:lnTo>
                              <a:pt x="37" y="14"/>
                            </a:lnTo>
                            <a:lnTo>
                              <a:pt x="33" y="25"/>
                            </a:lnTo>
                            <a:lnTo>
                              <a:pt x="26" y="33"/>
                            </a:lnTo>
                            <a:lnTo>
                              <a:pt x="21" y="39"/>
                            </a:lnTo>
                            <a:lnTo>
                              <a:pt x="12" y="43"/>
                            </a:lnTo>
                            <a:lnTo>
                              <a:pt x="1" y="45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3" name=""/>
                      <p:cNvSpPr/>
                      <p:nvPr/>
                    </p:nvSpPr>
                    <p:spPr>
                      <a:xfrm>
                        <a:off x="5241240" y="496332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10">
                            <a:moveTo>
                              <a:pt x="0" y="10"/>
                            </a:moveTo>
                            <a:lnTo>
                              <a:pt x="1" y="10"/>
                            </a:lnTo>
                            <a:lnTo>
                              <a:pt x="0" y="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4" name=""/>
                      <p:cNvSpPr/>
                      <p:nvPr/>
                    </p:nvSpPr>
                    <p:spPr>
                      <a:xfrm>
                        <a:off x="5256720" y="4907520"/>
                        <a:ext cx="122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75">
                            <a:moveTo>
                              <a:pt x="0" y="72"/>
                            </a:moveTo>
                            <a:lnTo>
                              <a:pt x="2" y="50"/>
                            </a:lnTo>
                            <a:lnTo>
                              <a:pt x="14" y="0"/>
                            </a:lnTo>
                            <a:lnTo>
                              <a:pt x="23" y="4"/>
                            </a:lnTo>
                            <a:lnTo>
                              <a:pt x="12" y="54"/>
                            </a:lnTo>
                            <a:lnTo>
                              <a:pt x="9" y="75"/>
                            </a:lnTo>
                            <a:lnTo>
                              <a:pt x="0" y="7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5" name=""/>
                      <p:cNvSpPr/>
                      <p:nvPr/>
                    </p:nvSpPr>
                    <p:spPr>
                      <a:xfrm>
                        <a:off x="5256720" y="4944600"/>
                        <a:ext cx="43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9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6" name=""/>
                      <p:cNvSpPr/>
                      <p:nvPr/>
                    </p:nvSpPr>
                    <p:spPr>
                      <a:xfrm>
                        <a:off x="5264640" y="4878360"/>
                        <a:ext cx="2124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3">
                            <a:moveTo>
                              <a:pt x="0" y="58"/>
                            </a:moveTo>
                            <a:lnTo>
                              <a:pt x="9" y="30"/>
                            </a:lnTo>
                            <a:lnTo>
                              <a:pt x="23" y="13"/>
                            </a:lnTo>
                            <a:lnTo>
                              <a:pt x="32" y="2"/>
                            </a:lnTo>
                            <a:lnTo>
                              <a:pt x="38" y="0"/>
                            </a:lnTo>
                            <a:lnTo>
                              <a:pt x="44" y="9"/>
                            </a:lnTo>
                            <a:lnTo>
                              <a:pt x="38" y="10"/>
                            </a:lnTo>
                            <a:lnTo>
                              <a:pt x="31" y="19"/>
                            </a:lnTo>
                            <a:lnTo>
                              <a:pt x="19" y="35"/>
                            </a:lnTo>
                            <a:lnTo>
                              <a:pt x="9" y="63"/>
                            </a:lnTo>
                            <a:lnTo>
                              <a:pt x="0" y="5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7" name=""/>
                      <p:cNvSpPr/>
                      <p:nvPr/>
                    </p:nvSpPr>
                    <p:spPr>
                      <a:xfrm>
                        <a:off x="5264640" y="4907520"/>
                        <a:ext cx="43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1"/>
                            </a:moveTo>
                            <a:lnTo>
                              <a:pt x="0" y="0"/>
                            </a:lnTo>
                            <a:lnTo>
                              <a:pt x="9" y="5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8" name=""/>
                      <p:cNvSpPr/>
                      <p:nvPr/>
                    </p:nvSpPr>
                    <p:spPr>
                      <a:xfrm>
                        <a:off x="5284440" y="4871880"/>
                        <a:ext cx="30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20">
                            <a:moveTo>
                              <a:pt x="0" y="9"/>
                            </a:moveTo>
                            <a:lnTo>
                              <a:pt x="1" y="20"/>
                            </a:lnTo>
                            <a:lnTo>
                              <a:pt x="59" y="11"/>
                            </a:lnTo>
                            <a:lnTo>
                              <a:pt x="58" y="0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9" name=""/>
                      <p:cNvSpPr/>
                      <p:nvPr/>
                    </p:nvSpPr>
                    <p:spPr>
                      <a:xfrm>
                        <a:off x="5283000" y="487656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2"/>
                            </a:move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4" y="11"/>
                            </a:lnTo>
                            <a:lnTo>
                              <a:pt x="6" y="11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0" name=""/>
                      <p:cNvSpPr/>
                      <p:nvPr/>
                    </p:nvSpPr>
                    <p:spPr>
                      <a:xfrm>
                        <a:off x="5312160" y="4856760"/>
                        <a:ext cx="1512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8">
                            <a:moveTo>
                              <a:pt x="0" y="32"/>
                            </a:moveTo>
                            <a:lnTo>
                              <a:pt x="8" y="38"/>
                            </a:lnTo>
                            <a:lnTo>
                              <a:pt x="28" y="7"/>
                            </a:lnTo>
                            <a:lnTo>
                              <a:pt x="2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1" name=""/>
                      <p:cNvSpPr/>
                      <p:nvPr/>
                    </p:nvSpPr>
                    <p:spPr>
                      <a:xfrm>
                        <a:off x="5312160" y="487188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5" y="11"/>
                            </a:moveTo>
                            <a:lnTo>
                              <a:pt x="8" y="11"/>
                            </a:lnTo>
                            <a:lnTo>
                              <a:pt x="8" y="9"/>
                            </a:lnTo>
                            <a:lnTo>
                              <a:pt x="0" y="3"/>
                            </a:lnTo>
                            <a:lnTo>
                              <a:pt x="4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2" name=""/>
                      <p:cNvSpPr/>
                      <p:nvPr/>
                    </p:nvSpPr>
                    <p:spPr>
                      <a:xfrm>
                        <a:off x="5322960" y="4844520"/>
                        <a:ext cx="277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33">
                            <a:moveTo>
                              <a:pt x="0" y="24"/>
                            </a:moveTo>
                            <a:lnTo>
                              <a:pt x="6" y="33"/>
                            </a:lnTo>
                            <a:lnTo>
                              <a:pt x="52" y="9"/>
                            </a:lnTo>
                            <a:lnTo>
                              <a:pt x="46" y="0"/>
                            </a:lnTo>
                            <a:lnTo>
                              <a:pt x="0" y="2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5322960" y="485676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9">
                            <a:moveTo>
                              <a:pt x="0" y="1"/>
                            </a:moveTo>
                            <a:lnTo>
                              <a:pt x="1" y="0"/>
                            </a:lnTo>
                            <a:lnTo>
                              <a:pt x="7" y="9"/>
                            </a:lnTo>
                            <a:lnTo>
                              <a:pt x="8" y="8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4" name=""/>
                      <p:cNvSpPr/>
                      <p:nvPr/>
                    </p:nvSpPr>
                    <p:spPr>
                      <a:xfrm>
                        <a:off x="5346000" y="4845600"/>
                        <a:ext cx="612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3">
                            <a:moveTo>
                              <a:pt x="10" y="0"/>
                            </a:moveTo>
                            <a:lnTo>
                              <a:pt x="0" y="1"/>
                            </a:lnTo>
                            <a:lnTo>
                              <a:pt x="2" y="33"/>
                            </a:lnTo>
                            <a:lnTo>
                              <a:pt x="13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5346000" y="484272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2" y="4"/>
                            </a:moveTo>
                            <a:lnTo>
                              <a:pt x="10" y="0"/>
                            </a:lnTo>
                            <a:lnTo>
                              <a:pt x="10" y="8"/>
                            </a:lnTo>
                            <a:lnTo>
                              <a:pt x="0" y="9"/>
                            </a:lnTo>
                            <a:lnTo>
                              <a:pt x="8" y="13"/>
                            </a:lnTo>
                            <a:lnTo>
                              <a:pt x="2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5351040" y="4853520"/>
                        <a:ext cx="288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23">
                            <a:moveTo>
                              <a:pt x="0" y="12"/>
                            </a:moveTo>
                            <a:lnTo>
                              <a:pt x="1" y="23"/>
                            </a:lnTo>
                            <a:lnTo>
                              <a:pt x="58" y="11"/>
                            </a:lnTo>
                            <a:lnTo>
                              <a:pt x="56" y="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7" name=""/>
                      <p:cNvSpPr/>
                      <p:nvPr/>
                    </p:nvSpPr>
                    <p:spPr>
                      <a:xfrm>
                        <a:off x="5347800" y="485964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2">
                            <a:moveTo>
                              <a:pt x="0" y="7"/>
                            </a:moveTo>
                            <a:lnTo>
                              <a:pt x="0" y="12"/>
                            </a:lnTo>
                            <a:lnTo>
                              <a:pt x="7" y="11"/>
                            </a:lnTo>
                            <a:lnTo>
                              <a:pt x="6" y="0"/>
                            </a:lnTo>
                            <a:lnTo>
                              <a:pt x="11" y="5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5378760" y="4838040"/>
                        <a:ext cx="3384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33"/>
                            </a:moveTo>
                            <a:lnTo>
                              <a:pt x="5" y="42"/>
                            </a:lnTo>
                            <a:lnTo>
                              <a:pt x="68" y="9"/>
                            </a:lnTo>
                            <a:lnTo>
                              <a:pt x="63" y="0"/>
                            </a:lnTo>
                            <a:lnTo>
                              <a:pt x="0" y="3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5378760" y="485352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1">
                            <a:moveTo>
                              <a:pt x="4" y="11"/>
                            </a:moveTo>
                            <a:lnTo>
                              <a:pt x="5" y="11"/>
                            </a:lnTo>
                            <a:lnTo>
                              <a:pt x="0" y="2"/>
                            </a:lnTo>
                            <a:lnTo>
                              <a:pt x="2" y="0"/>
                            </a:lnTo>
                            <a:lnTo>
                              <a:pt x="4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>
                        <a:off x="5401800" y="4790160"/>
                        <a:ext cx="1224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98">
                            <a:moveTo>
                              <a:pt x="13" y="98"/>
                            </a:moveTo>
                            <a:lnTo>
                              <a:pt x="23" y="95"/>
                            </a:lnTo>
                            <a:lnTo>
                              <a:pt x="9" y="0"/>
                            </a:lnTo>
                            <a:lnTo>
                              <a:pt x="0" y="3"/>
                            </a:lnTo>
                            <a:lnTo>
                              <a:pt x="13" y="9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1" name=""/>
                      <p:cNvSpPr/>
                      <p:nvPr/>
                    </p:nvSpPr>
                    <p:spPr>
                      <a:xfrm>
                        <a:off x="5409720" y="483804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8" y="9"/>
                            </a:moveTo>
                            <a:lnTo>
                              <a:pt x="11" y="8"/>
                            </a:lnTo>
                            <a:lnTo>
                              <a:pt x="10" y="2"/>
                            </a:lnTo>
                            <a:lnTo>
                              <a:pt x="0" y="5"/>
                            </a:lnTo>
                            <a:lnTo>
                              <a:pt x="3" y="0"/>
                            </a:lnTo>
                            <a:lnTo>
                              <a:pt x="8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2" name=""/>
                      <p:cNvSpPr/>
                      <p:nvPr/>
                    </p:nvSpPr>
                    <p:spPr>
                      <a:xfrm>
                        <a:off x="5403600" y="478692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1">
                            <a:moveTo>
                              <a:pt x="0" y="2"/>
                            </a:moveTo>
                            <a:lnTo>
                              <a:pt x="4" y="11"/>
                            </a:lnTo>
                            <a:lnTo>
                              <a:pt x="5" y="10"/>
                            </a:lnTo>
                            <a:lnTo>
                              <a:pt x="1" y="0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3" name=""/>
                      <p:cNvSpPr/>
                      <p:nvPr/>
                    </p:nvSpPr>
                    <p:spPr>
                      <a:xfrm>
                        <a:off x="5401800" y="47887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5"/>
                            </a:moveTo>
                            <a:lnTo>
                              <a:pt x="0" y="1"/>
                            </a:lnTo>
                            <a:lnTo>
                              <a:pt x="3" y="0"/>
                            </a:lnTo>
                            <a:lnTo>
                              <a:pt x="7" y="9"/>
                            </a:lnTo>
                            <a:lnTo>
                              <a:pt x="9" y="2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4" name=""/>
                      <p:cNvSpPr/>
                      <p:nvPr/>
                    </p:nvSpPr>
                    <p:spPr>
                      <a:xfrm>
                        <a:off x="5406480" y="4786920"/>
                        <a:ext cx="8964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5" name=""/>
                      <p:cNvSpPr/>
                      <p:nvPr/>
                    </p:nvSpPr>
                    <p:spPr>
                      <a:xfrm>
                        <a:off x="5405040" y="478692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1">
                            <a:moveTo>
                              <a:pt x="0" y="1"/>
                            </a:move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3" y="11"/>
                            </a:lnTo>
                            <a:lnTo>
                              <a:pt x="4" y="1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6" name=""/>
                      <p:cNvSpPr/>
                      <p:nvPr/>
                    </p:nvSpPr>
                    <p:spPr>
                      <a:xfrm>
                        <a:off x="5483880" y="4788720"/>
                        <a:ext cx="15120" cy="4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92">
                            <a:moveTo>
                              <a:pt x="30" y="1"/>
                            </a:moveTo>
                            <a:lnTo>
                              <a:pt x="20" y="0"/>
                            </a:lnTo>
                            <a:lnTo>
                              <a:pt x="0" y="91"/>
                            </a:lnTo>
                            <a:lnTo>
                              <a:pt x="11" y="92"/>
                            </a:lnTo>
                            <a:lnTo>
                              <a:pt x="3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7" name=""/>
                      <p:cNvSpPr/>
                      <p:nvPr/>
                    </p:nvSpPr>
                    <p:spPr>
                      <a:xfrm>
                        <a:off x="5492880" y="478692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5" y="0"/>
                            </a:moveTo>
                            <a:lnTo>
                              <a:pt x="12" y="0"/>
                            </a:lnTo>
                            <a:lnTo>
                              <a:pt x="10" y="5"/>
                            </a:lnTo>
                            <a:lnTo>
                              <a:pt x="0" y="4"/>
                            </a:lnTo>
                            <a:lnTo>
                              <a:pt x="5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8" name=""/>
                      <p:cNvSpPr/>
                      <p:nvPr/>
                    </p:nvSpPr>
                    <p:spPr>
                      <a:xfrm>
                        <a:off x="5434560" y="4830480"/>
                        <a:ext cx="50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9">
                            <a:moveTo>
                              <a:pt x="100" y="19"/>
                            </a:moveTo>
                            <a:lnTo>
                              <a:pt x="100" y="9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100" y="1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9" name=""/>
                      <p:cNvSpPr/>
                      <p:nvPr/>
                    </p:nvSpPr>
                    <p:spPr>
                      <a:xfrm>
                        <a:off x="5483880" y="48348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4"/>
                            </a:moveTo>
                            <a:lnTo>
                              <a:pt x="9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0" name=""/>
                      <p:cNvSpPr/>
                      <p:nvPr/>
                    </p:nvSpPr>
                    <p:spPr>
                      <a:xfrm>
                        <a:off x="5431320" y="4831560"/>
                        <a:ext cx="6120" cy="169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1" name=""/>
                      <p:cNvSpPr/>
                      <p:nvPr/>
                    </p:nvSpPr>
                    <p:spPr>
                      <a:xfrm>
                        <a:off x="5431320" y="483048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>
                        <a:off x="5417280" y="4847040"/>
                        <a:ext cx="1836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42">
                            <a:moveTo>
                              <a:pt x="37" y="7"/>
                            </a:moveTo>
                            <a:lnTo>
                              <a:pt x="29" y="0"/>
                            </a:lnTo>
                            <a:lnTo>
                              <a:pt x="0" y="36"/>
                            </a:lnTo>
                            <a:lnTo>
                              <a:pt x="8" y="42"/>
                            </a:lnTo>
                            <a:lnTo>
                              <a:pt x="37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3" name=""/>
                      <p:cNvSpPr/>
                      <p:nvPr/>
                    </p:nvSpPr>
                    <p:spPr>
                      <a:xfrm>
                        <a:off x="5431320" y="4847040"/>
                        <a:ext cx="61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7">
                            <a:moveTo>
                              <a:pt x="10" y="3"/>
                            </a:moveTo>
                            <a:lnTo>
                              <a:pt x="10" y="5"/>
                            </a:lnTo>
                            <a:lnTo>
                              <a:pt x="9" y="7"/>
                            </a:lnTo>
                            <a:lnTo>
                              <a:pt x="1" y="0"/>
                            </a:lnTo>
                            <a:lnTo>
                              <a:pt x="0" y="3"/>
                            </a:lnTo>
                            <a:lnTo>
                              <a:pt x="1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4" name=""/>
                      <p:cNvSpPr/>
                      <p:nvPr/>
                    </p:nvSpPr>
                    <p:spPr>
                      <a:xfrm>
                        <a:off x="5364720" y="4864320"/>
                        <a:ext cx="55440" cy="2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52">
                            <a:moveTo>
                              <a:pt x="110" y="10"/>
                            </a:moveTo>
                            <a:lnTo>
                              <a:pt x="105" y="0"/>
                            </a:lnTo>
                            <a:lnTo>
                              <a:pt x="0" y="43"/>
                            </a:lnTo>
                            <a:lnTo>
                              <a:pt x="6" y="52"/>
                            </a:lnTo>
                            <a:lnTo>
                              <a:pt x="11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5" name=""/>
                      <p:cNvSpPr/>
                      <p:nvPr/>
                    </p:nvSpPr>
                    <p:spPr>
                      <a:xfrm>
                        <a:off x="5417280" y="48643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8" y="8"/>
                            </a:moveTo>
                            <a:lnTo>
                              <a:pt x="7" y="10"/>
                            </a:lnTo>
                            <a:lnTo>
                              <a:pt x="2" y="0"/>
                            </a:lnTo>
                            <a:lnTo>
                              <a:pt x="0" y="2"/>
                            </a:lnTo>
                            <a:lnTo>
                              <a:pt x="8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6" name=""/>
                      <p:cNvSpPr/>
                      <p:nvPr/>
                    </p:nvSpPr>
                    <p:spPr>
                      <a:xfrm>
                        <a:off x="5292000" y="4885920"/>
                        <a:ext cx="7416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48">
                            <a:moveTo>
                              <a:pt x="143" y="9"/>
                            </a:moveTo>
                            <a:lnTo>
                              <a:pt x="127" y="12"/>
                            </a:lnTo>
                            <a:lnTo>
                              <a:pt x="88" y="19"/>
                            </a:lnTo>
                            <a:lnTo>
                              <a:pt x="42" y="31"/>
                            </a:lnTo>
                            <a:lnTo>
                              <a:pt x="22" y="39"/>
                            </a:lnTo>
                            <a:lnTo>
                              <a:pt x="5" y="48"/>
                            </a:lnTo>
                            <a:lnTo>
                              <a:pt x="0" y="39"/>
                            </a:lnTo>
                            <a:lnTo>
                              <a:pt x="17" y="30"/>
                            </a:lnTo>
                            <a:lnTo>
                              <a:pt x="38" y="22"/>
                            </a:lnTo>
                            <a:lnTo>
                              <a:pt x="84" y="10"/>
                            </a:lnTo>
                            <a:lnTo>
                              <a:pt x="125" y="2"/>
                            </a:lnTo>
                            <a:lnTo>
                              <a:pt x="141" y="0"/>
                            </a:lnTo>
                            <a:lnTo>
                              <a:pt x="143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7" name=""/>
                      <p:cNvSpPr/>
                      <p:nvPr/>
                    </p:nvSpPr>
                    <p:spPr>
                      <a:xfrm>
                        <a:off x="5364720" y="488592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9">
                            <a:moveTo>
                              <a:pt x="6" y="9"/>
                            </a:moveTo>
                            <a:lnTo>
                              <a:pt x="4" y="9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8" name=""/>
                      <p:cNvSpPr/>
                      <p:nvPr/>
                    </p:nvSpPr>
                    <p:spPr>
                      <a:xfrm>
                        <a:off x="5267160" y="4906080"/>
                        <a:ext cx="27720" cy="8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162">
                            <a:moveTo>
                              <a:pt x="53" y="8"/>
                            </a:moveTo>
                            <a:lnTo>
                              <a:pt x="48" y="13"/>
                            </a:lnTo>
                            <a:lnTo>
                              <a:pt x="41" y="21"/>
                            </a:lnTo>
                            <a:lnTo>
                              <a:pt x="30" y="42"/>
                            </a:lnTo>
                            <a:lnTo>
                              <a:pt x="24" y="66"/>
                            </a:lnTo>
                            <a:lnTo>
                              <a:pt x="19" y="93"/>
                            </a:lnTo>
                            <a:lnTo>
                              <a:pt x="12" y="141"/>
                            </a:lnTo>
                            <a:lnTo>
                              <a:pt x="11" y="162"/>
                            </a:lnTo>
                            <a:lnTo>
                              <a:pt x="0" y="162"/>
                            </a:lnTo>
                            <a:lnTo>
                              <a:pt x="1" y="141"/>
                            </a:lnTo>
                            <a:lnTo>
                              <a:pt x="8" y="91"/>
                            </a:lnTo>
                            <a:lnTo>
                              <a:pt x="13" y="65"/>
                            </a:lnTo>
                            <a:lnTo>
                              <a:pt x="21" y="38"/>
                            </a:lnTo>
                            <a:lnTo>
                              <a:pt x="32" y="16"/>
                            </a:lnTo>
                            <a:lnTo>
                              <a:pt x="40" y="7"/>
                            </a:lnTo>
                            <a:lnTo>
                              <a:pt x="46" y="0"/>
                            </a:lnTo>
                            <a:lnTo>
                              <a:pt x="53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9" name=""/>
                      <p:cNvSpPr/>
                      <p:nvPr/>
                    </p:nvSpPr>
                    <p:spPr>
                      <a:xfrm>
                        <a:off x="5292000" y="490608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2" y="0"/>
                            </a:moveTo>
                            <a:lnTo>
                              <a:pt x="0" y="0"/>
                            </a:lnTo>
                            <a:lnTo>
                              <a:pt x="7" y="8"/>
                            </a:lnTo>
                            <a:lnTo>
                              <a:pt x="7" y="9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0" name=""/>
                      <p:cNvSpPr/>
                      <p:nvPr/>
                    </p:nvSpPr>
                    <p:spPr>
                      <a:xfrm>
                        <a:off x="5249160" y="4988160"/>
                        <a:ext cx="23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14">
                            <a:moveTo>
                              <a:pt x="45" y="10"/>
                            </a:moveTo>
                            <a:lnTo>
                              <a:pt x="42" y="0"/>
                            </a:lnTo>
                            <a:lnTo>
                              <a:pt x="0" y="4"/>
                            </a:lnTo>
                            <a:lnTo>
                              <a:pt x="2" y="14"/>
                            </a:lnTo>
                            <a:lnTo>
                              <a:pt x="45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1" name=""/>
                      <p:cNvSpPr/>
                      <p:nvPr/>
                    </p:nvSpPr>
                    <p:spPr>
                      <a:xfrm>
                        <a:off x="5267160" y="498816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4"/>
                            </a:moveTo>
                            <a:lnTo>
                              <a:pt x="11" y="10"/>
                            </a:lnTo>
                            <a:lnTo>
                              <a:pt x="7" y="10"/>
                            </a:lnTo>
                            <a:lnTo>
                              <a:pt x="4" y="0"/>
                            </a:lnTo>
                            <a:lnTo>
                              <a:pt x="0" y="4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2" name=""/>
                      <p:cNvSpPr/>
                      <p:nvPr/>
                    </p:nvSpPr>
                    <p:spPr>
                      <a:xfrm>
                        <a:off x="5245920" y="4992840"/>
                        <a:ext cx="5760" cy="2304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3" name=""/>
                      <p:cNvSpPr/>
                      <p:nvPr/>
                    </p:nvSpPr>
                    <p:spPr>
                      <a:xfrm>
                        <a:off x="5245920" y="4989600"/>
                        <a:ext cx="576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4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6" y="10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4" name=""/>
                      <p:cNvSpPr/>
                      <p:nvPr/>
                    </p:nvSpPr>
                    <p:spPr>
                      <a:xfrm>
                        <a:off x="5216400" y="5012640"/>
                        <a:ext cx="324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20">
                            <a:moveTo>
                              <a:pt x="64" y="9"/>
                            </a:moveTo>
                            <a:lnTo>
                              <a:pt x="37" y="15"/>
                            </a:lnTo>
                            <a:lnTo>
                              <a:pt x="3" y="20"/>
                            </a:lnTo>
                            <a:lnTo>
                              <a:pt x="0" y="11"/>
                            </a:lnTo>
                            <a:lnTo>
                              <a:pt x="34" y="6"/>
                            </a:lnTo>
                            <a:lnTo>
                              <a:pt x="62" y="0"/>
                            </a:lnTo>
                            <a:lnTo>
                              <a:pt x="64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5" name=""/>
                      <p:cNvSpPr/>
                      <p:nvPr/>
                    </p:nvSpPr>
                    <p:spPr>
                      <a:xfrm>
                        <a:off x="5245920" y="50126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10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4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6" name=""/>
                      <p:cNvSpPr/>
                      <p:nvPr/>
                    </p:nvSpPr>
                    <p:spPr>
                      <a:xfrm>
                        <a:off x="5212080" y="4995720"/>
                        <a:ext cx="57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54">
                            <a:moveTo>
                              <a:pt x="6" y="54"/>
                            </a:moveTo>
                            <a:lnTo>
                              <a:pt x="4" y="51"/>
                            </a:lnTo>
                            <a:lnTo>
                              <a:pt x="1" y="42"/>
                            </a:lnTo>
                            <a:lnTo>
                              <a:pt x="0" y="25"/>
                            </a:lnTo>
                            <a:lnTo>
                              <a:pt x="2" y="0"/>
                            </a:lnTo>
                            <a:lnTo>
                              <a:pt x="12" y="2"/>
                            </a:lnTo>
                            <a:lnTo>
                              <a:pt x="9" y="25"/>
                            </a:lnTo>
                            <a:lnTo>
                              <a:pt x="10" y="42"/>
                            </a:lnTo>
                            <a:lnTo>
                              <a:pt x="12" y="44"/>
                            </a:lnTo>
                            <a:lnTo>
                              <a:pt x="13" y="46"/>
                            </a:lnTo>
                            <a:lnTo>
                              <a:pt x="6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7" name=""/>
                      <p:cNvSpPr/>
                      <p:nvPr/>
                    </p:nvSpPr>
                    <p:spPr>
                      <a:xfrm>
                        <a:off x="5214960" y="5019120"/>
                        <a:ext cx="25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6" y="9"/>
                            </a:moveTo>
                            <a:lnTo>
                              <a:pt x="3" y="9"/>
                            </a:lnTo>
                            <a:lnTo>
                              <a:pt x="0" y="8"/>
                            </a:lnTo>
                            <a:lnTo>
                              <a:pt x="7" y="0"/>
                            </a:lnTo>
                            <a:lnTo>
                              <a:pt x="3" y="0"/>
                            </a:lnTo>
                            <a:lnTo>
                              <a:pt x="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8" name=""/>
                      <p:cNvSpPr/>
                      <p:nvPr/>
                    </p:nvSpPr>
                    <p:spPr>
                      <a:xfrm>
                        <a:off x="5213160" y="499572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">
                            <a:moveTo>
                              <a:pt x="10" y="2"/>
                            </a:moveTo>
                            <a:lnTo>
                              <a:pt x="11" y="1"/>
                            </a:lnTo>
                            <a:lnTo>
                              <a:pt x="0" y="1"/>
                            </a:lnTo>
                            <a:lnTo>
                              <a:pt x="0" y="0"/>
                            </a:lnTo>
                            <a:lnTo>
                              <a:pt x="1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9" name=""/>
                      <p:cNvSpPr/>
                      <p:nvPr/>
                    </p:nvSpPr>
                    <p:spPr>
                      <a:xfrm>
                        <a:off x="5400360" y="3201840"/>
                        <a:ext cx="305640" cy="23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5" h="452">
                            <a:moveTo>
                              <a:pt x="451" y="258"/>
                            </a:moveTo>
                            <a:lnTo>
                              <a:pt x="476" y="279"/>
                            </a:lnTo>
                            <a:lnTo>
                              <a:pt x="436" y="327"/>
                            </a:lnTo>
                            <a:lnTo>
                              <a:pt x="348" y="370"/>
                            </a:lnTo>
                            <a:lnTo>
                              <a:pt x="249" y="386"/>
                            </a:lnTo>
                            <a:lnTo>
                              <a:pt x="245" y="395"/>
                            </a:lnTo>
                            <a:lnTo>
                              <a:pt x="241" y="406"/>
                            </a:lnTo>
                            <a:lnTo>
                              <a:pt x="236" y="419"/>
                            </a:lnTo>
                            <a:lnTo>
                              <a:pt x="229" y="431"/>
                            </a:lnTo>
                            <a:lnTo>
                              <a:pt x="223" y="442"/>
                            </a:lnTo>
                            <a:lnTo>
                              <a:pt x="219" y="446"/>
                            </a:lnTo>
                            <a:lnTo>
                              <a:pt x="215" y="448"/>
                            </a:lnTo>
                            <a:lnTo>
                              <a:pt x="212" y="451"/>
                            </a:lnTo>
                            <a:lnTo>
                              <a:pt x="208" y="452"/>
                            </a:lnTo>
                            <a:lnTo>
                              <a:pt x="196" y="451"/>
                            </a:lnTo>
                            <a:lnTo>
                              <a:pt x="173" y="448"/>
                            </a:lnTo>
                            <a:lnTo>
                              <a:pt x="112" y="440"/>
                            </a:lnTo>
                            <a:lnTo>
                              <a:pt x="29" y="430"/>
                            </a:lnTo>
                            <a:lnTo>
                              <a:pt x="37" y="374"/>
                            </a:lnTo>
                            <a:lnTo>
                              <a:pt x="0" y="370"/>
                            </a:lnTo>
                            <a:lnTo>
                              <a:pt x="37" y="209"/>
                            </a:lnTo>
                            <a:lnTo>
                              <a:pt x="63" y="215"/>
                            </a:lnTo>
                            <a:lnTo>
                              <a:pt x="63" y="253"/>
                            </a:lnTo>
                            <a:lnTo>
                              <a:pt x="90" y="302"/>
                            </a:lnTo>
                            <a:lnTo>
                              <a:pt x="58" y="304"/>
                            </a:lnTo>
                            <a:lnTo>
                              <a:pt x="55" y="331"/>
                            </a:lnTo>
                            <a:lnTo>
                              <a:pt x="53" y="351"/>
                            </a:lnTo>
                            <a:lnTo>
                              <a:pt x="51" y="364"/>
                            </a:lnTo>
                            <a:lnTo>
                              <a:pt x="53" y="365"/>
                            </a:lnTo>
                            <a:lnTo>
                              <a:pt x="54" y="366"/>
                            </a:lnTo>
                            <a:lnTo>
                              <a:pt x="57" y="368"/>
                            </a:lnTo>
                            <a:lnTo>
                              <a:pt x="61" y="369"/>
                            </a:lnTo>
                            <a:lnTo>
                              <a:pt x="69" y="370"/>
                            </a:lnTo>
                            <a:lnTo>
                              <a:pt x="79" y="370"/>
                            </a:lnTo>
                            <a:lnTo>
                              <a:pt x="98" y="372"/>
                            </a:lnTo>
                            <a:lnTo>
                              <a:pt x="107" y="372"/>
                            </a:lnTo>
                            <a:lnTo>
                              <a:pt x="224" y="381"/>
                            </a:lnTo>
                            <a:lnTo>
                              <a:pt x="235" y="347"/>
                            </a:lnTo>
                            <a:lnTo>
                              <a:pt x="311" y="327"/>
                            </a:lnTo>
                            <a:lnTo>
                              <a:pt x="398" y="307"/>
                            </a:lnTo>
                            <a:lnTo>
                              <a:pt x="451" y="258"/>
                            </a:lnTo>
                            <a:close/>
                            <a:moveTo>
                              <a:pt x="332" y="45"/>
                            </a:moveTo>
                            <a:lnTo>
                              <a:pt x="364" y="0"/>
                            </a:lnTo>
                            <a:lnTo>
                              <a:pt x="414" y="41"/>
                            </a:lnTo>
                            <a:lnTo>
                              <a:pt x="430" y="22"/>
                            </a:lnTo>
                            <a:lnTo>
                              <a:pt x="595" y="96"/>
                            </a:lnTo>
                            <a:lnTo>
                              <a:pt x="525" y="145"/>
                            </a:lnTo>
                            <a:lnTo>
                              <a:pt x="520" y="116"/>
                            </a:lnTo>
                            <a:lnTo>
                              <a:pt x="452" y="58"/>
                            </a:lnTo>
                            <a:lnTo>
                              <a:pt x="433" y="63"/>
                            </a:lnTo>
                            <a:lnTo>
                              <a:pt x="433" y="104"/>
                            </a:lnTo>
                            <a:lnTo>
                              <a:pt x="374" y="99"/>
                            </a:lnTo>
                            <a:lnTo>
                              <a:pt x="378" y="60"/>
                            </a:lnTo>
                            <a:lnTo>
                              <a:pt x="332" y="4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00" name=""/>
                    <p:cNvGrpSpPr/>
                    <p:nvPr/>
                  </p:nvGrpSpPr>
                  <p:grpSpPr>
                    <a:xfrm>
                      <a:off x="6321600" y="1546200"/>
                      <a:ext cx="1587600" cy="2050920"/>
                      <a:chOff x="6321600" y="1546200"/>
                      <a:chExt cx="1587600" cy="2050920"/>
                    </a:xfrm>
                  </p:grpSpPr>
                  <p:sp>
                    <p:nvSpPr>
                      <p:cNvPr id="1501" name=""/>
                      <p:cNvSpPr/>
                      <p:nvPr/>
                    </p:nvSpPr>
                    <p:spPr>
                      <a:xfrm>
                        <a:off x="6820200" y="3497040"/>
                        <a:ext cx="1159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193">
                            <a:moveTo>
                              <a:pt x="48" y="54"/>
                            </a:moveTo>
                            <a:lnTo>
                              <a:pt x="217" y="0"/>
                            </a:lnTo>
                            <a:lnTo>
                              <a:pt x="220" y="4"/>
                            </a:lnTo>
                            <a:lnTo>
                              <a:pt x="221" y="9"/>
                            </a:lnTo>
                            <a:lnTo>
                              <a:pt x="224" y="16"/>
                            </a:lnTo>
                            <a:lnTo>
                              <a:pt x="224" y="23"/>
                            </a:lnTo>
                            <a:lnTo>
                              <a:pt x="222" y="30"/>
                            </a:lnTo>
                            <a:lnTo>
                              <a:pt x="221" y="34"/>
                            </a:lnTo>
                            <a:lnTo>
                              <a:pt x="220" y="38"/>
                            </a:lnTo>
                            <a:lnTo>
                              <a:pt x="216" y="42"/>
                            </a:lnTo>
                            <a:lnTo>
                              <a:pt x="213" y="46"/>
                            </a:lnTo>
                            <a:lnTo>
                              <a:pt x="204" y="56"/>
                            </a:lnTo>
                            <a:lnTo>
                              <a:pt x="195" y="66"/>
                            </a:lnTo>
                            <a:lnTo>
                              <a:pt x="179" y="86"/>
                            </a:lnTo>
                            <a:lnTo>
                              <a:pt x="160" y="110"/>
                            </a:lnTo>
                            <a:lnTo>
                              <a:pt x="155" y="108"/>
                            </a:lnTo>
                            <a:lnTo>
                              <a:pt x="143" y="110"/>
                            </a:lnTo>
                            <a:lnTo>
                              <a:pt x="135" y="112"/>
                            </a:lnTo>
                            <a:lnTo>
                              <a:pt x="130" y="115"/>
                            </a:lnTo>
                            <a:lnTo>
                              <a:pt x="127" y="118"/>
                            </a:lnTo>
                            <a:lnTo>
                              <a:pt x="125" y="120"/>
                            </a:lnTo>
                            <a:lnTo>
                              <a:pt x="124" y="124"/>
                            </a:lnTo>
                            <a:lnTo>
                              <a:pt x="122" y="128"/>
                            </a:lnTo>
                            <a:lnTo>
                              <a:pt x="121" y="136"/>
                            </a:lnTo>
                            <a:lnTo>
                              <a:pt x="117" y="147"/>
                            </a:lnTo>
                            <a:lnTo>
                              <a:pt x="113" y="157"/>
                            </a:lnTo>
                            <a:lnTo>
                              <a:pt x="108" y="168"/>
                            </a:lnTo>
                            <a:lnTo>
                              <a:pt x="98" y="185"/>
                            </a:lnTo>
                            <a:lnTo>
                              <a:pt x="93" y="193"/>
                            </a:lnTo>
                            <a:lnTo>
                              <a:pt x="51" y="161"/>
                            </a:lnTo>
                            <a:lnTo>
                              <a:pt x="48" y="158"/>
                            </a:lnTo>
                            <a:lnTo>
                              <a:pt x="44" y="154"/>
                            </a:lnTo>
                            <a:lnTo>
                              <a:pt x="40" y="149"/>
                            </a:lnTo>
                            <a:lnTo>
                              <a:pt x="36" y="143"/>
                            </a:lnTo>
                            <a:lnTo>
                              <a:pt x="27" y="129"/>
                            </a:lnTo>
                            <a:lnTo>
                              <a:pt x="19" y="115"/>
                            </a:lnTo>
                            <a:lnTo>
                              <a:pt x="5" y="90"/>
                            </a:lnTo>
                            <a:lnTo>
                              <a:pt x="0" y="78"/>
                            </a:lnTo>
                            <a:lnTo>
                              <a:pt x="48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2" name=""/>
                      <p:cNvSpPr/>
                      <p:nvPr/>
                    </p:nvSpPr>
                    <p:spPr>
                      <a:xfrm>
                        <a:off x="7083720" y="2636640"/>
                        <a:ext cx="250560" cy="26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511">
                            <a:moveTo>
                              <a:pt x="43" y="500"/>
                            </a:moveTo>
                            <a:lnTo>
                              <a:pt x="21" y="497"/>
                            </a:lnTo>
                            <a:lnTo>
                              <a:pt x="22" y="493"/>
                            </a:lnTo>
                            <a:lnTo>
                              <a:pt x="23" y="487"/>
                            </a:lnTo>
                            <a:lnTo>
                              <a:pt x="25" y="482"/>
                            </a:lnTo>
                            <a:lnTo>
                              <a:pt x="25" y="476"/>
                            </a:lnTo>
                            <a:lnTo>
                              <a:pt x="25" y="470"/>
                            </a:lnTo>
                            <a:lnTo>
                              <a:pt x="23" y="464"/>
                            </a:lnTo>
                            <a:lnTo>
                              <a:pt x="18" y="442"/>
                            </a:lnTo>
                            <a:lnTo>
                              <a:pt x="13" y="425"/>
                            </a:lnTo>
                            <a:lnTo>
                              <a:pt x="9" y="414"/>
                            </a:lnTo>
                            <a:lnTo>
                              <a:pt x="8" y="410"/>
                            </a:lnTo>
                            <a:lnTo>
                              <a:pt x="0" y="362"/>
                            </a:lnTo>
                            <a:lnTo>
                              <a:pt x="1" y="313"/>
                            </a:lnTo>
                            <a:lnTo>
                              <a:pt x="29" y="290"/>
                            </a:lnTo>
                            <a:lnTo>
                              <a:pt x="48" y="259"/>
                            </a:lnTo>
                            <a:lnTo>
                              <a:pt x="102" y="120"/>
                            </a:lnTo>
                            <a:lnTo>
                              <a:pt x="126" y="66"/>
                            </a:lnTo>
                            <a:lnTo>
                              <a:pt x="153" y="24"/>
                            </a:lnTo>
                            <a:lnTo>
                              <a:pt x="178" y="13"/>
                            </a:lnTo>
                            <a:lnTo>
                              <a:pt x="211" y="0"/>
                            </a:lnTo>
                            <a:lnTo>
                              <a:pt x="488" y="405"/>
                            </a:lnTo>
                            <a:lnTo>
                              <a:pt x="226" y="480"/>
                            </a:lnTo>
                            <a:lnTo>
                              <a:pt x="166" y="500"/>
                            </a:lnTo>
                            <a:lnTo>
                              <a:pt x="125" y="511"/>
                            </a:lnTo>
                            <a:lnTo>
                              <a:pt x="87" y="508"/>
                            </a:lnTo>
                            <a:lnTo>
                              <a:pt x="68" y="503"/>
                            </a:lnTo>
                            <a:lnTo>
                              <a:pt x="43" y="5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3" name=""/>
                      <p:cNvSpPr/>
                      <p:nvPr/>
                    </p:nvSpPr>
                    <p:spPr>
                      <a:xfrm>
                        <a:off x="7526520" y="2712960"/>
                        <a:ext cx="16344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8" h="245">
                            <a:moveTo>
                              <a:pt x="310" y="240"/>
                            </a:moveTo>
                            <a:lnTo>
                              <a:pt x="298" y="241"/>
                            </a:lnTo>
                            <a:lnTo>
                              <a:pt x="286" y="241"/>
                            </a:lnTo>
                            <a:lnTo>
                              <a:pt x="274" y="223"/>
                            </a:lnTo>
                            <a:lnTo>
                              <a:pt x="263" y="233"/>
                            </a:lnTo>
                            <a:lnTo>
                              <a:pt x="247" y="240"/>
                            </a:lnTo>
                            <a:lnTo>
                              <a:pt x="215" y="244"/>
                            </a:lnTo>
                            <a:lnTo>
                              <a:pt x="214" y="242"/>
                            </a:lnTo>
                            <a:lnTo>
                              <a:pt x="211" y="242"/>
                            </a:lnTo>
                            <a:lnTo>
                              <a:pt x="203" y="244"/>
                            </a:lnTo>
                            <a:lnTo>
                              <a:pt x="194" y="244"/>
                            </a:lnTo>
                            <a:lnTo>
                              <a:pt x="185" y="245"/>
                            </a:lnTo>
                            <a:lnTo>
                              <a:pt x="177" y="245"/>
                            </a:lnTo>
                            <a:lnTo>
                              <a:pt x="158" y="244"/>
                            </a:lnTo>
                            <a:lnTo>
                              <a:pt x="143" y="236"/>
                            </a:lnTo>
                            <a:lnTo>
                              <a:pt x="133" y="224"/>
                            </a:lnTo>
                            <a:lnTo>
                              <a:pt x="124" y="213"/>
                            </a:lnTo>
                            <a:lnTo>
                              <a:pt x="119" y="197"/>
                            </a:lnTo>
                            <a:lnTo>
                              <a:pt x="82" y="175"/>
                            </a:lnTo>
                            <a:lnTo>
                              <a:pt x="78" y="159"/>
                            </a:lnTo>
                            <a:lnTo>
                              <a:pt x="77" y="147"/>
                            </a:lnTo>
                            <a:lnTo>
                              <a:pt x="75" y="139"/>
                            </a:lnTo>
                            <a:lnTo>
                              <a:pt x="75" y="128"/>
                            </a:lnTo>
                            <a:lnTo>
                              <a:pt x="79" y="109"/>
                            </a:lnTo>
                            <a:lnTo>
                              <a:pt x="88" y="92"/>
                            </a:lnTo>
                            <a:lnTo>
                              <a:pt x="79" y="80"/>
                            </a:lnTo>
                            <a:lnTo>
                              <a:pt x="63" y="89"/>
                            </a:lnTo>
                            <a:lnTo>
                              <a:pt x="41" y="97"/>
                            </a:lnTo>
                            <a:lnTo>
                              <a:pt x="23" y="101"/>
                            </a:lnTo>
                            <a:lnTo>
                              <a:pt x="12" y="96"/>
                            </a:lnTo>
                            <a:lnTo>
                              <a:pt x="0" y="91"/>
                            </a:lnTo>
                            <a:lnTo>
                              <a:pt x="61" y="0"/>
                            </a:lnTo>
                            <a:lnTo>
                              <a:pt x="79" y="6"/>
                            </a:lnTo>
                            <a:lnTo>
                              <a:pt x="127" y="23"/>
                            </a:lnTo>
                            <a:lnTo>
                              <a:pt x="193" y="46"/>
                            </a:lnTo>
                            <a:lnTo>
                              <a:pt x="206" y="56"/>
                            </a:lnTo>
                            <a:lnTo>
                              <a:pt x="224" y="101"/>
                            </a:lnTo>
                            <a:lnTo>
                              <a:pt x="224" y="118"/>
                            </a:lnTo>
                            <a:lnTo>
                              <a:pt x="223" y="120"/>
                            </a:lnTo>
                            <a:lnTo>
                              <a:pt x="222" y="122"/>
                            </a:lnTo>
                            <a:lnTo>
                              <a:pt x="222" y="125"/>
                            </a:lnTo>
                            <a:lnTo>
                              <a:pt x="222" y="130"/>
                            </a:lnTo>
                            <a:lnTo>
                              <a:pt x="224" y="138"/>
                            </a:lnTo>
                            <a:lnTo>
                              <a:pt x="226" y="142"/>
                            </a:lnTo>
                            <a:lnTo>
                              <a:pt x="230" y="146"/>
                            </a:lnTo>
                            <a:lnTo>
                              <a:pt x="232" y="150"/>
                            </a:lnTo>
                            <a:lnTo>
                              <a:pt x="235" y="154"/>
                            </a:lnTo>
                            <a:lnTo>
                              <a:pt x="239" y="158"/>
                            </a:lnTo>
                            <a:lnTo>
                              <a:pt x="244" y="162"/>
                            </a:lnTo>
                            <a:lnTo>
                              <a:pt x="256" y="168"/>
                            </a:lnTo>
                            <a:lnTo>
                              <a:pt x="268" y="175"/>
                            </a:lnTo>
                            <a:lnTo>
                              <a:pt x="277" y="179"/>
                            </a:lnTo>
                            <a:lnTo>
                              <a:pt x="286" y="182"/>
                            </a:lnTo>
                            <a:lnTo>
                              <a:pt x="297" y="186"/>
                            </a:lnTo>
                            <a:lnTo>
                              <a:pt x="311" y="195"/>
                            </a:lnTo>
                            <a:lnTo>
                              <a:pt x="314" y="203"/>
                            </a:lnTo>
                            <a:lnTo>
                              <a:pt x="318" y="217"/>
                            </a:lnTo>
                            <a:lnTo>
                              <a:pt x="318" y="220"/>
                            </a:lnTo>
                            <a:lnTo>
                              <a:pt x="318" y="224"/>
                            </a:lnTo>
                            <a:lnTo>
                              <a:pt x="315" y="230"/>
                            </a:lnTo>
                            <a:lnTo>
                              <a:pt x="310" y="24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4" name=""/>
                      <p:cNvSpPr/>
                      <p:nvPr/>
                    </p:nvSpPr>
                    <p:spPr>
                      <a:xfrm>
                        <a:off x="7705800" y="2354040"/>
                        <a:ext cx="203400" cy="31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4" h="605">
                            <a:moveTo>
                              <a:pt x="0" y="274"/>
                            </a:moveTo>
                            <a:lnTo>
                              <a:pt x="6" y="322"/>
                            </a:lnTo>
                            <a:lnTo>
                              <a:pt x="4" y="375"/>
                            </a:lnTo>
                            <a:lnTo>
                              <a:pt x="27" y="425"/>
                            </a:lnTo>
                            <a:lnTo>
                              <a:pt x="37" y="468"/>
                            </a:lnTo>
                            <a:lnTo>
                              <a:pt x="47" y="497"/>
                            </a:lnTo>
                            <a:lnTo>
                              <a:pt x="43" y="551"/>
                            </a:lnTo>
                            <a:lnTo>
                              <a:pt x="150" y="520"/>
                            </a:lnTo>
                            <a:lnTo>
                              <a:pt x="228" y="496"/>
                            </a:lnTo>
                            <a:lnTo>
                              <a:pt x="270" y="483"/>
                            </a:lnTo>
                            <a:lnTo>
                              <a:pt x="273" y="483"/>
                            </a:lnTo>
                            <a:lnTo>
                              <a:pt x="275" y="483"/>
                            </a:lnTo>
                            <a:lnTo>
                              <a:pt x="277" y="484"/>
                            </a:lnTo>
                            <a:lnTo>
                              <a:pt x="275" y="488"/>
                            </a:lnTo>
                            <a:lnTo>
                              <a:pt x="273" y="493"/>
                            </a:lnTo>
                            <a:lnTo>
                              <a:pt x="266" y="502"/>
                            </a:lnTo>
                            <a:lnTo>
                              <a:pt x="262" y="506"/>
                            </a:lnTo>
                            <a:lnTo>
                              <a:pt x="292" y="497"/>
                            </a:lnTo>
                            <a:lnTo>
                              <a:pt x="274" y="528"/>
                            </a:lnTo>
                            <a:lnTo>
                              <a:pt x="259" y="549"/>
                            </a:lnTo>
                            <a:lnTo>
                              <a:pt x="319" y="605"/>
                            </a:lnTo>
                            <a:lnTo>
                              <a:pt x="329" y="597"/>
                            </a:lnTo>
                            <a:lnTo>
                              <a:pt x="329" y="588"/>
                            </a:lnTo>
                            <a:lnTo>
                              <a:pt x="331" y="574"/>
                            </a:lnTo>
                            <a:lnTo>
                              <a:pt x="342" y="568"/>
                            </a:lnTo>
                            <a:lnTo>
                              <a:pt x="345" y="566"/>
                            </a:lnTo>
                            <a:lnTo>
                              <a:pt x="346" y="563"/>
                            </a:lnTo>
                            <a:lnTo>
                              <a:pt x="348" y="559"/>
                            </a:lnTo>
                            <a:lnTo>
                              <a:pt x="349" y="555"/>
                            </a:lnTo>
                            <a:lnTo>
                              <a:pt x="350" y="549"/>
                            </a:lnTo>
                            <a:lnTo>
                              <a:pt x="350" y="546"/>
                            </a:lnTo>
                            <a:lnTo>
                              <a:pt x="358" y="541"/>
                            </a:lnTo>
                            <a:lnTo>
                              <a:pt x="385" y="541"/>
                            </a:lnTo>
                            <a:lnTo>
                              <a:pt x="389" y="529"/>
                            </a:lnTo>
                            <a:lnTo>
                              <a:pt x="394" y="513"/>
                            </a:lnTo>
                            <a:lnTo>
                              <a:pt x="385" y="500"/>
                            </a:lnTo>
                            <a:lnTo>
                              <a:pt x="374" y="493"/>
                            </a:lnTo>
                            <a:lnTo>
                              <a:pt x="361" y="487"/>
                            </a:lnTo>
                            <a:lnTo>
                              <a:pt x="366" y="471"/>
                            </a:lnTo>
                            <a:lnTo>
                              <a:pt x="381" y="458"/>
                            </a:lnTo>
                            <a:lnTo>
                              <a:pt x="378" y="443"/>
                            </a:lnTo>
                            <a:lnTo>
                              <a:pt x="366" y="430"/>
                            </a:lnTo>
                            <a:lnTo>
                              <a:pt x="356" y="421"/>
                            </a:lnTo>
                            <a:lnTo>
                              <a:pt x="366" y="415"/>
                            </a:lnTo>
                            <a:lnTo>
                              <a:pt x="377" y="414"/>
                            </a:lnTo>
                            <a:lnTo>
                              <a:pt x="370" y="393"/>
                            </a:lnTo>
                            <a:lnTo>
                              <a:pt x="379" y="384"/>
                            </a:lnTo>
                            <a:lnTo>
                              <a:pt x="383" y="375"/>
                            </a:lnTo>
                            <a:lnTo>
                              <a:pt x="379" y="360"/>
                            </a:lnTo>
                            <a:lnTo>
                              <a:pt x="378" y="348"/>
                            </a:lnTo>
                            <a:lnTo>
                              <a:pt x="377" y="334"/>
                            </a:lnTo>
                            <a:lnTo>
                              <a:pt x="373" y="322"/>
                            </a:lnTo>
                            <a:lnTo>
                              <a:pt x="369" y="313"/>
                            </a:lnTo>
                            <a:lnTo>
                              <a:pt x="370" y="289"/>
                            </a:lnTo>
                            <a:lnTo>
                              <a:pt x="366" y="256"/>
                            </a:lnTo>
                            <a:lnTo>
                              <a:pt x="348" y="235"/>
                            </a:lnTo>
                            <a:lnTo>
                              <a:pt x="346" y="211"/>
                            </a:lnTo>
                            <a:lnTo>
                              <a:pt x="342" y="198"/>
                            </a:lnTo>
                            <a:lnTo>
                              <a:pt x="344" y="173"/>
                            </a:lnTo>
                            <a:lnTo>
                              <a:pt x="352" y="150"/>
                            </a:lnTo>
                            <a:lnTo>
                              <a:pt x="348" y="121"/>
                            </a:lnTo>
                            <a:lnTo>
                              <a:pt x="341" y="104"/>
                            </a:lnTo>
                            <a:lnTo>
                              <a:pt x="324" y="90"/>
                            </a:lnTo>
                            <a:lnTo>
                              <a:pt x="324" y="75"/>
                            </a:lnTo>
                            <a:lnTo>
                              <a:pt x="321" y="59"/>
                            </a:lnTo>
                            <a:lnTo>
                              <a:pt x="319" y="49"/>
                            </a:lnTo>
                            <a:lnTo>
                              <a:pt x="328" y="20"/>
                            </a:lnTo>
                            <a:lnTo>
                              <a:pt x="284" y="3"/>
                            </a:lnTo>
                            <a:lnTo>
                              <a:pt x="273" y="3"/>
                            </a:lnTo>
                            <a:lnTo>
                              <a:pt x="254" y="0"/>
                            </a:lnTo>
                            <a:lnTo>
                              <a:pt x="250" y="5"/>
                            </a:lnTo>
                            <a:lnTo>
                              <a:pt x="246" y="12"/>
                            </a:lnTo>
                            <a:lnTo>
                              <a:pt x="241" y="20"/>
                            </a:lnTo>
                            <a:lnTo>
                              <a:pt x="237" y="28"/>
                            </a:lnTo>
                            <a:lnTo>
                              <a:pt x="233" y="37"/>
                            </a:lnTo>
                            <a:lnTo>
                              <a:pt x="232" y="42"/>
                            </a:lnTo>
                            <a:lnTo>
                              <a:pt x="230" y="46"/>
                            </a:lnTo>
                            <a:lnTo>
                              <a:pt x="230" y="51"/>
                            </a:lnTo>
                            <a:lnTo>
                              <a:pt x="230" y="55"/>
                            </a:lnTo>
                            <a:lnTo>
                              <a:pt x="233" y="69"/>
                            </a:lnTo>
                            <a:lnTo>
                              <a:pt x="234" y="76"/>
                            </a:lnTo>
                            <a:lnTo>
                              <a:pt x="236" y="82"/>
                            </a:lnTo>
                            <a:lnTo>
                              <a:pt x="236" y="87"/>
                            </a:lnTo>
                            <a:lnTo>
                              <a:pt x="234" y="92"/>
                            </a:lnTo>
                            <a:lnTo>
                              <a:pt x="233" y="98"/>
                            </a:lnTo>
                            <a:lnTo>
                              <a:pt x="230" y="100"/>
                            </a:lnTo>
                            <a:lnTo>
                              <a:pt x="228" y="102"/>
                            </a:lnTo>
                            <a:lnTo>
                              <a:pt x="225" y="104"/>
                            </a:lnTo>
                            <a:lnTo>
                              <a:pt x="221" y="106"/>
                            </a:lnTo>
                            <a:lnTo>
                              <a:pt x="217" y="107"/>
                            </a:lnTo>
                            <a:lnTo>
                              <a:pt x="213" y="107"/>
                            </a:lnTo>
                            <a:lnTo>
                              <a:pt x="204" y="106"/>
                            </a:lnTo>
                            <a:lnTo>
                              <a:pt x="200" y="106"/>
                            </a:lnTo>
                            <a:lnTo>
                              <a:pt x="196" y="106"/>
                            </a:lnTo>
                            <a:lnTo>
                              <a:pt x="192" y="108"/>
                            </a:lnTo>
                            <a:lnTo>
                              <a:pt x="188" y="111"/>
                            </a:lnTo>
                            <a:lnTo>
                              <a:pt x="176" y="123"/>
                            </a:lnTo>
                            <a:lnTo>
                              <a:pt x="161" y="137"/>
                            </a:lnTo>
                            <a:lnTo>
                              <a:pt x="154" y="141"/>
                            </a:lnTo>
                            <a:lnTo>
                              <a:pt x="145" y="146"/>
                            </a:lnTo>
                            <a:lnTo>
                              <a:pt x="125" y="158"/>
                            </a:lnTo>
                            <a:lnTo>
                              <a:pt x="105" y="169"/>
                            </a:lnTo>
                            <a:lnTo>
                              <a:pt x="89" y="174"/>
                            </a:lnTo>
                            <a:lnTo>
                              <a:pt x="79" y="179"/>
                            </a:lnTo>
                            <a:lnTo>
                              <a:pt x="71" y="183"/>
                            </a:lnTo>
                            <a:lnTo>
                              <a:pt x="64" y="189"/>
                            </a:lnTo>
                            <a:lnTo>
                              <a:pt x="60" y="193"/>
                            </a:lnTo>
                            <a:lnTo>
                              <a:pt x="55" y="200"/>
                            </a:lnTo>
                            <a:lnTo>
                              <a:pt x="50" y="211"/>
                            </a:lnTo>
                            <a:lnTo>
                              <a:pt x="48" y="215"/>
                            </a:lnTo>
                            <a:lnTo>
                              <a:pt x="46" y="219"/>
                            </a:lnTo>
                            <a:lnTo>
                              <a:pt x="43" y="223"/>
                            </a:lnTo>
                            <a:lnTo>
                              <a:pt x="39" y="227"/>
                            </a:lnTo>
                            <a:lnTo>
                              <a:pt x="37" y="229"/>
                            </a:lnTo>
                            <a:lnTo>
                              <a:pt x="34" y="232"/>
                            </a:lnTo>
                            <a:lnTo>
                              <a:pt x="30" y="233"/>
                            </a:lnTo>
                            <a:lnTo>
                              <a:pt x="27" y="235"/>
                            </a:lnTo>
                            <a:lnTo>
                              <a:pt x="22" y="235"/>
                            </a:lnTo>
                            <a:lnTo>
                              <a:pt x="14" y="236"/>
                            </a:lnTo>
                            <a:lnTo>
                              <a:pt x="10" y="237"/>
                            </a:lnTo>
                            <a:lnTo>
                              <a:pt x="8" y="240"/>
                            </a:lnTo>
                            <a:lnTo>
                              <a:pt x="5" y="241"/>
                            </a:lnTo>
                            <a:lnTo>
                              <a:pt x="4" y="244"/>
                            </a:lnTo>
                            <a:lnTo>
                              <a:pt x="2" y="247"/>
                            </a:lnTo>
                            <a:lnTo>
                              <a:pt x="1" y="252"/>
                            </a:lnTo>
                            <a:lnTo>
                              <a:pt x="0" y="261"/>
                            </a:lnTo>
                            <a:lnTo>
                              <a:pt x="0" y="2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5" name=""/>
                      <p:cNvSpPr/>
                      <p:nvPr/>
                    </p:nvSpPr>
                    <p:spPr>
                      <a:xfrm>
                        <a:off x="7101000" y="1858680"/>
                        <a:ext cx="152640" cy="15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8" h="301">
                            <a:moveTo>
                              <a:pt x="41" y="265"/>
                            </a:moveTo>
                            <a:lnTo>
                              <a:pt x="66" y="301"/>
                            </a:lnTo>
                            <a:lnTo>
                              <a:pt x="92" y="274"/>
                            </a:lnTo>
                            <a:lnTo>
                              <a:pt x="107" y="256"/>
                            </a:lnTo>
                            <a:lnTo>
                              <a:pt x="125" y="269"/>
                            </a:lnTo>
                            <a:lnTo>
                              <a:pt x="148" y="273"/>
                            </a:lnTo>
                            <a:lnTo>
                              <a:pt x="181" y="283"/>
                            </a:lnTo>
                            <a:lnTo>
                              <a:pt x="199" y="274"/>
                            </a:lnTo>
                            <a:lnTo>
                              <a:pt x="199" y="260"/>
                            </a:lnTo>
                            <a:lnTo>
                              <a:pt x="215" y="260"/>
                            </a:lnTo>
                            <a:lnTo>
                              <a:pt x="233" y="261"/>
                            </a:lnTo>
                            <a:lnTo>
                              <a:pt x="243" y="253"/>
                            </a:lnTo>
                            <a:lnTo>
                              <a:pt x="241" y="241"/>
                            </a:lnTo>
                            <a:lnTo>
                              <a:pt x="231" y="224"/>
                            </a:lnTo>
                            <a:lnTo>
                              <a:pt x="220" y="215"/>
                            </a:lnTo>
                            <a:lnTo>
                              <a:pt x="217" y="192"/>
                            </a:lnTo>
                            <a:lnTo>
                              <a:pt x="206" y="187"/>
                            </a:lnTo>
                            <a:lnTo>
                              <a:pt x="199" y="178"/>
                            </a:lnTo>
                            <a:lnTo>
                              <a:pt x="203" y="170"/>
                            </a:lnTo>
                            <a:lnTo>
                              <a:pt x="211" y="153"/>
                            </a:lnTo>
                            <a:lnTo>
                              <a:pt x="219" y="136"/>
                            </a:lnTo>
                            <a:lnTo>
                              <a:pt x="228" y="125"/>
                            </a:lnTo>
                            <a:lnTo>
                              <a:pt x="232" y="112"/>
                            </a:lnTo>
                            <a:lnTo>
                              <a:pt x="236" y="102"/>
                            </a:lnTo>
                            <a:lnTo>
                              <a:pt x="268" y="96"/>
                            </a:lnTo>
                            <a:lnTo>
                              <a:pt x="272" y="79"/>
                            </a:lnTo>
                            <a:lnTo>
                              <a:pt x="283" y="63"/>
                            </a:lnTo>
                            <a:lnTo>
                              <a:pt x="287" y="49"/>
                            </a:lnTo>
                            <a:lnTo>
                              <a:pt x="295" y="32"/>
                            </a:lnTo>
                            <a:lnTo>
                              <a:pt x="298" y="20"/>
                            </a:lnTo>
                            <a:lnTo>
                              <a:pt x="298" y="4"/>
                            </a:lnTo>
                            <a:lnTo>
                              <a:pt x="290" y="4"/>
                            </a:lnTo>
                            <a:lnTo>
                              <a:pt x="276" y="7"/>
                            </a:lnTo>
                            <a:lnTo>
                              <a:pt x="237" y="0"/>
                            </a:lnTo>
                            <a:lnTo>
                              <a:pt x="229" y="0"/>
                            </a:lnTo>
                            <a:lnTo>
                              <a:pt x="216" y="4"/>
                            </a:lnTo>
                            <a:lnTo>
                              <a:pt x="207" y="4"/>
                            </a:lnTo>
                            <a:lnTo>
                              <a:pt x="194" y="1"/>
                            </a:lnTo>
                            <a:lnTo>
                              <a:pt x="169" y="13"/>
                            </a:lnTo>
                            <a:lnTo>
                              <a:pt x="165" y="17"/>
                            </a:lnTo>
                            <a:lnTo>
                              <a:pt x="154" y="22"/>
                            </a:lnTo>
                            <a:lnTo>
                              <a:pt x="138" y="30"/>
                            </a:lnTo>
                            <a:lnTo>
                              <a:pt x="128" y="42"/>
                            </a:lnTo>
                            <a:lnTo>
                              <a:pt x="112" y="50"/>
                            </a:lnTo>
                            <a:lnTo>
                              <a:pt x="104" y="46"/>
                            </a:lnTo>
                            <a:lnTo>
                              <a:pt x="97" y="46"/>
                            </a:lnTo>
                            <a:lnTo>
                              <a:pt x="91" y="49"/>
                            </a:lnTo>
                            <a:lnTo>
                              <a:pt x="88" y="50"/>
                            </a:lnTo>
                            <a:lnTo>
                              <a:pt x="70" y="51"/>
                            </a:lnTo>
                            <a:lnTo>
                              <a:pt x="55" y="51"/>
                            </a:lnTo>
                            <a:lnTo>
                              <a:pt x="46" y="51"/>
                            </a:lnTo>
                            <a:lnTo>
                              <a:pt x="42" y="50"/>
                            </a:lnTo>
                            <a:lnTo>
                              <a:pt x="38" y="38"/>
                            </a:lnTo>
                            <a:lnTo>
                              <a:pt x="34" y="37"/>
                            </a:lnTo>
                            <a:lnTo>
                              <a:pt x="34" y="36"/>
                            </a:lnTo>
                            <a:lnTo>
                              <a:pt x="32" y="36"/>
                            </a:lnTo>
                            <a:lnTo>
                              <a:pt x="24" y="38"/>
                            </a:lnTo>
                            <a:lnTo>
                              <a:pt x="18" y="40"/>
                            </a:lnTo>
                            <a:lnTo>
                              <a:pt x="14" y="40"/>
                            </a:lnTo>
                            <a:lnTo>
                              <a:pt x="12" y="40"/>
                            </a:lnTo>
                            <a:lnTo>
                              <a:pt x="10" y="38"/>
                            </a:lnTo>
                            <a:lnTo>
                              <a:pt x="9" y="38"/>
                            </a:lnTo>
                            <a:lnTo>
                              <a:pt x="8" y="38"/>
                            </a:lnTo>
                            <a:lnTo>
                              <a:pt x="6" y="43"/>
                            </a:lnTo>
                            <a:lnTo>
                              <a:pt x="1" y="55"/>
                            </a:lnTo>
                            <a:lnTo>
                              <a:pt x="0" y="58"/>
                            </a:lnTo>
                            <a:lnTo>
                              <a:pt x="41" y="26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6" name=""/>
                      <p:cNvSpPr/>
                      <p:nvPr/>
                    </p:nvSpPr>
                    <p:spPr>
                      <a:xfrm>
                        <a:off x="6329520" y="1546200"/>
                        <a:ext cx="193680" cy="26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" h="508">
                            <a:moveTo>
                              <a:pt x="366" y="450"/>
                            </a:moveTo>
                            <a:lnTo>
                              <a:pt x="378" y="472"/>
                            </a:lnTo>
                            <a:lnTo>
                              <a:pt x="303" y="508"/>
                            </a:lnTo>
                            <a:lnTo>
                              <a:pt x="295" y="500"/>
                            </a:lnTo>
                            <a:lnTo>
                              <a:pt x="278" y="494"/>
                            </a:lnTo>
                            <a:lnTo>
                              <a:pt x="263" y="484"/>
                            </a:lnTo>
                            <a:lnTo>
                              <a:pt x="240" y="446"/>
                            </a:lnTo>
                            <a:lnTo>
                              <a:pt x="228" y="425"/>
                            </a:lnTo>
                            <a:lnTo>
                              <a:pt x="217" y="389"/>
                            </a:lnTo>
                            <a:lnTo>
                              <a:pt x="191" y="371"/>
                            </a:lnTo>
                            <a:lnTo>
                              <a:pt x="176" y="363"/>
                            </a:lnTo>
                            <a:lnTo>
                              <a:pt x="169" y="351"/>
                            </a:lnTo>
                            <a:lnTo>
                              <a:pt x="150" y="345"/>
                            </a:lnTo>
                            <a:lnTo>
                              <a:pt x="136" y="330"/>
                            </a:lnTo>
                            <a:lnTo>
                              <a:pt x="121" y="325"/>
                            </a:lnTo>
                            <a:lnTo>
                              <a:pt x="113" y="310"/>
                            </a:lnTo>
                            <a:lnTo>
                              <a:pt x="96" y="304"/>
                            </a:lnTo>
                            <a:lnTo>
                              <a:pt x="83" y="319"/>
                            </a:lnTo>
                            <a:lnTo>
                              <a:pt x="92" y="334"/>
                            </a:lnTo>
                            <a:lnTo>
                              <a:pt x="79" y="347"/>
                            </a:lnTo>
                            <a:lnTo>
                              <a:pt x="60" y="331"/>
                            </a:lnTo>
                            <a:lnTo>
                              <a:pt x="45" y="331"/>
                            </a:lnTo>
                            <a:lnTo>
                              <a:pt x="20" y="338"/>
                            </a:lnTo>
                            <a:lnTo>
                              <a:pt x="0" y="339"/>
                            </a:lnTo>
                            <a:lnTo>
                              <a:pt x="27" y="318"/>
                            </a:lnTo>
                            <a:lnTo>
                              <a:pt x="45" y="298"/>
                            </a:lnTo>
                            <a:lnTo>
                              <a:pt x="46" y="279"/>
                            </a:lnTo>
                            <a:lnTo>
                              <a:pt x="13" y="276"/>
                            </a:lnTo>
                            <a:lnTo>
                              <a:pt x="45" y="251"/>
                            </a:lnTo>
                            <a:lnTo>
                              <a:pt x="68" y="244"/>
                            </a:lnTo>
                            <a:lnTo>
                              <a:pt x="95" y="244"/>
                            </a:lnTo>
                            <a:lnTo>
                              <a:pt x="116" y="225"/>
                            </a:lnTo>
                            <a:lnTo>
                              <a:pt x="130" y="205"/>
                            </a:lnTo>
                            <a:lnTo>
                              <a:pt x="134" y="185"/>
                            </a:lnTo>
                            <a:lnTo>
                              <a:pt x="120" y="168"/>
                            </a:lnTo>
                            <a:lnTo>
                              <a:pt x="108" y="147"/>
                            </a:lnTo>
                            <a:lnTo>
                              <a:pt x="111" y="130"/>
                            </a:lnTo>
                            <a:lnTo>
                              <a:pt x="117" y="107"/>
                            </a:lnTo>
                            <a:lnTo>
                              <a:pt x="128" y="95"/>
                            </a:lnTo>
                            <a:lnTo>
                              <a:pt x="140" y="82"/>
                            </a:lnTo>
                            <a:lnTo>
                              <a:pt x="143" y="66"/>
                            </a:lnTo>
                            <a:lnTo>
                              <a:pt x="142" y="50"/>
                            </a:lnTo>
                            <a:lnTo>
                              <a:pt x="150" y="37"/>
                            </a:lnTo>
                            <a:lnTo>
                              <a:pt x="171" y="29"/>
                            </a:lnTo>
                            <a:lnTo>
                              <a:pt x="178" y="33"/>
                            </a:lnTo>
                            <a:lnTo>
                              <a:pt x="204" y="37"/>
                            </a:lnTo>
                            <a:lnTo>
                              <a:pt x="215" y="21"/>
                            </a:lnTo>
                            <a:lnTo>
                              <a:pt x="211" y="0"/>
                            </a:lnTo>
                            <a:lnTo>
                              <a:pt x="223" y="0"/>
                            </a:lnTo>
                            <a:lnTo>
                              <a:pt x="234" y="20"/>
                            </a:lnTo>
                            <a:lnTo>
                              <a:pt x="252" y="45"/>
                            </a:lnTo>
                            <a:lnTo>
                              <a:pt x="265" y="78"/>
                            </a:lnTo>
                            <a:lnTo>
                              <a:pt x="285" y="89"/>
                            </a:lnTo>
                            <a:lnTo>
                              <a:pt x="296" y="99"/>
                            </a:lnTo>
                            <a:lnTo>
                              <a:pt x="315" y="134"/>
                            </a:lnTo>
                            <a:lnTo>
                              <a:pt x="341" y="140"/>
                            </a:lnTo>
                            <a:lnTo>
                              <a:pt x="329" y="161"/>
                            </a:lnTo>
                            <a:lnTo>
                              <a:pt x="304" y="190"/>
                            </a:lnTo>
                            <a:lnTo>
                              <a:pt x="283" y="217"/>
                            </a:lnTo>
                            <a:lnTo>
                              <a:pt x="282" y="221"/>
                            </a:lnTo>
                            <a:lnTo>
                              <a:pt x="281" y="226"/>
                            </a:lnTo>
                            <a:lnTo>
                              <a:pt x="281" y="232"/>
                            </a:lnTo>
                            <a:lnTo>
                              <a:pt x="281" y="240"/>
                            </a:lnTo>
                            <a:lnTo>
                              <a:pt x="281" y="251"/>
                            </a:lnTo>
                            <a:lnTo>
                              <a:pt x="282" y="260"/>
                            </a:lnTo>
                            <a:lnTo>
                              <a:pt x="285" y="267"/>
                            </a:lnTo>
                            <a:lnTo>
                              <a:pt x="286" y="272"/>
                            </a:lnTo>
                            <a:lnTo>
                              <a:pt x="293" y="288"/>
                            </a:lnTo>
                            <a:lnTo>
                              <a:pt x="303" y="312"/>
                            </a:lnTo>
                            <a:lnTo>
                              <a:pt x="329" y="372"/>
                            </a:lnTo>
                            <a:lnTo>
                              <a:pt x="366" y="45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7" name=""/>
                      <p:cNvSpPr/>
                      <p:nvPr/>
                    </p:nvSpPr>
                    <p:spPr>
                      <a:xfrm>
                        <a:off x="6475680" y="1827000"/>
                        <a:ext cx="169920" cy="25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9" h="492">
                            <a:moveTo>
                              <a:pt x="115" y="0"/>
                            </a:moveTo>
                            <a:lnTo>
                              <a:pt x="214" y="108"/>
                            </a:lnTo>
                            <a:lnTo>
                              <a:pt x="234" y="139"/>
                            </a:lnTo>
                            <a:lnTo>
                              <a:pt x="272" y="163"/>
                            </a:lnTo>
                            <a:lnTo>
                              <a:pt x="281" y="185"/>
                            </a:lnTo>
                            <a:lnTo>
                              <a:pt x="294" y="227"/>
                            </a:lnTo>
                            <a:lnTo>
                              <a:pt x="292" y="265"/>
                            </a:lnTo>
                            <a:lnTo>
                              <a:pt x="311" y="317"/>
                            </a:lnTo>
                            <a:lnTo>
                              <a:pt x="319" y="360"/>
                            </a:lnTo>
                            <a:lnTo>
                              <a:pt x="329" y="412"/>
                            </a:lnTo>
                            <a:lnTo>
                              <a:pt x="322" y="433"/>
                            </a:lnTo>
                            <a:lnTo>
                              <a:pt x="315" y="446"/>
                            </a:lnTo>
                            <a:lnTo>
                              <a:pt x="310" y="462"/>
                            </a:lnTo>
                            <a:lnTo>
                              <a:pt x="298" y="492"/>
                            </a:lnTo>
                            <a:lnTo>
                              <a:pt x="240" y="467"/>
                            </a:lnTo>
                            <a:lnTo>
                              <a:pt x="257" y="443"/>
                            </a:lnTo>
                            <a:lnTo>
                              <a:pt x="260" y="430"/>
                            </a:lnTo>
                            <a:lnTo>
                              <a:pt x="252" y="408"/>
                            </a:lnTo>
                            <a:lnTo>
                              <a:pt x="253" y="387"/>
                            </a:lnTo>
                            <a:lnTo>
                              <a:pt x="248" y="364"/>
                            </a:lnTo>
                            <a:lnTo>
                              <a:pt x="231" y="344"/>
                            </a:lnTo>
                            <a:lnTo>
                              <a:pt x="223" y="329"/>
                            </a:lnTo>
                            <a:lnTo>
                              <a:pt x="239" y="298"/>
                            </a:lnTo>
                            <a:lnTo>
                              <a:pt x="217" y="288"/>
                            </a:lnTo>
                            <a:lnTo>
                              <a:pt x="193" y="273"/>
                            </a:lnTo>
                            <a:lnTo>
                              <a:pt x="177" y="257"/>
                            </a:lnTo>
                            <a:lnTo>
                              <a:pt x="185" y="242"/>
                            </a:lnTo>
                            <a:lnTo>
                              <a:pt x="178" y="211"/>
                            </a:lnTo>
                            <a:lnTo>
                              <a:pt x="174" y="198"/>
                            </a:lnTo>
                            <a:lnTo>
                              <a:pt x="160" y="186"/>
                            </a:lnTo>
                            <a:lnTo>
                              <a:pt x="143" y="173"/>
                            </a:lnTo>
                            <a:lnTo>
                              <a:pt x="133" y="168"/>
                            </a:lnTo>
                            <a:lnTo>
                              <a:pt x="132" y="152"/>
                            </a:lnTo>
                            <a:lnTo>
                              <a:pt x="120" y="145"/>
                            </a:lnTo>
                            <a:lnTo>
                              <a:pt x="106" y="147"/>
                            </a:lnTo>
                            <a:lnTo>
                              <a:pt x="96" y="161"/>
                            </a:lnTo>
                            <a:lnTo>
                              <a:pt x="86" y="173"/>
                            </a:lnTo>
                            <a:lnTo>
                              <a:pt x="77" y="180"/>
                            </a:lnTo>
                            <a:lnTo>
                              <a:pt x="67" y="163"/>
                            </a:lnTo>
                            <a:lnTo>
                              <a:pt x="65" y="132"/>
                            </a:lnTo>
                            <a:lnTo>
                              <a:pt x="62" y="103"/>
                            </a:lnTo>
                            <a:lnTo>
                              <a:pt x="48" y="86"/>
                            </a:lnTo>
                            <a:lnTo>
                              <a:pt x="24" y="82"/>
                            </a:lnTo>
                            <a:lnTo>
                              <a:pt x="0" y="78"/>
                            </a:lnTo>
                            <a:lnTo>
                              <a:pt x="20" y="50"/>
                            </a:lnTo>
                            <a:lnTo>
                              <a:pt x="23" y="27"/>
                            </a:lnTo>
                            <a:lnTo>
                              <a:pt x="40" y="16"/>
                            </a:lnTo>
                            <a:lnTo>
                              <a:pt x="11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8" name=""/>
                      <p:cNvSpPr/>
                      <p:nvPr/>
                    </p:nvSpPr>
                    <p:spPr>
                      <a:xfrm>
                        <a:off x="7288560" y="2016000"/>
                        <a:ext cx="152280" cy="258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8" h="502">
                            <a:moveTo>
                              <a:pt x="93" y="501"/>
                            </a:moveTo>
                            <a:lnTo>
                              <a:pt x="92" y="502"/>
                            </a:lnTo>
                            <a:lnTo>
                              <a:pt x="87" y="502"/>
                            </a:lnTo>
                            <a:lnTo>
                              <a:pt x="77" y="502"/>
                            </a:lnTo>
                            <a:lnTo>
                              <a:pt x="63" y="501"/>
                            </a:lnTo>
                            <a:lnTo>
                              <a:pt x="40" y="499"/>
                            </a:lnTo>
                            <a:lnTo>
                              <a:pt x="34" y="498"/>
                            </a:lnTo>
                            <a:lnTo>
                              <a:pt x="33" y="497"/>
                            </a:lnTo>
                            <a:lnTo>
                              <a:pt x="31" y="494"/>
                            </a:lnTo>
                            <a:lnTo>
                              <a:pt x="29" y="488"/>
                            </a:lnTo>
                            <a:lnTo>
                              <a:pt x="25" y="480"/>
                            </a:lnTo>
                            <a:lnTo>
                              <a:pt x="22" y="470"/>
                            </a:lnTo>
                            <a:lnTo>
                              <a:pt x="21" y="461"/>
                            </a:lnTo>
                            <a:lnTo>
                              <a:pt x="21" y="455"/>
                            </a:lnTo>
                            <a:lnTo>
                              <a:pt x="21" y="452"/>
                            </a:lnTo>
                            <a:lnTo>
                              <a:pt x="22" y="449"/>
                            </a:lnTo>
                            <a:lnTo>
                              <a:pt x="23" y="445"/>
                            </a:lnTo>
                            <a:lnTo>
                              <a:pt x="23" y="440"/>
                            </a:lnTo>
                            <a:lnTo>
                              <a:pt x="25" y="435"/>
                            </a:lnTo>
                            <a:lnTo>
                              <a:pt x="26" y="431"/>
                            </a:lnTo>
                            <a:lnTo>
                              <a:pt x="27" y="424"/>
                            </a:lnTo>
                            <a:lnTo>
                              <a:pt x="27" y="416"/>
                            </a:lnTo>
                            <a:lnTo>
                              <a:pt x="26" y="407"/>
                            </a:lnTo>
                            <a:lnTo>
                              <a:pt x="25" y="399"/>
                            </a:lnTo>
                            <a:lnTo>
                              <a:pt x="22" y="391"/>
                            </a:lnTo>
                            <a:lnTo>
                              <a:pt x="22" y="379"/>
                            </a:lnTo>
                            <a:lnTo>
                              <a:pt x="23" y="369"/>
                            </a:lnTo>
                            <a:lnTo>
                              <a:pt x="25" y="361"/>
                            </a:lnTo>
                            <a:lnTo>
                              <a:pt x="23" y="358"/>
                            </a:lnTo>
                            <a:lnTo>
                              <a:pt x="23" y="354"/>
                            </a:lnTo>
                            <a:lnTo>
                              <a:pt x="22" y="352"/>
                            </a:lnTo>
                            <a:lnTo>
                              <a:pt x="19" y="348"/>
                            </a:lnTo>
                            <a:lnTo>
                              <a:pt x="14" y="340"/>
                            </a:lnTo>
                            <a:lnTo>
                              <a:pt x="10" y="332"/>
                            </a:lnTo>
                            <a:lnTo>
                              <a:pt x="6" y="323"/>
                            </a:lnTo>
                            <a:lnTo>
                              <a:pt x="7" y="320"/>
                            </a:lnTo>
                            <a:lnTo>
                              <a:pt x="7" y="313"/>
                            </a:lnTo>
                            <a:lnTo>
                              <a:pt x="7" y="304"/>
                            </a:lnTo>
                            <a:lnTo>
                              <a:pt x="7" y="302"/>
                            </a:lnTo>
                            <a:lnTo>
                              <a:pt x="6" y="299"/>
                            </a:lnTo>
                            <a:lnTo>
                              <a:pt x="4" y="296"/>
                            </a:lnTo>
                            <a:lnTo>
                              <a:pt x="2" y="294"/>
                            </a:lnTo>
                            <a:lnTo>
                              <a:pt x="1" y="291"/>
                            </a:lnTo>
                            <a:lnTo>
                              <a:pt x="0" y="283"/>
                            </a:lnTo>
                            <a:lnTo>
                              <a:pt x="0" y="271"/>
                            </a:lnTo>
                            <a:lnTo>
                              <a:pt x="0" y="261"/>
                            </a:lnTo>
                            <a:lnTo>
                              <a:pt x="1" y="248"/>
                            </a:lnTo>
                            <a:lnTo>
                              <a:pt x="1" y="241"/>
                            </a:lnTo>
                            <a:lnTo>
                              <a:pt x="1" y="234"/>
                            </a:lnTo>
                            <a:lnTo>
                              <a:pt x="1" y="224"/>
                            </a:lnTo>
                            <a:lnTo>
                              <a:pt x="4" y="217"/>
                            </a:lnTo>
                            <a:lnTo>
                              <a:pt x="4" y="207"/>
                            </a:lnTo>
                            <a:lnTo>
                              <a:pt x="4" y="200"/>
                            </a:lnTo>
                            <a:lnTo>
                              <a:pt x="2" y="195"/>
                            </a:lnTo>
                            <a:lnTo>
                              <a:pt x="1" y="189"/>
                            </a:lnTo>
                            <a:lnTo>
                              <a:pt x="13" y="118"/>
                            </a:lnTo>
                            <a:lnTo>
                              <a:pt x="15" y="114"/>
                            </a:lnTo>
                            <a:lnTo>
                              <a:pt x="18" y="110"/>
                            </a:lnTo>
                            <a:lnTo>
                              <a:pt x="21" y="105"/>
                            </a:lnTo>
                            <a:lnTo>
                              <a:pt x="23" y="98"/>
                            </a:lnTo>
                            <a:lnTo>
                              <a:pt x="27" y="95"/>
                            </a:lnTo>
                            <a:lnTo>
                              <a:pt x="30" y="88"/>
                            </a:lnTo>
                            <a:lnTo>
                              <a:pt x="31" y="85"/>
                            </a:lnTo>
                            <a:lnTo>
                              <a:pt x="33" y="81"/>
                            </a:lnTo>
                            <a:lnTo>
                              <a:pt x="34" y="75"/>
                            </a:lnTo>
                            <a:lnTo>
                              <a:pt x="35" y="71"/>
                            </a:lnTo>
                            <a:lnTo>
                              <a:pt x="35" y="69"/>
                            </a:lnTo>
                            <a:lnTo>
                              <a:pt x="35" y="68"/>
                            </a:lnTo>
                            <a:lnTo>
                              <a:pt x="34" y="67"/>
                            </a:lnTo>
                            <a:lnTo>
                              <a:pt x="31" y="66"/>
                            </a:lnTo>
                            <a:lnTo>
                              <a:pt x="25" y="62"/>
                            </a:lnTo>
                            <a:lnTo>
                              <a:pt x="21" y="60"/>
                            </a:lnTo>
                            <a:lnTo>
                              <a:pt x="19" y="59"/>
                            </a:lnTo>
                            <a:lnTo>
                              <a:pt x="18" y="58"/>
                            </a:lnTo>
                            <a:lnTo>
                              <a:pt x="17" y="55"/>
                            </a:lnTo>
                            <a:lnTo>
                              <a:pt x="17" y="52"/>
                            </a:lnTo>
                            <a:lnTo>
                              <a:pt x="17" y="47"/>
                            </a:lnTo>
                            <a:lnTo>
                              <a:pt x="17" y="43"/>
                            </a:lnTo>
                            <a:lnTo>
                              <a:pt x="18" y="40"/>
                            </a:lnTo>
                            <a:lnTo>
                              <a:pt x="19" y="39"/>
                            </a:lnTo>
                            <a:lnTo>
                              <a:pt x="21" y="38"/>
                            </a:lnTo>
                            <a:lnTo>
                              <a:pt x="23" y="37"/>
                            </a:lnTo>
                            <a:lnTo>
                              <a:pt x="30" y="34"/>
                            </a:lnTo>
                            <a:lnTo>
                              <a:pt x="35" y="31"/>
                            </a:lnTo>
                            <a:lnTo>
                              <a:pt x="42" y="27"/>
                            </a:lnTo>
                            <a:lnTo>
                              <a:pt x="43" y="23"/>
                            </a:lnTo>
                            <a:lnTo>
                              <a:pt x="46" y="19"/>
                            </a:lnTo>
                            <a:lnTo>
                              <a:pt x="48" y="18"/>
                            </a:lnTo>
                            <a:lnTo>
                              <a:pt x="52" y="17"/>
                            </a:lnTo>
                            <a:lnTo>
                              <a:pt x="58" y="13"/>
                            </a:lnTo>
                            <a:lnTo>
                              <a:pt x="62" y="9"/>
                            </a:lnTo>
                            <a:lnTo>
                              <a:pt x="64" y="6"/>
                            </a:lnTo>
                            <a:lnTo>
                              <a:pt x="67" y="6"/>
                            </a:lnTo>
                            <a:lnTo>
                              <a:pt x="69" y="6"/>
                            </a:lnTo>
                            <a:lnTo>
                              <a:pt x="72" y="6"/>
                            </a:lnTo>
                            <a:lnTo>
                              <a:pt x="79" y="10"/>
                            </a:lnTo>
                            <a:lnTo>
                              <a:pt x="85" y="14"/>
                            </a:lnTo>
                            <a:lnTo>
                              <a:pt x="91" y="19"/>
                            </a:lnTo>
                            <a:lnTo>
                              <a:pt x="92" y="18"/>
                            </a:lnTo>
                            <a:lnTo>
                              <a:pt x="96" y="18"/>
                            </a:lnTo>
                            <a:lnTo>
                              <a:pt x="98" y="18"/>
                            </a:lnTo>
                            <a:lnTo>
                              <a:pt x="101" y="18"/>
                            </a:lnTo>
                            <a:lnTo>
                              <a:pt x="104" y="18"/>
                            </a:lnTo>
                            <a:lnTo>
                              <a:pt x="108" y="21"/>
                            </a:lnTo>
                            <a:lnTo>
                              <a:pt x="110" y="22"/>
                            </a:lnTo>
                            <a:lnTo>
                              <a:pt x="114" y="23"/>
                            </a:lnTo>
                            <a:lnTo>
                              <a:pt x="122" y="26"/>
                            </a:lnTo>
                            <a:lnTo>
                              <a:pt x="131" y="27"/>
                            </a:lnTo>
                            <a:lnTo>
                              <a:pt x="146" y="30"/>
                            </a:lnTo>
                            <a:lnTo>
                              <a:pt x="151" y="30"/>
                            </a:lnTo>
                            <a:lnTo>
                              <a:pt x="155" y="29"/>
                            </a:lnTo>
                            <a:lnTo>
                              <a:pt x="158" y="29"/>
                            </a:lnTo>
                            <a:lnTo>
                              <a:pt x="160" y="27"/>
                            </a:lnTo>
                            <a:lnTo>
                              <a:pt x="162" y="26"/>
                            </a:lnTo>
                            <a:lnTo>
                              <a:pt x="163" y="23"/>
                            </a:lnTo>
                            <a:lnTo>
                              <a:pt x="166" y="18"/>
                            </a:lnTo>
                            <a:lnTo>
                              <a:pt x="168" y="14"/>
                            </a:lnTo>
                            <a:lnTo>
                              <a:pt x="170" y="13"/>
                            </a:lnTo>
                            <a:lnTo>
                              <a:pt x="172" y="13"/>
                            </a:lnTo>
                            <a:lnTo>
                              <a:pt x="180" y="11"/>
                            </a:lnTo>
                            <a:lnTo>
                              <a:pt x="188" y="10"/>
                            </a:lnTo>
                            <a:lnTo>
                              <a:pt x="191" y="10"/>
                            </a:lnTo>
                            <a:lnTo>
                              <a:pt x="192" y="9"/>
                            </a:lnTo>
                            <a:lnTo>
                              <a:pt x="196" y="6"/>
                            </a:lnTo>
                            <a:lnTo>
                              <a:pt x="200" y="4"/>
                            </a:lnTo>
                            <a:lnTo>
                              <a:pt x="201" y="2"/>
                            </a:lnTo>
                            <a:lnTo>
                              <a:pt x="204" y="1"/>
                            </a:lnTo>
                            <a:lnTo>
                              <a:pt x="212" y="0"/>
                            </a:lnTo>
                            <a:lnTo>
                              <a:pt x="213" y="1"/>
                            </a:lnTo>
                            <a:lnTo>
                              <a:pt x="215" y="4"/>
                            </a:lnTo>
                            <a:lnTo>
                              <a:pt x="217" y="8"/>
                            </a:lnTo>
                            <a:lnTo>
                              <a:pt x="217" y="10"/>
                            </a:lnTo>
                            <a:lnTo>
                              <a:pt x="218" y="11"/>
                            </a:lnTo>
                            <a:lnTo>
                              <a:pt x="220" y="15"/>
                            </a:lnTo>
                            <a:lnTo>
                              <a:pt x="217" y="22"/>
                            </a:lnTo>
                            <a:lnTo>
                              <a:pt x="216" y="26"/>
                            </a:lnTo>
                            <a:lnTo>
                              <a:pt x="215" y="29"/>
                            </a:lnTo>
                            <a:lnTo>
                              <a:pt x="216" y="35"/>
                            </a:lnTo>
                            <a:lnTo>
                              <a:pt x="217" y="37"/>
                            </a:lnTo>
                            <a:lnTo>
                              <a:pt x="217" y="38"/>
                            </a:lnTo>
                            <a:lnTo>
                              <a:pt x="218" y="39"/>
                            </a:lnTo>
                            <a:lnTo>
                              <a:pt x="205" y="59"/>
                            </a:lnTo>
                            <a:lnTo>
                              <a:pt x="203" y="75"/>
                            </a:lnTo>
                            <a:lnTo>
                              <a:pt x="204" y="76"/>
                            </a:lnTo>
                            <a:lnTo>
                              <a:pt x="204" y="79"/>
                            </a:lnTo>
                            <a:lnTo>
                              <a:pt x="204" y="85"/>
                            </a:lnTo>
                            <a:lnTo>
                              <a:pt x="205" y="91"/>
                            </a:lnTo>
                            <a:lnTo>
                              <a:pt x="205" y="93"/>
                            </a:lnTo>
                            <a:lnTo>
                              <a:pt x="205" y="95"/>
                            </a:lnTo>
                            <a:lnTo>
                              <a:pt x="201" y="101"/>
                            </a:lnTo>
                            <a:lnTo>
                              <a:pt x="196" y="113"/>
                            </a:lnTo>
                            <a:lnTo>
                              <a:pt x="195" y="116"/>
                            </a:lnTo>
                            <a:lnTo>
                              <a:pt x="195" y="121"/>
                            </a:lnTo>
                            <a:lnTo>
                              <a:pt x="195" y="138"/>
                            </a:lnTo>
                            <a:lnTo>
                              <a:pt x="195" y="145"/>
                            </a:lnTo>
                            <a:lnTo>
                              <a:pt x="195" y="149"/>
                            </a:lnTo>
                            <a:lnTo>
                              <a:pt x="193" y="153"/>
                            </a:lnTo>
                            <a:lnTo>
                              <a:pt x="195" y="159"/>
                            </a:lnTo>
                            <a:lnTo>
                              <a:pt x="197" y="171"/>
                            </a:lnTo>
                            <a:lnTo>
                              <a:pt x="199" y="176"/>
                            </a:lnTo>
                            <a:lnTo>
                              <a:pt x="199" y="182"/>
                            </a:lnTo>
                            <a:lnTo>
                              <a:pt x="199" y="197"/>
                            </a:lnTo>
                            <a:lnTo>
                              <a:pt x="199" y="211"/>
                            </a:lnTo>
                            <a:lnTo>
                              <a:pt x="199" y="225"/>
                            </a:lnTo>
                            <a:lnTo>
                              <a:pt x="199" y="228"/>
                            </a:lnTo>
                            <a:lnTo>
                              <a:pt x="199" y="229"/>
                            </a:lnTo>
                            <a:lnTo>
                              <a:pt x="196" y="232"/>
                            </a:lnTo>
                            <a:lnTo>
                              <a:pt x="196" y="233"/>
                            </a:lnTo>
                            <a:lnTo>
                              <a:pt x="196" y="234"/>
                            </a:lnTo>
                            <a:lnTo>
                              <a:pt x="197" y="238"/>
                            </a:lnTo>
                            <a:lnTo>
                              <a:pt x="199" y="242"/>
                            </a:lnTo>
                            <a:lnTo>
                              <a:pt x="204" y="249"/>
                            </a:lnTo>
                            <a:lnTo>
                              <a:pt x="207" y="253"/>
                            </a:lnTo>
                            <a:lnTo>
                              <a:pt x="208" y="255"/>
                            </a:lnTo>
                            <a:lnTo>
                              <a:pt x="209" y="258"/>
                            </a:lnTo>
                            <a:lnTo>
                              <a:pt x="209" y="265"/>
                            </a:lnTo>
                            <a:lnTo>
                              <a:pt x="209" y="269"/>
                            </a:lnTo>
                            <a:lnTo>
                              <a:pt x="208" y="273"/>
                            </a:lnTo>
                            <a:lnTo>
                              <a:pt x="207" y="277"/>
                            </a:lnTo>
                            <a:lnTo>
                              <a:pt x="207" y="279"/>
                            </a:lnTo>
                            <a:lnTo>
                              <a:pt x="208" y="280"/>
                            </a:lnTo>
                            <a:lnTo>
                              <a:pt x="209" y="283"/>
                            </a:lnTo>
                            <a:lnTo>
                              <a:pt x="213" y="287"/>
                            </a:lnTo>
                            <a:lnTo>
                              <a:pt x="218" y="290"/>
                            </a:lnTo>
                            <a:lnTo>
                              <a:pt x="222" y="292"/>
                            </a:lnTo>
                            <a:lnTo>
                              <a:pt x="229" y="295"/>
                            </a:lnTo>
                            <a:lnTo>
                              <a:pt x="234" y="298"/>
                            </a:lnTo>
                            <a:lnTo>
                              <a:pt x="245" y="300"/>
                            </a:lnTo>
                            <a:lnTo>
                              <a:pt x="251" y="302"/>
                            </a:lnTo>
                            <a:lnTo>
                              <a:pt x="257" y="302"/>
                            </a:lnTo>
                            <a:lnTo>
                              <a:pt x="261" y="300"/>
                            </a:lnTo>
                            <a:lnTo>
                              <a:pt x="270" y="299"/>
                            </a:lnTo>
                            <a:lnTo>
                              <a:pt x="275" y="299"/>
                            </a:lnTo>
                            <a:lnTo>
                              <a:pt x="280" y="299"/>
                            </a:lnTo>
                            <a:lnTo>
                              <a:pt x="286" y="300"/>
                            </a:lnTo>
                            <a:lnTo>
                              <a:pt x="298" y="303"/>
                            </a:lnTo>
                            <a:lnTo>
                              <a:pt x="282" y="324"/>
                            </a:lnTo>
                            <a:lnTo>
                              <a:pt x="267" y="345"/>
                            </a:lnTo>
                            <a:lnTo>
                              <a:pt x="250" y="365"/>
                            </a:lnTo>
                            <a:lnTo>
                              <a:pt x="242" y="375"/>
                            </a:lnTo>
                            <a:lnTo>
                              <a:pt x="232" y="386"/>
                            </a:lnTo>
                            <a:lnTo>
                              <a:pt x="221" y="398"/>
                            </a:lnTo>
                            <a:lnTo>
                              <a:pt x="209" y="408"/>
                            </a:lnTo>
                            <a:lnTo>
                              <a:pt x="185" y="430"/>
                            </a:lnTo>
                            <a:lnTo>
                              <a:pt x="166" y="445"/>
                            </a:lnTo>
                            <a:lnTo>
                              <a:pt x="145" y="461"/>
                            </a:lnTo>
                            <a:lnTo>
                              <a:pt x="121" y="480"/>
                            </a:lnTo>
                            <a:lnTo>
                              <a:pt x="93" y="50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9" name=""/>
                      <p:cNvSpPr/>
                      <p:nvPr/>
                    </p:nvSpPr>
                    <p:spPr>
                      <a:xfrm>
                        <a:off x="6321600" y="2827080"/>
                        <a:ext cx="376200" cy="23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462">
                            <a:moveTo>
                              <a:pt x="15" y="374"/>
                            </a:moveTo>
                            <a:lnTo>
                              <a:pt x="5" y="344"/>
                            </a:lnTo>
                            <a:lnTo>
                              <a:pt x="0" y="317"/>
                            </a:lnTo>
                            <a:lnTo>
                              <a:pt x="7" y="303"/>
                            </a:lnTo>
                            <a:lnTo>
                              <a:pt x="24" y="309"/>
                            </a:lnTo>
                            <a:lnTo>
                              <a:pt x="37" y="321"/>
                            </a:lnTo>
                            <a:lnTo>
                              <a:pt x="53" y="325"/>
                            </a:lnTo>
                            <a:lnTo>
                              <a:pt x="57" y="317"/>
                            </a:lnTo>
                            <a:lnTo>
                              <a:pt x="60" y="311"/>
                            </a:lnTo>
                            <a:lnTo>
                              <a:pt x="64" y="303"/>
                            </a:lnTo>
                            <a:lnTo>
                              <a:pt x="74" y="282"/>
                            </a:lnTo>
                            <a:lnTo>
                              <a:pt x="81" y="270"/>
                            </a:lnTo>
                            <a:lnTo>
                              <a:pt x="82" y="246"/>
                            </a:lnTo>
                            <a:lnTo>
                              <a:pt x="83" y="228"/>
                            </a:lnTo>
                            <a:lnTo>
                              <a:pt x="83" y="220"/>
                            </a:lnTo>
                            <a:lnTo>
                              <a:pt x="85" y="212"/>
                            </a:lnTo>
                            <a:lnTo>
                              <a:pt x="85" y="205"/>
                            </a:lnTo>
                            <a:lnTo>
                              <a:pt x="86" y="200"/>
                            </a:lnTo>
                            <a:lnTo>
                              <a:pt x="86" y="196"/>
                            </a:lnTo>
                            <a:lnTo>
                              <a:pt x="87" y="192"/>
                            </a:lnTo>
                            <a:lnTo>
                              <a:pt x="91" y="183"/>
                            </a:lnTo>
                            <a:lnTo>
                              <a:pt x="95" y="174"/>
                            </a:lnTo>
                            <a:lnTo>
                              <a:pt x="86" y="159"/>
                            </a:lnTo>
                            <a:lnTo>
                              <a:pt x="82" y="146"/>
                            </a:lnTo>
                            <a:lnTo>
                              <a:pt x="100" y="137"/>
                            </a:lnTo>
                            <a:lnTo>
                              <a:pt x="127" y="109"/>
                            </a:lnTo>
                            <a:lnTo>
                              <a:pt x="155" y="87"/>
                            </a:lnTo>
                            <a:lnTo>
                              <a:pt x="178" y="75"/>
                            </a:lnTo>
                            <a:lnTo>
                              <a:pt x="207" y="52"/>
                            </a:lnTo>
                            <a:lnTo>
                              <a:pt x="228" y="40"/>
                            </a:lnTo>
                            <a:lnTo>
                              <a:pt x="251" y="36"/>
                            </a:lnTo>
                            <a:lnTo>
                              <a:pt x="275" y="33"/>
                            </a:lnTo>
                            <a:lnTo>
                              <a:pt x="298" y="52"/>
                            </a:lnTo>
                            <a:lnTo>
                              <a:pt x="322" y="52"/>
                            </a:lnTo>
                            <a:lnTo>
                              <a:pt x="350" y="50"/>
                            </a:lnTo>
                            <a:lnTo>
                              <a:pt x="369" y="43"/>
                            </a:lnTo>
                            <a:lnTo>
                              <a:pt x="372" y="42"/>
                            </a:lnTo>
                            <a:lnTo>
                              <a:pt x="377" y="38"/>
                            </a:lnTo>
                            <a:lnTo>
                              <a:pt x="381" y="35"/>
                            </a:lnTo>
                            <a:lnTo>
                              <a:pt x="384" y="33"/>
                            </a:lnTo>
                            <a:lnTo>
                              <a:pt x="385" y="30"/>
                            </a:lnTo>
                            <a:lnTo>
                              <a:pt x="388" y="27"/>
                            </a:lnTo>
                            <a:lnTo>
                              <a:pt x="391" y="23"/>
                            </a:lnTo>
                            <a:lnTo>
                              <a:pt x="397" y="7"/>
                            </a:lnTo>
                            <a:lnTo>
                              <a:pt x="398" y="2"/>
                            </a:lnTo>
                            <a:lnTo>
                              <a:pt x="414" y="27"/>
                            </a:lnTo>
                            <a:lnTo>
                              <a:pt x="416" y="30"/>
                            </a:lnTo>
                            <a:lnTo>
                              <a:pt x="420" y="33"/>
                            </a:lnTo>
                            <a:lnTo>
                              <a:pt x="430" y="38"/>
                            </a:lnTo>
                            <a:lnTo>
                              <a:pt x="443" y="42"/>
                            </a:lnTo>
                            <a:lnTo>
                              <a:pt x="446" y="43"/>
                            </a:lnTo>
                            <a:lnTo>
                              <a:pt x="451" y="44"/>
                            </a:lnTo>
                            <a:lnTo>
                              <a:pt x="454" y="44"/>
                            </a:lnTo>
                            <a:lnTo>
                              <a:pt x="458" y="44"/>
                            </a:lnTo>
                            <a:lnTo>
                              <a:pt x="463" y="43"/>
                            </a:lnTo>
                            <a:lnTo>
                              <a:pt x="467" y="40"/>
                            </a:lnTo>
                            <a:lnTo>
                              <a:pt x="474" y="36"/>
                            </a:lnTo>
                            <a:lnTo>
                              <a:pt x="476" y="34"/>
                            </a:lnTo>
                            <a:lnTo>
                              <a:pt x="478" y="30"/>
                            </a:lnTo>
                            <a:lnTo>
                              <a:pt x="482" y="22"/>
                            </a:lnTo>
                            <a:lnTo>
                              <a:pt x="486" y="13"/>
                            </a:lnTo>
                            <a:lnTo>
                              <a:pt x="488" y="6"/>
                            </a:lnTo>
                            <a:lnTo>
                              <a:pt x="492" y="2"/>
                            </a:lnTo>
                            <a:lnTo>
                              <a:pt x="516" y="0"/>
                            </a:lnTo>
                            <a:lnTo>
                              <a:pt x="537" y="9"/>
                            </a:lnTo>
                            <a:lnTo>
                              <a:pt x="559" y="26"/>
                            </a:lnTo>
                            <a:lnTo>
                              <a:pt x="574" y="43"/>
                            </a:lnTo>
                            <a:lnTo>
                              <a:pt x="582" y="58"/>
                            </a:lnTo>
                            <a:lnTo>
                              <a:pt x="570" y="68"/>
                            </a:lnTo>
                            <a:lnTo>
                              <a:pt x="542" y="92"/>
                            </a:lnTo>
                            <a:lnTo>
                              <a:pt x="526" y="104"/>
                            </a:lnTo>
                            <a:lnTo>
                              <a:pt x="512" y="116"/>
                            </a:lnTo>
                            <a:lnTo>
                              <a:pt x="501" y="123"/>
                            </a:lnTo>
                            <a:lnTo>
                              <a:pt x="496" y="126"/>
                            </a:lnTo>
                            <a:lnTo>
                              <a:pt x="493" y="126"/>
                            </a:lnTo>
                            <a:lnTo>
                              <a:pt x="486" y="129"/>
                            </a:lnTo>
                            <a:lnTo>
                              <a:pt x="474" y="133"/>
                            </a:lnTo>
                            <a:lnTo>
                              <a:pt x="443" y="143"/>
                            </a:lnTo>
                            <a:lnTo>
                              <a:pt x="401" y="159"/>
                            </a:lnTo>
                            <a:lnTo>
                              <a:pt x="416" y="187"/>
                            </a:lnTo>
                            <a:lnTo>
                              <a:pt x="397" y="204"/>
                            </a:lnTo>
                            <a:lnTo>
                              <a:pt x="410" y="236"/>
                            </a:lnTo>
                            <a:lnTo>
                              <a:pt x="414" y="240"/>
                            </a:lnTo>
                            <a:lnTo>
                              <a:pt x="422" y="250"/>
                            </a:lnTo>
                            <a:lnTo>
                              <a:pt x="429" y="254"/>
                            </a:lnTo>
                            <a:lnTo>
                              <a:pt x="434" y="259"/>
                            </a:lnTo>
                            <a:lnTo>
                              <a:pt x="441" y="262"/>
                            </a:lnTo>
                            <a:lnTo>
                              <a:pt x="443" y="263"/>
                            </a:lnTo>
                            <a:lnTo>
                              <a:pt x="446" y="263"/>
                            </a:lnTo>
                            <a:lnTo>
                              <a:pt x="457" y="265"/>
                            </a:lnTo>
                            <a:lnTo>
                              <a:pt x="466" y="265"/>
                            </a:lnTo>
                            <a:lnTo>
                              <a:pt x="482" y="266"/>
                            </a:lnTo>
                            <a:lnTo>
                              <a:pt x="522" y="267"/>
                            </a:lnTo>
                            <a:lnTo>
                              <a:pt x="562" y="276"/>
                            </a:lnTo>
                            <a:lnTo>
                              <a:pt x="565" y="275"/>
                            </a:lnTo>
                            <a:lnTo>
                              <a:pt x="569" y="274"/>
                            </a:lnTo>
                            <a:lnTo>
                              <a:pt x="571" y="274"/>
                            </a:lnTo>
                            <a:lnTo>
                              <a:pt x="575" y="275"/>
                            </a:lnTo>
                            <a:lnTo>
                              <a:pt x="579" y="278"/>
                            </a:lnTo>
                            <a:lnTo>
                              <a:pt x="582" y="283"/>
                            </a:lnTo>
                            <a:lnTo>
                              <a:pt x="584" y="286"/>
                            </a:lnTo>
                            <a:lnTo>
                              <a:pt x="587" y="287"/>
                            </a:lnTo>
                            <a:lnTo>
                              <a:pt x="588" y="288"/>
                            </a:lnTo>
                            <a:lnTo>
                              <a:pt x="591" y="288"/>
                            </a:lnTo>
                            <a:lnTo>
                              <a:pt x="598" y="287"/>
                            </a:lnTo>
                            <a:lnTo>
                              <a:pt x="603" y="286"/>
                            </a:lnTo>
                            <a:lnTo>
                              <a:pt x="608" y="283"/>
                            </a:lnTo>
                            <a:lnTo>
                              <a:pt x="612" y="280"/>
                            </a:lnTo>
                            <a:lnTo>
                              <a:pt x="616" y="276"/>
                            </a:lnTo>
                            <a:lnTo>
                              <a:pt x="677" y="290"/>
                            </a:lnTo>
                            <a:lnTo>
                              <a:pt x="707" y="305"/>
                            </a:lnTo>
                            <a:lnTo>
                              <a:pt x="732" y="311"/>
                            </a:lnTo>
                            <a:lnTo>
                              <a:pt x="724" y="327"/>
                            </a:lnTo>
                            <a:lnTo>
                              <a:pt x="701" y="348"/>
                            </a:lnTo>
                            <a:lnTo>
                              <a:pt x="685" y="366"/>
                            </a:lnTo>
                            <a:lnTo>
                              <a:pt x="660" y="375"/>
                            </a:lnTo>
                            <a:lnTo>
                              <a:pt x="640" y="375"/>
                            </a:lnTo>
                            <a:lnTo>
                              <a:pt x="624" y="378"/>
                            </a:lnTo>
                            <a:lnTo>
                              <a:pt x="607" y="391"/>
                            </a:lnTo>
                            <a:lnTo>
                              <a:pt x="603" y="393"/>
                            </a:lnTo>
                            <a:lnTo>
                              <a:pt x="596" y="396"/>
                            </a:lnTo>
                            <a:lnTo>
                              <a:pt x="592" y="399"/>
                            </a:lnTo>
                            <a:lnTo>
                              <a:pt x="588" y="402"/>
                            </a:lnTo>
                            <a:lnTo>
                              <a:pt x="586" y="406"/>
                            </a:lnTo>
                            <a:lnTo>
                              <a:pt x="584" y="410"/>
                            </a:lnTo>
                            <a:lnTo>
                              <a:pt x="583" y="415"/>
                            </a:lnTo>
                            <a:lnTo>
                              <a:pt x="583" y="420"/>
                            </a:lnTo>
                            <a:lnTo>
                              <a:pt x="584" y="431"/>
                            </a:lnTo>
                            <a:lnTo>
                              <a:pt x="586" y="441"/>
                            </a:lnTo>
                            <a:lnTo>
                              <a:pt x="591" y="462"/>
                            </a:lnTo>
                            <a:lnTo>
                              <a:pt x="584" y="462"/>
                            </a:lnTo>
                            <a:lnTo>
                              <a:pt x="578" y="462"/>
                            </a:lnTo>
                            <a:lnTo>
                              <a:pt x="571" y="462"/>
                            </a:lnTo>
                            <a:lnTo>
                              <a:pt x="536" y="453"/>
                            </a:lnTo>
                            <a:lnTo>
                              <a:pt x="515" y="447"/>
                            </a:lnTo>
                            <a:lnTo>
                              <a:pt x="492" y="436"/>
                            </a:lnTo>
                            <a:lnTo>
                              <a:pt x="467" y="433"/>
                            </a:lnTo>
                            <a:lnTo>
                              <a:pt x="441" y="449"/>
                            </a:lnTo>
                            <a:lnTo>
                              <a:pt x="421" y="451"/>
                            </a:lnTo>
                            <a:lnTo>
                              <a:pt x="397" y="448"/>
                            </a:lnTo>
                            <a:lnTo>
                              <a:pt x="381" y="437"/>
                            </a:lnTo>
                            <a:lnTo>
                              <a:pt x="371" y="427"/>
                            </a:lnTo>
                            <a:lnTo>
                              <a:pt x="350" y="424"/>
                            </a:lnTo>
                            <a:lnTo>
                              <a:pt x="319" y="424"/>
                            </a:lnTo>
                            <a:lnTo>
                              <a:pt x="309" y="407"/>
                            </a:lnTo>
                            <a:lnTo>
                              <a:pt x="309" y="386"/>
                            </a:lnTo>
                            <a:lnTo>
                              <a:pt x="290" y="389"/>
                            </a:lnTo>
                            <a:lnTo>
                              <a:pt x="267" y="398"/>
                            </a:lnTo>
                            <a:lnTo>
                              <a:pt x="255" y="391"/>
                            </a:lnTo>
                            <a:lnTo>
                              <a:pt x="243" y="402"/>
                            </a:lnTo>
                            <a:lnTo>
                              <a:pt x="235" y="410"/>
                            </a:lnTo>
                            <a:lnTo>
                              <a:pt x="203" y="407"/>
                            </a:lnTo>
                            <a:lnTo>
                              <a:pt x="164" y="394"/>
                            </a:lnTo>
                            <a:lnTo>
                              <a:pt x="141" y="394"/>
                            </a:lnTo>
                            <a:lnTo>
                              <a:pt x="116" y="393"/>
                            </a:lnTo>
                            <a:lnTo>
                              <a:pt x="100" y="391"/>
                            </a:lnTo>
                            <a:lnTo>
                              <a:pt x="86" y="400"/>
                            </a:lnTo>
                            <a:lnTo>
                              <a:pt x="71" y="414"/>
                            </a:lnTo>
                            <a:lnTo>
                              <a:pt x="31" y="406"/>
                            </a:lnTo>
                            <a:lnTo>
                              <a:pt x="15" y="3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510" name=""/>
              <p:cNvGrpSpPr/>
              <p:nvPr/>
            </p:nvGrpSpPr>
            <p:grpSpPr>
              <a:xfrm>
                <a:off x="4702320" y="2720880"/>
                <a:ext cx="3968280" cy="3290400"/>
                <a:chOff x="4702320" y="2720880"/>
                <a:chExt cx="3968280" cy="3290400"/>
              </a:xfrm>
            </p:grpSpPr>
            <p:sp>
              <p:nvSpPr>
                <p:cNvPr id="1511" name=""/>
                <p:cNvSpPr/>
                <p:nvPr/>
              </p:nvSpPr>
              <p:spPr>
                <a:xfrm>
                  <a:off x="5629680" y="3332880"/>
                  <a:ext cx="15120" cy="13680"/>
                </a:xfrm>
                <a:custGeom>
                  <a:avLst/>
                  <a:gdLst/>
                  <a:ahLst/>
                  <a:rect l="l" t="t" r="r" b="b"/>
                  <a:pathLst>
                    <a:path w="32" h="29">
                      <a:moveTo>
                        <a:pt x="7" y="0"/>
                      </a:moveTo>
                      <a:lnTo>
                        <a:pt x="0" y="8"/>
                      </a:lnTo>
                      <a:lnTo>
                        <a:pt x="25" y="29"/>
                      </a:lnTo>
                      <a:lnTo>
                        <a:pt x="32" y="2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5622120" y="3343680"/>
                  <a:ext cx="24480" cy="2772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7" y="6"/>
                      </a:moveTo>
                      <a:lnTo>
                        <a:pt x="39" y="0"/>
                      </a:lnTo>
                      <a:lnTo>
                        <a:pt x="0" y="47"/>
                      </a:lnTo>
                      <a:lnTo>
                        <a:pt x="7" y="54"/>
                      </a:lnTo>
                      <a:lnTo>
                        <a:pt x="47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5641920" y="334368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7" y="0"/>
                      </a:moveTo>
                      <a:lnTo>
                        <a:pt x="12" y="4"/>
                      </a:lnTo>
                      <a:lnTo>
                        <a:pt x="8" y="8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5577120" y="3368880"/>
                  <a:ext cx="47880" cy="26280"/>
                </a:xfrm>
                <a:custGeom>
                  <a:avLst/>
                  <a:gdLst/>
                  <a:ahLst/>
                  <a:rect l="l" t="t" r="r" b="b"/>
                  <a:pathLst>
                    <a:path w="94" h="53">
                      <a:moveTo>
                        <a:pt x="94" y="9"/>
                      </a:moveTo>
                      <a:lnTo>
                        <a:pt x="89" y="0"/>
                      </a:lnTo>
                      <a:lnTo>
                        <a:pt x="0" y="43"/>
                      </a:lnTo>
                      <a:lnTo>
                        <a:pt x="6" y="53"/>
                      </a:lnTo>
                      <a:lnTo>
                        <a:pt x="9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5622120" y="336888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8"/>
                      </a:moveTo>
                      <a:lnTo>
                        <a:pt x="6" y="9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5526000" y="3390120"/>
                  <a:ext cx="52560" cy="12600"/>
                </a:xfrm>
                <a:custGeom>
                  <a:avLst/>
                  <a:gdLst/>
                  <a:ahLst/>
                  <a:rect l="l" t="t" r="r" b="b"/>
                  <a:pathLst>
                    <a:path w="101" h="24">
                      <a:moveTo>
                        <a:pt x="101" y="10"/>
                      </a:moveTo>
                      <a:lnTo>
                        <a:pt x="99" y="0"/>
                      </a:lnTo>
                      <a:lnTo>
                        <a:pt x="0" y="15"/>
                      </a:lnTo>
                      <a:lnTo>
                        <a:pt x="3" y="24"/>
                      </a:lnTo>
                      <a:lnTo>
                        <a:pt x="101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5577120" y="339012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10"/>
                      </a:moveTo>
                      <a:lnTo>
                        <a:pt x="4" y="1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5504760" y="3398040"/>
                  <a:ext cx="24480" cy="38520"/>
                </a:xfrm>
                <a:custGeom>
                  <a:avLst/>
                  <a:gdLst/>
                  <a:ahLst/>
                  <a:rect l="l" t="t" r="r" b="b"/>
                  <a:pathLst>
                    <a:path w="47" h="74">
                      <a:moveTo>
                        <a:pt x="47" y="6"/>
                      </a:moveTo>
                      <a:lnTo>
                        <a:pt x="34" y="38"/>
                      </a:lnTo>
                      <a:lnTo>
                        <a:pt x="21" y="62"/>
                      </a:lnTo>
                      <a:lnTo>
                        <a:pt x="12" y="71"/>
                      </a:lnTo>
                      <a:lnTo>
                        <a:pt x="5" y="74"/>
                      </a:lnTo>
                      <a:lnTo>
                        <a:pt x="0" y="65"/>
                      </a:lnTo>
                      <a:lnTo>
                        <a:pt x="6" y="62"/>
                      </a:lnTo>
                      <a:lnTo>
                        <a:pt x="12" y="57"/>
                      </a:lnTo>
                      <a:lnTo>
                        <a:pt x="25" y="33"/>
                      </a:lnTo>
                      <a:lnTo>
                        <a:pt x="38" y="0"/>
                      </a:lnTo>
                      <a:lnTo>
                        <a:pt x="47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5524560" y="33980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9" y="7"/>
                      </a:lnTo>
                      <a:lnTo>
                        <a:pt x="7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5412960" y="3421440"/>
                  <a:ext cx="92880" cy="15120"/>
                </a:xfrm>
                <a:custGeom>
                  <a:avLst/>
                  <a:gdLst/>
                  <a:ahLst/>
                  <a:rect l="l" t="t" r="r" b="b"/>
                  <a:pathLst>
                    <a:path w="179" h="30">
                      <a:moveTo>
                        <a:pt x="179" y="30"/>
                      </a:moveTo>
                      <a:lnTo>
                        <a:pt x="83" y="20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83" y="10"/>
                      </a:lnTo>
                      <a:lnTo>
                        <a:pt x="179" y="21"/>
                      </a:lnTo>
                      <a:lnTo>
                        <a:pt x="179" y="3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5504760" y="3432240"/>
                  <a:ext cx="2520" cy="4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9"/>
                      </a:moveTo>
                      <a:lnTo>
                        <a:pt x="2" y="9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5411880" y="3393360"/>
                  <a:ext cx="7560" cy="30600"/>
                </a:xfrm>
                <a:custGeom>
                  <a:avLst/>
                  <a:gdLst/>
                  <a:ahLst/>
                  <a:rect l="l" t="t" r="r" b="b"/>
                  <a:pathLst>
                    <a:path w="17" h="58">
                      <a:moveTo>
                        <a:pt x="0" y="55"/>
                      </a:moveTo>
                      <a:lnTo>
                        <a:pt x="9" y="58"/>
                      </a:lnTo>
                      <a:lnTo>
                        <a:pt x="17" y="3"/>
                      </a:lnTo>
                      <a:lnTo>
                        <a:pt x="8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5410440" y="34214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7" y="9"/>
                      </a:move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11" y="5"/>
                      </a:lnTo>
                      <a:lnTo>
                        <a:pt x="7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5399280" y="3390120"/>
                  <a:ext cx="18360" cy="7920"/>
                </a:xfrm>
                <a:custGeom>
                  <a:avLst/>
                  <a:gdLst/>
                  <a:ahLst/>
                  <a:rect l="l" t="t" r="r" b="b"/>
                  <a:pathLst>
                    <a:path w="37" h="14">
                      <a:moveTo>
                        <a:pt x="37" y="14"/>
                      </a:moveTo>
                      <a:lnTo>
                        <a:pt x="37" y="4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5414760" y="33919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6"/>
                      </a:move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0" y="3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5396400" y="3308400"/>
                  <a:ext cx="23040" cy="84600"/>
                </a:xfrm>
                <a:custGeom>
                  <a:avLst/>
                  <a:gdLst/>
                  <a:ahLst/>
                  <a:rect l="l" t="t" r="r" b="b"/>
                  <a:pathLst>
                    <a:path w="46" h="165">
                      <a:moveTo>
                        <a:pt x="0" y="161"/>
                      </a:moveTo>
                      <a:lnTo>
                        <a:pt x="9" y="165"/>
                      </a:lnTo>
                      <a:lnTo>
                        <a:pt x="46" y="4"/>
                      </a:lnTo>
                      <a:lnTo>
                        <a:pt x="37" y="0"/>
                      </a:lnTo>
                      <a:lnTo>
                        <a:pt x="0" y="16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5394600" y="33901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10"/>
                      </a:move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7" y="0"/>
                      </a:lnTo>
                      <a:lnTo>
                        <a:pt x="7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5418000" y="3306600"/>
                  <a:ext cx="13320" cy="756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26" y="16"/>
                      </a:lnTo>
                      <a:lnTo>
                        <a:pt x="29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5414760" y="33066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6" y="1"/>
                      </a:lnTo>
                      <a:lnTo>
                        <a:pt x="4" y="12"/>
                      </a:lnTo>
                      <a:lnTo>
                        <a:pt x="9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5428800" y="3313080"/>
                  <a:ext cx="5760" cy="183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5428800" y="33098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7" y="0"/>
                      </a:moveTo>
                      <a:lnTo>
                        <a:pt x="11" y="2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5428800" y="33300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36" h="54">
                      <a:moveTo>
                        <a:pt x="9" y="0"/>
                      </a:moveTo>
                      <a:lnTo>
                        <a:pt x="0" y="6"/>
                      </a:lnTo>
                      <a:lnTo>
                        <a:pt x="26" y="54"/>
                      </a:lnTo>
                      <a:lnTo>
                        <a:pt x="36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5428800" y="3330000"/>
                  <a:ext cx="5760" cy="288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5428800" y="335484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34" h="12">
                      <a:moveTo>
                        <a:pt x="34" y="9"/>
                      </a:moveTo>
                      <a:lnTo>
                        <a:pt x="31" y="0"/>
                      </a:lnTo>
                      <a:lnTo>
                        <a:pt x="0" y="2"/>
                      </a:lnTo>
                      <a:lnTo>
                        <a:pt x="2" y="12"/>
                      </a:lnTo>
                      <a:lnTo>
                        <a:pt x="3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5442480" y="33548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0" y="1"/>
                      </a:moveTo>
                      <a:lnTo>
                        <a:pt x="14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6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5422680" y="3357720"/>
                  <a:ext cx="9000" cy="30600"/>
                </a:xfrm>
                <a:custGeom>
                  <a:avLst/>
                  <a:gdLst/>
                  <a:ahLst/>
                  <a:rect l="l" t="t" r="r" b="b"/>
                  <a:pathLst>
                    <a:path w="17" h="60">
                      <a:moveTo>
                        <a:pt x="17" y="0"/>
                      </a:moveTo>
                      <a:lnTo>
                        <a:pt x="11" y="60"/>
                      </a:lnTo>
                      <a:lnTo>
                        <a:pt x="0" y="60"/>
                      </a:lnTo>
                      <a:lnTo>
                        <a:pt x="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5425920" y="33562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lnTo>
                        <a:pt x="6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5422680" y="3387240"/>
                  <a:ext cx="30600" cy="9000"/>
                </a:xfrm>
                <a:custGeom>
                  <a:avLst/>
                  <a:gdLst/>
                  <a:ahLst/>
                  <a:rect l="l" t="t" r="r" b="b"/>
                  <a:pathLst>
                    <a:path w="60" h="16">
                      <a:moveTo>
                        <a:pt x="8" y="0"/>
                      </a:moveTo>
                      <a:lnTo>
                        <a:pt x="10" y="1"/>
                      </a:lnTo>
                      <a:lnTo>
                        <a:pt x="14" y="1"/>
                      </a:lnTo>
                      <a:lnTo>
                        <a:pt x="32" y="4"/>
                      </a:lnTo>
                      <a:lnTo>
                        <a:pt x="60" y="5"/>
                      </a:lnTo>
                      <a:lnTo>
                        <a:pt x="60" y="16"/>
                      </a:lnTo>
                      <a:lnTo>
                        <a:pt x="31" y="15"/>
                      </a:lnTo>
                      <a:lnTo>
                        <a:pt x="12" y="12"/>
                      </a:lnTo>
                      <a:lnTo>
                        <a:pt x="4" y="11"/>
                      </a:lnTo>
                      <a:lnTo>
                        <a:pt x="0" y="7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5422680" y="33872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5453280" y="3390120"/>
                  <a:ext cx="60120" cy="10800"/>
                </a:xfrm>
                <a:custGeom>
                  <a:avLst/>
                  <a:gdLst/>
                  <a:ahLst/>
                  <a:rect l="l" t="t" r="r" b="b"/>
                  <a:pathLst>
                    <a:path w="118" h="20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116" y="20"/>
                      </a:lnTo>
                      <a:lnTo>
                        <a:pt x="118" y="1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5453280" y="3390120"/>
                  <a:ext cx="1080" cy="612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5510520" y="3379680"/>
                  <a:ext cx="10800" cy="19800"/>
                </a:xfrm>
                <a:custGeom>
                  <a:avLst/>
                  <a:gdLst/>
                  <a:ahLst/>
                  <a:rect l="l" t="t" r="r" b="b"/>
                  <a:pathLst>
                    <a:path w="21" h="40">
                      <a:moveTo>
                        <a:pt x="0" y="34"/>
                      </a:moveTo>
                      <a:lnTo>
                        <a:pt x="9" y="40"/>
                      </a:lnTo>
                      <a:lnTo>
                        <a:pt x="21" y="5"/>
                      </a:lnTo>
                      <a:lnTo>
                        <a:pt x="11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5510520" y="339516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3" y="10"/>
                      </a:move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0" y="2"/>
                      </a:lnTo>
                      <a:lnTo>
                        <a:pt x="5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5518440" y="3367080"/>
                  <a:ext cx="41400" cy="15120"/>
                </a:xfrm>
                <a:custGeom>
                  <a:avLst/>
                  <a:gdLst/>
                  <a:ahLst/>
                  <a:rect l="l" t="t" r="r" b="b"/>
                  <a:pathLst>
                    <a:path w="79" h="32">
                      <a:moveTo>
                        <a:pt x="0" y="21"/>
                      </a:moveTo>
                      <a:lnTo>
                        <a:pt x="3" y="32"/>
                      </a:lnTo>
                      <a:lnTo>
                        <a:pt x="79" y="11"/>
                      </a:lnTo>
                      <a:lnTo>
                        <a:pt x="7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5517000" y="33778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3"/>
                      </a:move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11"/>
                      </a:lnTo>
                      <a:lnTo>
                        <a:pt x="10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5558760" y="3357720"/>
                  <a:ext cx="46080" cy="13680"/>
                </a:xfrm>
                <a:custGeom>
                  <a:avLst/>
                  <a:gdLst/>
                  <a:ahLst/>
                  <a:rect l="l" t="t" r="r" b="b"/>
                  <a:pathLst>
                    <a:path w="89" h="29">
                      <a:moveTo>
                        <a:pt x="0" y="18"/>
                      </a:moveTo>
                      <a:lnTo>
                        <a:pt x="1" y="29"/>
                      </a:lnTo>
                      <a:lnTo>
                        <a:pt x="89" y="10"/>
                      </a:lnTo>
                      <a:lnTo>
                        <a:pt x="87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5558760" y="3367080"/>
                  <a:ext cx="1080" cy="468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5601600" y="3332880"/>
                  <a:ext cx="30960" cy="29160"/>
                </a:xfrm>
                <a:custGeom>
                  <a:avLst/>
                  <a:gdLst/>
                  <a:ahLst/>
                  <a:rect l="l" t="t" r="r" b="b"/>
                  <a:pathLst>
                    <a:path w="60" h="57">
                      <a:moveTo>
                        <a:pt x="0" y="49"/>
                      </a:moveTo>
                      <a:lnTo>
                        <a:pt x="7" y="57"/>
                      </a:lnTo>
                      <a:lnTo>
                        <a:pt x="60" y="8"/>
                      </a:lnTo>
                      <a:lnTo>
                        <a:pt x="53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5601600" y="33577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6" y="10"/>
                      </a:moveTo>
                      <a:lnTo>
                        <a:pt x="7" y="9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5629680" y="333144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7" y="2"/>
                      </a:lnTo>
                      <a:lnTo>
                        <a:pt x="0" y="10"/>
                      </a:lnTo>
                      <a:lnTo>
                        <a:pt x="7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5567760" y="320004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0" y="45"/>
                      </a:moveTo>
                      <a:lnTo>
                        <a:pt x="8" y="52"/>
                      </a:lnTo>
                      <a:lnTo>
                        <a:pt x="39" y="7"/>
                      </a:lnTo>
                      <a:lnTo>
                        <a:pt x="31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5583240" y="3200040"/>
                  <a:ext cx="30960" cy="24840"/>
                </a:xfrm>
                <a:custGeom>
                  <a:avLst/>
                  <a:gdLst/>
                  <a:ahLst/>
                  <a:rect l="l" t="t" r="r" b="b"/>
                  <a:pathLst>
                    <a:path w="58" h="49">
                      <a:moveTo>
                        <a:pt x="6" y="0"/>
                      </a:moveTo>
                      <a:lnTo>
                        <a:pt x="0" y="8"/>
                      </a:lnTo>
                      <a:lnTo>
                        <a:pt x="51" y="49"/>
                      </a:lnTo>
                      <a:lnTo>
                        <a:pt x="58" y="4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583240" y="31986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609520" y="321228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0" y="18"/>
                      </a:moveTo>
                      <a:lnTo>
                        <a:pt x="8" y="25"/>
                      </a:lnTo>
                      <a:lnTo>
                        <a:pt x="23" y="6"/>
                      </a:lnTo>
                      <a:lnTo>
                        <a:pt x="15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609520" y="32202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8"/>
                      </a:move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0" y="1"/>
                      </a:lnTo>
                      <a:lnTo>
                        <a:pt x="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618880" y="3210840"/>
                  <a:ext cx="87840" cy="41400"/>
                </a:xfrm>
                <a:custGeom>
                  <a:avLst/>
                  <a:gdLst/>
                  <a:ahLst/>
                  <a:rect l="l" t="t" r="r" b="b"/>
                  <a:pathLst>
                    <a:path w="171" h="82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66" y="82"/>
                      </a:lnTo>
                      <a:lnTo>
                        <a:pt x="171" y="7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617080" y="32108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6" y="1"/>
                      </a:lnTo>
                      <a:lnTo>
                        <a:pt x="1" y="10"/>
                      </a:lnTo>
                      <a:lnTo>
                        <a:pt x="8" y="9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667120" y="3248280"/>
                  <a:ext cx="39960" cy="3060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76" y="8"/>
                      </a:moveTo>
                      <a:lnTo>
                        <a:pt x="70" y="0"/>
                      </a:lnTo>
                      <a:lnTo>
                        <a:pt x="0" y="50"/>
                      </a:lnTo>
                      <a:lnTo>
                        <a:pt x="6" y="58"/>
                      </a:lnTo>
                      <a:lnTo>
                        <a:pt x="76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703840" y="32482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6" y="0"/>
                      </a:moveTo>
                      <a:lnTo>
                        <a:pt x="13" y="2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663880" y="3260520"/>
                  <a:ext cx="7560" cy="1692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6" y="31"/>
                      </a:moveTo>
                      <a:lnTo>
                        <a:pt x="15" y="29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6" y="3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5667120" y="327456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7" y="8"/>
                      </a:move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9" y="3"/>
                      </a:lnTo>
                      <a:lnTo>
                        <a:pt x="1" y="0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5629680" y="3229560"/>
                  <a:ext cx="38520" cy="33840"/>
                </a:xfrm>
                <a:custGeom>
                  <a:avLst/>
                  <a:gdLst/>
                  <a:ahLst/>
                  <a:rect l="l" t="t" r="r" b="b"/>
                  <a:pathLst>
                    <a:path w="74" h="66">
                      <a:moveTo>
                        <a:pt x="68" y="66"/>
                      </a:moveTo>
                      <a:lnTo>
                        <a:pt x="74" y="58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5663880" y="32590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2" y="8"/>
                      </a:lnTo>
                      <a:lnTo>
                        <a:pt x="0" y="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5620320" y="32295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4" h="14">
                      <a:moveTo>
                        <a:pt x="24" y="9"/>
                      </a:moveTo>
                      <a:lnTo>
                        <a:pt x="20" y="0"/>
                      </a:lnTo>
                      <a:lnTo>
                        <a:pt x="0" y="5"/>
                      </a:lnTo>
                      <a:lnTo>
                        <a:pt x="4" y="14"/>
                      </a:lnTo>
                      <a:lnTo>
                        <a:pt x="2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5629680" y="322956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1"/>
                      </a:move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6" y="10"/>
                      </a:lnTo>
                      <a:lnTo>
                        <a:pt x="0" y="9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5618880" y="3234240"/>
                  <a:ext cx="6120" cy="21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5618880" y="3232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5591160" y="3251160"/>
                  <a:ext cx="30600" cy="5760"/>
                </a:xfrm>
                <a:custGeom>
                  <a:avLst/>
                  <a:gdLst/>
                  <a:ahLst/>
                  <a:rect l="l" t="t" r="r" b="b"/>
                  <a:pathLst>
                    <a:path w="60" h="14">
                      <a:moveTo>
                        <a:pt x="60" y="14"/>
                      </a:moveTo>
                      <a:lnTo>
                        <a:pt x="60" y="5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0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618880" y="32526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5587920" y="3232800"/>
                  <a:ext cx="7560" cy="19800"/>
                </a:xfrm>
                <a:custGeom>
                  <a:avLst/>
                  <a:gdLst/>
                  <a:ahLst/>
                  <a:rect l="l" t="t" r="r" b="b"/>
                  <a:pathLst>
                    <a:path w="14" h="41">
                      <a:moveTo>
                        <a:pt x="0" y="38"/>
                      </a:moveTo>
                      <a:lnTo>
                        <a:pt x="9" y="41"/>
                      </a:lnTo>
                      <a:lnTo>
                        <a:pt x="14" y="3"/>
                      </a:lnTo>
                      <a:lnTo>
                        <a:pt x="5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5587920" y="32511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6" y="9"/>
                      </a:move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10" y="5"/>
                      </a:lnTo>
                      <a:lnTo>
                        <a:pt x="6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5569560" y="3223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46" y="25"/>
                      </a:moveTo>
                      <a:lnTo>
                        <a:pt x="50" y="1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46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5591160" y="323100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5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3" y="9"/>
                      </a:lnTo>
                      <a:lnTo>
                        <a:pt x="0" y="2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5566320" y="32230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8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0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829560" y="4935240"/>
                  <a:ext cx="72360" cy="97200"/>
                </a:xfrm>
                <a:custGeom>
                  <a:avLst/>
                  <a:gdLst/>
                  <a:ahLst/>
                  <a:rect l="l" t="t" r="r" b="b"/>
                  <a:pathLst>
                    <a:path w="141" h="189">
                      <a:moveTo>
                        <a:pt x="53" y="4"/>
                      </a:moveTo>
                      <a:lnTo>
                        <a:pt x="4" y="63"/>
                      </a:lnTo>
                      <a:lnTo>
                        <a:pt x="0" y="116"/>
                      </a:lnTo>
                      <a:lnTo>
                        <a:pt x="72" y="189"/>
                      </a:lnTo>
                      <a:lnTo>
                        <a:pt x="141" y="147"/>
                      </a:lnTo>
                      <a:lnTo>
                        <a:pt x="141" y="95"/>
                      </a:lnTo>
                      <a:lnTo>
                        <a:pt x="110" y="102"/>
                      </a:lnTo>
                      <a:lnTo>
                        <a:pt x="78" y="71"/>
                      </a:lnTo>
                      <a:lnTo>
                        <a:pt x="85" y="0"/>
                      </a:lnTo>
                      <a:lnTo>
                        <a:pt x="53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829560" y="4935240"/>
                  <a:ext cx="28800" cy="33840"/>
                </a:xfrm>
                <a:custGeom>
                  <a:avLst/>
                  <a:gdLst/>
                  <a:ahLst/>
                  <a:rect l="l" t="t" r="r" b="b"/>
                  <a:pathLst>
                    <a:path w="57" h="66">
                      <a:moveTo>
                        <a:pt x="57" y="7"/>
                      </a:moveTo>
                      <a:lnTo>
                        <a:pt x="49" y="0"/>
                      </a:lnTo>
                      <a:lnTo>
                        <a:pt x="0" y="59"/>
                      </a:lnTo>
                      <a:lnTo>
                        <a:pt x="8" y="66"/>
                      </a:lnTo>
                      <a:lnTo>
                        <a:pt x="57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827760" y="4967640"/>
                  <a:ext cx="7560" cy="27720"/>
                </a:xfrm>
                <a:custGeom>
                  <a:avLst/>
                  <a:gdLst/>
                  <a:ahLst/>
                  <a:rect l="l" t="t" r="r" b="b"/>
                  <a:pathLst>
                    <a:path w="15" h="53">
                      <a:moveTo>
                        <a:pt x="15" y="0"/>
                      </a:moveTo>
                      <a:lnTo>
                        <a:pt x="4" y="0"/>
                      </a:lnTo>
                      <a:lnTo>
                        <a:pt x="0" y="53"/>
                      </a:lnTo>
                      <a:lnTo>
                        <a:pt x="11" y="5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6829560" y="4966200"/>
                  <a:ext cx="5760" cy="288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9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6827760" y="4993920"/>
                  <a:ext cx="39960" cy="40320"/>
                </a:xfrm>
                <a:custGeom>
                  <a:avLst/>
                  <a:gdLst/>
                  <a:ahLst/>
                  <a:rect l="l" t="t" r="r" b="b"/>
                  <a:pathLst>
                    <a:path w="79" h="80">
                      <a:moveTo>
                        <a:pt x="8" y="0"/>
                      </a:moveTo>
                      <a:lnTo>
                        <a:pt x="0" y="7"/>
                      </a:lnTo>
                      <a:lnTo>
                        <a:pt x="72" y="80"/>
                      </a:lnTo>
                      <a:lnTo>
                        <a:pt x="79" y="7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827760" y="49939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6864840" y="5009400"/>
                  <a:ext cx="38520" cy="26280"/>
                </a:xfrm>
                <a:custGeom>
                  <a:avLst/>
                  <a:gdLst/>
                  <a:ahLst/>
                  <a:rect l="l" t="t" r="r" b="b"/>
                  <a:pathLst>
                    <a:path w="75" h="52">
                      <a:moveTo>
                        <a:pt x="0" y="43"/>
                      </a:moveTo>
                      <a:lnTo>
                        <a:pt x="5" y="52"/>
                      </a:lnTo>
                      <a:lnTo>
                        <a:pt x="75" y="10"/>
                      </a:lnTo>
                      <a:lnTo>
                        <a:pt x="70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6864840" y="50310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0" y="7"/>
                      </a:moveTo>
                      <a:lnTo>
                        <a:pt x="2" y="11"/>
                      </a:lnTo>
                      <a:lnTo>
                        <a:pt x="6" y="9"/>
                      </a:lnTo>
                      <a:lnTo>
                        <a:pt x="1" y="0"/>
                      </a:lnTo>
                      <a:lnTo>
                        <a:pt x="7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900840" y="4984560"/>
                  <a:ext cx="4320" cy="26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6900840" y="50094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10"/>
                      </a:moveTo>
                      <a:lnTo>
                        <a:pt x="11" y="8"/>
                      </a:lnTo>
                      <a:lnTo>
                        <a:pt x="11" y="4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8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6885000" y="498168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36" h="17">
                      <a:moveTo>
                        <a:pt x="36" y="9"/>
                      </a:moveTo>
                      <a:lnTo>
                        <a:pt x="32" y="0"/>
                      </a:lnTo>
                      <a:lnTo>
                        <a:pt x="0" y="8"/>
                      </a:lnTo>
                      <a:lnTo>
                        <a:pt x="4" y="17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900840" y="49816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6"/>
                      </a:moveTo>
                      <a:lnTo>
                        <a:pt x="11" y="0"/>
                      </a:lnTo>
                      <a:lnTo>
                        <a:pt x="3" y="2"/>
                      </a:lnTo>
                      <a:lnTo>
                        <a:pt x="7" y="11"/>
                      </a:lnTo>
                      <a:lnTo>
                        <a:pt x="0" y="6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6868080" y="496908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2" y="39"/>
                      </a:moveTo>
                      <a:lnTo>
                        <a:pt x="38" y="3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32" y="3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885000" y="4986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5" y="9"/>
                      </a:moveTo>
                      <a:lnTo>
                        <a:pt x="2" y="10"/>
                      </a:lnTo>
                      <a:lnTo>
                        <a:pt x="0" y="7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868080" y="4933440"/>
                  <a:ext cx="7560" cy="38880"/>
                </a:xfrm>
                <a:custGeom>
                  <a:avLst/>
                  <a:gdLst/>
                  <a:ahLst/>
                  <a:rect l="l" t="t" r="r" b="b"/>
                  <a:pathLst>
                    <a:path w="16" h="74">
                      <a:moveTo>
                        <a:pt x="0" y="71"/>
                      </a:moveTo>
                      <a:lnTo>
                        <a:pt x="9" y="74"/>
                      </a:lnTo>
                      <a:lnTo>
                        <a:pt x="16" y="3"/>
                      </a:lnTo>
                      <a:lnTo>
                        <a:pt x="6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6868080" y="49690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9" y="5"/>
                      </a:lnTo>
                      <a:lnTo>
                        <a:pt x="8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6857280" y="4933440"/>
                  <a:ext cx="16920" cy="6120"/>
                </a:xfrm>
                <a:custGeom>
                  <a:avLst/>
                  <a:gdLst/>
                  <a:ahLst/>
                  <a:rect l="l" t="t" r="r" b="b"/>
                  <a:pathLst>
                    <a:path w="34" h="13">
                      <a:moveTo>
                        <a:pt x="34" y="9"/>
                      </a:moveTo>
                      <a:lnTo>
                        <a:pt x="31" y="0"/>
                      </a:lnTo>
                      <a:lnTo>
                        <a:pt x="0" y="4"/>
                      </a:lnTo>
                      <a:lnTo>
                        <a:pt x="2" y="13"/>
                      </a:lnTo>
                      <a:lnTo>
                        <a:pt x="3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6871320" y="49334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5"/>
                      </a:move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7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6855840" y="4935240"/>
                  <a:ext cx="252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6832800" y="5479560"/>
                  <a:ext cx="66240" cy="64800"/>
                </a:xfrm>
                <a:custGeom>
                  <a:avLst/>
                  <a:gdLst/>
                  <a:ahLst/>
                  <a:rect l="l" t="t" r="r" b="b"/>
                  <a:pathLst>
                    <a:path w="131" h="126">
                      <a:moveTo>
                        <a:pt x="64" y="0"/>
                      </a:moveTo>
                      <a:lnTo>
                        <a:pt x="131" y="52"/>
                      </a:lnTo>
                      <a:lnTo>
                        <a:pt x="57" y="126"/>
                      </a:lnTo>
                      <a:lnTo>
                        <a:pt x="0" y="10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6863400" y="5476320"/>
                  <a:ext cx="37080" cy="30600"/>
                </a:xfrm>
                <a:custGeom>
                  <a:avLst/>
                  <a:gdLst/>
                  <a:ahLst/>
                  <a:rect l="l" t="t" r="r" b="b"/>
                  <a:pathLst>
                    <a:path w="73" h="60">
                      <a:moveTo>
                        <a:pt x="6" y="0"/>
                      </a:moveTo>
                      <a:lnTo>
                        <a:pt x="0" y="8"/>
                      </a:lnTo>
                      <a:lnTo>
                        <a:pt x="67" y="60"/>
                      </a:lnTo>
                      <a:lnTo>
                        <a:pt x="73" y="5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6858720" y="5504400"/>
                  <a:ext cx="43200" cy="41400"/>
                </a:xfrm>
                <a:custGeom>
                  <a:avLst/>
                  <a:gdLst/>
                  <a:ahLst/>
                  <a:rect l="l" t="t" r="r" b="b"/>
                  <a:pathLst>
                    <a:path w="82" h="80">
                      <a:moveTo>
                        <a:pt x="82" y="6"/>
                      </a:moveTo>
                      <a:lnTo>
                        <a:pt x="74" y="0"/>
                      </a:lnTo>
                      <a:lnTo>
                        <a:pt x="0" y="74"/>
                      </a:lnTo>
                      <a:lnTo>
                        <a:pt x="8" y="80"/>
                      </a:lnTo>
                      <a:lnTo>
                        <a:pt x="82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6897600" y="550440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6" y="0"/>
                      </a:moveTo>
                      <a:lnTo>
                        <a:pt x="12" y="4"/>
                      </a:lnTo>
                      <a:lnTo>
                        <a:pt x="8" y="8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6831000" y="553356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56" y="26"/>
                      </a:moveTo>
                      <a:lnTo>
                        <a:pt x="60" y="17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56" y="2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6858720" y="5541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8"/>
                      </a:moveTo>
                      <a:lnTo>
                        <a:pt x="5" y="11"/>
                      </a:lnTo>
                      <a:lnTo>
                        <a:pt x="1" y="9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6829560" y="5478120"/>
                  <a:ext cx="37080" cy="58320"/>
                </a:xfrm>
                <a:custGeom>
                  <a:avLst/>
                  <a:gdLst/>
                  <a:ahLst/>
                  <a:rect l="l" t="t" r="r" b="b"/>
                  <a:pathLst>
                    <a:path w="72" h="116">
                      <a:moveTo>
                        <a:pt x="0" y="109"/>
                      </a:moveTo>
                      <a:lnTo>
                        <a:pt x="8" y="116"/>
                      </a:lnTo>
                      <a:lnTo>
                        <a:pt x="72" y="7"/>
                      </a:lnTo>
                      <a:lnTo>
                        <a:pt x="64" y="0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6827760" y="55335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8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0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6863400" y="547488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7109280" y="5280120"/>
                  <a:ext cx="210240" cy="255240"/>
                </a:xfrm>
                <a:custGeom>
                  <a:avLst/>
                  <a:gdLst/>
                  <a:ahLst/>
                  <a:rect l="l" t="t" r="r" b="b"/>
                  <a:pathLst>
                    <a:path w="408" h="496">
                      <a:moveTo>
                        <a:pt x="64" y="0"/>
                      </a:moveTo>
                      <a:lnTo>
                        <a:pt x="99" y="25"/>
                      </a:lnTo>
                      <a:lnTo>
                        <a:pt x="68" y="91"/>
                      </a:lnTo>
                      <a:lnTo>
                        <a:pt x="102" y="133"/>
                      </a:lnTo>
                      <a:lnTo>
                        <a:pt x="134" y="81"/>
                      </a:lnTo>
                      <a:lnTo>
                        <a:pt x="163" y="89"/>
                      </a:lnTo>
                      <a:lnTo>
                        <a:pt x="127" y="169"/>
                      </a:lnTo>
                      <a:lnTo>
                        <a:pt x="408" y="475"/>
                      </a:lnTo>
                      <a:lnTo>
                        <a:pt x="380" y="496"/>
                      </a:lnTo>
                      <a:lnTo>
                        <a:pt x="0" y="74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811280" y="5546160"/>
                  <a:ext cx="84600" cy="171360"/>
                </a:xfrm>
                <a:custGeom>
                  <a:avLst/>
                  <a:gdLst/>
                  <a:ahLst/>
                  <a:rect l="l" t="t" r="r" b="b"/>
                  <a:pathLst>
                    <a:path w="165" h="334">
                      <a:moveTo>
                        <a:pt x="0" y="15"/>
                      </a:moveTo>
                      <a:lnTo>
                        <a:pt x="39" y="0"/>
                      </a:lnTo>
                      <a:lnTo>
                        <a:pt x="78" y="91"/>
                      </a:lnTo>
                      <a:lnTo>
                        <a:pt x="141" y="70"/>
                      </a:lnTo>
                      <a:lnTo>
                        <a:pt x="163" y="110"/>
                      </a:lnTo>
                      <a:lnTo>
                        <a:pt x="95" y="141"/>
                      </a:lnTo>
                      <a:lnTo>
                        <a:pt x="165" y="306"/>
                      </a:lnTo>
                      <a:lnTo>
                        <a:pt x="99" y="334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7727760" y="5281560"/>
                  <a:ext cx="64800" cy="114120"/>
                </a:xfrm>
                <a:custGeom>
                  <a:avLst/>
                  <a:gdLst/>
                  <a:ahLst/>
                  <a:rect l="l" t="t" r="r" b="b"/>
                  <a:pathLst>
                    <a:path w="127" h="222">
                      <a:moveTo>
                        <a:pt x="0" y="11"/>
                      </a:moveTo>
                      <a:lnTo>
                        <a:pt x="61" y="0"/>
                      </a:lnTo>
                      <a:lnTo>
                        <a:pt x="127" y="201"/>
                      </a:lnTo>
                      <a:lnTo>
                        <a:pt x="63" y="2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7718400" y="5957640"/>
                  <a:ext cx="80280" cy="50760"/>
                </a:xfrm>
                <a:custGeom>
                  <a:avLst/>
                  <a:gdLst/>
                  <a:ahLst/>
                  <a:rect l="l" t="t" r="r" b="b"/>
                  <a:pathLst>
                    <a:path w="156" h="100">
                      <a:moveTo>
                        <a:pt x="74" y="4"/>
                      </a:moveTo>
                      <a:lnTo>
                        <a:pt x="87" y="0"/>
                      </a:lnTo>
                      <a:lnTo>
                        <a:pt x="114" y="65"/>
                      </a:lnTo>
                      <a:lnTo>
                        <a:pt x="156" y="69"/>
                      </a:lnTo>
                      <a:lnTo>
                        <a:pt x="152" y="100"/>
                      </a:lnTo>
                      <a:lnTo>
                        <a:pt x="0" y="91"/>
                      </a:lnTo>
                      <a:lnTo>
                        <a:pt x="3" y="58"/>
                      </a:lnTo>
                      <a:lnTo>
                        <a:pt x="74" y="69"/>
                      </a:lnTo>
                      <a:lnTo>
                        <a:pt x="74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757280" y="5954400"/>
                  <a:ext cx="7560" cy="75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4"/>
                      </a:moveTo>
                      <a:lnTo>
                        <a:pt x="1" y="14"/>
                      </a:lnTo>
                      <a:lnTo>
                        <a:pt x="15" y="10"/>
                      </a:lnTo>
                      <a:lnTo>
                        <a:pt x="1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7761600" y="5955840"/>
                  <a:ext cx="18360" cy="35640"/>
                </a:xfrm>
                <a:custGeom>
                  <a:avLst/>
                  <a:gdLst/>
                  <a:ahLst/>
                  <a:rect l="l" t="t" r="r" b="b"/>
                  <a:pathLst>
                    <a:path w="36" h="70">
                      <a:moveTo>
                        <a:pt x="9" y="0"/>
                      </a:moveTo>
                      <a:lnTo>
                        <a:pt x="0" y="6"/>
                      </a:lnTo>
                      <a:lnTo>
                        <a:pt x="26" y="70"/>
                      </a:lnTo>
                      <a:lnTo>
                        <a:pt x="36" y="6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7761600" y="595440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5" y="2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0" y="10"/>
                      </a:lnTo>
                      <a:lnTo>
                        <a:pt x="7" y="1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777080" y="5988240"/>
                  <a:ext cx="21600" cy="756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43" y="15"/>
                      </a:lnTo>
                      <a:lnTo>
                        <a:pt x="44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7773840" y="59882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8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0"/>
                      </a:lnTo>
                      <a:lnTo>
                        <a:pt x="10" y="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794000" y="5992920"/>
                  <a:ext cx="7560" cy="151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4" y="0"/>
                      </a:moveTo>
                      <a:lnTo>
                        <a:pt x="4" y="0"/>
                      </a:lnTo>
                      <a:lnTo>
                        <a:pt x="0" y="31"/>
                      </a:lnTo>
                      <a:lnTo>
                        <a:pt x="10" y="3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797240" y="59896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718400" y="6001920"/>
                  <a:ext cx="78840" cy="9360"/>
                </a:xfrm>
                <a:custGeom>
                  <a:avLst/>
                  <a:gdLst/>
                  <a:ahLst/>
                  <a:rect l="l" t="t" r="r" b="b"/>
                  <a:pathLst>
                    <a:path w="152" h="18">
                      <a:moveTo>
                        <a:pt x="152" y="18"/>
                      </a:moveTo>
                      <a:lnTo>
                        <a:pt x="152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52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794000" y="60069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10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716960" y="5986440"/>
                  <a:ext cx="6120" cy="18360"/>
                </a:xfrm>
                <a:custGeom>
                  <a:avLst/>
                  <a:gdLst/>
                  <a:ahLst/>
                  <a:rect l="l" t="t" r="r" b="b"/>
                  <a:pathLst>
                    <a:path w="12" h="35">
                      <a:moveTo>
                        <a:pt x="0" y="33"/>
                      </a:moveTo>
                      <a:lnTo>
                        <a:pt x="9" y="35"/>
                      </a:lnTo>
                      <a:lnTo>
                        <a:pt x="12" y="2"/>
                      </a:lnTo>
                      <a:lnTo>
                        <a:pt x="3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716960" y="60019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719840" y="5985000"/>
                  <a:ext cx="37080" cy="10800"/>
                </a:xfrm>
                <a:custGeom>
                  <a:avLst/>
                  <a:gdLst/>
                  <a:ahLst/>
                  <a:rect l="l" t="t" r="r" b="b"/>
                  <a:pathLst>
                    <a:path w="72" h="21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71" y="21"/>
                      </a:lnTo>
                      <a:lnTo>
                        <a:pt x="72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718400" y="59850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0"/>
                      </a:lnTo>
                      <a:lnTo>
                        <a:pt x="9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7754040" y="5958720"/>
                  <a:ext cx="5760" cy="338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7754040" y="59896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4" y="11"/>
                      </a:moveTo>
                      <a:lnTo>
                        <a:pt x="10" y="12"/>
                      </a:lnTo>
                      <a:lnTo>
                        <a:pt x="10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754040" y="59576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6" y="10"/>
                      </a:lnTo>
                      <a:lnTo>
                        <a:pt x="1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5275800" y="5132880"/>
                  <a:ext cx="83160" cy="108000"/>
                </a:xfrm>
                <a:custGeom>
                  <a:avLst/>
                  <a:gdLst/>
                  <a:ahLst/>
                  <a:rect l="l" t="t" r="r" b="b"/>
                  <a:pathLst>
                    <a:path w="162" h="210">
                      <a:moveTo>
                        <a:pt x="37" y="0"/>
                      </a:moveTo>
                      <a:lnTo>
                        <a:pt x="46" y="2"/>
                      </a:lnTo>
                      <a:lnTo>
                        <a:pt x="61" y="4"/>
                      </a:lnTo>
                      <a:lnTo>
                        <a:pt x="103" y="15"/>
                      </a:lnTo>
                      <a:lnTo>
                        <a:pt x="162" y="31"/>
                      </a:lnTo>
                      <a:lnTo>
                        <a:pt x="121" y="105"/>
                      </a:lnTo>
                      <a:lnTo>
                        <a:pt x="134" y="126"/>
                      </a:lnTo>
                      <a:lnTo>
                        <a:pt x="119" y="206"/>
                      </a:lnTo>
                      <a:lnTo>
                        <a:pt x="119" y="207"/>
                      </a:lnTo>
                      <a:lnTo>
                        <a:pt x="119" y="209"/>
                      </a:lnTo>
                      <a:lnTo>
                        <a:pt x="117" y="209"/>
                      </a:lnTo>
                      <a:lnTo>
                        <a:pt x="117" y="210"/>
                      </a:lnTo>
                      <a:lnTo>
                        <a:pt x="115" y="210"/>
                      </a:lnTo>
                      <a:lnTo>
                        <a:pt x="112" y="209"/>
                      </a:lnTo>
                      <a:lnTo>
                        <a:pt x="108" y="206"/>
                      </a:lnTo>
                      <a:lnTo>
                        <a:pt x="92" y="197"/>
                      </a:lnTo>
                      <a:lnTo>
                        <a:pt x="71" y="184"/>
                      </a:lnTo>
                      <a:lnTo>
                        <a:pt x="43" y="165"/>
                      </a:lnTo>
                      <a:lnTo>
                        <a:pt x="3" y="156"/>
                      </a:lnTo>
                      <a:lnTo>
                        <a:pt x="0" y="91"/>
                      </a:lnTo>
                      <a:lnTo>
                        <a:pt x="28" y="81"/>
                      </a:lnTo>
                      <a:lnTo>
                        <a:pt x="28" y="69"/>
                      </a:lnTo>
                      <a:lnTo>
                        <a:pt x="29" y="41"/>
                      </a:lnTo>
                      <a:lnTo>
                        <a:pt x="30" y="25"/>
                      </a:lnTo>
                      <a:lnTo>
                        <a:pt x="32" y="12"/>
                      </a:lnTo>
                      <a:lnTo>
                        <a:pt x="33" y="8"/>
                      </a:lnTo>
                      <a:lnTo>
                        <a:pt x="34" y="3"/>
                      </a:lnTo>
                      <a:lnTo>
                        <a:pt x="36" y="2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5294160" y="5130000"/>
                  <a:ext cx="64800" cy="21600"/>
                </a:xfrm>
                <a:custGeom>
                  <a:avLst/>
                  <a:gdLst/>
                  <a:ahLst/>
                  <a:rect l="l" t="t" r="r" b="b"/>
                  <a:pathLst>
                    <a:path w="127" h="41">
                      <a:moveTo>
                        <a:pt x="2" y="0"/>
                      </a:moveTo>
                      <a:lnTo>
                        <a:pt x="68" y="15"/>
                      </a:lnTo>
                      <a:lnTo>
                        <a:pt x="127" y="30"/>
                      </a:lnTo>
                      <a:lnTo>
                        <a:pt x="125" y="41"/>
                      </a:lnTo>
                      <a:lnTo>
                        <a:pt x="65" y="25"/>
                      </a:lnTo>
                      <a:lnTo>
                        <a:pt x="0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5334480" y="5146920"/>
                  <a:ext cx="25920" cy="40320"/>
                </a:xfrm>
                <a:custGeom>
                  <a:avLst/>
                  <a:gdLst/>
                  <a:ahLst/>
                  <a:rect l="l" t="t" r="r" b="b"/>
                  <a:pathLst>
                    <a:path w="50" h="79">
                      <a:moveTo>
                        <a:pt x="50" y="5"/>
                      </a:moveTo>
                      <a:lnTo>
                        <a:pt x="41" y="0"/>
                      </a:lnTo>
                      <a:lnTo>
                        <a:pt x="0" y="74"/>
                      </a:lnTo>
                      <a:lnTo>
                        <a:pt x="9" y="79"/>
                      </a:lnTo>
                      <a:lnTo>
                        <a:pt x="5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5356080" y="514512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6" y="0"/>
                      </a:moveTo>
                      <a:lnTo>
                        <a:pt x="13" y="2"/>
                      </a:lnTo>
                      <a:lnTo>
                        <a:pt x="9" y="8"/>
                      </a:ln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5334480" y="5185800"/>
                  <a:ext cx="12240" cy="122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13" y="26"/>
                      </a:lnTo>
                      <a:lnTo>
                        <a:pt x="22" y="2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5334480" y="518580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332680" y="5196600"/>
                  <a:ext cx="13680" cy="41400"/>
                </a:xfrm>
                <a:custGeom>
                  <a:avLst/>
                  <a:gdLst/>
                  <a:ahLst/>
                  <a:rect l="l" t="t" r="r" b="b"/>
                  <a:pathLst>
                    <a:path w="27" h="82">
                      <a:moveTo>
                        <a:pt x="27" y="2"/>
                      </a:moveTo>
                      <a:lnTo>
                        <a:pt x="16" y="0"/>
                      </a:lnTo>
                      <a:lnTo>
                        <a:pt x="0" y="81"/>
                      </a:lnTo>
                      <a:lnTo>
                        <a:pt x="11" y="82"/>
                      </a:lnTo>
                      <a:lnTo>
                        <a:pt x="27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5342400" y="5196600"/>
                  <a:ext cx="4320" cy="108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9" y="0"/>
                      </a:moveTo>
                      <a:lnTo>
                        <a:pt x="11" y="3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5328360" y="5236920"/>
                  <a:ext cx="10800" cy="576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20" y="4"/>
                      </a:moveTo>
                      <a:lnTo>
                        <a:pt x="16" y="11"/>
                      </a:lnTo>
                      <a:lnTo>
                        <a:pt x="8" y="13"/>
                      </a:lnTo>
                      <a:lnTo>
                        <a:pt x="0" y="9"/>
                      </a:lnTo>
                      <a:lnTo>
                        <a:pt x="5" y="0"/>
                      </a:lnTo>
                      <a:lnTo>
                        <a:pt x="12" y="4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5332680" y="5238360"/>
                  <a:ext cx="6120" cy="1080"/>
                </a:xfrm>
                <a:custGeom>
                  <a:avLst/>
                  <a:gdLst/>
                  <a:ahLst/>
                  <a:rect l="l" t="t" r="r" b="b"/>
                  <a:pathLst>
                    <a:path w="11" h="1">
                      <a:moveTo>
                        <a:pt x="0" y="0"/>
                      </a:moveTo>
                      <a:lnTo>
                        <a:pt x="1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5295600" y="5214960"/>
                  <a:ext cx="35640" cy="26280"/>
                </a:xfrm>
                <a:custGeom>
                  <a:avLst/>
                  <a:gdLst/>
                  <a:ahLst/>
                  <a:rect l="l" t="t" r="r" b="b"/>
                  <a:pathLst>
                    <a:path w="70" h="49">
                      <a:moveTo>
                        <a:pt x="64" y="49"/>
                      </a:move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70" y="41"/>
                      </a:lnTo>
                      <a:lnTo>
                        <a:pt x="64" y="4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5328360" y="52369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1" y="9"/>
                      </a:move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5275800" y="5210640"/>
                  <a:ext cx="23040" cy="9000"/>
                </a:xfrm>
                <a:custGeom>
                  <a:avLst/>
                  <a:gdLst/>
                  <a:ahLst/>
                  <a:rect l="l" t="t" r="r" b="b"/>
                  <a:pathLst>
                    <a:path w="44" h="18">
                      <a:moveTo>
                        <a:pt x="41" y="18"/>
                      </a:moveTo>
                      <a:lnTo>
                        <a:pt x="44" y="9"/>
                      </a:lnTo>
                      <a:lnTo>
                        <a:pt x="3" y="0"/>
                      </a:lnTo>
                      <a:lnTo>
                        <a:pt x="0" y="9"/>
                      </a:lnTo>
                      <a:lnTo>
                        <a:pt x="41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5295600" y="521496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3" y="9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5272560" y="5179680"/>
                  <a:ext cx="6120" cy="33840"/>
                </a:xfrm>
                <a:custGeom>
                  <a:avLst/>
                  <a:gdLst/>
                  <a:ahLst/>
                  <a:rect l="l" t="t" r="r" b="b"/>
                  <a:pathLst>
                    <a:path w="12" h="65">
                      <a:moveTo>
                        <a:pt x="2" y="65"/>
                      </a:moveTo>
                      <a:lnTo>
                        <a:pt x="12" y="6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6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5274360" y="52106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4" y="9"/>
                      </a:move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274360" y="5171760"/>
                  <a:ext cx="15120" cy="1080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0" y="10"/>
                      </a:moveTo>
                      <a:lnTo>
                        <a:pt x="2" y="21"/>
                      </a:lnTo>
                      <a:lnTo>
                        <a:pt x="30" y="1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5272560" y="517644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11"/>
                      </a:lnTo>
                      <a:lnTo>
                        <a:pt x="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5286600" y="5130000"/>
                  <a:ext cx="9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85">
                      <a:moveTo>
                        <a:pt x="0" y="85"/>
                      </a:moveTo>
                      <a:lnTo>
                        <a:pt x="2" y="44"/>
                      </a:lnTo>
                      <a:lnTo>
                        <a:pt x="4" y="15"/>
                      </a:lnTo>
                      <a:lnTo>
                        <a:pt x="8" y="4"/>
                      </a:lnTo>
                      <a:lnTo>
                        <a:pt x="11" y="0"/>
                      </a:lnTo>
                      <a:lnTo>
                        <a:pt x="17" y="8"/>
                      </a:lnTo>
                      <a:lnTo>
                        <a:pt x="16" y="11"/>
                      </a:lnTo>
                      <a:lnTo>
                        <a:pt x="14" y="18"/>
                      </a:lnTo>
                      <a:lnTo>
                        <a:pt x="11" y="44"/>
                      </a:lnTo>
                      <a:lnTo>
                        <a:pt x="10" y="85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5286600" y="51717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10"/>
                      </a:moveTo>
                      <a:lnTo>
                        <a:pt x="10" y="9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7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5292360" y="51300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5" y="1"/>
                      </a:lnTo>
                      <a:lnTo>
                        <a:pt x="3" y="12"/>
                      </a:lnTo>
                      <a:lnTo>
                        <a:pt x="6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5171760" y="4438800"/>
                  <a:ext cx="26280" cy="55440"/>
                </a:xfrm>
                <a:custGeom>
                  <a:avLst/>
                  <a:gdLst/>
                  <a:ahLst/>
                  <a:rect l="l" t="t" r="r" b="b"/>
                  <a:pathLst>
                    <a:path w="51" h="109">
                      <a:moveTo>
                        <a:pt x="4" y="0"/>
                      </a:moveTo>
                      <a:lnTo>
                        <a:pt x="51" y="5"/>
                      </a:lnTo>
                      <a:lnTo>
                        <a:pt x="51" y="109"/>
                      </a:lnTo>
                      <a:lnTo>
                        <a:pt x="0" y="10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5173560" y="4435560"/>
                  <a:ext cx="24480" cy="756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46" y="16"/>
                      </a:lnTo>
                      <a:lnTo>
                        <a:pt x="48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5195520" y="4440600"/>
                  <a:ext cx="4320" cy="54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5195520" y="443880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4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5171760" y="4491360"/>
                  <a:ext cx="26280" cy="6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5195520" y="449136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5"/>
                      </a:move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5169240" y="4438800"/>
                  <a:ext cx="5760" cy="55440"/>
                </a:xfrm>
                <a:custGeom>
                  <a:avLst/>
                  <a:gdLst/>
                  <a:ahLst/>
                  <a:rect l="l" t="t" r="r" b="b"/>
                  <a:pathLst>
                    <a:path w="13" h="109">
                      <a:moveTo>
                        <a:pt x="0" y="109"/>
                      </a:moveTo>
                      <a:lnTo>
                        <a:pt x="9" y="109"/>
                      </a:lnTo>
                      <a:lnTo>
                        <a:pt x="13" y="0"/>
                      </a:lnTo>
                      <a:lnTo>
                        <a:pt x="4" y="0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5169240" y="449136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5170680" y="44355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1"/>
                      </a:lnTo>
                      <a:lnTo>
                        <a:pt x="9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5196960" y="4219200"/>
                  <a:ext cx="174240" cy="43200"/>
                </a:xfrm>
                <a:custGeom>
                  <a:avLst/>
                  <a:gdLst/>
                  <a:ahLst/>
                  <a:rect l="l" t="t" r="r" b="b"/>
                  <a:pathLst>
                    <a:path w="340" h="84">
                      <a:moveTo>
                        <a:pt x="5" y="0"/>
                      </a:moveTo>
                      <a:lnTo>
                        <a:pt x="37" y="9"/>
                      </a:lnTo>
                      <a:lnTo>
                        <a:pt x="61" y="15"/>
                      </a:lnTo>
                      <a:lnTo>
                        <a:pt x="69" y="18"/>
                      </a:lnTo>
                      <a:lnTo>
                        <a:pt x="74" y="19"/>
                      </a:lnTo>
                      <a:lnTo>
                        <a:pt x="80" y="21"/>
                      </a:lnTo>
                      <a:lnTo>
                        <a:pt x="92" y="23"/>
                      </a:lnTo>
                      <a:lnTo>
                        <a:pt x="124" y="33"/>
                      </a:lnTo>
                      <a:lnTo>
                        <a:pt x="157" y="42"/>
                      </a:lnTo>
                      <a:lnTo>
                        <a:pt x="169" y="44"/>
                      </a:lnTo>
                      <a:lnTo>
                        <a:pt x="175" y="46"/>
                      </a:lnTo>
                      <a:lnTo>
                        <a:pt x="290" y="46"/>
                      </a:lnTo>
                      <a:lnTo>
                        <a:pt x="301" y="46"/>
                      </a:lnTo>
                      <a:lnTo>
                        <a:pt x="314" y="47"/>
                      </a:lnTo>
                      <a:lnTo>
                        <a:pt x="327" y="48"/>
                      </a:lnTo>
                      <a:lnTo>
                        <a:pt x="340" y="73"/>
                      </a:lnTo>
                      <a:lnTo>
                        <a:pt x="310" y="84"/>
                      </a:lnTo>
                      <a:lnTo>
                        <a:pt x="290" y="63"/>
                      </a:lnTo>
                      <a:lnTo>
                        <a:pt x="224" y="60"/>
                      </a:lnTo>
                      <a:lnTo>
                        <a:pt x="150" y="56"/>
                      </a:lnTo>
                      <a:lnTo>
                        <a:pt x="133" y="54"/>
                      </a:lnTo>
                      <a:lnTo>
                        <a:pt x="104" y="50"/>
                      </a:lnTo>
                      <a:lnTo>
                        <a:pt x="74" y="44"/>
                      </a:lnTo>
                      <a:lnTo>
                        <a:pt x="57" y="41"/>
                      </a:lnTo>
                      <a:lnTo>
                        <a:pt x="0" y="2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5198400" y="4214520"/>
                  <a:ext cx="37080" cy="16560"/>
                </a:xfrm>
                <a:custGeom>
                  <a:avLst/>
                  <a:gdLst/>
                  <a:ahLst/>
                  <a:rect l="l" t="t" r="r" b="b"/>
                  <a:pathLst>
                    <a:path w="72" h="32">
                      <a:moveTo>
                        <a:pt x="2" y="0"/>
                      </a:moveTo>
                      <a:lnTo>
                        <a:pt x="35" y="11"/>
                      </a:lnTo>
                      <a:lnTo>
                        <a:pt x="72" y="21"/>
                      </a:lnTo>
                      <a:lnTo>
                        <a:pt x="69" y="32"/>
                      </a:lnTo>
                      <a:lnTo>
                        <a:pt x="33" y="21"/>
                      </a:lnTo>
                      <a:lnTo>
                        <a:pt x="0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234040" y="4225320"/>
                  <a:ext cx="53640" cy="19800"/>
                </a:xfrm>
                <a:custGeom>
                  <a:avLst/>
                  <a:gdLst/>
                  <a:ahLst/>
                  <a:rect l="l" t="t" r="r" b="b"/>
                  <a:pathLst>
                    <a:path w="105" h="37">
                      <a:moveTo>
                        <a:pt x="3" y="0"/>
                      </a:moveTo>
                      <a:lnTo>
                        <a:pt x="53" y="13"/>
                      </a:lnTo>
                      <a:lnTo>
                        <a:pt x="105" y="27"/>
                      </a:lnTo>
                      <a:lnTo>
                        <a:pt x="102" y="37"/>
                      </a:lnTo>
                      <a:lnTo>
                        <a:pt x="51" y="24"/>
                      </a:lnTo>
                      <a:lnTo>
                        <a:pt x="0" y="1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5234040" y="4225320"/>
                  <a:ext cx="1080" cy="57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11"/>
                      </a:moveTo>
                      <a:lnTo>
                        <a:pt x="3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5286600" y="4239000"/>
                  <a:ext cx="58320" cy="6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5286600" y="4239000"/>
                  <a:ext cx="1080" cy="61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5345280" y="4239000"/>
                  <a:ext cx="20160" cy="7560"/>
                </a:xfrm>
                <a:custGeom>
                  <a:avLst/>
                  <a:gdLst/>
                  <a:ahLst/>
                  <a:rect l="l" t="t" r="r" b="b"/>
                  <a:pathLst>
                    <a:path w="38" h="13">
                      <a:moveTo>
                        <a:pt x="1" y="0"/>
                      </a:moveTo>
                      <a:lnTo>
                        <a:pt x="38" y="2"/>
                      </a:lnTo>
                      <a:lnTo>
                        <a:pt x="37" y="13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345280" y="423900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362200" y="4242240"/>
                  <a:ext cx="10800" cy="1512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12" y="30"/>
                      </a:lnTo>
                      <a:lnTo>
                        <a:pt x="21" y="2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362200" y="424080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5354640" y="425448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35" h="18">
                      <a:moveTo>
                        <a:pt x="35" y="9"/>
                      </a:moveTo>
                      <a:lnTo>
                        <a:pt x="29" y="0"/>
                      </a:lnTo>
                      <a:lnTo>
                        <a:pt x="0" y="9"/>
                      </a:lnTo>
                      <a:lnTo>
                        <a:pt x="5" y="18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5368680" y="42544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1"/>
                      </a:moveTo>
                      <a:lnTo>
                        <a:pt x="11" y="7"/>
                      </a:lnTo>
                      <a:lnTo>
                        <a:pt x="8" y="9"/>
                      </a:lnTo>
                      <a:lnTo>
                        <a:pt x="2" y="0"/>
                      </a:lnTo>
                      <a:lnTo>
                        <a:pt x="0" y="6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5343840" y="4248720"/>
                  <a:ext cx="13680" cy="15120"/>
                </a:xfrm>
                <a:custGeom>
                  <a:avLst/>
                  <a:gdLst/>
                  <a:ahLst/>
                  <a:rect l="l" t="t" r="r" b="b"/>
                  <a:pathLst>
                    <a:path w="26" h="28">
                      <a:moveTo>
                        <a:pt x="20" y="28"/>
                      </a:moveTo>
                      <a:lnTo>
                        <a:pt x="26" y="20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20" y="2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5354640" y="42595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9"/>
                      </a:moveTo>
                      <a:lnTo>
                        <a:pt x="3" y="10"/>
                      </a:ln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5274360" y="4245480"/>
                  <a:ext cx="70560" cy="7560"/>
                </a:xfrm>
                <a:custGeom>
                  <a:avLst/>
                  <a:gdLst/>
                  <a:ahLst/>
                  <a:rect l="l" t="t" r="r" b="b"/>
                  <a:pathLst>
                    <a:path w="140" h="16">
                      <a:moveTo>
                        <a:pt x="140" y="16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40" y="7"/>
                      </a:lnTo>
                      <a:lnTo>
                        <a:pt x="140" y="1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5343840" y="42487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4" y="9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5224680" y="4237560"/>
                  <a:ext cx="49680" cy="12240"/>
                </a:xfrm>
                <a:custGeom>
                  <a:avLst/>
                  <a:gdLst/>
                  <a:ahLst/>
                  <a:rect l="l" t="t" r="r" b="b"/>
                  <a:pathLst>
                    <a:path w="97" h="25">
                      <a:moveTo>
                        <a:pt x="94" y="25"/>
                      </a:moveTo>
                      <a:lnTo>
                        <a:pt x="48" y="18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50" y="9"/>
                      </a:lnTo>
                      <a:lnTo>
                        <a:pt x="97" y="15"/>
                      </a:lnTo>
                      <a:lnTo>
                        <a:pt x="94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272560" y="4245480"/>
                  <a:ext cx="1440" cy="43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1" y="10"/>
                      </a:move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5195520" y="4228560"/>
                  <a:ext cx="30600" cy="1332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57" y="27"/>
                      </a:move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61" y="18"/>
                      </a:lnTo>
                      <a:lnTo>
                        <a:pt x="57" y="2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5224680" y="4237560"/>
                  <a:ext cx="1440" cy="43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1" y="9"/>
                      </a:moveTo>
                      <a:lnTo>
                        <a:pt x="0" y="9"/>
                      </a:lnTo>
                      <a:lnTo>
                        <a:pt x="4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5193720" y="4217760"/>
                  <a:ext cx="6120" cy="1332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0" y="25"/>
                      </a:moveTo>
                      <a:lnTo>
                        <a:pt x="9" y="29"/>
                      </a:lnTo>
                      <a:lnTo>
                        <a:pt x="13" y="4"/>
                      </a:lnTo>
                      <a:lnTo>
                        <a:pt x="4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192280" y="422856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10"/>
                      </a:move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8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5195520" y="42145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6" y="1"/>
                      </a:lnTo>
                      <a:lnTo>
                        <a:pt x="4" y="12"/>
                      </a:lnTo>
                      <a:lnTo>
                        <a:pt x="9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4705200" y="5253480"/>
                  <a:ext cx="39960" cy="38520"/>
                </a:xfrm>
                <a:custGeom>
                  <a:avLst/>
                  <a:gdLst/>
                  <a:ahLst/>
                  <a:rect l="l" t="t" r="r" b="b"/>
                  <a:pathLst>
                    <a:path w="78" h="75">
                      <a:moveTo>
                        <a:pt x="43" y="1"/>
                      </a:moveTo>
                      <a:lnTo>
                        <a:pt x="78" y="35"/>
                      </a:lnTo>
                      <a:lnTo>
                        <a:pt x="25" y="75"/>
                      </a:lnTo>
                      <a:lnTo>
                        <a:pt x="0" y="42"/>
                      </a:lnTo>
                      <a:lnTo>
                        <a:pt x="39" y="0"/>
                      </a:lnTo>
                      <a:lnTo>
                        <a:pt x="43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4725360" y="5252400"/>
                  <a:ext cx="23040" cy="21600"/>
                </a:xfrm>
                <a:custGeom>
                  <a:avLst/>
                  <a:gdLst/>
                  <a:ahLst/>
                  <a:rect l="l" t="t" r="r" b="b"/>
                  <a:pathLst>
                    <a:path w="43" h="41">
                      <a:moveTo>
                        <a:pt x="8" y="0"/>
                      </a:moveTo>
                      <a:lnTo>
                        <a:pt x="0" y="7"/>
                      </a:lnTo>
                      <a:lnTo>
                        <a:pt x="35" y="41"/>
                      </a:lnTo>
                      <a:lnTo>
                        <a:pt x="43" y="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4716000" y="526896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59" h="48">
                      <a:moveTo>
                        <a:pt x="59" y="8"/>
                      </a:moveTo>
                      <a:lnTo>
                        <a:pt x="53" y="0"/>
                      </a:lnTo>
                      <a:lnTo>
                        <a:pt x="0" y="40"/>
                      </a:lnTo>
                      <a:lnTo>
                        <a:pt x="6" y="48"/>
                      </a:lnTo>
                      <a:lnTo>
                        <a:pt x="59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4743720" y="52689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8" y="2"/>
                      </a:moveTo>
                      <a:lnTo>
                        <a:pt x="10" y="4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4703400" y="5274000"/>
                  <a:ext cx="16920" cy="19800"/>
                </a:xfrm>
                <a:custGeom>
                  <a:avLst/>
                  <a:gdLst/>
                  <a:ahLst/>
                  <a:rect l="l" t="t" r="r" b="b"/>
                  <a:pathLst>
                    <a:path w="33" h="40">
                      <a:moveTo>
                        <a:pt x="25" y="40"/>
                      </a:moveTo>
                      <a:lnTo>
                        <a:pt x="33" y="33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25" y="4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4716000" y="528948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6" y="8"/>
                      </a:move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8" y="1"/>
                      </a:lnTo>
                      <a:lnTo>
                        <a:pt x="0" y="0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4703400" y="5250600"/>
                  <a:ext cx="23040" cy="262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0" y="42"/>
                      </a:moveTo>
                      <a:lnTo>
                        <a:pt x="6" y="50"/>
                      </a:lnTo>
                      <a:lnTo>
                        <a:pt x="46" y="8"/>
                      </a:lnTo>
                      <a:lnTo>
                        <a:pt x="39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702320" y="5272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8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9" y="8"/>
                      </a:lnTo>
                      <a:lnTo>
                        <a:pt x="11" y="1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4725360" y="52506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3" y="0"/>
                      </a:moveTo>
                      <a:lnTo>
                        <a:pt x="0" y="11"/>
                      </a:lnTo>
                      <a:lnTo>
                        <a:pt x="4" y="12"/>
                      </a:lnTo>
                      <a:lnTo>
                        <a:pt x="7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4723920" y="5249160"/>
                  <a:ext cx="2520" cy="61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3" y="12"/>
                      </a:lnTo>
                      <a:lnTo>
                        <a:pt x="7" y="1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4725360" y="52506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6" y="0"/>
                      </a:moveTo>
                      <a:lnTo>
                        <a:pt x="8" y="2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5719680" y="3606840"/>
                  <a:ext cx="46080" cy="33840"/>
                </a:xfrm>
                <a:custGeom>
                  <a:avLst/>
                  <a:gdLst/>
                  <a:ahLst/>
                  <a:rect l="l" t="t" r="r" b="b"/>
                  <a:pathLst>
                    <a:path w="89" h="66">
                      <a:moveTo>
                        <a:pt x="89" y="20"/>
                      </a:moveTo>
                      <a:lnTo>
                        <a:pt x="86" y="24"/>
                      </a:lnTo>
                      <a:lnTo>
                        <a:pt x="81" y="30"/>
                      </a:lnTo>
                      <a:lnTo>
                        <a:pt x="68" y="46"/>
                      </a:lnTo>
                      <a:lnTo>
                        <a:pt x="53" y="61"/>
                      </a:lnTo>
                      <a:lnTo>
                        <a:pt x="48" y="66"/>
                      </a:lnTo>
                      <a:lnTo>
                        <a:pt x="0" y="45"/>
                      </a:lnTo>
                      <a:lnTo>
                        <a:pt x="35" y="0"/>
                      </a:lnTo>
                      <a:lnTo>
                        <a:pt x="44" y="1"/>
                      </a:lnTo>
                      <a:lnTo>
                        <a:pt x="62" y="5"/>
                      </a:lnTo>
                      <a:lnTo>
                        <a:pt x="73" y="9"/>
                      </a:lnTo>
                      <a:lnTo>
                        <a:pt x="77" y="11"/>
                      </a:lnTo>
                      <a:lnTo>
                        <a:pt x="81" y="12"/>
                      </a:lnTo>
                      <a:lnTo>
                        <a:pt x="85" y="13"/>
                      </a:lnTo>
                      <a:lnTo>
                        <a:pt x="87" y="16"/>
                      </a:lnTo>
                      <a:lnTo>
                        <a:pt x="89" y="17"/>
                      </a:lnTo>
                      <a:lnTo>
                        <a:pt x="89" y="2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740920" y="36158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50" h="54">
                      <a:moveTo>
                        <a:pt x="50" y="5"/>
                      </a:moveTo>
                      <a:lnTo>
                        <a:pt x="42" y="18"/>
                      </a:lnTo>
                      <a:lnTo>
                        <a:pt x="29" y="34"/>
                      </a:lnTo>
                      <a:lnTo>
                        <a:pt x="8" y="54"/>
                      </a:lnTo>
                      <a:lnTo>
                        <a:pt x="0" y="47"/>
                      </a:lnTo>
                      <a:lnTo>
                        <a:pt x="21" y="28"/>
                      </a:lnTo>
                      <a:lnTo>
                        <a:pt x="34" y="12"/>
                      </a:lnTo>
                      <a:lnTo>
                        <a:pt x="40" y="0"/>
                      </a:lnTo>
                      <a:lnTo>
                        <a:pt x="5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717880" y="3628440"/>
                  <a:ext cx="26280" cy="15120"/>
                </a:xfrm>
                <a:custGeom>
                  <a:avLst/>
                  <a:gdLst/>
                  <a:ahLst/>
                  <a:rect l="l" t="t" r="r" b="b"/>
                  <a:pathLst>
                    <a:path w="51" h="30">
                      <a:moveTo>
                        <a:pt x="46" y="30"/>
                      </a:moveTo>
                      <a:lnTo>
                        <a:pt x="51" y="21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46" y="3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5740920" y="36392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8"/>
                      </a:moveTo>
                      <a:lnTo>
                        <a:pt x="5" y="11"/>
                      </a:lnTo>
                      <a:lnTo>
                        <a:pt x="1" y="9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5717880" y="3605040"/>
                  <a:ext cx="21600" cy="27720"/>
                </a:xfrm>
                <a:custGeom>
                  <a:avLst/>
                  <a:gdLst/>
                  <a:ahLst/>
                  <a:rect l="l" t="t" r="r" b="b"/>
                  <a:pathLst>
                    <a:path w="43" h="52">
                      <a:moveTo>
                        <a:pt x="0" y="45"/>
                      </a:moveTo>
                      <a:lnTo>
                        <a:pt x="8" y="52"/>
                      </a:lnTo>
                      <a:lnTo>
                        <a:pt x="43" y="7"/>
                      </a:lnTo>
                      <a:lnTo>
                        <a:pt x="35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5714640" y="3628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7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1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736240" y="360504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3" y="0"/>
                      </a:moveTo>
                      <a:lnTo>
                        <a:pt x="31" y="5"/>
                      </a:lnTo>
                      <a:lnTo>
                        <a:pt x="50" y="13"/>
                      </a:lnTo>
                      <a:lnTo>
                        <a:pt x="57" y="17"/>
                      </a:lnTo>
                      <a:lnTo>
                        <a:pt x="61" y="21"/>
                      </a:lnTo>
                      <a:lnTo>
                        <a:pt x="61" y="24"/>
                      </a:lnTo>
                      <a:lnTo>
                        <a:pt x="50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45" y="22"/>
                      </a:lnTo>
                      <a:lnTo>
                        <a:pt x="28" y="16"/>
                      </a:lnTo>
                      <a:lnTo>
                        <a:pt x="0" y="1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734800" y="36050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2" y="10"/>
                      </a:lnTo>
                      <a:lnTo>
                        <a:pt x="8" y="9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762520" y="361584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11" y="3"/>
                      </a:moveTo>
                      <a:lnTo>
                        <a:pt x="10" y="5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676120" y="365616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79" h="55">
                      <a:moveTo>
                        <a:pt x="0" y="0"/>
                      </a:moveTo>
                      <a:lnTo>
                        <a:pt x="79" y="7"/>
                      </a:lnTo>
                      <a:lnTo>
                        <a:pt x="77" y="53"/>
                      </a:lnTo>
                      <a:lnTo>
                        <a:pt x="11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676120" y="3653280"/>
                  <a:ext cx="41400" cy="9360"/>
                </a:xfrm>
                <a:custGeom>
                  <a:avLst/>
                  <a:gdLst/>
                  <a:ahLst/>
                  <a:rect l="l" t="t" r="r" b="b"/>
                  <a:pathLst>
                    <a:path w="80" h="17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79" y="17"/>
                      </a:lnTo>
                      <a:lnTo>
                        <a:pt x="80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713200" y="3659400"/>
                  <a:ext cx="7560" cy="24480"/>
                </a:xfrm>
                <a:custGeom>
                  <a:avLst/>
                  <a:gdLst/>
                  <a:ahLst/>
                  <a:rect l="l" t="t" r="r" b="b"/>
                  <a:pathLst>
                    <a:path w="13" h="46">
                      <a:moveTo>
                        <a:pt x="13" y="0"/>
                      </a:moveTo>
                      <a:lnTo>
                        <a:pt x="2" y="0"/>
                      </a:lnTo>
                      <a:lnTo>
                        <a:pt x="0" y="46"/>
                      </a:lnTo>
                      <a:lnTo>
                        <a:pt x="10" y="46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714640" y="365616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11" y="0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5682240" y="3681000"/>
                  <a:ext cx="33840" cy="6120"/>
                </a:xfrm>
                <a:custGeom>
                  <a:avLst/>
                  <a:gdLst/>
                  <a:ahLst/>
                  <a:rect l="l" t="t" r="r" b="b"/>
                  <a:pathLst>
                    <a:path w="66" h="12">
                      <a:moveTo>
                        <a:pt x="66" y="9"/>
                      </a:moveTo>
                      <a:lnTo>
                        <a:pt x="66" y="0"/>
                      </a:lnTo>
                      <a:lnTo>
                        <a:pt x="0" y="2"/>
                      </a:lnTo>
                      <a:lnTo>
                        <a:pt x="0" y="12"/>
                      </a:lnTo>
                      <a:lnTo>
                        <a:pt x="6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5713200" y="36810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10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674680" y="3656160"/>
                  <a:ext cx="9000" cy="29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1" y="58"/>
                      </a:moveTo>
                      <a:lnTo>
                        <a:pt x="20" y="55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5679360" y="36824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672880" y="36532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5" y="10"/>
                      </a:lnTo>
                      <a:lnTo>
                        <a:pt x="1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6039360" y="3515760"/>
                  <a:ext cx="15120" cy="95400"/>
                </a:xfrm>
                <a:custGeom>
                  <a:avLst/>
                  <a:gdLst/>
                  <a:ahLst/>
                  <a:rect l="l" t="t" r="r" b="b"/>
                  <a:pathLst>
                    <a:path w="31" h="188">
                      <a:moveTo>
                        <a:pt x="0" y="0"/>
                      </a:moveTo>
                      <a:lnTo>
                        <a:pt x="31" y="9"/>
                      </a:lnTo>
                      <a:lnTo>
                        <a:pt x="31" y="188"/>
                      </a:lnTo>
                      <a:lnTo>
                        <a:pt x="6" y="18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8046000" y="3271320"/>
                  <a:ext cx="47880" cy="24480"/>
                </a:xfrm>
                <a:custGeom>
                  <a:avLst/>
                  <a:gdLst/>
                  <a:ahLst/>
                  <a:rect l="l" t="t" r="r" b="b"/>
                  <a:pathLst>
                    <a:path w="92" h="48">
                      <a:moveTo>
                        <a:pt x="92" y="48"/>
                      </a:moveTo>
                      <a:lnTo>
                        <a:pt x="73" y="37"/>
                      </a:lnTo>
                      <a:lnTo>
                        <a:pt x="66" y="32"/>
                      </a:lnTo>
                      <a:lnTo>
                        <a:pt x="56" y="27"/>
                      </a:lnTo>
                      <a:lnTo>
                        <a:pt x="39" y="13"/>
                      </a:lnTo>
                      <a:lnTo>
                        <a:pt x="22" y="0"/>
                      </a:lnTo>
                      <a:lnTo>
                        <a:pt x="10" y="23"/>
                      </a:lnTo>
                      <a:lnTo>
                        <a:pt x="0" y="45"/>
                      </a:lnTo>
                      <a:lnTo>
                        <a:pt x="92" y="4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079760" y="2720880"/>
                  <a:ext cx="1590840" cy="1934640"/>
                </a:xfrm>
                <a:custGeom>
                  <a:avLst/>
                  <a:gdLst/>
                  <a:ahLst/>
                  <a:rect l="l" t="t" r="r" b="b"/>
                  <a:pathLst>
                    <a:path w="3089" h="3752">
                      <a:moveTo>
                        <a:pt x="1711" y="872"/>
                      </a:moveTo>
                      <a:lnTo>
                        <a:pt x="1711" y="862"/>
                      </a:lnTo>
                      <a:lnTo>
                        <a:pt x="1712" y="851"/>
                      </a:lnTo>
                      <a:lnTo>
                        <a:pt x="1713" y="842"/>
                      </a:lnTo>
                      <a:lnTo>
                        <a:pt x="1716" y="834"/>
                      </a:lnTo>
                      <a:lnTo>
                        <a:pt x="1719" y="825"/>
                      </a:lnTo>
                      <a:lnTo>
                        <a:pt x="1723" y="817"/>
                      </a:lnTo>
                      <a:lnTo>
                        <a:pt x="1727" y="809"/>
                      </a:lnTo>
                      <a:lnTo>
                        <a:pt x="1731" y="801"/>
                      </a:lnTo>
                      <a:lnTo>
                        <a:pt x="1741" y="785"/>
                      </a:lnTo>
                      <a:lnTo>
                        <a:pt x="1752" y="771"/>
                      </a:lnTo>
                      <a:lnTo>
                        <a:pt x="1777" y="739"/>
                      </a:lnTo>
                      <a:lnTo>
                        <a:pt x="1782" y="732"/>
                      </a:lnTo>
                      <a:lnTo>
                        <a:pt x="1786" y="726"/>
                      </a:lnTo>
                      <a:lnTo>
                        <a:pt x="1791" y="711"/>
                      </a:lnTo>
                      <a:lnTo>
                        <a:pt x="1802" y="682"/>
                      </a:lnTo>
                      <a:lnTo>
                        <a:pt x="1807" y="670"/>
                      </a:lnTo>
                      <a:lnTo>
                        <a:pt x="1811" y="665"/>
                      </a:lnTo>
                      <a:lnTo>
                        <a:pt x="1815" y="660"/>
                      </a:lnTo>
                      <a:lnTo>
                        <a:pt x="1820" y="656"/>
                      </a:lnTo>
                      <a:lnTo>
                        <a:pt x="1826" y="653"/>
                      </a:lnTo>
                      <a:lnTo>
                        <a:pt x="1831" y="652"/>
                      </a:lnTo>
                      <a:lnTo>
                        <a:pt x="1839" y="651"/>
                      </a:lnTo>
                      <a:lnTo>
                        <a:pt x="1844" y="652"/>
                      </a:lnTo>
                      <a:lnTo>
                        <a:pt x="1849" y="653"/>
                      </a:lnTo>
                      <a:lnTo>
                        <a:pt x="1855" y="655"/>
                      </a:lnTo>
                      <a:lnTo>
                        <a:pt x="1858" y="657"/>
                      </a:lnTo>
                      <a:lnTo>
                        <a:pt x="1868" y="661"/>
                      </a:lnTo>
                      <a:lnTo>
                        <a:pt x="1873" y="662"/>
                      </a:lnTo>
                      <a:lnTo>
                        <a:pt x="1878" y="664"/>
                      </a:lnTo>
                      <a:lnTo>
                        <a:pt x="1884" y="662"/>
                      </a:lnTo>
                      <a:lnTo>
                        <a:pt x="1888" y="661"/>
                      </a:lnTo>
                      <a:lnTo>
                        <a:pt x="1890" y="659"/>
                      </a:lnTo>
                      <a:lnTo>
                        <a:pt x="1894" y="656"/>
                      </a:lnTo>
                      <a:lnTo>
                        <a:pt x="1899" y="648"/>
                      </a:lnTo>
                      <a:lnTo>
                        <a:pt x="1903" y="640"/>
                      </a:lnTo>
                      <a:lnTo>
                        <a:pt x="1909" y="631"/>
                      </a:lnTo>
                      <a:lnTo>
                        <a:pt x="1914" y="623"/>
                      </a:lnTo>
                      <a:lnTo>
                        <a:pt x="1917" y="620"/>
                      </a:lnTo>
                      <a:lnTo>
                        <a:pt x="1920" y="618"/>
                      </a:lnTo>
                      <a:lnTo>
                        <a:pt x="1924" y="616"/>
                      </a:lnTo>
                      <a:lnTo>
                        <a:pt x="1930" y="616"/>
                      </a:lnTo>
                      <a:lnTo>
                        <a:pt x="1964" y="616"/>
                      </a:lnTo>
                      <a:lnTo>
                        <a:pt x="1961" y="628"/>
                      </a:lnTo>
                      <a:lnTo>
                        <a:pt x="1961" y="639"/>
                      </a:lnTo>
                      <a:lnTo>
                        <a:pt x="1964" y="659"/>
                      </a:lnTo>
                      <a:lnTo>
                        <a:pt x="1964" y="669"/>
                      </a:lnTo>
                      <a:lnTo>
                        <a:pt x="1965" y="680"/>
                      </a:lnTo>
                      <a:lnTo>
                        <a:pt x="1965" y="690"/>
                      </a:lnTo>
                      <a:lnTo>
                        <a:pt x="1964" y="695"/>
                      </a:lnTo>
                      <a:lnTo>
                        <a:pt x="1964" y="702"/>
                      </a:lnTo>
                      <a:lnTo>
                        <a:pt x="1980" y="707"/>
                      </a:lnTo>
                      <a:lnTo>
                        <a:pt x="1984" y="699"/>
                      </a:lnTo>
                      <a:lnTo>
                        <a:pt x="1985" y="697"/>
                      </a:lnTo>
                      <a:lnTo>
                        <a:pt x="1986" y="693"/>
                      </a:lnTo>
                      <a:lnTo>
                        <a:pt x="1986" y="645"/>
                      </a:lnTo>
                      <a:lnTo>
                        <a:pt x="1986" y="643"/>
                      </a:lnTo>
                      <a:lnTo>
                        <a:pt x="1988" y="639"/>
                      </a:lnTo>
                      <a:lnTo>
                        <a:pt x="1989" y="636"/>
                      </a:lnTo>
                      <a:lnTo>
                        <a:pt x="1992" y="633"/>
                      </a:lnTo>
                      <a:lnTo>
                        <a:pt x="1997" y="629"/>
                      </a:lnTo>
                      <a:lnTo>
                        <a:pt x="2001" y="628"/>
                      </a:lnTo>
                      <a:lnTo>
                        <a:pt x="2004" y="627"/>
                      </a:lnTo>
                      <a:lnTo>
                        <a:pt x="2004" y="698"/>
                      </a:lnTo>
                      <a:lnTo>
                        <a:pt x="2015" y="703"/>
                      </a:lnTo>
                      <a:lnTo>
                        <a:pt x="2021" y="706"/>
                      </a:lnTo>
                      <a:lnTo>
                        <a:pt x="2026" y="707"/>
                      </a:lnTo>
                      <a:lnTo>
                        <a:pt x="2029" y="703"/>
                      </a:lnTo>
                      <a:lnTo>
                        <a:pt x="2029" y="699"/>
                      </a:lnTo>
                      <a:lnTo>
                        <a:pt x="2030" y="691"/>
                      </a:lnTo>
                      <a:lnTo>
                        <a:pt x="2030" y="676"/>
                      </a:lnTo>
                      <a:lnTo>
                        <a:pt x="2030" y="669"/>
                      </a:lnTo>
                      <a:lnTo>
                        <a:pt x="2031" y="661"/>
                      </a:lnTo>
                      <a:lnTo>
                        <a:pt x="2034" y="655"/>
                      </a:lnTo>
                      <a:lnTo>
                        <a:pt x="2037" y="648"/>
                      </a:lnTo>
                      <a:lnTo>
                        <a:pt x="2039" y="644"/>
                      </a:lnTo>
                      <a:lnTo>
                        <a:pt x="2043" y="641"/>
                      </a:lnTo>
                      <a:lnTo>
                        <a:pt x="2050" y="636"/>
                      </a:lnTo>
                      <a:lnTo>
                        <a:pt x="2056" y="633"/>
                      </a:lnTo>
                      <a:lnTo>
                        <a:pt x="2064" y="631"/>
                      </a:lnTo>
                      <a:lnTo>
                        <a:pt x="2072" y="628"/>
                      </a:lnTo>
                      <a:lnTo>
                        <a:pt x="2081" y="627"/>
                      </a:lnTo>
                      <a:lnTo>
                        <a:pt x="2099" y="624"/>
                      </a:lnTo>
                      <a:lnTo>
                        <a:pt x="2114" y="623"/>
                      </a:lnTo>
                      <a:lnTo>
                        <a:pt x="2121" y="620"/>
                      </a:lnTo>
                      <a:lnTo>
                        <a:pt x="2126" y="618"/>
                      </a:lnTo>
                      <a:lnTo>
                        <a:pt x="2131" y="614"/>
                      </a:lnTo>
                      <a:lnTo>
                        <a:pt x="2134" y="612"/>
                      </a:lnTo>
                      <a:lnTo>
                        <a:pt x="2135" y="610"/>
                      </a:lnTo>
                      <a:lnTo>
                        <a:pt x="2137" y="607"/>
                      </a:lnTo>
                      <a:lnTo>
                        <a:pt x="2138" y="603"/>
                      </a:lnTo>
                      <a:lnTo>
                        <a:pt x="2139" y="599"/>
                      </a:lnTo>
                      <a:lnTo>
                        <a:pt x="2139" y="595"/>
                      </a:lnTo>
                      <a:lnTo>
                        <a:pt x="2139" y="512"/>
                      </a:lnTo>
                      <a:lnTo>
                        <a:pt x="2126" y="511"/>
                      </a:lnTo>
                      <a:lnTo>
                        <a:pt x="2120" y="509"/>
                      </a:lnTo>
                      <a:lnTo>
                        <a:pt x="2114" y="508"/>
                      </a:lnTo>
                      <a:lnTo>
                        <a:pt x="2102" y="504"/>
                      </a:lnTo>
                      <a:lnTo>
                        <a:pt x="2092" y="498"/>
                      </a:lnTo>
                      <a:lnTo>
                        <a:pt x="2088" y="494"/>
                      </a:lnTo>
                      <a:lnTo>
                        <a:pt x="2085" y="491"/>
                      </a:lnTo>
                      <a:lnTo>
                        <a:pt x="2084" y="490"/>
                      </a:lnTo>
                      <a:lnTo>
                        <a:pt x="2080" y="484"/>
                      </a:lnTo>
                      <a:lnTo>
                        <a:pt x="2077" y="480"/>
                      </a:lnTo>
                      <a:lnTo>
                        <a:pt x="2075" y="475"/>
                      </a:lnTo>
                      <a:lnTo>
                        <a:pt x="2072" y="469"/>
                      </a:lnTo>
                      <a:lnTo>
                        <a:pt x="2071" y="463"/>
                      </a:lnTo>
                      <a:lnTo>
                        <a:pt x="2071" y="457"/>
                      </a:lnTo>
                      <a:lnTo>
                        <a:pt x="1982" y="457"/>
                      </a:lnTo>
                      <a:lnTo>
                        <a:pt x="1980" y="448"/>
                      </a:lnTo>
                      <a:lnTo>
                        <a:pt x="1980" y="444"/>
                      </a:lnTo>
                      <a:lnTo>
                        <a:pt x="1980" y="438"/>
                      </a:lnTo>
                      <a:lnTo>
                        <a:pt x="1980" y="433"/>
                      </a:lnTo>
                      <a:lnTo>
                        <a:pt x="1980" y="429"/>
                      </a:lnTo>
                      <a:lnTo>
                        <a:pt x="1982" y="426"/>
                      </a:lnTo>
                      <a:lnTo>
                        <a:pt x="1984" y="422"/>
                      </a:lnTo>
                      <a:lnTo>
                        <a:pt x="1988" y="417"/>
                      </a:lnTo>
                      <a:lnTo>
                        <a:pt x="1993" y="411"/>
                      </a:lnTo>
                      <a:lnTo>
                        <a:pt x="1998" y="405"/>
                      </a:lnTo>
                      <a:lnTo>
                        <a:pt x="2004" y="399"/>
                      </a:lnTo>
                      <a:lnTo>
                        <a:pt x="2006" y="392"/>
                      </a:lnTo>
                      <a:lnTo>
                        <a:pt x="2008" y="388"/>
                      </a:lnTo>
                      <a:lnTo>
                        <a:pt x="2008" y="384"/>
                      </a:lnTo>
                      <a:lnTo>
                        <a:pt x="2006" y="378"/>
                      </a:lnTo>
                      <a:lnTo>
                        <a:pt x="2006" y="374"/>
                      </a:lnTo>
                      <a:lnTo>
                        <a:pt x="2005" y="371"/>
                      </a:lnTo>
                      <a:lnTo>
                        <a:pt x="2004" y="368"/>
                      </a:lnTo>
                      <a:lnTo>
                        <a:pt x="2002" y="364"/>
                      </a:lnTo>
                      <a:lnTo>
                        <a:pt x="2000" y="362"/>
                      </a:lnTo>
                      <a:lnTo>
                        <a:pt x="1998" y="360"/>
                      </a:lnTo>
                      <a:lnTo>
                        <a:pt x="1993" y="355"/>
                      </a:lnTo>
                      <a:lnTo>
                        <a:pt x="1988" y="351"/>
                      </a:lnTo>
                      <a:lnTo>
                        <a:pt x="1976" y="343"/>
                      </a:lnTo>
                      <a:lnTo>
                        <a:pt x="1976" y="325"/>
                      </a:lnTo>
                      <a:lnTo>
                        <a:pt x="2010" y="325"/>
                      </a:lnTo>
                      <a:lnTo>
                        <a:pt x="2017" y="326"/>
                      </a:lnTo>
                      <a:lnTo>
                        <a:pt x="2023" y="329"/>
                      </a:lnTo>
                      <a:lnTo>
                        <a:pt x="2030" y="331"/>
                      </a:lnTo>
                      <a:lnTo>
                        <a:pt x="2037" y="333"/>
                      </a:lnTo>
                      <a:lnTo>
                        <a:pt x="2043" y="331"/>
                      </a:lnTo>
                      <a:lnTo>
                        <a:pt x="2048" y="331"/>
                      </a:lnTo>
                      <a:lnTo>
                        <a:pt x="2052" y="330"/>
                      </a:lnTo>
                      <a:lnTo>
                        <a:pt x="2058" y="327"/>
                      </a:lnTo>
                      <a:lnTo>
                        <a:pt x="2062" y="325"/>
                      </a:lnTo>
                      <a:lnTo>
                        <a:pt x="2067" y="322"/>
                      </a:lnTo>
                      <a:lnTo>
                        <a:pt x="2073" y="314"/>
                      </a:lnTo>
                      <a:lnTo>
                        <a:pt x="2077" y="310"/>
                      </a:lnTo>
                      <a:lnTo>
                        <a:pt x="2080" y="306"/>
                      </a:lnTo>
                      <a:lnTo>
                        <a:pt x="2084" y="296"/>
                      </a:lnTo>
                      <a:lnTo>
                        <a:pt x="2085" y="291"/>
                      </a:lnTo>
                      <a:lnTo>
                        <a:pt x="2087" y="285"/>
                      </a:lnTo>
                      <a:lnTo>
                        <a:pt x="2088" y="280"/>
                      </a:lnTo>
                      <a:lnTo>
                        <a:pt x="2088" y="275"/>
                      </a:lnTo>
                      <a:lnTo>
                        <a:pt x="2087" y="264"/>
                      </a:lnTo>
                      <a:lnTo>
                        <a:pt x="2084" y="254"/>
                      </a:lnTo>
                      <a:lnTo>
                        <a:pt x="2080" y="244"/>
                      </a:lnTo>
                      <a:lnTo>
                        <a:pt x="2077" y="239"/>
                      </a:lnTo>
                      <a:lnTo>
                        <a:pt x="2075" y="235"/>
                      </a:lnTo>
                      <a:lnTo>
                        <a:pt x="2067" y="229"/>
                      </a:lnTo>
                      <a:lnTo>
                        <a:pt x="2063" y="226"/>
                      </a:lnTo>
                      <a:lnTo>
                        <a:pt x="2059" y="223"/>
                      </a:lnTo>
                      <a:lnTo>
                        <a:pt x="2054" y="221"/>
                      </a:lnTo>
                      <a:lnTo>
                        <a:pt x="2050" y="219"/>
                      </a:lnTo>
                      <a:lnTo>
                        <a:pt x="2044" y="218"/>
                      </a:lnTo>
                      <a:lnTo>
                        <a:pt x="2039" y="218"/>
                      </a:lnTo>
                      <a:lnTo>
                        <a:pt x="2033" y="219"/>
                      </a:lnTo>
                      <a:lnTo>
                        <a:pt x="2026" y="221"/>
                      </a:lnTo>
                      <a:lnTo>
                        <a:pt x="2021" y="223"/>
                      </a:lnTo>
                      <a:lnTo>
                        <a:pt x="2015" y="226"/>
                      </a:lnTo>
                      <a:lnTo>
                        <a:pt x="2010" y="229"/>
                      </a:lnTo>
                      <a:lnTo>
                        <a:pt x="2005" y="231"/>
                      </a:lnTo>
                      <a:lnTo>
                        <a:pt x="1998" y="234"/>
                      </a:lnTo>
                      <a:lnTo>
                        <a:pt x="1992" y="234"/>
                      </a:lnTo>
                      <a:lnTo>
                        <a:pt x="1986" y="234"/>
                      </a:lnTo>
                      <a:lnTo>
                        <a:pt x="1982" y="233"/>
                      </a:lnTo>
                      <a:lnTo>
                        <a:pt x="1979" y="230"/>
                      </a:lnTo>
                      <a:lnTo>
                        <a:pt x="1976" y="227"/>
                      </a:lnTo>
                      <a:lnTo>
                        <a:pt x="1973" y="223"/>
                      </a:lnTo>
                      <a:lnTo>
                        <a:pt x="1972" y="219"/>
                      </a:lnTo>
                      <a:lnTo>
                        <a:pt x="1969" y="209"/>
                      </a:lnTo>
                      <a:lnTo>
                        <a:pt x="1965" y="186"/>
                      </a:lnTo>
                      <a:lnTo>
                        <a:pt x="1964" y="175"/>
                      </a:lnTo>
                      <a:lnTo>
                        <a:pt x="1961" y="169"/>
                      </a:lnTo>
                      <a:lnTo>
                        <a:pt x="1960" y="164"/>
                      </a:lnTo>
                      <a:lnTo>
                        <a:pt x="1957" y="160"/>
                      </a:lnTo>
                      <a:lnTo>
                        <a:pt x="1955" y="156"/>
                      </a:lnTo>
                      <a:lnTo>
                        <a:pt x="1952" y="152"/>
                      </a:lnTo>
                      <a:lnTo>
                        <a:pt x="1949" y="148"/>
                      </a:lnTo>
                      <a:lnTo>
                        <a:pt x="1938" y="136"/>
                      </a:lnTo>
                      <a:lnTo>
                        <a:pt x="1932" y="131"/>
                      </a:lnTo>
                      <a:lnTo>
                        <a:pt x="1927" y="124"/>
                      </a:lnTo>
                      <a:lnTo>
                        <a:pt x="1926" y="120"/>
                      </a:lnTo>
                      <a:lnTo>
                        <a:pt x="1924" y="116"/>
                      </a:lnTo>
                      <a:lnTo>
                        <a:pt x="1923" y="113"/>
                      </a:lnTo>
                      <a:lnTo>
                        <a:pt x="1923" y="107"/>
                      </a:lnTo>
                      <a:lnTo>
                        <a:pt x="1923" y="105"/>
                      </a:lnTo>
                      <a:lnTo>
                        <a:pt x="1924" y="102"/>
                      </a:lnTo>
                      <a:lnTo>
                        <a:pt x="1927" y="97"/>
                      </a:lnTo>
                      <a:lnTo>
                        <a:pt x="1928" y="94"/>
                      </a:lnTo>
                      <a:lnTo>
                        <a:pt x="1931" y="93"/>
                      </a:lnTo>
                      <a:lnTo>
                        <a:pt x="1935" y="89"/>
                      </a:lnTo>
                      <a:lnTo>
                        <a:pt x="1949" y="93"/>
                      </a:lnTo>
                      <a:lnTo>
                        <a:pt x="1963" y="95"/>
                      </a:lnTo>
                      <a:lnTo>
                        <a:pt x="1988" y="101"/>
                      </a:lnTo>
                      <a:lnTo>
                        <a:pt x="2001" y="103"/>
                      </a:lnTo>
                      <a:lnTo>
                        <a:pt x="2013" y="107"/>
                      </a:lnTo>
                      <a:lnTo>
                        <a:pt x="2025" y="113"/>
                      </a:lnTo>
                      <a:lnTo>
                        <a:pt x="2031" y="116"/>
                      </a:lnTo>
                      <a:lnTo>
                        <a:pt x="2037" y="120"/>
                      </a:lnTo>
                      <a:lnTo>
                        <a:pt x="2042" y="123"/>
                      </a:lnTo>
                      <a:lnTo>
                        <a:pt x="2044" y="126"/>
                      </a:lnTo>
                      <a:lnTo>
                        <a:pt x="2051" y="134"/>
                      </a:lnTo>
                      <a:lnTo>
                        <a:pt x="2056" y="142"/>
                      </a:lnTo>
                      <a:lnTo>
                        <a:pt x="2062" y="149"/>
                      </a:lnTo>
                      <a:lnTo>
                        <a:pt x="2066" y="156"/>
                      </a:lnTo>
                      <a:lnTo>
                        <a:pt x="2068" y="159"/>
                      </a:lnTo>
                      <a:lnTo>
                        <a:pt x="2072" y="161"/>
                      </a:lnTo>
                      <a:lnTo>
                        <a:pt x="2075" y="164"/>
                      </a:lnTo>
                      <a:lnTo>
                        <a:pt x="2079" y="165"/>
                      </a:lnTo>
                      <a:lnTo>
                        <a:pt x="2083" y="167"/>
                      </a:lnTo>
                      <a:lnTo>
                        <a:pt x="2088" y="168"/>
                      </a:lnTo>
                      <a:lnTo>
                        <a:pt x="2092" y="167"/>
                      </a:lnTo>
                      <a:lnTo>
                        <a:pt x="2095" y="165"/>
                      </a:lnTo>
                      <a:lnTo>
                        <a:pt x="2097" y="164"/>
                      </a:lnTo>
                      <a:lnTo>
                        <a:pt x="2100" y="161"/>
                      </a:lnTo>
                      <a:lnTo>
                        <a:pt x="2102" y="159"/>
                      </a:lnTo>
                      <a:lnTo>
                        <a:pt x="2104" y="155"/>
                      </a:lnTo>
                      <a:lnTo>
                        <a:pt x="2105" y="152"/>
                      </a:lnTo>
                      <a:lnTo>
                        <a:pt x="2105" y="148"/>
                      </a:lnTo>
                      <a:lnTo>
                        <a:pt x="2105" y="142"/>
                      </a:lnTo>
                      <a:lnTo>
                        <a:pt x="2104" y="139"/>
                      </a:lnTo>
                      <a:lnTo>
                        <a:pt x="2102" y="136"/>
                      </a:lnTo>
                      <a:lnTo>
                        <a:pt x="2100" y="132"/>
                      </a:lnTo>
                      <a:lnTo>
                        <a:pt x="2096" y="128"/>
                      </a:lnTo>
                      <a:lnTo>
                        <a:pt x="2091" y="126"/>
                      </a:lnTo>
                      <a:lnTo>
                        <a:pt x="2085" y="122"/>
                      </a:lnTo>
                      <a:lnTo>
                        <a:pt x="2073" y="116"/>
                      </a:lnTo>
                      <a:lnTo>
                        <a:pt x="2085" y="111"/>
                      </a:lnTo>
                      <a:lnTo>
                        <a:pt x="2096" y="106"/>
                      </a:lnTo>
                      <a:lnTo>
                        <a:pt x="2106" y="99"/>
                      </a:lnTo>
                      <a:lnTo>
                        <a:pt x="2110" y="97"/>
                      </a:lnTo>
                      <a:lnTo>
                        <a:pt x="2114" y="93"/>
                      </a:lnTo>
                      <a:lnTo>
                        <a:pt x="2122" y="86"/>
                      </a:lnTo>
                      <a:lnTo>
                        <a:pt x="2126" y="81"/>
                      </a:lnTo>
                      <a:lnTo>
                        <a:pt x="2129" y="77"/>
                      </a:lnTo>
                      <a:lnTo>
                        <a:pt x="2131" y="72"/>
                      </a:lnTo>
                      <a:lnTo>
                        <a:pt x="2133" y="66"/>
                      </a:lnTo>
                      <a:lnTo>
                        <a:pt x="2134" y="61"/>
                      </a:lnTo>
                      <a:lnTo>
                        <a:pt x="2135" y="55"/>
                      </a:lnTo>
                      <a:lnTo>
                        <a:pt x="2141" y="56"/>
                      </a:lnTo>
                      <a:lnTo>
                        <a:pt x="2146" y="57"/>
                      </a:lnTo>
                      <a:lnTo>
                        <a:pt x="2151" y="58"/>
                      </a:lnTo>
                      <a:lnTo>
                        <a:pt x="2157" y="58"/>
                      </a:lnTo>
                      <a:lnTo>
                        <a:pt x="2161" y="58"/>
                      </a:lnTo>
                      <a:lnTo>
                        <a:pt x="2166" y="57"/>
                      </a:lnTo>
                      <a:lnTo>
                        <a:pt x="2168" y="55"/>
                      </a:lnTo>
                      <a:lnTo>
                        <a:pt x="2171" y="53"/>
                      </a:lnTo>
                      <a:lnTo>
                        <a:pt x="2174" y="49"/>
                      </a:lnTo>
                      <a:lnTo>
                        <a:pt x="2176" y="47"/>
                      </a:lnTo>
                      <a:lnTo>
                        <a:pt x="2180" y="39"/>
                      </a:lnTo>
                      <a:lnTo>
                        <a:pt x="2183" y="29"/>
                      </a:lnTo>
                      <a:lnTo>
                        <a:pt x="2186" y="19"/>
                      </a:lnTo>
                      <a:lnTo>
                        <a:pt x="2190" y="10"/>
                      </a:lnTo>
                      <a:lnTo>
                        <a:pt x="2193" y="0"/>
                      </a:lnTo>
                      <a:lnTo>
                        <a:pt x="2200" y="16"/>
                      </a:lnTo>
                      <a:lnTo>
                        <a:pt x="2207" y="31"/>
                      </a:lnTo>
                      <a:lnTo>
                        <a:pt x="2221" y="56"/>
                      </a:lnTo>
                      <a:lnTo>
                        <a:pt x="2228" y="68"/>
                      </a:lnTo>
                      <a:lnTo>
                        <a:pt x="2234" y="82"/>
                      </a:lnTo>
                      <a:lnTo>
                        <a:pt x="2236" y="89"/>
                      </a:lnTo>
                      <a:lnTo>
                        <a:pt x="2238" y="97"/>
                      </a:lnTo>
                      <a:lnTo>
                        <a:pt x="2240" y="105"/>
                      </a:lnTo>
                      <a:lnTo>
                        <a:pt x="2241" y="113"/>
                      </a:lnTo>
                      <a:lnTo>
                        <a:pt x="2245" y="113"/>
                      </a:lnTo>
                      <a:lnTo>
                        <a:pt x="2248" y="111"/>
                      </a:lnTo>
                      <a:lnTo>
                        <a:pt x="2254" y="107"/>
                      </a:lnTo>
                      <a:lnTo>
                        <a:pt x="2257" y="106"/>
                      </a:lnTo>
                      <a:lnTo>
                        <a:pt x="2258" y="103"/>
                      </a:lnTo>
                      <a:lnTo>
                        <a:pt x="2262" y="97"/>
                      </a:lnTo>
                      <a:lnTo>
                        <a:pt x="2265" y="90"/>
                      </a:lnTo>
                      <a:lnTo>
                        <a:pt x="2266" y="82"/>
                      </a:lnTo>
                      <a:lnTo>
                        <a:pt x="2270" y="65"/>
                      </a:lnTo>
                      <a:lnTo>
                        <a:pt x="2291" y="99"/>
                      </a:lnTo>
                      <a:lnTo>
                        <a:pt x="2302" y="116"/>
                      </a:lnTo>
                      <a:lnTo>
                        <a:pt x="2313" y="131"/>
                      </a:lnTo>
                      <a:lnTo>
                        <a:pt x="2319" y="139"/>
                      </a:lnTo>
                      <a:lnTo>
                        <a:pt x="2324" y="147"/>
                      </a:lnTo>
                      <a:lnTo>
                        <a:pt x="2336" y="161"/>
                      </a:lnTo>
                      <a:lnTo>
                        <a:pt x="2348" y="175"/>
                      </a:lnTo>
                      <a:lnTo>
                        <a:pt x="2360" y="186"/>
                      </a:lnTo>
                      <a:lnTo>
                        <a:pt x="2373" y="198"/>
                      </a:lnTo>
                      <a:lnTo>
                        <a:pt x="2379" y="202"/>
                      </a:lnTo>
                      <a:lnTo>
                        <a:pt x="2386" y="207"/>
                      </a:lnTo>
                      <a:lnTo>
                        <a:pt x="2401" y="217"/>
                      </a:lnTo>
                      <a:lnTo>
                        <a:pt x="2407" y="221"/>
                      </a:lnTo>
                      <a:lnTo>
                        <a:pt x="2415" y="223"/>
                      </a:lnTo>
                      <a:lnTo>
                        <a:pt x="2423" y="227"/>
                      </a:lnTo>
                      <a:lnTo>
                        <a:pt x="2431" y="230"/>
                      </a:lnTo>
                      <a:lnTo>
                        <a:pt x="2440" y="233"/>
                      </a:lnTo>
                      <a:lnTo>
                        <a:pt x="2448" y="234"/>
                      </a:lnTo>
                      <a:lnTo>
                        <a:pt x="2457" y="235"/>
                      </a:lnTo>
                      <a:lnTo>
                        <a:pt x="2466" y="237"/>
                      </a:lnTo>
                      <a:lnTo>
                        <a:pt x="2486" y="238"/>
                      </a:lnTo>
                      <a:lnTo>
                        <a:pt x="2492" y="237"/>
                      </a:lnTo>
                      <a:lnTo>
                        <a:pt x="2497" y="235"/>
                      </a:lnTo>
                      <a:lnTo>
                        <a:pt x="2501" y="234"/>
                      </a:lnTo>
                      <a:lnTo>
                        <a:pt x="2505" y="231"/>
                      </a:lnTo>
                      <a:lnTo>
                        <a:pt x="2509" y="227"/>
                      </a:lnTo>
                      <a:lnTo>
                        <a:pt x="2513" y="223"/>
                      </a:lnTo>
                      <a:lnTo>
                        <a:pt x="2519" y="215"/>
                      </a:lnTo>
                      <a:lnTo>
                        <a:pt x="2524" y="207"/>
                      </a:lnTo>
                      <a:lnTo>
                        <a:pt x="2528" y="204"/>
                      </a:lnTo>
                      <a:lnTo>
                        <a:pt x="2532" y="201"/>
                      </a:lnTo>
                      <a:lnTo>
                        <a:pt x="2536" y="198"/>
                      </a:lnTo>
                      <a:lnTo>
                        <a:pt x="2540" y="196"/>
                      </a:lnTo>
                      <a:lnTo>
                        <a:pt x="2546" y="194"/>
                      </a:lnTo>
                      <a:lnTo>
                        <a:pt x="2551" y="194"/>
                      </a:lnTo>
                      <a:lnTo>
                        <a:pt x="2559" y="194"/>
                      </a:lnTo>
                      <a:lnTo>
                        <a:pt x="2567" y="197"/>
                      </a:lnTo>
                      <a:lnTo>
                        <a:pt x="2573" y="201"/>
                      </a:lnTo>
                      <a:lnTo>
                        <a:pt x="2576" y="202"/>
                      </a:lnTo>
                      <a:lnTo>
                        <a:pt x="2579" y="205"/>
                      </a:lnTo>
                      <a:lnTo>
                        <a:pt x="2581" y="207"/>
                      </a:lnTo>
                      <a:lnTo>
                        <a:pt x="2584" y="211"/>
                      </a:lnTo>
                      <a:lnTo>
                        <a:pt x="2588" y="218"/>
                      </a:lnTo>
                      <a:lnTo>
                        <a:pt x="2589" y="222"/>
                      </a:lnTo>
                      <a:lnTo>
                        <a:pt x="2590" y="225"/>
                      </a:lnTo>
                      <a:lnTo>
                        <a:pt x="2590" y="233"/>
                      </a:lnTo>
                      <a:lnTo>
                        <a:pt x="2590" y="239"/>
                      </a:lnTo>
                      <a:lnTo>
                        <a:pt x="2589" y="243"/>
                      </a:lnTo>
                      <a:lnTo>
                        <a:pt x="2586" y="252"/>
                      </a:lnTo>
                      <a:lnTo>
                        <a:pt x="2585" y="256"/>
                      </a:lnTo>
                      <a:lnTo>
                        <a:pt x="2584" y="262"/>
                      </a:lnTo>
                      <a:lnTo>
                        <a:pt x="2583" y="267"/>
                      </a:lnTo>
                      <a:lnTo>
                        <a:pt x="2583" y="272"/>
                      </a:lnTo>
                      <a:lnTo>
                        <a:pt x="2583" y="280"/>
                      </a:lnTo>
                      <a:lnTo>
                        <a:pt x="2584" y="288"/>
                      </a:lnTo>
                      <a:lnTo>
                        <a:pt x="2586" y="296"/>
                      </a:lnTo>
                      <a:lnTo>
                        <a:pt x="2589" y="302"/>
                      </a:lnTo>
                      <a:lnTo>
                        <a:pt x="2593" y="309"/>
                      </a:lnTo>
                      <a:lnTo>
                        <a:pt x="2597" y="316"/>
                      </a:lnTo>
                      <a:lnTo>
                        <a:pt x="2601" y="322"/>
                      </a:lnTo>
                      <a:lnTo>
                        <a:pt x="2608" y="327"/>
                      </a:lnTo>
                      <a:lnTo>
                        <a:pt x="2613" y="333"/>
                      </a:lnTo>
                      <a:lnTo>
                        <a:pt x="2619" y="337"/>
                      </a:lnTo>
                      <a:lnTo>
                        <a:pt x="2626" y="341"/>
                      </a:lnTo>
                      <a:lnTo>
                        <a:pt x="2634" y="343"/>
                      </a:lnTo>
                      <a:lnTo>
                        <a:pt x="2641" y="346"/>
                      </a:lnTo>
                      <a:lnTo>
                        <a:pt x="2648" y="349"/>
                      </a:lnTo>
                      <a:lnTo>
                        <a:pt x="2656" y="350"/>
                      </a:lnTo>
                      <a:lnTo>
                        <a:pt x="2664" y="350"/>
                      </a:lnTo>
                      <a:lnTo>
                        <a:pt x="2671" y="350"/>
                      </a:lnTo>
                      <a:lnTo>
                        <a:pt x="2677" y="349"/>
                      </a:lnTo>
                      <a:lnTo>
                        <a:pt x="2688" y="345"/>
                      </a:lnTo>
                      <a:lnTo>
                        <a:pt x="2700" y="341"/>
                      </a:lnTo>
                      <a:lnTo>
                        <a:pt x="2705" y="339"/>
                      </a:lnTo>
                      <a:lnTo>
                        <a:pt x="2712" y="339"/>
                      </a:lnTo>
                      <a:lnTo>
                        <a:pt x="2720" y="339"/>
                      </a:lnTo>
                      <a:lnTo>
                        <a:pt x="2725" y="342"/>
                      </a:lnTo>
                      <a:lnTo>
                        <a:pt x="2732" y="345"/>
                      </a:lnTo>
                      <a:lnTo>
                        <a:pt x="2737" y="347"/>
                      </a:lnTo>
                      <a:lnTo>
                        <a:pt x="2741" y="351"/>
                      </a:lnTo>
                      <a:lnTo>
                        <a:pt x="2746" y="357"/>
                      </a:lnTo>
                      <a:lnTo>
                        <a:pt x="2755" y="366"/>
                      </a:lnTo>
                      <a:lnTo>
                        <a:pt x="2763" y="376"/>
                      </a:lnTo>
                      <a:lnTo>
                        <a:pt x="2768" y="380"/>
                      </a:lnTo>
                      <a:lnTo>
                        <a:pt x="2774" y="384"/>
                      </a:lnTo>
                      <a:lnTo>
                        <a:pt x="2779" y="388"/>
                      </a:lnTo>
                      <a:lnTo>
                        <a:pt x="2784" y="391"/>
                      </a:lnTo>
                      <a:lnTo>
                        <a:pt x="2791" y="392"/>
                      </a:lnTo>
                      <a:lnTo>
                        <a:pt x="2797" y="393"/>
                      </a:lnTo>
                      <a:lnTo>
                        <a:pt x="2803" y="392"/>
                      </a:lnTo>
                      <a:lnTo>
                        <a:pt x="2807" y="391"/>
                      </a:lnTo>
                      <a:lnTo>
                        <a:pt x="2809" y="388"/>
                      </a:lnTo>
                      <a:lnTo>
                        <a:pt x="2811" y="384"/>
                      </a:lnTo>
                      <a:lnTo>
                        <a:pt x="2812" y="380"/>
                      </a:lnTo>
                      <a:lnTo>
                        <a:pt x="2813" y="376"/>
                      </a:lnTo>
                      <a:lnTo>
                        <a:pt x="2815" y="364"/>
                      </a:lnTo>
                      <a:lnTo>
                        <a:pt x="2815" y="353"/>
                      </a:lnTo>
                      <a:lnTo>
                        <a:pt x="2815" y="341"/>
                      </a:lnTo>
                      <a:lnTo>
                        <a:pt x="2816" y="335"/>
                      </a:lnTo>
                      <a:lnTo>
                        <a:pt x="2817" y="330"/>
                      </a:lnTo>
                      <a:lnTo>
                        <a:pt x="2820" y="325"/>
                      </a:lnTo>
                      <a:lnTo>
                        <a:pt x="2824" y="320"/>
                      </a:lnTo>
                      <a:lnTo>
                        <a:pt x="2830" y="313"/>
                      </a:lnTo>
                      <a:lnTo>
                        <a:pt x="2837" y="308"/>
                      </a:lnTo>
                      <a:lnTo>
                        <a:pt x="2850" y="297"/>
                      </a:lnTo>
                      <a:lnTo>
                        <a:pt x="2865" y="289"/>
                      </a:lnTo>
                      <a:lnTo>
                        <a:pt x="2878" y="281"/>
                      </a:lnTo>
                      <a:lnTo>
                        <a:pt x="2891" y="273"/>
                      </a:lnTo>
                      <a:lnTo>
                        <a:pt x="2898" y="268"/>
                      </a:lnTo>
                      <a:lnTo>
                        <a:pt x="2903" y="263"/>
                      </a:lnTo>
                      <a:lnTo>
                        <a:pt x="2910" y="258"/>
                      </a:lnTo>
                      <a:lnTo>
                        <a:pt x="2915" y="252"/>
                      </a:lnTo>
                      <a:lnTo>
                        <a:pt x="2917" y="248"/>
                      </a:lnTo>
                      <a:lnTo>
                        <a:pt x="2920" y="246"/>
                      </a:lnTo>
                      <a:lnTo>
                        <a:pt x="2925" y="238"/>
                      </a:lnTo>
                      <a:lnTo>
                        <a:pt x="2943" y="238"/>
                      </a:lnTo>
                      <a:lnTo>
                        <a:pt x="2943" y="275"/>
                      </a:lnTo>
                      <a:lnTo>
                        <a:pt x="2943" y="281"/>
                      </a:lnTo>
                      <a:lnTo>
                        <a:pt x="2941" y="288"/>
                      </a:lnTo>
                      <a:lnTo>
                        <a:pt x="2940" y="295"/>
                      </a:lnTo>
                      <a:lnTo>
                        <a:pt x="2939" y="300"/>
                      </a:lnTo>
                      <a:lnTo>
                        <a:pt x="2936" y="305"/>
                      </a:lnTo>
                      <a:lnTo>
                        <a:pt x="2933" y="310"/>
                      </a:lnTo>
                      <a:lnTo>
                        <a:pt x="2927" y="320"/>
                      </a:lnTo>
                      <a:lnTo>
                        <a:pt x="2919" y="329"/>
                      </a:lnTo>
                      <a:lnTo>
                        <a:pt x="2910" y="337"/>
                      </a:lnTo>
                      <a:lnTo>
                        <a:pt x="2890" y="353"/>
                      </a:lnTo>
                      <a:lnTo>
                        <a:pt x="2871" y="368"/>
                      </a:lnTo>
                      <a:lnTo>
                        <a:pt x="2862" y="376"/>
                      </a:lnTo>
                      <a:lnTo>
                        <a:pt x="2858" y="380"/>
                      </a:lnTo>
                      <a:lnTo>
                        <a:pt x="2854" y="386"/>
                      </a:lnTo>
                      <a:lnTo>
                        <a:pt x="2848" y="395"/>
                      </a:lnTo>
                      <a:lnTo>
                        <a:pt x="2842" y="405"/>
                      </a:lnTo>
                      <a:lnTo>
                        <a:pt x="2840" y="411"/>
                      </a:lnTo>
                      <a:lnTo>
                        <a:pt x="2838" y="417"/>
                      </a:lnTo>
                      <a:lnTo>
                        <a:pt x="2838" y="424"/>
                      </a:lnTo>
                      <a:lnTo>
                        <a:pt x="2837" y="430"/>
                      </a:lnTo>
                      <a:lnTo>
                        <a:pt x="2837" y="488"/>
                      </a:lnTo>
                      <a:lnTo>
                        <a:pt x="2837" y="492"/>
                      </a:lnTo>
                      <a:lnTo>
                        <a:pt x="2836" y="496"/>
                      </a:lnTo>
                      <a:lnTo>
                        <a:pt x="2833" y="500"/>
                      </a:lnTo>
                      <a:lnTo>
                        <a:pt x="2830" y="503"/>
                      </a:lnTo>
                      <a:lnTo>
                        <a:pt x="2824" y="508"/>
                      </a:lnTo>
                      <a:lnTo>
                        <a:pt x="2816" y="512"/>
                      </a:lnTo>
                      <a:lnTo>
                        <a:pt x="2808" y="516"/>
                      </a:lnTo>
                      <a:lnTo>
                        <a:pt x="2804" y="519"/>
                      </a:lnTo>
                      <a:lnTo>
                        <a:pt x="2800" y="521"/>
                      </a:lnTo>
                      <a:lnTo>
                        <a:pt x="2797" y="524"/>
                      </a:lnTo>
                      <a:lnTo>
                        <a:pt x="2796" y="527"/>
                      </a:lnTo>
                      <a:lnTo>
                        <a:pt x="2795" y="531"/>
                      </a:lnTo>
                      <a:lnTo>
                        <a:pt x="2794" y="535"/>
                      </a:lnTo>
                      <a:lnTo>
                        <a:pt x="2795" y="542"/>
                      </a:lnTo>
                      <a:lnTo>
                        <a:pt x="2796" y="549"/>
                      </a:lnTo>
                      <a:lnTo>
                        <a:pt x="2797" y="552"/>
                      </a:lnTo>
                      <a:lnTo>
                        <a:pt x="2799" y="554"/>
                      </a:lnTo>
                      <a:lnTo>
                        <a:pt x="2803" y="560"/>
                      </a:lnTo>
                      <a:lnTo>
                        <a:pt x="2807" y="564"/>
                      </a:lnTo>
                      <a:lnTo>
                        <a:pt x="2812" y="568"/>
                      </a:lnTo>
                      <a:lnTo>
                        <a:pt x="2819" y="571"/>
                      </a:lnTo>
                      <a:lnTo>
                        <a:pt x="2824" y="575"/>
                      </a:lnTo>
                      <a:lnTo>
                        <a:pt x="2837" y="582"/>
                      </a:lnTo>
                      <a:lnTo>
                        <a:pt x="2850" y="589"/>
                      </a:lnTo>
                      <a:lnTo>
                        <a:pt x="2863" y="597"/>
                      </a:lnTo>
                      <a:lnTo>
                        <a:pt x="2869" y="602"/>
                      </a:lnTo>
                      <a:lnTo>
                        <a:pt x="2874" y="607"/>
                      </a:lnTo>
                      <a:lnTo>
                        <a:pt x="2886" y="620"/>
                      </a:lnTo>
                      <a:lnTo>
                        <a:pt x="2898" y="632"/>
                      </a:lnTo>
                      <a:lnTo>
                        <a:pt x="2908" y="643"/>
                      </a:lnTo>
                      <a:lnTo>
                        <a:pt x="2920" y="652"/>
                      </a:lnTo>
                      <a:lnTo>
                        <a:pt x="2932" y="661"/>
                      </a:lnTo>
                      <a:lnTo>
                        <a:pt x="2944" y="669"/>
                      </a:lnTo>
                      <a:lnTo>
                        <a:pt x="2957" y="677"/>
                      </a:lnTo>
                      <a:lnTo>
                        <a:pt x="2969" y="684"/>
                      </a:lnTo>
                      <a:lnTo>
                        <a:pt x="2982" y="689"/>
                      </a:lnTo>
                      <a:lnTo>
                        <a:pt x="2997" y="694"/>
                      </a:lnTo>
                      <a:lnTo>
                        <a:pt x="3003" y="697"/>
                      </a:lnTo>
                      <a:lnTo>
                        <a:pt x="3010" y="698"/>
                      </a:lnTo>
                      <a:lnTo>
                        <a:pt x="3024" y="702"/>
                      </a:lnTo>
                      <a:lnTo>
                        <a:pt x="3040" y="703"/>
                      </a:lnTo>
                      <a:lnTo>
                        <a:pt x="3056" y="706"/>
                      </a:lnTo>
                      <a:lnTo>
                        <a:pt x="3072" y="707"/>
                      </a:lnTo>
                      <a:lnTo>
                        <a:pt x="3089" y="707"/>
                      </a:lnTo>
                      <a:lnTo>
                        <a:pt x="3089" y="726"/>
                      </a:lnTo>
                      <a:lnTo>
                        <a:pt x="3089" y="730"/>
                      </a:lnTo>
                      <a:lnTo>
                        <a:pt x="3088" y="732"/>
                      </a:lnTo>
                      <a:lnTo>
                        <a:pt x="3086" y="735"/>
                      </a:lnTo>
                      <a:lnTo>
                        <a:pt x="3084" y="736"/>
                      </a:lnTo>
                      <a:lnTo>
                        <a:pt x="3078" y="739"/>
                      </a:lnTo>
                      <a:lnTo>
                        <a:pt x="3070" y="740"/>
                      </a:lnTo>
                      <a:lnTo>
                        <a:pt x="3055" y="740"/>
                      </a:lnTo>
                      <a:lnTo>
                        <a:pt x="3038" y="739"/>
                      </a:lnTo>
                      <a:lnTo>
                        <a:pt x="3024" y="739"/>
                      </a:lnTo>
                      <a:lnTo>
                        <a:pt x="3012" y="739"/>
                      </a:lnTo>
                      <a:lnTo>
                        <a:pt x="2990" y="742"/>
                      </a:lnTo>
                      <a:lnTo>
                        <a:pt x="2968" y="744"/>
                      </a:lnTo>
                      <a:lnTo>
                        <a:pt x="2956" y="746"/>
                      </a:lnTo>
                      <a:lnTo>
                        <a:pt x="2943" y="746"/>
                      </a:lnTo>
                      <a:lnTo>
                        <a:pt x="2936" y="744"/>
                      </a:lnTo>
                      <a:lnTo>
                        <a:pt x="2929" y="742"/>
                      </a:lnTo>
                      <a:lnTo>
                        <a:pt x="2923" y="739"/>
                      </a:lnTo>
                      <a:lnTo>
                        <a:pt x="2917" y="734"/>
                      </a:lnTo>
                      <a:lnTo>
                        <a:pt x="2912" y="730"/>
                      </a:lnTo>
                      <a:lnTo>
                        <a:pt x="2906" y="726"/>
                      </a:lnTo>
                      <a:lnTo>
                        <a:pt x="2903" y="724"/>
                      </a:lnTo>
                      <a:lnTo>
                        <a:pt x="2899" y="723"/>
                      </a:lnTo>
                      <a:lnTo>
                        <a:pt x="2892" y="722"/>
                      </a:lnTo>
                      <a:lnTo>
                        <a:pt x="2891" y="726"/>
                      </a:lnTo>
                      <a:lnTo>
                        <a:pt x="2890" y="731"/>
                      </a:lnTo>
                      <a:lnTo>
                        <a:pt x="2887" y="739"/>
                      </a:lnTo>
                      <a:lnTo>
                        <a:pt x="2881" y="747"/>
                      </a:lnTo>
                      <a:lnTo>
                        <a:pt x="2874" y="755"/>
                      </a:lnTo>
                      <a:lnTo>
                        <a:pt x="2848" y="755"/>
                      </a:lnTo>
                      <a:lnTo>
                        <a:pt x="2848" y="749"/>
                      </a:lnTo>
                      <a:lnTo>
                        <a:pt x="2846" y="746"/>
                      </a:lnTo>
                      <a:lnTo>
                        <a:pt x="2845" y="742"/>
                      </a:lnTo>
                      <a:lnTo>
                        <a:pt x="2845" y="736"/>
                      </a:lnTo>
                      <a:lnTo>
                        <a:pt x="2845" y="731"/>
                      </a:lnTo>
                      <a:lnTo>
                        <a:pt x="2846" y="726"/>
                      </a:lnTo>
                      <a:lnTo>
                        <a:pt x="2848" y="715"/>
                      </a:lnTo>
                      <a:lnTo>
                        <a:pt x="2850" y="706"/>
                      </a:lnTo>
                      <a:lnTo>
                        <a:pt x="2852" y="701"/>
                      </a:lnTo>
                      <a:lnTo>
                        <a:pt x="2852" y="695"/>
                      </a:lnTo>
                      <a:lnTo>
                        <a:pt x="2850" y="686"/>
                      </a:lnTo>
                      <a:lnTo>
                        <a:pt x="2848" y="678"/>
                      </a:lnTo>
                      <a:lnTo>
                        <a:pt x="2844" y="670"/>
                      </a:lnTo>
                      <a:lnTo>
                        <a:pt x="2838" y="664"/>
                      </a:lnTo>
                      <a:lnTo>
                        <a:pt x="2834" y="661"/>
                      </a:lnTo>
                      <a:lnTo>
                        <a:pt x="2832" y="659"/>
                      </a:lnTo>
                      <a:lnTo>
                        <a:pt x="2828" y="656"/>
                      </a:lnTo>
                      <a:lnTo>
                        <a:pt x="2824" y="655"/>
                      </a:lnTo>
                      <a:lnTo>
                        <a:pt x="2815" y="652"/>
                      </a:lnTo>
                      <a:lnTo>
                        <a:pt x="2805" y="651"/>
                      </a:lnTo>
                      <a:lnTo>
                        <a:pt x="2803" y="652"/>
                      </a:lnTo>
                      <a:lnTo>
                        <a:pt x="2799" y="652"/>
                      </a:lnTo>
                      <a:lnTo>
                        <a:pt x="2796" y="655"/>
                      </a:lnTo>
                      <a:lnTo>
                        <a:pt x="2794" y="656"/>
                      </a:lnTo>
                      <a:lnTo>
                        <a:pt x="2792" y="659"/>
                      </a:lnTo>
                      <a:lnTo>
                        <a:pt x="2790" y="662"/>
                      </a:lnTo>
                      <a:lnTo>
                        <a:pt x="2787" y="669"/>
                      </a:lnTo>
                      <a:lnTo>
                        <a:pt x="2783" y="676"/>
                      </a:lnTo>
                      <a:lnTo>
                        <a:pt x="2782" y="680"/>
                      </a:lnTo>
                      <a:lnTo>
                        <a:pt x="2779" y="682"/>
                      </a:lnTo>
                      <a:lnTo>
                        <a:pt x="2778" y="685"/>
                      </a:lnTo>
                      <a:lnTo>
                        <a:pt x="2775" y="688"/>
                      </a:lnTo>
                      <a:lnTo>
                        <a:pt x="2771" y="690"/>
                      </a:lnTo>
                      <a:lnTo>
                        <a:pt x="2768" y="691"/>
                      </a:lnTo>
                      <a:lnTo>
                        <a:pt x="2763" y="693"/>
                      </a:lnTo>
                      <a:lnTo>
                        <a:pt x="2757" y="694"/>
                      </a:lnTo>
                      <a:lnTo>
                        <a:pt x="2751" y="694"/>
                      </a:lnTo>
                      <a:lnTo>
                        <a:pt x="2746" y="693"/>
                      </a:lnTo>
                      <a:lnTo>
                        <a:pt x="2734" y="691"/>
                      </a:lnTo>
                      <a:lnTo>
                        <a:pt x="2724" y="690"/>
                      </a:lnTo>
                      <a:lnTo>
                        <a:pt x="2714" y="689"/>
                      </a:lnTo>
                      <a:lnTo>
                        <a:pt x="2709" y="689"/>
                      </a:lnTo>
                      <a:lnTo>
                        <a:pt x="2704" y="689"/>
                      </a:lnTo>
                      <a:lnTo>
                        <a:pt x="2700" y="690"/>
                      </a:lnTo>
                      <a:lnTo>
                        <a:pt x="2695" y="691"/>
                      </a:lnTo>
                      <a:lnTo>
                        <a:pt x="2691" y="694"/>
                      </a:lnTo>
                      <a:lnTo>
                        <a:pt x="2685" y="698"/>
                      </a:lnTo>
                      <a:lnTo>
                        <a:pt x="2693" y="714"/>
                      </a:lnTo>
                      <a:lnTo>
                        <a:pt x="2696" y="722"/>
                      </a:lnTo>
                      <a:lnTo>
                        <a:pt x="2696" y="726"/>
                      </a:lnTo>
                      <a:lnTo>
                        <a:pt x="2696" y="730"/>
                      </a:lnTo>
                      <a:lnTo>
                        <a:pt x="2696" y="738"/>
                      </a:lnTo>
                      <a:lnTo>
                        <a:pt x="2695" y="744"/>
                      </a:lnTo>
                      <a:lnTo>
                        <a:pt x="2692" y="749"/>
                      </a:lnTo>
                      <a:lnTo>
                        <a:pt x="2689" y="756"/>
                      </a:lnTo>
                      <a:lnTo>
                        <a:pt x="2681" y="765"/>
                      </a:lnTo>
                      <a:lnTo>
                        <a:pt x="2672" y="776"/>
                      </a:lnTo>
                      <a:lnTo>
                        <a:pt x="2664" y="785"/>
                      </a:lnTo>
                      <a:lnTo>
                        <a:pt x="2656" y="796"/>
                      </a:lnTo>
                      <a:lnTo>
                        <a:pt x="2654" y="801"/>
                      </a:lnTo>
                      <a:lnTo>
                        <a:pt x="2651" y="808"/>
                      </a:lnTo>
                      <a:lnTo>
                        <a:pt x="2650" y="814"/>
                      </a:lnTo>
                      <a:lnTo>
                        <a:pt x="2648" y="821"/>
                      </a:lnTo>
                      <a:lnTo>
                        <a:pt x="2650" y="834"/>
                      </a:lnTo>
                      <a:lnTo>
                        <a:pt x="2651" y="846"/>
                      </a:lnTo>
                      <a:lnTo>
                        <a:pt x="2654" y="856"/>
                      </a:lnTo>
                      <a:lnTo>
                        <a:pt x="2656" y="867"/>
                      </a:lnTo>
                      <a:lnTo>
                        <a:pt x="2659" y="877"/>
                      </a:lnTo>
                      <a:lnTo>
                        <a:pt x="2660" y="888"/>
                      </a:lnTo>
                      <a:lnTo>
                        <a:pt x="2663" y="900"/>
                      </a:lnTo>
                      <a:lnTo>
                        <a:pt x="2663" y="913"/>
                      </a:lnTo>
                      <a:lnTo>
                        <a:pt x="2663" y="924"/>
                      </a:lnTo>
                      <a:lnTo>
                        <a:pt x="2660" y="934"/>
                      </a:lnTo>
                      <a:lnTo>
                        <a:pt x="2658" y="943"/>
                      </a:lnTo>
                      <a:lnTo>
                        <a:pt x="2654" y="953"/>
                      </a:lnTo>
                      <a:lnTo>
                        <a:pt x="2650" y="960"/>
                      </a:lnTo>
                      <a:lnTo>
                        <a:pt x="2644" y="968"/>
                      </a:lnTo>
                      <a:lnTo>
                        <a:pt x="2639" y="976"/>
                      </a:lnTo>
                      <a:lnTo>
                        <a:pt x="2633" y="983"/>
                      </a:lnTo>
                      <a:lnTo>
                        <a:pt x="2619" y="999"/>
                      </a:lnTo>
                      <a:lnTo>
                        <a:pt x="2608" y="1015"/>
                      </a:lnTo>
                      <a:lnTo>
                        <a:pt x="2601" y="1022"/>
                      </a:lnTo>
                      <a:lnTo>
                        <a:pt x="2596" y="1032"/>
                      </a:lnTo>
                      <a:lnTo>
                        <a:pt x="2590" y="1041"/>
                      </a:lnTo>
                      <a:lnTo>
                        <a:pt x="2585" y="1051"/>
                      </a:lnTo>
                      <a:lnTo>
                        <a:pt x="2583" y="1061"/>
                      </a:lnTo>
                      <a:lnTo>
                        <a:pt x="2580" y="1071"/>
                      </a:lnTo>
                      <a:lnTo>
                        <a:pt x="2575" y="1094"/>
                      </a:lnTo>
                      <a:lnTo>
                        <a:pt x="2571" y="1115"/>
                      </a:lnTo>
                      <a:lnTo>
                        <a:pt x="2565" y="1135"/>
                      </a:lnTo>
                      <a:lnTo>
                        <a:pt x="2563" y="1144"/>
                      </a:lnTo>
                      <a:lnTo>
                        <a:pt x="2560" y="1153"/>
                      </a:lnTo>
                      <a:lnTo>
                        <a:pt x="2555" y="1160"/>
                      </a:lnTo>
                      <a:lnTo>
                        <a:pt x="2551" y="1166"/>
                      </a:lnTo>
                      <a:lnTo>
                        <a:pt x="2544" y="1171"/>
                      </a:lnTo>
                      <a:lnTo>
                        <a:pt x="2540" y="1174"/>
                      </a:lnTo>
                      <a:lnTo>
                        <a:pt x="2538" y="1175"/>
                      </a:lnTo>
                      <a:lnTo>
                        <a:pt x="2528" y="1178"/>
                      </a:lnTo>
                      <a:lnTo>
                        <a:pt x="2524" y="1179"/>
                      </a:lnTo>
                      <a:lnTo>
                        <a:pt x="2519" y="1179"/>
                      </a:lnTo>
                      <a:lnTo>
                        <a:pt x="2507" y="1178"/>
                      </a:lnTo>
                      <a:lnTo>
                        <a:pt x="2498" y="1175"/>
                      </a:lnTo>
                      <a:lnTo>
                        <a:pt x="2489" y="1173"/>
                      </a:lnTo>
                      <a:lnTo>
                        <a:pt x="2480" y="1168"/>
                      </a:lnTo>
                      <a:lnTo>
                        <a:pt x="2470" y="1164"/>
                      </a:lnTo>
                      <a:lnTo>
                        <a:pt x="2461" y="1160"/>
                      </a:lnTo>
                      <a:lnTo>
                        <a:pt x="2451" y="1157"/>
                      </a:lnTo>
                      <a:lnTo>
                        <a:pt x="2440" y="1157"/>
                      </a:lnTo>
                      <a:lnTo>
                        <a:pt x="2436" y="1157"/>
                      </a:lnTo>
                      <a:lnTo>
                        <a:pt x="2433" y="1158"/>
                      </a:lnTo>
                      <a:lnTo>
                        <a:pt x="2430" y="1160"/>
                      </a:lnTo>
                      <a:lnTo>
                        <a:pt x="2427" y="1161"/>
                      </a:lnTo>
                      <a:lnTo>
                        <a:pt x="2423" y="1165"/>
                      </a:lnTo>
                      <a:lnTo>
                        <a:pt x="2418" y="1170"/>
                      </a:lnTo>
                      <a:lnTo>
                        <a:pt x="2414" y="1174"/>
                      </a:lnTo>
                      <a:lnTo>
                        <a:pt x="2408" y="1178"/>
                      </a:lnTo>
                      <a:lnTo>
                        <a:pt x="2406" y="1181"/>
                      </a:lnTo>
                      <a:lnTo>
                        <a:pt x="2402" y="1182"/>
                      </a:lnTo>
                      <a:lnTo>
                        <a:pt x="2399" y="1182"/>
                      </a:lnTo>
                      <a:lnTo>
                        <a:pt x="2395" y="1183"/>
                      </a:lnTo>
                      <a:lnTo>
                        <a:pt x="2397" y="1194"/>
                      </a:lnTo>
                      <a:lnTo>
                        <a:pt x="2398" y="1203"/>
                      </a:lnTo>
                      <a:lnTo>
                        <a:pt x="2399" y="1214"/>
                      </a:lnTo>
                      <a:lnTo>
                        <a:pt x="2402" y="1223"/>
                      </a:lnTo>
                      <a:lnTo>
                        <a:pt x="2404" y="1232"/>
                      </a:lnTo>
                      <a:lnTo>
                        <a:pt x="2407" y="1240"/>
                      </a:lnTo>
                      <a:lnTo>
                        <a:pt x="2415" y="1257"/>
                      </a:lnTo>
                      <a:lnTo>
                        <a:pt x="2419" y="1265"/>
                      </a:lnTo>
                      <a:lnTo>
                        <a:pt x="2424" y="1273"/>
                      </a:lnTo>
                      <a:lnTo>
                        <a:pt x="2433" y="1289"/>
                      </a:lnTo>
                      <a:lnTo>
                        <a:pt x="2444" y="1303"/>
                      </a:lnTo>
                      <a:lnTo>
                        <a:pt x="2455" y="1318"/>
                      </a:lnTo>
                      <a:lnTo>
                        <a:pt x="2476" y="1348"/>
                      </a:lnTo>
                      <a:lnTo>
                        <a:pt x="2486" y="1364"/>
                      </a:lnTo>
                      <a:lnTo>
                        <a:pt x="2494" y="1380"/>
                      </a:lnTo>
                      <a:lnTo>
                        <a:pt x="2502" y="1397"/>
                      </a:lnTo>
                      <a:lnTo>
                        <a:pt x="2505" y="1406"/>
                      </a:lnTo>
                      <a:lnTo>
                        <a:pt x="2507" y="1415"/>
                      </a:lnTo>
                      <a:lnTo>
                        <a:pt x="2509" y="1425"/>
                      </a:lnTo>
                      <a:lnTo>
                        <a:pt x="2511" y="1434"/>
                      </a:lnTo>
                      <a:lnTo>
                        <a:pt x="2511" y="1444"/>
                      </a:lnTo>
                      <a:lnTo>
                        <a:pt x="2511" y="1455"/>
                      </a:lnTo>
                      <a:lnTo>
                        <a:pt x="2511" y="1558"/>
                      </a:lnTo>
                      <a:lnTo>
                        <a:pt x="2511" y="1571"/>
                      </a:lnTo>
                      <a:lnTo>
                        <a:pt x="2510" y="1583"/>
                      </a:lnTo>
                      <a:lnTo>
                        <a:pt x="2507" y="1595"/>
                      </a:lnTo>
                      <a:lnTo>
                        <a:pt x="2503" y="1605"/>
                      </a:lnTo>
                      <a:lnTo>
                        <a:pt x="2501" y="1616"/>
                      </a:lnTo>
                      <a:lnTo>
                        <a:pt x="2495" y="1626"/>
                      </a:lnTo>
                      <a:lnTo>
                        <a:pt x="2486" y="1646"/>
                      </a:lnTo>
                      <a:lnTo>
                        <a:pt x="2477" y="1666"/>
                      </a:lnTo>
                      <a:lnTo>
                        <a:pt x="2473" y="1677"/>
                      </a:lnTo>
                      <a:lnTo>
                        <a:pt x="2469" y="1687"/>
                      </a:lnTo>
                      <a:lnTo>
                        <a:pt x="2465" y="1698"/>
                      </a:lnTo>
                      <a:lnTo>
                        <a:pt x="2463" y="1710"/>
                      </a:lnTo>
                      <a:lnTo>
                        <a:pt x="2461" y="1721"/>
                      </a:lnTo>
                      <a:lnTo>
                        <a:pt x="2461" y="1735"/>
                      </a:lnTo>
                      <a:lnTo>
                        <a:pt x="2461" y="1880"/>
                      </a:lnTo>
                      <a:lnTo>
                        <a:pt x="2460" y="1892"/>
                      </a:lnTo>
                      <a:lnTo>
                        <a:pt x="2459" y="1901"/>
                      </a:lnTo>
                      <a:lnTo>
                        <a:pt x="2455" y="1921"/>
                      </a:lnTo>
                      <a:lnTo>
                        <a:pt x="2449" y="1939"/>
                      </a:lnTo>
                      <a:lnTo>
                        <a:pt x="2448" y="1950"/>
                      </a:lnTo>
                      <a:lnTo>
                        <a:pt x="2448" y="1961"/>
                      </a:lnTo>
                      <a:lnTo>
                        <a:pt x="2448" y="1969"/>
                      </a:lnTo>
                      <a:lnTo>
                        <a:pt x="2451" y="1977"/>
                      </a:lnTo>
                      <a:lnTo>
                        <a:pt x="2456" y="1990"/>
                      </a:lnTo>
                      <a:lnTo>
                        <a:pt x="2459" y="1997"/>
                      </a:lnTo>
                      <a:lnTo>
                        <a:pt x="2463" y="2004"/>
                      </a:lnTo>
                      <a:lnTo>
                        <a:pt x="2464" y="2012"/>
                      </a:lnTo>
                      <a:lnTo>
                        <a:pt x="2464" y="2019"/>
                      </a:lnTo>
                      <a:lnTo>
                        <a:pt x="2464" y="2030"/>
                      </a:lnTo>
                      <a:lnTo>
                        <a:pt x="2463" y="2038"/>
                      </a:lnTo>
                      <a:lnTo>
                        <a:pt x="2456" y="2055"/>
                      </a:lnTo>
                      <a:lnTo>
                        <a:pt x="2453" y="2063"/>
                      </a:lnTo>
                      <a:lnTo>
                        <a:pt x="2451" y="2071"/>
                      </a:lnTo>
                      <a:lnTo>
                        <a:pt x="2448" y="2080"/>
                      </a:lnTo>
                      <a:lnTo>
                        <a:pt x="2448" y="2089"/>
                      </a:lnTo>
                      <a:lnTo>
                        <a:pt x="2448" y="2225"/>
                      </a:lnTo>
                      <a:lnTo>
                        <a:pt x="2447" y="2252"/>
                      </a:lnTo>
                      <a:lnTo>
                        <a:pt x="2445" y="2265"/>
                      </a:lnTo>
                      <a:lnTo>
                        <a:pt x="2444" y="2279"/>
                      </a:lnTo>
                      <a:lnTo>
                        <a:pt x="2443" y="2292"/>
                      </a:lnTo>
                      <a:lnTo>
                        <a:pt x="2440" y="2306"/>
                      </a:lnTo>
                      <a:lnTo>
                        <a:pt x="2433" y="2332"/>
                      </a:lnTo>
                      <a:lnTo>
                        <a:pt x="2431" y="2345"/>
                      </a:lnTo>
                      <a:lnTo>
                        <a:pt x="2426" y="2357"/>
                      </a:lnTo>
                      <a:lnTo>
                        <a:pt x="2422" y="2369"/>
                      </a:lnTo>
                      <a:lnTo>
                        <a:pt x="2416" y="2382"/>
                      </a:lnTo>
                      <a:lnTo>
                        <a:pt x="2406" y="2405"/>
                      </a:lnTo>
                      <a:lnTo>
                        <a:pt x="2399" y="2415"/>
                      </a:lnTo>
                      <a:lnTo>
                        <a:pt x="2393" y="2426"/>
                      </a:lnTo>
                      <a:lnTo>
                        <a:pt x="2390" y="2440"/>
                      </a:lnTo>
                      <a:lnTo>
                        <a:pt x="2387" y="2455"/>
                      </a:lnTo>
                      <a:lnTo>
                        <a:pt x="2382" y="2468"/>
                      </a:lnTo>
                      <a:lnTo>
                        <a:pt x="2377" y="2481"/>
                      </a:lnTo>
                      <a:lnTo>
                        <a:pt x="2373" y="2486"/>
                      </a:lnTo>
                      <a:lnTo>
                        <a:pt x="2370" y="2492"/>
                      </a:lnTo>
                      <a:lnTo>
                        <a:pt x="2365" y="2497"/>
                      </a:lnTo>
                      <a:lnTo>
                        <a:pt x="2361" y="2501"/>
                      </a:lnTo>
                      <a:lnTo>
                        <a:pt x="2356" y="2505"/>
                      </a:lnTo>
                      <a:lnTo>
                        <a:pt x="2349" y="2507"/>
                      </a:lnTo>
                      <a:lnTo>
                        <a:pt x="2344" y="2510"/>
                      </a:lnTo>
                      <a:lnTo>
                        <a:pt x="2336" y="2510"/>
                      </a:lnTo>
                      <a:lnTo>
                        <a:pt x="2328" y="2511"/>
                      </a:lnTo>
                      <a:lnTo>
                        <a:pt x="2320" y="2513"/>
                      </a:lnTo>
                      <a:lnTo>
                        <a:pt x="2310" y="2515"/>
                      </a:lnTo>
                      <a:lnTo>
                        <a:pt x="2300" y="2519"/>
                      </a:lnTo>
                      <a:lnTo>
                        <a:pt x="2298" y="2521"/>
                      </a:lnTo>
                      <a:lnTo>
                        <a:pt x="2295" y="2523"/>
                      </a:lnTo>
                      <a:lnTo>
                        <a:pt x="2292" y="2526"/>
                      </a:lnTo>
                      <a:lnTo>
                        <a:pt x="2291" y="2530"/>
                      </a:lnTo>
                      <a:lnTo>
                        <a:pt x="2290" y="2532"/>
                      </a:lnTo>
                      <a:lnTo>
                        <a:pt x="2290" y="2536"/>
                      </a:lnTo>
                      <a:lnTo>
                        <a:pt x="2288" y="2544"/>
                      </a:lnTo>
                      <a:lnTo>
                        <a:pt x="2288" y="2554"/>
                      </a:lnTo>
                      <a:lnTo>
                        <a:pt x="2288" y="2572"/>
                      </a:lnTo>
                      <a:lnTo>
                        <a:pt x="2290" y="2576"/>
                      </a:lnTo>
                      <a:lnTo>
                        <a:pt x="2290" y="2580"/>
                      </a:lnTo>
                      <a:lnTo>
                        <a:pt x="2292" y="2587"/>
                      </a:lnTo>
                      <a:lnTo>
                        <a:pt x="2294" y="2589"/>
                      </a:lnTo>
                      <a:lnTo>
                        <a:pt x="2296" y="2590"/>
                      </a:lnTo>
                      <a:lnTo>
                        <a:pt x="2300" y="2593"/>
                      </a:lnTo>
                      <a:lnTo>
                        <a:pt x="2304" y="2594"/>
                      </a:lnTo>
                      <a:lnTo>
                        <a:pt x="2315" y="2597"/>
                      </a:lnTo>
                      <a:lnTo>
                        <a:pt x="2328" y="2597"/>
                      </a:lnTo>
                      <a:lnTo>
                        <a:pt x="2336" y="2598"/>
                      </a:lnTo>
                      <a:lnTo>
                        <a:pt x="2342" y="2600"/>
                      </a:lnTo>
                      <a:lnTo>
                        <a:pt x="2348" y="2601"/>
                      </a:lnTo>
                      <a:lnTo>
                        <a:pt x="2352" y="2604"/>
                      </a:lnTo>
                      <a:lnTo>
                        <a:pt x="2353" y="2606"/>
                      </a:lnTo>
                      <a:lnTo>
                        <a:pt x="2354" y="2608"/>
                      </a:lnTo>
                      <a:lnTo>
                        <a:pt x="2356" y="2612"/>
                      </a:lnTo>
                      <a:lnTo>
                        <a:pt x="2358" y="2616"/>
                      </a:lnTo>
                      <a:lnTo>
                        <a:pt x="2358" y="2619"/>
                      </a:lnTo>
                      <a:lnTo>
                        <a:pt x="2358" y="2627"/>
                      </a:lnTo>
                      <a:lnTo>
                        <a:pt x="2358" y="2630"/>
                      </a:lnTo>
                      <a:lnTo>
                        <a:pt x="2358" y="2634"/>
                      </a:lnTo>
                      <a:lnTo>
                        <a:pt x="2356" y="2641"/>
                      </a:lnTo>
                      <a:lnTo>
                        <a:pt x="2352" y="2732"/>
                      </a:lnTo>
                      <a:lnTo>
                        <a:pt x="2352" y="2746"/>
                      </a:lnTo>
                      <a:lnTo>
                        <a:pt x="2353" y="2782"/>
                      </a:lnTo>
                      <a:lnTo>
                        <a:pt x="2354" y="2804"/>
                      </a:lnTo>
                      <a:lnTo>
                        <a:pt x="2357" y="2827"/>
                      </a:lnTo>
                      <a:lnTo>
                        <a:pt x="2360" y="2848"/>
                      </a:lnTo>
                      <a:lnTo>
                        <a:pt x="2364" y="2865"/>
                      </a:lnTo>
                      <a:lnTo>
                        <a:pt x="2365" y="2869"/>
                      </a:lnTo>
                      <a:lnTo>
                        <a:pt x="2368" y="2873"/>
                      </a:lnTo>
                      <a:lnTo>
                        <a:pt x="2372" y="2879"/>
                      </a:lnTo>
                      <a:lnTo>
                        <a:pt x="2377" y="2885"/>
                      </a:lnTo>
                      <a:lnTo>
                        <a:pt x="2385" y="2888"/>
                      </a:lnTo>
                      <a:lnTo>
                        <a:pt x="2393" y="2892"/>
                      </a:lnTo>
                      <a:lnTo>
                        <a:pt x="2397" y="2894"/>
                      </a:lnTo>
                      <a:lnTo>
                        <a:pt x="2402" y="2896"/>
                      </a:lnTo>
                      <a:lnTo>
                        <a:pt x="2411" y="2899"/>
                      </a:lnTo>
                      <a:lnTo>
                        <a:pt x="2423" y="2900"/>
                      </a:lnTo>
                      <a:lnTo>
                        <a:pt x="2447" y="2906"/>
                      </a:lnTo>
                      <a:lnTo>
                        <a:pt x="2474" y="2910"/>
                      </a:lnTo>
                      <a:lnTo>
                        <a:pt x="2503" y="2916"/>
                      </a:lnTo>
                      <a:lnTo>
                        <a:pt x="2518" y="2920"/>
                      </a:lnTo>
                      <a:lnTo>
                        <a:pt x="2534" y="2924"/>
                      </a:lnTo>
                      <a:lnTo>
                        <a:pt x="2540" y="2927"/>
                      </a:lnTo>
                      <a:lnTo>
                        <a:pt x="2547" y="2929"/>
                      </a:lnTo>
                      <a:lnTo>
                        <a:pt x="2559" y="2936"/>
                      </a:lnTo>
                      <a:lnTo>
                        <a:pt x="2564" y="2940"/>
                      </a:lnTo>
                      <a:lnTo>
                        <a:pt x="2569" y="2944"/>
                      </a:lnTo>
                      <a:lnTo>
                        <a:pt x="2577" y="2952"/>
                      </a:lnTo>
                      <a:lnTo>
                        <a:pt x="2580" y="2956"/>
                      </a:lnTo>
                      <a:lnTo>
                        <a:pt x="2583" y="2960"/>
                      </a:lnTo>
                      <a:lnTo>
                        <a:pt x="2585" y="2965"/>
                      </a:lnTo>
                      <a:lnTo>
                        <a:pt x="2586" y="2969"/>
                      </a:lnTo>
                      <a:lnTo>
                        <a:pt x="2589" y="2974"/>
                      </a:lnTo>
                      <a:lnTo>
                        <a:pt x="2590" y="2978"/>
                      </a:lnTo>
                      <a:lnTo>
                        <a:pt x="2592" y="2987"/>
                      </a:lnTo>
                      <a:lnTo>
                        <a:pt x="2593" y="2997"/>
                      </a:lnTo>
                      <a:lnTo>
                        <a:pt x="2593" y="3006"/>
                      </a:lnTo>
                      <a:lnTo>
                        <a:pt x="2592" y="3015"/>
                      </a:lnTo>
                      <a:lnTo>
                        <a:pt x="2592" y="3023"/>
                      </a:lnTo>
                      <a:lnTo>
                        <a:pt x="2589" y="3039"/>
                      </a:lnTo>
                      <a:lnTo>
                        <a:pt x="2588" y="3051"/>
                      </a:lnTo>
                      <a:lnTo>
                        <a:pt x="2589" y="3056"/>
                      </a:lnTo>
                      <a:lnTo>
                        <a:pt x="2592" y="3063"/>
                      </a:lnTo>
                      <a:lnTo>
                        <a:pt x="2596" y="3069"/>
                      </a:lnTo>
                      <a:lnTo>
                        <a:pt x="2601" y="3076"/>
                      </a:lnTo>
                      <a:lnTo>
                        <a:pt x="2614" y="3090"/>
                      </a:lnTo>
                      <a:lnTo>
                        <a:pt x="2630" y="3105"/>
                      </a:lnTo>
                      <a:lnTo>
                        <a:pt x="2644" y="3117"/>
                      </a:lnTo>
                      <a:lnTo>
                        <a:pt x="2659" y="3127"/>
                      </a:lnTo>
                      <a:lnTo>
                        <a:pt x="2671" y="3138"/>
                      </a:lnTo>
                      <a:lnTo>
                        <a:pt x="2643" y="3154"/>
                      </a:lnTo>
                      <a:lnTo>
                        <a:pt x="2614" y="3171"/>
                      </a:lnTo>
                      <a:lnTo>
                        <a:pt x="2581" y="3193"/>
                      </a:lnTo>
                      <a:lnTo>
                        <a:pt x="2572" y="3198"/>
                      </a:lnTo>
                      <a:lnTo>
                        <a:pt x="2564" y="3205"/>
                      </a:lnTo>
                      <a:lnTo>
                        <a:pt x="2556" y="3212"/>
                      </a:lnTo>
                      <a:lnTo>
                        <a:pt x="2548" y="3217"/>
                      </a:lnTo>
                      <a:lnTo>
                        <a:pt x="2542" y="3223"/>
                      </a:lnTo>
                      <a:lnTo>
                        <a:pt x="2535" y="3230"/>
                      </a:lnTo>
                      <a:lnTo>
                        <a:pt x="2522" y="3245"/>
                      </a:lnTo>
                      <a:lnTo>
                        <a:pt x="2510" y="3258"/>
                      </a:lnTo>
                      <a:lnTo>
                        <a:pt x="2499" y="3271"/>
                      </a:lnTo>
                      <a:lnTo>
                        <a:pt x="2478" y="3295"/>
                      </a:lnTo>
                      <a:lnTo>
                        <a:pt x="2473" y="3300"/>
                      </a:lnTo>
                      <a:lnTo>
                        <a:pt x="2466" y="3305"/>
                      </a:lnTo>
                      <a:lnTo>
                        <a:pt x="2460" y="3309"/>
                      </a:lnTo>
                      <a:lnTo>
                        <a:pt x="2452" y="3312"/>
                      </a:lnTo>
                      <a:lnTo>
                        <a:pt x="2444" y="3314"/>
                      </a:lnTo>
                      <a:lnTo>
                        <a:pt x="2435" y="3317"/>
                      </a:lnTo>
                      <a:lnTo>
                        <a:pt x="2427" y="3318"/>
                      </a:lnTo>
                      <a:lnTo>
                        <a:pt x="2418" y="3320"/>
                      </a:lnTo>
                      <a:lnTo>
                        <a:pt x="2401" y="3321"/>
                      </a:lnTo>
                      <a:lnTo>
                        <a:pt x="2382" y="3322"/>
                      </a:lnTo>
                      <a:lnTo>
                        <a:pt x="2366" y="3325"/>
                      </a:lnTo>
                      <a:lnTo>
                        <a:pt x="2352" y="3326"/>
                      </a:lnTo>
                      <a:lnTo>
                        <a:pt x="2339" y="3330"/>
                      </a:lnTo>
                      <a:lnTo>
                        <a:pt x="2325" y="3334"/>
                      </a:lnTo>
                      <a:lnTo>
                        <a:pt x="2302" y="3343"/>
                      </a:lnTo>
                      <a:lnTo>
                        <a:pt x="2284" y="3351"/>
                      </a:lnTo>
                      <a:lnTo>
                        <a:pt x="2277" y="3354"/>
                      </a:lnTo>
                      <a:lnTo>
                        <a:pt x="2267" y="3354"/>
                      </a:lnTo>
                      <a:lnTo>
                        <a:pt x="2257" y="3354"/>
                      </a:lnTo>
                      <a:lnTo>
                        <a:pt x="2242" y="3354"/>
                      </a:lnTo>
                      <a:lnTo>
                        <a:pt x="2224" y="3355"/>
                      </a:lnTo>
                      <a:lnTo>
                        <a:pt x="2204" y="3358"/>
                      </a:lnTo>
                      <a:lnTo>
                        <a:pt x="2193" y="3359"/>
                      </a:lnTo>
                      <a:lnTo>
                        <a:pt x="2182" y="3361"/>
                      </a:lnTo>
                      <a:lnTo>
                        <a:pt x="2171" y="3363"/>
                      </a:lnTo>
                      <a:lnTo>
                        <a:pt x="2159" y="3366"/>
                      </a:lnTo>
                      <a:lnTo>
                        <a:pt x="2146" y="3370"/>
                      </a:lnTo>
                      <a:lnTo>
                        <a:pt x="2133" y="3374"/>
                      </a:lnTo>
                      <a:lnTo>
                        <a:pt x="2105" y="3383"/>
                      </a:lnTo>
                      <a:lnTo>
                        <a:pt x="2077" y="3395"/>
                      </a:lnTo>
                      <a:lnTo>
                        <a:pt x="2050" y="3405"/>
                      </a:lnTo>
                      <a:lnTo>
                        <a:pt x="2008" y="3425"/>
                      </a:lnTo>
                      <a:lnTo>
                        <a:pt x="1989" y="3433"/>
                      </a:lnTo>
                      <a:lnTo>
                        <a:pt x="1914" y="3482"/>
                      </a:lnTo>
                      <a:lnTo>
                        <a:pt x="1852" y="3521"/>
                      </a:lnTo>
                      <a:lnTo>
                        <a:pt x="1823" y="3539"/>
                      </a:lnTo>
                      <a:lnTo>
                        <a:pt x="1800" y="3552"/>
                      </a:lnTo>
                      <a:lnTo>
                        <a:pt x="1790" y="3557"/>
                      </a:lnTo>
                      <a:lnTo>
                        <a:pt x="1781" y="3561"/>
                      </a:lnTo>
                      <a:lnTo>
                        <a:pt x="1761" y="3570"/>
                      </a:lnTo>
                      <a:lnTo>
                        <a:pt x="1742" y="3577"/>
                      </a:lnTo>
                      <a:lnTo>
                        <a:pt x="1725" y="3582"/>
                      </a:lnTo>
                      <a:lnTo>
                        <a:pt x="1711" y="3586"/>
                      </a:lnTo>
                      <a:lnTo>
                        <a:pt x="1700" y="3589"/>
                      </a:lnTo>
                      <a:lnTo>
                        <a:pt x="1690" y="3591"/>
                      </a:lnTo>
                      <a:lnTo>
                        <a:pt x="1637" y="3601"/>
                      </a:lnTo>
                      <a:lnTo>
                        <a:pt x="1555" y="3615"/>
                      </a:lnTo>
                      <a:lnTo>
                        <a:pt x="1542" y="3616"/>
                      </a:lnTo>
                      <a:lnTo>
                        <a:pt x="1525" y="3619"/>
                      </a:lnTo>
                      <a:lnTo>
                        <a:pt x="1489" y="3622"/>
                      </a:lnTo>
                      <a:lnTo>
                        <a:pt x="1458" y="3622"/>
                      </a:lnTo>
                      <a:lnTo>
                        <a:pt x="1436" y="3623"/>
                      </a:lnTo>
                      <a:lnTo>
                        <a:pt x="1440" y="3622"/>
                      </a:lnTo>
                      <a:lnTo>
                        <a:pt x="1440" y="3589"/>
                      </a:lnTo>
                      <a:lnTo>
                        <a:pt x="1439" y="3560"/>
                      </a:lnTo>
                      <a:lnTo>
                        <a:pt x="1438" y="3533"/>
                      </a:lnTo>
                      <a:lnTo>
                        <a:pt x="1438" y="3528"/>
                      </a:lnTo>
                      <a:lnTo>
                        <a:pt x="1438" y="3524"/>
                      </a:lnTo>
                      <a:lnTo>
                        <a:pt x="1439" y="3520"/>
                      </a:lnTo>
                      <a:lnTo>
                        <a:pt x="1442" y="3519"/>
                      </a:lnTo>
                      <a:lnTo>
                        <a:pt x="1443" y="3518"/>
                      </a:lnTo>
                      <a:lnTo>
                        <a:pt x="1446" y="3516"/>
                      </a:lnTo>
                      <a:lnTo>
                        <a:pt x="1448" y="3516"/>
                      </a:lnTo>
                      <a:lnTo>
                        <a:pt x="1452" y="3518"/>
                      </a:lnTo>
                      <a:lnTo>
                        <a:pt x="1458" y="3519"/>
                      </a:lnTo>
                      <a:lnTo>
                        <a:pt x="1463" y="3521"/>
                      </a:lnTo>
                      <a:lnTo>
                        <a:pt x="1468" y="3524"/>
                      </a:lnTo>
                      <a:lnTo>
                        <a:pt x="1473" y="3489"/>
                      </a:lnTo>
                      <a:lnTo>
                        <a:pt x="1338" y="3491"/>
                      </a:lnTo>
                      <a:lnTo>
                        <a:pt x="1338" y="3396"/>
                      </a:lnTo>
                      <a:lnTo>
                        <a:pt x="1345" y="3280"/>
                      </a:lnTo>
                      <a:lnTo>
                        <a:pt x="1455" y="3283"/>
                      </a:lnTo>
                      <a:lnTo>
                        <a:pt x="1460" y="3065"/>
                      </a:lnTo>
                      <a:lnTo>
                        <a:pt x="1182" y="3048"/>
                      </a:lnTo>
                      <a:lnTo>
                        <a:pt x="1117" y="3299"/>
                      </a:lnTo>
                      <a:lnTo>
                        <a:pt x="1115" y="3312"/>
                      </a:lnTo>
                      <a:lnTo>
                        <a:pt x="1107" y="3346"/>
                      </a:lnTo>
                      <a:lnTo>
                        <a:pt x="1103" y="3336"/>
                      </a:lnTo>
                      <a:lnTo>
                        <a:pt x="1098" y="3322"/>
                      </a:lnTo>
                      <a:lnTo>
                        <a:pt x="1095" y="3313"/>
                      </a:lnTo>
                      <a:lnTo>
                        <a:pt x="1091" y="3307"/>
                      </a:lnTo>
                      <a:lnTo>
                        <a:pt x="1088" y="3301"/>
                      </a:lnTo>
                      <a:lnTo>
                        <a:pt x="1084" y="3300"/>
                      </a:lnTo>
                      <a:lnTo>
                        <a:pt x="1083" y="3300"/>
                      </a:lnTo>
                      <a:lnTo>
                        <a:pt x="1082" y="3301"/>
                      </a:lnTo>
                      <a:lnTo>
                        <a:pt x="1079" y="3304"/>
                      </a:lnTo>
                      <a:lnTo>
                        <a:pt x="1076" y="3308"/>
                      </a:lnTo>
                      <a:lnTo>
                        <a:pt x="1075" y="3313"/>
                      </a:lnTo>
                      <a:lnTo>
                        <a:pt x="1071" y="3328"/>
                      </a:lnTo>
                      <a:lnTo>
                        <a:pt x="1069" y="3342"/>
                      </a:lnTo>
                      <a:lnTo>
                        <a:pt x="1067" y="3357"/>
                      </a:lnTo>
                      <a:lnTo>
                        <a:pt x="1066" y="3366"/>
                      </a:lnTo>
                      <a:lnTo>
                        <a:pt x="1067" y="3374"/>
                      </a:lnTo>
                      <a:lnTo>
                        <a:pt x="1069" y="3383"/>
                      </a:lnTo>
                      <a:lnTo>
                        <a:pt x="1070" y="3399"/>
                      </a:lnTo>
                      <a:lnTo>
                        <a:pt x="1070" y="3408"/>
                      </a:lnTo>
                      <a:lnTo>
                        <a:pt x="1070" y="3412"/>
                      </a:lnTo>
                      <a:lnTo>
                        <a:pt x="1069" y="3416"/>
                      </a:lnTo>
                      <a:lnTo>
                        <a:pt x="1067" y="3420"/>
                      </a:lnTo>
                      <a:lnTo>
                        <a:pt x="1065" y="3423"/>
                      </a:lnTo>
                      <a:lnTo>
                        <a:pt x="1062" y="3427"/>
                      </a:lnTo>
                      <a:lnTo>
                        <a:pt x="1058" y="3429"/>
                      </a:lnTo>
                      <a:lnTo>
                        <a:pt x="1055" y="3432"/>
                      </a:lnTo>
                      <a:lnTo>
                        <a:pt x="1054" y="3436"/>
                      </a:lnTo>
                      <a:lnTo>
                        <a:pt x="1053" y="3440"/>
                      </a:lnTo>
                      <a:lnTo>
                        <a:pt x="1053" y="3444"/>
                      </a:lnTo>
                      <a:lnTo>
                        <a:pt x="1054" y="3448"/>
                      </a:lnTo>
                      <a:lnTo>
                        <a:pt x="1055" y="3452"/>
                      </a:lnTo>
                      <a:lnTo>
                        <a:pt x="1061" y="3461"/>
                      </a:lnTo>
                      <a:lnTo>
                        <a:pt x="1069" y="3470"/>
                      </a:lnTo>
                      <a:lnTo>
                        <a:pt x="1075" y="3479"/>
                      </a:lnTo>
                      <a:lnTo>
                        <a:pt x="1091" y="3496"/>
                      </a:lnTo>
                      <a:lnTo>
                        <a:pt x="1096" y="3506"/>
                      </a:lnTo>
                      <a:lnTo>
                        <a:pt x="1099" y="3512"/>
                      </a:lnTo>
                      <a:lnTo>
                        <a:pt x="1102" y="3518"/>
                      </a:lnTo>
                      <a:lnTo>
                        <a:pt x="1107" y="3532"/>
                      </a:lnTo>
                      <a:lnTo>
                        <a:pt x="1112" y="3545"/>
                      </a:lnTo>
                      <a:lnTo>
                        <a:pt x="1119" y="3569"/>
                      </a:lnTo>
                      <a:lnTo>
                        <a:pt x="1121" y="3580"/>
                      </a:lnTo>
                      <a:lnTo>
                        <a:pt x="1120" y="3585"/>
                      </a:lnTo>
                      <a:lnTo>
                        <a:pt x="1121" y="3589"/>
                      </a:lnTo>
                      <a:lnTo>
                        <a:pt x="1123" y="3593"/>
                      </a:lnTo>
                      <a:lnTo>
                        <a:pt x="1125" y="3597"/>
                      </a:lnTo>
                      <a:lnTo>
                        <a:pt x="1129" y="3601"/>
                      </a:lnTo>
                      <a:lnTo>
                        <a:pt x="1132" y="3602"/>
                      </a:lnTo>
                      <a:lnTo>
                        <a:pt x="1219" y="3727"/>
                      </a:lnTo>
                      <a:lnTo>
                        <a:pt x="1193" y="3752"/>
                      </a:lnTo>
                      <a:lnTo>
                        <a:pt x="1153" y="3701"/>
                      </a:lnTo>
                      <a:lnTo>
                        <a:pt x="1154" y="3696"/>
                      </a:lnTo>
                      <a:lnTo>
                        <a:pt x="1153" y="3693"/>
                      </a:lnTo>
                      <a:lnTo>
                        <a:pt x="1152" y="3690"/>
                      </a:lnTo>
                      <a:lnTo>
                        <a:pt x="1148" y="3689"/>
                      </a:lnTo>
                      <a:lnTo>
                        <a:pt x="1140" y="3686"/>
                      </a:lnTo>
                      <a:lnTo>
                        <a:pt x="1129" y="3686"/>
                      </a:lnTo>
                      <a:lnTo>
                        <a:pt x="1119" y="3686"/>
                      </a:lnTo>
                      <a:lnTo>
                        <a:pt x="1108" y="3689"/>
                      </a:lnTo>
                      <a:lnTo>
                        <a:pt x="1100" y="3690"/>
                      </a:lnTo>
                      <a:lnTo>
                        <a:pt x="1095" y="3692"/>
                      </a:lnTo>
                      <a:lnTo>
                        <a:pt x="1088" y="3693"/>
                      </a:lnTo>
                      <a:lnTo>
                        <a:pt x="1074" y="3694"/>
                      </a:lnTo>
                      <a:lnTo>
                        <a:pt x="1029" y="3698"/>
                      </a:lnTo>
                      <a:lnTo>
                        <a:pt x="1004" y="3701"/>
                      </a:lnTo>
                      <a:lnTo>
                        <a:pt x="976" y="3703"/>
                      </a:lnTo>
                      <a:lnTo>
                        <a:pt x="951" y="3707"/>
                      </a:lnTo>
                      <a:lnTo>
                        <a:pt x="929" y="3711"/>
                      </a:lnTo>
                      <a:lnTo>
                        <a:pt x="908" y="3715"/>
                      </a:lnTo>
                      <a:lnTo>
                        <a:pt x="887" y="3722"/>
                      </a:lnTo>
                      <a:lnTo>
                        <a:pt x="851" y="3734"/>
                      </a:lnTo>
                      <a:lnTo>
                        <a:pt x="825" y="3743"/>
                      </a:lnTo>
                      <a:lnTo>
                        <a:pt x="814" y="3747"/>
                      </a:lnTo>
                      <a:lnTo>
                        <a:pt x="813" y="3752"/>
                      </a:lnTo>
                      <a:lnTo>
                        <a:pt x="782" y="3740"/>
                      </a:lnTo>
                      <a:lnTo>
                        <a:pt x="731" y="3225"/>
                      </a:lnTo>
                      <a:lnTo>
                        <a:pt x="735" y="3142"/>
                      </a:lnTo>
                      <a:lnTo>
                        <a:pt x="705" y="3146"/>
                      </a:lnTo>
                      <a:lnTo>
                        <a:pt x="699" y="3121"/>
                      </a:lnTo>
                      <a:lnTo>
                        <a:pt x="694" y="3099"/>
                      </a:lnTo>
                      <a:lnTo>
                        <a:pt x="687" y="3078"/>
                      </a:lnTo>
                      <a:lnTo>
                        <a:pt x="685" y="3070"/>
                      </a:lnTo>
                      <a:lnTo>
                        <a:pt x="681" y="3061"/>
                      </a:lnTo>
                      <a:lnTo>
                        <a:pt x="676" y="3053"/>
                      </a:lnTo>
                      <a:lnTo>
                        <a:pt x="672" y="3045"/>
                      </a:lnTo>
                      <a:lnTo>
                        <a:pt x="653" y="3015"/>
                      </a:lnTo>
                      <a:lnTo>
                        <a:pt x="649" y="3007"/>
                      </a:lnTo>
                      <a:lnTo>
                        <a:pt x="645" y="3001"/>
                      </a:lnTo>
                      <a:lnTo>
                        <a:pt x="644" y="2994"/>
                      </a:lnTo>
                      <a:lnTo>
                        <a:pt x="643" y="2987"/>
                      </a:lnTo>
                      <a:lnTo>
                        <a:pt x="643" y="2979"/>
                      </a:lnTo>
                      <a:lnTo>
                        <a:pt x="644" y="2973"/>
                      </a:lnTo>
                      <a:lnTo>
                        <a:pt x="648" y="2965"/>
                      </a:lnTo>
                      <a:lnTo>
                        <a:pt x="653" y="2956"/>
                      </a:lnTo>
                      <a:lnTo>
                        <a:pt x="658" y="2947"/>
                      </a:lnTo>
                      <a:lnTo>
                        <a:pt x="662" y="2935"/>
                      </a:lnTo>
                      <a:lnTo>
                        <a:pt x="666" y="2923"/>
                      </a:lnTo>
                      <a:lnTo>
                        <a:pt x="669" y="2912"/>
                      </a:lnTo>
                      <a:lnTo>
                        <a:pt x="672" y="2892"/>
                      </a:lnTo>
                      <a:lnTo>
                        <a:pt x="672" y="2886"/>
                      </a:lnTo>
                      <a:lnTo>
                        <a:pt x="640" y="2845"/>
                      </a:lnTo>
                      <a:lnTo>
                        <a:pt x="650" y="2825"/>
                      </a:lnTo>
                      <a:lnTo>
                        <a:pt x="654" y="2819"/>
                      </a:lnTo>
                      <a:lnTo>
                        <a:pt x="738" y="2505"/>
                      </a:lnTo>
                      <a:lnTo>
                        <a:pt x="631" y="2457"/>
                      </a:lnTo>
                      <a:lnTo>
                        <a:pt x="288" y="2907"/>
                      </a:lnTo>
                      <a:lnTo>
                        <a:pt x="203" y="2878"/>
                      </a:lnTo>
                      <a:lnTo>
                        <a:pt x="192" y="2858"/>
                      </a:lnTo>
                      <a:lnTo>
                        <a:pt x="156" y="2854"/>
                      </a:lnTo>
                      <a:lnTo>
                        <a:pt x="0" y="2709"/>
                      </a:lnTo>
                      <a:lnTo>
                        <a:pt x="110" y="2617"/>
                      </a:lnTo>
                      <a:lnTo>
                        <a:pt x="103" y="2612"/>
                      </a:lnTo>
                      <a:lnTo>
                        <a:pt x="97" y="2605"/>
                      </a:lnTo>
                      <a:lnTo>
                        <a:pt x="89" y="2597"/>
                      </a:lnTo>
                      <a:lnTo>
                        <a:pt x="81" y="2588"/>
                      </a:lnTo>
                      <a:lnTo>
                        <a:pt x="73" y="2577"/>
                      </a:lnTo>
                      <a:lnTo>
                        <a:pt x="66" y="2567"/>
                      </a:lnTo>
                      <a:lnTo>
                        <a:pt x="65" y="2560"/>
                      </a:lnTo>
                      <a:lnTo>
                        <a:pt x="64" y="2555"/>
                      </a:lnTo>
                      <a:lnTo>
                        <a:pt x="58" y="2534"/>
                      </a:lnTo>
                      <a:lnTo>
                        <a:pt x="54" y="2514"/>
                      </a:lnTo>
                      <a:lnTo>
                        <a:pt x="45" y="2477"/>
                      </a:lnTo>
                      <a:lnTo>
                        <a:pt x="27" y="2407"/>
                      </a:lnTo>
                      <a:lnTo>
                        <a:pt x="23" y="2390"/>
                      </a:lnTo>
                      <a:lnTo>
                        <a:pt x="19" y="2373"/>
                      </a:lnTo>
                      <a:lnTo>
                        <a:pt x="16" y="2356"/>
                      </a:lnTo>
                      <a:lnTo>
                        <a:pt x="12" y="2339"/>
                      </a:lnTo>
                      <a:lnTo>
                        <a:pt x="10" y="2320"/>
                      </a:lnTo>
                      <a:lnTo>
                        <a:pt x="8" y="2300"/>
                      </a:lnTo>
                      <a:lnTo>
                        <a:pt x="8" y="2290"/>
                      </a:lnTo>
                      <a:lnTo>
                        <a:pt x="7" y="2279"/>
                      </a:lnTo>
                      <a:lnTo>
                        <a:pt x="7" y="2258"/>
                      </a:lnTo>
                      <a:lnTo>
                        <a:pt x="7" y="2224"/>
                      </a:lnTo>
                      <a:lnTo>
                        <a:pt x="211" y="2175"/>
                      </a:lnTo>
                      <a:lnTo>
                        <a:pt x="223" y="2081"/>
                      </a:lnTo>
                      <a:lnTo>
                        <a:pt x="172" y="2085"/>
                      </a:lnTo>
                      <a:lnTo>
                        <a:pt x="155" y="2034"/>
                      </a:lnTo>
                      <a:lnTo>
                        <a:pt x="155" y="2019"/>
                      </a:lnTo>
                      <a:lnTo>
                        <a:pt x="326" y="1898"/>
                      </a:lnTo>
                      <a:lnTo>
                        <a:pt x="368" y="1886"/>
                      </a:lnTo>
                      <a:lnTo>
                        <a:pt x="309" y="1745"/>
                      </a:lnTo>
                      <a:lnTo>
                        <a:pt x="226" y="1750"/>
                      </a:lnTo>
                      <a:lnTo>
                        <a:pt x="161" y="1737"/>
                      </a:lnTo>
                      <a:lnTo>
                        <a:pt x="114" y="1728"/>
                      </a:lnTo>
                      <a:lnTo>
                        <a:pt x="97" y="1725"/>
                      </a:lnTo>
                      <a:lnTo>
                        <a:pt x="86" y="1724"/>
                      </a:lnTo>
                      <a:lnTo>
                        <a:pt x="86" y="1723"/>
                      </a:lnTo>
                      <a:lnTo>
                        <a:pt x="85" y="1721"/>
                      </a:lnTo>
                      <a:lnTo>
                        <a:pt x="85" y="1715"/>
                      </a:lnTo>
                      <a:lnTo>
                        <a:pt x="85" y="1691"/>
                      </a:lnTo>
                      <a:lnTo>
                        <a:pt x="89" y="1657"/>
                      </a:lnTo>
                      <a:lnTo>
                        <a:pt x="94" y="1619"/>
                      </a:lnTo>
                      <a:lnTo>
                        <a:pt x="105" y="1546"/>
                      </a:lnTo>
                      <a:lnTo>
                        <a:pt x="110" y="1514"/>
                      </a:lnTo>
                      <a:lnTo>
                        <a:pt x="81" y="1463"/>
                      </a:lnTo>
                      <a:lnTo>
                        <a:pt x="78" y="1381"/>
                      </a:lnTo>
                      <a:lnTo>
                        <a:pt x="45" y="1381"/>
                      </a:lnTo>
                      <a:lnTo>
                        <a:pt x="48" y="1380"/>
                      </a:lnTo>
                      <a:lnTo>
                        <a:pt x="53" y="1379"/>
                      </a:lnTo>
                      <a:lnTo>
                        <a:pt x="64" y="1376"/>
                      </a:lnTo>
                      <a:lnTo>
                        <a:pt x="75" y="1373"/>
                      </a:lnTo>
                      <a:lnTo>
                        <a:pt x="89" y="1372"/>
                      </a:lnTo>
                      <a:lnTo>
                        <a:pt x="110" y="1371"/>
                      </a:lnTo>
                      <a:lnTo>
                        <a:pt x="120" y="1371"/>
                      </a:lnTo>
                      <a:lnTo>
                        <a:pt x="132" y="1119"/>
                      </a:lnTo>
                      <a:lnTo>
                        <a:pt x="149" y="1104"/>
                      </a:lnTo>
                      <a:lnTo>
                        <a:pt x="149" y="1106"/>
                      </a:lnTo>
                      <a:lnTo>
                        <a:pt x="151" y="1103"/>
                      </a:lnTo>
                      <a:lnTo>
                        <a:pt x="156" y="1099"/>
                      </a:lnTo>
                      <a:lnTo>
                        <a:pt x="156" y="1096"/>
                      </a:lnTo>
                      <a:lnTo>
                        <a:pt x="190" y="1049"/>
                      </a:lnTo>
                      <a:lnTo>
                        <a:pt x="185" y="1034"/>
                      </a:lnTo>
                      <a:lnTo>
                        <a:pt x="176" y="1008"/>
                      </a:lnTo>
                      <a:lnTo>
                        <a:pt x="173" y="1003"/>
                      </a:lnTo>
                      <a:lnTo>
                        <a:pt x="170" y="996"/>
                      </a:lnTo>
                      <a:lnTo>
                        <a:pt x="169" y="990"/>
                      </a:lnTo>
                      <a:lnTo>
                        <a:pt x="169" y="982"/>
                      </a:lnTo>
                      <a:lnTo>
                        <a:pt x="170" y="970"/>
                      </a:lnTo>
                      <a:lnTo>
                        <a:pt x="173" y="963"/>
                      </a:lnTo>
                      <a:lnTo>
                        <a:pt x="174" y="957"/>
                      </a:lnTo>
                      <a:lnTo>
                        <a:pt x="181" y="938"/>
                      </a:lnTo>
                      <a:lnTo>
                        <a:pt x="190" y="917"/>
                      </a:lnTo>
                      <a:lnTo>
                        <a:pt x="199" y="893"/>
                      </a:lnTo>
                      <a:lnTo>
                        <a:pt x="206" y="873"/>
                      </a:lnTo>
                      <a:lnTo>
                        <a:pt x="214" y="839"/>
                      </a:lnTo>
                      <a:lnTo>
                        <a:pt x="218" y="825"/>
                      </a:lnTo>
                      <a:lnTo>
                        <a:pt x="221" y="818"/>
                      </a:lnTo>
                      <a:lnTo>
                        <a:pt x="223" y="813"/>
                      </a:lnTo>
                      <a:lnTo>
                        <a:pt x="227" y="806"/>
                      </a:lnTo>
                      <a:lnTo>
                        <a:pt x="231" y="801"/>
                      </a:lnTo>
                      <a:lnTo>
                        <a:pt x="236" y="794"/>
                      </a:lnTo>
                      <a:lnTo>
                        <a:pt x="243" y="789"/>
                      </a:lnTo>
                      <a:lnTo>
                        <a:pt x="255" y="781"/>
                      </a:lnTo>
                      <a:lnTo>
                        <a:pt x="267" y="773"/>
                      </a:lnTo>
                      <a:lnTo>
                        <a:pt x="280" y="768"/>
                      </a:lnTo>
                      <a:lnTo>
                        <a:pt x="290" y="763"/>
                      </a:lnTo>
                      <a:lnTo>
                        <a:pt x="329" y="760"/>
                      </a:lnTo>
                      <a:lnTo>
                        <a:pt x="345" y="705"/>
                      </a:lnTo>
                      <a:lnTo>
                        <a:pt x="420" y="550"/>
                      </a:lnTo>
                      <a:lnTo>
                        <a:pt x="570" y="495"/>
                      </a:lnTo>
                      <a:lnTo>
                        <a:pt x="665" y="515"/>
                      </a:lnTo>
                      <a:lnTo>
                        <a:pt x="682" y="513"/>
                      </a:lnTo>
                      <a:lnTo>
                        <a:pt x="686" y="512"/>
                      </a:lnTo>
                      <a:lnTo>
                        <a:pt x="691" y="511"/>
                      </a:lnTo>
                      <a:lnTo>
                        <a:pt x="538" y="318"/>
                      </a:lnTo>
                      <a:lnTo>
                        <a:pt x="798" y="231"/>
                      </a:lnTo>
                      <a:lnTo>
                        <a:pt x="803" y="251"/>
                      </a:lnTo>
                      <a:lnTo>
                        <a:pt x="823" y="263"/>
                      </a:lnTo>
                      <a:lnTo>
                        <a:pt x="842" y="276"/>
                      </a:lnTo>
                      <a:lnTo>
                        <a:pt x="851" y="284"/>
                      </a:lnTo>
                      <a:lnTo>
                        <a:pt x="859" y="291"/>
                      </a:lnTo>
                      <a:lnTo>
                        <a:pt x="867" y="297"/>
                      </a:lnTo>
                      <a:lnTo>
                        <a:pt x="875" y="305"/>
                      </a:lnTo>
                      <a:lnTo>
                        <a:pt x="881" y="313"/>
                      </a:lnTo>
                      <a:lnTo>
                        <a:pt x="888" y="321"/>
                      </a:lnTo>
                      <a:lnTo>
                        <a:pt x="893" y="330"/>
                      </a:lnTo>
                      <a:lnTo>
                        <a:pt x="897" y="339"/>
                      </a:lnTo>
                      <a:lnTo>
                        <a:pt x="901" y="349"/>
                      </a:lnTo>
                      <a:lnTo>
                        <a:pt x="904" y="359"/>
                      </a:lnTo>
                      <a:lnTo>
                        <a:pt x="905" y="371"/>
                      </a:lnTo>
                      <a:lnTo>
                        <a:pt x="906" y="383"/>
                      </a:lnTo>
                      <a:lnTo>
                        <a:pt x="906" y="475"/>
                      </a:lnTo>
                      <a:lnTo>
                        <a:pt x="906" y="479"/>
                      </a:lnTo>
                      <a:lnTo>
                        <a:pt x="908" y="483"/>
                      </a:lnTo>
                      <a:lnTo>
                        <a:pt x="909" y="487"/>
                      </a:lnTo>
                      <a:lnTo>
                        <a:pt x="912" y="490"/>
                      </a:lnTo>
                      <a:lnTo>
                        <a:pt x="917" y="496"/>
                      </a:lnTo>
                      <a:lnTo>
                        <a:pt x="921" y="503"/>
                      </a:lnTo>
                      <a:lnTo>
                        <a:pt x="935" y="496"/>
                      </a:lnTo>
                      <a:lnTo>
                        <a:pt x="947" y="490"/>
                      </a:lnTo>
                      <a:lnTo>
                        <a:pt x="954" y="487"/>
                      </a:lnTo>
                      <a:lnTo>
                        <a:pt x="960" y="486"/>
                      </a:lnTo>
                      <a:lnTo>
                        <a:pt x="968" y="484"/>
                      </a:lnTo>
                      <a:lnTo>
                        <a:pt x="976" y="483"/>
                      </a:lnTo>
                      <a:lnTo>
                        <a:pt x="984" y="484"/>
                      </a:lnTo>
                      <a:lnTo>
                        <a:pt x="987" y="486"/>
                      </a:lnTo>
                      <a:lnTo>
                        <a:pt x="991" y="487"/>
                      </a:lnTo>
                      <a:lnTo>
                        <a:pt x="996" y="490"/>
                      </a:lnTo>
                      <a:lnTo>
                        <a:pt x="1003" y="492"/>
                      </a:lnTo>
                      <a:lnTo>
                        <a:pt x="1008" y="496"/>
                      </a:lnTo>
                      <a:lnTo>
                        <a:pt x="1013" y="500"/>
                      </a:lnTo>
                      <a:lnTo>
                        <a:pt x="1020" y="504"/>
                      </a:lnTo>
                      <a:lnTo>
                        <a:pt x="1028" y="507"/>
                      </a:lnTo>
                      <a:lnTo>
                        <a:pt x="1030" y="503"/>
                      </a:lnTo>
                      <a:lnTo>
                        <a:pt x="1033" y="498"/>
                      </a:lnTo>
                      <a:lnTo>
                        <a:pt x="1034" y="494"/>
                      </a:lnTo>
                      <a:lnTo>
                        <a:pt x="1036" y="491"/>
                      </a:lnTo>
                      <a:lnTo>
                        <a:pt x="1036" y="487"/>
                      </a:lnTo>
                      <a:lnTo>
                        <a:pt x="1036" y="483"/>
                      </a:lnTo>
                      <a:lnTo>
                        <a:pt x="1034" y="478"/>
                      </a:lnTo>
                      <a:lnTo>
                        <a:pt x="1032" y="474"/>
                      </a:lnTo>
                      <a:lnTo>
                        <a:pt x="1029" y="470"/>
                      </a:lnTo>
                      <a:lnTo>
                        <a:pt x="1028" y="466"/>
                      </a:lnTo>
                      <a:lnTo>
                        <a:pt x="1025" y="462"/>
                      </a:lnTo>
                      <a:lnTo>
                        <a:pt x="1024" y="457"/>
                      </a:lnTo>
                      <a:lnTo>
                        <a:pt x="1024" y="453"/>
                      </a:lnTo>
                      <a:lnTo>
                        <a:pt x="1024" y="449"/>
                      </a:lnTo>
                      <a:lnTo>
                        <a:pt x="1025" y="445"/>
                      </a:lnTo>
                      <a:lnTo>
                        <a:pt x="1026" y="442"/>
                      </a:lnTo>
                      <a:lnTo>
                        <a:pt x="1029" y="440"/>
                      </a:lnTo>
                      <a:lnTo>
                        <a:pt x="1032" y="437"/>
                      </a:lnTo>
                      <a:lnTo>
                        <a:pt x="1034" y="434"/>
                      </a:lnTo>
                      <a:lnTo>
                        <a:pt x="1041" y="432"/>
                      </a:lnTo>
                      <a:lnTo>
                        <a:pt x="1049" y="429"/>
                      </a:lnTo>
                      <a:lnTo>
                        <a:pt x="1057" y="428"/>
                      </a:lnTo>
                      <a:lnTo>
                        <a:pt x="1075" y="425"/>
                      </a:lnTo>
                      <a:lnTo>
                        <a:pt x="1075" y="386"/>
                      </a:lnTo>
                      <a:lnTo>
                        <a:pt x="1115" y="386"/>
                      </a:lnTo>
                      <a:lnTo>
                        <a:pt x="1115" y="400"/>
                      </a:lnTo>
                      <a:lnTo>
                        <a:pt x="1116" y="415"/>
                      </a:lnTo>
                      <a:lnTo>
                        <a:pt x="1117" y="421"/>
                      </a:lnTo>
                      <a:lnTo>
                        <a:pt x="1121" y="426"/>
                      </a:lnTo>
                      <a:lnTo>
                        <a:pt x="1123" y="429"/>
                      </a:lnTo>
                      <a:lnTo>
                        <a:pt x="1125" y="432"/>
                      </a:lnTo>
                      <a:lnTo>
                        <a:pt x="1131" y="437"/>
                      </a:lnTo>
                      <a:lnTo>
                        <a:pt x="1134" y="430"/>
                      </a:lnTo>
                      <a:lnTo>
                        <a:pt x="1138" y="425"/>
                      </a:lnTo>
                      <a:lnTo>
                        <a:pt x="1145" y="412"/>
                      </a:lnTo>
                      <a:lnTo>
                        <a:pt x="1148" y="418"/>
                      </a:lnTo>
                      <a:lnTo>
                        <a:pt x="1148" y="424"/>
                      </a:lnTo>
                      <a:lnTo>
                        <a:pt x="1148" y="429"/>
                      </a:lnTo>
                      <a:lnTo>
                        <a:pt x="1148" y="434"/>
                      </a:lnTo>
                      <a:lnTo>
                        <a:pt x="1146" y="445"/>
                      </a:lnTo>
                      <a:lnTo>
                        <a:pt x="1145" y="457"/>
                      </a:lnTo>
                      <a:lnTo>
                        <a:pt x="1146" y="459"/>
                      </a:lnTo>
                      <a:lnTo>
                        <a:pt x="1146" y="461"/>
                      </a:lnTo>
                      <a:lnTo>
                        <a:pt x="1149" y="465"/>
                      </a:lnTo>
                      <a:lnTo>
                        <a:pt x="1152" y="469"/>
                      </a:lnTo>
                      <a:lnTo>
                        <a:pt x="1156" y="473"/>
                      </a:lnTo>
                      <a:lnTo>
                        <a:pt x="1160" y="475"/>
                      </a:lnTo>
                      <a:lnTo>
                        <a:pt x="1162" y="479"/>
                      </a:lnTo>
                      <a:lnTo>
                        <a:pt x="1165" y="483"/>
                      </a:lnTo>
                      <a:lnTo>
                        <a:pt x="1165" y="486"/>
                      </a:lnTo>
                      <a:lnTo>
                        <a:pt x="1165" y="487"/>
                      </a:lnTo>
                      <a:lnTo>
                        <a:pt x="1165" y="498"/>
                      </a:lnTo>
                      <a:lnTo>
                        <a:pt x="1163" y="506"/>
                      </a:lnTo>
                      <a:lnTo>
                        <a:pt x="1162" y="515"/>
                      </a:lnTo>
                      <a:lnTo>
                        <a:pt x="1161" y="524"/>
                      </a:lnTo>
                      <a:lnTo>
                        <a:pt x="1170" y="519"/>
                      </a:lnTo>
                      <a:lnTo>
                        <a:pt x="1178" y="513"/>
                      </a:lnTo>
                      <a:lnTo>
                        <a:pt x="1183" y="511"/>
                      </a:lnTo>
                      <a:lnTo>
                        <a:pt x="1187" y="508"/>
                      </a:lnTo>
                      <a:lnTo>
                        <a:pt x="1193" y="508"/>
                      </a:lnTo>
                      <a:lnTo>
                        <a:pt x="1198" y="507"/>
                      </a:lnTo>
                      <a:lnTo>
                        <a:pt x="1204" y="508"/>
                      </a:lnTo>
                      <a:lnTo>
                        <a:pt x="1212" y="508"/>
                      </a:lnTo>
                      <a:lnTo>
                        <a:pt x="1219" y="511"/>
                      </a:lnTo>
                      <a:lnTo>
                        <a:pt x="1225" y="513"/>
                      </a:lnTo>
                      <a:lnTo>
                        <a:pt x="1231" y="516"/>
                      </a:lnTo>
                      <a:lnTo>
                        <a:pt x="1236" y="520"/>
                      </a:lnTo>
                      <a:lnTo>
                        <a:pt x="1241" y="525"/>
                      </a:lnTo>
                      <a:lnTo>
                        <a:pt x="1247" y="529"/>
                      </a:lnTo>
                      <a:lnTo>
                        <a:pt x="1254" y="541"/>
                      </a:lnTo>
                      <a:lnTo>
                        <a:pt x="1262" y="553"/>
                      </a:lnTo>
                      <a:lnTo>
                        <a:pt x="1268" y="568"/>
                      </a:lnTo>
                      <a:lnTo>
                        <a:pt x="1273" y="582"/>
                      </a:lnTo>
                      <a:lnTo>
                        <a:pt x="1273" y="599"/>
                      </a:lnTo>
                      <a:lnTo>
                        <a:pt x="1272" y="614"/>
                      </a:lnTo>
                      <a:lnTo>
                        <a:pt x="1270" y="641"/>
                      </a:lnTo>
                      <a:lnTo>
                        <a:pt x="1269" y="655"/>
                      </a:lnTo>
                      <a:lnTo>
                        <a:pt x="1270" y="669"/>
                      </a:lnTo>
                      <a:lnTo>
                        <a:pt x="1270" y="684"/>
                      </a:lnTo>
                      <a:lnTo>
                        <a:pt x="1272" y="691"/>
                      </a:lnTo>
                      <a:lnTo>
                        <a:pt x="1273" y="701"/>
                      </a:lnTo>
                      <a:lnTo>
                        <a:pt x="1294" y="703"/>
                      </a:lnTo>
                      <a:lnTo>
                        <a:pt x="1303" y="705"/>
                      </a:lnTo>
                      <a:lnTo>
                        <a:pt x="1314" y="705"/>
                      </a:lnTo>
                      <a:lnTo>
                        <a:pt x="1319" y="705"/>
                      </a:lnTo>
                      <a:lnTo>
                        <a:pt x="1324" y="703"/>
                      </a:lnTo>
                      <a:lnTo>
                        <a:pt x="1328" y="702"/>
                      </a:lnTo>
                      <a:lnTo>
                        <a:pt x="1334" y="701"/>
                      </a:lnTo>
                      <a:lnTo>
                        <a:pt x="1338" y="698"/>
                      </a:lnTo>
                      <a:lnTo>
                        <a:pt x="1342" y="695"/>
                      </a:lnTo>
                      <a:lnTo>
                        <a:pt x="1345" y="691"/>
                      </a:lnTo>
                      <a:lnTo>
                        <a:pt x="1348" y="689"/>
                      </a:lnTo>
                      <a:lnTo>
                        <a:pt x="1355" y="680"/>
                      </a:lnTo>
                      <a:lnTo>
                        <a:pt x="1360" y="672"/>
                      </a:lnTo>
                      <a:lnTo>
                        <a:pt x="1371" y="652"/>
                      </a:lnTo>
                      <a:lnTo>
                        <a:pt x="1381" y="632"/>
                      </a:lnTo>
                      <a:lnTo>
                        <a:pt x="1386" y="623"/>
                      </a:lnTo>
                      <a:lnTo>
                        <a:pt x="1393" y="615"/>
                      </a:lnTo>
                      <a:lnTo>
                        <a:pt x="1400" y="608"/>
                      </a:lnTo>
                      <a:lnTo>
                        <a:pt x="1407" y="603"/>
                      </a:lnTo>
                      <a:lnTo>
                        <a:pt x="1413" y="600"/>
                      </a:lnTo>
                      <a:lnTo>
                        <a:pt x="1417" y="599"/>
                      </a:lnTo>
                      <a:lnTo>
                        <a:pt x="1422" y="598"/>
                      </a:lnTo>
                      <a:lnTo>
                        <a:pt x="1427" y="598"/>
                      </a:lnTo>
                      <a:lnTo>
                        <a:pt x="1435" y="598"/>
                      </a:lnTo>
                      <a:lnTo>
                        <a:pt x="1442" y="600"/>
                      </a:lnTo>
                      <a:lnTo>
                        <a:pt x="1447" y="602"/>
                      </a:lnTo>
                      <a:lnTo>
                        <a:pt x="1452" y="606"/>
                      </a:lnTo>
                      <a:lnTo>
                        <a:pt x="1458" y="610"/>
                      </a:lnTo>
                      <a:lnTo>
                        <a:pt x="1459" y="612"/>
                      </a:lnTo>
                      <a:lnTo>
                        <a:pt x="1462" y="615"/>
                      </a:lnTo>
                      <a:lnTo>
                        <a:pt x="1465" y="620"/>
                      </a:lnTo>
                      <a:lnTo>
                        <a:pt x="1467" y="623"/>
                      </a:lnTo>
                      <a:lnTo>
                        <a:pt x="1468" y="627"/>
                      </a:lnTo>
                      <a:lnTo>
                        <a:pt x="1471" y="633"/>
                      </a:lnTo>
                      <a:lnTo>
                        <a:pt x="1473" y="640"/>
                      </a:lnTo>
                      <a:lnTo>
                        <a:pt x="1477" y="656"/>
                      </a:lnTo>
                      <a:lnTo>
                        <a:pt x="1480" y="672"/>
                      </a:lnTo>
                      <a:lnTo>
                        <a:pt x="1483" y="689"/>
                      </a:lnTo>
                      <a:lnTo>
                        <a:pt x="1485" y="706"/>
                      </a:lnTo>
                      <a:lnTo>
                        <a:pt x="1488" y="722"/>
                      </a:lnTo>
                      <a:lnTo>
                        <a:pt x="1491" y="730"/>
                      </a:lnTo>
                      <a:lnTo>
                        <a:pt x="1492" y="738"/>
                      </a:lnTo>
                      <a:lnTo>
                        <a:pt x="1495" y="744"/>
                      </a:lnTo>
                      <a:lnTo>
                        <a:pt x="1497" y="751"/>
                      </a:lnTo>
                      <a:lnTo>
                        <a:pt x="1500" y="757"/>
                      </a:lnTo>
                      <a:lnTo>
                        <a:pt x="1504" y="763"/>
                      </a:lnTo>
                      <a:lnTo>
                        <a:pt x="1508" y="768"/>
                      </a:lnTo>
                      <a:lnTo>
                        <a:pt x="1510" y="769"/>
                      </a:lnTo>
                      <a:lnTo>
                        <a:pt x="1513" y="772"/>
                      </a:lnTo>
                      <a:lnTo>
                        <a:pt x="1518" y="775"/>
                      </a:lnTo>
                      <a:lnTo>
                        <a:pt x="1524" y="777"/>
                      </a:lnTo>
                      <a:lnTo>
                        <a:pt x="1530" y="779"/>
                      </a:lnTo>
                      <a:lnTo>
                        <a:pt x="1538" y="780"/>
                      </a:lnTo>
                      <a:lnTo>
                        <a:pt x="1542" y="779"/>
                      </a:lnTo>
                      <a:lnTo>
                        <a:pt x="1545" y="779"/>
                      </a:lnTo>
                      <a:lnTo>
                        <a:pt x="1551" y="776"/>
                      </a:lnTo>
                      <a:lnTo>
                        <a:pt x="1558" y="772"/>
                      </a:lnTo>
                      <a:lnTo>
                        <a:pt x="1563" y="768"/>
                      </a:lnTo>
                      <a:lnTo>
                        <a:pt x="1568" y="763"/>
                      </a:lnTo>
                      <a:lnTo>
                        <a:pt x="1574" y="760"/>
                      </a:lnTo>
                      <a:lnTo>
                        <a:pt x="1580" y="757"/>
                      </a:lnTo>
                      <a:lnTo>
                        <a:pt x="1588" y="756"/>
                      </a:lnTo>
                      <a:lnTo>
                        <a:pt x="1592" y="756"/>
                      </a:lnTo>
                      <a:lnTo>
                        <a:pt x="1596" y="759"/>
                      </a:lnTo>
                      <a:lnTo>
                        <a:pt x="1599" y="761"/>
                      </a:lnTo>
                      <a:lnTo>
                        <a:pt x="1601" y="764"/>
                      </a:lnTo>
                      <a:lnTo>
                        <a:pt x="1604" y="768"/>
                      </a:lnTo>
                      <a:lnTo>
                        <a:pt x="1605" y="773"/>
                      </a:lnTo>
                      <a:lnTo>
                        <a:pt x="1609" y="784"/>
                      </a:lnTo>
                      <a:lnTo>
                        <a:pt x="1612" y="793"/>
                      </a:lnTo>
                      <a:lnTo>
                        <a:pt x="1613" y="798"/>
                      </a:lnTo>
                      <a:lnTo>
                        <a:pt x="1616" y="802"/>
                      </a:lnTo>
                      <a:lnTo>
                        <a:pt x="1618" y="805"/>
                      </a:lnTo>
                      <a:lnTo>
                        <a:pt x="1622" y="808"/>
                      </a:lnTo>
                      <a:lnTo>
                        <a:pt x="1625" y="810"/>
                      </a:lnTo>
                      <a:lnTo>
                        <a:pt x="1630" y="810"/>
                      </a:lnTo>
                      <a:lnTo>
                        <a:pt x="1634" y="810"/>
                      </a:lnTo>
                      <a:lnTo>
                        <a:pt x="1637" y="809"/>
                      </a:lnTo>
                      <a:lnTo>
                        <a:pt x="1642" y="806"/>
                      </a:lnTo>
                      <a:lnTo>
                        <a:pt x="1649" y="804"/>
                      </a:lnTo>
                      <a:lnTo>
                        <a:pt x="1651" y="804"/>
                      </a:lnTo>
                      <a:lnTo>
                        <a:pt x="1655" y="802"/>
                      </a:lnTo>
                      <a:lnTo>
                        <a:pt x="1661" y="804"/>
                      </a:lnTo>
                      <a:lnTo>
                        <a:pt x="1662" y="805"/>
                      </a:lnTo>
                      <a:lnTo>
                        <a:pt x="1665" y="806"/>
                      </a:lnTo>
                      <a:lnTo>
                        <a:pt x="1666" y="808"/>
                      </a:lnTo>
                      <a:lnTo>
                        <a:pt x="1667" y="810"/>
                      </a:lnTo>
                      <a:lnTo>
                        <a:pt x="1670" y="814"/>
                      </a:lnTo>
                      <a:lnTo>
                        <a:pt x="1674" y="826"/>
                      </a:lnTo>
                      <a:lnTo>
                        <a:pt x="1678" y="838"/>
                      </a:lnTo>
                      <a:lnTo>
                        <a:pt x="1669" y="839"/>
                      </a:lnTo>
                      <a:lnTo>
                        <a:pt x="1663" y="839"/>
                      </a:lnTo>
                      <a:lnTo>
                        <a:pt x="1659" y="840"/>
                      </a:lnTo>
                      <a:lnTo>
                        <a:pt x="1651" y="843"/>
                      </a:lnTo>
                      <a:lnTo>
                        <a:pt x="1642" y="847"/>
                      </a:lnTo>
                      <a:lnTo>
                        <a:pt x="1644" y="852"/>
                      </a:lnTo>
                      <a:lnTo>
                        <a:pt x="1645" y="858"/>
                      </a:lnTo>
                      <a:lnTo>
                        <a:pt x="1650" y="868"/>
                      </a:lnTo>
                      <a:lnTo>
                        <a:pt x="1653" y="872"/>
                      </a:lnTo>
                      <a:lnTo>
                        <a:pt x="1655" y="876"/>
                      </a:lnTo>
                      <a:lnTo>
                        <a:pt x="1659" y="880"/>
                      </a:lnTo>
                      <a:lnTo>
                        <a:pt x="1663" y="884"/>
                      </a:lnTo>
                      <a:lnTo>
                        <a:pt x="1667" y="887"/>
                      </a:lnTo>
                      <a:lnTo>
                        <a:pt x="1673" y="889"/>
                      </a:lnTo>
                      <a:lnTo>
                        <a:pt x="1682" y="893"/>
                      </a:lnTo>
                      <a:lnTo>
                        <a:pt x="1687" y="896"/>
                      </a:lnTo>
                      <a:lnTo>
                        <a:pt x="1692" y="896"/>
                      </a:lnTo>
                      <a:lnTo>
                        <a:pt x="1704" y="897"/>
                      </a:lnTo>
                      <a:lnTo>
                        <a:pt x="1713" y="897"/>
                      </a:lnTo>
                      <a:lnTo>
                        <a:pt x="1711" y="885"/>
                      </a:lnTo>
                      <a:lnTo>
                        <a:pt x="1711" y="879"/>
                      </a:lnTo>
                      <a:lnTo>
                        <a:pt x="1711" y="87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8463600" y="4280760"/>
                  <a:ext cx="46080" cy="38880"/>
                </a:xfrm>
                <a:custGeom>
                  <a:avLst/>
                  <a:gdLst/>
                  <a:ahLst/>
                  <a:rect l="l" t="t" r="r" b="b"/>
                  <a:pathLst>
                    <a:path w="91" h="74">
                      <a:moveTo>
                        <a:pt x="8" y="50"/>
                      </a:moveTo>
                      <a:lnTo>
                        <a:pt x="12" y="47"/>
                      </a:lnTo>
                      <a:lnTo>
                        <a:pt x="18" y="42"/>
                      </a:lnTo>
                      <a:lnTo>
                        <a:pt x="28" y="30"/>
                      </a:lnTo>
                      <a:lnTo>
                        <a:pt x="35" y="25"/>
                      </a:lnTo>
                      <a:lnTo>
                        <a:pt x="41" y="20"/>
                      </a:lnTo>
                      <a:lnTo>
                        <a:pt x="48" y="14"/>
                      </a:lnTo>
                      <a:lnTo>
                        <a:pt x="57" y="11"/>
                      </a:lnTo>
                      <a:lnTo>
                        <a:pt x="81" y="3"/>
                      </a:lnTo>
                      <a:lnTo>
                        <a:pt x="86" y="0"/>
                      </a:lnTo>
                      <a:lnTo>
                        <a:pt x="91" y="17"/>
                      </a:lnTo>
                      <a:lnTo>
                        <a:pt x="86" y="46"/>
                      </a:lnTo>
                      <a:lnTo>
                        <a:pt x="76" y="61"/>
                      </a:lnTo>
                      <a:lnTo>
                        <a:pt x="66" y="70"/>
                      </a:lnTo>
                      <a:lnTo>
                        <a:pt x="62" y="72"/>
                      </a:lnTo>
                      <a:lnTo>
                        <a:pt x="60" y="74"/>
                      </a:lnTo>
                      <a:lnTo>
                        <a:pt x="56" y="74"/>
                      </a:lnTo>
                      <a:lnTo>
                        <a:pt x="49" y="71"/>
                      </a:lnTo>
                      <a:lnTo>
                        <a:pt x="29" y="62"/>
                      </a:lnTo>
                      <a:lnTo>
                        <a:pt x="3" y="50"/>
                      </a:lnTo>
                      <a:lnTo>
                        <a:pt x="0" y="54"/>
                      </a:lnTo>
                      <a:lnTo>
                        <a:pt x="2" y="54"/>
                      </a:lnTo>
                      <a:lnTo>
                        <a:pt x="8" y="5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8528400" y="4253040"/>
                  <a:ext cx="63360" cy="51120"/>
                </a:xfrm>
                <a:custGeom>
                  <a:avLst/>
                  <a:gdLst/>
                  <a:ahLst/>
                  <a:rect l="l" t="t" r="r" b="b"/>
                  <a:pathLst>
                    <a:path w="124" h="101">
                      <a:moveTo>
                        <a:pt x="0" y="46"/>
                      </a:moveTo>
                      <a:lnTo>
                        <a:pt x="19" y="46"/>
                      </a:lnTo>
                      <a:lnTo>
                        <a:pt x="35" y="44"/>
                      </a:lnTo>
                      <a:lnTo>
                        <a:pt x="43" y="43"/>
                      </a:lnTo>
                      <a:lnTo>
                        <a:pt x="51" y="40"/>
                      </a:lnTo>
                      <a:lnTo>
                        <a:pt x="54" y="39"/>
                      </a:lnTo>
                      <a:lnTo>
                        <a:pt x="58" y="38"/>
                      </a:lnTo>
                      <a:lnTo>
                        <a:pt x="66" y="33"/>
                      </a:lnTo>
                      <a:lnTo>
                        <a:pt x="83" y="18"/>
                      </a:lnTo>
                      <a:lnTo>
                        <a:pt x="96" y="5"/>
                      </a:lnTo>
                      <a:lnTo>
                        <a:pt x="101" y="0"/>
                      </a:lnTo>
                      <a:lnTo>
                        <a:pt x="117" y="9"/>
                      </a:lnTo>
                      <a:lnTo>
                        <a:pt x="124" y="83"/>
                      </a:lnTo>
                      <a:lnTo>
                        <a:pt x="101" y="88"/>
                      </a:lnTo>
                      <a:lnTo>
                        <a:pt x="41" y="101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8610480" y="4200480"/>
                  <a:ext cx="49320" cy="49320"/>
                </a:xfrm>
                <a:custGeom>
                  <a:avLst/>
                  <a:gdLst/>
                  <a:ahLst/>
                  <a:rect l="l" t="t" r="r" b="b"/>
                  <a:pathLst>
                    <a:path w="95" h="98">
                      <a:moveTo>
                        <a:pt x="0" y="96"/>
                      </a:moveTo>
                      <a:lnTo>
                        <a:pt x="1" y="80"/>
                      </a:lnTo>
                      <a:lnTo>
                        <a:pt x="1" y="53"/>
                      </a:lnTo>
                      <a:lnTo>
                        <a:pt x="0" y="13"/>
                      </a:lnTo>
                      <a:lnTo>
                        <a:pt x="21" y="11"/>
                      </a:lnTo>
                      <a:lnTo>
                        <a:pt x="38" y="7"/>
                      </a:lnTo>
                      <a:lnTo>
                        <a:pt x="51" y="4"/>
                      </a:lnTo>
                      <a:lnTo>
                        <a:pt x="60" y="1"/>
                      </a:lnTo>
                      <a:lnTo>
                        <a:pt x="67" y="1"/>
                      </a:lnTo>
                      <a:lnTo>
                        <a:pt x="72" y="0"/>
                      </a:lnTo>
                      <a:lnTo>
                        <a:pt x="77" y="1"/>
                      </a:lnTo>
                      <a:lnTo>
                        <a:pt x="83" y="3"/>
                      </a:lnTo>
                      <a:lnTo>
                        <a:pt x="84" y="4"/>
                      </a:lnTo>
                      <a:lnTo>
                        <a:pt x="87" y="5"/>
                      </a:lnTo>
                      <a:lnTo>
                        <a:pt x="88" y="7"/>
                      </a:lnTo>
                      <a:lnTo>
                        <a:pt x="91" y="9"/>
                      </a:lnTo>
                      <a:lnTo>
                        <a:pt x="92" y="15"/>
                      </a:lnTo>
                      <a:lnTo>
                        <a:pt x="95" y="20"/>
                      </a:lnTo>
                      <a:lnTo>
                        <a:pt x="95" y="32"/>
                      </a:lnTo>
                      <a:lnTo>
                        <a:pt x="95" y="41"/>
                      </a:lnTo>
                      <a:lnTo>
                        <a:pt x="95" y="45"/>
                      </a:lnTo>
                      <a:lnTo>
                        <a:pt x="83" y="59"/>
                      </a:lnTo>
                      <a:lnTo>
                        <a:pt x="47" y="70"/>
                      </a:lnTo>
                      <a:lnTo>
                        <a:pt x="40" y="88"/>
                      </a:lnTo>
                      <a:lnTo>
                        <a:pt x="34" y="90"/>
                      </a:lnTo>
                      <a:lnTo>
                        <a:pt x="19" y="94"/>
                      </a:lnTo>
                      <a:lnTo>
                        <a:pt x="13" y="96"/>
                      </a:lnTo>
                      <a:lnTo>
                        <a:pt x="6" y="98"/>
                      </a:lnTo>
                      <a:lnTo>
                        <a:pt x="1" y="98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1" name=""/>
              <p:cNvSpPr/>
              <p:nvPr/>
            </p:nvSpPr>
            <p:spPr>
              <a:xfrm>
                <a:off x="7242480" y="505764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16" y="56"/>
                    </a:moveTo>
                    <a:lnTo>
                      <a:pt x="25" y="52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16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251840" y="5083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8"/>
                    </a:moveTo>
                    <a:lnTo>
                      <a:pt x="10" y="5"/>
                    </a:lnTo>
                    <a:lnTo>
                      <a:pt x="9" y="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207560" y="5056200"/>
                <a:ext cx="37800" cy="61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6" y="9"/>
                    </a:moveTo>
                    <a:lnTo>
                      <a:pt x="76" y="0"/>
                    </a:lnTo>
                    <a:lnTo>
                      <a:pt x="0" y="4"/>
                    </a:lnTo>
                    <a:lnTo>
                      <a:pt x="0" y="13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242480" y="5056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04320" y="5057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6" y="9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1" y="4"/>
                    </a:lnTo>
                    <a:lnTo>
                      <a:pt x="6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205760" y="50403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11" y="3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04320" y="5038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0" y="8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3" y="14"/>
                    </a:lnTo>
                    <a:lnTo>
                      <a:pt x="1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207560" y="50450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4" y="9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562720" y="321948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2" y="0"/>
                    </a:moveTo>
                    <a:lnTo>
                      <a:pt x="0" y="11"/>
                    </a:lnTo>
                    <a:lnTo>
                      <a:pt x="59" y="32"/>
                    </a:lnTo>
                    <a:lnTo>
                      <a:pt x="6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588280" y="32335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6" y="0"/>
                    </a:moveTo>
                    <a:lnTo>
                      <a:pt x="5" y="0"/>
                    </a:lnTo>
                    <a:lnTo>
                      <a:pt x="0" y="39"/>
                    </a:lnTo>
                    <a:lnTo>
                      <a:pt x="10" y="3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591520" y="32302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7" y="0"/>
                    </a:moveTo>
                    <a:lnTo>
                      <a:pt x="11" y="2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91520" y="324936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61" h="16">
                    <a:moveTo>
                      <a:pt x="1" y="0"/>
                    </a:moveTo>
                    <a:lnTo>
                      <a:pt x="0" y="11"/>
                    </a:lnTo>
                    <a:lnTo>
                      <a:pt x="59" y="16"/>
                    </a:lnTo>
                    <a:lnTo>
                      <a:pt x="61" y="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588280" y="3249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0" y="11"/>
                    </a:lnTo>
                    <a:lnTo>
                      <a:pt x="4" y="11"/>
                    </a:lnTo>
                    <a:lnTo>
                      <a:pt x="5" y="0"/>
                    </a:lnTo>
                    <a:lnTo>
                      <a:pt x="1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618520" y="3252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10"/>
                    </a:moveTo>
                    <a:lnTo>
                      <a:pt x="11" y="1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619960" y="32302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0" y="5"/>
                    </a:moveTo>
                    <a:lnTo>
                      <a:pt x="3" y="15"/>
                    </a:lnTo>
                    <a:lnTo>
                      <a:pt x="23" y="10"/>
                    </a:ln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618520" y="32320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629320" y="323028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7" y="0"/>
                    </a:moveTo>
                    <a:lnTo>
                      <a:pt x="0" y="8"/>
                    </a:lnTo>
                    <a:lnTo>
                      <a:pt x="68" y="66"/>
                    </a:lnTo>
                    <a:lnTo>
                      <a:pt x="74" y="5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629320" y="3230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0" y="9"/>
                    </a:lnTo>
                    <a:lnTo>
                      <a:pt x="6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664240" y="32623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1" y="0"/>
                    </a:moveTo>
                    <a:lnTo>
                      <a:pt x="0" y="1"/>
                    </a:lnTo>
                    <a:lnTo>
                      <a:pt x="6" y="33"/>
                    </a:lnTo>
                    <a:lnTo>
                      <a:pt x="16" y="3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664240" y="3259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8" y="0"/>
                    </a:moveTo>
                    <a:lnTo>
                      <a:pt x="11" y="3"/>
                    </a:lnTo>
                    <a:lnTo>
                      <a:pt x="11" y="4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654880" y="3276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7"/>
                    </a:moveTo>
                    <a:lnTo>
                      <a:pt x="25" y="0"/>
                    </a:lnTo>
                    <a:lnTo>
                      <a:pt x="0" y="23"/>
                    </a:lnTo>
                    <a:lnTo>
                      <a:pt x="6" y="31"/>
                    </a:lnTo>
                    <a:lnTo>
                      <a:pt x="3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667480" y="3276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3"/>
                    </a:moveTo>
                    <a:lnTo>
                      <a:pt x="10" y="5"/>
                    </a:lnTo>
                    <a:lnTo>
                      <a:pt x="7" y="7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656320" y="32875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" y="0"/>
                    </a:moveTo>
                    <a:lnTo>
                      <a:pt x="0" y="11"/>
                    </a:lnTo>
                    <a:lnTo>
                      <a:pt x="20" y="13"/>
                    </a:lnTo>
                    <a:lnTo>
                      <a:pt x="2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650200" y="3287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8" y="1"/>
                    </a:moveTo>
                    <a:lnTo>
                      <a:pt x="0" y="9"/>
                    </a:lnTo>
                    <a:lnTo>
                      <a:pt x="10" y="11"/>
                    </a:lnTo>
                    <a:lnTo>
                      <a:pt x="12" y="0"/>
                    </a:lnTo>
                    <a:lnTo>
                      <a:pt x="14" y="9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664240" y="328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11" y="1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602320" y="3301920"/>
                <a:ext cx="66960" cy="61920"/>
              </a:xfrm>
              <a:custGeom>
                <a:avLst/>
                <a:gdLst/>
                <a:ahLst/>
                <a:rect l="l" t="t" r="r" b="b"/>
                <a:pathLst>
                  <a:path w="128" h="120">
                    <a:moveTo>
                      <a:pt x="128" y="8"/>
                    </a:moveTo>
                    <a:lnTo>
                      <a:pt x="122" y="0"/>
                    </a:lnTo>
                    <a:lnTo>
                      <a:pt x="0" y="112"/>
                    </a:lnTo>
                    <a:lnTo>
                      <a:pt x="7" y="120"/>
                    </a:lnTo>
                    <a:lnTo>
                      <a:pt x="12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664240" y="33019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4"/>
                    </a:moveTo>
                    <a:lnTo>
                      <a:pt x="11" y="7"/>
                    </a:lnTo>
                    <a:lnTo>
                      <a:pt x="8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558040" y="3359160"/>
                <a:ext cx="47520" cy="12600"/>
              </a:xfrm>
              <a:custGeom>
                <a:avLst/>
                <a:gdLst/>
                <a:ahLst/>
                <a:rect l="l" t="t" r="r" b="b"/>
                <a:pathLst>
                  <a:path w="91" h="28">
                    <a:moveTo>
                      <a:pt x="91" y="9"/>
                    </a:moveTo>
                    <a:lnTo>
                      <a:pt x="87" y="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91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602320" y="3359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8"/>
                    </a:moveTo>
                    <a:lnTo>
                      <a:pt x="6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518440" y="3368520"/>
                <a:ext cx="41040" cy="1440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80" y="9"/>
                    </a:moveTo>
                    <a:lnTo>
                      <a:pt x="77" y="0"/>
                    </a:lnTo>
                    <a:lnTo>
                      <a:pt x="0" y="21"/>
                    </a:lnTo>
                    <a:lnTo>
                      <a:pt x="4" y="30"/>
                    </a:lnTo>
                    <a:lnTo>
                      <a:pt x="80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558040" y="3368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510520" y="33796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22" y="3"/>
                    </a:moveTo>
                    <a:lnTo>
                      <a:pt x="11" y="0"/>
                    </a:lnTo>
                    <a:lnTo>
                      <a:pt x="0" y="35"/>
                    </a:lnTo>
                    <a:lnTo>
                      <a:pt x="10" y="37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516640" y="3378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11" y="5"/>
                    </a:lnTo>
                    <a:lnTo>
                      <a:pt x="7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453280" y="3392280"/>
                <a:ext cx="60120" cy="9720"/>
              </a:xfrm>
              <a:custGeom>
                <a:avLst/>
                <a:gdLst/>
                <a:ahLst/>
                <a:rect l="l" t="t" r="r" b="b"/>
                <a:pathLst>
                  <a:path w="116" h="18">
                    <a:moveTo>
                      <a:pt x="116" y="18"/>
                    </a:moveTo>
                    <a:lnTo>
                      <a:pt x="116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6" y="1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510520" y="33969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9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5423040" y="338760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60" h="16">
                    <a:moveTo>
                      <a:pt x="60" y="16"/>
                    </a:moveTo>
                    <a:lnTo>
                      <a:pt x="32" y="15"/>
                    </a:lnTo>
                    <a:lnTo>
                      <a:pt x="12" y="12"/>
                    </a:lnTo>
                    <a:lnTo>
                      <a:pt x="3" y="9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5" y="3"/>
                    </a:lnTo>
                    <a:lnTo>
                      <a:pt x="32" y="5"/>
                    </a:lnTo>
                    <a:lnTo>
                      <a:pt x="60" y="7"/>
                    </a:lnTo>
                    <a:lnTo>
                      <a:pt x="60" y="1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453280" y="33922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423040" y="335916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59"/>
                    </a:moveTo>
                    <a:lnTo>
                      <a:pt x="7" y="0"/>
                    </a:lnTo>
                    <a:lnTo>
                      <a:pt x="16" y="3"/>
                    </a:lnTo>
                    <a:lnTo>
                      <a:pt x="9" y="62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423040" y="338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1" y="7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429520" y="335592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32" h="13">
                    <a:moveTo>
                      <a:pt x="0" y="2"/>
                    </a:moveTo>
                    <a:lnTo>
                      <a:pt x="0" y="13"/>
                    </a:lnTo>
                    <a:lnTo>
                      <a:pt x="32" y="10"/>
                    </a:lnTo>
                    <a:lnTo>
                      <a:pt x="3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426280" y="3357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429520" y="333036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26" y="54"/>
                    </a:moveTo>
                    <a:lnTo>
                      <a:pt x="36" y="49"/>
                    </a:lnTo>
                    <a:lnTo>
                      <a:pt x="9" y="0"/>
                    </a:lnTo>
                    <a:lnTo>
                      <a:pt x="0" y="6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442120" y="33559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6" y="10"/>
                    </a:moveTo>
                    <a:lnTo>
                      <a:pt x="14" y="9"/>
                    </a:lnTo>
                    <a:lnTo>
                      <a:pt x="10" y="2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429520" y="3330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0" y="3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432760" y="3298680"/>
                <a:ext cx="42840" cy="972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0" y="12"/>
                    </a:moveTo>
                    <a:lnTo>
                      <a:pt x="2" y="22"/>
                    </a:lnTo>
                    <a:lnTo>
                      <a:pt x="86" y="10"/>
                    </a:lnTo>
                    <a:lnTo>
                      <a:pt x="8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429520" y="33051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"/>
                    </a:lnTo>
                    <a:lnTo>
                      <a:pt x="5" y="0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473800" y="32986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5" y="0"/>
                    </a:moveTo>
                    <a:lnTo>
                      <a:pt x="0" y="9"/>
                    </a:lnTo>
                    <a:lnTo>
                      <a:pt x="26" y="21"/>
                    </a:lnTo>
                    <a:lnTo>
                      <a:pt x="32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473800" y="3298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0"/>
                    </a:moveTo>
                    <a:lnTo>
                      <a:pt x="5" y="1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488200" y="3305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3" y="1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507280" y="322092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12" h="170">
                    <a:moveTo>
                      <a:pt x="0" y="163"/>
                    </a:moveTo>
                    <a:lnTo>
                      <a:pt x="8" y="170"/>
                    </a:lnTo>
                    <a:lnTo>
                      <a:pt x="112" y="6"/>
                    </a:lnTo>
                    <a:lnTo>
                      <a:pt x="104" y="0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507280" y="330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1280" y="32194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12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981840" y="424800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7" y="0"/>
                    </a:moveTo>
                    <a:lnTo>
                      <a:pt x="0" y="8"/>
                    </a:lnTo>
                    <a:lnTo>
                      <a:pt x="24" y="29"/>
                    </a:lnTo>
                    <a:lnTo>
                      <a:pt x="30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994800" y="42289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59"/>
                    </a:moveTo>
                    <a:lnTo>
                      <a:pt x="8" y="66"/>
                    </a:lnTo>
                    <a:lnTo>
                      <a:pt x="54" y="7"/>
                    </a:lnTo>
                    <a:lnTo>
                      <a:pt x="46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994800" y="425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8"/>
                    </a:moveTo>
                    <a:lnTo>
                      <a:pt x="5" y="12"/>
                    </a:lnTo>
                    <a:lnTo>
                      <a:pt x="8" y="8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018560" y="42289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54" h="57">
                    <a:moveTo>
                      <a:pt x="9" y="0"/>
                    </a:moveTo>
                    <a:lnTo>
                      <a:pt x="30" y="29"/>
                    </a:lnTo>
                    <a:lnTo>
                      <a:pt x="44" y="44"/>
                    </a:lnTo>
                    <a:lnTo>
                      <a:pt x="48" y="46"/>
                    </a:lnTo>
                    <a:lnTo>
                      <a:pt x="51" y="45"/>
                    </a:lnTo>
                    <a:lnTo>
                      <a:pt x="54" y="55"/>
                    </a:lnTo>
                    <a:lnTo>
                      <a:pt x="48" y="57"/>
                    </a:lnTo>
                    <a:lnTo>
                      <a:pt x="38" y="52"/>
                    </a:lnTo>
                    <a:lnTo>
                      <a:pt x="22" y="36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018560" y="42256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1" y="5"/>
                    </a:moveTo>
                    <a:lnTo>
                      <a:pt x="5" y="0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9" y="1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42320" y="420372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102" h="101">
                    <a:moveTo>
                      <a:pt x="0" y="93"/>
                    </a:moveTo>
                    <a:lnTo>
                      <a:pt x="52" y="42"/>
                    </a:lnTo>
                    <a:lnTo>
                      <a:pt x="95" y="0"/>
                    </a:lnTo>
                    <a:lnTo>
                      <a:pt x="102" y="8"/>
                    </a:lnTo>
                    <a:lnTo>
                      <a:pt x="58" y="50"/>
                    </a:lnTo>
                    <a:lnTo>
                      <a:pt x="7" y="10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042320" y="4252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10"/>
                    </a:moveTo>
                    <a:lnTo>
                      <a:pt x="7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091640" y="4203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8" y="0"/>
                    </a:moveTo>
                    <a:lnTo>
                      <a:pt x="0" y="7"/>
                    </a:lnTo>
                    <a:lnTo>
                      <a:pt x="21" y="28"/>
                    </a:lnTo>
                    <a:lnTo>
                      <a:pt x="29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091640" y="420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8" y="5"/>
                    </a:lnTo>
                    <a:lnTo>
                      <a:pt x="0" y="12"/>
                    </a:lnTo>
                    <a:lnTo>
                      <a:pt x="7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102800" y="419256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47"/>
                    </a:moveTo>
                    <a:lnTo>
                      <a:pt x="8" y="54"/>
                    </a:lnTo>
                    <a:lnTo>
                      <a:pt x="37" y="6"/>
                    </a:lnTo>
                    <a:lnTo>
                      <a:pt x="29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102800" y="4214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7"/>
                    </a:moveTo>
                    <a:lnTo>
                      <a:pt x="6" y="12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118640" y="41907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75" h="49">
                    <a:moveTo>
                      <a:pt x="5" y="0"/>
                    </a:moveTo>
                    <a:lnTo>
                      <a:pt x="0" y="9"/>
                    </a:lnTo>
                    <a:lnTo>
                      <a:pt x="70" y="49"/>
                    </a:lnTo>
                    <a:lnTo>
                      <a:pt x="75" y="4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118640" y="4189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4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2" y="11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153560" y="41972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28"/>
                    </a:moveTo>
                    <a:lnTo>
                      <a:pt x="7" y="36"/>
                    </a:lnTo>
                    <a:lnTo>
                      <a:pt x="36" y="8"/>
                    </a:lnTo>
                    <a:lnTo>
                      <a:pt x="29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153560" y="42098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9"/>
                    </a:moveTo>
                    <a:lnTo>
                      <a:pt x="4" y="10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104240" y="4122720"/>
                <a:ext cx="68400" cy="79200"/>
              </a:xfrm>
              <a:custGeom>
                <a:avLst/>
                <a:gdLst/>
                <a:ahLst/>
                <a:rect l="l" t="t" r="r" b="b"/>
                <a:pathLst>
                  <a:path w="133" h="152">
                    <a:moveTo>
                      <a:pt x="125" y="152"/>
                    </a:moveTo>
                    <a:lnTo>
                      <a:pt x="133" y="145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25" y="15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169400" y="4197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7" y="8"/>
                    </a:moveTo>
                    <a:lnTo>
                      <a:pt x="11" y="4"/>
                    </a:lnTo>
                    <a:lnTo>
                      <a:pt x="8" y="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058160" y="412272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98" h="92">
                    <a:moveTo>
                      <a:pt x="98" y="8"/>
                    </a:moveTo>
                    <a:lnTo>
                      <a:pt x="91" y="0"/>
                    </a:lnTo>
                    <a:lnTo>
                      <a:pt x="0" y="84"/>
                    </a:lnTo>
                    <a:lnTo>
                      <a:pt x="7" y="92"/>
                    </a:lnTo>
                    <a:lnTo>
                      <a:pt x="9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104240" y="4119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029720" y="412884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65" h="79">
                    <a:moveTo>
                      <a:pt x="57" y="79"/>
                    </a:moveTo>
                    <a:lnTo>
                      <a:pt x="65" y="73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058160" y="41655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3" y="12"/>
                    </a:lnTo>
                    <a:lnTo>
                      <a:pt x="0" y="8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029720" y="40989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57" h="63">
                    <a:moveTo>
                      <a:pt x="0" y="56"/>
                    </a:moveTo>
                    <a:lnTo>
                      <a:pt x="8" y="63"/>
                    </a:lnTo>
                    <a:lnTo>
                      <a:pt x="57" y="6"/>
                    </a:lnTo>
                    <a:lnTo>
                      <a:pt x="4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027920" y="4128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2" y="7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045560" y="4086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4" y="32"/>
                    </a:moveTo>
                    <a:lnTo>
                      <a:pt x="22" y="26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053480" y="40989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6"/>
                    </a:moveTo>
                    <a:lnTo>
                      <a:pt x="11" y="3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980400" y="408456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2" h="120">
                    <a:moveTo>
                      <a:pt x="132" y="8"/>
                    </a:moveTo>
                    <a:lnTo>
                      <a:pt x="126" y="0"/>
                    </a:lnTo>
                    <a:lnTo>
                      <a:pt x="0" y="112"/>
                    </a:lnTo>
                    <a:lnTo>
                      <a:pt x="7" y="120"/>
                    </a:lnTo>
                    <a:lnTo>
                      <a:pt x="132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045560" y="40827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980400" y="414324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90" h="106">
                    <a:moveTo>
                      <a:pt x="8" y="0"/>
                    </a:moveTo>
                    <a:lnTo>
                      <a:pt x="0" y="6"/>
                    </a:lnTo>
                    <a:lnTo>
                      <a:pt x="82" y="106"/>
                    </a:lnTo>
                    <a:lnTo>
                      <a:pt x="90" y="10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978960" y="41432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4" y="0"/>
                    </a:moveTo>
                    <a:lnTo>
                      <a:pt x="0" y="4"/>
                    </a:lnTo>
                    <a:lnTo>
                      <a:pt x="4" y="8"/>
                    </a:lnTo>
                    <a:lnTo>
                      <a:pt x="12" y="2"/>
                    </a:lnTo>
                    <a:lnTo>
                      <a:pt x="11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981840" y="4197240"/>
                <a:ext cx="46080" cy="5544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87" y="6"/>
                    </a:moveTo>
                    <a:lnTo>
                      <a:pt x="79" y="0"/>
                    </a:lnTo>
                    <a:lnTo>
                      <a:pt x="0" y="101"/>
                    </a:lnTo>
                    <a:lnTo>
                      <a:pt x="8" y="108"/>
                    </a:lnTo>
                    <a:lnTo>
                      <a:pt x="87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025040" y="419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0"/>
                    </a:moveTo>
                    <a:lnTo>
                      <a:pt x="11" y="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980400" y="4248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1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10" y="0"/>
                    </a:lnTo>
                    <a:lnTo>
                      <a:pt x="11" y="8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170840" y="4197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3" y="0"/>
                    </a:moveTo>
                    <a:lnTo>
                      <a:pt x="0" y="10"/>
                    </a:lnTo>
                    <a:lnTo>
                      <a:pt x="5" y="12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161480" y="41986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9" y="6"/>
                    </a:moveTo>
                    <a:lnTo>
                      <a:pt x="21" y="0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29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172640" y="4197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5" y="0"/>
                    </a:moveTo>
                    <a:lnTo>
                      <a:pt x="14" y="3"/>
                    </a:lnTo>
                    <a:lnTo>
                      <a:pt x="8" y="9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161480" y="4197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3"/>
                    </a:moveTo>
                    <a:lnTo>
                      <a:pt x="7" y="29"/>
                    </a:lnTo>
                    <a:lnTo>
                      <a:pt x="23" y="7"/>
                    </a:lnTo>
                    <a:lnTo>
                      <a:pt x="15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161480" y="4208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0" y="0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169400" y="41958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3" y="12"/>
                    </a:lnTo>
                    <a:lnTo>
                      <a:pt x="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214960" y="498132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0" h="29">
                    <a:moveTo>
                      <a:pt x="0" y="26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212080" y="4995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11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212080" y="49971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1" h="1">
                    <a:moveTo>
                      <a:pt x="0" y="1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212080" y="4981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0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648920" y="459252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0" y="26"/>
                    </a:moveTo>
                    <a:lnTo>
                      <a:pt x="41" y="0"/>
                    </a:lnTo>
                    <a:lnTo>
                      <a:pt x="122" y="92"/>
                    </a:lnTo>
                    <a:lnTo>
                      <a:pt x="85" y="12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301160" y="4714920"/>
                <a:ext cx="66600" cy="77760"/>
              </a:xfrm>
              <a:custGeom>
                <a:avLst/>
                <a:gdLst/>
                <a:ahLst/>
                <a:rect l="l" t="t" r="r" b="b"/>
                <a:pathLst>
                  <a:path w="129" h="149">
                    <a:moveTo>
                      <a:pt x="0" y="148"/>
                    </a:moveTo>
                    <a:lnTo>
                      <a:pt x="3" y="58"/>
                    </a:lnTo>
                    <a:lnTo>
                      <a:pt x="38" y="48"/>
                    </a:lnTo>
                    <a:lnTo>
                      <a:pt x="38" y="0"/>
                    </a:lnTo>
                    <a:lnTo>
                      <a:pt x="104" y="2"/>
                    </a:lnTo>
                    <a:lnTo>
                      <a:pt x="104" y="44"/>
                    </a:lnTo>
                    <a:lnTo>
                      <a:pt x="129" y="49"/>
                    </a:lnTo>
                    <a:lnTo>
                      <a:pt x="123" y="119"/>
                    </a:lnTo>
                    <a:lnTo>
                      <a:pt x="71" y="123"/>
                    </a:lnTo>
                    <a:lnTo>
                      <a:pt x="66" y="149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145640" y="4491000"/>
                <a:ext cx="160200" cy="90360"/>
              </a:xfrm>
              <a:custGeom>
                <a:avLst/>
                <a:gdLst/>
                <a:ahLst/>
                <a:rect l="l" t="t" r="r" b="b"/>
                <a:pathLst>
                  <a:path w="313" h="174">
                    <a:moveTo>
                      <a:pt x="0" y="20"/>
                    </a:moveTo>
                    <a:lnTo>
                      <a:pt x="112" y="0"/>
                    </a:lnTo>
                    <a:lnTo>
                      <a:pt x="313" y="79"/>
                    </a:lnTo>
                    <a:lnTo>
                      <a:pt x="277" y="174"/>
                    </a:lnTo>
                    <a:lnTo>
                      <a:pt x="55" y="74"/>
                    </a:lnTo>
                    <a:lnTo>
                      <a:pt x="9" y="7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371000" y="4846680"/>
                <a:ext cx="71280" cy="110880"/>
              </a:xfrm>
              <a:custGeom>
                <a:avLst/>
                <a:gdLst/>
                <a:ahLst/>
                <a:rect l="l" t="t" r="r" b="b"/>
                <a:pathLst>
                  <a:path w="137" h="216">
                    <a:moveTo>
                      <a:pt x="77" y="0"/>
                    </a:moveTo>
                    <a:lnTo>
                      <a:pt x="59" y="59"/>
                    </a:lnTo>
                    <a:lnTo>
                      <a:pt x="107" y="52"/>
                    </a:lnTo>
                    <a:lnTo>
                      <a:pt x="137" y="85"/>
                    </a:lnTo>
                    <a:lnTo>
                      <a:pt x="98" y="125"/>
                    </a:lnTo>
                    <a:lnTo>
                      <a:pt x="112" y="174"/>
                    </a:lnTo>
                    <a:lnTo>
                      <a:pt x="74" y="200"/>
                    </a:lnTo>
                    <a:lnTo>
                      <a:pt x="17" y="216"/>
                    </a:lnTo>
                    <a:lnTo>
                      <a:pt x="0" y="149"/>
                    </a:lnTo>
                    <a:lnTo>
                      <a:pt x="5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8372520" y="4214520"/>
                <a:ext cx="351000" cy="154080"/>
              </a:xfrm>
              <a:custGeom>
                <a:avLst/>
                <a:gdLst/>
                <a:ahLst/>
                <a:rect l="l" t="t" r="r" b="b"/>
                <a:pathLst>
                  <a:path w="680" h="300">
                    <a:moveTo>
                      <a:pt x="190" y="219"/>
                    </a:moveTo>
                    <a:lnTo>
                      <a:pt x="216" y="247"/>
                    </a:lnTo>
                    <a:lnTo>
                      <a:pt x="265" y="240"/>
                    </a:lnTo>
                    <a:lnTo>
                      <a:pt x="285" y="217"/>
                    </a:lnTo>
                    <a:lnTo>
                      <a:pt x="289" y="197"/>
                    </a:lnTo>
                    <a:lnTo>
                      <a:pt x="319" y="185"/>
                    </a:lnTo>
                    <a:lnTo>
                      <a:pt x="324" y="186"/>
                    </a:lnTo>
                    <a:lnTo>
                      <a:pt x="330" y="188"/>
                    </a:lnTo>
                    <a:lnTo>
                      <a:pt x="334" y="189"/>
                    </a:lnTo>
                    <a:lnTo>
                      <a:pt x="338" y="190"/>
                    </a:lnTo>
                    <a:lnTo>
                      <a:pt x="343" y="193"/>
                    </a:lnTo>
                    <a:lnTo>
                      <a:pt x="346" y="194"/>
                    </a:lnTo>
                    <a:lnTo>
                      <a:pt x="390" y="198"/>
                    </a:lnTo>
                    <a:lnTo>
                      <a:pt x="429" y="196"/>
                    </a:lnTo>
                    <a:lnTo>
                      <a:pt x="430" y="136"/>
                    </a:lnTo>
                    <a:lnTo>
                      <a:pt x="456" y="109"/>
                    </a:lnTo>
                    <a:lnTo>
                      <a:pt x="495" y="86"/>
                    </a:lnTo>
                    <a:lnTo>
                      <a:pt x="559" y="70"/>
                    </a:lnTo>
                    <a:lnTo>
                      <a:pt x="608" y="72"/>
                    </a:lnTo>
                    <a:lnTo>
                      <a:pt x="680" y="77"/>
                    </a:lnTo>
                    <a:lnTo>
                      <a:pt x="680" y="22"/>
                    </a:lnTo>
                    <a:lnTo>
                      <a:pt x="597" y="20"/>
                    </a:lnTo>
                    <a:lnTo>
                      <a:pt x="571" y="27"/>
                    </a:lnTo>
                    <a:lnTo>
                      <a:pt x="545" y="11"/>
                    </a:lnTo>
                    <a:lnTo>
                      <a:pt x="526" y="3"/>
                    </a:lnTo>
                    <a:lnTo>
                      <a:pt x="514" y="0"/>
                    </a:lnTo>
                    <a:lnTo>
                      <a:pt x="509" y="0"/>
                    </a:lnTo>
                    <a:lnTo>
                      <a:pt x="504" y="0"/>
                    </a:lnTo>
                    <a:lnTo>
                      <a:pt x="498" y="0"/>
                    </a:lnTo>
                    <a:lnTo>
                      <a:pt x="492" y="2"/>
                    </a:lnTo>
                    <a:lnTo>
                      <a:pt x="479" y="6"/>
                    </a:lnTo>
                    <a:lnTo>
                      <a:pt x="464" y="11"/>
                    </a:lnTo>
                    <a:lnTo>
                      <a:pt x="447" y="18"/>
                    </a:lnTo>
                    <a:lnTo>
                      <a:pt x="454" y="49"/>
                    </a:lnTo>
                    <a:lnTo>
                      <a:pt x="438" y="65"/>
                    </a:lnTo>
                    <a:lnTo>
                      <a:pt x="393" y="87"/>
                    </a:lnTo>
                    <a:lnTo>
                      <a:pt x="384" y="98"/>
                    </a:lnTo>
                    <a:lnTo>
                      <a:pt x="380" y="102"/>
                    </a:lnTo>
                    <a:lnTo>
                      <a:pt x="376" y="103"/>
                    </a:lnTo>
                    <a:lnTo>
                      <a:pt x="375" y="103"/>
                    </a:lnTo>
                    <a:lnTo>
                      <a:pt x="372" y="105"/>
                    </a:lnTo>
                    <a:lnTo>
                      <a:pt x="368" y="105"/>
                    </a:lnTo>
                    <a:lnTo>
                      <a:pt x="355" y="107"/>
                    </a:lnTo>
                    <a:lnTo>
                      <a:pt x="336" y="110"/>
                    </a:lnTo>
                    <a:lnTo>
                      <a:pt x="318" y="114"/>
                    </a:lnTo>
                    <a:lnTo>
                      <a:pt x="298" y="118"/>
                    </a:lnTo>
                    <a:lnTo>
                      <a:pt x="297" y="149"/>
                    </a:lnTo>
                    <a:lnTo>
                      <a:pt x="270" y="161"/>
                    </a:lnTo>
                    <a:lnTo>
                      <a:pt x="264" y="163"/>
                    </a:lnTo>
                    <a:lnTo>
                      <a:pt x="257" y="165"/>
                    </a:lnTo>
                    <a:lnTo>
                      <a:pt x="249" y="167"/>
                    </a:lnTo>
                    <a:lnTo>
                      <a:pt x="241" y="168"/>
                    </a:lnTo>
                    <a:lnTo>
                      <a:pt x="233" y="167"/>
                    </a:lnTo>
                    <a:lnTo>
                      <a:pt x="229" y="167"/>
                    </a:lnTo>
                    <a:lnTo>
                      <a:pt x="227" y="165"/>
                    </a:lnTo>
                    <a:lnTo>
                      <a:pt x="224" y="163"/>
                    </a:lnTo>
                    <a:lnTo>
                      <a:pt x="222" y="160"/>
                    </a:lnTo>
                    <a:lnTo>
                      <a:pt x="219" y="153"/>
                    </a:lnTo>
                    <a:lnTo>
                      <a:pt x="218" y="148"/>
                    </a:lnTo>
                    <a:lnTo>
                      <a:pt x="218" y="139"/>
                    </a:lnTo>
                    <a:lnTo>
                      <a:pt x="218" y="136"/>
                    </a:lnTo>
                    <a:lnTo>
                      <a:pt x="216" y="135"/>
                    </a:lnTo>
                    <a:lnTo>
                      <a:pt x="215" y="134"/>
                    </a:lnTo>
                    <a:lnTo>
                      <a:pt x="214" y="132"/>
                    </a:lnTo>
                    <a:lnTo>
                      <a:pt x="211" y="132"/>
                    </a:lnTo>
                    <a:lnTo>
                      <a:pt x="208" y="131"/>
                    </a:lnTo>
                    <a:lnTo>
                      <a:pt x="199" y="132"/>
                    </a:lnTo>
                    <a:lnTo>
                      <a:pt x="189" y="132"/>
                    </a:lnTo>
                    <a:lnTo>
                      <a:pt x="182" y="132"/>
                    </a:lnTo>
                    <a:lnTo>
                      <a:pt x="171" y="131"/>
                    </a:lnTo>
                    <a:lnTo>
                      <a:pt x="169" y="131"/>
                    </a:lnTo>
                    <a:lnTo>
                      <a:pt x="167" y="132"/>
                    </a:lnTo>
                    <a:lnTo>
                      <a:pt x="166" y="135"/>
                    </a:lnTo>
                    <a:lnTo>
                      <a:pt x="165" y="139"/>
                    </a:lnTo>
                    <a:lnTo>
                      <a:pt x="162" y="145"/>
                    </a:lnTo>
                    <a:lnTo>
                      <a:pt x="158" y="153"/>
                    </a:lnTo>
                    <a:lnTo>
                      <a:pt x="153" y="161"/>
                    </a:lnTo>
                    <a:lnTo>
                      <a:pt x="148" y="168"/>
                    </a:lnTo>
                    <a:lnTo>
                      <a:pt x="138" y="181"/>
                    </a:lnTo>
                    <a:lnTo>
                      <a:pt x="133" y="186"/>
                    </a:lnTo>
                    <a:lnTo>
                      <a:pt x="160" y="206"/>
                    </a:lnTo>
                    <a:lnTo>
                      <a:pt x="117" y="242"/>
                    </a:lnTo>
                    <a:lnTo>
                      <a:pt x="76" y="248"/>
                    </a:lnTo>
                    <a:lnTo>
                      <a:pt x="8" y="247"/>
                    </a:lnTo>
                    <a:lnTo>
                      <a:pt x="0" y="291"/>
                    </a:lnTo>
                    <a:lnTo>
                      <a:pt x="67" y="300"/>
                    </a:lnTo>
                    <a:lnTo>
                      <a:pt x="128" y="277"/>
                    </a:lnTo>
                    <a:lnTo>
                      <a:pt x="190" y="243"/>
                    </a:lnTo>
                    <a:lnTo>
                      <a:pt x="175" y="215"/>
                    </a:lnTo>
                    <a:lnTo>
                      <a:pt x="190" y="21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8793360" y="4241520"/>
                <a:ext cx="217440" cy="117720"/>
              </a:xfrm>
              <a:custGeom>
                <a:avLst/>
                <a:gdLst/>
                <a:ahLst/>
                <a:rect l="l" t="t" r="r" b="b"/>
                <a:pathLst>
                  <a:path w="420" h="228">
                    <a:moveTo>
                      <a:pt x="68" y="16"/>
                    </a:moveTo>
                    <a:lnTo>
                      <a:pt x="79" y="0"/>
                    </a:lnTo>
                    <a:lnTo>
                      <a:pt x="128" y="13"/>
                    </a:lnTo>
                    <a:lnTo>
                      <a:pt x="170" y="17"/>
                    </a:lnTo>
                    <a:lnTo>
                      <a:pt x="193" y="50"/>
                    </a:lnTo>
                    <a:lnTo>
                      <a:pt x="275" y="87"/>
                    </a:lnTo>
                    <a:lnTo>
                      <a:pt x="309" y="95"/>
                    </a:lnTo>
                    <a:lnTo>
                      <a:pt x="319" y="120"/>
                    </a:lnTo>
                    <a:lnTo>
                      <a:pt x="354" y="140"/>
                    </a:lnTo>
                    <a:lnTo>
                      <a:pt x="384" y="145"/>
                    </a:lnTo>
                    <a:lnTo>
                      <a:pt x="387" y="161"/>
                    </a:lnTo>
                    <a:lnTo>
                      <a:pt x="417" y="173"/>
                    </a:lnTo>
                    <a:lnTo>
                      <a:pt x="420" y="216"/>
                    </a:lnTo>
                    <a:lnTo>
                      <a:pt x="385" y="228"/>
                    </a:lnTo>
                    <a:lnTo>
                      <a:pt x="348" y="223"/>
                    </a:lnTo>
                    <a:lnTo>
                      <a:pt x="292" y="194"/>
                    </a:lnTo>
                    <a:lnTo>
                      <a:pt x="206" y="145"/>
                    </a:lnTo>
                    <a:lnTo>
                      <a:pt x="172" y="125"/>
                    </a:lnTo>
                    <a:lnTo>
                      <a:pt x="139" y="124"/>
                    </a:lnTo>
                    <a:lnTo>
                      <a:pt x="127" y="108"/>
                    </a:lnTo>
                    <a:lnTo>
                      <a:pt x="127" y="85"/>
                    </a:lnTo>
                    <a:lnTo>
                      <a:pt x="74" y="71"/>
                    </a:lnTo>
                    <a:lnTo>
                      <a:pt x="0" y="42"/>
                    </a:lnTo>
                    <a:lnTo>
                      <a:pt x="0" y="19"/>
                    </a:lnTo>
                    <a:lnTo>
                      <a:pt x="68" y="1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942240" y="3497040"/>
                <a:ext cx="66600" cy="114480"/>
              </a:xfrm>
              <a:custGeom>
                <a:avLst/>
                <a:gdLst/>
                <a:ahLst/>
                <a:rect l="l" t="t" r="r" b="b"/>
                <a:pathLst>
                  <a:path w="130" h="221">
                    <a:moveTo>
                      <a:pt x="26" y="0"/>
                    </a:moveTo>
                    <a:lnTo>
                      <a:pt x="26" y="9"/>
                    </a:lnTo>
                    <a:lnTo>
                      <a:pt x="29" y="31"/>
                    </a:lnTo>
                    <a:lnTo>
                      <a:pt x="33" y="59"/>
                    </a:lnTo>
                    <a:lnTo>
                      <a:pt x="35" y="72"/>
                    </a:lnTo>
                    <a:lnTo>
                      <a:pt x="40" y="83"/>
                    </a:lnTo>
                    <a:lnTo>
                      <a:pt x="43" y="89"/>
                    </a:lnTo>
                    <a:lnTo>
                      <a:pt x="48" y="96"/>
                    </a:lnTo>
                    <a:lnTo>
                      <a:pt x="60" y="111"/>
                    </a:lnTo>
                    <a:lnTo>
                      <a:pt x="75" y="128"/>
                    </a:lnTo>
                    <a:lnTo>
                      <a:pt x="91" y="144"/>
                    </a:lnTo>
                    <a:lnTo>
                      <a:pt x="118" y="173"/>
                    </a:lnTo>
                    <a:lnTo>
                      <a:pt x="130" y="184"/>
                    </a:lnTo>
                    <a:lnTo>
                      <a:pt x="108" y="221"/>
                    </a:lnTo>
                    <a:lnTo>
                      <a:pt x="100" y="217"/>
                    </a:lnTo>
                    <a:lnTo>
                      <a:pt x="81" y="207"/>
                    </a:lnTo>
                    <a:lnTo>
                      <a:pt x="72" y="202"/>
                    </a:lnTo>
                    <a:lnTo>
                      <a:pt x="63" y="195"/>
                    </a:lnTo>
                    <a:lnTo>
                      <a:pt x="56" y="190"/>
                    </a:lnTo>
                    <a:lnTo>
                      <a:pt x="55" y="187"/>
                    </a:lnTo>
                    <a:lnTo>
                      <a:pt x="54" y="184"/>
                    </a:lnTo>
                    <a:lnTo>
                      <a:pt x="51" y="179"/>
                    </a:lnTo>
                    <a:lnTo>
                      <a:pt x="46" y="170"/>
                    </a:lnTo>
                    <a:lnTo>
                      <a:pt x="30" y="149"/>
                    </a:lnTo>
                    <a:lnTo>
                      <a:pt x="14" y="128"/>
                    </a:lnTo>
                    <a:lnTo>
                      <a:pt x="9" y="120"/>
                    </a:lnTo>
                    <a:lnTo>
                      <a:pt x="8" y="117"/>
                    </a:lnTo>
                    <a:lnTo>
                      <a:pt x="6" y="115"/>
                    </a:lnTo>
                    <a:lnTo>
                      <a:pt x="4" y="55"/>
                    </a:lnTo>
                    <a:lnTo>
                      <a:pt x="0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061240" y="4751280"/>
                <a:ext cx="55440" cy="61920"/>
              </a:xfrm>
              <a:custGeom>
                <a:avLst/>
                <a:gdLst/>
                <a:ahLst/>
                <a:rect l="l" t="t" r="r" b="b"/>
                <a:pathLst>
                  <a:path w="110" h="120">
                    <a:moveTo>
                      <a:pt x="110" y="65"/>
                    </a:moveTo>
                    <a:lnTo>
                      <a:pt x="15" y="0"/>
                    </a:lnTo>
                    <a:lnTo>
                      <a:pt x="0" y="50"/>
                    </a:lnTo>
                    <a:lnTo>
                      <a:pt x="15" y="87"/>
                    </a:lnTo>
                    <a:lnTo>
                      <a:pt x="67" y="96"/>
                    </a:lnTo>
                    <a:lnTo>
                      <a:pt x="67" y="120"/>
                    </a:lnTo>
                    <a:lnTo>
                      <a:pt x="110" y="58"/>
                    </a:lnTo>
                    <a:lnTo>
                      <a:pt x="110" y="6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065920" y="4749840"/>
                <a:ext cx="52200" cy="36360"/>
              </a:xfrm>
              <a:custGeom>
                <a:avLst/>
                <a:gdLst/>
                <a:ahLst/>
                <a:rect l="l" t="t" r="r" b="b"/>
                <a:pathLst>
                  <a:path w="101" h="72">
                    <a:moveTo>
                      <a:pt x="95" y="72"/>
                    </a:moveTo>
                    <a:lnTo>
                      <a:pt x="101" y="65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95" y="7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058000" y="475128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25" h="52">
                    <a:moveTo>
                      <a:pt x="25" y="2"/>
                    </a:moveTo>
                    <a:lnTo>
                      <a:pt x="14" y="0"/>
                    </a:lnTo>
                    <a:lnTo>
                      <a:pt x="0" y="50"/>
                    </a:lnTo>
                    <a:lnTo>
                      <a:pt x="10" y="52"/>
                    </a:lnTo>
                    <a:lnTo>
                      <a:pt x="25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065920" y="4748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8" y="4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11" y="9"/>
                    </a:lnTo>
                    <a:lnTo>
                      <a:pt x="2" y="1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058000" y="47750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24" h="43">
                    <a:moveTo>
                      <a:pt x="9" y="0"/>
                    </a:moveTo>
                    <a:lnTo>
                      <a:pt x="0" y="6"/>
                    </a:lnTo>
                    <a:lnTo>
                      <a:pt x="14" y="43"/>
                    </a:lnTo>
                    <a:lnTo>
                      <a:pt x="24" y="3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058000" y="4775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" y="2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10" y="0"/>
                    </a:lnTo>
                    <a:lnTo>
                      <a:pt x="11" y="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67360" y="47941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2" y="0"/>
                    </a:moveTo>
                    <a:lnTo>
                      <a:pt x="0" y="10"/>
                    </a:lnTo>
                    <a:lnTo>
                      <a:pt x="53" y="19"/>
                    </a:lnTo>
                    <a:lnTo>
                      <a:pt x="54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65920" y="4794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8"/>
                    </a:moveTo>
                    <a:lnTo>
                      <a:pt x="2" y="10"/>
                    </a:lnTo>
                    <a:lnTo>
                      <a:pt x="4" y="1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91120" y="4798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5" y="0"/>
                    </a:moveTo>
                    <a:lnTo>
                      <a:pt x="11" y="1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92920" y="477972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0" y="62"/>
                    </a:moveTo>
                    <a:lnTo>
                      <a:pt x="8" y="69"/>
                    </a:lnTo>
                    <a:lnTo>
                      <a:pt x="51" y="7"/>
                    </a:lnTo>
                    <a:lnTo>
                      <a:pt x="43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091120" y="481176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0" y="3"/>
                    </a:moveTo>
                    <a:lnTo>
                      <a:pt x="0" y="20"/>
                    </a:lnTo>
                    <a:lnTo>
                      <a:pt x="9" y="7"/>
                    </a:lnTo>
                    <a:lnTo>
                      <a:pt x="1" y="0"/>
                    </a:lnTo>
                    <a:lnTo>
                      <a:pt x="1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113440" y="4771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2" y="13"/>
                    </a:moveTo>
                    <a:lnTo>
                      <a:pt x="11" y="0"/>
                    </a:lnTo>
                    <a:lnTo>
                      <a:pt x="11" y="16"/>
                    </a:lnTo>
                    <a:lnTo>
                      <a:pt x="0" y="16"/>
                    </a:lnTo>
                    <a:lnTo>
                      <a:pt x="10" y="2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113440" y="4782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4"/>
                    </a:moveTo>
                    <a:lnTo>
                      <a:pt x="11" y="14"/>
                    </a:lnTo>
                    <a:lnTo>
                      <a:pt x="2" y="7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377040" y="4673520"/>
                <a:ext cx="274680" cy="225360"/>
              </a:xfrm>
              <a:custGeom>
                <a:avLst/>
                <a:gdLst/>
                <a:ahLst/>
                <a:rect l="l" t="t" r="r" b="b"/>
                <a:pathLst>
                  <a:path w="536" h="439">
                    <a:moveTo>
                      <a:pt x="64" y="242"/>
                    </a:moveTo>
                    <a:lnTo>
                      <a:pt x="79" y="239"/>
                    </a:lnTo>
                    <a:lnTo>
                      <a:pt x="69" y="248"/>
                    </a:lnTo>
                    <a:lnTo>
                      <a:pt x="97" y="346"/>
                    </a:lnTo>
                    <a:lnTo>
                      <a:pt x="145" y="314"/>
                    </a:lnTo>
                    <a:lnTo>
                      <a:pt x="165" y="255"/>
                    </a:lnTo>
                    <a:lnTo>
                      <a:pt x="206" y="236"/>
                    </a:lnTo>
                    <a:lnTo>
                      <a:pt x="218" y="205"/>
                    </a:lnTo>
                    <a:lnTo>
                      <a:pt x="261" y="185"/>
                    </a:lnTo>
                    <a:lnTo>
                      <a:pt x="288" y="201"/>
                    </a:lnTo>
                    <a:lnTo>
                      <a:pt x="297" y="198"/>
                    </a:lnTo>
                    <a:lnTo>
                      <a:pt x="312" y="195"/>
                    </a:lnTo>
                    <a:lnTo>
                      <a:pt x="317" y="193"/>
                    </a:lnTo>
                    <a:lnTo>
                      <a:pt x="322" y="191"/>
                    </a:lnTo>
                    <a:lnTo>
                      <a:pt x="325" y="189"/>
                    </a:lnTo>
                    <a:lnTo>
                      <a:pt x="327" y="186"/>
                    </a:lnTo>
                    <a:lnTo>
                      <a:pt x="330" y="182"/>
                    </a:lnTo>
                    <a:lnTo>
                      <a:pt x="330" y="181"/>
                    </a:lnTo>
                    <a:lnTo>
                      <a:pt x="359" y="135"/>
                    </a:lnTo>
                    <a:lnTo>
                      <a:pt x="381" y="102"/>
                    </a:lnTo>
                    <a:lnTo>
                      <a:pt x="389" y="90"/>
                    </a:lnTo>
                    <a:lnTo>
                      <a:pt x="395" y="83"/>
                    </a:lnTo>
                    <a:lnTo>
                      <a:pt x="411" y="73"/>
                    </a:lnTo>
                    <a:lnTo>
                      <a:pt x="442" y="52"/>
                    </a:lnTo>
                    <a:lnTo>
                      <a:pt x="513" y="8"/>
                    </a:lnTo>
                    <a:lnTo>
                      <a:pt x="536" y="0"/>
                    </a:lnTo>
                    <a:lnTo>
                      <a:pt x="536" y="85"/>
                    </a:lnTo>
                    <a:lnTo>
                      <a:pt x="367" y="195"/>
                    </a:lnTo>
                    <a:lnTo>
                      <a:pt x="192" y="314"/>
                    </a:lnTo>
                    <a:lnTo>
                      <a:pt x="70" y="397"/>
                    </a:lnTo>
                    <a:lnTo>
                      <a:pt x="31" y="426"/>
                    </a:lnTo>
                    <a:lnTo>
                      <a:pt x="19" y="435"/>
                    </a:lnTo>
                    <a:lnTo>
                      <a:pt x="15" y="439"/>
                    </a:lnTo>
                    <a:lnTo>
                      <a:pt x="14" y="438"/>
                    </a:lnTo>
                    <a:lnTo>
                      <a:pt x="14" y="435"/>
                    </a:lnTo>
                    <a:lnTo>
                      <a:pt x="11" y="420"/>
                    </a:lnTo>
                    <a:lnTo>
                      <a:pt x="7" y="372"/>
                    </a:lnTo>
                    <a:lnTo>
                      <a:pt x="0" y="300"/>
                    </a:lnTo>
                    <a:lnTo>
                      <a:pt x="64" y="24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409080" y="47941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2"/>
                    </a:moveTo>
                    <a:lnTo>
                      <a:pt x="0" y="13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409080" y="4794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1" y="0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415200" y="47926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3" y="3"/>
                    </a:moveTo>
                    <a:lnTo>
                      <a:pt x="21" y="0"/>
                    </a:lnTo>
                    <a:lnTo>
                      <a:pt x="6" y="12"/>
                    </a:lnTo>
                    <a:lnTo>
                      <a:pt x="0" y="4"/>
                    </a:lnTo>
                    <a:lnTo>
                      <a:pt x="3" y="1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409080" y="4800600"/>
                <a:ext cx="18720" cy="50760"/>
              </a:xfrm>
              <a:custGeom>
                <a:avLst/>
                <a:gdLst/>
                <a:ahLst/>
                <a:rect l="l" t="t" r="r" b="b"/>
                <a:pathLst>
                  <a:path w="37" h="100">
                    <a:moveTo>
                      <a:pt x="10" y="0"/>
                    </a:moveTo>
                    <a:lnTo>
                      <a:pt x="0" y="2"/>
                    </a:lnTo>
                    <a:lnTo>
                      <a:pt x="26" y="100"/>
                    </a:lnTo>
                    <a:lnTo>
                      <a:pt x="37" y="9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407280" y="4798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3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12" y="3"/>
                    </a:lnTo>
                    <a:lnTo>
                      <a:pt x="10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424920" y="48322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32"/>
                    </a:moveTo>
                    <a:lnTo>
                      <a:pt x="5" y="41"/>
                    </a:lnTo>
                    <a:lnTo>
                      <a:pt x="55" y="9"/>
                    </a:lnTo>
                    <a:lnTo>
                      <a:pt x="5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423120" y="4849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5"/>
                    </a:moveTo>
                    <a:lnTo>
                      <a:pt x="3" y="13"/>
                    </a:lnTo>
                    <a:lnTo>
                      <a:pt x="8" y="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448680" y="4803480"/>
                <a:ext cx="14040" cy="32040"/>
              </a:xfrm>
              <a:custGeom>
                <a:avLst/>
                <a:gdLst/>
                <a:ahLst/>
                <a:rect l="l" t="t" r="r" b="b"/>
                <a:pathLst>
                  <a:path w="29" h="65">
                    <a:moveTo>
                      <a:pt x="0" y="59"/>
                    </a:moveTo>
                    <a:lnTo>
                      <a:pt x="9" y="65"/>
                    </a:lnTo>
                    <a:lnTo>
                      <a:pt x="29" y="5"/>
                    </a:lnTo>
                    <a:lnTo>
                      <a:pt x="2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448680" y="4832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9"/>
                    </a:moveTo>
                    <a:lnTo>
                      <a:pt x="9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459840" y="479268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0" y="19"/>
                    </a:moveTo>
                    <a:lnTo>
                      <a:pt x="5" y="28"/>
                    </a:lnTo>
                    <a:lnTo>
                      <a:pt x="46" y="10"/>
                    </a:lnTo>
                    <a:lnTo>
                      <a:pt x="4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458040" y="4802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1"/>
                    </a:moveTo>
                    <a:lnTo>
                      <a:pt x="3" y="0"/>
                    </a:lnTo>
                    <a:lnTo>
                      <a:pt x="8" y="9"/>
                    </a:lnTo>
                    <a:lnTo>
                      <a:pt x="9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480360" y="4776840"/>
                <a:ext cx="11160" cy="1872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32"/>
                    </a:moveTo>
                    <a:lnTo>
                      <a:pt x="9" y="37"/>
                    </a:lnTo>
                    <a:lnTo>
                      <a:pt x="21" y="5"/>
                    </a:lnTo>
                    <a:lnTo>
                      <a:pt x="1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48036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10"/>
                    </a:moveTo>
                    <a:lnTo>
                      <a:pt x="9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486840" y="47671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0" y="20"/>
                    </a:moveTo>
                    <a:lnTo>
                      <a:pt x="6" y="29"/>
                    </a:lnTo>
                    <a:lnTo>
                      <a:pt x="48" y="9"/>
                    </a:lnTo>
                    <a:lnTo>
                      <a:pt x="4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486840" y="477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1"/>
                    </a:moveTo>
                    <a:lnTo>
                      <a:pt x="2" y="0"/>
                    </a:lnTo>
                    <a:lnTo>
                      <a:pt x="8" y="9"/>
                    </a:lnTo>
                    <a:lnTo>
                      <a:pt x="9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510600" y="47671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5" y="0"/>
                    </a:moveTo>
                    <a:lnTo>
                      <a:pt x="0" y="9"/>
                    </a:lnTo>
                    <a:lnTo>
                      <a:pt x="26" y="24"/>
                    </a:lnTo>
                    <a:lnTo>
                      <a:pt x="31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510600" y="476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523200" y="47703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4"/>
                    </a:moveTo>
                    <a:lnTo>
                      <a:pt x="25" y="0"/>
                    </a:lnTo>
                    <a:lnTo>
                      <a:pt x="26" y="11"/>
                    </a:lnTo>
                    <a:lnTo>
                      <a:pt x="1" y="1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521760" y="477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1" y="11"/>
                    </a:lnTo>
                    <a:lnTo>
                      <a:pt x="4" y="1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535800" y="476568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13"/>
                    </a:moveTo>
                    <a:lnTo>
                      <a:pt x="11" y="8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25" y="6"/>
                    </a:lnTo>
                    <a:lnTo>
                      <a:pt x="22" y="12"/>
                    </a:lnTo>
                    <a:lnTo>
                      <a:pt x="16" y="17"/>
                    </a:lnTo>
                    <a:lnTo>
                      <a:pt x="5" y="2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35800" y="4770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11"/>
                    </a:moveTo>
                    <a:lnTo>
                      <a:pt x="5" y="1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43720" y="4714920"/>
                <a:ext cx="38160" cy="5220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97"/>
                    </a:moveTo>
                    <a:lnTo>
                      <a:pt x="29" y="51"/>
                    </a:lnTo>
                    <a:lnTo>
                      <a:pt x="52" y="18"/>
                    </a:lnTo>
                    <a:lnTo>
                      <a:pt x="65" y="0"/>
                    </a:lnTo>
                    <a:lnTo>
                      <a:pt x="73" y="6"/>
                    </a:lnTo>
                    <a:lnTo>
                      <a:pt x="59" y="25"/>
                    </a:lnTo>
                    <a:lnTo>
                      <a:pt x="37" y="58"/>
                    </a:lnTo>
                    <a:lnTo>
                      <a:pt x="8" y="104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43720" y="47656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1" y="0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577200" y="467496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123" h="85">
                    <a:moveTo>
                      <a:pt x="0" y="75"/>
                    </a:moveTo>
                    <a:lnTo>
                      <a:pt x="117" y="0"/>
                    </a:lnTo>
                    <a:lnTo>
                      <a:pt x="123" y="9"/>
                    </a:lnTo>
                    <a:lnTo>
                      <a:pt x="5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577200" y="471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2"/>
                    </a:moveTo>
                    <a:lnTo>
                      <a:pt x="1" y="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639120" y="46702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0" y="8"/>
                    </a:moveTo>
                    <a:lnTo>
                      <a:pt x="2" y="18"/>
                    </a:lnTo>
                    <a:lnTo>
                      <a:pt x="26" y="11"/>
                    </a:lnTo>
                    <a:lnTo>
                      <a:pt x="2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637680" y="46749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"/>
                    </a:moveTo>
                    <a:lnTo>
                      <a:pt x="2" y="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650280" y="4670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3" y="1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564600" y="47149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175" h="118">
                    <a:moveTo>
                      <a:pt x="175" y="8"/>
                    </a:moveTo>
                    <a:lnTo>
                      <a:pt x="169" y="0"/>
                    </a:lnTo>
                    <a:lnTo>
                      <a:pt x="0" y="110"/>
                    </a:lnTo>
                    <a:lnTo>
                      <a:pt x="7" y="118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650280" y="471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4"/>
                    </a:moveTo>
                    <a:lnTo>
                      <a:pt x="10" y="6"/>
                    </a:lnTo>
                    <a:lnTo>
                      <a:pt x="7" y="8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382080" y="4770360"/>
                <a:ext cx="185760" cy="129960"/>
              </a:xfrm>
              <a:custGeom>
                <a:avLst/>
                <a:gdLst/>
                <a:ahLst/>
                <a:rect l="l" t="t" r="r" b="b"/>
                <a:pathLst>
                  <a:path w="359" h="251">
                    <a:moveTo>
                      <a:pt x="359" y="8"/>
                    </a:moveTo>
                    <a:lnTo>
                      <a:pt x="183" y="127"/>
                    </a:lnTo>
                    <a:lnTo>
                      <a:pt x="62" y="210"/>
                    </a:lnTo>
                    <a:lnTo>
                      <a:pt x="7" y="251"/>
                    </a:lnTo>
                    <a:lnTo>
                      <a:pt x="0" y="243"/>
                    </a:lnTo>
                    <a:lnTo>
                      <a:pt x="55" y="202"/>
                    </a:lnTo>
                    <a:lnTo>
                      <a:pt x="177" y="119"/>
                    </a:lnTo>
                    <a:lnTo>
                      <a:pt x="352" y="0"/>
                    </a:lnTo>
                    <a:lnTo>
                      <a:pt x="35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564600" y="4770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374160" y="4825800"/>
                <a:ext cx="12600" cy="73080"/>
              </a:xfrm>
              <a:custGeom>
                <a:avLst/>
                <a:gdLst/>
                <a:ahLst/>
                <a:rect l="l" t="t" r="r" b="b"/>
                <a:pathLst>
                  <a:path w="24" h="141">
                    <a:moveTo>
                      <a:pt x="15" y="141"/>
                    </a:moveTo>
                    <a:lnTo>
                      <a:pt x="11" y="122"/>
                    </a:lnTo>
                    <a:lnTo>
                      <a:pt x="7" y="74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74"/>
                    </a:lnTo>
                    <a:lnTo>
                      <a:pt x="20" y="122"/>
                    </a:lnTo>
                    <a:lnTo>
                      <a:pt x="24" y="139"/>
                    </a:lnTo>
                    <a:lnTo>
                      <a:pt x="15" y="14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382080" y="48956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8" y="8"/>
                    </a:moveTo>
                    <a:lnTo>
                      <a:pt x="1" y="13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374160" y="479556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70" h="64">
                    <a:moveTo>
                      <a:pt x="0" y="56"/>
                    </a:moveTo>
                    <a:lnTo>
                      <a:pt x="7" y="64"/>
                    </a:lnTo>
                    <a:lnTo>
                      <a:pt x="70" y="8"/>
                    </a:lnTo>
                    <a:lnTo>
                      <a:pt x="6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374160" y="48258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8" y="8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407280" y="4794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500880" y="460188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75" h="95">
                    <a:moveTo>
                      <a:pt x="75" y="73"/>
                    </a:moveTo>
                    <a:lnTo>
                      <a:pt x="9" y="95"/>
                    </a:lnTo>
                    <a:lnTo>
                      <a:pt x="0" y="20"/>
                    </a:lnTo>
                    <a:lnTo>
                      <a:pt x="41" y="0"/>
                    </a:lnTo>
                    <a:lnTo>
                      <a:pt x="75" y="7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504120" y="4638600"/>
                <a:ext cx="36720" cy="15840"/>
              </a:xfrm>
              <a:custGeom>
                <a:avLst/>
                <a:gdLst/>
                <a:ahLst/>
                <a:rect l="l" t="t" r="r" b="b"/>
                <a:pathLst>
                  <a:path w="72" h="32">
                    <a:moveTo>
                      <a:pt x="72" y="9"/>
                    </a:moveTo>
                    <a:lnTo>
                      <a:pt x="66" y="0"/>
                    </a:lnTo>
                    <a:lnTo>
                      <a:pt x="0" y="22"/>
                    </a:lnTo>
                    <a:lnTo>
                      <a:pt x="6" y="32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497640" y="46130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9" h="78">
                    <a:moveTo>
                      <a:pt x="10" y="78"/>
                    </a:moveTo>
                    <a:lnTo>
                      <a:pt x="19" y="75"/>
                    </a:lnTo>
                    <a:lnTo>
                      <a:pt x="10" y="0"/>
                    </a:lnTo>
                    <a:lnTo>
                      <a:pt x="0" y="3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504120" y="4649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10"/>
                    </a:moveTo>
                    <a:lnTo>
                      <a:pt x="1" y="12"/>
                    </a:lnTo>
                    <a:lnTo>
                      <a:pt x="0" y="6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499440" y="460044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0"/>
                    </a:moveTo>
                    <a:lnTo>
                      <a:pt x="5" y="29"/>
                    </a:lnTo>
                    <a:lnTo>
                      <a:pt x="46" y="10"/>
                    </a:lnTo>
                    <a:lnTo>
                      <a:pt x="41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497640" y="4611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8" y="9"/>
                    </a:lnTo>
                    <a:lnTo>
                      <a:pt x="1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518520" y="460188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44" h="78">
                    <a:moveTo>
                      <a:pt x="10" y="0"/>
                    </a:moveTo>
                    <a:lnTo>
                      <a:pt x="0" y="5"/>
                    </a:lnTo>
                    <a:lnTo>
                      <a:pt x="35" y="78"/>
                    </a:lnTo>
                    <a:lnTo>
                      <a:pt x="44" y="7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518520" y="45990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3" y="2"/>
                    </a:moveTo>
                    <a:lnTo>
                      <a:pt x="8" y="0"/>
                    </a:lnTo>
                    <a:lnTo>
                      <a:pt x="10" y="4"/>
                    </a:lnTo>
                    <a:lnTo>
                      <a:pt x="0" y="9"/>
                    </a:lnTo>
                    <a:lnTo>
                      <a:pt x="8" y="1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537600" y="463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1"/>
                    </a:moveTo>
                    <a:lnTo>
                      <a:pt x="11" y="8"/>
                    </a:lnTo>
                    <a:lnTo>
                      <a:pt x="8" y="9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031160" y="408780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145" h="155">
                    <a:moveTo>
                      <a:pt x="145" y="76"/>
                    </a:moveTo>
                    <a:lnTo>
                      <a:pt x="144" y="75"/>
                    </a:lnTo>
                    <a:lnTo>
                      <a:pt x="57" y="155"/>
                    </a:lnTo>
                    <a:lnTo>
                      <a:pt x="0" y="83"/>
                    </a:lnTo>
                    <a:lnTo>
                      <a:pt x="49" y="26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35" y="0"/>
                    </a:lnTo>
                    <a:lnTo>
                      <a:pt x="144" y="75"/>
                    </a:lnTo>
                    <a:lnTo>
                      <a:pt x="145" y="7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104240" y="4124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1" y="9"/>
                    </a:moveTo>
                    <a:lnTo>
                      <a:pt x="8" y="1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058160" y="4124160"/>
                <a:ext cx="49320" cy="44640"/>
              </a:xfrm>
              <a:custGeom>
                <a:avLst/>
                <a:gdLst/>
                <a:ahLst/>
                <a:rect l="l" t="t" r="r" b="b"/>
                <a:pathLst>
                  <a:path w="94" h="88">
                    <a:moveTo>
                      <a:pt x="94" y="8"/>
                    </a:moveTo>
                    <a:lnTo>
                      <a:pt x="87" y="0"/>
                    </a:lnTo>
                    <a:lnTo>
                      <a:pt x="0" y="80"/>
                    </a:lnTo>
                    <a:lnTo>
                      <a:pt x="7" y="88"/>
                    </a:lnTo>
                    <a:lnTo>
                      <a:pt x="9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104240" y="4122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11"/>
                    </a:lnTo>
                    <a:lnTo>
                      <a:pt x="0" y="1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029720" y="412884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65" h="79">
                    <a:moveTo>
                      <a:pt x="57" y="79"/>
                    </a:moveTo>
                    <a:lnTo>
                      <a:pt x="65" y="73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058160" y="416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3" y="12"/>
                    </a:lnTo>
                    <a:lnTo>
                      <a:pt x="0" y="8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029720" y="4100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57" h="63">
                    <a:moveTo>
                      <a:pt x="0" y="56"/>
                    </a:moveTo>
                    <a:lnTo>
                      <a:pt x="8" y="63"/>
                    </a:lnTo>
                    <a:lnTo>
                      <a:pt x="57" y="6"/>
                    </a:lnTo>
                    <a:lnTo>
                      <a:pt x="4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027920" y="41288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2" y="7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047000" y="40878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4" y="32"/>
                    </a:moveTo>
                    <a:lnTo>
                      <a:pt x="22" y="26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053480" y="41004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6"/>
                    </a:moveTo>
                    <a:lnTo>
                      <a:pt x="11" y="3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045560" y="40860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8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7" y="12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047000" y="4084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045560" y="40860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8" y="12"/>
                    </a:lnTo>
                    <a:lnTo>
                      <a:pt x="11" y="7"/>
                    </a:lnTo>
                    <a:lnTo>
                      <a:pt x="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45560" y="408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0" y="1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048800" y="408600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5" y="0"/>
                    </a:moveTo>
                    <a:lnTo>
                      <a:pt x="0" y="9"/>
                    </a:lnTo>
                    <a:lnTo>
                      <a:pt x="109" y="84"/>
                    </a:lnTo>
                    <a:lnTo>
                      <a:pt x="115" y="7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047000" y="4084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2" y="0"/>
                    </a:lnTo>
                    <a:lnTo>
                      <a:pt x="6" y="3"/>
                    </a:lnTo>
                    <a:lnTo>
                      <a:pt x="1" y="12"/>
                    </a:lnTo>
                    <a:lnTo>
                      <a:pt x="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104240" y="4124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0" y="9"/>
                    </a:lnTo>
                    <a:lnTo>
                      <a:pt x="2" y="11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104240" y="4124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104240" y="4124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10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939000" y="4147920"/>
                <a:ext cx="87480" cy="103320"/>
              </a:xfrm>
              <a:custGeom>
                <a:avLst/>
                <a:gdLst/>
                <a:ahLst/>
                <a:rect l="l" t="t" r="r" b="b"/>
                <a:pathLst>
                  <a:path w="169" h="201">
                    <a:moveTo>
                      <a:pt x="107" y="178"/>
                    </a:moveTo>
                    <a:lnTo>
                      <a:pt x="85" y="201"/>
                    </a:lnTo>
                    <a:lnTo>
                      <a:pt x="0" y="62"/>
                    </a:lnTo>
                    <a:lnTo>
                      <a:pt x="89" y="0"/>
                    </a:lnTo>
                    <a:lnTo>
                      <a:pt x="169" y="98"/>
                    </a:lnTo>
                    <a:lnTo>
                      <a:pt x="107" y="17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981840" y="42368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7"/>
                    </a:moveTo>
                    <a:lnTo>
                      <a:pt x="22" y="0"/>
                    </a:lnTo>
                    <a:lnTo>
                      <a:pt x="0" y="24"/>
                    </a:lnTo>
                    <a:lnTo>
                      <a:pt x="8" y="30"/>
                    </a:lnTo>
                    <a:lnTo>
                      <a:pt x="3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936120" y="4176720"/>
                <a:ext cx="48960" cy="75960"/>
              </a:xfrm>
              <a:custGeom>
                <a:avLst/>
                <a:gdLst/>
                <a:ahLst/>
                <a:rect l="l" t="t" r="r" b="b"/>
                <a:pathLst>
                  <a:path w="93" h="146">
                    <a:moveTo>
                      <a:pt x="85" y="146"/>
                    </a:moveTo>
                    <a:lnTo>
                      <a:pt x="93" y="140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85" y="14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981840" y="42494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6"/>
                    </a:moveTo>
                    <a:lnTo>
                      <a:pt x="2" y="12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937560" y="4144680"/>
                <a:ext cx="49320" cy="36720"/>
              </a:xfrm>
              <a:custGeom>
                <a:avLst/>
                <a:gdLst/>
                <a:ahLst/>
                <a:rect l="l" t="t" r="r" b="b"/>
                <a:pathLst>
                  <a:path w="93" h="71">
                    <a:moveTo>
                      <a:pt x="0" y="62"/>
                    </a:moveTo>
                    <a:lnTo>
                      <a:pt x="5" y="71"/>
                    </a:lnTo>
                    <a:lnTo>
                      <a:pt x="93" y="9"/>
                    </a:lnTo>
                    <a:lnTo>
                      <a:pt x="88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936120" y="41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7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10" y="1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983640" y="4146480"/>
                <a:ext cx="44280" cy="54000"/>
              </a:xfrm>
              <a:custGeom>
                <a:avLst/>
                <a:gdLst/>
                <a:ahLst/>
                <a:rect l="l" t="t" r="r" b="b"/>
                <a:pathLst>
                  <a:path w="88" h="105">
                    <a:moveTo>
                      <a:pt x="8" y="0"/>
                    </a:moveTo>
                    <a:lnTo>
                      <a:pt x="0" y="6"/>
                    </a:lnTo>
                    <a:lnTo>
                      <a:pt x="80" y="105"/>
                    </a:lnTo>
                    <a:lnTo>
                      <a:pt x="88" y="9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983640" y="4143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1" y="3"/>
                    </a:moveTo>
                    <a:lnTo>
                      <a:pt x="5" y="0"/>
                    </a:lnTo>
                    <a:lnTo>
                      <a:pt x="8" y="4"/>
                    </a:lnTo>
                    <a:lnTo>
                      <a:pt x="0" y="10"/>
                    </a:lnTo>
                    <a:lnTo>
                      <a:pt x="6" y="1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991560" y="419724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70" h="86">
                    <a:moveTo>
                      <a:pt x="70" y="6"/>
                    </a:moveTo>
                    <a:lnTo>
                      <a:pt x="62" y="0"/>
                    </a:lnTo>
                    <a:lnTo>
                      <a:pt x="0" y="79"/>
                    </a:lnTo>
                    <a:lnTo>
                      <a:pt x="8" y="8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025040" y="419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0"/>
                    </a:moveTo>
                    <a:lnTo>
                      <a:pt x="11" y="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991560" y="4236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0" y="0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993000" y="4192560"/>
                <a:ext cx="165240" cy="91800"/>
              </a:xfrm>
              <a:custGeom>
                <a:avLst/>
                <a:gdLst/>
                <a:ahLst/>
                <a:rect l="l" t="t" r="r" b="b"/>
                <a:pathLst>
                  <a:path w="317" h="176">
                    <a:moveTo>
                      <a:pt x="0" y="131"/>
                    </a:moveTo>
                    <a:lnTo>
                      <a:pt x="37" y="93"/>
                    </a:lnTo>
                    <a:lnTo>
                      <a:pt x="57" y="79"/>
                    </a:lnTo>
                    <a:lnTo>
                      <a:pt x="67" y="93"/>
                    </a:lnTo>
                    <a:lnTo>
                      <a:pt x="81" y="108"/>
                    </a:lnTo>
                    <a:lnTo>
                      <a:pt x="86" y="116"/>
                    </a:lnTo>
                    <a:lnTo>
                      <a:pt x="90" y="119"/>
                    </a:lnTo>
                    <a:lnTo>
                      <a:pt x="92" y="120"/>
                    </a:lnTo>
                    <a:lnTo>
                      <a:pt x="95" y="122"/>
                    </a:lnTo>
                    <a:lnTo>
                      <a:pt x="98" y="123"/>
                    </a:lnTo>
                    <a:lnTo>
                      <a:pt x="99" y="122"/>
                    </a:lnTo>
                    <a:lnTo>
                      <a:pt x="102" y="120"/>
                    </a:lnTo>
                    <a:lnTo>
                      <a:pt x="108" y="114"/>
                    </a:lnTo>
                    <a:lnTo>
                      <a:pt x="120" y="100"/>
                    </a:lnTo>
                    <a:lnTo>
                      <a:pt x="152" y="69"/>
                    </a:lnTo>
                    <a:lnTo>
                      <a:pt x="195" y="27"/>
                    </a:lnTo>
                    <a:lnTo>
                      <a:pt x="218" y="49"/>
                    </a:lnTo>
                    <a:lnTo>
                      <a:pt x="245" y="0"/>
                    </a:lnTo>
                    <a:lnTo>
                      <a:pt x="317" y="46"/>
                    </a:lnTo>
                    <a:lnTo>
                      <a:pt x="273" y="90"/>
                    </a:lnTo>
                    <a:lnTo>
                      <a:pt x="239" y="70"/>
                    </a:lnTo>
                    <a:lnTo>
                      <a:pt x="129" y="176"/>
                    </a:lnTo>
                    <a:lnTo>
                      <a:pt x="89" y="136"/>
                    </a:lnTo>
                    <a:lnTo>
                      <a:pt x="30" y="169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991560" y="4238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38"/>
                    </a:moveTo>
                    <a:lnTo>
                      <a:pt x="7" y="46"/>
                    </a:lnTo>
                    <a:lnTo>
                      <a:pt x="44" y="7"/>
                    </a:lnTo>
                    <a:lnTo>
                      <a:pt x="37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010640" y="423072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5"/>
                    </a:moveTo>
                    <a:lnTo>
                      <a:pt x="7" y="22"/>
                    </a:lnTo>
                    <a:lnTo>
                      <a:pt x="26" y="8"/>
                    </a:lnTo>
                    <a:lnTo>
                      <a:pt x="2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010640" y="4238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021800" y="423072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8" y="0"/>
                    </a:moveTo>
                    <a:lnTo>
                      <a:pt x="30" y="31"/>
                    </a:lnTo>
                    <a:lnTo>
                      <a:pt x="42" y="41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50" y="50"/>
                    </a:lnTo>
                    <a:lnTo>
                      <a:pt x="46" y="52"/>
                    </a:lnTo>
                    <a:lnTo>
                      <a:pt x="37" y="50"/>
                    </a:lnTo>
                    <a:lnTo>
                      <a:pt x="22" y="37"/>
                    </a:lnTo>
                    <a:lnTo>
                      <a:pt x="0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021800" y="42289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3"/>
                    </a:moveTo>
                    <a:lnTo>
                      <a:pt x="4" y="0"/>
                    </a:lnTo>
                    <a:lnTo>
                      <a:pt x="8" y="4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043760" y="42051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102" h="101">
                    <a:moveTo>
                      <a:pt x="0" y="93"/>
                    </a:moveTo>
                    <a:lnTo>
                      <a:pt x="52" y="42"/>
                    </a:lnTo>
                    <a:lnTo>
                      <a:pt x="95" y="0"/>
                    </a:lnTo>
                    <a:lnTo>
                      <a:pt x="102" y="8"/>
                    </a:lnTo>
                    <a:lnTo>
                      <a:pt x="58" y="50"/>
                    </a:lnTo>
                    <a:lnTo>
                      <a:pt x="7" y="10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043760" y="4252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093080" y="4205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8" y="0"/>
                    </a:moveTo>
                    <a:lnTo>
                      <a:pt x="0" y="7"/>
                    </a:lnTo>
                    <a:lnTo>
                      <a:pt x="21" y="28"/>
                    </a:lnTo>
                    <a:lnTo>
                      <a:pt x="29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093080" y="4203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8" y="5"/>
                    </a:lnTo>
                    <a:lnTo>
                      <a:pt x="0" y="12"/>
                    </a:lnTo>
                    <a:lnTo>
                      <a:pt x="7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104240" y="419256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47"/>
                    </a:moveTo>
                    <a:lnTo>
                      <a:pt x="8" y="54"/>
                    </a:lnTo>
                    <a:lnTo>
                      <a:pt x="37" y="6"/>
                    </a:lnTo>
                    <a:lnTo>
                      <a:pt x="29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04240" y="4216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7"/>
                    </a:moveTo>
                    <a:lnTo>
                      <a:pt x="6" y="12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118640" y="41907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75" h="56">
                    <a:moveTo>
                      <a:pt x="5" y="0"/>
                    </a:moveTo>
                    <a:lnTo>
                      <a:pt x="0" y="9"/>
                    </a:lnTo>
                    <a:lnTo>
                      <a:pt x="70" y="56"/>
                    </a:lnTo>
                    <a:lnTo>
                      <a:pt x="75" y="4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118640" y="4189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4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2" y="11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132680" y="421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6"/>
                    </a:moveTo>
                    <a:lnTo>
                      <a:pt x="42" y="0"/>
                    </a:lnTo>
                    <a:lnTo>
                      <a:pt x="0" y="43"/>
                    </a:lnTo>
                    <a:lnTo>
                      <a:pt x="8" y="50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55000" y="4214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7" y="0"/>
                    </a:moveTo>
                    <a:lnTo>
                      <a:pt x="12" y="4"/>
                    </a:lnTo>
                    <a:lnTo>
                      <a:pt x="8" y="8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115400" y="422748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35" y="28"/>
                    </a:moveTo>
                    <a:lnTo>
                      <a:pt x="40" y="20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132680" y="4236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8"/>
                    </a:moveTo>
                    <a:lnTo>
                      <a:pt x="5" y="10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058160" y="422892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119" h="113">
                    <a:moveTo>
                      <a:pt x="119" y="7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8" y="113"/>
                    </a:lnTo>
                    <a:lnTo>
                      <a:pt x="119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115400" y="4227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6" y="1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8" y="9"/>
                    </a:lnTo>
                    <a:lnTo>
                      <a:pt x="1" y="9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039080" y="4260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39" y="48"/>
                    </a:moveTo>
                    <a:lnTo>
                      <a:pt x="46" y="40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39" y="4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058160" y="4282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8"/>
                    </a:moveTo>
                    <a:lnTo>
                      <a:pt x="4" y="12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007400" y="4260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4" y="8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6" y="41"/>
                    </a:lnTo>
                    <a:lnTo>
                      <a:pt x="6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39080" y="4259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3"/>
                    </a:moveTo>
                    <a:lnTo>
                      <a:pt x="4" y="0"/>
                    </a:lnTo>
                    <a:lnTo>
                      <a:pt x="0" y="3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991560" y="425916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31" y="45"/>
                    </a:moveTo>
                    <a:lnTo>
                      <a:pt x="38" y="38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31" y="4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007400" y="42782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8"/>
                    </a:moveTo>
                    <a:lnTo>
                      <a:pt x="2" y="11"/>
                    </a:lnTo>
                    <a:lnTo>
                      <a:pt x="0" y="8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990120" y="42591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4" y="8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11" y="8"/>
                    </a:lnTo>
                    <a:lnTo>
                      <a:pt x="12" y="1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616800" y="4338360"/>
                <a:ext cx="317520" cy="149400"/>
              </a:xfrm>
              <a:custGeom>
                <a:avLst/>
                <a:gdLst/>
                <a:ahLst/>
                <a:rect l="l" t="t" r="r" b="b"/>
                <a:pathLst>
                  <a:path w="617" h="289">
                    <a:moveTo>
                      <a:pt x="579" y="0"/>
                    </a:moveTo>
                    <a:lnTo>
                      <a:pt x="617" y="37"/>
                    </a:lnTo>
                    <a:lnTo>
                      <a:pt x="468" y="284"/>
                    </a:lnTo>
                    <a:lnTo>
                      <a:pt x="0" y="289"/>
                    </a:lnTo>
                    <a:lnTo>
                      <a:pt x="7" y="235"/>
                    </a:lnTo>
                    <a:lnTo>
                      <a:pt x="8" y="244"/>
                    </a:lnTo>
                    <a:lnTo>
                      <a:pt x="40" y="244"/>
                    </a:lnTo>
                    <a:lnTo>
                      <a:pt x="111" y="243"/>
                    </a:lnTo>
                    <a:lnTo>
                      <a:pt x="148" y="242"/>
                    </a:lnTo>
                    <a:lnTo>
                      <a:pt x="182" y="239"/>
                    </a:lnTo>
                    <a:lnTo>
                      <a:pt x="206" y="238"/>
                    </a:lnTo>
                    <a:lnTo>
                      <a:pt x="213" y="236"/>
                    </a:lnTo>
                    <a:lnTo>
                      <a:pt x="217" y="235"/>
                    </a:lnTo>
                    <a:lnTo>
                      <a:pt x="217" y="231"/>
                    </a:lnTo>
                    <a:lnTo>
                      <a:pt x="218" y="229"/>
                    </a:lnTo>
                    <a:lnTo>
                      <a:pt x="218" y="225"/>
                    </a:lnTo>
                    <a:lnTo>
                      <a:pt x="218" y="221"/>
                    </a:lnTo>
                    <a:lnTo>
                      <a:pt x="217" y="211"/>
                    </a:lnTo>
                    <a:lnTo>
                      <a:pt x="292" y="206"/>
                    </a:lnTo>
                    <a:lnTo>
                      <a:pt x="292" y="226"/>
                    </a:lnTo>
                    <a:lnTo>
                      <a:pt x="356" y="229"/>
                    </a:lnTo>
                    <a:lnTo>
                      <a:pt x="355" y="226"/>
                    </a:lnTo>
                    <a:lnTo>
                      <a:pt x="355" y="221"/>
                    </a:lnTo>
                    <a:lnTo>
                      <a:pt x="356" y="217"/>
                    </a:lnTo>
                    <a:lnTo>
                      <a:pt x="356" y="214"/>
                    </a:lnTo>
                    <a:lnTo>
                      <a:pt x="358" y="213"/>
                    </a:lnTo>
                    <a:lnTo>
                      <a:pt x="360" y="211"/>
                    </a:lnTo>
                    <a:lnTo>
                      <a:pt x="398" y="214"/>
                    </a:lnTo>
                    <a:lnTo>
                      <a:pt x="402" y="218"/>
                    </a:lnTo>
                    <a:lnTo>
                      <a:pt x="410" y="226"/>
                    </a:lnTo>
                    <a:lnTo>
                      <a:pt x="416" y="231"/>
                    </a:lnTo>
                    <a:lnTo>
                      <a:pt x="421" y="234"/>
                    </a:lnTo>
                    <a:lnTo>
                      <a:pt x="424" y="235"/>
                    </a:lnTo>
                    <a:lnTo>
                      <a:pt x="426" y="235"/>
                    </a:lnTo>
                    <a:lnTo>
                      <a:pt x="428" y="235"/>
                    </a:lnTo>
                    <a:lnTo>
                      <a:pt x="430" y="235"/>
                    </a:lnTo>
                    <a:lnTo>
                      <a:pt x="435" y="231"/>
                    </a:lnTo>
                    <a:lnTo>
                      <a:pt x="442" y="226"/>
                    </a:lnTo>
                    <a:lnTo>
                      <a:pt x="455" y="213"/>
                    </a:lnTo>
                    <a:lnTo>
                      <a:pt x="471" y="196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913800" y="433836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8" y="0"/>
                    </a:moveTo>
                    <a:lnTo>
                      <a:pt x="0" y="6"/>
                    </a:lnTo>
                    <a:lnTo>
                      <a:pt x="38" y="43"/>
                    </a:lnTo>
                    <a:lnTo>
                      <a:pt x="46" y="3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856560" y="4356000"/>
                <a:ext cx="79560" cy="130320"/>
              </a:xfrm>
              <a:custGeom>
                <a:avLst/>
                <a:gdLst/>
                <a:ahLst/>
                <a:rect l="l" t="t" r="r" b="b"/>
                <a:pathLst>
                  <a:path w="158" h="252">
                    <a:moveTo>
                      <a:pt x="158" y="5"/>
                    </a:moveTo>
                    <a:lnTo>
                      <a:pt x="149" y="0"/>
                    </a:lnTo>
                    <a:lnTo>
                      <a:pt x="0" y="246"/>
                    </a:lnTo>
                    <a:lnTo>
                      <a:pt x="9" y="252"/>
                    </a:lnTo>
                    <a:lnTo>
                      <a:pt x="15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931080" y="43560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9" y="0"/>
                    </a:moveTo>
                    <a:lnTo>
                      <a:pt x="12" y="1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616800" y="4481280"/>
                <a:ext cx="241200" cy="9720"/>
              </a:xfrm>
              <a:custGeom>
                <a:avLst/>
                <a:gdLst/>
                <a:ahLst/>
                <a:rect l="l" t="t" r="r" b="b"/>
                <a:pathLst>
                  <a:path w="468" h="16">
                    <a:moveTo>
                      <a:pt x="468" y="10"/>
                    </a:moveTo>
                    <a:lnTo>
                      <a:pt x="468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46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856560" y="4481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8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615360" y="445932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16" h="57">
                    <a:moveTo>
                      <a:pt x="0" y="54"/>
                    </a:moveTo>
                    <a:lnTo>
                      <a:pt x="9" y="57"/>
                    </a:lnTo>
                    <a:lnTo>
                      <a:pt x="16" y="2"/>
                    </a:lnTo>
                    <a:lnTo>
                      <a:pt x="7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613560" y="4484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11"/>
                    </a:moveTo>
                    <a:lnTo>
                      <a:pt x="0" y="11"/>
                    </a:lnTo>
                    <a:lnTo>
                      <a:pt x="1" y="4"/>
                    </a:lnTo>
                    <a:lnTo>
                      <a:pt x="10" y="7"/>
                    </a:lnTo>
                    <a:lnTo>
                      <a:pt x="6" y="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618600" y="44607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0" y="0"/>
                    </a:moveTo>
                    <a:lnTo>
                      <a:pt x="0" y="1"/>
                    </a:lnTo>
                    <a:lnTo>
                      <a:pt x="1" y="11"/>
                    </a:lnTo>
                    <a:lnTo>
                      <a:pt x="11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618600" y="44593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10" y="1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621480" y="4457520"/>
                <a:ext cx="108000" cy="9720"/>
              </a:xfrm>
              <a:custGeom>
                <a:avLst/>
                <a:gdLst/>
                <a:ahLst/>
                <a:rect l="l" t="t" r="r" b="b"/>
                <a:pathLst>
                  <a:path w="209" h="20">
                    <a:moveTo>
                      <a:pt x="0" y="9"/>
                    </a:moveTo>
                    <a:lnTo>
                      <a:pt x="103" y="6"/>
                    </a:lnTo>
                    <a:lnTo>
                      <a:pt x="174" y="4"/>
                    </a:lnTo>
                    <a:lnTo>
                      <a:pt x="207" y="0"/>
                    </a:lnTo>
                    <a:lnTo>
                      <a:pt x="209" y="10"/>
                    </a:lnTo>
                    <a:lnTo>
                      <a:pt x="174" y="14"/>
                    </a:lnTo>
                    <a:lnTo>
                      <a:pt x="103" y="17"/>
                    </a:lnTo>
                    <a:lnTo>
                      <a:pt x="0" y="2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618600" y="4462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1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724800" y="44463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12" h="28">
                    <a:moveTo>
                      <a:pt x="0" y="24"/>
                    </a:moveTo>
                    <a:lnTo>
                      <a:pt x="3" y="17"/>
                    </a:lnTo>
                    <a:lnTo>
                      <a:pt x="3" y="11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2" y="11"/>
                    </a:lnTo>
                    <a:lnTo>
                      <a:pt x="12" y="20"/>
                    </a:lnTo>
                    <a:lnTo>
                      <a:pt x="9" y="2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724800" y="4457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728040" y="4441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77" h="16">
                    <a:moveTo>
                      <a:pt x="0" y="5"/>
                    </a:moveTo>
                    <a:lnTo>
                      <a:pt x="0" y="16"/>
                    </a:lnTo>
                    <a:lnTo>
                      <a:pt x="77" y="10"/>
                    </a:lnTo>
                    <a:lnTo>
                      <a:pt x="7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724800" y="44449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11"/>
                    </a:lnTo>
                    <a:lnTo>
                      <a:pt x="1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764400" y="44416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11" y="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767640" y="445284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0"/>
                    </a:moveTo>
                    <a:lnTo>
                      <a:pt x="0" y="10"/>
                    </a:lnTo>
                    <a:lnTo>
                      <a:pt x="64" y="13"/>
                    </a:lnTo>
                    <a:lnTo>
                      <a:pt x="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764400" y="4452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797880" y="44449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" y="22"/>
                    </a:moveTo>
                    <a:lnTo>
                      <a:pt x="0" y="14"/>
                    </a:lnTo>
                    <a:lnTo>
                      <a:pt x="1" y="4"/>
                    </a:lnTo>
                    <a:lnTo>
                      <a:pt x="6" y="0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9" y="14"/>
                    </a:lnTo>
                    <a:lnTo>
                      <a:pt x="10" y="22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797880" y="4454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5" y="11"/>
                    </a:moveTo>
                    <a:lnTo>
                      <a:pt x="9" y="11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802560" y="444492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8" y="3"/>
                    </a:lnTo>
                    <a:lnTo>
                      <a:pt x="38" y="13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801120" y="44449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820200" y="44481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7" y="0"/>
                    </a:moveTo>
                    <a:lnTo>
                      <a:pt x="18" y="11"/>
                    </a:lnTo>
                    <a:lnTo>
                      <a:pt x="27" y="19"/>
                    </a:lnTo>
                    <a:lnTo>
                      <a:pt x="30" y="19"/>
                    </a:lnTo>
                    <a:lnTo>
                      <a:pt x="35" y="19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2" y="28"/>
                    </a:lnTo>
                    <a:lnTo>
                      <a:pt x="11" y="19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820200" y="44463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0"/>
                    </a:moveTo>
                    <a:lnTo>
                      <a:pt x="5" y="0"/>
                    </a:lnTo>
                    <a:lnTo>
                      <a:pt x="7" y="2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836040" y="443700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39"/>
                    </a:moveTo>
                    <a:lnTo>
                      <a:pt x="12" y="30"/>
                    </a:lnTo>
                    <a:lnTo>
                      <a:pt x="25" y="17"/>
                    </a:lnTo>
                    <a:lnTo>
                      <a:pt x="41" y="0"/>
                    </a:lnTo>
                    <a:lnTo>
                      <a:pt x="48" y="8"/>
                    </a:lnTo>
                    <a:lnTo>
                      <a:pt x="32" y="25"/>
                    </a:lnTo>
                    <a:lnTo>
                      <a:pt x="19" y="38"/>
                    </a:lnTo>
                    <a:lnTo>
                      <a:pt x="7" y="4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836040" y="4457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0"/>
                    </a:moveTo>
                    <a:lnTo>
                      <a:pt x="7" y="9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858000" y="4338360"/>
                <a:ext cx="60480" cy="103320"/>
              </a:xfrm>
              <a:custGeom>
                <a:avLst/>
                <a:gdLst/>
                <a:ahLst/>
                <a:rect l="l" t="t" r="r" b="b"/>
                <a:pathLst>
                  <a:path w="116" h="202">
                    <a:moveTo>
                      <a:pt x="0" y="195"/>
                    </a:moveTo>
                    <a:lnTo>
                      <a:pt x="8" y="202"/>
                    </a:lnTo>
                    <a:lnTo>
                      <a:pt x="116" y="6"/>
                    </a:lnTo>
                    <a:lnTo>
                      <a:pt x="108" y="0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858000" y="443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8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>
              <a:off x="2880" y="2671920"/>
              <a:ext cx="25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cc00"/>
                  </a:solidFill>
                  <a:latin typeface="Arial"/>
                </a:rPr>
                <a:t>Areas Urbanizables 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0" y="2995920"/>
              <a:ext cx="64008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058080" y="3368520"/>
            <a:ext cx="6120" cy="180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0" y="2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6068880" y="3200400"/>
            <a:ext cx="504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0"/>
                </a:lnTo>
                <a:lnTo>
                  <a:pt x="0" y="2"/>
                </a:lnTo>
                <a:lnTo>
                  <a:pt x="1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035760" y="3481560"/>
            <a:ext cx="61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058080" y="3392640"/>
            <a:ext cx="612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0" y="0"/>
                </a:lnTo>
                <a:lnTo>
                  <a:pt x="0" y="2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888160" y="3362400"/>
            <a:ext cx="6120" cy="324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2"/>
                </a:moveTo>
                <a:lnTo>
                  <a:pt x="10" y="0"/>
                </a:lnTo>
                <a:lnTo>
                  <a:pt x="0" y="6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850000" y="3208320"/>
            <a:ext cx="6120" cy="4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850000" y="3213000"/>
            <a:ext cx="6120" cy="1800"/>
          </a:xfrm>
          <a:custGeom>
            <a:avLst/>
            <a:gdLst/>
            <a:ahLst/>
            <a:rect l="l" t="t" r="r" b="b"/>
            <a:pathLst>
              <a:path w="11" h="0">
                <a:moveTo>
                  <a:pt x="9" y="0"/>
                </a:moveTo>
                <a:lnTo>
                  <a:pt x="11" y="0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191280" y="3075120"/>
            <a:ext cx="6480" cy="85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583240" y="3046320"/>
            <a:ext cx="6480" cy="129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583240" y="3046320"/>
            <a:ext cx="648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0" y="0"/>
                </a:lnTo>
                <a:lnTo>
                  <a:pt x="0" y="1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595840" y="3092400"/>
            <a:ext cx="5040" cy="180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343480" y="3060720"/>
            <a:ext cx="4680" cy="4680"/>
          </a:xfrm>
          <a:custGeom>
            <a:avLst/>
            <a:gdLst/>
            <a:ahLst/>
            <a:rect l="l" t="t" r="r" b="b"/>
            <a:pathLst>
              <a:path w="10" h="7">
                <a:moveTo>
                  <a:pt x="2" y="7"/>
                </a:moveTo>
                <a:lnTo>
                  <a:pt x="0" y="6"/>
                </a:lnTo>
                <a:lnTo>
                  <a:pt x="10" y="0"/>
                </a:lnTo>
                <a:lnTo>
                  <a:pt x="2" y="7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299200" y="3141720"/>
            <a:ext cx="15840" cy="32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332320" y="3316320"/>
            <a:ext cx="71640" cy="64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143680" y="3179880"/>
            <a:ext cx="2880" cy="28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2" y="3"/>
                </a:lnTo>
                <a:lnTo>
                  <a:pt x="5" y="0"/>
                </a:lnTo>
                <a:lnTo>
                  <a:pt x="0" y="6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354640" y="3559320"/>
            <a:ext cx="1440" cy="6120"/>
          </a:xfrm>
          <a:custGeom>
            <a:avLst/>
            <a:gdLst/>
            <a:ahLst/>
            <a:rect l="l" t="t" r="r" b="b"/>
            <a:pathLst>
              <a:path w="0" h="10">
                <a:moveTo>
                  <a:pt x="0" y="10"/>
                </a:moveTo>
                <a:lnTo>
                  <a:pt x="0" y="0"/>
                </a:lnTo>
                <a:lnTo>
                  <a:pt x="0" y="1"/>
                </a:lnTo>
                <a:lnTo>
                  <a:pt x="0" y="1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315040" y="3887640"/>
            <a:ext cx="6120" cy="25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15040" y="3735360"/>
            <a:ext cx="612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9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292720" y="3487680"/>
            <a:ext cx="648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254560" y="3551400"/>
            <a:ext cx="648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016600" y="3525840"/>
            <a:ext cx="4680" cy="32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2"/>
                </a:moveTo>
                <a:lnTo>
                  <a:pt x="7" y="0"/>
                </a:lnTo>
                <a:lnTo>
                  <a:pt x="0" y="8"/>
                </a:lnTo>
                <a:lnTo>
                  <a:pt x="8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164200" y="336384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1" y="0"/>
                </a:moveTo>
                <a:lnTo>
                  <a:pt x="0" y="10"/>
                </a:lnTo>
                <a:lnTo>
                  <a:pt x="1" y="10"/>
                </a:lnTo>
                <a:lnTo>
                  <a:pt x="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199120" y="3551400"/>
            <a:ext cx="3240" cy="468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8"/>
                </a:moveTo>
                <a:lnTo>
                  <a:pt x="1" y="9"/>
                </a:lnTo>
                <a:lnTo>
                  <a:pt x="6" y="0"/>
                </a:lnTo>
                <a:lnTo>
                  <a:pt x="0" y="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5219640" y="3416400"/>
            <a:ext cx="6480" cy="144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286240" y="3394080"/>
            <a:ext cx="180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048200" y="5745240"/>
            <a:ext cx="612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700680" y="3967200"/>
            <a:ext cx="6480" cy="20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756480" y="4282920"/>
            <a:ext cx="468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262560" y="4694400"/>
            <a:ext cx="3240" cy="4680"/>
          </a:xfrm>
          <a:custGeom>
            <a:avLst/>
            <a:gdLst/>
            <a:ahLst/>
            <a:rect l="l" t="t" r="r" b="b"/>
            <a:pathLst>
              <a:path w="6" h="9">
                <a:moveTo>
                  <a:pt x="6" y="9"/>
                </a:moveTo>
                <a:lnTo>
                  <a:pt x="4" y="9"/>
                </a:lnTo>
                <a:lnTo>
                  <a:pt x="0" y="0"/>
                </a:lnTo>
                <a:lnTo>
                  <a:pt x="6" y="9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067360" y="4481640"/>
            <a:ext cx="4680" cy="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149960" y="4778280"/>
            <a:ext cx="5040" cy="111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186680" y="4724280"/>
            <a:ext cx="3240" cy="158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600880" y="3068640"/>
            <a:ext cx="6120" cy="2052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411880" y="3141720"/>
            <a:ext cx="6120" cy="237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472000" y="2986200"/>
            <a:ext cx="19080" cy="32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194440" y="4662360"/>
            <a:ext cx="4680" cy="1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194440" y="4662360"/>
            <a:ext cx="4680" cy="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095800" y="4829040"/>
            <a:ext cx="6480" cy="3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632640" y="4506840"/>
            <a:ext cx="4680" cy="4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746760" y="4278240"/>
            <a:ext cx="5040" cy="11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667640" y="2514600"/>
            <a:ext cx="6480" cy="3240"/>
          </a:xfrm>
          <a:prstGeom prst="rect">
            <a:avLst/>
          </a:prstGeom>
          <a:solidFill>
            <a:srgbClr val="8db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537320" y="5637240"/>
            <a:ext cx="5040" cy="1584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0" y="29"/>
                </a:lnTo>
                <a:lnTo>
                  <a:pt x="1" y="29"/>
                </a:lnTo>
                <a:lnTo>
                  <a:pt x="9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861160" y="6342120"/>
            <a:ext cx="3240" cy="14400"/>
          </a:xfrm>
          <a:custGeom>
            <a:avLst/>
            <a:gdLst/>
            <a:ahLst/>
            <a:rect l="l" t="t" r="r" b="b"/>
            <a:pathLst>
              <a:path w="6" h="28">
                <a:moveTo>
                  <a:pt x="6" y="0"/>
                </a:moveTo>
                <a:lnTo>
                  <a:pt x="1" y="28"/>
                </a:lnTo>
                <a:lnTo>
                  <a:pt x="0" y="28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438800" y="6076800"/>
            <a:ext cx="10800" cy="11160"/>
          </a:xfrm>
          <a:custGeom>
            <a:avLst/>
            <a:gdLst/>
            <a:ahLst/>
            <a:rect l="l" t="t" r="r" b="b"/>
            <a:pathLst>
              <a:path w="20" h="21">
                <a:moveTo>
                  <a:pt x="20" y="0"/>
                </a:moveTo>
                <a:lnTo>
                  <a:pt x="0" y="21"/>
                </a:lnTo>
                <a:lnTo>
                  <a:pt x="0" y="20"/>
                </a:lnTo>
                <a:lnTo>
                  <a:pt x="2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397400" y="6291360"/>
            <a:ext cx="15840" cy="4680"/>
          </a:xfrm>
          <a:custGeom>
            <a:avLst/>
            <a:gdLst/>
            <a:ahLst/>
            <a:rect l="l" t="t" r="r" b="b"/>
            <a:pathLst>
              <a:path w="29" h="7">
                <a:moveTo>
                  <a:pt x="0" y="7"/>
                </a:moveTo>
                <a:lnTo>
                  <a:pt x="29" y="1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127480" y="5245200"/>
            <a:ext cx="12960" cy="792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24" y="17"/>
                </a:lnTo>
                <a:lnTo>
                  <a:pt x="24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7621560" y="2384280"/>
            <a:ext cx="11160" cy="111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0" y="20"/>
                </a:lnTo>
                <a:lnTo>
                  <a:pt x="1" y="21"/>
                </a:lnTo>
                <a:lnTo>
                  <a:pt x="22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230800" y="443556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318280" y="4802040"/>
            <a:ext cx="1440" cy="64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11"/>
                </a:moveTo>
                <a:lnTo>
                  <a:pt x="1" y="11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375160" y="4492800"/>
            <a:ext cx="1800" cy="4680"/>
          </a:xfrm>
          <a:custGeom>
            <a:avLst/>
            <a:gdLst/>
            <a:ahLst/>
            <a:rect l="l" t="t" r="r" b="b"/>
            <a:pathLst>
              <a:path w="5" h="9">
                <a:moveTo>
                  <a:pt x="5" y="9"/>
                </a:moveTo>
                <a:lnTo>
                  <a:pt x="4" y="9"/>
                </a:lnTo>
                <a:lnTo>
                  <a:pt x="0" y="0"/>
                </a:lnTo>
                <a:lnTo>
                  <a:pt x="5" y="9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261040" y="4545000"/>
            <a:ext cx="468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11" y="1"/>
                </a:lnTo>
                <a:lnTo>
                  <a:pt x="11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253120" y="4581360"/>
            <a:ext cx="4680" cy="180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079960" y="4748040"/>
            <a:ext cx="9720" cy="6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684840" y="4870440"/>
            <a:ext cx="6480" cy="324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0"/>
                </a:moveTo>
                <a:lnTo>
                  <a:pt x="11" y="1"/>
                </a:lnTo>
                <a:lnTo>
                  <a:pt x="1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589800" y="4881600"/>
            <a:ext cx="4680" cy="20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423200" y="5335560"/>
            <a:ext cx="12600" cy="46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446960" y="5502240"/>
            <a:ext cx="6480" cy="15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434360" y="4727520"/>
            <a:ext cx="612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1"/>
                </a:moveTo>
                <a:lnTo>
                  <a:pt x="0" y="0"/>
                </a:lnTo>
                <a:lnTo>
                  <a:pt x="0" y="1"/>
                </a:lnTo>
                <a:lnTo>
                  <a:pt x="11" y="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048200" y="6121440"/>
            <a:ext cx="9360" cy="7920"/>
          </a:xfrm>
          <a:custGeom>
            <a:avLst/>
            <a:gdLst/>
            <a:ahLst/>
            <a:rect l="l" t="t" r="r" b="b"/>
            <a:pathLst>
              <a:path w="16" h="17">
                <a:moveTo>
                  <a:pt x="8" y="0"/>
                </a:moveTo>
                <a:lnTo>
                  <a:pt x="16" y="10"/>
                </a:lnTo>
                <a:lnTo>
                  <a:pt x="8" y="17"/>
                </a:lnTo>
                <a:lnTo>
                  <a:pt x="0" y="6"/>
                </a:lnTo>
                <a:lnTo>
                  <a:pt x="8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048200" y="6111720"/>
            <a:ext cx="9360" cy="16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8" y="33"/>
                </a:moveTo>
                <a:lnTo>
                  <a:pt x="17" y="30"/>
                </a:lnTo>
                <a:lnTo>
                  <a:pt x="9" y="0"/>
                </a:lnTo>
                <a:lnTo>
                  <a:pt x="0" y="3"/>
                </a:lnTo>
                <a:lnTo>
                  <a:pt x="8" y="3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052880" y="6126120"/>
            <a:ext cx="4680" cy="3240"/>
          </a:xfrm>
          <a:custGeom>
            <a:avLst/>
            <a:gdLst/>
            <a:ahLst/>
            <a:rect l="l" t="t" r="r" b="b"/>
            <a:pathLst>
              <a:path w="9" h="7">
                <a:moveTo>
                  <a:pt x="1" y="7"/>
                </a:moveTo>
                <a:lnTo>
                  <a:pt x="9" y="1"/>
                </a:lnTo>
                <a:lnTo>
                  <a:pt x="0" y="4"/>
                </a:lnTo>
                <a:lnTo>
                  <a:pt x="9" y="0"/>
                </a:lnTo>
                <a:lnTo>
                  <a:pt x="1" y="7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048200" y="6111720"/>
            <a:ext cx="6120" cy="1800"/>
          </a:xfrm>
          <a:custGeom>
            <a:avLst/>
            <a:gdLst/>
            <a:ahLst/>
            <a:rect l="l" t="t" r="r" b="b"/>
            <a:pathLst>
              <a:path w="11" h="3">
                <a:moveTo>
                  <a:pt x="9" y="0"/>
                </a:moveTo>
                <a:lnTo>
                  <a:pt x="0" y="1"/>
                </a:lnTo>
                <a:lnTo>
                  <a:pt x="11" y="1"/>
                </a:lnTo>
                <a:lnTo>
                  <a:pt x="0" y="3"/>
                </a:lnTo>
                <a:lnTo>
                  <a:pt x="9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048200" y="6121440"/>
            <a:ext cx="6120" cy="324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2"/>
                </a:moveTo>
                <a:lnTo>
                  <a:pt x="0" y="5"/>
                </a:lnTo>
                <a:lnTo>
                  <a:pt x="1" y="6"/>
                </a:lnTo>
                <a:lnTo>
                  <a:pt x="9" y="0"/>
                </a:lnTo>
                <a:lnTo>
                  <a:pt x="11" y="2"/>
                </a:lnTo>
                <a:lnTo>
                  <a:pt x="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0" y="1071720"/>
            <a:ext cx="8437680" cy="5084640"/>
            <a:chOff x="0" y="1071720"/>
            <a:chExt cx="8437680" cy="5084640"/>
          </a:xfrm>
        </p:grpSpPr>
        <p:grpSp>
          <p:nvGrpSpPr>
            <p:cNvPr id="2024" name=""/>
            <p:cNvGrpSpPr/>
            <p:nvPr/>
          </p:nvGrpSpPr>
          <p:grpSpPr>
            <a:xfrm>
              <a:off x="4332240" y="1071720"/>
              <a:ext cx="4105440" cy="5084640"/>
              <a:chOff x="4332240" y="1071720"/>
              <a:chExt cx="4105440" cy="5084640"/>
            </a:xfrm>
          </p:grpSpPr>
          <p:sp>
            <p:nvSpPr>
              <p:cNvPr id="2025" name=""/>
              <p:cNvSpPr/>
              <p:nvPr/>
            </p:nvSpPr>
            <p:spPr>
              <a:xfrm>
                <a:off x="5851440" y="3284640"/>
                <a:ext cx="343080" cy="531720"/>
              </a:xfrm>
              <a:custGeom>
                <a:avLst/>
                <a:gdLst/>
                <a:ahLst/>
                <a:rect l="l" t="t" r="r" b="b"/>
                <a:pathLst>
                  <a:path w="664" h="1031">
                    <a:moveTo>
                      <a:pt x="473" y="374"/>
                    </a:moveTo>
                    <a:lnTo>
                      <a:pt x="460" y="381"/>
                    </a:lnTo>
                    <a:lnTo>
                      <a:pt x="448" y="389"/>
                    </a:lnTo>
                    <a:lnTo>
                      <a:pt x="436" y="396"/>
                    </a:lnTo>
                    <a:lnTo>
                      <a:pt x="431" y="402"/>
                    </a:lnTo>
                    <a:lnTo>
                      <a:pt x="427" y="406"/>
                    </a:lnTo>
                    <a:lnTo>
                      <a:pt x="423" y="411"/>
                    </a:lnTo>
                    <a:lnTo>
                      <a:pt x="419" y="416"/>
                    </a:lnTo>
                    <a:lnTo>
                      <a:pt x="415" y="423"/>
                    </a:lnTo>
                    <a:lnTo>
                      <a:pt x="413" y="429"/>
                    </a:lnTo>
                    <a:lnTo>
                      <a:pt x="411" y="436"/>
                    </a:lnTo>
                    <a:lnTo>
                      <a:pt x="410" y="443"/>
                    </a:lnTo>
                    <a:lnTo>
                      <a:pt x="409" y="451"/>
                    </a:lnTo>
                    <a:lnTo>
                      <a:pt x="409" y="458"/>
                    </a:lnTo>
                    <a:lnTo>
                      <a:pt x="409" y="465"/>
                    </a:lnTo>
                    <a:lnTo>
                      <a:pt x="409" y="472"/>
                    </a:lnTo>
                    <a:lnTo>
                      <a:pt x="411" y="482"/>
                    </a:lnTo>
                    <a:lnTo>
                      <a:pt x="418" y="503"/>
                    </a:lnTo>
                    <a:lnTo>
                      <a:pt x="422" y="514"/>
                    </a:lnTo>
                    <a:lnTo>
                      <a:pt x="423" y="519"/>
                    </a:lnTo>
                    <a:lnTo>
                      <a:pt x="424" y="524"/>
                    </a:lnTo>
                    <a:lnTo>
                      <a:pt x="427" y="536"/>
                    </a:lnTo>
                    <a:lnTo>
                      <a:pt x="427" y="543"/>
                    </a:lnTo>
                    <a:lnTo>
                      <a:pt x="427" y="549"/>
                    </a:lnTo>
                    <a:lnTo>
                      <a:pt x="427" y="568"/>
                    </a:lnTo>
                    <a:lnTo>
                      <a:pt x="426" y="576"/>
                    </a:lnTo>
                    <a:lnTo>
                      <a:pt x="424" y="585"/>
                    </a:lnTo>
                    <a:lnTo>
                      <a:pt x="422" y="601"/>
                    </a:lnTo>
                    <a:lnTo>
                      <a:pt x="418" y="617"/>
                    </a:lnTo>
                    <a:lnTo>
                      <a:pt x="413" y="631"/>
                    </a:lnTo>
                    <a:lnTo>
                      <a:pt x="407" y="646"/>
                    </a:lnTo>
                    <a:lnTo>
                      <a:pt x="395" y="673"/>
                    </a:lnTo>
                    <a:lnTo>
                      <a:pt x="384" y="702"/>
                    </a:lnTo>
                    <a:lnTo>
                      <a:pt x="378" y="717"/>
                    </a:lnTo>
                    <a:lnTo>
                      <a:pt x="373" y="731"/>
                    </a:lnTo>
                    <a:lnTo>
                      <a:pt x="369" y="747"/>
                    </a:lnTo>
                    <a:lnTo>
                      <a:pt x="365" y="763"/>
                    </a:lnTo>
                    <a:lnTo>
                      <a:pt x="364" y="772"/>
                    </a:lnTo>
                    <a:lnTo>
                      <a:pt x="364" y="780"/>
                    </a:lnTo>
                    <a:lnTo>
                      <a:pt x="362" y="799"/>
                    </a:lnTo>
                    <a:lnTo>
                      <a:pt x="364" y="808"/>
                    </a:lnTo>
                    <a:lnTo>
                      <a:pt x="365" y="816"/>
                    </a:lnTo>
                    <a:lnTo>
                      <a:pt x="366" y="824"/>
                    </a:lnTo>
                    <a:lnTo>
                      <a:pt x="370" y="832"/>
                    </a:lnTo>
                    <a:lnTo>
                      <a:pt x="373" y="840"/>
                    </a:lnTo>
                    <a:lnTo>
                      <a:pt x="377" y="846"/>
                    </a:lnTo>
                    <a:lnTo>
                      <a:pt x="385" y="861"/>
                    </a:lnTo>
                    <a:lnTo>
                      <a:pt x="394" y="874"/>
                    </a:lnTo>
                    <a:lnTo>
                      <a:pt x="398" y="880"/>
                    </a:lnTo>
                    <a:lnTo>
                      <a:pt x="401" y="888"/>
                    </a:lnTo>
                    <a:lnTo>
                      <a:pt x="403" y="896"/>
                    </a:lnTo>
                    <a:lnTo>
                      <a:pt x="406" y="904"/>
                    </a:lnTo>
                    <a:lnTo>
                      <a:pt x="407" y="912"/>
                    </a:lnTo>
                    <a:lnTo>
                      <a:pt x="409" y="921"/>
                    </a:lnTo>
                    <a:lnTo>
                      <a:pt x="407" y="928"/>
                    </a:lnTo>
                    <a:lnTo>
                      <a:pt x="407" y="933"/>
                    </a:lnTo>
                    <a:lnTo>
                      <a:pt x="406" y="937"/>
                    </a:lnTo>
                    <a:lnTo>
                      <a:pt x="403" y="941"/>
                    </a:lnTo>
                    <a:lnTo>
                      <a:pt x="398" y="948"/>
                    </a:lnTo>
                    <a:lnTo>
                      <a:pt x="394" y="950"/>
                    </a:lnTo>
                    <a:lnTo>
                      <a:pt x="391" y="953"/>
                    </a:lnTo>
                    <a:lnTo>
                      <a:pt x="382" y="957"/>
                    </a:lnTo>
                    <a:lnTo>
                      <a:pt x="372" y="960"/>
                    </a:lnTo>
                    <a:lnTo>
                      <a:pt x="361" y="961"/>
                    </a:lnTo>
                    <a:lnTo>
                      <a:pt x="349" y="962"/>
                    </a:lnTo>
                    <a:lnTo>
                      <a:pt x="324" y="964"/>
                    </a:lnTo>
                    <a:lnTo>
                      <a:pt x="311" y="964"/>
                    </a:lnTo>
                    <a:lnTo>
                      <a:pt x="298" y="966"/>
                    </a:lnTo>
                    <a:lnTo>
                      <a:pt x="286" y="969"/>
                    </a:lnTo>
                    <a:lnTo>
                      <a:pt x="274" y="971"/>
                    </a:lnTo>
                    <a:lnTo>
                      <a:pt x="267" y="974"/>
                    </a:lnTo>
                    <a:lnTo>
                      <a:pt x="262" y="977"/>
                    </a:lnTo>
                    <a:lnTo>
                      <a:pt x="253" y="983"/>
                    </a:lnTo>
                    <a:lnTo>
                      <a:pt x="248" y="987"/>
                    </a:lnTo>
                    <a:lnTo>
                      <a:pt x="244" y="993"/>
                    </a:lnTo>
                    <a:lnTo>
                      <a:pt x="241" y="982"/>
                    </a:lnTo>
                    <a:lnTo>
                      <a:pt x="237" y="971"/>
                    </a:lnTo>
                    <a:lnTo>
                      <a:pt x="233" y="962"/>
                    </a:lnTo>
                    <a:lnTo>
                      <a:pt x="228" y="954"/>
                    </a:lnTo>
                    <a:lnTo>
                      <a:pt x="221" y="946"/>
                    </a:lnTo>
                    <a:lnTo>
                      <a:pt x="215" y="941"/>
                    </a:lnTo>
                    <a:lnTo>
                      <a:pt x="209" y="938"/>
                    </a:lnTo>
                    <a:lnTo>
                      <a:pt x="205" y="936"/>
                    </a:lnTo>
                    <a:lnTo>
                      <a:pt x="200" y="935"/>
                    </a:lnTo>
                    <a:lnTo>
                      <a:pt x="195" y="932"/>
                    </a:lnTo>
                    <a:lnTo>
                      <a:pt x="195" y="944"/>
                    </a:lnTo>
                    <a:lnTo>
                      <a:pt x="198" y="956"/>
                    </a:lnTo>
                    <a:lnTo>
                      <a:pt x="199" y="966"/>
                    </a:lnTo>
                    <a:lnTo>
                      <a:pt x="203" y="975"/>
                    </a:lnTo>
                    <a:lnTo>
                      <a:pt x="205" y="985"/>
                    </a:lnTo>
                    <a:lnTo>
                      <a:pt x="211" y="994"/>
                    </a:lnTo>
                    <a:lnTo>
                      <a:pt x="217" y="1002"/>
                    </a:lnTo>
                    <a:lnTo>
                      <a:pt x="224" y="1011"/>
                    </a:lnTo>
                    <a:lnTo>
                      <a:pt x="212" y="1022"/>
                    </a:lnTo>
                    <a:lnTo>
                      <a:pt x="207" y="1027"/>
                    </a:lnTo>
                    <a:lnTo>
                      <a:pt x="199" y="1031"/>
                    </a:lnTo>
                    <a:lnTo>
                      <a:pt x="103" y="1010"/>
                    </a:lnTo>
                    <a:lnTo>
                      <a:pt x="99" y="975"/>
                    </a:lnTo>
                    <a:lnTo>
                      <a:pt x="95" y="937"/>
                    </a:lnTo>
                    <a:lnTo>
                      <a:pt x="92" y="919"/>
                    </a:lnTo>
                    <a:lnTo>
                      <a:pt x="88" y="902"/>
                    </a:lnTo>
                    <a:lnTo>
                      <a:pt x="84" y="883"/>
                    </a:lnTo>
                    <a:lnTo>
                      <a:pt x="78" y="867"/>
                    </a:lnTo>
                    <a:lnTo>
                      <a:pt x="72" y="854"/>
                    </a:lnTo>
                    <a:lnTo>
                      <a:pt x="66" y="842"/>
                    </a:lnTo>
                    <a:lnTo>
                      <a:pt x="59" y="830"/>
                    </a:lnTo>
                    <a:lnTo>
                      <a:pt x="53" y="820"/>
                    </a:lnTo>
                    <a:lnTo>
                      <a:pt x="27" y="779"/>
                    </a:lnTo>
                    <a:lnTo>
                      <a:pt x="22" y="770"/>
                    </a:lnTo>
                    <a:lnTo>
                      <a:pt x="17" y="759"/>
                    </a:lnTo>
                    <a:lnTo>
                      <a:pt x="12" y="749"/>
                    </a:lnTo>
                    <a:lnTo>
                      <a:pt x="8" y="737"/>
                    </a:lnTo>
                    <a:lnTo>
                      <a:pt x="5" y="726"/>
                    </a:lnTo>
                    <a:lnTo>
                      <a:pt x="2" y="713"/>
                    </a:lnTo>
                    <a:lnTo>
                      <a:pt x="0" y="701"/>
                    </a:lnTo>
                    <a:lnTo>
                      <a:pt x="0" y="687"/>
                    </a:lnTo>
                    <a:lnTo>
                      <a:pt x="0" y="656"/>
                    </a:lnTo>
                    <a:lnTo>
                      <a:pt x="1" y="630"/>
                    </a:lnTo>
                    <a:lnTo>
                      <a:pt x="2" y="603"/>
                    </a:lnTo>
                    <a:lnTo>
                      <a:pt x="2" y="573"/>
                    </a:lnTo>
                    <a:lnTo>
                      <a:pt x="2" y="563"/>
                    </a:lnTo>
                    <a:lnTo>
                      <a:pt x="10" y="561"/>
                    </a:lnTo>
                    <a:lnTo>
                      <a:pt x="17" y="560"/>
                    </a:lnTo>
                    <a:lnTo>
                      <a:pt x="24" y="556"/>
                    </a:lnTo>
                    <a:lnTo>
                      <a:pt x="27" y="552"/>
                    </a:lnTo>
                    <a:lnTo>
                      <a:pt x="31" y="547"/>
                    </a:lnTo>
                    <a:lnTo>
                      <a:pt x="34" y="540"/>
                    </a:lnTo>
                    <a:lnTo>
                      <a:pt x="37" y="534"/>
                    </a:lnTo>
                    <a:lnTo>
                      <a:pt x="38" y="526"/>
                    </a:lnTo>
                    <a:lnTo>
                      <a:pt x="39" y="518"/>
                    </a:lnTo>
                    <a:lnTo>
                      <a:pt x="39" y="510"/>
                    </a:lnTo>
                    <a:lnTo>
                      <a:pt x="39" y="491"/>
                    </a:lnTo>
                    <a:lnTo>
                      <a:pt x="39" y="456"/>
                    </a:lnTo>
                    <a:lnTo>
                      <a:pt x="38" y="451"/>
                    </a:lnTo>
                    <a:lnTo>
                      <a:pt x="37" y="444"/>
                    </a:lnTo>
                    <a:lnTo>
                      <a:pt x="34" y="439"/>
                    </a:lnTo>
                    <a:lnTo>
                      <a:pt x="30" y="435"/>
                    </a:lnTo>
                    <a:lnTo>
                      <a:pt x="27" y="429"/>
                    </a:lnTo>
                    <a:lnTo>
                      <a:pt x="25" y="424"/>
                    </a:lnTo>
                    <a:lnTo>
                      <a:pt x="22" y="419"/>
                    </a:lnTo>
                    <a:lnTo>
                      <a:pt x="22" y="412"/>
                    </a:lnTo>
                    <a:lnTo>
                      <a:pt x="22" y="408"/>
                    </a:lnTo>
                    <a:lnTo>
                      <a:pt x="24" y="406"/>
                    </a:lnTo>
                    <a:lnTo>
                      <a:pt x="26" y="399"/>
                    </a:lnTo>
                    <a:lnTo>
                      <a:pt x="30" y="394"/>
                    </a:lnTo>
                    <a:lnTo>
                      <a:pt x="34" y="387"/>
                    </a:lnTo>
                    <a:lnTo>
                      <a:pt x="51" y="374"/>
                    </a:lnTo>
                    <a:lnTo>
                      <a:pt x="59" y="366"/>
                    </a:lnTo>
                    <a:lnTo>
                      <a:pt x="67" y="358"/>
                    </a:lnTo>
                    <a:lnTo>
                      <a:pt x="74" y="350"/>
                    </a:lnTo>
                    <a:lnTo>
                      <a:pt x="79" y="341"/>
                    </a:lnTo>
                    <a:lnTo>
                      <a:pt x="82" y="336"/>
                    </a:lnTo>
                    <a:lnTo>
                      <a:pt x="83" y="331"/>
                    </a:lnTo>
                    <a:lnTo>
                      <a:pt x="84" y="325"/>
                    </a:lnTo>
                    <a:lnTo>
                      <a:pt x="84" y="319"/>
                    </a:lnTo>
                    <a:lnTo>
                      <a:pt x="84" y="313"/>
                    </a:lnTo>
                    <a:lnTo>
                      <a:pt x="83" y="307"/>
                    </a:lnTo>
                    <a:lnTo>
                      <a:pt x="80" y="296"/>
                    </a:lnTo>
                    <a:lnTo>
                      <a:pt x="76" y="287"/>
                    </a:lnTo>
                    <a:lnTo>
                      <a:pt x="75" y="282"/>
                    </a:lnTo>
                    <a:lnTo>
                      <a:pt x="72" y="278"/>
                    </a:lnTo>
                    <a:lnTo>
                      <a:pt x="66" y="269"/>
                    </a:lnTo>
                    <a:lnTo>
                      <a:pt x="59" y="261"/>
                    </a:lnTo>
                    <a:lnTo>
                      <a:pt x="45" y="245"/>
                    </a:lnTo>
                    <a:lnTo>
                      <a:pt x="31" y="229"/>
                    </a:lnTo>
                    <a:lnTo>
                      <a:pt x="25" y="220"/>
                    </a:lnTo>
                    <a:lnTo>
                      <a:pt x="18" y="212"/>
                    </a:lnTo>
                    <a:lnTo>
                      <a:pt x="16" y="207"/>
                    </a:lnTo>
                    <a:lnTo>
                      <a:pt x="13" y="203"/>
                    </a:lnTo>
                    <a:lnTo>
                      <a:pt x="9" y="192"/>
                    </a:lnTo>
                    <a:lnTo>
                      <a:pt x="8" y="187"/>
                    </a:lnTo>
                    <a:lnTo>
                      <a:pt x="8" y="181"/>
                    </a:lnTo>
                    <a:lnTo>
                      <a:pt x="6" y="176"/>
                    </a:lnTo>
                    <a:lnTo>
                      <a:pt x="6" y="170"/>
                    </a:lnTo>
                    <a:lnTo>
                      <a:pt x="6" y="159"/>
                    </a:lnTo>
                    <a:lnTo>
                      <a:pt x="8" y="149"/>
                    </a:lnTo>
                    <a:lnTo>
                      <a:pt x="10" y="139"/>
                    </a:lnTo>
                    <a:lnTo>
                      <a:pt x="13" y="131"/>
                    </a:lnTo>
                    <a:lnTo>
                      <a:pt x="16" y="123"/>
                    </a:lnTo>
                    <a:lnTo>
                      <a:pt x="20" y="116"/>
                    </a:lnTo>
                    <a:lnTo>
                      <a:pt x="25" y="109"/>
                    </a:lnTo>
                    <a:lnTo>
                      <a:pt x="30" y="102"/>
                    </a:lnTo>
                    <a:lnTo>
                      <a:pt x="37" y="97"/>
                    </a:lnTo>
                    <a:lnTo>
                      <a:pt x="42" y="92"/>
                    </a:lnTo>
                    <a:lnTo>
                      <a:pt x="50" y="88"/>
                    </a:lnTo>
                    <a:lnTo>
                      <a:pt x="58" y="84"/>
                    </a:lnTo>
                    <a:lnTo>
                      <a:pt x="74" y="76"/>
                    </a:lnTo>
                    <a:lnTo>
                      <a:pt x="92" y="71"/>
                    </a:lnTo>
                    <a:lnTo>
                      <a:pt x="103" y="77"/>
                    </a:lnTo>
                    <a:lnTo>
                      <a:pt x="112" y="85"/>
                    </a:lnTo>
                    <a:lnTo>
                      <a:pt x="132" y="100"/>
                    </a:lnTo>
                    <a:lnTo>
                      <a:pt x="150" y="113"/>
                    </a:lnTo>
                    <a:lnTo>
                      <a:pt x="169" y="126"/>
                    </a:lnTo>
                    <a:lnTo>
                      <a:pt x="179" y="131"/>
                    </a:lnTo>
                    <a:lnTo>
                      <a:pt x="188" y="137"/>
                    </a:lnTo>
                    <a:lnTo>
                      <a:pt x="199" y="141"/>
                    </a:lnTo>
                    <a:lnTo>
                      <a:pt x="209" y="145"/>
                    </a:lnTo>
                    <a:lnTo>
                      <a:pt x="221" y="149"/>
                    </a:lnTo>
                    <a:lnTo>
                      <a:pt x="233" y="151"/>
                    </a:lnTo>
                    <a:lnTo>
                      <a:pt x="245" y="152"/>
                    </a:lnTo>
                    <a:lnTo>
                      <a:pt x="258" y="152"/>
                    </a:lnTo>
                    <a:lnTo>
                      <a:pt x="256" y="167"/>
                    </a:lnTo>
                    <a:lnTo>
                      <a:pt x="253" y="181"/>
                    </a:lnTo>
                    <a:lnTo>
                      <a:pt x="252" y="195"/>
                    </a:lnTo>
                    <a:lnTo>
                      <a:pt x="250" y="211"/>
                    </a:lnTo>
                    <a:lnTo>
                      <a:pt x="265" y="216"/>
                    </a:lnTo>
                    <a:lnTo>
                      <a:pt x="279" y="222"/>
                    </a:lnTo>
                    <a:lnTo>
                      <a:pt x="293" y="228"/>
                    </a:lnTo>
                    <a:lnTo>
                      <a:pt x="304" y="236"/>
                    </a:lnTo>
                    <a:lnTo>
                      <a:pt x="316" y="242"/>
                    </a:lnTo>
                    <a:lnTo>
                      <a:pt x="328" y="251"/>
                    </a:lnTo>
                    <a:lnTo>
                      <a:pt x="351" y="270"/>
                    </a:lnTo>
                    <a:lnTo>
                      <a:pt x="356" y="245"/>
                    </a:lnTo>
                    <a:lnTo>
                      <a:pt x="362" y="224"/>
                    </a:lnTo>
                    <a:lnTo>
                      <a:pt x="369" y="204"/>
                    </a:lnTo>
                    <a:lnTo>
                      <a:pt x="377" y="185"/>
                    </a:lnTo>
                    <a:lnTo>
                      <a:pt x="384" y="166"/>
                    </a:lnTo>
                    <a:lnTo>
                      <a:pt x="390" y="146"/>
                    </a:lnTo>
                    <a:lnTo>
                      <a:pt x="397" y="125"/>
                    </a:lnTo>
                    <a:lnTo>
                      <a:pt x="398" y="113"/>
                    </a:lnTo>
                    <a:lnTo>
                      <a:pt x="401" y="101"/>
                    </a:lnTo>
                    <a:lnTo>
                      <a:pt x="418" y="100"/>
                    </a:lnTo>
                    <a:lnTo>
                      <a:pt x="434" y="98"/>
                    </a:lnTo>
                    <a:lnTo>
                      <a:pt x="448" y="97"/>
                    </a:lnTo>
                    <a:lnTo>
                      <a:pt x="463" y="93"/>
                    </a:lnTo>
                    <a:lnTo>
                      <a:pt x="476" y="88"/>
                    </a:lnTo>
                    <a:lnTo>
                      <a:pt x="482" y="84"/>
                    </a:lnTo>
                    <a:lnTo>
                      <a:pt x="488" y="80"/>
                    </a:lnTo>
                    <a:lnTo>
                      <a:pt x="494" y="76"/>
                    </a:lnTo>
                    <a:lnTo>
                      <a:pt x="501" y="71"/>
                    </a:lnTo>
                    <a:lnTo>
                      <a:pt x="506" y="65"/>
                    </a:lnTo>
                    <a:lnTo>
                      <a:pt x="511" y="59"/>
                    </a:lnTo>
                    <a:lnTo>
                      <a:pt x="500" y="50"/>
                    </a:lnTo>
                    <a:lnTo>
                      <a:pt x="489" y="39"/>
                    </a:lnTo>
                    <a:lnTo>
                      <a:pt x="480" y="29"/>
                    </a:lnTo>
                    <a:lnTo>
                      <a:pt x="469" y="17"/>
                    </a:lnTo>
                    <a:lnTo>
                      <a:pt x="484" y="26"/>
                    </a:lnTo>
                    <a:lnTo>
                      <a:pt x="497" y="34"/>
                    </a:lnTo>
                    <a:lnTo>
                      <a:pt x="522" y="51"/>
                    </a:lnTo>
                    <a:lnTo>
                      <a:pt x="534" y="58"/>
                    </a:lnTo>
                    <a:lnTo>
                      <a:pt x="547" y="63"/>
                    </a:lnTo>
                    <a:lnTo>
                      <a:pt x="555" y="64"/>
                    </a:lnTo>
                    <a:lnTo>
                      <a:pt x="562" y="65"/>
                    </a:lnTo>
                    <a:lnTo>
                      <a:pt x="569" y="67"/>
                    </a:lnTo>
                    <a:lnTo>
                      <a:pt x="579" y="67"/>
                    </a:lnTo>
                    <a:lnTo>
                      <a:pt x="584" y="67"/>
                    </a:lnTo>
                    <a:lnTo>
                      <a:pt x="589" y="65"/>
                    </a:lnTo>
                    <a:lnTo>
                      <a:pt x="595" y="63"/>
                    </a:lnTo>
                    <a:lnTo>
                      <a:pt x="598" y="60"/>
                    </a:lnTo>
                    <a:lnTo>
                      <a:pt x="602" y="58"/>
                    </a:lnTo>
                    <a:lnTo>
                      <a:pt x="605" y="54"/>
                    </a:lnTo>
                    <a:lnTo>
                      <a:pt x="610" y="44"/>
                    </a:lnTo>
                    <a:lnTo>
                      <a:pt x="616" y="34"/>
                    </a:lnTo>
                    <a:lnTo>
                      <a:pt x="620" y="22"/>
                    </a:lnTo>
                    <a:lnTo>
                      <a:pt x="625" y="11"/>
                    </a:lnTo>
                    <a:lnTo>
                      <a:pt x="630" y="0"/>
                    </a:lnTo>
                    <a:lnTo>
                      <a:pt x="664" y="9"/>
                    </a:lnTo>
                    <a:lnTo>
                      <a:pt x="664" y="178"/>
                    </a:lnTo>
                    <a:lnTo>
                      <a:pt x="643" y="199"/>
                    </a:lnTo>
                    <a:lnTo>
                      <a:pt x="622" y="216"/>
                    </a:lnTo>
                    <a:lnTo>
                      <a:pt x="602" y="232"/>
                    </a:lnTo>
                    <a:lnTo>
                      <a:pt x="583" y="246"/>
                    </a:lnTo>
                    <a:lnTo>
                      <a:pt x="563" y="259"/>
                    </a:lnTo>
                    <a:lnTo>
                      <a:pt x="542" y="274"/>
                    </a:lnTo>
                    <a:lnTo>
                      <a:pt x="494" y="303"/>
                    </a:lnTo>
                    <a:lnTo>
                      <a:pt x="501" y="316"/>
                    </a:lnTo>
                    <a:lnTo>
                      <a:pt x="505" y="328"/>
                    </a:lnTo>
                    <a:lnTo>
                      <a:pt x="509" y="340"/>
                    </a:lnTo>
                    <a:lnTo>
                      <a:pt x="511" y="353"/>
                    </a:lnTo>
                    <a:lnTo>
                      <a:pt x="492" y="362"/>
                    </a:lnTo>
                    <a:lnTo>
                      <a:pt x="482" y="367"/>
                    </a:lnTo>
                    <a:lnTo>
                      <a:pt x="473" y="37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6058080" y="34750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74" h="88">
                    <a:moveTo>
                      <a:pt x="74" y="8"/>
                    </a:moveTo>
                    <a:lnTo>
                      <a:pt x="47" y="22"/>
                    </a:lnTo>
                    <a:lnTo>
                      <a:pt x="29" y="40"/>
                    </a:lnTo>
                    <a:lnTo>
                      <a:pt x="21" y="49"/>
                    </a:lnTo>
                    <a:lnTo>
                      <a:pt x="15" y="61"/>
                    </a:lnTo>
                    <a:lnTo>
                      <a:pt x="12" y="73"/>
                    </a:lnTo>
                    <a:lnTo>
                      <a:pt x="11" y="88"/>
                    </a:lnTo>
                    <a:lnTo>
                      <a:pt x="0" y="88"/>
                    </a:lnTo>
                    <a:lnTo>
                      <a:pt x="1" y="71"/>
                    </a:lnTo>
                    <a:lnTo>
                      <a:pt x="5" y="57"/>
                    </a:lnTo>
                    <a:lnTo>
                      <a:pt x="12" y="44"/>
                    </a:lnTo>
                    <a:lnTo>
                      <a:pt x="21" y="33"/>
                    </a:lnTo>
                    <a:lnTo>
                      <a:pt x="41" y="15"/>
                    </a:lnTo>
                    <a:lnTo>
                      <a:pt x="67" y="0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6058080" y="3521160"/>
                <a:ext cx="15840" cy="47520"/>
              </a:xfrm>
              <a:custGeom>
                <a:avLst/>
                <a:gdLst/>
                <a:ahLst/>
                <a:rect l="l" t="t" r="r" b="b"/>
                <a:pathLst>
                  <a:path w="30" h="93">
                    <a:moveTo>
                      <a:pt x="11" y="0"/>
                    </a:moveTo>
                    <a:lnTo>
                      <a:pt x="15" y="23"/>
                    </a:lnTo>
                    <a:lnTo>
                      <a:pt x="21" y="44"/>
                    </a:lnTo>
                    <a:lnTo>
                      <a:pt x="28" y="65"/>
                    </a:lnTo>
                    <a:lnTo>
                      <a:pt x="30" y="91"/>
                    </a:lnTo>
                    <a:lnTo>
                      <a:pt x="20" y="93"/>
                    </a:lnTo>
                    <a:lnTo>
                      <a:pt x="17" y="68"/>
                    </a:lnTo>
                    <a:lnTo>
                      <a:pt x="11" y="4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6035760" y="3567240"/>
                <a:ext cx="38160" cy="128520"/>
              </a:xfrm>
              <a:custGeom>
                <a:avLst/>
                <a:gdLst/>
                <a:ahLst/>
                <a:rect l="l" t="t" r="r" b="b"/>
                <a:pathLst>
                  <a:path w="75" h="250">
                    <a:moveTo>
                      <a:pt x="75" y="0"/>
                    </a:moveTo>
                    <a:lnTo>
                      <a:pt x="73" y="36"/>
                    </a:lnTo>
                    <a:lnTo>
                      <a:pt x="66" y="69"/>
                    </a:lnTo>
                    <a:lnTo>
                      <a:pt x="42" y="127"/>
                    </a:lnTo>
                    <a:lnTo>
                      <a:pt x="21" y="184"/>
                    </a:lnTo>
                    <a:lnTo>
                      <a:pt x="13" y="214"/>
                    </a:lnTo>
                    <a:lnTo>
                      <a:pt x="11" y="250"/>
                    </a:lnTo>
                    <a:lnTo>
                      <a:pt x="0" y="250"/>
                    </a:lnTo>
                    <a:lnTo>
                      <a:pt x="3" y="214"/>
                    </a:lnTo>
                    <a:lnTo>
                      <a:pt x="11" y="181"/>
                    </a:lnTo>
                    <a:lnTo>
                      <a:pt x="33" y="123"/>
                    </a:lnTo>
                    <a:lnTo>
                      <a:pt x="56" y="66"/>
                    </a:lnTo>
                    <a:lnTo>
                      <a:pt x="62" y="35"/>
                    </a:lnTo>
                    <a:lnTo>
                      <a:pt x="6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035760" y="3695760"/>
                <a:ext cx="28440" cy="65160"/>
              </a:xfrm>
              <a:custGeom>
                <a:avLst/>
                <a:gdLst/>
                <a:ahLst/>
                <a:rect l="l" t="t" r="r" b="b"/>
                <a:pathLst>
                  <a:path w="56" h="124">
                    <a:moveTo>
                      <a:pt x="11" y="0"/>
                    </a:moveTo>
                    <a:lnTo>
                      <a:pt x="13" y="15"/>
                    </a:lnTo>
                    <a:lnTo>
                      <a:pt x="16" y="30"/>
                    </a:lnTo>
                    <a:lnTo>
                      <a:pt x="24" y="45"/>
                    </a:lnTo>
                    <a:lnTo>
                      <a:pt x="32" y="59"/>
                    </a:lnTo>
                    <a:lnTo>
                      <a:pt x="48" y="87"/>
                    </a:lnTo>
                    <a:lnTo>
                      <a:pt x="54" y="105"/>
                    </a:lnTo>
                    <a:lnTo>
                      <a:pt x="56" y="122"/>
                    </a:lnTo>
                    <a:lnTo>
                      <a:pt x="45" y="124"/>
                    </a:lnTo>
                    <a:lnTo>
                      <a:pt x="44" y="106"/>
                    </a:lnTo>
                    <a:lnTo>
                      <a:pt x="38" y="92"/>
                    </a:lnTo>
                    <a:lnTo>
                      <a:pt x="23" y="64"/>
                    </a:lnTo>
                    <a:lnTo>
                      <a:pt x="15" y="50"/>
                    </a:lnTo>
                    <a:lnTo>
                      <a:pt x="7" y="35"/>
                    </a:lnTo>
                    <a:lnTo>
                      <a:pt x="3" y="18"/>
                    </a:lnTo>
                    <a:lnTo>
                      <a:pt x="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979960" y="3759480"/>
                <a:ext cx="84240" cy="33120"/>
              </a:xfrm>
              <a:custGeom>
                <a:avLst/>
                <a:gdLst/>
                <a:ahLst/>
                <a:rect l="l" t="t" r="r" b="b"/>
                <a:pathLst>
                  <a:path w="164" h="66">
                    <a:moveTo>
                      <a:pt x="164" y="0"/>
                    </a:moveTo>
                    <a:lnTo>
                      <a:pt x="164" y="12"/>
                    </a:lnTo>
                    <a:lnTo>
                      <a:pt x="158" y="23"/>
                    </a:lnTo>
                    <a:lnTo>
                      <a:pt x="152" y="31"/>
                    </a:lnTo>
                    <a:lnTo>
                      <a:pt x="144" y="37"/>
                    </a:lnTo>
                    <a:lnTo>
                      <a:pt x="124" y="43"/>
                    </a:lnTo>
                    <a:lnTo>
                      <a:pt x="102" y="45"/>
                    </a:lnTo>
                    <a:lnTo>
                      <a:pt x="50" y="50"/>
                    </a:lnTo>
                    <a:lnTo>
                      <a:pt x="38" y="52"/>
                    </a:lnTo>
                    <a:lnTo>
                      <a:pt x="28" y="56"/>
                    </a:lnTo>
                    <a:lnTo>
                      <a:pt x="16" y="61"/>
                    </a:lnTo>
                    <a:lnTo>
                      <a:pt x="7" y="66"/>
                    </a:lnTo>
                    <a:lnTo>
                      <a:pt x="0" y="58"/>
                    </a:lnTo>
                    <a:lnTo>
                      <a:pt x="11" y="52"/>
                    </a:lnTo>
                    <a:lnTo>
                      <a:pt x="22" y="46"/>
                    </a:lnTo>
                    <a:lnTo>
                      <a:pt x="34" y="43"/>
                    </a:lnTo>
                    <a:lnTo>
                      <a:pt x="47" y="41"/>
                    </a:lnTo>
                    <a:lnTo>
                      <a:pt x="99" y="36"/>
                    </a:lnTo>
                    <a:lnTo>
                      <a:pt x="120" y="33"/>
                    </a:lnTo>
                    <a:lnTo>
                      <a:pt x="138" y="28"/>
                    </a:lnTo>
                    <a:lnTo>
                      <a:pt x="145" y="23"/>
                    </a:lnTo>
                    <a:lnTo>
                      <a:pt x="149" y="17"/>
                    </a:lnTo>
                    <a:lnTo>
                      <a:pt x="153" y="11"/>
                    </a:lnTo>
                    <a:lnTo>
                      <a:pt x="153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975280" y="3789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6"/>
                    </a:moveTo>
                    <a:lnTo>
                      <a:pt x="8" y="15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979960" y="37879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950080" y="3762360"/>
                <a:ext cx="28440" cy="3492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46" y="67"/>
                    </a:moveTo>
                    <a:lnTo>
                      <a:pt x="41" y="46"/>
                    </a:lnTo>
                    <a:lnTo>
                      <a:pt x="33" y="30"/>
                    </a:lnTo>
                    <a:lnTo>
                      <a:pt x="26" y="22"/>
                    </a:lnTo>
                    <a:lnTo>
                      <a:pt x="20" y="16"/>
                    </a:lnTo>
                    <a:lnTo>
                      <a:pt x="12" y="13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17" y="4"/>
                    </a:lnTo>
                    <a:lnTo>
                      <a:pt x="26" y="8"/>
                    </a:lnTo>
                    <a:lnTo>
                      <a:pt x="33" y="14"/>
                    </a:lnTo>
                    <a:lnTo>
                      <a:pt x="41" y="24"/>
                    </a:lnTo>
                    <a:lnTo>
                      <a:pt x="50" y="42"/>
                    </a:lnTo>
                    <a:lnTo>
                      <a:pt x="55" y="63"/>
                    </a:lnTo>
                    <a:lnTo>
                      <a:pt x="46" y="6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973840" y="37944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3" y="13"/>
                    </a:lnTo>
                    <a:lnTo>
                      <a:pt x="0" y="5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948280" y="376560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40" h="83">
                    <a:moveTo>
                      <a:pt x="11" y="0"/>
                    </a:moveTo>
                    <a:lnTo>
                      <a:pt x="15" y="24"/>
                    </a:lnTo>
                    <a:lnTo>
                      <a:pt x="17" y="41"/>
                    </a:lnTo>
                    <a:lnTo>
                      <a:pt x="27" y="58"/>
                    </a:lnTo>
                    <a:lnTo>
                      <a:pt x="40" y="76"/>
                    </a:lnTo>
                    <a:lnTo>
                      <a:pt x="32" y="83"/>
                    </a:lnTo>
                    <a:lnTo>
                      <a:pt x="17" y="63"/>
                    </a:lnTo>
                    <a:lnTo>
                      <a:pt x="8" y="46"/>
                    </a:lnTo>
                    <a:lnTo>
                      <a:pt x="4" y="25"/>
                    </a:lnTo>
                    <a:lnTo>
                      <a:pt x="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948280" y="376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8" y="3"/>
                    </a:moveTo>
                    <a:lnTo>
                      <a:pt x="0" y="0"/>
                    </a:lnTo>
                    <a:lnTo>
                      <a:pt x="1" y="8"/>
                    </a:lnTo>
                    <a:lnTo>
                      <a:pt x="12" y="7"/>
                    </a:lnTo>
                    <a:lnTo>
                      <a:pt x="4" y="12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951520" y="38037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8"/>
                    </a:moveTo>
                    <a:lnTo>
                      <a:pt x="20" y="18"/>
                    </a:lnTo>
                    <a:lnTo>
                      <a:pt x="7" y="28"/>
                    </a:lnTo>
                    <a:lnTo>
                      <a:pt x="0" y="20"/>
                    </a:lnTo>
                    <a:lnTo>
                      <a:pt x="13" y="11"/>
                    </a:lnTo>
                    <a:lnTo>
                      <a:pt x="25" y="0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965920" y="3803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8" y="1"/>
                    </a:moveTo>
                    <a:lnTo>
                      <a:pt x="11" y="4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904000" y="3802320"/>
                <a:ext cx="50760" cy="15840"/>
              </a:xfrm>
              <a:custGeom>
                <a:avLst/>
                <a:gdLst/>
                <a:ahLst/>
                <a:rect l="l" t="t" r="r" b="b"/>
                <a:pathLst>
                  <a:path w="99" h="30">
                    <a:moveTo>
                      <a:pt x="97" y="30"/>
                    </a:moveTo>
                    <a:lnTo>
                      <a:pt x="99" y="21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97" y="3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951520" y="38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8"/>
                    </a:moveTo>
                    <a:lnTo>
                      <a:pt x="4" y="9"/>
                    </a:lnTo>
                    <a:lnTo>
                      <a:pt x="3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888160" y="37292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35" h="145">
                    <a:moveTo>
                      <a:pt x="25" y="145"/>
                    </a:moveTo>
                    <a:lnTo>
                      <a:pt x="21" y="109"/>
                    </a:lnTo>
                    <a:lnTo>
                      <a:pt x="17" y="73"/>
                    </a:lnTo>
                    <a:lnTo>
                      <a:pt x="11" y="37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20" y="34"/>
                    </a:lnTo>
                    <a:lnTo>
                      <a:pt x="27" y="71"/>
                    </a:lnTo>
                    <a:lnTo>
                      <a:pt x="31" y="109"/>
                    </a:lnTo>
                    <a:lnTo>
                      <a:pt x="35" y="145"/>
                    </a:lnTo>
                    <a:lnTo>
                      <a:pt x="25" y="14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902200" y="3802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4" y="9"/>
                    </a:moveTo>
                    <a:lnTo>
                      <a:pt x="0" y="8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7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848200" y="3638520"/>
                <a:ext cx="46080" cy="93960"/>
              </a:xfrm>
              <a:custGeom>
                <a:avLst/>
                <a:gdLst/>
                <a:ahLst/>
                <a:rect l="l" t="t" r="r" b="b"/>
                <a:pathLst>
                  <a:path w="88" h="182">
                    <a:moveTo>
                      <a:pt x="78" y="182"/>
                    </a:moveTo>
                    <a:lnTo>
                      <a:pt x="66" y="158"/>
                    </a:lnTo>
                    <a:lnTo>
                      <a:pt x="55" y="137"/>
                    </a:lnTo>
                    <a:lnTo>
                      <a:pt x="30" y="96"/>
                    </a:lnTo>
                    <a:lnTo>
                      <a:pt x="18" y="75"/>
                    </a:lnTo>
                    <a:lnTo>
                      <a:pt x="8" y="52"/>
                    </a:lnTo>
                    <a:lnTo>
                      <a:pt x="3" y="2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2" y="25"/>
                    </a:lnTo>
                    <a:lnTo>
                      <a:pt x="18" y="48"/>
                    </a:lnTo>
                    <a:lnTo>
                      <a:pt x="27" y="69"/>
                    </a:lnTo>
                    <a:lnTo>
                      <a:pt x="37" y="89"/>
                    </a:lnTo>
                    <a:lnTo>
                      <a:pt x="62" y="130"/>
                    </a:lnTo>
                    <a:lnTo>
                      <a:pt x="76" y="153"/>
                    </a:lnTo>
                    <a:lnTo>
                      <a:pt x="88" y="176"/>
                    </a:lnTo>
                    <a:lnTo>
                      <a:pt x="78" y="18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848200" y="3579840"/>
                <a:ext cx="6480" cy="58680"/>
              </a:xfrm>
              <a:custGeom>
                <a:avLst/>
                <a:gdLst/>
                <a:ahLst/>
                <a:rect l="l" t="t" r="r" b="b"/>
                <a:pathLst>
                  <a:path w="12" h="114">
                    <a:moveTo>
                      <a:pt x="0" y="114"/>
                    </a:moveTo>
                    <a:lnTo>
                      <a:pt x="3" y="0"/>
                    </a:lnTo>
                    <a:lnTo>
                      <a:pt x="12" y="0"/>
                    </a:lnTo>
                    <a:lnTo>
                      <a:pt x="10" y="11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848200" y="363852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853240" y="3519720"/>
                <a:ext cx="21960" cy="56880"/>
              </a:xfrm>
              <a:custGeom>
                <a:avLst/>
                <a:gdLst/>
                <a:ahLst/>
                <a:rect l="l" t="t" r="r" b="b"/>
                <a:pathLst>
                  <a:path w="43" h="112">
                    <a:moveTo>
                      <a:pt x="0" y="101"/>
                    </a:moveTo>
                    <a:lnTo>
                      <a:pt x="14" y="99"/>
                    </a:lnTo>
                    <a:lnTo>
                      <a:pt x="18" y="96"/>
                    </a:lnTo>
                    <a:lnTo>
                      <a:pt x="22" y="93"/>
                    </a:lnTo>
                    <a:lnTo>
                      <a:pt x="27" y="82"/>
                    </a:lnTo>
                    <a:lnTo>
                      <a:pt x="31" y="68"/>
                    </a:lnTo>
                    <a:lnTo>
                      <a:pt x="32" y="53"/>
                    </a:lnTo>
                    <a:lnTo>
                      <a:pt x="32" y="35"/>
                    </a:lnTo>
                    <a:lnTo>
                      <a:pt x="32" y="0"/>
                    </a:lnTo>
                    <a:lnTo>
                      <a:pt x="41" y="0"/>
                    </a:lnTo>
                    <a:lnTo>
                      <a:pt x="43" y="35"/>
                    </a:lnTo>
                    <a:lnTo>
                      <a:pt x="41" y="53"/>
                    </a:lnTo>
                    <a:lnTo>
                      <a:pt x="40" y="71"/>
                    </a:lnTo>
                    <a:lnTo>
                      <a:pt x="36" y="87"/>
                    </a:lnTo>
                    <a:lnTo>
                      <a:pt x="29" y="100"/>
                    </a:lnTo>
                    <a:lnTo>
                      <a:pt x="24" y="104"/>
                    </a:lnTo>
                    <a:lnTo>
                      <a:pt x="16" y="109"/>
                    </a:lnTo>
                    <a:lnTo>
                      <a:pt x="2" y="112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850000" y="3571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7" y="11"/>
                    </a:lnTo>
                    <a:lnTo>
                      <a:pt x="1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861160" y="349596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7" y="46"/>
                    </a:moveTo>
                    <a:lnTo>
                      <a:pt x="14" y="36"/>
                    </a:lnTo>
                    <a:lnTo>
                      <a:pt x="9" y="28"/>
                    </a:lnTo>
                    <a:lnTo>
                      <a:pt x="3" y="16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2" y="12"/>
                    </a:lnTo>
                    <a:lnTo>
                      <a:pt x="17" y="21"/>
                    </a:lnTo>
                    <a:lnTo>
                      <a:pt x="24" y="32"/>
                    </a:lnTo>
                    <a:lnTo>
                      <a:pt x="26" y="43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70520" y="351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2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861160" y="34815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0" y="26"/>
                    </a:moveTo>
                    <a:lnTo>
                      <a:pt x="1" y="18"/>
                    </a:lnTo>
                    <a:lnTo>
                      <a:pt x="5" y="11"/>
                    </a:lnTo>
                    <a:lnTo>
                      <a:pt x="13" y="0"/>
                    </a:lnTo>
                    <a:lnTo>
                      <a:pt x="21" y="6"/>
                    </a:lnTo>
                    <a:lnTo>
                      <a:pt x="13" y="18"/>
                    </a:lnTo>
                    <a:lnTo>
                      <a:pt x="10" y="23"/>
                    </a:lnTo>
                    <a:lnTo>
                      <a:pt x="9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861160" y="3495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867280" y="3448080"/>
                <a:ext cx="30240" cy="36720"/>
              </a:xfrm>
              <a:custGeom>
                <a:avLst/>
                <a:gdLst/>
                <a:ahLst/>
                <a:rect l="l" t="t" r="r" b="b"/>
                <a:pathLst>
                  <a:path w="58" h="74">
                    <a:moveTo>
                      <a:pt x="0" y="66"/>
                    </a:moveTo>
                    <a:lnTo>
                      <a:pt x="33" y="37"/>
                    </a:lnTo>
                    <a:lnTo>
                      <a:pt x="40" y="31"/>
                    </a:lnTo>
                    <a:lnTo>
                      <a:pt x="44" y="21"/>
                    </a:lnTo>
                    <a:lnTo>
                      <a:pt x="48" y="12"/>
                    </a:lnTo>
                    <a:lnTo>
                      <a:pt x="49" y="0"/>
                    </a:lnTo>
                    <a:lnTo>
                      <a:pt x="58" y="3"/>
                    </a:lnTo>
                    <a:lnTo>
                      <a:pt x="57" y="16"/>
                    </a:lnTo>
                    <a:lnTo>
                      <a:pt x="53" y="27"/>
                    </a:lnTo>
                    <a:lnTo>
                      <a:pt x="48" y="37"/>
                    </a:lnTo>
                    <a:lnTo>
                      <a:pt x="40" y="45"/>
                    </a:lnTo>
                    <a:lnTo>
                      <a:pt x="7" y="7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867280" y="34815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853240" y="3372120"/>
                <a:ext cx="44280" cy="75960"/>
              </a:xfrm>
              <a:custGeom>
                <a:avLst/>
                <a:gdLst/>
                <a:ahLst/>
                <a:rect l="l" t="t" r="r" b="b"/>
                <a:pathLst>
                  <a:path w="87" h="149">
                    <a:moveTo>
                      <a:pt x="78" y="149"/>
                    </a:moveTo>
                    <a:lnTo>
                      <a:pt x="77" y="138"/>
                    </a:lnTo>
                    <a:lnTo>
                      <a:pt x="74" y="129"/>
                    </a:lnTo>
                    <a:lnTo>
                      <a:pt x="67" y="112"/>
                    </a:lnTo>
                    <a:lnTo>
                      <a:pt x="40" y="79"/>
                    </a:lnTo>
                    <a:lnTo>
                      <a:pt x="25" y="63"/>
                    </a:lnTo>
                    <a:lnTo>
                      <a:pt x="19" y="54"/>
                    </a:lnTo>
                    <a:lnTo>
                      <a:pt x="12" y="44"/>
                    </a:lnTo>
                    <a:lnTo>
                      <a:pt x="3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12" y="21"/>
                    </a:lnTo>
                    <a:lnTo>
                      <a:pt x="21" y="39"/>
                    </a:lnTo>
                    <a:lnTo>
                      <a:pt x="26" y="47"/>
                    </a:lnTo>
                    <a:lnTo>
                      <a:pt x="33" y="56"/>
                    </a:lnTo>
                    <a:lnTo>
                      <a:pt x="48" y="72"/>
                    </a:lnTo>
                    <a:lnTo>
                      <a:pt x="75" y="105"/>
                    </a:lnTo>
                    <a:lnTo>
                      <a:pt x="83" y="125"/>
                    </a:lnTo>
                    <a:lnTo>
                      <a:pt x="86" y="135"/>
                    </a:lnTo>
                    <a:lnTo>
                      <a:pt x="87" y="149"/>
                    </a:lnTo>
                    <a:lnTo>
                      <a:pt x="78" y="14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892840" y="34480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3"/>
                    </a:moveTo>
                    <a:lnTo>
                      <a:pt x="9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853240" y="331812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92" h="104">
                    <a:moveTo>
                      <a:pt x="0" y="101"/>
                    </a:moveTo>
                    <a:lnTo>
                      <a:pt x="1" y="80"/>
                    </a:lnTo>
                    <a:lnTo>
                      <a:pt x="7" y="62"/>
                    </a:lnTo>
                    <a:lnTo>
                      <a:pt x="15" y="46"/>
                    </a:lnTo>
                    <a:lnTo>
                      <a:pt x="25" y="31"/>
                    </a:lnTo>
                    <a:lnTo>
                      <a:pt x="37" y="21"/>
                    </a:lnTo>
                    <a:lnTo>
                      <a:pt x="53" y="13"/>
                    </a:lnTo>
                    <a:lnTo>
                      <a:pt x="88" y="0"/>
                    </a:lnTo>
                    <a:lnTo>
                      <a:pt x="92" y="9"/>
                    </a:lnTo>
                    <a:lnTo>
                      <a:pt x="58" y="22"/>
                    </a:lnTo>
                    <a:lnTo>
                      <a:pt x="44" y="29"/>
                    </a:lnTo>
                    <a:lnTo>
                      <a:pt x="32" y="39"/>
                    </a:lnTo>
                    <a:lnTo>
                      <a:pt x="23" y="53"/>
                    </a:lnTo>
                    <a:lnTo>
                      <a:pt x="16" y="67"/>
                    </a:lnTo>
                    <a:lnTo>
                      <a:pt x="11" y="83"/>
                    </a:lnTo>
                    <a:lnTo>
                      <a:pt x="9" y="104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853240" y="3370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2"/>
                    </a:moveTo>
                    <a:lnTo>
                      <a:pt x="0" y="0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897520" y="3318120"/>
                <a:ext cx="87480" cy="47520"/>
              </a:xfrm>
              <a:custGeom>
                <a:avLst/>
                <a:gdLst/>
                <a:ahLst/>
                <a:rect l="l" t="t" r="r" b="b"/>
                <a:pathLst>
                  <a:path w="170" h="91">
                    <a:moveTo>
                      <a:pt x="7" y="0"/>
                    </a:moveTo>
                    <a:lnTo>
                      <a:pt x="46" y="29"/>
                    </a:lnTo>
                    <a:lnTo>
                      <a:pt x="83" y="55"/>
                    </a:lnTo>
                    <a:lnTo>
                      <a:pt x="103" y="66"/>
                    </a:lnTo>
                    <a:lnTo>
                      <a:pt x="114" y="70"/>
                    </a:lnTo>
                    <a:lnTo>
                      <a:pt x="123" y="72"/>
                    </a:lnTo>
                    <a:lnTo>
                      <a:pt x="145" y="78"/>
                    </a:lnTo>
                    <a:lnTo>
                      <a:pt x="170" y="80"/>
                    </a:lnTo>
                    <a:lnTo>
                      <a:pt x="169" y="91"/>
                    </a:lnTo>
                    <a:lnTo>
                      <a:pt x="144" y="88"/>
                    </a:lnTo>
                    <a:lnTo>
                      <a:pt x="120" y="83"/>
                    </a:lnTo>
                    <a:lnTo>
                      <a:pt x="108" y="79"/>
                    </a:lnTo>
                    <a:lnTo>
                      <a:pt x="98" y="75"/>
                    </a:lnTo>
                    <a:lnTo>
                      <a:pt x="78" y="64"/>
                    </a:lnTo>
                    <a:lnTo>
                      <a:pt x="41" y="38"/>
                    </a:lnTo>
                    <a:lnTo>
                      <a:pt x="0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897520" y="3318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2"/>
                    </a:moveTo>
                    <a:lnTo>
                      <a:pt x="5" y="0"/>
                    </a:lnTo>
                    <a:lnTo>
                      <a:pt x="7" y="2"/>
                    </a:lnTo>
                    <a:lnTo>
                      <a:pt x="0" y="10"/>
                    </a:lnTo>
                    <a:lnTo>
                      <a:pt x="5" y="1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978520" y="336096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19" y="1"/>
                    </a:moveTo>
                    <a:lnTo>
                      <a:pt x="13" y="30"/>
                    </a:lnTo>
                    <a:lnTo>
                      <a:pt x="11" y="60"/>
                    </a:lnTo>
                    <a:lnTo>
                      <a:pt x="0" y="58"/>
                    </a:lnTo>
                    <a:lnTo>
                      <a:pt x="3" y="29"/>
                    </a:lnTo>
                    <a:lnTo>
                      <a:pt x="8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983200" y="3359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5" y="0"/>
                    </a:moveTo>
                    <a:lnTo>
                      <a:pt x="12" y="0"/>
                    </a:lnTo>
                    <a:lnTo>
                      <a:pt x="11" y="5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979960" y="3389400"/>
                <a:ext cx="54000" cy="34920"/>
              </a:xfrm>
              <a:custGeom>
                <a:avLst/>
                <a:gdLst/>
                <a:ahLst/>
                <a:rect l="l" t="t" r="r" b="b"/>
                <a:pathLst>
                  <a:path w="104" h="69">
                    <a:moveTo>
                      <a:pt x="3" y="0"/>
                    </a:moveTo>
                    <a:lnTo>
                      <a:pt x="33" y="12"/>
                    </a:lnTo>
                    <a:lnTo>
                      <a:pt x="58" y="25"/>
                    </a:lnTo>
                    <a:lnTo>
                      <a:pt x="80" y="41"/>
                    </a:lnTo>
                    <a:lnTo>
                      <a:pt x="104" y="61"/>
                    </a:lnTo>
                    <a:lnTo>
                      <a:pt x="98" y="69"/>
                    </a:lnTo>
                    <a:lnTo>
                      <a:pt x="74" y="49"/>
                    </a:lnTo>
                    <a:lnTo>
                      <a:pt x="53" y="35"/>
                    </a:lnTo>
                    <a:lnTo>
                      <a:pt x="28" y="21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978520" y="33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" y="4"/>
                    </a:moveTo>
                    <a:lnTo>
                      <a:pt x="0" y="9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12" y="6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029280" y="3335400"/>
                <a:ext cx="30240" cy="88920"/>
              </a:xfrm>
              <a:custGeom>
                <a:avLst/>
                <a:gdLst/>
                <a:ahLst/>
                <a:rect l="l" t="t" r="r" b="b"/>
                <a:pathLst>
                  <a:path w="60" h="174">
                    <a:moveTo>
                      <a:pt x="0" y="171"/>
                    </a:moveTo>
                    <a:lnTo>
                      <a:pt x="6" y="145"/>
                    </a:lnTo>
                    <a:lnTo>
                      <a:pt x="12" y="123"/>
                    </a:lnTo>
                    <a:lnTo>
                      <a:pt x="27" y="85"/>
                    </a:lnTo>
                    <a:lnTo>
                      <a:pt x="40" y="47"/>
                    </a:lnTo>
                    <a:lnTo>
                      <a:pt x="50" y="0"/>
                    </a:lnTo>
                    <a:lnTo>
                      <a:pt x="60" y="4"/>
                    </a:lnTo>
                    <a:lnTo>
                      <a:pt x="49" y="51"/>
                    </a:lnTo>
                    <a:lnTo>
                      <a:pt x="36" y="90"/>
                    </a:lnTo>
                    <a:lnTo>
                      <a:pt x="21" y="128"/>
                    </a:lnTo>
                    <a:lnTo>
                      <a:pt x="15" y="149"/>
                    </a:lnTo>
                    <a:lnTo>
                      <a:pt x="10" y="174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029280" y="34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2" y="8"/>
                    </a:moveTo>
                    <a:lnTo>
                      <a:pt x="8" y="13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8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058080" y="3311640"/>
                <a:ext cx="58680" cy="27000"/>
              </a:xfrm>
              <a:custGeom>
                <a:avLst/>
                <a:gdLst/>
                <a:ahLst/>
                <a:rect l="l" t="t" r="r" b="b"/>
                <a:pathLst>
                  <a:path w="113" h="50">
                    <a:moveTo>
                      <a:pt x="0" y="39"/>
                    </a:moveTo>
                    <a:lnTo>
                      <a:pt x="33" y="38"/>
                    </a:lnTo>
                    <a:lnTo>
                      <a:pt x="47" y="36"/>
                    </a:lnTo>
                    <a:lnTo>
                      <a:pt x="60" y="33"/>
                    </a:lnTo>
                    <a:lnTo>
                      <a:pt x="72" y="29"/>
                    </a:lnTo>
                    <a:lnTo>
                      <a:pt x="83" y="21"/>
                    </a:lnTo>
                    <a:lnTo>
                      <a:pt x="106" y="0"/>
                    </a:lnTo>
                    <a:lnTo>
                      <a:pt x="113" y="8"/>
                    </a:lnTo>
                    <a:lnTo>
                      <a:pt x="89" y="29"/>
                    </a:lnTo>
                    <a:lnTo>
                      <a:pt x="77" y="38"/>
                    </a:lnTo>
                    <a:lnTo>
                      <a:pt x="63" y="43"/>
                    </a:lnTo>
                    <a:lnTo>
                      <a:pt x="48" y="46"/>
                    </a:lnTo>
                    <a:lnTo>
                      <a:pt x="33" y="49"/>
                    </a:lnTo>
                    <a:lnTo>
                      <a:pt x="0" y="5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054840" y="33321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6" y="11"/>
                    </a:lnTo>
                    <a:lnTo>
                      <a:pt x="10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091200" y="3291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42" y="50"/>
                    </a:moveTo>
                    <a:lnTo>
                      <a:pt x="20" y="30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27" y="22"/>
                    </a:lnTo>
                    <a:lnTo>
                      <a:pt x="49" y="42"/>
                    </a:lnTo>
                    <a:lnTo>
                      <a:pt x="42" y="5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111720" y="33116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7" y="8"/>
                    </a:moveTo>
                    <a:lnTo>
                      <a:pt x="11" y="4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093000" y="3291120"/>
                <a:ext cx="56880" cy="29880"/>
              </a:xfrm>
              <a:custGeom>
                <a:avLst/>
                <a:gdLst/>
                <a:ahLst/>
                <a:rect l="l" t="t" r="r" b="b"/>
                <a:pathLst>
                  <a:path w="112" h="59">
                    <a:moveTo>
                      <a:pt x="5" y="0"/>
                    </a:moveTo>
                    <a:lnTo>
                      <a:pt x="58" y="34"/>
                    </a:lnTo>
                    <a:lnTo>
                      <a:pt x="70" y="41"/>
                    </a:lnTo>
                    <a:lnTo>
                      <a:pt x="81" y="45"/>
                    </a:lnTo>
                    <a:lnTo>
                      <a:pt x="112" y="48"/>
                    </a:lnTo>
                    <a:lnTo>
                      <a:pt x="110" y="59"/>
                    </a:lnTo>
                    <a:lnTo>
                      <a:pt x="79" y="55"/>
                    </a:lnTo>
                    <a:lnTo>
                      <a:pt x="64" y="50"/>
                    </a:lnTo>
                    <a:lnTo>
                      <a:pt x="52" y="43"/>
                    </a:lnTo>
                    <a:lnTo>
                      <a:pt x="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091200" y="3291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8"/>
                    </a:moveTo>
                    <a:lnTo>
                      <a:pt x="7" y="0"/>
                    </a:lnTo>
                    <a:lnTo>
                      <a:pt x="2" y="9"/>
                    </a:lnTo>
                    <a:lnTo>
                      <a:pt x="7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149880" y="328320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55" h="75">
                    <a:moveTo>
                      <a:pt x="0" y="64"/>
                    </a:moveTo>
                    <a:lnTo>
                      <a:pt x="9" y="63"/>
                    </a:lnTo>
                    <a:lnTo>
                      <a:pt x="16" y="59"/>
                    </a:lnTo>
                    <a:lnTo>
                      <a:pt x="19" y="55"/>
                    </a:lnTo>
                    <a:lnTo>
                      <a:pt x="22" y="53"/>
                    </a:lnTo>
                    <a:lnTo>
                      <a:pt x="26" y="43"/>
                    </a:lnTo>
                    <a:lnTo>
                      <a:pt x="35" y="22"/>
                    </a:lnTo>
                    <a:lnTo>
                      <a:pt x="46" y="0"/>
                    </a:lnTo>
                    <a:lnTo>
                      <a:pt x="55" y="5"/>
                    </a:lnTo>
                    <a:lnTo>
                      <a:pt x="45" y="28"/>
                    </a:lnTo>
                    <a:lnTo>
                      <a:pt x="35" y="49"/>
                    </a:lnTo>
                    <a:lnTo>
                      <a:pt x="30" y="59"/>
                    </a:lnTo>
                    <a:lnTo>
                      <a:pt x="26" y="63"/>
                    </a:lnTo>
                    <a:lnTo>
                      <a:pt x="22" y="67"/>
                    </a:lnTo>
                    <a:lnTo>
                      <a:pt x="12" y="74"/>
                    </a:lnTo>
                    <a:lnTo>
                      <a:pt x="1" y="75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149880" y="33148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11"/>
                    </a:moveTo>
                    <a:lnTo>
                      <a:pt x="2" y="11"/>
                    </a:lnTo>
                    <a:lnTo>
                      <a:pt x="3" y="11"/>
                    </a:lnTo>
                    <a:lnTo>
                      <a:pt x="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175440" y="328140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2" y="0"/>
                    </a:moveTo>
                    <a:lnTo>
                      <a:pt x="0" y="11"/>
                    </a:lnTo>
                    <a:lnTo>
                      <a:pt x="34" y="20"/>
                    </a:lnTo>
                    <a:lnTo>
                      <a:pt x="37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173640" y="32814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4"/>
                    </a:moveTo>
                    <a:lnTo>
                      <a:pt x="1" y="0"/>
                    </a:lnTo>
                    <a:lnTo>
                      <a:pt x="6" y="1"/>
                    </a:lnTo>
                    <a:lnTo>
                      <a:pt x="4" y="12"/>
                    </a:lnTo>
                    <a:lnTo>
                      <a:pt x="9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191280" y="3286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7" y="0"/>
                    </a:moveTo>
                    <a:lnTo>
                      <a:pt x="11" y="2"/>
                    </a:lnTo>
                    <a:lnTo>
                      <a:pt x="11" y="6"/>
                    </a:lnTo>
                    <a:lnTo>
                      <a:pt x="0" y="6"/>
                    </a:lnTo>
                    <a:lnTo>
                      <a:pt x="4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105600" y="3373560"/>
                <a:ext cx="90360" cy="68400"/>
              </a:xfrm>
              <a:custGeom>
                <a:avLst/>
                <a:gdLst/>
                <a:ahLst/>
                <a:rect l="l" t="t" r="r" b="b"/>
                <a:pathLst>
                  <a:path w="177" h="133">
                    <a:moveTo>
                      <a:pt x="177" y="7"/>
                    </a:moveTo>
                    <a:lnTo>
                      <a:pt x="135" y="46"/>
                    </a:lnTo>
                    <a:lnTo>
                      <a:pt x="95" y="76"/>
                    </a:lnTo>
                    <a:lnTo>
                      <a:pt x="7" y="133"/>
                    </a:lnTo>
                    <a:lnTo>
                      <a:pt x="0" y="125"/>
                    </a:lnTo>
                    <a:lnTo>
                      <a:pt x="89" y="68"/>
                    </a:lnTo>
                    <a:lnTo>
                      <a:pt x="128" y="38"/>
                    </a:lnTo>
                    <a:lnTo>
                      <a:pt x="170" y="0"/>
                    </a:lnTo>
                    <a:lnTo>
                      <a:pt x="177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191280" y="3373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4"/>
                    </a:moveTo>
                    <a:lnTo>
                      <a:pt x="11" y="6"/>
                    </a:lnTo>
                    <a:lnTo>
                      <a:pt x="8" y="7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103800" y="343872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9" y="0"/>
                    </a:moveTo>
                    <a:lnTo>
                      <a:pt x="21" y="25"/>
                    </a:lnTo>
                    <a:lnTo>
                      <a:pt x="28" y="52"/>
                    </a:lnTo>
                    <a:lnTo>
                      <a:pt x="17" y="54"/>
                    </a:lnTo>
                    <a:lnTo>
                      <a:pt x="11" y="28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103800" y="34387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10" y="1"/>
                    </a:lnTo>
                    <a:lnTo>
                      <a:pt x="9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094440" y="346392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3" y="9"/>
                    </a:moveTo>
                    <a:lnTo>
                      <a:pt x="23" y="18"/>
                    </a:lnTo>
                    <a:lnTo>
                      <a:pt x="5" y="30"/>
                    </a:lnTo>
                    <a:lnTo>
                      <a:pt x="0" y="21"/>
                    </a:lnTo>
                    <a:lnTo>
                      <a:pt x="18" y="9"/>
                    </a:lnTo>
                    <a:lnTo>
                      <a:pt x="38" y="0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111720" y="34639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3"/>
                    </a:moveTo>
                    <a:lnTo>
                      <a:pt x="12" y="8"/>
                    </a:lnTo>
                    <a:lnTo>
                      <a:pt x="8" y="9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094440" y="3475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2" y="0"/>
                    </a:moveTo>
                    <a:lnTo>
                      <a:pt x="0" y="0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560920" y="3029040"/>
                <a:ext cx="289080" cy="214200"/>
              </a:xfrm>
              <a:custGeom>
                <a:avLst/>
                <a:gdLst/>
                <a:ahLst/>
                <a:rect l="l" t="t" r="r" b="b"/>
                <a:pathLst>
                  <a:path w="563" h="418">
                    <a:moveTo>
                      <a:pt x="18" y="344"/>
                    </a:moveTo>
                    <a:lnTo>
                      <a:pt x="0" y="335"/>
                    </a:lnTo>
                    <a:lnTo>
                      <a:pt x="11" y="323"/>
                    </a:lnTo>
                    <a:lnTo>
                      <a:pt x="21" y="310"/>
                    </a:lnTo>
                    <a:lnTo>
                      <a:pt x="32" y="298"/>
                    </a:lnTo>
                    <a:lnTo>
                      <a:pt x="42" y="287"/>
                    </a:lnTo>
                    <a:lnTo>
                      <a:pt x="54" y="277"/>
                    </a:lnTo>
                    <a:lnTo>
                      <a:pt x="66" y="268"/>
                    </a:lnTo>
                    <a:lnTo>
                      <a:pt x="79" y="258"/>
                    </a:lnTo>
                    <a:lnTo>
                      <a:pt x="92" y="251"/>
                    </a:lnTo>
                    <a:lnTo>
                      <a:pt x="106" y="243"/>
                    </a:lnTo>
                    <a:lnTo>
                      <a:pt x="119" y="236"/>
                    </a:lnTo>
                    <a:lnTo>
                      <a:pt x="133" y="231"/>
                    </a:lnTo>
                    <a:lnTo>
                      <a:pt x="149" y="225"/>
                    </a:lnTo>
                    <a:lnTo>
                      <a:pt x="165" y="222"/>
                    </a:lnTo>
                    <a:lnTo>
                      <a:pt x="182" y="219"/>
                    </a:lnTo>
                    <a:lnTo>
                      <a:pt x="199" y="218"/>
                    </a:lnTo>
                    <a:lnTo>
                      <a:pt x="216" y="218"/>
                    </a:lnTo>
                    <a:lnTo>
                      <a:pt x="226" y="218"/>
                    </a:lnTo>
                    <a:lnTo>
                      <a:pt x="232" y="220"/>
                    </a:lnTo>
                    <a:lnTo>
                      <a:pt x="239" y="223"/>
                    </a:lnTo>
                    <a:lnTo>
                      <a:pt x="245" y="227"/>
                    </a:lnTo>
                    <a:lnTo>
                      <a:pt x="260" y="233"/>
                    </a:lnTo>
                    <a:lnTo>
                      <a:pt x="264" y="235"/>
                    </a:lnTo>
                    <a:lnTo>
                      <a:pt x="266" y="235"/>
                    </a:lnTo>
                    <a:lnTo>
                      <a:pt x="270" y="236"/>
                    </a:lnTo>
                    <a:lnTo>
                      <a:pt x="276" y="236"/>
                    </a:lnTo>
                    <a:lnTo>
                      <a:pt x="284" y="236"/>
                    </a:lnTo>
                    <a:lnTo>
                      <a:pt x="291" y="235"/>
                    </a:lnTo>
                    <a:lnTo>
                      <a:pt x="299" y="233"/>
                    </a:lnTo>
                    <a:lnTo>
                      <a:pt x="306" y="231"/>
                    </a:lnTo>
                    <a:lnTo>
                      <a:pt x="310" y="229"/>
                    </a:lnTo>
                    <a:lnTo>
                      <a:pt x="313" y="228"/>
                    </a:lnTo>
                    <a:lnTo>
                      <a:pt x="319" y="224"/>
                    </a:lnTo>
                    <a:lnTo>
                      <a:pt x="326" y="220"/>
                    </a:lnTo>
                    <a:lnTo>
                      <a:pt x="331" y="216"/>
                    </a:lnTo>
                    <a:lnTo>
                      <a:pt x="343" y="207"/>
                    </a:lnTo>
                    <a:lnTo>
                      <a:pt x="353" y="198"/>
                    </a:lnTo>
                    <a:lnTo>
                      <a:pt x="365" y="186"/>
                    </a:lnTo>
                    <a:lnTo>
                      <a:pt x="377" y="175"/>
                    </a:lnTo>
                    <a:lnTo>
                      <a:pt x="371" y="161"/>
                    </a:lnTo>
                    <a:lnTo>
                      <a:pt x="364" y="146"/>
                    </a:lnTo>
                    <a:lnTo>
                      <a:pt x="352" y="117"/>
                    </a:lnTo>
                    <a:lnTo>
                      <a:pt x="365" y="111"/>
                    </a:lnTo>
                    <a:lnTo>
                      <a:pt x="378" y="104"/>
                    </a:lnTo>
                    <a:lnTo>
                      <a:pt x="389" y="98"/>
                    </a:lnTo>
                    <a:lnTo>
                      <a:pt x="400" y="91"/>
                    </a:lnTo>
                    <a:lnTo>
                      <a:pt x="410" y="83"/>
                    </a:lnTo>
                    <a:lnTo>
                      <a:pt x="419" y="76"/>
                    </a:lnTo>
                    <a:lnTo>
                      <a:pt x="438" y="61"/>
                    </a:lnTo>
                    <a:lnTo>
                      <a:pt x="456" y="45"/>
                    </a:lnTo>
                    <a:lnTo>
                      <a:pt x="475" y="30"/>
                    </a:lnTo>
                    <a:lnTo>
                      <a:pt x="485" y="22"/>
                    </a:lnTo>
                    <a:lnTo>
                      <a:pt x="496" y="14"/>
                    </a:lnTo>
                    <a:lnTo>
                      <a:pt x="508" y="7"/>
                    </a:lnTo>
                    <a:lnTo>
                      <a:pt x="520" y="0"/>
                    </a:lnTo>
                    <a:lnTo>
                      <a:pt x="563" y="8"/>
                    </a:lnTo>
                    <a:lnTo>
                      <a:pt x="528" y="17"/>
                    </a:lnTo>
                    <a:lnTo>
                      <a:pt x="517" y="24"/>
                    </a:lnTo>
                    <a:lnTo>
                      <a:pt x="506" y="32"/>
                    </a:lnTo>
                    <a:lnTo>
                      <a:pt x="497" y="40"/>
                    </a:lnTo>
                    <a:lnTo>
                      <a:pt x="487" y="50"/>
                    </a:lnTo>
                    <a:lnTo>
                      <a:pt x="487" y="175"/>
                    </a:lnTo>
                    <a:lnTo>
                      <a:pt x="499" y="177"/>
                    </a:lnTo>
                    <a:lnTo>
                      <a:pt x="510" y="178"/>
                    </a:lnTo>
                    <a:lnTo>
                      <a:pt x="521" y="181"/>
                    </a:lnTo>
                    <a:lnTo>
                      <a:pt x="530" y="183"/>
                    </a:lnTo>
                    <a:lnTo>
                      <a:pt x="539" y="187"/>
                    </a:lnTo>
                    <a:lnTo>
                      <a:pt x="549" y="194"/>
                    </a:lnTo>
                    <a:lnTo>
                      <a:pt x="557" y="200"/>
                    </a:lnTo>
                    <a:lnTo>
                      <a:pt x="560" y="204"/>
                    </a:lnTo>
                    <a:lnTo>
                      <a:pt x="563" y="208"/>
                    </a:lnTo>
                    <a:lnTo>
                      <a:pt x="555" y="219"/>
                    </a:lnTo>
                    <a:lnTo>
                      <a:pt x="546" y="228"/>
                    </a:lnTo>
                    <a:lnTo>
                      <a:pt x="528" y="245"/>
                    </a:lnTo>
                    <a:lnTo>
                      <a:pt x="509" y="261"/>
                    </a:lnTo>
                    <a:lnTo>
                      <a:pt x="489" y="276"/>
                    </a:lnTo>
                    <a:lnTo>
                      <a:pt x="471" y="289"/>
                    </a:lnTo>
                    <a:lnTo>
                      <a:pt x="451" y="301"/>
                    </a:lnTo>
                    <a:lnTo>
                      <a:pt x="431" y="313"/>
                    </a:lnTo>
                    <a:lnTo>
                      <a:pt x="413" y="323"/>
                    </a:lnTo>
                    <a:lnTo>
                      <a:pt x="373" y="343"/>
                    </a:lnTo>
                    <a:lnTo>
                      <a:pt x="335" y="363"/>
                    </a:lnTo>
                    <a:lnTo>
                      <a:pt x="317" y="375"/>
                    </a:lnTo>
                    <a:lnTo>
                      <a:pt x="298" y="385"/>
                    </a:lnTo>
                    <a:lnTo>
                      <a:pt x="280" y="397"/>
                    </a:lnTo>
                    <a:lnTo>
                      <a:pt x="261" y="411"/>
                    </a:lnTo>
                    <a:lnTo>
                      <a:pt x="103" y="340"/>
                    </a:lnTo>
                    <a:lnTo>
                      <a:pt x="87" y="359"/>
                    </a:lnTo>
                    <a:lnTo>
                      <a:pt x="37" y="318"/>
                    </a:lnTo>
                    <a:lnTo>
                      <a:pt x="18" y="344"/>
                    </a:lnTo>
                    <a:close/>
                    <a:moveTo>
                      <a:pt x="175" y="418"/>
                    </a:moveTo>
                    <a:lnTo>
                      <a:pt x="141" y="404"/>
                    </a:lnTo>
                    <a:lnTo>
                      <a:pt x="106" y="386"/>
                    </a:lnTo>
                    <a:lnTo>
                      <a:pt x="106" y="381"/>
                    </a:lnTo>
                    <a:lnTo>
                      <a:pt x="125" y="376"/>
                    </a:lnTo>
                    <a:lnTo>
                      <a:pt x="175" y="41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135400" y="3310200"/>
                <a:ext cx="462240" cy="204480"/>
              </a:xfrm>
              <a:custGeom>
                <a:avLst/>
                <a:gdLst/>
                <a:ahLst/>
                <a:rect l="l" t="t" r="r" b="b"/>
                <a:pathLst>
                  <a:path w="897" h="397">
                    <a:moveTo>
                      <a:pt x="859" y="136"/>
                    </a:moveTo>
                    <a:lnTo>
                      <a:pt x="855" y="140"/>
                    </a:lnTo>
                    <a:lnTo>
                      <a:pt x="863" y="154"/>
                    </a:lnTo>
                    <a:lnTo>
                      <a:pt x="867" y="161"/>
                    </a:lnTo>
                    <a:lnTo>
                      <a:pt x="869" y="167"/>
                    </a:lnTo>
                    <a:lnTo>
                      <a:pt x="872" y="174"/>
                    </a:lnTo>
                    <a:lnTo>
                      <a:pt x="873" y="182"/>
                    </a:lnTo>
                    <a:lnTo>
                      <a:pt x="874" y="190"/>
                    </a:lnTo>
                    <a:lnTo>
                      <a:pt x="874" y="199"/>
                    </a:lnTo>
                    <a:lnTo>
                      <a:pt x="874" y="224"/>
                    </a:lnTo>
                    <a:lnTo>
                      <a:pt x="869" y="225"/>
                    </a:lnTo>
                    <a:lnTo>
                      <a:pt x="864" y="227"/>
                    </a:lnTo>
                    <a:lnTo>
                      <a:pt x="859" y="228"/>
                    </a:lnTo>
                    <a:lnTo>
                      <a:pt x="855" y="231"/>
                    </a:lnTo>
                    <a:lnTo>
                      <a:pt x="851" y="233"/>
                    </a:lnTo>
                    <a:lnTo>
                      <a:pt x="848" y="237"/>
                    </a:lnTo>
                    <a:lnTo>
                      <a:pt x="844" y="241"/>
                    </a:lnTo>
                    <a:lnTo>
                      <a:pt x="841" y="245"/>
                    </a:lnTo>
                    <a:lnTo>
                      <a:pt x="851" y="251"/>
                    </a:lnTo>
                    <a:lnTo>
                      <a:pt x="860" y="253"/>
                    </a:lnTo>
                    <a:lnTo>
                      <a:pt x="878" y="261"/>
                    </a:lnTo>
                    <a:lnTo>
                      <a:pt x="885" y="266"/>
                    </a:lnTo>
                    <a:lnTo>
                      <a:pt x="889" y="269"/>
                    </a:lnTo>
                    <a:lnTo>
                      <a:pt x="892" y="272"/>
                    </a:lnTo>
                    <a:lnTo>
                      <a:pt x="893" y="276"/>
                    </a:lnTo>
                    <a:lnTo>
                      <a:pt x="896" y="280"/>
                    </a:lnTo>
                    <a:lnTo>
                      <a:pt x="896" y="283"/>
                    </a:lnTo>
                    <a:lnTo>
                      <a:pt x="897" y="289"/>
                    </a:lnTo>
                    <a:lnTo>
                      <a:pt x="896" y="294"/>
                    </a:lnTo>
                    <a:lnTo>
                      <a:pt x="894" y="299"/>
                    </a:lnTo>
                    <a:lnTo>
                      <a:pt x="893" y="306"/>
                    </a:lnTo>
                    <a:lnTo>
                      <a:pt x="890" y="311"/>
                    </a:lnTo>
                    <a:lnTo>
                      <a:pt x="886" y="315"/>
                    </a:lnTo>
                    <a:lnTo>
                      <a:pt x="882" y="318"/>
                    </a:lnTo>
                    <a:lnTo>
                      <a:pt x="877" y="320"/>
                    </a:lnTo>
                    <a:lnTo>
                      <a:pt x="874" y="320"/>
                    </a:lnTo>
                    <a:lnTo>
                      <a:pt x="872" y="322"/>
                    </a:lnTo>
                    <a:lnTo>
                      <a:pt x="863" y="320"/>
                    </a:lnTo>
                    <a:lnTo>
                      <a:pt x="856" y="318"/>
                    </a:lnTo>
                    <a:lnTo>
                      <a:pt x="849" y="315"/>
                    </a:lnTo>
                    <a:lnTo>
                      <a:pt x="843" y="310"/>
                    </a:lnTo>
                    <a:lnTo>
                      <a:pt x="838" y="305"/>
                    </a:lnTo>
                    <a:lnTo>
                      <a:pt x="832" y="299"/>
                    </a:lnTo>
                    <a:lnTo>
                      <a:pt x="823" y="286"/>
                    </a:lnTo>
                    <a:lnTo>
                      <a:pt x="814" y="273"/>
                    </a:lnTo>
                    <a:lnTo>
                      <a:pt x="808" y="266"/>
                    </a:lnTo>
                    <a:lnTo>
                      <a:pt x="803" y="261"/>
                    </a:lnTo>
                    <a:lnTo>
                      <a:pt x="798" y="257"/>
                    </a:lnTo>
                    <a:lnTo>
                      <a:pt x="791" y="253"/>
                    </a:lnTo>
                    <a:lnTo>
                      <a:pt x="783" y="251"/>
                    </a:lnTo>
                    <a:lnTo>
                      <a:pt x="779" y="251"/>
                    </a:lnTo>
                    <a:lnTo>
                      <a:pt x="776" y="251"/>
                    </a:lnTo>
                    <a:lnTo>
                      <a:pt x="762" y="252"/>
                    </a:lnTo>
                    <a:lnTo>
                      <a:pt x="757" y="253"/>
                    </a:lnTo>
                    <a:lnTo>
                      <a:pt x="752" y="254"/>
                    </a:lnTo>
                    <a:lnTo>
                      <a:pt x="743" y="258"/>
                    </a:lnTo>
                    <a:lnTo>
                      <a:pt x="731" y="264"/>
                    </a:lnTo>
                    <a:lnTo>
                      <a:pt x="739" y="289"/>
                    </a:lnTo>
                    <a:lnTo>
                      <a:pt x="747" y="310"/>
                    </a:lnTo>
                    <a:lnTo>
                      <a:pt x="750" y="319"/>
                    </a:lnTo>
                    <a:lnTo>
                      <a:pt x="756" y="328"/>
                    </a:lnTo>
                    <a:lnTo>
                      <a:pt x="762" y="339"/>
                    </a:lnTo>
                    <a:lnTo>
                      <a:pt x="770" y="348"/>
                    </a:lnTo>
                    <a:lnTo>
                      <a:pt x="766" y="367"/>
                    </a:lnTo>
                    <a:lnTo>
                      <a:pt x="760" y="367"/>
                    </a:lnTo>
                    <a:lnTo>
                      <a:pt x="754" y="368"/>
                    </a:lnTo>
                    <a:lnTo>
                      <a:pt x="744" y="371"/>
                    </a:lnTo>
                    <a:lnTo>
                      <a:pt x="732" y="373"/>
                    </a:lnTo>
                    <a:lnTo>
                      <a:pt x="727" y="374"/>
                    </a:lnTo>
                    <a:lnTo>
                      <a:pt x="720" y="374"/>
                    </a:lnTo>
                    <a:lnTo>
                      <a:pt x="715" y="374"/>
                    </a:lnTo>
                    <a:lnTo>
                      <a:pt x="710" y="372"/>
                    </a:lnTo>
                    <a:lnTo>
                      <a:pt x="706" y="369"/>
                    </a:lnTo>
                    <a:lnTo>
                      <a:pt x="702" y="365"/>
                    </a:lnTo>
                    <a:lnTo>
                      <a:pt x="699" y="360"/>
                    </a:lnTo>
                    <a:lnTo>
                      <a:pt x="696" y="355"/>
                    </a:lnTo>
                    <a:lnTo>
                      <a:pt x="691" y="344"/>
                    </a:lnTo>
                    <a:lnTo>
                      <a:pt x="686" y="332"/>
                    </a:lnTo>
                    <a:lnTo>
                      <a:pt x="683" y="327"/>
                    </a:lnTo>
                    <a:lnTo>
                      <a:pt x="681" y="322"/>
                    </a:lnTo>
                    <a:lnTo>
                      <a:pt x="677" y="318"/>
                    </a:lnTo>
                    <a:lnTo>
                      <a:pt x="675" y="316"/>
                    </a:lnTo>
                    <a:lnTo>
                      <a:pt x="673" y="315"/>
                    </a:lnTo>
                    <a:lnTo>
                      <a:pt x="670" y="314"/>
                    </a:lnTo>
                    <a:lnTo>
                      <a:pt x="667" y="312"/>
                    </a:lnTo>
                    <a:lnTo>
                      <a:pt x="662" y="312"/>
                    </a:lnTo>
                    <a:lnTo>
                      <a:pt x="657" y="312"/>
                    </a:lnTo>
                    <a:lnTo>
                      <a:pt x="652" y="314"/>
                    </a:lnTo>
                    <a:lnTo>
                      <a:pt x="648" y="315"/>
                    </a:lnTo>
                    <a:lnTo>
                      <a:pt x="642" y="316"/>
                    </a:lnTo>
                    <a:lnTo>
                      <a:pt x="634" y="322"/>
                    </a:lnTo>
                    <a:lnTo>
                      <a:pt x="625" y="326"/>
                    </a:lnTo>
                    <a:lnTo>
                      <a:pt x="628" y="334"/>
                    </a:lnTo>
                    <a:lnTo>
                      <a:pt x="630" y="340"/>
                    </a:lnTo>
                    <a:lnTo>
                      <a:pt x="638" y="353"/>
                    </a:lnTo>
                    <a:lnTo>
                      <a:pt x="634" y="357"/>
                    </a:lnTo>
                    <a:lnTo>
                      <a:pt x="630" y="359"/>
                    </a:lnTo>
                    <a:lnTo>
                      <a:pt x="626" y="361"/>
                    </a:lnTo>
                    <a:lnTo>
                      <a:pt x="623" y="361"/>
                    </a:lnTo>
                    <a:lnTo>
                      <a:pt x="613" y="361"/>
                    </a:lnTo>
                    <a:lnTo>
                      <a:pt x="605" y="360"/>
                    </a:lnTo>
                    <a:lnTo>
                      <a:pt x="587" y="356"/>
                    </a:lnTo>
                    <a:lnTo>
                      <a:pt x="578" y="353"/>
                    </a:lnTo>
                    <a:lnTo>
                      <a:pt x="572" y="353"/>
                    </a:lnTo>
                    <a:lnTo>
                      <a:pt x="567" y="353"/>
                    </a:lnTo>
                    <a:lnTo>
                      <a:pt x="561" y="353"/>
                    </a:lnTo>
                    <a:lnTo>
                      <a:pt x="555" y="355"/>
                    </a:lnTo>
                    <a:lnTo>
                      <a:pt x="550" y="357"/>
                    </a:lnTo>
                    <a:lnTo>
                      <a:pt x="545" y="360"/>
                    </a:lnTo>
                    <a:lnTo>
                      <a:pt x="541" y="363"/>
                    </a:lnTo>
                    <a:lnTo>
                      <a:pt x="536" y="367"/>
                    </a:lnTo>
                    <a:lnTo>
                      <a:pt x="528" y="374"/>
                    </a:lnTo>
                    <a:lnTo>
                      <a:pt x="518" y="382"/>
                    </a:lnTo>
                    <a:lnTo>
                      <a:pt x="514" y="386"/>
                    </a:lnTo>
                    <a:lnTo>
                      <a:pt x="509" y="390"/>
                    </a:lnTo>
                    <a:lnTo>
                      <a:pt x="505" y="393"/>
                    </a:lnTo>
                    <a:lnTo>
                      <a:pt x="500" y="394"/>
                    </a:lnTo>
                    <a:lnTo>
                      <a:pt x="493" y="396"/>
                    </a:lnTo>
                    <a:lnTo>
                      <a:pt x="487" y="397"/>
                    </a:lnTo>
                    <a:lnTo>
                      <a:pt x="481" y="397"/>
                    </a:lnTo>
                    <a:lnTo>
                      <a:pt x="476" y="396"/>
                    </a:lnTo>
                    <a:lnTo>
                      <a:pt x="467" y="393"/>
                    </a:lnTo>
                    <a:lnTo>
                      <a:pt x="458" y="390"/>
                    </a:lnTo>
                    <a:lnTo>
                      <a:pt x="447" y="388"/>
                    </a:lnTo>
                    <a:lnTo>
                      <a:pt x="452" y="373"/>
                    </a:lnTo>
                    <a:lnTo>
                      <a:pt x="455" y="365"/>
                    </a:lnTo>
                    <a:lnTo>
                      <a:pt x="456" y="357"/>
                    </a:lnTo>
                    <a:lnTo>
                      <a:pt x="443" y="352"/>
                    </a:lnTo>
                    <a:lnTo>
                      <a:pt x="437" y="348"/>
                    </a:lnTo>
                    <a:lnTo>
                      <a:pt x="431" y="344"/>
                    </a:lnTo>
                    <a:lnTo>
                      <a:pt x="426" y="340"/>
                    </a:lnTo>
                    <a:lnTo>
                      <a:pt x="422" y="334"/>
                    </a:lnTo>
                    <a:lnTo>
                      <a:pt x="418" y="328"/>
                    </a:lnTo>
                    <a:lnTo>
                      <a:pt x="415" y="322"/>
                    </a:lnTo>
                    <a:lnTo>
                      <a:pt x="431" y="318"/>
                    </a:lnTo>
                    <a:lnTo>
                      <a:pt x="439" y="315"/>
                    </a:lnTo>
                    <a:lnTo>
                      <a:pt x="446" y="312"/>
                    </a:lnTo>
                    <a:lnTo>
                      <a:pt x="452" y="310"/>
                    </a:lnTo>
                    <a:lnTo>
                      <a:pt x="455" y="307"/>
                    </a:lnTo>
                    <a:lnTo>
                      <a:pt x="456" y="306"/>
                    </a:lnTo>
                    <a:lnTo>
                      <a:pt x="459" y="303"/>
                    </a:lnTo>
                    <a:lnTo>
                      <a:pt x="460" y="299"/>
                    </a:lnTo>
                    <a:lnTo>
                      <a:pt x="460" y="297"/>
                    </a:lnTo>
                    <a:lnTo>
                      <a:pt x="460" y="293"/>
                    </a:lnTo>
                    <a:lnTo>
                      <a:pt x="460" y="287"/>
                    </a:lnTo>
                    <a:lnTo>
                      <a:pt x="459" y="282"/>
                    </a:lnTo>
                    <a:lnTo>
                      <a:pt x="458" y="278"/>
                    </a:lnTo>
                    <a:lnTo>
                      <a:pt x="455" y="274"/>
                    </a:lnTo>
                    <a:lnTo>
                      <a:pt x="451" y="270"/>
                    </a:lnTo>
                    <a:lnTo>
                      <a:pt x="447" y="268"/>
                    </a:lnTo>
                    <a:lnTo>
                      <a:pt x="439" y="261"/>
                    </a:lnTo>
                    <a:lnTo>
                      <a:pt x="422" y="249"/>
                    </a:lnTo>
                    <a:lnTo>
                      <a:pt x="418" y="245"/>
                    </a:lnTo>
                    <a:lnTo>
                      <a:pt x="414" y="241"/>
                    </a:lnTo>
                    <a:lnTo>
                      <a:pt x="410" y="237"/>
                    </a:lnTo>
                    <a:lnTo>
                      <a:pt x="408" y="232"/>
                    </a:lnTo>
                    <a:lnTo>
                      <a:pt x="402" y="220"/>
                    </a:lnTo>
                    <a:lnTo>
                      <a:pt x="397" y="208"/>
                    </a:lnTo>
                    <a:lnTo>
                      <a:pt x="393" y="196"/>
                    </a:lnTo>
                    <a:lnTo>
                      <a:pt x="388" y="186"/>
                    </a:lnTo>
                    <a:lnTo>
                      <a:pt x="385" y="181"/>
                    </a:lnTo>
                    <a:lnTo>
                      <a:pt x="381" y="175"/>
                    </a:lnTo>
                    <a:lnTo>
                      <a:pt x="379" y="171"/>
                    </a:lnTo>
                    <a:lnTo>
                      <a:pt x="375" y="169"/>
                    </a:lnTo>
                    <a:lnTo>
                      <a:pt x="371" y="165"/>
                    </a:lnTo>
                    <a:lnTo>
                      <a:pt x="365" y="163"/>
                    </a:lnTo>
                    <a:lnTo>
                      <a:pt x="360" y="162"/>
                    </a:lnTo>
                    <a:lnTo>
                      <a:pt x="354" y="161"/>
                    </a:lnTo>
                    <a:lnTo>
                      <a:pt x="350" y="162"/>
                    </a:lnTo>
                    <a:lnTo>
                      <a:pt x="344" y="163"/>
                    </a:lnTo>
                    <a:lnTo>
                      <a:pt x="340" y="165"/>
                    </a:lnTo>
                    <a:lnTo>
                      <a:pt x="338" y="167"/>
                    </a:lnTo>
                    <a:lnTo>
                      <a:pt x="334" y="170"/>
                    </a:lnTo>
                    <a:lnTo>
                      <a:pt x="331" y="173"/>
                    </a:lnTo>
                    <a:lnTo>
                      <a:pt x="326" y="181"/>
                    </a:lnTo>
                    <a:lnTo>
                      <a:pt x="323" y="190"/>
                    </a:lnTo>
                    <a:lnTo>
                      <a:pt x="321" y="199"/>
                    </a:lnTo>
                    <a:lnTo>
                      <a:pt x="319" y="210"/>
                    </a:lnTo>
                    <a:lnTo>
                      <a:pt x="319" y="219"/>
                    </a:lnTo>
                    <a:lnTo>
                      <a:pt x="310" y="214"/>
                    </a:lnTo>
                    <a:lnTo>
                      <a:pt x="302" y="207"/>
                    </a:lnTo>
                    <a:lnTo>
                      <a:pt x="294" y="200"/>
                    </a:lnTo>
                    <a:lnTo>
                      <a:pt x="288" y="192"/>
                    </a:lnTo>
                    <a:lnTo>
                      <a:pt x="282" y="185"/>
                    </a:lnTo>
                    <a:lnTo>
                      <a:pt x="277" y="175"/>
                    </a:lnTo>
                    <a:lnTo>
                      <a:pt x="268" y="158"/>
                    </a:lnTo>
                    <a:lnTo>
                      <a:pt x="257" y="142"/>
                    </a:lnTo>
                    <a:lnTo>
                      <a:pt x="252" y="136"/>
                    </a:lnTo>
                    <a:lnTo>
                      <a:pt x="245" y="130"/>
                    </a:lnTo>
                    <a:lnTo>
                      <a:pt x="243" y="127"/>
                    </a:lnTo>
                    <a:lnTo>
                      <a:pt x="239" y="125"/>
                    </a:lnTo>
                    <a:lnTo>
                      <a:pt x="235" y="123"/>
                    </a:lnTo>
                    <a:lnTo>
                      <a:pt x="231" y="121"/>
                    </a:lnTo>
                    <a:lnTo>
                      <a:pt x="227" y="120"/>
                    </a:lnTo>
                    <a:lnTo>
                      <a:pt x="223" y="119"/>
                    </a:lnTo>
                    <a:lnTo>
                      <a:pt x="218" y="117"/>
                    </a:lnTo>
                    <a:lnTo>
                      <a:pt x="212" y="117"/>
                    </a:lnTo>
                    <a:lnTo>
                      <a:pt x="206" y="119"/>
                    </a:lnTo>
                    <a:lnTo>
                      <a:pt x="201" y="119"/>
                    </a:lnTo>
                    <a:lnTo>
                      <a:pt x="195" y="120"/>
                    </a:lnTo>
                    <a:lnTo>
                      <a:pt x="191" y="123"/>
                    </a:lnTo>
                    <a:lnTo>
                      <a:pt x="186" y="124"/>
                    </a:lnTo>
                    <a:lnTo>
                      <a:pt x="181" y="125"/>
                    </a:lnTo>
                    <a:lnTo>
                      <a:pt x="175" y="127"/>
                    </a:lnTo>
                    <a:lnTo>
                      <a:pt x="169" y="127"/>
                    </a:lnTo>
                    <a:lnTo>
                      <a:pt x="164" y="127"/>
                    </a:lnTo>
                    <a:lnTo>
                      <a:pt x="158" y="124"/>
                    </a:lnTo>
                    <a:lnTo>
                      <a:pt x="154" y="123"/>
                    </a:lnTo>
                    <a:lnTo>
                      <a:pt x="150" y="120"/>
                    </a:lnTo>
                    <a:lnTo>
                      <a:pt x="146" y="116"/>
                    </a:lnTo>
                    <a:lnTo>
                      <a:pt x="143" y="112"/>
                    </a:lnTo>
                    <a:lnTo>
                      <a:pt x="136" y="104"/>
                    </a:lnTo>
                    <a:lnTo>
                      <a:pt x="131" y="96"/>
                    </a:lnTo>
                    <a:lnTo>
                      <a:pt x="123" y="88"/>
                    </a:lnTo>
                    <a:lnTo>
                      <a:pt x="119" y="86"/>
                    </a:lnTo>
                    <a:lnTo>
                      <a:pt x="115" y="83"/>
                    </a:lnTo>
                    <a:lnTo>
                      <a:pt x="110" y="82"/>
                    </a:lnTo>
                    <a:lnTo>
                      <a:pt x="104" y="82"/>
                    </a:lnTo>
                    <a:lnTo>
                      <a:pt x="99" y="82"/>
                    </a:lnTo>
                    <a:lnTo>
                      <a:pt x="95" y="83"/>
                    </a:lnTo>
                    <a:lnTo>
                      <a:pt x="91" y="84"/>
                    </a:lnTo>
                    <a:lnTo>
                      <a:pt x="87" y="86"/>
                    </a:lnTo>
                    <a:lnTo>
                      <a:pt x="78" y="88"/>
                    </a:lnTo>
                    <a:lnTo>
                      <a:pt x="74" y="90"/>
                    </a:lnTo>
                    <a:lnTo>
                      <a:pt x="69" y="91"/>
                    </a:lnTo>
                    <a:lnTo>
                      <a:pt x="65" y="90"/>
                    </a:lnTo>
                    <a:lnTo>
                      <a:pt x="63" y="88"/>
                    </a:lnTo>
                    <a:lnTo>
                      <a:pt x="62" y="87"/>
                    </a:lnTo>
                    <a:lnTo>
                      <a:pt x="58" y="83"/>
                    </a:lnTo>
                    <a:lnTo>
                      <a:pt x="57" y="79"/>
                    </a:lnTo>
                    <a:lnTo>
                      <a:pt x="54" y="75"/>
                    </a:lnTo>
                    <a:lnTo>
                      <a:pt x="53" y="74"/>
                    </a:lnTo>
                    <a:lnTo>
                      <a:pt x="50" y="72"/>
                    </a:lnTo>
                    <a:lnTo>
                      <a:pt x="48" y="70"/>
                    </a:lnTo>
                    <a:lnTo>
                      <a:pt x="44" y="69"/>
                    </a:lnTo>
                    <a:lnTo>
                      <a:pt x="38" y="69"/>
                    </a:lnTo>
                    <a:lnTo>
                      <a:pt x="36" y="70"/>
                    </a:lnTo>
                    <a:lnTo>
                      <a:pt x="32" y="72"/>
                    </a:lnTo>
                    <a:lnTo>
                      <a:pt x="29" y="75"/>
                    </a:lnTo>
                    <a:lnTo>
                      <a:pt x="24" y="79"/>
                    </a:lnTo>
                    <a:lnTo>
                      <a:pt x="20" y="80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9" y="80"/>
                    </a:lnTo>
                    <a:lnTo>
                      <a:pt x="8" y="78"/>
                    </a:lnTo>
                    <a:lnTo>
                      <a:pt x="5" y="75"/>
                    </a:lnTo>
                    <a:lnTo>
                      <a:pt x="3" y="69"/>
                    </a:lnTo>
                    <a:lnTo>
                      <a:pt x="0" y="61"/>
                    </a:lnTo>
                    <a:lnTo>
                      <a:pt x="15" y="49"/>
                    </a:lnTo>
                    <a:lnTo>
                      <a:pt x="20" y="43"/>
                    </a:lnTo>
                    <a:lnTo>
                      <a:pt x="29" y="36"/>
                    </a:lnTo>
                    <a:lnTo>
                      <a:pt x="46" y="46"/>
                    </a:lnTo>
                    <a:lnTo>
                      <a:pt x="62" y="55"/>
                    </a:lnTo>
                    <a:lnTo>
                      <a:pt x="79" y="63"/>
                    </a:lnTo>
                    <a:lnTo>
                      <a:pt x="96" y="70"/>
                    </a:lnTo>
                    <a:lnTo>
                      <a:pt x="112" y="75"/>
                    </a:lnTo>
                    <a:lnTo>
                      <a:pt x="129" y="79"/>
                    </a:lnTo>
                    <a:lnTo>
                      <a:pt x="146" y="83"/>
                    </a:lnTo>
                    <a:lnTo>
                      <a:pt x="164" y="86"/>
                    </a:lnTo>
                    <a:lnTo>
                      <a:pt x="181" y="88"/>
                    </a:lnTo>
                    <a:lnTo>
                      <a:pt x="199" y="90"/>
                    </a:lnTo>
                    <a:lnTo>
                      <a:pt x="236" y="91"/>
                    </a:lnTo>
                    <a:lnTo>
                      <a:pt x="317" y="91"/>
                    </a:lnTo>
                    <a:lnTo>
                      <a:pt x="348" y="91"/>
                    </a:lnTo>
                    <a:lnTo>
                      <a:pt x="348" y="79"/>
                    </a:lnTo>
                    <a:lnTo>
                      <a:pt x="350" y="69"/>
                    </a:lnTo>
                    <a:lnTo>
                      <a:pt x="352" y="59"/>
                    </a:lnTo>
                    <a:lnTo>
                      <a:pt x="355" y="50"/>
                    </a:lnTo>
                    <a:lnTo>
                      <a:pt x="357" y="45"/>
                    </a:lnTo>
                    <a:lnTo>
                      <a:pt x="360" y="41"/>
                    </a:lnTo>
                    <a:lnTo>
                      <a:pt x="365" y="33"/>
                    </a:lnTo>
                    <a:lnTo>
                      <a:pt x="373" y="25"/>
                    </a:lnTo>
                    <a:lnTo>
                      <a:pt x="381" y="18"/>
                    </a:lnTo>
                    <a:lnTo>
                      <a:pt x="518" y="18"/>
                    </a:lnTo>
                    <a:lnTo>
                      <a:pt x="524" y="0"/>
                    </a:lnTo>
                    <a:lnTo>
                      <a:pt x="529" y="1"/>
                    </a:lnTo>
                    <a:lnTo>
                      <a:pt x="496" y="142"/>
                    </a:lnTo>
                    <a:lnTo>
                      <a:pt x="533" y="146"/>
                    </a:lnTo>
                    <a:lnTo>
                      <a:pt x="525" y="202"/>
                    </a:lnTo>
                    <a:lnTo>
                      <a:pt x="608" y="212"/>
                    </a:lnTo>
                    <a:lnTo>
                      <a:pt x="669" y="220"/>
                    </a:lnTo>
                    <a:lnTo>
                      <a:pt x="692" y="223"/>
                    </a:lnTo>
                    <a:lnTo>
                      <a:pt x="704" y="224"/>
                    </a:lnTo>
                    <a:lnTo>
                      <a:pt x="708" y="223"/>
                    </a:lnTo>
                    <a:lnTo>
                      <a:pt x="711" y="220"/>
                    </a:lnTo>
                    <a:lnTo>
                      <a:pt x="715" y="218"/>
                    </a:lnTo>
                    <a:lnTo>
                      <a:pt x="719" y="214"/>
                    </a:lnTo>
                    <a:lnTo>
                      <a:pt x="725" y="203"/>
                    </a:lnTo>
                    <a:lnTo>
                      <a:pt x="732" y="191"/>
                    </a:lnTo>
                    <a:lnTo>
                      <a:pt x="741" y="167"/>
                    </a:lnTo>
                    <a:lnTo>
                      <a:pt x="745" y="158"/>
                    </a:lnTo>
                    <a:lnTo>
                      <a:pt x="844" y="142"/>
                    </a:lnTo>
                    <a:lnTo>
                      <a:pt x="859" y="13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575320" y="3378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7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8" y="1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573880" y="338148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31" h="63">
                    <a:moveTo>
                      <a:pt x="10" y="0"/>
                    </a:moveTo>
                    <a:lnTo>
                      <a:pt x="18" y="13"/>
                    </a:lnTo>
                    <a:lnTo>
                      <a:pt x="25" y="29"/>
                    </a:lnTo>
                    <a:lnTo>
                      <a:pt x="29" y="45"/>
                    </a:lnTo>
                    <a:lnTo>
                      <a:pt x="31" y="62"/>
                    </a:lnTo>
                    <a:lnTo>
                      <a:pt x="20" y="63"/>
                    </a:lnTo>
                    <a:lnTo>
                      <a:pt x="19" y="46"/>
                    </a:lnTo>
                    <a:lnTo>
                      <a:pt x="15" y="32"/>
                    </a:lnTo>
                    <a:lnTo>
                      <a:pt x="8" y="19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573880" y="33814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3" y="0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11" y="0"/>
                    </a:lnTo>
                    <a:lnTo>
                      <a:pt x="11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567400" y="34228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40" y="9"/>
                    </a:moveTo>
                    <a:lnTo>
                      <a:pt x="31" y="12"/>
                    </a:lnTo>
                    <a:lnTo>
                      <a:pt x="21" y="15"/>
                    </a:lnTo>
                    <a:lnTo>
                      <a:pt x="15" y="21"/>
                    </a:lnTo>
                    <a:lnTo>
                      <a:pt x="9" y="28"/>
                    </a:lnTo>
                    <a:lnTo>
                      <a:pt x="0" y="23"/>
                    </a:lnTo>
                    <a:lnTo>
                      <a:pt x="7" y="15"/>
                    </a:lnTo>
                    <a:lnTo>
                      <a:pt x="15" y="7"/>
                    </a:lnTo>
                    <a:lnTo>
                      <a:pt x="25" y="3"/>
                    </a:lnTo>
                    <a:lnTo>
                      <a:pt x="36" y="0"/>
                    </a:lnTo>
                    <a:lnTo>
                      <a:pt x="4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83240" y="3422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4"/>
                    </a:moveTo>
                    <a:lnTo>
                      <a:pt x="11" y="9"/>
                    </a:lnTo>
                    <a:lnTo>
                      <a:pt x="7" y="9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568840" y="343404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63" h="49">
                    <a:moveTo>
                      <a:pt x="5" y="0"/>
                    </a:moveTo>
                    <a:lnTo>
                      <a:pt x="42" y="16"/>
                    </a:lnTo>
                    <a:lnTo>
                      <a:pt x="57" y="28"/>
                    </a:lnTo>
                    <a:lnTo>
                      <a:pt x="62" y="37"/>
                    </a:lnTo>
                    <a:lnTo>
                      <a:pt x="63" y="48"/>
                    </a:lnTo>
                    <a:lnTo>
                      <a:pt x="53" y="49"/>
                    </a:lnTo>
                    <a:lnTo>
                      <a:pt x="51" y="40"/>
                    </a:lnTo>
                    <a:lnTo>
                      <a:pt x="49" y="35"/>
                    </a:lnTo>
                    <a:lnTo>
                      <a:pt x="37" y="25"/>
                    </a:lnTo>
                    <a:lnTo>
                      <a:pt x="0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565600" y="3434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4" y="2"/>
                    </a:moveTo>
                    <a:lnTo>
                      <a:pt x="0" y="7"/>
                    </a:lnTo>
                    <a:lnTo>
                      <a:pt x="7" y="10"/>
                    </a:lnTo>
                    <a:lnTo>
                      <a:pt x="12" y="0"/>
                    </a:lnTo>
                    <a:lnTo>
                      <a:pt x="13" y="7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583240" y="34592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33" y="2"/>
                    </a:moveTo>
                    <a:lnTo>
                      <a:pt x="30" y="14"/>
                    </a:lnTo>
                    <a:lnTo>
                      <a:pt x="24" y="25"/>
                    </a:lnTo>
                    <a:lnTo>
                      <a:pt x="15" y="36"/>
                    </a:lnTo>
                    <a:lnTo>
                      <a:pt x="4" y="39"/>
                    </a:lnTo>
                    <a:lnTo>
                      <a:pt x="0" y="29"/>
                    </a:lnTo>
                    <a:lnTo>
                      <a:pt x="9" y="27"/>
                    </a:lnTo>
                    <a:lnTo>
                      <a:pt x="15" y="20"/>
                    </a:lnTo>
                    <a:lnTo>
                      <a:pt x="20" y="11"/>
                    </a:lnTo>
                    <a:lnTo>
                      <a:pt x="23" y="0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533920" y="3436920"/>
                <a:ext cx="50760" cy="41400"/>
              </a:xfrm>
              <a:custGeom>
                <a:avLst/>
                <a:gdLst/>
                <a:ahLst/>
                <a:rect l="l" t="t" r="r" b="b"/>
                <a:pathLst>
                  <a:path w="100" h="79">
                    <a:moveTo>
                      <a:pt x="97" y="79"/>
                    </a:moveTo>
                    <a:lnTo>
                      <a:pt x="80" y="76"/>
                    </a:lnTo>
                    <a:lnTo>
                      <a:pt x="72" y="71"/>
                    </a:lnTo>
                    <a:lnTo>
                      <a:pt x="66" y="67"/>
                    </a:lnTo>
                    <a:lnTo>
                      <a:pt x="55" y="55"/>
                    </a:lnTo>
                    <a:lnTo>
                      <a:pt x="46" y="42"/>
                    </a:lnTo>
                    <a:lnTo>
                      <a:pt x="26" y="18"/>
                    </a:lnTo>
                    <a:lnTo>
                      <a:pt x="21" y="14"/>
                    </a:lnTo>
                    <a:lnTo>
                      <a:pt x="14" y="11"/>
                    </a:lnTo>
                    <a:lnTo>
                      <a:pt x="0" y="9"/>
                    </a:lnTo>
                    <a:lnTo>
                      <a:pt x="3" y="0"/>
                    </a:lnTo>
                    <a:lnTo>
                      <a:pt x="18" y="2"/>
                    </a:lnTo>
                    <a:lnTo>
                      <a:pt x="26" y="6"/>
                    </a:lnTo>
                    <a:lnTo>
                      <a:pt x="33" y="10"/>
                    </a:lnTo>
                    <a:lnTo>
                      <a:pt x="54" y="35"/>
                    </a:lnTo>
                    <a:lnTo>
                      <a:pt x="63" y="48"/>
                    </a:lnTo>
                    <a:lnTo>
                      <a:pt x="72" y="59"/>
                    </a:lnTo>
                    <a:lnTo>
                      <a:pt x="79" y="63"/>
                    </a:lnTo>
                    <a:lnTo>
                      <a:pt x="84" y="67"/>
                    </a:lnTo>
                    <a:lnTo>
                      <a:pt x="100" y="69"/>
                    </a:lnTo>
                    <a:lnTo>
                      <a:pt x="97" y="7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583240" y="3473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3" y="10"/>
                    </a:lnTo>
                    <a:lnTo>
                      <a:pt x="1" y="1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511960" y="343692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8" y="9"/>
                    </a:moveTo>
                    <a:lnTo>
                      <a:pt x="36" y="9"/>
                    </a:lnTo>
                    <a:lnTo>
                      <a:pt x="26" y="13"/>
                    </a:lnTo>
                    <a:lnTo>
                      <a:pt x="5" y="22"/>
                    </a:lnTo>
                    <a:lnTo>
                      <a:pt x="0" y="13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533920" y="34369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510160" y="3444840"/>
                <a:ext cx="23760" cy="46080"/>
              </a:xfrm>
              <a:custGeom>
                <a:avLst/>
                <a:gdLst/>
                <a:ahLst/>
                <a:rect l="l" t="t" r="r" b="b"/>
                <a:pathLst>
                  <a:path w="49" h="90">
                    <a:moveTo>
                      <a:pt x="11" y="0"/>
                    </a:moveTo>
                    <a:lnTo>
                      <a:pt x="19" y="25"/>
                    </a:lnTo>
                    <a:lnTo>
                      <a:pt x="25" y="44"/>
                    </a:lnTo>
                    <a:lnTo>
                      <a:pt x="35" y="64"/>
                    </a:lnTo>
                    <a:lnTo>
                      <a:pt x="49" y="83"/>
                    </a:lnTo>
                    <a:lnTo>
                      <a:pt x="41" y="90"/>
                    </a:lnTo>
                    <a:lnTo>
                      <a:pt x="25" y="69"/>
                    </a:lnTo>
                    <a:lnTo>
                      <a:pt x="16" y="49"/>
                    </a:lnTo>
                    <a:lnTo>
                      <a:pt x="8" y="28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510160" y="34448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4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12" y="2"/>
                    </a:lnTo>
                    <a:lnTo>
                      <a:pt x="9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527800" y="3489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5" y="1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11" y="18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529240" y="34880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9" y="0"/>
                    </a:moveTo>
                    <a:lnTo>
                      <a:pt x="11" y="3"/>
                    </a:lnTo>
                    <a:lnTo>
                      <a:pt x="0" y="2"/>
                    </a:lnTo>
                    <a:lnTo>
                      <a:pt x="1" y="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506920" y="349596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9" y="10"/>
                    </a:moveTo>
                    <a:lnTo>
                      <a:pt x="37" y="12"/>
                    </a:lnTo>
                    <a:lnTo>
                      <a:pt x="25" y="15"/>
                    </a:lnTo>
                    <a:lnTo>
                      <a:pt x="2" y="19"/>
                    </a:lnTo>
                    <a:lnTo>
                      <a:pt x="0" y="10"/>
                    </a:lnTo>
                    <a:lnTo>
                      <a:pt x="21" y="6"/>
                    </a:lnTo>
                    <a:lnTo>
                      <a:pt x="34" y="3"/>
                    </a:lnTo>
                    <a:lnTo>
                      <a:pt x="46" y="0"/>
                    </a:lnTo>
                    <a:lnTo>
                      <a:pt x="49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527800" y="3495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10"/>
                    </a:lnTo>
                    <a:lnTo>
                      <a:pt x="7" y="1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477040" y="3470400"/>
                <a:ext cx="31680" cy="36360"/>
              </a:xfrm>
              <a:custGeom>
                <a:avLst/>
                <a:gdLst/>
                <a:ahLst/>
                <a:rect l="l" t="t" r="r" b="b"/>
                <a:pathLst>
                  <a:path w="60" h="71">
                    <a:moveTo>
                      <a:pt x="58" y="71"/>
                    </a:moveTo>
                    <a:lnTo>
                      <a:pt x="46" y="68"/>
                    </a:lnTo>
                    <a:lnTo>
                      <a:pt x="37" y="60"/>
                    </a:lnTo>
                    <a:lnTo>
                      <a:pt x="25" y="36"/>
                    </a:lnTo>
                    <a:lnTo>
                      <a:pt x="16" y="17"/>
                    </a:lnTo>
                    <a:lnTo>
                      <a:pt x="9" y="11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13" y="2"/>
                    </a:lnTo>
                    <a:lnTo>
                      <a:pt x="24" y="10"/>
                    </a:lnTo>
                    <a:lnTo>
                      <a:pt x="34" y="31"/>
                    </a:lnTo>
                    <a:lnTo>
                      <a:pt x="45" y="54"/>
                    </a:lnTo>
                    <a:lnTo>
                      <a:pt x="51" y="59"/>
                    </a:lnTo>
                    <a:lnTo>
                      <a:pt x="60" y="62"/>
                    </a:lnTo>
                    <a:lnTo>
                      <a:pt x="58" y="7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506920" y="3502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9"/>
                    </a:moveTo>
                    <a:lnTo>
                      <a:pt x="1" y="9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457960" y="347040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40" y="9"/>
                    </a:moveTo>
                    <a:lnTo>
                      <a:pt x="30" y="10"/>
                    </a:lnTo>
                    <a:lnTo>
                      <a:pt x="22" y="13"/>
                    </a:lnTo>
                    <a:lnTo>
                      <a:pt x="5" y="22"/>
                    </a:lnTo>
                    <a:lnTo>
                      <a:pt x="0" y="13"/>
                    </a:lnTo>
                    <a:lnTo>
                      <a:pt x="17" y="3"/>
                    </a:lnTo>
                    <a:lnTo>
                      <a:pt x="26" y="1"/>
                    </a:lnTo>
                    <a:lnTo>
                      <a:pt x="38" y="0"/>
                    </a:lnTo>
                    <a:lnTo>
                      <a:pt x="4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477040" y="3470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456160" y="347688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9" y="0"/>
                    </a:moveTo>
                    <a:lnTo>
                      <a:pt x="14" y="15"/>
                    </a:lnTo>
                    <a:lnTo>
                      <a:pt x="22" y="28"/>
                    </a:lnTo>
                    <a:lnTo>
                      <a:pt x="13" y="33"/>
                    </a:lnTo>
                    <a:lnTo>
                      <a:pt x="5" y="20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456160" y="347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0" y="1"/>
                    </a:lnTo>
                    <a:lnTo>
                      <a:pt x="9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427720" y="348948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75" y="8"/>
                    </a:moveTo>
                    <a:lnTo>
                      <a:pt x="67" y="15"/>
                    </a:lnTo>
                    <a:lnTo>
                      <a:pt x="58" y="18"/>
                    </a:lnTo>
                    <a:lnTo>
                      <a:pt x="47" y="18"/>
                    </a:lnTo>
                    <a:lnTo>
                      <a:pt x="38" y="16"/>
                    </a:lnTo>
                    <a:lnTo>
                      <a:pt x="20" y="12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22" y="3"/>
                    </a:lnTo>
                    <a:lnTo>
                      <a:pt x="41" y="7"/>
                    </a:lnTo>
                    <a:lnTo>
                      <a:pt x="47" y="8"/>
                    </a:lnTo>
                    <a:lnTo>
                      <a:pt x="55" y="8"/>
                    </a:lnTo>
                    <a:lnTo>
                      <a:pt x="62" y="6"/>
                    </a:lnTo>
                    <a:lnTo>
                      <a:pt x="68" y="0"/>
                    </a:ln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62640" y="348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9" y="2"/>
                    </a:moveTo>
                    <a:lnTo>
                      <a:pt x="12" y="6"/>
                    </a:lnTo>
                    <a:lnTo>
                      <a:pt x="8" y="8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386320" y="348948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83" h="53">
                    <a:moveTo>
                      <a:pt x="83" y="10"/>
                    </a:moveTo>
                    <a:lnTo>
                      <a:pt x="72" y="11"/>
                    </a:lnTo>
                    <a:lnTo>
                      <a:pt x="62" y="15"/>
                    </a:lnTo>
                    <a:lnTo>
                      <a:pt x="45" y="29"/>
                    </a:lnTo>
                    <a:lnTo>
                      <a:pt x="27" y="45"/>
                    </a:lnTo>
                    <a:lnTo>
                      <a:pt x="15" y="51"/>
                    </a:lnTo>
                    <a:lnTo>
                      <a:pt x="3" y="53"/>
                    </a:lnTo>
                    <a:lnTo>
                      <a:pt x="0" y="44"/>
                    </a:lnTo>
                    <a:lnTo>
                      <a:pt x="11" y="41"/>
                    </a:lnTo>
                    <a:lnTo>
                      <a:pt x="20" y="37"/>
                    </a:lnTo>
                    <a:lnTo>
                      <a:pt x="39" y="22"/>
                    </a:lnTo>
                    <a:lnTo>
                      <a:pt x="56" y="7"/>
                    </a:lnTo>
                    <a:lnTo>
                      <a:pt x="68" y="2"/>
                    </a:lnTo>
                    <a:lnTo>
                      <a:pt x="81" y="0"/>
                    </a:lnTo>
                    <a:lnTo>
                      <a:pt x="83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427720" y="34894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365800" y="35085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41" h="18">
                    <a:moveTo>
                      <a:pt x="41" y="18"/>
                    </a:moveTo>
                    <a:lnTo>
                      <a:pt x="29" y="17"/>
                    </a:lnTo>
                    <a:lnTo>
                      <a:pt x="20" y="14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22" y="5"/>
                    </a:lnTo>
                    <a:lnTo>
                      <a:pt x="31" y="8"/>
                    </a:lnTo>
                    <a:lnTo>
                      <a:pt x="41" y="9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386320" y="35132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9"/>
                    </a:moveTo>
                    <a:lnTo>
                      <a:pt x="2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364000" y="349416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0" y="29"/>
                    </a:moveTo>
                    <a:lnTo>
                      <a:pt x="5" y="15"/>
                    </a:lnTo>
                    <a:lnTo>
                      <a:pt x="9" y="0"/>
                    </a:lnTo>
                    <a:lnTo>
                      <a:pt x="18" y="4"/>
                    </a:lnTo>
                    <a:lnTo>
                      <a:pt x="14" y="18"/>
                    </a:lnTo>
                    <a:lnTo>
                      <a:pt x="9" y="3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362560" y="3508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7" y="9"/>
                    </a:moveTo>
                    <a:lnTo>
                      <a:pt x="0" y="8"/>
                    </a:lnTo>
                    <a:lnTo>
                      <a:pt x="3" y="1"/>
                    </a:lnTo>
                    <a:lnTo>
                      <a:pt x="12" y="6"/>
                    </a:lnTo>
                    <a:lnTo>
                      <a:pt x="9" y="0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346720" y="347508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4" y="45"/>
                    </a:moveTo>
                    <a:lnTo>
                      <a:pt x="31" y="39"/>
                    </a:lnTo>
                    <a:lnTo>
                      <a:pt x="17" y="30"/>
                    </a:lnTo>
                    <a:lnTo>
                      <a:pt x="8" y="18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16" y="13"/>
                    </a:lnTo>
                    <a:lnTo>
                      <a:pt x="24" y="22"/>
                    </a:lnTo>
                    <a:lnTo>
                      <a:pt x="36" y="30"/>
                    </a:lnTo>
                    <a:lnTo>
                      <a:pt x="49" y="35"/>
                    </a:lnTo>
                    <a:lnTo>
                      <a:pt x="44" y="4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369040" y="3492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7"/>
                    </a:moveTo>
                    <a:lnTo>
                      <a:pt x="11" y="2"/>
                    </a:lnTo>
                    <a:lnTo>
                      <a:pt x="8" y="0"/>
                    </a:lnTo>
                    <a:lnTo>
                      <a:pt x="3" y="10"/>
                    </a:lnTo>
                    <a:lnTo>
                      <a:pt x="0" y="3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349960" y="346104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24"/>
                    </a:moveTo>
                    <a:lnTo>
                      <a:pt x="15" y="21"/>
                    </a:lnTo>
                    <a:lnTo>
                      <a:pt x="28" y="18"/>
                    </a:lnTo>
                    <a:lnTo>
                      <a:pt x="33" y="15"/>
                    </a:lnTo>
                    <a:lnTo>
                      <a:pt x="37" y="11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49" y="3"/>
                    </a:lnTo>
                    <a:lnTo>
                      <a:pt x="49" y="11"/>
                    </a:lnTo>
                    <a:lnTo>
                      <a:pt x="45" y="18"/>
                    </a:lnTo>
                    <a:lnTo>
                      <a:pt x="40" y="23"/>
                    </a:lnTo>
                    <a:lnTo>
                      <a:pt x="32" y="27"/>
                    </a:lnTo>
                    <a:lnTo>
                      <a:pt x="18" y="32"/>
                    </a:lnTo>
                    <a:lnTo>
                      <a:pt x="2" y="3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346720" y="347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8"/>
                    </a:moveTo>
                    <a:lnTo>
                      <a:pt x="0" y="1"/>
                    </a:lnTo>
                    <a:lnTo>
                      <a:pt x="7" y="0"/>
                    </a:lnTo>
                    <a:lnTo>
                      <a:pt x="9" y="11"/>
                    </a:lnTo>
                    <a:lnTo>
                      <a:pt x="11" y="3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345280" y="342756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51" y="65"/>
                    </a:moveTo>
                    <a:lnTo>
                      <a:pt x="50" y="56"/>
                    </a:lnTo>
                    <a:lnTo>
                      <a:pt x="47" y="49"/>
                    </a:lnTo>
                    <a:lnTo>
                      <a:pt x="31" y="36"/>
                    </a:lnTo>
                    <a:lnTo>
                      <a:pt x="14" y="24"/>
                    </a:lnTo>
                    <a:lnTo>
                      <a:pt x="6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14" y="10"/>
                    </a:lnTo>
                    <a:lnTo>
                      <a:pt x="21" y="16"/>
                    </a:lnTo>
                    <a:lnTo>
                      <a:pt x="38" y="28"/>
                    </a:lnTo>
                    <a:lnTo>
                      <a:pt x="54" y="41"/>
                    </a:lnTo>
                    <a:lnTo>
                      <a:pt x="59" y="52"/>
                    </a:lnTo>
                    <a:lnTo>
                      <a:pt x="60" y="62"/>
                    </a:lnTo>
                    <a:lnTo>
                      <a:pt x="51" y="6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370480" y="3461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3"/>
                    </a:moveTo>
                    <a:lnTo>
                      <a:pt x="9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318280" y="3391200"/>
                <a:ext cx="29880" cy="3960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50" y="78"/>
                    </a:moveTo>
                    <a:lnTo>
                      <a:pt x="31" y="32"/>
                    </a:lnTo>
                    <a:lnTo>
                      <a:pt x="25" y="22"/>
                    </a:lnTo>
                    <a:lnTo>
                      <a:pt x="19" y="14"/>
                    </a:lnTo>
                    <a:lnTo>
                      <a:pt x="11" y="12"/>
                    </a:lnTo>
                    <a:lnTo>
                      <a:pt x="0" y="9"/>
                    </a:lnTo>
                    <a:lnTo>
                      <a:pt x="3" y="0"/>
                    </a:lnTo>
                    <a:lnTo>
                      <a:pt x="15" y="3"/>
                    </a:lnTo>
                    <a:lnTo>
                      <a:pt x="25" y="6"/>
                    </a:lnTo>
                    <a:lnTo>
                      <a:pt x="32" y="14"/>
                    </a:lnTo>
                    <a:lnTo>
                      <a:pt x="40" y="26"/>
                    </a:lnTo>
                    <a:lnTo>
                      <a:pt x="60" y="72"/>
                    </a:lnTo>
                    <a:lnTo>
                      <a:pt x="50" y="7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297400" y="339120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41" h="62">
                    <a:moveTo>
                      <a:pt x="41" y="9"/>
                    </a:moveTo>
                    <a:lnTo>
                      <a:pt x="32" y="10"/>
                    </a:lnTo>
                    <a:lnTo>
                      <a:pt x="28" y="13"/>
                    </a:lnTo>
                    <a:lnTo>
                      <a:pt x="16" y="26"/>
                    </a:lnTo>
                    <a:lnTo>
                      <a:pt x="14" y="34"/>
                    </a:lnTo>
                    <a:lnTo>
                      <a:pt x="12" y="42"/>
                    </a:lnTo>
                    <a:lnTo>
                      <a:pt x="10" y="62"/>
                    </a:lnTo>
                    <a:lnTo>
                      <a:pt x="0" y="62"/>
                    </a:lnTo>
                    <a:lnTo>
                      <a:pt x="1" y="41"/>
                    </a:lnTo>
                    <a:lnTo>
                      <a:pt x="4" y="32"/>
                    </a:lnTo>
                    <a:lnTo>
                      <a:pt x="7" y="21"/>
                    </a:lnTo>
                    <a:lnTo>
                      <a:pt x="20" y="6"/>
                    </a:lnTo>
                    <a:lnTo>
                      <a:pt x="28" y="1"/>
                    </a:lnTo>
                    <a:lnTo>
                      <a:pt x="38" y="0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318280" y="3391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245200" y="3368880"/>
                <a:ext cx="56880" cy="5544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103" y="110"/>
                    </a:moveTo>
                    <a:lnTo>
                      <a:pt x="94" y="105"/>
                    </a:lnTo>
                    <a:lnTo>
                      <a:pt x="85" y="98"/>
                    </a:lnTo>
                    <a:lnTo>
                      <a:pt x="72" y="83"/>
                    </a:lnTo>
                    <a:lnTo>
                      <a:pt x="52" y="49"/>
                    </a:lnTo>
                    <a:lnTo>
                      <a:pt x="41" y="33"/>
                    </a:lnTo>
                    <a:lnTo>
                      <a:pt x="29" y="20"/>
                    </a:lnTo>
                    <a:lnTo>
                      <a:pt x="16" y="14"/>
                    </a:lnTo>
                    <a:lnTo>
                      <a:pt x="10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" y="2"/>
                    </a:lnTo>
                    <a:lnTo>
                      <a:pt x="21" y="4"/>
                    </a:lnTo>
                    <a:lnTo>
                      <a:pt x="36" y="12"/>
                    </a:lnTo>
                    <a:lnTo>
                      <a:pt x="49" y="27"/>
                    </a:lnTo>
                    <a:lnTo>
                      <a:pt x="60" y="43"/>
                    </a:lnTo>
                    <a:lnTo>
                      <a:pt x="80" y="77"/>
                    </a:lnTo>
                    <a:lnTo>
                      <a:pt x="91" y="90"/>
                    </a:lnTo>
                    <a:lnTo>
                      <a:pt x="101" y="97"/>
                    </a:lnTo>
                    <a:lnTo>
                      <a:pt x="110" y="102"/>
                    </a:lnTo>
                    <a:lnTo>
                      <a:pt x="103" y="1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297400" y="3421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4"/>
                    </a:moveTo>
                    <a:lnTo>
                      <a:pt x="9" y="13"/>
                    </a:lnTo>
                    <a:lnTo>
                      <a:pt x="1" y="8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222880" y="33688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46" y="10"/>
                    </a:moveTo>
                    <a:lnTo>
                      <a:pt x="34" y="11"/>
                    </a:lnTo>
                    <a:lnTo>
                      <a:pt x="23" y="14"/>
                    </a:lnTo>
                    <a:lnTo>
                      <a:pt x="14" y="17"/>
                    </a:lnTo>
                    <a:lnTo>
                      <a:pt x="2" y="19"/>
                    </a:lnTo>
                    <a:lnTo>
                      <a:pt x="0" y="10"/>
                    </a:lnTo>
                    <a:lnTo>
                      <a:pt x="10" y="8"/>
                    </a:lnTo>
                    <a:lnTo>
                      <a:pt x="19" y="4"/>
                    </a:lnTo>
                    <a:lnTo>
                      <a:pt x="30" y="2"/>
                    </a:lnTo>
                    <a:lnTo>
                      <a:pt x="43" y="0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245200" y="3368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0"/>
                    </a:moveTo>
                    <a:lnTo>
                      <a:pt x="0" y="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5189400" y="33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67" h="54">
                    <a:moveTo>
                      <a:pt x="65" y="54"/>
                    </a:moveTo>
                    <a:lnTo>
                      <a:pt x="53" y="51"/>
                    </a:lnTo>
                    <a:lnTo>
                      <a:pt x="43" y="45"/>
                    </a:lnTo>
                    <a:lnTo>
                      <a:pt x="36" y="38"/>
                    </a:lnTo>
                    <a:lnTo>
                      <a:pt x="29" y="30"/>
                    </a:lnTo>
                    <a:lnTo>
                      <a:pt x="22" y="22"/>
                    </a:lnTo>
                    <a:lnTo>
                      <a:pt x="16" y="14"/>
                    </a:lnTo>
                    <a:lnTo>
                      <a:pt x="9" y="10"/>
                    </a:lnTo>
                    <a:lnTo>
                      <a:pt x="0" y="9"/>
                    </a:lnTo>
                    <a:lnTo>
                      <a:pt x="3" y="0"/>
                    </a:lnTo>
                    <a:lnTo>
                      <a:pt x="13" y="1"/>
                    </a:lnTo>
                    <a:lnTo>
                      <a:pt x="22" y="6"/>
                    </a:lnTo>
                    <a:lnTo>
                      <a:pt x="30" y="16"/>
                    </a:lnTo>
                    <a:lnTo>
                      <a:pt x="37" y="23"/>
                    </a:lnTo>
                    <a:lnTo>
                      <a:pt x="43" y="31"/>
                    </a:lnTo>
                    <a:lnTo>
                      <a:pt x="50" y="37"/>
                    </a:lnTo>
                    <a:lnTo>
                      <a:pt x="57" y="42"/>
                    </a:lnTo>
                    <a:lnTo>
                      <a:pt x="67" y="45"/>
                    </a:lnTo>
                    <a:lnTo>
                      <a:pt x="65" y="5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222880" y="3373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9"/>
                    </a:moveTo>
                    <a:lnTo>
                      <a:pt x="1" y="9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170320" y="33512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40" y="9"/>
                    </a:moveTo>
                    <a:lnTo>
                      <a:pt x="22" y="13"/>
                    </a:lnTo>
                    <a:lnTo>
                      <a:pt x="4" y="17"/>
                    </a:lnTo>
                    <a:lnTo>
                      <a:pt x="0" y="8"/>
                    </a:lnTo>
                    <a:lnTo>
                      <a:pt x="18" y="4"/>
                    </a:lnTo>
                    <a:lnTo>
                      <a:pt x="36" y="0"/>
                    </a:lnTo>
                    <a:lnTo>
                      <a:pt x="4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187960" y="33512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157720" y="33451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5" y="30"/>
                    </a:moveTo>
                    <a:lnTo>
                      <a:pt x="16" y="26"/>
                    </a:lnTo>
                    <a:lnTo>
                      <a:pt x="11" y="1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0" y="9"/>
                    </a:lnTo>
                    <a:lnTo>
                      <a:pt x="3" y="0"/>
                    </a:lnTo>
                    <a:lnTo>
                      <a:pt x="8" y="1"/>
                    </a:lnTo>
                    <a:lnTo>
                      <a:pt x="13" y="4"/>
                    </a:lnTo>
                    <a:lnTo>
                      <a:pt x="18" y="11"/>
                    </a:lnTo>
                    <a:lnTo>
                      <a:pt x="22" y="18"/>
                    </a:lnTo>
                    <a:lnTo>
                      <a:pt x="30" y="21"/>
                    </a:lnTo>
                    <a:lnTo>
                      <a:pt x="25" y="3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170320" y="33562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9"/>
                    </a:moveTo>
                    <a:lnTo>
                      <a:pt x="1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143680" y="33451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31" y="9"/>
                    </a:moveTo>
                    <a:lnTo>
                      <a:pt x="25" y="10"/>
                    </a:lnTo>
                    <a:lnTo>
                      <a:pt x="19" y="14"/>
                    </a:lnTo>
                    <a:lnTo>
                      <a:pt x="12" y="19"/>
                    </a:lnTo>
                    <a:lnTo>
                      <a:pt x="4" y="22"/>
                    </a:lnTo>
                    <a:lnTo>
                      <a:pt x="0" y="13"/>
                    </a:lnTo>
                    <a:lnTo>
                      <a:pt x="7" y="10"/>
                    </a:lnTo>
                    <a:lnTo>
                      <a:pt x="12" y="6"/>
                    </a:lnTo>
                    <a:lnTo>
                      <a:pt x="20" y="1"/>
                    </a:lnTo>
                    <a:lnTo>
                      <a:pt x="27" y="0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157720" y="33451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133960" y="33418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8" y="28"/>
                    </a:moveTo>
                    <a:lnTo>
                      <a:pt x="10" y="24"/>
                    </a:lnTo>
                    <a:lnTo>
                      <a:pt x="5" y="19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14" y="13"/>
                    </a:lnTo>
                    <a:lnTo>
                      <a:pt x="17" y="16"/>
                    </a:lnTo>
                    <a:lnTo>
                      <a:pt x="22" y="19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143680" y="33512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lnTo>
                      <a:pt x="2" y="9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133960" y="33339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2"/>
                    </a:moveTo>
                    <a:lnTo>
                      <a:pt x="7" y="20"/>
                    </a:lnTo>
                    <a:lnTo>
                      <a:pt x="21" y="8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132520" y="33400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" y="8"/>
                    </a:lnTo>
                    <a:lnTo>
                      <a:pt x="11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141880" y="3330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5"/>
                    </a:moveTo>
                    <a:lnTo>
                      <a:pt x="6" y="13"/>
                    </a:lnTo>
                    <a:lnTo>
                      <a:pt x="11" y="7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141880" y="3333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8"/>
                    </a:moveTo>
                    <a:lnTo>
                      <a:pt x="0" y="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145120" y="332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8"/>
                    </a:moveTo>
                    <a:lnTo>
                      <a:pt x="6" y="15"/>
                    </a:lnTo>
                    <a:lnTo>
                      <a:pt x="16" y="8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145120" y="3330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149800" y="3327480"/>
                <a:ext cx="149400" cy="31680"/>
              </a:xfrm>
              <a:custGeom>
                <a:avLst/>
                <a:gdLst/>
                <a:ahLst/>
                <a:rect l="l" t="t" r="r" b="b"/>
                <a:pathLst>
                  <a:path w="291" h="64">
                    <a:moveTo>
                      <a:pt x="6" y="0"/>
                    </a:moveTo>
                    <a:lnTo>
                      <a:pt x="39" y="19"/>
                    </a:lnTo>
                    <a:lnTo>
                      <a:pt x="70" y="33"/>
                    </a:lnTo>
                    <a:lnTo>
                      <a:pt x="105" y="42"/>
                    </a:lnTo>
                    <a:lnTo>
                      <a:pt x="138" y="48"/>
                    </a:lnTo>
                    <a:lnTo>
                      <a:pt x="210" y="54"/>
                    </a:lnTo>
                    <a:lnTo>
                      <a:pt x="291" y="54"/>
                    </a:lnTo>
                    <a:lnTo>
                      <a:pt x="291" y="64"/>
                    </a:lnTo>
                    <a:lnTo>
                      <a:pt x="210" y="64"/>
                    </a:lnTo>
                    <a:lnTo>
                      <a:pt x="136" y="59"/>
                    </a:lnTo>
                    <a:lnTo>
                      <a:pt x="102" y="52"/>
                    </a:lnTo>
                    <a:lnTo>
                      <a:pt x="68" y="43"/>
                    </a:lnTo>
                    <a:lnTo>
                      <a:pt x="33" y="29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149800" y="33260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3"/>
                    </a:moveTo>
                    <a:lnTo>
                      <a:pt x="3" y="0"/>
                    </a:lnTo>
                    <a:lnTo>
                      <a:pt x="7" y="3"/>
                    </a:lnTo>
                    <a:lnTo>
                      <a:pt x="1" y="12"/>
                    </a:lnTo>
                    <a:lnTo>
                      <a:pt x="7" y="1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299200" y="3356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313240" y="3318120"/>
                <a:ext cx="20880" cy="39600"/>
              </a:xfrm>
              <a:custGeom>
                <a:avLst/>
                <a:gdLst/>
                <a:ahLst/>
                <a:rect l="l" t="t" r="r" b="b"/>
                <a:pathLst>
                  <a:path w="41" h="78">
                    <a:moveTo>
                      <a:pt x="0" y="76"/>
                    </a:moveTo>
                    <a:lnTo>
                      <a:pt x="1" y="53"/>
                    </a:lnTo>
                    <a:lnTo>
                      <a:pt x="7" y="32"/>
                    </a:lnTo>
                    <a:lnTo>
                      <a:pt x="13" y="24"/>
                    </a:lnTo>
                    <a:lnTo>
                      <a:pt x="18" y="16"/>
                    </a:lnTo>
                    <a:lnTo>
                      <a:pt x="25" y="7"/>
                    </a:lnTo>
                    <a:lnTo>
                      <a:pt x="34" y="0"/>
                    </a:lnTo>
                    <a:lnTo>
                      <a:pt x="41" y="8"/>
                    </a:lnTo>
                    <a:lnTo>
                      <a:pt x="32" y="15"/>
                    </a:lnTo>
                    <a:lnTo>
                      <a:pt x="26" y="23"/>
                    </a:lnTo>
                    <a:lnTo>
                      <a:pt x="21" y="31"/>
                    </a:lnTo>
                    <a:lnTo>
                      <a:pt x="16" y="37"/>
                    </a:lnTo>
                    <a:lnTo>
                      <a:pt x="11" y="56"/>
                    </a:lnTo>
                    <a:lnTo>
                      <a:pt x="9" y="78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313240" y="33562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9" y="10"/>
                    </a:lnTo>
                    <a:lnTo>
                      <a:pt x="9" y="6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330880" y="3316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400720" y="331020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0" y="18"/>
                    </a:moveTo>
                    <a:lnTo>
                      <a:pt x="9" y="22"/>
                    </a:lnTo>
                    <a:lnTo>
                      <a:pt x="13" y="4"/>
                    </a:lnTo>
                    <a:lnTo>
                      <a:pt x="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400720" y="3316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5" y="11"/>
                    </a:moveTo>
                    <a:lnTo>
                      <a:pt x="9" y="11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405400" y="33069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3" y="0"/>
                    </a:moveTo>
                    <a:lnTo>
                      <a:pt x="0" y="10"/>
                    </a:lnTo>
                    <a:lnTo>
                      <a:pt x="5" y="12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403960" y="33069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6"/>
                    </a:moveTo>
                    <a:lnTo>
                      <a:pt x="1" y="0"/>
                    </a:lnTo>
                    <a:lnTo>
                      <a:pt x="7" y="2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389560" y="3310200"/>
                <a:ext cx="20520" cy="72720"/>
              </a:xfrm>
              <a:custGeom>
                <a:avLst/>
                <a:gdLst/>
                <a:ahLst/>
                <a:rect l="l" t="t" r="r" b="b"/>
                <a:pathLst>
                  <a:path w="42" h="142">
                    <a:moveTo>
                      <a:pt x="42" y="1"/>
                    </a:moveTo>
                    <a:lnTo>
                      <a:pt x="31" y="0"/>
                    </a:lnTo>
                    <a:lnTo>
                      <a:pt x="0" y="141"/>
                    </a:lnTo>
                    <a:lnTo>
                      <a:pt x="10" y="142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405400" y="330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7" y="0"/>
                    </a:moveTo>
                    <a:lnTo>
                      <a:pt x="12" y="1"/>
                    </a:lnTo>
                    <a:lnTo>
                      <a:pt x="11" y="5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391000" y="33814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38" h="15">
                    <a:moveTo>
                      <a:pt x="1" y="0"/>
                    </a:moveTo>
                    <a:lnTo>
                      <a:pt x="0" y="11"/>
                    </a:lnTo>
                    <a:lnTo>
                      <a:pt x="37" y="15"/>
                    </a:lnTo>
                    <a:lnTo>
                      <a:pt x="38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388120" y="3381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4"/>
                    </a:moveTo>
                    <a:lnTo>
                      <a:pt x="0" y="11"/>
                    </a:lnTo>
                    <a:lnTo>
                      <a:pt x="6" y="11"/>
                    </a:lnTo>
                    <a:lnTo>
                      <a:pt x="7" y="0"/>
                    </a:lnTo>
                    <a:lnTo>
                      <a:pt x="12" y="5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405400" y="3384720"/>
                <a:ext cx="7920" cy="30240"/>
              </a:xfrm>
              <a:custGeom>
                <a:avLst/>
                <a:gdLst/>
                <a:ahLst/>
                <a:rect l="l" t="t" r="r" b="b"/>
                <a:pathLst>
                  <a:path w="18" h="57">
                    <a:moveTo>
                      <a:pt x="18" y="1"/>
                    </a:moveTo>
                    <a:lnTo>
                      <a:pt x="8" y="0"/>
                    </a:lnTo>
                    <a:lnTo>
                      <a:pt x="0" y="55"/>
                    </a:lnTo>
                    <a:lnTo>
                      <a:pt x="10" y="57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407200" y="33829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405400" y="3411720"/>
                <a:ext cx="93600" cy="15840"/>
              </a:xfrm>
              <a:custGeom>
                <a:avLst/>
                <a:gdLst/>
                <a:ahLst/>
                <a:rect l="l" t="t" r="r" b="b"/>
                <a:pathLst>
                  <a:path w="180" h="32">
                    <a:moveTo>
                      <a:pt x="1" y="0"/>
                    </a:moveTo>
                    <a:lnTo>
                      <a:pt x="84" y="11"/>
                    </a:lnTo>
                    <a:lnTo>
                      <a:pt x="180" y="22"/>
                    </a:lnTo>
                    <a:lnTo>
                      <a:pt x="179" y="32"/>
                    </a:lnTo>
                    <a:lnTo>
                      <a:pt x="83" y="22"/>
                    </a:lnTo>
                    <a:lnTo>
                      <a:pt x="0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403960" y="341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4"/>
                    </a:moveTo>
                    <a:lnTo>
                      <a:pt x="0" y="11"/>
                    </a:lnTo>
                    <a:lnTo>
                      <a:pt x="6" y="11"/>
                    </a:lnTo>
                    <a:lnTo>
                      <a:pt x="7" y="0"/>
                    </a:lnTo>
                    <a:lnTo>
                      <a:pt x="12" y="6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497560" y="33894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47" h="74">
                    <a:moveTo>
                      <a:pt x="0" y="65"/>
                    </a:moveTo>
                    <a:lnTo>
                      <a:pt x="6" y="62"/>
                    </a:lnTo>
                    <a:lnTo>
                      <a:pt x="9" y="60"/>
                    </a:lnTo>
                    <a:lnTo>
                      <a:pt x="13" y="57"/>
                    </a:lnTo>
                    <a:lnTo>
                      <a:pt x="25" y="33"/>
                    </a:lnTo>
                    <a:lnTo>
                      <a:pt x="38" y="0"/>
                    </a:lnTo>
                    <a:lnTo>
                      <a:pt x="47" y="6"/>
                    </a:lnTo>
                    <a:lnTo>
                      <a:pt x="34" y="38"/>
                    </a:lnTo>
                    <a:lnTo>
                      <a:pt x="21" y="64"/>
                    </a:lnTo>
                    <a:lnTo>
                      <a:pt x="15" y="67"/>
                    </a:lnTo>
                    <a:lnTo>
                      <a:pt x="12" y="71"/>
                    </a:lnTo>
                    <a:lnTo>
                      <a:pt x="5" y="74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497560" y="3422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1" y="10"/>
                    </a:moveTo>
                    <a:lnTo>
                      <a:pt x="4" y="10"/>
                    </a:lnTo>
                    <a:lnTo>
                      <a:pt x="5" y="1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521320" y="338148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00" h="25">
                    <a:moveTo>
                      <a:pt x="0" y="15"/>
                    </a:moveTo>
                    <a:lnTo>
                      <a:pt x="2" y="25"/>
                    </a:lnTo>
                    <a:lnTo>
                      <a:pt x="100" y="11"/>
                    </a:lnTo>
                    <a:lnTo>
                      <a:pt x="99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518080" y="3389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1"/>
                    </a:lnTo>
                    <a:lnTo>
                      <a:pt x="5" y="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570640" y="33782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6"/>
                    </a:moveTo>
                    <a:lnTo>
                      <a:pt x="6" y="16"/>
                    </a:lnTo>
                    <a:lnTo>
                      <a:pt x="20" y="9"/>
                    </a:lnTo>
                    <a:lnTo>
                      <a:pt x="1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570640" y="3381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11"/>
                    </a:moveTo>
                    <a:lnTo>
                      <a:pt x="6" y="1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576760" y="3378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1" y="0"/>
                    </a:moveTo>
                    <a:lnTo>
                      <a:pt x="8" y="8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5141880" y="3330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5"/>
                    </a:moveTo>
                    <a:lnTo>
                      <a:pt x="5" y="0"/>
                    </a:lnTo>
                    <a:lnTo>
                      <a:pt x="11" y="7"/>
                    </a:lnTo>
                    <a:lnTo>
                      <a:pt x="6" y="1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141880" y="3330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7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6" y="13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5145120" y="3330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0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141880" y="3333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8"/>
                    </a:moveTo>
                    <a:lnTo>
                      <a:pt x="0" y="0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965840" y="3732480"/>
                <a:ext cx="523800" cy="244440"/>
              </a:xfrm>
              <a:custGeom>
                <a:avLst/>
                <a:gdLst/>
                <a:ahLst/>
                <a:rect l="l" t="t" r="r" b="b"/>
                <a:pathLst>
                  <a:path w="1019" h="475">
                    <a:moveTo>
                      <a:pt x="643" y="59"/>
                    </a:moveTo>
                    <a:lnTo>
                      <a:pt x="647" y="65"/>
                    </a:lnTo>
                    <a:lnTo>
                      <a:pt x="651" y="70"/>
                    </a:lnTo>
                    <a:lnTo>
                      <a:pt x="660" y="79"/>
                    </a:lnTo>
                    <a:lnTo>
                      <a:pt x="666" y="84"/>
                    </a:lnTo>
                    <a:lnTo>
                      <a:pt x="672" y="88"/>
                    </a:lnTo>
                    <a:lnTo>
                      <a:pt x="679" y="92"/>
                    </a:lnTo>
                    <a:lnTo>
                      <a:pt x="686" y="95"/>
                    </a:lnTo>
                    <a:lnTo>
                      <a:pt x="695" y="99"/>
                    </a:lnTo>
                    <a:lnTo>
                      <a:pt x="704" y="103"/>
                    </a:lnTo>
                    <a:lnTo>
                      <a:pt x="713" y="105"/>
                    </a:lnTo>
                    <a:lnTo>
                      <a:pt x="722" y="108"/>
                    </a:lnTo>
                    <a:lnTo>
                      <a:pt x="741" y="112"/>
                    </a:lnTo>
                    <a:lnTo>
                      <a:pt x="759" y="115"/>
                    </a:lnTo>
                    <a:lnTo>
                      <a:pt x="778" y="116"/>
                    </a:lnTo>
                    <a:lnTo>
                      <a:pt x="796" y="117"/>
                    </a:lnTo>
                    <a:lnTo>
                      <a:pt x="832" y="117"/>
                    </a:lnTo>
                    <a:lnTo>
                      <a:pt x="849" y="119"/>
                    </a:lnTo>
                    <a:lnTo>
                      <a:pt x="866" y="120"/>
                    </a:lnTo>
                    <a:lnTo>
                      <a:pt x="883" y="123"/>
                    </a:lnTo>
                    <a:lnTo>
                      <a:pt x="900" y="126"/>
                    </a:lnTo>
                    <a:lnTo>
                      <a:pt x="908" y="129"/>
                    </a:lnTo>
                    <a:lnTo>
                      <a:pt x="916" y="132"/>
                    </a:lnTo>
                    <a:lnTo>
                      <a:pt x="924" y="134"/>
                    </a:lnTo>
                    <a:lnTo>
                      <a:pt x="933" y="138"/>
                    </a:lnTo>
                    <a:lnTo>
                      <a:pt x="941" y="144"/>
                    </a:lnTo>
                    <a:lnTo>
                      <a:pt x="949" y="148"/>
                    </a:lnTo>
                    <a:lnTo>
                      <a:pt x="965" y="159"/>
                    </a:lnTo>
                    <a:lnTo>
                      <a:pt x="972" y="166"/>
                    </a:lnTo>
                    <a:lnTo>
                      <a:pt x="977" y="171"/>
                    </a:lnTo>
                    <a:lnTo>
                      <a:pt x="981" y="178"/>
                    </a:lnTo>
                    <a:lnTo>
                      <a:pt x="984" y="185"/>
                    </a:lnTo>
                    <a:lnTo>
                      <a:pt x="989" y="198"/>
                    </a:lnTo>
                    <a:lnTo>
                      <a:pt x="993" y="212"/>
                    </a:lnTo>
                    <a:lnTo>
                      <a:pt x="997" y="227"/>
                    </a:lnTo>
                    <a:lnTo>
                      <a:pt x="999" y="233"/>
                    </a:lnTo>
                    <a:lnTo>
                      <a:pt x="1002" y="241"/>
                    </a:lnTo>
                    <a:lnTo>
                      <a:pt x="1005" y="248"/>
                    </a:lnTo>
                    <a:lnTo>
                      <a:pt x="1009" y="254"/>
                    </a:lnTo>
                    <a:lnTo>
                      <a:pt x="1014" y="261"/>
                    </a:lnTo>
                    <a:lnTo>
                      <a:pt x="1019" y="268"/>
                    </a:lnTo>
                    <a:lnTo>
                      <a:pt x="988" y="291"/>
                    </a:lnTo>
                    <a:lnTo>
                      <a:pt x="956" y="312"/>
                    </a:lnTo>
                    <a:lnTo>
                      <a:pt x="941" y="323"/>
                    </a:lnTo>
                    <a:lnTo>
                      <a:pt x="927" y="332"/>
                    </a:lnTo>
                    <a:lnTo>
                      <a:pt x="911" y="341"/>
                    </a:lnTo>
                    <a:lnTo>
                      <a:pt x="904" y="345"/>
                    </a:lnTo>
                    <a:lnTo>
                      <a:pt x="897" y="349"/>
                    </a:lnTo>
                    <a:lnTo>
                      <a:pt x="881" y="356"/>
                    </a:lnTo>
                    <a:lnTo>
                      <a:pt x="865" y="363"/>
                    </a:lnTo>
                    <a:lnTo>
                      <a:pt x="849" y="368"/>
                    </a:lnTo>
                    <a:lnTo>
                      <a:pt x="832" y="373"/>
                    </a:lnTo>
                    <a:lnTo>
                      <a:pt x="815" y="377"/>
                    </a:lnTo>
                    <a:lnTo>
                      <a:pt x="796" y="380"/>
                    </a:lnTo>
                    <a:lnTo>
                      <a:pt x="778" y="381"/>
                    </a:lnTo>
                    <a:lnTo>
                      <a:pt x="757" y="382"/>
                    </a:lnTo>
                    <a:lnTo>
                      <a:pt x="679" y="382"/>
                    </a:lnTo>
                    <a:lnTo>
                      <a:pt x="683" y="374"/>
                    </a:lnTo>
                    <a:lnTo>
                      <a:pt x="684" y="366"/>
                    </a:lnTo>
                    <a:lnTo>
                      <a:pt x="686" y="359"/>
                    </a:lnTo>
                    <a:lnTo>
                      <a:pt x="687" y="351"/>
                    </a:lnTo>
                    <a:lnTo>
                      <a:pt x="687" y="299"/>
                    </a:lnTo>
                    <a:lnTo>
                      <a:pt x="686" y="294"/>
                    </a:lnTo>
                    <a:lnTo>
                      <a:pt x="686" y="289"/>
                    </a:lnTo>
                    <a:lnTo>
                      <a:pt x="683" y="285"/>
                    </a:lnTo>
                    <a:lnTo>
                      <a:pt x="682" y="281"/>
                    </a:lnTo>
                    <a:lnTo>
                      <a:pt x="679" y="277"/>
                    </a:lnTo>
                    <a:lnTo>
                      <a:pt x="676" y="273"/>
                    </a:lnTo>
                    <a:lnTo>
                      <a:pt x="670" y="266"/>
                    </a:lnTo>
                    <a:lnTo>
                      <a:pt x="656" y="253"/>
                    </a:lnTo>
                    <a:lnTo>
                      <a:pt x="650" y="245"/>
                    </a:lnTo>
                    <a:lnTo>
                      <a:pt x="645" y="236"/>
                    </a:lnTo>
                    <a:lnTo>
                      <a:pt x="645" y="258"/>
                    </a:lnTo>
                    <a:lnTo>
                      <a:pt x="643" y="241"/>
                    </a:lnTo>
                    <a:lnTo>
                      <a:pt x="642" y="232"/>
                    </a:lnTo>
                    <a:lnTo>
                      <a:pt x="639" y="224"/>
                    </a:lnTo>
                    <a:lnTo>
                      <a:pt x="637" y="216"/>
                    </a:lnTo>
                    <a:lnTo>
                      <a:pt x="634" y="214"/>
                    </a:lnTo>
                    <a:lnTo>
                      <a:pt x="631" y="211"/>
                    </a:lnTo>
                    <a:lnTo>
                      <a:pt x="629" y="208"/>
                    </a:lnTo>
                    <a:lnTo>
                      <a:pt x="625" y="207"/>
                    </a:lnTo>
                    <a:lnTo>
                      <a:pt x="622" y="206"/>
                    </a:lnTo>
                    <a:lnTo>
                      <a:pt x="617" y="206"/>
                    </a:lnTo>
                    <a:lnTo>
                      <a:pt x="612" y="206"/>
                    </a:lnTo>
                    <a:lnTo>
                      <a:pt x="606" y="207"/>
                    </a:lnTo>
                    <a:lnTo>
                      <a:pt x="601" y="210"/>
                    </a:lnTo>
                    <a:lnTo>
                      <a:pt x="597" y="212"/>
                    </a:lnTo>
                    <a:lnTo>
                      <a:pt x="593" y="215"/>
                    </a:lnTo>
                    <a:lnTo>
                      <a:pt x="589" y="219"/>
                    </a:lnTo>
                    <a:lnTo>
                      <a:pt x="587" y="223"/>
                    </a:lnTo>
                    <a:lnTo>
                      <a:pt x="584" y="228"/>
                    </a:lnTo>
                    <a:lnTo>
                      <a:pt x="580" y="239"/>
                    </a:lnTo>
                    <a:lnTo>
                      <a:pt x="577" y="244"/>
                    </a:lnTo>
                    <a:lnTo>
                      <a:pt x="576" y="249"/>
                    </a:lnTo>
                    <a:lnTo>
                      <a:pt x="575" y="261"/>
                    </a:lnTo>
                    <a:lnTo>
                      <a:pt x="573" y="274"/>
                    </a:lnTo>
                    <a:lnTo>
                      <a:pt x="575" y="286"/>
                    </a:lnTo>
                    <a:lnTo>
                      <a:pt x="575" y="297"/>
                    </a:lnTo>
                    <a:lnTo>
                      <a:pt x="576" y="307"/>
                    </a:lnTo>
                    <a:lnTo>
                      <a:pt x="577" y="320"/>
                    </a:lnTo>
                    <a:lnTo>
                      <a:pt x="576" y="326"/>
                    </a:lnTo>
                    <a:lnTo>
                      <a:pt x="576" y="331"/>
                    </a:lnTo>
                    <a:lnTo>
                      <a:pt x="572" y="340"/>
                    </a:lnTo>
                    <a:lnTo>
                      <a:pt x="569" y="351"/>
                    </a:lnTo>
                    <a:lnTo>
                      <a:pt x="568" y="356"/>
                    </a:lnTo>
                    <a:lnTo>
                      <a:pt x="568" y="361"/>
                    </a:lnTo>
                    <a:lnTo>
                      <a:pt x="569" y="369"/>
                    </a:lnTo>
                    <a:lnTo>
                      <a:pt x="572" y="377"/>
                    </a:lnTo>
                    <a:lnTo>
                      <a:pt x="575" y="385"/>
                    </a:lnTo>
                    <a:lnTo>
                      <a:pt x="577" y="388"/>
                    </a:lnTo>
                    <a:lnTo>
                      <a:pt x="580" y="392"/>
                    </a:lnTo>
                    <a:lnTo>
                      <a:pt x="583" y="394"/>
                    </a:lnTo>
                    <a:lnTo>
                      <a:pt x="585" y="397"/>
                    </a:lnTo>
                    <a:lnTo>
                      <a:pt x="592" y="402"/>
                    </a:lnTo>
                    <a:lnTo>
                      <a:pt x="596" y="403"/>
                    </a:lnTo>
                    <a:lnTo>
                      <a:pt x="600" y="406"/>
                    </a:lnTo>
                    <a:lnTo>
                      <a:pt x="608" y="409"/>
                    </a:lnTo>
                    <a:lnTo>
                      <a:pt x="600" y="419"/>
                    </a:lnTo>
                    <a:lnTo>
                      <a:pt x="591" y="431"/>
                    </a:lnTo>
                    <a:lnTo>
                      <a:pt x="583" y="442"/>
                    </a:lnTo>
                    <a:lnTo>
                      <a:pt x="573" y="452"/>
                    </a:lnTo>
                    <a:lnTo>
                      <a:pt x="568" y="456"/>
                    </a:lnTo>
                    <a:lnTo>
                      <a:pt x="564" y="461"/>
                    </a:lnTo>
                    <a:lnTo>
                      <a:pt x="559" y="465"/>
                    </a:lnTo>
                    <a:lnTo>
                      <a:pt x="552" y="468"/>
                    </a:lnTo>
                    <a:lnTo>
                      <a:pt x="547" y="471"/>
                    </a:lnTo>
                    <a:lnTo>
                      <a:pt x="540" y="473"/>
                    </a:lnTo>
                    <a:lnTo>
                      <a:pt x="534" y="475"/>
                    </a:lnTo>
                    <a:lnTo>
                      <a:pt x="526" y="475"/>
                    </a:lnTo>
                    <a:lnTo>
                      <a:pt x="511" y="475"/>
                    </a:lnTo>
                    <a:lnTo>
                      <a:pt x="505" y="473"/>
                    </a:lnTo>
                    <a:lnTo>
                      <a:pt x="500" y="472"/>
                    </a:lnTo>
                    <a:lnTo>
                      <a:pt x="493" y="471"/>
                    </a:lnTo>
                    <a:lnTo>
                      <a:pt x="486" y="469"/>
                    </a:lnTo>
                    <a:lnTo>
                      <a:pt x="475" y="465"/>
                    </a:lnTo>
                    <a:lnTo>
                      <a:pt x="464" y="461"/>
                    </a:lnTo>
                    <a:lnTo>
                      <a:pt x="453" y="456"/>
                    </a:lnTo>
                    <a:lnTo>
                      <a:pt x="432" y="446"/>
                    </a:lnTo>
                    <a:lnTo>
                      <a:pt x="411" y="435"/>
                    </a:lnTo>
                    <a:lnTo>
                      <a:pt x="401" y="430"/>
                    </a:lnTo>
                    <a:lnTo>
                      <a:pt x="389" y="426"/>
                    </a:lnTo>
                    <a:lnTo>
                      <a:pt x="377" y="422"/>
                    </a:lnTo>
                    <a:lnTo>
                      <a:pt x="365" y="419"/>
                    </a:lnTo>
                    <a:lnTo>
                      <a:pt x="352" y="417"/>
                    </a:lnTo>
                    <a:lnTo>
                      <a:pt x="339" y="417"/>
                    </a:lnTo>
                    <a:lnTo>
                      <a:pt x="324" y="418"/>
                    </a:lnTo>
                    <a:lnTo>
                      <a:pt x="312" y="419"/>
                    </a:lnTo>
                    <a:lnTo>
                      <a:pt x="291" y="426"/>
                    </a:lnTo>
                    <a:lnTo>
                      <a:pt x="279" y="430"/>
                    </a:lnTo>
                    <a:lnTo>
                      <a:pt x="274" y="431"/>
                    </a:lnTo>
                    <a:lnTo>
                      <a:pt x="269" y="432"/>
                    </a:lnTo>
                    <a:lnTo>
                      <a:pt x="257" y="435"/>
                    </a:lnTo>
                    <a:lnTo>
                      <a:pt x="250" y="436"/>
                    </a:lnTo>
                    <a:lnTo>
                      <a:pt x="244" y="436"/>
                    </a:lnTo>
                    <a:lnTo>
                      <a:pt x="231" y="435"/>
                    </a:lnTo>
                    <a:lnTo>
                      <a:pt x="219" y="432"/>
                    </a:lnTo>
                    <a:lnTo>
                      <a:pt x="208" y="430"/>
                    </a:lnTo>
                    <a:lnTo>
                      <a:pt x="198" y="425"/>
                    </a:lnTo>
                    <a:lnTo>
                      <a:pt x="188" y="418"/>
                    </a:lnTo>
                    <a:lnTo>
                      <a:pt x="180" y="411"/>
                    </a:lnTo>
                    <a:lnTo>
                      <a:pt x="172" y="403"/>
                    </a:lnTo>
                    <a:lnTo>
                      <a:pt x="165" y="394"/>
                    </a:lnTo>
                    <a:lnTo>
                      <a:pt x="150" y="376"/>
                    </a:lnTo>
                    <a:lnTo>
                      <a:pt x="136" y="355"/>
                    </a:lnTo>
                    <a:lnTo>
                      <a:pt x="121" y="334"/>
                    </a:lnTo>
                    <a:lnTo>
                      <a:pt x="113" y="323"/>
                    </a:lnTo>
                    <a:lnTo>
                      <a:pt x="104" y="312"/>
                    </a:lnTo>
                    <a:lnTo>
                      <a:pt x="96" y="305"/>
                    </a:lnTo>
                    <a:lnTo>
                      <a:pt x="88" y="298"/>
                    </a:lnTo>
                    <a:lnTo>
                      <a:pt x="71" y="285"/>
                    </a:lnTo>
                    <a:lnTo>
                      <a:pt x="54" y="273"/>
                    </a:lnTo>
                    <a:lnTo>
                      <a:pt x="37" y="262"/>
                    </a:lnTo>
                    <a:lnTo>
                      <a:pt x="29" y="256"/>
                    </a:lnTo>
                    <a:lnTo>
                      <a:pt x="22" y="249"/>
                    </a:lnTo>
                    <a:lnTo>
                      <a:pt x="16" y="243"/>
                    </a:lnTo>
                    <a:lnTo>
                      <a:pt x="10" y="236"/>
                    </a:lnTo>
                    <a:lnTo>
                      <a:pt x="6" y="228"/>
                    </a:lnTo>
                    <a:lnTo>
                      <a:pt x="2" y="219"/>
                    </a:lnTo>
                    <a:lnTo>
                      <a:pt x="2" y="215"/>
                    </a:lnTo>
                    <a:lnTo>
                      <a:pt x="1" y="210"/>
                    </a:lnTo>
                    <a:lnTo>
                      <a:pt x="0" y="199"/>
                    </a:lnTo>
                    <a:lnTo>
                      <a:pt x="1" y="190"/>
                    </a:lnTo>
                    <a:lnTo>
                      <a:pt x="1" y="181"/>
                    </a:lnTo>
                    <a:lnTo>
                      <a:pt x="2" y="171"/>
                    </a:lnTo>
                    <a:lnTo>
                      <a:pt x="4" y="163"/>
                    </a:lnTo>
                    <a:lnTo>
                      <a:pt x="5" y="154"/>
                    </a:lnTo>
                    <a:lnTo>
                      <a:pt x="8" y="146"/>
                    </a:lnTo>
                    <a:lnTo>
                      <a:pt x="14" y="132"/>
                    </a:lnTo>
                    <a:lnTo>
                      <a:pt x="21" y="117"/>
                    </a:lnTo>
                    <a:lnTo>
                      <a:pt x="29" y="104"/>
                    </a:lnTo>
                    <a:lnTo>
                      <a:pt x="34" y="97"/>
                    </a:lnTo>
                    <a:lnTo>
                      <a:pt x="39" y="92"/>
                    </a:lnTo>
                    <a:lnTo>
                      <a:pt x="50" y="80"/>
                    </a:lnTo>
                    <a:lnTo>
                      <a:pt x="62" y="70"/>
                    </a:lnTo>
                    <a:lnTo>
                      <a:pt x="68" y="65"/>
                    </a:lnTo>
                    <a:lnTo>
                      <a:pt x="75" y="59"/>
                    </a:lnTo>
                    <a:lnTo>
                      <a:pt x="89" y="50"/>
                    </a:lnTo>
                    <a:lnTo>
                      <a:pt x="104" y="42"/>
                    </a:lnTo>
                    <a:lnTo>
                      <a:pt x="120" y="33"/>
                    </a:lnTo>
                    <a:lnTo>
                      <a:pt x="136" y="25"/>
                    </a:lnTo>
                    <a:lnTo>
                      <a:pt x="170" y="10"/>
                    </a:lnTo>
                    <a:lnTo>
                      <a:pt x="182" y="34"/>
                    </a:lnTo>
                    <a:lnTo>
                      <a:pt x="187" y="45"/>
                    </a:lnTo>
                    <a:lnTo>
                      <a:pt x="190" y="50"/>
                    </a:lnTo>
                    <a:lnTo>
                      <a:pt x="192" y="54"/>
                    </a:lnTo>
                    <a:lnTo>
                      <a:pt x="199" y="63"/>
                    </a:lnTo>
                    <a:lnTo>
                      <a:pt x="203" y="67"/>
                    </a:lnTo>
                    <a:lnTo>
                      <a:pt x="207" y="70"/>
                    </a:lnTo>
                    <a:lnTo>
                      <a:pt x="212" y="72"/>
                    </a:lnTo>
                    <a:lnTo>
                      <a:pt x="216" y="74"/>
                    </a:lnTo>
                    <a:lnTo>
                      <a:pt x="223" y="75"/>
                    </a:lnTo>
                    <a:lnTo>
                      <a:pt x="228" y="75"/>
                    </a:lnTo>
                    <a:lnTo>
                      <a:pt x="241" y="75"/>
                    </a:lnTo>
                    <a:lnTo>
                      <a:pt x="253" y="72"/>
                    </a:lnTo>
                    <a:lnTo>
                      <a:pt x="263" y="68"/>
                    </a:lnTo>
                    <a:lnTo>
                      <a:pt x="269" y="66"/>
                    </a:lnTo>
                    <a:lnTo>
                      <a:pt x="273" y="63"/>
                    </a:lnTo>
                    <a:lnTo>
                      <a:pt x="283" y="58"/>
                    </a:lnTo>
                    <a:lnTo>
                      <a:pt x="293" y="51"/>
                    </a:lnTo>
                    <a:lnTo>
                      <a:pt x="310" y="38"/>
                    </a:lnTo>
                    <a:lnTo>
                      <a:pt x="327" y="24"/>
                    </a:lnTo>
                    <a:lnTo>
                      <a:pt x="336" y="17"/>
                    </a:lnTo>
                    <a:lnTo>
                      <a:pt x="345" y="12"/>
                    </a:lnTo>
                    <a:lnTo>
                      <a:pt x="356" y="6"/>
                    </a:lnTo>
                    <a:lnTo>
                      <a:pt x="366" y="4"/>
                    </a:lnTo>
                    <a:lnTo>
                      <a:pt x="372" y="3"/>
                    </a:lnTo>
                    <a:lnTo>
                      <a:pt x="378" y="1"/>
                    </a:lnTo>
                    <a:lnTo>
                      <a:pt x="390" y="0"/>
                    </a:lnTo>
                    <a:lnTo>
                      <a:pt x="397" y="0"/>
                    </a:lnTo>
                    <a:lnTo>
                      <a:pt x="403" y="3"/>
                    </a:lnTo>
                    <a:lnTo>
                      <a:pt x="409" y="4"/>
                    </a:lnTo>
                    <a:lnTo>
                      <a:pt x="413" y="8"/>
                    </a:lnTo>
                    <a:lnTo>
                      <a:pt x="416" y="12"/>
                    </a:lnTo>
                    <a:lnTo>
                      <a:pt x="420" y="16"/>
                    </a:lnTo>
                    <a:lnTo>
                      <a:pt x="427" y="25"/>
                    </a:lnTo>
                    <a:lnTo>
                      <a:pt x="434" y="35"/>
                    </a:lnTo>
                    <a:lnTo>
                      <a:pt x="442" y="47"/>
                    </a:lnTo>
                    <a:lnTo>
                      <a:pt x="445" y="53"/>
                    </a:lnTo>
                    <a:lnTo>
                      <a:pt x="449" y="58"/>
                    </a:lnTo>
                    <a:lnTo>
                      <a:pt x="453" y="62"/>
                    </a:lnTo>
                    <a:lnTo>
                      <a:pt x="459" y="67"/>
                    </a:lnTo>
                    <a:lnTo>
                      <a:pt x="467" y="71"/>
                    </a:lnTo>
                    <a:lnTo>
                      <a:pt x="473" y="74"/>
                    </a:lnTo>
                    <a:lnTo>
                      <a:pt x="488" y="80"/>
                    </a:lnTo>
                    <a:lnTo>
                      <a:pt x="494" y="83"/>
                    </a:lnTo>
                    <a:lnTo>
                      <a:pt x="498" y="87"/>
                    </a:lnTo>
                    <a:lnTo>
                      <a:pt x="502" y="92"/>
                    </a:lnTo>
                    <a:lnTo>
                      <a:pt x="502" y="96"/>
                    </a:lnTo>
                    <a:lnTo>
                      <a:pt x="504" y="100"/>
                    </a:lnTo>
                    <a:lnTo>
                      <a:pt x="502" y="103"/>
                    </a:lnTo>
                    <a:lnTo>
                      <a:pt x="502" y="107"/>
                    </a:lnTo>
                    <a:lnTo>
                      <a:pt x="501" y="109"/>
                    </a:lnTo>
                    <a:lnTo>
                      <a:pt x="500" y="112"/>
                    </a:lnTo>
                    <a:lnTo>
                      <a:pt x="494" y="116"/>
                    </a:lnTo>
                    <a:lnTo>
                      <a:pt x="490" y="121"/>
                    </a:lnTo>
                    <a:lnTo>
                      <a:pt x="485" y="125"/>
                    </a:lnTo>
                    <a:lnTo>
                      <a:pt x="481" y="130"/>
                    </a:lnTo>
                    <a:lnTo>
                      <a:pt x="480" y="133"/>
                    </a:lnTo>
                    <a:lnTo>
                      <a:pt x="478" y="136"/>
                    </a:lnTo>
                    <a:lnTo>
                      <a:pt x="477" y="138"/>
                    </a:lnTo>
                    <a:lnTo>
                      <a:pt x="477" y="142"/>
                    </a:lnTo>
                    <a:lnTo>
                      <a:pt x="477" y="145"/>
                    </a:lnTo>
                    <a:lnTo>
                      <a:pt x="478" y="148"/>
                    </a:lnTo>
                    <a:lnTo>
                      <a:pt x="481" y="152"/>
                    </a:lnTo>
                    <a:lnTo>
                      <a:pt x="484" y="155"/>
                    </a:lnTo>
                    <a:lnTo>
                      <a:pt x="485" y="157"/>
                    </a:lnTo>
                    <a:lnTo>
                      <a:pt x="485" y="159"/>
                    </a:lnTo>
                    <a:lnTo>
                      <a:pt x="492" y="159"/>
                    </a:lnTo>
                    <a:lnTo>
                      <a:pt x="497" y="158"/>
                    </a:lnTo>
                    <a:lnTo>
                      <a:pt x="504" y="155"/>
                    </a:lnTo>
                    <a:lnTo>
                      <a:pt x="509" y="154"/>
                    </a:lnTo>
                    <a:lnTo>
                      <a:pt x="518" y="148"/>
                    </a:lnTo>
                    <a:lnTo>
                      <a:pt x="522" y="145"/>
                    </a:lnTo>
                    <a:lnTo>
                      <a:pt x="526" y="141"/>
                    </a:lnTo>
                    <a:lnTo>
                      <a:pt x="534" y="133"/>
                    </a:lnTo>
                    <a:lnTo>
                      <a:pt x="542" y="125"/>
                    </a:lnTo>
                    <a:lnTo>
                      <a:pt x="555" y="107"/>
                    </a:lnTo>
                    <a:lnTo>
                      <a:pt x="563" y="97"/>
                    </a:lnTo>
                    <a:lnTo>
                      <a:pt x="569" y="88"/>
                    </a:lnTo>
                    <a:lnTo>
                      <a:pt x="576" y="80"/>
                    </a:lnTo>
                    <a:lnTo>
                      <a:pt x="584" y="72"/>
                    </a:lnTo>
                    <a:lnTo>
                      <a:pt x="593" y="67"/>
                    </a:lnTo>
                    <a:lnTo>
                      <a:pt x="598" y="65"/>
                    </a:lnTo>
                    <a:lnTo>
                      <a:pt x="602" y="62"/>
                    </a:lnTo>
                    <a:lnTo>
                      <a:pt x="608" y="61"/>
                    </a:lnTo>
                    <a:lnTo>
                      <a:pt x="613" y="59"/>
                    </a:lnTo>
                    <a:lnTo>
                      <a:pt x="620" y="58"/>
                    </a:lnTo>
                    <a:lnTo>
                      <a:pt x="626" y="58"/>
                    </a:lnTo>
                    <a:lnTo>
                      <a:pt x="643" y="5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294160" y="376236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49" h="43">
                    <a:moveTo>
                      <a:pt x="8" y="0"/>
                    </a:moveTo>
                    <a:lnTo>
                      <a:pt x="25" y="19"/>
                    </a:lnTo>
                    <a:lnTo>
                      <a:pt x="36" y="27"/>
                    </a:lnTo>
                    <a:lnTo>
                      <a:pt x="49" y="34"/>
                    </a:lnTo>
                    <a:lnTo>
                      <a:pt x="44" y="43"/>
                    </a:lnTo>
                    <a:lnTo>
                      <a:pt x="31" y="37"/>
                    </a:lnTo>
                    <a:lnTo>
                      <a:pt x="17" y="26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318280" y="3778200"/>
                <a:ext cx="145800" cy="39960"/>
              </a:xfrm>
              <a:custGeom>
                <a:avLst/>
                <a:gdLst/>
                <a:ahLst/>
                <a:rect l="l" t="t" r="r" b="b"/>
                <a:pathLst>
                  <a:path w="284" h="75">
                    <a:moveTo>
                      <a:pt x="3" y="0"/>
                    </a:moveTo>
                    <a:lnTo>
                      <a:pt x="40" y="13"/>
                    </a:lnTo>
                    <a:lnTo>
                      <a:pt x="75" y="19"/>
                    </a:lnTo>
                    <a:lnTo>
                      <a:pt x="147" y="22"/>
                    </a:lnTo>
                    <a:lnTo>
                      <a:pt x="182" y="25"/>
                    </a:lnTo>
                    <a:lnTo>
                      <a:pt x="201" y="27"/>
                    </a:lnTo>
                    <a:lnTo>
                      <a:pt x="216" y="31"/>
                    </a:lnTo>
                    <a:lnTo>
                      <a:pt x="252" y="44"/>
                    </a:lnTo>
                    <a:lnTo>
                      <a:pt x="284" y="65"/>
                    </a:lnTo>
                    <a:lnTo>
                      <a:pt x="278" y="75"/>
                    </a:lnTo>
                    <a:lnTo>
                      <a:pt x="247" y="54"/>
                    </a:lnTo>
                    <a:lnTo>
                      <a:pt x="214" y="42"/>
                    </a:lnTo>
                    <a:lnTo>
                      <a:pt x="198" y="38"/>
                    </a:lnTo>
                    <a:lnTo>
                      <a:pt x="181" y="35"/>
                    </a:lnTo>
                    <a:lnTo>
                      <a:pt x="147" y="33"/>
                    </a:lnTo>
                    <a:lnTo>
                      <a:pt x="74" y="30"/>
                    </a:lnTo>
                    <a:lnTo>
                      <a:pt x="37" y="23"/>
                    </a:lnTo>
                    <a:lnTo>
                      <a:pt x="0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316480" y="3778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1" y="1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460840" y="3813480"/>
                <a:ext cx="32040" cy="60120"/>
              </a:xfrm>
              <a:custGeom>
                <a:avLst/>
                <a:gdLst/>
                <a:ahLst/>
                <a:rect l="l" t="t" r="r" b="b"/>
                <a:pathLst>
                  <a:path w="62" h="115">
                    <a:moveTo>
                      <a:pt x="8" y="0"/>
                    </a:moveTo>
                    <a:lnTo>
                      <a:pt x="19" y="12"/>
                    </a:lnTo>
                    <a:lnTo>
                      <a:pt x="27" y="25"/>
                    </a:lnTo>
                    <a:lnTo>
                      <a:pt x="37" y="54"/>
                    </a:lnTo>
                    <a:lnTo>
                      <a:pt x="45" y="82"/>
                    </a:lnTo>
                    <a:lnTo>
                      <a:pt x="52" y="95"/>
                    </a:lnTo>
                    <a:lnTo>
                      <a:pt x="62" y="108"/>
                    </a:lnTo>
                    <a:lnTo>
                      <a:pt x="54" y="115"/>
                    </a:lnTo>
                    <a:lnTo>
                      <a:pt x="42" y="100"/>
                    </a:lnTo>
                    <a:lnTo>
                      <a:pt x="36" y="87"/>
                    </a:lnTo>
                    <a:lnTo>
                      <a:pt x="27" y="57"/>
                    </a:lnTo>
                    <a:lnTo>
                      <a:pt x="17" y="30"/>
                    </a:lnTo>
                    <a:lnTo>
                      <a:pt x="11" y="18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460840" y="3813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7" y="0"/>
                    </a:moveTo>
                    <a:lnTo>
                      <a:pt x="8" y="2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354640" y="3868920"/>
                <a:ext cx="136440" cy="63360"/>
              </a:xfrm>
              <a:custGeom>
                <a:avLst/>
                <a:gdLst/>
                <a:ahLst/>
                <a:rect l="l" t="t" r="r" b="b"/>
                <a:pathLst>
                  <a:path w="265" h="122">
                    <a:moveTo>
                      <a:pt x="265" y="8"/>
                    </a:moveTo>
                    <a:lnTo>
                      <a:pt x="201" y="52"/>
                    </a:lnTo>
                    <a:lnTo>
                      <a:pt x="171" y="72"/>
                    </a:lnTo>
                    <a:lnTo>
                      <a:pt x="142" y="91"/>
                    </a:lnTo>
                    <a:lnTo>
                      <a:pt x="111" y="104"/>
                    </a:lnTo>
                    <a:lnTo>
                      <a:pt x="76" y="114"/>
                    </a:lnTo>
                    <a:lnTo>
                      <a:pt x="41" y="121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38" y="112"/>
                    </a:lnTo>
                    <a:lnTo>
                      <a:pt x="72" y="105"/>
                    </a:lnTo>
                    <a:lnTo>
                      <a:pt x="105" y="95"/>
                    </a:lnTo>
                    <a:lnTo>
                      <a:pt x="137" y="81"/>
                    </a:lnTo>
                    <a:lnTo>
                      <a:pt x="165" y="64"/>
                    </a:lnTo>
                    <a:lnTo>
                      <a:pt x="195" y="44"/>
                    </a:lnTo>
                    <a:lnTo>
                      <a:pt x="258" y="0"/>
                    </a:lnTo>
                    <a:lnTo>
                      <a:pt x="265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487840" y="38689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8" y="1"/>
                    </a:moveTo>
                    <a:lnTo>
                      <a:pt x="11" y="5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315040" y="3926160"/>
                <a:ext cx="39600" cy="612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311800" y="391176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0" y="29"/>
                    </a:moveTo>
                    <a:lnTo>
                      <a:pt x="5" y="16"/>
                    </a:lnTo>
                    <a:lnTo>
                      <a:pt x="6" y="0"/>
                    </a:lnTo>
                    <a:lnTo>
                      <a:pt x="15" y="4"/>
                    </a:lnTo>
                    <a:lnTo>
                      <a:pt x="14" y="20"/>
                    </a:lnTo>
                    <a:lnTo>
                      <a:pt x="9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310360" y="39261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8" y="10"/>
                    </a:moveTo>
                    <a:lnTo>
                      <a:pt x="0" y="10"/>
                    </a:lnTo>
                    <a:lnTo>
                      <a:pt x="3" y="2"/>
                    </a:lnTo>
                    <a:lnTo>
                      <a:pt x="12" y="8"/>
                    </a:lnTo>
                    <a:lnTo>
                      <a:pt x="8" y="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315040" y="3911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5"/>
                    </a:moveTo>
                    <a:lnTo>
                      <a:pt x="11" y="0"/>
                    </a:lnTo>
                    <a:lnTo>
                      <a:pt x="1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294160" y="38530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50" h="66">
                    <a:moveTo>
                      <a:pt x="41" y="66"/>
                    </a:moveTo>
                    <a:lnTo>
                      <a:pt x="40" y="57"/>
                    </a:lnTo>
                    <a:lnTo>
                      <a:pt x="37" y="50"/>
                    </a:lnTo>
                    <a:lnTo>
                      <a:pt x="33" y="44"/>
                    </a:lnTo>
                    <a:lnTo>
                      <a:pt x="27" y="37"/>
                    </a:lnTo>
                    <a:lnTo>
                      <a:pt x="14" y="24"/>
                    </a:lnTo>
                    <a:lnTo>
                      <a:pt x="7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15" y="10"/>
                    </a:lnTo>
                    <a:lnTo>
                      <a:pt x="20" y="16"/>
                    </a:lnTo>
                    <a:lnTo>
                      <a:pt x="33" y="29"/>
                    </a:lnTo>
                    <a:lnTo>
                      <a:pt x="41" y="37"/>
                    </a:lnTo>
                    <a:lnTo>
                      <a:pt x="47" y="45"/>
                    </a:lnTo>
                    <a:lnTo>
                      <a:pt x="49" y="54"/>
                    </a:lnTo>
                    <a:lnTo>
                      <a:pt x="50" y="66"/>
                    </a:lnTo>
                    <a:lnTo>
                      <a:pt x="41" y="6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292720" y="38451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9" y="14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" y="21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283360" y="3835440"/>
                <a:ext cx="14040" cy="3024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22" y="56"/>
                    </a:moveTo>
                    <a:lnTo>
                      <a:pt x="22" y="41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1" y="13"/>
                    </a:lnTo>
                    <a:lnTo>
                      <a:pt x="6" y="10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10" y="1"/>
                    </a:lnTo>
                    <a:lnTo>
                      <a:pt x="18" y="5"/>
                    </a:lnTo>
                    <a:lnTo>
                      <a:pt x="23" y="12"/>
                    </a:lnTo>
                    <a:lnTo>
                      <a:pt x="27" y="19"/>
                    </a:lnTo>
                    <a:lnTo>
                      <a:pt x="31" y="38"/>
                    </a:lnTo>
                    <a:lnTo>
                      <a:pt x="31" y="56"/>
                    </a:lnTo>
                    <a:lnTo>
                      <a:pt x="22" y="5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292720" y="38656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57800" y="38354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50" h="71">
                    <a:moveTo>
                      <a:pt x="50" y="9"/>
                    </a:moveTo>
                    <a:lnTo>
                      <a:pt x="40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20" y="29"/>
                    </a:lnTo>
                    <a:lnTo>
                      <a:pt x="16" y="38"/>
                    </a:lnTo>
                    <a:lnTo>
                      <a:pt x="13" y="47"/>
                    </a:lnTo>
                    <a:lnTo>
                      <a:pt x="11" y="71"/>
                    </a:lnTo>
                    <a:lnTo>
                      <a:pt x="0" y="71"/>
                    </a:lnTo>
                    <a:lnTo>
                      <a:pt x="3" y="46"/>
                    </a:lnTo>
                    <a:lnTo>
                      <a:pt x="5" y="35"/>
                    </a:lnTo>
                    <a:lnTo>
                      <a:pt x="11" y="23"/>
                    </a:lnTo>
                    <a:lnTo>
                      <a:pt x="17" y="14"/>
                    </a:lnTo>
                    <a:lnTo>
                      <a:pt x="25" y="6"/>
                    </a:lnTo>
                    <a:lnTo>
                      <a:pt x="36" y="1"/>
                    </a:lnTo>
                    <a:lnTo>
                      <a:pt x="48" y="0"/>
                    </a:lnTo>
                    <a:lnTo>
                      <a:pt x="5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3360" y="38354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57800" y="387360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11" y="0"/>
                    </a:moveTo>
                    <a:lnTo>
                      <a:pt x="13" y="47"/>
                    </a:lnTo>
                    <a:lnTo>
                      <a:pt x="3" y="47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257800" y="387360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254560" y="389736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18" h="41">
                    <a:moveTo>
                      <a:pt x="18" y="0"/>
                    </a:moveTo>
                    <a:lnTo>
                      <a:pt x="17" y="11"/>
                    </a:lnTo>
                    <a:lnTo>
                      <a:pt x="14" y="21"/>
                    </a:lnTo>
                    <a:lnTo>
                      <a:pt x="12" y="31"/>
                    </a:lnTo>
                    <a:lnTo>
                      <a:pt x="10" y="41"/>
                    </a:lnTo>
                    <a:lnTo>
                      <a:pt x="0" y="41"/>
                    </a:lnTo>
                    <a:lnTo>
                      <a:pt x="1" y="29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259240" y="389736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254560" y="39182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10" y="0"/>
                    </a:moveTo>
                    <a:lnTo>
                      <a:pt x="12" y="13"/>
                    </a:lnTo>
                    <a:lnTo>
                      <a:pt x="21" y="27"/>
                    </a:lnTo>
                    <a:lnTo>
                      <a:pt x="32" y="36"/>
                    </a:lnTo>
                    <a:lnTo>
                      <a:pt x="47" y="44"/>
                    </a:lnTo>
                    <a:lnTo>
                      <a:pt x="42" y="53"/>
                    </a:lnTo>
                    <a:lnTo>
                      <a:pt x="26" y="45"/>
                    </a:lnTo>
                    <a:lnTo>
                      <a:pt x="13" y="33"/>
                    </a:lnTo>
                    <a:lnTo>
                      <a:pt x="2" y="19"/>
                    </a:lnTo>
                    <a:lnTo>
                      <a:pt x="0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235480" y="394200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87" h="74">
                    <a:moveTo>
                      <a:pt x="87" y="7"/>
                    </a:moveTo>
                    <a:lnTo>
                      <a:pt x="52" y="50"/>
                    </a:lnTo>
                    <a:lnTo>
                      <a:pt x="40" y="59"/>
                    </a:lnTo>
                    <a:lnTo>
                      <a:pt x="30" y="67"/>
                    </a:lnTo>
                    <a:lnTo>
                      <a:pt x="17" y="73"/>
                    </a:lnTo>
                    <a:lnTo>
                      <a:pt x="2" y="74"/>
                    </a:lnTo>
                    <a:lnTo>
                      <a:pt x="0" y="65"/>
                    </a:lnTo>
                    <a:lnTo>
                      <a:pt x="13" y="63"/>
                    </a:lnTo>
                    <a:lnTo>
                      <a:pt x="25" y="58"/>
                    </a:lnTo>
                    <a:lnTo>
                      <a:pt x="34" y="51"/>
                    </a:lnTo>
                    <a:lnTo>
                      <a:pt x="44" y="44"/>
                    </a:lnTo>
                    <a:lnTo>
                      <a:pt x="79" y="0"/>
                    </a:lnTo>
                    <a:lnTo>
                      <a:pt x="87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276880" y="394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6" y="0"/>
                    </a:moveTo>
                    <a:lnTo>
                      <a:pt x="12" y="2"/>
                    </a:lnTo>
                    <a:lnTo>
                      <a:pt x="8" y="8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38640" y="3946680"/>
                <a:ext cx="96840" cy="33480"/>
              </a:xfrm>
              <a:custGeom>
                <a:avLst/>
                <a:gdLst/>
                <a:ahLst/>
                <a:rect l="l" t="t" r="r" b="b"/>
                <a:pathLst>
                  <a:path w="189" h="67">
                    <a:moveTo>
                      <a:pt x="189" y="67"/>
                    </a:moveTo>
                    <a:lnTo>
                      <a:pt x="160" y="64"/>
                    </a:lnTo>
                    <a:lnTo>
                      <a:pt x="135" y="58"/>
                    </a:lnTo>
                    <a:lnTo>
                      <a:pt x="114" y="48"/>
                    </a:lnTo>
                    <a:lnTo>
                      <a:pt x="93" y="38"/>
                    </a:lnTo>
                    <a:lnTo>
                      <a:pt x="72" y="27"/>
                    </a:lnTo>
                    <a:lnTo>
                      <a:pt x="49" y="18"/>
                    </a:lnTo>
                    <a:lnTo>
                      <a:pt x="27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9" y="2"/>
                    </a:lnTo>
                    <a:lnTo>
                      <a:pt x="53" y="9"/>
                    </a:lnTo>
                    <a:lnTo>
                      <a:pt x="77" y="18"/>
                    </a:lnTo>
                    <a:lnTo>
                      <a:pt x="98" y="29"/>
                    </a:lnTo>
                    <a:lnTo>
                      <a:pt x="119" y="39"/>
                    </a:lnTo>
                    <a:lnTo>
                      <a:pt x="139" y="48"/>
                    </a:lnTo>
                    <a:lnTo>
                      <a:pt x="163" y="55"/>
                    </a:lnTo>
                    <a:lnTo>
                      <a:pt x="189" y="58"/>
                    </a:lnTo>
                    <a:lnTo>
                      <a:pt x="189" y="6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35480" y="39751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9"/>
                    </a:moveTo>
                    <a:lnTo>
                      <a:pt x="1" y="9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089680" y="394668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98" h="29">
                    <a:moveTo>
                      <a:pt x="98" y="9"/>
                    </a:moveTo>
                    <a:lnTo>
                      <a:pt x="73" y="12"/>
                    </a:lnTo>
                    <a:lnTo>
                      <a:pt x="50" y="18"/>
                    </a:lnTo>
                    <a:lnTo>
                      <a:pt x="29" y="25"/>
                    </a:lnTo>
                    <a:lnTo>
                      <a:pt x="3" y="29"/>
                    </a:lnTo>
                    <a:lnTo>
                      <a:pt x="0" y="19"/>
                    </a:lnTo>
                    <a:lnTo>
                      <a:pt x="25" y="15"/>
                    </a:lnTo>
                    <a:lnTo>
                      <a:pt x="46" y="9"/>
                    </a:lnTo>
                    <a:lnTo>
                      <a:pt x="69" y="2"/>
                    </a:lnTo>
                    <a:lnTo>
                      <a:pt x="95" y="0"/>
                    </a:lnTo>
                    <a:lnTo>
                      <a:pt x="98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138640" y="39466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1" y="0"/>
                    </a:moveTo>
                    <a:lnTo>
                      <a:pt x="0" y="0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016600" y="3892680"/>
                <a:ext cx="71280" cy="68400"/>
              </a:xfrm>
              <a:custGeom>
                <a:avLst/>
                <a:gdLst/>
                <a:ahLst/>
                <a:rect l="l" t="t" r="r" b="b"/>
                <a:pathLst>
                  <a:path w="142" h="132">
                    <a:moveTo>
                      <a:pt x="142" y="132"/>
                    </a:moveTo>
                    <a:lnTo>
                      <a:pt x="117" y="128"/>
                    </a:lnTo>
                    <a:lnTo>
                      <a:pt x="95" y="118"/>
                    </a:lnTo>
                    <a:lnTo>
                      <a:pt x="76" y="105"/>
                    </a:lnTo>
                    <a:lnTo>
                      <a:pt x="61" y="88"/>
                    </a:lnTo>
                    <a:lnTo>
                      <a:pt x="32" y="49"/>
                    </a:lnTo>
                    <a:lnTo>
                      <a:pt x="17" y="27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25" y="21"/>
                    </a:lnTo>
                    <a:lnTo>
                      <a:pt x="40" y="42"/>
                    </a:lnTo>
                    <a:lnTo>
                      <a:pt x="69" y="82"/>
                    </a:lnTo>
                    <a:lnTo>
                      <a:pt x="83" y="97"/>
                    </a:lnTo>
                    <a:lnTo>
                      <a:pt x="100" y="111"/>
                    </a:lnTo>
                    <a:lnTo>
                      <a:pt x="120" y="118"/>
                    </a:lnTo>
                    <a:lnTo>
                      <a:pt x="142" y="122"/>
                    </a:lnTo>
                    <a:lnTo>
                      <a:pt x="142" y="13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087880" y="395604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1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962600" y="383544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113" h="118">
                    <a:moveTo>
                      <a:pt x="106" y="118"/>
                    </a:moveTo>
                    <a:lnTo>
                      <a:pt x="90" y="104"/>
                    </a:lnTo>
                    <a:lnTo>
                      <a:pt x="73" y="91"/>
                    </a:lnTo>
                    <a:lnTo>
                      <a:pt x="39" y="67"/>
                    </a:lnTo>
                    <a:lnTo>
                      <a:pt x="24" y="55"/>
                    </a:lnTo>
                    <a:lnTo>
                      <a:pt x="12" y="42"/>
                    </a:lnTo>
                    <a:lnTo>
                      <a:pt x="3" y="23"/>
                    </a:lnTo>
                    <a:lnTo>
                      <a:pt x="0" y="2"/>
                    </a:lnTo>
                    <a:lnTo>
                      <a:pt x="10" y="0"/>
                    </a:lnTo>
                    <a:lnTo>
                      <a:pt x="12" y="19"/>
                    </a:lnTo>
                    <a:lnTo>
                      <a:pt x="20" y="35"/>
                    </a:lnTo>
                    <a:lnTo>
                      <a:pt x="31" y="47"/>
                    </a:lnTo>
                    <a:lnTo>
                      <a:pt x="45" y="59"/>
                    </a:lnTo>
                    <a:lnTo>
                      <a:pt x="80" y="83"/>
                    </a:lnTo>
                    <a:lnTo>
                      <a:pt x="97" y="96"/>
                    </a:lnTo>
                    <a:lnTo>
                      <a:pt x="113" y="110"/>
                    </a:lnTo>
                    <a:lnTo>
                      <a:pt x="106" y="11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962600" y="3735360"/>
                <a:ext cx="90360" cy="100080"/>
              </a:xfrm>
              <a:custGeom>
                <a:avLst/>
                <a:gdLst/>
                <a:ahLst/>
                <a:rect l="l" t="t" r="r" b="b"/>
                <a:pathLst>
                  <a:path w="178" h="193">
                    <a:moveTo>
                      <a:pt x="0" y="193"/>
                    </a:moveTo>
                    <a:lnTo>
                      <a:pt x="2" y="173"/>
                    </a:lnTo>
                    <a:lnTo>
                      <a:pt x="4" y="156"/>
                    </a:lnTo>
                    <a:lnTo>
                      <a:pt x="8" y="139"/>
                    </a:lnTo>
                    <a:lnTo>
                      <a:pt x="14" y="123"/>
                    </a:lnTo>
                    <a:lnTo>
                      <a:pt x="31" y="95"/>
                    </a:lnTo>
                    <a:lnTo>
                      <a:pt x="52" y="70"/>
                    </a:lnTo>
                    <a:lnTo>
                      <a:pt x="77" y="49"/>
                    </a:lnTo>
                    <a:lnTo>
                      <a:pt x="107" y="32"/>
                    </a:lnTo>
                    <a:lnTo>
                      <a:pt x="139" y="15"/>
                    </a:lnTo>
                    <a:lnTo>
                      <a:pt x="173" y="0"/>
                    </a:lnTo>
                    <a:lnTo>
                      <a:pt x="178" y="10"/>
                    </a:lnTo>
                    <a:lnTo>
                      <a:pt x="144" y="24"/>
                    </a:lnTo>
                    <a:lnTo>
                      <a:pt x="113" y="41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39" y="102"/>
                    </a:lnTo>
                    <a:lnTo>
                      <a:pt x="23" y="128"/>
                    </a:lnTo>
                    <a:lnTo>
                      <a:pt x="18" y="143"/>
                    </a:lnTo>
                    <a:lnTo>
                      <a:pt x="14" y="160"/>
                    </a:lnTo>
                    <a:lnTo>
                      <a:pt x="11" y="176"/>
                    </a:lnTo>
                    <a:lnTo>
                      <a:pt x="10" y="193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962600" y="3835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0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049720" y="373716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9" y="0"/>
                    </a:moveTo>
                    <a:lnTo>
                      <a:pt x="19" y="24"/>
                    </a:lnTo>
                    <a:lnTo>
                      <a:pt x="31" y="43"/>
                    </a:lnTo>
                    <a:lnTo>
                      <a:pt x="37" y="51"/>
                    </a:lnTo>
                    <a:lnTo>
                      <a:pt x="44" y="58"/>
                    </a:lnTo>
                    <a:lnTo>
                      <a:pt x="52" y="60"/>
                    </a:lnTo>
                    <a:lnTo>
                      <a:pt x="63" y="62"/>
                    </a:lnTo>
                    <a:lnTo>
                      <a:pt x="62" y="72"/>
                    </a:lnTo>
                    <a:lnTo>
                      <a:pt x="50" y="71"/>
                    </a:lnTo>
                    <a:lnTo>
                      <a:pt x="39" y="67"/>
                    </a:lnTo>
                    <a:lnTo>
                      <a:pt x="30" y="59"/>
                    </a:lnTo>
                    <a:lnTo>
                      <a:pt x="22" y="49"/>
                    </a:lnTo>
                    <a:lnTo>
                      <a:pt x="10" y="29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049720" y="37339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2" y="2"/>
                    </a:moveTo>
                    <a:lnTo>
                      <a:pt x="7" y="0"/>
                    </a:lnTo>
                    <a:lnTo>
                      <a:pt x="9" y="4"/>
                    </a:lnTo>
                    <a:lnTo>
                      <a:pt x="0" y="9"/>
                    </a:lnTo>
                    <a:lnTo>
                      <a:pt x="7" y="1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083200" y="3730680"/>
                <a:ext cx="82440" cy="44640"/>
              </a:xfrm>
              <a:custGeom>
                <a:avLst/>
                <a:gdLst/>
                <a:ahLst/>
                <a:rect l="l" t="t" r="r" b="b"/>
                <a:pathLst>
                  <a:path w="162" h="85">
                    <a:moveTo>
                      <a:pt x="0" y="75"/>
                    </a:moveTo>
                    <a:lnTo>
                      <a:pt x="24" y="72"/>
                    </a:lnTo>
                    <a:lnTo>
                      <a:pt x="42" y="64"/>
                    </a:lnTo>
                    <a:lnTo>
                      <a:pt x="59" y="52"/>
                    </a:lnTo>
                    <a:lnTo>
                      <a:pt x="78" y="39"/>
                    </a:lnTo>
                    <a:lnTo>
                      <a:pt x="95" y="25"/>
                    </a:lnTo>
                    <a:lnTo>
                      <a:pt x="115" y="13"/>
                    </a:lnTo>
                    <a:lnTo>
                      <a:pt x="125" y="8"/>
                    </a:lnTo>
                    <a:lnTo>
                      <a:pt x="137" y="2"/>
                    </a:lnTo>
                    <a:lnTo>
                      <a:pt x="149" y="1"/>
                    </a:lnTo>
                    <a:lnTo>
                      <a:pt x="162" y="0"/>
                    </a:lnTo>
                    <a:lnTo>
                      <a:pt x="162" y="10"/>
                    </a:lnTo>
                    <a:lnTo>
                      <a:pt x="150" y="11"/>
                    </a:lnTo>
                    <a:lnTo>
                      <a:pt x="140" y="13"/>
                    </a:lnTo>
                    <a:lnTo>
                      <a:pt x="129" y="17"/>
                    </a:lnTo>
                    <a:lnTo>
                      <a:pt x="120" y="22"/>
                    </a:lnTo>
                    <a:lnTo>
                      <a:pt x="101" y="33"/>
                    </a:lnTo>
                    <a:lnTo>
                      <a:pt x="84" y="47"/>
                    </a:lnTo>
                    <a:lnTo>
                      <a:pt x="66" y="60"/>
                    </a:lnTo>
                    <a:lnTo>
                      <a:pt x="47" y="73"/>
                    </a:lnTo>
                    <a:lnTo>
                      <a:pt x="26" y="83"/>
                    </a:lnTo>
                    <a:lnTo>
                      <a:pt x="1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081760" y="376884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10"/>
                    </a:moveTo>
                    <a:lnTo>
                      <a:pt x="1" y="10"/>
                    </a:lnTo>
                    <a:lnTo>
                      <a:pt x="2" y="10"/>
                    </a:lnTo>
                    <a:lnTo>
                      <a:pt x="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164200" y="3730680"/>
                <a:ext cx="38160" cy="3960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1" y="0"/>
                    </a:moveTo>
                    <a:lnTo>
                      <a:pt x="14" y="1"/>
                    </a:lnTo>
                    <a:lnTo>
                      <a:pt x="26" y="9"/>
                    </a:lnTo>
                    <a:lnTo>
                      <a:pt x="35" y="18"/>
                    </a:lnTo>
                    <a:lnTo>
                      <a:pt x="42" y="27"/>
                    </a:lnTo>
                    <a:lnTo>
                      <a:pt x="56" y="50"/>
                    </a:lnTo>
                    <a:lnTo>
                      <a:pt x="64" y="60"/>
                    </a:lnTo>
                    <a:lnTo>
                      <a:pt x="72" y="68"/>
                    </a:lnTo>
                    <a:lnTo>
                      <a:pt x="66" y="76"/>
                    </a:lnTo>
                    <a:lnTo>
                      <a:pt x="56" y="67"/>
                    </a:lnTo>
                    <a:lnTo>
                      <a:pt x="47" y="55"/>
                    </a:lnTo>
                    <a:lnTo>
                      <a:pt x="33" y="33"/>
                    </a:lnTo>
                    <a:lnTo>
                      <a:pt x="27" y="25"/>
                    </a:lnTo>
                    <a:lnTo>
                      <a:pt x="20" y="17"/>
                    </a:lnTo>
                    <a:lnTo>
                      <a:pt x="12" y="11"/>
                    </a:lnTo>
                    <a:lnTo>
                      <a:pt x="0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200560" y="376560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51" h="37">
                    <a:moveTo>
                      <a:pt x="5" y="0"/>
                    </a:moveTo>
                    <a:lnTo>
                      <a:pt x="20" y="7"/>
                    </a:lnTo>
                    <a:lnTo>
                      <a:pt x="34" y="13"/>
                    </a:lnTo>
                    <a:lnTo>
                      <a:pt x="45" y="20"/>
                    </a:lnTo>
                    <a:lnTo>
                      <a:pt x="51" y="28"/>
                    </a:lnTo>
                    <a:lnTo>
                      <a:pt x="51" y="36"/>
                    </a:lnTo>
                    <a:lnTo>
                      <a:pt x="41" y="37"/>
                    </a:lnTo>
                    <a:lnTo>
                      <a:pt x="41" y="31"/>
                    </a:lnTo>
                    <a:lnTo>
                      <a:pt x="38" y="28"/>
                    </a:lnTo>
                    <a:lnTo>
                      <a:pt x="29" y="23"/>
                    </a:lnTo>
                    <a:lnTo>
                      <a:pt x="15" y="16"/>
                    </a:lnTo>
                    <a:lnTo>
                      <a:pt x="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207040" y="37832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35" y="2"/>
                    </a:moveTo>
                    <a:lnTo>
                      <a:pt x="35" y="11"/>
                    </a:lnTo>
                    <a:lnTo>
                      <a:pt x="30" y="19"/>
                    </a:lnTo>
                    <a:lnTo>
                      <a:pt x="22" y="28"/>
                    </a:lnTo>
                    <a:lnTo>
                      <a:pt x="13" y="36"/>
                    </a:lnTo>
                    <a:lnTo>
                      <a:pt x="10" y="47"/>
                    </a:lnTo>
                    <a:lnTo>
                      <a:pt x="0" y="44"/>
                    </a:lnTo>
                    <a:lnTo>
                      <a:pt x="4" y="31"/>
                    </a:lnTo>
                    <a:lnTo>
                      <a:pt x="14" y="22"/>
                    </a:lnTo>
                    <a:lnTo>
                      <a:pt x="22" y="12"/>
                    </a:lnTo>
                    <a:lnTo>
                      <a:pt x="25" y="8"/>
                    </a:lnTo>
                    <a:lnTo>
                      <a:pt x="25" y="0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207040" y="38052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0" y="0"/>
                    </a:moveTo>
                    <a:lnTo>
                      <a:pt x="10" y="4"/>
                    </a:lnTo>
                    <a:lnTo>
                      <a:pt x="13" y="8"/>
                    </a:lnTo>
                    <a:lnTo>
                      <a:pt x="17" y="16"/>
                    </a:lnTo>
                    <a:lnTo>
                      <a:pt x="8" y="21"/>
                    </a:lnTo>
                    <a:lnTo>
                      <a:pt x="4" y="13"/>
                    </a:lnTo>
                    <a:lnTo>
                      <a:pt x="1" y="9"/>
                    </a:lnTo>
                    <a:lnTo>
                      <a:pt x="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207040" y="38052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213520" y="3760920"/>
                <a:ext cx="72720" cy="57240"/>
              </a:xfrm>
              <a:custGeom>
                <a:avLst/>
                <a:gdLst/>
                <a:ahLst/>
                <a:rect l="l" t="t" r="r" b="b"/>
                <a:pathLst>
                  <a:path w="141" h="112">
                    <a:moveTo>
                      <a:pt x="0" y="101"/>
                    </a:moveTo>
                    <a:lnTo>
                      <a:pt x="11" y="99"/>
                    </a:lnTo>
                    <a:lnTo>
                      <a:pt x="20" y="96"/>
                    </a:lnTo>
                    <a:lnTo>
                      <a:pt x="37" y="84"/>
                    </a:lnTo>
                    <a:lnTo>
                      <a:pt x="53" y="70"/>
                    </a:lnTo>
                    <a:lnTo>
                      <a:pt x="66" y="51"/>
                    </a:lnTo>
                    <a:lnTo>
                      <a:pt x="80" y="33"/>
                    </a:lnTo>
                    <a:lnTo>
                      <a:pt x="95" y="15"/>
                    </a:lnTo>
                    <a:lnTo>
                      <a:pt x="116" y="4"/>
                    </a:lnTo>
                    <a:lnTo>
                      <a:pt x="140" y="0"/>
                    </a:lnTo>
                    <a:lnTo>
                      <a:pt x="141" y="10"/>
                    </a:lnTo>
                    <a:lnTo>
                      <a:pt x="119" y="14"/>
                    </a:lnTo>
                    <a:lnTo>
                      <a:pt x="102" y="23"/>
                    </a:lnTo>
                    <a:lnTo>
                      <a:pt x="88" y="39"/>
                    </a:lnTo>
                    <a:lnTo>
                      <a:pt x="74" y="58"/>
                    </a:lnTo>
                    <a:lnTo>
                      <a:pt x="61" y="76"/>
                    </a:lnTo>
                    <a:lnTo>
                      <a:pt x="44" y="92"/>
                    </a:lnTo>
                    <a:lnTo>
                      <a:pt x="25" y="105"/>
                    </a:lnTo>
                    <a:lnTo>
                      <a:pt x="13" y="109"/>
                    </a:lnTo>
                    <a:lnTo>
                      <a:pt x="1" y="112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211720" y="38116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8"/>
                    </a:moveTo>
                    <a:lnTo>
                      <a:pt x="2" y="12"/>
                    </a:lnTo>
                    <a:lnTo>
                      <a:pt x="6" y="11"/>
                    </a:lnTo>
                    <a:lnTo>
                      <a:pt x="5" y="0"/>
                    </a:lnTo>
                    <a:lnTo>
                      <a:pt x="9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286240" y="376092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0"/>
                    </a:moveTo>
                    <a:lnTo>
                      <a:pt x="18" y="1"/>
                    </a:lnTo>
                    <a:lnTo>
                      <a:pt x="18" y="12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294160" y="37609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0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946760" y="4122720"/>
                <a:ext cx="636480" cy="611280"/>
              </a:xfrm>
              <a:custGeom>
                <a:avLst/>
                <a:gdLst/>
                <a:ahLst/>
                <a:rect l="l" t="t" r="r" b="b"/>
                <a:pathLst>
                  <a:path w="1237" h="1183">
                    <a:moveTo>
                      <a:pt x="1032" y="988"/>
                    </a:moveTo>
                    <a:lnTo>
                      <a:pt x="1030" y="988"/>
                    </a:lnTo>
                    <a:lnTo>
                      <a:pt x="1030" y="990"/>
                    </a:lnTo>
                    <a:lnTo>
                      <a:pt x="1030" y="998"/>
                    </a:lnTo>
                    <a:lnTo>
                      <a:pt x="1030" y="1009"/>
                    </a:lnTo>
                    <a:lnTo>
                      <a:pt x="1032" y="1021"/>
                    </a:lnTo>
                    <a:lnTo>
                      <a:pt x="1034" y="1043"/>
                    </a:lnTo>
                    <a:lnTo>
                      <a:pt x="1036" y="1054"/>
                    </a:lnTo>
                    <a:lnTo>
                      <a:pt x="1046" y="1131"/>
                    </a:lnTo>
                    <a:lnTo>
                      <a:pt x="1088" y="1129"/>
                    </a:lnTo>
                    <a:lnTo>
                      <a:pt x="1123" y="1101"/>
                    </a:lnTo>
                    <a:lnTo>
                      <a:pt x="1132" y="1068"/>
                    </a:lnTo>
                    <a:lnTo>
                      <a:pt x="1112" y="1064"/>
                    </a:lnTo>
                    <a:lnTo>
                      <a:pt x="1108" y="1025"/>
                    </a:lnTo>
                    <a:lnTo>
                      <a:pt x="1067" y="999"/>
                    </a:lnTo>
                    <a:lnTo>
                      <a:pt x="1052" y="993"/>
                    </a:lnTo>
                    <a:lnTo>
                      <a:pt x="1040" y="989"/>
                    </a:lnTo>
                    <a:lnTo>
                      <a:pt x="1032" y="988"/>
                    </a:lnTo>
                    <a:close/>
                    <a:moveTo>
                      <a:pt x="428" y="595"/>
                    </a:moveTo>
                    <a:lnTo>
                      <a:pt x="422" y="704"/>
                    </a:lnTo>
                    <a:lnTo>
                      <a:pt x="473" y="704"/>
                    </a:lnTo>
                    <a:lnTo>
                      <a:pt x="473" y="600"/>
                    </a:lnTo>
                    <a:lnTo>
                      <a:pt x="428" y="595"/>
                    </a:lnTo>
                    <a:close/>
                    <a:moveTo>
                      <a:pt x="475" y="169"/>
                    </a:moveTo>
                    <a:lnTo>
                      <a:pt x="470" y="192"/>
                    </a:lnTo>
                    <a:lnTo>
                      <a:pt x="494" y="200"/>
                    </a:lnTo>
                    <a:lnTo>
                      <a:pt x="527" y="210"/>
                    </a:lnTo>
                    <a:lnTo>
                      <a:pt x="544" y="213"/>
                    </a:lnTo>
                    <a:lnTo>
                      <a:pt x="574" y="219"/>
                    </a:lnTo>
                    <a:lnTo>
                      <a:pt x="603" y="223"/>
                    </a:lnTo>
                    <a:lnTo>
                      <a:pt x="620" y="225"/>
                    </a:lnTo>
                    <a:lnTo>
                      <a:pt x="694" y="229"/>
                    </a:lnTo>
                    <a:lnTo>
                      <a:pt x="760" y="232"/>
                    </a:lnTo>
                    <a:lnTo>
                      <a:pt x="780" y="253"/>
                    </a:lnTo>
                    <a:lnTo>
                      <a:pt x="810" y="242"/>
                    </a:lnTo>
                    <a:lnTo>
                      <a:pt x="797" y="217"/>
                    </a:lnTo>
                    <a:lnTo>
                      <a:pt x="784" y="216"/>
                    </a:lnTo>
                    <a:lnTo>
                      <a:pt x="771" y="215"/>
                    </a:lnTo>
                    <a:lnTo>
                      <a:pt x="760" y="215"/>
                    </a:lnTo>
                    <a:lnTo>
                      <a:pt x="645" y="215"/>
                    </a:lnTo>
                    <a:lnTo>
                      <a:pt x="639" y="213"/>
                    </a:lnTo>
                    <a:lnTo>
                      <a:pt x="627" y="211"/>
                    </a:lnTo>
                    <a:lnTo>
                      <a:pt x="594" y="202"/>
                    </a:lnTo>
                    <a:lnTo>
                      <a:pt x="562" y="192"/>
                    </a:lnTo>
                    <a:lnTo>
                      <a:pt x="550" y="190"/>
                    </a:lnTo>
                    <a:lnTo>
                      <a:pt x="544" y="188"/>
                    </a:lnTo>
                    <a:lnTo>
                      <a:pt x="539" y="187"/>
                    </a:lnTo>
                    <a:lnTo>
                      <a:pt x="531" y="184"/>
                    </a:lnTo>
                    <a:lnTo>
                      <a:pt x="507" y="178"/>
                    </a:lnTo>
                    <a:lnTo>
                      <a:pt x="475" y="169"/>
                    </a:lnTo>
                    <a:close/>
                    <a:moveTo>
                      <a:pt x="843" y="99"/>
                    </a:moveTo>
                    <a:lnTo>
                      <a:pt x="848" y="121"/>
                    </a:lnTo>
                    <a:lnTo>
                      <a:pt x="855" y="144"/>
                    </a:lnTo>
                    <a:lnTo>
                      <a:pt x="859" y="159"/>
                    </a:lnTo>
                    <a:lnTo>
                      <a:pt x="864" y="175"/>
                    </a:lnTo>
                    <a:lnTo>
                      <a:pt x="870" y="191"/>
                    </a:lnTo>
                    <a:lnTo>
                      <a:pt x="875" y="206"/>
                    </a:lnTo>
                    <a:lnTo>
                      <a:pt x="880" y="219"/>
                    </a:lnTo>
                    <a:lnTo>
                      <a:pt x="887" y="232"/>
                    </a:lnTo>
                    <a:lnTo>
                      <a:pt x="897" y="260"/>
                    </a:lnTo>
                    <a:lnTo>
                      <a:pt x="908" y="286"/>
                    </a:lnTo>
                    <a:lnTo>
                      <a:pt x="912" y="299"/>
                    </a:lnTo>
                    <a:lnTo>
                      <a:pt x="916" y="314"/>
                    </a:lnTo>
                    <a:lnTo>
                      <a:pt x="920" y="328"/>
                    </a:lnTo>
                    <a:lnTo>
                      <a:pt x="921" y="344"/>
                    </a:lnTo>
                    <a:lnTo>
                      <a:pt x="924" y="360"/>
                    </a:lnTo>
                    <a:lnTo>
                      <a:pt x="924" y="377"/>
                    </a:lnTo>
                    <a:lnTo>
                      <a:pt x="924" y="476"/>
                    </a:lnTo>
                    <a:lnTo>
                      <a:pt x="925" y="494"/>
                    </a:lnTo>
                    <a:lnTo>
                      <a:pt x="926" y="513"/>
                    </a:lnTo>
                    <a:lnTo>
                      <a:pt x="930" y="530"/>
                    </a:lnTo>
                    <a:lnTo>
                      <a:pt x="933" y="538"/>
                    </a:lnTo>
                    <a:lnTo>
                      <a:pt x="935" y="546"/>
                    </a:lnTo>
                    <a:lnTo>
                      <a:pt x="942" y="560"/>
                    </a:lnTo>
                    <a:lnTo>
                      <a:pt x="949" y="575"/>
                    </a:lnTo>
                    <a:lnTo>
                      <a:pt x="958" y="589"/>
                    </a:lnTo>
                    <a:lnTo>
                      <a:pt x="967" y="603"/>
                    </a:lnTo>
                    <a:lnTo>
                      <a:pt x="942" y="595"/>
                    </a:lnTo>
                    <a:lnTo>
                      <a:pt x="917" y="587"/>
                    </a:lnTo>
                    <a:lnTo>
                      <a:pt x="904" y="581"/>
                    </a:lnTo>
                    <a:lnTo>
                      <a:pt x="892" y="575"/>
                    </a:lnTo>
                    <a:lnTo>
                      <a:pt x="864" y="559"/>
                    </a:lnTo>
                    <a:lnTo>
                      <a:pt x="854" y="551"/>
                    </a:lnTo>
                    <a:lnTo>
                      <a:pt x="842" y="543"/>
                    </a:lnTo>
                    <a:lnTo>
                      <a:pt x="830" y="534"/>
                    </a:lnTo>
                    <a:lnTo>
                      <a:pt x="819" y="526"/>
                    </a:lnTo>
                    <a:lnTo>
                      <a:pt x="814" y="523"/>
                    </a:lnTo>
                    <a:lnTo>
                      <a:pt x="808" y="521"/>
                    </a:lnTo>
                    <a:lnTo>
                      <a:pt x="802" y="518"/>
                    </a:lnTo>
                    <a:lnTo>
                      <a:pt x="797" y="518"/>
                    </a:lnTo>
                    <a:lnTo>
                      <a:pt x="792" y="518"/>
                    </a:lnTo>
                    <a:lnTo>
                      <a:pt x="786" y="519"/>
                    </a:lnTo>
                    <a:lnTo>
                      <a:pt x="781" y="521"/>
                    </a:lnTo>
                    <a:lnTo>
                      <a:pt x="776" y="525"/>
                    </a:lnTo>
                    <a:lnTo>
                      <a:pt x="779" y="531"/>
                    </a:lnTo>
                    <a:lnTo>
                      <a:pt x="782" y="538"/>
                    </a:lnTo>
                    <a:lnTo>
                      <a:pt x="790" y="548"/>
                    </a:lnTo>
                    <a:lnTo>
                      <a:pt x="794" y="555"/>
                    </a:lnTo>
                    <a:lnTo>
                      <a:pt x="797" y="560"/>
                    </a:lnTo>
                    <a:lnTo>
                      <a:pt x="800" y="567"/>
                    </a:lnTo>
                    <a:lnTo>
                      <a:pt x="800" y="571"/>
                    </a:lnTo>
                    <a:lnTo>
                      <a:pt x="801" y="575"/>
                    </a:lnTo>
                    <a:lnTo>
                      <a:pt x="800" y="579"/>
                    </a:lnTo>
                    <a:lnTo>
                      <a:pt x="798" y="584"/>
                    </a:lnTo>
                    <a:lnTo>
                      <a:pt x="796" y="589"/>
                    </a:lnTo>
                    <a:lnTo>
                      <a:pt x="796" y="593"/>
                    </a:lnTo>
                    <a:lnTo>
                      <a:pt x="767" y="593"/>
                    </a:lnTo>
                    <a:lnTo>
                      <a:pt x="757" y="593"/>
                    </a:lnTo>
                    <a:lnTo>
                      <a:pt x="750" y="591"/>
                    </a:lnTo>
                    <a:lnTo>
                      <a:pt x="742" y="588"/>
                    </a:lnTo>
                    <a:lnTo>
                      <a:pt x="735" y="584"/>
                    </a:lnTo>
                    <a:lnTo>
                      <a:pt x="727" y="580"/>
                    </a:lnTo>
                    <a:lnTo>
                      <a:pt x="721" y="577"/>
                    </a:lnTo>
                    <a:lnTo>
                      <a:pt x="713" y="575"/>
                    </a:lnTo>
                    <a:lnTo>
                      <a:pt x="703" y="575"/>
                    </a:lnTo>
                    <a:lnTo>
                      <a:pt x="694" y="573"/>
                    </a:lnTo>
                    <a:lnTo>
                      <a:pt x="688" y="572"/>
                    </a:lnTo>
                    <a:lnTo>
                      <a:pt x="680" y="570"/>
                    </a:lnTo>
                    <a:lnTo>
                      <a:pt x="673" y="566"/>
                    </a:lnTo>
                    <a:lnTo>
                      <a:pt x="661" y="556"/>
                    </a:lnTo>
                    <a:lnTo>
                      <a:pt x="649" y="547"/>
                    </a:lnTo>
                    <a:lnTo>
                      <a:pt x="639" y="537"/>
                    </a:lnTo>
                    <a:lnTo>
                      <a:pt x="632" y="533"/>
                    </a:lnTo>
                    <a:lnTo>
                      <a:pt x="630" y="530"/>
                    </a:lnTo>
                    <a:lnTo>
                      <a:pt x="626" y="529"/>
                    </a:lnTo>
                    <a:lnTo>
                      <a:pt x="619" y="525"/>
                    </a:lnTo>
                    <a:lnTo>
                      <a:pt x="612" y="522"/>
                    </a:lnTo>
                    <a:lnTo>
                      <a:pt x="604" y="521"/>
                    </a:lnTo>
                    <a:lnTo>
                      <a:pt x="597" y="519"/>
                    </a:lnTo>
                    <a:lnTo>
                      <a:pt x="581" y="521"/>
                    </a:lnTo>
                    <a:lnTo>
                      <a:pt x="573" y="522"/>
                    </a:lnTo>
                    <a:lnTo>
                      <a:pt x="565" y="523"/>
                    </a:lnTo>
                    <a:lnTo>
                      <a:pt x="549" y="527"/>
                    </a:lnTo>
                    <a:lnTo>
                      <a:pt x="535" y="533"/>
                    </a:lnTo>
                    <a:lnTo>
                      <a:pt x="528" y="537"/>
                    </a:lnTo>
                    <a:lnTo>
                      <a:pt x="521" y="541"/>
                    </a:lnTo>
                    <a:lnTo>
                      <a:pt x="516" y="544"/>
                    </a:lnTo>
                    <a:lnTo>
                      <a:pt x="512" y="550"/>
                    </a:lnTo>
                    <a:lnTo>
                      <a:pt x="508" y="556"/>
                    </a:lnTo>
                    <a:lnTo>
                      <a:pt x="506" y="562"/>
                    </a:lnTo>
                    <a:lnTo>
                      <a:pt x="503" y="570"/>
                    </a:lnTo>
                    <a:lnTo>
                      <a:pt x="503" y="576"/>
                    </a:lnTo>
                    <a:lnTo>
                      <a:pt x="503" y="583"/>
                    </a:lnTo>
                    <a:lnTo>
                      <a:pt x="506" y="588"/>
                    </a:lnTo>
                    <a:lnTo>
                      <a:pt x="508" y="592"/>
                    </a:lnTo>
                    <a:lnTo>
                      <a:pt x="512" y="596"/>
                    </a:lnTo>
                    <a:lnTo>
                      <a:pt x="516" y="599"/>
                    </a:lnTo>
                    <a:lnTo>
                      <a:pt x="521" y="600"/>
                    </a:lnTo>
                    <a:lnTo>
                      <a:pt x="533" y="604"/>
                    </a:lnTo>
                    <a:lnTo>
                      <a:pt x="546" y="606"/>
                    </a:lnTo>
                    <a:lnTo>
                      <a:pt x="560" y="610"/>
                    </a:lnTo>
                    <a:lnTo>
                      <a:pt x="565" y="613"/>
                    </a:lnTo>
                    <a:lnTo>
                      <a:pt x="571" y="616"/>
                    </a:lnTo>
                    <a:lnTo>
                      <a:pt x="577" y="620"/>
                    </a:lnTo>
                    <a:lnTo>
                      <a:pt x="582" y="624"/>
                    </a:lnTo>
                    <a:lnTo>
                      <a:pt x="585" y="628"/>
                    </a:lnTo>
                    <a:lnTo>
                      <a:pt x="587" y="630"/>
                    </a:lnTo>
                    <a:lnTo>
                      <a:pt x="591" y="638"/>
                    </a:lnTo>
                    <a:lnTo>
                      <a:pt x="595" y="646"/>
                    </a:lnTo>
                    <a:lnTo>
                      <a:pt x="597" y="654"/>
                    </a:lnTo>
                    <a:lnTo>
                      <a:pt x="598" y="662"/>
                    </a:lnTo>
                    <a:lnTo>
                      <a:pt x="598" y="670"/>
                    </a:lnTo>
                    <a:lnTo>
                      <a:pt x="598" y="687"/>
                    </a:lnTo>
                    <a:lnTo>
                      <a:pt x="597" y="704"/>
                    </a:lnTo>
                    <a:lnTo>
                      <a:pt x="598" y="721"/>
                    </a:lnTo>
                    <a:lnTo>
                      <a:pt x="599" y="729"/>
                    </a:lnTo>
                    <a:lnTo>
                      <a:pt x="602" y="738"/>
                    </a:lnTo>
                    <a:lnTo>
                      <a:pt x="606" y="746"/>
                    </a:lnTo>
                    <a:lnTo>
                      <a:pt x="611" y="753"/>
                    </a:lnTo>
                    <a:lnTo>
                      <a:pt x="616" y="759"/>
                    </a:lnTo>
                    <a:lnTo>
                      <a:pt x="622" y="765"/>
                    </a:lnTo>
                    <a:lnTo>
                      <a:pt x="628" y="769"/>
                    </a:lnTo>
                    <a:lnTo>
                      <a:pt x="633" y="773"/>
                    </a:lnTo>
                    <a:lnTo>
                      <a:pt x="645" y="779"/>
                    </a:lnTo>
                    <a:lnTo>
                      <a:pt x="659" y="783"/>
                    </a:lnTo>
                    <a:lnTo>
                      <a:pt x="672" y="786"/>
                    </a:lnTo>
                    <a:lnTo>
                      <a:pt x="686" y="787"/>
                    </a:lnTo>
                    <a:lnTo>
                      <a:pt x="702" y="787"/>
                    </a:lnTo>
                    <a:lnTo>
                      <a:pt x="718" y="787"/>
                    </a:lnTo>
                    <a:lnTo>
                      <a:pt x="722" y="787"/>
                    </a:lnTo>
                    <a:lnTo>
                      <a:pt x="727" y="787"/>
                    </a:lnTo>
                    <a:lnTo>
                      <a:pt x="735" y="783"/>
                    </a:lnTo>
                    <a:lnTo>
                      <a:pt x="742" y="779"/>
                    </a:lnTo>
                    <a:lnTo>
                      <a:pt x="747" y="773"/>
                    </a:lnTo>
                    <a:lnTo>
                      <a:pt x="752" y="766"/>
                    </a:lnTo>
                    <a:lnTo>
                      <a:pt x="757" y="758"/>
                    </a:lnTo>
                    <a:lnTo>
                      <a:pt x="765" y="741"/>
                    </a:lnTo>
                    <a:lnTo>
                      <a:pt x="769" y="732"/>
                    </a:lnTo>
                    <a:lnTo>
                      <a:pt x="773" y="724"/>
                    </a:lnTo>
                    <a:lnTo>
                      <a:pt x="779" y="716"/>
                    </a:lnTo>
                    <a:lnTo>
                      <a:pt x="784" y="708"/>
                    </a:lnTo>
                    <a:lnTo>
                      <a:pt x="786" y="705"/>
                    </a:lnTo>
                    <a:lnTo>
                      <a:pt x="789" y="703"/>
                    </a:lnTo>
                    <a:lnTo>
                      <a:pt x="796" y="697"/>
                    </a:lnTo>
                    <a:lnTo>
                      <a:pt x="800" y="696"/>
                    </a:lnTo>
                    <a:lnTo>
                      <a:pt x="804" y="695"/>
                    </a:lnTo>
                    <a:lnTo>
                      <a:pt x="808" y="695"/>
                    </a:lnTo>
                    <a:lnTo>
                      <a:pt x="813" y="694"/>
                    </a:lnTo>
                    <a:lnTo>
                      <a:pt x="833" y="695"/>
                    </a:lnTo>
                    <a:lnTo>
                      <a:pt x="852" y="697"/>
                    </a:lnTo>
                    <a:lnTo>
                      <a:pt x="862" y="700"/>
                    </a:lnTo>
                    <a:lnTo>
                      <a:pt x="870" y="703"/>
                    </a:lnTo>
                    <a:lnTo>
                      <a:pt x="879" y="707"/>
                    </a:lnTo>
                    <a:lnTo>
                      <a:pt x="887" y="711"/>
                    </a:lnTo>
                    <a:lnTo>
                      <a:pt x="895" y="716"/>
                    </a:lnTo>
                    <a:lnTo>
                      <a:pt x="901" y="721"/>
                    </a:lnTo>
                    <a:lnTo>
                      <a:pt x="908" y="728"/>
                    </a:lnTo>
                    <a:lnTo>
                      <a:pt x="914" y="734"/>
                    </a:lnTo>
                    <a:lnTo>
                      <a:pt x="918" y="741"/>
                    </a:lnTo>
                    <a:lnTo>
                      <a:pt x="924" y="750"/>
                    </a:lnTo>
                    <a:lnTo>
                      <a:pt x="926" y="758"/>
                    </a:lnTo>
                    <a:lnTo>
                      <a:pt x="929" y="767"/>
                    </a:lnTo>
                    <a:lnTo>
                      <a:pt x="921" y="771"/>
                    </a:lnTo>
                    <a:lnTo>
                      <a:pt x="913" y="775"/>
                    </a:lnTo>
                    <a:lnTo>
                      <a:pt x="905" y="781"/>
                    </a:lnTo>
                    <a:lnTo>
                      <a:pt x="900" y="784"/>
                    </a:lnTo>
                    <a:lnTo>
                      <a:pt x="893" y="791"/>
                    </a:lnTo>
                    <a:lnTo>
                      <a:pt x="888" y="796"/>
                    </a:lnTo>
                    <a:lnTo>
                      <a:pt x="884" y="804"/>
                    </a:lnTo>
                    <a:lnTo>
                      <a:pt x="879" y="812"/>
                    </a:lnTo>
                    <a:lnTo>
                      <a:pt x="933" y="812"/>
                    </a:lnTo>
                    <a:lnTo>
                      <a:pt x="938" y="812"/>
                    </a:lnTo>
                    <a:lnTo>
                      <a:pt x="943" y="814"/>
                    </a:lnTo>
                    <a:lnTo>
                      <a:pt x="949" y="815"/>
                    </a:lnTo>
                    <a:lnTo>
                      <a:pt x="951" y="816"/>
                    </a:lnTo>
                    <a:lnTo>
                      <a:pt x="954" y="816"/>
                    </a:lnTo>
                    <a:lnTo>
                      <a:pt x="958" y="819"/>
                    </a:lnTo>
                    <a:lnTo>
                      <a:pt x="963" y="821"/>
                    </a:lnTo>
                    <a:lnTo>
                      <a:pt x="971" y="828"/>
                    </a:lnTo>
                    <a:lnTo>
                      <a:pt x="978" y="835"/>
                    </a:lnTo>
                    <a:lnTo>
                      <a:pt x="986" y="843"/>
                    </a:lnTo>
                    <a:lnTo>
                      <a:pt x="995" y="849"/>
                    </a:lnTo>
                    <a:lnTo>
                      <a:pt x="1004" y="857"/>
                    </a:lnTo>
                    <a:lnTo>
                      <a:pt x="1008" y="852"/>
                    </a:lnTo>
                    <a:lnTo>
                      <a:pt x="1012" y="848"/>
                    </a:lnTo>
                    <a:lnTo>
                      <a:pt x="1015" y="841"/>
                    </a:lnTo>
                    <a:lnTo>
                      <a:pt x="1017" y="836"/>
                    </a:lnTo>
                    <a:lnTo>
                      <a:pt x="1026" y="814"/>
                    </a:lnTo>
                    <a:lnTo>
                      <a:pt x="1030" y="803"/>
                    </a:lnTo>
                    <a:lnTo>
                      <a:pt x="1034" y="799"/>
                    </a:lnTo>
                    <a:lnTo>
                      <a:pt x="1037" y="795"/>
                    </a:lnTo>
                    <a:lnTo>
                      <a:pt x="1041" y="792"/>
                    </a:lnTo>
                    <a:lnTo>
                      <a:pt x="1045" y="790"/>
                    </a:lnTo>
                    <a:lnTo>
                      <a:pt x="1050" y="788"/>
                    </a:lnTo>
                    <a:lnTo>
                      <a:pt x="1055" y="787"/>
                    </a:lnTo>
                    <a:lnTo>
                      <a:pt x="1065" y="788"/>
                    </a:lnTo>
                    <a:lnTo>
                      <a:pt x="1069" y="790"/>
                    </a:lnTo>
                    <a:lnTo>
                      <a:pt x="1073" y="792"/>
                    </a:lnTo>
                    <a:lnTo>
                      <a:pt x="1075" y="794"/>
                    </a:lnTo>
                    <a:lnTo>
                      <a:pt x="1078" y="796"/>
                    </a:lnTo>
                    <a:lnTo>
                      <a:pt x="1083" y="803"/>
                    </a:lnTo>
                    <a:lnTo>
                      <a:pt x="1086" y="807"/>
                    </a:lnTo>
                    <a:lnTo>
                      <a:pt x="1087" y="811"/>
                    </a:lnTo>
                    <a:lnTo>
                      <a:pt x="1091" y="819"/>
                    </a:lnTo>
                    <a:lnTo>
                      <a:pt x="1092" y="828"/>
                    </a:lnTo>
                    <a:lnTo>
                      <a:pt x="1092" y="837"/>
                    </a:lnTo>
                    <a:lnTo>
                      <a:pt x="1092" y="841"/>
                    </a:lnTo>
                    <a:lnTo>
                      <a:pt x="1091" y="846"/>
                    </a:lnTo>
                    <a:lnTo>
                      <a:pt x="1090" y="850"/>
                    </a:lnTo>
                    <a:lnTo>
                      <a:pt x="1088" y="854"/>
                    </a:lnTo>
                    <a:lnTo>
                      <a:pt x="1083" y="861"/>
                    </a:lnTo>
                    <a:lnTo>
                      <a:pt x="1078" y="868"/>
                    </a:lnTo>
                    <a:lnTo>
                      <a:pt x="1073" y="874"/>
                    </a:lnTo>
                    <a:lnTo>
                      <a:pt x="1067" y="881"/>
                    </a:lnTo>
                    <a:lnTo>
                      <a:pt x="1066" y="885"/>
                    </a:lnTo>
                    <a:lnTo>
                      <a:pt x="1065" y="889"/>
                    </a:lnTo>
                    <a:lnTo>
                      <a:pt x="1063" y="893"/>
                    </a:lnTo>
                    <a:lnTo>
                      <a:pt x="1063" y="898"/>
                    </a:lnTo>
                    <a:lnTo>
                      <a:pt x="1063" y="907"/>
                    </a:lnTo>
                    <a:lnTo>
                      <a:pt x="1065" y="915"/>
                    </a:lnTo>
                    <a:lnTo>
                      <a:pt x="1066" y="924"/>
                    </a:lnTo>
                    <a:lnTo>
                      <a:pt x="1069" y="932"/>
                    </a:lnTo>
                    <a:lnTo>
                      <a:pt x="1071" y="940"/>
                    </a:lnTo>
                    <a:lnTo>
                      <a:pt x="1075" y="948"/>
                    </a:lnTo>
                    <a:lnTo>
                      <a:pt x="1081" y="956"/>
                    </a:lnTo>
                    <a:lnTo>
                      <a:pt x="1084" y="963"/>
                    </a:lnTo>
                    <a:lnTo>
                      <a:pt x="1090" y="969"/>
                    </a:lnTo>
                    <a:lnTo>
                      <a:pt x="1096" y="974"/>
                    </a:lnTo>
                    <a:lnTo>
                      <a:pt x="1103" y="980"/>
                    </a:lnTo>
                    <a:lnTo>
                      <a:pt x="1110" y="984"/>
                    </a:lnTo>
                    <a:lnTo>
                      <a:pt x="1117" y="986"/>
                    </a:lnTo>
                    <a:lnTo>
                      <a:pt x="1125" y="989"/>
                    </a:lnTo>
                    <a:lnTo>
                      <a:pt x="1133" y="992"/>
                    </a:lnTo>
                    <a:lnTo>
                      <a:pt x="1143" y="992"/>
                    </a:lnTo>
                    <a:lnTo>
                      <a:pt x="1148" y="992"/>
                    </a:lnTo>
                    <a:lnTo>
                      <a:pt x="1153" y="990"/>
                    </a:lnTo>
                    <a:lnTo>
                      <a:pt x="1157" y="989"/>
                    </a:lnTo>
                    <a:lnTo>
                      <a:pt x="1161" y="986"/>
                    </a:lnTo>
                    <a:lnTo>
                      <a:pt x="1165" y="984"/>
                    </a:lnTo>
                    <a:lnTo>
                      <a:pt x="1169" y="981"/>
                    </a:lnTo>
                    <a:lnTo>
                      <a:pt x="1175" y="974"/>
                    </a:lnTo>
                    <a:lnTo>
                      <a:pt x="1181" y="965"/>
                    </a:lnTo>
                    <a:lnTo>
                      <a:pt x="1186" y="956"/>
                    </a:lnTo>
                    <a:lnTo>
                      <a:pt x="1195" y="937"/>
                    </a:lnTo>
                    <a:lnTo>
                      <a:pt x="1207" y="952"/>
                    </a:lnTo>
                    <a:lnTo>
                      <a:pt x="1216" y="965"/>
                    </a:lnTo>
                    <a:lnTo>
                      <a:pt x="1220" y="973"/>
                    </a:lnTo>
                    <a:lnTo>
                      <a:pt x="1223" y="980"/>
                    </a:lnTo>
                    <a:lnTo>
                      <a:pt x="1230" y="995"/>
                    </a:lnTo>
                    <a:lnTo>
                      <a:pt x="1231" y="1002"/>
                    </a:lnTo>
                    <a:lnTo>
                      <a:pt x="1234" y="1010"/>
                    </a:lnTo>
                    <a:lnTo>
                      <a:pt x="1236" y="1027"/>
                    </a:lnTo>
                    <a:lnTo>
                      <a:pt x="1237" y="1044"/>
                    </a:lnTo>
                    <a:lnTo>
                      <a:pt x="1237" y="1063"/>
                    </a:lnTo>
                    <a:lnTo>
                      <a:pt x="1237" y="1106"/>
                    </a:lnTo>
                    <a:lnTo>
                      <a:pt x="1228" y="1106"/>
                    </a:lnTo>
                    <a:lnTo>
                      <a:pt x="1220" y="1108"/>
                    </a:lnTo>
                    <a:lnTo>
                      <a:pt x="1212" y="1109"/>
                    </a:lnTo>
                    <a:lnTo>
                      <a:pt x="1205" y="1110"/>
                    </a:lnTo>
                    <a:lnTo>
                      <a:pt x="1189" y="1115"/>
                    </a:lnTo>
                    <a:lnTo>
                      <a:pt x="1175" y="1121"/>
                    </a:lnTo>
                    <a:lnTo>
                      <a:pt x="1161" y="1126"/>
                    </a:lnTo>
                    <a:lnTo>
                      <a:pt x="1146" y="1131"/>
                    </a:lnTo>
                    <a:lnTo>
                      <a:pt x="1139" y="1133"/>
                    </a:lnTo>
                    <a:lnTo>
                      <a:pt x="1131" y="1134"/>
                    </a:lnTo>
                    <a:lnTo>
                      <a:pt x="1121" y="1135"/>
                    </a:lnTo>
                    <a:lnTo>
                      <a:pt x="1112" y="1135"/>
                    </a:lnTo>
                    <a:lnTo>
                      <a:pt x="1112" y="1160"/>
                    </a:lnTo>
                    <a:lnTo>
                      <a:pt x="1119" y="1162"/>
                    </a:lnTo>
                    <a:lnTo>
                      <a:pt x="1125" y="1163"/>
                    </a:lnTo>
                    <a:lnTo>
                      <a:pt x="1136" y="1167"/>
                    </a:lnTo>
                    <a:lnTo>
                      <a:pt x="1052" y="1167"/>
                    </a:lnTo>
                    <a:lnTo>
                      <a:pt x="1036" y="1168"/>
                    </a:lnTo>
                    <a:lnTo>
                      <a:pt x="1029" y="1170"/>
                    </a:lnTo>
                    <a:lnTo>
                      <a:pt x="1021" y="1170"/>
                    </a:lnTo>
                    <a:lnTo>
                      <a:pt x="1028" y="1137"/>
                    </a:lnTo>
                    <a:lnTo>
                      <a:pt x="1013" y="1138"/>
                    </a:lnTo>
                    <a:lnTo>
                      <a:pt x="1005" y="1139"/>
                    </a:lnTo>
                    <a:lnTo>
                      <a:pt x="997" y="1139"/>
                    </a:lnTo>
                    <a:lnTo>
                      <a:pt x="984" y="1139"/>
                    </a:lnTo>
                    <a:lnTo>
                      <a:pt x="971" y="1137"/>
                    </a:lnTo>
                    <a:lnTo>
                      <a:pt x="961" y="1133"/>
                    </a:lnTo>
                    <a:lnTo>
                      <a:pt x="949" y="1129"/>
                    </a:lnTo>
                    <a:lnTo>
                      <a:pt x="938" y="1123"/>
                    </a:lnTo>
                    <a:lnTo>
                      <a:pt x="929" y="1118"/>
                    </a:lnTo>
                    <a:lnTo>
                      <a:pt x="909" y="1105"/>
                    </a:lnTo>
                    <a:lnTo>
                      <a:pt x="889" y="1092"/>
                    </a:lnTo>
                    <a:lnTo>
                      <a:pt x="880" y="1086"/>
                    </a:lnTo>
                    <a:lnTo>
                      <a:pt x="870" y="1081"/>
                    </a:lnTo>
                    <a:lnTo>
                      <a:pt x="859" y="1076"/>
                    </a:lnTo>
                    <a:lnTo>
                      <a:pt x="852" y="1075"/>
                    </a:lnTo>
                    <a:lnTo>
                      <a:pt x="847" y="1073"/>
                    </a:lnTo>
                    <a:lnTo>
                      <a:pt x="834" y="1071"/>
                    </a:lnTo>
                    <a:lnTo>
                      <a:pt x="827" y="1069"/>
                    </a:lnTo>
                    <a:lnTo>
                      <a:pt x="821" y="1069"/>
                    </a:lnTo>
                    <a:lnTo>
                      <a:pt x="815" y="1071"/>
                    </a:lnTo>
                    <a:lnTo>
                      <a:pt x="812" y="1071"/>
                    </a:lnTo>
                    <a:lnTo>
                      <a:pt x="808" y="1072"/>
                    </a:lnTo>
                    <a:lnTo>
                      <a:pt x="802" y="1075"/>
                    </a:lnTo>
                    <a:lnTo>
                      <a:pt x="800" y="1077"/>
                    </a:lnTo>
                    <a:lnTo>
                      <a:pt x="796" y="1080"/>
                    </a:lnTo>
                    <a:lnTo>
                      <a:pt x="788" y="1085"/>
                    </a:lnTo>
                    <a:lnTo>
                      <a:pt x="781" y="1090"/>
                    </a:lnTo>
                    <a:lnTo>
                      <a:pt x="773" y="1096"/>
                    </a:lnTo>
                    <a:lnTo>
                      <a:pt x="765" y="1100"/>
                    </a:lnTo>
                    <a:lnTo>
                      <a:pt x="760" y="1100"/>
                    </a:lnTo>
                    <a:lnTo>
                      <a:pt x="756" y="1101"/>
                    </a:lnTo>
                    <a:lnTo>
                      <a:pt x="746" y="1100"/>
                    </a:lnTo>
                    <a:lnTo>
                      <a:pt x="736" y="1097"/>
                    </a:lnTo>
                    <a:lnTo>
                      <a:pt x="732" y="1096"/>
                    </a:lnTo>
                    <a:lnTo>
                      <a:pt x="728" y="1093"/>
                    </a:lnTo>
                    <a:lnTo>
                      <a:pt x="721" y="1088"/>
                    </a:lnTo>
                    <a:lnTo>
                      <a:pt x="714" y="1081"/>
                    </a:lnTo>
                    <a:lnTo>
                      <a:pt x="711" y="1077"/>
                    </a:lnTo>
                    <a:lnTo>
                      <a:pt x="710" y="1075"/>
                    </a:lnTo>
                    <a:lnTo>
                      <a:pt x="709" y="1069"/>
                    </a:lnTo>
                    <a:lnTo>
                      <a:pt x="707" y="1065"/>
                    </a:lnTo>
                    <a:lnTo>
                      <a:pt x="707" y="1061"/>
                    </a:lnTo>
                    <a:lnTo>
                      <a:pt x="709" y="1056"/>
                    </a:lnTo>
                    <a:lnTo>
                      <a:pt x="702" y="1055"/>
                    </a:lnTo>
                    <a:lnTo>
                      <a:pt x="697" y="1054"/>
                    </a:lnTo>
                    <a:lnTo>
                      <a:pt x="691" y="1051"/>
                    </a:lnTo>
                    <a:lnTo>
                      <a:pt x="688" y="1048"/>
                    </a:lnTo>
                    <a:lnTo>
                      <a:pt x="678" y="1042"/>
                    </a:lnTo>
                    <a:lnTo>
                      <a:pt x="670" y="1035"/>
                    </a:lnTo>
                    <a:lnTo>
                      <a:pt x="662" y="1027"/>
                    </a:lnTo>
                    <a:lnTo>
                      <a:pt x="655" y="1021"/>
                    </a:lnTo>
                    <a:lnTo>
                      <a:pt x="644" y="1015"/>
                    </a:lnTo>
                    <a:lnTo>
                      <a:pt x="639" y="1013"/>
                    </a:lnTo>
                    <a:lnTo>
                      <a:pt x="633" y="1011"/>
                    </a:lnTo>
                    <a:lnTo>
                      <a:pt x="628" y="1027"/>
                    </a:lnTo>
                    <a:lnTo>
                      <a:pt x="626" y="1034"/>
                    </a:lnTo>
                    <a:lnTo>
                      <a:pt x="624" y="1043"/>
                    </a:lnTo>
                    <a:lnTo>
                      <a:pt x="608" y="1031"/>
                    </a:lnTo>
                    <a:lnTo>
                      <a:pt x="595" y="1022"/>
                    </a:lnTo>
                    <a:lnTo>
                      <a:pt x="587" y="1018"/>
                    </a:lnTo>
                    <a:lnTo>
                      <a:pt x="583" y="1015"/>
                    </a:lnTo>
                    <a:lnTo>
                      <a:pt x="579" y="1014"/>
                    </a:lnTo>
                    <a:lnTo>
                      <a:pt x="575" y="1013"/>
                    </a:lnTo>
                    <a:lnTo>
                      <a:pt x="571" y="1013"/>
                    </a:lnTo>
                    <a:lnTo>
                      <a:pt x="562" y="1011"/>
                    </a:lnTo>
                    <a:lnTo>
                      <a:pt x="554" y="1013"/>
                    </a:lnTo>
                    <a:lnTo>
                      <a:pt x="550" y="1013"/>
                    </a:lnTo>
                    <a:lnTo>
                      <a:pt x="548" y="1014"/>
                    </a:lnTo>
                    <a:lnTo>
                      <a:pt x="544" y="1017"/>
                    </a:lnTo>
                    <a:lnTo>
                      <a:pt x="542" y="1019"/>
                    </a:lnTo>
                    <a:lnTo>
                      <a:pt x="540" y="1022"/>
                    </a:lnTo>
                    <a:lnTo>
                      <a:pt x="540" y="1025"/>
                    </a:lnTo>
                    <a:lnTo>
                      <a:pt x="541" y="1031"/>
                    </a:lnTo>
                    <a:lnTo>
                      <a:pt x="542" y="1036"/>
                    </a:lnTo>
                    <a:lnTo>
                      <a:pt x="545" y="1042"/>
                    </a:lnTo>
                    <a:lnTo>
                      <a:pt x="549" y="1046"/>
                    </a:lnTo>
                    <a:lnTo>
                      <a:pt x="558" y="1054"/>
                    </a:lnTo>
                    <a:lnTo>
                      <a:pt x="569" y="1060"/>
                    </a:lnTo>
                    <a:lnTo>
                      <a:pt x="579" y="1067"/>
                    </a:lnTo>
                    <a:lnTo>
                      <a:pt x="589" y="1075"/>
                    </a:lnTo>
                    <a:lnTo>
                      <a:pt x="593" y="1080"/>
                    </a:lnTo>
                    <a:lnTo>
                      <a:pt x="595" y="1084"/>
                    </a:lnTo>
                    <a:lnTo>
                      <a:pt x="598" y="1090"/>
                    </a:lnTo>
                    <a:lnTo>
                      <a:pt x="598" y="1096"/>
                    </a:lnTo>
                    <a:lnTo>
                      <a:pt x="598" y="1101"/>
                    </a:lnTo>
                    <a:lnTo>
                      <a:pt x="597" y="1105"/>
                    </a:lnTo>
                    <a:lnTo>
                      <a:pt x="595" y="1109"/>
                    </a:lnTo>
                    <a:lnTo>
                      <a:pt x="594" y="1113"/>
                    </a:lnTo>
                    <a:lnTo>
                      <a:pt x="590" y="1121"/>
                    </a:lnTo>
                    <a:lnTo>
                      <a:pt x="586" y="1129"/>
                    </a:lnTo>
                    <a:lnTo>
                      <a:pt x="582" y="1131"/>
                    </a:lnTo>
                    <a:lnTo>
                      <a:pt x="577" y="1134"/>
                    </a:lnTo>
                    <a:lnTo>
                      <a:pt x="568" y="1139"/>
                    </a:lnTo>
                    <a:lnTo>
                      <a:pt x="549" y="1152"/>
                    </a:lnTo>
                    <a:lnTo>
                      <a:pt x="531" y="1167"/>
                    </a:lnTo>
                    <a:lnTo>
                      <a:pt x="511" y="1183"/>
                    </a:lnTo>
                    <a:lnTo>
                      <a:pt x="496" y="1163"/>
                    </a:lnTo>
                    <a:lnTo>
                      <a:pt x="483" y="1145"/>
                    </a:lnTo>
                    <a:lnTo>
                      <a:pt x="470" y="1127"/>
                    </a:lnTo>
                    <a:lnTo>
                      <a:pt x="457" y="1112"/>
                    </a:lnTo>
                    <a:lnTo>
                      <a:pt x="442" y="1097"/>
                    </a:lnTo>
                    <a:lnTo>
                      <a:pt x="429" y="1083"/>
                    </a:lnTo>
                    <a:lnTo>
                      <a:pt x="415" y="1068"/>
                    </a:lnTo>
                    <a:lnTo>
                      <a:pt x="400" y="1055"/>
                    </a:lnTo>
                    <a:lnTo>
                      <a:pt x="386" y="1042"/>
                    </a:lnTo>
                    <a:lnTo>
                      <a:pt x="371" y="1028"/>
                    </a:lnTo>
                    <a:lnTo>
                      <a:pt x="339" y="1003"/>
                    </a:lnTo>
                    <a:lnTo>
                      <a:pt x="269" y="945"/>
                    </a:lnTo>
                    <a:lnTo>
                      <a:pt x="252" y="931"/>
                    </a:lnTo>
                    <a:lnTo>
                      <a:pt x="238" y="916"/>
                    </a:lnTo>
                    <a:lnTo>
                      <a:pt x="225" y="902"/>
                    </a:lnTo>
                    <a:lnTo>
                      <a:pt x="211" y="889"/>
                    </a:lnTo>
                    <a:lnTo>
                      <a:pt x="197" y="877"/>
                    </a:lnTo>
                    <a:lnTo>
                      <a:pt x="189" y="872"/>
                    </a:lnTo>
                    <a:lnTo>
                      <a:pt x="181" y="866"/>
                    </a:lnTo>
                    <a:lnTo>
                      <a:pt x="172" y="862"/>
                    </a:lnTo>
                    <a:lnTo>
                      <a:pt x="163" y="858"/>
                    </a:lnTo>
                    <a:lnTo>
                      <a:pt x="153" y="856"/>
                    </a:lnTo>
                    <a:lnTo>
                      <a:pt x="143" y="853"/>
                    </a:lnTo>
                    <a:lnTo>
                      <a:pt x="119" y="850"/>
                    </a:lnTo>
                    <a:lnTo>
                      <a:pt x="95" y="848"/>
                    </a:lnTo>
                    <a:lnTo>
                      <a:pt x="84" y="846"/>
                    </a:lnTo>
                    <a:lnTo>
                      <a:pt x="72" y="845"/>
                    </a:lnTo>
                    <a:lnTo>
                      <a:pt x="60" y="843"/>
                    </a:lnTo>
                    <a:lnTo>
                      <a:pt x="49" y="841"/>
                    </a:lnTo>
                    <a:lnTo>
                      <a:pt x="39" y="837"/>
                    </a:lnTo>
                    <a:lnTo>
                      <a:pt x="29" y="833"/>
                    </a:lnTo>
                    <a:lnTo>
                      <a:pt x="22" y="829"/>
                    </a:lnTo>
                    <a:lnTo>
                      <a:pt x="14" y="824"/>
                    </a:lnTo>
                    <a:lnTo>
                      <a:pt x="11" y="820"/>
                    </a:lnTo>
                    <a:lnTo>
                      <a:pt x="8" y="817"/>
                    </a:lnTo>
                    <a:lnTo>
                      <a:pt x="6" y="814"/>
                    </a:lnTo>
                    <a:lnTo>
                      <a:pt x="4" y="810"/>
                    </a:lnTo>
                    <a:lnTo>
                      <a:pt x="2" y="806"/>
                    </a:lnTo>
                    <a:lnTo>
                      <a:pt x="2" y="800"/>
                    </a:lnTo>
                    <a:lnTo>
                      <a:pt x="0" y="795"/>
                    </a:lnTo>
                    <a:lnTo>
                      <a:pt x="0" y="790"/>
                    </a:lnTo>
                    <a:lnTo>
                      <a:pt x="0" y="783"/>
                    </a:lnTo>
                    <a:lnTo>
                      <a:pt x="2" y="777"/>
                    </a:lnTo>
                    <a:lnTo>
                      <a:pt x="4" y="771"/>
                    </a:lnTo>
                    <a:lnTo>
                      <a:pt x="8" y="766"/>
                    </a:lnTo>
                    <a:lnTo>
                      <a:pt x="12" y="762"/>
                    </a:lnTo>
                    <a:lnTo>
                      <a:pt x="16" y="758"/>
                    </a:lnTo>
                    <a:lnTo>
                      <a:pt x="27" y="750"/>
                    </a:lnTo>
                    <a:lnTo>
                      <a:pt x="37" y="744"/>
                    </a:lnTo>
                    <a:lnTo>
                      <a:pt x="43" y="740"/>
                    </a:lnTo>
                    <a:lnTo>
                      <a:pt x="48" y="736"/>
                    </a:lnTo>
                    <a:lnTo>
                      <a:pt x="57" y="725"/>
                    </a:lnTo>
                    <a:lnTo>
                      <a:pt x="61" y="720"/>
                    </a:lnTo>
                    <a:lnTo>
                      <a:pt x="65" y="715"/>
                    </a:lnTo>
                    <a:lnTo>
                      <a:pt x="80" y="684"/>
                    </a:lnTo>
                    <a:lnTo>
                      <a:pt x="93" y="657"/>
                    </a:lnTo>
                    <a:lnTo>
                      <a:pt x="117" y="605"/>
                    </a:lnTo>
                    <a:lnTo>
                      <a:pt x="140" y="554"/>
                    </a:lnTo>
                    <a:lnTo>
                      <a:pt x="153" y="526"/>
                    </a:lnTo>
                    <a:lnTo>
                      <a:pt x="169" y="497"/>
                    </a:lnTo>
                    <a:lnTo>
                      <a:pt x="175" y="484"/>
                    </a:lnTo>
                    <a:lnTo>
                      <a:pt x="180" y="471"/>
                    </a:lnTo>
                    <a:lnTo>
                      <a:pt x="185" y="457"/>
                    </a:lnTo>
                    <a:lnTo>
                      <a:pt x="188" y="446"/>
                    </a:lnTo>
                    <a:lnTo>
                      <a:pt x="194" y="421"/>
                    </a:lnTo>
                    <a:lnTo>
                      <a:pt x="200" y="397"/>
                    </a:lnTo>
                    <a:lnTo>
                      <a:pt x="202" y="385"/>
                    </a:lnTo>
                    <a:lnTo>
                      <a:pt x="206" y="373"/>
                    </a:lnTo>
                    <a:lnTo>
                      <a:pt x="209" y="361"/>
                    </a:lnTo>
                    <a:lnTo>
                      <a:pt x="214" y="349"/>
                    </a:lnTo>
                    <a:lnTo>
                      <a:pt x="219" y="339"/>
                    </a:lnTo>
                    <a:lnTo>
                      <a:pt x="226" y="327"/>
                    </a:lnTo>
                    <a:lnTo>
                      <a:pt x="233" y="315"/>
                    </a:lnTo>
                    <a:lnTo>
                      <a:pt x="242" y="304"/>
                    </a:lnTo>
                    <a:lnTo>
                      <a:pt x="258" y="286"/>
                    </a:lnTo>
                    <a:lnTo>
                      <a:pt x="275" y="270"/>
                    </a:lnTo>
                    <a:lnTo>
                      <a:pt x="291" y="256"/>
                    </a:lnTo>
                    <a:lnTo>
                      <a:pt x="306" y="242"/>
                    </a:lnTo>
                    <a:lnTo>
                      <a:pt x="322" y="231"/>
                    </a:lnTo>
                    <a:lnTo>
                      <a:pt x="339" y="219"/>
                    </a:lnTo>
                    <a:lnTo>
                      <a:pt x="357" y="208"/>
                    </a:lnTo>
                    <a:lnTo>
                      <a:pt x="372" y="199"/>
                    </a:lnTo>
                    <a:lnTo>
                      <a:pt x="408" y="179"/>
                    </a:lnTo>
                    <a:lnTo>
                      <a:pt x="444" y="159"/>
                    </a:lnTo>
                    <a:lnTo>
                      <a:pt x="482" y="138"/>
                    </a:lnTo>
                    <a:lnTo>
                      <a:pt x="502" y="126"/>
                    </a:lnTo>
                    <a:lnTo>
                      <a:pt x="521" y="113"/>
                    </a:lnTo>
                    <a:lnTo>
                      <a:pt x="541" y="99"/>
                    </a:lnTo>
                    <a:lnTo>
                      <a:pt x="550" y="92"/>
                    </a:lnTo>
                    <a:lnTo>
                      <a:pt x="558" y="84"/>
                    </a:lnTo>
                    <a:lnTo>
                      <a:pt x="575" y="68"/>
                    </a:lnTo>
                    <a:lnTo>
                      <a:pt x="590" y="53"/>
                    </a:lnTo>
                    <a:lnTo>
                      <a:pt x="606" y="37"/>
                    </a:lnTo>
                    <a:lnTo>
                      <a:pt x="612" y="30"/>
                    </a:lnTo>
                    <a:lnTo>
                      <a:pt x="620" y="24"/>
                    </a:lnTo>
                    <a:lnTo>
                      <a:pt x="628" y="17"/>
                    </a:lnTo>
                    <a:lnTo>
                      <a:pt x="636" y="10"/>
                    </a:lnTo>
                    <a:lnTo>
                      <a:pt x="644" y="4"/>
                    </a:lnTo>
                    <a:lnTo>
                      <a:pt x="653" y="0"/>
                    </a:lnTo>
                    <a:lnTo>
                      <a:pt x="660" y="0"/>
                    </a:lnTo>
                    <a:lnTo>
                      <a:pt x="666" y="1"/>
                    </a:lnTo>
                    <a:lnTo>
                      <a:pt x="672" y="2"/>
                    </a:lnTo>
                    <a:lnTo>
                      <a:pt x="678" y="5"/>
                    </a:lnTo>
                    <a:lnTo>
                      <a:pt x="682" y="8"/>
                    </a:lnTo>
                    <a:lnTo>
                      <a:pt x="688" y="12"/>
                    </a:lnTo>
                    <a:lnTo>
                      <a:pt x="691" y="16"/>
                    </a:lnTo>
                    <a:lnTo>
                      <a:pt x="695" y="21"/>
                    </a:lnTo>
                    <a:lnTo>
                      <a:pt x="703" y="31"/>
                    </a:lnTo>
                    <a:lnTo>
                      <a:pt x="710" y="43"/>
                    </a:lnTo>
                    <a:lnTo>
                      <a:pt x="717" y="55"/>
                    </a:lnTo>
                    <a:lnTo>
                      <a:pt x="722" y="68"/>
                    </a:lnTo>
                    <a:lnTo>
                      <a:pt x="728" y="82"/>
                    </a:lnTo>
                    <a:lnTo>
                      <a:pt x="734" y="93"/>
                    </a:lnTo>
                    <a:lnTo>
                      <a:pt x="740" y="105"/>
                    </a:lnTo>
                    <a:lnTo>
                      <a:pt x="748" y="116"/>
                    </a:lnTo>
                    <a:lnTo>
                      <a:pt x="752" y="121"/>
                    </a:lnTo>
                    <a:lnTo>
                      <a:pt x="756" y="125"/>
                    </a:lnTo>
                    <a:lnTo>
                      <a:pt x="761" y="128"/>
                    </a:lnTo>
                    <a:lnTo>
                      <a:pt x="767" y="132"/>
                    </a:lnTo>
                    <a:lnTo>
                      <a:pt x="772" y="134"/>
                    </a:lnTo>
                    <a:lnTo>
                      <a:pt x="777" y="136"/>
                    </a:lnTo>
                    <a:lnTo>
                      <a:pt x="784" y="137"/>
                    </a:lnTo>
                    <a:lnTo>
                      <a:pt x="792" y="137"/>
                    </a:lnTo>
                    <a:lnTo>
                      <a:pt x="796" y="137"/>
                    </a:lnTo>
                    <a:lnTo>
                      <a:pt x="800" y="137"/>
                    </a:lnTo>
                    <a:lnTo>
                      <a:pt x="808" y="134"/>
                    </a:lnTo>
                    <a:lnTo>
                      <a:pt x="814" y="130"/>
                    </a:lnTo>
                    <a:lnTo>
                      <a:pt x="821" y="125"/>
                    </a:lnTo>
                    <a:lnTo>
                      <a:pt x="826" y="119"/>
                    </a:lnTo>
                    <a:lnTo>
                      <a:pt x="833" y="112"/>
                    </a:lnTo>
                    <a:lnTo>
                      <a:pt x="843" y="9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594320" y="4451400"/>
                <a:ext cx="199800" cy="201600"/>
              </a:xfrm>
              <a:custGeom>
                <a:avLst/>
                <a:gdLst/>
                <a:ahLst/>
                <a:rect l="l" t="t" r="r" b="b"/>
                <a:pathLst>
                  <a:path w="391" h="389">
                    <a:moveTo>
                      <a:pt x="369" y="0"/>
                    </a:moveTo>
                    <a:lnTo>
                      <a:pt x="369" y="183"/>
                    </a:lnTo>
                    <a:lnTo>
                      <a:pt x="377" y="193"/>
                    </a:lnTo>
                    <a:lnTo>
                      <a:pt x="383" y="202"/>
                    </a:lnTo>
                    <a:lnTo>
                      <a:pt x="387" y="211"/>
                    </a:lnTo>
                    <a:lnTo>
                      <a:pt x="391" y="220"/>
                    </a:lnTo>
                    <a:lnTo>
                      <a:pt x="350" y="236"/>
                    </a:lnTo>
                    <a:lnTo>
                      <a:pt x="332" y="244"/>
                    </a:lnTo>
                    <a:lnTo>
                      <a:pt x="314" y="252"/>
                    </a:lnTo>
                    <a:lnTo>
                      <a:pt x="279" y="268"/>
                    </a:lnTo>
                    <a:lnTo>
                      <a:pt x="248" y="285"/>
                    </a:lnTo>
                    <a:lnTo>
                      <a:pt x="217" y="305"/>
                    </a:lnTo>
                    <a:lnTo>
                      <a:pt x="201" y="315"/>
                    </a:lnTo>
                    <a:lnTo>
                      <a:pt x="187" y="327"/>
                    </a:lnTo>
                    <a:lnTo>
                      <a:pt x="171" y="340"/>
                    </a:lnTo>
                    <a:lnTo>
                      <a:pt x="157" y="354"/>
                    </a:lnTo>
                    <a:lnTo>
                      <a:pt x="141" y="368"/>
                    </a:lnTo>
                    <a:lnTo>
                      <a:pt x="125" y="383"/>
                    </a:lnTo>
                    <a:lnTo>
                      <a:pt x="118" y="389"/>
                    </a:lnTo>
                    <a:lnTo>
                      <a:pt x="117" y="384"/>
                    </a:lnTo>
                    <a:lnTo>
                      <a:pt x="114" y="379"/>
                    </a:lnTo>
                    <a:lnTo>
                      <a:pt x="108" y="369"/>
                    </a:lnTo>
                    <a:lnTo>
                      <a:pt x="104" y="364"/>
                    </a:lnTo>
                    <a:lnTo>
                      <a:pt x="100" y="360"/>
                    </a:lnTo>
                    <a:lnTo>
                      <a:pt x="95" y="355"/>
                    </a:lnTo>
                    <a:lnTo>
                      <a:pt x="91" y="351"/>
                    </a:lnTo>
                    <a:lnTo>
                      <a:pt x="71" y="336"/>
                    </a:lnTo>
                    <a:lnTo>
                      <a:pt x="51" y="321"/>
                    </a:lnTo>
                    <a:lnTo>
                      <a:pt x="31" y="305"/>
                    </a:lnTo>
                    <a:lnTo>
                      <a:pt x="23" y="297"/>
                    </a:lnTo>
                    <a:lnTo>
                      <a:pt x="15" y="288"/>
                    </a:lnTo>
                    <a:lnTo>
                      <a:pt x="12" y="284"/>
                    </a:lnTo>
                    <a:lnTo>
                      <a:pt x="9" y="278"/>
                    </a:lnTo>
                    <a:lnTo>
                      <a:pt x="6" y="273"/>
                    </a:lnTo>
                    <a:lnTo>
                      <a:pt x="4" y="268"/>
                    </a:lnTo>
                    <a:lnTo>
                      <a:pt x="2" y="261"/>
                    </a:lnTo>
                    <a:lnTo>
                      <a:pt x="1" y="256"/>
                    </a:lnTo>
                    <a:lnTo>
                      <a:pt x="0" y="249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2" y="224"/>
                    </a:lnTo>
                    <a:lnTo>
                      <a:pt x="4" y="215"/>
                    </a:lnTo>
                    <a:lnTo>
                      <a:pt x="8" y="207"/>
                    </a:lnTo>
                    <a:lnTo>
                      <a:pt x="12" y="199"/>
                    </a:lnTo>
                    <a:lnTo>
                      <a:pt x="17" y="193"/>
                    </a:lnTo>
                    <a:lnTo>
                      <a:pt x="22" y="186"/>
                    </a:lnTo>
                    <a:lnTo>
                      <a:pt x="29" y="179"/>
                    </a:lnTo>
                    <a:lnTo>
                      <a:pt x="35" y="174"/>
                    </a:lnTo>
                    <a:lnTo>
                      <a:pt x="43" y="169"/>
                    </a:lnTo>
                    <a:lnTo>
                      <a:pt x="51" y="165"/>
                    </a:lnTo>
                    <a:lnTo>
                      <a:pt x="59" y="161"/>
                    </a:lnTo>
                    <a:lnTo>
                      <a:pt x="67" y="158"/>
                    </a:lnTo>
                    <a:lnTo>
                      <a:pt x="76" y="157"/>
                    </a:lnTo>
                    <a:lnTo>
                      <a:pt x="85" y="156"/>
                    </a:lnTo>
                    <a:lnTo>
                      <a:pt x="95" y="154"/>
                    </a:lnTo>
                    <a:lnTo>
                      <a:pt x="104" y="156"/>
                    </a:lnTo>
                    <a:lnTo>
                      <a:pt x="112" y="156"/>
                    </a:lnTo>
                    <a:lnTo>
                      <a:pt x="128" y="160"/>
                    </a:lnTo>
                    <a:lnTo>
                      <a:pt x="143" y="164"/>
                    </a:lnTo>
                    <a:lnTo>
                      <a:pt x="151" y="164"/>
                    </a:lnTo>
                    <a:lnTo>
                      <a:pt x="161" y="165"/>
                    </a:lnTo>
                    <a:lnTo>
                      <a:pt x="166" y="165"/>
                    </a:lnTo>
                    <a:lnTo>
                      <a:pt x="171" y="164"/>
                    </a:lnTo>
                    <a:lnTo>
                      <a:pt x="175" y="162"/>
                    </a:lnTo>
                    <a:lnTo>
                      <a:pt x="179" y="161"/>
                    </a:lnTo>
                    <a:lnTo>
                      <a:pt x="183" y="160"/>
                    </a:lnTo>
                    <a:lnTo>
                      <a:pt x="187" y="157"/>
                    </a:lnTo>
                    <a:lnTo>
                      <a:pt x="194" y="152"/>
                    </a:lnTo>
                    <a:lnTo>
                      <a:pt x="199" y="145"/>
                    </a:lnTo>
                    <a:lnTo>
                      <a:pt x="204" y="137"/>
                    </a:lnTo>
                    <a:lnTo>
                      <a:pt x="208" y="128"/>
                    </a:lnTo>
                    <a:lnTo>
                      <a:pt x="212" y="119"/>
                    </a:lnTo>
                    <a:lnTo>
                      <a:pt x="219" y="99"/>
                    </a:lnTo>
                    <a:lnTo>
                      <a:pt x="223" y="88"/>
                    </a:lnTo>
                    <a:lnTo>
                      <a:pt x="227" y="78"/>
                    </a:lnTo>
                    <a:lnTo>
                      <a:pt x="230" y="67"/>
                    </a:lnTo>
                    <a:lnTo>
                      <a:pt x="236" y="58"/>
                    </a:lnTo>
                    <a:lnTo>
                      <a:pt x="241" y="49"/>
                    </a:lnTo>
                    <a:lnTo>
                      <a:pt x="248" y="40"/>
                    </a:lnTo>
                    <a:lnTo>
                      <a:pt x="252" y="36"/>
                    </a:lnTo>
                    <a:lnTo>
                      <a:pt x="256" y="33"/>
                    </a:lnTo>
                    <a:lnTo>
                      <a:pt x="259" y="32"/>
                    </a:lnTo>
                    <a:lnTo>
                      <a:pt x="263" y="29"/>
                    </a:lnTo>
                    <a:lnTo>
                      <a:pt x="269" y="29"/>
                    </a:lnTo>
                    <a:lnTo>
                      <a:pt x="273" y="28"/>
                    </a:lnTo>
                    <a:lnTo>
                      <a:pt x="282" y="28"/>
                    </a:lnTo>
                    <a:lnTo>
                      <a:pt x="303" y="29"/>
                    </a:lnTo>
                    <a:lnTo>
                      <a:pt x="314" y="29"/>
                    </a:lnTo>
                    <a:lnTo>
                      <a:pt x="319" y="28"/>
                    </a:lnTo>
                    <a:lnTo>
                      <a:pt x="324" y="26"/>
                    </a:lnTo>
                    <a:lnTo>
                      <a:pt x="337" y="23"/>
                    </a:lnTo>
                    <a:lnTo>
                      <a:pt x="349" y="16"/>
                    </a:lnTo>
                    <a:lnTo>
                      <a:pt x="360" y="8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332240" y="4921200"/>
                <a:ext cx="179280" cy="252720"/>
              </a:xfrm>
              <a:custGeom>
                <a:avLst/>
                <a:gdLst/>
                <a:ahLst/>
                <a:rect l="l" t="t" r="r" b="b"/>
                <a:pathLst>
                  <a:path w="348" h="491">
                    <a:moveTo>
                      <a:pt x="260" y="44"/>
                    </a:moveTo>
                    <a:lnTo>
                      <a:pt x="253" y="57"/>
                    </a:lnTo>
                    <a:lnTo>
                      <a:pt x="248" y="69"/>
                    </a:lnTo>
                    <a:lnTo>
                      <a:pt x="244" y="83"/>
                    </a:lnTo>
                    <a:lnTo>
                      <a:pt x="240" y="96"/>
                    </a:lnTo>
                    <a:lnTo>
                      <a:pt x="239" y="103"/>
                    </a:lnTo>
                    <a:lnTo>
                      <a:pt x="238" y="111"/>
                    </a:lnTo>
                    <a:lnTo>
                      <a:pt x="235" y="125"/>
                    </a:lnTo>
                    <a:lnTo>
                      <a:pt x="234" y="140"/>
                    </a:lnTo>
                    <a:lnTo>
                      <a:pt x="232" y="156"/>
                    </a:lnTo>
                    <a:lnTo>
                      <a:pt x="234" y="169"/>
                    </a:lnTo>
                    <a:lnTo>
                      <a:pt x="234" y="181"/>
                    </a:lnTo>
                    <a:lnTo>
                      <a:pt x="235" y="193"/>
                    </a:lnTo>
                    <a:lnTo>
                      <a:pt x="238" y="204"/>
                    </a:lnTo>
                    <a:lnTo>
                      <a:pt x="240" y="216"/>
                    </a:lnTo>
                    <a:lnTo>
                      <a:pt x="243" y="227"/>
                    </a:lnTo>
                    <a:lnTo>
                      <a:pt x="246" y="237"/>
                    </a:lnTo>
                    <a:lnTo>
                      <a:pt x="250" y="248"/>
                    </a:lnTo>
                    <a:lnTo>
                      <a:pt x="257" y="268"/>
                    </a:lnTo>
                    <a:lnTo>
                      <a:pt x="267" y="288"/>
                    </a:lnTo>
                    <a:lnTo>
                      <a:pt x="277" y="307"/>
                    </a:lnTo>
                    <a:lnTo>
                      <a:pt x="288" y="326"/>
                    </a:lnTo>
                    <a:lnTo>
                      <a:pt x="308" y="363"/>
                    </a:lnTo>
                    <a:lnTo>
                      <a:pt x="318" y="382"/>
                    </a:lnTo>
                    <a:lnTo>
                      <a:pt x="326" y="402"/>
                    </a:lnTo>
                    <a:lnTo>
                      <a:pt x="334" y="422"/>
                    </a:lnTo>
                    <a:lnTo>
                      <a:pt x="338" y="433"/>
                    </a:lnTo>
                    <a:lnTo>
                      <a:pt x="341" y="444"/>
                    </a:lnTo>
                    <a:lnTo>
                      <a:pt x="343" y="455"/>
                    </a:lnTo>
                    <a:lnTo>
                      <a:pt x="346" y="467"/>
                    </a:lnTo>
                    <a:lnTo>
                      <a:pt x="347" y="479"/>
                    </a:lnTo>
                    <a:lnTo>
                      <a:pt x="348" y="491"/>
                    </a:lnTo>
                    <a:lnTo>
                      <a:pt x="337" y="489"/>
                    </a:lnTo>
                    <a:lnTo>
                      <a:pt x="326" y="487"/>
                    </a:lnTo>
                    <a:lnTo>
                      <a:pt x="302" y="484"/>
                    </a:lnTo>
                    <a:lnTo>
                      <a:pt x="279" y="483"/>
                    </a:lnTo>
                    <a:lnTo>
                      <a:pt x="255" y="480"/>
                    </a:lnTo>
                    <a:lnTo>
                      <a:pt x="243" y="467"/>
                    </a:lnTo>
                    <a:lnTo>
                      <a:pt x="240" y="451"/>
                    </a:lnTo>
                    <a:lnTo>
                      <a:pt x="240" y="442"/>
                    </a:lnTo>
                    <a:lnTo>
                      <a:pt x="239" y="433"/>
                    </a:lnTo>
                    <a:lnTo>
                      <a:pt x="240" y="423"/>
                    </a:lnTo>
                    <a:lnTo>
                      <a:pt x="242" y="414"/>
                    </a:lnTo>
                    <a:lnTo>
                      <a:pt x="246" y="406"/>
                    </a:lnTo>
                    <a:lnTo>
                      <a:pt x="248" y="398"/>
                    </a:lnTo>
                    <a:lnTo>
                      <a:pt x="251" y="390"/>
                    </a:lnTo>
                    <a:lnTo>
                      <a:pt x="255" y="382"/>
                    </a:lnTo>
                    <a:lnTo>
                      <a:pt x="256" y="375"/>
                    </a:lnTo>
                    <a:lnTo>
                      <a:pt x="257" y="365"/>
                    </a:lnTo>
                    <a:lnTo>
                      <a:pt x="256" y="359"/>
                    </a:lnTo>
                    <a:lnTo>
                      <a:pt x="256" y="356"/>
                    </a:lnTo>
                    <a:lnTo>
                      <a:pt x="255" y="353"/>
                    </a:lnTo>
                    <a:lnTo>
                      <a:pt x="253" y="351"/>
                    </a:lnTo>
                    <a:lnTo>
                      <a:pt x="252" y="350"/>
                    </a:lnTo>
                    <a:lnTo>
                      <a:pt x="250" y="348"/>
                    </a:lnTo>
                    <a:lnTo>
                      <a:pt x="248" y="347"/>
                    </a:lnTo>
                    <a:lnTo>
                      <a:pt x="243" y="344"/>
                    </a:lnTo>
                    <a:lnTo>
                      <a:pt x="238" y="342"/>
                    </a:lnTo>
                    <a:lnTo>
                      <a:pt x="224" y="339"/>
                    </a:lnTo>
                    <a:lnTo>
                      <a:pt x="211" y="338"/>
                    </a:lnTo>
                    <a:lnTo>
                      <a:pt x="197" y="335"/>
                    </a:lnTo>
                    <a:lnTo>
                      <a:pt x="190" y="332"/>
                    </a:lnTo>
                    <a:lnTo>
                      <a:pt x="184" y="331"/>
                    </a:lnTo>
                    <a:lnTo>
                      <a:pt x="178" y="328"/>
                    </a:lnTo>
                    <a:lnTo>
                      <a:pt x="173" y="324"/>
                    </a:lnTo>
                    <a:lnTo>
                      <a:pt x="165" y="318"/>
                    </a:lnTo>
                    <a:lnTo>
                      <a:pt x="160" y="311"/>
                    </a:lnTo>
                    <a:lnTo>
                      <a:pt x="153" y="305"/>
                    </a:lnTo>
                    <a:lnTo>
                      <a:pt x="149" y="298"/>
                    </a:lnTo>
                    <a:lnTo>
                      <a:pt x="141" y="285"/>
                    </a:lnTo>
                    <a:lnTo>
                      <a:pt x="133" y="270"/>
                    </a:lnTo>
                    <a:lnTo>
                      <a:pt x="120" y="240"/>
                    </a:lnTo>
                    <a:lnTo>
                      <a:pt x="112" y="224"/>
                    </a:lnTo>
                    <a:lnTo>
                      <a:pt x="107" y="218"/>
                    </a:lnTo>
                    <a:lnTo>
                      <a:pt x="102" y="210"/>
                    </a:lnTo>
                    <a:lnTo>
                      <a:pt x="110" y="174"/>
                    </a:lnTo>
                    <a:lnTo>
                      <a:pt x="102" y="170"/>
                    </a:lnTo>
                    <a:lnTo>
                      <a:pt x="95" y="166"/>
                    </a:lnTo>
                    <a:lnTo>
                      <a:pt x="82" y="157"/>
                    </a:lnTo>
                    <a:lnTo>
                      <a:pt x="75" y="153"/>
                    </a:lnTo>
                    <a:lnTo>
                      <a:pt x="69" y="150"/>
                    </a:lnTo>
                    <a:lnTo>
                      <a:pt x="65" y="149"/>
                    </a:lnTo>
                    <a:lnTo>
                      <a:pt x="61" y="148"/>
                    </a:lnTo>
                    <a:lnTo>
                      <a:pt x="57" y="148"/>
                    </a:lnTo>
                    <a:lnTo>
                      <a:pt x="52" y="146"/>
                    </a:lnTo>
                    <a:lnTo>
                      <a:pt x="48" y="148"/>
                    </a:lnTo>
                    <a:lnTo>
                      <a:pt x="44" y="149"/>
                    </a:lnTo>
                    <a:lnTo>
                      <a:pt x="40" y="153"/>
                    </a:lnTo>
                    <a:lnTo>
                      <a:pt x="37" y="157"/>
                    </a:lnTo>
                    <a:lnTo>
                      <a:pt x="32" y="165"/>
                    </a:lnTo>
                    <a:lnTo>
                      <a:pt x="29" y="169"/>
                    </a:lnTo>
                    <a:lnTo>
                      <a:pt x="27" y="173"/>
                    </a:lnTo>
                    <a:lnTo>
                      <a:pt x="19" y="169"/>
                    </a:lnTo>
                    <a:lnTo>
                      <a:pt x="13" y="165"/>
                    </a:lnTo>
                    <a:lnTo>
                      <a:pt x="9" y="160"/>
                    </a:lnTo>
                    <a:lnTo>
                      <a:pt x="6" y="154"/>
                    </a:lnTo>
                    <a:lnTo>
                      <a:pt x="3" y="148"/>
                    </a:lnTo>
                    <a:lnTo>
                      <a:pt x="2" y="140"/>
                    </a:lnTo>
                    <a:lnTo>
                      <a:pt x="0" y="133"/>
                    </a:lnTo>
                    <a:lnTo>
                      <a:pt x="0" y="125"/>
                    </a:lnTo>
                    <a:lnTo>
                      <a:pt x="0" y="120"/>
                    </a:lnTo>
                    <a:lnTo>
                      <a:pt x="2" y="116"/>
                    </a:lnTo>
                    <a:lnTo>
                      <a:pt x="6" y="108"/>
                    </a:lnTo>
                    <a:lnTo>
                      <a:pt x="8" y="106"/>
                    </a:lnTo>
                    <a:lnTo>
                      <a:pt x="11" y="103"/>
                    </a:lnTo>
                    <a:lnTo>
                      <a:pt x="17" y="98"/>
                    </a:lnTo>
                    <a:lnTo>
                      <a:pt x="24" y="92"/>
                    </a:lnTo>
                    <a:lnTo>
                      <a:pt x="32" y="86"/>
                    </a:lnTo>
                    <a:lnTo>
                      <a:pt x="39" y="79"/>
                    </a:lnTo>
                    <a:lnTo>
                      <a:pt x="41" y="75"/>
                    </a:lnTo>
                    <a:lnTo>
                      <a:pt x="44" y="71"/>
                    </a:lnTo>
                    <a:lnTo>
                      <a:pt x="0" y="45"/>
                    </a:lnTo>
                    <a:lnTo>
                      <a:pt x="4" y="38"/>
                    </a:lnTo>
                    <a:lnTo>
                      <a:pt x="9" y="32"/>
                    </a:lnTo>
                    <a:lnTo>
                      <a:pt x="15" y="26"/>
                    </a:lnTo>
                    <a:lnTo>
                      <a:pt x="20" y="21"/>
                    </a:lnTo>
                    <a:lnTo>
                      <a:pt x="25" y="17"/>
                    </a:lnTo>
                    <a:lnTo>
                      <a:pt x="32" y="13"/>
                    </a:lnTo>
                    <a:lnTo>
                      <a:pt x="39" y="11"/>
                    </a:lnTo>
                    <a:lnTo>
                      <a:pt x="45" y="8"/>
                    </a:lnTo>
                    <a:lnTo>
                      <a:pt x="53" y="5"/>
                    </a:lnTo>
                    <a:lnTo>
                      <a:pt x="60" y="4"/>
                    </a:lnTo>
                    <a:lnTo>
                      <a:pt x="75" y="1"/>
                    </a:lnTo>
                    <a:lnTo>
                      <a:pt x="91" y="0"/>
                    </a:lnTo>
                    <a:lnTo>
                      <a:pt x="108" y="0"/>
                    </a:lnTo>
                    <a:lnTo>
                      <a:pt x="119" y="1"/>
                    </a:lnTo>
                    <a:lnTo>
                      <a:pt x="129" y="1"/>
                    </a:lnTo>
                    <a:lnTo>
                      <a:pt x="140" y="4"/>
                    </a:lnTo>
                    <a:lnTo>
                      <a:pt x="149" y="5"/>
                    </a:lnTo>
                    <a:lnTo>
                      <a:pt x="159" y="8"/>
                    </a:lnTo>
                    <a:lnTo>
                      <a:pt x="168" y="12"/>
                    </a:lnTo>
                    <a:lnTo>
                      <a:pt x="185" y="19"/>
                    </a:lnTo>
                    <a:lnTo>
                      <a:pt x="202" y="26"/>
                    </a:lnTo>
                    <a:lnTo>
                      <a:pt x="220" y="33"/>
                    </a:lnTo>
                    <a:lnTo>
                      <a:pt x="239" y="40"/>
                    </a:lnTo>
                    <a:lnTo>
                      <a:pt x="250" y="42"/>
                    </a:lnTo>
                    <a:lnTo>
                      <a:pt x="260" y="4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462560" y="4637160"/>
                <a:ext cx="125280" cy="297000"/>
              </a:xfrm>
              <a:custGeom>
                <a:avLst/>
                <a:gdLst/>
                <a:ahLst/>
                <a:rect l="l" t="t" r="r" b="b"/>
                <a:pathLst>
                  <a:path w="244" h="575">
                    <a:moveTo>
                      <a:pt x="244" y="106"/>
                    </a:moveTo>
                    <a:lnTo>
                      <a:pt x="235" y="111"/>
                    </a:lnTo>
                    <a:lnTo>
                      <a:pt x="228" y="119"/>
                    </a:lnTo>
                    <a:lnTo>
                      <a:pt x="222" y="125"/>
                    </a:lnTo>
                    <a:lnTo>
                      <a:pt x="215" y="135"/>
                    </a:lnTo>
                    <a:lnTo>
                      <a:pt x="211" y="144"/>
                    </a:lnTo>
                    <a:lnTo>
                      <a:pt x="207" y="153"/>
                    </a:lnTo>
                    <a:lnTo>
                      <a:pt x="206" y="164"/>
                    </a:lnTo>
                    <a:lnTo>
                      <a:pt x="205" y="177"/>
                    </a:lnTo>
                    <a:lnTo>
                      <a:pt x="206" y="185"/>
                    </a:lnTo>
                    <a:lnTo>
                      <a:pt x="207" y="191"/>
                    </a:lnTo>
                    <a:lnTo>
                      <a:pt x="210" y="199"/>
                    </a:lnTo>
                    <a:lnTo>
                      <a:pt x="212" y="206"/>
                    </a:lnTo>
                    <a:lnTo>
                      <a:pt x="218" y="220"/>
                    </a:lnTo>
                    <a:lnTo>
                      <a:pt x="219" y="228"/>
                    </a:lnTo>
                    <a:lnTo>
                      <a:pt x="219" y="236"/>
                    </a:lnTo>
                    <a:lnTo>
                      <a:pt x="219" y="251"/>
                    </a:lnTo>
                    <a:lnTo>
                      <a:pt x="218" y="264"/>
                    </a:lnTo>
                    <a:lnTo>
                      <a:pt x="216" y="277"/>
                    </a:lnTo>
                    <a:lnTo>
                      <a:pt x="214" y="290"/>
                    </a:lnTo>
                    <a:lnTo>
                      <a:pt x="211" y="302"/>
                    </a:lnTo>
                    <a:lnTo>
                      <a:pt x="207" y="315"/>
                    </a:lnTo>
                    <a:lnTo>
                      <a:pt x="202" y="326"/>
                    </a:lnTo>
                    <a:lnTo>
                      <a:pt x="198" y="338"/>
                    </a:lnTo>
                    <a:lnTo>
                      <a:pt x="193" y="350"/>
                    </a:lnTo>
                    <a:lnTo>
                      <a:pt x="186" y="360"/>
                    </a:lnTo>
                    <a:lnTo>
                      <a:pt x="181" y="371"/>
                    </a:lnTo>
                    <a:lnTo>
                      <a:pt x="174" y="381"/>
                    </a:lnTo>
                    <a:lnTo>
                      <a:pt x="160" y="401"/>
                    </a:lnTo>
                    <a:lnTo>
                      <a:pt x="144" y="421"/>
                    </a:lnTo>
                    <a:lnTo>
                      <a:pt x="128" y="439"/>
                    </a:lnTo>
                    <a:lnTo>
                      <a:pt x="111" y="459"/>
                    </a:lnTo>
                    <a:lnTo>
                      <a:pt x="78" y="496"/>
                    </a:lnTo>
                    <a:lnTo>
                      <a:pt x="62" y="514"/>
                    </a:lnTo>
                    <a:lnTo>
                      <a:pt x="46" y="534"/>
                    </a:lnTo>
                    <a:lnTo>
                      <a:pt x="32" y="554"/>
                    </a:lnTo>
                    <a:lnTo>
                      <a:pt x="25" y="565"/>
                    </a:lnTo>
                    <a:lnTo>
                      <a:pt x="19" y="575"/>
                    </a:lnTo>
                    <a:lnTo>
                      <a:pt x="19" y="570"/>
                    </a:lnTo>
                    <a:lnTo>
                      <a:pt x="17" y="565"/>
                    </a:lnTo>
                    <a:lnTo>
                      <a:pt x="16" y="561"/>
                    </a:lnTo>
                    <a:lnTo>
                      <a:pt x="9" y="551"/>
                    </a:lnTo>
                    <a:lnTo>
                      <a:pt x="7" y="547"/>
                    </a:lnTo>
                    <a:lnTo>
                      <a:pt x="3" y="543"/>
                    </a:lnTo>
                    <a:lnTo>
                      <a:pt x="1" y="538"/>
                    </a:lnTo>
                    <a:lnTo>
                      <a:pt x="0" y="533"/>
                    </a:lnTo>
                    <a:lnTo>
                      <a:pt x="1" y="529"/>
                    </a:lnTo>
                    <a:lnTo>
                      <a:pt x="1" y="525"/>
                    </a:lnTo>
                    <a:lnTo>
                      <a:pt x="3" y="522"/>
                    </a:lnTo>
                    <a:lnTo>
                      <a:pt x="5" y="520"/>
                    </a:lnTo>
                    <a:lnTo>
                      <a:pt x="11" y="514"/>
                    </a:lnTo>
                    <a:lnTo>
                      <a:pt x="17" y="510"/>
                    </a:lnTo>
                    <a:lnTo>
                      <a:pt x="32" y="504"/>
                    </a:lnTo>
                    <a:lnTo>
                      <a:pt x="38" y="499"/>
                    </a:lnTo>
                    <a:lnTo>
                      <a:pt x="41" y="496"/>
                    </a:lnTo>
                    <a:lnTo>
                      <a:pt x="45" y="493"/>
                    </a:lnTo>
                    <a:lnTo>
                      <a:pt x="48" y="489"/>
                    </a:lnTo>
                    <a:lnTo>
                      <a:pt x="52" y="484"/>
                    </a:lnTo>
                    <a:lnTo>
                      <a:pt x="57" y="475"/>
                    </a:lnTo>
                    <a:lnTo>
                      <a:pt x="62" y="464"/>
                    </a:lnTo>
                    <a:lnTo>
                      <a:pt x="65" y="455"/>
                    </a:lnTo>
                    <a:lnTo>
                      <a:pt x="67" y="445"/>
                    </a:lnTo>
                    <a:lnTo>
                      <a:pt x="69" y="435"/>
                    </a:lnTo>
                    <a:lnTo>
                      <a:pt x="69" y="425"/>
                    </a:lnTo>
                    <a:lnTo>
                      <a:pt x="69" y="414"/>
                    </a:lnTo>
                    <a:lnTo>
                      <a:pt x="67" y="371"/>
                    </a:lnTo>
                    <a:lnTo>
                      <a:pt x="67" y="359"/>
                    </a:lnTo>
                    <a:lnTo>
                      <a:pt x="67" y="348"/>
                    </a:lnTo>
                    <a:lnTo>
                      <a:pt x="69" y="336"/>
                    </a:lnTo>
                    <a:lnTo>
                      <a:pt x="71" y="323"/>
                    </a:lnTo>
                    <a:lnTo>
                      <a:pt x="74" y="315"/>
                    </a:lnTo>
                    <a:lnTo>
                      <a:pt x="77" y="306"/>
                    </a:lnTo>
                    <a:lnTo>
                      <a:pt x="81" y="298"/>
                    </a:lnTo>
                    <a:lnTo>
                      <a:pt x="85" y="290"/>
                    </a:lnTo>
                    <a:lnTo>
                      <a:pt x="92" y="276"/>
                    </a:lnTo>
                    <a:lnTo>
                      <a:pt x="100" y="263"/>
                    </a:lnTo>
                    <a:lnTo>
                      <a:pt x="107" y="248"/>
                    </a:lnTo>
                    <a:lnTo>
                      <a:pt x="111" y="240"/>
                    </a:lnTo>
                    <a:lnTo>
                      <a:pt x="114" y="234"/>
                    </a:lnTo>
                    <a:lnTo>
                      <a:pt x="115" y="226"/>
                    </a:lnTo>
                    <a:lnTo>
                      <a:pt x="118" y="218"/>
                    </a:lnTo>
                    <a:lnTo>
                      <a:pt x="118" y="212"/>
                    </a:lnTo>
                    <a:lnTo>
                      <a:pt x="119" y="208"/>
                    </a:lnTo>
                    <a:lnTo>
                      <a:pt x="119" y="199"/>
                    </a:lnTo>
                    <a:lnTo>
                      <a:pt x="119" y="194"/>
                    </a:lnTo>
                    <a:lnTo>
                      <a:pt x="118" y="189"/>
                    </a:lnTo>
                    <a:lnTo>
                      <a:pt x="116" y="183"/>
                    </a:lnTo>
                    <a:lnTo>
                      <a:pt x="114" y="179"/>
                    </a:lnTo>
                    <a:lnTo>
                      <a:pt x="111" y="176"/>
                    </a:lnTo>
                    <a:lnTo>
                      <a:pt x="108" y="172"/>
                    </a:lnTo>
                    <a:lnTo>
                      <a:pt x="106" y="168"/>
                    </a:lnTo>
                    <a:lnTo>
                      <a:pt x="102" y="164"/>
                    </a:lnTo>
                    <a:lnTo>
                      <a:pt x="92" y="158"/>
                    </a:lnTo>
                    <a:lnTo>
                      <a:pt x="89" y="156"/>
                    </a:lnTo>
                    <a:lnTo>
                      <a:pt x="83" y="154"/>
                    </a:lnTo>
                    <a:lnTo>
                      <a:pt x="73" y="152"/>
                    </a:lnTo>
                    <a:lnTo>
                      <a:pt x="62" y="150"/>
                    </a:lnTo>
                    <a:lnTo>
                      <a:pt x="58" y="152"/>
                    </a:lnTo>
                    <a:lnTo>
                      <a:pt x="56" y="152"/>
                    </a:lnTo>
                    <a:lnTo>
                      <a:pt x="53" y="153"/>
                    </a:lnTo>
                    <a:lnTo>
                      <a:pt x="50" y="154"/>
                    </a:lnTo>
                    <a:lnTo>
                      <a:pt x="46" y="158"/>
                    </a:lnTo>
                    <a:lnTo>
                      <a:pt x="42" y="162"/>
                    </a:lnTo>
                    <a:lnTo>
                      <a:pt x="38" y="166"/>
                    </a:lnTo>
                    <a:lnTo>
                      <a:pt x="33" y="169"/>
                    </a:lnTo>
                    <a:lnTo>
                      <a:pt x="28" y="172"/>
                    </a:lnTo>
                    <a:lnTo>
                      <a:pt x="23" y="173"/>
                    </a:lnTo>
                    <a:lnTo>
                      <a:pt x="19" y="173"/>
                    </a:lnTo>
                    <a:lnTo>
                      <a:pt x="16" y="172"/>
                    </a:lnTo>
                    <a:lnTo>
                      <a:pt x="13" y="170"/>
                    </a:lnTo>
                    <a:lnTo>
                      <a:pt x="12" y="169"/>
                    </a:lnTo>
                    <a:lnTo>
                      <a:pt x="11" y="166"/>
                    </a:lnTo>
                    <a:lnTo>
                      <a:pt x="9" y="164"/>
                    </a:lnTo>
                    <a:lnTo>
                      <a:pt x="8" y="160"/>
                    </a:lnTo>
                    <a:lnTo>
                      <a:pt x="7" y="157"/>
                    </a:lnTo>
                    <a:lnTo>
                      <a:pt x="5" y="153"/>
                    </a:lnTo>
                    <a:lnTo>
                      <a:pt x="5" y="149"/>
                    </a:lnTo>
                    <a:lnTo>
                      <a:pt x="5" y="143"/>
                    </a:lnTo>
                    <a:lnTo>
                      <a:pt x="5" y="127"/>
                    </a:lnTo>
                    <a:lnTo>
                      <a:pt x="5" y="116"/>
                    </a:lnTo>
                    <a:lnTo>
                      <a:pt x="7" y="106"/>
                    </a:lnTo>
                    <a:lnTo>
                      <a:pt x="9" y="96"/>
                    </a:lnTo>
                    <a:lnTo>
                      <a:pt x="12" y="86"/>
                    </a:lnTo>
                    <a:lnTo>
                      <a:pt x="16" y="77"/>
                    </a:lnTo>
                    <a:lnTo>
                      <a:pt x="20" y="67"/>
                    </a:lnTo>
                    <a:lnTo>
                      <a:pt x="25" y="58"/>
                    </a:lnTo>
                    <a:lnTo>
                      <a:pt x="30" y="50"/>
                    </a:lnTo>
                    <a:lnTo>
                      <a:pt x="37" y="42"/>
                    </a:lnTo>
                    <a:lnTo>
                      <a:pt x="44" y="36"/>
                    </a:lnTo>
                    <a:lnTo>
                      <a:pt x="52" y="28"/>
                    </a:lnTo>
                    <a:lnTo>
                      <a:pt x="59" y="21"/>
                    </a:lnTo>
                    <a:lnTo>
                      <a:pt x="67" y="16"/>
                    </a:lnTo>
                    <a:lnTo>
                      <a:pt x="75" y="11"/>
                    </a:lnTo>
                    <a:lnTo>
                      <a:pt x="85" y="5"/>
                    </a:lnTo>
                    <a:lnTo>
                      <a:pt x="95" y="0"/>
                    </a:lnTo>
                    <a:lnTo>
                      <a:pt x="129" y="30"/>
                    </a:lnTo>
                    <a:lnTo>
                      <a:pt x="147" y="46"/>
                    </a:lnTo>
                    <a:lnTo>
                      <a:pt x="165" y="61"/>
                    </a:lnTo>
                    <a:lnTo>
                      <a:pt x="182" y="74"/>
                    </a:lnTo>
                    <a:lnTo>
                      <a:pt x="202" y="86"/>
                    </a:lnTo>
                    <a:lnTo>
                      <a:pt x="212" y="91"/>
                    </a:lnTo>
                    <a:lnTo>
                      <a:pt x="222" y="96"/>
                    </a:lnTo>
                    <a:lnTo>
                      <a:pt x="232" y="102"/>
                    </a:lnTo>
                    <a:lnTo>
                      <a:pt x="244" y="10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570560" y="4606920"/>
                <a:ext cx="490320" cy="481320"/>
              </a:xfrm>
              <a:custGeom>
                <a:avLst/>
                <a:gdLst/>
                <a:ahLst/>
                <a:rect l="l" t="t" r="r" b="b"/>
                <a:pathLst>
                  <a:path w="950" h="932">
                    <a:moveTo>
                      <a:pt x="950" y="260"/>
                    </a:moveTo>
                    <a:lnTo>
                      <a:pt x="943" y="274"/>
                    </a:lnTo>
                    <a:lnTo>
                      <a:pt x="936" y="287"/>
                    </a:lnTo>
                    <a:lnTo>
                      <a:pt x="933" y="302"/>
                    </a:lnTo>
                    <a:lnTo>
                      <a:pt x="931" y="310"/>
                    </a:lnTo>
                    <a:lnTo>
                      <a:pt x="930" y="316"/>
                    </a:lnTo>
                    <a:lnTo>
                      <a:pt x="917" y="314"/>
                    </a:lnTo>
                    <a:lnTo>
                      <a:pt x="902" y="311"/>
                    </a:lnTo>
                    <a:lnTo>
                      <a:pt x="886" y="310"/>
                    </a:lnTo>
                    <a:lnTo>
                      <a:pt x="871" y="308"/>
                    </a:lnTo>
                    <a:lnTo>
                      <a:pt x="867" y="310"/>
                    </a:lnTo>
                    <a:lnTo>
                      <a:pt x="861" y="311"/>
                    </a:lnTo>
                    <a:lnTo>
                      <a:pt x="857" y="312"/>
                    </a:lnTo>
                    <a:lnTo>
                      <a:pt x="855" y="315"/>
                    </a:lnTo>
                    <a:lnTo>
                      <a:pt x="848" y="320"/>
                    </a:lnTo>
                    <a:lnTo>
                      <a:pt x="842" y="327"/>
                    </a:lnTo>
                    <a:lnTo>
                      <a:pt x="835" y="333"/>
                    </a:lnTo>
                    <a:lnTo>
                      <a:pt x="828" y="339"/>
                    </a:lnTo>
                    <a:lnTo>
                      <a:pt x="824" y="340"/>
                    </a:lnTo>
                    <a:lnTo>
                      <a:pt x="820" y="343"/>
                    </a:lnTo>
                    <a:lnTo>
                      <a:pt x="816" y="344"/>
                    </a:lnTo>
                    <a:lnTo>
                      <a:pt x="811" y="344"/>
                    </a:lnTo>
                    <a:lnTo>
                      <a:pt x="809" y="344"/>
                    </a:lnTo>
                    <a:lnTo>
                      <a:pt x="806" y="343"/>
                    </a:lnTo>
                    <a:lnTo>
                      <a:pt x="803" y="341"/>
                    </a:lnTo>
                    <a:lnTo>
                      <a:pt x="801" y="340"/>
                    </a:lnTo>
                    <a:lnTo>
                      <a:pt x="795" y="337"/>
                    </a:lnTo>
                    <a:lnTo>
                      <a:pt x="791" y="333"/>
                    </a:lnTo>
                    <a:lnTo>
                      <a:pt x="787" y="329"/>
                    </a:lnTo>
                    <a:lnTo>
                      <a:pt x="782" y="326"/>
                    </a:lnTo>
                    <a:lnTo>
                      <a:pt x="777" y="323"/>
                    </a:lnTo>
                    <a:lnTo>
                      <a:pt x="772" y="322"/>
                    </a:lnTo>
                    <a:lnTo>
                      <a:pt x="764" y="323"/>
                    </a:lnTo>
                    <a:lnTo>
                      <a:pt x="760" y="324"/>
                    </a:lnTo>
                    <a:lnTo>
                      <a:pt x="757" y="326"/>
                    </a:lnTo>
                    <a:lnTo>
                      <a:pt x="751" y="331"/>
                    </a:lnTo>
                    <a:lnTo>
                      <a:pt x="745" y="335"/>
                    </a:lnTo>
                    <a:lnTo>
                      <a:pt x="740" y="340"/>
                    </a:lnTo>
                    <a:lnTo>
                      <a:pt x="733" y="344"/>
                    </a:lnTo>
                    <a:lnTo>
                      <a:pt x="731" y="345"/>
                    </a:lnTo>
                    <a:lnTo>
                      <a:pt x="727" y="347"/>
                    </a:lnTo>
                    <a:lnTo>
                      <a:pt x="720" y="348"/>
                    </a:lnTo>
                    <a:lnTo>
                      <a:pt x="714" y="348"/>
                    </a:lnTo>
                    <a:lnTo>
                      <a:pt x="708" y="347"/>
                    </a:lnTo>
                    <a:lnTo>
                      <a:pt x="703" y="347"/>
                    </a:lnTo>
                    <a:lnTo>
                      <a:pt x="698" y="344"/>
                    </a:lnTo>
                    <a:lnTo>
                      <a:pt x="687" y="340"/>
                    </a:lnTo>
                    <a:lnTo>
                      <a:pt x="678" y="335"/>
                    </a:lnTo>
                    <a:lnTo>
                      <a:pt x="660" y="323"/>
                    </a:lnTo>
                    <a:lnTo>
                      <a:pt x="650" y="318"/>
                    </a:lnTo>
                    <a:lnTo>
                      <a:pt x="638" y="314"/>
                    </a:lnTo>
                    <a:lnTo>
                      <a:pt x="636" y="319"/>
                    </a:lnTo>
                    <a:lnTo>
                      <a:pt x="634" y="324"/>
                    </a:lnTo>
                    <a:lnTo>
                      <a:pt x="631" y="336"/>
                    </a:lnTo>
                    <a:lnTo>
                      <a:pt x="628" y="341"/>
                    </a:lnTo>
                    <a:lnTo>
                      <a:pt x="624" y="345"/>
                    </a:lnTo>
                    <a:lnTo>
                      <a:pt x="620" y="348"/>
                    </a:lnTo>
                    <a:lnTo>
                      <a:pt x="615" y="348"/>
                    </a:lnTo>
                    <a:lnTo>
                      <a:pt x="588" y="348"/>
                    </a:lnTo>
                    <a:lnTo>
                      <a:pt x="576" y="348"/>
                    </a:lnTo>
                    <a:lnTo>
                      <a:pt x="562" y="348"/>
                    </a:lnTo>
                    <a:lnTo>
                      <a:pt x="562" y="376"/>
                    </a:lnTo>
                    <a:lnTo>
                      <a:pt x="575" y="393"/>
                    </a:lnTo>
                    <a:lnTo>
                      <a:pt x="580" y="391"/>
                    </a:lnTo>
                    <a:lnTo>
                      <a:pt x="584" y="389"/>
                    </a:lnTo>
                    <a:lnTo>
                      <a:pt x="594" y="385"/>
                    </a:lnTo>
                    <a:lnTo>
                      <a:pt x="602" y="381"/>
                    </a:lnTo>
                    <a:lnTo>
                      <a:pt x="607" y="381"/>
                    </a:lnTo>
                    <a:lnTo>
                      <a:pt x="612" y="380"/>
                    </a:lnTo>
                    <a:lnTo>
                      <a:pt x="616" y="381"/>
                    </a:lnTo>
                    <a:lnTo>
                      <a:pt x="620" y="382"/>
                    </a:lnTo>
                    <a:lnTo>
                      <a:pt x="623" y="384"/>
                    </a:lnTo>
                    <a:lnTo>
                      <a:pt x="625" y="386"/>
                    </a:lnTo>
                    <a:lnTo>
                      <a:pt x="631" y="394"/>
                    </a:lnTo>
                    <a:lnTo>
                      <a:pt x="634" y="402"/>
                    </a:lnTo>
                    <a:lnTo>
                      <a:pt x="638" y="410"/>
                    </a:lnTo>
                    <a:lnTo>
                      <a:pt x="642" y="417"/>
                    </a:lnTo>
                    <a:lnTo>
                      <a:pt x="645" y="419"/>
                    </a:lnTo>
                    <a:lnTo>
                      <a:pt x="649" y="422"/>
                    </a:lnTo>
                    <a:lnTo>
                      <a:pt x="652" y="423"/>
                    </a:lnTo>
                    <a:lnTo>
                      <a:pt x="657" y="423"/>
                    </a:lnTo>
                    <a:lnTo>
                      <a:pt x="661" y="423"/>
                    </a:lnTo>
                    <a:lnTo>
                      <a:pt x="665" y="420"/>
                    </a:lnTo>
                    <a:lnTo>
                      <a:pt x="671" y="415"/>
                    </a:lnTo>
                    <a:lnTo>
                      <a:pt x="675" y="411"/>
                    </a:lnTo>
                    <a:lnTo>
                      <a:pt x="678" y="409"/>
                    </a:lnTo>
                    <a:lnTo>
                      <a:pt x="682" y="407"/>
                    </a:lnTo>
                    <a:lnTo>
                      <a:pt x="687" y="406"/>
                    </a:lnTo>
                    <a:lnTo>
                      <a:pt x="695" y="407"/>
                    </a:lnTo>
                    <a:lnTo>
                      <a:pt x="699" y="407"/>
                    </a:lnTo>
                    <a:lnTo>
                      <a:pt x="702" y="409"/>
                    </a:lnTo>
                    <a:lnTo>
                      <a:pt x="708" y="413"/>
                    </a:lnTo>
                    <a:lnTo>
                      <a:pt x="715" y="417"/>
                    </a:lnTo>
                    <a:lnTo>
                      <a:pt x="720" y="420"/>
                    </a:lnTo>
                    <a:lnTo>
                      <a:pt x="725" y="426"/>
                    </a:lnTo>
                    <a:lnTo>
                      <a:pt x="736" y="438"/>
                    </a:lnTo>
                    <a:lnTo>
                      <a:pt x="745" y="449"/>
                    </a:lnTo>
                    <a:lnTo>
                      <a:pt x="751" y="455"/>
                    </a:lnTo>
                    <a:lnTo>
                      <a:pt x="757" y="459"/>
                    </a:lnTo>
                    <a:lnTo>
                      <a:pt x="762" y="463"/>
                    </a:lnTo>
                    <a:lnTo>
                      <a:pt x="766" y="464"/>
                    </a:lnTo>
                    <a:lnTo>
                      <a:pt x="769" y="465"/>
                    </a:lnTo>
                    <a:lnTo>
                      <a:pt x="773" y="467"/>
                    </a:lnTo>
                    <a:lnTo>
                      <a:pt x="777" y="468"/>
                    </a:lnTo>
                    <a:lnTo>
                      <a:pt x="785" y="469"/>
                    </a:lnTo>
                    <a:lnTo>
                      <a:pt x="790" y="468"/>
                    </a:lnTo>
                    <a:lnTo>
                      <a:pt x="794" y="467"/>
                    </a:lnTo>
                    <a:lnTo>
                      <a:pt x="798" y="464"/>
                    </a:lnTo>
                    <a:lnTo>
                      <a:pt x="802" y="461"/>
                    </a:lnTo>
                    <a:lnTo>
                      <a:pt x="805" y="457"/>
                    </a:lnTo>
                    <a:lnTo>
                      <a:pt x="809" y="453"/>
                    </a:lnTo>
                    <a:lnTo>
                      <a:pt x="814" y="444"/>
                    </a:lnTo>
                    <a:lnTo>
                      <a:pt x="819" y="435"/>
                    </a:lnTo>
                    <a:lnTo>
                      <a:pt x="822" y="431"/>
                    </a:lnTo>
                    <a:lnTo>
                      <a:pt x="824" y="427"/>
                    </a:lnTo>
                    <a:lnTo>
                      <a:pt x="828" y="424"/>
                    </a:lnTo>
                    <a:lnTo>
                      <a:pt x="832" y="422"/>
                    </a:lnTo>
                    <a:lnTo>
                      <a:pt x="838" y="420"/>
                    </a:lnTo>
                    <a:lnTo>
                      <a:pt x="843" y="419"/>
                    </a:lnTo>
                    <a:lnTo>
                      <a:pt x="847" y="419"/>
                    </a:lnTo>
                    <a:lnTo>
                      <a:pt x="849" y="420"/>
                    </a:lnTo>
                    <a:lnTo>
                      <a:pt x="852" y="422"/>
                    </a:lnTo>
                    <a:lnTo>
                      <a:pt x="855" y="424"/>
                    </a:lnTo>
                    <a:lnTo>
                      <a:pt x="857" y="427"/>
                    </a:lnTo>
                    <a:lnTo>
                      <a:pt x="859" y="430"/>
                    </a:lnTo>
                    <a:lnTo>
                      <a:pt x="861" y="438"/>
                    </a:lnTo>
                    <a:lnTo>
                      <a:pt x="867" y="453"/>
                    </a:lnTo>
                    <a:lnTo>
                      <a:pt x="871" y="461"/>
                    </a:lnTo>
                    <a:lnTo>
                      <a:pt x="875" y="469"/>
                    </a:lnTo>
                    <a:lnTo>
                      <a:pt x="877" y="472"/>
                    </a:lnTo>
                    <a:lnTo>
                      <a:pt x="881" y="475"/>
                    </a:lnTo>
                    <a:lnTo>
                      <a:pt x="885" y="477"/>
                    </a:lnTo>
                    <a:lnTo>
                      <a:pt x="889" y="478"/>
                    </a:lnTo>
                    <a:lnTo>
                      <a:pt x="898" y="481"/>
                    </a:lnTo>
                    <a:lnTo>
                      <a:pt x="907" y="482"/>
                    </a:lnTo>
                    <a:lnTo>
                      <a:pt x="917" y="485"/>
                    </a:lnTo>
                    <a:lnTo>
                      <a:pt x="921" y="486"/>
                    </a:lnTo>
                    <a:lnTo>
                      <a:pt x="925" y="489"/>
                    </a:lnTo>
                    <a:lnTo>
                      <a:pt x="927" y="490"/>
                    </a:lnTo>
                    <a:lnTo>
                      <a:pt x="929" y="493"/>
                    </a:lnTo>
                    <a:lnTo>
                      <a:pt x="930" y="497"/>
                    </a:lnTo>
                    <a:lnTo>
                      <a:pt x="931" y="501"/>
                    </a:lnTo>
                    <a:lnTo>
                      <a:pt x="930" y="510"/>
                    </a:lnTo>
                    <a:lnTo>
                      <a:pt x="929" y="517"/>
                    </a:lnTo>
                    <a:lnTo>
                      <a:pt x="925" y="525"/>
                    </a:lnTo>
                    <a:lnTo>
                      <a:pt x="921" y="530"/>
                    </a:lnTo>
                    <a:lnTo>
                      <a:pt x="915" y="537"/>
                    </a:lnTo>
                    <a:lnTo>
                      <a:pt x="910" y="542"/>
                    </a:lnTo>
                    <a:lnTo>
                      <a:pt x="898" y="551"/>
                    </a:lnTo>
                    <a:lnTo>
                      <a:pt x="885" y="562"/>
                    </a:lnTo>
                    <a:lnTo>
                      <a:pt x="880" y="567"/>
                    </a:lnTo>
                    <a:lnTo>
                      <a:pt x="875" y="572"/>
                    </a:lnTo>
                    <a:lnTo>
                      <a:pt x="871" y="579"/>
                    </a:lnTo>
                    <a:lnTo>
                      <a:pt x="867" y="585"/>
                    </a:lnTo>
                    <a:lnTo>
                      <a:pt x="865" y="589"/>
                    </a:lnTo>
                    <a:lnTo>
                      <a:pt x="865" y="593"/>
                    </a:lnTo>
                    <a:lnTo>
                      <a:pt x="864" y="601"/>
                    </a:lnTo>
                    <a:lnTo>
                      <a:pt x="852" y="597"/>
                    </a:lnTo>
                    <a:lnTo>
                      <a:pt x="842" y="593"/>
                    </a:lnTo>
                    <a:lnTo>
                      <a:pt x="832" y="587"/>
                    </a:lnTo>
                    <a:lnTo>
                      <a:pt x="824" y="581"/>
                    </a:lnTo>
                    <a:lnTo>
                      <a:pt x="815" y="575"/>
                    </a:lnTo>
                    <a:lnTo>
                      <a:pt x="806" y="568"/>
                    </a:lnTo>
                    <a:lnTo>
                      <a:pt x="795" y="563"/>
                    </a:lnTo>
                    <a:lnTo>
                      <a:pt x="785" y="558"/>
                    </a:lnTo>
                    <a:lnTo>
                      <a:pt x="784" y="559"/>
                    </a:lnTo>
                    <a:lnTo>
                      <a:pt x="781" y="562"/>
                    </a:lnTo>
                    <a:lnTo>
                      <a:pt x="777" y="566"/>
                    </a:lnTo>
                    <a:lnTo>
                      <a:pt x="773" y="569"/>
                    </a:lnTo>
                    <a:lnTo>
                      <a:pt x="772" y="572"/>
                    </a:lnTo>
                    <a:lnTo>
                      <a:pt x="772" y="575"/>
                    </a:lnTo>
                    <a:lnTo>
                      <a:pt x="772" y="579"/>
                    </a:lnTo>
                    <a:lnTo>
                      <a:pt x="773" y="583"/>
                    </a:lnTo>
                    <a:lnTo>
                      <a:pt x="776" y="589"/>
                    </a:lnTo>
                    <a:lnTo>
                      <a:pt x="777" y="593"/>
                    </a:lnTo>
                    <a:lnTo>
                      <a:pt x="778" y="596"/>
                    </a:lnTo>
                    <a:lnTo>
                      <a:pt x="780" y="600"/>
                    </a:lnTo>
                    <a:lnTo>
                      <a:pt x="780" y="604"/>
                    </a:lnTo>
                    <a:lnTo>
                      <a:pt x="780" y="609"/>
                    </a:lnTo>
                    <a:lnTo>
                      <a:pt x="780" y="614"/>
                    </a:lnTo>
                    <a:lnTo>
                      <a:pt x="777" y="622"/>
                    </a:lnTo>
                    <a:lnTo>
                      <a:pt x="744" y="614"/>
                    </a:lnTo>
                    <a:lnTo>
                      <a:pt x="727" y="612"/>
                    </a:lnTo>
                    <a:lnTo>
                      <a:pt x="718" y="610"/>
                    </a:lnTo>
                    <a:lnTo>
                      <a:pt x="707" y="610"/>
                    </a:lnTo>
                    <a:lnTo>
                      <a:pt x="699" y="602"/>
                    </a:lnTo>
                    <a:lnTo>
                      <a:pt x="691" y="595"/>
                    </a:lnTo>
                    <a:lnTo>
                      <a:pt x="683" y="587"/>
                    </a:lnTo>
                    <a:lnTo>
                      <a:pt x="679" y="583"/>
                    </a:lnTo>
                    <a:lnTo>
                      <a:pt x="674" y="579"/>
                    </a:lnTo>
                    <a:lnTo>
                      <a:pt x="638" y="588"/>
                    </a:lnTo>
                    <a:lnTo>
                      <a:pt x="631" y="584"/>
                    </a:lnTo>
                    <a:lnTo>
                      <a:pt x="623" y="581"/>
                    </a:lnTo>
                    <a:lnTo>
                      <a:pt x="608" y="573"/>
                    </a:lnTo>
                    <a:lnTo>
                      <a:pt x="600" y="571"/>
                    </a:lnTo>
                    <a:lnTo>
                      <a:pt x="592" y="568"/>
                    </a:lnTo>
                    <a:lnTo>
                      <a:pt x="584" y="567"/>
                    </a:lnTo>
                    <a:lnTo>
                      <a:pt x="575" y="566"/>
                    </a:lnTo>
                    <a:lnTo>
                      <a:pt x="571" y="567"/>
                    </a:lnTo>
                    <a:lnTo>
                      <a:pt x="567" y="567"/>
                    </a:lnTo>
                    <a:lnTo>
                      <a:pt x="563" y="569"/>
                    </a:lnTo>
                    <a:lnTo>
                      <a:pt x="561" y="571"/>
                    </a:lnTo>
                    <a:lnTo>
                      <a:pt x="558" y="575"/>
                    </a:lnTo>
                    <a:lnTo>
                      <a:pt x="557" y="577"/>
                    </a:lnTo>
                    <a:lnTo>
                      <a:pt x="554" y="585"/>
                    </a:lnTo>
                    <a:lnTo>
                      <a:pt x="553" y="595"/>
                    </a:lnTo>
                    <a:lnTo>
                      <a:pt x="553" y="605"/>
                    </a:lnTo>
                    <a:lnTo>
                      <a:pt x="553" y="628"/>
                    </a:lnTo>
                    <a:lnTo>
                      <a:pt x="529" y="633"/>
                    </a:lnTo>
                    <a:lnTo>
                      <a:pt x="507" y="639"/>
                    </a:lnTo>
                    <a:lnTo>
                      <a:pt x="496" y="643"/>
                    </a:lnTo>
                    <a:lnTo>
                      <a:pt x="484" y="647"/>
                    </a:lnTo>
                    <a:lnTo>
                      <a:pt x="463" y="657"/>
                    </a:lnTo>
                    <a:lnTo>
                      <a:pt x="442" y="666"/>
                    </a:lnTo>
                    <a:lnTo>
                      <a:pt x="421" y="676"/>
                    </a:lnTo>
                    <a:lnTo>
                      <a:pt x="400" y="687"/>
                    </a:lnTo>
                    <a:lnTo>
                      <a:pt x="379" y="697"/>
                    </a:lnTo>
                    <a:lnTo>
                      <a:pt x="371" y="693"/>
                    </a:lnTo>
                    <a:lnTo>
                      <a:pt x="367" y="691"/>
                    </a:lnTo>
                    <a:lnTo>
                      <a:pt x="363" y="689"/>
                    </a:lnTo>
                    <a:lnTo>
                      <a:pt x="354" y="687"/>
                    </a:lnTo>
                    <a:lnTo>
                      <a:pt x="343" y="686"/>
                    </a:lnTo>
                    <a:lnTo>
                      <a:pt x="265" y="686"/>
                    </a:lnTo>
                    <a:lnTo>
                      <a:pt x="253" y="683"/>
                    </a:lnTo>
                    <a:lnTo>
                      <a:pt x="241" y="680"/>
                    </a:lnTo>
                    <a:lnTo>
                      <a:pt x="236" y="675"/>
                    </a:lnTo>
                    <a:lnTo>
                      <a:pt x="231" y="670"/>
                    </a:lnTo>
                    <a:lnTo>
                      <a:pt x="226" y="663"/>
                    </a:lnTo>
                    <a:lnTo>
                      <a:pt x="222" y="657"/>
                    </a:lnTo>
                    <a:lnTo>
                      <a:pt x="214" y="641"/>
                    </a:lnTo>
                    <a:lnTo>
                      <a:pt x="207" y="624"/>
                    </a:lnTo>
                    <a:lnTo>
                      <a:pt x="203" y="616"/>
                    </a:lnTo>
                    <a:lnTo>
                      <a:pt x="199" y="609"/>
                    </a:lnTo>
                    <a:lnTo>
                      <a:pt x="195" y="601"/>
                    </a:lnTo>
                    <a:lnTo>
                      <a:pt x="190" y="596"/>
                    </a:lnTo>
                    <a:lnTo>
                      <a:pt x="187" y="593"/>
                    </a:lnTo>
                    <a:lnTo>
                      <a:pt x="185" y="591"/>
                    </a:lnTo>
                    <a:lnTo>
                      <a:pt x="178" y="587"/>
                    </a:lnTo>
                    <a:lnTo>
                      <a:pt x="174" y="585"/>
                    </a:lnTo>
                    <a:lnTo>
                      <a:pt x="170" y="584"/>
                    </a:lnTo>
                    <a:lnTo>
                      <a:pt x="162" y="584"/>
                    </a:lnTo>
                    <a:lnTo>
                      <a:pt x="157" y="584"/>
                    </a:lnTo>
                    <a:lnTo>
                      <a:pt x="153" y="585"/>
                    </a:lnTo>
                    <a:lnTo>
                      <a:pt x="149" y="587"/>
                    </a:lnTo>
                    <a:lnTo>
                      <a:pt x="145" y="589"/>
                    </a:lnTo>
                    <a:lnTo>
                      <a:pt x="143" y="592"/>
                    </a:lnTo>
                    <a:lnTo>
                      <a:pt x="139" y="595"/>
                    </a:lnTo>
                    <a:lnTo>
                      <a:pt x="136" y="598"/>
                    </a:lnTo>
                    <a:lnTo>
                      <a:pt x="135" y="602"/>
                    </a:lnTo>
                    <a:lnTo>
                      <a:pt x="129" y="612"/>
                    </a:lnTo>
                    <a:lnTo>
                      <a:pt x="127" y="621"/>
                    </a:lnTo>
                    <a:lnTo>
                      <a:pt x="123" y="631"/>
                    </a:lnTo>
                    <a:lnTo>
                      <a:pt x="119" y="642"/>
                    </a:lnTo>
                    <a:lnTo>
                      <a:pt x="127" y="647"/>
                    </a:lnTo>
                    <a:lnTo>
                      <a:pt x="133" y="651"/>
                    </a:lnTo>
                    <a:lnTo>
                      <a:pt x="141" y="655"/>
                    </a:lnTo>
                    <a:lnTo>
                      <a:pt x="149" y="659"/>
                    </a:lnTo>
                    <a:lnTo>
                      <a:pt x="157" y="662"/>
                    </a:lnTo>
                    <a:lnTo>
                      <a:pt x="164" y="664"/>
                    </a:lnTo>
                    <a:lnTo>
                      <a:pt x="180" y="670"/>
                    </a:lnTo>
                    <a:lnTo>
                      <a:pt x="194" y="672"/>
                    </a:lnTo>
                    <a:lnTo>
                      <a:pt x="210" y="675"/>
                    </a:lnTo>
                    <a:lnTo>
                      <a:pt x="241" y="680"/>
                    </a:lnTo>
                    <a:lnTo>
                      <a:pt x="245" y="682"/>
                    </a:lnTo>
                    <a:lnTo>
                      <a:pt x="251" y="684"/>
                    </a:lnTo>
                    <a:lnTo>
                      <a:pt x="256" y="686"/>
                    </a:lnTo>
                    <a:lnTo>
                      <a:pt x="261" y="686"/>
                    </a:lnTo>
                    <a:lnTo>
                      <a:pt x="265" y="686"/>
                    </a:lnTo>
                    <a:lnTo>
                      <a:pt x="278" y="689"/>
                    </a:lnTo>
                    <a:lnTo>
                      <a:pt x="292" y="693"/>
                    </a:lnTo>
                    <a:lnTo>
                      <a:pt x="292" y="713"/>
                    </a:lnTo>
                    <a:lnTo>
                      <a:pt x="273" y="717"/>
                    </a:lnTo>
                    <a:lnTo>
                      <a:pt x="256" y="721"/>
                    </a:lnTo>
                    <a:lnTo>
                      <a:pt x="248" y="722"/>
                    </a:lnTo>
                    <a:lnTo>
                      <a:pt x="239" y="725"/>
                    </a:lnTo>
                    <a:lnTo>
                      <a:pt x="231" y="725"/>
                    </a:lnTo>
                    <a:lnTo>
                      <a:pt x="220" y="725"/>
                    </a:lnTo>
                    <a:lnTo>
                      <a:pt x="220" y="745"/>
                    </a:lnTo>
                    <a:lnTo>
                      <a:pt x="219" y="754"/>
                    </a:lnTo>
                    <a:lnTo>
                      <a:pt x="216" y="763"/>
                    </a:lnTo>
                    <a:lnTo>
                      <a:pt x="215" y="771"/>
                    </a:lnTo>
                    <a:lnTo>
                      <a:pt x="211" y="779"/>
                    </a:lnTo>
                    <a:lnTo>
                      <a:pt x="207" y="788"/>
                    </a:lnTo>
                    <a:lnTo>
                      <a:pt x="203" y="796"/>
                    </a:lnTo>
                    <a:lnTo>
                      <a:pt x="214" y="800"/>
                    </a:lnTo>
                    <a:lnTo>
                      <a:pt x="183" y="819"/>
                    </a:lnTo>
                    <a:lnTo>
                      <a:pt x="173" y="827"/>
                    </a:lnTo>
                    <a:lnTo>
                      <a:pt x="162" y="835"/>
                    </a:lnTo>
                    <a:lnTo>
                      <a:pt x="153" y="844"/>
                    </a:lnTo>
                    <a:lnTo>
                      <a:pt x="144" y="853"/>
                    </a:lnTo>
                    <a:lnTo>
                      <a:pt x="128" y="871"/>
                    </a:lnTo>
                    <a:lnTo>
                      <a:pt x="114" y="890"/>
                    </a:lnTo>
                    <a:lnTo>
                      <a:pt x="106" y="899"/>
                    </a:lnTo>
                    <a:lnTo>
                      <a:pt x="98" y="907"/>
                    </a:lnTo>
                    <a:lnTo>
                      <a:pt x="89" y="914"/>
                    </a:lnTo>
                    <a:lnTo>
                      <a:pt x="79" y="920"/>
                    </a:lnTo>
                    <a:lnTo>
                      <a:pt x="70" y="926"/>
                    </a:lnTo>
                    <a:lnTo>
                      <a:pt x="65" y="928"/>
                    </a:lnTo>
                    <a:lnTo>
                      <a:pt x="59" y="930"/>
                    </a:lnTo>
                    <a:lnTo>
                      <a:pt x="48" y="932"/>
                    </a:lnTo>
                    <a:lnTo>
                      <a:pt x="34" y="932"/>
                    </a:lnTo>
                    <a:lnTo>
                      <a:pt x="29" y="932"/>
                    </a:lnTo>
                    <a:lnTo>
                      <a:pt x="25" y="931"/>
                    </a:lnTo>
                    <a:lnTo>
                      <a:pt x="16" y="926"/>
                    </a:lnTo>
                    <a:lnTo>
                      <a:pt x="8" y="922"/>
                    </a:lnTo>
                    <a:lnTo>
                      <a:pt x="4" y="919"/>
                    </a:lnTo>
                    <a:lnTo>
                      <a:pt x="0" y="918"/>
                    </a:lnTo>
                    <a:lnTo>
                      <a:pt x="0" y="748"/>
                    </a:lnTo>
                    <a:lnTo>
                      <a:pt x="1" y="732"/>
                    </a:lnTo>
                    <a:lnTo>
                      <a:pt x="3" y="717"/>
                    </a:lnTo>
                    <a:lnTo>
                      <a:pt x="4" y="703"/>
                    </a:lnTo>
                    <a:lnTo>
                      <a:pt x="8" y="689"/>
                    </a:lnTo>
                    <a:lnTo>
                      <a:pt x="11" y="675"/>
                    </a:lnTo>
                    <a:lnTo>
                      <a:pt x="16" y="663"/>
                    </a:lnTo>
                    <a:lnTo>
                      <a:pt x="21" y="650"/>
                    </a:lnTo>
                    <a:lnTo>
                      <a:pt x="27" y="638"/>
                    </a:lnTo>
                    <a:lnTo>
                      <a:pt x="33" y="628"/>
                    </a:lnTo>
                    <a:lnTo>
                      <a:pt x="40" y="616"/>
                    </a:lnTo>
                    <a:lnTo>
                      <a:pt x="48" y="605"/>
                    </a:lnTo>
                    <a:lnTo>
                      <a:pt x="56" y="595"/>
                    </a:lnTo>
                    <a:lnTo>
                      <a:pt x="63" y="584"/>
                    </a:lnTo>
                    <a:lnTo>
                      <a:pt x="71" y="573"/>
                    </a:lnTo>
                    <a:lnTo>
                      <a:pt x="90" y="554"/>
                    </a:lnTo>
                    <a:lnTo>
                      <a:pt x="128" y="514"/>
                    </a:lnTo>
                    <a:lnTo>
                      <a:pt x="148" y="494"/>
                    </a:lnTo>
                    <a:lnTo>
                      <a:pt x="168" y="473"/>
                    </a:lnTo>
                    <a:lnTo>
                      <a:pt x="187" y="451"/>
                    </a:lnTo>
                    <a:lnTo>
                      <a:pt x="206" y="427"/>
                    </a:lnTo>
                    <a:lnTo>
                      <a:pt x="223" y="402"/>
                    </a:lnTo>
                    <a:lnTo>
                      <a:pt x="232" y="389"/>
                    </a:lnTo>
                    <a:lnTo>
                      <a:pt x="239" y="374"/>
                    </a:lnTo>
                    <a:lnTo>
                      <a:pt x="256" y="343"/>
                    </a:lnTo>
                    <a:lnTo>
                      <a:pt x="272" y="308"/>
                    </a:lnTo>
                    <a:lnTo>
                      <a:pt x="303" y="244"/>
                    </a:lnTo>
                    <a:lnTo>
                      <a:pt x="321" y="211"/>
                    </a:lnTo>
                    <a:lnTo>
                      <a:pt x="336" y="180"/>
                    </a:lnTo>
                    <a:lnTo>
                      <a:pt x="354" y="150"/>
                    </a:lnTo>
                    <a:lnTo>
                      <a:pt x="363" y="136"/>
                    </a:lnTo>
                    <a:lnTo>
                      <a:pt x="372" y="122"/>
                    </a:lnTo>
                    <a:lnTo>
                      <a:pt x="392" y="96"/>
                    </a:lnTo>
                    <a:lnTo>
                      <a:pt x="402" y="84"/>
                    </a:lnTo>
                    <a:lnTo>
                      <a:pt x="413" y="72"/>
                    </a:lnTo>
                    <a:lnTo>
                      <a:pt x="423" y="62"/>
                    </a:lnTo>
                    <a:lnTo>
                      <a:pt x="435" y="53"/>
                    </a:lnTo>
                    <a:lnTo>
                      <a:pt x="447" y="42"/>
                    </a:lnTo>
                    <a:lnTo>
                      <a:pt x="460" y="34"/>
                    </a:lnTo>
                    <a:lnTo>
                      <a:pt x="474" y="26"/>
                    </a:lnTo>
                    <a:lnTo>
                      <a:pt x="487" y="20"/>
                    </a:lnTo>
                    <a:lnTo>
                      <a:pt x="501" y="14"/>
                    </a:lnTo>
                    <a:lnTo>
                      <a:pt x="517" y="9"/>
                    </a:lnTo>
                    <a:lnTo>
                      <a:pt x="533" y="5"/>
                    </a:lnTo>
                    <a:lnTo>
                      <a:pt x="549" y="2"/>
                    </a:lnTo>
                    <a:lnTo>
                      <a:pt x="566" y="1"/>
                    </a:lnTo>
                    <a:lnTo>
                      <a:pt x="584" y="0"/>
                    </a:lnTo>
                    <a:lnTo>
                      <a:pt x="600" y="0"/>
                    </a:lnTo>
                    <a:lnTo>
                      <a:pt x="616" y="1"/>
                    </a:lnTo>
                    <a:lnTo>
                      <a:pt x="631" y="4"/>
                    </a:lnTo>
                    <a:lnTo>
                      <a:pt x="645" y="6"/>
                    </a:lnTo>
                    <a:lnTo>
                      <a:pt x="658" y="10"/>
                    </a:lnTo>
                    <a:lnTo>
                      <a:pt x="671" y="14"/>
                    </a:lnTo>
                    <a:lnTo>
                      <a:pt x="685" y="20"/>
                    </a:lnTo>
                    <a:lnTo>
                      <a:pt x="696" y="25"/>
                    </a:lnTo>
                    <a:lnTo>
                      <a:pt x="708" y="31"/>
                    </a:lnTo>
                    <a:lnTo>
                      <a:pt x="720" y="38"/>
                    </a:lnTo>
                    <a:lnTo>
                      <a:pt x="731" y="46"/>
                    </a:lnTo>
                    <a:lnTo>
                      <a:pt x="741" y="54"/>
                    </a:lnTo>
                    <a:lnTo>
                      <a:pt x="762" y="71"/>
                    </a:lnTo>
                    <a:lnTo>
                      <a:pt x="782" y="89"/>
                    </a:lnTo>
                    <a:lnTo>
                      <a:pt x="802" y="109"/>
                    </a:lnTo>
                    <a:lnTo>
                      <a:pt x="820" y="129"/>
                    </a:lnTo>
                    <a:lnTo>
                      <a:pt x="860" y="173"/>
                    </a:lnTo>
                    <a:lnTo>
                      <a:pt x="881" y="195"/>
                    </a:lnTo>
                    <a:lnTo>
                      <a:pt x="902" y="217"/>
                    </a:lnTo>
                    <a:lnTo>
                      <a:pt x="926" y="238"/>
                    </a:lnTo>
                    <a:lnTo>
                      <a:pt x="950" y="26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250040" y="5843880"/>
                <a:ext cx="230400" cy="288720"/>
              </a:xfrm>
              <a:custGeom>
                <a:avLst/>
                <a:gdLst/>
                <a:ahLst/>
                <a:rect l="l" t="t" r="r" b="b"/>
                <a:pathLst>
                  <a:path w="447" h="559">
                    <a:moveTo>
                      <a:pt x="367" y="559"/>
                    </a:moveTo>
                    <a:lnTo>
                      <a:pt x="358" y="558"/>
                    </a:lnTo>
                    <a:lnTo>
                      <a:pt x="349" y="556"/>
                    </a:lnTo>
                    <a:lnTo>
                      <a:pt x="341" y="554"/>
                    </a:lnTo>
                    <a:lnTo>
                      <a:pt x="334" y="551"/>
                    </a:lnTo>
                    <a:lnTo>
                      <a:pt x="327" y="548"/>
                    </a:lnTo>
                    <a:lnTo>
                      <a:pt x="319" y="546"/>
                    </a:lnTo>
                    <a:lnTo>
                      <a:pt x="311" y="543"/>
                    </a:lnTo>
                    <a:lnTo>
                      <a:pt x="302" y="543"/>
                    </a:lnTo>
                    <a:lnTo>
                      <a:pt x="311" y="529"/>
                    </a:lnTo>
                    <a:lnTo>
                      <a:pt x="292" y="525"/>
                    </a:lnTo>
                    <a:lnTo>
                      <a:pt x="276" y="521"/>
                    </a:lnTo>
                    <a:lnTo>
                      <a:pt x="261" y="517"/>
                    </a:lnTo>
                    <a:lnTo>
                      <a:pt x="245" y="512"/>
                    </a:lnTo>
                    <a:lnTo>
                      <a:pt x="230" y="506"/>
                    </a:lnTo>
                    <a:lnTo>
                      <a:pt x="217" y="500"/>
                    </a:lnTo>
                    <a:lnTo>
                      <a:pt x="203" y="493"/>
                    </a:lnTo>
                    <a:lnTo>
                      <a:pt x="188" y="484"/>
                    </a:lnTo>
                    <a:lnTo>
                      <a:pt x="188" y="548"/>
                    </a:lnTo>
                    <a:lnTo>
                      <a:pt x="183" y="550"/>
                    </a:lnTo>
                    <a:lnTo>
                      <a:pt x="178" y="551"/>
                    </a:lnTo>
                    <a:lnTo>
                      <a:pt x="168" y="554"/>
                    </a:lnTo>
                    <a:lnTo>
                      <a:pt x="164" y="556"/>
                    </a:lnTo>
                    <a:lnTo>
                      <a:pt x="160" y="558"/>
                    </a:lnTo>
                    <a:lnTo>
                      <a:pt x="158" y="558"/>
                    </a:lnTo>
                    <a:lnTo>
                      <a:pt x="155" y="559"/>
                    </a:lnTo>
                    <a:lnTo>
                      <a:pt x="150" y="559"/>
                    </a:lnTo>
                    <a:lnTo>
                      <a:pt x="141" y="559"/>
                    </a:lnTo>
                    <a:lnTo>
                      <a:pt x="133" y="556"/>
                    </a:lnTo>
                    <a:lnTo>
                      <a:pt x="123" y="554"/>
                    </a:lnTo>
                    <a:lnTo>
                      <a:pt x="117" y="550"/>
                    </a:lnTo>
                    <a:lnTo>
                      <a:pt x="109" y="546"/>
                    </a:lnTo>
                    <a:lnTo>
                      <a:pt x="104" y="541"/>
                    </a:lnTo>
                    <a:lnTo>
                      <a:pt x="97" y="534"/>
                    </a:lnTo>
                    <a:lnTo>
                      <a:pt x="92" y="527"/>
                    </a:lnTo>
                    <a:lnTo>
                      <a:pt x="88" y="521"/>
                    </a:lnTo>
                    <a:lnTo>
                      <a:pt x="84" y="513"/>
                    </a:lnTo>
                    <a:lnTo>
                      <a:pt x="80" y="504"/>
                    </a:lnTo>
                    <a:lnTo>
                      <a:pt x="77" y="496"/>
                    </a:lnTo>
                    <a:lnTo>
                      <a:pt x="75" y="487"/>
                    </a:lnTo>
                    <a:lnTo>
                      <a:pt x="73" y="477"/>
                    </a:lnTo>
                    <a:lnTo>
                      <a:pt x="72" y="468"/>
                    </a:lnTo>
                    <a:lnTo>
                      <a:pt x="72" y="459"/>
                    </a:lnTo>
                    <a:lnTo>
                      <a:pt x="71" y="446"/>
                    </a:lnTo>
                    <a:lnTo>
                      <a:pt x="69" y="434"/>
                    </a:lnTo>
                    <a:lnTo>
                      <a:pt x="65" y="422"/>
                    </a:lnTo>
                    <a:lnTo>
                      <a:pt x="60" y="411"/>
                    </a:lnTo>
                    <a:lnTo>
                      <a:pt x="55" y="401"/>
                    </a:lnTo>
                    <a:lnTo>
                      <a:pt x="50" y="390"/>
                    </a:lnTo>
                    <a:lnTo>
                      <a:pt x="35" y="370"/>
                    </a:lnTo>
                    <a:lnTo>
                      <a:pt x="22" y="351"/>
                    </a:lnTo>
                    <a:lnTo>
                      <a:pt x="17" y="341"/>
                    </a:lnTo>
                    <a:lnTo>
                      <a:pt x="10" y="331"/>
                    </a:lnTo>
                    <a:lnTo>
                      <a:pt x="6" y="320"/>
                    </a:lnTo>
                    <a:lnTo>
                      <a:pt x="2" y="308"/>
                    </a:lnTo>
                    <a:lnTo>
                      <a:pt x="0" y="297"/>
                    </a:lnTo>
                    <a:lnTo>
                      <a:pt x="0" y="290"/>
                    </a:lnTo>
                    <a:lnTo>
                      <a:pt x="0" y="283"/>
                    </a:lnTo>
                    <a:lnTo>
                      <a:pt x="0" y="269"/>
                    </a:lnTo>
                    <a:lnTo>
                      <a:pt x="1" y="257"/>
                    </a:lnTo>
                    <a:lnTo>
                      <a:pt x="1" y="245"/>
                    </a:lnTo>
                    <a:lnTo>
                      <a:pt x="3" y="233"/>
                    </a:lnTo>
                    <a:lnTo>
                      <a:pt x="7" y="211"/>
                    </a:lnTo>
                    <a:lnTo>
                      <a:pt x="11" y="200"/>
                    </a:lnTo>
                    <a:lnTo>
                      <a:pt x="14" y="190"/>
                    </a:lnTo>
                    <a:lnTo>
                      <a:pt x="18" y="179"/>
                    </a:lnTo>
                    <a:lnTo>
                      <a:pt x="23" y="169"/>
                    </a:lnTo>
                    <a:lnTo>
                      <a:pt x="34" y="149"/>
                    </a:lnTo>
                    <a:lnTo>
                      <a:pt x="46" y="128"/>
                    </a:lnTo>
                    <a:lnTo>
                      <a:pt x="59" y="107"/>
                    </a:lnTo>
                    <a:lnTo>
                      <a:pt x="44" y="100"/>
                    </a:lnTo>
                    <a:lnTo>
                      <a:pt x="30" y="95"/>
                    </a:lnTo>
                    <a:lnTo>
                      <a:pt x="17" y="91"/>
                    </a:lnTo>
                    <a:lnTo>
                      <a:pt x="0" y="87"/>
                    </a:lnTo>
                    <a:lnTo>
                      <a:pt x="0" y="30"/>
                    </a:lnTo>
                    <a:lnTo>
                      <a:pt x="6" y="29"/>
                    </a:lnTo>
                    <a:lnTo>
                      <a:pt x="14" y="28"/>
                    </a:lnTo>
                    <a:lnTo>
                      <a:pt x="22" y="26"/>
                    </a:lnTo>
                    <a:lnTo>
                      <a:pt x="30" y="26"/>
                    </a:lnTo>
                    <a:lnTo>
                      <a:pt x="42" y="25"/>
                    </a:lnTo>
                    <a:lnTo>
                      <a:pt x="47" y="24"/>
                    </a:lnTo>
                    <a:lnTo>
                      <a:pt x="52" y="22"/>
                    </a:lnTo>
                    <a:lnTo>
                      <a:pt x="62" y="17"/>
                    </a:lnTo>
                    <a:lnTo>
                      <a:pt x="71" y="13"/>
                    </a:lnTo>
                    <a:lnTo>
                      <a:pt x="79" y="8"/>
                    </a:lnTo>
                    <a:lnTo>
                      <a:pt x="89" y="4"/>
                    </a:lnTo>
                    <a:lnTo>
                      <a:pt x="93" y="3"/>
                    </a:lnTo>
                    <a:lnTo>
                      <a:pt x="98" y="1"/>
                    </a:lnTo>
                    <a:lnTo>
                      <a:pt x="110" y="0"/>
                    </a:lnTo>
                    <a:lnTo>
                      <a:pt x="204" y="0"/>
                    </a:lnTo>
                    <a:lnTo>
                      <a:pt x="208" y="39"/>
                    </a:lnTo>
                    <a:lnTo>
                      <a:pt x="212" y="75"/>
                    </a:lnTo>
                    <a:lnTo>
                      <a:pt x="217" y="109"/>
                    </a:lnTo>
                    <a:lnTo>
                      <a:pt x="224" y="142"/>
                    </a:lnTo>
                    <a:lnTo>
                      <a:pt x="233" y="174"/>
                    </a:lnTo>
                    <a:lnTo>
                      <a:pt x="238" y="190"/>
                    </a:lnTo>
                    <a:lnTo>
                      <a:pt x="245" y="206"/>
                    </a:lnTo>
                    <a:lnTo>
                      <a:pt x="251" y="223"/>
                    </a:lnTo>
                    <a:lnTo>
                      <a:pt x="259" y="239"/>
                    </a:lnTo>
                    <a:lnTo>
                      <a:pt x="269" y="256"/>
                    </a:lnTo>
                    <a:lnTo>
                      <a:pt x="278" y="274"/>
                    </a:lnTo>
                    <a:lnTo>
                      <a:pt x="283" y="283"/>
                    </a:lnTo>
                    <a:lnTo>
                      <a:pt x="290" y="293"/>
                    </a:lnTo>
                    <a:lnTo>
                      <a:pt x="296" y="302"/>
                    </a:lnTo>
                    <a:lnTo>
                      <a:pt x="303" y="310"/>
                    </a:lnTo>
                    <a:lnTo>
                      <a:pt x="317" y="324"/>
                    </a:lnTo>
                    <a:lnTo>
                      <a:pt x="333" y="339"/>
                    </a:lnTo>
                    <a:lnTo>
                      <a:pt x="334" y="349"/>
                    </a:lnTo>
                    <a:lnTo>
                      <a:pt x="337" y="360"/>
                    </a:lnTo>
                    <a:lnTo>
                      <a:pt x="340" y="369"/>
                    </a:lnTo>
                    <a:lnTo>
                      <a:pt x="344" y="380"/>
                    </a:lnTo>
                    <a:lnTo>
                      <a:pt x="348" y="389"/>
                    </a:lnTo>
                    <a:lnTo>
                      <a:pt x="353" y="397"/>
                    </a:lnTo>
                    <a:lnTo>
                      <a:pt x="358" y="405"/>
                    </a:lnTo>
                    <a:lnTo>
                      <a:pt x="365" y="413"/>
                    </a:lnTo>
                    <a:lnTo>
                      <a:pt x="373" y="419"/>
                    </a:lnTo>
                    <a:lnTo>
                      <a:pt x="379" y="426"/>
                    </a:lnTo>
                    <a:lnTo>
                      <a:pt x="389" y="431"/>
                    </a:lnTo>
                    <a:lnTo>
                      <a:pt x="396" y="436"/>
                    </a:lnTo>
                    <a:lnTo>
                      <a:pt x="406" y="439"/>
                    </a:lnTo>
                    <a:lnTo>
                      <a:pt x="416" y="442"/>
                    </a:lnTo>
                    <a:lnTo>
                      <a:pt x="425" y="444"/>
                    </a:lnTo>
                    <a:lnTo>
                      <a:pt x="436" y="444"/>
                    </a:lnTo>
                    <a:lnTo>
                      <a:pt x="441" y="456"/>
                    </a:lnTo>
                    <a:lnTo>
                      <a:pt x="444" y="468"/>
                    </a:lnTo>
                    <a:lnTo>
                      <a:pt x="445" y="475"/>
                    </a:lnTo>
                    <a:lnTo>
                      <a:pt x="447" y="481"/>
                    </a:lnTo>
                    <a:lnTo>
                      <a:pt x="447" y="496"/>
                    </a:lnTo>
                    <a:lnTo>
                      <a:pt x="447" y="502"/>
                    </a:lnTo>
                    <a:lnTo>
                      <a:pt x="445" y="509"/>
                    </a:lnTo>
                    <a:lnTo>
                      <a:pt x="443" y="516"/>
                    </a:lnTo>
                    <a:lnTo>
                      <a:pt x="440" y="522"/>
                    </a:lnTo>
                    <a:lnTo>
                      <a:pt x="436" y="527"/>
                    </a:lnTo>
                    <a:lnTo>
                      <a:pt x="432" y="533"/>
                    </a:lnTo>
                    <a:lnTo>
                      <a:pt x="429" y="535"/>
                    </a:lnTo>
                    <a:lnTo>
                      <a:pt x="427" y="538"/>
                    </a:lnTo>
                    <a:lnTo>
                      <a:pt x="422" y="542"/>
                    </a:lnTo>
                    <a:lnTo>
                      <a:pt x="416" y="546"/>
                    </a:lnTo>
                    <a:lnTo>
                      <a:pt x="410" y="548"/>
                    </a:lnTo>
                    <a:lnTo>
                      <a:pt x="403" y="552"/>
                    </a:lnTo>
                    <a:lnTo>
                      <a:pt x="396" y="554"/>
                    </a:lnTo>
                    <a:lnTo>
                      <a:pt x="390" y="556"/>
                    </a:lnTo>
                    <a:lnTo>
                      <a:pt x="382" y="558"/>
                    </a:lnTo>
                    <a:lnTo>
                      <a:pt x="367" y="55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651720" y="5086440"/>
                <a:ext cx="349200" cy="273240"/>
              </a:xfrm>
              <a:custGeom>
                <a:avLst/>
                <a:gdLst/>
                <a:ahLst/>
                <a:rect l="l" t="t" r="r" b="b"/>
                <a:pathLst>
                  <a:path w="679" h="533">
                    <a:moveTo>
                      <a:pt x="38" y="149"/>
                    </a:moveTo>
                    <a:lnTo>
                      <a:pt x="45" y="129"/>
                    </a:lnTo>
                    <a:lnTo>
                      <a:pt x="53" y="112"/>
                    </a:lnTo>
                    <a:lnTo>
                      <a:pt x="61" y="94"/>
                    </a:lnTo>
                    <a:lnTo>
                      <a:pt x="70" y="77"/>
                    </a:lnTo>
                    <a:lnTo>
                      <a:pt x="79" y="58"/>
                    </a:lnTo>
                    <a:lnTo>
                      <a:pt x="90" y="40"/>
                    </a:lnTo>
                    <a:lnTo>
                      <a:pt x="102" y="20"/>
                    </a:lnTo>
                    <a:lnTo>
                      <a:pt x="115" y="0"/>
                    </a:lnTo>
                    <a:lnTo>
                      <a:pt x="235" y="0"/>
                    </a:lnTo>
                    <a:lnTo>
                      <a:pt x="251" y="0"/>
                    </a:lnTo>
                    <a:lnTo>
                      <a:pt x="264" y="2"/>
                    </a:lnTo>
                    <a:lnTo>
                      <a:pt x="278" y="4"/>
                    </a:lnTo>
                    <a:lnTo>
                      <a:pt x="290" y="7"/>
                    </a:lnTo>
                    <a:lnTo>
                      <a:pt x="252" y="103"/>
                    </a:lnTo>
                    <a:lnTo>
                      <a:pt x="233" y="147"/>
                    </a:lnTo>
                    <a:lnTo>
                      <a:pt x="227" y="160"/>
                    </a:lnTo>
                    <a:lnTo>
                      <a:pt x="223" y="166"/>
                    </a:lnTo>
                    <a:lnTo>
                      <a:pt x="222" y="169"/>
                    </a:lnTo>
                    <a:lnTo>
                      <a:pt x="222" y="172"/>
                    </a:lnTo>
                    <a:lnTo>
                      <a:pt x="223" y="173"/>
                    </a:lnTo>
                    <a:lnTo>
                      <a:pt x="224" y="176"/>
                    </a:lnTo>
                    <a:lnTo>
                      <a:pt x="232" y="182"/>
                    </a:lnTo>
                    <a:lnTo>
                      <a:pt x="240" y="187"/>
                    </a:lnTo>
                    <a:lnTo>
                      <a:pt x="251" y="193"/>
                    </a:lnTo>
                    <a:lnTo>
                      <a:pt x="260" y="197"/>
                    </a:lnTo>
                    <a:lnTo>
                      <a:pt x="272" y="202"/>
                    </a:lnTo>
                    <a:lnTo>
                      <a:pt x="273" y="202"/>
                    </a:lnTo>
                    <a:lnTo>
                      <a:pt x="273" y="205"/>
                    </a:lnTo>
                    <a:lnTo>
                      <a:pt x="273" y="209"/>
                    </a:lnTo>
                    <a:lnTo>
                      <a:pt x="266" y="224"/>
                    </a:lnTo>
                    <a:lnTo>
                      <a:pt x="252" y="251"/>
                    </a:lnTo>
                    <a:lnTo>
                      <a:pt x="252" y="252"/>
                    </a:lnTo>
                    <a:lnTo>
                      <a:pt x="252" y="253"/>
                    </a:lnTo>
                    <a:lnTo>
                      <a:pt x="255" y="256"/>
                    </a:lnTo>
                    <a:lnTo>
                      <a:pt x="260" y="259"/>
                    </a:lnTo>
                    <a:lnTo>
                      <a:pt x="265" y="260"/>
                    </a:lnTo>
                    <a:lnTo>
                      <a:pt x="277" y="264"/>
                    </a:lnTo>
                    <a:lnTo>
                      <a:pt x="282" y="265"/>
                    </a:lnTo>
                    <a:lnTo>
                      <a:pt x="286" y="267"/>
                    </a:lnTo>
                    <a:lnTo>
                      <a:pt x="287" y="265"/>
                    </a:lnTo>
                    <a:lnTo>
                      <a:pt x="293" y="260"/>
                    </a:lnTo>
                    <a:lnTo>
                      <a:pt x="307" y="239"/>
                    </a:lnTo>
                    <a:lnTo>
                      <a:pt x="348" y="176"/>
                    </a:lnTo>
                    <a:lnTo>
                      <a:pt x="389" y="110"/>
                    </a:lnTo>
                    <a:lnTo>
                      <a:pt x="407" y="81"/>
                    </a:lnTo>
                    <a:lnTo>
                      <a:pt x="405" y="66"/>
                    </a:lnTo>
                    <a:lnTo>
                      <a:pt x="423" y="78"/>
                    </a:lnTo>
                    <a:lnTo>
                      <a:pt x="443" y="89"/>
                    </a:lnTo>
                    <a:lnTo>
                      <a:pt x="463" y="100"/>
                    </a:lnTo>
                    <a:lnTo>
                      <a:pt x="484" y="111"/>
                    </a:lnTo>
                    <a:lnTo>
                      <a:pt x="517" y="124"/>
                    </a:lnTo>
                    <a:lnTo>
                      <a:pt x="550" y="135"/>
                    </a:lnTo>
                    <a:lnTo>
                      <a:pt x="583" y="147"/>
                    </a:lnTo>
                    <a:lnTo>
                      <a:pt x="599" y="152"/>
                    </a:lnTo>
                    <a:lnTo>
                      <a:pt x="613" y="158"/>
                    </a:lnTo>
                    <a:lnTo>
                      <a:pt x="628" y="166"/>
                    </a:lnTo>
                    <a:lnTo>
                      <a:pt x="634" y="170"/>
                    </a:lnTo>
                    <a:lnTo>
                      <a:pt x="640" y="174"/>
                    </a:lnTo>
                    <a:lnTo>
                      <a:pt x="646" y="178"/>
                    </a:lnTo>
                    <a:lnTo>
                      <a:pt x="651" y="182"/>
                    </a:lnTo>
                    <a:lnTo>
                      <a:pt x="661" y="193"/>
                    </a:lnTo>
                    <a:lnTo>
                      <a:pt x="665" y="198"/>
                    </a:lnTo>
                    <a:lnTo>
                      <a:pt x="669" y="205"/>
                    </a:lnTo>
                    <a:lnTo>
                      <a:pt x="671" y="210"/>
                    </a:lnTo>
                    <a:lnTo>
                      <a:pt x="674" y="216"/>
                    </a:lnTo>
                    <a:lnTo>
                      <a:pt x="677" y="224"/>
                    </a:lnTo>
                    <a:lnTo>
                      <a:pt x="678" y="231"/>
                    </a:lnTo>
                    <a:lnTo>
                      <a:pt x="679" y="239"/>
                    </a:lnTo>
                    <a:lnTo>
                      <a:pt x="679" y="248"/>
                    </a:lnTo>
                    <a:lnTo>
                      <a:pt x="679" y="257"/>
                    </a:lnTo>
                    <a:lnTo>
                      <a:pt x="677" y="265"/>
                    </a:lnTo>
                    <a:lnTo>
                      <a:pt x="674" y="273"/>
                    </a:lnTo>
                    <a:lnTo>
                      <a:pt x="670" y="280"/>
                    </a:lnTo>
                    <a:lnTo>
                      <a:pt x="667" y="282"/>
                    </a:lnTo>
                    <a:lnTo>
                      <a:pt x="665" y="286"/>
                    </a:lnTo>
                    <a:lnTo>
                      <a:pt x="658" y="292"/>
                    </a:lnTo>
                    <a:lnTo>
                      <a:pt x="644" y="301"/>
                    </a:lnTo>
                    <a:lnTo>
                      <a:pt x="628" y="309"/>
                    </a:lnTo>
                    <a:lnTo>
                      <a:pt x="609" y="317"/>
                    </a:lnTo>
                    <a:lnTo>
                      <a:pt x="592" y="323"/>
                    </a:lnTo>
                    <a:lnTo>
                      <a:pt x="574" y="333"/>
                    </a:lnTo>
                    <a:lnTo>
                      <a:pt x="563" y="338"/>
                    </a:lnTo>
                    <a:lnTo>
                      <a:pt x="553" y="344"/>
                    </a:lnTo>
                    <a:lnTo>
                      <a:pt x="533" y="359"/>
                    </a:lnTo>
                    <a:lnTo>
                      <a:pt x="516" y="373"/>
                    </a:lnTo>
                    <a:lnTo>
                      <a:pt x="497" y="387"/>
                    </a:lnTo>
                    <a:lnTo>
                      <a:pt x="488" y="392"/>
                    </a:lnTo>
                    <a:lnTo>
                      <a:pt x="480" y="398"/>
                    </a:lnTo>
                    <a:lnTo>
                      <a:pt x="469" y="404"/>
                    </a:lnTo>
                    <a:lnTo>
                      <a:pt x="460" y="408"/>
                    </a:lnTo>
                    <a:lnTo>
                      <a:pt x="450" y="412"/>
                    </a:lnTo>
                    <a:lnTo>
                      <a:pt x="439" y="414"/>
                    </a:lnTo>
                    <a:lnTo>
                      <a:pt x="427" y="416"/>
                    </a:lnTo>
                    <a:lnTo>
                      <a:pt x="414" y="417"/>
                    </a:lnTo>
                    <a:lnTo>
                      <a:pt x="190" y="417"/>
                    </a:lnTo>
                    <a:lnTo>
                      <a:pt x="183" y="417"/>
                    </a:lnTo>
                    <a:lnTo>
                      <a:pt x="177" y="418"/>
                    </a:lnTo>
                    <a:lnTo>
                      <a:pt x="171" y="420"/>
                    </a:lnTo>
                    <a:lnTo>
                      <a:pt x="166" y="422"/>
                    </a:lnTo>
                    <a:lnTo>
                      <a:pt x="156" y="427"/>
                    </a:lnTo>
                    <a:lnTo>
                      <a:pt x="152" y="431"/>
                    </a:lnTo>
                    <a:lnTo>
                      <a:pt x="146" y="435"/>
                    </a:lnTo>
                    <a:lnTo>
                      <a:pt x="142" y="439"/>
                    </a:lnTo>
                    <a:lnTo>
                      <a:pt x="138" y="443"/>
                    </a:lnTo>
                    <a:lnTo>
                      <a:pt x="132" y="454"/>
                    </a:lnTo>
                    <a:lnTo>
                      <a:pt x="124" y="464"/>
                    </a:lnTo>
                    <a:lnTo>
                      <a:pt x="117" y="475"/>
                    </a:lnTo>
                    <a:lnTo>
                      <a:pt x="104" y="496"/>
                    </a:lnTo>
                    <a:lnTo>
                      <a:pt x="96" y="505"/>
                    </a:lnTo>
                    <a:lnTo>
                      <a:pt x="88" y="514"/>
                    </a:lnTo>
                    <a:lnTo>
                      <a:pt x="79" y="522"/>
                    </a:lnTo>
                    <a:lnTo>
                      <a:pt x="74" y="525"/>
                    </a:lnTo>
                    <a:lnTo>
                      <a:pt x="69" y="528"/>
                    </a:lnTo>
                    <a:lnTo>
                      <a:pt x="63" y="530"/>
                    </a:lnTo>
                    <a:lnTo>
                      <a:pt x="58" y="532"/>
                    </a:lnTo>
                    <a:lnTo>
                      <a:pt x="51" y="533"/>
                    </a:lnTo>
                    <a:lnTo>
                      <a:pt x="45" y="533"/>
                    </a:lnTo>
                    <a:lnTo>
                      <a:pt x="4" y="533"/>
                    </a:lnTo>
                    <a:lnTo>
                      <a:pt x="0" y="509"/>
                    </a:lnTo>
                    <a:lnTo>
                      <a:pt x="7" y="511"/>
                    </a:lnTo>
                    <a:lnTo>
                      <a:pt x="8" y="511"/>
                    </a:lnTo>
                    <a:lnTo>
                      <a:pt x="9" y="509"/>
                    </a:lnTo>
                    <a:lnTo>
                      <a:pt x="11" y="505"/>
                    </a:lnTo>
                    <a:lnTo>
                      <a:pt x="13" y="500"/>
                    </a:lnTo>
                    <a:lnTo>
                      <a:pt x="16" y="493"/>
                    </a:lnTo>
                    <a:lnTo>
                      <a:pt x="21" y="475"/>
                    </a:lnTo>
                    <a:lnTo>
                      <a:pt x="26" y="454"/>
                    </a:lnTo>
                    <a:lnTo>
                      <a:pt x="34" y="414"/>
                    </a:lnTo>
                    <a:lnTo>
                      <a:pt x="38" y="394"/>
                    </a:lnTo>
                    <a:lnTo>
                      <a:pt x="42" y="372"/>
                    </a:lnTo>
                    <a:lnTo>
                      <a:pt x="50" y="331"/>
                    </a:lnTo>
                    <a:lnTo>
                      <a:pt x="62" y="273"/>
                    </a:lnTo>
                    <a:lnTo>
                      <a:pt x="98" y="181"/>
                    </a:lnTo>
                    <a:lnTo>
                      <a:pt x="38" y="14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170840" y="5303880"/>
                <a:ext cx="654120" cy="852480"/>
              </a:xfrm>
              <a:custGeom>
                <a:avLst/>
                <a:gdLst/>
                <a:ahLst/>
                <a:rect l="l" t="t" r="r" b="b"/>
                <a:pathLst>
                  <a:path w="1268" h="1652">
                    <a:moveTo>
                      <a:pt x="248" y="675"/>
                    </a:moveTo>
                    <a:lnTo>
                      <a:pt x="0" y="563"/>
                    </a:lnTo>
                    <a:lnTo>
                      <a:pt x="20" y="390"/>
                    </a:lnTo>
                    <a:lnTo>
                      <a:pt x="107" y="279"/>
                    </a:lnTo>
                    <a:lnTo>
                      <a:pt x="244" y="431"/>
                    </a:lnTo>
                    <a:lnTo>
                      <a:pt x="273" y="410"/>
                    </a:lnTo>
                    <a:lnTo>
                      <a:pt x="141" y="266"/>
                    </a:lnTo>
                    <a:lnTo>
                      <a:pt x="339" y="273"/>
                    </a:lnTo>
                    <a:lnTo>
                      <a:pt x="359" y="124"/>
                    </a:lnTo>
                    <a:lnTo>
                      <a:pt x="430" y="112"/>
                    </a:lnTo>
                    <a:lnTo>
                      <a:pt x="768" y="130"/>
                    </a:lnTo>
                    <a:lnTo>
                      <a:pt x="776" y="89"/>
                    </a:lnTo>
                    <a:lnTo>
                      <a:pt x="780" y="92"/>
                    </a:lnTo>
                    <a:lnTo>
                      <a:pt x="784" y="93"/>
                    </a:lnTo>
                    <a:lnTo>
                      <a:pt x="787" y="95"/>
                    </a:lnTo>
                    <a:lnTo>
                      <a:pt x="793" y="96"/>
                    </a:lnTo>
                    <a:lnTo>
                      <a:pt x="802" y="95"/>
                    </a:lnTo>
                    <a:lnTo>
                      <a:pt x="810" y="92"/>
                    </a:lnTo>
                    <a:lnTo>
                      <a:pt x="818" y="88"/>
                    </a:lnTo>
                    <a:lnTo>
                      <a:pt x="824" y="82"/>
                    </a:lnTo>
                    <a:lnTo>
                      <a:pt x="828" y="79"/>
                    </a:lnTo>
                    <a:lnTo>
                      <a:pt x="831" y="75"/>
                    </a:lnTo>
                    <a:lnTo>
                      <a:pt x="835" y="67"/>
                    </a:lnTo>
                    <a:lnTo>
                      <a:pt x="838" y="63"/>
                    </a:lnTo>
                    <a:lnTo>
                      <a:pt x="839" y="58"/>
                    </a:lnTo>
                    <a:lnTo>
                      <a:pt x="839" y="54"/>
                    </a:lnTo>
                    <a:lnTo>
                      <a:pt x="840" y="49"/>
                    </a:lnTo>
                    <a:lnTo>
                      <a:pt x="893" y="49"/>
                    </a:lnTo>
                    <a:lnTo>
                      <a:pt x="893" y="35"/>
                    </a:lnTo>
                    <a:lnTo>
                      <a:pt x="892" y="22"/>
                    </a:lnTo>
                    <a:lnTo>
                      <a:pt x="890" y="17"/>
                    </a:lnTo>
                    <a:lnTo>
                      <a:pt x="889" y="10"/>
                    </a:lnTo>
                    <a:lnTo>
                      <a:pt x="888" y="5"/>
                    </a:lnTo>
                    <a:lnTo>
                      <a:pt x="885" y="0"/>
                    </a:lnTo>
                    <a:lnTo>
                      <a:pt x="976" y="0"/>
                    </a:lnTo>
                    <a:lnTo>
                      <a:pt x="1014" y="306"/>
                    </a:lnTo>
                    <a:lnTo>
                      <a:pt x="923" y="312"/>
                    </a:lnTo>
                    <a:lnTo>
                      <a:pt x="962" y="584"/>
                    </a:lnTo>
                    <a:lnTo>
                      <a:pt x="967" y="610"/>
                    </a:lnTo>
                    <a:lnTo>
                      <a:pt x="975" y="650"/>
                    </a:lnTo>
                    <a:lnTo>
                      <a:pt x="997" y="752"/>
                    </a:lnTo>
                    <a:lnTo>
                      <a:pt x="1028" y="883"/>
                    </a:lnTo>
                    <a:lnTo>
                      <a:pt x="1067" y="1052"/>
                    </a:lnTo>
                    <a:lnTo>
                      <a:pt x="1137" y="1312"/>
                    </a:lnTo>
                    <a:lnTo>
                      <a:pt x="1196" y="1378"/>
                    </a:lnTo>
                    <a:lnTo>
                      <a:pt x="1215" y="1386"/>
                    </a:lnTo>
                    <a:lnTo>
                      <a:pt x="1208" y="1387"/>
                    </a:lnTo>
                    <a:lnTo>
                      <a:pt x="1210" y="1398"/>
                    </a:lnTo>
                    <a:lnTo>
                      <a:pt x="1212" y="1407"/>
                    </a:lnTo>
                    <a:lnTo>
                      <a:pt x="1215" y="1417"/>
                    </a:lnTo>
                    <a:lnTo>
                      <a:pt x="1219" y="1425"/>
                    </a:lnTo>
                    <a:lnTo>
                      <a:pt x="1229" y="1443"/>
                    </a:lnTo>
                    <a:lnTo>
                      <a:pt x="1240" y="1458"/>
                    </a:lnTo>
                    <a:lnTo>
                      <a:pt x="1250" y="1473"/>
                    </a:lnTo>
                    <a:lnTo>
                      <a:pt x="1254" y="1481"/>
                    </a:lnTo>
                    <a:lnTo>
                      <a:pt x="1260" y="1490"/>
                    </a:lnTo>
                    <a:lnTo>
                      <a:pt x="1262" y="1498"/>
                    </a:lnTo>
                    <a:lnTo>
                      <a:pt x="1265" y="1508"/>
                    </a:lnTo>
                    <a:lnTo>
                      <a:pt x="1268" y="1518"/>
                    </a:lnTo>
                    <a:lnTo>
                      <a:pt x="1268" y="1528"/>
                    </a:lnTo>
                    <a:lnTo>
                      <a:pt x="1268" y="1541"/>
                    </a:lnTo>
                    <a:lnTo>
                      <a:pt x="1266" y="1548"/>
                    </a:lnTo>
                    <a:lnTo>
                      <a:pt x="1265" y="1555"/>
                    </a:lnTo>
                    <a:lnTo>
                      <a:pt x="1264" y="1561"/>
                    </a:lnTo>
                    <a:lnTo>
                      <a:pt x="1261" y="1566"/>
                    </a:lnTo>
                    <a:lnTo>
                      <a:pt x="1257" y="1578"/>
                    </a:lnTo>
                    <a:lnTo>
                      <a:pt x="1250" y="1589"/>
                    </a:lnTo>
                    <a:lnTo>
                      <a:pt x="1244" y="1599"/>
                    </a:lnTo>
                    <a:lnTo>
                      <a:pt x="1236" y="1609"/>
                    </a:lnTo>
                    <a:lnTo>
                      <a:pt x="1227" y="1618"/>
                    </a:lnTo>
                    <a:lnTo>
                      <a:pt x="1217" y="1626"/>
                    </a:lnTo>
                    <a:lnTo>
                      <a:pt x="1207" y="1632"/>
                    </a:lnTo>
                    <a:lnTo>
                      <a:pt x="1202" y="1635"/>
                    </a:lnTo>
                    <a:lnTo>
                      <a:pt x="1195" y="1638"/>
                    </a:lnTo>
                    <a:lnTo>
                      <a:pt x="1183" y="1643"/>
                    </a:lnTo>
                    <a:lnTo>
                      <a:pt x="1171" y="1647"/>
                    </a:lnTo>
                    <a:lnTo>
                      <a:pt x="1158" y="1650"/>
                    </a:lnTo>
                    <a:lnTo>
                      <a:pt x="1145" y="1652"/>
                    </a:lnTo>
                    <a:lnTo>
                      <a:pt x="1132" y="1652"/>
                    </a:lnTo>
                    <a:lnTo>
                      <a:pt x="1125" y="1652"/>
                    </a:lnTo>
                    <a:lnTo>
                      <a:pt x="1119" y="1651"/>
                    </a:lnTo>
                    <a:lnTo>
                      <a:pt x="1112" y="1650"/>
                    </a:lnTo>
                    <a:lnTo>
                      <a:pt x="1107" y="1647"/>
                    </a:lnTo>
                    <a:lnTo>
                      <a:pt x="1100" y="1644"/>
                    </a:lnTo>
                    <a:lnTo>
                      <a:pt x="1095" y="1642"/>
                    </a:lnTo>
                    <a:lnTo>
                      <a:pt x="1091" y="1639"/>
                    </a:lnTo>
                    <a:lnTo>
                      <a:pt x="1086" y="1635"/>
                    </a:lnTo>
                    <a:lnTo>
                      <a:pt x="1080" y="1631"/>
                    </a:lnTo>
                    <a:lnTo>
                      <a:pt x="1076" y="1626"/>
                    </a:lnTo>
                    <a:lnTo>
                      <a:pt x="1067" y="1617"/>
                    </a:lnTo>
                    <a:lnTo>
                      <a:pt x="1051" y="1597"/>
                    </a:lnTo>
                    <a:lnTo>
                      <a:pt x="1035" y="1576"/>
                    </a:lnTo>
                    <a:lnTo>
                      <a:pt x="1028" y="1566"/>
                    </a:lnTo>
                    <a:lnTo>
                      <a:pt x="1018" y="1559"/>
                    </a:lnTo>
                    <a:lnTo>
                      <a:pt x="1008" y="1552"/>
                    </a:lnTo>
                    <a:lnTo>
                      <a:pt x="997" y="1545"/>
                    </a:lnTo>
                    <a:lnTo>
                      <a:pt x="991" y="1544"/>
                    </a:lnTo>
                    <a:lnTo>
                      <a:pt x="985" y="1543"/>
                    </a:lnTo>
                    <a:lnTo>
                      <a:pt x="979" y="1541"/>
                    </a:lnTo>
                    <a:lnTo>
                      <a:pt x="971" y="1541"/>
                    </a:lnTo>
                    <a:lnTo>
                      <a:pt x="976" y="1534"/>
                    </a:lnTo>
                    <a:lnTo>
                      <a:pt x="981" y="1527"/>
                    </a:lnTo>
                    <a:lnTo>
                      <a:pt x="993" y="1516"/>
                    </a:lnTo>
                    <a:lnTo>
                      <a:pt x="999" y="1510"/>
                    </a:lnTo>
                    <a:lnTo>
                      <a:pt x="1001" y="1507"/>
                    </a:lnTo>
                    <a:lnTo>
                      <a:pt x="1002" y="1503"/>
                    </a:lnTo>
                    <a:lnTo>
                      <a:pt x="1004" y="1501"/>
                    </a:lnTo>
                    <a:lnTo>
                      <a:pt x="1005" y="1497"/>
                    </a:lnTo>
                    <a:lnTo>
                      <a:pt x="1006" y="1493"/>
                    </a:lnTo>
                    <a:lnTo>
                      <a:pt x="1006" y="1487"/>
                    </a:lnTo>
                    <a:lnTo>
                      <a:pt x="1006" y="1479"/>
                    </a:lnTo>
                    <a:lnTo>
                      <a:pt x="1004" y="1472"/>
                    </a:lnTo>
                    <a:lnTo>
                      <a:pt x="1002" y="1464"/>
                    </a:lnTo>
                    <a:lnTo>
                      <a:pt x="999" y="1457"/>
                    </a:lnTo>
                    <a:lnTo>
                      <a:pt x="995" y="1450"/>
                    </a:lnTo>
                    <a:lnTo>
                      <a:pt x="991" y="1445"/>
                    </a:lnTo>
                    <a:lnTo>
                      <a:pt x="985" y="1439"/>
                    </a:lnTo>
                    <a:lnTo>
                      <a:pt x="980" y="1435"/>
                    </a:lnTo>
                    <a:lnTo>
                      <a:pt x="973" y="1429"/>
                    </a:lnTo>
                    <a:lnTo>
                      <a:pt x="967" y="1424"/>
                    </a:lnTo>
                    <a:lnTo>
                      <a:pt x="952" y="1416"/>
                    </a:lnTo>
                    <a:lnTo>
                      <a:pt x="922" y="1399"/>
                    </a:lnTo>
                    <a:lnTo>
                      <a:pt x="923" y="1392"/>
                    </a:lnTo>
                    <a:lnTo>
                      <a:pt x="926" y="1386"/>
                    </a:lnTo>
                    <a:lnTo>
                      <a:pt x="931" y="1374"/>
                    </a:lnTo>
                    <a:lnTo>
                      <a:pt x="934" y="1369"/>
                    </a:lnTo>
                    <a:lnTo>
                      <a:pt x="937" y="1362"/>
                    </a:lnTo>
                    <a:lnTo>
                      <a:pt x="938" y="1355"/>
                    </a:lnTo>
                    <a:lnTo>
                      <a:pt x="938" y="1348"/>
                    </a:lnTo>
                    <a:lnTo>
                      <a:pt x="938" y="1342"/>
                    </a:lnTo>
                    <a:lnTo>
                      <a:pt x="937" y="1338"/>
                    </a:lnTo>
                    <a:lnTo>
                      <a:pt x="934" y="1330"/>
                    </a:lnTo>
                    <a:lnTo>
                      <a:pt x="927" y="1325"/>
                    </a:lnTo>
                    <a:lnTo>
                      <a:pt x="921" y="1319"/>
                    </a:lnTo>
                    <a:lnTo>
                      <a:pt x="913" y="1315"/>
                    </a:lnTo>
                    <a:lnTo>
                      <a:pt x="905" y="1309"/>
                    </a:lnTo>
                    <a:lnTo>
                      <a:pt x="897" y="1304"/>
                    </a:lnTo>
                    <a:lnTo>
                      <a:pt x="889" y="1299"/>
                    </a:lnTo>
                    <a:lnTo>
                      <a:pt x="896" y="1292"/>
                    </a:lnTo>
                    <a:lnTo>
                      <a:pt x="902" y="1287"/>
                    </a:lnTo>
                    <a:lnTo>
                      <a:pt x="908" y="1280"/>
                    </a:lnTo>
                    <a:lnTo>
                      <a:pt x="913" y="1272"/>
                    </a:lnTo>
                    <a:lnTo>
                      <a:pt x="915" y="1266"/>
                    </a:lnTo>
                    <a:lnTo>
                      <a:pt x="919" y="1257"/>
                    </a:lnTo>
                    <a:lnTo>
                      <a:pt x="921" y="1249"/>
                    </a:lnTo>
                    <a:lnTo>
                      <a:pt x="922" y="1238"/>
                    </a:lnTo>
                    <a:lnTo>
                      <a:pt x="942" y="1241"/>
                    </a:lnTo>
                    <a:lnTo>
                      <a:pt x="960" y="1242"/>
                    </a:lnTo>
                    <a:lnTo>
                      <a:pt x="979" y="1245"/>
                    </a:lnTo>
                    <a:lnTo>
                      <a:pt x="999" y="1247"/>
                    </a:lnTo>
                    <a:lnTo>
                      <a:pt x="989" y="1235"/>
                    </a:lnTo>
                    <a:lnTo>
                      <a:pt x="984" y="1230"/>
                    </a:lnTo>
                    <a:lnTo>
                      <a:pt x="980" y="1226"/>
                    </a:lnTo>
                    <a:lnTo>
                      <a:pt x="960" y="1206"/>
                    </a:lnTo>
                    <a:lnTo>
                      <a:pt x="951" y="1197"/>
                    </a:lnTo>
                    <a:lnTo>
                      <a:pt x="943" y="1187"/>
                    </a:lnTo>
                    <a:lnTo>
                      <a:pt x="935" y="1175"/>
                    </a:lnTo>
                    <a:lnTo>
                      <a:pt x="930" y="1163"/>
                    </a:lnTo>
                    <a:lnTo>
                      <a:pt x="938" y="1164"/>
                    </a:lnTo>
                    <a:lnTo>
                      <a:pt x="946" y="1167"/>
                    </a:lnTo>
                    <a:lnTo>
                      <a:pt x="962" y="1172"/>
                    </a:lnTo>
                    <a:lnTo>
                      <a:pt x="969" y="1175"/>
                    </a:lnTo>
                    <a:lnTo>
                      <a:pt x="977" y="1177"/>
                    </a:lnTo>
                    <a:lnTo>
                      <a:pt x="985" y="1179"/>
                    </a:lnTo>
                    <a:lnTo>
                      <a:pt x="995" y="1179"/>
                    </a:lnTo>
                    <a:lnTo>
                      <a:pt x="1004" y="1177"/>
                    </a:lnTo>
                    <a:lnTo>
                      <a:pt x="1013" y="1175"/>
                    </a:lnTo>
                    <a:lnTo>
                      <a:pt x="1022" y="1172"/>
                    </a:lnTo>
                    <a:lnTo>
                      <a:pt x="1031" y="1171"/>
                    </a:lnTo>
                    <a:lnTo>
                      <a:pt x="1026" y="1155"/>
                    </a:lnTo>
                    <a:lnTo>
                      <a:pt x="1024" y="1138"/>
                    </a:lnTo>
                    <a:lnTo>
                      <a:pt x="1020" y="1121"/>
                    </a:lnTo>
                    <a:lnTo>
                      <a:pt x="1014" y="1105"/>
                    </a:lnTo>
                    <a:lnTo>
                      <a:pt x="1012" y="1097"/>
                    </a:lnTo>
                    <a:lnTo>
                      <a:pt x="1009" y="1090"/>
                    </a:lnTo>
                    <a:lnTo>
                      <a:pt x="1005" y="1085"/>
                    </a:lnTo>
                    <a:lnTo>
                      <a:pt x="1001" y="1080"/>
                    </a:lnTo>
                    <a:lnTo>
                      <a:pt x="996" y="1076"/>
                    </a:lnTo>
                    <a:lnTo>
                      <a:pt x="989" y="1072"/>
                    </a:lnTo>
                    <a:lnTo>
                      <a:pt x="987" y="1071"/>
                    </a:lnTo>
                    <a:lnTo>
                      <a:pt x="983" y="1071"/>
                    </a:lnTo>
                    <a:lnTo>
                      <a:pt x="976" y="1069"/>
                    </a:lnTo>
                    <a:lnTo>
                      <a:pt x="966" y="1071"/>
                    </a:lnTo>
                    <a:lnTo>
                      <a:pt x="958" y="1072"/>
                    </a:lnTo>
                    <a:lnTo>
                      <a:pt x="940" y="1076"/>
                    </a:lnTo>
                    <a:lnTo>
                      <a:pt x="923" y="1083"/>
                    </a:lnTo>
                    <a:lnTo>
                      <a:pt x="915" y="1084"/>
                    </a:lnTo>
                    <a:lnTo>
                      <a:pt x="905" y="1086"/>
                    </a:lnTo>
                    <a:lnTo>
                      <a:pt x="905" y="1073"/>
                    </a:lnTo>
                    <a:lnTo>
                      <a:pt x="904" y="1067"/>
                    </a:lnTo>
                    <a:lnTo>
                      <a:pt x="902" y="1060"/>
                    </a:lnTo>
                    <a:lnTo>
                      <a:pt x="897" y="1036"/>
                    </a:lnTo>
                    <a:lnTo>
                      <a:pt x="871" y="1061"/>
                    </a:lnTo>
                    <a:lnTo>
                      <a:pt x="820" y="1046"/>
                    </a:lnTo>
                    <a:lnTo>
                      <a:pt x="810" y="1053"/>
                    </a:lnTo>
                    <a:lnTo>
                      <a:pt x="799" y="1061"/>
                    </a:lnTo>
                    <a:lnTo>
                      <a:pt x="789" y="1068"/>
                    </a:lnTo>
                    <a:lnTo>
                      <a:pt x="778" y="1075"/>
                    </a:lnTo>
                    <a:lnTo>
                      <a:pt x="773" y="1077"/>
                    </a:lnTo>
                    <a:lnTo>
                      <a:pt x="768" y="1079"/>
                    </a:lnTo>
                    <a:lnTo>
                      <a:pt x="756" y="1083"/>
                    </a:lnTo>
                    <a:lnTo>
                      <a:pt x="749" y="1084"/>
                    </a:lnTo>
                    <a:lnTo>
                      <a:pt x="743" y="1085"/>
                    </a:lnTo>
                    <a:lnTo>
                      <a:pt x="728" y="1086"/>
                    </a:lnTo>
                    <a:lnTo>
                      <a:pt x="728" y="1102"/>
                    </a:lnTo>
                    <a:lnTo>
                      <a:pt x="708" y="1072"/>
                    </a:lnTo>
                    <a:lnTo>
                      <a:pt x="417" y="994"/>
                    </a:lnTo>
                    <a:lnTo>
                      <a:pt x="424" y="968"/>
                    </a:lnTo>
                    <a:lnTo>
                      <a:pt x="364" y="883"/>
                    </a:lnTo>
                    <a:lnTo>
                      <a:pt x="326" y="872"/>
                    </a:lnTo>
                    <a:lnTo>
                      <a:pt x="274" y="837"/>
                    </a:lnTo>
                    <a:lnTo>
                      <a:pt x="236" y="734"/>
                    </a:lnTo>
                    <a:lnTo>
                      <a:pt x="248" y="67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340760" y="5442120"/>
                <a:ext cx="174600" cy="138240"/>
              </a:xfrm>
              <a:custGeom>
                <a:avLst/>
                <a:gdLst/>
                <a:ahLst/>
                <a:rect l="l" t="t" r="r" b="b"/>
                <a:pathLst>
                  <a:path w="340" h="267">
                    <a:moveTo>
                      <a:pt x="336" y="23"/>
                    </a:moveTo>
                    <a:lnTo>
                      <a:pt x="333" y="24"/>
                    </a:lnTo>
                    <a:lnTo>
                      <a:pt x="328" y="24"/>
                    </a:lnTo>
                    <a:lnTo>
                      <a:pt x="313" y="25"/>
                    </a:lnTo>
                    <a:lnTo>
                      <a:pt x="271" y="27"/>
                    </a:lnTo>
                    <a:lnTo>
                      <a:pt x="213" y="27"/>
                    </a:lnTo>
                    <a:lnTo>
                      <a:pt x="212" y="13"/>
                    </a:lnTo>
                    <a:lnTo>
                      <a:pt x="18" y="0"/>
                    </a:lnTo>
                    <a:lnTo>
                      <a:pt x="14" y="123"/>
                    </a:lnTo>
                    <a:lnTo>
                      <a:pt x="19" y="123"/>
                    </a:lnTo>
                    <a:lnTo>
                      <a:pt x="9" y="193"/>
                    </a:lnTo>
                    <a:lnTo>
                      <a:pt x="4" y="193"/>
                    </a:lnTo>
                    <a:lnTo>
                      <a:pt x="0" y="267"/>
                    </a:lnTo>
                    <a:lnTo>
                      <a:pt x="88" y="260"/>
                    </a:lnTo>
                    <a:lnTo>
                      <a:pt x="87" y="251"/>
                    </a:lnTo>
                    <a:lnTo>
                      <a:pt x="130" y="251"/>
                    </a:lnTo>
                    <a:lnTo>
                      <a:pt x="151" y="190"/>
                    </a:lnTo>
                    <a:lnTo>
                      <a:pt x="178" y="190"/>
                    </a:lnTo>
                    <a:lnTo>
                      <a:pt x="175" y="125"/>
                    </a:lnTo>
                    <a:lnTo>
                      <a:pt x="205" y="127"/>
                    </a:lnTo>
                    <a:lnTo>
                      <a:pt x="205" y="95"/>
                    </a:lnTo>
                    <a:lnTo>
                      <a:pt x="339" y="81"/>
                    </a:lnTo>
                    <a:lnTo>
                      <a:pt x="339" y="71"/>
                    </a:lnTo>
                    <a:lnTo>
                      <a:pt x="340" y="50"/>
                    </a:lnTo>
                    <a:lnTo>
                      <a:pt x="340" y="40"/>
                    </a:lnTo>
                    <a:lnTo>
                      <a:pt x="340" y="31"/>
                    </a:lnTo>
                    <a:lnTo>
                      <a:pt x="339" y="24"/>
                    </a:lnTo>
                    <a:lnTo>
                      <a:pt x="337" y="23"/>
                    </a:lnTo>
                    <a:lnTo>
                      <a:pt x="336" y="2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850160" y="5610240"/>
                <a:ext cx="262080" cy="373320"/>
              </a:xfrm>
              <a:custGeom>
                <a:avLst/>
                <a:gdLst/>
                <a:ahLst/>
                <a:rect l="l" t="t" r="r" b="b"/>
                <a:pathLst>
                  <a:path w="510" h="723">
                    <a:moveTo>
                      <a:pt x="404" y="5"/>
                    </a:moveTo>
                    <a:lnTo>
                      <a:pt x="413" y="0"/>
                    </a:lnTo>
                    <a:lnTo>
                      <a:pt x="423" y="4"/>
                    </a:lnTo>
                    <a:lnTo>
                      <a:pt x="434" y="9"/>
                    </a:lnTo>
                    <a:lnTo>
                      <a:pt x="443" y="14"/>
                    </a:lnTo>
                    <a:lnTo>
                      <a:pt x="451" y="20"/>
                    </a:lnTo>
                    <a:lnTo>
                      <a:pt x="459" y="26"/>
                    </a:lnTo>
                    <a:lnTo>
                      <a:pt x="466" y="33"/>
                    </a:lnTo>
                    <a:lnTo>
                      <a:pt x="472" y="41"/>
                    </a:lnTo>
                    <a:lnTo>
                      <a:pt x="477" y="49"/>
                    </a:lnTo>
                    <a:lnTo>
                      <a:pt x="473" y="67"/>
                    </a:lnTo>
                    <a:lnTo>
                      <a:pt x="470" y="86"/>
                    </a:lnTo>
                    <a:lnTo>
                      <a:pt x="470" y="96"/>
                    </a:lnTo>
                    <a:lnTo>
                      <a:pt x="468" y="107"/>
                    </a:lnTo>
                    <a:lnTo>
                      <a:pt x="467" y="128"/>
                    </a:lnTo>
                    <a:lnTo>
                      <a:pt x="468" y="132"/>
                    </a:lnTo>
                    <a:lnTo>
                      <a:pt x="468" y="134"/>
                    </a:lnTo>
                    <a:lnTo>
                      <a:pt x="471" y="141"/>
                    </a:lnTo>
                    <a:lnTo>
                      <a:pt x="475" y="148"/>
                    </a:lnTo>
                    <a:lnTo>
                      <a:pt x="480" y="153"/>
                    </a:lnTo>
                    <a:lnTo>
                      <a:pt x="484" y="158"/>
                    </a:lnTo>
                    <a:lnTo>
                      <a:pt x="488" y="163"/>
                    </a:lnTo>
                    <a:lnTo>
                      <a:pt x="489" y="167"/>
                    </a:lnTo>
                    <a:lnTo>
                      <a:pt x="491" y="170"/>
                    </a:lnTo>
                    <a:lnTo>
                      <a:pt x="492" y="174"/>
                    </a:lnTo>
                    <a:lnTo>
                      <a:pt x="492" y="177"/>
                    </a:lnTo>
                    <a:lnTo>
                      <a:pt x="492" y="182"/>
                    </a:lnTo>
                    <a:lnTo>
                      <a:pt x="491" y="187"/>
                    </a:lnTo>
                    <a:lnTo>
                      <a:pt x="489" y="192"/>
                    </a:lnTo>
                    <a:lnTo>
                      <a:pt x="488" y="196"/>
                    </a:lnTo>
                    <a:lnTo>
                      <a:pt x="484" y="204"/>
                    </a:lnTo>
                    <a:lnTo>
                      <a:pt x="479" y="212"/>
                    </a:lnTo>
                    <a:lnTo>
                      <a:pt x="472" y="219"/>
                    </a:lnTo>
                    <a:lnTo>
                      <a:pt x="466" y="227"/>
                    </a:lnTo>
                    <a:lnTo>
                      <a:pt x="451" y="241"/>
                    </a:lnTo>
                    <a:lnTo>
                      <a:pt x="456" y="247"/>
                    </a:lnTo>
                    <a:lnTo>
                      <a:pt x="463" y="252"/>
                    </a:lnTo>
                    <a:lnTo>
                      <a:pt x="476" y="260"/>
                    </a:lnTo>
                    <a:lnTo>
                      <a:pt x="483" y="265"/>
                    </a:lnTo>
                    <a:lnTo>
                      <a:pt x="485" y="268"/>
                    </a:lnTo>
                    <a:lnTo>
                      <a:pt x="488" y="270"/>
                    </a:lnTo>
                    <a:lnTo>
                      <a:pt x="489" y="273"/>
                    </a:lnTo>
                    <a:lnTo>
                      <a:pt x="491" y="277"/>
                    </a:lnTo>
                    <a:lnTo>
                      <a:pt x="492" y="281"/>
                    </a:lnTo>
                    <a:lnTo>
                      <a:pt x="492" y="285"/>
                    </a:lnTo>
                    <a:lnTo>
                      <a:pt x="493" y="294"/>
                    </a:lnTo>
                    <a:lnTo>
                      <a:pt x="495" y="303"/>
                    </a:lnTo>
                    <a:lnTo>
                      <a:pt x="499" y="312"/>
                    </a:lnTo>
                    <a:lnTo>
                      <a:pt x="501" y="320"/>
                    </a:lnTo>
                    <a:lnTo>
                      <a:pt x="505" y="328"/>
                    </a:lnTo>
                    <a:lnTo>
                      <a:pt x="508" y="338"/>
                    </a:lnTo>
                    <a:lnTo>
                      <a:pt x="509" y="341"/>
                    </a:lnTo>
                    <a:lnTo>
                      <a:pt x="510" y="345"/>
                    </a:lnTo>
                    <a:lnTo>
                      <a:pt x="510" y="351"/>
                    </a:lnTo>
                    <a:lnTo>
                      <a:pt x="510" y="356"/>
                    </a:lnTo>
                    <a:lnTo>
                      <a:pt x="510" y="371"/>
                    </a:lnTo>
                    <a:lnTo>
                      <a:pt x="509" y="378"/>
                    </a:lnTo>
                    <a:lnTo>
                      <a:pt x="508" y="385"/>
                    </a:lnTo>
                    <a:lnTo>
                      <a:pt x="506" y="393"/>
                    </a:lnTo>
                    <a:lnTo>
                      <a:pt x="504" y="400"/>
                    </a:lnTo>
                    <a:lnTo>
                      <a:pt x="500" y="413"/>
                    </a:lnTo>
                    <a:lnTo>
                      <a:pt x="493" y="426"/>
                    </a:lnTo>
                    <a:lnTo>
                      <a:pt x="487" y="438"/>
                    </a:lnTo>
                    <a:lnTo>
                      <a:pt x="477" y="450"/>
                    </a:lnTo>
                    <a:lnTo>
                      <a:pt x="468" y="459"/>
                    </a:lnTo>
                    <a:lnTo>
                      <a:pt x="459" y="469"/>
                    </a:lnTo>
                    <a:lnTo>
                      <a:pt x="447" y="477"/>
                    </a:lnTo>
                    <a:lnTo>
                      <a:pt x="435" y="485"/>
                    </a:lnTo>
                    <a:lnTo>
                      <a:pt x="423" y="491"/>
                    </a:lnTo>
                    <a:lnTo>
                      <a:pt x="410" y="496"/>
                    </a:lnTo>
                    <a:lnTo>
                      <a:pt x="396" y="500"/>
                    </a:lnTo>
                    <a:lnTo>
                      <a:pt x="381" y="501"/>
                    </a:lnTo>
                    <a:lnTo>
                      <a:pt x="375" y="502"/>
                    </a:lnTo>
                    <a:lnTo>
                      <a:pt x="367" y="502"/>
                    </a:lnTo>
                    <a:lnTo>
                      <a:pt x="356" y="502"/>
                    </a:lnTo>
                    <a:lnTo>
                      <a:pt x="346" y="501"/>
                    </a:lnTo>
                    <a:lnTo>
                      <a:pt x="326" y="497"/>
                    </a:lnTo>
                    <a:lnTo>
                      <a:pt x="307" y="492"/>
                    </a:lnTo>
                    <a:lnTo>
                      <a:pt x="290" y="487"/>
                    </a:lnTo>
                    <a:lnTo>
                      <a:pt x="273" y="480"/>
                    </a:lnTo>
                    <a:lnTo>
                      <a:pt x="255" y="475"/>
                    </a:lnTo>
                    <a:lnTo>
                      <a:pt x="245" y="472"/>
                    </a:lnTo>
                    <a:lnTo>
                      <a:pt x="235" y="471"/>
                    </a:lnTo>
                    <a:lnTo>
                      <a:pt x="226" y="469"/>
                    </a:lnTo>
                    <a:lnTo>
                      <a:pt x="214" y="469"/>
                    </a:lnTo>
                    <a:lnTo>
                      <a:pt x="206" y="469"/>
                    </a:lnTo>
                    <a:lnTo>
                      <a:pt x="198" y="471"/>
                    </a:lnTo>
                    <a:lnTo>
                      <a:pt x="191" y="472"/>
                    </a:lnTo>
                    <a:lnTo>
                      <a:pt x="183" y="473"/>
                    </a:lnTo>
                    <a:lnTo>
                      <a:pt x="177" y="476"/>
                    </a:lnTo>
                    <a:lnTo>
                      <a:pt x="170" y="480"/>
                    </a:lnTo>
                    <a:lnTo>
                      <a:pt x="164" y="483"/>
                    </a:lnTo>
                    <a:lnTo>
                      <a:pt x="157" y="487"/>
                    </a:lnTo>
                    <a:lnTo>
                      <a:pt x="152" y="491"/>
                    </a:lnTo>
                    <a:lnTo>
                      <a:pt x="146" y="496"/>
                    </a:lnTo>
                    <a:lnTo>
                      <a:pt x="141" y="501"/>
                    </a:lnTo>
                    <a:lnTo>
                      <a:pt x="136" y="506"/>
                    </a:lnTo>
                    <a:lnTo>
                      <a:pt x="131" y="512"/>
                    </a:lnTo>
                    <a:lnTo>
                      <a:pt x="127" y="518"/>
                    </a:lnTo>
                    <a:lnTo>
                      <a:pt x="119" y="531"/>
                    </a:lnTo>
                    <a:lnTo>
                      <a:pt x="111" y="545"/>
                    </a:lnTo>
                    <a:lnTo>
                      <a:pt x="106" y="560"/>
                    </a:lnTo>
                    <a:lnTo>
                      <a:pt x="103" y="568"/>
                    </a:lnTo>
                    <a:lnTo>
                      <a:pt x="100" y="576"/>
                    </a:lnTo>
                    <a:lnTo>
                      <a:pt x="96" y="592"/>
                    </a:lnTo>
                    <a:lnTo>
                      <a:pt x="92" y="608"/>
                    </a:lnTo>
                    <a:lnTo>
                      <a:pt x="90" y="625"/>
                    </a:lnTo>
                    <a:lnTo>
                      <a:pt x="88" y="642"/>
                    </a:lnTo>
                    <a:lnTo>
                      <a:pt x="88" y="659"/>
                    </a:lnTo>
                    <a:lnTo>
                      <a:pt x="88" y="667"/>
                    </a:lnTo>
                    <a:lnTo>
                      <a:pt x="90" y="675"/>
                    </a:lnTo>
                    <a:lnTo>
                      <a:pt x="92" y="691"/>
                    </a:lnTo>
                    <a:lnTo>
                      <a:pt x="95" y="705"/>
                    </a:lnTo>
                    <a:lnTo>
                      <a:pt x="96" y="723"/>
                    </a:lnTo>
                    <a:lnTo>
                      <a:pt x="74" y="721"/>
                    </a:lnTo>
                    <a:lnTo>
                      <a:pt x="62" y="721"/>
                    </a:lnTo>
                    <a:lnTo>
                      <a:pt x="51" y="720"/>
                    </a:lnTo>
                    <a:lnTo>
                      <a:pt x="51" y="653"/>
                    </a:lnTo>
                    <a:lnTo>
                      <a:pt x="51" y="638"/>
                    </a:lnTo>
                    <a:lnTo>
                      <a:pt x="53" y="624"/>
                    </a:lnTo>
                    <a:lnTo>
                      <a:pt x="54" y="612"/>
                    </a:lnTo>
                    <a:lnTo>
                      <a:pt x="57" y="599"/>
                    </a:lnTo>
                    <a:lnTo>
                      <a:pt x="63" y="575"/>
                    </a:lnTo>
                    <a:lnTo>
                      <a:pt x="71" y="552"/>
                    </a:lnTo>
                    <a:lnTo>
                      <a:pt x="79" y="530"/>
                    </a:lnTo>
                    <a:lnTo>
                      <a:pt x="87" y="506"/>
                    </a:lnTo>
                    <a:lnTo>
                      <a:pt x="90" y="494"/>
                    </a:lnTo>
                    <a:lnTo>
                      <a:pt x="94" y="481"/>
                    </a:lnTo>
                    <a:lnTo>
                      <a:pt x="95" y="468"/>
                    </a:lnTo>
                    <a:lnTo>
                      <a:pt x="98" y="454"/>
                    </a:lnTo>
                    <a:lnTo>
                      <a:pt x="84" y="456"/>
                    </a:lnTo>
                    <a:lnTo>
                      <a:pt x="71" y="458"/>
                    </a:lnTo>
                    <a:lnTo>
                      <a:pt x="66" y="458"/>
                    </a:lnTo>
                    <a:lnTo>
                      <a:pt x="59" y="456"/>
                    </a:lnTo>
                    <a:lnTo>
                      <a:pt x="54" y="456"/>
                    </a:lnTo>
                    <a:lnTo>
                      <a:pt x="49" y="455"/>
                    </a:lnTo>
                    <a:lnTo>
                      <a:pt x="37" y="452"/>
                    </a:lnTo>
                    <a:lnTo>
                      <a:pt x="25" y="448"/>
                    </a:lnTo>
                    <a:lnTo>
                      <a:pt x="0" y="439"/>
                    </a:lnTo>
                    <a:lnTo>
                      <a:pt x="7" y="421"/>
                    </a:lnTo>
                    <a:lnTo>
                      <a:pt x="13" y="403"/>
                    </a:lnTo>
                    <a:lnTo>
                      <a:pt x="21" y="388"/>
                    </a:lnTo>
                    <a:lnTo>
                      <a:pt x="29" y="372"/>
                    </a:lnTo>
                    <a:lnTo>
                      <a:pt x="58" y="315"/>
                    </a:lnTo>
                    <a:lnTo>
                      <a:pt x="71" y="287"/>
                    </a:lnTo>
                    <a:lnTo>
                      <a:pt x="77" y="273"/>
                    </a:lnTo>
                    <a:lnTo>
                      <a:pt x="82" y="258"/>
                    </a:lnTo>
                    <a:lnTo>
                      <a:pt x="86" y="243"/>
                    </a:lnTo>
                    <a:lnTo>
                      <a:pt x="87" y="235"/>
                    </a:lnTo>
                    <a:lnTo>
                      <a:pt x="88" y="227"/>
                    </a:lnTo>
                    <a:lnTo>
                      <a:pt x="91" y="208"/>
                    </a:lnTo>
                    <a:lnTo>
                      <a:pt x="91" y="190"/>
                    </a:lnTo>
                    <a:lnTo>
                      <a:pt x="91" y="181"/>
                    </a:lnTo>
                    <a:lnTo>
                      <a:pt x="90" y="171"/>
                    </a:lnTo>
                    <a:lnTo>
                      <a:pt x="86" y="156"/>
                    </a:lnTo>
                    <a:lnTo>
                      <a:pt x="77" y="121"/>
                    </a:lnTo>
                    <a:lnTo>
                      <a:pt x="90" y="117"/>
                    </a:lnTo>
                    <a:lnTo>
                      <a:pt x="103" y="115"/>
                    </a:lnTo>
                    <a:lnTo>
                      <a:pt x="128" y="109"/>
                    </a:lnTo>
                    <a:lnTo>
                      <a:pt x="154" y="107"/>
                    </a:lnTo>
                    <a:lnTo>
                      <a:pt x="179" y="104"/>
                    </a:lnTo>
                    <a:lnTo>
                      <a:pt x="227" y="100"/>
                    </a:lnTo>
                    <a:lnTo>
                      <a:pt x="251" y="98"/>
                    </a:lnTo>
                    <a:lnTo>
                      <a:pt x="261" y="96"/>
                    </a:lnTo>
                    <a:lnTo>
                      <a:pt x="272" y="95"/>
                    </a:lnTo>
                    <a:lnTo>
                      <a:pt x="276" y="95"/>
                    </a:lnTo>
                    <a:lnTo>
                      <a:pt x="281" y="96"/>
                    </a:lnTo>
                    <a:lnTo>
                      <a:pt x="290" y="98"/>
                    </a:lnTo>
                    <a:lnTo>
                      <a:pt x="299" y="96"/>
                    </a:lnTo>
                    <a:lnTo>
                      <a:pt x="307" y="95"/>
                    </a:lnTo>
                    <a:lnTo>
                      <a:pt x="317" y="92"/>
                    </a:lnTo>
                    <a:lnTo>
                      <a:pt x="324" y="90"/>
                    </a:lnTo>
                    <a:lnTo>
                      <a:pt x="332" y="86"/>
                    </a:lnTo>
                    <a:lnTo>
                      <a:pt x="339" y="80"/>
                    </a:lnTo>
                    <a:lnTo>
                      <a:pt x="347" y="75"/>
                    </a:lnTo>
                    <a:lnTo>
                      <a:pt x="353" y="70"/>
                    </a:lnTo>
                    <a:lnTo>
                      <a:pt x="368" y="55"/>
                    </a:lnTo>
                    <a:lnTo>
                      <a:pt x="380" y="41"/>
                    </a:lnTo>
                    <a:lnTo>
                      <a:pt x="386" y="32"/>
                    </a:lnTo>
                    <a:lnTo>
                      <a:pt x="393" y="24"/>
                    </a:lnTo>
                    <a:lnTo>
                      <a:pt x="404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257800" y="3949920"/>
                <a:ext cx="1833480" cy="1106280"/>
              </a:xfrm>
              <a:custGeom>
                <a:avLst/>
                <a:gdLst/>
                <a:ahLst/>
                <a:rect l="l" t="t" r="r" b="b"/>
                <a:pathLst>
                  <a:path w="3557" h="2148">
                    <a:moveTo>
                      <a:pt x="3168" y="1951"/>
                    </a:moveTo>
                    <a:lnTo>
                      <a:pt x="3171" y="1953"/>
                    </a:lnTo>
                    <a:lnTo>
                      <a:pt x="3142" y="1952"/>
                    </a:lnTo>
                    <a:lnTo>
                      <a:pt x="3124" y="1952"/>
                    </a:lnTo>
                    <a:lnTo>
                      <a:pt x="3107" y="1952"/>
                    </a:lnTo>
                    <a:lnTo>
                      <a:pt x="3090" y="1952"/>
                    </a:lnTo>
                    <a:lnTo>
                      <a:pt x="3073" y="1952"/>
                    </a:lnTo>
                    <a:lnTo>
                      <a:pt x="3041" y="1955"/>
                    </a:lnTo>
                    <a:lnTo>
                      <a:pt x="3010" y="1960"/>
                    </a:lnTo>
                    <a:lnTo>
                      <a:pt x="2979" y="1965"/>
                    </a:lnTo>
                    <a:lnTo>
                      <a:pt x="2950" y="1973"/>
                    </a:lnTo>
                    <a:lnTo>
                      <a:pt x="2921" y="1981"/>
                    </a:lnTo>
                    <a:lnTo>
                      <a:pt x="2892" y="1990"/>
                    </a:lnTo>
                    <a:lnTo>
                      <a:pt x="2874" y="1997"/>
                    </a:lnTo>
                    <a:lnTo>
                      <a:pt x="2855" y="2005"/>
                    </a:lnTo>
                    <a:lnTo>
                      <a:pt x="2818" y="2019"/>
                    </a:lnTo>
                    <a:lnTo>
                      <a:pt x="2781" y="2036"/>
                    </a:lnTo>
                    <a:lnTo>
                      <a:pt x="2746" y="2054"/>
                    </a:lnTo>
                    <a:lnTo>
                      <a:pt x="2672" y="2092"/>
                    </a:lnTo>
                    <a:lnTo>
                      <a:pt x="2597" y="2130"/>
                    </a:lnTo>
                    <a:lnTo>
                      <a:pt x="2559" y="2148"/>
                    </a:lnTo>
                    <a:lnTo>
                      <a:pt x="2544" y="2135"/>
                    </a:lnTo>
                    <a:lnTo>
                      <a:pt x="2530" y="2125"/>
                    </a:lnTo>
                    <a:lnTo>
                      <a:pt x="2514" y="2116"/>
                    </a:lnTo>
                    <a:lnTo>
                      <a:pt x="2499" y="2108"/>
                    </a:lnTo>
                    <a:lnTo>
                      <a:pt x="2483" y="2101"/>
                    </a:lnTo>
                    <a:lnTo>
                      <a:pt x="2468" y="2094"/>
                    </a:lnTo>
                    <a:lnTo>
                      <a:pt x="2452" y="2090"/>
                    </a:lnTo>
                    <a:lnTo>
                      <a:pt x="2435" y="2086"/>
                    </a:lnTo>
                    <a:lnTo>
                      <a:pt x="2417" y="2084"/>
                    </a:lnTo>
                    <a:lnTo>
                      <a:pt x="2400" y="2081"/>
                    </a:lnTo>
                    <a:lnTo>
                      <a:pt x="2383" y="2080"/>
                    </a:lnTo>
                    <a:lnTo>
                      <a:pt x="2365" y="2079"/>
                    </a:lnTo>
                    <a:lnTo>
                      <a:pt x="2346" y="2079"/>
                    </a:lnTo>
                    <a:lnTo>
                      <a:pt x="2328" y="2077"/>
                    </a:lnTo>
                    <a:lnTo>
                      <a:pt x="2288" y="2077"/>
                    </a:lnTo>
                    <a:lnTo>
                      <a:pt x="1878" y="2139"/>
                    </a:lnTo>
                    <a:lnTo>
                      <a:pt x="1857" y="2137"/>
                    </a:lnTo>
                    <a:lnTo>
                      <a:pt x="1837" y="2133"/>
                    </a:lnTo>
                    <a:lnTo>
                      <a:pt x="1819" y="2127"/>
                    </a:lnTo>
                    <a:lnTo>
                      <a:pt x="1802" y="2122"/>
                    </a:lnTo>
                    <a:lnTo>
                      <a:pt x="1784" y="2116"/>
                    </a:lnTo>
                    <a:lnTo>
                      <a:pt x="1769" y="2109"/>
                    </a:lnTo>
                    <a:lnTo>
                      <a:pt x="1736" y="2096"/>
                    </a:lnTo>
                    <a:lnTo>
                      <a:pt x="1704" y="2081"/>
                    </a:lnTo>
                    <a:lnTo>
                      <a:pt x="1688" y="2076"/>
                    </a:lnTo>
                    <a:lnTo>
                      <a:pt x="1671" y="2069"/>
                    </a:lnTo>
                    <a:lnTo>
                      <a:pt x="1654" y="2065"/>
                    </a:lnTo>
                    <a:lnTo>
                      <a:pt x="1635" y="2061"/>
                    </a:lnTo>
                    <a:lnTo>
                      <a:pt x="1616" y="2060"/>
                    </a:lnTo>
                    <a:lnTo>
                      <a:pt x="1605" y="2059"/>
                    </a:lnTo>
                    <a:lnTo>
                      <a:pt x="1595" y="2059"/>
                    </a:lnTo>
                    <a:lnTo>
                      <a:pt x="1509" y="2059"/>
                    </a:lnTo>
                    <a:lnTo>
                      <a:pt x="1493" y="2059"/>
                    </a:lnTo>
                    <a:lnTo>
                      <a:pt x="1480" y="2061"/>
                    </a:lnTo>
                    <a:lnTo>
                      <a:pt x="1465" y="2063"/>
                    </a:lnTo>
                    <a:lnTo>
                      <a:pt x="1452" y="2067"/>
                    </a:lnTo>
                    <a:lnTo>
                      <a:pt x="1440" y="2071"/>
                    </a:lnTo>
                    <a:lnTo>
                      <a:pt x="1428" y="2075"/>
                    </a:lnTo>
                    <a:lnTo>
                      <a:pt x="1405" y="2084"/>
                    </a:lnTo>
                    <a:lnTo>
                      <a:pt x="1381" y="2093"/>
                    </a:lnTo>
                    <a:lnTo>
                      <a:pt x="1356" y="2101"/>
                    </a:lnTo>
                    <a:lnTo>
                      <a:pt x="1344" y="2105"/>
                    </a:lnTo>
                    <a:lnTo>
                      <a:pt x="1329" y="2108"/>
                    </a:lnTo>
                    <a:lnTo>
                      <a:pt x="1315" y="2109"/>
                    </a:lnTo>
                    <a:lnTo>
                      <a:pt x="1300" y="2109"/>
                    </a:lnTo>
                    <a:lnTo>
                      <a:pt x="1227" y="2110"/>
                    </a:lnTo>
                    <a:lnTo>
                      <a:pt x="1151" y="2110"/>
                    </a:lnTo>
                    <a:lnTo>
                      <a:pt x="1144" y="2110"/>
                    </a:lnTo>
                    <a:lnTo>
                      <a:pt x="1136" y="2109"/>
                    </a:lnTo>
                    <a:lnTo>
                      <a:pt x="1128" y="2106"/>
                    </a:lnTo>
                    <a:lnTo>
                      <a:pt x="1121" y="2104"/>
                    </a:lnTo>
                    <a:lnTo>
                      <a:pt x="1108" y="2096"/>
                    </a:lnTo>
                    <a:lnTo>
                      <a:pt x="1096" y="2086"/>
                    </a:lnTo>
                    <a:lnTo>
                      <a:pt x="1084" y="2079"/>
                    </a:lnTo>
                    <a:lnTo>
                      <a:pt x="1071" y="2071"/>
                    </a:lnTo>
                    <a:lnTo>
                      <a:pt x="1064" y="2068"/>
                    </a:lnTo>
                    <a:lnTo>
                      <a:pt x="1058" y="2065"/>
                    </a:lnTo>
                    <a:lnTo>
                      <a:pt x="1050" y="2064"/>
                    </a:lnTo>
                    <a:lnTo>
                      <a:pt x="1041" y="2063"/>
                    </a:lnTo>
                    <a:lnTo>
                      <a:pt x="1029" y="2064"/>
                    </a:lnTo>
                    <a:lnTo>
                      <a:pt x="1018" y="2067"/>
                    </a:lnTo>
                    <a:lnTo>
                      <a:pt x="1009" y="2071"/>
                    </a:lnTo>
                    <a:lnTo>
                      <a:pt x="1000" y="2076"/>
                    </a:lnTo>
                    <a:lnTo>
                      <a:pt x="998" y="2071"/>
                    </a:lnTo>
                    <a:lnTo>
                      <a:pt x="996" y="2067"/>
                    </a:lnTo>
                    <a:lnTo>
                      <a:pt x="989" y="2057"/>
                    </a:lnTo>
                    <a:lnTo>
                      <a:pt x="981" y="2050"/>
                    </a:lnTo>
                    <a:lnTo>
                      <a:pt x="973" y="2043"/>
                    </a:lnTo>
                    <a:lnTo>
                      <a:pt x="964" y="2038"/>
                    </a:lnTo>
                    <a:lnTo>
                      <a:pt x="954" y="2032"/>
                    </a:lnTo>
                    <a:lnTo>
                      <a:pt x="943" y="2028"/>
                    </a:lnTo>
                    <a:lnTo>
                      <a:pt x="931" y="2025"/>
                    </a:lnTo>
                    <a:lnTo>
                      <a:pt x="919" y="2021"/>
                    </a:lnTo>
                    <a:lnTo>
                      <a:pt x="906" y="2018"/>
                    </a:lnTo>
                    <a:lnTo>
                      <a:pt x="893" y="2017"/>
                    </a:lnTo>
                    <a:lnTo>
                      <a:pt x="880" y="2015"/>
                    </a:lnTo>
                    <a:lnTo>
                      <a:pt x="851" y="2013"/>
                    </a:lnTo>
                    <a:lnTo>
                      <a:pt x="823" y="2011"/>
                    </a:lnTo>
                    <a:lnTo>
                      <a:pt x="818" y="2001"/>
                    </a:lnTo>
                    <a:lnTo>
                      <a:pt x="813" y="1992"/>
                    </a:lnTo>
                    <a:lnTo>
                      <a:pt x="807" y="1982"/>
                    </a:lnTo>
                    <a:lnTo>
                      <a:pt x="801" y="1974"/>
                    </a:lnTo>
                    <a:lnTo>
                      <a:pt x="793" y="1966"/>
                    </a:lnTo>
                    <a:lnTo>
                      <a:pt x="785" y="1959"/>
                    </a:lnTo>
                    <a:lnTo>
                      <a:pt x="777" y="1952"/>
                    </a:lnTo>
                    <a:lnTo>
                      <a:pt x="768" y="1945"/>
                    </a:lnTo>
                    <a:lnTo>
                      <a:pt x="757" y="1940"/>
                    </a:lnTo>
                    <a:lnTo>
                      <a:pt x="747" y="1935"/>
                    </a:lnTo>
                    <a:lnTo>
                      <a:pt x="736" y="1930"/>
                    </a:lnTo>
                    <a:lnTo>
                      <a:pt x="724" y="1924"/>
                    </a:lnTo>
                    <a:lnTo>
                      <a:pt x="712" y="1920"/>
                    </a:lnTo>
                    <a:lnTo>
                      <a:pt x="700" y="1916"/>
                    </a:lnTo>
                    <a:lnTo>
                      <a:pt x="675" y="1910"/>
                    </a:lnTo>
                    <a:lnTo>
                      <a:pt x="648" y="1906"/>
                    </a:lnTo>
                    <a:lnTo>
                      <a:pt x="634" y="1903"/>
                    </a:lnTo>
                    <a:lnTo>
                      <a:pt x="621" y="1902"/>
                    </a:lnTo>
                    <a:lnTo>
                      <a:pt x="592" y="1898"/>
                    </a:lnTo>
                    <a:lnTo>
                      <a:pt x="563" y="1897"/>
                    </a:lnTo>
                    <a:lnTo>
                      <a:pt x="507" y="1894"/>
                    </a:lnTo>
                    <a:lnTo>
                      <a:pt x="451" y="1894"/>
                    </a:lnTo>
                    <a:lnTo>
                      <a:pt x="396" y="1894"/>
                    </a:lnTo>
                    <a:lnTo>
                      <a:pt x="340" y="1894"/>
                    </a:lnTo>
                    <a:lnTo>
                      <a:pt x="314" y="1894"/>
                    </a:lnTo>
                    <a:lnTo>
                      <a:pt x="289" y="1895"/>
                    </a:lnTo>
                    <a:lnTo>
                      <a:pt x="264" y="1898"/>
                    </a:lnTo>
                    <a:lnTo>
                      <a:pt x="239" y="1901"/>
                    </a:lnTo>
                    <a:lnTo>
                      <a:pt x="215" y="1905"/>
                    </a:lnTo>
                    <a:lnTo>
                      <a:pt x="203" y="1907"/>
                    </a:lnTo>
                    <a:lnTo>
                      <a:pt x="191" y="1911"/>
                    </a:lnTo>
                    <a:lnTo>
                      <a:pt x="181" y="1914"/>
                    </a:lnTo>
                    <a:lnTo>
                      <a:pt x="169" y="1918"/>
                    </a:lnTo>
                    <a:lnTo>
                      <a:pt x="158" y="1923"/>
                    </a:lnTo>
                    <a:lnTo>
                      <a:pt x="148" y="1927"/>
                    </a:lnTo>
                    <a:lnTo>
                      <a:pt x="137" y="1932"/>
                    </a:lnTo>
                    <a:lnTo>
                      <a:pt x="127" y="1939"/>
                    </a:lnTo>
                    <a:lnTo>
                      <a:pt x="116" y="1945"/>
                    </a:lnTo>
                    <a:lnTo>
                      <a:pt x="107" y="1952"/>
                    </a:lnTo>
                    <a:lnTo>
                      <a:pt x="96" y="1960"/>
                    </a:lnTo>
                    <a:lnTo>
                      <a:pt x="87" y="1968"/>
                    </a:lnTo>
                    <a:lnTo>
                      <a:pt x="78" y="1977"/>
                    </a:lnTo>
                    <a:lnTo>
                      <a:pt x="70" y="1986"/>
                    </a:lnTo>
                    <a:lnTo>
                      <a:pt x="61" y="1996"/>
                    </a:lnTo>
                    <a:lnTo>
                      <a:pt x="0" y="1957"/>
                    </a:lnTo>
                    <a:lnTo>
                      <a:pt x="13" y="1960"/>
                    </a:lnTo>
                    <a:lnTo>
                      <a:pt x="16" y="1944"/>
                    </a:lnTo>
                    <a:lnTo>
                      <a:pt x="19" y="1927"/>
                    </a:lnTo>
                    <a:lnTo>
                      <a:pt x="23" y="1910"/>
                    </a:lnTo>
                    <a:lnTo>
                      <a:pt x="27" y="1893"/>
                    </a:lnTo>
                    <a:lnTo>
                      <a:pt x="33" y="1878"/>
                    </a:lnTo>
                    <a:lnTo>
                      <a:pt x="36" y="1870"/>
                    </a:lnTo>
                    <a:lnTo>
                      <a:pt x="38" y="1864"/>
                    </a:lnTo>
                    <a:lnTo>
                      <a:pt x="42" y="1858"/>
                    </a:lnTo>
                    <a:lnTo>
                      <a:pt x="46" y="1853"/>
                    </a:lnTo>
                    <a:lnTo>
                      <a:pt x="50" y="1848"/>
                    </a:lnTo>
                    <a:lnTo>
                      <a:pt x="54" y="1845"/>
                    </a:lnTo>
                    <a:lnTo>
                      <a:pt x="63" y="1840"/>
                    </a:lnTo>
                    <a:lnTo>
                      <a:pt x="73" y="1836"/>
                    </a:lnTo>
                    <a:lnTo>
                      <a:pt x="82" y="1832"/>
                    </a:lnTo>
                    <a:lnTo>
                      <a:pt x="92" y="1828"/>
                    </a:lnTo>
                    <a:lnTo>
                      <a:pt x="116" y="1821"/>
                    </a:lnTo>
                    <a:lnTo>
                      <a:pt x="140" y="1816"/>
                    </a:lnTo>
                    <a:lnTo>
                      <a:pt x="161" y="1811"/>
                    </a:lnTo>
                    <a:lnTo>
                      <a:pt x="178" y="1808"/>
                    </a:lnTo>
                    <a:lnTo>
                      <a:pt x="194" y="1806"/>
                    </a:lnTo>
                    <a:lnTo>
                      <a:pt x="298" y="1763"/>
                    </a:lnTo>
                    <a:lnTo>
                      <a:pt x="327" y="1728"/>
                    </a:lnTo>
                    <a:lnTo>
                      <a:pt x="327" y="1696"/>
                    </a:lnTo>
                    <a:lnTo>
                      <a:pt x="429" y="1705"/>
                    </a:lnTo>
                    <a:lnTo>
                      <a:pt x="447" y="1614"/>
                    </a:lnTo>
                    <a:lnTo>
                      <a:pt x="272" y="1614"/>
                    </a:lnTo>
                    <a:lnTo>
                      <a:pt x="270" y="1616"/>
                    </a:lnTo>
                    <a:lnTo>
                      <a:pt x="267" y="1613"/>
                    </a:lnTo>
                    <a:lnTo>
                      <a:pt x="260" y="1608"/>
                    </a:lnTo>
                    <a:lnTo>
                      <a:pt x="257" y="1606"/>
                    </a:lnTo>
                    <a:lnTo>
                      <a:pt x="257" y="1604"/>
                    </a:lnTo>
                    <a:lnTo>
                      <a:pt x="257" y="1603"/>
                    </a:lnTo>
                    <a:lnTo>
                      <a:pt x="259" y="1603"/>
                    </a:lnTo>
                    <a:lnTo>
                      <a:pt x="263" y="1601"/>
                    </a:lnTo>
                    <a:lnTo>
                      <a:pt x="270" y="1601"/>
                    </a:lnTo>
                    <a:lnTo>
                      <a:pt x="269" y="1603"/>
                    </a:lnTo>
                    <a:lnTo>
                      <a:pt x="267" y="1603"/>
                    </a:lnTo>
                    <a:lnTo>
                      <a:pt x="274" y="1603"/>
                    </a:lnTo>
                    <a:lnTo>
                      <a:pt x="288" y="1603"/>
                    </a:lnTo>
                    <a:lnTo>
                      <a:pt x="300" y="1601"/>
                    </a:lnTo>
                    <a:lnTo>
                      <a:pt x="311" y="1600"/>
                    </a:lnTo>
                    <a:lnTo>
                      <a:pt x="323" y="1597"/>
                    </a:lnTo>
                    <a:lnTo>
                      <a:pt x="334" y="1595"/>
                    </a:lnTo>
                    <a:lnTo>
                      <a:pt x="344" y="1591"/>
                    </a:lnTo>
                    <a:lnTo>
                      <a:pt x="355" y="1587"/>
                    </a:lnTo>
                    <a:lnTo>
                      <a:pt x="365" y="1581"/>
                    </a:lnTo>
                    <a:lnTo>
                      <a:pt x="375" y="1576"/>
                    </a:lnTo>
                    <a:lnTo>
                      <a:pt x="383" y="1570"/>
                    </a:lnTo>
                    <a:lnTo>
                      <a:pt x="390" y="1563"/>
                    </a:lnTo>
                    <a:lnTo>
                      <a:pt x="398" y="1555"/>
                    </a:lnTo>
                    <a:lnTo>
                      <a:pt x="404" y="1546"/>
                    </a:lnTo>
                    <a:lnTo>
                      <a:pt x="409" y="1535"/>
                    </a:lnTo>
                    <a:lnTo>
                      <a:pt x="414" y="1525"/>
                    </a:lnTo>
                    <a:lnTo>
                      <a:pt x="417" y="1514"/>
                    </a:lnTo>
                    <a:lnTo>
                      <a:pt x="420" y="1501"/>
                    </a:lnTo>
                    <a:lnTo>
                      <a:pt x="450" y="1506"/>
                    </a:lnTo>
                    <a:lnTo>
                      <a:pt x="464" y="1509"/>
                    </a:lnTo>
                    <a:lnTo>
                      <a:pt x="480" y="1510"/>
                    </a:lnTo>
                    <a:lnTo>
                      <a:pt x="495" y="1512"/>
                    </a:lnTo>
                    <a:lnTo>
                      <a:pt x="509" y="1512"/>
                    </a:lnTo>
                    <a:lnTo>
                      <a:pt x="525" y="1512"/>
                    </a:lnTo>
                    <a:lnTo>
                      <a:pt x="540" y="1510"/>
                    </a:lnTo>
                    <a:lnTo>
                      <a:pt x="546" y="1513"/>
                    </a:lnTo>
                    <a:lnTo>
                      <a:pt x="553" y="1515"/>
                    </a:lnTo>
                    <a:lnTo>
                      <a:pt x="559" y="1518"/>
                    </a:lnTo>
                    <a:lnTo>
                      <a:pt x="567" y="1518"/>
                    </a:lnTo>
                    <a:lnTo>
                      <a:pt x="583" y="1518"/>
                    </a:lnTo>
                    <a:lnTo>
                      <a:pt x="596" y="1515"/>
                    </a:lnTo>
                    <a:lnTo>
                      <a:pt x="609" y="1512"/>
                    </a:lnTo>
                    <a:lnTo>
                      <a:pt x="615" y="1509"/>
                    </a:lnTo>
                    <a:lnTo>
                      <a:pt x="621" y="1506"/>
                    </a:lnTo>
                    <a:lnTo>
                      <a:pt x="633" y="1500"/>
                    </a:lnTo>
                    <a:lnTo>
                      <a:pt x="644" y="1493"/>
                    </a:lnTo>
                    <a:lnTo>
                      <a:pt x="653" y="1485"/>
                    </a:lnTo>
                    <a:lnTo>
                      <a:pt x="663" y="1476"/>
                    </a:lnTo>
                    <a:lnTo>
                      <a:pt x="673" y="1467"/>
                    </a:lnTo>
                    <a:lnTo>
                      <a:pt x="681" y="1456"/>
                    </a:lnTo>
                    <a:lnTo>
                      <a:pt x="690" y="1446"/>
                    </a:lnTo>
                    <a:lnTo>
                      <a:pt x="698" y="1434"/>
                    </a:lnTo>
                    <a:lnTo>
                      <a:pt x="731" y="1388"/>
                    </a:lnTo>
                    <a:lnTo>
                      <a:pt x="743" y="1372"/>
                    </a:lnTo>
                    <a:lnTo>
                      <a:pt x="754" y="1356"/>
                    </a:lnTo>
                    <a:lnTo>
                      <a:pt x="765" y="1344"/>
                    </a:lnTo>
                    <a:lnTo>
                      <a:pt x="777" y="1333"/>
                    </a:lnTo>
                    <a:lnTo>
                      <a:pt x="789" y="1324"/>
                    </a:lnTo>
                    <a:lnTo>
                      <a:pt x="802" y="1316"/>
                    </a:lnTo>
                    <a:lnTo>
                      <a:pt x="809" y="1312"/>
                    </a:lnTo>
                    <a:lnTo>
                      <a:pt x="815" y="1310"/>
                    </a:lnTo>
                    <a:lnTo>
                      <a:pt x="822" y="1306"/>
                    </a:lnTo>
                    <a:lnTo>
                      <a:pt x="830" y="1304"/>
                    </a:lnTo>
                    <a:lnTo>
                      <a:pt x="845" y="1301"/>
                    </a:lnTo>
                    <a:lnTo>
                      <a:pt x="863" y="1299"/>
                    </a:lnTo>
                    <a:lnTo>
                      <a:pt x="867" y="1301"/>
                    </a:lnTo>
                    <a:lnTo>
                      <a:pt x="869" y="1302"/>
                    </a:lnTo>
                    <a:lnTo>
                      <a:pt x="872" y="1303"/>
                    </a:lnTo>
                    <a:lnTo>
                      <a:pt x="874" y="1306"/>
                    </a:lnTo>
                    <a:lnTo>
                      <a:pt x="878" y="1311"/>
                    </a:lnTo>
                    <a:lnTo>
                      <a:pt x="882" y="1318"/>
                    </a:lnTo>
                    <a:lnTo>
                      <a:pt x="886" y="1323"/>
                    </a:lnTo>
                    <a:lnTo>
                      <a:pt x="890" y="1330"/>
                    </a:lnTo>
                    <a:lnTo>
                      <a:pt x="893" y="1331"/>
                    </a:lnTo>
                    <a:lnTo>
                      <a:pt x="896" y="1333"/>
                    </a:lnTo>
                    <a:lnTo>
                      <a:pt x="898" y="1333"/>
                    </a:lnTo>
                    <a:lnTo>
                      <a:pt x="902" y="1335"/>
                    </a:lnTo>
                    <a:lnTo>
                      <a:pt x="915" y="1333"/>
                    </a:lnTo>
                    <a:lnTo>
                      <a:pt x="922" y="1333"/>
                    </a:lnTo>
                    <a:lnTo>
                      <a:pt x="927" y="1332"/>
                    </a:lnTo>
                    <a:lnTo>
                      <a:pt x="939" y="1328"/>
                    </a:lnTo>
                    <a:lnTo>
                      <a:pt x="950" y="1324"/>
                    </a:lnTo>
                    <a:lnTo>
                      <a:pt x="955" y="1323"/>
                    </a:lnTo>
                    <a:lnTo>
                      <a:pt x="960" y="1320"/>
                    </a:lnTo>
                    <a:lnTo>
                      <a:pt x="971" y="1315"/>
                    </a:lnTo>
                    <a:lnTo>
                      <a:pt x="980" y="1308"/>
                    </a:lnTo>
                    <a:lnTo>
                      <a:pt x="989" y="1303"/>
                    </a:lnTo>
                    <a:lnTo>
                      <a:pt x="1009" y="1290"/>
                    </a:lnTo>
                    <a:lnTo>
                      <a:pt x="1018" y="1285"/>
                    </a:lnTo>
                    <a:lnTo>
                      <a:pt x="1029" y="1279"/>
                    </a:lnTo>
                    <a:lnTo>
                      <a:pt x="1039" y="1274"/>
                    </a:lnTo>
                    <a:lnTo>
                      <a:pt x="1051" y="1270"/>
                    </a:lnTo>
                    <a:lnTo>
                      <a:pt x="1056" y="1269"/>
                    </a:lnTo>
                    <a:lnTo>
                      <a:pt x="1063" y="1268"/>
                    </a:lnTo>
                    <a:lnTo>
                      <a:pt x="1070" y="1266"/>
                    </a:lnTo>
                    <a:lnTo>
                      <a:pt x="1076" y="1265"/>
                    </a:lnTo>
                    <a:lnTo>
                      <a:pt x="1076" y="1294"/>
                    </a:lnTo>
                    <a:lnTo>
                      <a:pt x="1076" y="1302"/>
                    </a:lnTo>
                    <a:lnTo>
                      <a:pt x="1075" y="1310"/>
                    </a:lnTo>
                    <a:lnTo>
                      <a:pt x="1072" y="1318"/>
                    </a:lnTo>
                    <a:lnTo>
                      <a:pt x="1071" y="1324"/>
                    </a:lnTo>
                    <a:lnTo>
                      <a:pt x="1067" y="1331"/>
                    </a:lnTo>
                    <a:lnTo>
                      <a:pt x="1063" y="1337"/>
                    </a:lnTo>
                    <a:lnTo>
                      <a:pt x="1055" y="1349"/>
                    </a:lnTo>
                    <a:lnTo>
                      <a:pt x="1045" y="1360"/>
                    </a:lnTo>
                    <a:lnTo>
                      <a:pt x="1038" y="1365"/>
                    </a:lnTo>
                    <a:lnTo>
                      <a:pt x="1033" y="1370"/>
                    </a:lnTo>
                    <a:lnTo>
                      <a:pt x="1020" y="1380"/>
                    </a:lnTo>
                    <a:lnTo>
                      <a:pt x="1006" y="1389"/>
                    </a:lnTo>
                    <a:lnTo>
                      <a:pt x="993" y="1398"/>
                    </a:lnTo>
                    <a:lnTo>
                      <a:pt x="981" y="1407"/>
                    </a:lnTo>
                    <a:lnTo>
                      <a:pt x="969" y="1418"/>
                    </a:lnTo>
                    <a:lnTo>
                      <a:pt x="964" y="1423"/>
                    </a:lnTo>
                    <a:lnTo>
                      <a:pt x="959" y="1428"/>
                    </a:lnTo>
                    <a:lnTo>
                      <a:pt x="954" y="1434"/>
                    </a:lnTo>
                    <a:lnTo>
                      <a:pt x="950" y="1440"/>
                    </a:lnTo>
                    <a:lnTo>
                      <a:pt x="946" y="1447"/>
                    </a:lnTo>
                    <a:lnTo>
                      <a:pt x="943" y="1453"/>
                    </a:lnTo>
                    <a:lnTo>
                      <a:pt x="940" y="1460"/>
                    </a:lnTo>
                    <a:lnTo>
                      <a:pt x="939" y="1468"/>
                    </a:lnTo>
                    <a:lnTo>
                      <a:pt x="938" y="1476"/>
                    </a:lnTo>
                    <a:lnTo>
                      <a:pt x="936" y="1484"/>
                    </a:lnTo>
                    <a:lnTo>
                      <a:pt x="938" y="1492"/>
                    </a:lnTo>
                    <a:lnTo>
                      <a:pt x="939" y="1498"/>
                    </a:lnTo>
                    <a:lnTo>
                      <a:pt x="942" y="1505"/>
                    </a:lnTo>
                    <a:lnTo>
                      <a:pt x="946" y="1510"/>
                    </a:lnTo>
                    <a:lnTo>
                      <a:pt x="950" y="1515"/>
                    </a:lnTo>
                    <a:lnTo>
                      <a:pt x="955" y="1521"/>
                    </a:lnTo>
                    <a:lnTo>
                      <a:pt x="960" y="1525"/>
                    </a:lnTo>
                    <a:lnTo>
                      <a:pt x="967" y="1529"/>
                    </a:lnTo>
                    <a:lnTo>
                      <a:pt x="973" y="1533"/>
                    </a:lnTo>
                    <a:lnTo>
                      <a:pt x="981" y="1535"/>
                    </a:lnTo>
                    <a:lnTo>
                      <a:pt x="988" y="1538"/>
                    </a:lnTo>
                    <a:lnTo>
                      <a:pt x="996" y="1539"/>
                    </a:lnTo>
                    <a:lnTo>
                      <a:pt x="1012" y="1542"/>
                    </a:lnTo>
                    <a:lnTo>
                      <a:pt x="1029" y="1543"/>
                    </a:lnTo>
                    <a:lnTo>
                      <a:pt x="1035" y="1543"/>
                    </a:lnTo>
                    <a:lnTo>
                      <a:pt x="1041" y="1542"/>
                    </a:lnTo>
                    <a:lnTo>
                      <a:pt x="1047" y="1541"/>
                    </a:lnTo>
                    <a:lnTo>
                      <a:pt x="1053" y="1538"/>
                    </a:lnTo>
                    <a:lnTo>
                      <a:pt x="1063" y="1534"/>
                    </a:lnTo>
                    <a:lnTo>
                      <a:pt x="1072" y="1529"/>
                    </a:lnTo>
                    <a:lnTo>
                      <a:pt x="1083" y="1523"/>
                    </a:lnTo>
                    <a:lnTo>
                      <a:pt x="1093" y="1518"/>
                    </a:lnTo>
                    <a:lnTo>
                      <a:pt x="1099" y="1515"/>
                    </a:lnTo>
                    <a:lnTo>
                      <a:pt x="1104" y="1514"/>
                    </a:lnTo>
                    <a:lnTo>
                      <a:pt x="1111" y="1514"/>
                    </a:lnTo>
                    <a:lnTo>
                      <a:pt x="1117" y="1513"/>
                    </a:lnTo>
                    <a:lnTo>
                      <a:pt x="1129" y="1514"/>
                    </a:lnTo>
                    <a:lnTo>
                      <a:pt x="1138" y="1514"/>
                    </a:lnTo>
                    <a:lnTo>
                      <a:pt x="1149" y="1515"/>
                    </a:lnTo>
                    <a:lnTo>
                      <a:pt x="1161" y="1518"/>
                    </a:lnTo>
                    <a:lnTo>
                      <a:pt x="1159" y="1526"/>
                    </a:lnTo>
                    <a:lnTo>
                      <a:pt x="1158" y="1535"/>
                    </a:lnTo>
                    <a:lnTo>
                      <a:pt x="1159" y="1543"/>
                    </a:lnTo>
                    <a:lnTo>
                      <a:pt x="1159" y="1551"/>
                    </a:lnTo>
                    <a:lnTo>
                      <a:pt x="1163" y="1567"/>
                    </a:lnTo>
                    <a:lnTo>
                      <a:pt x="1167" y="1575"/>
                    </a:lnTo>
                    <a:lnTo>
                      <a:pt x="1170" y="1581"/>
                    </a:lnTo>
                    <a:lnTo>
                      <a:pt x="1175" y="1588"/>
                    </a:lnTo>
                    <a:lnTo>
                      <a:pt x="1179" y="1593"/>
                    </a:lnTo>
                    <a:lnTo>
                      <a:pt x="1184" y="1599"/>
                    </a:lnTo>
                    <a:lnTo>
                      <a:pt x="1191" y="1604"/>
                    </a:lnTo>
                    <a:lnTo>
                      <a:pt x="1198" y="1608"/>
                    </a:lnTo>
                    <a:lnTo>
                      <a:pt x="1204" y="1610"/>
                    </a:lnTo>
                    <a:lnTo>
                      <a:pt x="1212" y="1612"/>
                    </a:lnTo>
                    <a:lnTo>
                      <a:pt x="1220" y="1612"/>
                    </a:lnTo>
                    <a:lnTo>
                      <a:pt x="1227" y="1612"/>
                    </a:lnTo>
                    <a:lnTo>
                      <a:pt x="1232" y="1610"/>
                    </a:lnTo>
                    <a:lnTo>
                      <a:pt x="1238" y="1609"/>
                    </a:lnTo>
                    <a:lnTo>
                      <a:pt x="1244" y="1608"/>
                    </a:lnTo>
                    <a:lnTo>
                      <a:pt x="1250" y="1605"/>
                    </a:lnTo>
                    <a:lnTo>
                      <a:pt x="1256" y="1601"/>
                    </a:lnTo>
                    <a:lnTo>
                      <a:pt x="1260" y="1599"/>
                    </a:lnTo>
                    <a:lnTo>
                      <a:pt x="1265" y="1595"/>
                    </a:lnTo>
                    <a:lnTo>
                      <a:pt x="1269" y="1589"/>
                    </a:lnTo>
                    <a:lnTo>
                      <a:pt x="1273" y="1585"/>
                    </a:lnTo>
                    <a:lnTo>
                      <a:pt x="1275" y="1580"/>
                    </a:lnTo>
                    <a:lnTo>
                      <a:pt x="1278" y="1575"/>
                    </a:lnTo>
                    <a:lnTo>
                      <a:pt x="1281" y="1570"/>
                    </a:lnTo>
                    <a:lnTo>
                      <a:pt x="1282" y="1563"/>
                    </a:lnTo>
                    <a:lnTo>
                      <a:pt x="1283" y="1556"/>
                    </a:lnTo>
                    <a:lnTo>
                      <a:pt x="1283" y="1550"/>
                    </a:lnTo>
                    <a:lnTo>
                      <a:pt x="1283" y="1543"/>
                    </a:lnTo>
                    <a:lnTo>
                      <a:pt x="1282" y="1538"/>
                    </a:lnTo>
                    <a:lnTo>
                      <a:pt x="1281" y="1531"/>
                    </a:lnTo>
                    <a:lnTo>
                      <a:pt x="1278" y="1526"/>
                    </a:lnTo>
                    <a:lnTo>
                      <a:pt x="1273" y="1515"/>
                    </a:lnTo>
                    <a:lnTo>
                      <a:pt x="1266" y="1506"/>
                    </a:lnTo>
                    <a:lnTo>
                      <a:pt x="1260" y="1496"/>
                    </a:lnTo>
                    <a:lnTo>
                      <a:pt x="1254" y="1486"/>
                    </a:lnTo>
                    <a:lnTo>
                      <a:pt x="1253" y="1480"/>
                    </a:lnTo>
                    <a:lnTo>
                      <a:pt x="1250" y="1475"/>
                    </a:lnTo>
                    <a:lnTo>
                      <a:pt x="1250" y="1472"/>
                    </a:lnTo>
                    <a:lnTo>
                      <a:pt x="1249" y="1468"/>
                    </a:lnTo>
                    <a:lnTo>
                      <a:pt x="1249" y="1461"/>
                    </a:lnTo>
                    <a:lnTo>
                      <a:pt x="1250" y="1455"/>
                    </a:lnTo>
                    <a:lnTo>
                      <a:pt x="1250" y="1452"/>
                    </a:lnTo>
                    <a:lnTo>
                      <a:pt x="1252" y="1450"/>
                    </a:lnTo>
                    <a:lnTo>
                      <a:pt x="1253" y="1447"/>
                    </a:lnTo>
                    <a:lnTo>
                      <a:pt x="1256" y="1446"/>
                    </a:lnTo>
                    <a:lnTo>
                      <a:pt x="1257" y="1444"/>
                    </a:lnTo>
                    <a:lnTo>
                      <a:pt x="1260" y="1443"/>
                    </a:lnTo>
                    <a:lnTo>
                      <a:pt x="1262" y="1442"/>
                    </a:lnTo>
                    <a:lnTo>
                      <a:pt x="1265" y="1440"/>
                    </a:lnTo>
                    <a:lnTo>
                      <a:pt x="1271" y="1439"/>
                    </a:lnTo>
                    <a:lnTo>
                      <a:pt x="1285" y="1438"/>
                    </a:lnTo>
                    <a:lnTo>
                      <a:pt x="1300" y="1436"/>
                    </a:lnTo>
                    <a:lnTo>
                      <a:pt x="1308" y="1436"/>
                    </a:lnTo>
                    <a:lnTo>
                      <a:pt x="1316" y="1435"/>
                    </a:lnTo>
                    <a:lnTo>
                      <a:pt x="1324" y="1434"/>
                    </a:lnTo>
                    <a:lnTo>
                      <a:pt x="1331" y="1431"/>
                    </a:lnTo>
                    <a:lnTo>
                      <a:pt x="1339" y="1428"/>
                    </a:lnTo>
                    <a:lnTo>
                      <a:pt x="1344" y="1424"/>
                    </a:lnTo>
                    <a:lnTo>
                      <a:pt x="1349" y="1421"/>
                    </a:lnTo>
                    <a:lnTo>
                      <a:pt x="1355" y="1415"/>
                    </a:lnTo>
                    <a:lnTo>
                      <a:pt x="1362" y="1405"/>
                    </a:lnTo>
                    <a:lnTo>
                      <a:pt x="1378" y="1385"/>
                    </a:lnTo>
                    <a:lnTo>
                      <a:pt x="1386" y="1376"/>
                    </a:lnTo>
                    <a:lnTo>
                      <a:pt x="1395" y="1369"/>
                    </a:lnTo>
                    <a:lnTo>
                      <a:pt x="1401" y="1366"/>
                    </a:lnTo>
                    <a:lnTo>
                      <a:pt x="1406" y="1365"/>
                    </a:lnTo>
                    <a:lnTo>
                      <a:pt x="1411" y="1364"/>
                    </a:lnTo>
                    <a:lnTo>
                      <a:pt x="1418" y="1364"/>
                    </a:lnTo>
                    <a:lnTo>
                      <a:pt x="1411" y="1368"/>
                    </a:lnTo>
                    <a:lnTo>
                      <a:pt x="1405" y="1372"/>
                    </a:lnTo>
                    <a:lnTo>
                      <a:pt x="1402" y="1374"/>
                    </a:lnTo>
                    <a:lnTo>
                      <a:pt x="1401" y="1377"/>
                    </a:lnTo>
                    <a:lnTo>
                      <a:pt x="1399" y="1380"/>
                    </a:lnTo>
                    <a:lnTo>
                      <a:pt x="1398" y="1384"/>
                    </a:lnTo>
                    <a:lnTo>
                      <a:pt x="1399" y="1390"/>
                    </a:lnTo>
                    <a:lnTo>
                      <a:pt x="1399" y="1397"/>
                    </a:lnTo>
                    <a:lnTo>
                      <a:pt x="1402" y="1402"/>
                    </a:lnTo>
                    <a:lnTo>
                      <a:pt x="1403" y="1407"/>
                    </a:lnTo>
                    <a:lnTo>
                      <a:pt x="1406" y="1413"/>
                    </a:lnTo>
                    <a:lnTo>
                      <a:pt x="1410" y="1418"/>
                    </a:lnTo>
                    <a:lnTo>
                      <a:pt x="1414" y="1423"/>
                    </a:lnTo>
                    <a:lnTo>
                      <a:pt x="1418" y="1427"/>
                    </a:lnTo>
                    <a:lnTo>
                      <a:pt x="1422" y="1431"/>
                    </a:lnTo>
                    <a:lnTo>
                      <a:pt x="1427" y="1434"/>
                    </a:lnTo>
                    <a:lnTo>
                      <a:pt x="1432" y="1438"/>
                    </a:lnTo>
                    <a:lnTo>
                      <a:pt x="1438" y="1440"/>
                    </a:lnTo>
                    <a:lnTo>
                      <a:pt x="1444" y="1442"/>
                    </a:lnTo>
                    <a:lnTo>
                      <a:pt x="1449" y="1443"/>
                    </a:lnTo>
                    <a:lnTo>
                      <a:pt x="1456" y="1444"/>
                    </a:lnTo>
                    <a:lnTo>
                      <a:pt x="1463" y="1444"/>
                    </a:lnTo>
                    <a:lnTo>
                      <a:pt x="1465" y="1444"/>
                    </a:lnTo>
                    <a:lnTo>
                      <a:pt x="1469" y="1443"/>
                    </a:lnTo>
                    <a:lnTo>
                      <a:pt x="1475" y="1439"/>
                    </a:lnTo>
                    <a:lnTo>
                      <a:pt x="1479" y="1436"/>
                    </a:lnTo>
                    <a:lnTo>
                      <a:pt x="1482" y="1435"/>
                    </a:lnTo>
                    <a:lnTo>
                      <a:pt x="1485" y="1434"/>
                    </a:lnTo>
                    <a:lnTo>
                      <a:pt x="1493" y="1435"/>
                    </a:lnTo>
                    <a:lnTo>
                      <a:pt x="1501" y="1436"/>
                    </a:lnTo>
                    <a:lnTo>
                      <a:pt x="1509" y="1439"/>
                    </a:lnTo>
                    <a:lnTo>
                      <a:pt x="1517" y="1442"/>
                    </a:lnTo>
                    <a:lnTo>
                      <a:pt x="1523" y="1446"/>
                    </a:lnTo>
                    <a:lnTo>
                      <a:pt x="1530" y="1451"/>
                    </a:lnTo>
                    <a:lnTo>
                      <a:pt x="1535" y="1456"/>
                    </a:lnTo>
                    <a:lnTo>
                      <a:pt x="1540" y="1461"/>
                    </a:lnTo>
                    <a:lnTo>
                      <a:pt x="1546" y="1468"/>
                    </a:lnTo>
                    <a:lnTo>
                      <a:pt x="1550" y="1475"/>
                    </a:lnTo>
                    <a:lnTo>
                      <a:pt x="1554" y="1483"/>
                    </a:lnTo>
                    <a:lnTo>
                      <a:pt x="1558" y="1490"/>
                    </a:lnTo>
                    <a:lnTo>
                      <a:pt x="1559" y="1498"/>
                    </a:lnTo>
                    <a:lnTo>
                      <a:pt x="1562" y="1506"/>
                    </a:lnTo>
                    <a:lnTo>
                      <a:pt x="1563" y="1514"/>
                    </a:lnTo>
                    <a:lnTo>
                      <a:pt x="1563" y="1523"/>
                    </a:lnTo>
                    <a:lnTo>
                      <a:pt x="1563" y="1529"/>
                    </a:lnTo>
                    <a:lnTo>
                      <a:pt x="1562" y="1535"/>
                    </a:lnTo>
                    <a:lnTo>
                      <a:pt x="1558" y="1544"/>
                    </a:lnTo>
                    <a:lnTo>
                      <a:pt x="1552" y="1552"/>
                    </a:lnTo>
                    <a:lnTo>
                      <a:pt x="1546" y="1560"/>
                    </a:lnTo>
                    <a:lnTo>
                      <a:pt x="1539" y="1568"/>
                    </a:lnTo>
                    <a:lnTo>
                      <a:pt x="1533" y="1576"/>
                    </a:lnTo>
                    <a:lnTo>
                      <a:pt x="1527" y="1585"/>
                    </a:lnTo>
                    <a:lnTo>
                      <a:pt x="1525" y="1592"/>
                    </a:lnTo>
                    <a:lnTo>
                      <a:pt x="1523" y="1597"/>
                    </a:lnTo>
                    <a:lnTo>
                      <a:pt x="1529" y="1593"/>
                    </a:lnTo>
                    <a:lnTo>
                      <a:pt x="1535" y="1591"/>
                    </a:lnTo>
                    <a:lnTo>
                      <a:pt x="1548" y="1587"/>
                    </a:lnTo>
                    <a:lnTo>
                      <a:pt x="1573" y="1579"/>
                    </a:lnTo>
                    <a:lnTo>
                      <a:pt x="1585" y="1574"/>
                    </a:lnTo>
                    <a:lnTo>
                      <a:pt x="1591" y="1571"/>
                    </a:lnTo>
                    <a:lnTo>
                      <a:pt x="1595" y="1568"/>
                    </a:lnTo>
                    <a:lnTo>
                      <a:pt x="1597" y="1564"/>
                    </a:lnTo>
                    <a:lnTo>
                      <a:pt x="1600" y="1559"/>
                    </a:lnTo>
                    <a:lnTo>
                      <a:pt x="1601" y="1554"/>
                    </a:lnTo>
                    <a:lnTo>
                      <a:pt x="1602" y="1548"/>
                    </a:lnTo>
                    <a:lnTo>
                      <a:pt x="1602" y="1539"/>
                    </a:lnTo>
                    <a:lnTo>
                      <a:pt x="1601" y="1530"/>
                    </a:lnTo>
                    <a:lnTo>
                      <a:pt x="1599" y="1522"/>
                    </a:lnTo>
                    <a:lnTo>
                      <a:pt x="1596" y="1514"/>
                    </a:lnTo>
                    <a:lnTo>
                      <a:pt x="1589" y="1500"/>
                    </a:lnTo>
                    <a:lnTo>
                      <a:pt x="1583" y="1485"/>
                    </a:lnTo>
                    <a:lnTo>
                      <a:pt x="1575" y="1471"/>
                    </a:lnTo>
                    <a:lnTo>
                      <a:pt x="1572" y="1464"/>
                    </a:lnTo>
                    <a:lnTo>
                      <a:pt x="1570" y="1456"/>
                    </a:lnTo>
                    <a:lnTo>
                      <a:pt x="1567" y="1448"/>
                    </a:lnTo>
                    <a:lnTo>
                      <a:pt x="1564" y="1440"/>
                    </a:lnTo>
                    <a:lnTo>
                      <a:pt x="1563" y="1431"/>
                    </a:lnTo>
                    <a:lnTo>
                      <a:pt x="1563" y="1422"/>
                    </a:lnTo>
                    <a:lnTo>
                      <a:pt x="1563" y="1403"/>
                    </a:lnTo>
                    <a:lnTo>
                      <a:pt x="1564" y="1385"/>
                    </a:lnTo>
                    <a:lnTo>
                      <a:pt x="1566" y="1365"/>
                    </a:lnTo>
                    <a:lnTo>
                      <a:pt x="1568" y="1347"/>
                    </a:lnTo>
                    <a:lnTo>
                      <a:pt x="1572" y="1328"/>
                    </a:lnTo>
                    <a:lnTo>
                      <a:pt x="1576" y="1311"/>
                    </a:lnTo>
                    <a:lnTo>
                      <a:pt x="1581" y="1293"/>
                    </a:lnTo>
                    <a:lnTo>
                      <a:pt x="1584" y="1285"/>
                    </a:lnTo>
                    <a:lnTo>
                      <a:pt x="1588" y="1277"/>
                    </a:lnTo>
                    <a:lnTo>
                      <a:pt x="1596" y="1262"/>
                    </a:lnTo>
                    <a:lnTo>
                      <a:pt x="1600" y="1254"/>
                    </a:lnTo>
                    <a:lnTo>
                      <a:pt x="1604" y="1248"/>
                    </a:lnTo>
                    <a:lnTo>
                      <a:pt x="1609" y="1241"/>
                    </a:lnTo>
                    <a:lnTo>
                      <a:pt x="1614" y="1236"/>
                    </a:lnTo>
                    <a:lnTo>
                      <a:pt x="1620" y="1231"/>
                    </a:lnTo>
                    <a:lnTo>
                      <a:pt x="1626" y="1225"/>
                    </a:lnTo>
                    <a:lnTo>
                      <a:pt x="1631" y="1220"/>
                    </a:lnTo>
                    <a:lnTo>
                      <a:pt x="1638" y="1216"/>
                    </a:lnTo>
                    <a:lnTo>
                      <a:pt x="1646" y="1213"/>
                    </a:lnTo>
                    <a:lnTo>
                      <a:pt x="1653" y="1210"/>
                    </a:lnTo>
                    <a:lnTo>
                      <a:pt x="1660" y="1208"/>
                    </a:lnTo>
                    <a:lnTo>
                      <a:pt x="1668" y="1206"/>
                    </a:lnTo>
                    <a:lnTo>
                      <a:pt x="1678" y="1206"/>
                    </a:lnTo>
                    <a:lnTo>
                      <a:pt x="1687" y="1204"/>
                    </a:lnTo>
                    <a:lnTo>
                      <a:pt x="1696" y="1206"/>
                    </a:lnTo>
                    <a:lnTo>
                      <a:pt x="1701" y="1206"/>
                    </a:lnTo>
                    <a:lnTo>
                      <a:pt x="1705" y="1207"/>
                    </a:lnTo>
                    <a:lnTo>
                      <a:pt x="1721" y="1212"/>
                    </a:lnTo>
                    <a:lnTo>
                      <a:pt x="1738" y="1219"/>
                    </a:lnTo>
                    <a:lnTo>
                      <a:pt x="1746" y="1220"/>
                    </a:lnTo>
                    <a:lnTo>
                      <a:pt x="1757" y="1221"/>
                    </a:lnTo>
                    <a:lnTo>
                      <a:pt x="1765" y="1220"/>
                    </a:lnTo>
                    <a:lnTo>
                      <a:pt x="1771" y="1219"/>
                    </a:lnTo>
                    <a:lnTo>
                      <a:pt x="1778" y="1217"/>
                    </a:lnTo>
                    <a:lnTo>
                      <a:pt x="1783" y="1215"/>
                    </a:lnTo>
                    <a:lnTo>
                      <a:pt x="1788" y="1211"/>
                    </a:lnTo>
                    <a:lnTo>
                      <a:pt x="1794" y="1207"/>
                    </a:lnTo>
                    <a:lnTo>
                      <a:pt x="1799" y="1203"/>
                    </a:lnTo>
                    <a:lnTo>
                      <a:pt x="1803" y="1198"/>
                    </a:lnTo>
                    <a:lnTo>
                      <a:pt x="1812" y="1186"/>
                    </a:lnTo>
                    <a:lnTo>
                      <a:pt x="1819" y="1174"/>
                    </a:lnTo>
                    <a:lnTo>
                      <a:pt x="1832" y="1146"/>
                    </a:lnTo>
                    <a:lnTo>
                      <a:pt x="1839" y="1132"/>
                    </a:lnTo>
                    <a:lnTo>
                      <a:pt x="1845" y="1119"/>
                    </a:lnTo>
                    <a:lnTo>
                      <a:pt x="1852" y="1107"/>
                    </a:lnTo>
                    <a:lnTo>
                      <a:pt x="1856" y="1100"/>
                    </a:lnTo>
                    <a:lnTo>
                      <a:pt x="1861" y="1095"/>
                    </a:lnTo>
                    <a:lnTo>
                      <a:pt x="1865" y="1090"/>
                    </a:lnTo>
                    <a:lnTo>
                      <a:pt x="1870" y="1086"/>
                    </a:lnTo>
                    <a:lnTo>
                      <a:pt x="1875" y="1082"/>
                    </a:lnTo>
                    <a:lnTo>
                      <a:pt x="1881" y="1078"/>
                    </a:lnTo>
                    <a:lnTo>
                      <a:pt x="1886" y="1075"/>
                    </a:lnTo>
                    <a:lnTo>
                      <a:pt x="1893" y="1074"/>
                    </a:lnTo>
                    <a:lnTo>
                      <a:pt x="1899" y="1072"/>
                    </a:lnTo>
                    <a:lnTo>
                      <a:pt x="1907" y="1071"/>
                    </a:lnTo>
                    <a:lnTo>
                      <a:pt x="1918" y="1072"/>
                    </a:lnTo>
                    <a:lnTo>
                      <a:pt x="1927" y="1074"/>
                    </a:lnTo>
                    <a:lnTo>
                      <a:pt x="1932" y="1075"/>
                    </a:lnTo>
                    <a:lnTo>
                      <a:pt x="1936" y="1076"/>
                    </a:lnTo>
                    <a:lnTo>
                      <a:pt x="1941" y="1079"/>
                    </a:lnTo>
                    <a:lnTo>
                      <a:pt x="1945" y="1080"/>
                    </a:lnTo>
                    <a:lnTo>
                      <a:pt x="1949" y="1083"/>
                    </a:lnTo>
                    <a:lnTo>
                      <a:pt x="1953" y="1086"/>
                    </a:lnTo>
                    <a:lnTo>
                      <a:pt x="1961" y="1091"/>
                    </a:lnTo>
                    <a:lnTo>
                      <a:pt x="1968" y="1097"/>
                    </a:lnTo>
                    <a:lnTo>
                      <a:pt x="1974" y="1105"/>
                    </a:lnTo>
                    <a:lnTo>
                      <a:pt x="1980" y="1113"/>
                    </a:lnTo>
                    <a:lnTo>
                      <a:pt x="1985" y="1121"/>
                    </a:lnTo>
                    <a:lnTo>
                      <a:pt x="1990" y="1130"/>
                    </a:lnTo>
                    <a:lnTo>
                      <a:pt x="1993" y="1140"/>
                    </a:lnTo>
                    <a:lnTo>
                      <a:pt x="1995" y="1149"/>
                    </a:lnTo>
                    <a:lnTo>
                      <a:pt x="1998" y="1159"/>
                    </a:lnTo>
                    <a:lnTo>
                      <a:pt x="1999" y="1170"/>
                    </a:lnTo>
                    <a:lnTo>
                      <a:pt x="1999" y="1181"/>
                    </a:lnTo>
                    <a:lnTo>
                      <a:pt x="2003" y="1178"/>
                    </a:lnTo>
                    <a:lnTo>
                      <a:pt x="2006" y="1177"/>
                    </a:lnTo>
                    <a:lnTo>
                      <a:pt x="2011" y="1171"/>
                    </a:lnTo>
                    <a:lnTo>
                      <a:pt x="2018" y="1167"/>
                    </a:lnTo>
                    <a:lnTo>
                      <a:pt x="2021" y="1166"/>
                    </a:lnTo>
                    <a:lnTo>
                      <a:pt x="2024" y="1165"/>
                    </a:lnTo>
                    <a:lnTo>
                      <a:pt x="2028" y="1166"/>
                    </a:lnTo>
                    <a:lnTo>
                      <a:pt x="2032" y="1167"/>
                    </a:lnTo>
                    <a:lnTo>
                      <a:pt x="2035" y="1170"/>
                    </a:lnTo>
                    <a:lnTo>
                      <a:pt x="2039" y="1170"/>
                    </a:lnTo>
                    <a:lnTo>
                      <a:pt x="2035" y="1183"/>
                    </a:lnTo>
                    <a:lnTo>
                      <a:pt x="2032" y="1196"/>
                    </a:lnTo>
                    <a:lnTo>
                      <a:pt x="2031" y="1208"/>
                    </a:lnTo>
                    <a:lnTo>
                      <a:pt x="2030" y="1219"/>
                    </a:lnTo>
                    <a:lnTo>
                      <a:pt x="2027" y="1243"/>
                    </a:lnTo>
                    <a:lnTo>
                      <a:pt x="2027" y="1256"/>
                    </a:lnTo>
                    <a:lnTo>
                      <a:pt x="2024" y="1270"/>
                    </a:lnTo>
                    <a:lnTo>
                      <a:pt x="2015" y="1269"/>
                    </a:lnTo>
                    <a:lnTo>
                      <a:pt x="2006" y="1268"/>
                    </a:lnTo>
                    <a:lnTo>
                      <a:pt x="1998" y="1268"/>
                    </a:lnTo>
                    <a:lnTo>
                      <a:pt x="1989" y="1268"/>
                    </a:lnTo>
                    <a:lnTo>
                      <a:pt x="1973" y="1269"/>
                    </a:lnTo>
                    <a:lnTo>
                      <a:pt x="1955" y="1270"/>
                    </a:lnTo>
                    <a:lnTo>
                      <a:pt x="1956" y="1275"/>
                    </a:lnTo>
                    <a:lnTo>
                      <a:pt x="1957" y="1281"/>
                    </a:lnTo>
                    <a:lnTo>
                      <a:pt x="1963" y="1291"/>
                    </a:lnTo>
                    <a:lnTo>
                      <a:pt x="1966" y="1301"/>
                    </a:lnTo>
                    <a:lnTo>
                      <a:pt x="1969" y="1306"/>
                    </a:lnTo>
                    <a:lnTo>
                      <a:pt x="1969" y="1312"/>
                    </a:lnTo>
                    <a:lnTo>
                      <a:pt x="1969" y="1318"/>
                    </a:lnTo>
                    <a:lnTo>
                      <a:pt x="1968" y="1323"/>
                    </a:lnTo>
                    <a:lnTo>
                      <a:pt x="1966" y="1328"/>
                    </a:lnTo>
                    <a:lnTo>
                      <a:pt x="1965" y="1333"/>
                    </a:lnTo>
                    <a:lnTo>
                      <a:pt x="1964" y="1339"/>
                    </a:lnTo>
                    <a:lnTo>
                      <a:pt x="1961" y="1343"/>
                    </a:lnTo>
                    <a:lnTo>
                      <a:pt x="1957" y="1352"/>
                    </a:lnTo>
                    <a:lnTo>
                      <a:pt x="1951" y="1360"/>
                    </a:lnTo>
                    <a:lnTo>
                      <a:pt x="1944" y="1368"/>
                    </a:lnTo>
                    <a:lnTo>
                      <a:pt x="1937" y="1376"/>
                    </a:lnTo>
                    <a:lnTo>
                      <a:pt x="1930" y="1384"/>
                    </a:lnTo>
                    <a:lnTo>
                      <a:pt x="1915" y="1398"/>
                    </a:lnTo>
                    <a:lnTo>
                      <a:pt x="1908" y="1406"/>
                    </a:lnTo>
                    <a:lnTo>
                      <a:pt x="1906" y="1410"/>
                    </a:lnTo>
                    <a:lnTo>
                      <a:pt x="1902" y="1414"/>
                    </a:lnTo>
                    <a:lnTo>
                      <a:pt x="1899" y="1419"/>
                    </a:lnTo>
                    <a:lnTo>
                      <a:pt x="1898" y="1423"/>
                    </a:lnTo>
                    <a:lnTo>
                      <a:pt x="1895" y="1427"/>
                    </a:lnTo>
                    <a:lnTo>
                      <a:pt x="1894" y="1432"/>
                    </a:lnTo>
                    <a:lnTo>
                      <a:pt x="1891" y="1443"/>
                    </a:lnTo>
                    <a:lnTo>
                      <a:pt x="1890" y="1448"/>
                    </a:lnTo>
                    <a:lnTo>
                      <a:pt x="1890" y="1453"/>
                    </a:lnTo>
                    <a:lnTo>
                      <a:pt x="1891" y="1461"/>
                    </a:lnTo>
                    <a:lnTo>
                      <a:pt x="1894" y="1467"/>
                    </a:lnTo>
                    <a:lnTo>
                      <a:pt x="1897" y="1473"/>
                    </a:lnTo>
                    <a:lnTo>
                      <a:pt x="1898" y="1476"/>
                    </a:lnTo>
                    <a:lnTo>
                      <a:pt x="1901" y="1479"/>
                    </a:lnTo>
                    <a:lnTo>
                      <a:pt x="1915" y="1476"/>
                    </a:lnTo>
                    <a:lnTo>
                      <a:pt x="1930" y="1473"/>
                    </a:lnTo>
                    <a:lnTo>
                      <a:pt x="1931" y="1460"/>
                    </a:lnTo>
                    <a:lnTo>
                      <a:pt x="1935" y="1447"/>
                    </a:lnTo>
                    <a:lnTo>
                      <a:pt x="1937" y="1435"/>
                    </a:lnTo>
                    <a:lnTo>
                      <a:pt x="1943" y="1424"/>
                    </a:lnTo>
                    <a:lnTo>
                      <a:pt x="1947" y="1413"/>
                    </a:lnTo>
                    <a:lnTo>
                      <a:pt x="1951" y="1401"/>
                    </a:lnTo>
                    <a:lnTo>
                      <a:pt x="1953" y="1388"/>
                    </a:lnTo>
                    <a:lnTo>
                      <a:pt x="1953" y="1381"/>
                    </a:lnTo>
                    <a:lnTo>
                      <a:pt x="1955" y="1374"/>
                    </a:lnTo>
                    <a:lnTo>
                      <a:pt x="2014" y="1374"/>
                    </a:lnTo>
                    <a:lnTo>
                      <a:pt x="2026" y="1374"/>
                    </a:lnTo>
                    <a:lnTo>
                      <a:pt x="2038" y="1376"/>
                    </a:lnTo>
                    <a:lnTo>
                      <a:pt x="2048" y="1377"/>
                    </a:lnTo>
                    <a:lnTo>
                      <a:pt x="2059" y="1378"/>
                    </a:lnTo>
                    <a:lnTo>
                      <a:pt x="2069" y="1381"/>
                    </a:lnTo>
                    <a:lnTo>
                      <a:pt x="2080" y="1384"/>
                    </a:lnTo>
                    <a:lnTo>
                      <a:pt x="2100" y="1390"/>
                    </a:lnTo>
                    <a:lnTo>
                      <a:pt x="2110" y="1394"/>
                    </a:lnTo>
                    <a:lnTo>
                      <a:pt x="2119" y="1398"/>
                    </a:lnTo>
                    <a:lnTo>
                      <a:pt x="2138" y="1407"/>
                    </a:lnTo>
                    <a:lnTo>
                      <a:pt x="2172" y="1426"/>
                    </a:lnTo>
                    <a:lnTo>
                      <a:pt x="2191" y="1436"/>
                    </a:lnTo>
                    <a:lnTo>
                      <a:pt x="2208" y="1446"/>
                    </a:lnTo>
                    <a:lnTo>
                      <a:pt x="2226" y="1455"/>
                    </a:lnTo>
                    <a:lnTo>
                      <a:pt x="2246" y="1463"/>
                    </a:lnTo>
                    <a:lnTo>
                      <a:pt x="2266" y="1469"/>
                    </a:lnTo>
                    <a:lnTo>
                      <a:pt x="2286" y="1475"/>
                    </a:lnTo>
                    <a:lnTo>
                      <a:pt x="2297" y="1476"/>
                    </a:lnTo>
                    <a:lnTo>
                      <a:pt x="2308" y="1477"/>
                    </a:lnTo>
                    <a:lnTo>
                      <a:pt x="2320" y="1479"/>
                    </a:lnTo>
                    <a:lnTo>
                      <a:pt x="2332" y="1479"/>
                    </a:lnTo>
                    <a:lnTo>
                      <a:pt x="2370" y="1479"/>
                    </a:lnTo>
                    <a:lnTo>
                      <a:pt x="2370" y="1438"/>
                    </a:lnTo>
                    <a:lnTo>
                      <a:pt x="2370" y="1431"/>
                    </a:lnTo>
                    <a:lnTo>
                      <a:pt x="2369" y="1428"/>
                    </a:lnTo>
                    <a:lnTo>
                      <a:pt x="2367" y="1424"/>
                    </a:lnTo>
                    <a:lnTo>
                      <a:pt x="2365" y="1419"/>
                    </a:lnTo>
                    <a:lnTo>
                      <a:pt x="2361" y="1415"/>
                    </a:lnTo>
                    <a:lnTo>
                      <a:pt x="2356" y="1410"/>
                    </a:lnTo>
                    <a:lnTo>
                      <a:pt x="2350" y="1406"/>
                    </a:lnTo>
                    <a:lnTo>
                      <a:pt x="2338" y="1398"/>
                    </a:lnTo>
                    <a:lnTo>
                      <a:pt x="2326" y="1392"/>
                    </a:lnTo>
                    <a:lnTo>
                      <a:pt x="2321" y="1388"/>
                    </a:lnTo>
                    <a:lnTo>
                      <a:pt x="2316" y="1382"/>
                    </a:lnTo>
                    <a:lnTo>
                      <a:pt x="2312" y="1377"/>
                    </a:lnTo>
                    <a:lnTo>
                      <a:pt x="2309" y="1372"/>
                    </a:lnTo>
                    <a:lnTo>
                      <a:pt x="2308" y="1369"/>
                    </a:lnTo>
                    <a:lnTo>
                      <a:pt x="2307" y="1366"/>
                    </a:lnTo>
                    <a:lnTo>
                      <a:pt x="2307" y="1359"/>
                    </a:lnTo>
                    <a:lnTo>
                      <a:pt x="2307" y="1352"/>
                    </a:lnTo>
                    <a:lnTo>
                      <a:pt x="2309" y="1347"/>
                    </a:lnTo>
                    <a:lnTo>
                      <a:pt x="2312" y="1341"/>
                    </a:lnTo>
                    <a:lnTo>
                      <a:pt x="2316" y="1337"/>
                    </a:lnTo>
                    <a:lnTo>
                      <a:pt x="2321" y="1333"/>
                    </a:lnTo>
                    <a:lnTo>
                      <a:pt x="2326" y="1330"/>
                    </a:lnTo>
                    <a:lnTo>
                      <a:pt x="2338" y="1324"/>
                    </a:lnTo>
                    <a:lnTo>
                      <a:pt x="2352" y="1318"/>
                    </a:lnTo>
                    <a:lnTo>
                      <a:pt x="2358" y="1315"/>
                    </a:lnTo>
                    <a:lnTo>
                      <a:pt x="2363" y="1311"/>
                    </a:lnTo>
                    <a:lnTo>
                      <a:pt x="2369" y="1307"/>
                    </a:lnTo>
                    <a:lnTo>
                      <a:pt x="2371" y="1304"/>
                    </a:lnTo>
                    <a:lnTo>
                      <a:pt x="2374" y="1302"/>
                    </a:lnTo>
                    <a:lnTo>
                      <a:pt x="2378" y="1297"/>
                    </a:lnTo>
                    <a:lnTo>
                      <a:pt x="2381" y="1290"/>
                    </a:lnTo>
                    <a:lnTo>
                      <a:pt x="2371" y="1285"/>
                    </a:lnTo>
                    <a:lnTo>
                      <a:pt x="2361" y="1279"/>
                    </a:lnTo>
                    <a:lnTo>
                      <a:pt x="2341" y="1270"/>
                    </a:lnTo>
                    <a:lnTo>
                      <a:pt x="2301" y="1254"/>
                    </a:lnTo>
                    <a:lnTo>
                      <a:pt x="2263" y="1237"/>
                    </a:lnTo>
                    <a:lnTo>
                      <a:pt x="2245" y="1229"/>
                    </a:lnTo>
                    <a:lnTo>
                      <a:pt x="2226" y="1220"/>
                    </a:lnTo>
                    <a:lnTo>
                      <a:pt x="2210" y="1211"/>
                    </a:lnTo>
                    <a:lnTo>
                      <a:pt x="2195" y="1200"/>
                    </a:lnTo>
                    <a:lnTo>
                      <a:pt x="2181" y="1188"/>
                    </a:lnTo>
                    <a:lnTo>
                      <a:pt x="2176" y="1182"/>
                    </a:lnTo>
                    <a:lnTo>
                      <a:pt x="2171" y="1175"/>
                    </a:lnTo>
                    <a:lnTo>
                      <a:pt x="2166" y="1169"/>
                    </a:lnTo>
                    <a:lnTo>
                      <a:pt x="2160" y="1161"/>
                    </a:lnTo>
                    <a:lnTo>
                      <a:pt x="2158" y="1153"/>
                    </a:lnTo>
                    <a:lnTo>
                      <a:pt x="2154" y="1145"/>
                    </a:lnTo>
                    <a:lnTo>
                      <a:pt x="2151" y="1136"/>
                    </a:lnTo>
                    <a:lnTo>
                      <a:pt x="2150" y="1126"/>
                    </a:lnTo>
                    <a:lnTo>
                      <a:pt x="2148" y="1116"/>
                    </a:lnTo>
                    <a:lnTo>
                      <a:pt x="2148" y="1105"/>
                    </a:lnTo>
                    <a:lnTo>
                      <a:pt x="2148" y="1100"/>
                    </a:lnTo>
                    <a:lnTo>
                      <a:pt x="2150" y="1096"/>
                    </a:lnTo>
                    <a:lnTo>
                      <a:pt x="2151" y="1091"/>
                    </a:lnTo>
                    <a:lnTo>
                      <a:pt x="2152" y="1087"/>
                    </a:lnTo>
                    <a:lnTo>
                      <a:pt x="2155" y="1083"/>
                    </a:lnTo>
                    <a:lnTo>
                      <a:pt x="2159" y="1080"/>
                    </a:lnTo>
                    <a:lnTo>
                      <a:pt x="2166" y="1074"/>
                    </a:lnTo>
                    <a:lnTo>
                      <a:pt x="2175" y="1068"/>
                    </a:lnTo>
                    <a:lnTo>
                      <a:pt x="2184" y="1063"/>
                    </a:lnTo>
                    <a:lnTo>
                      <a:pt x="2205" y="1055"/>
                    </a:lnTo>
                    <a:lnTo>
                      <a:pt x="2226" y="1047"/>
                    </a:lnTo>
                    <a:lnTo>
                      <a:pt x="2235" y="1042"/>
                    </a:lnTo>
                    <a:lnTo>
                      <a:pt x="2243" y="1037"/>
                    </a:lnTo>
                    <a:lnTo>
                      <a:pt x="2251" y="1032"/>
                    </a:lnTo>
                    <a:lnTo>
                      <a:pt x="2254" y="1028"/>
                    </a:lnTo>
                    <a:lnTo>
                      <a:pt x="2257" y="1024"/>
                    </a:lnTo>
                    <a:lnTo>
                      <a:pt x="2259" y="1020"/>
                    </a:lnTo>
                    <a:lnTo>
                      <a:pt x="2261" y="1014"/>
                    </a:lnTo>
                    <a:lnTo>
                      <a:pt x="2262" y="1010"/>
                    </a:lnTo>
                    <a:lnTo>
                      <a:pt x="2262" y="1005"/>
                    </a:lnTo>
                    <a:lnTo>
                      <a:pt x="2261" y="997"/>
                    </a:lnTo>
                    <a:lnTo>
                      <a:pt x="2261" y="989"/>
                    </a:lnTo>
                    <a:lnTo>
                      <a:pt x="2257" y="976"/>
                    </a:lnTo>
                    <a:lnTo>
                      <a:pt x="2253" y="963"/>
                    </a:lnTo>
                    <a:lnTo>
                      <a:pt x="2253" y="959"/>
                    </a:lnTo>
                    <a:lnTo>
                      <a:pt x="2253" y="956"/>
                    </a:lnTo>
                    <a:lnTo>
                      <a:pt x="2251" y="948"/>
                    </a:lnTo>
                    <a:lnTo>
                      <a:pt x="2251" y="933"/>
                    </a:lnTo>
                    <a:lnTo>
                      <a:pt x="2251" y="926"/>
                    </a:lnTo>
                    <a:lnTo>
                      <a:pt x="2253" y="918"/>
                    </a:lnTo>
                    <a:lnTo>
                      <a:pt x="2254" y="911"/>
                    </a:lnTo>
                    <a:lnTo>
                      <a:pt x="2257" y="906"/>
                    </a:lnTo>
                    <a:lnTo>
                      <a:pt x="2258" y="905"/>
                    </a:lnTo>
                    <a:lnTo>
                      <a:pt x="2261" y="904"/>
                    </a:lnTo>
                    <a:lnTo>
                      <a:pt x="2263" y="902"/>
                    </a:lnTo>
                    <a:lnTo>
                      <a:pt x="2267" y="902"/>
                    </a:lnTo>
                    <a:lnTo>
                      <a:pt x="2276" y="902"/>
                    </a:lnTo>
                    <a:lnTo>
                      <a:pt x="2284" y="904"/>
                    </a:lnTo>
                    <a:lnTo>
                      <a:pt x="2292" y="906"/>
                    </a:lnTo>
                    <a:lnTo>
                      <a:pt x="2300" y="909"/>
                    </a:lnTo>
                    <a:lnTo>
                      <a:pt x="2307" y="913"/>
                    </a:lnTo>
                    <a:lnTo>
                      <a:pt x="2313" y="917"/>
                    </a:lnTo>
                    <a:lnTo>
                      <a:pt x="2320" y="922"/>
                    </a:lnTo>
                    <a:lnTo>
                      <a:pt x="2325" y="927"/>
                    </a:lnTo>
                    <a:lnTo>
                      <a:pt x="2337" y="939"/>
                    </a:lnTo>
                    <a:lnTo>
                      <a:pt x="2349" y="951"/>
                    </a:lnTo>
                    <a:lnTo>
                      <a:pt x="2361" y="964"/>
                    </a:lnTo>
                    <a:lnTo>
                      <a:pt x="2375" y="977"/>
                    </a:lnTo>
                    <a:lnTo>
                      <a:pt x="2377" y="975"/>
                    </a:lnTo>
                    <a:lnTo>
                      <a:pt x="2379" y="972"/>
                    </a:lnTo>
                    <a:lnTo>
                      <a:pt x="2385" y="968"/>
                    </a:lnTo>
                    <a:lnTo>
                      <a:pt x="2388" y="964"/>
                    </a:lnTo>
                    <a:lnTo>
                      <a:pt x="2390" y="962"/>
                    </a:lnTo>
                    <a:lnTo>
                      <a:pt x="2390" y="958"/>
                    </a:lnTo>
                    <a:lnTo>
                      <a:pt x="2390" y="951"/>
                    </a:lnTo>
                    <a:lnTo>
                      <a:pt x="2388" y="944"/>
                    </a:lnTo>
                    <a:lnTo>
                      <a:pt x="2386" y="939"/>
                    </a:lnTo>
                    <a:lnTo>
                      <a:pt x="2383" y="933"/>
                    </a:lnTo>
                    <a:lnTo>
                      <a:pt x="2378" y="922"/>
                    </a:lnTo>
                    <a:lnTo>
                      <a:pt x="2370" y="913"/>
                    </a:lnTo>
                    <a:lnTo>
                      <a:pt x="2363" y="904"/>
                    </a:lnTo>
                    <a:lnTo>
                      <a:pt x="2359" y="898"/>
                    </a:lnTo>
                    <a:lnTo>
                      <a:pt x="2357" y="893"/>
                    </a:lnTo>
                    <a:lnTo>
                      <a:pt x="2354" y="886"/>
                    </a:lnTo>
                    <a:lnTo>
                      <a:pt x="2353" y="881"/>
                    </a:lnTo>
                    <a:lnTo>
                      <a:pt x="2352" y="875"/>
                    </a:lnTo>
                    <a:lnTo>
                      <a:pt x="2350" y="868"/>
                    </a:lnTo>
                    <a:lnTo>
                      <a:pt x="2352" y="863"/>
                    </a:lnTo>
                    <a:lnTo>
                      <a:pt x="2353" y="857"/>
                    </a:lnTo>
                    <a:lnTo>
                      <a:pt x="2356" y="855"/>
                    </a:lnTo>
                    <a:lnTo>
                      <a:pt x="2359" y="852"/>
                    </a:lnTo>
                    <a:lnTo>
                      <a:pt x="2361" y="851"/>
                    </a:lnTo>
                    <a:lnTo>
                      <a:pt x="2363" y="850"/>
                    </a:lnTo>
                    <a:lnTo>
                      <a:pt x="2367" y="848"/>
                    </a:lnTo>
                    <a:lnTo>
                      <a:pt x="2373" y="847"/>
                    </a:lnTo>
                    <a:lnTo>
                      <a:pt x="2379" y="846"/>
                    </a:lnTo>
                    <a:lnTo>
                      <a:pt x="2391" y="844"/>
                    </a:lnTo>
                    <a:lnTo>
                      <a:pt x="2403" y="843"/>
                    </a:lnTo>
                    <a:lnTo>
                      <a:pt x="2415" y="839"/>
                    </a:lnTo>
                    <a:lnTo>
                      <a:pt x="2421" y="836"/>
                    </a:lnTo>
                    <a:lnTo>
                      <a:pt x="2425" y="834"/>
                    </a:lnTo>
                    <a:lnTo>
                      <a:pt x="2429" y="830"/>
                    </a:lnTo>
                    <a:lnTo>
                      <a:pt x="2432" y="826"/>
                    </a:lnTo>
                    <a:lnTo>
                      <a:pt x="2437" y="818"/>
                    </a:lnTo>
                    <a:lnTo>
                      <a:pt x="2441" y="809"/>
                    </a:lnTo>
                    <a:lnTo>
                      <a:pt x="2444" y="799"/>
                    </a:lnTo>
                    <a:lnTo>
                      <a:pt x="2446" y="789"/>
                    </a:lnTo>
                    <a:lnTo>
                      <a:pt x="2448" y="777"/>
                    </a:lnTo>
                    <a:lnTo>
                      <a:pt x="2449" y="756"/>
                    </a:lnTo>
                    <a:lnTo>
                      <a:pt x="2452" y="736"/>
                    </a:lnTo>
                    <a:lnTo>
                      <a:pt x="2453" y="727"/>
                    </a:lnTo>
                    <a:lnTo>
                      <a:pt x="2457" y="719"/>
                    </a:lnTo>
                    <a:lnTo>
                      <a:pt x="2461" y="712"/>
                    </a:lnTo>
                    <a:lnTo>
                      <a:pt x="2464" y="710"/>
                    </a:lnTo>
                    <a:lnTo>
                      <a:pt x="2466" y="707"/>
                    </a:lnTo>
                    <a:lnTo>
                      <a:pt x="2470" y="706"/>
                    </a:lnTo>
                    <a:lnTo>
                      <a:pt x="2473" y="704"/>
                    </a:lnTo>
                    <a:lnTo>
                      <a:pt x="2478" y="704"/>
                    </a:lnTo>
                    <a:lnTo>
                      <a:pt x="2482" y="703"/>
                    </a:lnTo>
                    <a:lnTo>
                      <a:pt x="2494" y="704"/>
                    </a:lnTo>
                    <a:lnTo>
                      <a:pt x="2505" y="707"/>
                    </a:lnTo>
                    <a:lnTo>
                      <a:pt x="2514" y="711"/>
                    </a:lnTo>
                    <a:lnTo>
                      <a:pt x="2522" y="718"/>
                    </a:lnTo>
                    <a:lnTo>
                      <a:pt x="2528" y="724"/>
                    </a:lnTo>
                    <a:lnTo>
                      <a:pt x="2534" y="732"/>
                    </a:lnTo>
                    <a:lnTo>
                      <a:pt x="2539" y="741"/>
                    </a:lnTo>
                    <a:lnTo>
                      <a:pt x="2544" y="751"/>
                    </a:lnTo>
                    <a:lnTo>
                      <a:pt x="2548" y="761"/>
                    </a:lnTo>
                    <a:lnTo>
                      <a:pt x="2552" y="773"/>
                    </a:lnTo>
                    <a:lnTo>
                      <a:pt x="2559" y="797"/>
                    </a:lnTo>
                    <a:lnTo>
                      <a:pt x="2565" y="821"/>
                    </a:lnTo>
                    <a:lnTo>
                      <a:pt x="2574" y="843"/>
                    </a:lnTo>
                    <a:lnTo>
                      <a:pt x="2577" y="836"/>
                    </a:lnTo>
                    <a:lnTo>
                      <a:pt x="2580" y="830"/>
                    </a:lnTo>
                    <a:lnTo>
                      <a:pt x="2581" y="823"/>
                    </a:lnTo>
                    <a:lnTo>
                      <a:pt x="2582" y="818"/>
                    </a:lnTo>
                    <a:lnTo>
                      <a:pt x="2585" y="805"/>
                    </a:lnTo>
                    <a:lnTo>
                      <a:pt x="2585" y="793"/>
                    </a:lnTo>
                    <a:lnTo>
                      <a:pt x="2586" y="768"/>
                    </a:lnTo>
                    <a:lnTo>
                      <a:pt x="2588" y="753"/>
                    </a:lnTo>
                    <a:lnTo>
                      <a:pt x="2589" y="747"/>
                    </a:lnTo>
                    <a:lnTo>
                      <a:pt x="2592" y="739"/>
                    </a:lnTo>
                    <a:lnTo>
                      <a:pt x="2654" y="739"/>
                    </a:lnTo>
                    <a:lnTo>
                      <a:pt x="2655" y="733"/>
                    </a:lnTo>
                    <a:lnTo>
                      <a:pt x="2656" y="728"/>
                    </a:lnTo>
                    <a:lnTo>
                      <a:pt x="2659" y="723"/>
                    </a:lnTo>
                    <a:lnTo>
                      <a:pt x="2661" y="719"/>
                    </a:lnTo>
                    <a:lnTo>
                      <a:pt x="2665" y="715"/>
                    </a:lnTo>
                    <a:lnTo>
                      <a:pt x="2668" y="712"/>
                    </a:lnTo>
                    <a:lnTo>
                      <a:pt x="2677" y="706"/>
                    </a:lnTo>
                    <a:lnTo>
                      <a:pt x="2694" y="694"/>
                    </a:lnTo>
                    <a:lnTo>
                      <a:pt x="2705" y="687"/>
                    </a:lnTo>
                    <a:lnTo>
                      <a:pt x="2713" y="679"/>
                    </a:lnTo>
                    <a:lnTo>
                      <a:pt x="2681" y="650"/>
                    </a:lnTo>
                    <a:lnTo>
                      <a:pt x="2667" y="637"/>
                    </a:lnTo>
                    <a:lnTo>
                      <a:pt x="2660" y="631"/>
                    </a:lnTo>
                    <a:lnTo>
                      <a:pt x="2654" y="623"/>
                    </a:lnTo>
                    <a:lnTo>
                      <a:pt x="2643" y="608"/>
                    </a:lnTo>
                    <a:lnTo>
                      <a:pt x="2638" y="599"/>
                    </a:lnTo>
                    <a:lnTo>
                      <a:pt x="2632" y="591"/>
                    </a:lnTo>
                    <a:lnTo>
                      <a:pt x="2628" y="582"/>
                    </a:lnTo>
                    <a:lnTo>
                      <a:pt x="2625" y="573"/>
                    </a:lnTo>
                    <a:lnTo>
                      <a:pt x="2621" y="562"/>
                    </a:lnTo>
                    <a:lnTo>
                      <a:pt x="2618" y="550"/>
                    </a:lnTo>
                    <a:lnTo>
                      <a:pt x="2572" y="550"/>
                    </a:lnTo>
                    <a:lnTo>
                      <a:pt x="2572" y="580"/>
                    </a:lnTo>
                    <a:lnTo>
                      <a:pt x="2572" y="610"/>
                    </a:lnTo>
                    <a:lnTo>
                      <a:pt x="2551" y="611"/>
                    </a:lnTo>
                    <a:lnTo>
                      <a:pt x="2534" y="611"/>
                    </a:lnTo>
                    <a:lnTo>
                      <a:pt x="2515" y="610"/>
                    </a:lnTo>
                    <a:lnTo>
                      <a:pt x="2495" y="610"/>
                    </a:lnTo>
                    <a:lnTo>
                      <a:pt x="2490" y="611"/>
                    </a:lnTo>
                    <a:lnTo>
                      <a:pt x="2487" y="612"/>
                    </a:lnTo>
                    <a:lnTo>
                      <a:pt x="2481" y="616"/>
                    </a:lnTo>
                    <a:lnTo>
                      <a:pt x="2470" y="629"/>
                    </a:lnTo>
                    <a:lnTo>
                      <a:pt x="2450" y="624"/>
                    </a:lnTo>
                    <a:lnTo>
                      <a:pt x="2431" y="620"/>
                    </a:lnTo>
                    <a:lnTo>
                      <a:pt x="2433" y="603"/>
                    </a:lnTo>
                    <a:lnTo>
                      <a:pt x="2433" y="587"/>
                    </a:lnTo>
                    <a:lnTo>
                      <a:pt x="2433" y="573"/>
                    </a:lnTo>
                    <a:lnTo>
                      <a:pt x="2432" y="558"/>
                    </a:lnTo>
                    <a:lnTo>
                      <a:pt x="2431" y="544"/>
                    </a:lnTo>
                    <a:lnTo>
                      <a:pt x="2429" y="529"/>
                    </a:lnTo>
                    <a:lnTo>
                      <a:pt x="2429" y="513"/>
                    </a:lnTo>
                    <a:lnTo>
                      <a:pt x="2431" y="496"/>
                    </a:lnTo>
                    <a:lnTo>
                      <a:pt x="2342" y="496"/>
                    </a:lnTo>
                    <a:lnTo>
                      <a:pt x="2337" y="496"/>
                    </a:lnTo>
                    <a:lnTo>
                      <a:pt x="2340" y="486"/>
                    </a:lnTo>
                    <a:lnTo>
                      <a:pt x="2342" y="476"/>
                    </a:lnTo>
                    <a:lnTo>
                      <a:pt x="2345" y="467"/>
                    </a:lnTo>
                    <a:lnTo>
                      <a:pt x="2349" y="458"/>
                    </a:lnTo>
                    <a:lnTo>
                      <a:pt x="2353" y="450"/>
                    </a:lnTo>
                    <a:lnTo>
                      <a:pt x="2358" y="442"/>
                    </a:lnTo>
                    <a:lnTo>
                      <a:pt x="2363" y="434"/>
                    </a:lnTo>
                    <a:lnTo>
                      <a:pt x="2369" y="426"/>
                    </a:lnTo>
                    <a:lnTo>
                      <a:pt x="2382" y="412"/>
                    </a:lnTo>
                    <a:lnTo>
                      <a:pt x="2395" y="399"/>
                    </a:lnTo>
                    <a:lnTo>
                      <a:pt x="2423" y="372"/>
                    </a:lnTo>
                    <a:lnTo>
                      <a:pt x="2436" y="359"/>
                    </a:lnTo>
                    <a:lnTo>
                      <a:pt x="2449" y="344"/>
                    </a:lnTo>
                    <a:lnTo>
                      <a:pt x="2461" y="331"/>
                    </a:lnTo>
                    <a:lnTo>
                      <a:pt x="2473" y="315"/>
                    </a:lnTo>
                    <a:lnTo>
                      <a:pt x="2481" y="300"/>
                    </a:lnTo>
                    <a:lnTo>
                      <a:pt x="2485" y="292"/>
                    </a:lnTo>
                    <a:lnTo>
                      <a:pt x="2489" y="282"/>
                    </a:lnTo>
                    <a:lnTo>
                      <a:pt x="2491" y="273"/>
                    </a:lnTo>
                    <a:lnTo>
                      <a:pt x="2493" y="264"/>
                    </a:lnTo>
                    <a:lnTo>
                      <a:pt x="2494" y="253"/>
                    </a:lnTo>
                    <a:lnTo>
                      <a:pt x="2494" y="243"/>
                    </a:lnTo>
                    <a:lnTo>
                      <a:pt x="2494" y="240"/>
                    </a:lnTo>
                    <a:lnTo>
                      <a:pt x="2494" y="238"/>
                    </a:lnTo>
                    <a:lnTo>
                      <a:pt x="2491" y="232"/>
                    </a:lnTo>
                    <a:lnTo>
                      <a:pt x="2487" y="228"/>
                    </a:lnTo>
                    <a:lnTo>
                      <a:pt x="2482" y="224"/>
                    </a:lnTo>
                    <a:lnTo>
                      <a:pt x="2477" y="222"/>
                    </a:lnTo>
                    <a:lnTo>
                      <a:pt x="2472" y="219"/>
                    </a:lnTo>
                    <a:lnTo>
                      <a:pt x="2460" y="214"/>
                    </a:lnTo>
                    <a:lnTo>
                      <a:pt x="2466" y="206"/>
                    </a:lnTo>
                    <a:lnTo>
                      <a:pt x="2472" y="198"/>
                    </a:lnTo>
                    <a:lnTo>
                      <a:pt x="2479" y="182"/>
                    </a:lnTo>
                    <a:lnTo>
                      <a:pt x="2487" y="166"/>
                    </a:lnTo>
                    <a:lnTo>
                      <a:pt x="2493" y="151"/>
                    </a:lnTo>
                    <a:lnTo>
                      <a:pt x="2495" y="135"/>
                    </a:lnTo>
                    <a:lnTo>
                      <a:pt x="2498" y="118"/>
                    </a:lnTo>
                    <a:lnTo>
                      <a:pt x="2499" y="99"/>
                    </a:lnTo>
                    <a:lnTo>
                      <a:pt x="2499" y="79"/>
                    </a:lnTo>
                    <a:lnTo>
                      <a:pt x="2530" y="74"/>
                    </a:lnTo>
                    <a:lnTo>
                      <a:pt x="2551" y="83"/>
                    </a:lnTo>
                    <a:lnTo>
                      <a:pt x="2561" y="86"/>
                    </a:lnTo>
                    <a:lnTo>
                      <a:pt x="2573" y="89"/>
                    </a:lnTo>
                    <a:lnTo>
                      <a:pt x="2573" y="58"/>
                    </a:lnTo>
                    <a:lnTo>
                      <a:pt x="2573" y="42"/>
                    </a:lnTo>
                    <a:lnTo>
                      <a:pt x="2572" y="28"/>
                    </a:lnTo>
                    <a:lnTo>
                      <a:pt x="2569" y="13"/>
                    </a:lnTo>
                    <a:lnTo>
                      <a:pt x="2567" y="0"/>
                    </a:lnTo>
                    <a:lnTo>
                      <a:pt x="2602" y="0"/>
                    </a:lnTo>
                    <a:lnTo>
                      <a:pt x="2610" y="0"/>
                    </a:lnTo>
                    <a:lnTo>
                      <a:pt x="2617" y="2"/>
                    </a:lnTo>
                    <a:lnTo>
                      <a:pt x="2623" y="3"/>
                    </a:lnTo>
                    <a:lnTo>
                      <a:pt x="2630" y="6"/>
                    </a:lnTo>
                    <a:lnTo>
                      <a:pt x="2635" y="8"/>
                    </a:lnTo>
                    <a:lnTo>
                      <a:pt x="2642" y="11"/>
                    </a:lnTo>
                    <a:lnTo>
                      <a:pt x="2647" y="15"/>
                    </a:lnTo>
                    <a:lnTo>
                      <a:pt x="2652" y="19"/>
                    </a:lnTo>
                    <a:lnTo>
                      <a:pt x="2661" y="28"/>
                    </a:lnTo>
                    <a:lnTo>
                      <a:pt x="2671" y="38"/>
                    </a:lnTo>
                    <a:lnTo>
                      <a:pt x="2679" y="50"/>
                    </a:lnTo>
                    <a:lnTo>
                      <a:pt x="2687" y="61"/>
                    </a:lnTo>
                    <a:lnTo>
                      <a:pt x="2696" y="73"/>
                    </a:lnTo>
                    <a:lnTo>
                      <a:pt x="2704" y="85"/>
                    </a:lnTo>
                    <a:lnTo>
                      <a:pt x="2713" y="94"/>
                    </a:lnTo>
                    <a:lnTo>
                      <a:pt x="2717" y="99"/>
                    </a:lnTo>
                    <a:lnTo>
                      <a:pt x="2722" y="104"/>
                    </a:lnTo>
                    <a:lnTo>
                      <a:pt x="2727" y="108"/>
                    </a:lnTo>
                    <a:lnTo>
                      <a:pt x="2733" y="111"/>
                    </a:lnTo>
                    <a:lnTo>
                      <a:pt x="2738" y="115"/>
                    </a:lnTo>
                    <a:lnTo>
                      <a:pt x="2745" y="118"/>
                    </a:lnTo>
                    <a:lnTo>
                      <a:pt x="2751" y="120"/>
                    </a:lnTo>
                    <a:lnTo>
                      <a:pt x="2758" y="122"/>
                    </a:lnTo>
                    <a:lnTo>
                      <a:pt x="2764" y="123"/>
                    </a:lnTo>
                    <a:lnTo>
                      <a:pt x="2772" y="123"/>
                    </a:lnTo>
                    <a:lnTo>
                      <a:pt x="2778" y="123"/>
                    </a:lnTo>
                    <a:lnTo>
                      <a:pt x="2781" y="120"/>
                    </a:lnTo>
                    <a:lnTo>
                      <a:pt x="2785" y="118"/>
                    </a:lnTo>
                    <a:lnTo>
                      <a:pt x="2789" y="114"/>
                    </a:lnTo>
                    <a:lnTo>
                      <a:pt x="2793" y="111"/>
                    </a:lnTo>
                    <a:lnTo>
                      <a:pt x="2799" y="108"/>
                    </a:lnTo>
                    <a:lnTo>
                      <a:pt x="2803" y="106"/>
                    </a:lnTo>
                    <a:lnTo>
                      <a:pt x="2808" y="106"/>
                    </a:lnTo>
                    <a:lnTo>
                      <a:pt x="2817" y="106"/>
                    </a:lnTo>
                    <a:lnTo>
                      <a:pt x="2825" y="108"/>
                    </a:lnTo>
                    <a:lnTo>
                      <a:pt x="2829" y="110"/>
                    </a:lnTo>
                    <a:lnTo>
                      <a:pt x="2832" y="111"/>
                    </a:lnTo>
                    <a:lnTo>
                      <a:pt x="2838" y="115"/>
                    </a:lnTo>
                    <a:lnTo>
                      <a:pt x="2845" y="119"/>
                    </a:lnTo>
                    <a:lnTo>
                      <a:pt x="2851" y="124"/>
                    </a:lnTo>
                    <a:lnTo>
                      <a:pt x="2863" y="135"/>
                    </a:lnTo>
                    <a:lnTo>
                      <a:pt x="2874" y="145"/>
                    </a:lnTo>
                    <a:lnTo>
                      <a:pt x="2880" y="151"/>
                    </a:lnTo>
                    <a:lnTo>
                      <a:pt x="2887" y="155"/>
                    </a:lnTo>
                    <a:lnTo>
                      <a:pt x="2894" y="158"/>
                    </a:lnTo>
                    <a:lnTo>
                      <a:pt x="2901" y="161"/>
                    </a:lnTo>
                    <a:lnTo>
                      <a:pt x="2908" y="162"/>
                    </a:lnTo>
                    <a:lnTo>
                      <a:pt x="2917" y="164"/>
                    </a:lnTo>
                    <a:lnTo>
                      <a:pt x="2924" y="162"/>
                    </a:lnTo>
                    <a:lnTo>
                      <a:pt x="2929" y="161"/>
                    </a:lnTo>
                    <a:lnTo>
                      <a:pt x="2934" y="158"/>
                    </a:lnTo>
                    <a:lnTo>
                      <a:pt x="2940" y="156"/>
                    </a:lnTo>
                    <a:lnTo>
                      <a:pt x="2944" y="152"/>
                    </a:lnTo>
                    <a:lnTo>
                      <a:pt x="2948" y="148"/>
                    </a:lnTo>
                    <a:lnTo>
                      <a:pt x="2956" y="139"/>
                    </a:lnTo>
                    <a:lnTo>
                      <a:pt x="2963" y="129"/>
                    </a:lnTo>
                    <a:lnTo>
                      <a:pt x="2969" y="126"/>
                    </a:lnTo>
                    <a:lnTo>
                      <a:pt x="2973" y="122"/>
                    </a:lnTo>
                    <a:lnTo>
                      <a:pt x="2978" y="118"/>
                    </a:lnTo>
                    <a:lnTo>
                      <a:pt x="2983" y="116"/>
                    </a:lnTo>
                    <a:lnTo>
                      <a:pt x="2989" y="114"/>
                    </a:lnTo>
                    <a:lnTo>
                      <a:pt x="2995" y="114"/>
                    </a:lnTo>
                    <a:lnTo>
                      <a:pt x="3000" y="114"/>
                    </a:lnTo>
                    <a:lnTo>
                      <a:pt x="3006" y="115"/>
                    </a:lnTo>
                    <a:lnTo>
                      <a:pt x="3011" y="118"/>
                    </a:lnTo>
                    <a:lnTo>
                      <a:pt x="3015" y="120"/>
                    </a:lnTo>
                    <a:lnTo>
                      <a:pt x="3018" y="124"/>
                    </a:lnTo>
                    <a:lnTo>
                      <a:pt x="3021" y="128"/>
                    </a:lnTo>
                    <a:lnTo>
                      <a:pt x="3027" y="137"/>
                    </a:lnTo>
                    <a:lnTo>
                      <a:pt x="3031" y="149"/>
                    </a:lnTo>
                    <a:lnTo>
                      <a:pt x="3035" y="160"/>
                    </a:lnTo>
                    <a:lnTo>
                      <a:pt x="3040" y="172"/>
                    </a:lnTo>
                    <a:lnTo>
                      <a:pt x="3047" y="182"/>
                    </a:lnTo>
                    <a:lnTo>
                      <a:pt x="3053" y="191"/>
                    </a:lnTo>
                    <a:lnTo>
                      <a:pt x="3060" y="201"/>
                    </a:lnTo>
                    <a:lnTo>
                      <a:pt x="3064" y="210"/>
                    </a:lnTo>
                    <a:lnTo>
                      <a:pt x="3069" y="219"/>
                    </a:lnTo>
                    <a:lnTo>
                      <a:pt x="3072" y="228"/>
                    </a:lnTo>
                    <a:lnTo>
                      <a:pt x="3074" y="239"/>
                    </a:lnTo>
                    <a:lnTo>
                      <a:pt x="3076" y="249"/>
                    </a:lnTo>
                    <a:lnTo>
                      <a:pt x="3076" y="261"/>
                    </a:lnTo>
                    <a:lnTo>
                      <a:pt x="3111" y="261"/>
                    </a:lnTo>
                    <a:lnTo>
                      <a:pt x="3115" y="261"/>
                    </a:lnTo>
                    <a:lnTo>
                      <a:pt x="3119" y="260"/>
                    </a:lnTo>
                    <a:lnTo>
                      <a:pt x="3122" y="257"/>
                    </a:lnTo>
                    <a:lnTo>
                      <a:pt x="3123" y="256"/>
                    </a:lnTo>
                    <a:lnTo>
                      <a:pt x="3127" y="249"/>
                    </a:lnTo>
                    <a:lnTo>
                      <a:pt x="3128" y="246"/>
                    </a:lnTo>
                    <a:lnTo>
                      <a:pt x="3128" y="243"/>
                    </a:lnTo>
                    <a:lnTo>
                      <a:pt x="3130" y="234"/>
                    </a:lnTo>
                    <a:lnTo>
                      <a:pt x="3131" y="224"/>
                    </a:lnTo>
                    <a:lnTo>
                      <a:pt x="3132" y="215"/>
                    </a:lnTo>
                    <a:lnTo>
                      <a:pt x="3134" y="207"/>
                    </a:lnTo>
                    <a:lnTo>
                      <a:pt x="3139" y="191"/>
                    </a:lnTo>
                    <a:lnTo>
                      <a:pt x="3143" y="185"/>
                    </a:lnTo>
                    <a:lnTo>
                      <a:pt x="3147" y="178"/>
                    </a:lnTo>
                    <a:lnTo>
                      <a:pt x="3151" y="172"/>
                    </a:lnTo>
                    <a:lnTo>
                      <a:pt x="3155" y="165"/>
                    </a:lnTo>
                    <a:lnTo>
                      <a:pt x="3160" y="160"/>
                    </a:lnTo>
                    <a:lnTo>
                      <a:pt x="3165" y="155"/>
                    </a:lnTo>
                    <a:lnTo>
                      <a:pt x="3171" y="151"/>
                    </a:lnTo>
                    <a:lnTo>
                      <a:pt x="3177" y="145"/>
                    </a:lnTo>
                    <a:lnTo>
                      <a:pt x="3184" y="143"/>
                    </a:lnTo>
                    <a:lnTo>
                      <a:pt x="3190" y="139"/>
                    </a:lnTo>
                    <a:lnTo>
                      <a:pt x="3197" y="137"/>
                    </a:lnTo>
                    <a:lnTo>
                      <a:pt x="3205" y="135"/>
                    </a:lnTo>
                    <a:lnTo>
                      <a:pt x="3213" y="135"/>
                    </a:lnTo>
                    <a:lnTo>
                      <a:pt x="3221" y="133"/>
                    </a:lnTo>
                    <a:lnTo>
                      <a:pt x="3254" y="135"/>
                    </a:lnTo>
                    <a:lnTo>
                      <a:pt x="3268" y="135"/>
                    </a:lnTo>
                    <a:lnTo>
                      <a:pt x="3283" y="136"/>
                    </a:lnTo>
                    <a:lnTo>
                      <a:pt x="3296" y="139"/>
                    </a:lnTo>
                    <a:lnTo>
                      <a:pt x="3310" y="143"/>
                    </a:lnTo>
                    <a:lnTo>
                      <a:pt x="3325" y="147"/>
                    </a:lnTo>
                    <a:lnTo>
                      <a:pt x="3341" y="153"/>
                    </a:lnTo>
                    <a:lnTo>
                      <a:pt x="3346" y="155"/>
                    </a:lnTo>
                    <a:lnTo>
                      <a:pt x="3350" y="157"/>
                    </a:lnTo>
                    <a:lnTo>
                      <a:pt x="3358" y="164"/>
                    </a:lnTo>
                    <a:lnTo>
                      <a:pt x="3366" y="170"/>
                    </a:lnTo>
                    <a:lnTo>
                      <a:pt x="3372" y="177"/>
                    </a:lnTo>
                    <a:lnTo>
                      <a:pt x="3380" y="184"/>
                    </a:lnTo>
                    <a:lnTo>
                      <a:pt x="3384" y="186"/>
                    </a:lnTo>
                    <a:lnTo>
                      <a:pt x="3388" y="189"/>
                    </a:lnTo>
                    <a:lnTo>
                      <a:pt x="3392" y="190"/>
                    </a:lnTo>
                    <a:lnTo>
                      <a:pt x="3396" y="191"/>
                    </a:lnTo>
                    <a:lnTo>
                      <a:pt x="3401" y="193"/>
                    </a:lnTo>
                    <a:lnTo>
                      <a:pt x="3407" y="193"/>
                    </a:lnTo>
                    <a:lnTo>
                      <a:pt x="3411" y="193"/>
                    </a:lnTo>
                    <a:lnTo>
                      <a:pt x="3413" y="191"/>
                    </a:lnTo>
                    <a:lnTo>
                      <a:pt x="3416" y="190"/>
                    </a:lnTo>
                    <a:lnTo>
                      <a:pt x="3418" y="188"/>
                    </a:lnTo>
                    <a:lnTo>
                      <a:pt x="3420" y="184"/>
                    </a:lnTo>
                    <a:lnTo>
                      <a:pt x="3421" y="181"/>
                    </a:lnTo>
                    <a:lnTo>
                      <a:pt x="3422" y="173"/>
                    </a:lnTo>
                    <a:lnTo>
                      <a:pt x="3453" y="185"/>
                    </a:lnTo>
                    <a:lnTo>
                      <a:pt x="3451" y="193"/>
                    </a:lnTo>
                    <a:lnTo>
                      <a:pt x="3449" y="201"/>
                    </a:lnTo>
                    <a:lnTo>
                      <a:pt x="3444" y="215"/>
                    </a:lnTo>
                    <a:lnTo>
                      <a:pt x="3437" y="228"/>
                    </a:lnTo>
                    <a:lnTo>
                      <a:pt x="3430" y="240"/>
                    </a:lnTo>
                    <a:lnTo>
                      <a:pt x="3421" y="252"/>
                    </a:lnTo>
                    <a:lnTo>
                      <a:pt x="3413" y="264"/>
                    </a:lnTo>
                    <a:lnTo>
                      <a:pt x="3403" y="275"/>
                    </a:lnTo>
                    <a:lnTo>
                      <a:pt x="3393" y="284"/>
                    </a:lnTo>
                    <a:lnTo>
                      <a:pt x="3374" y="304"/>
                    </a:lnTo>
                    <a:lnTo>
                      <a:pt x="3364" y="314"/>
                    </a:lnTo>
                    <a:lnTo>
                      <a:pt x="3355" y="325"/>
                    </a:lnTo>
                    <a:lnTo>
                      <a:pt x="3347" y="335"/>
                    </a:lnTo>
                    <a:lnTo>
                      <a:pt x="3339" y="347"/>
                    </a:lnTo>
                    <a:lnTo>
                      <a:pt x="3333" y="359"/>
                    </a:lnTo>
                    <a:lnTo>
                      <a:pt x="3329" y="372"/>
                    </a:lnTo>
                    <a:lnTo>
                      <a:pt x="3248" y="428"/>
                    </a:lnTo>
                    <a:lnTo>
                      <a:pt x="3333" y="567"/>
                    </a:lnTo>
                    <a:lnTo>
                      <a:pt x="3356" y="544"/>
                    </a:lnTo>
                    <a:lnTo>
                      <a:pt x="3359" y="540"/>
                    </a:lnTo>
                    <a:lnTo>
                      <a:pt x="3363" y="546"/>
                    </a:lnTo>
                    <a:lnTo>
                      <a:pt x="3367" y="551"/>
                    </a:lnTo>
                    <a:lnTo>
                      <a:pt x="3372" y="558"/>
                    </a:lnTo>
                    <a:lnTo>
                      <a:pt x="3378" y="563"/>
                    </a:lnTo>
                    <a:lnTo>
                      <a:pt x="3355" y="586"/>
                    </a:lnTo>
                    <a:lnTo>
                      <a:pt x="3385" y="624"/>
                    </a:lnTo>
                    <a:lnTo>
                      <a:pt x="3436" y="595"/>
                    </a:lnTo>
                    <a:lnTo>
                      <a:pt x="3449" y="598"/>
                    </a:lnTo>
                    <a:lnTo>
                      <a:pt x="3484" y="631"/>
                    </a:lnTo>
                    <a:lnTo>
                      <a:pt x="3535" y="583"/>
                    </a:lnTo>
                    <a:lnTo>
                      <a:pt x="3537" y="582"/>
                    </a:lnTo>
                    <a:lnTo>
                      <a:pt x="3540" y="582"/>
                    </a:lnTo>
                    <a:lnTo>
                      <a:pt x="3545" y="583"/>
                    </a:lnTo>
                    <a:lnTo>
                      <a:pt x="3550" y="584"/>
                    </a:lnTo>
                    <a:lnTo>
                      <a:pt x="3553" y="586"/>
                    </a:lnTo>
                    <a:lnTo>
                      <a:pt x="3557" y="586"/>
                    </a:lnTo>
                    <a:lnTo>
                      <a:pt x="3544" y="611"/>
                    </a:lnTo>
                    <a:lnTo>
                      <a:pt x="3528" y="639"/>
                    </a:lnTo>
                    <a:lnTo>
                      <a:pt x="3512" y="666"/>
                    </a:lnTo>
                    <a:lnTo>
                      <a:pt x="3494" y="695"/>
                    </a:lnTo>
                    <a:lnTo>
                      <a:pt x="3455" y="756"/>
                    </a:lnTo>
                    <a:lnTo>
                      <a:pt x="3413" y="818"/>
                    </a:lnTo>
                    <a:lnTo>
                      <a:pt x="3368" y="881"/>
                    </a:lnTo>
                    <a:lnTo>
                      <a:pt x="3322" y="944"/>
                    </a:lnTo>
                    <a:lnTo>
                      <a:pt x="3276" y="1008"/>
                    </a:lnTo>
                    <a:lnTo>
                      <a:pt x="3230" y="1068"/>
                    </a:lnTo>
                    <a:lnTo>
                      <a:pt x="3186" y="1125"/>
                    </a:lnTo>
                    <a:lnTo>
                      <a:pt x="3144" y="1179"/>
                    </a:lnTo>
                    <a:lnTo>
                      <a:pt x="3107" y="1227"/>
                    </a:lnTo>
                    <a:lnTo>
                      <a:pt x="3074" y="1268"/>
                    </a:lnTo>
                    <a:lnTo>
                      <a:pt x="3025" y="1328"/>
                    </a:lnTo>
                    <a:lnTo>
                      <a:pt x="3007" y="1349"/>
                    </a:lnTo>
                    <a:lnTo>
                      <a:pt x="3225" y="1468"/>
                    </a:lnTo>
                    <a:lnTo>
                      <a:pt x="3408" y="1246"/>
                    </a:lnTo>
                    <a:lnTo>
                      <a:pt x="3432" y="1261"/>
                    </a:lnTo>
                    <a:lnTo>
                      <a:pt x="3438" y="1273"/>
                    </a:lnTo>
                    <a:lnTo>
                      <a:pt x="3438" y="1337"/>
                    </a:lnTo>
                    <a:lnTo>
                      <a:pt x="3437" y="1351"/>
                    </a:lnTo>
                    <a:lnTo>
                      <a:pt x="3437" y="1357"/>
                    </a:lnTo>
                    <a:lnTo>
                      <a:pt x="3436" y="1363"/>
                    </a:lnTo>
                    <a:lnTo>
                      <a:pt x="3429" y="1385"/>
                    </a:lnTo>
                    <a:lnTo>
                      <a:pt x="3426" y="1395"/>
                    </a:lnTo>
                    <a:lnTo>
                      <a:pt x="3424" y="1407"/>
                    </a:lnTo>
                    <a:lnTo>
                      <a:pt x="3422" y="1419"/>
                    </a:lnTo>
                    <a:lnTo>
                      <a:pt x="3421" y="1432"/>
                    </a:lnTo>
                    <a:lnTo>
                      <a:pt x="3421" y="1439"/>
                    </a:lnTo>
                    <a:lnTo>
                      <a:pt x="3424" y="1446"/>
                    </a:lnTo>
                    <a:lnTo>
                      <a:pt x="3428" y="1457"/>
                    </a:lnTo>
                    <a:lnTo>
                      <a:pt x="3433" y="1469"/>
                    </a:lnTo>
                    <a:lnTo>
                      <a:pt x="3434" y="1476"/>
                    </a:lnTo>
                    <a:lnTo>
                      <a:pt x="3434" y="1484"/>
                    </a:lnTo>
                    <a:lnTo>
                      <a:pt x="3434" y="1489"/>
                    </a:lnTo>
                    <a:lnTo>
                      <a:pt x="3433" y="1494"/>
                    </a:lnTo>
                    <a:lnTo>
                      <a:pt x="3430" y="1500"/>
                    </a:lnTo>
                    <a:lnTo>
                      <a:pt x="3428" y="1504"/>
                    </a:lnTo>
                    <a:lnTo>
                      <a:pt x="3424" y="1508"/>
                    </a:lnTo>
                    <a:lnTo>
                      <a:pt x="3420" y="1512"/>
                    </a:lnTo>
                    <a:lnTo>
                      <a:pt x="3412" y="1519"/>
                    </a:lnTo>
                    <a:lnTo>
                      <a:pt x="3404" y="1526"/>
                    </a:lnTo>
                    <a:lnTo>
                      <a:pt x="3400" y="1530"/>
                    </a:lnTo>
                    <a:lnTo>
                      <a:pt x="3396" y="1534"/>
                    </a:lnTo>
                    <a:lnTo>
                      <a:pt x="3393" y="1539"/>
                    </a:lnTo>
                    <a:lnTo>
                      <a:pt x="3391" y="1543"/>
                    </a:lnTo>
                    <a:lnTo>
                      <a:pt x="3389" y="1548"/>
                    </a:lnTo>
                    <a:lnTo>
                      <a:pt x="3389" y="1555"/>
                    </a:lnTo>
                    <a:lnTo>
                      <a:pt x="3388" y="1567"/>
                    </a:lnTo>
                    <a:lnTo>
                      <a:pt x="3387" y="1577"/>
                    </a:lnTo>
                    <a:lnTo>
                      <a:pt x="3382" y="1597"/>
                    </a:lnTo>
                    <a:lnTo>
                      <a:pt x="3375" y="1617"/>
                    </a:lnTo>
                    <a:lnTo>
                      <a:pt x="3372" y="1628"/>
                    </a:lnTo>
                    <a:lnTo>
                      <a:pt x="3370" y="1639"/>
                    </a:lnTo>
                    <a:lnTo>
                      <a:pt x="3321" y="1639"/>
                    </a:lnTo>
                    <a:lnTo>
                      <a:pt x="3310" y="1639"/>
                    </a:lnTo>
                    <a:lnTo>
                      <a:pt x="3301" y="1638"/>
                    </a:lnTo>
                    <a:lnTo>
                      <a:pt x="3291" y="1637"/>
                    </a:lnTo>
                    <a:lnTo>
                      <a:pt x="3283" y="1635"/>
                    </a:lnTo>
                    <a:lnTo>
                      <a:pt x="3264" y="1632"/>
                    </a:lnTo>
                    <a:lnTo>
                      <a:pt x="3248" y="1626"/>
                    </a:lnTo>
                    <a:lnTo>
                      <a:pt x="3231" y="1622"/>
                    </a:lnTo>
                    <a:lnTo>
                      <a:pt x="3222" y="1620"/>
                    </a:lnTo>
                    <a:lnTo>
                      <a:pt x="3214" y="1617"/>
                    </a:lnTo>
                    <a:lnTo>
                      <a:pt x="3205" y="1616"/>
                    </a:lnTo>
                    <a:lnTo>
                      <a:pt x="3196" y="1614"/>
                    </a:lnTo>
                    <a:lnTo>
                      <a:pt x="3185" y="1614"/>
                    </a:lnTo>
                    <a:lnTo>
                      <a:pt x="3174" y="1613"/>
                    </a:lnTo>
                    <a:lnTo>
                      <a:pt x="3169" y="1614"/>
                    </a:lnTo>
                    <a:lnTo>
                      <a:pt x="3164" y="1616"/>
                    </a:lnTo>
                    <a:lnTo>
                      <a:pt x="3160" y="1618"/>
                    </a:lnTo>
                    <a:lnTo>
                      <a:pt x="3156" y="1621"/>
                    </a:lnTo>
                    <a:lnTo>
                      <a:pt x="3153" y="1625"/>
                    </a:lnTo>
                    <a:lnTo>
                      <a:pt x="3151" y="1629"/>
                    </a:lnTo>
                    <a:lnTo>
                      <a:pt x="3145" y="1639"/>
                    </a:lnTo>
                    <a:lnTo>
                      <a:pt x="3138" y="1662"/>
                    </a:lnTo>
                    <a:lnTo>
                      <a:pt x="3136" y="1667"/>
                    </a:lnTo>
                    <a:lnTo>
                      <a:pt x="3134" y="1672"/>
                    </a:lnTo>
                    <a:lnTo>
                      <a:pt x="3130" y="1678"/>
                    </a:lnTo>
                    <a:lnTo>
                      <a:pt x="3127" y="1682"/>
                    </a:lnTo>
                    <a:lnTo>
                      <a:pt x="3127" y="1721"/>
                    </a:lnTo>
                    <a:lnTo>
                      <a:pt x="3151" y="1720"/>
                    </a:lnTo>
                    <a:lnTo>
                      <a:pt x="3172" y="1719"/>
                    </a:lnTo>
                    <a:lnTo>
                      <a:pt x="3182" y="1719"/>
                    </a:lnTo>
                    <a:lnTo>
                      <a:pt x="3193" y="1719"/>
                    </a:lnTo>
                    <a:lnTo>
                      <a:pt x="3205" y="1719"/>
                    </a:lnTo>
                    <a:lnTo>
                      <a:pt x="3217" y="1721"/>
                    </a:lnTo>
                    <a:lnTo>
                      <a:pt x="3217" y="1748"/>
                    </a:lnTo>
                    <a:lnTo>
                      <a:pt x="3213" y="1757"/>
                    </a:lnTo>
                    <a:lnTo>
                      <a:pt x="3211" y="1762"/>
                    </a:lnTo>
                    <a:lnTo>
                      <a:pt x="3210" y="1767"/>
                    </a:lnTo>
                    <a:lnTo>
                      <a:pt x="3211" y="1775"/>
                    </a:lnTo>
                    <a:lnTo>
                      <a:pt x="3214" y="1782"/>
                    </a:lnTo>
                    <a:lnTo>
                      <a:pt x="3215" y="1786"/>
                    </a:lnTo>
                    <a:lnTo>
                      <a:pt x="3218" y="1788"/>
                    </a:lnTo>
                    <a:lnTo>
                      <a:pt x="3223" y="1794"/>
                    </a:lnTo>
                    <a:lnTo>
                      <a:pt x="3229" y="1799"/>
                    </a:lnTo>
                    <a:lnTo>
                      <a:pt x="3235" y="1802"/>
                    </a:lnTo>
                    <a:lnTo>
                      <a:pt x="3243" y="1804"/>
                    </a:lnTo>
                    <a:lnTo>
                      <a:pt x="3247" y="1806"/>
                    </a:lnTo>
                    <a:lnTo>
                      <a:pt x="3251" y="1806"/>
                    </a:lnTo>
                    <a:lnTo>
                      <a:pt x="3255" y="1804"/>
                    </a:lnTo>
                    <a:lnTo>
                      <a:pt x="3258" y="1804"/>
                    </a:lnTo>
                    <a:lnTo>
                      <a:pt x="3260" y="1803"/>
                    </a:lnTo>
                    <a:lnTo>
                      <a:pt x="3263" y="1800"/>
                    </a:lnTo>
                    <a:lnTo>
                      <a:pt x="3265" y="1798"/>
                    </a:lnTo>
                    <a:lnTo>
                      <a:pt x="3267" y="1795"/>
                    </a:lnTo>
                    <a:lnTo>
                      <a:pt x="3269" y="1788"/>
                    </a:lnTo>
                    <a:lnTo>
                      <a:pt x="3272" y="1782"/>
                    </a:lnTo>
                    <a:lnTo>
                      <a:pt x="3273" y="1774"/>
                    </a:lnTo>
                    <a:lnTo>
                      <a:pt x="3276" y="1757"/>
                    </a:lnTo>
                    <a:lnTo>
                      <a:pt x="3279" y="1758"/>
                    </a:lnTo>
                    <a:lnTo>
                      <a:pt x="3281" y="1759"/>
                    </a:lnTo>
                    <a:lnTo>
                      <a:pt x="3285" y="1763"/>
                    </a:lnTo>
                    <a:lnTo>
                      <a:pt x="3288" y="1769"/>
                    </a:lnTo>
                    <a:lnTo>
                      <a:pt x="3289" y="1774"/>
                    </a:lnTo>
                    <a:lnTo>
                      <a:pt x="3293" y="1785"/>
                    </a:lnTo>
                    <a:lnTo>
                      <a:pt x="3294" y="1791"/>
                    </a:lnTo>
                    <a:lnTo>
                      <a:pt x="3298" y="1795"/>
                    </a:lnTo>
                    <a:lnTo>
                      <a:pt x="3300" y="1798"/>
                    </a:lnTo>
                    <a:lnTo>
                      <a:pt x="3302" y="1799"/>
                    </a:lnTo>
                    <a:lnTo>
                      <a:pt x="3305" y="1800"/>
                    </a:lnTo>
                    <a:lnTo>
                      <a:pt x="3308" y="1800"/>
                    </a:lnTo>
                    <a:lnTo>
                      <a:pt x="3313" y="1800"/>
                    </a:lnTo>
                    <a:lnTo>
                      <a:pt x="3320" y="1799"/>
                    </a:lnTo>
                    <a:lnTo>
                      <a:pt x="3326" y="1798"/>
                    </a:lnTo>
                    <a:lnTo>
                      <a:pt x="3333" y="1796"/>
                    </a:lnTo>
                    <a:lnTo>
                      <a:pt x="3338" y="1796"/>
                    </a:lnTo>
                    <a:lnTo>
                      <a:pt x="3345" y="1799"/>
                    </a:lnTo>
                    <a:lnTo>
                      <a:pt x="3350" y="1803"/>
                    </a:lnTo>
                    <a:lnTo>
                      <a:pt x="3353" y="1806"/>
                    </a:lnTo>
                    <a:lnTo>
                      <a:pt x="3354" y="1808"/>
                    </a:lnTo>
                    <a:lnTo>
                      <a:pt x="3356" y="1815"/>
                    </a:lnTo>
                    <a:lnTo>
                      <a:pt x="3359" y="1821"/>
                    </a:lnTo>
                    <a:lnTo>
                      <a:pt x="3363" y="1835"/>
                    </a:lnTo>
                    <a:lnTo>
                      <a:pt x="3364" y="1839"/>
                    </a:lnTo>
                    <a:lnTo>
                      <a:pt x="3366" y="1841"/>
                    </a:lnTo>
                    <a:lnTo>
                      <a:pt x="3370" y="1848"/>
                    </a:lnTo>
                    <a:lnTo>
                      <a:pt x="3376" y="1840"/>
                    </a:lnTo>
                    <a:lnTo>
                      <a:pt x="3384" y="1832"/>
                    </a:lnTo>
                    <a:lnTo>
                      <a:pt x="3391" y="1825"/>
                    </a:lnTo>
                    <a:lnTo>
                      <a:pt x="3399" y="1819"/>
                    </a:lnTo>
                    <a:lnTo>
                      <a:pt x="3407" y="1827"/>
                    </a:lnTo>
                    <a:lnTo>
                      <a:pt x="3414" y="1835"/>
                    </a:lnTo>
                    <a:lnTo>
                      <a:pt x="3429" y="1848"/>
                    </a:lnTo>
                    <a:lnTo>
                      <a:pt x="3436" y="1853"/>
                    </a:lnTo>
                    <a:lnTo>
                      <a:pt x="3442" y="1860"/>
                    </a:lnTo>
                    <a:lnTo>
                      <a:pt x="3450" y="1868"/>
                    </a:lnTo>
                    <a:lnTo>
                      <a:pt x="3457" y="1877"/>
                    </a:lnTo>
                    <a:lnTo>
                      <a:pt x="3449" y="1882"/>
                    </a:lnTo>
                    <a:lnTo>
                      <a:pt x="3444" y="1885"/>
                    </a:lnTo>
                    <a:lnTo>
                      <a:pt x="3440" y="1887"/>
                    </a:lnTo>
                    <a:lnTo>
                      <a:pt x="3430" y="1890"/>
                    </a:lnTo>
                    <a:lnTo>
                      <a:pt x="3421" y="1893"/>
                    </a:lnTo>
                    <a:lnTo>
                      <a:pt x="3412" y="1894"/>
                    </a:lnTo>
                    <a:lnTo>
                      <a:pt x="3401" y="1894"/>
                    </a:lnTo>
                    <a:lnTo>
                      <a:pt x="3380" y="1894"/>
                    </a:lnTo>
                    <a:lnTo>
                      <a:pt x="3372" y="1894"/>
                    </a:lnTo>
                    <a:lnTo>
                      <a:pt x="3364" y="1893"/>
                    </a:lnTo>
                    <a:lnTo>
                      <a:pt x="3358" y="1890"/>
                    </a:lnTo>
                    <a:lnTo>
                      <a:pt x="3351" y="1889"/>
                    </a:lnTo>
                    <a:lnTo>
                      <a:pt x="3338" y="1885"/>
                    </a:lnTo>
                    <a:lnTo>
                      <a:pt x="3330" y="1883"/>
                    </a:lnTo>
                    <a:lnTo>
                      <a:pt x="3322" y="1882"/>
                    </a:lnTo>
                    <a:lnTo>
                      <a:pt x="3318" y="1883"/>
                    </a:lnTo>
                    <a:lnTo>
                      <a:pt x="3316" y="1883"/>
                    </a:lnTo>
                    <a:lnTo>
                      <a:pt x="3313" y="1886"/>
                    </a:lnTo>
                    <a:lnTo>
                      <a:pt x="3310" y="1887"/>
                    </a:lnTo>
                    <a:lnTo>
                      <a:pt x="3308" y="1890"/>
                    </a:lnTo>
                    <a:lnTo>
                      <a:pt x="3306" y="1894"/>
                    </a:lnTo>
                    <a:lnTo>
                      <a:pt x="3305" y="1897"/>
                    </a:lnTo>
                    <a:lnTo>
                      <a:pt x="3305" y="1901"/>
                    </a:lnTo>
                    <a:lnTo>
                      <a:pt x="3305" y="1905"/>
                    </a:lnTo>
                    <a:lnTo>
                      <a:pt x="3305" y="1907"/>
                    </a:lnTo>
                    <a:lnTo>
                      <a:pt x="3308" y="1914"/>
                    </a:lnTo>
                    <a:lnTo>
                      <a:pt x="3310" y="1919"/>
                    </a:lnTo>
                    <a:lnTo>
                      <a:pt x="3314" y="1926"/>
                    </a:lnTo>
                    <a:lnTo>
                      <a:pt x="3310" y="1935"/>
                    </a:lnTo>
                    <a:lnTo>
                      <a:pt x="3172" y="1935"/>
                    </a:lnTo>
                    <a:lnTo>
                      <a:pt x="3168" y="195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137360" y="4594320"/>
                <a:ext cx="714240" cy="851040"/>
              </a:xfrm>
              <a:custGeom>
                <a:avLst/>
                <a:gdLst/>
                <a:ahLst/>
                <a:rect l="l" t="t" r="r" b="b"/>
                <a:pathLst>
                  <a:path w="1388" h="1650">
                    <a:moveTo>
                      <a:pt x="31" y="1337"/>
                    </a:moveTo>
                    <a:lnTo>
                      <a:pt x="14" y="1325"/>
                    </a:lnTo>
                    <a:lnTo>
                      <a:pt x="26" y="1307"/>
                    </a:lnTo>
                    <a:lnTo>
                      <a:pt x="38" y="1288"/>
                    </a:lnTo>
                    <a:lnTo>
                      <a:pt x="47" y="1270"/>
                    </a:lnTo>
                    <a:lnTo>
                      <a:pt x="56" y="1252"/>
                    </a:lnTo>
                    <a:lnTo>
                      <a:pt x="64" y="1233"/>
                    </a:lnTo>
                    <a:lnTo>
                      <a:pt x="72" y="1213"/>
                    </a:lnTo>
                    <a:lnTo>
                      <a:pt x="79" y="1195"/>
                    </a:lnTo>
                    <a:lnTo>
                      <a:pt x="84" y="1176"/>
                    </a:lnTo>
                    <a:lnTo>
                      <a:pt x="89" y="1157"/>
                    </a:lnTo>
                    <a:lnTo>
                      <a:pt x="95" y="1137"/>
                    </a:lnTo>
                    <a:lnTo>
                      <a:pt x="99" y="1117"/>
                    </a:lnTo>
                    <a:lnTo>
                      <a:pt x="102" y="1096"/>
                    </a:lnTo>
                    <a:lnTo>
                      <a:pt x="106" y="1075"/>
                    </a:lnTo>
                    <a:lnTo>
                      <a:pt x="109" y="1054"/>
                    </a:lnTo>
                    <a:lnTo>
                      <a:pt x="114" y="1010"/>
                    </a:lnTo>
                    <a:lnTo>
                      <a:pt x="120" y="1010"/>
                    </a:lnTo>
                    <a:lnTo>
                      <a:pt x="121" y="1010"/>
                    </a:lnTo>
                    <a:lnTo>
                      <a:pt x="122" y="1012"/>
                    </a:lnTo>
                    <a:lnTo>
                      <a:pt x="130" y="1013"/>
                    </a:lnTo>
                    <a:lnTo>
                      <a:pt x="153" y="1013"/>
                    </a:lnTo>
                    <a:lnTo>
                      <a:pt x="179" y="1012"/>
                    </a:lnTo>
                    <a:lnTo>
                      <a:pt x="203" y="1010"/>
                    </a:lnTo>
                    <a:lnTo>
                      <a:pt x="216" y="943"/>
                    </a:lnTo>
                    <a:lnTo>
                      <a:pt x="201" y="947"/>
                    </a:lnTo>
                    <a:lnTo>
                      <a:pt x="213" y="934"/>
                    </a:lnTo>
                    <a:lnTo>
                      <a:pt x="196" y="881"/>
                    </a:lnTo>
                    <a:lnTo>
                      <a:pt x="121" y="885"/>
                    </a:lnTo>
                    <a:lnTo>
                      <a:pt x="121" y="860"/>
                    </a:lnTo>
                    <a:lnTo>
                      <a:pt x="112" y="861"/>
                    </a:lnTo>
                    <a:lnTo>
                      <a:pt x="101" y="863"/>
                    </a:lnTo>
                    <a:lnTo>
                      <a:pt x="88" y="864"/>
                    </a:lnTo>
                    <a:lnTo>
                      <a:pt x="141" y="819"/>
                    </a:lnTo>
                    <a:lnTo>
                      <a:pt x="195" y="772"/>
                    </a:lnTo>
                    <a:lnTo>
                      <a:pt x="224" y="745"/>
                    </a:lnTo>
                    <a:lnTo>
                      <a:pt x="253" y="717"/>
                    </a:lnTo>
                    <a:lnTo>
                      <a:pt x="284" y="688"/>
                    </a:lnTo>
                    <a:lnTo>
                      <a:pt x="316" y="657"/>
                    </a:lnTo>
                    <a:lnTo>
                      <a:pt x="331" y="642"/>
                    </a:lnTo>
                    <a:lnTo>
                      <a:pt x="346" y="629"/>
                    </a:lnTo>
                    <a:lnTo>
                      <a:pt x="361" y="617"/>
                    </a:lnTo>
                    <a:lnTo>
                      <a:pt x="377" y="605"/>
                    </a:lnTo>
                    <a:lnTo>
                      <a:pt x="393" y="595"/>
                    </a:lnTo>
                    <a:lnTo>
                      <a:pt x="408" y="584"/>
                    </a:lnTo>
                    <a:lnTo>
                      <a:pt x="440" y="564"/>
                    </a:lnTo>
                    <a:lnTo>
                      <a:pt x="472" y="549"/>
                    </a:lnTo>
                    <a:lnTo>
                      <a:pt x="503" y="533"/>
                    </a:lnTo>
                    <a:lnTo>
                      <a:pt x="561" y="505"/>
                    </a:lnTo>
                    <a:lnTo>
                      <a:pt x="588" y="493"/>
                    </a:lnTo>
                    <a:lnTo>
                      <a:pt x="612" y="481"/>
                    </a:lnTo>
                    <a:lnTo>
                      <a:pt x="631" y="470"/>
                    </a:lnTo>
                    <a:lnTo>
                      <a:pt x="641" y="463"/>
                    </a:lnTo>
                    <a:lnTo>
                      <a:pt x="644" y="460"/>
                    </a:lnTo>
                    <a:lnTo>
                      <a:pt x="648" y="456"/>
                    </a:lnTo>
                    <a:lnTo>
                      <a:pt x="655" y="451"/>
                    </a:lnTo>
                    <a:lnTo>
                      <a:pt x="662" y="444"/>
                    </a:lnTo>
                    <a:lnTo>
                      <a:pt x="666" y="437"/>
                    </a:lnTo>
                    <a:lnTo>
                      <a:pt x="670" y="430"/>
                    </a:lnTo>
                    <a:lnTo>
                      <a:pt x="672" y="422"/>
                    </a:lnTo>
                    <a:lnTo>
                      <a:pt x="674" y="415"/>
                    </a:lnTo>
                    <a:lnTo>
                      <a:pt x="672" y="406"/>
                    </a:lnTo>
                    <a:lnTo>
                      <a:pt x="671" y="398"/>
                    </a:lnTo>
                    <a:lnTo>
                      <a:pt x="677" y="384"/>
                    </a:lnTo>
                    <a:lnTo>
                      <a:pt x="683" y="369"/>
                    </a:lnTo>
                    <a:lnTo>
                      <a:pt x="691" y="346"/>
                    </a:lnTo>
                    <a:lnTo>
                      <a:pt x="696" y="324"/>
                    </a:lnTo>
                    <a:lnTo>
                      <a:pt x="701" y="305"/>
                    </a:lnTo>
                    <a:lnTo>
                      <a:pt x="704" y="297"/>
                    </a:lnTo>
                    <a:lnTo>
                      <a:pt x="708" y="289"/>
                    </a:lnTo>
                    <a:lnTo>
                      <a:pt x="713" y="281"/>
                    </a:lnTo>
                    <a:lnTo>
                      <a:pt x="720" y="273"/>
                    </a:lnTo>
                    <a:lnTo>
                      <a:pt x="728" y="265"/>
                    </a:lnTo>
                    <a:lnTo>
                      <a:pt x="737" y="259"/>
                    </a:lnTo>
                    <a:lnTo>
                      <a:pt x="749" y="251"/>
                    </a:lnTo>
                    <a:lnTo>
                      <a:pt x="763" y="243"/>
                    </a:lnTo>
                    <a:lnTo>
                      <a:pt x="772" y="239"/>
                    </a:lnTo>
                    <a:lnTo>
                      <a:pt x="782" y="235"/>
                    </a:lnTo>
                    <a:lnTo>
                      <a:pt x="791" y="231"/>
                    </a:lnTo>
                    <a:lnTo>
                      <a:pt x="801" y="228"/>
                    </a:lnTo>
                    <a:lnTo>
                      <a:pt x="821" y="223"/>
                    </a:lnTo>
                    <a:lnTo>
                      <a:pt x="844" y="218"/>
                    </a:lnTo>
                    <a:lnTo>
                      <a:pt x="865" y="214"/>
                    </a:lnTo>
                    <a:lnTo>
                      <a:pt x="887" y="211"/>
                    </a:lnTo>
                    <a:lnTo>
                      <a:pt x="931" y="204"/>
                    </a:lnTo>
                    <a:lnTo>
                      <a:pt x="953" y="202"/>
                    </a:lnTo>
                    <a:lnTo>
                      <a:pt x="976" y="198"/>
                    </a:lnTo>
                    <a:lnTo>
                      <a:pt x="997" y="194"/>
                    </a:lnTo>
                    <a:lnTo>
                      <a:pt x="1018" y="189"/>
                    </a:lnTo>
                    <a:lnTo>
                      <a:pt x="1037" y="183"/>
                    </a:lnTo>
                    <a:lnTo>
                      <a:pt x="1048" y="179"/>
                    </a:lnTo>
                    <a:lnTo>
                      <a:pt x="1057" y="175"/>
                    </a:lnTo>
                    <a:lnTo>
                      <a:pt x="1067" y="171"/>
                    </a:lnTo>
                    <a:lnTo>
                      <a:pt x="1076" y="166"/>
                    </a:lnTo>
                    <a:lnTo>
                      <a:pt x="1085" y="161"/>
                    </a:lnTo>
                    <a:lnTo>
                      <a:pt x="1093" y="156"/>
                    </a:lnTo>
                    <a:lnTo>
                      <a:pt x="1117" y="139"/>
                    </a:lnTo>
                    <a:lnTo>
                      <a:pt x="1138" y="124"/>
                    </a:lnTo>
                    <a:lnTo>
                      <a:pt x="1158" y="112"/>
                    </a:lnTo>
                    <a:lnTo>
                      <a:pt x="1176" y="102"/>
                    </a:lnTo>
                    <a:lnTo>
                      <a:pt x="1192" y="92"/>
                    </a:lnTo>
                    <a:lnTo>
                      <a:pt x="1209" y="84"/>
                    </a:lnTo>
                    <a:lnTo>
                      <a:pt x="1239" y="71"/>
                    </a:lnTo>
                    <a:lnTo>
                      <a:pt x="1270" y="58"/>
                    </a:lnTo>
                    <a:lnTo>
                      <a:pt x="1303" y="44"/>
                    </a:lnTo>
                    <a:lnTo>
                      <a:pt x="1341" y="25"/>
                    </a:lnTo>
                    <a:lnTo>
                      <a:pt x="1363" y="13"/>
                    </a:lnTo>
                    <a:lnTo>
                      <a:pt x="1388" y="0"/>
                    </a:lnTo>
                    <a:lnTo>
                      <a:pt x="1388" y="13"/>
                    </a:lnTo>
                    <a:lnTo>
                      <a:pt x="1369" y="30"/>
                    </a:lnTo>
                    <a:lnTo>
                      <a:pt x="1353" y="53"/>
                    </a:lnTo>
                    <a:lnTo>
                      <a:pt x="1345" y="63"/>
                    </a:lnTo>
                    <a:lnTo>
                      <a:pt x="1336" y="73"/>
                    </a:lnTo>
                    <a:lnTo>
                      <a:pt x="1328" y="82"/>
                    </a:lnTo>
                    <a:lnTo>
                      <a:pt x="1318" y="91"/>
                    </a:lnTo>
                    <a:lnTo>
                      <a:pt x="1310" y="99"/>
                    </a:lnTo>
                    <a:lnTo>
                      <a:pt x="1301" y="107"/>
                    </a:lnTo>
                    <a:lnTo>
                      <a:pt x="1291" y="113"/>
                    </a:lnTo>
                    <a:lnTo>
                      <a:pt x="1281" y="120"/>
                    </a:lnTo>
                    <a:lnTo>
                      <a:pt x="1271" y="127"/>
                    </a:lnTo>
                    <a:lnTo>
                      <a:pt x="1259" y="131"/>
                    </a:lnTo>
                    <a:lnTo>
                      <a:pt x="1247" y="136"/>
                    </a:lnTo>
                    <a:lnTo>
                      <a:pt x="1235" y="139"/>
                    </a:lnTo>
                    <a:lnTo>
                      <a:pt x="1222" y="141"/>
                    </a:lnTo>
                    <a:lnTo>
                      <a:pt x="1208" y="144"/>
                    </a:lnTo>
                    <a:lnTo>
                      <a:pt x="1208" y="198"/>
                    </a:lnTo>
                    <a:lnTo>
                      <a:pt x="1202" y="204"/>
                    </a:lnTo>
                    <a:lnTo>
                      <a:pt x="1198" y="212"/>
                    </a:lnTo>
                    <a:lnTo>
                      <a:pt x="1193" y="220"/>
                    </a:lnTo>
                    <a:lnTo>
                      <a:pt x="1190" y="228"/>
                    </a:lnTo>
                    <a:lnTo>
                      <a:pt x="1185" y="230"/>
                    </a:lnTo>
                    <a:lnTo>
                      <a:pt x="1168" y="230"/>
                    </a:lnTo>
                    <a:lnTo>
                      <a:pt x="1159" y="230"/>
                    </a:lnTo>
                    <a:lnTo>
                      <a:pt x="1151" y="231"/>
                    </a:lnTo>
                    <a:lnTo>
                      <a:pt x="1143" y="233"/>
                    </a:lnTo>
                    <a:lnTo>
                      <a:pt x="1136" y="236"/>
                    </a:lnTo>
                    <a:lnTo>
                      <a:pt x="1134" y="236"/>
                    </a:lnTo>
                    <a:lnTo>
                      <a:pt x="1128" y="240"/>
                    </a:lnTo>
                    <a:lnTo>
                      <a:pt x="1123" y="244"/>
                    </a:lnTo>
                    <a:lnTo>
                      <a:pt x="1118" y="248"/>
                    </a:lnTo>
                    <a:lnTo>
                      <a:pt x="1113" y="253"/>
                    </a:lnTo>
                    <a:lnTo>
                      <a:pt x="1105" y="264"/>
                    </a:lnTo>
                    <a:lnTo>
                      <a:pt x="1097" y="277"/>
                    </a:lnTo>
                    <a:lnTo>
                      <a:pt x="1090" y="290"/>
                    </a:lnTo>
                    <a:lnTo>
                      <a:pt x="1085" y="305"/>
                    </a:lnTo>
                    <a:lnTo>
                      <a:pt x="1080" y="321"/>
                    </a:lnTo>
                    <a:lnTo>
                      <a:pt x="1074" y="336"/>
                    </a:lnTo>
                    <a:lnTo>
                      <a:pt x="1068" y="369"/>
                    </a:lnTo>
                    <a:lnTo>
                      <a:pt x="1060" y="402"/>
                    </a:lnTo>
                    <a:lnTo>
                      <a:pt x="1053" y="431"/>
                    </a:lnTo>
                    <a:lnTo>
                      <a:pt x="1049" y="444"/>
                    </a:lnTo>
                    <a:lnTo>
                      <a:pt x="1045" y="456"/>
                    </a:lnTo>
                    <a:lnTo>
                      <a:pt x="1040" y="467"/>
                    </a:lnTo>
                    <a:lnTo>
                      <a:pt x="1035" y="479"/>
                    </a:lnTo>
                    <a:lnTo>
                      <a:pt x="1022" y="499"/>
                    </a:lnTo>
                    <a:lnTo>
                      <a:pt x="1015" y="508"/>
                    </a:lnTo>
                    <a:lnTo>
                      <a:pt x="1008" y="517"/>
                    </a:lnTo>
                    <a:lnTo>
                      <a:pt x="994" y="534"/>
                    </a:lnTo>
                    <a:lnTo>
                      <a:pt x="962" y="567"/>
                    </a:lnTo>
                    <a:lnTo>
                      <a:pt x="948" y="583"/>
                    </a:lnTo>
                    <a:lnTo>
                      <a:pt x="933" y="599"/>
                    </a:lnTo>
                    <a:lnTo>
                      <a:pt x="927" y="608"/>
                    </a:lnTo>
                    <a:lnTo>
                      <a:pt x="921" y="616"/>
                    </a:lnTo>
                    <a:lnTo>
                      <a:pt x="915" y="625"/>
                    </a:lnTo>
                    <a:lnTo>
                      <a:pt x="911" y="633"/>
                    </a:lnTo>
                    <a:lnTo>
                      <a:pt x="906" y="642"/>
                    </a:lnTo>
                    <a:lnTo>
                      <a:pt x="902" y="653"/>
                    </a:lnTo>
                    <a:lnTo>
                      <a:pt x="898" y="662"/>
                    </a:lnTo>
                    <a:lnTo>
                      <a:pt x="895" y="673"/>
                    </a:lnTo>
                    <a:lnTo>
                      <a:pt x="894" y="683"/>
                    </a:lnTo>
                    <a:lnTo>
                      <a:pt x="892" y="695"/>
                    </a:lnTo>
                    <a:lnTo>
                      <a:pt x="892" y="707"/>
                    </a:lnTo>
                    <a:lnTo>
                      <a:pt x="894" y="720"/>
                    </a:lnTo>
                    <a:lnTo>
                      <a:pt x="895" y="733"/>
                    </a:lnTo>
                    <a:lnTo>
                      <a:pt x="899" y="748"/>
                    </a:lnTo>
                    <a:lnTo>
                      <a:pt x="903" y="762"/>
                    </a:lnTo>
                    <a:lnTo>
                      <a:pt x="908" y="778"/>
                    </a:lnTo>
                    <a:lnTo>
                      <a:pt x="912" y="789"/>
                    </a:lnTo>
                    <a:lnTo>
                      <a:pt x="915" y="801"/>
                    </a:lnTo>
                    <a:lnTo>
                      <a:pt x="917" y="812"/>
                    </a:lnTo>
                    <a:lnTo>
                      <a:pt x="920" y="824"/>
                    </a:lnTo>
                    <a:lnTo>
                      <a:pt x="921" y="836"/>
                    </a:lnTo>
                    <a:lnTo>
                      <a:pt x="923" y="848"/>
                    </a:lnTo>
                    <a:lnTo>
                      <a:pt x="924" y="861"/>
                    </a:lnTo>
                    <a:lnTo>
                      <a:pt x="924" y="873"/>
                    </a:lnTo>
                    <a:lnTo>
                      <a:pt x="921" y="907"/>
                    </a:lnTo>
                    <a:lnTo>
                      <a:pt x="919" y="943"/>
                    </a:lnTo>
                    <a:lnTo>
                      <a:pt x="910" y="1013"/>
                    </a:lnTo>
                    <a:lnTo>
                      <a:pt x="906" y="1047"/>
                    </a:lnTo>
                    <a:lnTo>
                      <a:pt x="902" y="1081"/>
                    </a:lnTo>
                    <a:lnTo>
                      <a:pt x="899" y="1117"/>
                    </a:lnTo>
                    <a:lnTo>
                      <a:pt x="899" y="1134"/>
                    </a:lnTo>
                    <a:lnTo>
                      <a:pt x="899" y="1151"/>
                    </a:lnTo>
                    <a:lnTo>
                      <a:pt x="899" y="1176"/>
                    </a:lnTo>
                    <a:lnTo>
                      <a:pt x="900" y="1201"/>
                    </a:lnTo>
                    <a:lnTo>
                      <a:pt x="903" y="1226"/>
                    </a:lnTo>
                    <a:lnTo>
                      <a:pt x="908" y="1252"/>
                    </a:lnTo>
                    <a:lnTo>
                      <a:pt x="915" y="1277"/>
                    </a:lnTo>
                    <a:lnTo>
                      <a:pt x="923" y="1304"/>
                    </a:lnTo>
                    <a:lnTo>
                      <a:pt x="941" y="1368"/>
                    </a:lnTo>
                    <a:lnTo>
                      <a:pt x="937" y="1366"/>
                    </a:lnTo>
                    <a:lnTo>
                      <a:pt x="933" y="1365"/>
                    </a:lnTo>
                    <a:lnTo>
                      <a:pt x="925" y="1366"/>
                    </a:lnTo>
                    <a:lnTo>
                      <a:pt x="919" y="1368"/>
                    </a:lnTo>
                    <a:lnTo>
                      <a:pt x="912" y="1369"/>
                    </a:lnTo>
                    <a:lnTo>
                      <a:pt x="906" y="1373"/>
                    </a:lnTo>
                    <a:lnTo>
                      <a:pt x="900" y="1376"/>
                    </a:lnTo>
                    <a:lnTo>
                      <a:pt x="895" y="1379"/>
                    </a:lnTo>
                    <a:lnTo>
                      <a:pt x="885" y="1387"/>
                    </a:lnTo>
                    <a:lnTo>
                      <a:pt x="874" y="1395"/>
                    </a:lnTo>
                    <a:lnTo>
                      <a:pt x="869" y="1399"/>
                    </a:lnTo>
                    <a:lnTo>
                      <a:pt x="863" y="1402"/>
                    </a:lnTo>
                    <a:lnTo>
                      <a:pt x="857" y="1405"/>
                    </a:lnTo>
                    <a:lnTo>
                      <a:pt x="850" y="1407"/>
                    </a:lnTo>
                    <a:lnTo>
                      <a:pt x="844" y="1408"/>
                    </a:lnTo>
                    <a:lnTo>
                      <a:pt x="836" y="1408"/>
                    </a:lnTo>
                    <a:lnTo>
                      <a:pt x="813" y="1408"/>
                    </a:lnTo>
                    <a:lnTo>
                      <a:pt x="809" y="1426"/>
                    </a:lnTo>
                    <a:lnTo>
                      <a:pt x="816" y="1430"/>
                    </a:lnTo>
                    <a:lnTo>
                      <a:pt x="819" y="1431"/>
                    </a:lnTo>
                    <a:lnTo>
                      <a:pt x="821" y="1434"/>
                    </a:lnTo>
                    <a:lnTo>
                      <a:pt x="825" y="1439"/>
                    </a:lnTo>
                    <a:lnTo>
                      <a:pt x="829" y="1444"/>
                    </a:lnTo>
                    <a:lnTo>
                      <a:pt x="836" y="1456"/>
                    </a:lnTo>
                    <a:lnTo>
                      <a:pt x="840" y="1461"/>
                    </a:lnTo>
                    <a:lnTo>
                      <a:pt x="844" y="1466"/>
                    </a:lnTo>
                    <a:lnTo>
                      <a:pt x="836" y="1507"/>
                    </a:lnTo>
                    <a:lnTo>
                      <a:pt x="498" y="1489"/>
                    </a:lnTo>
                    <a:lnTo>
                      <a:pt x="427" y="1501"/>
                    </a:lnTo>
                    <a:lnTo>
                      <a:pt x="407" y="1650"/>
                    </a:lnTo>
                    <a:lnTo>
                      <a:pt x="209" y="1643"/>
                    </a:lnTo>
                    <a:lnTo>
                      <a:pt x="59" y="1481"/>
                    </a:lnTo>
                    <a:lnTo>
                      <a:pt x="95" y="1401"/>
                    </a:lnTo>
                    <a:lnTo>
                      <a:pt x="66" y="1394"/>
                    </a:lnTo>
                    <a:lnTo>
                      <a:pt x="34" y="1445"/>
                    </a:lnTo>
                    <a:lnTo>
                      <a:pt x="0" y="1403"/>
                    </a:lnTo>
                    <a:lnTo>
                      <a:pt x="31" y="133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952960" y="3478320"/>
                <a:ext cx="471600" cy="547560"/>
              </a:xfrm>
              <a:custGeom>
                <a:avLst/>
                <a:gdLst/>
                <a:ahLst/>
                <a:rect l="l" t="t" r="r" b="b"/>
                <a:pathLst>
                  <a:path w="914" h="1064">
                    <a:moveTo>
                      <a:pt x="46" y="619"/>
                    </a:moveTo>
                    <a:lnTo>
                      <a:pt x="50" y="613"/>
                    </a:lnTo>
                    <a:lnTo>
                      <a:pt x="55" y="609"/>
                    </a:lnTo>
                    <a:lnTo>
                      <a:pt x="64" y="603"/>
                    </a:lnTo>
                    <a:lnTo>
                      <a:pt x="69" y="600"/>
                    </a:lnTo>
                    <a:lnTo>
                      <a:pt x="76" y="597"/>
                    </a:lnTo>
                    <a:lnTo>
                      <a:pt x="88" y="595"/>
                    </a:lnTo>
                    <a:lnTo>
                      <a:pt x="100" y="592"/>
                    </a:lnTo>
                    <a:lnTo>
                      <a:pt x="113" y="590"/>
                    </a:lnTo>
                    <a:lnTo>
                      <a:pt x="126" y="590"/>
                    </a:lnTo>
                    <a:lnTo>
                      <a:pt x="151" y="588"/>
                    </a:lnTo>
                    <a:lnTo>
                      <a:pt x="163" y="587"/>
                    </a:lnTo>
                    <a:lnTo>
                      <a:pt x="174" y="586"/>
                    </a:lnTo>
                    <a:lnTo>
                      <a:pt x="184" y="583"/>
                    </a:lnTo>
                    <a:lnTo>
                      <a:pt x="193" y="579"/>
                    </a:lnTo>
                    <a:lnTo>
                      <a:pt x="196" y="576"/>
                    </a:lnTo>
                    <a:lnTo>
                      <a:pt x="200" y="574"/>
                    </a:lnTo>
                    <a:lnTo>
                      <a:pt x="203" y="571"/>
                    </a:lnTo>
                    <a:lnTo>
                      <a:pt x="205" y="567"/>
                    </a:lnTo>
                    <a:lnTo>
                      <a:pt x="208" y="563"/>
                    </a:lnTo>
                    <a:lnTo>
                      <a:pt x="209" y="559"/>
                    </a:lnTo>
                    <a:lnTo>
                      <a:pt x="209" y="554"/>
                    </a:lnTo>
                    <a:lnTo>
                      <a:pt x="211" y="547"/>
                    </a:lnTo>
                    <a:lnTo>
                      <a:pt x="209" y="538"/>
                    </a:lnTo>
                    <a:lnTo>
                      <a:pt x="208" y="530"/>
                    </a:lnTo>
                    <a:lnTo>
                      <a:pt x="205" y="522"/>
                    </a:lnTo>
                    <a:lnTo>
                      <a:pt x="203" y="514"/>
                    </a:lnTo>
                    <a:lnTo>
                      <a:pt x="200" y="506"/>
                    </a:lnTo>
                    <a:lnTo>
                      <a:pt x="196" y="500"/>
                    </a:lnTo>
                    <a:lnTo>
                      <a:pt x="187" y="487"/>
                    </a:lnTo>
                    <a:lnTo>
                      <a:pt x="179" y="472"/>
                    </a:lnTo>
                    <a:lnTo>
                      <a:pt x="175" y="466"/>
                    </a:lnTo>
                    <a:lnTo>
                      <a:pt x="172" y="458"/>
                    </a:lnTo>
                    <a:lnTo>
                      <a:pt x="168" y="450"/>
                    </a:lnTo>
                    <a:lnTo>
                      <a:pt x="167" y="442"/>
                    </a:lnTo>
                    <a:lnTo>
                      <a:pt x="166" y="434"/>
                    </a:lnTo>
                    <a:lnTo>
                      <a:pt x="164" y="425"/>
                    </a:lnTo>
                    <a:lnTo>
                      <a:pt x="166" y="406"/>
                    </a:lnTo>
                    <a:lnTo>
                      <a:pt x="166" y="398"/>
                    </a:lnTo>
                    <a:lnTo>
                      <a:pt x="167" y="389"/>
                    </a:lnTo>
                    <a:lnTo>
                      <a:pt x="171" y="373"/>
                    </a:lnTo>
                    <a:lnTo>
                      <a:pt x="175" y="357"/>
                    </a:lnTo>
                    <a:lnTo>
                      <a:pt x="180" y="343"/>
                    </a:lnTo>
                    <a:lnTo>
                      <a:pt x="186" y="328"/>
                    </a:lnTo>
                    <a:lnTo>
                      <a:pt x="197" y="299"/>
                    </a:lnTo>
                    <a:lnTo>
                      <a:pt x="209" y="272"/>
                    </a:lnTo>
                    <a:lnTo>
                      <a:pt x="215" y="257"/>
                    </a:lnTo>
                    <a:lnTo>
                      <a:pt x="220" y="243"/>
                    </a:lnTo>
                    <a:lnTo>
                      <a:pt x="224" y="227"/>
                    </a:lnTo>
                    <a:lnTo>
                      <a:pt x="226" y="211"/>
                    </a:lnTo>
                    <a:lnTo>
                      <a:pt x="228" y="202"/>
                    </a:lnTo>
                    <a:lnTo>
                      <a:pt x="229" y="194"/>
                    </a:lnTo>
                    <a:lnTo>
                      <a:pt x="229" y="175"/>
                    </a:lnTo>
                    <a:lnTo>
                      <a:pt x="229" y="164"/>
                    </a:lnTo>
                    <a:lnTo>
                      <a:pt x="228" y="158"/>
                    </a:lnTo>
                    <a:lnTo>
                      <a:pt x="226" y="153"/>
                    </a:lnTo>
                    <a:lnTo>
                      <a:pt x="224" y="142"/>
                    </a:lnTo>
                    <a:lnTo>
                      <a:pt x="221" y="133"/>
                    </a:lnTo>
                    <a:lnTo>
                      <a:pt x="217" y="124"/>
                    </a:lnTo>
                    <a:lnTo>
                      <a:pt x="215" y="115"/>
                    </a:lnTo>
                    <a:lnTo>
                      <a:pt x="212" y="104"/>
                    </a:lnTo>
                    <a:lnTo>
                      <a:pt x="211" y="94"/>
                    </a:lnTo>
                    <a:lnTo>
                      <a:pt x="220" y="44"/>
                    </a:lnTo>
                    <a:lnTo>
                      <a:pt x="225" y="37"/>
                    </a:lnTo>
                    <a:lnTo>
                      <a:pt x="230" y="30"/>
                    </a:lnTo>
                    <a:lnTo>
                      <a:pt x="237" y="25"/>
                    </a:lnTo>
                    <a:lnTo>
                      <a:pt x="240" y="21"/>
                    </a:lnTo>
                    <a:lnTo>
                      <a:pt x="244" y="18"/>
                    </a:lnTo>
                    <a:lnTo>
                      <a:pt x="250" y="13"/>
                    </a:lnTo>
                    <a:lnTo>
                      <a:pt x="258" y="9"/>
                    </a:lnTo>
                    <a:lnTo>
                      <a:pt x="266" y="4"/>
                    </a:lnTo>
                    <a:lnTo>
                      <a:pt x="275" y="0"/>
                    </a:lnTo>
                    <a:lnTo>
                      <a:pt x="270" y="4"/>
                    </a:lnTo>
                    <a:lnTo>
                      <a:pt x="267" y="9"/>
                    </a:lnTo>
                    <a:lnTo>
                      <a:pt x="265" y="13"/>
                    </a:lnTo>
                    <a:lnTo>
                      <a:pt x="265" y="16"/>
                    </a:lnTo>
                    <a:lnTo>
                      <a:pt x="263" y="20"/>
                    </a:lnTo>
                    <a:lnTo>
                      <a:pt x="263" y="22"/>
                    </a:lnTo>
                    <a:lnTo>
                      <a:pt x="265" y="33"/>
                    </a:lnTo>
                    <a:lnTo>
                      <a:pt x="266" y="41"/>
                    </a:lnTo>
                    <a:lnTo>
                      <a:pt x="270" y="50"/>
                    </a:lnTo>
                    <a:lnTo>
                      <a:pt x="273" y="54"/>
                    </a:lnTo>
                    <a:lnTo>
                      <a:pt x="275" y="58"/>
                    </a:lnTo>
                    <a:lnTo>
                      <a:pt x="280" y="63"/>
                    </a:lnTo>
                    <a:lnTo>
                      <a:pt x="284" y="67"/>
                    </a:lnTo>
                    <a:lnTo>
                      <a:pt x="288" y="69"/>
                    </a:lnTo>
                    <a:lnTo>
                      <a:pt x="296" y="73"/>
                    </a:lnTo>
                    <a:lnTo>
                      <a:pt x="306" y="74"/>
                    </a:lnTo>
                    <a:lnTo>
                      <a:pt x="319" y="73"/>
                    </a:lnTo>
                    <a:lnTo>
                      <a:pt x="331" y="71"/>
                    </a:lnTo>
                    <a:lnTo>
                      <a:pt x="353" y="69"/>
                    </a:lnTo>
                    <a:lnTo>
                      <a:pt x="374" y="62"/>
                    </a:lnTo>
                    <a:lnTo>
                      <a:pt x="394" y="57"/>
                    </a:lnTo>
                    <a:lnTo>
                      <a:pt x="414" y="50"/>
                    </a:lnTo>
                    <a:lnTo>
                      <a:pt x="435" y="45"/>
                    </a:lnTo>
                    <a:lnTo>
                      <a:pt x="440" y="44"/>
                    </a:lnTo>
                    <a:lnTo>
                      <a:pt x="447" y="44"/>
                    </a:lnTo>
                    <a:lnTo>
                      <a:pt x="457" y="41"/>
                    </a:lnTo>
                    <a:lnTo>
                      <a:pt x="470" y="40"/>
                    </a:lnTo>
                    <a:lnTo>
                      <a:pt x="482" y="40"/>
                    </a:lnTo>
                    <a:lnTo>
                      <a:pt x="497" y="41"/>
                    </a:lnTo>
                    <a:lnTo>
                      <a:pt x="503" y="41"/>
                    </a:lnTo>
                    <a:lnTo>
                      <a:pt x="510" y="42"/>
                    </a:lnTo>
                    <a:lnTo>
                      <a:pt x="522" y="45"/>
                    </a:lnTo>
                    <a:lnTo>
                      <a:pt x="535" y="50"/>
                    </a:lnTo>
                    <a:lnTo>
                      <a:pt x="546" y="55"/>
                    </a:lnTo>
                    <a:lnTo>
                      <a:pt x="557" y="62"/>
                    </a:lnTo>
                    <a:lnTo>
                      <a:pt x="568" y="69"/>
                    </a:lnTo>
                    <a:lnTo>
                      <a:pt x="577" y="77"/>
                    </a:lnTo>
                    <a:lnTo>
                      <a:pt x="585" y="86"/>
                    </a:lnTo>
                    <a:lnTo>
                      <a:pt x="593" y="96"/>
                    </a:lnTo>
                    <a:lnTo>
                      <a:pt x="600" y="107"/>
                    </a:lnTo>
                    <a:lnTo>
                      <a:pt x="606" y="119"/>
                    </a:lnTo>
                    <a:lnTo>
                      <a:pt x="610" y="131"/>
                    </a:lnTo>
                    <a:lnTo>
                      <a:pt x="614" y="142"/>
                    </a:lnTo>
                    <a:lnTo>
                      <a:pt x="615" y="149"/>
                    </a:lnTo>
                    <a:lnTo>
                      <a:pt x="615" y="156"/>
                    </a:lnTo>
                    <a:lnTo>
                      <a:pt x="617" y="169"/>
                    </a:lnTo>
                    <a:lnTo>
                      <a:pt x="615" y="181"/>
                    </a:lnTo>
                    <a:lnTo>
                      <a:pt x="614" y="191"/>
                    </a:lnTo>
                    <a:lnTo>
                      <a:pt x="613" y="203"/>
                    </a:lnTo>
                    <a:lnTo>
                      <a:pt x="609" y="212"/>
                    </a:lnTo>
                    <a:lnTo>
                      <a:pt x="606" y="218"/>
                    </a:lnTo>
                    <a:lnTo>
                      <a:pt x="604" y="222"/>
                    </a:lnTo>
                    <a:lnTo>
                      <a:pt x="601" y="226"/>
                    </a:lnTo>
                    <a:lnTo>
                      <a:pt x="597" y="228"/>
                    </a:lnTo>
                    <a:lnTo>
                      <a:pt x="593" y="231"/>
                    </a:lnTo>
                    <a:lnTo>
                      <a:pt x="589" y="232"/>
                    </a:lnTo>
                    <a:lnTo>
                      <a:pt x="584" y="233"/>
                    </a:lnTo>
                    <a:lnTo>
                      <a:pt x="579" y="235"/>
                    </a:lnTo>
                    <a:lnTo>
                      <a:pt x="571" y="233"/>
                    </a:lnTo>
                    <a:lnTo>
                      <a:pt x="561" y="232"/>
                    </a:lnTo>
                    <a:lnTo>
                      <a:pt x="548" y="226"/>
                    </a:lnTo>
                    <a:lnTo>
                      <a:pt x="540" y="223"/>
                    </a:lnTo>
                    <a:lnTo>
                      <a:pt x="534" y="220"/>
                    </a:lnTo>
                    <a:lnTo>
                      <a:pt x="524" y="218"/>
                    </a:lnTo>
                    <a:lnTo>
                      <a:pt x="517" y="218"/>
                    </a:lnTo>
                    <a:lnTo>
                      <a:pt x="501" y="218"/>
                    </a:lnTo>
                    <a:lnTo>
                      <a:pt x="484" y="220"/>
                    </a:lnTo>
                    <a:lnTo>
                      <a:pt x="477" y="222"/>
                    </a:lnTo>
                    <a:lnTo>
                      <a:pt x="469" y="224"/>
                    </a:lnTo>
                    <a:lnTo>
                      <a:pt x="461" y="226"/>
                    </a:lnTo>
                    <a:lnTo>
                      <a:pt x="455" y="229"/>
                    </a:lnTo>
                    <a:lnTo>
                      <a:pt x="448" y="232"/>
                    </a:lnTo>
                    <a:lnTo>
                      <a:pt x="443" y="236"/>
                    </a:lnTo>
                    <a:lnTo>
                      <a:pt x="437" y="240"/>
                    </a:lnTo>
                    <a:lnTo>
                      <a:pt x="432" y="245"/>
                    </a:lnTo>
                    <a:lnTo>
                      <a:pt x="430" y="251"/>
                    </a:lnTo>
                    <a:lnTo>
                      <a:pt x="427" y="257"/>
                    </a:lnTo>
                    <a:lnTo>
                      <a:pt x="424" y="264"/>
                    </a:lnTo>
                    <a:lnTo>
                      <a:pt x="424" y="272"/>
                    </a:lnTo>
                    <a:lnTo>
                      <a:pt x="424" y="277"/>
                    </a:lnTo>
                    <a:lnTo>
                      <a:pt x="426" y="282"/>
                    </a:lnTo>
                    <a:lnTo>
                      <a:pt x="428" y="290"/>
                    </a:lnTo>
                    <a:lnTo>
                      <a:pt x="431" y="299"/>
                    </a:lnTo>
                    <a:lnTo>
                      <a:pt x="432" y="305"/>
                    </a:lnTo>
                    <a:lnTo>
                      <a:pt x="432" y="310"/>
                    </a:lnTo>
                    <a:lnTo>
                      <a:pt x="419" y="315"/>
                    </a:lnTo>
                    <a:lnTo>
                      <a:pt x="404" y="319"/>
                    </a:lnTo>
                    <a:lnTo>
                      <a:pt x="378" y="327"/>
                    </a:lnTo>
                    <a:lnTo>
                      <a:pt x="352" y="334"/>
                    </a:lnTo>
                    <a:lnTo>
                      <a:pt x="327" y="342"/>
                    </a:lnTo>
                    <a:lnTo>
                      <a:pt x="315" y="346"/>
                    </a:lnTo>
                    <a:lnTo>
                      <a:pt x="303" y="350"/>
                    </a:lnTo>
                    <a:lnTo>
                      <a:pt x="292" y="356"/>
                    </a:lnTo>
                    <a:lnTo>
                      <a:pt x="282" y="363"/>
                    </a:lnTo>
                    <a:lnTo>
                      <a:pt x="273" y="369"/>
                    </a:lnTo>
                    <a:lnTo>
                      <a:pt x="267" y="375"/>
                    </a:lnTo>
                    <a:lnTo>
                      <a:pt x="263" y="379"/>
                    </a:lnTo>
                    <a:lnTo>
                      <a:pt x="258" y="384"/>
                    </a:lnTo>
                    <a:lnTo>
                      <a:pt x="254" y="389"/>
                    </a:lnTo>
                    <a:lnTo>
                      <a:pt x="246" y="401"/>
                    </a:lnTo>
                    <a:lnTo>
                      <a:pt x="353" y="401"/>
                    </a:lnTo>
                    <a:lnTo>
                      <a:pt x="368" y="402"/>
                    </a:lnTo>
                    <a:lnTo>
                      <a:pt x="379" y="405"/>
                    </a:lnTo>
                    <a:lnTo>
                      <a:pt x="391" y="408"/>
                    </a:lnTo>
                    <a:lnTo>
                      <a:pt x="403" y="413"/>
                    </a:lnTo>
                    <a:lnTo>
                      <a:pt x="414" y="418"/>
                    </a:lnTo>
                    <a:lnTo>
                      <a:pt x="423" y="425"/>
                    </a:lnTo>
                    <a:lnTo>
                      <a:pt x="432" y="433"/>
                    </a:lnTo>
                    <a:lnTo>
                      <a:pt x="441" y="440"/>
                    </a:lnTo>
                    <a:lnTo>
                      <a:pt x="460" y="456"/>
                    </a:lnTo>
                    <a:lnTo>
                      <a:pt x="480" y="473"/>
                    </a:lnTo>
                    <a:lnTo>
                      <a:pt x="490" y="481"/>
                    </a:lnTo>
                    <a:lnTo>
                      <a:pt x="501" y="489"/>
                    </a:lnTo>
                    <a:lnTo>
                      <a:pt x="513" y="497"/>
                    </a:lnTo>
                    <a:lnTo>
                      <a:pt x="524" y="504"/>
                    </a:lnTo>
                    <a:lnTo>
                      <a:pt x="534" y="506"/>
                    </a:lnTo>
                    <a:lnTo>
                      <a:pt x="542" y="509"/>
                    </a:lnTo>
                    <a:lnTo>
                      <a:pt x="550" y="510"/>
                    </a:lnTo>
                    <a:lnTo>
                      <a:pt x="559" y="510"/>
                    </a:lnTo>
                    <a:lnTo>
                      <a:pt x="567" y="509"/>
                    </a:lnTo>
                    <a:lnTo>
                      <a:pt x="575" y="509"/>
                    </a:lnTo>
                    <a:lnTo>
                      <a:pt x="590" y="505"/>
                    </a:lnTo>
                    <a:lnTo>
                      <a:pt x="608" y="501"/>
                    </a:lnTo>
                    <a:lnTo>
                      <a:pt x="625" y="497"/>
                    </a:lnTo>
                    <a:lnTo>
                      <a:pt x="633" y="496"/>
                    </a:lnTo>
                    <a:lnTo>
                      <a:pt x="642" y="495"/>
                    </a:lnTo>
                    <a:lnTo>
                      <a:pt x="651" y="495"/>
                    </a:lnTo>
                    <a:lnTo>
                      <a:pt x="660" y="496"/>
                    </a:lnTo>
                    <a:lnTo>
                      <a:pt x="679" y="499"/>
                    </a:lnTo>
                    <a:lnTo>
                      <a:pt x="697" y="502"/>
                    </a:lnTo>
                    <a:lnTo>
                      <a:pt x="714" y="508"/>
                    </a:lnTo>
                    <a:lnTo>
                      <a:pt x="732" y="513"/>
                    </a:lnTo>
                    <a:lnTo>
                      <a:pt x="762" y="525"/>
                    </a:lnTo>
                    <a:lnTo>
                      <a:pt x="792" y="538"/>
                    </a:lnTo>
                    <a:lnTo>
                      <a:pt x="821" y="553"/>
                    </a:lnTo>
                    <a:lnTo>
                      <a:pt x="836" y="559"/>
                    </a:lnTo>
                    <a:lnTo>
                      <a:pt x="850" y="564"/>
                    </a:lnTo>
                    <a:lnTo>
                      <a:pt x="865" y="571"/>
                    </a:lnTo>
                    <a:lnTo>
                      <a:pt x="881" y="576"/>
                    </a:lnTo>
                    <a:lnTo>
                      <a:pt x="895" y="582"/>
                    </a:lnTo>
                    <a:lnTo>
                      <a:pt x="911" y="586"/>
                    </a:lnTo>
                    <a:lnTo>
                      <a:pt x="914" y="588"/>
                    </a:lnTo>
                    <a:lnTo>
                      <a:pt x="900" y="590"/>
                    </a:lnTo>
                    <a:lnTo>
                      <a:pt x="888" y="587"/>
                    </a:lnTo>
                    <a:lnTo>
                      <a:pt x="877" y="584"/>
                    </a:lnTo>
                    <a:lnTo>
                      <a:pt x="865" y="582"/>
                    </a:lnTo>
                    <a:lnTo>
                      <a:pt x="853" y="579"/>
                    </a:lnTo>
                    <a:lnTo>
                      <a:pt x="841" y="578"/>
                    </a:lnTo>
                    <a:lnTo>
                      <a:pt x="834" y="578"/>
                    </a:lnTo>
                    <a:lnTo>
                      <a:pt x="829" y="579"/>
                    </a:lnTo>
                    <a:lnTo>
                      <a:pt x="823" y="580"/>
                    </a:lnTo>
                    <a:lnTo>
                      <a:pt x="816" y="583"/>
                    </a:lnTo>
                    <a:lnTo>
                      <a:pt x="807" y="588"/>
                    </a:lnTo>
                    <a:lnTo>
                      <a:pt x="799" y="595"/>
                    </a:lnTo>
                    <a:lnTo>
                      <a:pt x="795" y="597"/>
                    </a:lnTo>
                    <a:lnTo>
                      <a:pt x="791" y="601"/>
                    </a:lnTo>
                    <a:lnTo>
                      <a:pt x="783" y="609"/>
                    </a:lnTo>
                    <a:lnTo>
                      <a:pt x="776" y="616"/>
                    </a:lnTo>
                    <a:lnTo>
                      <a:pt x="771" y="624"/>
                    </a:lnTo>
                    <a:lnTo>
                      <a:pt x="759" y="640"/>
                    </a:lnTo>
                    <a:lnTo>
                      <a:pt x="753" y="648"/>
                    </a:lnTo>
                    <a:lnTo>
                      <a:pt x="746" y="654"/>
                    </a:lnTo>
                    <a:lnTo>
                      <a:pt x="739" y="661"/>
                    </a:lnTo>
                    <a:lnTo>
                      <a:pt x="733" y="666"/>
                    </a:lnTo>
                    <a:lnTo>
                      <a:pt x="725" y="670"/>
                    </a:lnTo>
                    <a:lnTo>
                      <a:pt x="717" y="674"/>
                    </a:lnTo>
                    <a:lnTo>
                      <a:pt x="706" y="677"/>
                    </a:lnTo>
                    <a:lnTo>
                      <a:pt x="702" y="677"/>
                    </a:lnTo>
                    <a:lnTo>
                      <a:pt x="696" y="677"/>
                    </a:lnTo>
                    <a:lnTo>
                      <a:pt x="691" y="677"/>
                    </a:lnTo>
                    <a:lnTo>
                      <a:pt x="687" y="675"/>
                    </a:lnTo>
                    <a:lnTo>
                      <a:pt x="677" y="673"/>
                    </a:lnTo>
                    <a:lnTo>
                      <a:pt x="670" y="669"/>
                    </a:lnTo>
                    <a:lnTo>
                      <a:pt x="662" y="665"/>
                    </a:lnTo>
                    <a:lnTo>
                      <a:pt x="654" y="659"/>
                    </a:lnTo>
                    <a:lnTo>
                      <a:pt x="644" y="655"/>
                    </a:lnTo>
                    <a:lnTo>
                      <a:pt x="641" y="654"/>
                    </a:lnTo>
                    <a:lnTo>
                      <a:pt x="637" y="653"/>
                    </a:lnTo>
                    <a:lnTo>
                      <a:pt x="626" y="653"/>
                    </a:lnTo>
                    <a:lnTo>
                      <a:pt x="619" y="653"/>
                    </a:lnTo>
                    <a:lnTo>
                      <a:pt x="614" y="654"/>
                    </a:lnTo>
                    <a:lnTo>
                      <a:pt x="609" y="657"/>
                    </a:lnTo>
                    <a:lnTo>
                      <a:pt x="602" y="657"/>
                    </a:lnTo>
                    <a:lnTo>
                      <a:pt x="602" y="669"/>
                    </a:lnTo>
                    <a:lnTo>
                      <a:pt x="602" y="679"/>
                    </a:lnTo>
                    <a:lnTo>
                      <a:pt x="600" y="690"/>
                    </a:lnTo>
                    <a:lnTo>
                      <a:pt x="598" y="695"/>
                    </a:lnTo>
                    <a:lnTo>
                      <a:pt x="597" y="699"/>
                    </a:lnTo>
                    <a:lnTo>
                      <a:pt x="590" y="719"/>
                    </a:lnTo>
                    <a:lnTo>
                      <a:pt x="586" y="729"/>
                    </a:lnTo>
                    <a:lnTo>
                      <a:pt x="582" y="741"/>
                    </a:lnTo>
                    <a:lnTo>
                      <a:pt x="593" y="742"/>
                    </a:lnTo>
                    <a:lnTo>
                      <a:pt x="602" y="744"/>
                    </a:lnTo>
                    <a:lnTo>
                      <a:pt x="619" y="748"/>
                    </a:lnTo>
                    <a:lnTo>
                      <a:pt x="655" y="756"/>
                    </a:lnTo>
                    <a:lnTo>
                      <a:pt x="654" y="774"/>
                    </a:lnTo>
                    <a:lnTo>
                      <a:pt x="654" y="790"/>
                    </a:lnTo>
                    <a:lnTo>
                      <a:pt x="654" y="807"/>
                    </a:lnTo>
                    <a:lnTo>
                      <a:pt x="655" y="826"/>
                    </a:lnTo>
                    <a:lnTo>
                      <a:pt x="776" y="826"/>
                    </a:lnTo>
                    <a:lnTo>
                      <a:pt x="778" y="857"/>
                    </a:lnTo>
                    <a:lnTo>
                      <a:pt x="778" y="873"/>
                    </a:lnTo>
                    <a:lnTo>
                      <a:pt x="780" y="888"/>
                    </a:lnTo>
                    <a:lnTo>
                      <a:pt x="782" y="894"/>
                    </a:lnTo>
                    <a:lnTo>
                      <a:pt x="784" y="901"/>
                    </a:lnTo>
                    <a:lnTo>
                      <a:pt x="786" y="907"/>
                    </a:lnTo>
                    <a:lnTo>
                      <a:pt x="790" y="913"/>
                    </a:lnTo>
                    <a:lnTo>
                      <a:pt x="793" y="918"/>
                    </a:lnTo>
                    <a:lnTo>
                      <a:pt x="796" y="921"/>
                    </a:lnTo>
                    <a:lnTo>
                      <a:pt x="799" y="922"/>
                    </a:lnTo>
                    <a:lnTo>
                      <a:pt x="804" y="926"/>
                    </a:lnTo>
                    <a:lnTo>
                      <a:pt x="811" y="930"/>
                    </a:lnTo>
                    <a:lnTo>
                      <a:pt x="817" y="932"/>
                    </a:lnTo>
                    <a:lnTo>
                      <a:pt x="824" y="935"/>
                    </a:lnTo>
                    <a:lnTo>
                      <a:pt x="838" y="938"/>
                    </a:lnTo>
                    <a:lnTo>
                      <a:pt x="853" y="940"/>
                    </a:lnTo>
                    <a:lnTo>
                      <a:pt x="866" y="943"/>
                    </a:lnTo>
                    <a:lnTo>
                      <a:pt x="878" y="947"/>
                    </a:lnTo>
                    <a:lnTo>
                      <a:pt x="882" y="948"/>
                    </a:lnTo>
                    <a:lnTo>
                      <a:pt x="887" y="952"/>
                    </a:lnTo>
                    <a:lnTo>
                      <a:pt x="890" y="956"/>
                    </a:lnTo>
                    <a:lnTo>
                      <a:pt x="892" y="960"/>
                    </a:lnTo>
                    <a:lnTo>
                      <a:pt x="895" y="965"/>
                    </a:lnTo>
                    <a:lnTo>
                      <a:pt x="895" y="972"/>
                    </a:lnTo>
                    <a:lnTo>
                      <a:pt x="895" y="988"/>
                    </a:lnTo>
                    <a:lnTo>
                      <a:pt x="894" y="996"/>
                    </a:lnTo>
                    <a:lnTo>
                      <a:pt x="892" y="1004"/>
                    </a:lnTo>
                    <a:lnTo>
                      <a:pt x="891" y="1012"/>
                    </a:lnTo>
                    <a:lnTo>
                      <a:pt x="888" y="1019"/>
                    </a:lnTo>
                    <a:lnTo>
                      <a:pt x="883" y="1034"/>
                    </a:lnTo>
                    <a:lnTo>
                      <a:pt x="879" y="1041"/>
                    </a:lnTo>
                    <a:lnTo>
                      <a:pt x="875" y="1046"/>
                    </a:lnTo>
                    <a:lnTo>
                      <a:pt x="870" y="1051"/>
                    </a:lnTo>
                    <a:lnTo>
                      <a:pt x="865" y="1056"/>
                    </a:lnTo>
                    <a:lnTo>
                      <a:pt x="859" y="1059"/>
                    </a:lnTo>
                    <a:lnTo>
                      <a:pt x="853" y="1063"/>
                    </a:lnTo>
                    <a:lnTo>
                      <a:pt x="846" y="1064"/>
                    </a:lnTo>
                    <a:lnTo>
                      <a:pt x="838" y="1064"/>
                    </a:lnTo>
                    <a:lnTo>
                      <a:pt x="825" y="1064"/>
                    </a:lnTo>
                    <a:lnTo>
                      <a:pt x="811" y="1063"/>
                    </a:lnTo>
                    <a:lnTo>
                      <a:pt x="797" y="1062"/>
                    </a:lnTo>
                    <a:lnTo>
                      <a:pt x="786" y="1059"/>
                    </a:lnTo>
                    <a:lnTo>
                      <a:pt x="772" y="1056"/>
                    </a:lnTo>
                    <a:lnTo>
                      <a:pt x="761" y="1052"/>
                    </a:lnTo>
                    <a:lnTo>
                      <a:pt x="749" y="1048"/>
                    </a:lnTo>
                    <a:lnTo>
                      <a:pt x="738" y="1042"/>
                    </a:lnTo>
                    <a:lnTo>
                      <a:pt x="726" y="1037"/>
                    </a:lnTo>
                    <a:lnTo>
                      <a:pt x="717" y="1030"/>
                    </a:lnTo>
                    <a:lnTo>
                      <a:pt x="712" y="1026"/>
                    </a:lnTo>
                    <a:lnTo>
                      <a:pt x="708" y="1022"/>
                    </a:lnTo>
                    <a:lnTo>
                      <a:pt x="699" y="1013"/>
                    </a:lnTo>
                    <a:lnTo>
                      <a:pt x="691" y="1004"/>
                    </a:lnTo>
                    <a:lnTo>
                      <a:pt x="684" y="993"/>
                    </a:lnTo>
                    <a:lnTo>
                      <a:pt x="677" y="981"/>
                    </a:lnTo>
                    <a:lnTo>
                      <a:pt x="672" y="969"/>
                    </a:lnTo>
                    <a:lnTo>
                      <a:pt x="667" y="972"/>
                    </a:lnTo>
                    <a:lnTo>
                      <a:pt x="662" y="975"/>
                    </a:lnTo>
                    <a:lnTo>
                      <a:pt x="652" y="981"/>
                    </a:lnTo>
                    <a:lnTo>
                      <a:pt x="637" y="994"/>
                    </a:lnTo>
                    <a:lnTo>
                      <a:pt x="627" y="1000"/>
                    </a:lnTo>
                    <a:lnTo>
                      <a:pt x="619" y="1005"/>
                    </a:lnTo>
                    <a:lnTo>
                      <a:pt x="614" y="1006"/>
                    </a:lnTo>
                    <a:lnTo>
                      <a:pt x="609" y="1008"/>
                    </a:lnTo>
                    <a:lnTo>
                      <a:pt x="604" y="1009"/>
                    </a:lnTo>
                    <a:lnTo>
                      <a:pt x="598" y="1009"/>
                    </a:lnTo>
                    <a:lnTo>
                      <a:pt x="590" y="1009"/>
                    </a:lnTo>
                    <a:lnTo>
                      <a:pt x="584" y="1008"/>
                    </a:lnTo>
                    <a:lnTo>
                      <a:pt x="581" y="1006"/>
                    </a:lnTo>
                    <a:lnTo>
                      <a:pt x="579" y="1005"/>
                    </a:lnTo>
                    <a:lnTo>
                      <a:pt x="572" y="1004"/>
                    </a:lnTo>
                    <a:lnTo>
                      <a:pt x="567" y="1000"/>
                    </a:lnTo>
                    <a:lnTo>
                      <a:pt x="563" y="996"/>
                    </a:lnTo>
                    <a:lnTo>
                      <a:pt x="557" y="992"/>
                    </a:lnTo>
                    <a:lnTo>
                      <a:pt x="553" y="988"/>
                    </a:lnTo>
                    <a:lnTo>
                      <a:pt x="546" y="977"/>
                    </a:lnTo>
                    <a:lnTo>
                      <a:pt x="542" y="971"/>
                    </a:lnTo>
                    <a:lnTo>
                      <a:pt x="538" y="965"/>
                    </a:lnTo>
                    <a:lnTo>
                      <a:pt x="532" y="952"/>
                    </a:lnTo>
                    <a:lnTo>
                      <a:pt x="526" y="940"/>
                    </a:lnTo>
                    <a:lnTo>
                      <a:pt x="519" y="927"/>
                    </a:lnTo>
                    <a:lnTo>
                      <a:pt x="513" y="914"/>
                    </a:lnTo>
                    <a:lnTo>
                      <a:pt x="506" y="903"/>
                    </a:lnTo>
                    <a:lnTo>
                      <a:pt x="502" y="897"/>
                    </a:lnTo>
                    <a:lnTo>
                      <a:pt x="498" y="893"/>
                    </a:lnTo>
                    <a:lnTo>
                      <a:pt x="493" y="888"/>
                    </a:lnTo>
                    <a:lnTo>
                      <a:pt x="489" y="884"/>
                    </a:lnTo>
                    <a:lnTo>
                      <a:pt x="484" y="880"/>
                    </a:lnTo>
                    <a:lnTo>
                      <a:pt x="481" y="878"/>
                    </a:lnTo>
                    <a:lnTo>
                      <a:pt x="478" y="877"/>
                    </a:lnTo>
                    <a:lnTo>
                      <a:pt x="473" y="874"/>
                    </a:lnTo>
                    <a:lnTo>
                      <a:pt x="466" y="872"/>
                    </a:lnTo>
                    <a:lnTo>
                      <a:pt x="460" y="872"/>
                    </a:lnTo>
                    <a:lnTo>
                      <a:pt x="453" y="870"/>
                    </a:lnTo>
                    <a:lnTo>
                      <a:pt x="447" y="872"/>
                    </a:lnTo>
                    <a:lnTo>
                      <a:pt x="441" y="873"/>
                    </a:lnTo>
                    <a:lnTo>
                      <a:pt x="435" y="874"/>
                    </a:lnTo>
                    <a:lnTo>
                      <a:pt x="428" y="876"/>
                    </a:lnTo>
                    <a:lnTo>
                      <a:pt x="427" y="895"/>
                    </a:lnTo>
                    <a:lnTo>
                      <a:pt x="426" y="913"/>
                    </a:lnTo>
                    <a:lnTo>
                      <a:pt x="426" y="930"/>
                    </a:lnTo>
                    <a:lnTo>
                      <a:pt x="427" y="950"/>
                    </a:lnTo>
                    <a:lnTo>
                      <a:pt x="386" y="947"/>
                    </a:lnTo>
                    <a:lnTo>
                      <a:pt x="368" y="946"/>
                    </a:lnTo>
                    <a:lnTo>
                      <a:pt x="360" y="944"/>
                    </a:lnTo>
                    <a:lnTo>
                      <a:pt x="350" y="942"/>
                    </a:lnTo>
                    <a:lnTo>
                      <a:pt x="341" y="940"/>
                    </a:lnTo>
                    <a:lnTo>
                      <a:pt x="333" y="938"/>
                    </a:lnTo>
                    <a:lnTo>
                      <a:pt x="324" y="935"/>
                    </a:lnTo>
                    <a:lnTo>
                      <a:pt x="316" y="932"/>
                    </a:lnTo>
                    <a:lnTo>
                      <a:pt x="307" y="928"/>
                    </a:lnTo>
                    <a:lnTo>
                      <a:pt x="298" y="924"/>
                    </a:lnTo>
                    <a:lnTo>
                      <a:pt x="279" y="915"/>
                    </a:lnTo>
                    <a:lnTo>
                      <a:pt x="279" y="836"/>
                    </a:lnTo>
                    <a:lnTo>
                      <a:pt x="303" y="832"/>
                    </a:lnTo>
                    <a:lnTo>
                      <a:pt x="315" y="830"/>
                    </a:lnTo>
                    <a:lnTo>
                      <a:pt x="325" y="826"/>
                    </a:lnTo>
                    <a:lnTo>
                      <a:pt x="331" y="823"/>
                    </a:lnTo>
                    <a:lnTo>
                      <a:pt x="335" y="822"/>
                    </a:lnTo>
                    <a:lnTo>
                      <a:pt x="339" y="818"/>
                    </a:lnTo>
                    <a:lnTo>
                      <a:pt x="342" y="815"/>
                    </a:lnTo>
                    <a:lnTo>
                      <a:pt x="345" y="811"/>
                    </a:lnTo>
                    <a:lnTo>
                      <a:pt x="348" y="807"/>
                    </a:lnTo>
                    <a:lnTo>
                      <a:pt x="349" y="802"/>
                    </a:lnTo>
                    <a:lnTo>
                      <a:pt x="349" y="797"/>
                    </a:lnTo>
                    <a:lnTo>
                      <a:pt x="349" y="789"/>
                    </a:lnTo>
                    <a:lnTo>
                      <a:pt x="348" y="782"/>
                    </a:lnTo>
                    <a:lnTo>
                      <a:pt x="346" y="774"/>
                    </a:lnTo>
                    <a:lnTo>
                      <a:pt x="345" y="768"/>
                    </a:lnTo>
                    <a:lnTo>
                      <a:pt x="342" y="762"/>
                    </a:lnTo>
                    <a:lnTo>
                      <a:pt x="339" y="756"/>
                    </a:lnTo>
                    <a:lnTo>
                      <a:pt x="336" y="750"/>
                    </a:lnTo>
                    <a:lnTo>
                      <a:pt x="332" y="745"/>
                    </a:lnTo>
                    <a:lnTo>
                      <a:pt x="327" y="741"/>
                    </a:lnTo>
                    <a:lnTo>
                      <a:pt x="323" y="736"/>
                    </a:lnTo>
                    <a:lnTo>
                      <a:pt x="312" y="727"/>
                    </a:lnTo>
                    <a:lnTo>
                      <a:pt x="302" y="719"/>
                    </a:lnTo>
                    <a:lnTo>
                      <a:pt x="290" y="711"/>
                    </a:lnTo>
                    <a:lnTo>
                      <a:pt x="265" y="696"/>
                    </a:lnTo>
                    <a:lnTo>
                      <a:pt x="251" y="687"/>
                    </a:lnTo>
                    <a:lnTo>
                      <a:pt x="240" y="679"/>
                    </a:lnTo>
                    <a:lnTo>
                      <a:pt x="228" y="669"/>
                    </a:lnTo>
                    <a:lnTo>
                      <a:pt x="222" y="663"/>
                    </a:lnTo>
                    <a:lnTo>
                      <a:pt x="217" y="658"/>
                    </a:lnTo>
                    <a:lnTo>
                      <a:pt x="208" y="646"/>
                    </a:lnTo>
                    <a:lnTo>
                      <a:pt x="204" y="640"/>
                    </a:lnTo>
                    <a:lnTo>
                      <a:pt x="200" y="633"/>
                    </a:lnTo>
                    <a:lnTo>
                      <a:pt x="192" y="637"/>
                    </a:lnTo>
                    <a:lnTo>
                      <a:pt x="184" y="644"/>
                    </a:lnTo>
                    <a:lnTo>
                      <a:pt x="182" y="646"/>
                    </a:lnTo>
                    <a:lnTo>
                      <a:pt x="179" y="650"/>
                    </a:lnTo>
                    <a:lnTo>
                      <a:pt x="174" y="658"/>
                    </a:lnTo>
                    <a:lnTo>
                      <a:pt x="170" y="666"/>
                    </a:lnTo>
                    <a:lnTo>
                      <a:pt x="167" y="675"/>
                    </a:lnTo>
                    <a:lnTo>
                      <a:pt x="166" y="684"/>
                    </a:lnTo>
                    <a:lnTo>
                      <a:pt x="166" y="694"/>
                    </a:lnTo>
                    <a:lnTo>
                      <a:pt x="166" y="700"/>
                    </a:lnTo>
                    <a:lnTo>
                      <a:pt x="167" y="706"/>
                    </a:lnTo>
                    <a:lnTo>
                      <a:pt x="168" y="715"/>
                    </a:lnTo>
                    <a:lnTo>
                      <a:pt x="172" y="724"/>
                    </a:lnTo>
                    <a:lnTo>
                      <a:pt x="175" y="733"/>
                    </a:lnTo>
                    <a:lnTo>
                      <a:pt x="179" y="742"/>
                    </a:lnTo>
                    <a:lnTo>
                      <a:pt x="182" y="752"/>
                    </a:lnTo>
                    <a:lnTo>
                      <a:pt x="184" y="761"/>
                    </a:lnTo>
                    <a:lnTo>
                      <a:pt x="186" y="766"/>
                    </a:lnTo>
                    <a:lnTo>
                      <a:pt x="186" y="772"/>
                    </a:lnTo>
                    <a:lnTo>
                      <a:pt x="184" y="781"/>
                    </a:lnTo>
                    <a:lnTo>
                      <a:pt x="183" y="789"/>
                    </a:lnTo>
                    <a:lnTo>
                      <a:pt x="180" y="797"/>
                    </a:lnTo>
                    <a:lnTo>
                      <a:pt x="178" y="803"/>
                    </a:lnTo>
                    <a:lnTo>
                      <a:pt x="170" y="816"/>
                    </a:lnTo>
                    <a:lnTo>
                      <a:pt x="160" y="831"/>
                    </a:lnTo>
                    <a:lnTo>
                      <a:pt x="171" y="861"/>
                    </a:lnTo>
                    <a:lnTo>
                      <a:pt x="160" y="859"/>
                    </a:lnTo>
                    <a:lnTo>
                      <a:pt x="151" y="856"/>
                    </a:lnTo>
                    <a:lnTo>
                      <a:pt x="143" y="852"/>
                    </a:lnTo>
                    <a:lnTo>
                      <a:pt x="137" y="848"/>
                    </a:lnTo>
                    <a:lnTo>
                      <a:pt x="129" y="843"/>
                    </a:lnTo>
                    <a:lnTo>
                      <a:pt x="122" y="837"/>
                    </a:lnTo>
                    <a:lnTo>
                      <a:pt x="117" y="831"/>
                    </a:lnTo>
                    <a:lnTo>
                      <a:pt x="112" y="824"/>
                    </a:lnTo>
                    <a:lnTo>
                      <a:pt x="101" y="810"/>
                    </a:lnTo>
                    <a:lnTo>
                      <a:pt x="92" y="794"/>
                    </a:lnTo>
                    <a:lnTo>
                      <a:pt x="81" y="778"/>
                    </a:lnTo>
                    <a:lnTo>
                      <a:pt x="72" y="761"/>
                    </a:lnTo>
                    <a:lnTo>
                      <a:pt x="106" y="756"/>
                    </a:lnTo>
                    <a:lnTo>
                      <a:pt x="101" y="736"/>
                    </a:lnTo>
                    <a:lnTo>
                      <a:pt x="93" y="733"/>
                    </a:lnTo>
                    <a:lnTo>
                      <a:pt x="85" y="728"/>
                    </a:lnTo>
                    <a:lnTo>
                      <a:pt x="80" y="723"/>
                    </a:lnTo>
                    <a:lnTo>
                      <a:pt x="73" y="717"/>
                    </a:lnTo>
                    <a:lnTo>
                      <a:pt x="69" y="711"/>
                    </a:lnTo>
                    <a:lnTo>
                      <a:pt x="66" y="704"/>
                    </a:lnTo>
                    <a:lnTo>
                      <a:pt x="59" y="688"/>
                    </a:lnTo>
                    <a:lnTo>
                      <a:pt x="56" y="681"/>
                    </a:lnTo>
                    <a:lnTo>
                      <a:pt x="55" y="671"/>
                    </a:lnTo>
                    <a:lnTo>
                      <a:pt x="51" y="654"/>
                    </a:lnTo>
                    <a:lnTo>
                      <a:pt x="46" y="619"/>
                    </a:lnTo>
                    <a:close/>
                    <a:moveTo>
                      <a:pt x="10" y="799"/>
                    </a:moveTo>
                    <a:lnTo>
                      <a:pt x="5" y="774"/>
                    </a:lnTo>
                    <a:lnTo>
                      <a:pt x="0" y="750"/>
                    </a:lnTo>
                    <a:lnTo>
                      <a:pt x="6" y="750"/>
                    </a:lnTo>
                    <a:lnTo>
                      <a:pt x="10" y="799"/>
                    </a:lnTo>
                    <a:close/>
                    <a:moveTo>
                      <a:pt x="60" y="930"/>
                    </a:moveTo>
                    <a:lnTo>
                      <a:pt x="55" y="919"/>
                    </a:lnTo>
                    <a:lnTo>
                      <a:pt x="50" y="910"/>
                    </a:lnTo>
                    <a:lnTo>
                      <a:pt x="42" y="890"/>
                    </a:lnTo>
                    <a:lnTo>
                      <a:pt x="48" y="895"/>
                    </a:lnTo>
                    <a:lnTo>
                      <a:pt x="58" y="901"/>
                    </a:lnTo>
                    <a:lnTo>
                      <a:pt x="67" y="906"/>
                    </a:lnTo>
                    <a:lnTo>
                      <a:pt x="71" y="909"/>
                    </a:lnTo>
                    <a:lnTo>
                      <a:pt x="76" y="910"/>
                    </a:lnTo>
                    <a:lnTo>
                      <a:pt x="73" y="915"/>
                    </a:lnTo>
                    <a:lnTo>
                      <a:pt x="68" y="921"/>
                    </a:lnTo>
                    <a:lnTo>
                      <a:pt x="60" y="930"/>
                    </a:lnTo>
                    <a:close/>
                    <a:moveTo>
                      <a:pt x="101" y="988"/>
                    </a:moveTo>
                    <a:lnTo>
                      <a:pt x="93" y="979"/>
                    </a:lnTo>
                    <a:lnTo>
                      <a:pt x="85" y="968"/>
                    </a:lnTo>
                    <a:lnTo>
                      <a:pt x="91" y="972"/>
                    </a:lnTo>
                    <a:lnTo>
                      <a:pt x="93" y="973"/>
                    </a:lnTo>
                    <a:lnTo>
                      <a:pt x="96" y="976"/>
                    </a:lnTo>
                    <a:lnTo>
                      <a:pt x="100" y="981"/>
                    </a:lnTo>
                    <a:lnTo>
                      <a:pt x="101" y="984"/>
                    </a:lnTo>
                    <a:lnTo>
                      <a:pt x="101" y="98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619600" y="3187800"/>
                <a:ext cx="360360" cy="311040"/>
              </a:xfrm>
              <a:custGeom>
                <a:avLst/>
                <a:gdLst/>
                <a:ahLst/>
                <a:rect l="l" t="t" r="r" b="b"/>
                <a:pathLst>
                  <a:path w="701" h="607">
                    <a:moveTo>
                      <a:pt x="539" y="257"/>
                    </a:moveTo>
                    <a:lnTo>
                      <a:pt x="523" y="248"/>
                    </a:lnTo>
                    <a:lnTo>
                      <a:pt x="510" y="254"/>
                    </a:lnTo>
                    <a:lnTo>
                      <a:pt x="498" y="260"/>
                    </a:lnTo>
                    <a:lnTo>
                      <a:pt x="473" y="273"/>
                    </a:lnTo>
                    <a:lnTo>
                      <a:pt x="490" y="268"/>
                    </a:lnTo>
                    <a:lnTo>
                      <a:pt x="506" y="264"/>
                    </a:lnTo>
                    <a:lnTo>
                      <a:pt x="523" y="260"/>
                    </a:lnTo>
                    <a:lnTo>
                      <a:pt x="539" y="257"/>
                    </a:lnTo>
                    <a:close/>
                    <a:moveTo>
                      <a:pt x="1" y="341"/>
                    </a:moveTo>
                    <a:lnTo>
                      <a:pt x="0" y="334"/>
                    </a:lnTo>
                    <a:lnTo>
                      <a:pt x="0" y="324"/>
                    </a:lnTo>
                    <a:lnTo>
                      <a:pt x="0" y="311"/>
                    </a:lnTo>
                    <a:lnTo>
                      <a:pt x="2" y="298"/>
                    </a:lnTo>
                    <a:lnTo>
                      <a:pt x="4" y="286"/>
                    </a:lnTo>
                    <a:lnTo>
                      <a:pt x="8" y="276"/>
                    </a:lnTo>
                    <a:lnTo>
                      <a:pt x="12" y="265"/>
                    </a:lnTo>
                    <a:lnTo>
                      <a:pt x="17" y="256"/>
                    </a:lnTo>
                    <a:lnTo>
                      <a:pt x="20" y="250"/>
                    </a:lnTo>
                    <a:lnTo>
                      <a:pt x="22" y="247"/>
                    </a:lnTo>
                    <a:lnTo>
                      <a:pt x="29" y="237"/>
                    </a:lnTo>
                    <a:lnTo>
                      <a:pt x="37" y="231"/>
                    </a:lnTo>
                    <a:lnTo>
                      <a:pt x="45" y="223"/>
                    </a:lnTo>
                    <a:lnTo>
                      <a:pt x="49" y="219"/>
                    </a:lnTo>
                    <a:lnTo>
                      <a:pt x="54" y="216"/>
                    </a:lnTo>
                    <a:lnTo>
                      <a:pt x="63" y="210"/>
                    </a:lnTo>
                    <a:lnTo>
                      <a:pt x="83" y="199"/>
                    </a:lnTo>
                    <a:lnTo>
                      <a:pt x="107" y="189"/>
                    </a:lnTo>
                    <a:lnTo>
                      <a:pt x="237" y="189"/>
                    </a:lnTo>
                    <a:lnTo>
                      <a:pt x="242" y="191"/>
                    </a:lnTo>
                    <a:lnTo>
                      <a:pt x="246" y="194"/>
                    </a:lnTo>
                    <a:lnTo>
                      <a:pt x="256" y="199"/>
                    </a:lnTo>
                    <a:lnTo>
                      <a:pt x="260" y="202"/>
                    </a:lnTo>
                    <a:lnTo>
                      <a:pt x="265" y="204"/>
                    </a:lnTo>
                    <a:lnTo>
                      <a:pt x="270" y="206"/>
                    </a:lnTo>
                    <a:lnTo>
                      <a:pt x="275" y="206"/>
                    </a:lnTo>
                    <a:lnTo>
                      <a:pt x="285" y="206"/>
                    </a:lnTo>
                    <a:lnTo>
                      <a:pt x="293" y="203"/>
                    </a:lnTo>
                    <a:lnTo>
                      <a:pt x="300" y="199"/>
                    </a:lnTo>
                    <a:lnTo>
                      <a:pt x="307" y="195"/>
                    </a:lnTo>
                    <a:lnTo>
                      <a:pt x="322" y="187"/>
                    </a:lnTo>
                    <a:lnTo>
                      <a:pt x="329" y="183"/>
                    </a:lnTo>
                    <a:lnTo>
                      <a:pt x="337" y="181"/>
                    </a:lnTo>
                    <a:lnTo>
                      <a:pt x="341" y="199"/>
                    </a:lnTo>
                    <a:lnTo>
                      <a:pt x="344" y="215"/>
                    </a:lnTo>
                    <a:lnTo>
                      <a:pt x="349" y="231"/>
                    </a:lnTo>
                    <a:lnTo>
                      <a:pt x="352" y="239"/>
                    </a:lnTo>
                    <a:lnTo>
                      <a:pt x="354" y="248"/>
                    </a:lnTo>
                    <a:lnTo>
                      <a:pt x="384" y="235"/>
                    </a:lnTo>
                    <a:lnTo>
                      <a:pt x="411" y="223"/>
                    </a:lnTo>
                    <a:lnTo>
                      <a:pt x="436" y="210"/>
                    </a:lnTo>
                    <a:lnTo>
                      <a:pt x="460" y="196"/>
                    </a:lnTo>
                    <a:lnTo>
                      <a:pt x="472" y="190"/>
                    </a:lnTo>
                    <a:lnTo>
                      <a:pt x="484" y="182"/>
                    </a:lnTo>
                    <a:lnTo>
                      <a:pt x="494" y="174"/>
                    </a:lnTo>
                    <a:lnTo>
                      <a:pt x="505" y="165"/>
                    </a:lnTo>
                    <a:lnTo>
                      <a:pt x="517" y="156"/>
                    </a:lnTo>
                    <a:lnTo>
                      <a:pt x="527" y="145"/>
                    </a:lnTo>
                    <a:lnTo>
                      <a:pt x="538" y="134"/>
                    </a:lnTo>
                    <a:lnTo>
                      <a:pt x="548" y="123"/>
                    </a:lnTo>
                    <a:lnTo>
                      <a:pt x="558" y="112"/>
                    </a:lnTo>
                    <a:lnTo>
                      <a:pt x="567" y="100"/>
                    </a:lnTo>
                    <a:lnTo>
                      <a:pt x="585" y="75"/>
                    </a:lnTo>
                    <a:lnTo>
                      <a:pt x="605" y="50"/>
                    </a:lnTo>
                    <a:lnTo>
                      <a:pt x="614" y="38"/>
                    </a:lnTo>
                    <a:lnTo>
                      <a:pt x="624" y="28"/>
                    </a:lnTo>
                    <a:lnTo>
                      <a:pt x="633" y="18"/>
                    </a:lnTo>
                    <a:lnTo>
                      <a:pt x="643" y="10"/>
                    </a:lnTo>
                    <a:lnTo>
                      <a:pt x="653" y="5"/>
                    </a:lnTo>
                    <a:lnTo>
                      <a:pt x="662" y="1"/>
                    </a:lnTo>
                    <a:lnTo>
                      <a:pt x="667" y="0"/>
                    </a:lnTo>
                    <a:lnTo>
                      <a:pt x="672" y="0"/>
                    </a:lnTo>
                    <a:lnTo>
                      <a:pt x="676" y="0"/>
                    </a:lnTo>
                    <a:lnTo>
                      <a:pt x="682" y="1"/>
                    </a:lnTo>
                    <a:lnTo>
                      <a:pt x="687" y="3"/>
                    </a:lnTo>
                    <a:lnTo>
                      <a:pt x="692" y="5"/>
                    </a:lnTo>
                    <a:lnTo>
                      <a:pt x="696" y="9"/>
                    </a:lnTo>
                    <a:lnTo>
                      <a:pt x="701" y="13"/>
                    </a:lnTo>
                    <a:lnTo>
                      <a:pt x="699" y="22"/>
                    </a:lnTo>
                    <a:lnTo>
                      <a:pt x="695" y="32"/>
                    </a:lnTo>
                    <a:lnTo>
                      <a:pt x="687" y="47"/>
                    </a:lnTo>
                    <a:lnTo>
                      <a:pt x="670" y="75"/>
                    </a:lnTo>
                    <a:lnTo>
                      <a:pt x="663" y="90"/>
                    </a:lnTo>
                    <a:lnTo>
                      <a:pt x="659" y="96"/>
                    </a:lnTo>
                    <a:lnTo>
                      <a:pt x="656" y="104"/>
                    </a:lnTo>
                    <a:lnTo>
                      <a:pt x="654" y="112"/>
                    </a:lnTo>
                    <a:lnTo>
                      <a:pt x="653" y="121"/>
                    </a:lnTo>
                    <a:lnTo>
                      <a:pt x="651" y="129"/>
                    </a:lnTo>
                    <a:lnTo>
                      <a:pt x="651" y="138"/>
                    </a:lnTo>
                    <a:lnTo>
                      <a:pt x="651" y="144"/>
                    </a:lnTo>
                    <a:lnTo>
                      <a:pt x="651" y="145"/>
                    </a:lnTo>
                    <a:lnTo>
                      <a:pt x="653" y="146"/>
                    </a:lnTo>
                    <a:lnTo>
                      <a:pt x="654" y="150"/>
                    </a:lnTo>
                    <a:lnTo>
                      <a:pt x="655" y="153"/>
                    </a:lnTo>
                    <a:lnTo>
                      <a:pt x="660" y="159"/>
                    </a:lnTo>
                    <a:lnTo>
                      <a:pt x="666" y="163"/>
                    </a:lnTo>
                    <a:lnTo>
                      <a:pt x="679" y="173"/>
                    </a:lnTo>
                    <a:lnTo>
                      <a:pt x="687" y="177"/>
                    </a:lnTo>
                    <a:lnTo>
                      <a:pt x="693" y="181"/>
                    </a:lnTo>
                    <a:lnTo>
                      <a:pt x="686" y="191"/>
                    </a:lnTo>
                    <a:lnTo>
                      <a:pt x="679" y="200"/>
                    </a:lnTo>
                    <a:lnTo>
                      <a:pt x="671" y="208"/>
                    </a:lnTo>
                    <a:lnTo>
                      <a:pt x="663" y="216"/>
                    </a:lnTo>
                    <a:lnTo>
                      <a:pt x="654" y="223"/>
                    </a:lnTo>
                    <a:lnTo>
                      <a:pt x="645" y="228"/>
                    </a:lnTo>
                    <a:lnTo>
                      <a:pt x="635" y="233"/>
                    </a:lnTo>
                    <a:lnTo>
                      <a:pt x="626" y="237"/>
                    </a:lnTo>
                    <a:lnTo>
                      <a:pt x="616" y="240"/>
                    </a:lnTo>
                    <a:lnTo>
                      <a:pt x="606" y="244"/>
                    </a:lnTo>
                    <a:lnTo>
                      <a:pt x="584" y="249"/>
                    </a:lnTo>
                    <a:lnTo>
                      <a:pt x="539" y="257"/>
                    </a:lnTo>
                    <a:lnTo>
                      <a:pt x="543" y="260"/>
                    </a:lnTo>
                    <a:lnTo>
                      <a:pt x="525" y="265"/>
                    </a:lnTo>
                    <a:lnTo>
                      <a:pt x="517" y="269"/>
                    </a:lnTo>
                    <a:lnTo>
                      <a:pt x="509" y="273"/>
                    </a:lnTo>
                    <a:lnTo>
                      <a:pt x="501" y="277"/>
                    </a:lnTo>
                    <a:lnTo>
                      <a:pt x="493" y="281"/>
                    </a:lnTo>
                    <a:lnTo>
                      <a:pt x="488" y="286"/>
                    </a:lnTo>
                    <a:lnTo>
                      <a:pt x="481" y="291"/>
                    </a:lnTo>
                    <a:lnTo>
                      <a:pt x="476" y="298"/>
                    </a:lnTo>
                    <a:lnTo>
                      <a:pt x="471" y="305"/>
                    </a:lnTo>
                    <a:lnTo>
                      <a:pt x="467" y="312"/>
                    </a:lnTo>
                    <a:lnTo>
                      <a:pt x="464" y="320"/>
                    </a:lnTo>
                    <a:lnTo>
                      <a:pt x="461" y="328"/>
                    </a:lnTo>
                    <a:lnTo>
                      <a:pt x="459" y="338"/>
                    </a:lnTo>
                    <a:lnTo>
                      <a:pt x="457" y="348"/>
                    </a:lnTo>
                    <a:lnTo>
                      <a:pt x="457" y="359"/>
                    </a:lnTo>
                    <a:lnTo>
                      <a:pt x="457" y="365"/>
                    </a:lnTo>
                    <a:lnTo>
                      <a:pt x="459" y="370"/>
                    </a:lnTo>
                    <a:lnTo>
                      <a:pt x="460" y="381"/>
                    </a:lnTo>
                    <a:lnTo>
                      <a:pt x="464" y="392"/>
                    </a:lnTo>
                    <a:lnTo>
                      <a:pt x="467" y="396"/>
                    </a:lnTo>
                    <a:lnTo>
                      <a:pt x="469" y="401"/>
                    </a:lnTo>
                    <a:lnTo>
                      <a:pt x="476" y="409"/>
                    </a:lnTo>
                    <a:lnTo>
                      <a:pt x="482" y="418"/>
                    </a:lnTo>
                    <a:lnTo>
                      <a:pt x="496" y="434"/>
                    </a:lnTo>
                    <a:lnTo>
                      <a:pt x="510" y="450"/>
                    </a:lnTo>
                    <a:lnTo>
                      <a:pt x="517" y="458"/>
                    </a:lnTo>
                    <a:lnTo>
                      <a:pt x="523" y="467"/>
                    </a:lnTo>
                    <a:lnTo>
                      <a:pt x="526" y="471"/>
                    </a:lnTo>
                    <a:lnTo>
                      <a:pt x="527" y="476"/>
                    </a:lnTo>
                    <a:lnTo>
                      <a:pt x="531" y="485"/>
                    </a:lnTo>
                    <a:lnTo>
                      <a:pt x="533" y="491"/>
                    </a:lnTo>
                    <a:lnTo>
                      <a:pt x="534" y="496"/>
                    </a:lnTo>
                    <a:lnTo>
                      <a:pt x="535" y="502"/>
                    </a:lnTo>
                    <a:lnTo>
                      <a:pt x="535" y="508"/>
                    </a:lnTo>
                    <a:lnTo>
                      <a:pt x="535" y="514"/>
                    </a:lnTo>
                    <a:lnTo>
                      <a:pt x="534" y="520"/>
                    </a:lnTo>
                    <a:lnTo>
                      <a:pt x="533" y="525"/>
                    </a:lnTo>
                    <a:lnTo>
                      <a:pt x="530" y="530"/>
                    </a:lnTo>
                    <a:lnTo>
                      <a:pt x="529" y="535"/>
                    </a:lnTo>
                    <a:lnTo>
                      <a:pt x="525" y="539"/>
                    </a:lnTo>
                    <a:lnTo>
                      <a:pt x="518" y="547"/>
                    </a:lnTo>
                    <a:lnTo>
                      <a:pt x="514" y="551"/>
                    </a:lnTo>
                    <a:lnTo>
                      <a:pt x="510" y="555"/>
                    </a:lnTo>
                    <a:lnTo>
                      <a:pt x="502" y="563"/>
                    </a:lnTo>
                    <a:lnTo>
                      <a:pt x="485" y="576"/>
                    </a:lnTo>
                    <a:lnTo>
                      <a:pt x="485" y="574"/>
                    </a:lnTo>
                    <a:lnTo>
                      <a:pt x="486" y="570"/>
                    </a:lnTo>
                    <a:lnTo>
                      <a:pt x="485" y="564"/>
                    </a:lnTo>
                    <a:lnTo>
                      <a:pt x="485" y="560"/>
                    </a:lnTo>
                    <a:lnTo>
                      <a:pt x="484" y="555"/>
                    </a:lnTo>
                    <a:lnTo>
                      <a:pt x="482" y="551"/>
                    </a:lnTo>
                    <a:lnTo>
                      <a:pt x="480" y="547"/>
                    </a:lnTo>
                    <a:lnTo>
                      <a:pt x="477" y="545"/>
                    </a:lnTo>
                    <a:lnTo>
                      <a:pt x="472" y="538"/>
                    </a:lnTo>
                    <a:lnTo>
                      <a:pt x="464" y="534"/>
                    </a:lnTo>
                    <a:lnTo>
                      <a:pt x="456" y="530"/>
                    </a:lnTo>
                    <a:lnTo>
                      <a:pt x="445" y="527"/>
                    </a:lnTo>
                    <a:lnTo>
                      <a:pt x="435" y="526"/>
                    </a:lnTo>
                    <a:lnTo>
                      <a:pt x="424" y="525"/>
                    </a:lnTo>
                    <a:lnTo>
                      <a:pt x="413" y="525"/>
                    </a:lnTo>
                    <a:lnTo>
                      <a:pt x="389" y="525"/>
                    </a:lnTo>
                    <a:lnTo>
                      <a:pt x="364" y="526"/>
                    </a:lnTo>
                    <a:lnTo>
                      <a:pt x="341" y="526"/>
                    </a:lnTo>
                    <a:lnTo>
                      <a:pt x="332" y="527"/>
                    </a:lnTo>
                    <a:lnTo>
                      <a:pt x="328" y="529"/>
                    </a:lnTo>
                    <a:lnTo>
                      <a:pt x="324" y="530"/>
                    </a:lnTo>
                    <a:lnTo>
                      <a:pt x="316" y="534"/>
                    </a:lnTo>
                    <a:lnTo>
                      <a:pt x="310" y="539"/>
                    </a:lnTo>
                    <a:lnTo>
                      <a:pt x="303" y="545"/>
                    </a:lnTo>
                    <a:lnTo>
                      <a:pt x="298" y="551"/>
                    </a:lnTo>
                    <a:lnTo>
                      <a:pt x="287" y="566"/>
                    </a:lnTo>
                    <a:lnTo>
                      <a:pt x="277" y="580"/>
                    </a:lnTo>
                    <a:lnTo>
                      <a:pt x="271" y="588"/>
                    </a:lnTo>
                    <a:lnTo>
                      <a:pt x="267" y="591"/>
                    </a:lnTo>
                    <a:lnTo>
                      <a:pt x="265" y="593"/>
                    </a:lnTo>
                    <a:lnTo>
                      <a:pt x="262" y="596"/>
                    </a:lnTo>
                    <a:lnTo>
                      <a:pt x="258" y="599"/>
                    </a:lnTo>
                    <a:lnTo>
                      <a:pt x="254" y="601"/>
                    </a:lnTo>
                    <a:lnTo>
                      <a:pt x="250" y="603"/>
                    </a:lnTo>
                    <a:lnTo>
                      <a:pt x="242" y="605"/>
                    </a:lnTo>
                    <a:lnTo>
                      <a:pt x="233" y="607"/>
                    </a:lnTo>
                    <a:lnTo>
                      <a:pt x="228" y="605"/>
                    </a:lnTo>
                    <a:lnTo>
                      <a:pt x="223" y="604"/>
                    </a:lnTo>
                    <a:lnTo>
                      <a:pt x="219" y="601"/>
                    </a:lnTo>
                    <a:lnTo>
                      <a:pt x="215" y="599"/>
                    </a:lnTo>
                    <a:lnTo>
                      <a:pt x="212" y="595"/>
                    </a:lnTo>
                    <a:lnTo>
                      <a:pt x="209" y="591"/>
                    </a:lnTo>
                    <a:lnTo>
                      <a:pt x="207" y="585"/>
                    </a:lnTo>
                    <a:lnTo>
                      <a:pt x="207" y="581"/>
                    </a:lnTo>
                    <a:lnTo>
                      <a:pt x="207" y="576"/>
                    </a:lnTo>
                    <a:lnTo>
                      <a:pt x="208" y="574"/>
                    </a:lnTo>
                    <a:lnTo>
                      <a:pt x="209" y="570"/>
                    </a:lnTo>
                    <a:lnTo>
                      <a:pt x="212" y="567"/>
                    </a:lnTo>
                    <a:lnTo>
                      <a:pt x="217" y="563"/>
                    </a:lnTo>
                    <a:lnTo>
                      <a:pt x="224" y="560"/>
                    </a:lnTo>
                    <a:lnTo>
                      <a:pt x="240" y="555"/>
                    </a:lnTo>
                    <a:lnTo>
                      <a:pt x="248" y="551"/>
                    </a:lnTo>
                    <a:lnTo>
                      <a:pt x="256" y="549"/>
                    </a:lnTo>
                    <a:lnTo>
                      <a:pt x="250" y="535"/>
                    </a:lnTo>
                    <a:lnTo>
                      <a:pt x="246" y="522"/>
                    </a:lnTo>
                    <a:lnTo>
                      <a:pt x="252" y="521"/>
                    </a:lnTo>
                    <a:lnTo>
                      <a:pt x="256" y="521"/>
                    </a:lnTo>
                    <a:lnTo>
                      <a:pt x="261" y="520"/>
                    </a:lnTo>
                    <a:lnTo>
                      <a:pt x="265" y="517"/>
                    </a:lnTo>
                    <a:lnTo>
                      <a:pt x="269" y="516"/>
                    </a:lnTo>
                    <a:lnTo>
                      <a:pt x="271" y="513"/>
                    </a:lnTo>
                    <a:lnTo>
                      <a:pt x="279" y="509"/>
                    </a:lnTo>
                    <a:lnTo>
                      <a:pt x="286" y="502"/>
                    </a:lnTo>
                    <a:lnTo>
                      <a:pt x="291" y="496"/>
                    </a:lnTo>
                    <a:lnTo>
                      <a:pt x="304" y="481"/>
                    </a:lnTo>
                    <a:lnTo>
                      <a:pt x="282" y="455"/>
                    </a:lnTo>
                    <a:lnTo>
                      <a:pt x="260" y="430"/>
                    </a:lnTo>
                    <a:lnTo>
                      <a:pt x="249" y="418"/>
                    </a:lnTo>
                    <a:lnTo>
                      <a:pt x="237" y="406"/>
                    </a:lnTo>
                    <a:lnTo>
                      <a:pt x="225" y="396"/>
                    </a:lnTo>
                    <a:lnTo>
                      <a:pt x="215" y="386"/>
                    </a:lnTo>
                    <a:lnTo>
                      <a:pt x="203" y="377"/>
                    </a:lnTo>
                    <a:lnTo>
                      <a:pt x="196" y="373"/>
                    </a:lnTo>
                    <a:lnTo>
                      <a:pt x="190" y="369"/>
                    </a:lnTo>
                    <a:lnTo>
                      <a:pt x="183" y="365"/>
                    </a:lnTo>
                    <a:lnTo>
                      <a:pt x="176" y="361"/>
                    </a:lnTo>
                    <a:lnTo>
                      <a:pt x="170" y="359"/>
                    </a:lnTo>
                    <a:lnTo>
                      <a:pt x="163" y="356"/>
                    </a:lnTo>
                    <a:lnTo>
                      <a:pt x="149" y="351"/>
                    </a:lnTo>
                    <a:lnTo>
                      <a:pt x="133" y="348"/>
                    </a:lnTo>
                    <a:lnTo>
                      <a:pt x="117" y="345"/>
                    </a:lnTo>
                    <a:lnTo>
                      <a:pt x="100" y="344"/>
                    </a:lnTo>
                    <a:lnTo>
                      <a:pt x="74" y="344"/>
                    </a:lnTo>
                    <a:lnTo>
                      <a:pt x="49" y="343"/>
                    </a:lnTo>
                    <a:lnTo>
                      <a:pt x="25" y="341"/>
                    </a:lnTo>
                    <a:lnTo>
                      <a:pt x="13" y="341"/>
                    </a:lnTo>
                    <a:lnTo>
                      <a:pt x="1" y="34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15320" y="5319720"/>
                <a:ext cx="210960" cy="190800"/>
              </a:xfrm>
              <a:custGeom>
                <a:avLst/>
                <a:gdLst/>
                <a:ahLst/>
                <a:rect l="l" t="t" r="r" b="b"/>
                <a:pathLst>
                  <a:path w="410" h="369">
                    <a:moveTo>
                      <a:pt x="26" y="102"/>
                    </a:moveTo>
                    <a:lnTo>
                      <a:pt x="2" y="159"/>
                    </a:lnTo>
                    <a:lnTo>
                      <a:pt x="0" y="149"/>
                    </a:lnTo>
                    <a:lnTo>
                      <a:pt x="0" y="138"/>
                    </a:lnTo>
                    <a:lnTo>
                      <a:pt x="0" y="129"/>
                    </a:lnTo>
                    <a:lnTo>
                      <a:pt x="0" y="120"/>
                    </a:lnTo>
                    <a:lnTo>
                      <a:pt x="1" y="112"/>
                    </a:lnTo>
                    <a:lnTo>
                      <a:pt x="4" y="105"/>
                    </a:lnTo>
                    <a:lnTo>
                      <a:pt x="6" y="98"/>
                    </a:lnTo>
                    <a:lnTo>
                      <a:pt x="10" y="92"/>
                    </a:lnTo>
                    <a:lnTo>
                      <a:pt x="14" y="87"/>
                    </a:lnTo>
                    <a:lnTo>
                      <a:pt x="18" y="81"/>
                    </a:lnTo>
                    <a:lnTo>
                      <a:pt x="24" y="76"/>
                    </a:lnTo>
                    <a:lnTo>
                      <a:pt x="30" y="72"/>
                    </a:lnTo>
                    <a:lnTo>
                      <a:pt x="42" y="64"/>
                    </a:lnTo>
                    <a:lnTo>
                      <a:pt x="57" y="58"/>
                    </a:lnTo>
                    <a:lnTo>
                      <a:pt x="71" y="51"/>
                    </a:lnTo>
                    <a:lnTo>
                      <a:pt x="88" y="46"/>
                    </a:lnTo>
                    <a:lnTo>
                      <a:pt x="121" y="34"/>
                    </a:lnTo>
                    <a:lnTo>
                      <a:pt x="138" y="27"/>
                    </a:lnTo>
                    <a:lnTo>
                      <a:pt x="154" y="19"/>
                    </a:lnTo>
                    <a:lnTo>
                      <a:pt x="162" y="15"/>
                    </a:lnTo>
                    <a:lnTo>
                      <a:pt x="170" y="10"/>
                    </a:lnTo>
                    <a:lnTo>
                      <a:pt x="177" y="5"/>
                    </a:lnTo>
                    <a:lnTo>
                      <a:pt x="184" y="0"/>
                    </a:lnTo>
                    <a:lnTo>
                      <a:pt x="410" y="251"/>
                    </a:lnTo>
                    <a:lnTo>
                      <a:pt x="318" y="369"/>
                    </a:lnTo>
                    <a:lnTo>
                      <a:pt x="227" y="218"/>
                    </a:lnTo>
                    <a:lnTo>
                      <a:pt x="26" y="10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354800" y="5762880"/>
                <a:ext cx="192240" cy="255600"/>
              </a:xfrm>
              <a:custGeom>
                <a:avLst/>
                <a:gdLst/>
                <a:ahLst/>
                <a:rect l="l" t="t" r="r" b="b"/>
                <a:pathLst>
                  <a:path w="372" h="500">
                    <a:moveTo>
                      <a:pt x="58" y="82"/>
                    </a:moveTo>
                    <a:lnTo>
                      <a:pt x="4" y="9"/>
                    </a:lnTo>
                    <a:lnTo>
                      <a:pt x="9" y="0"/>
                    </a:lnTo>
                    <a:lnTo>
                      <a:pt x="68" y="82"/>
                    </a:lnTo>
                    <a:lnTo>
                      <a:pt x="61" y="108"/>
                    </a:lnTo>
                    <a:lnTo>
                      <a:pt x="352" y="186"/>
                    </a:lnTo>
                    <a:lnTo>
                      <a:pt x="372" y="216"/>
                    </a:lnTo>
                    <a:lnTo>
                      <a:pt x="371" y="231"/>
                    </a:lnTo>
                    <a:lnTo>
                      <a:pt x="368" y="245"/>
                    </a:lnTo>
                    <a:lnTo>
                      <a:pt x="364" y="260"/>
                    </a:lnTo>
                    <a:lnTo>
                      <a:pt x="360" y="273"/>
                    </a:lnTo>
                    <a:lnTo>
                      <a:pt x="355" y="285"/>
                    </a:lnTo>
                    <a:lnTo>
                      <a:pt x="350" y="298"/>
                    </a:lnTo>
                    <a:lnTo>
                      <a:pt x="343" y="310"/>
                    </a:lnTo>
                    <a:lnTo>
                      <a:pt x="335" y="320"/>
                    </a:lnTo>
                    <a:lnTo>
                      <a:pt x="327" y="332"/>
                    </a:lnTo>
                    <a:lnTo>
                      <a:pt x="318" y="343"/>
                    </a:lnTo>
                    <a:lnTo>
                      <a:pt x="309" y="353"/>
                    </a:lnTo>
                    <a:lnTo>
                      <a:pt x="298" y="364"/>
                    </a:lnTo>
                    <a:lnTo>
                      <a:pt x="288" y="375"/>
                    </a:lnTo>
                    <a:lnTo>
                      <a:pt x="277" y="384"/>
                    </a:lnTo>
                    <a:lnTo>
                      <a:pt x="253" y="404"/>
                    </a:lnTo>
                    <a:lnTo>
                      <a:pt x="244" y="410"/>
                    </a:lnTo>
                    <a:lnTo>
                      <a:pt x="235" y="415"/>
                    </a:lnTo>
                    <a:lnTo>
                      <a:pt x="224" y="419"/>
                    </a:lnTo>
                    <a:lnTo>
                      <a:pt x="214" y="423"/>
                    </a:lnTo>
                    <a:lnTo>
                      <a:pt x="173" y="438"/>
                    </a:lnTo>
                    <a:lnTo>
                      <a:pt x="164" y="442"/>
                    </a:lnTo>
                    <a:lnTo>
                      <a:pt x="156" y="446"/>
                    </a:lnTo>
                    <a:lnTo>
                      <a:pt x="148" y="450"/>
                    </a:lnTo>
                    <a:lnTo>
                      <a:pt x="141" y="456"/>
                    </a:lnTo>
                    <a:lnTo>
                      <a:pt x="135" y="462"/>
                    </a:lnTo>
                    <a:lnTo>
                      <a:pt x="131" y="469"/>
                    </a:lnTo>
                    <a:lnTo>
                      <a:pt x="128" y="479"/>
                    </a:lnTo>
                    <a:lnTo>
                      <a:pt x="128" y="483"/>
                    </a:lnTo>
                    <a:lnTo>
                      <a:pt x="127" y="488"/>
                    </a:lnTo>
                    <a:lnTo>
                      <a:pt x="128" y="500"/>
                    </a:lnTo>
                    <a:lnTo>
                      <a:pt x="112" y="485"/>
                    </a:lnTo>
                    <a:lnTo>
                      <a:pt x="106" y="479"/>
                    </a:lnTo>
                    <a:lnTo>
                      <a:pt x="98" y="471"/>
                    </a:lnTo>
                    <a:lnTo>
                      <a:pt x="91" y="463"/>
                    </a:lnTo>
                    <a:lnTo>
                      <a:pt x="85" y="454"/>
                    </a:lnTo>
                    <a:lnTo>
                      <a:pt x="78" y="444"/>
                    </a:lnTo>
                    <a:lnTo>
                      <a:pt x="73" y="435"/>
                    </a:lnTo>
                    <a:lnTo>
                      <a:pt x="54" y="401"/>
                    </a:lnTo>
                    <a:lnTo>
                      <a:pt x="48" y="384"/>
                    </a:lnTo>
                    <a:lnTo>
                      <a:pt x="40" y="368"/>
                    </a:lnTo>
                    <a:lnTo>
                      <a:pt x="35" y="352"/>
                    </a:lnTo>
                    <a:lnTo>
                      <a:pt x="29" y="336"/>
                    </a:lnTo>
                    <a:lnTo>
                      <a:pt x="20" y="306"/>
                    </a:lnTo>
                    <a:lnTo>
                      <a:pt x="13" y="274"/>
                    </a:lnTo>
                    <a:lnTo>
                      <a:pt x="9" y="257"/>
                    </a:lnTo>
                    <a:lnTo>
                      <a:pt x="7" y="240"/>
                    </a:lnTo>
                    <a:lnTo>
                      <a:pt x="3" y="206"/>
                    </a:lnTo>
                    <a:lnTo>
                      <a:pt x="0" y="166"/>
                    </a:lnTo>
                    <a:lnTo>
                      <a:pt x="19" y="189"/>
                    </a:lnTo>
                    <a:lnTo>
                      <a:pt x="29" y="104"/>
                    </a:lnTo>
                    <a:lnTo>
                      <a:pt x="58" y="8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99320" y="3978360"/>
                <a:ext cx="654120" cy="1079640"/>
              </a:xfrm>
              <a:custGeom>
                <a:avLst/>
                <a:gdLst/>
                <a:ahLst/>
                <a:rect l="l" t="t" r="r" b="b"/>
                <a:pathLst>
                  <a:path w="1267" h="2094">
                    <a:moveTo>
                      <a:pt x="1160" y="0"/>
                    </a:moveTo>
                    <a:lnTo>
                      <a:pt x="1267" y="48"/>
                    </a:lnTo>
                    <a:lnTo>
                      <a:pt x="1183" y="362"/>
                    </a:lnTo>
                    <a:lnTo>
                      <a:pt x="1181" y="367"/>
                    </a:lnTo>
                    <a:lnTo>
                      <a:pt x="1172" y="384"/>
                    </a:lnTo>
                    <a:lnTo>
                      <a:pt x="1158" y="408"/>
                    </a:lnTo>
                    <a:lnTo>
                      <a:pt x="1150" y="422"/>
                    </a:lnTo>
                    <a:lnTo>
                      <a:pt x="1141" y="435"/>
                    </a:lnTo>
                    <a:lnTo>
                      <a:pt x="1132" y="450"/>
                    </a:lnTo>
                    <a:lnTo>
                      <a:pt x="1121" y="463"/>
                    </a:lnTo>
                    <a:lnTo>
                      <a:pt x="1112" y="476"/>
                    </a:lnTo>
                    <a:lnTo>
                      <a:pt x="1102" y="488"/>
                    </a:lnTo>
                    <a:lnTo>
                      <a:pt x="1091" y="499"/>
                    </a:lnTo>
                    <a:lnTo>
                      <a:pt x="1079" y="507"/>
                    </a:lnTo>
                    <a:lnTo>
                      <a:pt x="1074" y="509"/>
                    </a:lnTo>
                    <a:lnTo>
                      <a:pt x="1070" y="512"/>
                    </a:lnTo>
                    <a:lnTo>
                      <a:pt x="1065" y="515"/>
                    </a:lnTo>
                    <a:lnTo>
                      <a:pt x="1059" y="515"/>
                    </a:lnTo>
                    <a:lnTo>
                      <a:pt x="1042" y="517"/>
                    </a:lnTo>
                    <a:lnTo>
                      <a:pt x="1033" y="519"/>
                    </a:lnTo>
                    <a:lnTo>
                      <a:pt x="1028" y="519"/>
                    </a:lnTo>
                    <a:lnTo>
                      <a:pt x="1027" y="517"/>
                    </a:lnTo>
                    <a:lnTo>
                      <a:pt x="1027" y="516"/>
                    </a:lnTo>
                    <a:lnTo>
                      <a:pt x="1027" y="515"/>
                    </a:lnTo>
                    <a:lnTo>
                      <a:pt x="1027" y="512"/>
                    </a:lnTo>
                    <a:lnTo>
                      <a:pt x="1027" y="503"/>
                    </a:lnTo>
                    <a:lnTo>
                      <a:pt x="1027" y="491"/>
                    </a:lnTo>
                    <a:lnTo>
                      <a:pt x="1025" y="483"/>
                    </a:lnTo>
                    <a:lnTo>
                      <a:pt x="1024" y="474"/>
                    </a:lnTo>
                    <a:lnTo>
                      <a:pt x="1021" y="464"/>
                    </a:lnTo>
                    <a:lnTo>
                      <a:pt x="1019" y="455"/>
                    </a:lnTo>
                    <a:lnTo>
                      <a:pt x="1013" y="442"/>
                    </a:lnTo>
                    <a:lnTo>
                      <a:pt x="1009" y="437"/>
                    </a:lnTo>
                    <a:lnTo>
                      <a:pt x="1005" y="431"/>
                    </a:lnTo>
                    <a:lnTo>
                      <a:pt x="1001" y="429"/>
                    </a:lnTo>
                    <a:lnTo>
                      <a:pt x="997" y="425"/>
                    </a:lnTo>
                    <a:lnTo>
                      <a:pt x="994" y="424"/>
                    </a:lnTo>
                    <a:lnTo>
                      <a:pt x="990" y="422"/>
                    </a:lnTo>
                    <a:lnTo>
                      <a:pt x="984" y="421"/>
                    </a:lnTo>
                    <a:lnTo>
                      <a:pt x="980" y="421"/>
                    </a:lnTo>
                    <a:lnTo>
                      <a:pt x="975" y="422"/>
                    </a:lnTo>
                    <a:lnTo>
                      <a:pt x="970" y="422"/>
                    </a:lnTo>
                    <a:lnTo>
                      <a:pt x="965" y="424"/>
                    </a:lnTo>
                    <a:lnTo>
                      <a:pt x="959" y="426"/>
                    </a:lnTo>
                    <a:lnTo>
                      <a:pt x="924" y="439"/>
                    </a:lnTo>
                    <a:lnTo>
                      <a:pt x="912" y="443"/>
                    </a:lnTo>
                    <a:lnTo>
                      <a:pt x="846" y="450"/>
                    </a:lnTo>
                    <a:lnTo>
                      <a:pt x="846" y="497"/>
                    </a:lnTo>
                    <a:lnTo>
                      <a:pt x="851" y="493"/>
                    </a:lnTo>
                    <a:lnTo>
                      <a:pt x="856" y="490"/>
                    </a:lnTo>
                    <a:lnTo>
                      <a:pt x="863" y="486"/>
                    </a:lnTo>
                    <a:lnTo>
                      <a:pt x="867" y="486"/>
                    </a:lnTo>
                    <a:lnTo>
                      <a:pt x="871" y="484"/>
                    </a:lnTo>
                    <a:lnTo>
                      <a:pt x="875" y="484"/>
                    </a:lnTo>
                    <a:lnTo>
                      <a:pt x="879" y="484"/>
                    </a:lnTo>
                    <a:lnTo>
                      <a:pt x="883" y="486"/>
                    </a:lnTo>
                    <a:lnTo>
                      <a:pt x="887" y="488"/>
                    </a:lnTo>
                    <a:lnTo>
                      <a:pt x="891" y="492"/>
                    </a:lnTo>
                    <a:lnTo>
                      <a:pt x="893" y="497"/>
                    </a:lnTo>
                    <a:lnTo>
                      <a:pt x="896" y="503"/>
                    </a:lnTo>
                    <a:lnTo>
                      <a:pt x="899" y="507"/>
                    </a:lnTo>
                    <a:lnTo>
                      <a:pt x="899" y="511"/>
                    </a:lnTo>
                    <a:lnTo>
                      <a:pt x="899" y="515"/>
                    </a:lnTo>
                    <a:lnTo>
                      <a:pt x="897" y="517"/>
                    </a:lnTo>
                    <a:lnTo>
                      <a:pt x="896" y="520"/>
                    </a:lnTo>
                    <a:lnTo>
                      <a:pt x="892" y="525"/>
                    </a:lnTo>
                    <a:lnTo>
                      <a:pt x="887" y="530"/>
                    </a:lnTo>
                    <a:lnTo>
                      <a:pt x="884" y="533"/>
                    </a:lnTo>
                    <a:lnTo>
                      <a:pt x="881" y="536"/>
                    </a:lnTo>
                    <a:lnTo>
                      <a:pt x="879" y="540"/>
                    </a:lnTo>
                    <a:lnTo>
                      <a:pt x="877" y="545"/>
                    </a:lnTo>
                    <a:lnTo>
                      <a:pt x="876" y="548"/>
                    </a:lnTo>
                    <a:lnTo>
                      <a:pt x="876" y="550"/>
                    </a:lnTo>
                    <a:lnTo>
                      <a:pt x="876" y="557"/>
                    </a:lnTo>
                    <a:lnTo>
                      <a:pt x="876" y="562"/>
                    </a:lnTo>
                    <a:lnTo>
                      <a:pt x="879" y="567"/>
                    </a:lnTo>
                    <a:lnTo>
                      <a:pt x="881" y="571"/>
                    </a:lnTo>
                    <a:lnTo>
                      <a:pt x="884" y="574"/>
                    </a:lnTo>
                    <a:lnTo>
                      <a:pt x="888" y="577"/>
                    </a:lnTo>
                    <a:lnTo>
                      <a:pt x="892" y="579"/>
                    </a:lnTo>
                    <a:lnTo>
                      <a:pt x="901" y="582"/>
                    </a:lnTo>
                    <a:lnTo>
                      <a:pt x="910" y="584"/>
                    </a:lnTo>
                    <a:lnTo>
                      <a:pt x="914" y="587"/>
                    </a:lnTo>
                    <a:lnTo>
                      <a:pt x="918" y="588"/>
                    </a:lnTo>
                    <a:lnTo>
                      <a:pt x="921" y="591"/>
                    </a:lnTo>
                    <a:lnTo>
                      <a:pt x="922" y="595"/>
                    </a:lnTo>
                    <a:lnTo>
                      <a:pt x="924" y="599"/>
                    </a:lnTo>
                    <a:lnTo>
                      <a:pt x="924" y="604"/>
                    </a:lnTo>
                    <a:lnTo>
                      <a:pt x="916" y="650"/>
                    </a:lnTo>
                    <a:lnTo>
                      <a:pt x="912" y="674"/>
                    </a:lnTo>
                    <a:lnTo>
                      <a:pt x="858" y="722"/>
                    </a:lnTo>
                    <a:lnTo>
                      <a:pt x="829" y="674"/>
                    </a:lnTo>
                    <a:lnTo>
                      <a:pt x="821" y="674"/>
                    </a:lnTo>
                    <a:lnTo>
                      <a:pt x="812" y="675"/>
                    </a:lnTo>
                    <a:lnTo>
                      <a:pt x="802" y="677"/>
                    </a:lnTo>
                    <a:lnTo>
                      <a:pt x="798" y="678"/>
                    </a:lnTo>
                    <a:lnTo>
                      <a:pt x="793" y="681"/>
                    </a:lnTo>
                    <a:lnTo>
                      <a:pt x="789" y="683"/>
                    </a:lnTo>
                    <a:lnTo>
                      <a:pt x="786" y="687"/>
                    </a:lnTo>
                    <a:lnTo>
                      <a:pt x="784" y="691"/>
                    </a:lnTo>
                    <a:lnTo>
                      <a:pt x="781" y="697"/>
                    </a:lnTo>
                    <a:lnTo>
                      <a:pt x="781" y="703"/>
                    </a:lnTo>
                    <a:lnTo>
                      <a:pt x="781" y="710"/>
                    </a:lnTo>
                    <a:lnTo>
                      <a:pt x="784" y="723"/>
                    </a:lnTo>
                    <a:lnTo>
                      <a:pt x="786" y="732"/>
                    </a:lnTo>
                    <a:lnTo>
                      <a:pt x="788" y="735"/>
                    </a:lnTo>
                    <a:lnTo>
                      <a:pt x="790" y="737"/>
                    </a:lnTo>
                    <a:lnTo>
                      <a:pt x="793" y="740"/>
                    </a:lnTo>
                    <a:lnTo>
                      <a:pt x="800" y="745"/>
                    </a:lnTo>
                    <a:lnTo>
                      <a:pt x="802" y="751"/>
                    </a:lnTo>
                    <a:lnTo>
                      <a:pt x="805" y="757"/>
                    </a:lnTo>
                    <a:lnTo>
                      <a:pt x="809" y="774"/>
                    </a:lnTo>
                    <a:lnTo>
                      <a:pt x="809" y="781"/>
                    </a:lnTo>
                    <a:lnTo>
                      <a:pt x="810" y="788"/>
                    </a:lnTo>
                    <a:lnTo>
                      <a:pt x="810" y="799"/>
                    </a:lnTo>
                    <a:lnTo>
                      <a:pt x="812" y="798"/>
                    </a:lnTo>
                    <a:lnTo>
                      <a:pt x="814" y="797"/>
                    </a:lnTo>
                    <a:lnTo>
                      <a:pt x="817" y="797"/>
                    </a:lnTo>
                    <a:lnTo>
                      <a:pt x="821" y="798"/>
                    </a:lnTo>
                    <a:lnTo>
                      <a:pt x="826" y="802"/>
                    </a:lnTo>
                    <a:lnTo>
                      <a:pt x="829" y="805"/>
                    </a:lnTo>
                    <a:lnTo>
                      <a:pt x="833" y="807"/>
                    </a:lnTo>
                    <a:lnTo>
                      <a:pt x="837" y="811"/>
                    </a:lnTo>
                    <a:lnTo>
                      <a:pt x="841" y="817"/>
                    </a:lnTo>
                    <a:lnTo>
                      <a:pt x="846" y="823"/>
                    </a:lnTo>
                    <a:lnTo>
                      <a:pt x="848" y="827"/>
                    </a:lnTo>
                    <a:lnTo>
                      <a:pt x="851" y="832"/>
                    </a:lnTo>
                    <a:lnTo>
                      <a:pt x="852" y="836"/>
                    </a:lnTo>
                    <a:lnTo>
                      <a:pt x="852" y="839"/>
                    </a:lnTo>
                    <a:lnTo>
                      <a:pt x="852" y="842"/>
                    </a:lnTo>
                    <a:lnTo>
                      <a:pt x="851" y="846"/>
                    </a:lnTo>
                    <a:lnTo>
                      <a:pt x="848" y="850"/>
                    </a:lnTo>
                    <a:lnTo>
                      <a:pt x="848" y="852"/>
                    </a:lnTo>
                    <a:lnTo>
                      <a:pt x="847" y="853"/>
                    </a:lnTo>
                    <a:lnTo>
                      <a:pt x="847" y="856"/>
                    </a:lnTo>
                    <a:lnTo>
                      <a:pt x="848" y="857"/>
                    </a:lnTo>
                    <a:lnTo>
                      <a:pt x="850" y="861"/>
                    </a:lnTo>
                    <a:lnTo>
                      <a:pt x="852" y="864"/>
                    </a:lnTo>
                    <a:lnTo>
                      <a:pt x="860" y="872"/>
                    </a:lnTo>
                    <a:lnTo>
                      <a:pt x="867" y="877"/>
                    </a:lnTo>
                    <a:lnTo>
                      <a:pt x="870" y="880"/>
                    </a:lnTo>
                    <a:lnTo>
                      <a:pt x="874" y="881"/>
                    </a:lnTo>
                    <a:lnTo>
                      <a:pt x="876" y="881"/>
                    </a:lnTo>
                    <a:lnTo>
                      <a:pt x="879" y="883"/>
                    </a:lnTo>
                    <a:lnTo>
                      <a:pt x="884" y="883"/>
                    </a:lnTo>
                    <a:lnTo>
                      <a:pt x="891" y="881"/>
                    </a:lnTo>
                    <a:lnTo>
                      <a:pt x="905" y="876"/>
                    </a:lnTo>
                    <a:lnTo>
                      <a:pt x="918" y="871"/>
                    </a:lnTo>
                    <a:lnTo>
                      <a:pt x="928" y="868"/>
                    </a:lnTo>
                    <a:lnTo>
                      <a:pt x="937" y="864"/>
                    </a:lnTo>
                    <a:lnTo>
                      <a:pt x="938" y="864"/>
                    </a:lnTo>
                    <a:lnTo>
                      <a:pt x="942" y="867"/>
                    </a:lnTo>
                    <a:lnTo>
                      <a:pt x="946" y="871"/>
                    </a:lnTo>
                    <a:lnTo>
                      <a:pt x="953" y="876"/>
                    </a:lnTo>
                    <a:lnTo>
                      <a:pt x="967" y="886"/>
                    </a:lnTo>
                    <a:lnTo>
                      <a:pt x="972" y="890"/>
                    </a:lnTo>
                    <a:lnTo>
                      <a:pt x="975" y="894"/>
                    </a:lnTo>
                    <a:lnTo>
                      <a:pt x="976" y="896"/>
                    </a:lnTo>
                    <a:lnTo>
                      <a:pt x="976" y="898"/>
                    </a:lnTo>
                    <a:lnTo>
                      <a:pt x="976" y="901"/>
                    </a:lnTo>
                    <a:lnTo>
                      <a:pt x="976" y="904"/>
                    </a:lnTo>
                    <a:lnTo>
                      <a:pt x="974" y="909"/>
                    </a:lnTo>
                    <a:lnTo>
                      <a:pt x="971" y="917"/>
                    </a:lnTo>
                    <a:lnTo>
                      <a:pt x="967" y="926"/>
                    </a:lnTo>
                    <a:lnTo>
                      <a:pt x="966" y="934"/>
                    </a:lnTo>
                    <a:lnTo>
                      <a:pt x="967" y="938"/>
                    </a:lnTo>
                    <a:lnTo>
                      <a:pt x="967" y="941"/>
                    </a:lnTo>
                    <a:lnTo>
                      <a:pt x="968" y="944"/>
                    </a:lnTo>
                    <a:lnTo>
                      <a:pt x="970" y="947"/>
                    </a:lnTo>
                    <a:lnTo>
                      <a:pt x="972" y="950"/>
                    </a:lnTo>
                    <a:lnTo>
                      <a:pt x="975" y="951"/>
                    </a:lnTo>
                    <a:lnTo>
                      <a:pt x="978" y="952"/>
                    </a:lnTo>
                    <a:lnTo>
                      <a:pt x="980" y="954"/>
                    </a:lnTo>
                    <a:lnTo>
                      <a:pt x="983" y="955"/>
                    </a:lnTo>
                    <a:lnTo>
                      <a:pt x="987" y="955"/>
                    </a:lnTo>
                    <a:lnTo>
                      <a:pt x="991" y="954"/>
                    </a:lnTo>
                    <a:lnTo>
                      <a:pt x="995" y="952"/>
                    </a:lnTo>
                    <a:lnTo>
                      <a:pt x="1019" y="942"/>
                    </a:lnTo>
                    <a:lnTo>
                      <a:pt x="1028" y="938"/>
                    </a:lnTo>
                    <a:lnTo>
                      <a:pt x="1030" y="937"/>
                    </a:lnTo>
                    <a:lnTo>
                      <a:pt x="1033" y="934"/>
                    </a:lnTo>
                    <a:lnTo>
                      <a:pt x="1037" y="930"/>
                    </a:lnTo>
                    <a:lnTo>
                      <a:pt x="1038" y="927"/>
                    </a:lnTo>
                    <a:lnTo>
                      <a:pt x="1040" y="925"/>
                    </a:lnTo>
                    <a:lnTo>
                      <a:pt x="1038" y="922"/>
                    </a:lnTo>
                    <a:lnTo>
                      <a:pt x="1038" y="918"/>
                    </a:lnTo>
                    <a:lnTo>
                      <a:pt x="1036" y="912"/>
                    </a:lnTo>
                    <a:lnTo>
                      <a:pt x="1033" y="906"/>
                    </a:lnTo>
                    <a:lnTo>
                      <a:pt x="1030" y="902"/>
                    </a:lnTo>
                    <a:lnTo>
                      <a:pt x="1023" y="897"/>
                    </a:lnTo>
                    <a:lnTo>
                      <a:pt x="1016" y="893"/>
                    </a:lnTo>
                    <a:lnTo>
                      <a:pt x="1008" y="889"/>
                    </a:lnTo>
                    <a:lnTo>
                      <a:pt x="1001" y="886"/>
                    </a:lnTo>
                    <a:lnTo>
                      <a:pt x="996" y="883"/>
                    </a:lnTo>
                    <a:lnTo>
                      <a:pt x="995" y="880"/>
                    </a:lnTo>
                    <a:lnTo>
                      <a:pt x="994" y="877"/>
                    </a:lnTo>
                    <a:lnTo>
                      <a:pt x="994" y="873"/>
                    </a:lnTo>
                    <a:lnTo>
                      <a:pt x="995" y="869"/>
                    </a:lnTo>
                    <a:lnTo>
                      <a:pt x="996" y="861"/>
                    </a:lnTo>
                    <a:lnTo>
                      <a:pt x="996" y="855"/>
                    </a:lnTo>
                    <a:lnTo>
                      <a:pt x="996" y="844"/>
                    </a:lnTo>
                    <a:lnTo>
                      <a:pt x="997" y="839"/>
                    </a:lnTo>
                    <a:lnTo>
                      <a:pt x="999" y="836"/>
                    </a:lnTo>
                    <a:lnTo>
                      <a:pt x="1000" y="834"/>
                    </a:lnTo>
                    <a:lnTo>
                      <a:pt x="1001" y="831"/>
                    </a:lnTo>
                    <a:lnTo>
                      <a:pt x="1004" y="828"/>
                    </a:lnTo>
                    <a:lnTo>
                      <a:pt x="1012" y="823"/>
                    </a:lnTo>
                    <a:lnTo>
                      <a:pt x="1016" y="819"/>
                    </a:lnTo>
                    <a:lnTo>
                      <a:pt x="1020" y="815"/>
                    </a:lnTo>
                    <a:lnTo>
                      <a:pt x="1025" y="809"/>
                    </a:lnTo>
                    <a:lnTo>
                      <a:pt x="1034" y="795"/>
                    </a:lnTo>
                    <a:lnTo>
                      <a:pt x="1040" y="790"/>
                    </a:lnTo>
                    <a:lnTo>
                      <a:pt x="1046" y="785"/>
                    </a:lnTo>
                    <a:lnTo>
                      <a:pt x="1056" y="780"/>
                    </a:lnTo>
                    <a:lnTo>
                      <a:pt x="1061" y="778"/>
                    </a:lnTo>
                    <a:lnTo>
                      <a:pt x="1067" y="777"/>
                    </a:lnTo>
                    <a:lnTo>
                      <a:pt x="1079" y="776"/>
                    </a:lnTo>
                    <a:lnTo>
                      <a:pt x="1088" y="774"/>
                    </a:lnTo>
                    <a:lnTo>
                      <a:pt x="1096" y="776"/>
                    </a:lnTo>
                    <a:lnTo>
                      <a:pt x="1102" y="777"/>
                    </a:lnTo>
                    <a:lnTo>
                      <a:pt x="1104" y="778"/>
                    </a:lnTo>
                    <a:lnTo>
                      <a:pt x="1107" y="782"/>
                    </a:lnTo>
                    <a:lnTo>
                      <a:pt x="1108" y="785"/>
                    </a:lnTo>
                    <a:lnTo>
                      <a:pt x="1108" y="789"/>
                    </a:lnTo>
                    <a:lnTo>
                      <a:pt x="1108" y="797"/>
                    </a:lnTo>
                    <a:lnTo>
                      <a:pt x="1110" y="801"/>
                    </a:lnTo>
                    <a:lnTo>
                      <a:pt x="1111" y="803"/>
                    </a:lnTo>
                    <a:lnTo>
                      <a:pt x="1114" y="806"/>
                    </a:lnTo>
                    <a:lnTo>
                      <a:pt x="1117" y="809"/>
                    </a:lnTo>
                    <a:lnTo>
                      <a:pt x="1123" y="810"/>
                    </a:lnTo>
                    <a:lnTo>
                      <a:pt x="1131" y="811"/>
                    </a:lnTo>
                    <a:lnTo>
                      <a:pt x="1147" y="810"/>
                    </a:lnTo>
                    <a:lnTo>
                      <a:pt x="1158" y="810"/>
                    </a:lnTo>
                    <a:lnTo>
                      <a:pt x="1176" y="809"/>
                    </a:lnTo>
                    <a:lnTo>
                      <a:pt x="1182" y="809"/>
                    </a:lnTo>
                    <a:lnTo>
                      <a:pt x="1189" y="809"/>
                    </a:lnTo>
                    <a:lnTo>
                      <a:pt x="1198" y="809"/>
                    </a:lnTo>
                    <a:lnTo>
                      <a:pt x="1207" y="811"/>
                    </a:lnTo>
                    <a:lnTo>
                      <a:pt x="1212" y="813"/>
                    </a:lnTo>
                    <a:lnTo>
                      <a:pt x="1216" y="814"/>
                    </a:lnTo>
                    <a:lnTo>
                      <a:pt x="1220" y="817"/>
                    </a:lnTo>
                    <a:lnTo>
                      <a:pt x="1224" y="819"/>
                    </a:lnTo>
                    <a:lnTo>
                      <a:pt x="1227" y="822"/>
                    </a:lnTo>
                    <a:lnTo>
                      <a:pt x="1230" y="824"/>
                    </a:lnTo>
                    <a:lnTo>
                      <a:pt x="1234" y="831"/>
                    </a:lnTo>
                    <a:lnTo>
                      <a:pt x="1235" y="836"/>
                    </a:lnTo>
                    <a:lnTo>
                      <a:pt x="1236" y="842"/>
                    </a:lnTo>
                    <a:lnTo>
                      <a:pt x="1236" y="846"/>
                    </a:lnTo>
                    <a:lnTo>
                      <a:pt x="1224" y="923"/>
                    </a:lnTo>
                    <a:lnTo>
                      <a:pt x="1248" y="1178"/>
                    </a:lnTo>
                    <a:lnTo>
                      <a:pt x="1249" y="1190"/>
                    </a:lnTo>
                    <a:lnTo>
                      <a:pt x="1249" y="1204"/>
                    </a:lnTo>
                    <a:lnTo>
                      <a:pt x="1248" y="1223"/>
                    </a:lnTo>
                    <a:lnTo>
                      <a:pt x="1245" y="1246"/>
                    </a:lnTo>
                    <a:lnTo>
                      <a:pt x="1244" y="1258"/>
                    </a:lnTo>
                    <a:lnTo>
                      <a:pt x="1241" y="1273"/>
                    </a:lnTo>
                    <a:lnTo>
                      <a:pt x="1238" y="1286"/>
                    </a:lnTo>
                    <a:lnTo>
                      <a:pt x="1235" y="1301"/>
                    </a:lnTo>
                    <a:lnTo>
                      <a:pt x="1230" y="1316"/>
                    </a:lnTo>
                    <a:lnTo>
                      <a:pt x="1224" y="1331"/>
                    </a:lnTo>
                    <a:lnTo>
                      <a:pt x="1202" y="1398"/>
                    </a:lnTo>
                    <a:lnTo>
                      <a:pt x="1178" y="1465"/>
                    </a:lnTo>
                    <a:lnTo>
                      <a:pt x="1154" y="1538"/>
                    </a:lnTo>
                    <a:lnTo>
                      <a:pt x="1128" y="1538"/>
                    </a:lnTo>
                    <a:lnTo>
                      <a:pt x="1125" y="1538"/>
                    </a:lnTo>
                    <a:lnTo>
                      <a:pt x="1123" y="1539"/>
                    </a:lnTo>
                    <a:lnTo>
                      <a:pt x="1120" y="1541"/>
                    </a:lnTo>
                    <a:lnTo>
                      <a:pt x="1117" y="1543"/>
                    </a:lnTo>
                    <a:lnTo>
                      <a:pt x="1115" y="1547"/>
                    </a:lnTo>
                    <a:lnTo>
                      <a:pt x="1114" y="1555"/>
                    </a:lnTo>
                    <a:lnTo>
                      <a:pt x="1112" y="1564"/>
                    </a:lnTo>
                    <a:lnTo>
                      <a:pt x="1112" y="1575"/>
                    </a:lnTo>
                    <a:lnTo>
                      <a:pt x="1114" y="1585"/>
                    </a:lnTo>
                    <a:lnTo>
                      <a:pt x="1115" y="1604"/>
                    </a:lnTo>
                    <a:lnTo>
                      <a:pt x="1119" y="1621"/>
                    </a:lnTo>
                    <a:lnTo>
                      <a:pt x="1111" y="1621"/>
                    </a:lnTo>
                    <a:lnTo>
                      <a:pt x="1103" y="1622"/>
                    </a:lnTo>
                    <a:lnTo>
                      <a:pt x="1095" y="1624"/>
                    </a:lnTo>
                    <a:lnTo>
                      <a:pt x="1090" y="1625"/>
                    </a:lnTo>
                    <a:lnTo>
                      <a:pt x="1086" y="1626"/>
                    </a:lnTo>
                    <a:lnTo>
                      <a:pt x="1078" y="1632"/>
                    </a:lnTo>
                    <a:lnTo>
                      <a:pt x="1075" y="1634"/>
                    </a:lnTo>
                    <a:lnTo>
                      <a:pt x="1073" y="1637"/>
                    </a:lnTo>
                    <a:lnTo>
                      <a:pt x="1071" y="1641"/>
                    </a:lnTo>
                    <a:lnTo>
                      <a:pt x="1071" y="1645"/>
                    </a:lnTo>
                    <a:lnTo>
                      <a:pt x="1071" y="1649"/>
                    </a:lnTo>
                    <a:lnTo>
                      <a:pt x="1073" y="1653"/>
                    </a:lnTo>
                    <a:lnTo>
                      <a:pt x="1075" y="1661"/>
                    </a:lnTo>
                    <a:lnTo>
                      <a:pt x="1078" y="1666"/>
                    </a:lnTo>
                    <a:lnTo>
                      <a:pt x="1083" y="1671"/>
                    </a:lnTo>
                    <a:lnTo>
                      <a:pt x="1087" y="1675"/>
                    </a:lnTo>
                    <a:lnTo>
                      <a:pt x="1091" y="1678"/>
                    </a:lnTo>
                    <a:lnTo>
                      <a:pt x="1095" y="1680"/>
                    </a:lnTo>
                    <a:lnTo>
                      <a:pt x="1062" y="1696"/>
                    </a:lnTo>
                    <a:lnTo>
                      <a:pt x="1030" y="1713"/>
                    </a:lnTo>
                    <a:lnTo>
                      <a:pt x="1012" y="1723"/>
                    </a:lnTo>
                    <a:lnTo>
                      <a:pt x="995" y="1733"/>
                    </a:lnTo>
                    <a:lnTo>
                      <a:pt x="972" y="1748"/>
                    </a:lnTo>
                    <a:lnTo>
                      <a:pt x="946" y="1766"/>
                    </a:lnTo>
                    <a:lnTo>
                      <a:pt x="914" y="1790"/>
                    </a:lnTo>
                    <a:lnTo>
                      <a:pt x="880" y="1816"/>
                    </a:lnTo>
                    <a:lnTo>
                      <a:pt x="845" y="1845"/>
                    </a:lnTo>
                    <a:lnTo>
                      <a:pt x="808" y="1876"/>
                    </a:lnTo>
                    <a:lnTo>
                      <a:pt x="772" y="1905"/>
                    </a:lnTo>
                    <a:lnTo>
                      <a:pt x="756" y="1920"/>
                    </a:lnTo>
                    <a:lnTo>
                      <a:pt x="740" y="1935"/>
                    </a:lnTo>
                    <a:lnTo>
                      <a:pt x="710" y="1964"/>
                    </a:lnTo>
                    <a:lnTo>
                      <a:pt x="682" y="1992"/>
                    </a:lnTo>
                    <a:lnTo>
                      <a:pt x="657" y="2019"/>
                    </a:lnTo>
                    <a:lnTo>
                      <a:pt x="636" y="2043"/>
                    </a:lnTo>
                    <a:lnTo>
                      <a:pt x="618" y="2064"/>
                    </a:lnTo>
                    <a:lnTo>
                      <a:pt x="604" y="2080"/>
                    </a:lnTo>
                    <a:lnTo>
                      <a:pt x="594" y="2094"/>
                    </a:lnTo>
                    <a:lnTo>
                      <a:pt x="593" y="2047"/>
                    </a:lnTo>
                    <a:lnTo>
                      <a:pt x="587" y="1980"/>
                    </a:lnTo>
                    <a:lnTo>
                      <a:pt x="590" y="1976"/>
                    </a:lnTo>
                    <a:lnTo>
                      <a:pt x="591" y="1972"/>
                    </a:lnTo>
                    <a:lnTo>
                      <a:pt x="594" y="1967"/>
                    </a:lnTo>
                    <a:lnTo>
                      <a:pt x="602" y="1953"/>
                    </a:lnTo>
                    <a:lnTo>
                      <a:pt x="607" y="1947"/>
                    </a:lnTo>
                    <a:lnTo>
                      <a:pt x="612" y="1939"/>
                    </a:lnTo>
                    <a:lnTo>
                      <a:pt x="632" y="1916"/>
                    </a:lnTo>
                    <a:lnTo>
                      <a:pt x="641" y="1903"/>
                    </a:lnTo>
                    <a:lnTo>
                      <a:pt x="648" y="1893"/>
                    </a:lnTo>
                    <a:lnTo>
                      <a:pt x="657" y="1876"/>
                    </a:lnTo>
                    <a:lnTo>
                      <a:pt x="670" y="1853"/>
                    </a:lnTo>
                    <a:lnTo>
                      <a:pt x="677" y="1843"/>
                    </a:lnTo>
                    <a:lnTo>
                      <a:pt x="684" y="1835"/>
                    </a:lnTo>
                    <a:lnTo>
                      <a:pt x="690" y="1828"/>
                    </a:lnTo>
                    <a:lnTo>
                      <a:pt x="694" y="1827"/>
                    </a:lnTo>
                    <a:lnTo>
                      <a:pt x="699" y="1825"/>
                    </a:lnTo>
                    <a:lnTo>
                      <a:pt x="703" y="1827"/>
                    </a:lnTo>
                    <a:lnTo>
                      <a:pt x="709" y="1827"/>
                    </a:lnTo>
                    <a:lnTo>
                      <a:pt x="713" y="1829"/>
                    </a:lnTo>
                    <a:lnTo>
                      <a:pt x="718" y="1833"/>
                    </a:lnTo>
                    <a:lnTo>
                      <a:pt x="728" y="1843"/>
                    </a:lnTo>
                    <a:lnTo>
                      <a:pt x="736" y="1850"/>
                    </a:lnTo>
                    <a:lnTo>
                      <a:pt x="742" y="1858"/>
                    </a:lnTo>
                    <a:lnTo>
                      <a:pt x="744" y="1866"/>
                    </a:lnTo>
                    <a:lnTo>
                      <a:pt x="747" y="1872"/>
                    </a:lnTo>
                    <a:lnTo>
                      <a:pt x="748" y="1877"/>
                    </a:lnTo>
                    <a:lnTo>
                      <a:pt x="750" y="1881"/>
                    </a:lnTo>
                    <a:lnTo>
                      <a:pt x="752" y="1879"/>
                    </a:lnTo>
                    <a:lnTo>
                      <a:pt x="756" y="1878"/>
                    </a:lnTo>
                    <a:lnTo>
                      <a:pt x="761" y="1876"/>
                    </a:lnTo>
                    <a:lnTo>
                      <a:pt x="767" y="1872"/>
                    </a:lnTo>
                    <a:lnTo>
                      <a:pt x="773" y="1866"/>
                    </a:lnTo>
                    <a:lnTo>
                      <a:pt x="780" y="1860"/>
                    </a:lnTo>
                    <a:lnTo>
                      <a:pt x="784" y="1856"/>
                    </a:lnTo>
                    <a:lnTo>
                      <a:pt x="788" y="1852"/>
                    </a:lnTo>
                    <a:lnTo>
                      <a:pt x="790" y="1848"/>
                    </a:lnTo>
                    <a:lnTo>
                      <a:pt x="793" y="1843"/>
                    </a:lnTo>
                    <a:lnTo>
                      <a:pt x="797" y="1833"/>
                    </a:lnTo>
                    <a:lnTo>
                      <a:pt x="798" y="1824"/>
                    </a:lnTo>
                    <a:lnTo>
                      <a:pt x="800" y="1816"/>
                    </a:lnTo>
                    <a:lnTo>
                      <a:pt x="800" y="1802"/>
                    </a:lnTo>
                    <a:lnTo>
                      <a:pt x="800" y="1798"/>
                    </a:lnTo>
                    <a:lnTo>
                      <a:pt x="804" y="1798"/>
                    </a:lnTo>
                    <a:lnTo>
                      <a:pt x="814" y="1798"/>
                    </a:lnTo>
                    <a:lnTo>
                      <a:pt x="829" y="1796"/>
                    </a:lnTo>
                    <a:lnTo>
                      <a:pt x="846" y="1794"/>
                    </a:lnTo>
                    <a:lnTo>
                      <a:pt x="854" y="1791"/>
                    </a:lnTo>
                    <a:lnTo>
                      <a:pt x="862" y="1787"/>
                    </a:lnTo>
                    <a:lnTo>
                      <a:pt x="870" y="1783"/>
                    </a:lnTo>
                    <a:lnTo>
                      <a:pt x="876" y="1778"/>
                    </a:lnTo>
                    <a:lnTo>
                      <a:pt x="879" y="1775"/>
                    </a:lnTo>
                    <a:lnTo>
                      <a:pt x="880" y="1771"/>
                    </a:lnTo>
                    <a:lnTo>
                      <a:pt x="883" y="1769"/>
                    </a:lnTo>
                    <a:lnTo>
                      <a:pt x="884" y="1765"/>
                    </a:lnTo>
                    <a:lnTo>
                      <a:pt x="885" y="1761"/>
                    </a:lnTo>
                    <a:lnTo>
                      <a:pt x="887" y="1756"/>
                    </a:lnTo>
                    <a:lnTo>
                      <a:pt x="888" y="1750"/>
                    </a:lnTo>
                    <a:lnTo>
                      <a:pt x="888" y="1745"/>
                    </a:lnTo>
                    <a:lnTo>
                      <a:pt x="887" y="1721"/>
                    </a:lnTo>
                    <a:lnTo>
                      <a:pt x="885" y="1696"/>
                    </a:lnTo>
                    <a:lnTo>
                      <a:pt x="883" y="1676"/>
                    </a:lnTo>
                    <a:lnTo>
                      <a:pt x="881" y="1668"/>
                    </a:lnTo>
                    <a:lnTo>
                      <a:pt x="871" y="1668"/>
                    </a:lnTo>
                    <a:lnTo>
                      <a:pt x="867" y="1670"/>
                    </a:lnTo>
                    <a:lnTo>
                      <a:pt x="860" y="1671"/>
                    </a:lnTo>
                    <a:lnTo>
                      <a:pt x="850" y="1674"/>
                    </a:lnTo>
                    <a:lnTo>
                      <a:pt x="847" y="1680"/>
                    </a:lnTo>
                    <a:lnTo>
                      <a:pt x="845" y="1688"/>
                    </a:lnTo>
                    <a:lnTo>
                      <a:pt x="841" y="1695"/>
                    </a:lnTo>
                    <a:lnTo>
                      <a:pt x="837" y="1701"/>
                    </a:lnTo>
                    <a:lnTo>
                      <a:pt x="833" y="1705"/>
                    </a:lnTo>
                    <a:lnTo>
                      <a:pt x="829" y="1707"/>
                    </a:lnTo>
                    <a:lnTo>
                      <a:pt x="825" y="1708"/>
                    </a:lnTo>
                    <a:lnTo>
                      <a:pt x="819" y="1709"/>
                    </a:lnTo>
                    <a:lnTo>
                      <a:pt x="818" y="1712"/>
                    </a:lnTo>
                    <a:lnTo>
                      <a:pt x="815" y="1715"/>
                    </a:lnTo>
                    <a:lnTo>
                      <a:pt x="813" y="1715"/>
                    </a:lnTo>
                    <a:lnTo>
                      <a:pt x="810" y="1715"/>
                    </a:lnTo>
                    <a:lnTo>
                      <a:pt x="801" y="1713"/>
                    </a:lnTo>
                    <a:lnTo>
                      <a:pt x="789" y="1711"/>
                    </a:lnTo>
                    <a:lnTo>
                      <a:pt x="780" y="1713"/>
                    </a:lnTo>
                    <a:lnTo>
                      <a:pt x="772" y="1716"/>
                    </a:lnTo>
                    <a:lnTo>
                      <a:pt x="757" y="1721"/>
                    </a:lnTo>
                    <a:lnTo>
                      <a:pt x="751" y="1724"/>
                    </a:lnTo>
                    <a:lnTo>
                      <a:pt x="743" y="1727"/>
                    </a:lnTo>
                    <a:lnTo>
                      <a:pt x="735" y="1729"/>
                    </a:lnTo>
                    <a:lnTo>
                      <a:pt x="726" y="1729"/>
                    </a:lnTo>
                    <a:lnTo>
                      <a:pt x="722" y="1733"/>
                    </a:lnTo>
                    <a:lnTo>
                      <a:pt x="718" y="1733"/>
                    </a:lnTo>
                    <a:lnTo>
                      <a:pt x="713" y="1732"/>
                    </a:lnTo>
                    <a:lnTo>
                      <a:pt x="707" y="1729"/>
                    </a:lnTo>
                    <a:lnTo>
                      <a:pt x="701" y="1728"/>
                    </a:lnTo>
                    <a:lnTo>
                      <a:pt x="694" y="1727"/>
                    </a:lnTo>
                    <a:lnTo>
                      <a:pt x="688" y="1725"/>
                    </a:lnTo>
                    <a:lnTo>
                      <a:pt x="682" y="1723"/>
                    </a:lnTo>
                    <a:lnTo>
                      <a:pt x="678" y="1720"/>
                    </a:lnTo>
                    <a:lnTo>
                      <a:pt x="677" y="1717"/>
                    </a:lnTo>
                    <a:lnTo>
                      <a:pt x="674" y="1716"/>
                    </a:lnTo>
                    <a:lnTo>
                      <a:pt x="673" y="1711"/>
                    </a:lnTo>
                    <a:lnTo>
                      <a:pt x="672" y="1708"/>
                    </a:lnTo>
                    <a:lnTo>
                      <a:pt x="672" y="1705"/>
                    </a:lnTo>
                    <a:lnTo>
                      <a:pt x="672" y="1662"/>
                    </a:lnTo>
                    <a:lnTo>
                      <a:pt x="664" y="1654"/>
                    </a:lnTo>
                    <a:lnTo>
                      <a:pt x="661" y="1649"/>
                    </a:lnTo>
                    <a:lnTo>
                      <a:pt x="660" y="1645"/>
                    </a:lnTo>
                    <a:lnTo>
                      <a:pt x="660" y="1643"/>
                    </a:lnTo>
                    <a:lnTo>
                      <a:pt x="660" y="1641"/>
                    </a:lnTo>
                    <a:lnTo>
                      <a:pt x="663" y="1637"/>
                    </a:lnTo>
                    <a:lnTo>
                      <a:pt x="668" y="1632"/>
                    </a:lnTo>
                    <a:lnTo>
                      <a:pt x="674" y="1628"/>
                    </a:lnTo>
                    <a:lnTo>
                      <a:pt x="681" y="1622"/>
                    </a:lnTo>
                    <a:lnTo>
                      <a:pt x="688" y="1618"/>
                    </a:lnTo>
                    <a:lnTo>
                      <a:pt x="693" y="1614"/>
                    </a:lnTo>
                    <a:lnTo>
                      <a:pt x="697" y="1609"/>
                    </a:lnTo>
                    <a:lnTo>
                      <a:pt x="699" y="1605"/>
                    </a:lnTo>
                    <a:lnTo>
                      <a:pt x="703" y="1600"/>
                    </a:lnTo>
                    <a:lnTo>
                      <a:pt x="707" y="1592"/>
                    </a:lnTo>
                    <a:lnTo>
                      <a:pt x="684" y="1588"/>
                    </a:lnTo>
                    <a:lnTo>
                      <a:pt x="672" y="1588"/>
                    </a:lnTo>
                    <a:lnTo>
                      <a:pt x="659" y="1588"/>
                    </a:lnTo>
                    <a:lnTo>
                      <a:pt x="659" y="1571"/>
                    </a:lnTo>
                    <a:lnTo>
                      <a:pt x="660" y="1566"/>
                    </a:lnTo>
                    <a:lnTo>
                      <a:pt x="663" y="1560"/>
                    </a:lnTo>
                    <a:lnTo>
                      <a:pt x="666" y="1550"/>
                    </a:lnTo>
                    <a:lnTo>
                      <a:pt x="669" y="1545"/>
                    </a:lnTo>
                    <a:lnTo>
                      <a:pt x="670" y="1539"/>
                    </a:lnTo>
                    <a:lnTo>
                      <a:pt x="672" y="1534"/>
                    </a:lnTo>
                    <a:lnTo>
                      <a:pt x="672" y="1529"/>
                    </a:lnTo>
                    <a:lnTo>
                      <a:pt x="672" y="1523"/>
                    </a:lnTo>
                    <a:lnTo>
                      <a:pt x="670" y="1521"/>
                    </a:lnTo>
                    <a:lnTo>
                      <a:pt x="669" y="1518"/>
                    </a:lnTo>
                    <a:lnTo>
                      <a:pt x="664" y="1512"/>
                    </a:lnTo>
                    <a:lnTo>
                      <a:pt x="661" y="1508"/>
                    </a:lnTo>
                    <a:lnTo>
                      <a:pt x="659" y="1504"/>
                    </a:lnTo>
                    <a:lnTo>
                      <a:pt x="656" y="1500"/>
                    </a:lnTo>
                    <a:lnTo>
                      <a:pt x="656" y="1494"/>
                    </a:lnTo>
                    <a:lnTo>
                      <a:pt x="656" y="1490"/>
                    </a:lnTo>
                    <a:lnTo>
                      <a:pt x="656" y="1488"/>
                    </a:lnTo>
                    <a:lnTo>
                      <a:pt x="659" y="1483"/>
                    </a:lnTo>
                    <a:lnTo>
                      <a:pt x="664" y="1477"/>
                    </a:lnTo>
                    <a:lnTo>
                      <a:pt x="668" y="1473"/>
                    </a:lnTo>
                    <a:lnTo>
                      <a:pt x="673" y="1469"/>
                    </a:lnTo>
                    <a:lnTo>
                      <a:pt x="678" y="1465"/>
                    </a:lnTo>
                    <a:lnTo>
                      <a:pt x="682" y="1460"/>
                    </a:lnTo>
                    <a:lnTo>
                      <a:pt x="686" y="1454"/>
                    </a:lnTo>
                    <a:lnTo>
                      <a:pt x="690" y="1443"/>
                    </a:lnTo>
                    <a:lnTo>
                      <a:pt x="693" y="1432"/>
                    </a:lnTo>
                    <a:lnTo>
                      <a:pt x="694" y="1422"/>
                    </a:lnTo>
                    <a:lnTo>
                      <a:pt x="695" y="1411"/>
                    </a:lnTo>
                    <a:lnTo>
                      <a:pt x="697" y="1401"/>
                    </a:lnTo>
                    <a:lnTo>
                      <a:pt x="697" y="1390"/>
                    </a:lnTo>
                    <a:lnTo>
                      <a:pt x="697" y="1366"/>
                    </a:lnTo>
                    <a:lnTo>
                      <a:pt x="697" y="1359"/>
                    </a:lnTo>
                    <a:lnTo>
                      <a:pt x="695" y="1352"/>
                    </a:lnTo>
                    <a:lnTo>
                      <a:pt x="693" y="1345"/>
                    </a:lnTo>
                    <a:lnTo>
                      <a:pt x="689" y="1340"/>
                    </a:lnTo>
                    <a:lnTo>
                      <a:pt x="688" y="1337"/>
                    </a:lnTo>
                    <a:lnTo>
                      <a:pt x="685" y="1335"/>
                    </a:lnTo>
                    <a:lnTo>
                      <a:pt x="682" y="1334"/>
                    </a:lnTo>
                    <a:lnTo>
                      <a:pt x="680" y="1331"/>
                    </a:lnTo>
                    <a:lnTo>
                      <a:pt x="674" y="1327"/>
                    </a:lnTo>
                    <a:lnTo>
                      <a:pt x="669" y="1323"/>
                    </a:lnTo>
                    <a:lnTo>
                      <a:pt x="656" y="1316"/>
                    </a:lnTo>
                    <a:lnTo>
                      <a:pt x="641" y="1310"/>
                    </a:lnTo>
                    <a:lnTo>
                      <a:pt x="611" y="1298"/>
                    </a:lnTo>
                    <a:lnTo>
                      <a:pt x="599" y="1293"/>
                    </a:lnTo>
                    <a:lnTo>
                      <a:pt x="590" y="1285"/>
                    </a:lnTo>
                    <a:lnTo>
                      <a:pt x="582" y="1278"/>
                    </a:lnTo>
                    <a:lnTo>
                      <a:pt x="574" y="1269"/>
                    </a:lnTo>
                    <a:lnTo>
                      <a:pt x="566" y="1261"/>
                    </a:lnTo>
                    <a:lnTo>
                      <a:pt x="558" y="1253"/>
                    </a:lnTo>
                    <a:lnTo>
                      <a:pt x="549" y="1245"/>
                    </a:lnTo>
                    <a:lnTo>
                      <a:pt x="539" y="1237"/>
                    </a:lnTo>
                    <a:lnTo>
                      <a:pt x="537" y="1245"/>
                    </a:lnTo>
                    <a:lnTo>
                      <a:pt x="536" y="1249"/>
                    </a:lnTo>
                    <a:lnTo>
                      <a:pt x="536" y="1254"/>
                    </a:lnTo>
                    <a:lnTo>
                      <a:pt x="536" y="1262"/>
                    </a:lnTo>
                    <a:lnTo>
                      <a:pt x="536" y="1266"/>
                    </a:lnTo>
                    <a:lnTo>
                      <a:pt x="536" y="1270"/>
                    </a:lnTo>
                    <a:lnTo>
                      <a:pt x="529" y="1268"/>
                    </a:lnTo>
                    <a:lnTo>
                      <a:pt x="523" y="1265"/>
                    </a:lnTo>
                    <a:lnTo>
                      <a:pt x="517" y="1262"/>
                    </a:lnTo>
                    <a:lnTo>
                      <a:pt x="512" y="1258"/>
                    </a:lnTo>
                    <a:lnTo>
                      <a:pt x="508" y="1254"/>
                    </a:lnTo>
                    <a:lnTo>
                      <a:pt x="504" y="1250"/>
                    </a:lnTo>
                    <a:lnTo>
                      <a:pt x="496" y="1241"/>
                    </a:lnTo>
                    <a:lnTo>
                      <a:pt x="490" y="1231"/>
                    </a:lnTo>
                    <a:lnTo>
                      <a:pt x="484" y="1219"/>
                    </a:lnTo>
                    <a:lnTo>
                      <a:pt x="479" y="1207"/>
                    </a:lnTo>
                    <a:lnTo>
                      <a:pt x="475" y="1192"/>
                    </a:lnTo>
                    <a:lnTo>
                      <a:pt x="422" y="1192"/>
                    </a:lnTo>
                    <a:lnTo>
                      <a:pt x="417" y="1194"/>
                    </a:lnTo>
                    <a:lnTo>
                      <a:pt x="412" y="1194"/>
                    </a:lnTo>
                    <a:lnTo>
                      <a:pt x="408" y="1195"/>
                    </a:lnTo>
                    <a:lnTo>
                      <a:pt x="404" y="1198"/>
                    </a:lnTo>
                    <a:lnTo>
                      <a:pt x="396" y="1202"/>
                    </a:lnTo>
                    <a:lnTo>
                      <a:pt x="388" y="1207"/>
                    </a:lnTo>
                    <a:lnTo>
                      <a:pt x="375" y="1219"/>
                    </a:lnTo>
                    <a:lnTo>
                      <a:pt x="367" y="1224"/>
                    </a:lnTo>
                    <a:lnTo>
                      <a:pt x="362" y="1227"/>
                    </a:lnTo>
                    <a:lnTo>
                      <a:pt x="357" y="1228"/>
                    </a:lnTo>
                    <a:lnTo>
                      <a:pt x="225" y="1414"/>
                    </a:lnTo>
                    <a:lnTo>
                      <a:pt x="0" y="1302"/>
                    </a:lnTo>
                    <a:lnTo>
                      <a:pt x="119" y="1183"/>
                    </a:lnTo>
                    <a:lnTo>
                      <a:pt x="342" y="880"/>
                    </a:lnTo>
                    <a:lnTo>
                      <a:pt x="339" y="844"/>
                    </a:lnTo>
                    <a:lnTo>
                      <a:pt x="400" y="707"/>
                    </a:lnTo>
                    <a:lnTo>
                      <a:pt x="438" y="711"/>
                    </a:lnTo>
                    <a:lnTo>
                      <a:pt x="474" y="662"/>
                    </a:lnTo>
                    <a:lnTo>
                      <a:pt x="564" y="472"/>
                    </a:lnTo>
                    <a:lnTo>
                      <a:pt x="660" y="524"/>
                    </a:lnTo>
                    <a:lnTo>
                      <a:pt x="728" y="421"/>
                    </a:lnTo>
                    <a:lnTo>
                      <a:pt x="817" y="450"/>
                    </a:lnTo>
                    <a:lnTo>
                      <a:pt x="116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639200" y="4283280"/>
                <a:ext cx="191880" cy="350640"/>
              </a:xfrm>
              <a:custGeom>
                <a:avLst/>
                <a:gdLst/>
                <a:ahLst/>
                <a:rect l="l" t="t" r="r" b="b"/>
                <a:pathLst>
                  <a:path w="370" h="682">
                    <a:moveTo>
                      <a:pt x="79" y="0"/>
                    </a:moveTo>
                    <a:lnTo>
                      <a:pt x="357" y="17"/>
                    </a:lnTo>
                    <a:lnTo>
                      <a:pt x="352" y="235"/>
                    </a:lnTo>
                    <a:lnTo>
                      <a:pt x="242" y="232"/>
                    </a:lnTo>
                    <a:lnTo>
                      <a:pt x="235" y="348"/>
                    </a:lnTo>
                    <a:lnTo>
                      <a:pt x="235" y="443"/>
                    </a:lnTo>
                    <a:lnTo>
                      <a:pt x="370" y="441"/>
                    </a:lnTo>
                    <a:lnTo>
                      <a:pt x="365" y="476"/>
                    </a:lnTo>
                    <a:lnTo>
                      <a:pt x="360" y="473"/>
                    </a:lnTo>
                    <a:lnTo>
                      <a:pt x="355" y="471"/>
                    </a:lnTo>
                    <a:lnTo>
                      <a:pt x="349" y="470"/>
                    </a:lnTo>
                    <a:lnTo>
                      <a:pt x="345" y="468"/>
                    </a:lnTo>
                    <a:lnTo>
                      <a:pt x="343" y="468"/>
                    </a:lnTo>
                    <a:lnTo>
                      <a:pt x="340" y="470"/>
                    </a:lnTo>
                    <a:lnTo>
                      <a:pt x="339" y="471"/>
                    </a:lnTo>
                    <a:lnTo>
                      <a:pt x="336" y="472"/>
                    </a:lnTo>
                    <a:lnTo>
                      <a:pt x="335" y="476"/>
                    </a:lnTo>
                    <a:lnTo>
                      <a:pt x="335" y="480"/>
                    </a:lnTo>
                    <a:lnTo>
                      <a:pt x="335" y="485"/>
                    </a:lnTo>
                    <a:lnTo>
                      <a:pt x="336" y="512"/>
                    </a:lnTo>
                    <a:lnTo>
                      <a:pt x="337" y="541"/>
                    </a:lnTo>
                    <a:lnTo>
                      <a:pt x="337" y="574"/>
                    </a:lnTo>
                    <a:lnTo>
                      <a:pt x="320" y="576"/>
                    </a:lnTo>
                    <a:lnTo>
                      <a:pt x="302" y="580"/>
                    </a:lnTo>
                    <a:lnTo>
                      <a:pt x="279" y="584"/>
                    </a:lnTo>
                    <a:lnTo>
                      <a:pt x="254" y="591"/>
                    </a:lnTo>
                    <a:lnTo>
                      <a:pt x="231" y="597"/>
                    </a:lnTo>
                    <a:lnTo>
                      <a:pt x="219" y="601"/>
                    </a:lnTo>
                    <a:lnTo>
                      <a:pt x="208" y="605"/>
                    </a:lnTo>
                    <a:lnTo>
                      <a:pt x="199" y="611"/>
                    </a:lnTo>
                    <a:lnTo>
                      <a:pt x="190" y="616"/>
                    </a:lnTo>
                    <a:lnTo>
                      <a:pt x="175" y="626"/>
                    </a:lnTo>
                    <a:lnTo>
                      <a:pt x="161" y="638"/>
                    </a:lnTo>
                    <a:lnTo>
                      <a:pt x="149" y="649"/>
                    </a:lnTo>
                    <a:lnTo>
                      <a:pt x="138" y="659"/>
                    </a:lnTo>
                    <a:lnTo>
                      <a:pt x="129" y="669"/>
                    </a:lnTo>
                    <a:lnTo>
                      <a:pt x="122" y="675"/>
                    </a:lnTo>
                    <a:lnTo>
                      <a:pt x="117" y="682"/>
                    </a:lnTo>
                    <a:lnTo>
                      <a:pt x="29" y="554"/>
                    </a:lnTo>
                    <a:lnTo>
                      <a:pt x="28" y="554"/>
                    </a:lnTo>
                    <a:lnTo>
                      <a:pt x="25" y="551"/>
                    </a:lnTo>
                    <a:lnTo>
                      <a:pt x="21" y="547"/>
                    </a:lnTo>
                    <a:lnTo>
                      <a:pt x="18" y="542"/>
                    </a:lnTo>
                    <a:lnTo>
                      <a:pt x="18" y="539"/>
                    </a:lnTo>
                    <a:lnTo>
                      <a:pt x="18" y="535"/>
                    </a:lnTo>
                    <a:lnTo>
                      <a:pt x="18" y="532"/>
                    </a:lnTo>
                    <a:lnTo>
                      <a:pt x="21" y="528"/>
                    </a:lnTo>
                    <a:lnTo>
                      <a:pt x="24" y="522"/>
                    </a:lnTo>
                    <a:lnTo>
                      <a:pt x="28" y="518"/>
                    </a:lnTo>
                    <a:lnTo>
                      <a:pt x="33" y="513"/>
                    </a:lnTo>
                    <a:lnTo>
                      <a:pt x="39" y="506"/>
                    </a:lnTo>
                    <a:lnTo>
                      <a:pt x="55" y="497"/>
                    </a:lnTo>
                    <a:lnTo>
                      <a:pt x="68" y="488"/>
                    </a:lnTo>
                    <a:lnTo>
                      <a:pt x="92" y="473"/>
                    </a:lnTo>
                    <a:lnTo>
                      <a:pt x="101" y="467"/>
                    </a:lnTo>
                    <a:lnTo>
                      <a:pt x="105" y="464"/>
                    </a:lnTo>
                    <a:lnTo>
                      <a:pt x="108" y="460"/>
                    </a:lnTo>
                    <a:lnTo>
                      <a:pt x="111" y="458"/>
                    </a:lnTo>
                    <a:lnTo>
                      <a:pt x="112" y="454"/>
                    </a:lnTo>
                    <a:lnTo>
                      <a:pt x="112" y="450"/>
                    </a:lnTo>
                    <a:lnTo>
                      <a:pt x="112" y="446"/>
                    </a:lnTo>
                    <a:lnTo>
                      <a:pt x="111" y="438"/>
                    </a:lnTo>
                    <a:lnTo>
                      <a:pt x="109" y="433"/>
                    </a:lnTo>
                    <a:lnTo>
                      <a:pt x="108" y="430"/>
                    </a:lnTo>
                    <a:lnTo>
                      <a:pt x="105" y="429"/>
                    </a:lnTo>
                    <a:lnTo>
                      <a:pt x="104" y="426"/>
                    </a:lnTo>
                    <a:lnTo>
                      <a:pt x="101" y="425"/>
                    </a:lnTo>
                    <a:lnTo>
                      <a:pt x="97" y="423"/>
                    </a:lnTo>
                    <a:lnTo>
                      <a:pt x="91" y="422"/>
                    </a:lnTo>
                    <a:lnTo>
                      <a:pt x="83" y="421"/>
                    </a:lnTo>
                    <a:lnTo>
                      <a:pt x="72" y="421"/>
                    </a:lnTo>
                    <a:lnTo>
                      <a:pt x="54" y="421"/>
                    </a:lnTo>
                    <a:lnTo>
                      <a:pt x="46" y="421"/>
                    </a:lnTo>
                    <a:lnTo>
                      <a:pt x="38" y="419"/>
                    </a:lnTo>
                    <a:lnTo>
                      <a:pt x="34" y="419"/>
                    </a:lnTo>
                    <a:lnTo>
                      <a:pt x="31" y="417"/>
                    </a:lnTo>
                    <a:lnTo>
                      <a:pt x="29" y="415"/>
                    </a:lnTo>
                    <a:lnTo>
                      <a:pt x="26" y="413"/>
                    </a:lnTo>
                    <a:lnTo>
                      <a:pt x="21" y="406"/>
                    </a:lnTo>
                    <a:lnTo>
                      <a:pt x="20" y="401"/>
                    </a:lnTo>
                    <a:lnTo>
                      <a:pt x="17" y="396"/>
                    </a:lnTo>
                    <a:lnTo>
                      <a:pt x="14" y="385"/>
                    </a:lnTo>
                    <a:lnTo>
                      <a:pt x="10" y="376"/>
                    </a:lnTo>
                    <a:lnTo>
                      <a:pt x="4" y="360"/>
                    </a:lnTo>
                    <a:lnTo>
                      <a:pt x="1" y="351"/>
                    </a:lnTo>
                    <a:lnTo>
                      <a:pt x="0" y="342"/>
                    </a:lnTo>
                    <a:lnTo>
                      <a:pt x="0" y="331"/>
                    </a:lnTo>
                    <a:lnTo>
                      <a:pt x="0" y="324"/>
                    </a:lnTo>
                    <a:lnTo>
                      <a:pt x="1" y="318"/>
                    </a:lnTo>
                    <a:lnTo>
                      <a:pt x="2" y="303"/>
                    </a:lnTo>
                    <a:lnTo>
                      <a:pt x="5" y="292"/>
                    </a:lnTo>
                    <a:lnTo>
                      <a:pt x="10" y="270"/>
                    </a:lnTo>
                    <a:lnTo>
                      <a:pt x="13" y="256"/>
                    </a:lnTo>
                    <a:lnTo>
                      <a:pt x="14" y="251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473960" y="4613400"/>
                <a:ext cx="192240" cy="96840"/>
              </a:xfrm>
              <a:custGeom>
                <a:avLst/>
                <a:gdLst/>
                <a:ahLst/>
                <a:rect l="l" t="t" r="r" b="b"/>
                <a:pathLst>
                  <a:path w="373" h="189">
                    <a:moveTo>
                      <a:pt x="314" y="6"/>
                    </a:moveTo>
                    <a:lnTo>
                      <a:pt x="328" y="2"/>
                    </a:lnTo>
                    <a:lnTo>
                      <a:pt x="340" y="0"/>
                    </a:lnTo>
                    <a:lnTo>
                      <a:pt x="352" y="0"/>
                    </a:lnTo>
                    <a:lnTo>
                      <a:pt x="357" y="0"/>
                    </a:lnTo>
                    <a:lnTo>
                      <a:pt x="361" y="0"/>
                    </a:lnTo>
                    <a:lnTo>
                      <a:pt x="367" y="2"/>
                    </a:lnTo>
                    <a:lnTo>
                      <a:pt x="369" y="4"/>
                    </a:lnTo>
                    <a:lnTo>
                      <a:pt x="372" y="7"/>
                    </a:lnTo>
                    <a:lnTo>
                      <a:pt x="372" y="8"/>
                    </a:lnTo>
                    <a:lnTo>
                      <a:pt x="373" y="10"/>
                    </a:lnTo>
                    <a:lnTo>
                      <a:pt x="373" y="12"/>
                    </a:lnTo>
                    <a:lnTo>
                      <a:pt x="372" y="15"/>
                    </a:lnTo>
                    <a:lnTo>
                      <a:pt x="371" y="19"/>
                    </a:lnTo>
                    <a:lnTo>
                      <a:pt x="353" y="50"/>
                    </a:lnTo>
                    <a:lnTo>
                      <a:pt x="357" y="54"/>
                    </a:lnTo>
                    <a:lnTo>
                      <a:pt x="361" y="60"/>
                    </a:lnTo>
                    <a:lnTo>
                      <a:pt x="364" y="65"/>
                    </a:lnTo>
                    <a:lnTo>
                      <a:pt x="365" y="69"/>
                    </a:lnTo>
                    <a:lnTo>
                      <a:pt x="365" y="72"/>
                    </a:lnTo>
                    <a:lnTo>
                      <a:pt x="365" y="76"/>
                    </a:lnTo>
                    <a:lnTo>
                      <a:pt x="364" y="78"/>
                    </a:lnTo>
                    <a:lnTo>
                      <a:pt x="361" y="82"/>
                    </a:lnTo>
                    <a:lnTo>
                      <a:pt x="359" y="85"/>
                    </a:lnTo>
                    <a:lnTo>
                      <a:pt x="353" y="87"/>
                    </a:lnTo>
                    <a:lnTo>
                      <a:pt x="348" y="89"/>
                    </a:lnTo>
                    <a:lnTo>
                      <a:pt x="340" y="91"/>
                    </a:lnTo>
                    <a:lnTo>
                      <a:pt x="334" y="94"/>
                    </a:lnTo>
                    <a:lnTo>
                      <a:pt x="319" y="101"/>
                    </a:lnTo>
                    <a:lnTo>
                      <a:pt x="305" y="108"/>
                    </a:lnTo>
                    <a:lnTo>
                      <a:pt x="289" y="115"/>
                    </a:lnTo>
                    <a:lnTo>
                      <a:pt x="272" y="122"/>
                    </a:lnTo>
                    <a:lnTo>
                      <a:pt x="261" y="124"/>
                    </a:lnTo>
                    <a:lnTo>
                      <a:pt x="252" y="126"/>
                    </a:lnTo>
                    <a:lnTo>
                      <a:pt x="241" y="127"/>
                    </a:lnTo>
                    <a:lnTo>
                      <a:pt x="231" y="127"/>
                    </a:lnTo>
                    <a:lnTo>
                      <a:pt x="220" y="127"/>
                    </a:lnTo>
                    <a:lnTo>
                      <a:pt x="208" y="126"/>
                    </a:lnTo>
                    <a:lnTo>
                      <a:pt x="187" y="122"/>
                    </a:lnTo>
                    <a:lnTo>
                      <a:pt x="178" y="122"/>
                    </a:lnTo>
                    <a:lnTo>
                      <a:pt x="170" y="120"/>
                    </a:lnTo>
                    <a:lnTo>
                      <a:pt x="158" y="122"/>
                    </a:lnTo>
                    <a:lnTo>
                      <a:pt x="146" y="123"/>
                    </a:lnTo>
                    <a:lnTo>
                      <a:pt x="141" y="124"/>
                    </a:lnTo>
                    <a:lnTo>
                      <a:pt x="136" y="126"/>
                    </a:lnTo>
                    <a:lnTo>
                      <a:pt x="125" y="130"/>
                    </a:lnTo>
                    <a:lnTo>
                      <a:pt x="113" y="134"/>
                    </a:lnTo>
                    <a:lnTo>
                      <a:pt x="98" y="139"/>
                    </a:lnTo>
                    <a:lnTo>
                      <a:pt x="88" y="141"/>
                    </a:lnTo>
                    <a:lnTo>
                      <a:pt x="79" y="145"/>
                    </a:lnTo>
                    <a:lnTo>
                      <a:pt x="62" y="153"/>
                    </a:lnTo>
                    <a:lnTo>
                      <a:pt x="46" y="161"/>
                    </a:lnTo>
                    <a:lnTo>
                      <a:pt x="30" y="169"/>
                    </a:lnTo>
                    <a:lnTo>
                      <a:pt x="8" y="184"/>
                    </a:lnTo>
                    <a:lnTo>
                      <a:pt x="0" y="189"/>
                    </a:lnTo>
                    <a:lnTo>
                      <a:pt x="33" y="61"/>
                    </a:lnTo>
                    <a:lnTo>
                      <a:pt x="44" y="57"/>
                    </a:lnTo>
                    <a:lnTo>
                      <a:pt x="70" y="48"/>
                    </a:lnTo>
                    <a:lnTo>
                      <a:pt x="87" y="41"/>
                    </a:lnTo>
                    <a:lnTo>
                      <a:pt x="106" y="36"/>
                    </a:lnTo>
                    <a:lnTo>
                      <a:pt x="127" y="29"/>
                    </a:lnTo>
                    <a:lnTo>
                      <a:pt x="148" y="25"/>
                    </a:lnTo>
                    <a:lnTo>
                      <a:pt x="170" y="21"/>
                    </a:lnTo>
                    <a:lnTo>
                      <a:pt x="195" y="17"/>
                    </a:lnTo>
                    <a:lnTo>
                      <a:pt x="248" y="12"/>
                    </a:lnTo>
                    <a:lnTo>
                      <a:pt x="293" y="8"/>
                    </a:lnTo>
                    <a:lnTo>
                      <a:pt x="307" y="7"/>
                    </a:lnTo>
                    <a:lnTo>
                      <a:pt x="314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862760" y="4464000"/>
                <a:ext cx="465120" cy="446400"/>
              </a:xfrm>
              <a:custGeom>
                <a:avLst/>
                <a:gdLst/>
                <a:ahLst/>
                <a:rect l="l" t="t" r="r" b="b"/>
                <a:pathLst>
                  <a:path w="902" h="866">
                    <a:moveTo>
                      <a:pt x="897" y="866"/>
                    </a:moveTo>
                    <a:lnTo>
                      <a:pt x="891" y="842"/>
                    </a:lnTo>
                    <a:lnTo>
                      <a:pt x="823" y="811"/>
                    </a:lnTo>
                    <a:lnTo>
                      <a:pt x="793" y="795"/>
                    </a:lnTo>
                    <a:lnTo>
                      <a:pt x="778" y="787"/>
                    </a:lnTo>
                    <a:lnTo>
                      <a:pt x="765" y="778"/>
                    </a:lnTo>
                    <a:lnTo>
                      <a:pt x="752" y="770"/>
                    </a:lnTo>
                    <a:lnTo>
                      <a:pt x="739" y="760"/>
                    </a:lnTo>
                    <a:lnTo>
                      <a:pt x="726" y="750"/>
                    </a:lnTo>
                    <a:lnTo>
                      <a:pt x="714" y="738"/>
                    </a:lnTo>
                    <a:lnTo>
                      <a:pt x="701" y="726"/>
                    </a:lnTo>
                    <a:lnTo>
                      <a:pt x="689" y="713"/>
                    </a:lnTo>
                    <a:lnTo>
                      <a:pt x="678" y="698"/>
                    </a:lnTo>
                    <a:lnTo>
                      <a:pt x="666" y="683"/>
                    </a:lnTo>
                    <a:lnTo>
                      <a:pt x="655" y="663"/>
                    </a:lnTo>
                    <a:lnTo>
                      <a:pt x="649" y="654"/>
                    </a:lnTo>
                    <a:lnTo>
                      <a:pt x="645" y="643"/>
                    </a:lnTo>
                    <a:lnTo>
                      <a:pt x="636" y="625"/>
                    </a:lnTo>
                    <a:lnTo>
                      <a:pt x="628" y="606"/>
                    </a:lnTo>
                    <a:lnTo>
                      <a:pt x="623" y="597"/>
                    </a:lnTo>
                    <a:lnTo>
                      <a:pt x="619" y="589"/>
                    </a:lnTo>
                    <a:lnTo>
                      <a:pt x="612" y="581"/>
                    </a:lnTo>
                    <a:lnTo>
                      <a:pt x="607" y="573"/>
                    </a:lnTo>
                    <a:lnTo>
                      <a:pt x="599" y="568"/>
                    </a:lnTo>
                    <a:lnTo>
                      <a:pt x="591" y="561"/>
                    </a:lnTo>
                    <a:lnTo>
                      <a:pt x="582" y="557"/>
                    </a:lnTo>
                    <a:lnTo>
                      <a:pt x="571" y="553"/>
                    </a:lnTo>
                    <a:lnTo>
                      <a:pt x="545" y="545"/>
                    </a:lnTo>
                    <a:lnTo>
                      <a:pt x="520" y="538"/>
                    </a:lnTo>
                    <a:lnTo>
                      <a:pt x="508" y="534"/>
                    </a:lnTo>
                    <a:lnTo>
                      <a:pt x="496" y="528"/>
                    </a:lnTo>
                    <a:lnTo>
                      <a:pt x="487" y="522"/>
                    </a:lnTo>
                    <a:lnTo>
                      <a:pt x="482" y="519"/>
                    </a:lnTo>
                    <a:lnTo>
                      <a:pt x="478" y="515"/>
                    </a:lnTo>
                    <a:lnTo>
                      <a:pt x="450" y="519"/>
                    </a:lnTo>
                    <a:lnTo>
                      <a:pt x="409" y="527"/>
                    </a:lnTo>
                    <a:lnTo>
                      <a:pt x="387" y="532"/>
                    </a:lnTo>
                    <a:lnTo>
                      <a:pt x="366" y="538"/>
                    </a:lnTo>
                    <a:lnTo>
                      <a:pt x="347" y="543"/>
                    </a:lnTo>
                    <a:lnTo>
                      <a:pt x="339" y="547"/>
                    </a:lnTo>
                    <a:lnTo>
                      <a:pt x="331" y="549"/>
                    </a:lnTo>
                    <a:lnTo>
                      <a:pt x="325" y="553"/>
                    </a:lnTo>
                    <a:lnTo>
                      <a:pt x="316" y="557"/>
                    </a:lnTo>
                    <a:lnTo>
                      <a:pt x="308" y="560"/>
                    </a:lnTo>
                    <a:lnTo>
                      <a:pt x="297" y="563"/>
                    </a:lnTo>
                    <a:lnTo>
                      <a:pt x="277" y="568"/>
                    </a:lnTo>
                    <a:lnTo>
                      <a:pt x="268" y="569"/>
                    </a:lnTo>
                    <a:lnTo>
                      <a:pt x="258" y="571"/>
                    </a:lnTo>
                    <a:lnTo>
                      <a:pt x="248" y="571"/>
                    </a:lnTo>
                    <a:lnTo>
                      <a:pt x="239" y="571"/>
                    </a:lnTo>
                    <a:lnTo>
                      <a:pt x="231" y="569"/>
                    </a:lnTo>
                    <a:lnTo>
                      <a:pt x="225" y="568"/>
                    </a:lnTo>
                    <a:lnTo>
                      <a:pt x="218" y="567"/>
                    </a:lnTo>
                    <a:lnTo>
                      <a:pt x="213" y="564"/>
                    </a:lnTo>
                    <a:lnTo>
                      <a:pt x="211" y="561"/>
                    </a:lnTo>
                    <a:lnTo>
                      <a:pt x="210" y="560"/>
                    </a:lnTo>
                    <a:lnTo>
                      <a:pt x="209" y="557"/>
                    </a:lnTo>
                    <a:lnTo>
                      <a:pt x="207" y="555"/>
                    </a:lnTo>
                    <a:lnTo>
                      <a:pt x="203" y="552"/>
                    </a:lnTo>
                    <a:lnTo>
                      <a:pt x="201" y="547"/>
                    </a:lnTo>
                    <a:lnTo>
                      <a:pt x="198" y="543"/>
                    </a:lnTo>
                    <a:lnTo>
                      <a:pt x="197" y="536"/>
                    </a:lnTo>
                    <a:lnTo>
                      <a:pt x="194" y="531"/>
                    </a:lnTo>
                    <a:lnTo>
                      <a:pt x="194" y="524"/>
                    </a:lnTo>
                    <a:lnTo>
                      <a:pt x="193" y="518"/>
                    </a:lnTo>
                    <a:lnTo>
                      <a:pt x="193" y="511"/>
                    </a:lnTo>
                    <a:lnTo>
                      <a:pt x="193" y="506"/>
                    </a:lnTo>
                    <a:lnTo>
                      <a:pt x="196" y="501"/>
                    </a:lnTo>
                    <a:lnTo>
                      <a:pt x="197" y="495"/>
                    </a:lnTo>
                    <a:lnTo>
                      <a:pt x="201" y="490"/>
                    </a:lnTo>
                    <a:lnTo>
                      <a:pt x="203" y="486"/>
                    </a:lnTo>
                    <a:lnTo>
                      <a:pt x="207" y="482"/>
                    </a:lnTo>
                    <a:lnTo>
                      <a:pt x="217" y="476"/>
                    </a:lnTo>
                    <a:lnTo>
                      <a:pt x="226" y="468"/>
                    </a:lnTo>
                    <a:lnTo>
                      <a:pt x="233" y="460"/>
                    </a:lnTo>
                    <a:lnTo>
                      <a:pt x="236" y="456"/>
                    </a:lnTo>
                    <a:lnTo>
                      <a:pt x="238" y="451"/>
                    </a:lnTo>
                    <a:lnTo>
                      <a:pt x="240" y="445"/>
                    </a:lnTo>
                    <a:lnTo>
                      <a:pt x="240" y="439"/>
                    </a:lnTo>
                    <a:lnTo>
                      <a:pt x="240" y="429"/>
                    </a:lnTo>
                    <a:lnTo>
                      <a:pt x="239" y="419"/>
                    </a:lnTo>
                    <a:lnTo>
                      <a:pt x="236" y="410"/>
                    </a:lnTo>
                    <a:lnTo>
                      <a:pt x="234" y="400"/>
                    </a:lnTo>
                    <a:lnTo>
                      <a:pt x="230" y="391"/>
                    </a:lnTo>
                    <a:lnTo>
                      <a:pt x="225" y="383"/>
                    </a:lnTo>
                    <a:lnTo>
                      <a:pt x="219" y="375"/>
                    </a:lnTo>
                    <a:lnTo>
                      <a:pt x="213" y="367"/>
                    </a:lnTo>
                    <a:lnTo>
                      <a:pt x="206" y="361"/>
                    </a:lnTo>
                    <a:lnTo>
                      <a:pt x="203" y="358"/>
                    </a:lnTo>
                    <a:lnTo>
                      <a:pt x="200" y="356"/>
                    </a:lnTo>
                    <a:lnTo>
                      <a:pt x="192" y="350"/>
                    </a:lnTo>
                    <a:lnTo>
                      <a:pt x="184" y="345"/>
                    </a:lnTo>
                    <a:lnTo>
                      <a:pt x="174" y="342"/>
                    </a:lnTo>
                    <a:lnTo>
                      <a:pt x="165" y="340"/>
                    </a:lnTo>
                    <a:lnTo>
                      <a:pt x="156" y="337"/>
                    </a:lnTo>
                    <a:lnTo>
                      <a:pt x="145" y="337"/>
                    </a:lnTo>
                    <a:lnTo>
                      <a:pt x="138" y="337"/>
                    </a:lnTo>
                    <a:lnTo>
                      <a:pt x="131" y="338"/>
                    </a:lnTo>
                    <a:lnTo>
                      <a:pt x="124" y="340"/>
                    </a:lnTo>
                    <a:lnTo>
                      <a:pt x="120" y="340"/>
                    </a:lnTo>
                    <a:lnTo>
                      <a:pt x="118" y="341"/>
                    </a:lnTo>
                    <a:lnTo>
                      <a:pt x="111" y="344"/>
                    </a:lnTo>
                    <a:lnTo>
                      <a:pt x="105" y="346"/>
                    </a:lnTo>
                    <a:lnTo>
                      <a:pt x="99" y="349"/>
                    </a:lnTo>
                    <a:lnTo>
                      <a:pt x="94" y="353"/>
                    </a:lnTo>
                    <a:lnTo>
                      <a:pt x="83" y="362"/>
                    </a:lnTo>
                    <a:lnTo>
                      <a:pt x="78" y="366"/>
                    </a:lnTo>
                    <a:lnTo>
                      <a:pt x="74" y="371"/>
                    </a:lnTo>
                    <a:lnTo>
                      <a:pt x="65" y="383"/>
                    </a:lnTo>
                    <a:lnTo>
                      <a:pt x="61" y="390"/>
                    </a:lnTo>
                    <a:lnTo>
                      <a:pt x="57" y="396"/>
                    </a:lnTo>
                    <a:lnTo>
                      <a:pt x="48" y="391"/>
                    </a:lnTo>
                    <a:lnTo>
                      <a:pt x="41" y="385"/>
                    </a:lnTo>
                    <a:lnTo>
                      <a:pt x="35" y="379"/>
                    </a:lnTo>
                    <a:lnTo>
                      <a:pt x="28" y="373"/>
                    </a:lnTo>
                    <a:lnTo>
                      <a:pt x="25" y="369"/>
                    </a:lnTo>
                    <a:lnTo>
                      <a:pt x="24" y="365"/>
                    </a:lnTo>
                    <a:lnTo>
                      <a:pt x="19" y="357"/>
                    </a:lnTo>
                    <a:lnTo>
                      <a:pt x="11" y="340"/>
                    </a:lnTo>
                    <a:lnTo>
                      <a:pt x="0" y="340"/>
                    </a:lnTo>
                    <a:lnTo>
                      <a:pt x="10" y="275"/>
                    </a:lnTo>
                    <a:lnTo>
                      <a:pt x="29" y="275"/>
                    </a:lnTo>
                    <a:lnTo>
                      <a:pt x="51" y="275"/>
                    </a:lnTo>
                    <a:lnTo>
                      <a:pt x="77" y="275"/>
                    </a:lnTo>
                    <a:lnTo>
                      <a:pt x="105" y="273"/>
                    </a:lnTo>
                    <a:lnTo>
                      <a:pt x="120" y="271"/>
                    </a:lnTo>
                    <a:lnTo>
                      <a:pt x="135" y="270"/>
                    </a:lnTo>
                    <a:lnTo>
                      <a:pt x="149" y="267"/>
                    </a:lnTo>
                    <a:lnTo>
                      <a:pt x="163" y="265"/>
                    </a:lnTo>
                    <a:lnTo>
                      <a:pt x="176" y="261"/>
                    </a:lnTo>
                    <a:lnTo>
                      <a:pt x="188" y="257"/>
                    </a:lnTo>
                    <a:lnTo>
                      <a:pt x="211" y="247"/>
                    </a:lnTo>
                    <a:lnTo>
                      <a:pt x="236" y="236"/>
                    </a:lnTo>
                    <a:lnTo>
                      <a:pt x="288" y="213"/>
                    </a:lnTo>
                    <a:lnTo>
                      <a:pt x="343" y="187"/>
                    </a:lnTo>
                    <a:lnTo>
                      <a:pt x="371" y="251"/>
                    </a:lnTo>
                    <a:lnTo>
                      <a:pt x="622" y="135"/>
                    </a:lnTo>
                    <a:lnTo>
                      <a:pt x="569" y="23"/>
                    </a:lnTo>
                    <a:lnTo>
                      <a:pt x="577" y="19"/>
                    </a:lnTo>
                    <a:lnTo>
                      <a:pt x="587" y="15"/>
                    </a:lnTo>
                    <a:lnTo>
                      <a:pt x="600" y="10"/>
                    </a:lnTo>
                    <a:lnTo>
                      <a:pt x="618" y="6"/>
                    </a:lnTo>
                    <a:lnTo>
                      <a:pt x="637" y="2"/>
                    </a:lnTo>
                    <a:lnTo>
                      <a:pt x="648" y="1"/>
                    </a:lnTo>
                    <a:lnTo>
                      <a:pt x="660" y="0"/>
                    </a:lnTo>
                    <a:lnTo>
                      <a:pt x="672" y="0"/>
                    </a:lnTo>
                    <a:lnTo>
                      <a:pt x="684" y="0"/>
                    </a:lnTo>
                    <a:lnTo>
                      <a:pt x="695" y="1"/>
                    </a:lnTo>
                    <a:lnTo>
                      <a:pt x="701" y="2"/>
                    </a:lnTo>
                    <a:lnTo>
                      <a:pt x="706" y="2"/>
                    </a:lnTo>
                    <a:lnTo>
                      <a:pt x="715" y="5"/>
                    </a:lnTo>
                    <a:lnTo>
                      <a:pt x="722" y="9"/>
                    </a:lnTo>
                    <a:lnTo>
                      <a:pt x="728" y="13"/>
                    </a:lnTo>
                    <a:lnTo>
                      <a:pt x="732" y="17"/>
                    </a:lnTo>
                    <a:lnTo>
                      <a:pt x="736" y="21"/>
                    </a:lnTo>
                    <a:lnTo>
                      <a:pt x="739" y="25"/>
                    </a:lnTo>
                    <a:lnTo>
                      <a:pt x="742" y="29"/>
                    </a:lnTo>
                    <a:lnTo>
                      <a:pt x="743" y="33"/>
                    </a:lnTo>
                    <a:lnTo>
                      <a:pt x="743" y="40"/>
                    </a:lnTo>
                    <a:lnTo>
                      <a:pt x="743" y="46"/>
                    </a:lnTo>
                    <a:lnTo>
                      <a:pt x="743" y="47"/>
                    </a:lnTo>
                    <a:lnTo>
                      <a:pt x="756" y="80"/>
                    </a:lnTo>
                    <a:lnTo>
                      <a:pt x="768" y="108"/>
                    </a:lnTo>
                    <a:lnTo>
                      <a:pt x="775" y="122"/>
                    </a:lnTo>
                    <a:lnTo>
                      <a:pt x="781" y="133"/>
                    </a:lnTo>
                    <a:lnTo>
                      <a:pt x="789" y="143"/>
                    </a:lnTo>
                    <a:lnTo>
                      <a:pt x="793" y="150"/>
                    </a:lnTo>
                    <a:lnTo>
                      <a:pt x="796" y="156"/>
                    </a:lnTo>
                    <a:lnTo>
                      <a:pt x="798" y="166"/>
                    </a:lnTo>
                    <a:lnTo>
                      <a:pt x="804" y="170"/>
                    </a:lnTo>
                    <a:lnTo>
                      <a:pt x="809" y="172"/>
                    </a:lnTo>
                    <a:lnTo>
                      <a:pt x="814" y="178"/>
                    </a:lnTo>
                    <a:lnTo>
                      <a:pt x="815" y="179"/>
                    </a:lnTo>
                    <a:lnTo>
                      <a:pt x="818" y="182"/>
                    </a:lnTo>
                    <a:lnTo>
                      <a:pt x="821" y="187"/>
                    </a:lnTo>
                    <a:lnTo>
                      <a:pt x="823" y="192"/>
                    </a:lnTo>
                    <a:lnTo>
                      <a:pt x="826" y="199"/>
                    </a:lnTo>
                    <a:lnTo>
                      <a:pt x="826" y="205"/>
                    </a:lnTo>
                    <a:lnTo>
                      <a:pt x="826" y="273"/>
                    </a:lnTo>
                    <a:lnTo>
                      <a:pt x="809" y="334"/>
                    </a:lnTo>
                    <a:lnTo>
                      <a:pt x="809" y="395"/>
                    </a:lnTo>
                    <a:lnTo>
                      <a:pt x="809" y="408"/>
                    </a:lnTo>
                    <a:lnTo>
                      <a:pt x="810" y="422"/>
                    </a:lnTo>
                    <a:lnTo>
                      <a:pt x="813" y="432"/>
                    </a:lnTo>
                    <a:lnTo>
                      <a:pt x="817" y="444"/>
                    </a:lnTo>
                    <a:lnTo>
                      <a:pt x="821" y="454"/>
                    </a:lnTo>
                    <a:lnTo>
                      <a:pt x="825" y="465"/>
                    </a:lnTo>
                    <a:lnTo>
                      <a:pt x="830" y="474"/>
                    </a:lnTo>
                    <a:lnTo>
                      <a:pt x="835" y="485"/>
                    </a:lnTo>
                    <a:lnTo>
                      <a:pt x="844" y="505"/>
                    </a:lnTo>
                    <a:lnTo>
                      <a:pt x="854" y="526"/>
                    </a:lnTo>
                    <a:lnTo>
                      <a:pt x="856" y="536"/>
                    </a:lnTo>
                    <a:lnTo>
                      <a:pt x="859" y="548"/>
                    </a:lnTo>
                    <a:lnTo>
                      <a:pt x="860" y="560"/>
                    </a:lnTo>
                    <a:lnTo>
                      <a:pt x="862" y="573"/>
                    </a:lnTo>
                    <a:lnTo>
                      <a:pt x="862" y="593"/>
                    </a:lnTo>
                    <a:lnTo>
                      <a:pt x="860" y="610"/>
                    </a:lnTo>
                    <a:lnTo>
                      <a:pt x="858" y="642"/>
                    </a:lnTo>
                    <a:lnTo>
                      <a:pt x="855" y="658"/>
                    </a:lnTo>
                    <a:lnTo>
                      <a:pt x="854" y="673"/>
                    </a:lnTo>
                    <a:lnTo>
                      <a:pt x="852" y="691"/>
                    </a:lnTo>
                    <a:lnTo>
                      <a:pt x="852" y="709"/>
                    </a:lnTo>
                    <a:lnTo>
                      <a:pt x="854" y="720"/>
                    </a:lnTo>
                    <a:lnTo>
                      <a:pt x="855" y="729"/>
                    </a:lnTo>
                    <a:lnTo>
                      <a:pt x="858" y="738"/>
                    </a:lnTo>
                    <a:lnTo>
                      <a:pt x="860" y="746"/>
                    </a:lnTo>
                    <a:lnTo>
                      <a:pt x="864" y="754"/>
                    </a:lnTo>
                    <a:lnTo>
                      <a:pt x="868" y="760"/>
                    </a:lnTo>
                    <a:lnTo>
                      <a:pt x="877" y="775"/>
                    </a:lnTo>
                    <a:lnTo>
                      <a:pt x="887" y="789"/>
                    </a:lnTo>
                    <a:lnTo>
                      <a:pt x="891" y="797"/>
                    </a:lnTo>
                    <a:lnTo>
                      <a:pt x="895" y="805"/>
                    </a:lnTo>
                    <a:lnTo>
                      <a:pt x="898" y="813"/>
                    </a:lnTo>
                    <a:lnTo>
                      <a:pt x="901" y="822"/>
                    </a:lnTo>
                    <a:lnTo>
                      <a:pt x="902" y="832"/>
                    </a:lnTo>
                    <a:lnTo>
                      <a:pt x="902" y="841"/>
                    </a:lnTo>
                    <a:lnTo>
                      <a:pt x="902" y="847"/>
                    </a:lnTo>
                    <a:lnTo>
                      <a:pt x="901" y="854"/>
                    </a:lnTo>
                    <a:lnTo>
                      <a:pt x="897" y="86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778880" y="4667400"/>
                <a:ext cx="339480" cy="387360"/>
              </a:xfrm>
              <a:custGeom>
                <a:avLst/>
                <a:gdLst/>
                <a:ahLst/>
                <a:rect l="l" t="t" r="r" b="b"/>
                <a:pathLst>
                  <a:path w="662" h="754">
                    <a:moveTo>
                      <a:pt x="64" y="39"/>
                    </a:moveTo>
                    <a:lnTo>
                      <a:pt x="65" y="44"/>
                    </a:lnTo>
                    <a:lnTo>
                      <a:pt x="67" y="48"/>
                    </a:lnTo>
                    <a:lnTo>
                      <a:pt x="69" y="52"/>
                    </a:lnTo>
                    <a:lnTo>
                      <a:pt x="73" y="56"/>
                    </a:lnTo>
                    <a:lnTo>
                      <a:pt x="79" y="64"/>
                    </a:lnTo>
                    <a:lnTo>
                      <a:pt x="80" y="67"/>
                    </a:lnTo>
                    <a:lnTo>
                      <a:pt x="81" y="69"/>
                    </a:lnTo>
                    <a:lnTo>
                      <a:pt x="83" y="75"/>
                    </a:lnTo>
                    <a:lnTo>
                      <a:pt x="81" y="77"/>
                    </a:lnTo>
                    <a:lnTo>
                      <a:pt x="81" y="81"/>
                    </a:lnTo>
                    <a:lnTo>
                      <a:pt x="79" y="84"/>
                    </a:lnTo>
                    <a:lnTo>
                      <a:pt x="77" y="87"/>
                    </a:lnTo>
                    <a:lnTo>
                      <a:pt x="72" y="92"/>
                    </a:lnTo>
                    <a:lnTo>
                      <a:pt x="67" y="98"/>
                    </a:lnTo>
                    <a:lnTo>
                      <a:pt x="75" y="104"/>
                    </a:lnTo>
                    <a:lnTo>
                      <a:pt x="83" y="110"/>
                    </a:lnTo>
                    <a:lnTo>
                      <a:pt x="94" y="122"/>
                    </a:lnTo>
                    <a:lnTo>
                      <a:pt x="101" y="127"/>
                    </a:lnTo>
                    <a:lnTo>
                      <a:pt x="109" y="133"/>
                    </a:lnTo>
                    <a:lnTo>
                      <a:pt x="117" y="137"/>
                    </a:lnTo>
                    <a:lnTo>
                      <a:pt x="121" y="138"/>
                    </a:lnTo>
                    <a:lnTo>
                      <a:pt x="126" y="139"/>
                    </a:lnTo>
                    <a:lnTo>
                      <a:pt x="129" y="151"/>
                    </a:lnTo>
                    <a:lnTo>
                      <a:pt x="121" y="158"/>
                    </a:lnTo>
                    <a:lnTo>
                      <a:pt x="114" y="162"/>
                    </a:lnTo>
                    <a:lnTo>
                      <a:pt x="109" y="163"/>
                    </a:lnTo>
                    <a:lnTo>
                      <a:pt x="105" y="164"/>
                    </a:lnTo>
                    <a:lnTo>
                      <a:pt x="101" y="166"/>
                    </a:lnTo>
                    <a:lnTo>
                      <a:pt x="96" y="166"/>
                    </a:lnTo>
                    <a:lnTo>
                      <a:pt x="88" y="166"/>
                    </a:lnTo>
                    <a:lnTo>
                      <a:pt x="81" y="164"/>
                    </a:lnTo>
                    <a:lnTo>
                      <a:pt x="75" y="163"/>
                    </a:lnTo>
                    <a:lnTo>
                      <a:pt x="69" y="160"/>
                    </a:lnTo>
                    <a:lnTo>
                      <a:pt x="64" y="158"/>
                    </a:lnTo>
                    <a:lnTo>
                      <a:pt x="59" y="155"/>
                    </a:lnTo>
                    <a:lnTo>
                      <a:pt x="50" y="147"/>
                    </a:lnTo>
                    <a:lnTo>
                      <a:pt x="40" y="138"/>
                    </a:lnTo>
                    <a:lnTo>
                      <a:pt x="31" y="127"/>
                    </a:lnTo>
                    <a:lnTo>
                      <a:pt x="21" y="117"/>
                    </a:lnTo>
                    <a:lnTo>
                      <a:pt x="11" y="106"/>
                    </a:lnTo>
                    <a:lnTo>
                      <a:pt x="7" y="109"/>
                    </a:lnTo>
                    <a:lnTo>
                      <a:pt x="4" y="112"/>
                    </a:lnTo>
                    <a:lnTo>
                      <a:pt x="2" y="113"/>
                    </a:lnTo>
                    <a:lnTo>
                      <a:pt x="1" y="114"/>
                    </a:lnTo>
                    <a:lnTo>
                      <a:pt x="0" y="117"/>
                    </a:lnTo>
                    <a:lnTo>
                      <a:pt x="0" y="118"/>
                    </a:lnTo>
                    <a:lnTo>
                      <a:pt x="0" y="125"/>
                    </a:lnTo>
                    <a:lnTo>
                      <a:pt x="1" y="130"/>
                    </a:lnTo>
                    <a:lnTo>
                      <a:pt x="4" y="135"/>
                    </a:lnTo>
                    <a:lnTo>
                      <a:pt x="6" y="139"/>
                    </a:lnTo>
                    <a:lnTo>
                      <a:pt x="14" y="149"/>
                    </a:lnTo>
                    <a:lnTo>
                      <a:pt x="23" y="155"/>
                    </a:lnTo>
                    <a:lnTo>
                      <a:pt x="31" y="163"/>
                    </a:lnTo>
                    <a:lnTo>
                      <a:pt x="39" y="171"/>
                    </a:lnTo>
                    <a:lnTo>
                      <a:pt x="42" y="176"/>
                    </a:lnTo>
                    <a:lnTo>
                      <a:pt x="44" y="182"/>
                    </a:lnTo>
                    <a:lnTo>
                      <a:pt x="46" y="187"/>
                    </a:lnTo>
                    <a:lnTo>
                      <a:pt x="47" y="192"/>
                    </a:lnTo>
                    <a:lnTo>
                      <a:pt x="46" y="200"/>
                    </a:lnTo>
                    <a:lnTo>
                      <a:pt x="44" y="203"/>
                    </a:lnTo>
                    <a:lnTo>
                      <a:pt x="44" y="205"/>
                    </a:lnTo>
                    <a:lnTo>
                      <a:pt x="40" y="211"/>
                    </a:lnTo>
                    <a:lnTo>
                      <a:pt x="38" y="216"/>
                    </a:lnTo>
                    <a:lnTo>
                      <a:pt x="31" y="226"/>
                    </a:lnTo>
                    <a:lnTo>
                      <a:pt x="30" y="233"/>
                    </a:lnTo>
                    <a:lnTo>
                      <a:pt x="29" y="240"/>
                    </a:lnTo>
                    <a:lnTo>
                      <a:pt x="29" y="272"/>
                    </a:lnTo>
                    <a:lnTo>
                      <a:pt x="31" y="307"/>
                    </a:lnTo>
                    <a:lnTo>
                      <a:pt x="33" y="324"/>
                    </a:lnTo>
                    <a:lnTo>
                      <a:pt x="35" y="341"/>
                    </a:lnTo>
                    <a:lnTo>
                      <a:pt x="38" y="357"/>
                    </a:lnTo>
                    <a:lnTo>
                      <a:pt x="43" y="373"/>
                    </a:lnTo>
                    <a:lnTo>
                      <a:pt x="47" y="387"/>
                    </a:lnTo>
                    <a:lnTo>
                      <a:pt x="54" y="400"/>
                    </a:lnTo>
                    <a:lnTo>
                      <a:pt x="58" y="406"/>
                    </a:lnTo>
                    <a:lnTo>
                      <a:pt x="62" y="411"/>
                    </a:lnTo>
                    <a:lnTo>
                      <a:pt x="65" y="416"/>
                    </a:lnTo>
                    <a:lnTo>
                      <a:pt x="69" y="422"/>
                    </a:lnTo>
                    <a:lnTo>
                      <a:pt x="80" y="429"/>
                    </a:lnTo>
                    <a:lnTo>
                      <a:pt x="85" y="433"/>
                    </a:lnTo>
                    <a:lnTo>
                      <a:pt x="92" y="436"/>
                    </a:lnTo>
                    <a:lnTo>
                      <a:pt x="98" y="437"/>
                    </a:lnTo>
                    <a:lnTo>
                      <a:pt x="105" y="440"/>
                    </a:lnTo>
                    <a:lnTo>
                      <a:pt x="113" y="440"/>
                    </a:lnTo>
                    <a:lnTo>
                      <a:pt x="121" y="441"/>
                    </a:lnTo>
                    <a:lnTo>
                      <a:pt x="125" y="440"/>
                    </a:lnTo>
                    <a:lnTo>
                      <a:pt x="129" y="439"/>
                    </a:lnTo>
                    <a:lnTo>
                      <a:pt x="133" y="437"/>
                    </a:lnTo>
                    <a:lnTo>
                      <a:pt x="135" y="433"/>
                    </a:lnTo>
                    <a:lnTo>
                      <a:pt x="142" y="427"/>
                    </a:lnTo>
                    <a:lnTo>
                      <a:pt x="146" y="419"/>
                    </a:lnTo>
                    <a:lnTo>
                      <a:pt x="151" y="411"/>
                    </a:lnTo>
                    <a:lnTo>
                      <a:pt x="156" y="403"/>
                    </a:lnTo>
                    <a:lnTo>
                      <a:pt x="160" y="400"/>
                    </a:lnTo>
                    <a:lnTo>
                      <a:pt x="163" y="398"/>
                    </a:lnTo>
                    <a:lnTo>
                      <a:pt x="167" y="396"/>
                    </a:lnTo>
                    <a:lnTo>
                      <a:pt x="172" y="396"/>
                    </a:lnTo>
                    <a:lnTo>
                      <a:pt x="179" y="398"/>
                    </a:lnTo>
                    <a:lnTo>
                      <a:pt x="184" y="400"/>
                    </a:lnTo>
                    <a:lnTo>
                      <a:pt x="189" y="404"/>
                    </a:lnTo>
                    <a:lnTo>
                      <a:pt x="193" y="410"/>
                    </a:lnTo>
                    <a:lnTo>
                      <a:pt x="195" y="412"/>
                    </a:lnTo>
                    <a:lnTo>
                      <a:pt x="196" y="416"/>
                    </a:lnTo>
                    <a:lnTo>
                      <a:pt x="199" y="423"/>
                    </a:lnTo>
                    <a:lnTo>
                      <a:pt x="200" y="429"/>
                    </a:lnTo>
                    <a:lnTo>
                      <a:pt x="200" y="437"/>
                    </a:lnTo>
                    <a:lnTo>
                      <a:pt x="200" y="539"/>
                    </a:lnTo>
                    <a:lnTo>
                      <a:pt x="200" y="544"/>
                    </a:lnTo>
                    <a:lnTo>
                      <a:pt x="201" y="549"/>
                    </a:lnTo>
                    <a:lnTo>
                      <a:pt x="203" y="553"/>
                    </a:lnTo>
                    <a:lnTo>
                      <a:pt x="205" y="559"/>
                    </a:lnTo>
                    <a:lnTo>
                      <a:pt x="208" y="563"/>
                    </a:lnTo>
                    <a:lnTo>
                      <a:pt x="211" y="567"/>
                    </a:lnTo>
                    <a:lnTo>
                      <a:pt x="217" y="573"/>
                    </a:lnTo>
                    <a:lnTo>
                      <a:pt x="225" y="578"/>
                    </a:lnTo>
                    <a:lnTo>
                      <a:pt x="229" y="581"/>
                    </a:lnTo>
                    <a:lnTo>
                      <a:pt x="234" y="582"/>
                    </a:lnTo>
                    <a:lnTo>
                      <a:pt x="244" y="585"/>
                    </a:lnTo>
                    <a:lnTo>
                      <a:pt x="254" y="586"/>
                    </a:lnTo>
                    <a:lnTo>
                      <a:pt x="329" y="586"/>
                    </a:lnTo>
                    <a:lnTo>
                      <a:pt x="336" y="585"/>
                    </a:lnTo>
                    <a:lnTo>
                      <a:pt x="338" y="584"/>
                    </a:lnTo>
                    <a:lnTo>
                      <a:pt x="341" y="582"/>
                    </a:lnTo>
                    <a:lnTo>
                      <a:pt x="346" y="580"/>
                    </a:lnTo>
                    <a:lnTo>
                      <a:pt x="350" y="577"/>
                    </a:lnTo>
                    <a:lnTo>
                      <a:pt x="358" y="569"/>
                    </a:lnTo>
                    <a:lnTo>
                      <a:pt x="364" y="565"/>
                    </a:lnTo>
                    <a:lnTo>
                      <a:pt x="369" y="563"/>
                    </a:lnTo>
                    <a:lnTo>
                      <a:pt x="374" y="572"/>
                    </a:lnTo>
                    <a:lnTo>
                      <a:pt x="379" y="581"/>
                    </a:lnTo>
                    <a:lnTo>
                      <a:pt x="385" y="589"/>
                    </a:lnTo>
                    <a:lnTo>
                      <a:pt x="391" y="596"/>
                    </a:lnTo>
                    <a:lnTo>
                      <a:pt x="398" y="604"/>
                    </a:lnTo>
                    <a:lnTo>
                      <a:pt x="403" y="609"/>
                    </a:lnTo>
                    <a:lnTo>
                      <a:pt x="418" y="621"/>
                    </a:lnTo>
                    <a:lnTo>
                      <a:pt x="432" y="631"/>
                    </a:lnTo>
                    <a:lnTo>
                      <a:pt x="448" y="642"/>
                    </a:lnTo>
                    <a:lnTo>
                      <a:pt x="464" y="654"/>
                    </a:lnTo>
                    <a:lnTo>
                      <a:pt x="481" y="665"/>
                    </a:lnTo>
                    <a:lnTo>
                      <a:pt x="489" y="672"/>
                    </a:lnTo>
                    <a:lnTo>
                      <a:pt x="497" y="679"/>
                    </a:lnTo>
                    <a:lnTo>
                      <a:pt x="510" y="693"/>
                    </a:lnTo>
                    <a:lnTo>
                      <a:pt x="534" y="722"/>
                    </a:lnTo>
                    <a:lnTo>
                      <a:pt x="539" y="729"/>
                    </a:lnTo>
                    <a:lnTo>
                      <a:pt x="543" y="733"/>
                    </a:lnTo>
                    <a:lnTo>
                      <a:pt x="546" y="735"/>
                    </a:lnTo>
                    <a:lnTo>
                      <a:pt x="552" y="741"/>
                    </a:lnTo>
                    <a:lnTo>
                      <a:pt x="559" y="745"/>
                    </a:lnTo>
                    <a:lnTo>
                      <a:pt x="567" y="749"/>
                    </a:lnTo>
                    <a:lnTo>
                      <a:pt x="576" y="753"/>
                    </a:lnTo>
                    <a:lnTo>
                      <a:pt x="584" y="754"/>
                    </a:lnTo>
                    <a:lnTo>
                      <a:pt x="594" y="754"/>
                    </a:lnTo>
                    <a:lnTo>
                      <a:pt x="617" y="754"/>
                    </a:lnTo>
                    <a:lnTo>
                      <a:pt x="615" y="746"/>
                    </a:lnTo>
                    <a:lnTo>
                      <a:pt x="614" y="738"/>
                    </a:lnTo>
                    <a:lnTo>
                      <a:pt x="611" y="730"/>
                    </a:lnTo>
                    <a:lnTo>
                      <a:pt x="611" y="722"/>
                    </a:lnTo>
                    <a:lnTo>
                      <a:pt x="611" y="717"/>
                    </a:lnTo>
                    <a:lnTo>
                      <a:pt x="613" y="713"/>
                    </a:lnTo>
                    <a:lnTo>
                      <a:pt x="615" y="709"/>
                    </a:lnTo>
                    <a:lnTo>
                      <a:pt x="617" y="706"/>
                    </a:lnTo>
                    <a:lnTo>
                      <a:pt x="623" y="701"/>
                    </a:lnTo>
                    <a:lnTo>
                      <a:pt x="631" y="697"/>
                    </a:lnTo>
                    <a:lnTo>
                      <a:pt x="648" y="688"/>
                    </a:lnTo>
                    <a:lnTo>
                      <a:pt x="652" y="685"/>
                    </a:lnTo>
                    <a:lnTo>
                      <a:pt x="656" y="683"/>
                    </a:lnTo>
                    <a:lnTo>
                      <a:pt x="659" y="679"/>
                    </a:lnTo>
                    <a:lnTo>
                      <a:pt x="662" y="675"/>
                    </a:lnTo>
                    <a:lnTo>
                      <a:pt x="654" y="667"/>
                    </a:lnTo>
                    <a:lnTo>
                      <a:pt x="646" y="660"/>
                    </a:lnTo>
                    <a:lnTo>
                      <a:pt x="631" y="648"/>
                    </a:lnTo>
                    <a:lnTo>
                      <a:pt x="617" y="638"/>
                    </a:lnTo>
                    <a:lnTo>
                      <a:pt x="602" y="627"/>
                    </a:lnTo>
                    <a:lnTo>
                      <a:pt x="588" y="617"/>
                    </a:lnTo>
                    <a:lnTo>
                      <a:pt x="581" y="611"/>
                    </a:lnTo>
                    <a:lnTo>
                      <a:pt x="576" y="605"/>
                    </a:lnTo>
                    <a:lnTo>
                      <a:pt x="569" y="598"/>
                    </a:lnTo>
                    <a:lnTo>
                      <a:pt x="563" y="592"/>
                    </a:lnTo>
                    <a:lnTo>
                      <a:pt x="557" y="582"/>
                    </a:lnTo>
                    <a:lnTo>
                      <a:pt x="552" y="574"/>
                    </a:lnTo>
                    <a:lnTo>
                      <a:pt x="546" y="563"/>
                    </a:lnTo>
                    <a:lnTo>
                      <a:pt x="540" y="551"/>
                    </a:lnTo>
                    <a:lnTo>
                      <a:pt x="531" y="527"/>
                    </a:lnTo>
                    <a:lnTo>
                      <a:pt x="522" y="505"/>
                    </a:lnTo>
                    <a:lnTo>
                      <a:pt x="514" y="482"/>
                    </a:lnTo>
                    <a:lnTo>
                      <a:pt x="509" y="473"/>
                    </a:lnTo>
                    <a:lnTo>
                      <a:pt x="502" y="464"/>
                    </a:lnTo>
                    <a:lnTo>
                      <a:pt x="497" y="454"/>
                    </a:lnTo>
                    <a:lnTo>
                      <a:pt x="493" y="451"/>
                    </a:lnTo>
                    <a:lnTo>
                      <a:pt x="489" y="447"/>
                    </a:lnTo>
                    <a:lnTo>
                      <a:pt x="481" y="439"/>
                    </a:lnTo>
                    <a:lnTo>
                      <a:pt x="472" y="433"/>
                    </a:lnTo>
                    <a:lnTo>
                      <a:pt x="461" y="428"/>
                    </a:lnTo>
                    <a:lnTo>
                      <a:pt x="449" y="423"/>
                    </a:lnTo>
                    <a:lnTo>
                      <a:pt x="427" y="416"/>
                    </a:lnTo>
                    <a:lnTo>
                      <a:pt x="404" y="408"/>
                    </a:lnTo>
                    <a:lnTo>
                      <a:pt x="383" y="400"/>
                    </a:lnTo>
                    <a:lnTo>
                      <a:pt x="364" y="393"/>
                    </a:lnTo>
                    <a:lnTo>
                      <a:pt x="344" y="382"/>
                    </a:lnTo>
                    <a:lnTo>
                      <a:pt x="325" y="371"/>
                    </a:lnTo>
                    <a:lnTo>
                      <a:pt x="307" y="361"/>
                    </a:lnTo>
                    <a:lnTo>
                      <a:pt x="291" y="348"/>
                    </a:lnTo>
                    <a:lnTo>
                      <a:pt x="275" y="334"/>
                    </a:lnTo>
                    <a:lnTo>
                      <a:pt x="269" y="328"/>
                    </a:lnTo>
                    <a:lnTo>
                      <a:pt x="262" y="320"/>
                    </a:lnTo>
                    <a:lnTo>
                      <a:pt x="255" y="312"/>
                    </a:lnTo>
                    <a:lnTo>
                      <a:pt x="250" y="304"/>
                    </a:lnTo>
                    <a:lnTo>
                      <a:pt x="245" y="296"/>
                    </a:lnTo>
                    <a:lnTo>
                      <a:pt x="240" y="287"/>
                    </a:lnTo>
                    <a:lnTo>
                      <a:pt x="236" y="279"/>
                    </a:lnTo>
                    <a:lnTo>
                      <a:pt x="232" y="270"/>
                    </a:lnTo>
                    <a:lnTo>
                      <a:pt x="229" y="261"/>
                    </a:lnTo>
                    <a:lnTo>
                      <a:pt x="226" y="250"/>
                    </a:lnTo>
                    <a:lnTo>
                      <a:pt x="225" y="245"/>
                    </a:lnTo>
                    <a:lnTo>
                      <a:pt x="224" y="240"/>
                    </a:lnTo>
                    <a:lnTo>
                      <a:pt x="222" y="229"/>
                    </a:lnTo>
                    <a:lnTo>
                      <a:pt x="221" y="218"/>
                    </a:lnTo>
                    <a:lnTo>
                      <a:pt x="221" y="208"/>
                    </a:lnTo>
                    <a:lnTo>
                      <a:pt x="221" y="203"/>
                    </a:lnTo>
                    <a:lnTo>
                      <a:pt x="224" y="199"/>
                    </a:lnTo>
                    <a:lnTo>
                      <a:pt x="226" y="195"/>
                    </a:lnTo>
                    <a:lnTo>
                      <a:pt x="230" y="192"/>
                    </a:lnTo>
                    <a:lnTo>
                      <a:pt x="236" y="191"/>
                    </a:lnTo>
                    <a:lnTo>
                      <a:pt x="241" y="188"/>
                    </a:lnTo>
                    <a:lnTo>
                      <a:pt x="250" y="187"/>
                    </a:lnTo>
                    <a:lnTo>
                      <a:pt x="254" y="175"/>
                    </a:lnTo>
                    <a:lnTo>
                      <a:pt x="251" y="172"/>
                    </a:lnTo>
                    <a:lnTo>
                      <a:pt x="250" y="170"/>
                    </a:lnTo>
                    <a:lnTo>
                      <a:pt x="246" y="166"/>
                    </a:lnTo>
                    <a:lnTo>
                      <a:pt x="237" y="159"/>
                    </a:lnTo>
                    <a:lnTo>
                      <a:pt x="218" y="146"/>
                    </a:lnTo>
                    <a:lnTo>
                      <a:pt x="211" y="139"/>
                    </a:lnTo>
                    <a:lnTo>
                      <a:pt x="207" y="137"/>
                    </a:lnTo>
                    <a:lnTo>
                      <a:pt x="204" y="133"/>
                    </a:lnTo>
                    <a:lnTo>
                      <a:pt x="201" y="129"/>
                    </a:lnTo>
                    <a:lnTo>
                      <a:pt x="199" y="123"/>
                    </a:lnTo>
                    <a:lnTo>
                      <a:pt x="197" y="118"/>
                    </a:lnTo>
                    <a:lnTo>
                      <a:pt x="197" y="113"/>
                    </a:lnTo>
                    <a:lnTo>
                      <a:pt x="176" y="130"/>
                    </a:lnTo>
                    <a:lnTo>
                      <a:pt x="174" y="127"/>
                    </a:lnTo>
                    <a:lnTo>
                      <a:pt x="170" y="123"/>
                    </a:lnTo>
                    <a:lnTo>
                      <a:pt x="164" y="116"/>
                    </a:lnTo>
                    <a:lnTo>
                      <a:pt x="160" y="106"/>
                    </a:lnTo>
                    <a:lnTo>
                      <a:pt x="158" y="96"/>
                    </a:lnTo>
                    <a:lnTo>
                      <a:pt x="156" y="87"/>
                    </a:lnTo>
                    <a:lnTo>
                      <a:pt x="155" y="76"/>
                    </a:lnTo>
                    <a:lnTo>
                      <a:pt x="154" y="55"/>
                    </a:lnTo>
                    <a:lnTo>
                      <a:pt x="151" y="36"/>
                    </a:lnTo>
                    <a:lnTo>
                      <a:pt x="149" y="27"/>
                    </a:lnTo>
                    <a:lnTo>
                      <a:pt x="146" y="19"/>
                    </a:lnTo>
                    <a:lnTo>
                      <a:pt x="142" y="13"/>
                    </a:lnTo>
                    <a:lnTo>
                      <a:pt x="137" y="7"/>
                    </a:lnTo>
                    <a:lnTo>
                      <a:pt x="129" y="2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101" y="1"/>
                    </a:lnTo>
                    <a:lnTo>
                      <a:pt x="92" y="3"/>
                    </a:lnTo>
                    <a:lnTo>
                      <a:pt x="83" y="7"/>
                    </a:lnTo>
                    <a:lnTo>
                      <a:pt x="79" y="10"/>
                    </a:lnTo>
                    <a:lnTo>
                      <a:pt x="75" y="14"/>
                    </a:lnTo>
                    <a:lnTo>
                      <a:pt x="72" y="17"/>
                    </a:lnTo>
                    <a:lnTo>
                      <a:pt x="69" y="21"/>
                    </a:lnTo>
                    <a:lnTo>
                      <a:pt x="67" y="25"/>
                    </a:lnTo>
                    <a:lnTo>
                      <a:pt x="65" y="29"/>
                    </a:lnTo>
                    <a:lnTo>
                      <a:pt x="64" y="34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932600" y="4776840"/>
                <a:ext cx="505080" cy="409680"/>
              </a:xfrm>
              <a:custGeom>
                <a:avLst/>
                <a:gdLst/>
                <a:ahLst/>
                <a:rect l="l" t="t" r="r" b="b"/>
                <a:pathLst>
                  <a:path w="980" h="795">
                    <a:moveTo>
                      <a:pt x="40" y="100"/>
                    </a:moveTo>
                    <a:lnTo>
                      <a:pt x="25" y="94"/>
                    </a:lnTo>
                    <a:lnTo>
                      <a:pt x="13" y="86"/>
                    </a:lnTo>
                    <a:lnTo>
                      <a:pt x="11" y="85"/>
                    </a:lnTo>
                    <a:lnTo>
                      <a:pt x="8" y="82"/>
                    </a:lnTo>
                    <a:lnTo>
                      <a:pt x="4" y="77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0" y="63"/>
                    </a:lnTo>
                    <a:lnTo>
                      <a:pt x="2" y="52"/>
                    </a:lnTo>
                    <a:lnTo>
                      <a:pt x="3" y="46"/>
                    </a:lnTo>
                    <a:lnTo>
                      <a:pt x="4" y="41"/>
                    </a:lnTo>
                    <a:lnTo>
                      <a:pt x="6" y="34"/>
                    </a:lnTo>
                    <a:lnTo>
                      <a:pt x="8" y="29"/>
                    </a:lnTo>
                    <a:lnTo>
                      <a:pt x="15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5" y="1"/>
                    </a:lnTo>
                    <a:lnTo>
                      <a:pt x="71" y="3"/>
                    </a:lnTo>
                    <a:lnTo>
                      <a:pt x="78" y="5"/>
                    </a:lnTo>
                    <a:lnTo>
                      <a:pt x="90" y="12"/>
                    </a:lnTo>
                    <a:lnTo>
                      <a:pt x="100" y="17"/>
                    </a:lnTo>
                    <a:lnTo>
                      <a:pt x="111" y="24"/>
                    </a:lnTo>
                    <a:lnTo>
                      <a:pt x="123" y="30"/>
                    </a:lnTo>
                    <a:lnTo>
                      <a:pt x="128" y="32"/>
                    </a:lnTo>
                    <a:lnTo>
                      <a:pt x="135" y="34"/>
                    </a:lnTo>
                    <a:lnTo>
                      <a:pt x="143" y="36"/>
                    </a:lnTo>
                    <a:lnTo>
                      <a:pt x="149" y="36"/>
                    </a:lnTo>
                    <a:lnTo>
                      <a:pt x="207" y="36"/>
                    </a:lnTo>
                    <a:lnTo>
                      <a:pt x="215" y="36"/>
                    </a:lnTo>
                    <a:lnTo>
                      <a:pt x="223" y="37"/>
                    </a:lnTo>
                    <a:lnTo>
                      <a:pt x="238" y="40"/>
                    </a:lnTo>
                    <a:lnTo>
                      <a:pt x="251" y="44"/>
                    </a:lnTo>
                    <a:lnTo>
                      <a:pt x="256" y="46"/>
                    </a:lnTo>
                    <a:lnTo>
                      <a:pt x="263" y="50"/>
                    </a:lnTo>
                    <a:lnTo>
                      <a:pt x="273" y="57"/>
                    </a:lnTo>
                    <a:lnTo>
                      <a:pt x="284" y="65"/>
                    </a:lnTo>
                    <a:lnTo>
                      <a:pt x="293" y="75"/>
                    </a:lnTo>
                    <a:lnTo>
                      <a:pt x="302" y="85"/>
                    </a:lnTo>
                    <a:lnTo>
                      <a:pt x="311" y="96"/>
                    </a:lnTo>
                    <a:lnTo>
                      <a:pt x="321" y="107"/>
                    </a:lnTo>
                    <a:lnTo>
                      <a:pt x="339" y="131"/>
                    </a:lnTo>
                    <a:lnTo>
                      <a:pt x="348" y="143"/>
                    </a:lnTo>
                    <a:lnTo>
                      <a:pt x="359" y="154"/>
                    </a:lnTo>
                    <a:lnTo>
                      <a:pt x="371" y="166"/>
                    </a:lnTo>
                    <a:lnTo>
                      <a:pt x="383" y="178"/>
                    </a:lnTo>
                    <a:lnTo>
                      <a:pt x="404" y="195"/>
                    </a:lnTo>
                    <a:lnTo>
                      <a:pt x="414" y="203"/>
                    </a:lnTo>
                    <a:lnTo>
                      <a:pt x="425" y="211"/>
                    </a:lnTo>
                    <a:lnTo>
                      <a:pt x="446" y="224"/>
                    </a:lnTo>
                    <a:lnTo>
                      <a:pt x="466" y="238"/>
                    </a:lnTo>
                    <a:lnTo>
                      <a:pt x="476" y="243"/>
                    </a:lnTo>
                    <a:lnTo>
                      <a:pt x="487" y="248"/>
                    </a:lnTo>
                    <a:lnTo>
                      <a:pt x="509" y="259"/>
                    </a:lnTo>
                    <a:lnTo>
                      <a:pt x="533" y="268"/>
                    </a:lnTo>
                    <a:lnTo>
                      <a:pt x="559" y="278"/>
                    </a:lnTo>
                    <a:lnTo>
                      <a:pt x="578" y="286"/>
                    </a:lnTo>
                    <a:lnTo>
                      <a:pt x="595" y="294"/>
                    </a:lnTo>
                    <a:lnTo>
                      <a:pt x="627" y="309"/>
                    </a:lnTo>
                    <a:lnTo>
                      <a:pt x="642" y="315"/>
                    </a:lnTo>
                    <a:lnTo>
                      <a:pt x="658" y="321"/>
                    </a:lnTo>
                    <a:lnTo>
                      <a:pt x="668" y="323"/>
                    </a:lnTo>
                    <a:lnTo>
                      <a:pt x="677" y="325"/>
                    </a:lnTo>
                    <a:lnTo>
                      <a:pt x="686" y="325"/>
                    </a:lnTo>
                    <a:lnTo>
                      <a:pt x="697" y="326"/>
                    </a:lnTo>
                    <a:lnTo>
                      <a:pt x="778" y="326"/>
                    </a:lnTo>
                    <a:lnTo>
                      <a:pt x="792" y="326"/>
                    </a:lnTo>
                    <a:lnTo>
                      <a:pt x="803" y="327"/>
                    </a:lnTo>
                    <a:lnTo>
                      <a:pt x="815" y="330"/>
                    </a:lnTo>
                    <a:lnTo>
                      <a:pt x="827" y="334"/>
                    </a:lnTo>
                    <a:lnTo>
                      <a:pt x="838" y="338"/>
                    </a:lnTo>
                    <a:lnTo>
                      <a:pt x="847" y="343"/>
                    </a:lnTo>
                    <a:lnTo>
                      <a:pt x="856" y="350"/>
                    </a:lnTo>
                    <a:lnTo>
                      <a:pt x="865" y="356"/>
                    </a:lnTo>
                    <a:lnTo>
                      <a:pt x="875" y="364"/>
                    </a:lnTo>
                    <a:lnTo>
                      <a:pt x="883" y="372"/>
                    </a:lnTo>
                    <a:lnTo>
                      <a:pt x="890" y="381"/>
                    </a:lnTo>
                    <a:lnTo>
                      <a:pt x="898" y="391"/>
                    </a:lnTo>
                    <a:lnTo>
                      <a:pt x="914" y="410"/>
                    </a:lnTo>
                    <a:lnTo>
                      <a:pt x="930" y="431"/>
                    </a:lnTo>
                    <a:lnTo>
                      <a:pt x="933" y="435"/>
                    </a:lnTo>
                    <a:lnTo>
                      <a:pt x="935" y="438"/>
                    </a:lnTo>
                    <a:lnTo>
                      <a:pt x="939" y="441"/>
                    </a:lnTo>
                    <a:lnTo>
                      <a:pt x="943" y="442"/>
                    </a:lnTo>
                    <a:lnTo>
                      <a:pt x="951" y="445"/>
                    </a:lnTo>
                    <a:lnTo>
                      <a:pt x="959" y="447"/>
                    </a:lnTo>
                    <a:lnTo>
                      <a:pt x="967" y="450"/>
                    </a:lnTo>
                    <a:lnTo>
                      <a:pt x="971" y="451"/>
                    </a:lnTo>
                    <a:lnTo>
                      <a:pt x="973" y="454"/>
                    </a:lnTo>
                    <a:lnTo>
                      <a:pt x="976" y="455"/>
                    </a:lnTo>
                    <a:lnTo>
                      <a:pt x="979" y="459"/>
                    </a:lnTo>
                    <a:lnTo>
                      <a:pt x="979" y="462"/>
                    </a:lnTo>
                    <a:lnTo>
                      <a:pt x="980" y="466"/>
                    </a:lnTo>
                    <a:lnTo>
                      <a:pt x="979" y="472"/>
                    </a:lnTo>
                    <a:lnTo>
                      <a:pt x="979" y="478"/>
                    </a:lnTo>
                    <a:lnTo>
                      <a:pt x="976" y="481"/>
                    </a:lnTo>
                    <a:lnTo>
                      <a:pt x="973" y="487"/>
                    </a:lnTo>
                    <a:lnTo>
                      <a:pt x="971" y="491"/>
                    </a:lnTo>
                    <a:lnTo>
                      <a:pt x="968" y="495"/>
                    </a:lnTo>
                    <a:lnTo>
                      <a:pt x="960" y="503"/>
                    </a:lnTo>
                    <a:lnTo>
                      <a:pt x="954" y="511"/>
                    </a:lnTo>
                    <a:lnTo>
                      <a:pt x="947" y="518"/>
                    </a:lnTo>
                    <a:lnTo>
                      <a:pt x="944" y="522"/>
                    </a:lnTo>
                    <a:lnTo>
                      <a:pt x="943" y="528"/>
                    </a:lnTo>
                    <a:lnTo>
                      <a:pt x="942" y="533"/>
                    </a:lnTo>
                    <a:lnTo>
                      <a:pt x="942" y="538"/>
                    </a:lnTo>
                    <a:lnTo>
                      <a:pt x="913" y="538"/>
                    </a:lnTo>
                    <a:lnTo>
                      <a:pt x="905" y="537"/>
                    </a:lnTo>
                    <a:lnTo>
                      <a:pt x="898" y="536"/>
                    </a:lnTo>
                    <a:lnTo>
                      <a:pt x="892" y="533"/>
                    </a:lnTo>
                    <a:lnTo>
                      <a:pt x="885" y="533"/>
                    </a:lnTo>
                    <a:lnTo>
                      <a:pt x="883" y="533"/>
                    </a:lnTo>
                    <a:lnTo>
                      <a:pt x="879" y="533"/>
                    </a:lnTo>
                    <a:lnTo>
                      <a:pt x="873" y="536"/>
                    </a:lnTo>
                    <a:lnTo>
                      <a:pt x="869" y="540"/>
                    </a:lnTo>
                    <a:lnTo>
                      <a:pt x="865" y="543"/>
                    </a:lnTo>
                    <a:lnTo>
                      <a:pt x="863" y="549"/>
                    </a:lnTo>
                    <a:lnTo>
                      <a:pt x="860" y="555"/>
                    </a:lnTo>
                    <a:lnTo>
                      <a:pt x="859" y="562"/>
                    </a:lnTo>
                    <a:lnTo>
                      <a:pt x="859" y="569"/>
                    </a:lnTo>
                    <a:lnTo>
                      <a:pt x="859" y="575"/>
                    </a:lnTo>
                    <a:lnTo>
                      <a:pt x="860" y="582"/>
                    </a:lnTo>
                    <a:lnTo>
                      <a:pt x="863" y="595"/>
                    </a:lnTo>
                    <a:lnTo>
                      <a:pt x="871" y="621"/>
                    </a:lnTo>
                    <a:lnTo>
                      <a:pt x="857" y="627"/>
                    </a:lnTo>
                    <a:lnTo>
                      <a:pt x="851" y="629"/>
                    </a:lnTo>
                    <a:lnTo>
                      <a:pt x="844" y="631"/>
                    </a:lnTo>
                    <a:lnTo>
                      <a:pt x="839" y="629"/>
                    </a:lnTo>
                    <a:lnTo>
                      <a:pt x="835" y="628"/>
                    </a:lnTo>
                    <a:lnTo>
                      <a:pt x="832" y="627"/>
                    </a:lnTo>
                    <a:lnTo>
                      <a:pt x="830" y="624"/>
                    </a:lnTo>
                    <a:lnTo>
                      <a:pt x="824" y="617"/>
                    </a:lnTo>
                    <a:lnTo>
                      <a:pt x="823" y="613"/>
                    </a:lnTo>
                    <a:lnTo>
                      <a:pt x="822" y="608"/>
                    </a:lnTo>
                    <a:lnTo>
                      <a:pt x="817" y="588"/>
                    </a:lnTo>
                    <a:lnTo>
                      <a:pt x="813" y="579"/>
                    </a:lnTo>
                    <a:lnTo>
                      <a:pt x="811" y="575"/>
                    </a:lnTo>
                    <a:lnTo>
                      <a:pt x="809" y="571"/>
                    </a:lnTo>
                    <a:lnTo>
                      <a:pt x="805" y="567"/>
                    </a:lnTo>
                    <a:lnTo>
                      <a:pt x="802" y="563"/>
                    </a:lnTo>
                    <a:lnTo>
                      <a:pt x="798" y="561"/>
                    </a:lnTo>
                    <a:lnTo>
                      <a:pt x="794" y="558"/>
                    </a:lnTo>
                    <a:lnTo>
                      <a:pt x="788" y="554"/>
                    </a:lnTo>
                    <a:lnTo>
                      <a:pt x="778" y="551"/>
                    </a:lnTo>
                    <a:lnTo>
                      <a:pt x="770" y="549"/>
                    </a:lnTo>
                    <a:lnTo>
                      <a:pt x="760" y="547"/>
                    </a:lnTo>
                    <a:lnTo>
                      <a:pt x="740" y="547"/>
                    </a:lnTo>
                    <a:lnTo>
                      <a:pt x="733" y="547"/>
                    </a:lnTo>
                    <a:lnTo>
                      <a:pt x="727" y="550"/>
                    </a:lnTo>
                    <a:lnTo>
                      <a:pt x="724" y="551"/>
                    </a:lnTo>
                    <a:lnTo>
                      <a:pt x="722" y="553"/>
                    </a:lnTo>
                    <a:lnTo>
                      <a:pt x="719" y="554"/>
                    </a:lnTo>
                    <a:lnTo>
                      <a:pt x="718" y="557"/>
                    </a:lnTo>
                    <a:lnTo>
                      <a:pt x="714" y="561"/>
                    </a:lnTo>
                    <a:lnTo>
                      <a:pt x="710" y="567"/>
                    </a:lnTo>
                    <a:lnTo>
                      <a:pt x="707" y="572"/>
                    </a:lnTo>
                    <a:lnTo>
                      <a:pt x="706" y="579"/>
                    </a:lnTo>
                    <a:lnTo>
                      <a:pt x="702" y="594"/>
                    </a:lnTo>
                    <a:lnTo>
                      <a:pt x="698" y="609"/>
                    </a:lnTo>
                    <a:lnTo>
                      <a:pt x="695" y="617"/>
                    </a:lnTo>
                    <a:lnTo>
                      <a:pt x="693" y="624"/>
                    </a:lnTo>
                    <a:lnTo>
                      <a:pt x="690" y="632"/>
                    </a:lnTo>
                    <a:lnTo>
                      <a:pt x="687" y="638"/>
                    </a:lnTo>
                    <a:lnTo>
                      <a:pt x="681" y="650"/>
                    </a:lnTo>
                    <a:lnTo>
                      <a:pt x="674" y="661"/>
                    </a:lnTo>
                    <a:lnTo>
                      <a:pt x="670" y="666"/>
                    </a:lnTo>
                    <a:lnTo>
                      <a:pt x="666" y="671"/>
                    </a:lnTo>
                    <a:lnTo>
                      <a:pt x="660" y="681"/>
                    </a:lnTo>
                    <a:lnTo>
                      <a:pt x="631" y="715"/>
                    </a:lnTo>
                    <a:lnTo>
                      <a:pt x="616" y="732"/>
                    </a:lnTo>
                    <a:lnTo>
                      <a:pt x="610" y="741"/>
                    </a:lnTo>
                    <a:lnTo>
                      <a:pt x="604" y="751"/>
                    </a:lnTo>
                    <a:lnTo>
                      <a:pt x="599" y="761"/>
                    </a:lnTo>
                    <a:lnTo>
                      <a:pt x="594" y="772"/>
                    </a:lnTo>
                    <a:lnTo>
                      <a:pt x="590" y="783"/>
                    </a:lnTo>
                    <a:lnTo>
                      <a:pt x="587" y="795"/>
                    </a:lnTo>
                    <a:lnTo>
                      <a:pt x="579" y="791"/>
                    </a:lnTo>
                    <a:lnTo>
                      <a:pt x="573" y="787"/>
                    </a:lnTo>
                    <a:lnTo>
                      <a:pt x="567" y="782"/>
                    </a:lnTo>
                    <a:lnTo>
                      <a:pt x="562" y="777"/>
                    </a:lnTo>
                    <a:lnTo>
                      <a:pt x="559" y="770"/>
                    </a:lnTo>
                    <a:lnTo>
                      <a:pt x="555" y="762"/>
                    </a:lnTo>
                    <a:lnTo>
                      <a:pt x="554" y="756"/>
                    </a:lnTo>
                    <a:lnTo>
                      <a:pt x="553" y="748"/>
                    </a:lnTo>
                    <a:lnTo>
                      <a:pt x="551" y="740"/>
                    </a:lnTo>
                    <a:lnTo>
                      <a:pt x="550" y="731"/>
                    </a:lnTo>
                    <a:lnTo>
                      <a:pt x="549" y="714"/>
                    </a:lnTo>
                    <a:lnTo>
                      <a:pt x="548" y="695"/>
                    </a:lnTo>
                    <a:lnTo>
                      <a:pt x="545" y="678"/>
                    </a:lnTo>
                    <a:lnTo>
                      <a:pt x="537" y="634"/>
                    </a:lnTo>
                    <a:lnTo>
                      <a:pt x="528" y="591"/>
                    </a:lnTo>
                    <a:lnTo>
                      <a:pt x="524" y="571"/>
                    </a:lnTo>
                    <a:lnTo>
                      <a:pt x="519" y="551"/>
                    </a:lnTo>
                    <a:lnTo>
                      <a:pt x="512" y="532"/>
                    </a:lnTo>
                    <a:lnTo>
                      <a:pt x="505" y="513"/>
                    </a:lnTo>
                    <a:lnTo>
                      <a:pt x="503" y="504"/>
                    </a:lnTo>
                    <a:lnTo>
                      <a:pt x="499" y="496"/>
                    </a:lnTo>
                    <a:lnTo>
                      <a:pt x="493" y="487"/>
                    </a:lnTo>
                    <a:lnTo>
                      <a:pt x="490" y="479"/>
                    </a:lnTo>
                    <a:lnTo>
                      <a:pt x="479" y="463"/>
                    </a:lnTo>
                    <a:lnTo>
                      <a:pt x="474" y="456"/>
                    </a:lnTo>
                    <a:lnTo>
                      <a:pt x="467" y="450"/>
                    </a:lnTo>
                    <a:lnTo>
                      <a:pt x="453" y="437"/>
                    </a:lnTo>
                    <a:lnTo>
                      <a:pt x="446" y="430"/>
                    </a:lnTo>
                    <a:lnTo>
                      <a:pt x="438" y="425"/>
                    </a:lnTo>
                    <a:lnTo>
                      <a:pt x="429" y="420"/>
                    </a:lnTo>
                    <a:lnTo>
                      <a:pt x="420" y="414"/>
                    </a:lnTo>
                    <a:lnTo>
                      <a:pt x="410" y="409"/>
                    </a:lnTo>
                    <a:lnTo>
                      <a:pt x="400" y="405"/>
                    </a:lnTo>
                    <a:lnTo>
                      <a:pt x="384" y="398"/>
                    </a:lnTo>
                    <a:lnTo>
                      <a:pt x="371" y="392"/>
                    </a:lnTo>
                    <a:lnTo>
                      <a:pt x="358" y="384"/>
                    </a:lnTo>
                    <a:lnTo>
                      <a:pt x="352" y="380"/>
                    </a:lnTo>
                    <a:lnTo>
                      <a:pt x="347" y="375"/>
                    </a:lnTo>
                    <a:lnTo>
                      <a:pt x="338" y="365"/>
                    </a:lnTo>
                    <a:lnTo>
                      <a:pt x="330" y="356"/>
                    </a:lnTo>
                    <a:lnTo>
                      <a:pt x="322" y="346"/>
                    </a:lnTo>
                    <a:lnTo>
                      <a:pt x="315" y="335"/>
                    </a:lnTo>
                    <a:lnTo>
                      <a:pt x="302" y="313"/>
                    </a:lnTo>
                    <a:lnTo>
                      <a:pt x="289" y="288"/>
                    </a:lnTo>
                    <a:lnTo>
                      <a:pt x="282" y="276"/>
                    </a:lnTo>
                    <a:lnTo>
                      <a:pt x="275" y="261"/>
                    </a:lnTo>
                    <a:lnTo>
                      <a:pt x="265" y="248"/>
                    </a:lnTo>
                    <a:lnTo>
                      <a:pt x="255" y="234"/>
                    </a:lnTo>
                    <a:lnTo>
                      <a:pt x="246" y="222"/>
                    </a:lnTo>
                    <a:lnTo>
                      <a:pt x="236" y="211"/>
                    </a:lnTo>
                    <a:lnTo>
                      <a:pt x="227" y="201"/>
                    </a:lnTo>
                    <a:lnTo>
                      <a:pt x="218" y="191"/>
                    </a:lnTo>
                    <a:lnTo>
                      <a:pt x="199" y="176"/>
                    </a:lnTo>
                    <a:lnTo>
                      <a:pt x="190" y="169"/>
                    </a:lnTo>
                    <a:lnTo>
                      <a:pt x="180" y="162"/>
                    </a:lnTo>
                    <a:lnTo>
                      <a:pt x="158" y="152"/>
                    </a:lnTo>
                    <a:lnTo>
                      <a:pt x="136" y="140"/>
                    </a:lnTo>
                    <a:lnTo>
                      <a:pt x="83" y="119"/>
                    </a:lnTo>
                    <a:lnTo>
                      <a:pt x="40" y="10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8105760" y="5050080"/>
                <a:ext cx="141480" cy="237960"/>
              </a:xfrm>
              <a:custGeom>
                <a:avLst/>
                <a:gdLst/>
                <a:ahLst/>
                <a:rect l="l" t="t" r="r" b="b"/>
                <a:pathLst>
                  <a:path w="276" h="458">
                    <a:moveTo>
                      <a:pt x="4" y="86"/>
                    </a:moveTo>
                    <a:lnTo>
                      <a:pt x="4" y="75"/>
                    </a:lnTo>
                    <a:lnTo>
                      <a:pt x="3" y="66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1" y="21"/>
                    </a:lnTo>
                    <a:lnTo>
                      <a:pt x="3" y="12"/>
                    </a:lnTo>
                    <a:lnTo>
                      <a:pt x="10" y="10"/>
                    </a:lnTo>
                    <a:lnTo>
                      <a:pt x="17" y="9"/>
                    </a:lnTo>
                    <a:lnTo>
                      <a:pt x="30" y="5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8" y="3"/>
                    </a:lnTo>
                    <a:lnTo>
                      <a:pt x="72" y="7"/>
                    </a:lnTo>
                    <a:lnTo>
                      <a:pt x="76" y="10"/>
                    </a:lnTo>
                    <a:lnTo>
                      <a:pt x="83" y="21"/>
                    </a:lnTo>
                    <a:lnTo>
                      <a:pt x="90" y="32"/>
                    </a:lnTo>
                    <a:lnTo>
                      <a:pt x="95" y="39"/>
                    </a:lnTo>
                    <a:lnTo>
                      <a:pt x="100" y="46"/>
                    </a:lnTo>
                    <a:lnTo>
                      <a:pt x="104" y="53"/>
                    </a:lnTo>
                    <a:lnTo>
                      <a:pt x="108" y="61"/>
                    </a:lnTo>
                    <a:lnTo>
                      <a:pt x="111" y="67"/>
                    </a:lnTo>
                    <a:lnTo>
                      <a:pt x="113" y="75"/>
                    </a:lnTo>
                    <a:lnTo>
                      <a:pt x="115" y="82"/>
                    </a:lnTo>
                    <a:lnTo>
                      <a:pt x="117" y="88"/>
                    </a:lnTo>
                    <a:lnTo>
                      <a:pt x="125" y="119"/>
                    </a:lnTo>
                    <a:lnTo>
                      <a:pt x="130" y="134"/>
                    </a:lnTo>
                    <a:lnTo>
                      <a:pt x="133" y="142"/>
                    </a:lnTo>
                    <a:lnTo>
                      <a:pt x="137" y="150"/>
                    </a:lnTo>
                    <a:lnTo>
                      <a:pt x="156" y="186"/>
                    </a:lnTo>
                    <a:lnTo>
                      <a:pt x="174" y="224"/>
                    </a:lnTo>
                    <a:lnTo>
                      <a:pt x="211" y="306"/>
                    </a:lnTo>
                    <a:lnTo>
                      <a:pt x="228" y="345"/>
                    </a:lnTo>
                    <a:lnTo>
                      <a:pt x="245" y="385"/>
                    </a:lnTo>
                    <a:lnTo>
                      <a:pt x="276" y="458"/>
                    </a:lnTo>
                    <a:lnTo>
                      <a:pt x="266" y="447"/>
                    </a:lnTo>
                    <a:lnTo>
                      <a:pt x="256" y="435"/>
                    </a:lnTo>
                    <a:lnTo>
                      <a:pt x="233" y="407"/>
                    </a:lnTo>
                    <a:lnTo>
                      <a:pt x="211" y="377"/>
                    </a:lnTo>
                    <a:lnTo>
                      <a:pt x="188" y="345"/>
                    </a:lnTo>
                    <a:lnTo>
                      <a:pt x="165" y="315"/>
                    </a:lnTo>
                    <a:lnTo>
                      <a:pt x="142" y="285"/>
                    </a:lnTo>
                    <a:lnTo>
                      <a:pt x="120" y="258"/>
                    </a:lnTo>
                    <a:lnTo>
                      <a:pt x="109" y="247"/>
                    </a:lnTo>
                    <a:lnTo>
                      <a:pt x="99" y="236"/>
                    </a:lnTo>
                    <a:lnTo>
                      <a:pt x="62" y="203"/>
                    </a:lnTo>
                    <a:lnTo>
                      <a:pt x="46" y="187"/>
                    </a:lnTo>
                    <a:lnTo>
                      <a:pt x="38" y="179"/>
                    </a:lnTo>
                    <a:lnTo>
                      <a:pt x="32" y="171"/>
                    </a:lnTo>
                    <a:lnTo>
                      <a:pt x="25" y="163"/>
                    </a:lnTo>
                    <a:lnTo>
                      <a:pt x="18" y="154"/>
                    </a:lnTo>
                    <a:lnTo>
                      <a:pt x="13" y="145"/>
                    </a:lnTo>
                    <a:lnTo>
                      <a:pt x="9" y="136"/>
                    </a:lnTo>
                    <a:lnTo>
                      <a:pt x="6" y="125"/>
                    </a:lnTo>
                    <a:lnTo>
                      <a:pt x="4" y="115"/>
                    </a:lnTo>
                    <a:lnTo>
                      <a:pt x="1" y="103"/>
                    </a:lnTo>
                    <a:lnTo>
                      <a:pt x="1" y="91"/>
                    </a:lnTo>
                    <a:lnTo>
                      <a:pt x="1" y="62"/>
                    </a:lnTo>
                    <a:lnTo>
                      <a:pt x="4" y="8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056440" y="5088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128" h="150">
                    <a:moveTo>
                      <a:pt x="128" y="150"/>
                    </a:moveTo>
                    <a:lnTo>
                      <a:pt x="127" y="127"/>
                    </a:lnTo>
                    <a:lnTo>
                      <a:pt x="127" y="106"/>
                    </a:lnTo>
                    <a:lnTo>
                      <a:pt x="124" y="85"/>
                    </a:lnTo>
                    <a:lnTo>
                      <a:pt x="122" y="74"/>
                    </a:lnTo>
                    <a:lnTo>
                      <a:pt x="119" y="65"/>
                    </a:lnTo>
                    <a:lnTo>
                      <a:pt x="116" y="56"/>
                    </a:lnTo>
                    <a:lnTo>
                      <a:pt x="112" y="46"/>
                    </a:lnTo>
                    <a:lnTo>
                      <a:pt x="108" y="37"/>
                    </a:lnTo>
                    <a:lnTo>
                      <a:pt x="103" y="29"/>
                    </a:lnTo>
                    <a:lnTo>
                      <a:pt x="97" y="21"/>
                    </a:lnTo>
                    <a:lnTo>
                      <a:pt x="89" y="13"/>
                    </a:lnTo>
                    <a:lnTo>
                      <a:pt x="81" y="7"/>
                    </a:lnTo>
                    <a:lnTo>
                      <a:pt x="71" y="0"/>
                    </a:lnTo>
                    <a:lnTo>
                      <a:pt x="70" y="3"/>
                    </a:lnTo>
                    <a:lnTo>
                      <a:pt x="68" y="5"/>
                    </a:lnTo>
                    <a:lnTo>
                      <a:pt x="64" y="12"/>
                    </a:lnTo>
                    <a:lnTo>
                      <a:pt x="58" y="17"/>
                    </a:lnTo>
                    <a:lnTo>
                      <a:pt x="53" y="21"/>
                    </a:lnTo>
                    <a:lnTo>
                      <a:pt x="46" y="25"/>
                    </a:lnTo>
                    <a:lnTo>
                      <a:pt x="41" y="29"/>
                    </a:lnTo>
                    <a:lnTo>
                      <a:pt x="29" y="37"/>
                    </a:lnTo>
                    <a:lnTo>
                      <a:pt x="17" y="44"/>
                    </a:lnTo>
                    <a:lnTo>
                      <a:pt x="13" y="48"/>
                    </a:lnTo>
                    <a:lnTo>
                      <a:pt x="9" y="53"/>
                    </a:lnTo>
                    <a:lnTo>
                      <a:pt x="6" y="57"/>
                    </a:lnTo>
                    <a:lnTo>
                      <a:pt x="3" y="63"/>
                    </a:lnTo>
                    <a:lnTo>
                      <a:pt x="2" y="69"/>
                    </a:lnTo>
                    <a:lnTo>
                      <a:pt x="0" y="77"/>
                    </a:lnTo>
                    <a:lnTo>
                      <a:pt x="2" y="86"/>
                    </a:lnTo>
                    <a:lnTo>
                      <a:pt x="3" y="94"/>
                    </a:lnTo>
                    <a:lnTo>
                      <a:pt x="6" y="102"/>
                    </a:lnTo>
                    <a:lnTo>
                      <a:pt x="9" y="110"/>
                    </a:lnTo>
                    <a:lnTo>
                      <a:pt x="15" y="116"/>
                    </a:lnTo>
                    <a:lnTo>
                      <a:pt x="20" y="123"/>
                    </a:lnTo>
                    <a:lnTo>
                      <a:pt x="27" y="128"/>
                    </a:lnTo>
                    <a:lnTo>
                      <a:pt x="31" y="131"/>
                    </a:lnTo>
                    <a:lnTo>
                      <a:pt x="33" y="133"/>
                    </a:lnTo>
                    <a:lnTo>
                      <a:pt x="41" y="137"/>
                    </a:lnTo>
                    <a:lnTo>
                      <a:pt x="50" y="141"/>
                    </a:lnTo>
                    <a:lnTo>
                      <a:pt x="58" y="144"/>
                    </a:lnTo>
                    <a:lnTo>
                      <a:pt x="68" y="147"/>
                    </a:lnTo>
                    <a:lnTo>
                      <a:pt x="77" y="148"/>
                    </a:lnTo>
                    <a:lnTo>
                      <a:pt x="86" y="149"/>
                    </a:lnTo>
                    <a:lnTo>
                      <a:pt x="95" y="148"/>
                    </a:lnTo>
                    <a:lnTo>
                      <a:pt x="104" y="148"/>
                    </a:lnTo>
                    <a:lnTo>
                      <a:pt x="128" y="15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8110440" y="5207040"/>
                <a:ext cx="96840" cy="63720"/>
              </a:xfrm>
              <a:custGeom>
                <a:avLst/>
                <a:gdLst/>
                <a:ahLst/>
                <a:rect l="l" t="t" r="r" b="b"/>
                <a:pathLst>
                  <a:path w="189" h="125">
                    <a:moveTo>
                      <a:pt x="184" y="125"/>
                    </a:moveTo>
                    <a:lnTo>
                      <a:pt x="180" y="110"/>
                    </a:lnTo>
                    <a:lnTo>
                      <a:pt x="175" y="99"/>
                    </a:lnTo>
                    <a:lnTo>
                      <a:pt x="169" y="85"/>
                    </a:lnTo>
                    <a:lnTo>
                      <a:pt x="164" y="75"/>
                    </a:lnTo>
                    <a:lnTo>
                      <a:pt x="157" y="63"/>
                    </a:lnTo>
                    <a:lnTo>
                      <a:pt x="149" y="52"/>
                    </a:lnTo>
                    <a:lnTo>
                      <a:pt x="142" y="43"/>
                    </a:lnTo>
                    <a:lnTo>
                      <a:pt x="134" y="35"/>
                    </a:lnTo>
                    <a:lnTo>
                      <a:pt x="124" y="27"/>
                    </a:lnTo>
                    <a:lnTo>
                      <a:pt x="114" y="21"/>
                    </a:lnTo>
                    <a:lnTo>
                      <a:pt x="103" y="14"/>
                    </a:lnTo>
                    <a:lnTo>
                      <a:pt x="98" y="11"/>
                    </a:lnTo>
                    <a:lnTo>
                      <a:pt x="91" y="9"/>
                    </a:lnTo>
                    <a:lnTo>
                      <a:pt x="80" y="5"/>
                    </a:lnTo>
                    <a:lnTo>
                      <a:pt x="68" y="2"/>
                    </a:lnTo>
                    <a:lnTo>
                      <a:pt x="55" y="1"/>
                    </a:lnTo>
                    <a:lnTo>
                      <a:pt x="41" y="0"/>
                    </a:lnTo>
                    <a:lnTo>
                      <a:pt x="35" y="1"/>
                    </a:lnTo>
                    <a:lnTo>
                      <a:pt x="29" y="2"/>
                    </a:lnTo>
                    <a:lnTo>
                      <a:pt x="25" y="5"/>
                    </a:lnTo>
                    <a:lnTo>
                      <a:pt x="20" y="8"/>
                    </a:lnTo>
                    <a:lnTo>
                      <a:pt x="16" y="11"/>
                    </a:lnTo>
                    <a:lnTo>
                      <a:pt x="14" y="15"/>
                    </a:lnTo>
                    <a:lnTo>
                      <a:pt x="11" y="21"/>
                    </a:lnTo>
                    <a:lnTo>
                      <a:pt x="8" y="26"/>
                    </a:lnTo>
                    <a:lnTo>
                      <a:pt x="6" y="31"/>
                    </a:lnTo>
                    <a:lnTo>
                      <a:pt x="4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64"/>
                    </a:lnTo>
                    <a:lnTo>
                      <a:pt x="0" y="77"/>
                    </a:lnTo>
                    <a:lnTo>
                      <a:pt x="0" y="85"/>
                    </a:lnTo>
                    <a:lnTo>
                      <a:pt x="3" y="93"/>
                    </a:lnTo>
                    <a:lnTo>
                      <a:pt x="7" y="100"/>
                    </a:lnTo>
                    <a:lnTo>
                      <a:pt x="8" y="102"/>
                    </a:lnTo>
                    <a:lnTo>
                      <a:pt x="11" y="105"/>
                    </a:lnTo>
                    <a:lnTo>
                      <a:pt x="18" y="109"/>
                    </a:lnTo>
                    <a:lnTo>
                      <a:pt x="24" y="113"/>
                    </a:lnTo>
                    <a:lnTo>
                      <a:pt x="32" y="116"/>
                    </a:lnTo>
                    <a:lnTo>
                      <a:pt x="41" y="117"/>
                    </a:lnTo>
                    <a:lnTo>
                      <a:pt x="49" y="120"/>
                    </a:lnTo>
                    <a:lnTo>
                      <a:pt x="60" y="121"/>
                    </a:lnTo>
                    <a:lnTo>
                      <a:pt x="80" y="121"/>
                    </a:lnTo>
                    <a:lnTo>
                      <a:pt x="118" y="121"/>
                    </a:lnTo>
                    <a:lnTo>
                      <a:pt x="128" y="121"/>
                    </a:lnTo>
                    <a:lnTo>
                      <a:pt x="138" y="120"/>
                    </a:lnTo>
                    <a:lnTo>
                      <a:pt x="146" y="118"/>
                    </a:lnTo>
                    <a:lnTo>
                      <a:pt x="153" y="116"/>
                    </a:lnTo>
                    <a:lnTo>
                      <a:pt x="171" y="112"/>
                    </a:lnTo>
                    <a:lnTo>
                      <a:pt x="180" y="110"/>
                    </a:lnTo>
                    <a:lnTo>
                      <a:pt x="189" y="109"/>
                    </a:lnTo>
                    <a:lnTo>
                      <a:pt x="184" y="12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691320" y="3679920"/>
                <a:ext cx="328680" cy="339840"/>
              </a:xfrm>
              <a:custGeom>
                <a:avLst/>
                <a:gdLst/>
                <a:ahLst/>
                <a:rect l="l" t="t" r="r" b="b"/>
                <a:pathLst>
                  <a:path w="636" h="657">
                    <a:moveTo>
                      <a:pt x="163" y="559"/>
                    </a:moveTo>
                    <a:lnTo>
                      <a:pt x="159" y="564"/>
                    </a:lnTo>
                    <a:lnTo>
                      <a:pt x="153" y="571"/>
                    </a:lnTo>
                    <a:lnTo>
                      <a:pt x="145" y="582"/>
                    </a:lnTo>
                    <a:lnTo>
                      <a:pt x="142" y="586"/>
                    </a:lnTo>
                    <a:lnTo>
                      <a:pt x="138" y="589"/>
                    </a:lnTo>
                    <a:lnTo>
                      <a:pt x="131" y="591"/>
                    </a:lnTo>
                    <a:lnTo>
                      <a:pt x="128" y="592"/>
                    </a:lnTo>
                    <a:lnTo>
                      <a:pt x="124" y="592"/>
                    </a:lnTo>
                    <a:lnTo>
                      <a:pt x="119" y="592"/>
                    </a:lnTo>
                    <a:lnTo>
                      <a:pt x="114" y="591"/>
                    </a:lnTo>
                    <a:lnTo>
                      <a:pt x="109" y="588"/>
                    </a:lnTo>
                    <a:lnTo>
                      <a:pt x="105" y="586"/>
                    </a:lnTo>
                    <a:lnTo>
                      <a:pt x="101" y="583"/>
                    </a:lnTo>
                    <a:lnTo>
                      <a:pt x="97" y="579"/>
                    </a:lnTo>
                    <a:lnTo>
                      <a:pt x="89" y="571"/>
                    </a:lnTo>
                    <a:lnTo>
                      <a:pt x="82" y="564"/>
                    </a:lnTo>
                    <a:lnTo>
                      <a:pt x="74" y="558"/>
                    </a:lnTo>
                    <a:lnTo>
                      <a:pt x="69" y="555"/>
                    </a:lnTo>
                    <a:lnTo>
                      <a:pt x="65" y="553"/>
                    </a:lnTo>
                    <a:lnTo>
                      <a:pt x="60" y="551"/>
                    </a:lnTo>
                    <a:lnTo>
                      <a:pt x="53" y="551"/>
                    </a:lnTo>
                    <a:lnTo>
                      <a:pt x="56" y="543"/>
                    </a:lnTo>
                    <a:lnTo>
                      <a:pt x="57" y="537"/>
                    </a:lnTo>
                    <a:lnTo>
                      <a:pt x="61" y="525"/>
                    </a:lnTo>
                    <a:lnTo>
                      <a:pt x="66" y="513"/>
                    </a:lnTo>
                    <a:lnTo>
                      <a:pt x="69" y="508"/>
                    </a:lnTo>
                    <a:lnTo>
                      <a:pt x="72" y="500"/>
                    </a:lnTo>
                    <a:lnTo>
                      <a:pt x="64" y="499"/>
                    </a:lnTo>
                    <a:lnTo>
                      <a:pt x="57" y="495"/>
                    </a:lnTo>
                    <a:lnTo>
                      <a:pt x="51" y="491"/>
                    </a:lnTo>
                    <a:lnTo>
                      <a:pt x="47" y="485"/>
                    </a:lnTo>
                    <a:lnTo>
                      <a:pt x="41" y="480"/>
                    </a:lnTo>
                    <a:lnTo>
                      <a:pt x="39" y="473"/>
                    </a:lnTo>
                    <a:lnTo>
                      <a:pt x="36" y="467"/>
                    </a:lnTo>
                    <a:lnTo>
                      <a:pt x="36" y="459"/>
                    </a:lnTo>
                    <a:lnTo>
                      <a:pt x="36" y="456"/>
                    </a:lnTo>
                    <a:lnTo>
                      <a:pt x="37" y="452"/>
                    </a:lnTo>
                    <a:lnTo>
                      <a:pt x="41" y="448"/>
                    </a:lnTo>
                    <a:lnTo>
                      <a:pt x="47" y="444"/>
                    </a:lnTo>
                    <a:lnTo>
                      <a:pt x="52" y="442"/>
                    </a:lnTo>
                    <a:lnTo>
                      <a:pt x="58" y="438"/>
                    </a:lnTo>
                    <a:lnTo>
                      <a:pt x="64" y="434"/>
                    </a:lnTo>
                    <a:lnTo>
                      <a:pt x="65" y="433"/>
                    </a:lnTo>
                    <a:lnTo>
                      <a:pt x="68" y="430"/>
                    </a:lnTo>
                    <a:lnTo>
                      <a:pt x="68" y="427"/>
                    </a:lnTo>
                    <a:lnTo>
                      <a:pt x="69" y="423"/>
                    </a:lnTo>
                    <a:lnTo>
                      <a:pt x="68" y="419"/>
                    </a:lnTo>
                    <a:lnTo>
                      <a:pt x="66" y="415"/>
                    </a:lnTo>
                    <a:lnTo>
                      <a:pt x="65" y="413"/>
                    </a:lnTo>
                    <a:lnTo>
                      <a:pt x="62" y="409"/>
                    </a:lnTo>
                    <a:lnTo>
                      <a:pt x="58" y="406"/>
                    </a:lnTo>
                    <a:lnTo>
                      <a:pt x="56" y="405"/>
                    </a:lnTo>
                    <a:lnTo>
                      <a:pt x="48" y="400"/>
                    </a:lnTo>
                    <a:lnTo>
                      <a:pt x="40" y="396"/>
                    </a:lnTo>
                    <a:lnTo>
                      <a:pt x="33" y="390"/>
                    </a:lnTo>
                    <a:lnTo>
                      <a:pt x="31" y="388"/>
                    </a:lnTo>
                    <a:lnTo>
                      <a:pt x="29" y="384"/>
                    </a:lnTo>
                    <a:lnTo>
                      <a:pt x="28" y="381"/>
                    </a:lnTo>
                    <a:lnTo>
                      <a:pt x="27" y="376"/>
                    </a:lnTo>
                    <a:lnTo>
                      <a:pt x="28" y="371"/>
                    </a:lnTo>
                    <a:lnTo>
                      <a:pt x="28" y="367"/>
                    </a:lnTo>
                    <a:lnTo>
                      <a:pt x="31" y="361"/>
                    </a:lnTo>
                    <a:lnTo>
                      <a:pt x="33" y="357"/>
                    </a:lnTo>
                    <a:lnTo>
                      <a:pt x="36" y="353"/>
                    </a:lnTo>
                    <a:lnTo>
                      <a:pt x="39" y="351"/>
                    </a:lnTo>
                    <a:lnTo>
                      <a:pt x="47" y="344"/>
                    </a:lnTo>
                    <a:lnTo>
                      <a:pt x="53" y="336"/>
                    </a:lnTo>
                    <a:lnTo>
                      <a:pt x="60" y="330"/>
                    </a:lnTo>
                    <a:lnTo>
                      <a:pt x="62" y="326"/>
                    </a:lnTo>
                    <a:lnTo>
                      <a:pt x="64" y="322"/>
                    </a:lnTo>
                    <a:lnTo>
                      <a:pt x="65" y="317"/>
                    </a:lnTo>
                    <a:lnTo>
                      <a:pt x="65" y="311"/>
                    </a:lnTo>
                    <a:lnTo>
                      <a:pt x="65" y="306"/>
                    </a:lnTo>
                    <a:lnTo>
                      <a:pt x="64" y="301"/>
                    </a:lnTo>
                    <a:lnTo>
                      <a:pt x="62" y="297"/>
                    </a:lnTo>
                    <a:lnTo>
                      <a:pt x="60" y="293"/>
                    </a:lnTo>
                    <a:lnTo>
                      <a:pt x="55" y="285"/>
                    </a:lnTo>
                    <a:lnTo>
                      <a:pt x="48" y="278"/>
                    </a:lnTo>
                    <a:lnTo>
                      <a:pt x="41" y="272"/>
                    </a:lnTo>
                    <a:lnTo>
                      <a:pt x="36" y="264"/>
                    </a:lnTo>
                    <a:lnTo>
                      <a:pt x="33" y="260"/>
                    </a:lnTo>
                    <a:lnTo>
                      <a:pt x="32" y="256"/>
                    </a:lnTo>
                    <a:lnTo>
                      <a:pt x="31" y="252"/>
                    </a:lnTo>
                    <a:lnTo>
                      <a:pt x="29" y="247"/>
                    </a:lnTo>
                    <a:lnTo>
                      <a:pt x="31" y="244"/>
                    </a:lnTo>
                    <a:lnTo>
                      <a:pt x="31" y="241"/>
                    </a:lnTo>
                    <a:lnTo>
                      <a:pt x="33" y="237"/>
                    </a:lnTo>
                    <a:lnTo>
                      <a:pt x="35" y="233"/>
                    </a:lnTo>
                    <a:lnTo>
                      <a:pt x="36" y="231"/>
                    </a:lnTo>
                    <a:lnTo>
                      <a:pt x="36" y="228"/>
                    </a:lnTo>
                    <a:lnTo>
                      <a:pt x="36" y="224"/>
                    </a:lnTo>
                    <a:lnTo>
                      <a:pt x="35" y="222"/>
                    </a:lnTo>
                    <a:lnTo>
                      <a:pt x="32" y="218"/>
                    </a:lnTo>
                    <a:lnTo>
                      <a:pt x="31" y="215"/>
                    </a:lnTo>
                    <a:lnTo>
                      <a:pt x="24" y="211"/>
                    </a:lnTo>
                    <a:lnTo>
                      <a:pt x="18" y="206"/>
                    </a:lnTo>
                    <a:lnTo>
                      <a:pt x="12" y="202"/>
                    </a:lnTo>
                    <a:lnTo>
                      <a:pt x="6" y="197"/>
                    </a:lnTo>
                    <a:lnTo>
                      <a:pt x="4" y="194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5"/>
                    </a:lnTo>
                    <a:lnTo>
                      <a:pt x="0" y="178"/>
                    </a:lnTo>
                    <a:lnTo>
                      <a:pt x="2" y="174"/>
                    </a:lnTo>
                    <a:lnTo>
                      <a:pt x="4" y="170"/>
                    </a:lnTo>
                    <a:lnTo>
                      <a:pt x="7" y="166"/>
                    </a:lnTo>
                    <a:lnTo>
                      <a:pt x="11" y="164"/>
                    </a:lnTo>
                    <a:lnTo>
                      <a:pt x="14" y="161"/>
                    </a:lnTo>
                    <a:lnTo>
                      <a:pt x="23" y="157"/>
                    </a:lnTo>
                    <a:lnTo>
                      <a:pt x="44" y="148"/>
                    </a:lnTo>
                    <a:lnTo>
                      <a:pt x="53" y="144"/>
                    </a:lnTo>
                    <a:lnTo>
                      <a:pt x="58" y="140"/>
                    </a:lnTo>
                    <a:lnTo>
                      <a:pt x="62" y="137"/>
                    </a:lnTo>
                    <a:lnTo>
                      <a:pt x="68" y="131"/>
                    </a:lnTo>
                    <a:lnTo>
                      <a:pt x="73" y="125"/>
                    </a:lnTo>
                    <a:lnTo>
                      <a:pt x="77" y="119"/>
                    </a:lnTo>
                    <a:lnTo>
                      <a:pt x="81" y="112"/>
                    </a:lnTo>
                    <a:lnTo>
                      <a:pt x="87" y="99"/>
                    </a:lnTo>
                    <a:lnTo>
                      <a:pt x="94" y="86"/>
                    </a:lnTo>
                    <a:lnTo>
                      <a:pt x="101" y="75"/>
                    </a:lnTo>
                    <a:lnTo>
                      <a:pt x="105" y="70"/>
                    </a:lnTo>
                    <a:lnTo>
                      <a:pt x="110" y="66"/>
                    </a:lnTo>
                    <a:lnTo>
                      <a:pt x="114" y="62"/>
                    </a:lnTo>
                    <a:lnTo>
                      <a:pt x="120" y="59"/>
                    </a:lnTo>
                    <a:lnTo>
                      <a:pt x="126" y="58"/>
                    </a:lnTo>
                    <a:lnTo>
                      <a:pt x="134" y="57"/>
                    </a:lnTo>
                    <a:lnTo>
                      <a:pt x="142" y="58"/>
                    </a:lnTo>
                    <a:lnTo>
                      <a:pt x="149" y="59"/>
                    </a:lnTo>
                    <a:lnTo>
                      <a:pt x="157" y="63"/>
                    </a:lnTo>
                    <a:lnTo>
                      <a:pt x="163" y="69"/>
                    </a:lnTo>
                    <a:lnTo>
                      <a:pt x="169" y="74"/>
                    </a:lnTo>
                    <a:lnTo>
                      <a:pt x="175" y="80"/>
                    </a:lnTo>
                    <a:lnTo>
                      <a:pt x="184" y="94"/>
                    </a:lnTo>
                    <a:lnTo>
                      <a:pt x="194" y="107"/>
                    </a:lnTo>
                    <a:lnTo>
                      <a:pt x="200" y="113"/>
                    </a:lnTo>
                    <a:lnTo>
                      <a:pt x="205" y="119"/>
                    </a:lnTo>
                    <a:lnTo>
                      <a:pt x="211" y="124"/>
                    </a:lnTo>
                    <a:lnTo>
                      <a:pt x="218" y="128"/>
                    </a:lnTo>
                    <a:lnTo>
                      <a:pt x="226" y="131"/>
                    </a:lnTo>
                    <a:lnTo>
                      <a:pt x="234" y="131"/>
                    </a:lnTo>
                    <a:lnTo>
                      <a:pt x="236" y="131"/>
                    </a:lnTo>
                    <a:lnTo>
                      <a:pt x="239" y="129"/>
                    </a:lnTo>
                    <a:lnTo>
                      <a:pt x="243" y="127"/>
                    </a:lnTo>
                    <a:lnTo>
                      <a:pt x="250" y="119"/>
                    </a:lnTo>
                    <a:lnTo>
                      <a:pt x="252" y="115"/>
                    </a:lnTo>
                    <a:lnTo>
                      <a:pt x="256" y="111"/>
                    </a:lnTo>
                    <a:lnTo>
                      <a:pt x="260" y="108"/>
                    </a:lnTo>
                    <a:lnTo>
                      <a:pt x="263" y="107"/>
                    </a:lnTo>
                    <a:lnTo>
                      <a:pt x="266" y="107"/>
                    </a:lnTo>
                    <a:lnTo>
                      <a:pt x="272" y="108"/>
                    </a:lnTo>
                    <a:lnTo>
                      <a:pt x="279" y="109"/>
                    </a:lnTo>
                    <a:lnTo>
                      <a:pt x="284" y="112"/>
                    </a:lnTo>
                    <a:lnTo>
                      <a:pt x="289" y="116"/>
                    </a:lnTo>
                    <a:lnTo>
                      <a:pt x="293" y="120"/>
                    </a:lnTo>
                    <a:lnTo>
                      <a:pt x="297" y="125"/>
                    </a:lnTo>
                    <a:lnTo>
                      <a:pt x="304" y="137"/>
                    </a:lnTo>
                    <a:lnTo>
                      <a:pt x="312" y="149"/>
                    </a:lnTo>
                    <a:lnTo>
                      <a:pt x="318" y="162"/>
                    </a:lnTo>
                    <a:lnTo>
                      <a:pt x="324" y="168"/>
                    </a:lnTo>
                    <a:lnTo>
                      <a:pt x="329" y="173"/>
                    </a:lnTo>
                    <a:lnTo>
                      <a:pt x="334" y="177"/>
                    </a:lnTo>
                    <a:lnTo>
                      <a:pt x="341" y="181"/>
                    </a:lnTo>
                    <a:lnTo>
                      <a:pt x="362" y="181"/>
                    </a:lnTo>
                    <a:lnTo>
                      <a:pt x="362" y="158"/>
                    </a:lnTo>
                    <a:lnTo>
                      <a:pt x="360" y="150"/>
                    </a:lnTo>
                    <a:lnTo>
                      <a:pt x="359" y="144"/>
                    </a:lnTo>
                    <a:lnTo>
                      <a:pt x="354" y="131"/>
                    </a:lnTo>
                    <a:lnTo>
                      <a:pt x="351" y="125"/>
                    </a:lnTo>
                    <a:lnTo>
                      <a:pt x="349" y="119"/>
                    </a:lnTo>
                    <a:lnTo>
                      <a:pt x="347" y="112"/>
                    </a:lnTo>
                    <a:lnTo>
                      <a:pt x="346" y="104"/>
                    </a:lnTo>
                    <a:lnTo>
                      <a:pt x="347" y="99"/>
                    </a:lnTo>
                    <a:lnTo>
                      <a:pt x="347" y="95"/>
                    </a:lnTo>
                    <a:lnTo>
                      <a:pt x="349" y="91"/>
                    </a:lnTo>
                    <a:lnTo>
                      <a:pt x="351" y="87"/>
                    </a:lnTo>
                    <a:lnTo>
                      <a:pt x="357" y="82"/>
                    </a:lnTo>
                    <a:lnTo>
                      <a:pt x="360" y="78"/>
                    </a:lnTo>
                    <a:lnTo>
                      <a:pt x="363" y="77"/>
                    </a:lnTo>
                    <a:lnTo>
                      <a:pt x="372" y="71"/>
                    </a:lnTo>
                    <a:lnTo>
                      <a:pt x="380" y="69"/>
                    </a:lnTo>
                    <a:lnTo>
                      <a:pt x="391" y="65"/>
                    </a:lnTo>
                    <a:lnTo>
                      <a:pt x="400" y="63"/>
                    </a:lnTo>
                    <a:lnTo>
                      <a:pt x="405" y="77"/>
                    </a:lnTo>
                    <a:lnTo>
                      <a:pt x="411" y="88"/>
                    </a:lnTo>
                    <a:lnTo>
                      <a:pt x="413" y="94"/>
                    </a:lnTo>
                    <a:lnTo>
                      <a:pt x="417" y="100"/>
                    </a:lnTo>
                    <a:lnTo>
                      <a:pt x="421" y="106"/>
                    </a:lnTo>
                    <a:lnTo>
                      <a:pt x="426" y="109"/>
                    </a:lnTo>
                    <a:lnTo>
                      <a:pt x="430" y="107"/>
                    </a:lnTo>
                    <a:lnTo>
                      <a:pt x="434" y="103"/>
                    </a:lnTo>
                    <a:lnTo>
                      <a:pt x="438" y="99"/>
                    </a:lnTo>
                    <a:lnTo>
                      <a:pt x="441" y="95"/>
                    </a:lnTo>
                    <a:lnTo>
                      <a:pt x="444" y="91"/>
                    </a:lnTo>
                    <a:lnTo>
                      <a:pt x="446" y="86"/>
                    </a:lnTo>
                    <a:lnTo>
                      <a:pt x="446" y="80"/>
                    </a:lnTo>
                    <a:lnTo>
                      <a:pt x="448" y="75"/>
                    </a:lnTo>
                    <a:lnTo>
                      <a:pt x="446" y="70"/>
                    </a:lnTo>
                    <a:lnTo>
                      <a:pt x="445" y="66"/>
                    </a:lnTo>
                    <a:lnTo>
                      <a:pt x="441" y="59"/>
                    </a:lnTo>
                    <a:lnTo>
                      <a:pt x="437" y="53"/>
                    </a:lnTo>
                    <a:lnTo>
                      <a:pt x="436" y="49"/>
                    </a:lnTo>
                    <a:lnTo>
                      <a:pt x="436" y="45"/>
                    </a:lnTo>
                    <a:lnTo>
                      <a:pt x="436" y="40"/>
                    </a:lnTo>
                    <a:lnTo>
                      <a:pt x="438" y="34"/>
                    </a:lnTo>
                    <a:lnTo>
                      <a:pt x="441" y="30"/>
                    </a:lnTo>
                    <a:lnTo>
                      <a:pt x="445" y="28"/>
                    </a:lnTo>
                    <a:lnTo>
                      <a:pt x="455" y="21"/>
                    </a:lnTo>
                    <a:lnTo>
                      <a:pt x="465" y="16"/>
                    </a:lnTo>
                    <a:lnTo>
                      <a:pt x="467" y="21"/>
                    </a:lnTo>
                    <a:lnTo>
                      <a:pt x="470" y="25"/>
                    </a:lnTo>
                    <a:lnTo>
                      <a:pt x="473" y="29"/>
                    </a:lnTo>
                    <a:lnTo>
                      <a:pt x="477" y="32"/>
                    </a:lnTo>
                    <a:lnTo>
                      <a:pt x="484" y="38"/>
                    </a:lnTo>
                    <a:lnTo>
                      <a:pt x="495" y="42"/>
                    </a:lnTo>
                    <a:lnTo>
                      <a:pt x="499" y="33"/>
                    </a:lnTo>
                    <a:lnTo>
                      <a:pt x="500" y="28"/>
                    </a:lnTo>
                    <a:lnTo>
                      <a:pt x="502" y="24"/>
                    </a:lnTo>
                    <a:lnTo>
                      <a:pt x="503" y="15"/>
                    </a:lnTo>
                    <a:lnTo>
                      <a:pt x="503" y="4"/>
                    </a:lnTo>
                    <a:lnTo>
                      <a:pt x="517" y="0"/>
                    </a:lnTo>
                    <a:lnTo>
                      <a:pt x="527" y="5"/>
                    </a:lnTo>
                    <a:lnTo>
                      <a:pt x="533" y="9"/>
                    </a:lnTo>
                    <a:lnTo>
                      <a:pt x="537" y="12"/>
                    </a:lnTo>
                    <a:lnTo>
                      <a:pt x="540" y="15"/>
                    </a:lnTo>
                    <a:lnTo>
                      <a:pt x="541" y="18"/>
                    </a:lnTo>
                    <a:lnTo>
                      <a:pt x="541" y="22"/>
                    </a:lnTo>
                    <a:lnTo>
                      <a:pt x="541" y="28"/>
                    </a:lnTo>
                    <a:lnTo>
                      <a:pt x="540" y="32"/>
                    </a:lnTo>
                    <a:lnTo>
                      <a:pt x="538" y="36"/>
                    </a:lnTo>
                    <a:lnTo>
                      <a:pt x="537" y="40"/>
                    </a:lnTo>
                    <a:lnTo>
                      <a:pt x="532" y="46"/>
                    </a:lnTo>
                    <a:lnTo>
                      <a:pt x="527" y="53"/>
                    </a:lnTo>
                    <a:lnTo>
                      <a:pt x="521" y="59"/>
                    </a:lnTo>
                    <a:lnTo>
                      <a:pt x="516" y="67"/>
                    </a:lnTo>
                    <a:lnTo>
                      <a:pt x="515" y="70"/>
                    </a:lnTo>
                    <a:lnTo>
                      <a:pt x="513" y="74"/>
                    </a:lnTo>
                    <a:lnTo>
                      <a:pt x="512" y="79"/>
                    </a:lnTo>
                    <a:lnTo>
                      <a:pt x="512" y="83"/>
                    </a:lnTo>
                    <a:lnTo>
                      <a:pt x="512" y="90"/>
                    </a:lnTo>
                    <a:lnTo>
                      <a:pt x="513" y="95"/>
                    </a:lnTo>
                    <a:lnTo>
                      <a:pt x="515" y="99"/>
                    </a:lnTo>
                    <a:lnTo>
                      <a:pt x="517" y="104"/>
                    </a:lnTo>
                    <a:lnTo>
                      <a:pt x="520" y="108"/>
                    </a:lnTo>
                    <a:lnTo>
                      <a:pt x="523" y="112"/>
                    </a:lnTo>
                    <a:lnTo>
                      <a:pt x="525" y="116"/>
                    </a:lnTo>
                    <a:lnTo>
                      <a:pt x="529" y="120"/>
                    </a:lnTo>
                    <a:lnTo>
                      <a:pt x="538" y="127"/>
                    </a:lnTo>
                    <a:lnTo>
                      <a:pt x="548" y="132"/>
                    </a:lnTo>
                    <a:lnTo>
                      <a:pt x="569" y="142"/>
                    </a:lnTo>
                    <a:lnTo>
                      <a:pt x="566" y="148"/>
                    </a:lnTo>
                    <a:lnTo>
                      <a:pt x="564" y="152"/>
                    </a:lnTo>
                    <a:lnTo>
                      <a:pt x="561" y="156"/>
                    </a:lnTo>
                    <a:lnTo>
                      <a:pt x="557" y="160"/>
                    </a:lnTo>
                    <a:lnTo>
                      <a:pt x="553" y="162"/>
                    </a:lnTo>
                    <a:lnTo>
                      <a:pt x="549" y="165"/>
                    </a:lnTo>
                    <a:lnTo>
                      <a:pt x="541" y="170"/>
                    </a:lnTo>
                    <a:lnTo>
                      <a:pt x="533" y="175"/>
                    </a:lnTo>
                    <a:lnTo>
                      <a:pt x="525" y="181"/>
                    </a:lnTo>
                    <a:lnTo>
                      <a:pt x="519" y="187"/>
                    </a:lnTo>
                    <a:lnTo>
                      <a:pt x="515" y="191"/>
                    </a:lnTo>
                    <a:lnTo>
                      <a:pt x="512" y="195"/>
                    </a:lnTo>
                    <a:lnTo>
                      <a:pt x="507" y="206"/>
                    </a:lnTo>
                    <a:lnTo>
                      <a:pt x="503" y="216"/>
                    </a:lnTo>
                    <a:lnTo>
                      <a:pt x="499" y="227"/>
                    </a:lnTo>
                    <a:lnTo>
                      <a:pt x="498" y="236"/>
                    </a:lnTo>
                    <a:lnTo>
                      <a:pt x="495" y="247"/>
                    </a:lnTo>
                    <a:lnTo>
                      <a:pt x="495" y="256"/>
                    </a:lnTo>
                    <a:lnTo>
                      <a:pt x="495" y="276"/>
                    </a:lnTo>
                    <a:lnTo>
                      <a:pt x="496" y="295"/>
                    </a:lnTo>
                    <a:lnTo>
                      <a:pt x="498" y="317"/>
                    </a:lnTo>
                    <a:lnTo>
                      <a:pt x="499" y="338"/>
                    </a:lnTo>
                    <a:lnTo>
                      <a:pt x="500" y="361"/>
                    </a:lnTo>
                    <a:lnTo>
                      <a:pt x="502" y="381"/>
                    </a:lnTo>
                    <a:lnTo>
                      <a:pt x="502" y="390"/>
                    </a:lnTo>
                    <a:lnTo>
                      <a:pt x="503" y="400"/>
                    </a:lnTo>
                    <a:lnTo>
                      <a:pt x="507" y="417"/>
                    </a:lnTo>
                    <a:lnTo>
                      <a:pt x="508" y="425"/>
                    </a:lnTo>
                    <a:lnTo>
                      <a:pt x="511" y="433"/>
                    </a:lnTo>
                    <a:lnTo>
                      <a:pt x="516" y="448"/>
                    </a:lnTo>
                    <a:lnTo>
                      <a:pt x="523" y="463"/>
                    </a:lnTo>
                    <a:lnTo>
                      <a:pt x="531" y="477"/>
                    </a:lnTo>
                    <a:lnTo>
                      <a:pt x="540" y="491"/>
                    </a:lnTo>
                    <a:lnTo>
                      <a:pt x="549" y="504"/>
                    </a:lnTo>
                    <a:lnTo>
                      <a:pt x="560" y="517"/>
                    </a:lnTo>
                    <a:lnTo>
                      <a:pt x="570" y="530"/>
                    </a:lnTo>
                    <a:lnTo>
                      <a:pt x="582" y="543"/>
                    </a:lnTo>
                    <a:lnTo>
                      <a:pt x="608" y="570"/>
                    </a:lnTo>
                    <a:lnTo>
                      <a:pt x="636" y="597"/>
                    </a:lnTo>
                    <a:lnTo>
                      <a:pt x="623" y="611"/>
                    </a:lnTo>
                    <a:lnTo>
                      <a:pt x="611" y="622"/>
                    </a:lnTo>
                    <a:lnTo>
                      <a:pt x="598" y="633"/>
                    </a:lnTo>
                    <a:lnTo>
                      <a:pt x="585" y="641"/>
                    </a:lnTo>
                    <a:lnTo>
                      <a:pt x="570" y="648"/>
                    </a:lnTo>
                    <a:lnTo>
                      <a:pt x="556" y="653"/>
                    </a:lnTo>
                    <a:lnTo>
                      <a:pt x="538" y="657"/>
                    </a:lnTo>
                    <a:lnTo>
                      <a:pt x="531" y="657"/>
                    </a:lnTo>
                    <a:lnTo>
                      <a:pt x="521" y="657"/>
                    </a:lnTo>
                    <a:lnTo>
                      <a:pt x="515" y="657"/>
                    </a:lnTo>
                    <a:lnTo>
                      <a:pt x="509" y="655"/>
                    </a:lnTo>
                    <a:lnTo>
                      <a:pt x="504" y="654"/>
                    </a:lnTo>
                    <a:lnTo>
                      <a:pt x="500" y="651"/>
                    </a:lnTo>
                    <a:lnTo>
                      <a:pt x="491" y="646"/>
                    </a:lnTo>
                    <a:lnTo>
                      <a:pt x="483" y="640"/>
                    </a:lnTo>
                    <a:lnTo>
                      <a:pt x="475" y="633"/>
                    </a:lnTo>
                    <a:lnTo>
                      <a:pt x="467" y="626"/>
                    </a:lnTo>
                    <a:lnTo>
                      <a:pt x="462" y="622"/>
                    </a:lnTo>
                    <a:lnTo>
                      <a:pt x="458" y="620"/>
                    </a:lnTo>
                    <a:lnTo>
                      <a:pt x="453" y="617"/>
                    </a:lnTo>
                    <a:lnTo>
                      <a:pt x="448" y="616"/>
                    </a:lnTo>
                    <a:lnTo>
                      <a:pt x="438" y="613"/>
                    </a:lnTo>
                    <a:lnTo>
                      <a:pt x="429" y="612"/>
                    </a:lnTo>
                    <a:lnTo>
                      <a:pt x="413" y="612"/>
                    </a:lnTo>
                    <a:lnTo>
                      <a:pt x="397" y="612"/>
                    </a:lnTo>
                    <a:lnTo>
                      <a:pt x="383" y="613"/>
                    </a:lnTo>
                    <a:lnTo>
                      <a:pt x="367" y="615"/>
                    </a:lnTo>
                    <a:lnTo>
                      <a:pt x="353" y="615"/>
                    </a:lnTo>
                    <a:lnTo>
                      <a:pt x="345" y="615"/>
                    </a:lnTo>
                    <a:lnTo>
                      <a:pt x="337" y="612"/>
                    </a:lnTo>
                    <a:lnTo>
                      <a:pt x="329" y="611"/>
                    </a:lnTo>
                    <a:lnTo>
                      <a:pt x="320" y="607"/>
                    </a:lnTo>
                    <a:lnTo>
                      <a:pt x="313" y="604"/>
                    </a:lnTo>
                    <a:lnTo>
                      <a:pt x="306" y="599"/>
                    </a:lnTo>
                    <a:lnTo>
                      <a:pt x="301" y="595"/>
                    </a:lnTo>
                    <a:lnTo>
                      <a:pt x="297" y="589"/>
                    </a:lnTo>
                    <a:lnTo>
                      <a:pt x="292" y="583"/>
                    </a:lnTo>
                    <a:lnTo>
                      <a:pt x="288" y="578"/>
                    </a:lnTo>
                    <a:lnTo>
                      <a:pt x="280" y="566"/>
                    </a:lnTo>
                    <a:lnTo>
                      <a:pt x="272" y="554"/>
                    </a:lnTo>
                    <a:lnTo>
                      <a:pt x="267" y="549"/>
                    </a:lnTo>
                    <a:lnTo>
                      <a:pt x="263" y="545"/>
                    </a:lnTo>
                    <a:lnTo>
                      <a:pt x="258" y="541"/>
                    </a:lnTo>
                    <a:lnTo>
                      <a:pt x="251" y="538"/>
                    </a:lnTo>
                    <a:lnTo>
                      <a:pt x="244" y="537"/>
                    </a:lnTo>
                    <a:lnTo>
                      <a:pt x="236" y="535"/>
                    </a:lnTo>
                    <a:lnTo>
                      <a:pt x="233" y="537"/>
                    </a:lnTo>
                    <a:lnTo>
                      <a:pt x="229" y="537"/>
                    </a:lnTo>
                    <a:lnTo>
                      <a:pt x="223" y="538"/>
                    </a:lnTo>
                    <a:lnTo>
                      <a:pt x="221" y="541"/>
                    </a:lnTo>
                    <a:lnTo>
                      <a:pt x="217" y="543"/>
                    </a:lnTo>
                    <a:lnTo>
                      <a:pt x="214" y="546"/>
                    </a:lnTo>
                    <a:lnTo>
                      <a:pt x="207" y="551"/>
                    </a:lnTo>
                    <a:lnTo>
                      <a:pt x="201" y="558"/>
                    </a:lnTo>
                    <a:lnTo>
                      <a:pt x="194" y="563"/>
                    </a:lnTo>
                    <a:lnTo>
                      <a:pt x="186" y="568"/>
                    </a:lnTo>
                    <a:lnTo>
                      <a:pt x="182" y="570"/>
                    </a:lnTo>
                    <a:lnTo>
                      <a:pt x="178" y="571"/>
                    </a:lnTo>
                    <a:lnTo>
                      <a:pt x="163" y="55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035840" y="3816360"/>
                <a:ext cx="92160" cy="293760"/>
              </a:xfrm>
              <a:custGeom>
                <a:avLst/>
                <a:gdLst/>
                <a:ahLst/>
                <a:rect l="l" t="t" r="r" b="b"/>
                <a:pathLst>
                  <a:path w="180" h="569">
                    <a:moveTo>
                      <a:pt x="70" y="0"/>
                    </a:moveTo>
                    <a:lnTo>
                      <a:pt x="61" y="2"/>
                    </a:lnTo>
                    <a:lnTo>
                      <a:pt x="57" y="2"/>
                    </a:lnTo>
                    <a:lnTo>
                      <a:pt x="53" y="3"/>
                    </a:lnTo>
                    <a:lnTo>
                      <a:pt x="45" y="7"/>
                    </a:lnTo>
                    <a:lnTo>
                      <a:pt x="37" y="11"/>
                    </a:lnTo>
                    <a:lnTo>
                      <a:pt x="32" y="16"/>
                    </a:lnTo>
                    <a:lnTo>
                      <a:pt x="25" y="23"/>
                    </a:lnTo>
                    <a:lnTo>
                      <a:pt x="20" y="29"/>
                    </a:lnTo>
                    <a:lnTo>
                      <a:pt x="16" y="37"/>
                    </a:lnTo>
                    <a:lnTo>
                      <a:pt x="12" y="47"/>
                    </a:lnTo>
                    <a:lnTo>
                      <a:pt x="8" y="54"/>
                    </a:lnTo>
                    <a:lnTo>
                      <a:pt x="6" y="64"/>
                    </a:lnTo>
                    <a:lnTo>
                      <a:pt x="3" y="74"/>
                    </a:lnTo>
                    <a:lnTo>
                      <a:pt x="0" y="94"/>
                    </a:lnTo>
                    <a:lnTo>
                      <a:pt x="0" y="114"/>
                    </a:lnTo>
                    <a:lnTo>
                      <a:pt x="0" y="123"/>
                    </a:lnTo>
                    <a:lnTo>
                      <a:pt x="0" y="131"/>
                    </a:lnTo>
                    <a:lnTo>
                      <a:pt x="3" y="149"/>
                    </a:lnTo>
                    <a:lnTo>
                      <a:pt x="7" y="165"/>
                    </a:lnTo>
                    <a:lnTo>
                      <a:pt x="11" y="181"/>
                    </a:lnTo>
                    <a:lnTo>
                      <a:pt x="18" y="196"/>
                    </a:lnTo>
                    <a:lnTo>
                      <a:pt x="23" y="210"/>
                    </a:lnTo>
                    <a:lnTo>
                      <a:pt x="37" y="238"/>
                    </a:lnTo>
                    <a:lnTo>
                      <a:pt x="51" y="265"/>
                    </a:lnTo>
                    <a:lnTo>
                      <a:pt x="57" y="280"/>
                    </a:lnTo>
                    <a:lnTo>
                      <a:pt x="62" y="294"/>
                    </a:lnTo>
                    <a:lnTo>
                      <a:pt x="66" y="310"/>
                    </a:lnTo>
                    <a:lnTo>
                      <a:pt x="70" y="326"/>
                    </a:lnTo>
                    <a:lnTo>
                      <a:pt x="73" y="343"/>
                    </a:lnTo>
                    <a:lnTo>
                      <a:pt x="74" y="353"/>
                    </a:lnTo>
                    <a:lnTo>
                      <a:pt x="74" y="362"/>
                    </a:lnTo>
                    <a:lnTo>
                      <a:pt x="73" y="374"/>
                    </a:lnTo>
                    <a:lnTo>
                      <a:pt x="70" y="387"/>
                    </a:lnTo>
                    <a:lnTo>
                      <a:pt x="68" y="399"/>
                    </a:lnTo>
                    <a:lnTo>
                      <a:pt x="64" y="412"/>
                    </a:lnTo>
                    <a:lnTo>
                      <a:pt x="58" y="424"/>
                    </a:lnTo>
                    <a:lnTo>
                      <a:pt x="52" y="437"/>
                    </a:lnTo>
                    <a:lnTo>
                      <a:pt x="40" y="459"/>
                    </a:lnTo>
                    <a:lnTo>
                      <a:pt x="27" y="479"/>
                    </a:lnTo>
                    <a:lnTo>
                      <a:pt x="16" y="495"/>
                    </a:lnTo>
                    <a:lnTo>
                      <a:pt x="6" y="509"/>
                    </a:lnTo>
                    <a:lnTo>
                      <a:pt x="68" y="569"/>
                    </a:lnTo>
                    <a:lnTo>
                      <a:pt x="180" y="474"/>
                    </a:lnTo>
                    <a:lnTo>
                      <a:pt x="173" y="469"/>
                    </a:lnTo>
                    <a:lnTo>
                      <a:pt x="167" y="462"/>
                    </a:lnTo>
                    <a:lnTo>
                      <a:pt x="159" y="454"/>
                    </a:lnTo>
                    <a:lnTo>
                      <a:pt x="151" y="445"/>
                    </a:lnTo>
                    <a:lnTo>
                      <a:pt x="143" y="434"/>
                    </a:lnTo>
                    <a:lnTo>
                      <a:pt x="136" y="424"/>
                    </a:lnTo>
                    <a:lnTo>
                      <a:pt x="135" y="417"/>
                    </a:lnTo>
                    <a:lnTo>
                      <a:pt x="134" y="412"/>
                    </a:lnTo>
                    <a:lnTo>
                      <a:pt x="128" y="391"/>
                    </a:lnTo>
                    <a:lnTo>
                      <a:pt x="124" y="371"/>
                    </a:lnTo>
                    <a:lnTo>
                      <a:pt x="115" y="334"/>
                    </a:lnTo>
                    <a:lnTo>
                      <a:pt x="97" y="264"/>
                    </a:lnTo>
                    <a:lnTo>
                      <a:pt x="93" y="247"/>
                    </a:lnTo>
                    <a:lnTo>
                      <a:pt x="89" y="230"/>
                    </a:lnTo>
                    <a:lnTo>
                      <a:pt x="86" y="213"/>
                    </a:lnTo>
                    <a:lnTo>
                      <a:pt x="82" y="196"/>
                    </a:lnTo>
                    <a:lnTo>
                      <a:pt x="80" y="177"/>
                    </a:lnTo>
                    <a:lnTo>
                      <a:pt x="78" y="157"/>
                    </a:lnTo>
                    <a:lnTo>
                      <a:pt x="78" y="147"/>
                    </a:lnTo>
                    <a:lnTo>
                      <a:pt x="77" y="136"/>
                    </a:lnTo>
                    <a:lnTo>
                      <a:pt x="77" y="115"/>
                    </a:lnTo>
                    <a:lnTo>
                      <a:pt x="77" y="45"/>
                    </a:lnTo>
                    <a:lnTo>
                      <a:pt x="70" y="2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473880" y="3400560"/>
                <a:ext cx="450720" cy="306360"/>
              </a:xfrm>
              <a:custGeom>
                <a:avLst/>
                <a:gdLst/>
                <a:ahLst/>
                <a:rect l="l" t="t" r="r" b="b"/>
                <a:pathLst>
                  <a:path w="877" h="594">
                    <a:moveTo>
                      <a:pt x="877" y="165"/>
                    </a:moveTo>
                    <a:lnTo>
                      <a:pt x="877" y="175"/>
                    </a:lnTo>
                    <a:lnTo>
                      <a:pt x="875" y="184"/>
                    </a:lnTo>
                    <a:lnTo>
                      <a:pt x="873" y="194"/>
                    </a:lnTo>
                    <a:lnTo>
                      <a:pt x="870" y="201"/>
                    </a:lnTo>
                    <a:lnTo>
                      <a:pt x="868" y="205"/>
                    </a:lnTo>
                    <a:lnTo>
                      <a:pt x="866" y="208"/>
                    </a:lnTo>
                    <a:lnTo>
                      <a:pt x="861" y="216"/>
                    </a:lnTo>
                    <a:lnTo>
                      <a:pt x="850" y="229"/>
                    </a:lnTo>
                    <a:lnTo>
                      <a:pt x="839" y="242"/>
                    </a:lnTo>
                    <a:lnTo>
                      <a:pt x="825" y="256"/>
                    </a:lnTo>
                    <a:lnTo>
                      <a:pt x="811" y="269"/>
                    </a:lnTo>
                    <a:lnTo>
                      <a:pt x="798" y="283"/>
                    </a:lnTo>
                    <a:lnTo>
                      <a:pt x="792" y="289"/>
                    </a:lnTo>
                    <a:lnTo>
                      <a:pt x="790" y="294"/>
                    </a:lnTo>
                    <a:lnTo>
                      <a:pt x="783" y="307"/>
                    </a:lnTo>
                    <a:lnTo>
                      <a:pt x="778" y="319"/>
                    </a:lnTo>
                    <a:lnTo>
                      <a:pt x="773" y="331"/>
                    </a:lnTo>
                    <a:lnTo>
                      <a:pt x="767" y="341"/>
                    </a:lnTo>
                    <a:lnTo>
                      <a:pt x="765" y="345"/>
                    </a:lnTo>
                    <a:lnTo>
                      <a:pt x="761" y="349"/>
                    </a:lnTo>
                    <a:lnTo>
                      <a:pt x="757" y="353"/>
                    </a:lnTo>
                    <a:lnTo>
                      <a:pt x="751" y="356"/>
                    </a:lnTo>
                    <a:lnTo>
                      <a:pt x="746" y="357"/>
                    </a:lnTo>
                    <a:lnTo>
                      <a:pt x="740" y="357"/>
                    </a:lnTo>
                    <a:lnTo>
                      <a:pt x="730" y="357"/>
                    </a:lnTo>
                    <a:lnTo>
                      <a:pt x="728" y="356"/>
                    </a:lnTo>
                    <a:lnTo>
                      <a:pt x="724" y="354"/>
                    </a:lnTo>
                    <a:lnTo>
                      <a:pt x="717" y="352"/>
                    </a:lnTo>
                    <a:lnTo>
                      <a:pt x="713" y="350"/>
                    </a:lnTo>
                    <a:lnTo>
                      <a:pt x="711" y="348"/>
                    </a:lnTo>
                    <a:lnTo>
                      <a:pt x="704" y="343"/>
                    </a:lnTo>
                    <a:lnTo>
                      <a:pt x="699" y="337"/>
                    </a:lnTo>
                    <a:lnTo>
                      <a:pt x="688" y="324"/>
                    </a:lnTo>
                    <a:lnTo>
                      <a:pt x="684" y="314"/>
                    </a:lnTo>
                    <a:lnTo>
                      <a:pt x="683" y="321"/>
                    </a:lnTo>
                    <a:lnTo>
                      <a:pt x="682" y="329"/>
                    </a:lnTo>
                    <a:lnTo>
                      <a:pt x="679" y="337"/>
                    </a:lnTo>
                    <a:lnTo>
                      <a:pt x="675" y="345"/>
                    </a:lnTo>
                    <a:lnTo>
                      <a:pt x="671" y="352"/>
                    </a:lnTo>
                    <a:lnTo>
                      <a:pt x="666" y="357"/>
                    </a:lnTo>
                    <a:lnTo>
                      <a:pt x="663" y="358"/>
                    </a:lnTo>
                    <a:lnTo>
                      <a:pt x="659" y="361"/>
                    </a:lnTo>
                    <a:lnTo>
                      <a:pt x="653" y="364"/>
                    </a:lnTo>
                    <a:lnTo>
                      <a:pt x="666" y="376"/>
                    </a:lnTo>
                    <a:lnTo>
                      <a:pt x="672" y="382"/>
                    </a:lnTo>
                    <a:lnTo>
                      <a:pt x="679" y="389"/>
                    </a:lnTo>
                    <a:lnTo>
                      <a:pt x="682" y="391"/>
                    </a:lnTo>
                    <a:lnTo>
                      <a:pt x="683" y="395"/>
                    </a:lnTo>
                    <a:lnTo>
                      <a:pt x="686" y="398"/>
                    </a:lnTo>
                    <a:lnTo>
                      <a:pt x="687" y="402"/>
                    </a:lnTo>
                    <a:lnTo>
                      <a:pt x="690" y="410"/>
                    </a:lnTo>
                    <a:lnTo>
                      <a:pt x="691" y="415"/>
                    </a:lnTo>
                    <a:lnTo>
                      <a:pt x="691" y="419"/>
                    </a:lnTo>
                    <a:lnTo>
                      <a:pt x="691" y="427"/>
                    </a:lnTo>
                    <a:lnTo>
                      <a:pt x="690" y="435"/>
                    </a:lnTo>
                    <a:lnTo>
                      <a:pt x="688" y="441"/>
                    </a:lnTo>
                    <a:lnTo>
                      <a:pt x="686" y="449"/>
                    </a:lnTo>
                    <a:lnTo>
                      <a:pt x="683" y="456"/>
                    </a:lnTo>
                    <a:lnTo>
                      <a:pt x="680" y="463"/>
                    </a:lnTo>
                    <a:lnTo>
                      <a:pt x="676" y="469"/>
                    </a:lnTo>
                    <a:lnTo>
                      <a:pt x="672" y="474"/>
                    </a:lnTo>
                    <a:lnTo>
                      <a:pt x="667" y="480"/>
                    </a:lnTo>
                    <a:lnTo>
                      <a:pt x="662" y="485"/>
                    </a:lnTo>
                    <a:lnTo>
                      <a:pt x="657" y="489"/>
                    </a:lnTo>
                    <a:lnTo>
                      <a:pt x="650" y="493"/>
                    </a:lnTo>
                    <a:lnTo>
                      <a:pt x="643" y="496"/>
                    </a:lnTo>
                    <a:lnTo>
                      <a:pt x="637" y="497"/>
                    </a:lnTo>
                    <a:lnTo>
                      <a:pt x="630" y="498"/>
                    </a:lnTo>
                    <a:lnTo>
                      <a:pt x="622" y="500"/>
                    </a:lnTo>
                    <a:lnTo>
                      <a:pt x="614" y="498"/>
                    </a:lnTo>
                    <a:lnTo>
                      <a:pt x="612" y="497"/>
                    </a:lnTo>
                    <a:lnTo>
                      <a:pt x="609" y="496"/>
                    </a:lnTo>
                    <a:lnTo>
                      <a:pt x="605" y="493"/>
                    </a:lnTo>
                    <a:lnTo>
                      <a:pt x="602" y="490"/>
                    </a:lnTo>
                    <a:lnTo>
                      <a:pt x="599" y="485"/>
                    </a:lnTo>
                    <a:lnTo>
                      <a:pt x="595" y="478"/>
                    </a:lnTo>
                    <a:lnTo>
                      <a:pt x="592" y="470"/>
                    </a:lnTo>
                    <a:lnTo>
                      <a:pt x="589" y="463"/>
                    </a:lnTo>
                    <a:lnTo>
                      <a:pt x="587" y="455"/>
                    </a:lnTo>
                    <a:lnTo>
                      <a:pt x="579" y="464"/>
                    </a:lnTo>
                    <a:lnTo>
                      <a:pt x="571" y="473"/>
                    </a:lnTo>
                    <a:lnTo>
                      <a:pt x="566" y="482"/>
                    </a:lnTo>
                    <a:lnTo>
                      <a:pt x="560" y="493"/>
                    </a:lnTo>
                    <a:lnTo>
                      <a:pt x="556" y="502"/>
                    </a:lnTo>
                    <a:lnTo>
                      <a:pt x="554" y="514"/>
                    </a:lnTo>
                    <a:lnTo>
                      <a:pt x="552" y="525"/>
                    </a:lnTo>
                    <a:lnTo>
                      <a:pt x="551" y="538"/>
                    </a:lnTo>
                    <a:lnTo>
                      <a:pt x="552" y="543"/>
                    </a:lnTo>
                    <a:lnTo>
                      <a:pt x="554" y="548"/>
                    </a:lnTo>
                    <a:lnTo>
                      <a:pt x="556" y="552"/>
                    </a:lnTo>
                    <a:lnTo>
                      <a:pt x="559" y="556"/>
                    </a:lnTo>
                    <a:lnTo>
                      <a:pt x="566" y="564"/>
                    </a:lnTo>
                    <a:lnTo>
                      <a:pt x="572" y="573"/>
                    </a:lnTo>
                    <a:lnTo>
                      <a:pt x="566" y="581"/>
                    </a:lnTo>
                    <a:lnTo>
                      <a:pt x="559" y="588"/>
                    </a:lnTo>
                    <a:lnTo>
                      <a:pt x="555" y="590"/>
                    </a:lnTo>
                    <a:lnTo>
                      <a:pt x="551" y="592"/>
                    </a:lnTo>
                    <a:lnTo>
                      <a:pt x="547" y="593"/>
                    </a:lnTo>
                    <a:lnTo>
                      <a:pt x="542" y="594"/>
                    </a:lnTo>
                    <a:lnTo>
                      <a:pt x="484" y="594"/>
                    </a:lnTo>
                    <a:lnTo>
                      <a:pt x="481" y="593"/>
                    </a:lnTo>
                    <a:lnTo>
                      <a:pt x="477" y="593"/>
                    </a:lnTo>
                    <a:lnTo>
                      <a:pt x="475" y="590"/>
                    </a:lnTo>
                    <a:lnTo>
                      <a:pt x="472" y="589"/>
                    </a:lnTo>
                    <a:lnTo>
                      <a:pt x="469" y="587"/>
                    </a:lnTo>
                    <a:lnTo>
                      <a:pt x="468" y="583"/>
                    </a:lnTo>
                    <a:lnTo>
                      <a:pt x="467" y="580"/>
                    </a:lnTo>
                    <a:lnTo>
                      <a:pt x="465" y="576"/>
                    </a:lnTo>
                    <a:lnTo>
                      <a:pt x="467" y="572"/>
                    </a:lnTo>
                    <a:lnTo>
                      <a:pt x="468" y="568"/>
                    </a:lnTo>
                    <a:lnTo>
                      <a:pt x="472" y="561"/>
                    </a:lnTo>
                    <a:lnTo>
                      <a:pt x="476" y="555"/>
                    </a:lnTo>
                    <a:lnTo>
                      <a:pt x="477" y="551"/>
                    </a:lnTo>
                    <a:lnTo>
                      <a:pt x="477" y="547"/>
                    </a:lnTo>
                    <a:lnTo>
                      <a:pt x="477" y="540"/>
                    </a:lnTo>
                    <a:lnTo>
                      <a:pt x="477" y="535"/>
                    </a:lnTo>
                    <a:lnTo>
                      <a:pt x="475" y="525"/>
                    </a:lnTo>
                    <a:lnTo>
                      <a:pt x="472" y="519"/>
                    </a:lnTo>
                    <a:lnTo>
                      <a:pt x="471" y="515"/>
                    </a:lnTo>
                    <a:lnTo>
                      <a:pt x="465" y="506"/>
                    </a:lnTo>
                    <a:lnTo>
                      <a:pt x="459" y="498"/>
                    </a:lnTo>
                    <a:lnTo>
                      <a:pt x="452" y="489"/>
                    </a:lnTo>
                    <a:lnTo>
                      <a:pt x="446" y="480"/>
                    </a:lnTo>
                    <a:lnTo>
                      <a:pt x="439" y="469"/>
                    </a:lnTo>
                    <a:lnTo>
                      <a:pt x="436" y="464"/>
                    </a:lnTo>
                    <a:lnTo>
                      <a:pt x="435" y="459"/>
                    </a:lnTo>
                    <a:lnTo>
                      <a:pt x="431" y="447"/>
                    </a:lnTo>
                    <a:lnTo>
                      <a:pt x="428" y="441"/>
                    </a:lnTo>
                    <a:lnTo>
                      <a:pt x="424" y="438"/>
                    </a:lnTo>
                    <a:lnTo>
                      <a:pt x="420" y="435"/>
                    </a:lnTo>
                    <a:lnTo>
                      <a:pt x="415" y="434"/>
                    </a:lnTo>
                    <a:lnTo>
                      <a:pt x="413" y="435"/>
                    </a:lnTo>
                    <a:lnTo>
                      <a:pt x="409" y="436"/>
                    </a:lnTo>
                    <a:lnTo>
                      <a:pt x="406" y="438"/>
                    </a:lnTo>
                    <a:lnTo>
                      <a:pt x="403" y="439"/>
                    </a:lnTo>
                    <a:lnTo>
                      <a:pt x="391" y="449"/>
                    </a:lnTo>
                    <a:lnTo>
                      <a:pt x="386" y="444"/>
                    </a:lnTo>
                    <a:lnTo>
                      <a:pt x="381" y="439"/>
                    </a:lnTo>
                    <a:lnTo>
                      <a:pt x="377" y="432"/>
                    </a:lnTo>
                    <a:lnTo>
                      <a:pt x="372" y="427"/>
                    </a:lnTo>
                    <a:lnTo>
                      <a:pt x="357" y="403"/>
                    </a:lnTo>
                    <a:lnTo>
                      <a:pt x="349" y="394"/>
                    </a:lnTo>
                    <a:lnTo>
                      <a:pt x="344" y="389"/>
                    </a:lnTo>
                    <a:lnTo>
                      <a:pt x="340" y="386"/>
                    </a:lnTo>
                    <a:lnTo>
                      <a:pt x="337" y="383"/>
                    </a:lnTo>
                    <a:lnTo>
                      <a:pt x="335" y="382"/>
                    </a:lnTo>
                    <a:lnTo>
                      <a:pt x="328" y="379"/>
                    </a:lnTo>
                    <a:lnTo>
                      <a:pt x="323" y="378"/>
                    </a:lnTo>
                    <a:lnTo>
                      <a:pt x="315" y="378"/>
                    </a:lnTo>
                    <a:lnTo>
                      <a:pt x="310" y="378"/>
                    </a:lnTo>
                    <a:lnTo>
                      <a:pt x="303" y="379"/>
                    </a:lnTo>
                    <a:lnTo>
                      <a:pt x="298" y="381"/>
                    </a:lnTo>
                    <a:lnTo>
                      <a:pt x="293" y="383"/>
                    </a:lnTo>
                    <a:lnTo>
                      <a:pt x="289" y="386"/>
                    </a:lnTo>
                    <a:lnTo>
                      <a:pt x="283" y="390"/>
                    </a:lnTo>
                    <a:lnTo>
                      <a:pt x="277" y="398"/>
                    </a:lnTo>
                    <a:lnTo>
                      <a:pt x="270" y="409"/>
                    </a:lnTo>
                    <a:lnTo>
                      <a:pt x="266" y="419"/>
                    </a:lnTo>
                    <a:lnTo>
                      <a:pt x="264" y="424"/>
                    </a:lnTo>
                    <a:lnTo>
                      <a:pt x="262" y="431"/>
                    </a:lnTo>
                    <a:lnTo>
                      <a:pt x="262" y="438"/>
                    </a:lnTo>
                    <a:lnTo>
                      <a:pt x="262" y="443"/>
                    </a:lnTo>
                    <a:lnTo>
                      <a:pt x="262" y="448"/>
                    </a:lnTo>
                    <a:lnTo>
                      <a:pt x="264" y="453"/>
                    </a:lnTo>
                    <a:lnTo>
                      <a:pt x="266" y="457"/>
                    </a:lnTo>
                    <a:lnTo>
                      <a:pt x="269" y="461"/>
                    </a:lnTo>
                    <a:lnTo>
                      <a:pt x="277" y="469"/>
                    </a:lnTo>
                    <a:lnTo>
                      <a:pt x="286" y="476"/>
                    </a:lnTo>
                    <a:lnTo>
                      <a:pt x="286" y="490"/>
                    </a:lnTo>
                    <a:lnTo>
                      <a:pt x="270" y="493"/>
                    </a:lnTo>
                    <a:lnTo>
                      <a:pt x="246" y="488"/>
                    </a:lnTo>
                    <a:lnTo>
                      <a:pt x="235" y="497"/>
                    </a:lnTo>
                    <a:lnTo>
                      <a:pt x="228" y="501"/>
                    </a:lnTo>
                    <a:lnTo>
                      <a:pt x="224" y="502"/>
                    </a:lnTo>
                    <a:lnTo>
                      <a:pt x="220" y="502"/>
                    </a:lnTo>
                    <a:lnTo>
                      <a:pt x="217" y="501"/>
                    </a:lnTo>
                    <a:lnTo>
                      <a:pt x="215" y="500"/>
                    </a:lnTo>
                    <a:lnTo>
                      <a:pt x="212" y="497"/>
                    </a:lnTo>
                    <a:lnTo>
                      <a:pt x="208" y="497"/>
                    </a:lnTo>
                    <a:lnTo>
                      <a:pt x="206" y="497"/>
                    </a:lnTo>
                    <a:lnTo>
                      <a:pt x="202" y="498"/>
                    </a:lnTo>
                    <a:lnTo>
                      <a:pt x="199" y="500"/>
                    </a:lnTo>
                    <a:lnTo>
                      <a:pt x="198" y="502"/>
                    </a:lnTo>
                    <a:lnTo>
                      <a:pt x="195" y="505"/>
                    </a:lnTo>
                    <a:lnTo>
                      <a:pt x="192" y="507"/>
                    </a:lnTo>
                    <a:lnTo>
                      <a:pt x="190" y="514"/>
                    </a:lnTo>
                    <a:lnTo>
                      <a:pt x="186" y="521"/>
                    </a:lnTo>
                    <a:lnTo>
                      <a:pt x="182" y="526"/>
                    </a:lnTo>
                    <a:lnTo>
                      <a:pt x="176" y="530"/>
                    </a:lnTo>
                    <a:lnTo>
                      <a:pt x="174" y="531"/>
                    </a:lnTo>
                    <a:lnTo>
                      <a:pt x="170" y="531"/>
                    </a:lnTo>
                    <a:lnTo>
                      <a:pt x="155" y="531"/>
                    </a:lnTo>
                    <a:lnTo>
                      <a:pt x="141" y="530"/>
                    </a:lnTo>
                    <a:lnTo>
                      <a:pt x="128" y="526"/>
                    </a:lnTo>
                    <a:lnTo>
                      <a:pt x="121" y="523"/>
                    </a:lnTo>
                    <a:lnTo>
                      <a:pt x="115" y="521"/>
                    </a:lnTo>
                    <a:lnTo>
                      <a:pt x="103" y="514"/>
                    </a:lnTo>
                    <a:lnTo>
                      <a:pt x="99" y="510"/>
                    </a:lnTo>
                    <a:lnTo>
                      <a:pt x="93" y="506"/>
                    </a:lnTo>
                    <a:lnTo>
                      <a:pt x="89" y="501"/>
                    </a:lnTo>
                    <a:lnTo>
                      <a:pt x="85" y="494"/>
                    </a:lnTo>
                    <a:lnTo>
                      <a:pt x="82" y="489"/>
                    </a:lnTo>
                    <a:lnTo>
                      <a:pt x="79" y="481"/>
                    </a:lnTo>
                    <a:lnTo>
                      <a:pt x="93" y="473"/>
                    </a:lnTo>
                    <a:lnTo>
                      <a:pt x="87" y="460"/>
                    </a:lnTo>
                    <a:lnTo>
                      <a:pt x="83" y="453"/>
                    </a:lnTo>
                    <a:lnTo>
                      <a:pt x="79" y="448"/>
                    </a:lnTo>
                    <a:lnTo>
                      <a:pt x="74" y="444"/>
                    </a:lnTo>
                    <a:lnTo>
                      <a:pt x="68" y="440"/>
                    </a:lnTo>
                    <a:lnTo>
                      <a:pt x="62" y="438"/>
                    </a:lnTo>
                    <a:lnTo>
                      <a:pt x="58" y="438"/>
                    </a:lnTo>
                    <a:lnTo>
                      <a:pt x="55" y="438"/>
                    </a:lnTo>
                    <a:lnTo>
                      <a:pt x="50" y="438"/>
                    </a:lnTo>
                    <a:lnTo>
                      <a:pt x="47" y="439"/>
                    </a:lnTo>
                    <a:lnTo>
                      <a:pt x="46" y="440"/>
                    </a:lnTo>
                    <a:lnTo>
                      <a:pt x="43" y="441"/>
                    </a:lnTo>
                    <a:lnTo>
                      <a:pt x="42" y="443"/>
                    </a:lnTo>
                    <a:lnTo>
                      <a:pt x="39" y="447"/>
                    </a:lnTo>
                    <a:lnTo>
                      <a:pt x="37" y="451"/>
                    </a:lnTo>
                    <a:lnTo>
                      <a:pt x="34" y="456"/>
                    </a:lnTo>
                    <a:lnTo>
                      <a:pt x="31" y="467"/>
                    </a:lnTo>
                    <a:lnTo>
                      <a:pt x="25" y="464"/>
                    </a:lnTo>
                    <a:lnTo>
                      <a:pt x="20" y="461"/>
                    </a:lnTo>
                    <a:lnTo>
                      <a:pt x="14" y="459"/>
                    </a:lnTo>
                    <a:lnTo>
                      <a:pt x="10" y="455"/>
                    </a:lnTo>
                    <a:lnTo>
                      <a:pt x="6" y="451"/>
                    </a:lnTo>
                    <a:lnTo>
                      <a:pt x="4" y="445"/>
                    </a:lnTo>
                    <a:lnTo>
                      <a:pt x="2" y="440"/>
                    </a:lnTo>
                    <a:lnTo>
                      <a:pt x="1" y="434"/>
                    </a:lnTo>
                    <a:lnTo>
                      <a:pt x="1" y="419"/>
                    </a:lnTo>
                    <a:lnTo>
                      <a:pt x="0" y="401"/>
                    </a:lnTo>
                    <a:lnTo>
                      <a:pt x="0" y="393"/>
                    </a:lnTo>
                    <a:lnTo>
                      <a:pt x="2" y="386"/>
                    </a:lnTo>
                    <a:lnTo>
                      <a:pt x="4" y="383"/>
                    </a:lnTo>
                    <a:lnTo>
                      <a:pt x="5" y="382"/>
                    </a:lnTo>
                    <a:lnTo>
                      <a:pt x="8" y="381"/>
                    </a:lnTo>
                    <a:lnTo>
                      <a:pt x="10" y="381"/>
                    </a:lnTo>
                    <a:lnTo>
                      <a:pt x="33" y="382"/>
                    </a:lnTo>
                    <a:lnTo>
                      <a:pt x="42" y="381"/>
                    </a:lnTo>
                    <a:lnTo>
                      <a:pt x="50" y="379"/>
                    </a:lnTo>
                    <a:lnTo>
                      <a:pt x="64" y="377"/>
                    </a:lnTo>
                    <a:lnTo>
                      <a:pt x="71" y="374"/>
                    </a:lnTo>
                    <a:lnTo>
                      <a:pt x="76" y="372"/>
                    </a:lnTo>
                    <a:lnTo>
                      <a:pt x="82" y="368"/>
                    </a:lnTo>
                    <a:lnTo>
                      <a:pt x="85" y="364"/>
                    </a:lnTo>
                    <a:lnTo>
                      <a:pt x="88" y="361"/>
                    </a:lnTo>
                    <a:lnTo>
                      <a:pt x="91" y="357"/>
                    </a:lnTo>
                    <a:lnTo>
                      <a:pt x="93" y="353"/>
                    </a:lnTo>
                    <a:lnTo>
                      <a:pt x="96" y="348"/>
                    </a:lnTo>
                    <a:lnTo>
                      <a:pt x="97" y="344"/>
                    </a:lnTo>
                    <a:lnTo>
                      <a:pt x="99" y="340"/>
                    </a:lnTo>
                    <a:lnTo>
                      <a:pt x="100" y="332"/>
                    </a:lnTo>
                    <a:lnTo>
                      <a:pt x="100" y="325"/>
                    </a:lnTo>
                    <a:lnTo>
                      <a:pt x="100" y="315"/>
                    </a:lnTo>
                    <a:lnTo>
                      <a:pt x="100" y="311"/>
                    </a:lnTo>
                    <a:lnTo>
                      <a:pt x="101" y="311"/>
                    </a:lnTo>
                    <a:lnTo>
                      <a:pt x="105" y="319"/>
                    </a:lnTo>
                    <a:lnTo>
                      <a:pt x="129" y="302"/>
                    </a:lnTo>
                    <a:lnTo>
                      <a:pt x="228" y="302"/>
                    </a:lnTo>
                    <a:lnTo>
                      <a:pt x="232" y="300"/>
                    </a:lnTo>
                    <a:lnTo>
                      <a:pt x="236" y="299"/>
                    </a:lnTo>
                    <a:lnTo>
                      <a:pt x="241" y="296"/>
                    </a:lnTo>
                    <a:lnTo>
                      <a:pt x="246" y="294"/>
                    </a:lnTo>
                    <a:lnTo>
                      <a:pt x="249" y="292"/>
                    </a:lnTo>
                    <a:lnTo>
                      <a:pt x="253" y="292"/>
                    </a:lnTo>
                    <a:lnTo>
                      <a:pt x="258" y="292"/>
                    </a:lnTo>
                    <a:lnTo>
                      <a:pt x="264" y="295"/>
                    </a:lnTo>
                    <a:lnTo>
                      <a:pt x="273" y="299"/>
                    </a:lnTo>
                    <a:lnTo>
                      <a:pt x="277" y="302"/>
                    </a:lnTo>
                    <a:lnTo>
                      <a:pt x="281" y="304"/>
                    </a:lnTo>
                    <a:lnTo>
                      <a:pt x="286" y="307"/>
                    </a:lnTo>
                    <a:lnTo>
                      <a:pt x="291" y="307"/>
                    </a:lnTo>
                    <a:lnTo>
                      <a:pt x="299" y="307"/>
                    </a:lnTo>
                    <a:lnTo>
                      <a:pt x="306" y="307"/>
                    </a:lnTo>
                    <a:lnTo>
                      <a:pt x="322" y="304"/>
                    </a:lnTo>
                    <a:lnTo>
                      <a:pt x="328" y="303"/>
                    </a:lnTo>
                    <a:lnTo>
                      <a:pt x="335" y="302"/>
                    </a:lnTo>
                    <a:lnTo>
                      <a:pt x="349" y="296"/>
                    </a:lnTo>
                    <a:lnTo>
                      <a:pt x="355" y="294"/>
                    </a:lnTo>
                    <a:lnTo>
                      <a:pt x="360" y="291"/>
                    </a:lnTo>
                    <a:lnTo>
                      <a:pt x="365" y="287"/>
                    </a:lnTo>
                    <a:lnTo>
                      <a:pt x="369" y="282"/>
                    </a:lnTo>
                    <a:lnTo>
                      <a:pt x="373" y="277"/>
                    </a:lnTo>
                    <a:lnTo>
                      <a:pt x="376" y="271"/>
                    </a:lnTo>
                    <a:lnTo>
                      <a:pt x="377" y="265"/>
                    </a:lnTo>
                    <a:lnTo>
                      <a:pt x="377" y="258"/>
                    </a:lnTo>
                    <a:lnTo>
                      <a:pt x="377" y="250"/>
                    </a:lnTo>
                    <a:lnTo>
                      <a:pt x="376" y="242"/>
                    </a:lnTo>
                    <a:lnTo>
                      <a:pt x="372" y="229"/>
                    </a:lnTo>
                    <a:lnTo>
                      <a:pt x="366" y="216"/>
                    </a:lnTo>
                    <a:lnTo>
                      <a:pt x="361" y="204"/>
                    </a:lnTo>
                    <a:lnTo>
                      <a:pt x="355" y="192"/>
                    </a:lnTo>
                    <a:lnTo>
                      <a:pt x="349" y="179"/>
                    </a:lnTo>
                    <a:lnTo>
                      <a:pt x="348" y="172"/>
                    </a:lnTo>
                    <a:lnTo>
                      <a:pt x="347" y="166"/>
                    </a:lnTo>
                    <a:lnTo>
                      <a:pt x="345" y="158"/>
                    </a:lnTo>
                    <a:lnTo>
                      <a:pt x="344" y="150"/>
                    </a:lnTo>
                    <a:lnTo>
                      <a:pt x="345" y="142"/>
                    </a:lnTo>
                    <a:lnTo>
                      <a:pt x="347" y="136"/>
                    </a:lnTo>
                    <a:lnTo>
                      <a:pt x="351" y="129"/>
                    </a:lnTo>
                    <a:lnTo>
                      <a:pt x="353" y="124"/>
                    </a:lnTo>
                    <a:lnTo>
                      <a:pt x="360" y="112"/>
                    </a:lnTo>
                    <a:lnTo>
                      <a:pt x="364" y="105"/>
                    </a:lnTo>
                    <a:lnTo>
                      <a:pt x="365" y="97"/>
                    </a:lnTo>
                    <a:lnTo>
                      <a:pt x="368" y="83"/>
                    </a:lnTo>
                    <a:lnTo>
                      <a:pt x="369" y="68"/>
                    </a:lnTo>
                    <a:lnTo>
                      <a:pt x="370" y="54"/>
                    </a:lnTo>
                    <a:lnTo>
                      <a:pt x="373" y="41"/>
                    </a:lnTo>
                    <a:lnTo>
                      <a:pt x="374" y="35"/>
                    </a:lnTo>
                    <a:lnTo>
                      <a:pt x="376" y="29"/>
                    </a:lnTo>
                    <a:lnTo>
                      <a:pt x="378" y="23"/>
                    </a:lnTo>
                    <a:lnTo>
                      <a:pt x="382" y="19"/>
                    </a:lnTo>
                    <a:lnTo>
                      <a:pt x="385" y="16"/>
                    </a:lnTo>
                    <a:lnTo>
                      <a:pt x="390" y="13"/>
                    </a:lnTo>
                    <a:lnTo>
                      <a:pt x="395" y="12"/>
                    </a:lnTo>
                    <a:lnTo>
                      <a:pt x="402" y="12"/>
                    </a:lnTo>
                    <a:lnTo>
                      <a:pt x="407" y="10"/>
                    </a:lnTo>
                    <a:lnTo>
                      <a:pt x="413" y="9"/>
                    </a:lnTo>
                    <a:lnTo>
                      <a:pt x="418" y="8"/>
                    </a:lnTo>
                    <a:lnTo>
                      <a:pt x="423" y="5"/>
                    </a:lnTo>
                    <a:lnTo>
                      <a:pt x="431" y="1"/>
                    </a:lnTo>
                    <a:lnTo>
                      <a:pt x="434" y="0"/>
                    </a:lnTo>
                    <a:lnTo>
                      <a:pt x="529" y="290"/>
                    </a:lnTo>
                    <a:lnTo>
                      <a:pt x="877" y="16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585120" y="3148200"/>
                <a:ext cx="169560" cy="214200"/>
              </a:xfrm>
              <a:custGeom>
                <a:avLst/>
                <a:gdLst/>
                <a:ahLst/>
                <a:rect l="l" t="t" r="r" b="b"/>
                <a:pathLst>
                  <a:path w="331" h="414">
                    <a:moveTo>
                      <a:pt x="283" y="5"/>
                    </a:moveTo>
                    <a:lnTo>
                      <a:pt x="282" y="21"/>
                    </a:lnTo>
                    <a:lnTo>
                      <a:pt x="282" y="35"/>
                    </a:lnTo>
                    <a:lnTo>
                      <a:pt x="282" y="49"/>
                    </a:lnTo>
                    <a:lnTo>
                      <a:pt x="283" y="64"/>
                    </a:lnTo>
                    <a:lnTo>
                      <a:pt x="249" y="64"/>
                    </a:lnTo>
                    <a:lnTo>
                      <a:pt x="242" y="64"/>
                    </a:lnTo>
                    <a:lnTo>
                      <a:pt x="238" y="62"/>
                    </a:lnTo>
                    <a:lnTo>
                      <a:pt x="233" y="59"/>
                    </a:lnTo>
                    <a:lnTo>
                      <a:pt x="229" y="56"/>
                    </a:lnTo>
                    <a:lnTo>
                      <a:pt x="223" y="47"/>
                    </a:lnTo>
                    <a:lnTo>
                      <a:pt x="216" y="38"/>
                    </a:lnTo>
                    <a:lnTo>
                      <a:pt x="203" y="45"/>
                    </a:lnTo>
                    <a:lnTo>
                      <a:pt x="194" y="51"/>
                    </a:lnTo>
                    <a:lnTo>
                      <a:pt x="176" y="66"/>
                    </a:lnTo>
                    <a:lnTo>
                      <a:pt x="169" y="74"/>
                    </a:lnTo>
                    <a:lnTo>
                      <a:pt x="159" y="80"/>
                    </a:lnTo>
                    <a:lnTo>
                      <a:pt x="150" y="88"/>
                    </a:lnTo>
                    <a:lnTo>
                      <a:pt x="138" y="93"/>
                    </a:lnTo>
                    <a:lnTo>
                      <a:pt x="133" y="97"/>
                    </a:lnTo>
                    <a:lnTo>
                      <a:pt x="129" y="100"/>
                    </a:lnTo>
                    <a:lnTo>
                      <a:pt x="125" y="105"/>
                    </a:lnTo>
                    <a:lnTo>
                      <a:pt x="122" y="109"/>
                    </a:lnTo>
                    <a:lnTo>
                      <a:pt x="117" y="118"/>
                    </a:lnTo>
                    <a:lnTo>
                      <a:pt x="112" y="129"/>
                    </a:lnTo>
                    <a:lnTo>
                      <a:pt x="107" y="138"/>
                    </a:lnTo>
                    <a:lnTo>
                      <a:pt x="103" y="142"/>
                    </a:lnTo>
                    <a:lnTo>
                      <a:pt x="100" y="146"/>
                    </a:lnTo>
                    <a:lnTo>
                      <a:pt x="96" y="149"/>
                    </a:lnTo>
                    <a:lnTo>
                      <a:pt x="92" y="151"/>
                    </a:lnTo>
                    <a:lnTo>
                      <a:pt x="87" y="153"/>
                    </a:lnTo>
                    <a:lnTo>
                      <a:pt x="82" y="153"/>
                    </a:lnTo>
                    <a:lnTo>
                      <a:pt x="5" y="153"/>
                    </a:lnTo>
                    <a:lnTo>
                      <a:pt x="4" y="158"/>
                    </a:lnTo>
                    <a:lnTo>
                      <a:pt x="2" y="162"/>
                    </a:lnTo>
                    <a:lnTo>
                      <a:pt x="0" y="166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0" y="178"/>
                    </a:lnTo>
                    <a:lnTo>
                      <a:pt x="1" y="182"/>
                    </a:lnTo>
                    <a:lnTo>
                      <a:pt x="2" y="184"/>
                    </a:lnTo>
                    <a:lnTo>
                      <a:pt x="5" y="187"/>
                    </a:lnTo>
                    <a:lnTo>
                      <a:pt x="6" y="190"/>
                    </a:lnTo>
                    <a:lnTo>
                      <a:pt x="12" y="194"/>
                    </a:lnTo>
                    <a:lnTo>
                      <a:pt x="22" y="203"/>
                    </a:lnTo>
                    <a:lnTo>
                      <a:pt x="27" y="207"/>
                    </a:lnTo>
                    <a:lnTo>
                      <a:pt x="31" y="212"/>
                    </a:lnTo>
                    <a:lnTo>
                      <a:pt x="26" y="236"/>
                    </a:lnTo>
                    <a:lnTo>
                      <a:pt x="34" y="242"/>
                    </a:lnTo>
                    <a:lnTo>
                      <a:pt x="41" y="249"/>
                    </a:lnTo>
                    <a:lnTo>
                      <a:pt x="43" y="253"/>
                    </a:lnTo>
                    <a:lnTo>
                      <a:pt x="45" y="254"/>
                    </a:lnTo>
                    <a:lnTo>
                      <a:pt x="45" y="257"/>
                    </a:lnTo>
                    <a:lnTo>
                      <a:pt x="46" y="261"/>
                    </a:lnTo>
                    <a:lnTo>
                      <a:pt x="47" y="266"/>
                    </a:lnTo>
                    <a:lnTo>
                      <a:pt x="46" y="270"/>
                    </a:lnTo>
                    <a:lnTo>
                      <a:pt x="45" y="274"/>
                    </a:lnTo>
                    <a:lnTo>
                      <a:pt x="41" y="281"/>
                    </a:lnTo>
                    <a:lnTo>
                      <a:pt x="37" y="287"/>
                    </a:lnTo>
                    <a:lnTo>
                      <a:pt x="35" y="291"/>
                    </a:lnTo>
                    <a:lnTo>
                      <a:pt x="35" y="295"/>
                    </a:lnTo>
                    <a:lnTo>
                      <a:pt x="35" y="299"/>
                    </a:lnTo>
                    <a:lnTo>
                      <a:pt x="38" y="302"/>
                    </a:lnTo>
                    <a:lnTo>
                      <a:pt x="39" y="304"/>
                    </a:lnTo>
                    <a:lnTo>
                      <a:pt x="41" y="307"/>
                    </a:lnTo>
                    <a:lnTo>
                      <a:pt x="51" y="303"/>
                    </a:lnTo>
                    <a:lnTo>
                      <a:pt x="60" y="299"/>
                    </a:lnTo>
                    <a:lnTo>
                      <a:pt x="68" y="294"/>
                    </a:lnTo>
                    <a:lnTo>
                      <a:pt x="76" y="289"/>
                    </a:lnTo>
                    <a:lnTo>
                      <a:pt x="84" y="283"/>
                    </a:lnTo>
                    <a:lnTo>
                      <a:pt x="93" y="278"/>
                    </a:lnTo>
                    <a:lnTo>
                      <a:pt x="97" y="277"/>
                    </a:lnTo>
                    <a:lnTo>
                      <a:pt x="103" y="275"/>
                    </a:lnTo>
                    <a:lnTo>
                      <a:pt x="108" y="275"/>
                    </a:lnTo>
                    <a:lnTo>
                      <a:pt x="113" y="274"/>
                    </a:lnTo>
                    <a:lnTo>
                      <a:pt x="120" y="275"/>
                    </a:lnTo>
                    <a:lnTo>
                      <a:pt x="126" y="275"/>
                    </a:lnTo>
                    <a:lnTo>
                      <a:pt x="132" y="277"/>
                    </a:lnTo>
                    <a:lnTo>
                      <a:pt x="137" y="279"/>
                    </a:lnTo>
                    <a:lnTo>
                      <a:pt x="142" y="282"/>
                    </a:lnTo>
                    <a:lnTo>
                      <a:pt x="146" y="285"/>
                    </a:lnTo>
                    <a:lnTo>
                      <a:pt x="150" y="289"/>
                    </a:lnTo>
                    <a:lnTo>
                      <a:pt x="154" y="293"/>
                    </a:lnTo>
                    <a:lnTo>
                      <a:pt x="158" y="296"/>
                    </a:lnTo>
                    <a:lnTo>
                      <a:pt x="162" y="302"/>
                    </a:lnTo>
                    <a:lnTo>
                      <a:pt x="167" y="311"/>
                    </a:lnTo>
                    <a:lnTo>
                      <a:pt x="173" y="322"/>
                    </a:lnTo>
                    <a:lnTo>
                      <a:pt x="178" y="333"/>
                    </a:lnTo>
                    <a:lnTo>
                      <a:pt x="190" y="357"/>
                    </a:lnTo>
                    <a:lnTo>
                      <a:pt x="192" y="364"/>
                    </a:lnTo>
                    <a:lnTo>
                      <a:pt x="195" y="369"/>
                    </a:lnTo>
                    <a:lnTo>
                      <a:pt x="202" y="380"/>
                    </a:lnTo>
                    <a:lnTo>
                      <a:pt x="205" y="385"/>
                    </a:lnTo>
                    <a:lnTo>
                      <a:pt x="208" y="390"/>
                    </a:lnTo>
                    <a:lnTo>
                      <a:pt x="217" y="399"/>
                    </a:lnTo>
                    <a:lnTo>
                      <a:pt x="223" y="403"/>
                    </a:lnTo>
                    <a:lnTo>
                      <a:pt x="228" y="407"/>
                    </a:lnTo>
                    <a:lnTo>
                      <a:pt x="233" y="411"/>
                    </a:lnTo>
                    <a:lnTo>
                      <a:pt x="238" y="414"/>
                    </a:lnTo>
                    <a:lnTo>
                      <a:pt x="244" y="389"/>
                    </a:lnTo>
                    <a:lnTo>
                      <a:pt x="246" y="377"/>
                    </a:lnTo>
                    <a:lnTo>
                      <a:pt x="249" y="366"/>
                    </a:lnTo>
                    <a:lnTo>
                      <a:pt x="256" y="348"/>
                    </a:lnTo>
                    <a:lnTo>
                      <a:pt x="262" y="331"/>
                    </a:lnTo>
                    <a:lnTo>
                      <a:pt x="270" y="315"/>
                    </a:lnTo>
                    <a:lnTo>
                      <a:pt x="277" y="299"/>
                    </a:lnTo>
                    <a:lnTo>
                      <a:pt x="285" y="285"/>
                    </a:lnTo>
                    <a:lnTo>
                      <a:pt x="293" y="267"/>
                    </a:lnTo>
                    <a:lnTo>
                      <a:pt x="299" y="250"/>
                    </a:lnTo>
                    <a:lnTo>
                      <a:pt x="306" y="229"/>
                    </a:lnTo>
                    <a:lnTo>
                      <a:pt x="312" y="205"/>
                    </a:lnTo>
                    <a:lnTo>
                      <a:pt x="315" y="192"/>
                    </a:lnTo>
                    <a:lnTo>
                      <a:pt x="319" y="179"/>
                    </a:lnTo>
                    <a:lnTo>
                      <a:pt x="323" y="146"/>
                    </a:lnTo>
                    <a:lnTo>
                      <a:pt x="327" y="109"/>
                    </a:lnTo>
                    <a:lnTo>
                      <a:pt x="329" y="67"/>
                    </a:lnTo>
                    <a:lnTo>
                      <a:pt x="331" y="17"/>
                    </a:lnTo>
                    <a:lnTo>
                      <a:pt x="329" y="9"/>
                    </a:lnTo>
                    <a:lnTo>
                      <a:pt x="329" y="5"/>
                    </a:lnTo>
                    <a:lnTo>
                      <a:pt x="328" y="4"/>
                    </a:lnTo>
                    <a:lnTo>
                      <a:pt x="325" y="1"/>
                    </a:lnTo>
                    <a:lnTo>
                      <a:pt x="323" y="1"/>
                    </a:lnTo>
                    <a:lnTo>
                      <a:pt x="318" y="0"/>
                    </a:lnTo>
                    <a:lnTo>
                      <a:pt x="311" y="1"/>
                    </a:lnTo>
                    <a:lnTo>
                      <a:pt x="303" y="4"/>
                    </a:lnTo>
                    <a:lnTo>
                      <a:pt x="294" y="5"/>
                    </a:lnTo>
                    <a:lnTo>
                      <a:pt x="283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815160" y="3170520"/>
                <a:ext cx="225360" cy="266400"/>
              </a:xfrm>
              <a:custGeom>
                <a:avLst/>
                <a:gdLst/>
                <a:ahLst/>
                <a:rect l="l" t="t" r="r" b="b"/>
                <a:pathLst>
                  <a:path w="435" h="521">
                    <a:moveTo>
                      <a:pt x="419" y="0"/>
                    </a:moveTo>
                    <a:lnTo>
                      <a:pt x="397" y="8"/>
                    </a:lnTo>
                    <a:lnTo>
                      <a:pt x="374" y="15"/>
                    </a:lnTo>
                    <a:lnTo>
                      <a:pt x="345" y="23"/>
                    </a:lnTo>
                    <a:lnTo>
                      <a:pt x="331" y="29"/>
                    </a:lnTo>
                    <a:lnTo>
                      <a:pt x="316" y="33"/>
                    </a:lnTo>
                    <a:lnTo>
                      <a:pt x="287" y="41"/>
                    </a:lnTo>
                    <a:lnTo>
                      <a:pt x="273" y="44"/>
                    </a:lnTo>
                    <a:lnTo>
                      <a:pt x="261" y="47"/>
                    </a:lnTo>
                    <a:lnTo>
                      <a:pt x="250" y="48"/>
                    </a:lnTo>
                    <a:lnTo>
                      <a:pt x="241" y="50"/>
                    </a:lnTo>
                    <a:lnTo>
                      <a:pt x="227" y="51"/>
                    </a:lnTo>
                    <a:lnTo>
                      <a:pt x="212" y="50"/>
                    </a:lnTo>
                    <a:lnTo>
                      <a:pt x="199" y="50"/>
                    </a:lnTo>
                    <a:lnTo>
                      <a:pt x="186" y="51"/>
                    </a:lnTo>
                    <a:lnTo>
                      <a:pt x="180" y="51"/>
                    </a:lnTo>
                    <a:lnTo>
                      <a:pt x="174" y="52"/>
                    </a:lnTo>
                    <a:lnTo>
                      <a:pt x="169" y="54"/>
                    </a:lnTo>
                    <a:lnTo>
                      <a:pt x="163" y="55"/>
                    </a:lnTo>
                    <a:lnTo>
                      <a:pt x="158" y="58"/>
                    </a:lnTo>
                    <a:lnTo>
                      <a:pt x="153" y="62"/>
                    </a:lnTo>
                    <a:lnTo>
                      <a:pt x="149" y="66"/>
                    </a:lnTo>
                    <a:lnTo>
                      <a:pt x="144" y="71"/>
                    </a:lnTo>
                    <a:lnTo>
                      <a:pt x="136" y="81"/>
                    </a:lnTo>
                    <a:lnTo>
                      <a:pt x="126" y="89"/>
                    </a:lnTo>
                    <a:lnTo>
                      <a:pt x="119" y="97"/>
                    </a:lnTo>
                    <a:lnTo>
                      <a:pt x="115" y="103"/>
                    </a:lnTo>
                    <a:lnTo>
                      <a:pt x="112" y="106"/>
                    </a:lnTo>
                    <a:lnTo>
                      <a:pt x="109" y="110"/>
                    </a:lnTo>
                    <a:lnTo>
                      <a:pt x="108" y="116"/>
                    </a:lnTo>
                    <a:lnTo>
                      <a:pt x="107" y="121"/>
                    </a:lnTo>
                    <a:lnTo>
                      <a:pt x="105" y="128"/>
                    </a:lnTo>
                    <a:lnTo>
                      <a:pt x="105" y="134"/>
                    </a:lnTo>
                    <a:lnTo>
                      <a:pt x="107" y="142"/>
                    </a:lnTo>
                    <a:lnTo>
                      <a:pt x="109" y="150"/>
                    </a:lnTo>
                    <a:lnTo>
                      <a:pt x="112" y="159"/>
                    </a:lnTo>
                    <a:lnTo>
                      <a:pt x="120" y="182"/>
                    </a:lnTo>
                    <a:lnTo>
                      <a:pt x="129" y="204"/>
                    </a:lnTo>
                    <a:lnTo>
                      <a:pt x="138" y="228"/>
                    </a:lnTo>
                    <a:lnTo>
                      <a:pt x="142" y="238"/>
                    </a:lnTo>
                    <a:lnTo>
                      <a:pt x="145" y="249"/>
                    </a:lnTo>
                    <a:lnTo>
                      <a:pt x="148" y="258"/>
                    </a:lnTo>
                    <a:lnTo>
                      <a:pt x="148" y="266"/>
                    </a:lnTo>
                    <a:lnTo>
                      <a:pt x="148" y="270"/>
                    </a:lnTo>
                    <a:lnTo>
                      <a:pt x="148" y="273"/>
                    </a:lnTo>
                    <a:lnTo>
                      <a:pt x="146" y="275"/>
                    </a:lnTo>
                    <a:lnTo>
                      <a:pt x="145" y="278"/>
                    </a:lnTo>
                    <a:lnTo>
                      <a:pt x="144" y="281"/>
                    </a:lnTo>
                    <a:lnTo>
                      <a:pt x="141" y="282"/>
                    </a:lnTo>
                    <a:lnTo>
                      <a:pt x="138" y="282"/>
                    </a:lnTo>
                    <a:lnTo>
                      <a:pt x="134" y="283"/>
                    </a:lnTo>
                    <a:lnTo>
                      <a:pt x="126" y="282"/>
                    </a:lnTo>
                    <a:lnTo>
                      <a:pt x="120" y="281"/>
                    </a:lnTo>
                    <a:lnTo>
                      <a:pt x="115" y="278"/>
                    </a:lnTo>
                    <a:lnTo>
                      <a:pt x="91" y="269"/>
                    </a:lnTo>
                    <a:lnTo>
                      <a:pt x="72" y="262"/>
                    </a:lnTo>
                    <a:lnTo>
                      <a:pt x="57" y="258"/>
                    </a:lnTo>
                    <a:lnTo>
                      <a:pt x="50" y="257"/>
                    </a:lnTo>
                    <a:lnTo>
                      <a:pt x="43" y="257"/>
                    </a:lnTo>
                    <a:lnTo>
                      <a:pt x="38" y="257"/>
                    </a:lnTo>
                    <a:lnTo>
                      <a:pt x="34" y="257"/>
                    </a:lnTo>
                    <a:lnTo>
                      <a:pt x="30" y="258"/>
                    </a:lnTo>
                    <a:lnTo>
                      <a:pt x="26" y="261"/>
                    </a:lnTo>
                    <a:lnTo>
                      <a:pt x="24" y="263"/>
                    </a:lnTo>
                    <a:lnTo>
                      <a:pt x="21" y="266"/>
                    </a:lnTo>
                    <a:lnTo>
                      <a:pt x="18" y="270"/>
                    </a:lnTo>
                    <a:lnTo>
                      <a:pt x="17" y="275"/>
                    </a:lnTo>
                    <a:lnTo>
                      <a:pt x="13" y="284"/>
                    </a:lnTo>
                    <a:lnTo>
                      <a:pt x="9" y="294"/>
                    </a:lnTo>
                    <a:lnTo>
                      <a:pt x="4" y="303"/>
                    </a:lnTo>
                    <a:lnTo>
                      <a:pt x="2" y="308"/>
                    </a:lnTo>
                    <a:lnTo>
                      <a:pt x="1" y="312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1" y="327"/>
                    </a:lnTo>
                    <a:lnTo>
                      <a:pt x="2" y="331"/>
                    </a:lnTo>
                    <a:lnTo>
                      <a:pt x="4" y="336"/>
                    </a:lnTo>
                    <a:lnTo>
                      <a:pt x="8" y="341"/>
                    </a:lnTo>
                    <a:lnTo>
                      <a:pt x="12" y="346"/>
                    </a:lnTo>
                    <a:lnTo>
                      <a:pt x="17" y="352"/>
                    </a:lnTo>
                    <a:lnTo>
                      <a:pt x="29" y="362"/>
                    </a:lnTo>
                    <a:lnTo>
                      <a:pt x="39" y="369"/>
                    </a:lnTo>
                    <a:lnTo>
                      <a:pt x="43" y="373"/>
                    </a:lnTo>
                    <a:lnTo>
                      <a:pt x="49" y="375"/>
                    </a:lnTo>
                    <a:lnTo>
                      <a:pt x="58" y="379"/>
                    </a:lnTo>
                    <a:lnTo>
                      <a:pt x="67" y="382"/>
                    </a:lnTo>
                    <a:lnTo>
                      <a:pt x="78" y="383"/>
                    </a:lnTo>
                    <a:lnTo>
                      <a:pt x="88" y="385"/>
                    </a:lnTo>
                    <a:lnTo>
                      <a:pt x="100" y="385"/>
                    </a:lnTo>
                    <a:lnTo>
                      <a:pt x="121" y="385"/>
                    </a:lnTo>
                    <a:lnTo>
                      <a:pt x="129" y="383"/>
                    </a:lnTo>
                    <a:lnTo>
                      <a:pt x="137" y="382"/>
                    </a:lnTo>
                    <a:lnTo>
                      <a:pt x="142" y="381"/>
                    </a:lnTo>
                    <a:lnTo>
                      <a:pt x="148" y="378"/>
                    </a:lnTo>
                    <a:lnTo>
                      <a:pt x="153" y="374"/>
                    </a:lnTo>
                    <a:lnTo>
                      <a:pt x="154" y="372"/>
                    </a:lnTo>
                    <a:lnTo>
                      <a:pt x="155" y="369"/>
                    </a:lnTo>
                    <a:lnTo>
                      <a:pt x="158" y="366"/>
                    </a:lnTo>
                    <a:lnTo>
                      <a:pt x="159" y="364"/>
                    </a:lnTo>
                    <a:lnTo>
                      <a:pt x="165" y="360"/>
                    </a:lnTo>
                    <a:lnTo>
                      <a:pt x="169" y="357"/>
                    </a:lnTo>
                    <a:lnTo>
                      <a:pt x="171" y="356"/>
                    </a:lnTo>
                    <a:lnTo>
                      <a:pt x="179" y="356"/>
                    </a:lnTo>
                    <a:lnTo>
                      <a:pt x="183" y="356"/>
                    </a:lnTo>
                    <a:lnTo>
                      <a:pt x="187" y="357"/>
                    </a:lnTo>
                    <a:lnTo>
                      <a:pt x="192" y="360"/>
                    </a:lnTo>
                    <a:lnTo>
                      <a:pt x="198" y="364"/>
                    </a:lnTo>
                    <a:lnTo>
                      <a:pt x="202" y="369"/>
                    </a:lnTo>
                    <a:lnTo>
                      <a:pt x="207" y="374"/>
                    </a:lnTo>
                    <a:lnTo>
                      <a:pt x="212" y="382"/>
                    </a:lnTo>
                    <a:lnTo>
                      <a:pt x="217" y="390"/>
                    </a:lnTo>
                    <a:lnTo>
                      <a:pt x="231" y="410"/>
                    </a:lnTo>
                    <a:lnTo>
                      <a:pt x="244" y="432"/>
                    </a:lnTo>
                    <a:lnTo>
                      <a:pt x="271" y="474"/>
                    </a:lnTo>
                    <a:lnTo>
                      <a:pt x="303" y="521"/>
                    </a:lnTo>
                    <a:lnTo>
                      <a:pt x="306" y="515"/>
                    </a:lnTo>
                    <a:lnTo>
                      <a:pt x="310" y="509"/>
                    </a:lnTo>
                    <a:lnTo>
                      <a:pt x="315" y="501"/>
                    </a:lnTo>
                    <a:lnTo>
                      <a:pt x="324" y="493"/>
                    </a:lnTo>
                    <a:lnTo>
                      <a:pt x="331" y="488"/>
                    </a:lnTo>
                    <a:lnTo>
                      <a:pt x="337" y="482"/>
                    </a:lnTo>
                    <a:lnTo>
                      <a:pt x="345" y="478"/>
                    </a:lnTo>
                    <a:lnTo>
                      <a:pt x="355" y="473"/>
                    </a:lnTo>
                    <a:lnTo>
                      <a:pt x="365" y="469"/>
                    </a:lnTo>
                    <a:lnTo>
                      <a:pt x="377" y="464"/>
                    </a:lnTo>
                    <a:lnTo>
                      <a:pt x="399" y="457"/>
                    </a:lnTo>
                    <a:lnTo>
                      <a:pt x="415" y="452"/>
                    </a:lnTo>
                    <a:lnTo>
                      <a:pt x="426" y="451"/>
                    </a:lnTo>
                    <a:lnTo>
                      <a:pt x="431" y="449"/>
                    </a:lnTo>
                    <a:lnTo>
                      <a:pt x="434" y="449"/>
                    </a:lnTo>
                    <a:lnTo>
                      <a:pt x="435" y="451"/>
                    </a:lnTo>
                    <a:lnTo>
                      <a:pt x="434" y="452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107120" y="3067200"/>
                <a:ext cx="136800" cy="216000"/>
              </a:xfrm>
              <a:custGeom>
                <a:avLst/>
                <a:gdLst/>
                <a:ahLst/>
                <a:rect l="l" t="t" r="r" b="b"/>
                <a:pathLst>
                  <a:path w="266" h="420">
                    <a:moveTo>
                      <a:pt x="266" y="17"/>
                    </a:moveTo>
                    <a:lnTo>
                      <a:pt x="257" y="15"/>
                    </a:lnTo>
                    <a:lnTo>
                      <a:pt x="232" y="8"/>
                    </a:lnTo>
                    <a:lnTo>
                      <a:pt x="215" y="4"/>
                    </a:lnTo>
                    <a:lnTo>
                      <a:pt x="195" y="2"/>
                    </a:lnTo>
                    <a:lnTo>
                      <a:pt x="174" y="0"/>
                    </a:lnTo>
                    <a:lnTo>
                      <a:pt x="150" y="0"/>
                    </a:lnTo>
                    <a:lnTo>
                      <a:pt x="138" y="2"/>
                    </a:lnTo>
                    <a:lnTo>
                      <a:pt x="126" y="4"/>
                    </a:lnTo>
                    <a:lnTo>
                      <a:pt x="120" y="5"/>
                    </a:lnTo>
                    <a:lnTo>
                      <a:pt x="113" y="8"/>
                    </a:lnTo>
                    <a:lnTo>
                      <a:pt x="101" y="12"/>
                    </a:lnTo>
                    <a:lnTo>
                      <a:pt x="88" y="19"/>
                    </a:lnTo>
                    <a:lnTo>
                      <a:pt x="75" y="24"/>
                    </a:lnTo>
                    <a:lnTo>
                      <a:pt x="53" y="37"/>
                    </a:lnTo>
                    <a:lnTo>
                      <a:pt x="32" y="52"/>
                    </a:lnTo>
                    <a:lnTo>
                      <a:pt x="14" y="62"/>
                    </a:lnTo>
                    <a:lnTo>
                      <a:pt x="0" y="74"/>
                    </a:lnTo>
                    <a:lnTo>
                      <a:pt x="71" y="77"/>
                    </a:lnTo>
                    <a:lnTo>
                      <a:pt x="80" y="420"/>
                    </a:lnTo>
                    <a:lnTo>
                      <a:pt x="121" y="363"/>
                    </a:lnTo>
                    <a:lnTo>
                      <a:pt x="116" y="348"/>
                    </a:lnTo>
                    <a:lnTo>
                      <a:pt x="107" y="322"/>
                    </a:lnTo>
                    <a:lnTo>
                      <a:pt x="104" y="317"/>
                    </a:lnTo>
                    <a:lnTo>
                      <a:pt x="101" y="310"/>
                    </a:lnTo>
                    <a:lnTo>
                      <a:pt x="100" y="304"/>
                    </a:lnTo>
                    <a:lnTo>
                      <a:pt x="100" y="296"/>
                    </a:lnTo>
                    <a:lnTo>
                      <a:pt x="101" y="284"/>
                    </a:lnTo>
                    <a:lnTo>
                      <a:pt x="104" y="277"/>
                    </a:lnTo>
                    <a:lnTo>
                      <a:pt x="105" y="271"/>
                    </a:lnTo>
                    <a:lnTo>
                      <a:pt x="112" y="252"/>
                    </a:lnTo>
                    <a:lnTo>
                      <a:pt x="121" y="231"/>
                    </a:lnTo>
                    <a:lnTo>
                      <a:pt x="130" y="207"/>
                    </a:lnTo>
                    <a:lnTo>
                      <a:pt x="137" y="187"/>
                    </a:lnTo>
                    <a:lnTo>
                      <a:pt x="145" y="153"/>
                    </a:lnTo>
                    <a:lnTo>
                      <a:pt x="149" y="139"/>
                    </a:lnTo>
                    <a:lnTo>
                      <a:pt x="152" y="132"/>
                    </a:lnTo>
                    <a:lnTo>
                      <a:pt x="154" y="127"/>
                    </a:lnTo>
                    <a:lnTo>
                      <a:pt x="158" y="120"/>
                    </a:lnTo>
                    <a:lnTo>
                      <a:pt x="162" y="115"/>
                    </a:lnTo>
                    <a:lnTo>
                      <a:pt x="167" y="108"/>
                    </a:lnTo>
                    <a:lnTo>
                      <a:pt x="174" y="103"/>
                    </a:lnTo>
                    <a:lnTo>
                      <a:pt x="188" y="93"/>
                    </a:lnTo>
                    <a:lnTo>
                      <a:pt x="196" y="89"/>
                    </a:lnTo>
                    <a:lnTo>
                      <a:pt x="204" y="85"/>
                    </a:lnTo>
                    <a:lnTo>
                      <a:pt x="219" y="78"/>
                    </a:lnTo>
                    <a:lnTo>
                      <a:pt x="232" y="73"/>
                    </a:lnTo>
                    <a:lnTo>
                      <a:pt x="243" y="69"/>
                    </a:lnTo>
                    <a:lnTo>
                      <a:pt x="252" y="66"/>
                    </a:lnTo>
                    <a:lnTo>
                      <a:pt x="260" y="65"/>
                    </a:lnTo>
                    <a:lnTo>
                      <a:pt x="266" y="1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980400" y="3421080"/>
                <a:ext cx="280800" cy="366840"/>
              </a:xfrm>
              <a:custGeom>
                <a:avLst/>
                <a:gdLst/>
                <a:ahLst/>
                <a:rect l="l" t="t" r="r" b="b"/>
                <a:pathLst>
                  <a:path w="548" h="710">
                    <a:moveTo>
                      <a:pt x="258" y="6"/>
                    </a:moveTo>
                    <a:lnTo>
                      <a:pt x="261" y="88"/>
                    </a:lnTo>
                    <a:lnTo>
                      <a:pt x="290" y="139"/>
                    </a:lnTo>
                    <a:lnTo>
                      <a:pt x="285" y="171"/>
                    </a:lnTo>
                    <a:lnTo>
                      <a:pt x="274" y="244"/>
                    </a:lnTo>
                    <a:lnTo>
                      <a:pt x="269" y="282"/>
                    </a:lnTo>
                    <a:lnTo>
                      <a:pt x="265" y="316"/>
                    </a:lnTo>
                    <a:lnTo>
                      <a:pt x="265" y="329"/>
                    </a:lnTo>
                    <a:lnTo>
                      <a:pt x="265" y="340"/>
                    </a:lnTo>
                    <a:lnTo>
                      <a:pt x="265" y="346"/>
                    </a:lnTo>
                    <a:lnTo>
                      <a:pt x="266" y="348"/>
                    </a:lnTo>
                    <a:lnTo>
                      <a:pt x="266" y="349"/>
                    </a:lnTo>
                    <a:lnTo>
                      <a:pt x="277" y="350"/>
                    </a:lnTo>
                    <a:lnTo>
                      <a:pt x="294" y="353"/>
                    </a:lnTo>
                    <a:lnTo>
                      <a:pt x="341" y="362"/>
                    </a:lnTo>
                    <a:lnTo>
                      <a:pt x="406" y="375"/>
                    </a:lnTo>
                    <a:lnTo>
                      <a:pt x="489" y="370"/>
                    </a:lnTo>
                    <a:lnTo>
                      <a:pt x="548" y="511"/>
                    </a:lnTo>
                    <a:lnTo>
                      <a:pt x="506" y="523"/>
                    </a:lnTo>
                    <a:lnTo>
                      <a:pt x="335" y="644"/>
                    </a:lnTo>
                    <a:lnTo>
                      <a:pt x="335" y="663"/>
                    </a:lnTo>
                    <a:lnTo>
                      <a:pt x="325" y="664"/>
                    </a:lnTo>
                    <a:lnTo>
                      <a:pt x="315" y="666"/>
                    </a:lnTo>
                    <a:lnTo>
                      <a:pt x="303" y="670"/>
                    </a:lnTo>
                    <a:lnTo>
                      <a:pt x="291" y="673"/>
                    </a:lnTo>
                    <a:lnTo>
                      <a:pt x="286" y="676"/>
                    </a:lnTo>
                    <a:lnTo>
                      <a:pt x="279" y="680"/>
                    </a:lnTo>
                    <a:lnTo>
                      <a:pt x="275" y="684"/>
                    </a:lnTo>
                    <a:lnTo>
                      <a:pt x="270" y="688"/>
                    </a:lnTo>
                    <a:lnTo>
                      <a:pt x="266" y="692"/>
                    </a:lnTo>
                    <a:lnTo>
                      <a:pt x="263" y="697"/>
                    </a:lnTo>
                    <a:lnTo>
                      <a:pt x="261" y="702"/>
                    </a:lnTo>
                    <a:lnTo>
                      <a:pt x="259" y="706"/>
                    </a:lnTo>
                    <a:lnTo>
                      <a:pt x="257" y="709"/>
                    </a:lnTo>
                    <a:lnTo>
                      <a:pt x="254" y="710"/>
                    </a:lnTo>
                    <a:lnTo>
                      <a:pt x="252" y="710"/>
                    </a:lnTo>
                    <a:lnTo>
                      <a:pt x="248" y="710"/>
                    </a:lnTo>
                    <a:lnTo>
                      <a:pt x="244" y="708"/>
                    </a:lnTo>
                    <a:lnTo>
                      <a:pt x="241" y="705"/>
                    </a:lnTo>
                    <a:lnTo>
                      <a:pt x="238" y="704"/>
                    </a:lnTo>
                    <a:lnTo>
                      <a:pt x="234" y="700"/>
                    </a:lnTo>
                    <a:lnTo>
                      <a:pt x="232" y="695"/>
                    </a:lnTo>
                    <a:lnTo>
                      <a:pt x="228" y="693"/>
                    </a:lnTo>
                    <a:lnTo>
                      <a:pt x="217" y="688"/>
                    </a:lnTo>
                    <a:lnTo>
                      <a:pt x="203" y="680"/>
                    </a:lnTo>
                    <a:lnTo>
                      <a:pt x="194" y="673"/>
                    </a:lnTo>
                    <a:lnTo>
                      <a:pt x="186" y="666"/>
                    </a:lnTo>
                    <a:lnTo>
                      <a:pt x="176" y="658"/>
                    </a:lnTo>
                    <a:lnTo>
                      <a:pt x="167" y="647"/>
                    </a:lnTo>
                    <a:lnTo>
                      <a:pt x="158" y="635"/>
                    </a:lnTo>
                    <a:lnTo>
                      <a:pt x="154" y="629"/>
                    </a:lnTo>
                    <a:lnTo>
                      <a:pt x="150" y="622"/>
                    </a:lnTo>
                    <a:lnTo>
                      <a:pt x="142" y="608"/>
                    </a:lnTo>
                    <a:lnTo>
                      <a:pt x="137" y="592"/>
                    </a:lnTo>
                    <a:lnTo>
                      <a:pt x="134" y="582"/>
                    </a:lnTo>
                    <a:lnTo>
                      <a:pt x="132" y="573"/>
                    </a:lnTo>
                    <a:lnTo>
                      <a:pt x="128" y="553"/>
                    </a:lnTo>
                    <a:lnTo>
                      <a:pt x="124" y="517"/>
                    </a:lnTo>
                    <a:lnTo>
                      <a:pt x="121" y="489"/>
                    </a:lnTo>
                    <a:lnTo>
                      <a:pt x="121" y="478"/>
                    </a:lnTo>
                    <a:lnTo>
                      <a:pt x="121" y="469"/>
                    </a:lnTo>
                    <a:lnTo>
                      <a:pt x="121" y="461"/>
                    </a:lnTo>
                    <a:lnTo>
                      <a:pt x="122" y="456"/>
                    </a:lnTo>
                    <a:lnTo>
                      <a:pt x="124" y="447"/>
                    </a:lnTo>
                    <a:lnTo>
                      <a:pt x="126" y="440"/>
                    </a:lnTo>
                    <a:lnTo>
                      <a:pt x="130" y="435"/>
                    </a:lnTo>
                    <a:lnTo>
                      <a:pt x="134" y="428"/>
                    </a:lnTo>
                    <a:lnTo>
                      <a:pt x="145" y="410"/>
                    </a:lnTo>
                    <a:lnTo>
                      <a:pt x="147" y="403"/>
                    </a:lnTo>
                    <a:lnTo>
                      <a:pt x="150" y="397"/>
                    </a:lnTo>
                    <a:lnTo>
                      <a:pt x="153" y="389"/>
                    </a:lnTo>
                    <a:lnTo>
                      <a:pt x="155" y="381"/>
                    </a:lnTo>
                    <a:lnTo>
                      <a:pt x="155" y="373"/>
                    </a:lnTo>
                    <a:lnTo>
                      <a:pt x="155" y="364"/>
                    </a:lnTo>
                    <a:lnTo>
                      <a:pt x="153" y="356"/>
                    </a:lnTo>
                    <a:lnTo>
                      <a:pt x="150" y="346"/>
                    </a:lnTo>
                    <a:lnTo>
                      <a:pt x="147" y="342"/>
                    </a:lnTo>
                    <a:lnTo>
                      <a:pt x="145" y="337"/>
                    </a:lnTo>
                    <a:lnTo>
                      <a:pt x="137" y="328"/>
                    </a:lnTo>
                    <a:lnTo>
                      <a:pt x="133" y="324"/>
                    </a:lnTo>
                    <a:lnTo>
                      <a:pt x="128" y="319"/>
                    </a:lnTo>
                    <a:lnTo>
                      <a:pt x="116" y="311"/>
                    </a:lnTo>
                    <a:lnTo>
                      <a:pt x="91" y="292"/>
                    </a:lnTo>
                    <a:lnTo>
                      <a:pt x="79" y="283"/>
                    </a:lnTo>
                    <a:lnTo>
                      <a:pt x="67" y="275"/>
                    </a:lnTo>
                    <a:lnTo>
                      <a:pt x="56" y="266"/>
                    </a:lnTo>
                    <a:lnTo>
                      <a:pt x="47" y="255"/>
                    </a:lnTo>
                    <a:lnTo>
                      <a:pt x="38" y="246"/>
                    </a:lnTo>
                    <a:lnTo>
                      <a:pt x="29" y="236"/>
                    </a:lnTo>
                    <a:lnTo>
                      <a:pt x="22" y="224"/>
                    </a:lnTo>
                    <a:lnTo>
                      <a:pt x="15" y="213"/>
                    </a:lnTo>
                    <a:lnTo>
                      <a:pt x="10" y="200"/>
                    </a:lnTo>
                    <a:lnTo>
                      <a:pt x="6" y="188"/>
                    </a:lnTo>
                    <a:lnTo>
                      <a:pt x="2" y="174"/>
                    </a:lnTo>
                    <a:lnTo>
                      <a:pt x="2" y="167"/>
                    </a:lnTo>
                    <a:lnTo>
                      <a:pt x="1" y="159"/>
                    </a:lnTo>
                    <a:lnTo>
                      <a:pt x="0" y="143"/>
                    </a:lnTo>
                    <a:lnTo>
                      <a:pt x="1" y="127"/>
                    </a:lnTo>
                    <a:lnTo>
                      <a:pt x="2" y="112"/>
                    </a:lnTo>
                    <a:lnTo>
                      <a:pt x="4" y="97"/>
                    </a:lnTo>
                    <a:lnTo>
                      <a:pt x="5" y="85"/>
                    </a:lnTo>
                    <a:lnTo>
                      <a:pt x="6" y="76"/>
                    </a:lnTo>
                    <a:lnTo>
                      <a:pt x="9" y="68"/>
                    </a:lnTo>
                    <a:lnTo>
                      <a:pt x="12" y="62"/>
                    </a:lnTo>
                    <a:lnTo>
                      <a:pt x="14" y="56"/>
                    </a:lnTo>
                    <a:lnTo>
                      <a:pt x="18" y="51"/>
                    </a:lnTo>
                    <a:lnTo>
                      <a:pt x="22" y="47"/>
                    </a:lnTo>
                    <a:lnTo>
                      <a:pt x="27" y="43"/>
                    </a:lnTo>
                    <a:lnTo>
                      <a:pt x="39" y="37"/>
                    </a:lnTo>
                    <a:lnTo>
                      <a:pt x="54" y="29"/>
                    </a:lnTo>
                    <a:lnTo>
                      <a:pt x="62" y="23"/>
                    </a:lnTo>
                    <a:lnTo>
                      <a:pt x="71" y="18"/>
                    </a:lnTo>
                    <a:lnTo>
                      <a:pt x="89" y="7"/>
                    </a:lnTo>
                    <a:lnTo>
                      <a:pt x="101" y="1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18" y="1"/>
                    </a:lnTo>
                    <a:lnTo>
                      <a:pt x="120" y="2"/>
                    </a:lnTo>
                    <a:lnTo>
                      <a:pt x="121" y="5"/>
                    </a:lnTo>
                    <a:lnTo>
                      <a:pt x="122" y="7"/>
                    </a:lnTo>
                    <a:lnTo>
                      <a:pt x="122" y="9"/>
                    </a:lnTo>
                    <a:lnTo>
                      <a:pt x="258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967440" y="2873520"/>
                <a:ext cx="409680" cy="223920"/>
              </a:xfrm>
              <a:custGeom>
                <a:avLst/>
                <a:gdLst/>
                <a:ahLst/>
                <a:rect l="l" t="t" r="r" b="b"/>
                <a:pathLst>
                  <a:path w="796" h="435">
                    <a:moveTo>
                      <a:pt x="740" y="0"/>
                    </a:moveTo>
                    <a:lnTo>
                      <a:pt x="276" y="138"/>
                    </a:lnTo>
                    <a:lnTo>
                      <a:pt x="231" y="182"/>
                    </a:lnTo>
                    <a:lnTo>
                      <a:pt x="198" y="214"/>
                    </a:lnTo>
                    <a:lnTo>
                      <a:pt x="185" y="227"/>
                    </a:lnTo>
                    <a:lnTo>
                      <a:pt x="178" y="233"/>
                    </a:lnTo>
                    <a:lnTo>
                      <a:pt x="141" y="280"/>
                    </a:lnTo>
                    <a:lnTo>
                      <a:pt x="129" y="294"/>
                    </a:lnTo>
                    <a:lnTo>
                      <a:pt x="117" y="307"/>
                    </a:lnTo>
                    <a:lnTo>
                      <a:pt x="107" y="319"/>
                    </a:lnTo>
                    <a:lnTo>
                      <a:pt x="99" y="326"/>
                    </a:lnTo>
                    <a:lnTo>
                      <a:pt x="78" y="340"/>
                    </a:lnTo>
                    <a:lnTo>
                      <a:pt x="49" y="361"/>
                    </a:lnTo>
                    <a:lnTo>
                      <a:pt x="13" y="388"/>
                    </a:lnTo>
                    <a:lnTo>
                      <a:pt x="1" y="435"/>
                    </a:lnTo>
                    <a:lnTo>
                      <a:pt x="0" y="435"/>
                    </a:lnTo>
                    <a:lnTo>
                      <a:pt x="0" y="434"/>
                    </a:lnTo>
                    <a:lnTo>
                      <a:pt x="3" y="431"/>
                    </a:lnTo>
                    <a:lnTo>
                      <a:pt x="18" y="418"/>
                    </a:lnTo>
                    <a:lnTo>
                      <a:pt x="57" y="390"/>
                    </a:lnTo>
                    <a:lnTo>
                      <a:pt x="101" y="359"/>
                    </a:lnTo>
                    <a:lnTo>
                      <a:pt x="136" y="338"/>
                    </a:lnTo>
                    <a:lnTo>
                      <a:pt x="166" y="319"/>
                    </a:lnTo>
                    <a:lnTo>
                      <a:pt x="199" y="302"/>
                    </a:lnTo>
                    <a:lnTo>
                      <a:pt x="237" y="282"/>
                    </a:lnTo>
                    <a:lnTo>
                      <a:pt x="277" y="264"/>
                    </a:lnTo>
                    <a:lnTo>
                      <a:pt x="318" y="244"/>
                    </a:lnTo>
                    <a:lnTo>
                      <a:pt x="365" y="222"/>
                    </a:lnTo>
                    <a:lnTo>
                      <a:pt x="414" y="195"/>
                    </a:lnTo>
                    <a:lnTo>
                      <a:pt x="438" y="182"/>
                    </a:lnTo>
                    <a:lnTo>
                      <a:pt x="459" y="170"/>
                    </a:lnTo>
                    <a:lnTo>
                      <a:pt x="490" y="150"/>
                    </a:lnTo>
                    <a:lnTo>
                      <a:pt x="504" y="142"/>
                    </a:lnTo>
                    <a:lnTo>
                      <a:pt x="506" y="135"/>
                    </a:lnTo>
                    <a:lnTo>
                      <a:pt x="514" y="117"/>
                    </a:lnTo>
                    <a:lnTo>
                      <a:pt x="521" y="107"/>
                    </a:lnTo>
                    <a:lnTo>
                      <a:pt x="529" y="96"/>
                    </a:lnTo>
                    <a:lnTo>
                      <a:pt x="533" y="91"/>
                    </a:lnTo>
                    <a:lnTo>
                      <a:pt x="538" y="86"/>
                    </a:lnTo>
                    <a:lnTo>
                      <a:pt x="542" y="80"/>
                    </a:lnTo>
                    <a:lnTo>
                      <a:pt x="549" y="76"/>
                    </a:lnTo>
                    <a:lnTo>
                      <a:pt x="566" y="63"/>
                    </a:lnTo>
                    <a:lnTo>
                      <a:pt x="574" y="59"/>
                    </a:lnTo>
                    <a:lnTo>
                      <a:pt x="578" y="58"/>
                    </a:lnTo>
                    <a:lnTo>
                      <a:pt x="581" y="57"/>
                    </a:lnTo>
                    <a:lnTo>
                      <a:pt x="585" y="55"/>
                    </a:lnTo>
                    <a:lnTo>
                      <a:pt x="589" y="55"/>
                    </a:lnTo>
                    <a:lnTo>
                      <a:pt x="601" y="55"/>
                    </a:lnTo>
                    <a:lnTo>
                      <a:pt x="614" y="58"/>
                    </a:lnTo>
                    <a:lnTo>
                      <a:pt x="634" y="62"/>
                    </a:lnTo>
                    <a:lnTo>
                      <a:pt x="645" y="65"/>
                    </a:lnTo>
                    <a:lnTo>
                      <a:pt x="657" y="67"/>
                    </a:lnTo>
                    <a:lnTo>
                      <a:pt x="683" y="70"/>
                    </a:lnTo>
                    <a:lnTo>
                      <a:pt x="709" y="73"/>
                    </a:lnTo>
                    <a:lnTo>
                      <a:pt x="736" y="74"/>
                    </a:lnTo>
                    <a:lnTo>
                      <a:pt x="760" y="74"/>
                    </a:lnTo>
                    <a:lnTo>
                      <a:pt x="779" y="74"/>
                    </a:lnTo>
                    <a:lnTo>
                      <a:pt x="796" y="74"/>
                    </a:lnTo>
                    <a:lnTo>
                      <a:pt x="74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521400" y="2059200"/>
                <a:ext cx="1311480" cy="1087200"/>
              </a:xfrm>
              <a:custGeom>
                <a:avLst/>
                <a:gdLst/>
                <a:ahLst/>
                <a:rect l="l" t="t" r="r" b="b"/>
                <a:pathLst>
                  <a:path w="2544" h="2108">
                    <a:moveTo>
                      <a:pt x="1059" y="1648"/>
                    </a:moveTo>
                    <a:lnTo>
                      <a:pt x="445" y="1907"/>
                    </a:lnTo>
                    <a:lnTo>
                      <a:pt x="463" y="2014"/>
                    </a:lnTo>
                    <a:lnTo>
                      <a:pt x="480" y="2103"/>
                    </a:lnTo>
                    <a:lnTo>
                      <a:pt x="416" y="2108"/>
                    </a:lnTo>
                    <a:lnTo>
                      <a:pt x="350" y="2108"/>
                    </a:lnTo>
                    <a:lnTo>
                      <a:pt x="351" y="2076"/>
                    </a:lnTo>
                    <a:lnTo>
                      <a:pt x="350" y="2074"/>
                    </a:lnTo>
                    <a:lnTo>
                      <a:pt x="347" y="2072"/>
                    </a:lnTo>
                    <a:lnTo>
                      <a:pt x="342" y="2070"/>
                    </a:lnTo>
                    <a:lnTo>
                      <a:pt x="336" y="2068"/>
                    </a:lnTo>
                    <a:lnTo>
                      <a:pt x="326" y="2067"/>
                    </a:lnTo>
                    <a:lnTo>
                      <a:pt x="322" y="2066"/>
                    </a:lnTo>
                    <a:lnTo>
                      <a:pt x="318" y="2064"/>
                    </a:lnTo>
                    <a:lnTo>
                      <a:pt x="315" y="2062"/>
                    </a:lnTo>
                    <a:lnTo>
                      <a:pt x="314" y="2060"/>
                    </a:lnTo>
                    <a:lnTo>
                      <a:pt x="314" y="2058"/>
                    </a:lnTo>
                    <a:lnTo>
                      <a:pt x="314" y="2054"/>
                    </a:lnTo>
                    <a:lnTo>
                      <a:pt x="315" y="2051"/>
                    </a:lnTo>
                    <a:lnTo>
                      <a:pt x="317" y="2048"/>
                    </a:lnTo>
                    <a:lnTo>
                      <a:pt x="318" y="2046"/>
                    </a:lnTo>
                    <a:lnTo>
                      <a:pt x="321" y="2042"/>
                    </a:lnTo>
                    <a:lnTo>
                      <a:pt x="322" y="2038"/>
                    </a:lnTo>
                    <a:lnTo>
                      <a:pt x="322" y="2035"/>
                    </a:lnTo>
                    <a:lnTo>
                      <a:pt x="322" y="2033"/>
                    </a:lnTo>
                    <a:lnTo>
                      <a:pt x="321" y="2030"/>
                    </a:lnTo>
                    <a:lnTo>
                      <a:pt x="319" y="2027"/>
                    </a:lnTo>
                    <a:lnTo>
                      <a:pt x="318" y="2026"/>
                    </a:lnTo>
                    <a:lnTo>
                      <a:pt x="313" y="2022"/>
                    </a:lnTo>
                    <a:lnTo>
                      <a:pt x="307" y="2018"/>
                    </a:lnTo>
                    <a:lnTo>
                      <a:pt x="322" y="2012"/>
                    </a:lnTo>
                    <a:lnTo>
                      <a:pt x="334" y="2005"/>
                    </a:lnTo>
                    <a:lnTo>
                      <a:pt x="340" y="2001"/>
                    </a:lnTo>
                    <a:lnTo>
                      <a:pt x="346" y="1997"/>
                    </a:lnTo>
                    <a:lnTo>
                      <a:pt x="350" y="1993"/>
                    </a:lnTo>
                    <a:lnTo>
                      <a:pt x="354" y="1988"/>
                    </a:lnTo>
                    <a:lnTo>
                      <a:pt x="356" y="1930"/>
                    </a:lnTo>
                    <a:lnTo>
                      <a:pt x="354" y="1927"/>
                    </a:lnTo>
                    <a:lnTo>
                      <a:pt x="351" y="1926"/>
                    </a:lnTo>
                    <a:lnTo>
                      <a:pt x="348" y="1925"/>
                    </a:lnTo>
                    <a:lnTo>
                      <a:pt x="344" y="1923"/>
                    </a:lnTo>
                    <a:lnTo>
                      <a:pt x="339" y="1923"/>
                    </a:lnTo>
                    <a:lnTo>
                      <a:pt x="334" y="1923"/>
                    </a:lnTo>
                    <a:lnTo>
                      <a:pt x="323" y="1922"/>
                    </a:lnTo>
                    <a:lnTo>
                      <a:pt x="322" y="1921"/>
                    </a:lnTo>
                    <a:lnTo>
                      <a:pt x="319" y="1919"/>
                    </a:lnTo>
                    <a:lnTo>
                      <a:pt x="317" y="1917"/>
                    </a:lnTo>
                    <a:lnTo>
                      <a:pt x="311" y="1910"/>
                    </a:lnTo>
                    <a:lnTo>
                      <a:pt x="309" y="1903"/>
                    </a:lnTo>
                    <a:lnTo>
                      <a:pt x="307" y="1897"/>
                    </a:lnTo>
                    <a:lnTo>
                      <a:pt x="307" y="1890"/>
                    </a:lnTo>
                    <a:lnTo>
                      <a:pt x="307" y="1884"/>
                    </a:lnTo>
                    <a:lnTo>
                      <a:pt x="307" y="1876"/>
                    </a:lnTo>
                    <a:lnTo>
                      <a:pt x="307" y="1861"/>
                    </a:lnTo>
                    <a:lnTo>
                      <a:pt x="307" y="1857"/>
                    </a:lnTo>
                    <a:lnTo>
                      <a:pt x="309" y="1853"/>
                    </a:lnTo>
                    <a:lnTo>
                      <a:pt x="311" y="1847"/>
                    </a:lnTo>
                    <a:lnTo>
                      <a:pt x="315" y="1841"/>
                    </a:lnTo>
                    <a:lnTo>
                      <a:pt x="319" y="1836"/>
                    </a:lnTo>
                    <a:lnTo>
                      <a:pt x="325" y="1832"/>
                    </a:lnTo>
                    <a:lnTo>
                      <a:pt x="331" y="1827"/>
                    </a:lnTo>
                    <a:lnTo>
                      <a:pt x="343" y="1818"/>
                    </a:lnTo>
                    <a:lnTo>
                      <a:pt x="331" y="1815"/>
                    </a:lnTo>
                    <a:lnTo>
                      <a:pt x="321" y="1814"/>
                    </a:lnTo>
                    <a:lnTo>
                      <a:pt x="301" y="1808"/>
                    </a:lnTo>
                    <a:lnTo>
                      <a:pt x="281" y="1804"/>
                    </a:lnTo>
                    <a:lnTo>
                      <a:pt x="270" y="1803"/>
                    </a:lnTo>
                    <a:lnTo>
                      <a:pt x="259" y="1803"/>
                    </a:lnTo>
                    <a:lnTo>
                      <a:pt x="253" y="1803"/>
                    </a:lnTo>
                    <a:lnTo>
                      <a:pt x="248" y="1804"/>
                    </a:lnTo>
                    <a:lnTo>
                      <a:pt x="243" y="1806"/>
                    </a:lnTo>
                    <a:lnTo>
                      <a:pt x="239" y="1807"/>
                    </a:lnTo>
                    <a:lnTo>
                      <a:pt x="230" y="1810"/>
                    </a:lnTo>
                    <a:lnTo>
                      <a:pt x="224" y="1811"/>
                    </a:lnTo>
                    <a:lnTo>
                      <a:pt x="219" y="1811"/>
                    </a:lnTo>
                    <a:lnTo>
                      <a:pt x="210" y="1810"/>
                    </a:lnTo>
                    <a:lnTo>
                      <a:pt x="206" y="1808"/>
                    </a:lnTo>
                    <a:lnTo>
                      <a:pt x="202" y="1807"/>
                    </a:lnTo>
                    <a:lnTo>
                      <a:pt x="194" y="1803"/>
                    </a:lnTo>
                    <a:lnTo>
                      <a:pt x="186" y="1798"/>
                    </a:lnTo>
                    <a:lnTo>
                      <a:pt x="179" y="1794"/>
                    </a:lnTo>
                    <a:lnTo>
                      <a:pt x="172" y="1790"/>
                    </a:lnTo>
                    <a:lnTo>
                      <a:pt x="168" y="1789"/>
                    </a:lnTo>
                    <a:lnTo>
                      <a:pt x="164" y="1787"/>
                    </a:lnTo>
                    <a:lnTo>
                      <a:pt x="158" y="1786"/>
                    </a:lnTo>
                    <a:lnTo>
                      <a:pt x="154" y="1786"/>
                    </a:lnTo>
                    <a:lnTo>
                      <a:pt x="145" y="1786"/>
                    </a:lnTo>
                    <a:lnTo>
                      <a:pt x="139" y="1787"/>
                    </a:lnTo>
                    <a:lnTo>
                      <a:pt x="124" y="1793"/>
                    </a:lnTo>
                    <a:lnTo>
                      <a:pt x="117" y="1794"/>
                    </a:lnTo>
                    <a:lnTo>
                      <a:pt x="111" y="1797"/>
                    </a:lnTo>
                    <a:lnTo>
                      <a:pt x="103" y="1798"/>
                    </a:lnTo>
                    <a:lnTo>
                      <a:pt x="95" y="1798"/>
                    </a:lnTo>
                    <a:lnTo>
                      <a:pt x="86" y="1798"/>
                    </a:lnTo>
                    <a:lnTo>
                      <a:pt x="78" y="1797"/>
                    </a:lnTo>
                    <a:lnTo>
                      <a:pt x="71" y="1794"/>
                    </a:lnTo>
                    <a:lnTo>
                      <a:pt x="65" y="1790"/>
                    </a:lnTo>
                    <a:lnTo>
                      <a:pt x="58" y="1786"/>
                    </a:lnTo>
                    <a:lnTo>
                      <a:pt x="55" y="1783"/>
                    </a:lnTo>
                    <a:lnTo>
                      <a:pt x="53" y="1781"/>
                    </a:lnTo>
                    <a:lnTo>
                      <a:pt x="48" y="1775"/>
                    </a:lnTo>
                    <a:lnTo>
                      <a:pt x="42" y="1770"/>
                    </a:lnTo>
                    <a:lnTo>
                      <a:pt x="33" y="1757"/>
                    </a:lnTo>
                    <a:lnTo>
                      <a:pt x="23" y="1743"/>
                    </a:lnTo>
                    <a:lnTo>
                      <a:pt x="12" y="1728"/>
                    </a:lnTo>
                    <a:lnTo>
                      <a:pt x="7" y="1721"/>
                    </a:lnTo>
                    <a:lnTo>
                      <a:pt x="0" y="1715"/>
                    </a:lnTo>
                    <a:lnTo>
                      <a:pt x="98" y="1675"/>
                    </a:lnTo>
                    <a:lnTo>
                      <a:pt x="110" y="1669"/>
                    </a:lnTo>
                    <a:lnTo>
                      <a:pt x="121" y="1659"/>
                    </a:lnTo>
                    <a:lnTo>
                      <a:pt x="135" y="1652"/>
                    </a:lnTo>
                    <a:lnTo>
                      <a:pt x="148" y="1641"/>
                    </a:lnTo>
                    <a:lnTo>
                      <a:pt x="175" y="1619"/>
                    </a:lnTo>
                    <a:lnTo>
                      <a:pt x="189" y="1607"/>
                    </a:lnTo>
                    <a:lnTo>
                      <a:pt x="202" y="1593"/>
                    </a:lnTo>
                    <a:lnTo>
                      <a:pt x="220" y="1575"/>
                    </a:lnTo>
                    <a:lnTo>
                      <a:pt x="241" y="1554"/>
                    </a:lnTo>
                    <a:lnTo>
                      <a:pt x="285" y="1506"/>
                    </a:lnTo>
                    <a:lnTo>
                      <a:pt x="330" y="1455"/>
                    </a:lnTo>
                    <a:lnTo>
                      <a:pt x="373" y="1405"/>
                    </a:lnTo>
                    <a:lnTo>
                      <a:pt x="446" y="1321"/>
                    </a:lnTo>
                    <a:lnTo>
                      <a:pt x="475" y="1286"/>
                    </a:lnTo>
                    <a:lnTo>
                      <a:pt x="516" y="1227"/>
                    </a:lnTo>
                    <a:lnTo>
                      <a:pt x="604" y="1044"/>
                    </a:lnTo>
                    <a:lnTo>
                      <a:pt x="611" y="1030"/>
                    </a:lnTo>
                    <a:lnTo>
                      <a:pt x="620" y="1015"/>
                    </a:lnTo>
                    <a:lnTo>
                      <a:pt x="632" y="995"/>
                    </a:lnTo>
                    <a:lnTo>
                      <a:pt x="646" y="972"/>
                    </a:lnTo>
                    <a:lnTo>
                      <a:pt x="656" y="960"/>
                    </a:lnTo>
                    <a:lnTo>
                      <a:pt x="665" y="949"/>
                    </a:lnTo>
                    <a:lnTo>
                      <a:pt x="675" y="937"/>
                    </a:lnTo>
                    <a:lnTo>
                      <a:pt x="686" y="925"/>
                    </a:lnTo>
                    <a:lnTo>
                      <a:pt x="698" y="913"/>
                    </a:lnTo>
                    <a:lnTo>
                      <a:pt x="711" y="901"/>
                    </a:lnTo>
                    <a:lnTo>
                      <a:pt x="723" y="891"/>
                    </a:lnTo>
                    <a:lnTo>
                      <a:pt x="733" y="881"/>
                    </a:lnTo>
                    <a:lnTo>
                      <a:pt x="743" y="873"/>
                    </a:lnTo>
                    <a:lnTo>
                      <a:pt x="750" y="866"/>
                    </a:lnTo>
                    <a:lnTo>
                      <a:pt x="761" y="854"/>
                    </a:lnTo>
                    <a:lnTo>
                      <a:pt x="765" y="848"/>
                    </a:lnTo>
                    <a:lnTo>
                      <a:pt x="768" y="844"/>
                    </a:lnTo>
                    <a:lnTo>
                      <a:pt x="770" y="838"/>
                    </a:lnTo>
                    <a:lnTo>
                      <a:pt x="770" y="835"/>
                    </a:lnTo>
                    <a:lnTo>
                      <a:pt x="770" y="834"/>
                    </a:lnTo>
                    <a:lnTo>
                      <a:pt x="770" y="831"/>
                    </a:lnTo>
                    <a:lnTo>
                      <a:pt x="947" y="742"/>
                    </a:lnTo>
                    <a:lnTo>
                      <a:pt x="1089" y="753"/>
                    </a:lnTo>
                    <a:lnTo>
                      <a:pt x="1084" y="506"/>
                    </a:lnTo>
                    <a:lnTo>
                      <a:pt x="901" y="546"/>
                    </a:lnTo>
                    <a:lnTo>
                      <a:pt x="882" y="198"/>
                    </a:lnTo>
                    <a:lnTo>
                      <a:pt x="901" y="190"/>
                    </a:lnTo>
                    <a:lnTo>
                      <a:pt x="921" y="181"/>
                    </a:lnTo>
                    <a:lnTo>
                      <a:pt x="944" y="169"/>
                    </a:lnTo>
                    <a:lnTo>
                      <a:pt x="969" y="157"/>
                    </a:lnTo>
                    <a:lnTo>
                      <a:pt x="992" y="143"/>
                    </a:lnTo>
                    <a:lnTo>
                      <a:pt x="1002" y="136"/>
                    </a:lnTo>
                    <a:lnTo>
                      <a:pt x="1012" y="128"/>
                    </a:lnTo>
                    <a:lnTo>
                      <a:pt x="1020" y="122"/>
                    </a:lnTo>
                    <a:lnTo>
                      <a:pt x="1025" y="115"/>
                    </a:lnTo>
                    <a:lnTo>
                      <a:pt x="1034" y="102"/>
                    </a:lnTo>
                    <a:lnTo>
                      <a:pt x="1043" y="91"/>
                    </a:lnTo>
                    <a:lnTo>
                      <a:pt x="1051" y="82"/>
                    </a:lnTo>
                    <a:lnTo>
                      <a:pt x="1060" y="76"/>
                    </a:lnTo>
                    <a:lnTo>
                      <a:pt x="1067" y="69"/>
                    </a:lnTo>
                    <a:lnTo>
                      <a:pt x="1072" y="65"/>
                    </a:lnTo>
                    <a:lnTo>
                      <a:pt x="1078" y="61"/>
                    </a:lnTo>
                    <a:lnTo>
                      <a:pt x="1120" y="44"/>
                    </a:lnTo>
                    <a:lnTo>
                      <a:pt x="1154" y="85"/>
                    </a:lnTo>
                    <a:lnTo>
                      <a:pt x="1208" y="56"/>
                    </a:lnTo>
                    <a:lnTo>
                      <a:pt x="1279" y="132"/>
                    </a:lnTo>
                    <a:lnTo>
                      <a:pt x="1271" y="140"/>
                    </a:lnTo>
                    <a:lnTo>
                      <a:pt x="1265" y="148"/>
                    </a:lnTo>
                    <a:lnTo>
                      <a:pt x="1258" y="159"/>
                    </a:lnTo>
                    <a:lnTo>
                      <a:pt x="1253" y="169"/>
                    </a:lnTo>
                    <a:lnTo>
                      <a:pt x="1250" y="175"/>
                    </a:lnTo>
                    <a:lnTo>
                      <a:pt x="1249" y="180"/>
                    </a:lnTo>
                    <a:lnTo>
                      <a:pt x="1249" y="185"/>
                    </a:lnTo>
                    <a:lnTo>
                      <a:pt x="1249" y="188"/>
                    </a:lnTo>
                    <a:lnTo>
                      <a:pt x="1249" y="190"/>
                    </a:lnTo>
                    <a:lnTo>
                      <a:pt x="1250" y="192"/>
                    </a:lnTo>
                    <a:lnTo>
                      <a:pt x="1252" y="194"/>
                    </a:lnTo>
                    <a:lnTo>
                      <a:pt x="1256" y="198"/>
                    </a:lnTo>
                    <a:lnTo>
                      <a:pt x="1257" y="200"/>
                    </a:lnTo>
                    <a:lnTo>
                      <a:pt x="1260" y="201"/>
                    </a:lnTo>
                    <a:lnTo>
                      <a:pt x="1266" y="204"/>
                    </a:lnTo>
                    <a:lnTo>
                      <a:pt x="1273" y="206"/>
                    </a:lnTo>
                    <a:lnTo>
                      <a:pt x="1279" y="207"/>
                    </a:lnTo>
                    <a:lnTo>
                      <a:pt x="1294" y="211"/>
                    </a:lnTo>
                    <a:lnTo>
                      <a:pt x="1308" y="213"/>
                    </a:lnTo>
                    <a:lnTo>
                      <a:pt x="1333" y="215"/>
                    </a:lnTo>
                    <a:lnTo>
                      <a:pt x="1344" y="215"/>
                    </a:lnTo>
                    <a:lnTo>
                      <a:pt x="1345" y="217"/>
                    </a:lnTo>
                    <a:lnTo>
                      <a:pt x="1351" y="218"/>
                    </a:lnTo>
                    <a:lnTo>
                      <a:pt x="1358" y="223"/>
                    </a:lnTo>
                    <a:lnTo>
                      <a:pt x="1362" y="226"/>
                    </a:lnTo>
                    <a:lnTo>
                      <a:pt x="1368" y="230"/>
                    </a:lnTo>
                    <a:lnTo>
                      <a:pt x="1373" y="234"/>
                    </a:lnTo>
                    <a:lnTo>
                      <a:pt x="1378" y="239"/>
                    </a:lnTo>
                    <a:lnTo>
                      <a:pt x="1384" y="246"/>
                    </a:lnTo>
                    <a:lnTo>
                      <a:pt x="1389" y="252"/>
                    </a:lnTo>
                    <a:lnTo>
                      <a:pt x="1394" y="262"/>
                    </a:lnTo>
                    <a:lnTo>
                      <a:pt x="1399" y="271"/>
                    </a:lnTo>
                    <a:lnTo>
                      <a:pt x="1405" y="281"/>
                    </a:lnTo>
                    <a:lnTo>
                      <a:pt x="1409" y="292"/>
                    </a:lnTo>
                    <a:lnTo>
                      <a:pt x="1418" y="316"/>
                    </a:lnTo>
                    <a:lnTo>
                      <a:pt x="1424" y="338"/>
                    </a:lnTo>
                    <a:lnTo>
                      <a:pt x="1431" y="359"/>
                    </a:lnTo>
                    <a:lnTo>
                      <a:pt x="1436" y="379"/>
                    </a:lnTo>
                    <a:lnTo>
                      <a:pt x="1439" y="397"/>
                    </a:lnTo>
                    <a:lnTo>
                      <a:pt x="1443" y="416"/>
                    </a:lnTo>
                    <a:lnTo>
                      <a:pt x="1444" y="434"/>
                    </a:lnTo>
                    <a:lnTo>
                      <a:pt x="1444" y="453"/>
                    </a:lnTo>
                    <a:lnTo>
                      <a:pt x="1444" y="483"/>
                    </a:lnTo>
                    <a:lnTo>
                      <a:pt x="1445" y="496"/>
                    </a:lnTo>
                    <a:lnTo>
                      <a:pt x="1445" y="502"/>
                    </a:lnTo>
                    <a:lnTo>
                      <a:pt x="1447" y="506"/>
                    </a:lnTo>
                    <a:lnTo>
                      <a:pt x="1449" y="511"/>
                    </a:lnTo>
                    <a:lnTo>
                      <a:pt x="1452" y="515"/>
                    </a:lnTo>
                    <a:lnTo>
                      <a:pt x="1455" y="519"/>
                    </a:lnTo>
                    <a:lnTo>
                      <a:pt x="1460" y="521"/>
                    </a:lnTo>
                    <a:lnTo>
                      <a:pt x="1464" y="524"/>
                    </a:lnTo>
                    <a:lnTo>
                      <a:pt x="1471" y="527"/>
                    </a:lnTo>
                    <a:lnTo>
                      <a:pt x="1477" y="528"/>
                    </a:lnTo>
                    <a:lnTo>
                      <a:pt x="1486" y="529"/>
                    </a:lnTo>
                    <a:lnTo>
                      <a:pt x="1494" y="531"/>
                    </a:lnTo>
                    <a:lnTo>
                      <a:pt x="1502" y="532"/>
                    </a:lnTo>
                    <a:lnTo>
                      <a:pt x="1515" y="536"/>
                    </a:lnTo>
                    <a:lnTo>
                      <a:pt x="1527" y="541"/>
                    </a:lnTo>
                    <a:lnTo>
                      <a:pt x="1536" y="546"/>
                    </a:lnTo>
                    <a:lnTo>
                      <a:pt x="1543" y="550"/>
                    </a:lnTo>
                    <a:lnTo>
                      <a:pt x="1547" y="554"/>
                    </a:lnTo>
                    <a:lnTo>
                      <a:pt x="1551" y="558"/>
                    </a:lnTo>
                    <a:lnTo>
                      <a:pt x="1680" y="393"/>
                    </a:lnTo>
                    <a:lnTo>
                      <a:pt x="1721" y="339"/>
                    </a:lnTo>
                    <a:lnTo>
                      <a:pt x="1734" y="313"/>
                    </a:lnTo>
                    <a:lnTo>
                      <a:pt x="1747" y="288"/>
                    </a:lnTo>
                    <a:lnTo>
                      <a:pt x="1754" y="276"/>
                    </a:lnTo>
                    <a:lnTo>
                      <a:pt x="1761" y="266"/>
                    </a:lnTo>
                    <a:lnTo>
                      <a:pt x="1763" y="260"/>
                    </a:lnTo>
                    <a:lnTo>
                      <a:pt x="1766" y="254"/>
                    </a:lnTo>
                    <a:lnTo>
                      <a:pt x="1769" y="246"/>
                    </a:lnTo>
                    <a:lnTo>
                      <a:pt x="1771" y="237"/>
                    </a:lnTo>
                    <a:lnTo>
                      <a:pt x="1775" y="217"/>
                    </a:lnTo>
                    <a:lnTo>
                      <a:pt x="1777" y="196"/>
                    </a:lnTo>
                    <a:lnTo>
                      <a:pt x="1779" y="173"/>
                    </a:lnTo>
                    <a:lnTo>
                      <a:pt x="1779" y="153"/>
                    </a:lnTo>
                    <a:lnTo>
                      <a:pt x="1779" y="134"/>
                    </a:lnTo>
                    <a:lnTo>
                      <a:pt x="1777" y="118"/>
                    </a:lnTo>
                    <a:lnTo>
                      <a:pt x="1773" y="89"/>
                    </a:lnTo>
                    <a:lnTo>
                      <a:pt x="1770" y="73"/>
                    </a:lnTo>
                    <a:lnTo>
                      <a:pt x="1770" y="65"/>
                    </a:lnTo>
                    <a:lnTo>
                      <a:pt x="1771" y="57"/>
                    </a:lnTo>
                    <a:lnTo>
                      <a:pt x="1773" y="51"/>
                    </a:lnTo>
                    <a:lnTo>
                      <a:pt x="1777" y="44"/>
                    </a:lnTo>
                    <a:lnTo>
                      <a:pt x="1780" y="37"/>
                    </a:lnTo>
                    <a:lnTo>
                      <a:pt x="1783" y="33"/>
                    </a:lnTo>
                    <a:lnTo>
                      <a:pt x="1786" y="31"/>
                    </a:lnTo>
                    <a:lnTo>
                      <a:pt x="1792" y="26"/>
                    </a:lnTo>
                    <a:lnTo>
                      <a:pt x="1802" y="20"/>
                    </a:lnTo>
                    <a:lnTo>
                      <a:pt x="1812" y="16"/>
                    </a:lnTo>
                    <a:lnTo>
                      <a:pt x="1824" y="14"/>
                    </a:lnTo>
                    <a:lnTo>
                      <a:pt x="1850" y="8"/>
                    </a:lnTo>
                    <a:lnTo>
                      <a:pt x="1873" y="4"/>
                    </a:lnTo>
                    <a:lnTo>
                      <a:pt x="1894" y="2"/>
                    </a:lnTo>
                    <a:lnTo>
                      <a:pt x="1912" y="0"/>
                    </a:lnTo>
                    <a:lnTo>
                      <a:pt x="1929" y="0"/>
                    </a:lnTo>
                    <a:lnTo>
                      <a:pt x="1945" y="2"/>
                    </a:lnTo>
                    <a:lnTo>
                      <a:pt x="1953" y="3"/>
                    </a:lnTo>
                    <a:lnTo>
                      <a:pt x="1960" y="3"/>
                    </a:lnTo>
                    <a:lnTo>
                      <a:pt x="1976" y="6"/>
                    </a:lnTo>
                    <a:lnTo>
                      <a:pt x="2010" y="14"/>
                    </a:lnTo>
                    <a:lnTo>
                      <a:pt x="2035" y="22"/>
                    </a:lnTo>
                    <a:lnTo>
                      <a:pt x="2051" y="27"/>
                    </a:lnTo>
                    <a:lnTo>
                      <a:pt x="2056" y="29"/>
                    </a:lnTo>
                    <a:lnTo>
                      <a:pt x="2040" y="218"/>
                    </a:lnTo>
                    <a:lnTo>
                      <a:pt x="1993" y="213"/>
                    </a:lnTo>
                    <a:lnTo>
                      <a:pt x="1972" y="276"/>
                    </a:lnTo>
                    <a:lnTo>
                      <a:pt x="2019" y="376"/>
                    </a:lnTo>
                    <a:lnTo>
                      <a:pt x="1939" y="376"/>
                    </a:lnTo>
                    <a:lnTo>
                      <a:pt x="1914" y="397"/>
                    </a:lnTo>
                    <a:lnTo>
                      <a:pt x="1908" y="544"/>
                    </a:lnTo>
                    <a:lnTo>
                      <a:pt x="1966" y="544"/>
                    </a:lnTo>
                    <a:lnTo>
                      <a:pt x="1977" y="597"/>
                    </a:lnTo>
                    <a:lnTo>
                      <a:pt x="2115" y="413"/>
                    </a:lnTo>
                    <a:lnTo>
                      <a:pt x="2325" y="448"/>
                    </a:lnTo>
                    <a:lnTo>
                      <a:pt x="2332" y="459"/>
                    </a:lnTo>
                    <a:lnTo>
                      <a:pt x="2337" y="473"/>
                    </a:lnTo>
                    <a:lnTo>
                      <a:pt x="2344" y="488"/>
                    </a:lnTo>
                    <a:lnTo>
                      <a:pt x="2350" y="506"/>
                    </a:lnTo>
                    <a:lnTo>
                      <a:pt x="2355" y="525"/>
                    </a:lnTo>
                    <a:lnTo>
                      <a:pt x="2359" y="544"/>
                    </a:lnTo>
                    <a:lnTo>
                      <a:pt x="2361" y="552"/>
                    </a:lnTo>
                    <a:lnTo>
                      <a:pt x="2361" y="560"/>
                    </a:lnTo>
                    <a:lnTo>
                      <a:pt x="2359" y="578"/>
                    </a:lnTo>
                    <a:lnTo>
                      <a:pt x="2359" y="589"/>
                    </a:lnTo>
                    <a:lnTo>
                      <a:pt x="2358" y="600"/>
                    </a:lnTo>
                    <a:lnTo>
                      <a:pt x="2355" y="612"/>
                    </a:lnTo>
                    <a:lnTo>
                      <a:pt x="2354" y="624"/>
                    </a:lnTo>
                    <a:lnTo>
                      <a:pt x="2349" y="649"/>
                    </a:lnTo>
                    <a:lnTo>
                      <a:pt x="2344" y="673"/>
                    </a:lnTo>
                    <a:lnTo>
                      <a:pt x="2340" y="684"/>
                    </a:lnTo>
                    <a:lnTo>
                      <a:pt x="2336" y="694"/>
                    </a:lnTo>
                    <a:lnTo>
                      <a:pt x="2332" y="703"/>
                    </a:lnTo>
                    <a:lnTo>
                      <a:pt x="2328" y="711"/>
                    </a:lnTo>
                    <a:lnTo>
                      <a:pt x="2324" y="718"/>
                    </a:lnTo>
                    <a:lnTo>
                      <a:pt x="2319" y="723"/>
                    </a:lnTo>
                    <a:lnTo>
                      <a:pt x="2308" y="730"/>
                    </a:lnTo>
                    <a:lnTo>
                      <a:pt x="2304" y="732"/>
                    </a:lnTo>
                    <a:lnTo>
                      <a:pt x="2299" y="735"/>
                    </a:lnTo>
                    <a:lnTo>
                      <a:pt x="2288" y="739"/>
                    </a:lnTo>
                    <a:lnTo>
                      <a:pt x="2276" y="742"/>
                    </a:lnTo>
                    <a:lnTo>
                      <a:pt x="2264" y="744"/>
                    </a:lnTo>
                    <a:lnTo>
                      <a:pt x="2253" y="744"/>
                    </a:lnTo>
                    <a:lnTo>
                      <a:pt x="2238" y="744"/>
                    </a:lnTo>
                    <a:lnTo>
                      <a:pt x="2224" y="744"/>
                    </a:lnTo>
                    <a:lnTo>
                      <a:pt x="2213" y="744"/>
                    </a:lnTo>
                    <a:lnTo>
                      <a:pt x="2208" y="746"/>
                    </a:lnTo>
                    <a:lnTo>
                      <a:pt x="2204" y="746"/>
                    </a:lnTo>
                    <a:lnTo>
                      <a:pt x="2199" y="747"/>
                    </a:lnTo>
                    <a:lnTo>
                      <a:pt x="2196" y="748"/>
                    </a:lnTo>
                    <a:lnTo>
                      <a:pt x="2192" y="751"/>
                    </a:lnTo>
                    <a:lnTo>
                      <a:pt x="2189" y="753"/>
                    </a:lnTo>
                    <a:lnTo>
                      <a:pt x="2187" y="756"/>
                    </a:lnTo>
                    <a:lnTo>
                      <a:pt x="2184" y="759"/>
                    </a:lnTo>
                    <a:lnTo>
                      <a:pt x="2183" y="763"/>
                    </a:lnTo>
                    <a:lnTo>
                      <a:pt x="2181" y="767"/>
                    </a:lnTo>
                    <a:lnTo>
                      <a:pt x="2181" y="771"/>
                    </a:lnTo>
                    <a:lnTo>
                      <a:pt x="2181" y="776"/>
                    </a:lnTo>
                    <a:lnTo>
                      <a:pt x="2181" y="786"/>
                    </a:lnTo>
                    <a:lnTo>
                      <a:pt x="2183" y="792"/>
                    </a:lnTo>
                    <a:lnTo>
                      <a:pt x="2185" y="798"/>
                    </a:lnTo>
                    <a:lnTo>
                      <a:pt x="2188" y="804"/>
                    </a:lnTo>
                    <a:lnTo>
                      <a:pt x="2191" y="809"/>
                    </a:lnTo>
                    <a:lnTo>
                      <a:pt x="2197" y="818"/>
                    </a:lnTo>
                    <a:lnTo>
                      <a:pt x="2205" y="827"/>
                    </a:lnTo>
                    <a:lnTo>
                      <a:pt x="2212" y="834"/>
                    </a:lnTo>
                    <a:lnTo>
                      <a:pt x="2218" y="839"/>
                    </a:lnTo>
                    <a:lnTo>
                      <a:pt x="2224" y="844"/>
                    </a:lnTo>
                    <a:lnTo>
                      <a:pt x="2225" y="843"/>
                    </a:lnTo>
                    <a:lnTo>
                      <a:pt x="2229" y="843"/>
                    </a:lnTo>
                    <a:lnTo>
                      <a:pt x="2231" y="844"/>
                    </a:lnTo>
                    <a:lnTo>
                      <a:pt x="2234" y="846"/>
                    </a:lnTo>
                    <a:lnTo>
                      <a:pt x="2238" y="847"/>
                    </a:lnTo>
                    <a:lnTo>
                      <a:pt x="2242" y="851"/>
                    </a:lnTo>
                    <a:lnTo>
                      <a:pt x="2246" y="855"/>
                    </a:lnTo>
                    <a:lnTo>
                      <a:pt x="2249" y="862"/>
                    </a:lnTo>
                    <a:lnTo>
                      <a:pt x="2253" y="868"/>
                    </a:lnTo>
                    <a:lnTo>
                      <a:pt x="2257" y="877"/>
                    </a:lnTo>
                    <a:lnTo>
                      <a:pt x="2261" y="889"/>
                    </a:lnTo>
                    <a:lnTo>
                      <a:pt x="2264" y="904"/>
                    </a:lnTo>
                    <a:lnTo>
                      <a:pt x="2268" y="920"/>
                    </a:lnTo>
                    <a:lnTo>
                      <a:pt x="2271" y="938"/>
                    </a:lnTo>
                    <a:lnTo>
                      <a:pt x="2276" y="968"/>
                    </a:lnTo>
                    <a:lnTo>
                      <a:pt x="2283" y="999"/>
                    </a:lnTo>
                    <a:lnTo>
                      <a:pt x="2290" y="1028"/>
                    </a:lnTo>
                    <a:lnTo>
                      <a:pt x="2296" y="1055"/>
                    </a:lnTo>
                    <a:lnTo>
                      <a:pt x="2308" y="1096"/>
                    </a:lnTo>
                    <a:lnTo>
                      <a:pt x="2313" y="1112"/>
                    </a:lnTo>
                    <a:lnTo>
                      <a:pt x="2544" y="1075"/>
                    </a:lnTo>
                    <a:lnTo>
                      <a:pt x="2507" y="1149"/>
                    </a:lnTo>
                    <a:lnTo>
                      <a:pt x="2494" y="1178"/>
                    </a:lnTo>
                    <a:lnTo>
                      <a:pt x="2489" y="1190"/>
                    </a:lnTo>
                    <a:lnTo>
                      <a:pt x="2483" y="1201"/>
                    </a:lnTo>
                    <a:lnTo>
                      <a:pt x="2478" y="1208"/>
                    </a:lnTo>
                    <a:lnTo>
                      <a:pt x="2475" y="1212"/>
                    </a:lnTo>
                    <a:lnTo>
                      <a:pt x="2473" y="1215"/>
                    </a:lnTo>
                    <a:lnTo>
                      <a:pt x="2469" y="1218"/>
                    </a:lnTo>
                    <a:lnTo>
                      <a:pt x="2466" y="1219"/>
                    </a:lnTo>
                    <a:lnTo>
                      <a:pt x="2462" y="1220"/>
                    </a:lnTo>
                    <a:lnTo>
                      <a:pt x="2458" y="1220"/>
                    </a:lnTo>
                    <a:lnTo>
                      <a:pt x="2452" y="1220"/>
                    </a:lnTo>
                    <a:lnTo>
                      <a:pt x="2448" y="1219"/>
                    </a:lnTo>
                    <a:lnTo>
                      <a:pt x="2445" y="1218"/>
                    </a:lnTo>
                    <a:lnTo>
                      <a:pt x="2441" y="1215"/>
                    </a:lnTo>
                    <a:lnTo>
                      <a:pt x="2436" y="1212"/>
                    </a:lnTo>
                    <a:lnTo>
                      <a:pt x="2429" y="1207"/>
                    </a:lnTo>
                    <a:lnTo>
                      <a:pt x="2419" y="1202"/>
                    </a:lnTo>
                    <a:lnTo>
                      <a:pt x="2403" y="1197"/>
                    </a:lnTo>
                    <a:lnTo>
                      <a:pt x="2391" y="1193"/>
                    </a:lnTo>
                    <a:lnTo>
                      <a:pt x="2379" y="1190"/>
                    </a:lnTo>
                    <a:lnTo>
                      <a:pt x="2370" y="1189"/>
                    </a:lnTo>
                    <a:lnTo>
                      <a:pt x="2361" y="1189"/>
                    </a:lnTo>
                    <a:lnTo>
                      <a:pt x="2355" y="1190"/>
                    </a:lnTo>
                    <a:lnTo>
                      <a:pt x="2353" y="1191"/>
                    </a:lnTo>
                    <a:lnTo>
                      <a:pt x="2353" y="1193"/>
                    </a:lnTo>
                    <a:lnTo>
                      <a:pt x="2352" y="1194"/>
                    </a:lnTo>
                    <a:lnTo>
                      <a:pt x="2352" y="1197"/>
                    </a:lnTo>
                    <a:lnTo>
                      <a:pt x="2355" y="1202"/>
                    </a:lnTo>
                    <a:lnTo>
                      <a:pt x="2361" y="1208"/>
                    </a:lnTo>
                    <a:lnTo>
                      <a:pt x="2362" y="1211"/>
                    </a:lnTo>
                    <a:lnTo>
                      <a:pt x="2362" y="1214"/>
                    </a:lnTo>
                    <a:lnTo>
                      <a:pt x="2377" y="1227"/>
                    </a:lnTo>
                    <a:lnTo>
                      <a:pt x="2391" y="1240"/>
                    </a:lnTo>
                    <a:lnTo>
                      <a:pt x="2420" y="1265"/>
                    </a:lnTo>
                    <a:lnTo>
                      <a:pt x="2435" y="1278"/>
                    </a:lnTo>
                    <a:lnTo>
                      <a:pt x="2448" y="1293"/>
                    </a:lnTo>
                    <a:lnTo>
                      <a:pt x="2453" y="1299"/>
                    </a:lnTo>
                    <a:lnTo>
                      <a:pt x="2460" y="1307"/>
                    </a:lnTo>
                    <a:lnTo>
                      <a:pt x="2472" y="1324"/>
                    </a:lnTo>
                    <a:lnTo>
                      <a:pt x="2469" y="1331"/>
                    </a:lnTo>
                    <a:lnTo>
                      <a:pt x="2441" y="1331"/>
                    </a:lnTo>
                    <a:lnTo>
                      <a:pt x="2433" y="1331"/>
                    </a:lnTo>
                    <a:lnTo>
                      <a:pt x="2427" y="1330"/>
                    </a:lnTo>
                    <a:lnTo>
                      <a:pt x="2413" y="1327"/>
                    </a:lnTo>
                    <a:lnTo>
                      <a:pt x="2402" y="1323"/>
                    </a:lnTo>
                    <a:lnTo>
                      <a:pt x="2390" y="1319"/>
                    </a:lnTo>
                    <a:lnTo>
                      <a:pt x="2378" y="1314"/>
                    </a:lnTo>
                    <a:lnTo>
                      <a:pt x="2365" y="1310"/>
                    </a:lnTo>
                    <a:lnTo>
                      <a:pt x="2358" y="1309"/>
                    </a:lnTo>
                    <a:lnTo>
                      <a:pt x="2352" y="1307"/>
                    </a:lnTo>
                    <a:lnTo>
                      <a:pt x="2345" y="1306"/>
                    </a:lnTo>
                    <a:lnTo>
                      <a:pt x="2337" y="1306"/>
                    </a:lnTo>
                    <a:lnTo>
                      <a:pt x="2305" y="1306"/>
                    </a:lnTo>
                    <a:lnTo>
                      <a:pt x="2297" y="1305"/>
                    </a:lnTo>
                    <a:lnTo>
                      <a:pt x="2295" y="1303"/>
                    </a:lnTo>
                    <a:lnTo>
                      <a:pt x="2291" y="1302"/>
                    </a:lnTo>
                    <a:lnTo>
                      <a:pt x="2286" y="1298"/>
                    </a:lnTo>
                    <a:lnTo>
                      <a:pt x="2280" y="1293"/>
                    </a:lnTo>
                    <a:lnTo>
                      <a:pt x="2276" y="1289"/>
                    </a:lnTo>
                    <a:lnTo>
                      <a:pt x="2270" y="1284"/>
                    </a:lnTo>
                    <a:lnTo>
                      <a:pt x="2267" y="1282"/>
                    </a:lnTo>
                    <a:lnTo>
                      <a:pt x="2264" y="1281"/>
                    </a:lnTo>
                    <a:lnTo>
                      <a:pt x="2257" y="1280"/>
                    </a:lnTo>
                    <a:lnTo>
                      <a:pt x="2251" y="1281"/>
                    </a:lnTo>
                    <a:lnTo>
                      <a:pt x="2249" y="1284"/>
                    </a:lnTo>
                    <a:lnTo>
                      <a:pt x="2246" y="1285"/>
                    </a:lnTo>
                    <a:lnTo>
                      <a:pt x="2245" y="1286"/>
                    </a:lnTo>
                    <a:lnTo>
                      <a:pt x="2242" y="1290"/>
                    </a:lnTo>
                    <a:lnTo>
                      <a:pt x="2238" y="1299"/>
                    </a:lnTo>
                    <a:lnTo>
                      <a:pt x="2234" y="1305"/>
                    </a:lnTo>
                    <a:lnTo>
                      <a:pt x="2230" y="1309"/>
                    </a:lnTo>
                    <a:lnTo>
                      <a:pt x="2209" y="1328"/>
                    </a:lnTo>
                    <a:lnTo>
                      <a:pt x="2200" y="1338"/>
                    </a:lnTo>
                    <a:lnTo>
                      <a:pt x="2189" y="1346"/>
                    </a:lnTo>
                    <a:lnTo>
                      <a:pt x="2184" y="1350"/>
                    </a:lnTo>
                    <a:lnTo>
                      <a:pt x="2179" y="1352"/>
                    </a:lnTo>
                    <a:lnTo>
                      <a:pt x="2173" y="1355"/>
                    </a:lnTo>
                    <a:lnTo>
                      <a:pt x="2167" y="1357"/>
                    </a:lnTo>
                    <a:lnTo>
                      <a:pt x="2160" y="1360"/>
                    </a:lnTo>
                    <a:lnTo>
                      <a:pt x="2154" y="1361"/>
                    </a:lnTo>
                    <a:lnTo>
                      <a:pt x="2147" y="1361"/>
                    </a:lnTo>
                    <a:lnTo>
                      <a:pt x="2139" y="1363"/>
                    </a:lnTo>
                    <a:lnTo>
                      <a:pt x="2119" y="1363"/>
                    </a:lnTo>
                    <a:lnTo>
                      <a:pt x="2101" y="1363"/>
                    </a:lnTo>
                    <a:lnTo>
                      <a:pt x="2092" y="1361"/>
                    </a:lnTo>
                    <a:lnTo>
                      <a:pt x="2082" y="1360"/>
                    </a:lnTo>
                    <a:lnTo>
                      <a:pt x="2073" y="1357"/>
                    </a:lnTo>
                    <a:lnTo>
                      <a:pt x="2063" y="1353"/>
                    </a:lnTo>
                    <a:lnTo>
                      <a:pt x="2052" y="1348"/>
                    </a:lnTo>
                    <a:lnTo>
                      <a:pt x="2044" y="1343"/>
                    </a:lnTo>
                    <a:lnTo>
                      <a:pt x="2028" y="1331"/>
                    </a:lnTo>
                    <a:lnTo>
                      <a:pt x="2022" y="1326"/>
                    </a:lnTo>
                    <a:lnTo>
                      <a:pt x="2018" y="1323"/>
                    </a:lnTo>
                    <a:lnTo>
                      <a:pt x="2014" y="1321"/>
                    </a:lnTo>
                    <a:lnTo>
                      <a:pt x="2009" y="1319"/>
                    </a:lnTo>
                    <a:lnTo>
                      <a:pt x="2005" y="1318"/>
                    </a:lnTo>
                    <a:lnTo>
                      <a:pt x="1999" y="1317"/>
                    </a:lnTo>
                    <a:lnTo>
                      <a:pt x="1994" y="1317"/>
                    </a:lnTo>
                    <a:lnTo>
                      <a:pt x="1915" y="1317"/>
                    </a:lnTo>
                    <a:lnTo>
                      <a:pt x="1914" y="1292"/>
                    </a:lnTo>
                    <a:lnTo>
                      <a:pt x="1912" y="1278"/>
                    </a:lnTo>
                    <a:lnTo>
                      <a:pt x="1911" y="1266"/>
                    </a:lnTo>
                    <a:lnTo>
                      <a:pt x="1908" y="1255"/>
                    </a:lnTo>
                    <a:lnTo>
                      <a:pt x="1904" y="1244"/>
                    </a:lnTo>
                    <a:lnTo>
                      <a:pt x="1899" y="1233"/>
                    </a:lnTo>
                    <a:lnTo>
                      <a:pt x="1897" y="1228"/>
                    </a:lnTo>
                    <a:lnTo>
                      <a:pt x="1894" y="1223"/>
                    </a:lnTo>
                    <a:lnTo>
                      <a:pt x="1894" y="1227"/>
                    </a:lnTo>
                    <a:lnTo>
                      <a:pt x="1770" y="1257"/>
                    </a:lnTo>
                    <a:lnTo>
                      <a:pt x="1717" y="1257"/>
                    </a:lnTo>
                    <a:lnTo>
                      <a:pt x="1563" y="949"/>
                    </a:lnTo>
                    <a:lnTo>
                      <a:pt x="1486" y="1044"/>
                    </a:lnTo>
                    <a:lnTo>
                      <a:pt x="1451" y="1038"/>
                    </a:lnTo>
                    <a:lnTo>
                      <a:pt x="1420" y="1062"/>
                    </a:lnTo>
                    <a:lnTo>
                      <a:pt x="1149" y="1074"/>
                    </a:lnTo>
                    <a:lnTo>
                      <a:pt x="1285" y="1198"/>
                    </a:lnTo>
                    <a:lnTo>
                      <a:pt x="1267" y="1202"/>
                    </a:lnTo>
                    <a:lnTo>
                      <a:pt x="1267" y="1203"/>
                    </a:lnTo>
                    <a:lnTo>
                      <a:pt x="1266" y="1208"/>
                    </a:lnTo>
                    <a:lnTo>
                      <a:pt x="1266" y="1212"/>
                    </a:lnTo>
                    <a:lnTo>
                      <a:pt x="1265" y="1216"/>
                    </a:lnTo>
                    <a:lnTo>
                      <a:pt x="1263" y="1219"/>
                    </a:lnTo>
                    <a:lnTo>
                      <a:pt x="1262" y="1223"/>
                    </a:lnTo>
                    <a:lnTo>
                      <a:pt x="1260" y="1226"/>
                    </a:lnTo>
                    <a:lnTo>
                      <a:pt x="1254" y="1231"/>
                    </a:lnTo>
                    <a:lnTo>
                      <a:pt x="1248" y="1235"/>
                    </a:lnTo>
                    <a:lnTo>
                      <a:pt x="1241" y="1239"/>
                    </a:lnTo>
                    <a:lnTo>
                      <a:pt x="1224" y="1245"/>
                    </a:lnTo>
                    <a:lnTo>
                      <a:pt x="1192" y="1259"/>
                    </a:lnTo>
                    <a:lnTo>
                      <a:pt x="1178" y="1266"/>
                    </a:lnTo>
                    <a:lnTo>
                      <a:pt x="1171" y="1270"/>
                    </a:lnTo>
                    <a:lnTo>
                      <a:pt x="1165" y="1274"/>
                    </a:lnTo>
                    <a:lnTo>
                      <a:pt x="1159" y="1278"/>
                    </a:lnTo>
                    <a:lnTo>
                      <a:pt x="1154" y="1284"/>
                    </a:lnTo>
                    <a:lnTo>
                      <a:pt x="1149" y="1289"/>
                    </a:lnTo>
                    <a:lnTo>
                      <a:pt x="1145" y="1294"/>
                    </a:lnTo>
                    <a:lnTo>
                      <a:pt x="1142" y="1301"/>
                    </a:lnTo>
                    <a:lnTo>
                      <a:pt x="1140" y="1307"/>
                    </a:lnTo>
                    <a:lnTo>
                      <a:pt x="1138" y="1315"/>
                    </a:lnTo>
                    <a:lnTo>
                      <a:pt x="1138" y="1323"/>
                    </a:lnTo>
                    <a:lnTo>
                      <a:pt x="1137" y="1332"/>
                    </a:lnTo>
                    <a:lnTo>
                      <a:pt x="1136" y="1339"/>
                    </a:lnTo>
                    <a:lnTo>
                      <a:pt x="1132" y="1355"/>
                    </a:lnTo>
                    <a:lnTo>
                      <a:pt x="1126" y="1369"/>
                    </a:lnTo>
                    <a:lnTo>
                      <a:pt x="1125" y="1377"/>
                    </a:lnTo>
                    <a:lnTo>
                      <a:pt x="1125" y="1385"/>
                    </a:lnTo>
                    <a:lnTo>
                      <a:pt x="1124" y="1404"/>
                    </a:lnTo>
                    <a:lnTo>
                      <a:pt x="1124" y="1421"/>
                    </a:lnTo>
                    <a:lnTo>
                      <a:pt x="1121" y="1435"/>
                    </a:lnTo>
                    <a:lnTo>
                      <a:pt x="1118" y="1451"/>
                    </a:lnTo>
                    <a:lnTo>
                      <a:pt x="1113" y="1466"/>
                    </a:lnTo>
                    <a:lnTo>
                      <a:pt x="1107" y="1480"/>
                    </a:lnTo>
                    <a:lnTo>
                      <a:pt x="1099" y="1495"/>
                    </a:lnTo>
                    <a:lnTo>
                      <a:pt x="1088" y="1509"/>
                    </a:lnTo>
                    <a:lnTo>
                      <a:pt x="1085" y="1512"/>
                    </a:lnTo>
                    <a:lnTo>
                      <a:pt x="1083" y="1514"/>
                    </a:lnTo>
                    <a:lnTo>
                      <a:pt x="1075" y="1520"/>
                    </a:lnTo>
                    <a:lnTo>
                      <a:pt x="1060" y="1526"/>
                    </a:lnTo>
                    <a:lnTo>
                      <a:pt x="1054" y="1530"/>
                    </a:lnTo>
                    <a:lnTo>
                      <a:pt x="1049" y="1534"/>
                    </a:lnTo>
                    <a:lnTo>
                      <a:pt x="1046" y="1537"/>
                    </a:lnTo>
                    <a:lnTo>
                      <a:pt x="1045" y="1541"/>
                    </a:lnTo>
                    <a:lnTo>
                      <a:pt x="1043" y="1543"/>
                    </a:lnTo>
                    <a:lnTo>
                      <a:pt x="1043" y="1547"/>
                    </a:lnTo>
                    <a:lnTo>
                      <a:pt x="1043" y="1583"/>
                    </a:lnTo>
                    <a:lnTo>
                      <a:pt x="1043" y="1597"/>
                    </a:lnTo>
                    <a:lnTo>
                      <a:pt x="1045" y="1604"/>
                    </a:lnTo>
                    <a:lnTo>
                      <a:pt x="1045" y="1611"/>
                    </a:lnTo>
                    <a:lnTo>
                      <a:pt x="1047" y="1623"/>
                    </a:lnTo>
                    <a:lnTo>
                      <a:pt x="1049" y="1628"/>
                    </a:lnTo>
                    <a:lnTo>
                      <a:pt x="1051" y="1634"/>
                    </a:lnTo>
                    <a:lnTo>
                      <a:pt x="1055" y="1638"/>
                    </a:lnTo>
                    <a:lnTo>
                      <a:pt x="1059" y="1644"/>
                    </a:lnTo>
                    <a:lnTo>
                      <a:pt x="1063" y="1649"/>
                    </a:lnTo>
                    <a:lnTo>
                      <a:pt x="1059" y="164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564240" y="1239840"/>
                <a:ext cx="173160" cy="190800"/>
              </a:xfrm>
              <a:custGeom>
                <a:avLst/>
                <a:gdLst/>
                <a:ahLst/>
                <a:rect l="l" t="t" r="r" b="b"/>
                <a:pathLst>
                  <a:path w="338" h="367">
                    <a:moveTo>
                      <a:pt x="137" y="0"/>
                    </a:moveTo>
                    <a:lnTo>
                      <a:pt x="187" y="64"/>
                    </a:lnTo>
                    <a:lnTo>
                      <a:pt x="192" y="69"/>
                    </a:lnTo>
                    <a:lnTo>
                      <a:pt x="197" y="76"/>
                    </a:lnTo>
                    <a:lnTo>
                      <a:pt x="205" y="83"/>
                    </a:lnTo>
                    <a:lnTo>
                      <a:pt x="216" y="91"/>
                    </a:lnTo>
                    <a:lnTo>
                      <a:pt x="226" y="98"/>
                    </a:lnTo>
                    <a:lnTo>
                      <a:pt x="233" y="102"/>
                    </a:lnTo>
                    <a:lnTo>
                      <a:pt x="240" y="105"/>
                    </a:lnTo>
                    <a:lnTo>
                      <a:pt x="246" y="106"/>
                    </a:lnTo>
                    <a:lnTo>
                      <a:pt x="254" y="107"/>
                    </a:lnTo>
                    <a:lnTo>
                      <a:pt x="270" y="110"/>
                    </a:lnTo>
                    <a:lnTo>
                      <a:pt x="286" y="115"/>
                    </a:lnTo>
                    <a:lnTo>
                      <a:pt x="294" y="118"/>
                    </a:lnTo>
                    <a:lnTo>
                      <a:pt x="302" y="120"/>
                    </a:lnTo>
                    <a:lnTo>
                      <a:pt x="309" y="124"/>
                    </a:lnTo>
                    <a:lnTo>
                      <a:pt x="316" y="130"/>
                    </a:lnTo>
                    <a:lnTo>
                      <a:pt x="323" y="135"/>
                    </a:lnTo>
                    <a:lnTo>
                      <a:pt x="328" y="140"/>
                    </a:lnTo>
                    <a:lnTo>
                      <a:pt x="332" y="147"/>
                    </a:lnTo>
                    <a:lnTo>
                      <a:pt x="336" y="153"/>
                    </a:lnTo>
                    <a:lnTo>
                      <a:pt x="337" y="157"/>
                    </a:lnTo>
                    <a:lnTo>
                      <a:pt x="337" y="163"/>
                    </a:lnTo>
                    <a:lnTo>
                      <a:pt x="338" y="170"/>
                    </a:lnTo>
                    <a:lnTo>
                      <a:pt x="337" y="181"/>
                    </a:lnTo>
                    <a:lnTo>
                      <a:pt x="335" y="192"/>
                    </a:lnTo>
                    <a:lnTo>
                      <a:pt x="319" y="235"/>
                    </a:lnTo>
                    <a:lnTo>
                      <a:pt x="306" y="272"/>
                    </a:lnTo>
                    <a:lnTo>
                      <a:pt x="292" y="300"/>
                    </a:lnTo>
                    <a:lnTo>
                      <a:pt x="288" y="309"/>
                    </a:lnTo>
                    <a:lnTo>
                      <a:pt x="284" y="314"/>
                    </a:lnTo>
                    <a:lnTo>
                      <a:pt x="283" y="316"/>
                    </a:lnTo>
                    <a:lnTo>
                      <a:pt x="282" y="318"/>
                    </a:lnTo>
                    <a:lnTo>
                      <a:pt x="282" y="325"/>
                    </a:lnTo>
                    <a:lnTo>
                      <a:pt x="280" y="333"/>
                    </a:lnTo>
                    <a:lnTo>
                      <a:pt x="279" y="337"/>
                    </a:lnTo>
                    <a:lnTo>
                      <a:pt x="278" y="341"/>
                    </a:lnTo>
                    <a:lnTo>
                      <a:pt x="276" y="346"/>
                    </a:lnTo>
                    <a:lnTo>
                      <a:pt x="273" y="350"/>
                    </a:lnTo>
                    <a:lnTo>
                      <a:pt x="269" y="352"/>
                    </a:lnTo>
                    <a:lnTo>
                      <a:pt x="262" y="356"/>
                    </a:lnTo>
                    <a:lnTo>
                      <a:pt x="255" y="359"/>
                    </a:lnTo>
                    <a:lnTo>
                      <a:pt x="246" y="362"/>
                    </a:lnTo>
                    <a:lnTo>
                      <a:pt x="236" y="363"/>
                    </a:lnTo>
                    <a:lnTo>
                      <a:pt x="222" y="364"/>
                    </a:lnTo>
                    <a:lnTo>
                      <a:pt x="197" y="366"/>
                    </a:lnTo>
                    <a:lnTo>
                      <a:pt x="178" y="367"/>
                    </a:lnTo>
                    <a:lnTo>
                      <a:pt x="163" y="367"/>
                    </a:lnTo>
                    <a:lnTo>
                      <a:pt x="156" y="367"/>
                    </a:lnTo>
                    <a:lnTo>
                      <a:pt x="150" y="366"/>
                    </a:lnTo>
                    <a:lnTo>
                      <a:pt x="145" y="364"/>
                    </a:lnTo>
                    <a:lnTo>
                      <a:pt x="138" y="362"/>
                    </a:lnTo>
                    <a:lnTo>
                      <a:pt x="133" y="358"/>
                    </a:lnTo>
                    <a:lnTo>
                      <a:pt x="126" y="352"/>
                    </a:lnTo>
                    <a:lnTo>
                      <a:pt x="113" y="339"/>
                    </a:lnTo>
                    <a:lnTo>
                      <a:pt x="97" y="320"/>
                    </a:lnTo>
                    <a:lnTo>
                      <a:pt x="46" y="251"/>
                    </a:lnTo>
                    <a:lnTo>
                      <a:pt x="31" y="231"/>
                    </a:lnTo>
                    <a:lnTo>
                      <a:pt x="27" y="225"/>
                    </a:lnTo>
                    <a:lnTo>
                      <a:pt x="26" y="219"/>
                    </a:lnTo>
                    <a:lnTo>
                      <a:pt x="25" y="217"/>
                    </a:lnTo>
                    <a:lnTo>
                      <a:pt x="23" y="214"/>
                    </a:lnTo>
                    <a:lnTo>
                      <a:pt x="19" y="207"/>
                    </a:lnTo>
                    <a:lnTo>
                      <a:pt x="15" y="198"/>
                    </a:lnTo>
                    <a:lnTo>
                      <a:pt x="10" y="188"/>
                    </a:lnTo>
                    <a:lnTo>
                      <a:pt x="5" y="176"/>
                    </a:lnTo>
                    <a:lnTo>
                      <a:pt x="1" y="163"/>
                    </a:lnTo>
                    <a:lnTo>
                      <a:pt x="0" y="155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31"/>
                    </a:lnTo>
                    <a:lnTo>
                      <a:pt x="5" y="99"/>
                    </a:lnTo>
                    <a:lnTo>
                      <a:pt x="7" y="76"/>
                    </a:lnTo>
                    <a:lnTo>
                      <a:pt x="10" y="62"/>
                    </a:lnTo>
                    <a:lnTo>
                      <a:pt x="11" y="57"/>
                    </a:lnTo>
                    <a:lnTo>
                      <a:pt x="14" y="61"/>
                    </a:lnTo>
                    <a:lnTo>
                      <a:pt x="17" y="65"/>
                    </a:lnTo>
                    <a:lnTo>
                      <a:pt x="19" y="69"/>
                    </a:lnTo>
                    <a:lnTo>
                      <a:pt x="25" y="73"/>
                    </a:lnTo>
                    <a:lnTo>
                      <a:pt x="30" y="76"/>
                    </a:lnTo>
                    <a:lnTo>
                      <a:pt x="33" y="77"/>
                    </a:lnTo>
                    <a:lnTo>
                      <a:pt x="36" y="77"/>
                    </a:lnTo>
                    <a:lnTo>
                      <a:pt x="44" y="77"/>
                    </a:lnTo>
                    <a:lnTo>
                      <a:pt x="50" y="77"/>
                    </a:lnTo>
                    <a:lnTo>
                      <a:pt x="54" y="74"/>
                    </a:lnTo>
                    <a:lnTo>
                      <a:pt x="58" y="72"/>
                    </a:lnTo>
                    <a:lnTo>
                      <a:pt x="63" y="68"/>
                    </a:lnTo>
                    <a:lnTo>
                      <a:pt x="72" y="58"/>
                    </a:lnTo>
                    <a:lnTo>
                      <a:pt x="80" y="48"/>
                    </a:lnTo>
                    <a:lnTo>
                      <a:pt x="87" y="39"/>
                    </a:lnTo>
                    <a:lnTo>
                      <a:pt x="93" y="29"/>
                    </a:lnTo>
                    <a:lnTo>
                      <a:pt x="97" y="21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543720" y="1098720"/>
                <a:ext cx="46080" cy="85680"/>
              </a:xfrm>
              <a:custGeom>
                <a:avLst/>
                <a:gdLst/>
                <a:ahLst/>
                <a:rect l="l" t="t" r="r" b="b"/>
                <a:pathLst>
                  <a:path w="90" h="169">
                    <a:moveTo>
                      <a:pt x="19" y="169"/>
                    </a:moveTo>
                    <a:lnTo>
                      <a:pt x="83" y="104"/>
                    </a:lnTo>
                    <a:lnTo>
                      <a:pt x="90" y="83"/>
                    </a:lnTo>
                    <a:lnTo>
                      <a:pt x="39" y="0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11" y="34"/>
                    </a:lnTo>
                    <a:lnTo>
                      <a:pt x="15" y="44"/>
                    </a:lnTo>
                    <a:lnTo>
                      <a:pt x="19" y="55"/>
                    </a:lnTo>
                    <a:lnTo>
                      <a:pt x="20" y="62"/>
                    </a:lnTo>
                    <a:lnTo>
                      <a:pt x="21" y="70"/>
                    </a:lnTo>
                    <a:lnTo>
                      <a:pt x="21" y="78"/>
                    </a:lnTo>
                    <a:lnTo>
                      <a:pt x="23" y="86"/>
                    </a:lnTo>
                    <a:lnTo>
                      <a:pt x="21" y="117"/>
                    </a:lnTo>
                    <a:lnTo>
                      <a:pt x="20" y="144"/>
                    </a:lnTo>
                    <a:lnTo>
                      <a:pt x="19" y="16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072120" y="1071720"/>
                <a:ext cx="311040" cy="156960"/>
              </a:xfrm>
              <a:custGeom>
                <a:avLst/>
                <a:gdLst/>
                <a:ahLst/>
                <a:rect l="l" t="t" r="r" b="b"/>
                <a:pathLst>
                  <a:path w="605" h="307">
                    <a:moveTo>
                      <a:pt x="80" y="290"/>
                    </a:moveTo>
                    <a:lnTo>
                      <a:pt x="22" y="290"/>
                    </a:lnTo>
                    <a:lnTo>
                      <a:pt x="15" y="274"/>
                    </a:lnTo>
                    <a:lnTo>
                      <a:pt x="11" y="268"/>
                    </a:lnTo>
                    <a:lnTo>
                      <a:pt x="7" y="260"/>
                    </a:lnTo>
                    <a:lnTo>
                      <a:pt x="4" y="252"/>
                    </a:lnTo>
                    <a:lnTo>
                      <a:pt x="1" y="244"/>
                    </a:lnTo>
                    <a:lnTo>
                      <a:pt x="0" y="236"/>
                    </a:lnTo>
                    <a:lnTo>
                      <a:pt x="0" y="227"/>
                    </a:lnTo>
                    <a:lnTo>
                      <a:pt x="0" y="207"/>
                    </a:lnTo>
                    <a:lnTo>
                      <a:pt x="5" y="208"/>
                    </a:lnTo>
                    <a:lnTo>
                      <a:pt x="9" y="211"/>
                    </a:lnTo>
                    <a:lnTo>
                      <a:pt x="13" y="212"/>
                    </a:lnTo>
                    <a:lnTo>
                      <a:pt x="17" y="215"/>
                    </a:lnTo>
                    <a:lnTo>
                      <a:pt x="22" y="222"/>
                    </a:lnTo>
                    <a:lnTo>
                      <a:pt x="28" y="231"/>
                    </a:lnTo>
                    <a:lnTo>
                      <a:pt x="33" y="220"/>
                    </a:lnTo>
                    <a:lnTo>
                      <a:pt x="37" y="210"/>
                    </a:lnTo>
                    <a:lnTo>
                      <a:pt x="40" y="199"/>
                    </a:lnTo>
                    <a:lnTo>
                      <a:pt x="44" y="190"/>
                    </a:lnTo>
                    <a:lnTo>
                      <a:pt x="46" y="186"/>
                    </a:lnTo>
                    <a:lnTo>
                      <a:pt x="48" y="182"/>
                    </a:lnTo>
                    <a:lnTo>
                      <a:pt x="50" y="178"/>
                    </a:lnTo>
                    <a:lnTo>
                      <a:pt x="53" y="175"/>
                    </a:lnTo>
                    <a:lnTo>
                      <a:pt x="57" y="173"/>
                    </a:lnTo>
                    <a:lnTo>
                      <a:pt x="61" y="171"/>
                    </a:lnTo>
                    <a:lnTo>
                      <a:pt x="65" y="170"/>
                    </a:lnTo>
                    <a:lnTo>
                      <a:pt x="70" y="169"/>
                    </a:lnTo>
                    <a:lnTo>
                      <a:pt x="141" y="169"/>
                    </a:lnTo>
                    <a:lnTo>
                      <a:pt x="142" y="165"/>
                    </a:lnTo>
                    <a:lnTo>
                      <a:pt x="145" y="161"/>
                    </a:lnTo>
                    <a:lnTo>
                      <a:pt x="146" y="157"/>
                    </a:lnTo>
                    <a:lnTo>
                      <a:pt x="146" y="152"/>
                    </a:lnTo>
                    <a:lnTo>
                      <a:pt x="146" y="150"/>
                    </a:lnTo>
                    <a:lnTo>
                      <a:pt x="146" y="149"/>
                    </a:lnTo>
                    <a:lnTo>
                      <a:pt x="144" y="146"/>
                    </a:lnTo>
                    <a:lnTo>
                      <a:pt x="141" y="144"/>
                    </a:lnTo>
                    <a:lnTo>
                      <a:pt x="139" y="141"/>
                    </a:lnTo>
                    <a:lnTo>
                      <a:pt x="139" y="121"/>
                    </a:lnTo>
                    <a:lnTo>
                      <a:pt x="141" y="121"/>
                    </a:lnTo>
                    <a:lnTo>
                      <a:pt x="145" y="120"/>
                    </a:lnTo>
                    <a:lnTo>
                      <a:pt x="148" y="119"/>
                    </a:lnTo>
                    <a:lnTo>
                      <a:pt x="152" y="119"/>
                    </a:lnTo>
                    <a:lnTo>
                      <a:pt x="156" y="119"/>
                    </a:lnTo>
                    <a:lnTo>
                      <a:pt x="158" y="120"/>
                    </a:lnTo>
                    <a:lnTo>
                      <a:pt x="162" y="121"/>
                    </a:lnTo>
                    <a:lnTo>
                      <a:pt x="165" y="124"/>
                    </a:lnTo>
                    <a:lnTo>
                      <a:pt x="170" y="128"/>
                    </a:lnTo>
                    <a:lnTo>
                      <a:pt x="177" y="133"/>
                    </a:lnTo>
                    <a:lnTo>
                      <a:pt x="178" y="127"/>
                    </a:lnTo>
                    <a:lnTo>
                      <a:pt x="178" y="120"/>
                    </a:lnTo>
                    <a:lnTo>
                      <a:pt x="178" y="113"/>
                    </a:lnTo>
                    <a:lnTo>
                      <a:pt x="178" y="108"/>
                    </a:lnTo>
                    <a:lnTo>
                      <a:pt x="177" y="96"/>
                    </a:lnTo>
                    <a:lnTo>
                      <a:pt x="177" y="83"/>
                    </a:lnTo>
                    <a:lnTo>
                      <a:pt x="193" y="84"/>
                    </a:lnTo>
                    <a:lnTo>
                      <a:pt x="207" y="84"/>
                    </a:lnTo>
                    <a:lnTo>
                      <a:pt x="239" y="83"/>
                    </a:lnTo>
                    <a:lnTo>
                      <a:pt x="239" y="28"/>
                    </a:lnTo>
                    <a:lnTo>
                      <a:pt x="243" y="22"/>
                    </a:lnTo>
                    <a:lnTo>
                      <a:pt x="247" y="20"/>
                    </a:lnTo>
                    <a:lnTo>
                      <a:pt x="252" y="17"/>
                    </a:lnTo>
                    <a:lnTo>
                      <a:pt x="257" y="16"/>
                    </a:lnTo>
                    <a:lnTo>
                      <a:pt x="261" y="16"/>
                    </a:lnTo>
                    <a:lnTo>
                      <a:pt x="265" y="17"/>
                    </a:lnTo>
                    <a:lnTo>
                      <a:pt x="266" y="20"/>
                    </a:lnTo>
                    <a:lnTo>
                      <a:pt x="268" y="22"/>
                    </a:lnTo>
                    <a:lnTo>
                      <a:pt x="269" y="26"/>
                    </a:lnTo>
                    <a:lnTo>
                      <a:pt x="269" y="30"/>
                    </a:lnTo>
                    <a:lnTo>
                      <a:pt x="268" y="41"/>
                    </a:lnTo>
                    <a:lnTo>
                      <a:pt x="266" y="51"/>
                    </a:lnTo>
                    <a:lnTo>
                      <a:pt x="265" y="63"/>
                    </a:lnTo>
                    <a:lnTo>
                      <a:pt x="265" y="74"/>
                    </a:lnTo>
                    <a:lnTo>
                      <a:pt x="265" y="79"/>
                    </a:lnTo>
                    <a:lnTo>
                      <a:pt x="266" y="83"/>
                    </a:lnTo>
                    <a:lnTo>
                      <a:pt x="272" y="92"/>
                    </a:lnTo>
                    <a:lnTo>
                      <a:pt x="278" y="99"/>
                    </a:lnTo>
                    <a:lnTo>
                      <a:pt x="281" y="103"/>
                    </a:lnTo>
                    <a:lnTo>
                      <a:pt x="284" y="105"/>
                    </a:lnTo>
                    <a:lnTo>
                      <a:pt x="292" y="111"/>
                    </a:lnTo>
                    <a:lnTo>
                      <a:pt x="307" y="119"/>
                    </a:lnTo>
                    <a:lnTo>
                      <a:pt x="315" y="124"/>
                    </a:lnTo>
                    <a:lnTo>
                      <a:pt x="324" y="131"/>
                    </a:lnTo>
                    <a:lnTo>
                      <a:pt x="328" y="124"/>
                    </a:lnTo>
                    <a:lnTo>
                      <a:pt x="330" y="117"/>
                    </a:lnTo>
                    <a:lnTo>
                      <a:pt x="331" y="111"/>
                    </a:lnTo>
                    <a:lnTo>
                      <a:pt x="330" y="103"/>
                    </a:lnTo>
                    <a:lnTo>
                      <a:pt x="384" y="103"/>
                    </a:lnTo>
                    <a:lnTo>
                      <a:pt x="392" y="103"/>
                    </a:lnTo>
                    <a:lnTo>
                      <a:pt x="398" y="100"/>
                    </a:lnTo>
                    <a:lnTo>
                      <a:pt x="404" y="96"/>
                    </a:lnTo>
                    <a:lnTo>
                      <a:pt x="409" y="92"/>
                    </a:lnTo>
                    <a:lnTo>
                      <a:pt x="412" y="86"/>
                    </a:lnTo>
                    <a:lnTo>
                      <a:pt x="415" y="79"/>
                    </a:lnTo>
                    <a:lnTo>
                      <a:pt x="419" y="65"/>
                    </a:lnTo>
                    <a:lnTo>
                      <a:pt x="423" y="47"/>
                    </a:lnTo>
                    <a:lnTo>
                      <a:pt x="426" y="38"/>
                    </a:lnTo>
                    <a:lnTo>
                      <a:pt x="429" y="30"/>
                    </a:lnTo>
                    <a:lnTo>
                      <a:pt x="431" y="22"/>
                    </a:lnTo>
                    <a:lnTo>
                      <a:pt x="435" y="13"/>
                    </a:lnTo>
                    <a:lnTo>
                      <a:pt x="439" y="7"/>
                    </a:lnTo>
                    <a:lnTo>
                      <a:pt x="444" y="0"/>
                    </a:lnTo>
                    <a:lnTo>
                      <a:pt x="448" y="3"/>
                    </a:lnTo>
                    <a:lnTo>
                      <a:pt x="450" y="7"/>
                    </a:lnTo>
                    <a:lnTo>
                      <a:pt x="452" y="9"/>
                    </a:lnTo>
                    <a:lnTo>
                      <a:pt x="454" y="13"/>
                    </a:lnTo>
                    <a:lnTo>
                      <a:pt x="455" y="18"/>
                    </a:lnTo>
                    <a:lnTo>
                      <a:pt x="455" y="22"/>
                    </a:lnTo>
                    <a:lnTo>
                      <a:pt x="456" y="32"/>
                    </a:lnTo>
                    <a:lnTo>
                      <a:pt x="456" y="36"/>
                    </a:lnTo>
                    <a:lnTo>
                      <a:pt x="455" y="41"/>
                    </a:lnTo>
                    <a:lnTo>
                      <a:pt x="452" y="49"/>
                    </a:lnTo>
                    <a:lnTo>
                      <a:pt x="450" y="57"/>
                    </a:lnTo>
                    <a:lnTo>
                      <a:pt x="446" y="65"/>
                    </a:lnTo>
                    <a:lnTo>
                      <a:pt x="442" y="71"/>
                    </a:lnTo>
                    <a:lnTo>
                      <a:pt x="439" y="79"/>
                    </a:lnTo>
                    <a:lnTo>
                      <a:pt x="437" y="87"/>
                    </a:lnTo>
                    <a:lnTo>
                      <a:pt x="437" y="92"/>
                    </a:lnTo>
                    <a:lnTo>
                      <a:pt x="437" y="96"/>
                    </a:lnTo>
                    <a:lnTo>
                      <a:pt x="437" y="100"/>
                    </a:lnTo>
                    <a:lnTo>
                      <a:pt x="438" y="103"/>
                    </a:lnTo>
                    <a:lnTo>
                      <a:pt x="439" y="105"/>
                    </a:lnTo>
                    <a:lnTo>
                      <a:pt x="441" y="108"/>
                    </a:lnTo>
                    <a:lnTo>
                      <a:pt x="443" y="109"/>
                    </a:lnTo>
                    <a:lnTo>
                      <a:pt x="447" y="111"/>
                    </a:lnTo>
                    <a:lnTo>
                      <a:pt x="454" y="112"/>
                    </a:lnTo>
                    <a:lnTo>
                      <a:pt x="468" y="115"/>
                    </a:lnTo>
                    <a:lnTo>
                      <a:pt x="476" y="116"/>
                    </a:lnTo>
                    <a:lnTo>
                      <a:pt x="484" y="119"/>
                    </a:lnTo>
                    <a:lnTo>
                      <a:pt x="492" y="123"/>
                    </a:lnTo>
                    <a:lnTo>
                      <a:pt x="499" y="128"/>
                    </a:lnTo>
                    <a:lnTo>
                      <a:pt x="504" y="133"/>
                    </a:lnTo>
                    <a:lnTo>
                      <a:pt x="509" y="138"/>
                    </a:lnTo>
                    <a:lnTo>
                      <a:pt x="520" y="150"/>
                    </a:lnTo>
                    <a:lnTo>
                      <a:pt x="525" y="157"/>
                    </a:lnTo>
                    <a:lnTo>
                      <a:pt x="530" y="164"/>
                    </a:lnTo>
                    <a:lnTo>
                      <a:pt x="541" y="173"/>
                    </a:lnTo>
                    <a:lnTo>
                      <a:pt x="553" y="179"/>
                    </a:lnTo>
                    <a:lnTo>
                      <a:pt x="574" y="191"/>
                    </a:lnTo>
                    <a:lnTo>
                      <a:pt x="583" y="198"/>
                    </a:lnTo>
                    <a:lnTo>
                      <a:pt x="592" y="206"/>
                    </a:lnTo>
                    <a:lnTo>
                      <a:pt x="596" y="211"/>
                    </a:lnTo>
                    <a:lnTo>
                      <a:pt x="600" y="215"/>
                    </a:lnTo>
                    <a:lnTo>
                      <a:pt x="603" y="222"/>
                    </a:lnTo>
                    <a:lnTo>
                      <a:pt x="605" y="228"/>
                    </a:lnTo>
                    <a:lnTo>
                      <a:pt x="601" y="228"/>
                    </a:lnTo>
                    <a:lnTo>
                      <a:pt x="599" y="231"/>
                    </a:lnTo>
                    <a:lnTo>
                      <a:pt x="596" y="232"/>
                    </a:lnTo>
                    <a:lnTo>
                      <a:pt x="592" y="233"/>
                    </a:lnTo>
                    <a:lnTo>
                      <a:pt x="584" y="232"/>
                    </a:lnTo>
                    <a:lnTo>
                      <a:pt x="580" y="231"/>
                    </a:lnTo>
                    <a:lnTo>
                      <a:pt x="576" y="229"/>
                    </a:lnTo>
                    <a:lnTo>
                      <a:pt x="570" y="226"/>
                    </a:lnTo>
                    <a:lnTo>
                      <a:pt x="563" y="220"/>
                    </a:lnTo>
                    <a:lnTo>
                      <a:pt x="558" y="216"/>
                    </a:lnTo>
                    <a:lnTo>
                      <a:pt x="551" y="211"/>
                    </a:lnTo>
                    <a:lnTo>
                      <a:pt x="547" y="210"/>
                    </a:lnTo>
                    <a:lnTo>
                      <a:pt x="543" y="208"/>
                    </a:lnTo>
                    <a:lnTo>
                      <a:pt x="539" y="208"/>
                    </a:lnTo>
                    <a:lnTo>
                      <a:pt x="535" y="207"/>
                    </a:lnTo>
                    <a:lnTo>
                      <a:pt x="532" y="208"/>
                    </a:lnTo>
                    <a:lnTo>
                      <a:pt x="529" y="210"/>
                    </a:lnTo>
                    <a:lnTo>
                      <a:pt x="525" y="212"/>
                    </a:lnTo>
                    <a:lnTo>
                      <a:pt x="522" y="214"/>
                    </a:lnTo>
                    <a:lnTo>
                      <a:pt x="526" y="222"/>
                    </a:lnTo>
                    <a:lnTo>
                      <a:pt x="530" y="228"/>
                    </a:lnTo>
                    <a:lnTo>
                      <a:pt x="533" y="231"/>
                    </a:lnTo>
                    <a:lnTo>
                      <a:pt x="534" y="235"/>
                    </a:lnTo>
                    <a:lnTo>
                      <a:pt x="535" y="239"/>
                    </a:lnTo>
                    <a:lnTo>
                      <a:pt x="537" y="243"/>
                    </a:lnTo>
                    <a:lnTo>
                      <a:pt x="537" y="307"/>
                    </a:lnTo>
                    <a:lnTo>
                      <a:pt x="530" y="302"/>
                    </a:lnTo>
                    <a:lnTo>
                      <a:pt x="524" y="297"/>
                    </a:lnTo>
                    <a:lnTo>
                      <a:pt x="520" y="290"/>
                    </a:lnTo>
                    <a:lnTo>
                      <a:pt x="516" y="284"/>
                    </a:lnTo>
                    <a:lnTo>
                      <a:pt x="513" y="277"/>
                    </a:lnTo>
                    <a:lnTo>
                      <a:pt x="512" y="269"/>
                    </a:lnTo>
                    <a:lnTo>
                      <a:pt x="508" y="252"/>
                    </a:lnTo>
                    <a:lnTo>
                      <a:pt x="497" y="261"/>
                    </a:lnTo>
                    <a:lnTo>
                      <a:pt x="487" y="270"/>
                    </a:lnTo>
                    <a:lnTo>
                      <a:pt x="477" y="280"/>
                    </a:lnTo>
                    <a:lnTo>
                      <a:pt x="468" y="287"/>
                    </a:lnTo>
                    <a:lnTo>
                      <a:pt x="464" y="291"/>
                    </a:lnTo>
                    <a:lnTo>
                      <a:pt x="459" y="294"/>
                    </a:lnTo>
                    <a:lnTo>
                      <a:pt x="448" y="301"/>
                    </a:lnTo>
                    <a:lnTo>
                      <a:pt x="443" y="302"/>
                    </a:lnTo>
                    <a:lnTo>
                      <a:pt x="437" y="303"/>
                    </a:lnTo>
                    <a:lnTo>
                      <a:pt x="430" y="305"/>
                    </a:lnTo>
                    <a:lnTo>
                      <a:pt x="423" y="305"/>
                    </a:lnTo>
                    <a:lnTo>
                      <a:pt x="417" y="303"/>
                    </a:lnTo>
                    <a:lnTo>
                      <a:pt x="414" y="303"/>
                    </a:lnTo>
                    <a:lnTo>
                      <a:pt x="412" y="301"/>
                    </a:lnTo>
                    <a:lnTo>
                      <a:pt x="409" y="299"/>
                    </a:lnTo>
                    <a:lnTo>
                      <a:pt x="408" y="297"/>
                    </a:lnTo>
                    <a:lnTo>
                      <a:pt x="406" y="294"/>
                    </a:lnTo>
                    <a:lnTo>
                      <a:pt x="406" y="290"/>
                    </a:lnTo>
                    <a:lnTo>
                      <a:pt x="406" y="286"/>
                    </a:lnTo>
                    <a:lnTo>
                      <a:pt x="408" y="282"/>
                    </a:lnTo>
                    <a:lnTo>
                      <a:pt x="409" y="278"/>
                    </a:lnTo>
                    <a:lnTo>
                      <a:pt x="412" y="276"/>
                    </a:lnTo>
                    <a:lnTo>
                      <a:pt x="414" y="273"/>
                    </a:lnTo>
                    <a:lnTo>
                      <a:pt x="418" y="272"/>
                    </a:lnTo>
                    <a:lnTo>
                      <a:pt x="425" y="268"/>
                    </a:lnTo>
                    <a:lnTo>
                      <a:pt x="443" y="260"/>
                    </a:lnTo>
                    <a:lnTo>
                      <a:pt x="451" y="256"/>
                    </a:lnTo>
                    <a:lnTo>
                      <a:pt x="455" y="253"/>
                    </a:lnTo>
                    <a:lnTo>
                      <a:pt x="459" y="249"/>
                    </a:lnTo>
                    <a:lnTo>
                      <a:pt x="459" y="196"/>
                    </a:lnTo>
                    <a:lnTo>
                      <a:pt x="471" y="186"/>
                    </a:lnTo>
                    <a:lnTo>
                      <a:pt x="477" y="182"/>
                    </a:lnTo>
                    <a:lnTo>
                      <a:pt x="484" y="178"/>
                    </a:lnTo>
                    <a:lnTo>
                      <a:pt x="484" y="161"/>
                    </a:lnTo>
                    <a:lnTo>
                      <a:pt x="464" y="161"/>
                    </a:lnTo>
                    <a:lnTo>
                      <a:pt x="430" y="178"/>
                    </a:lnTo>
                    <a:lnTo>
                      <a:pt x="419" y="171"/>
                    </a:lnTo>
                    <a:lnTo>
                      <a:pt x="409" y="166"/>
                    </a:lnTo>
                    <a:lnTo>
                      <a:pt x="404" y="173"/>
                    </a:lnTo>
                    <a:lnTo>
                      <a:pt x="401" y="175"/>
                    </a:lnTo>
                    <a:lnTo>
                      <a:pt x="400" y="177"/>
                    </a:lnTo>
                    <a:lnTo>
                      <a:pt x="400" y="179"/>
                    </a:lnTo>
                    <a:lnTo>
                      <a:pt x="400" y="183"/>
                    </a:lnTo>
                    <a:lnTo>
                      <a:pt x="401" y="186"/>
                    </a:lnTo>
                    <a:lnTo>
                      <a:pt x="404" y="191"/>
                    </a:lnTo>
                    <a:lnTo>
                      <a:pt x="408" y="198"/>
                    </a:lnTo>
                    <a:lnTo>
                      <a:pt x="408" y="200"/>
                    </a:lnTo>
                    <a:lnTo>
                      <a:pt x="409" y="204"/>
                    </a:lnTo>
                    <a:lnTo>
                      <a:pt x="409" y="224"/>
                    </a:lnTo>
                    <a:lnTo>
                      <a:pt x="405" y="226"/>
                    </a:lnTo>
                    <a:lnTo>
                      <a:pt x="404" y="226"/>
                    </a:lnTo>
                    <a:lnTo>
                      <a:pt x="401" y="227"/>
                    </a:lnTo>
                    <a:lnTo>
                      <a:pt x="398" y="228"/>
                    </a:lnTo>
                    <a:lnTo>
                      <a:pt x="392" y="227"/>
                    </a:lnTo>
                    <a:lnTo>
                      <a:pt x="386" y="226"/>
                    </a:lnTo>
                    <a:lnTo>
                      <a:pt x="381" y="224"/>
                    </a:lnTo>
                    <a:lnTo>
                      <a:pt x="377" y="222"/>
                    </a:lnTo>
                    <a:lnTo>
                      <a:pt x="368" y="216"/>
                    </a:lnTo>
                    <a:lnTo>
                      <a:pt x="359" y="211"/>
                    </a:lnTo>
                    <a:lnTo>
                      <a:pt x="351" y="204"/>
                    </a:lnTo>
                    <a:lnTo>
                      <a:pt x="342" y="199"/>
                    </a:lnTo>
                    <a:lnTo>
                      <a:pt x="338" y="196"/>
                    </a:lnTo>
                    <a:lnTo>
                      <a:pt x="332" y="195"/>
                    </a:lnTo>
                    <a:lnTo>
                      <a:pt x="327" y="194"/>
                    </a:lnTo>
                    <a:lnTo>
                      <a:pt x="321" y="194"/>
                    </a:lnTo>
                    <a:lnTo>
                      <a:pt x="231" y="194"/>
                    </a:lnTo>
                    <a:lnTo>
                      <a:pt x="219" y="195"/>
                    </a:lnTo>
                    <a:lnTo>
                      <a:pt x="212" y="196"/>
                    </a:lnTo>
                    <a:lnTo>
                      <a:pt x="207" y="198"/>
                    </a:lnTo>
                    <a:lnTo>
                      <a:pt x="197" y="203"/>
                    </a:lnTo>
                    <a:lnTo>
                      <a:pt x="187" y="210"/>
                    </a:lnTo>
                    <a:lnTo>
                      <a:pt x="179" y="216"/>
                    </a:lnTo>
                    <a:lnTo>
                      <a:pt x="171" y="224"/>
                    </a:lnTo>
                    <a:lnTo>
                      <a:pt x="156" y="243"/>
                    </a:lnTo>
                    <a:lnTo>
                      <a:pt x="140" y="260"/>
                    </a:lnTo>
                    <a:lnTo>
                      <a:pt x="132" y="268"/>
                    </a:lnTo>
                    <a:lnTo>
                      <a:pt x="123" y="276"/>
                    </a:lnTo>
                    <a:lnTo>
                      <a:pt x="113" y="282"/>
                    </a:lnTo>
                    <a:lnTo>
                      <a:pt x="110" y="285"/>
                    </a:lnTo>
                    <a:lnTo>
                      <a:pt x="104" y="286"/>
                    </a:lnTo>
                    <a:lnTo>
                      <a:pt x="98" y="289"/>
                    </a:lnTo>
                    <a:lnTo>
                      <a:pt x="92" y="290"/>
                    </a:lnTo>
                    <a:lnTo>
                      <a:pt x="87" y="290"/>
                    </a:lnTo>
                    <a:lnTo>
                      <a:pt x="80" y="29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153120" y="1236960"/>
                <a:ext cx="162000" cy="198360"/>
              </a:xfrm>
              <a:custGeom>
                <a:avLst/>
                <a:gdLst/>
                <a:ahLst/>
                <a:rect l="l" t="t" r="r" b="b"/>
                <a:pathLst>
                  <a:path w="311" h="384">
                    <a:moveTo>
                      <a:pt x="283" y="95"/>
                    </a:moveTo>
                    <a:lnTo>
                      <a:pt x="280" y="93"/>
                    </a:lnTo>
                    <a:lnTo>
                      <a:pt x="277" y="92"/>
                    </a:lnTo>
                    <a:lnTo>
                      <a:pt x="269" y="89"/>
                    </a:lnTo>
                    <a:lnTo>
                      <a:pt x="257" y="82"/>
                    </a:lnTo>
                    <a:lnTo>
                      <a:pt x="252" y="78"/>
                    </a:lnTo>
                    <a:lnTo>
                      <a:pt x="245" y="75"/>
                    </a:lnTo>
                    <a:lnTo>
                      <a:pt x="239" y="72"/>
                    </a:lnTo>
                    <a:lnTo>
                      <a:pt x="232" y="72"/>
                    </a:lnTo>
                    <a:lnTo>
                      <a:pt x="225" y="72"/>
                    </a:lnTo>
                    <a:lnTo>
                      <a:pt x="220" y="74"/>
                    </a:lnTo>
                    <a:lnTo>
                      <a:pt x="215" y="76"/>
                    </a:lnTo>
                    <a:lnTo>
                      <a:pt x="210" y="79"/>
                    </a:lnTo>
                    <a:lnTo>
                      <a:pt x="206" y="83"/>
                    </a:lnTo>
                    <a:lnTo>
                      <a:pt x="202" y="88"/>
                    </a:lnTo>
                    <a:lnTo>
                      <a:pt x="195" y="97"/>
                    </a:lnTo>
                    <a:lnTo>
                      <a:pt x="190" y="92"/>
                    </a:lnTo>
                    <a:lnTo>
                      <a:pt x="187" y="87"/>
                    </a:lnTo>
                    <a:lnTo>
                      <a:pt x="185" y="82"/>
                    </a:lnTo>
                    <a:lnTo>
                      <a:pt x="185" y="79"/>
                    </a:lnTo>
                    <a:lnTo>
                      <a:pt x="183" y="75"/>
                    </a:lnTo>
                    <a:lnTo>
                      <a:pt x="185" y="71"/>
                    </a:lnTo>
                    <a:lnTo>
                      <a:pt x="185" y="68"/>
                    </a:lnTo>
                    <a:lnTo>
                      <a:pt x="186" y="66"/>
                    </a:lnTo>
                    <a:lnTo>
                      <a:pt x="187" y="63"/>
                    </a:lnTo>
                    <a:lnTo>
                      <a:pt x="191" y="59"/>
                    </a:lnTo>
                    <a:lnTo>
                      <a:pt x="196" y="55"/>
                    </a:lnTo>
                    <a:lnTo>
                      <a:pt x="200" y="51"/>
                    </a:lnTo>
                    <a:lnTo>
                      <a:pt x="204" y="46"/>
                    </a:lnTo>
                    <a:lnTo>
                      <a:pt x="207" y="41"/>
                    </a:lnTo>
                    <a:lnTo>
                      <a:pt x="208" y="38"/>
                    </a:lnTo>
                    <a:lnTo>
                      <a:pt x="208" y="35"/>
                    </a:lnTo>
                    <a:lnTo>
                      <a:pt x="208" y="31"/>
                    </a:lnTo>
                    <a:lnTo>
                      <a:pt x="208" y="27"/>
                    </a:lnTo>
                    <a:lnTo>
                      <a:pt x="206" y="21"/>
                    </a:lnTo>
                    <a:lnTo>
                      <a:pt x="202" y="14"/>
                    </a:lnTo>
                    <a:lnTo>
                      <a:pt x="199" y="12"/>
                    </a:lnTo>
                    <a:lnTo>
                      <a:pt x="196" y="10"/>
                    </a:lnTo>
                    <a:lnTo>
                      <a:pt x="192" y="8"/>
                    </a:lnTo>
                    <a:lnTo>
                      <a:pt x="190" y="6"/>
                    </a:lnTo>
                    <a:lnTo>
                      <a:pt x="183" y="2"/>
                    </a:lnTo>
                    <a:lnTo>
                      <a:pt x="179" y="1"/>
                    </a:lnTo>
                    <a:lnTo>
                      <a:pt x="175" y="1"/>
                    </a:lnTo>
                    <a:lnTo>
                      <a:pt x="167" y="0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56" y="2"/>
                    </a:lnTo>
                    <a:lnTo>
                      <a:pt x="153" y="5"/>
                    </a:lnTo>
                    <a:lnTo>
                      <a:pt x="149" y="8"/>
                    </a:lnTo>
                    <a:lnTo>
                      <a:pt x="148" y="9"/>
                    </a:lnTo>
                    <a:lnTo>
                      <a:pt x="146" y="10"/>
                    </a:lnTo>
                    <a:lnTo>
                      <a:pt x="142" y="17"/>
                    </a:lnTo>
                    <a:lnTo>
                      <a:pt x="138" y="25"/>
                    </a:lnTo>
                    <a:lnTo>
                      <a:pt x="137" y="29"/>
                    </a:lnTo>
                    <a:lnTo>
                      <a:pt x="136" y="33"/>
                    </a:lnTo>
                    <a:lnTo>
                      <a:pt x="134" y="42"/>
                    </a:lnTo>
                    <a:lnTo>
                      <a:pt x="134" y="51"/>
                    </a:lnTo>
                    <a:lnTo>
                      <a:pt x="91" y="51"/>
                    </a:lnTo>
                    <a:lnTo>
                      <a:pt x="91" y="87"/>
                    </a:lnTo>
                    <a:lnTo>
                      <a:pt x="91" y="93"/>
                    </a:lnTo>
                    <a:lnTo>
                      <a:pt x="92" y="100"/>
                    </a:lnTo>
                    <a:lnTo>
                      <a:pt x="95" y="112"/>
                    </a:lnTo>
                    <a:lnTo>
                      <a:pt x="96" y="124"/>
                    </a:lnTo>
                    <a:lnTo>
                      <a:pt x="98" y="130"/>
                    </a:lnTo>
                    <a:lnTo>
                      <a:pt x="98" y="137"/>
                    </a:lnTo>
                    <a:lnTo>
                      <a:pt x="98" y="141"/>
                    </a:lnTo>
                    <a:lnTo>
                      <a:pt x="96" y="145"/>
                    </a:lnTo>
                    <a:lnTo>
                      <a:pt x="95" y="149"/>
                    </a:lnTo>
                    <a:lnTo>
                      <a:pt x="94" y="151"/>
                    </a:lnTo>
                    <a:lnTo>
                      <a:pt x="92" y="154"/>
                    </a:lnTo>
                    <a:lnTo>
                      <a:pt x="90" y="158"/>
                    </a:lnTo>
                    <a:lnTo>
                      <a:pt x="84" y="162"/>
                    </a:lnTo>
                    <a:lnTo>
                      <a:pt x="71" y="171"/>
                    </a:lnTo>
                    <a:lnTo>
                      <a:pt x="65" y="178"/>
                    </a:lnTo>
                    <a:lnTo>
                      <a:pt x="59" y="183"/>
                    </a:lnTo>
                    <a:lnTo>
                      <a:pt x="57" y="190"/>
                    </a:lnTo>
                    <a:lnTo>
                      <a:pt x="54" y="195"/>
                    </a:lnTo>
                    <a:lnTo>
                      <a:pt x="53" y="202"/>
                    </a:lnTo>
                    <a:lnTo>
                      <a:pt x="51" y="208"/>
                    </a:lnTo>
                    <a:lnTo>
                      <a:pt x="50" y="220"/>
                    </a:lnTo>
                    <a:lnTo>
                      <a:pt x="49" y="227"/>
                    </a:lnTo>
                    <a:lnTo>
                      <a:pt x="45" y="233"/>
                    </a:lnTo>
                    <a:lnTo>
                      <a:pt x="38" y="244"/>
                    </a:lnTo>
                    <a:lnTo>
                      <a:pt x="30" y="253"/>
                    </a:lnTo>
                    <a:lnTo>
                      <a:pt x="16" y="271"/>
                    </a:lnTo>
                    <a:lnTo>
                      <a:pt x="10" y="279"/>
                    </a:lnTo>
                    <a:lnTo>
                      <a:pt x="8" y="285"/>
                    </a:lnTo>
                    <a:lnTo>
                      <a:pt x="5" y="290"/>
                    </a:lnTo>
                    <a:lnTo>
                      <a:pt x="3" y="295"/>
                    </a:lnTo>
                    <a:lnTo>
                      <a:pt x="1" y="300"/>
                    </a:lnTo>
                    <a:lnTo>
                      <a:pt x="1" y="307"/>
                    </a:lnTo>
                    <a:lnTo>
                      <a:pt x="0" y="312"/>
                    </a:lnTo>
                    <a:lnTo>
                      <a:pt x="1" y="323"/>
                    </a:lnTo>
                    <a:lnTo>
                      <a:pt x="3" y="332"/>
                    </a:lnTo>
                    <a:lnTo>
                      <a:pt x="5" y="340"/>
                    </a:lnTo>
                    <a:lnTo>
                      <a:pt x="8" y="348"/>
                    </a:lnTo>
                    <a:lnTo>
                      <a:pt x="13" y="365"/>
                    </a:lnTo>
                    <a:lnTo>
                      <a:pt x="14" y="374"/>
                    </a:lnTo>
                    <a:lnTo>
                      <a:pt x="14" y="384"/>
                    </a:lnTo>
                    <a:lnTo>
                      <a:pt x="16" y="377"/>
                    </a:lnTo>
                    <a:lnTo>
                      <a:pt x="18" y="372"/>
                    </a:lnTo>
                    <a:lnTo>
                      <a:pt x="21" y="365"/>
                    </a:lnTo>
                    <a:lnTo>
                      <a:pt x="25" y="361"/>
                    </a:lnTo>
                    <a:lnTo>
                      <a:pt x="34" y="352"/>
                    </a:lnTo>
                    <a:lnTo>
                      <a:pt x="46" y="344"/>
                    </a:lnTo>
                    <a:lnTo>
                      <a:pt x="57" y="337"/>
                    </a:lnTo>
                    <a:lnTo>
                      <a:pt x="66" y="328"/>
                    </a:lnTo>
                    <a:lnTo>
                      <a:pt x="70" y="323"/>
                    </a:lnTo>
                    <a:lnTo>
                      <a:pt x="72" y="318"/>
                    </a:lnTo>
                    <a:lnTo>
                      <a:pt x="74" y="312"/>
                    </a:lnTo>
                    <a:lnTo>
                      <a:pt x="75" y="304"/>
                    </a:lnTo>
                    <a:lnTo>
                      <a:pt x="75" y="302"/>
                    </a:lnTo>
                    <a:lnTo>
                      <a:pt x="74" y="298"/>
                    </a:lnTo>
                    <a:lnTo>
                      <a:pt x="72" y="295"/>
                    </a:lnTo>
                    <a:lnTo>
                      <a:pt x="71" y="293"/>
                    </a:lnTo>
                    <a:lnTo>
                      <a:pt x="67" y="287"/>
                    </a:lnTo>
                    <a:lnTo>
                      <a:pt x="62" y="282"/>
                    </a:lnTo>
                    <a:lnTo>
                      <a:pt x="57" y="277"/>
                    </a:lnTo>
                    <a:lnTo>
                      <a:pt x="53" y="271"/>
                    </a:lnTo>
                    <a:lnTo>
                      <a:pt x="49" y="266"/>
                    </a:lnTo>
                    <a:lnTo>
                      <a:pt x="49" y="262"/>
                    </a:lnTo>
                    <a:lnTo>
                      <a:pt x="49" y="258"/>
                    </a:lnTo>
                    <a:lnTo>
                      <a:pt x="49" y="253"/>
                    </a:lnTo>
                    <a:lnTo>
                      <a:pt x="51" y="246"/>
                    </a:lnTo>
                    <a:lnTo>
                      <a:pt x="54" y="242"/>
                    </a:lnTo>
                    <a:lnTo>
                      <a:pt x="58" y="237"/>
                    </a:lnTo>
                    <a:lnTo>
                      <a:pt x="67" y="229"/>
                    </a:lnTo>
                    <a:lnTo>
                      <a:pt x="71" y="224"/>
                    </a:lnTo>
                    <a:lnTo>
                      <a:pt x="75" y="219"/>
                    </a:lnTo>
                    <a:lnTo>
                      <a:pt x="78" y="215"/>
                    </a:lnTo>
                    <a:lnTo>
                      <a:pt x="79" y="209"/>
                    </a:lnTo>
                    <a:lnTo>
                      <a:pt x="80" y="200"/>
                    </a:lnTo>
                    <a:lnTo>
                      <a:pt x="83" y="196"/>
                    </a:lnTo>
                    <a:lnTo>
                      <a:pt x="84" y="192"/>
                    </a:lnTo>
                    <a:lnTo>
                      <a:pt x="88" y="190"/>
                    </a:lnTo>
                    <a:lnTo>
                      <a:pt x="92" y="190"/>
                    </a:lnTo>
                    <a:lnTo>
                      <a:pt x="94" y="190"/>
                    </a:lnTo>
                    <a:lnTo>
                      <a:pt x="95" y="191"/>
                    </a:lnTo>
                    <a:lnTo>
                      <a:pt x="96" y="192"/>
                    </a:lnTo>
                    <a:lnTo>
                      <a:pt x="98" y="194"/>
                    </a:lnTo>
                    <a:lnTo>
                      <a:pt x="100" y="196"/>
                    </a:lnTo>
                    <a:lnTo>
                      <a:pt x="101" y="198"/>
                    </a:lnTo>
                    <a:lnTo>
                      <a:pt x="104" y="198"/>
                    </a:lnTo>
                    <a:lnTo>
                      <a:pt x="113" y="196"/>
                    </a:lnTo>
                    <a:lnTo>
                      <a:pt x="117" y="195"/>
                    </a:lnTo>
                    <a:lnTo>
                      <a:pt x="121" y="194"/>
                    </a:lnTo>
                    <a:lnTo>
                      <a:pt x="128" y="190"/>
                    </a:lnTo>
                    <a:lnTo>
                      <a:pt x="136" y="184"/>
                    </a:lnTo>
                    <a:lnTo>
                      <a:pt x="142" y="180"/>
                    </a:lnTo>
                    <a:lnTo>
                      <a:pt x="149" y="176"/>
                    </a:lnTo>
                    <a:lnTo>
                      <a:pt x="153" y="174"/>
                    </a:lnTo>
                    <a:lnTo>
                      <a:pt x="158" y="174"/>
                    </a:lnTo>
                    <a:lnTo>
                      <a:pt x="167" y="173"/>
                    </a:lnTo>
                    <a:lnTo>
                      <a:pt x="175" y="173"/>
                    </a:lnTo>
                    <a:lnTo>
                      <a:pt x="183" y="175"/>
                    </a:lnTo>
                    <a:lnTo>
                      <a:pt x="186" y="176"/>
                    </a:lnTo>
                    <a:lnTo>
                      <a:pt x="190" y="178"/>
                    </a:lnTo>
                    <a:lnTo>
                      <a:pt x="196" y="182"/>
                    </a:lnTo>
                    <a:lnTo>
                      <a:pt x="202" y="186"/>
                    </a:lnTo>
                    <a:lnTo>
                      <a:pt x="207" y="192"/>
                    </a:lnTo>
                    <a:lnTo>
                      <a:pt x="212" y="198"/>
                    </a:lnTo>
                    <a:lnTo>
                      <a:pt x="216" y="205"/>
                    </a:lnTo>
                    <a:lnTo>
                      <a:pt x="220" y="212"/>
                    </a:lnTo>
                    <a:lnTo>
                      <a:pt x="223" y="220"/>
                    </a:lnTo>
                    <a:lnTo>
                      <a:pt x="225" y="229"/>
                    </a:lnTo>
                    <a:lnTo>
                      <a:pt x="228" y="237"/>
                    </a:lnTo>
                    <a:lnTo>
                      <a:pt x="229" y="246"/>
                    </a:lnTo>
                    <a:lnTo>
                      <a:pt x="231" y="254"/>
                    </a:lnTo>
                    <a:lnTo>
                      <a:pt x="232" y="273"/>
                    </a:lnTo>
                    <a:lnTo>
                      <a:pt x="236" y="267"/>
                    </a:lnTo>
                    <a:lnTo>
                      <a:pt x="241" y="264"/>
                    </a:lnTo>
                    <a:lnTo>
                      <a:pt x="244" y="258"/>
                    </a:lnTo>
                    <a:lnTo>
                      <a:pt x="248" y="253"/>
                    </a:lnTo>
                    <a:lnTo>
                      <a:pt x="249" y="248"/>
                    </a:lnTo>
                    <a:lnTo>
                      <a:pt x="252" y="242"/>
                    </a:lnTo>
                    <a:lnTo>
                      <a:pt x="252" y="236"/>
                    </a:lnTo>
                    <a:lnTo>
                      <a:pt x="253" y="229"/>
                    </a:lnTo>
                    <a:lnTo>
                      <a:pt x="252" y="223"/>
                    </a:lnTo>
                    <a:lnTo>
                      <a:pt x="252" y="217"/>
                    </a:lnTo>
                    <a:lnTo>
                      <a:pt x="249" y="207"/>
                    </a:lnTo>
                    <a:lnTo>
                      <a:pt x="247" y="196"/>
                    </a:lnTo>
                    <a:lnTo>
                      <a:pt x="247" y="190"/>
                    </a:lnTo>
                    <a:lnTo>
                      <a:pt x="245" y="183"/>
                    </a:lnTo>
                    <a:lnTo>
                      <a:pt x="247" y="178"/>
                    </a:lnTo>
                    <a:lnTo>
                      <a:pt x="248" y="175"/>
                    </a:lnTo>
                    <a:lnTo>
                      <a:pt x="248" y="173"/>
                    </a:lnTo>
                    <a:lnTo>
                      <a:pt x="252" y="167"/>
                    </a:lnTo>
                    <a:lnTo>
                      <a:pt x="256" y="165"/>
                    </a:lnTo>
                    <a:lnTo>
                      <a:pt x="261" y="161"/>
                    </a:lnTo>
                    <a:lnTo>
                      <a:pt x="266" y="158"/>
                    </a:lnTo>
                    <a:lnTo>
                      <a:pt x="278" y="153"/>
                    </a:lnTo>
                    <a:lnTo>
                      <a:pt x="290" y="147"/>
                    </a:lnTo>
                    <a:lnTo>
                      <a:pt x="301" y="141"/>
                    </a:lnTo>
                    <a:lnTo>
                      <a:pt x="305" y="137"/>
                    </a:lnTo>
                    <a:lnTo>
                      <a:pt x="309" y="133"/>
                    </a:lnTo>
                    <a:lnTo>
                      <a:pt x="310" y="130"/>
                    </a:lnTo>
                    <a:lnTo>
                      <a:pt x="310" y="128"/>
                    </a:lnTo>
                    <a:lnTo>
                      <a:pt x="311" y="121"/>
                    </a:lnTo>
                    <a:lnTo>
                      <a:pt x="283" y="9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087960" y="1300320"/>
                <a:ext cx="81000" cy="106200"/>
              </a:xfrm>
              <a:custGeom>
                <a:avLst/>
                <a:gdLst/>
                <a:ahLst/>
                <a:rect l="l" t="t" r="r" b="b"/>
                <a:pathLst>
                  <a:path w="159" h="206">
                    <a:moveTo>
                      <a:pt x="14" y="64"/>
                    </a:moveTo>
                    <a:lnTo>
                      <a:pt x="16" y="68"/>
                    </a:lnTo>
                    <a:lnTo>
                      <a:pt x="16" y="70"/>
                    </a:lnTo>
                    <a:lnTo>
                      <a:pt x="18" y="77"/>
                    </a:lnTo>
                    <a:lnTo>
                      <a:pt x="19" y="82"/>
                    </a:lnTo>
                    <a:lnTo>
                      <a:pt x="21" y="85"/>
                    </a:lnTo>
                    <a:lnTo>
                      <a:pt x="21" y="89"/>
                    </a:lnTo>
                    <a:lnTo>
                      <a:pt x="21" y="94"/>
                    </a:lnTo>
                    <a:lnTo>
                      <a:pt x="19" y="99"/>
                    </a:lnTo>
                    <a:lnTo>
                      <a:pt x="17" y="107"/>
                    </a:lnTo>
                    <a:lnTo>
                      <a:pt x="14" y="116"/>
                    </a:lnTo>
                    <a:lnTo>
                      <a:pt x="10" y="124"/>
                    </a:lnTo>
                    <a:lnTo>
                      <a:pt x="6" y="131"/>
                    </a:lnTo>
                    <a:lnTo>
                      <a:pt x="2" y="140"/>
                    </a:lnTo>
                    <a:lnTo>
                      <a:pt x="1" y="144"/>
                    </a:lnTo>
                    <a:lnTo>
                      <a:pt x="0" y="148"/>
                    </a:lnTo>
                    <a:lnTo>
                      <a:pt x="0" y="153"/>
                    </a:lnTo>
                    <a:lnTo>
                      <a:pt x="0" y="159"/>
                    </a:lnTo>
                    <a:lnTo>
                      <a:pt x="0" y="167"/>
                    </a:lnTo>
                    <a:lnTo>
                      <a:pt x="1" y="174"/>
                    </a:lnTo>
                    <a:lnTo>
                      <a:pt x="4" y="181"/>
                    </a:lnTo>
                    <a:lnTo>
                      <a:pt x="8" y="188"/>
                    </a:lnTo>
                    <a:lnTo>
                      <a:pt x="13" y="193"/>
                    </a:lnTo>
                    <a:lnTo>
                      <a:pt x="18" y="198"/>
                    </a:lnTo>
                    <a:lnTo>
                      <a:pt x="25" y="202"/>
                    </a:lnTo>
                    <a:lnTo>
                      <a:pt x="31" y="206"/>
                    </a:lnTo>
                    <a:lnTo>
                      <a:pt x="38" y="196"/>
                    </a:lnTo>
                    <a:lnTo>
                      <a:pt x="42" y="184"/>
                    </a:lnTo>
                    <a:lnTo>
                      <a:pt x="46" y="173"/>
                    </a:lnTo>
                    <a:lnTo>
                      <a:pt x="48" y="163"/>
                    </a:lnTo>
                    <a:lnTo>
                      <a:pt x="52" y="140"/>
                    </a:lnTo>
                    <a:lnTo>
                      <a:pt x="56" y="119"/>
                    </a:lnTo>
                    <a:lnTo>
                      <a:pt x="59" y="109"/>
                    </a:lnTo>
                    <a:lnTo>
                      <a:pt x="62" y="99"/>
                    </a:lnTo>
                    <a:lnTo>
                      <a:pt x="64" y="89"/>
                    </a:lnTo>
                    <a:lnTo>
                      <a:pt x="68" y="80"/>
                    </a:lnTo>
                    <a:lnTo>
                      <a:pt x="72" y="69"/>
                    </a:lnTo>
                    <a:lnTo>
                      <a:pt x="79" y="60"/>
                    </a:lnTo>
                    <a:lnTo>
                      <a:pt x="81" y="54"/>
                    </a:lnTo>
                    <a:lnTo>
                      <a:pt x="85" y="51"/>
                    </a:lnTo>
                    <a:lnTo>
                      <a:pt x="93" y="41"/>
                    </a:lnTo>
                    <a:lnTo>
                      <a:pt x="97" y="37"/>
                    </a:lnTo>
                    <a:lnTo>
                      <a:pt x="103" y="35"/>
                    </a:lnTo>
                    <a:lnTo>
                      <a:pt x="112" y="31"/>
                    </a:lnTo>
                    <a:lnTo>
                      <a:pt x="121" y="28"/>
                    </a:lnTo>
                    <a:lnTo>
                      <a:pt x="130" y="25"/>
                    </a:lnTo>
                    <a:lnTo>
                      <a:pt x="139" y="23"/>
                    </a:lnTo>
                    <a:lnTo>
                      <a:pt x="143" y="20"/>
                    </a:lnTo>
                    <a:lnTo>
                      <a:pt x="147" y="19"/>
                    </a:lnTo>
                    <a:lnTo>
                      <a:pt x="151" y="15"/>
                    </a:lnTo>
                    <a:lnTo>
                      <a:pt x="154" y="12"/>
                    </a:lnTo>
                    <a:lnTo>
                      <a:pt x="157" y="8"/>
                    </a:lnTo>
                    <a:lnTo>
                      <a:pt x="159" y="3"/>
                    </a:lnTo>
                    <a:lnTo>
                      <a:pt x="154" y="2"/>
                    </a:lnTo>
                    <a:lnTo>
                      <a:pt x="149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6" y="2"/>
                    </a:lnTo>
                    <a:lnTo>
                      <a:pt x="132" y="3"/>
                    </a:lnTo>
                    <a:lnTo>
                      <a:pt x="124" y="7"/>
                    </a:lnTo>
                    <a:lnTo>
                      <a:pt x="108" y="19"/>
                    </a:lnTo>
                    <a:lnTo>
                      <a:pt x="100" y="25"/>
                    </a:lnTo>
                    <a:lnTo>
                      <a:pt x="91" y="31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9"/>
                    </a:lnTo>
                    <a:lnTo>
                      <a:pt x="68" y="40"/>
                    </a:lnTo>
                    <a:lnTo>
                      <a:pt x="43" y="43"/>
                    </a:lnTo>
                    <a:lnTo>
                      <a:pt x="37" y="43"/>
                    </a:lnTo>
                    <a:lnTo>
                      <a:pt x="31" y="44"/>
                    </a:lnTo>
                    <a:lnTo>
                      <a:pt x="27" y="45"/>
                    </a:lnTo>
                    <a:lnTo>
                      <a:pt x="23" y="48"/>
                    </a:lnTo>
                    <a:lnTo>
                      <a:pt x="19" y="51"/>
                    </a:lnTo>
                    <a:lnTo>
                      <a:pt x="17" y="54"/>
                    </a:lnTo>
                    <a:lnTo>
                      <a:pt x="16" y="58"/>
                    </a:lnTo>
                    <a:lnTo>
                      <a:pt x="14" y="6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423120" y="1708200"/>
                <a:ext cx="439560" cy="984240"/>
              </a:xfrm>
              <a:custGeom>
                <a:avLst/>
                <a:gdLst/>
                <a:ahLst/>
                <a:rect l="l" t="t" r="r" b="b"/>
                <a:pathLst>
                  <a:path w="853" h="1907">
                    <a:moveTo>
                      <a:pt x="75" y="0"/>
                    </a:moveTo>
                    <a:lnTo>
                      <a:pt x="82" y="0"/>
                    </a:lnTo>
                    <a:lnTo>
                      <a:pt x="87" y="1"/>
                    </a:lnTo>
                    <a:lnTo>
                      <a:pt x="100" y="3"/>
                    </a:lnTo>
                    <a:lnTo>
                      <a:pt x="55" y="3"/>
                    </a:lnTo>
                    <a:lnTo>
                      <a:pt x="64" y="4"/>
                    </a:lnTo>
                    <a:lnTo>
                      <a:pt x="74" y="5"/>
                    </a:lnTo>
                    <a:lnTo>
                      <a:pt x="82" y="8"/>
                    </a:lnTo>
                    <a:lnTo>
                      <a:pt x="90" y="12"/>
                    </a:lnTo>
                    <a:lnTo>
                      <a:pt x="97" y="16"/>
                    </a:lnTo>
                    <a:lnTo>
                      <a:pt x="104" y="20"/>
                    </a:lnTo>
                    <a:lnTo>
                      <a:pt x="111" y="26"/>
                    </a:lnTo>
                    <a:lnTo>
                      <a:pt x="117" y="32"/>
                    </a:lnTo>
                    <a:lnTo>
                      <a:pt x="123" y="38"/>
                    </a:lnTo>
                    <a:lnTo>
                      <a:pt x="128" y="46"/>
                    </a:lnTo>
                    <a:lnTo>
                      <a:pt x="132" y="54"/>
                    </a:lnTo>
                    <a:lnTo>
                      <a:pt x="136" y="62"/>
                    </a:lnTo>
                    <a:lnTo>
                      <a:pt x="140" y="70"/>
                    </a:lnTo>
                    <a:lnTo>
                      <a:pt x="142" y="79"/>
                    </a:lnTo>
                    <a:lnTo>
                      <a:pt x="145" y="88"/>
                    </a:lnTo>
                    <a:lnTo>
                      <a:pt x="146" y="98"/>
                    </a:lnTo>
                    <a:lnTo>
                      <a:pt x="149" y="112"/>
                    </a:lnTo>
                    <a:lnTo>
                      <a:pt x="149" y="127"/>
                    </a:lnTo>
                    <a:lnTo>
                      <a:pt x="150" y="140"/>
                    </a:lnTo>
                    <a:lnTo>
                      <a:pt x="152" y="153"/>
                    </a:lnTo>
                    <a:lnTo>
                      <a:pt x="153" y="166"/>
                    </a:lnTo>
                    <a:lnTo>
                      <a:pt x="155" y="171"/>
                    </a:lnTo>
                    <a:lnTo>
                      <a:pt x="158" y="177"/>
                    </a:lnTo>
                    <a:lnTo>
                      <a:pt x="161" y="183"/>
                    </a:lnTo>
                    <a:lnTo>
                      <a:pt x="165" y="189"/>
                    </a:lnTo>
                    <a:lnTo>
                      <a:pt x="169" y="193"/>
                    </a:lnTo>
                    <a:lnTo>
                      <a:pt x="174" y="198"/>
                    </a:lnTo>
                    <a:lnTo>
                      <a:pt x="183" y="203"/>
                    </a:lnTo>
                    <a:lnTo>
                      <a:pt x="191" y="207"/>
                    </a:lnTo>
                    <a:lnTo>
                      <a:pt x="199" y="208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5" y="210"/>
                    </a:lnTo>
                    <a:lnTo>
                      <a:pt x="250" y="208"/>
                    </a:lnTo>
                    <a:lnTo>
                      <a:pt x="254" y="208"/>
                    </a:lnTo>
                    <a:lnTo>
                      <a:pt x="260" y="207"/>
                    </a:lnTo>
                    <a:lnTo>
                      <a:pt x="264" y="206"/>
                    </a:lnTo>
                    <a:lnTo>
                      <a:pt x="272" y="202"/>
                    </a:lnTo>
                    <a:lnTo>
                      <a:pt x="278" y="196"/>
                    </a:lnTo>
                    <a:lnTo>
                      <a:pt x="286" y="193"/>
                    </a:lnTo>
                    <a:lnTo>
                      <a:pt x="290" y="190"/>
                    </a:lnTo>
                    <a:lnTo>
                      <a:pt x="294" y="189"/>
                    </a:lnTo>
                    <a:lnTo>
                      <a:pt x="298" y="186"/>
                    </a:lnTo>
                    <a:lnTo>
                      <a:pt x="302" y="186"/>
                    </a:lnTo>
                    <a:lnTo>
                      <a:pt x="311" y="185"/>
                    </a:lnTo>
                    <a:lnTo>
                      <a:pt x="314" y="185"/>
                    </a:lnTo>
                    <a:lnTo>
                      <a:pt x="316" y="186"/>
                    </a:lnTo>
                    <a:lnTo>
                      <a:pt x="319" y="187"/>
                    </a:lnTo>
                    <a:lnTo>
                      <a:pt x="320" y="189"/>
                    </a:lnTo>
                    <a:lnTo>
                      <a:pt x="323" y="190"/>
                    </a:lnTo>
                    <a:lnTo>
                      <a:pt x="323" y="193"/>
                    </a:lnTo>
                    <a:lnTo>
                      <a:pt x="324" y="198"/>
                    </a:lnTo>
                    <a:lnTo>
                      <a:pt x="324" y="203"/>
                    </a:lnTo>
                    <a:lnTo>
                      <a:pt x="323" y="208"/>
                    </a:lnTo>
                    <a:lnTo>
                      <a:pt x="322" y="214"/>
                    </a:lnTo>
                    <a:lnTo>
                      <a:pt x="320" y="219"/>
                    </a:lnTo>
                    <a:lnTo>
                      <a:pt x="318" y="223"/>
                    </a:lnTo>
                    <a:lnTo>
                      <a:pt x="315" y="227"/>
                    </a:lnTo>
                    <a:lnTo>
                      <a:pt x="310" y="235"/>
                    </a:lnTo>
                    <a:lnTo>
                      <a:pt x="302" y="241"/>
                    </a:lnTo>
                    <a:lnTo>
                      <a:pt x="294" y="248"/>
                    </a:lnTo>
                    <a:lnTo>
                      <a:pt x="285" y="254"/>
                    </a:lnTo>
                    <a:lnTo>
                      <a:pt x="275" y="260"/>
                    </a:lnTo>
                    <a:lnTo>
                      <a:pt x="258" y="272"/>
                    </a:lnTo>
                    <a:lnTo>
                      <a:pt x="249" y="278"/>
                    </a:lnTo>
                    <a:lnTo>
                      <a:pt x="243" y="285"/>
                    </a:lnTo>
                    <a:lnTo>
                      <a:pt x="236" y="293"/>
                    </a:lnTo>
                    <a:lnTo>
                      <a:pt x="233" y="297"/>
                    </a:lnTo>
                    <a:lnTo>
                      <a:pt x="232" y="302"/>
                    </a:lnTo>
                    <a:lnTo>
                      <a:pt x="229" y="306"/>
                    </a:lnTo>
                    <a:lnTo>
                      <a:pt x="228" y="311"/>
                    </a:lnTo>
                    <a:lnTo>
                      <a:pt x="228" y="316"/>
                    </a:lnTo>
                    <a:lnTo>
                      <a:pt x="227" y="322"/>
                    </a:lnTo>
                    <a:lnTo>
                      <a:pt x="228" y="330"/>
                    </a:lnTo>
                    <a:lnTo>
                      <a:pt x="228" y="338"/>
                    </a:lnTo>
                    <a:lnTo>
                      <a:pt x="229" y="345"/>
                    </a:lnTo>
                    <a:lnTo>
                      <a:pt x="232" y="353"/>
                    </a:lnTo>
                    <a:lnTo>
                      <a:pt x="235" y="360"/>
                    </a:lnTo>
                    <a:lnTo>
                      <a:pt x="239" y="368"/>
                    </a:lnTo>
                    <a:lnTo>
                      <a:pt x="241" y="375"/>
                    </a:lnTo>
                    <a:lnTo>
                      <a:pt x="246" y="380"/>
                    </a:lnTo>
                    <a:lnTo>
                      <a:pt x="250" y="386"/>
                    </a:lnTo>
                    <a:lnTo>
                      <a:pt x="253" y="389"/>
                    </a:lnTo>
                    <a:lnTo>
                      <a:pt x="256" y="392"/>
                    </a:lnTo>
                    <a:lnTo>
                      <a:pt x="262" y="396"/>
                    </a:lnTo>
                    <a:lnTo>
                      <a:pt x="268" y="400"/>
                    </a:lnTo>
                    <a:lnTo>
                      <a:pt x="274" y="402"/>
                    </a:lnTo>
                    <a:lnTo>
                      <a:pt x="282" y="405"/>
                    </a:lnTo>
                    <a:lnTo>
                      <a:pt x="289" y="406"/>
                    </a:lnTo>
                    <a:lnTo>
                      <a:pt x="297" y="406"/>
                    </a:lnTo>
                    <a:lnTo>
                      <a:pt x="312" y="406"/>
                    </a:lnTo>
                    <a:lnTo>
                      <a:pt x="326" y="405"/>
                    </a:lnTo>
                    <a:lnTo>
                      <a:pt x="339" y="404"/>
                    </a:lnTo>
                    <a:lnTo>
                      <a:pt x="352" y="402"/>
                    </a:lnTo>
                    <a:lnTo>
                      <a:pt x="377" y="400"/>
                    </a:lnTo>
                    <a:lnTo>
                      <a:pt x="392" y="398"/>
                    </a:lnTo>
                    <a:lnTo>
                      <a:pt x="406" y="398"/>
                    </a:lnTo>
                    <a:lnTo>
                      <a:pt x="497" y="398"/>
                    </a:lnTo>
                    <a:lnTo>
                      <a:pt x="512" y="397"/>
                    </a:lnTo>
                    <a:lnTo>
                      <a:pt x="518" y="396"/>
                    </a:lnTo>
                    <a:lnTo>
                      <a:pt x="525" y="394"/>
                    </a:lnTo>
                    <a:lnTo>
                      <a:pt x="531" y="390"/>
                    </a:lnTo>
                    <a:lnTo>
                      <a:pt x="535" y="386"/>
                    </a:lnTo>
                    <a:lnTo>
                      <a:pt x="537" y="384"/>
                    </a:lnTo>
                    <a:lnTo>
                      <a:pt x="538" y="381"/>
                    </a:lnTo>
                    <a:lnTo>
                      <a:pt x="539" y="378"/>
                    </a:lnTo>
                    <a:lnTo>
                      <a:pt x="539" y="375"/>
                    </a:lnTo>
                    <a:lnTo>
                      <a:pt x="539" y="138"/>
                    </a:lnTo>
                    <a:lnTo>
                      <a:pt x="539" y="134"/>
                    </a:lnTo>
                    <a:lnTo>
                      <a:pt x="542" y="131"/>
                    </a:lnTo>
                    <a:lnTo>
                      <a:pt x="545" y="127"/>
                    </a:lnTo>
                    <a:lnTo>
                      <a:pt x="547" y="125"/>
                    </a:lnTo>
                    <a:lnTo>
                      <a:pt x="552" y="123"/>
                    </a:lnTo>
                    <a:lnTo>
                      <a:pt x="556" y="121"/>
                    </a:lnTo>
                    <a:lnTo>
                      <a:pt x="566" y="120"/>
                    </a:lnTo>
                    <a:lnTo>
                      <a:pt x="576" y="120"/>
                    </a:lnTo>
                    <a:lnTo>
                      <a:pt x="587" y="121"/>
                    </a:lnTo>
                    <a:lnTo>
                      <a:pt x="597" y="123"/>
                    </a:lnTo>
                    <a:lnTo>
                      <a:pt x="608" y="125"/>
                    </a:lnTo>
                    <a:lnTo>
                      <a:pt x="618" y="128"/>
                    </a:lnTo>
                    <a:lnTo>
                      <a:pt x="629" y="131"/>
                    </a:lnTo>
                    <a:lnTo>
                      <a:pt x="638" y="134"/>
                    </a:lnTo>
                    <a:lnTo>
                      <a:pt x="647" y="138"/>
                    </a:lnTo>
                    <a:lnTo>
                      <a:pt x="657" y="142"/>
                    </a:lnTo>
                    <a:lnTo>
                      <a:pt x="666" y="148"/>
                    </a:lnTo>
                    <a:lnTo>
                      <a:pt x="683" y="160"/>
                    </a:lnTo>
                    <a:lnTo>
                      <a:pt x="691" y="165"/>
                    </a:lnTo>
                    <a:lnTo>
                      <a:pt x="699" y="171"/>
                    </a:lnTo>
                    <a:lnTo>
                      <a:pt x="705" y="179"/>
                    </a:lnTo>
                    <a:lnTo>
                      <a:pt x="713" y="186"/>
                    </a:lnTo>
                    <a:lnTo>
                      <a:pt x="720" y="194"/>
                    </a:lnTo>
                    <a:lnTo>
                      <a:pt x="727" y="202"/>
                    </a:lnTo>
                    <a:lnTo>
                      <a:pt x="732" y="211"/>
                    </a:lnTo>
                    <a:lnTo>
                      <a:pt x="738" y="219"/>
                    </a:lnTo>
                    <a:lnTo>
                      <a:pt x="748" y="237"/>
                    </a:lnTo>
                    <a:lnTo>
                      <a:pt x="757" y="256"/>
                    </a:lnTo>
                    <a:lnTo>
                      <a:pt x="759" y="266"/>
                    </a:lnTo>
                    <a:lnTo>
                      <a:pt x="763" y="277"/>
                    </a:lnTo>
                    <a:lnTo>
                      <a:pt x="769" y="297"/>
                    </a:lnTo>
                    <a:lnTo>
                      <a:pt x="770" y="309"/>
                    </a:lnTo>
                    <a:lnTo>
                      <a:pt x="771" y="319"/>
                    </a:lnTo>
                    <a:lnTo>
                      <a:pt x="773" y="340"/>
                    </a:lnTo>
                    <a:lnTo>
                      <a:pt x="771" y="359"/>
                    </a:lnTo>
                    <a:lnTo>
                      <a:pt x="771" y="368"/>
                    </a:lnTo>
                    <a:lnTo>
                      <a:pt x="770" y="377"/>
                    </a:lnTo>
                    <a:lnTo>
                      <a:pt x="769" y="385"/>
                    </a:lnTo>
                    <a:lnTo>
                      <a:pt x="767" y="393"/>
                    </a:lnTo>
                    <a:lnTo>
                      <a:pt x="763" y="409"/>
                    </a:lnTo>
                    <a:lnTo>
                      <a:pt x="759" y="425"/>
                    </a:lnTo>
                    <a:lnTo>
                      <a:pt x="754" y="439"/>
                    </a:lnTo>
                    <a:lnTo>
                      <a:pt x="744" y="468"/>
                    </a:lnTo>
                    <a:lnTo>
                      <a:pt x="733" y="497"/>
                    </a:lnTo>
                    <a:lnTo>
                      <a:pt x="728" y="512"/>
                    </a:lnTo>
                    <a:lnTo>
                      <a:pt x="724" y="527"/>
                    </a:lnTo>
                    <a:lnTo>
                      <a:pt x="720" y="543"/>
                    </a:lnTo>
                    <a:lnTo>
                      <a:pt x="717" y="559"/>
                    </a:lnTo>
                    <a:lnTo>
                      <a:pt x="716" y="578"/>
                    </a:lnTo>
                    <a:lnTo>
                      <a:pt x="715" y="596"/>
                    </a:lnTo>
                    <a:lnTo>
                      <a:pt x="715" y="603"/>
                    </a:lnTo>
                    <a:lnTo>
                      <a:pt x="716" y="609"/>
                    </a:lnTo>
                    <a:lnTo>
                      <a:pt x="717" y="615"/>
                    </a:lnTo>
                    <a:lnTo>
                      <a:pt x="719" y="621"/>
                    </a:lnTo>
                    <a:lnTo>
                      <a:pt x="723" y="632"/>
                    </a:lnTo>
                    <a:lnTo>
                      <a:pt x="727" y="642"/>
                    </a:lnTo>
                    <a:lnTo>
                      <a:pt x="732" y="653"/>
                    </a:lnTo>
                    <a:lnTo>
                      <a:pt x="736" y="663"/>
                    </a:lnTo>
                    <a:lnTo>
                      <a:pt x="737" y="670"/>
                    </a:lnTo>
                    <a:lnTo>
                      <a:pt x="738" y="675"/>
                    </a:lnTo>
                    <a:lnTo>
                      <a:pt x="740" y="682"/>
                    </a:lnTo>
                    <a:lnTo>
                      <a:pt x="740" y="688"/>
                    </a:lnTo>
                    <a:lnTo>
                      <a:pt x="740" y="712"/>
                    </a:lnTo>
                    <a:lnTo>
                      <a:pt x="724" y="715"/>
                    </a:lnTo>
                    <a:lnTo>
                      <a:pt x="723" y="715"/>
                    </a:lnTo>
                    <a:lnTo>
                      <a:pt x="721" y="719"/>
                    </a:lnTo>
                    <a:lnTo>
                      <a:pt x="719" y="721"/>
                    </a:lnTo>
                    <a:lnTo>
                      <a:pt x="715" y="728"/>
                    </a:lnTo>
                    <a:lnTo>
                      <a:pt x="708" y="735"/>
                    </a:lnTo>
                    <a:lnTo>
                      <a:pt x="701" y="740"/>
                    </a:lnTo>
                    <a:lnTo>
                      <a:pt x="695" y="744"/>
                    </a:lnTo>
                    <a:lnTo>
                      <a:pt x="687" y="748"/>
                    </a:lnTo>
                    <a:lnTo>
                      <a:pt x="670" y="756"/>
                    </a:lnTo>
                    <a:lnTo>
                      <a:pt x="654" y="765"/>
                    </a:lnTo>
                    <a:lnTo>
                      <a:pt x="646" y="769"/>
                    </a:lnTo>
                    <a:lnTo>
                      <a:pt x="639" y="774"/>
                    </a:lnTo>
                    <a:lnTo>
                      <a:pt x="634" y="781"/>
                    </a:lnTo>
                    <a:lnTo>
                      <a:pt x="630" y="787"/>
                    </a:lnTo>
                    <a:lnTo>
                      <a:pt x="628" y="795"/>
                    </a:lnTo>
                    <a:lnTo>
                      <a:pt x="626" y="799"/>
                    </a:lnTo>
                    <a:lnTo>
                      <a:pt x="626" y="803"/>
                    </a:lnTo>
                    <a:lnTo>
                      <a:pt x="626" y="810"/>
                    </a:lnTo>
                    <a:lnTo>
                      <a:pt x="628" y="815"/>
                    </a:lnTo>
                    <a:lnTo>
                      <a:pt x="629" y="820"/>
                    </a:lnTo>
                    <a:lnTo>
                      <a:pt x="632" y="824"/>
                    </a:lnTo>
                    <a:lnTo>
                      <a:pt x="634" y="829"/>
                    </a:lnTo>
                    <a:lnTo>
                      <a:pt x="638" y="833"/>
                    </a:lnTo>
                    <a:lnTo>
                      <a:pt x="642" y="837"/>
                    </a:lnTo>
                    <a:lnTo>
                      <a:pt x="646" y="841"/>
                    </a:lnTo>
                    <a:lnTo>
                      <a:pt x="651" y="844"/>
                    </a:lnTo>
                    <a:lnTo>
                      <a:pt x="657" y="847"/>
                    </a:lnTo>
                    <a:lnTo>
                      <a:pt x="667" y="851"/>
                    </a:lnTo>
                    <a:lnTo>
                      <a:pt x="679" y="853"/>
                    </a:lnTo>
                    <a:lnTo>
                      <a:pt x="690" y="855"/>
                    </a:lnTo>
                    <a:lnTo>
                      <a:pt x="767" y="855"/>
                    </a:lnTo>
                    <a:lnTo>
                      <a:pt x="770" y="855"/>
                    </a:lnTo>
                    <a:lnTo>
                      <a:pt x="773" y="856"/>
                    </a:lnTo>
                    <a:lnTo>
                      <a:pt x="777" y="858"/>
                    </a:lnTo>
                    <a:lnTo>
                      <a:pt x="781" y="864"/>
                    </a:lnTo>
                    <a:lnTo>
                      <a:pt x="785" y="869"/>
                    </a:lnTo>
                    <a:lnTo>
                      <a:pt x="785" y="934"/>
                    </a:lnTo>
                    <a:lnTo>
                      <a:pt x="783" y="946"/>
                    </a:lnTo>
                    <a:lnTo>
                      <a:pt x="781" y="956"/>
                    </a:lnTo>
                    <a:lnTo>
                      <a:pt x="778" y="967"/>
                    </a:lnTo>
                    <a:lnTo>
                      <a:pt x="773" y="976"/>
                    </a:lnTo>
                    <a:lnTo>
                      <a:pt x="770" y="980"/>
                    </a:lnTo>
                    <a:lnTo>
                      <a:pt x="767" y="984"/>
                    </a:lnTo>
                    <a:lnTo>
                      <a:pt x="759" y="992"/>
                    </a:lnTo>
                    <a:lnTo>
                      <a:pt x="753" y="998"/>
                    </a:lnTo>
                    <a:lnTo>
                      <a:pt x="745" y="1005"/>
                    </a:lnTo>
                    <a:lnTo>
                      <a:pt x="727" y="1019"/>
                    </a:lnTo>
                    <a:lnTo>
                      <a:pt x="708" y="1033"/>
                    </a:lnTo>
                    <a:lnTo>
                      <a:pt x="699" y="1040"/>
                    </a:lnTo>
                    <a:lnTo>
                      <a:pt x="691" y="1048"/>
                    </a:lnTo>
                    <a:lnTo>
                      <a:pt x="682" y="1058"/>
                    </a:lnTo>
                    <a:lnTo>
                      <a:pt x="674" y="1067"/>
                    </a:lnTo>
                    <a:lnTo>
                      <a:pt x="626" y="1067"/>
                    </a:lnTo>
                    <a:lnTo>
                      <a:pt x="626" y="1034"/>
                    </a:lnTo>
                    <a:lnTo>
                      <a:pt x="634" y="1025"/>
                    </a:lnTo>
                    <a:lnTo>
                      <a:pt x="641" y="1017"/>
                    </a:lnTo>
                    <a:lnTo>
                      <a:pt x="645" y="1011"/>
                    </a:lnTo>
                    <a:lnTo>
                      <a:pt x="646" y="1008"/>
                    </a:lnTo>
                    <a:lnTo>
                      <a:pt x="647" y="1002"/>
                    </a:lnTo>
                    <a:lnTo>
                      <a:pt x="649" y="997"/>
                    </a:lnTo>
                    <a:lnTo>
                      <a:pt x="647" y="992"/>
                    </a:lnTo>
                    <a:lnTo>
                      <a:pt x="646" y="988"/>
                    </a:lnTo>
                    <a:lnTo>
                      <a:pt x="642" y="985"/>
                    </a:lnTo>
                    <a:lnTo>
                      <a:pt x="639" y="982"/>
                    </a:lnTo>
                    <a:lnTo>
                      <a:pt x="634" y="980"/>
                    </a:lnTo>
                    <a:lnTo>
                      <a:pt x="630" y="978"/>
                    </a:lnTo>
                    <a:lnTo>
                      <a:pt x="620" y="978"/>
                    </a:lnTo>
                    <a:lnTo>
                      <a:pt x="595" y="978"/>
                    </a:lnTo>
                    <a:lnTo>
                      <a:pt x="595" y="1002"/>
                    </a:lnTo>
                    <a:lnTo>
                      <a:pt x="596" y="1008"/>
                    </a:lnTo>
                    <a:lnTo>
                      <a:pt x="597" y="1013"/>
                    </a:lnTo>
                    <a:lnTo>
                      <a:pt x="601" y="1022"/>
                    </a:lnTo>
                    <a:lnTo>
                      <a:pt x="593" y="1023"/>
                    </a:lnTo>
                    <a:lnTo>
                      <a:pt x="589" y="1025"/>
                    </a:lnTo>
                    <a:lnTo>
                      <a:pt x="585" y="1025"/>
                    </a:lnTo>
                    <a:lnTo>
                      <a:pt x="580" y="1025"/>
                    </a:lnTo>
                    <a:lnTo>
                      <a:pt x="576" y="1023"/>
                    </a:lnTo>
                    <a:lnTo>
                      <a:pt x="572" y="1021"/>
                    </a:lnTo>
                    <a:lnTo>
                      <a:pt x="568" y="1019"/>
                    </a:lnTo>
                    <a:lnTo>
                      <a:pt x="564" y="1015"/>
                    </a:lnTo>
                    <a:lnTo>
                      <a:pt x="562" y="1013"/>
                    </a:lnTo>
                    <a:lnTo>
                      <a:pt x="555" y="1006"/>
                    </a:lnTo>
                    <a:lnTo>
                      <a:pt x="552" y="1002"/>
                    </a:lnTo>
                    <a:lnTo>
                      <a:pt x="548" y="998"/>
                    </a:lnTo>
                    <a:lnTo>
                      <a:pt x="542" y="993"/>
                    </a:lnTo>
                    <a:lnTo>
                      <a:pt x="538" y="990"/>
                    </a:lnTo>
                    <a:lnTo>
                      <a:pt x="534" y="988"/>
                    </a:lnTo>
                    <a:lnTo>
                      <a:pt x="530" y="986"/>
                    </a:lnTo>
                    <a:lnTo>
                      <a:pt x="525" y="986"/>
                    </a:lnTo>
                    <a:lnTo>
                      <a:pt x="519" y="986"/>
                    </a:lnTo>
                    <a:lnTo>
                      <a:pt x="516" y="988"/>
                    </a:lnTo>
                    <a:lnTo>
                      <a:pt x="512" y="990"/>
                    </a:lnTo>
                    <a:lnTo>
                      <a:pt x="508" y="993"/>
                    </a:lnTo>
                    <a:lnTo>
                      <a:pt x="500" y="1000"/>
                    </a:lnTo>
                    <a:lnTo>
                      <a:pt x="494" y="1008"/>
                    </a:lnTo>
                    <a:lnTo>
                      <a:pt x="488" y="1014"/>
                    </a:lnTo>
                    <a:lnTo>
                      <a:pt x="485" y="1018"/>
                    </a:lnTo>
                    <a:lnTo>
                      <a:pt x="481" y="1021"/>
                    </a:lnTo>
                    <a:lnTo>
                      <a:pt x="477" y="1023"/>
                    </a:lnTo>
                    <a:lnTo>
                      <a:pt x="473" y="1026"/>
                    </a:lnTo>
                    <a:lnTo>
                      <a:pt x="468" y="1027"/>
                    </a:lnTo>
                    <a:lnTo>
                      <a:pt x="464" y="1027"/>
                    </a:lnTo>
                    <a:lnTo>
                      <a:pt x="457" y="1026"/>
                    </a:lnTo>
                    <a:lnTo>
                      <a:pt x="454" y="1025"/>
                    </a:lnTo>
                    <a:lnTo>
                      <a:pt x="451" y="1023"/>
                    </a:lnTo>
                    <a:lnTo>
                      <a:pt x="447" y="1019"/>
                    </a:lnTo>
                    <a:lnTo>
                      <a:pt x="442" y="1015"/>
                    </a:lnTo>
                    <a:lnTo>
                      <a:pt x="438" y="1010"/>
                    </a:lnTo>
                    <a:lnTo>
                      <a:pt x="432" y="1006"/>
                    </a:lnTo>
                    <a:lnTo>
                      <a:pt x="430" y="1005"/>
                    </a:lnTo>
                    <a:lnTo>
                      <a:pt x="427" y="1004"/>
                    </a:lnTo>
                    <a:lnTo>
                      <a:pt x="421" y="1002"/>
                    </a:lnTo>
                    <a:lnTo>
                      <a:pt x="413" y="1002"/>
                    </a:lnTo>
                    <a:lnTo>
                      <a:pt x="406" y="1004"/>
                    </a:lnTo>
                    <a:lnTo>
                      <a:pt x="401" y="1005"/>
                    </a:lnTo>
                    <a:lnTo>
                      <a:pt x="396" y="1008"/>
                    </a:lnTo>
                    <a:lnTo>
                      <a:pt x="390" y="1011"/>
                    </a:lnTo>
                    <a:lnTo>
                      <a:pt x="385" y="1015"/>
                    </a:lnTo>
                    <a:lnTo>
                      <a:pt x="377" y="1023"/>
                    </a:lnTo>
                    <a:lnTo>
                      <a:pt x="372" y="1029"/>
                    </a:lnTo>
                    <a:lnTo>
                      <a:pt x="368" y="1034"/>
                    </a:lnTo>
                    <a:lnTo>
                      <a:pt x="360" y="1044"/>
                    </a:lnTo>
                    <a:lnTo>
                      <a:pt x="352" y="1055"/>
                    </a:lnTo>
                    <a:lnTo>
                      <a:pt x="343" y="1067"/>
                    </a:lnTo>
                    <a:lnTo>
                      <a:pt x="340" y="1069"/>
                    </a:lnTo>
                    <a:lnTo>
                      <a:pt x="337" y="1072"/>
                    </a:lnTo>
                    <a:lnTo>
                      <a:pt x="331" y="1077"/>
                    </a:lnTo>
                    <a:lnTo>
                      <a:pt x="318" y="1085"/>
                    </a:lnTo>
                    <a:lnTo>
                      <a:pt x="312" y="1089"/>
                    </a:lnTo>
                    <a:lnTo>
                      <a:pt x="307" y="1095"/>
                    </a:lnTo>
                    <a:lnTo>
                      <a:pt x="306" y="1097"/>
                    </a:lnTo>
                    <a:lnTo>
                      <a:pt x="305" y="1101"/>
                    </a:lnTo>
                    <a:lnTo>
                      <a:pt x="303" y="1104"/>
                    </a:lnTo>
                    <a:lnTo>
                      <a:pt x="303" y="1108"/>
                    </a:lnTo>
                    <a:lnTo>
                      <a:pt x="303" y="1113"/>
                    </a:lnTo>
                    <a:lnTo>
                      <a:pt x="305" y="1118"/>
                    </a:lnTo>
                    <a:lnTo>
                      <a:pt x="306" y="1122"/>
                    </a:lnTo>
                    <a:lnTo>
                      <a:pt x="308" y="1128"/>
                    </a:lnTo>
                    <a:lnTo>
                      <a:pt x="312" y="1135"/>
                    </a:lnTo>
                    <a:lnTo>
                      <a:pt x="319" y="1143"/>
                    </a:lnTo>
                    <a:lnTo>
                      <a:pt x="324" y="1150"/>
                    </a:lnTo>
                    <a:lnTo>
                      <a:pt x="330" y="1158"/>
                    </a:lnTo>
                    <a:lnTo>
                      <a:pt x="332" y="1167"/>
                    </a:lnTo>
                    <a:lnTo>
                      <a:pt x="334" y="1172"/>
                    </a:lnTo>
                    <a:lnTo>
                      <a:pt x="335" y="1178"/>
                    </a:lnTo>
                    <a:lnTo>
                      <a:pt x="334" y="1184"/>
                    </a:lnTo>
                    <a:lnTo>
                      <a:pt x="331" y="1191"/>
                    </a:lnTo>
                    <a:lnTo>
                      <a:pt x="327" y="1196"/>
                    </a:lnTo>
                    <a:lnTo>
                      <a:pt x="323" y="1200"/>
                    </a:lnTo>
                    <a:lnTo>
                      <a:pt x="318" y="1204"/>
                    </a:lnTo>
                    <a:lnTo>
                      <a:pt x="311" y="1207"/>
                    </a:lnTo>
                    <a:lnTo>
                      <a:pt x="303" y="1209"/>
                    </a:lnTo>
                    <a:lnTo>
                      <a:pt x="297" y="1211"/>
                    </a:lnTo>
                    <a:lnTo>
                      <a:pt x="303" y="1220"/>
                    </a:lnTo>
                    <a:lnTo>
                      <a:pt x="310" y="1230"/>
                    </a:lnTo>
                    <a:lnTo>
                      <a:pt x="328" y="1250"/>
                    </a:lnTo>
                    <a:lnTo>
                      <a:pt x="319" y="1258"/>
                    </a:lnTo>
                    <a:lnTo>
                      <a:pt x="314" y="1262"/>
                    </a:lnTo>
                    <a:lnTo>
                      <a:pt x="310" y="1266"/>
                    </a:lnTo>
                    <a:lnTo>
                      <a:pt x="307" y="1270"/>
                    </a:lnTo>
                    <a:lnTo>
                      <a:pt x="305" y="1274"/>
                    </a:lnTo>
                    <a:lnTo>
                      <a:pt x="303" y="1279"/>
                    </a:lnTo>
                    <a:lnTo>
                      <a:pt x="302" y="1286"/>
                    </a:lnTo>
                    <a:lnTo>
                      <a:pt x="302" y="1290"/>
                    </a:lnTo>
                    <a:lnTo>
                      <a:pt x="303" y="1295"/>
                    </a:lnTo>
                    <a:lnTo>
                      <a:pt x="305" y="1299"/>
                    </a:lnTo>
                    <a:lnTo>
                      <a:pt x="306" y="1303"/>
                    </a:lnTo>
                    <a:lnTo>
                      <a:pt x="311" y="1309"/>
                    </a:lnTo>
                    <a:lnTo>
                      <a:pt x="316" y="1316"/>
                    </a:lnTo>
                    <a:lnTo>
                      <a:pt x="322" y="1323"/>
                    </a:lnTo>
                    <a:lnTo>
                      <a:pt x="326" y="1331"/>
                    </a:lnTo>
                    <a:lnTo>
                      <a:pt x="330" y="1339"/>
                    </a:lnTo>
                    <a:lnTo>
                      <a:pt x="330" y="1342"/>
                    </a:lnTo>
                    <a:lnTo>
                      <a:pt x="331" y="1348"/>
                    </a:lnTo>
                    <a:lnTo>
                      <a:pt x="359" y="1348"/>
                    </a:lnTo>
                    <a:lnTo>
                      <a:pt x="359" y="1357"/>
                    </a:lnTo>
                    <a:lnTo>
                      <a:pt x="361" y="1366"/>
                    </a:lnTo>
                    <a:lnTo>
                      <a:pt x="364" y="1374"/>
                    </a:lnTo>
                    <a:lnTo>
                      <a:pt x="368" y="1382"/>
                    </a:lnTo>
                    <a:lnTo>
                      <a:pt x="372" y="1390"/>
                    </a:lnTo>
                    <a:lnTo>
                      <a:pt x="377" y="1397"/>
                    </a:lnTo>
                    <a:lnTo>
                      <a:pt x="382" y="1403"/>
                    </a:lnTo>
                    <a:lnTo>
                      <a:pt x="389" y="1410"/>
                    </a:lnTo>
                    <a:lnTo>
                      <a:pt x="396" y="1415"/>
                    </a:lnTo>
                    <a:lnTo>
                      <a:pt x="403" y="1420"/>
                    </a:lnTo>
                    <a:lnTo>
                      <a:pt x="411" y="1424"/>
                    </a:lnTo>
                    <a:lnTo>
                      <a:pt x="419" y="1427"/>
                    </a:lnTo>
                    <a:lnTo>
                      <a:pt x="428" y="1430"/>
                    </a:lnTo>
                    <a:lnTo>
                      <a:pt x="436" y="1432"/>
                    </a:lnTo>
                    <a:lnTo>
                      <a:pt x="446" y="1433"/>
                    </a:lnTo>
                    <a:lnTo>
                      <a:pt x="456" y="1433"/>
                    </a:lnTo>
                    <a:lnTo>
                      <a:pt x="456" y="1437"/>
                    </a:lnTo>
                    <a:lnTo>
                      <a:pt x="457" y="1440"/>
                    </a:lnTo>
                    <a:lnTo>
                      <a:pt x="457" y="1443"/>
                    </a:lnTo>
                    <a:lnTo>
                      <a:pt x="459" y="1445"/>
                    </a:lnTo>
                    <a:lnTo>
                      <a:pt x="457" y="1449"/>
                    </a:lnTo>
                    <a:lnTo>
                      <a:pt x="457" y="1453"/>
                    </a:lnTo>
                    <a:lnTo>
                      <a:pt x="456" y="1457"/>
                    </a:lnTo>
                    <a:lnTo>
                      <a:pt x="455" y="1460"/>
                    </a:lnTo>
                    <a:lnTo>
                      <a:pt x="451" y="1466"/>
                    </a:lnTo>
                    <a:lnTo>
                      <a:pt x="447" y="1473"/>
                    </a:lnTo>
                    <a:lnTo>
                      <a:pt x="459" y="1481"/>
                    </a:lnTo>
                    <a:lnTo>
                      <a:pt x="469" y="1489"/>
                    </a:lnTo>
                    <a:lnTo>
                      <a:pt x="476" y="1491"/>
                    </a:lnTo>
                    <a:lnTo>
                      <a:pt x="481" y="1494"/>
                    </a:lnTo>
                    <a:lnTo>
                      <a:pt x="488" y="1495"/>
                    </a:lnTo>
                    <a:lnTo>
                      <a:pt x="496" y="1495"/>
                    </a:lnTo>
                    <a:lnTo>
                      <a:pt x="498" y="1495"/>
                    </a:lnTo>
                    <a:lnTo>
                      <a:pt x="501" y="1494"/>
                    </a:lnTo>
                    <a:lnTo>
                      <a:pt x="506" y="1491"/>
                    </a:lnTo>
                    <a:lnTo>
                      <a:pt x="512" y="1489"/>
                    </a:lnTo>
                    <a:lnTo>
                      <a:pt x="514" y="1488"/>
                    </a:lnTo>
                    <a:lnTo>
                      <a:pt x="517" y="1488"/>
                    </a:lnTo>
                    <a:lnTo>
                      <a:pt x="522" y="1488"/>
                    </a:lnTo>
                    <a:lnTo>
                      <a:pt x="525" y="1489"/>
                    </a:lnTo>
                    <a:lnTo>
                      <a:pt x="526" y="1490"/>
                    </a:lnTo>
                    <a:lnTo>
                      <a:pt x="531" y="1493"/>
                    </a:lnTo>
                    <a:lnTo>
                      <a:pt x="535" y="1495"/>
                    </a:lnTo>
                    <a:lnTo>
                      <a:pt x="543" y="1502"/>
                    </a:lnTo>
                    <a:lnTo>
                      <a:pt x="547" y="1503"/>
                    </a:lnTo>
                    <a:lnTo>
                      <a:pt x="552" y="1505"/>
                    </a:lnTo>
                    <a:lnTo>
                      <a:pt x="562" y="1503"/>
                    </a:lnTo>
                    <a:lnTo>
                      <a:pt x="570" y="1501"/>
                    </a:lnTo>
                    <a:lnTo>
                      <a:pt x="578" y="1498"/>
                    </a:lnTo>
                    <a:lnTo>
                      <a:pt x="584" y="1494"/>
                    </a:lnTo>
                    <a:lnTo>
                      <a:pt x="591" y="1489"/>
                    </a:lnTo>
                    <a:lnTo>
                      <a:pt x="597" y="1484"/>
                    </a:lnTo>
                    <a:lnTo>
                      <a:pt x="610" y="1472"/>
                    </a:lnTo>
                    <a:lnTo>
                      <a:pt x="617" y="1466"/>
                    </a:lnTo>
                    <a:lnTo>
                      <a:pt x="622" y="1462"/>
                    </a:lnTo>
                    <a:lnTo>
                      <a:pt x="629" y="1459"/>
                    </a:lnTo>
                    <a:lnTo>
                      <a:pt x="636" y="1455"/>
                    </a:lnTo>
                    <a:lnTo>
                      <a:pt x="642" y="1453"/>
                    </a:lnTo>
                    <a:lnTo>
                      <a:pt x="649" y="1452"/>
                    </a:lnTo>
                    <a:lnTo>
                      <a:pt x="657" y="1453"/>
                    </a:lnTo>
                    <a:lnTo>
                      <a:pt x="665" y="1456"/>
                    </a:lnTo>
                    <a:lnTo>
                      <a:pt x="659" y="1464"/>
                    </a:lnTo>
                    <a:lnTo>
                      <a:pt x="654" y="1469"/>
                    </a:lnTo>
                    <a:lnTo>
                      <a:pt x="649" y="1476"/>
                    </a:lnTo>
                    <a:lnTo>
                      <a:pt x="642" y="1480"/>
                    </a:lnTo>
                    <a:lnTo>
                      <a:pt x="628" y="1489"/>
                    </a:lnTo>
                    <a:lnTo>
                      <a:pt x="614" y="1497"/>
                    </a:lnTo>
                    <a:lnTo>
                      <a:pt x="601" y="1505"/>
                    </a:lnTo>
                    <a:lnTo>
                      <a:pt x="596" y="1509"/>
                    </a:lnTo>
                    <a:lnTo>
                      <a:pt x="591" y="1514"/>
                    </a:lnTo>
                    <a:lnTo>
                      <a:pt x="589" y="1517"/>
                    </a:lnTo>
                    <a:lnTo>
                      <a:pt x="587" y="1519"/>
                    </a:lnTo>
                    <a:lnTo>
                      <a:pt x="585" y="1523"/>
                    </a:lnTo>
                    <a:lnTo>
                      <a:pt x="584" y="1526"/>
                    </a:lnTo>
                    <a:lnTo>
                      <a:pt x="583" y="1530"/>
                    </a:lnTo>
                    <a:lnTo>
                      <a:pt x="581" y="1532"/>
                    </a:lnTo>
                    <a:lnTo>
                      <a:pt x="581" y="1542"/>
                    </a:lnTo>
                    <a:lnTo>
                      <a:pt x="581" y="1550"/>
                    </a:lnTo>
                    <a:lnTo>
                      <a:pt x="584" y="1557"/>
                    </a:lnTo>
                    <a:lnTo>
                      <a:pt x="587" y="1564"/>
                    </a:lnTo>
                    <a:lnTo>
                      <a:pt x="589" y="1571"/>
                    </a:lnTo>
                    <a:lnTo>
                      <a:pt x="595" y="1576"/>
                    </a:lnTo>
                    <a:lnTo>
                      <a:pt x="599" y="1581"/>
                    </a:lnTo>
                    <a:lnTo>
                      <a:pt x="605" y="1586"/>
                    </a:lnTo>
                    <a:lnTo>
                      <a:pt x="610" y="1590"/>
                    </a:lnTo>
                    <a:lnTo>
                      <a:pt x="638" y="1609"/>
                    </a:lnTo>
                    <a:lnTo>
                      <a:pt x="651" y="1619"/>
                    </a:lnTo>
                    <a:lnTo>
                      <a:pt x="658" y="1625"/>
                    </a:lnTo>
                    <a:lnTo>
                      <a:pt x="665" y="1631"/>
                    </a:lnTo>
                    <a:lnTo>
                      <a:pt x="672" y="1642"/>
                    </a:lnTo>
                    <a:lnTo>
                      <a:pt x="680" y="1651"/>
                    </a:lnTo>
                    <a:lnTo>
                      <a:pt x="692" y="1671"/>
                    </a:lnTo>
                    <a:lnTo>
                      <a:pt x="699" y="1680"/>
                    </a:lnTo>
                    <a:lnTo>
                      <a:pt x="705" y="1689"/>
                    </a:lnTo>
                    <a:lnTo>
                      <a:pt x="713" y="1697"/>
                    </a:lnTo>
                    <a:lnTo>
                      <a:pt x="719" y="1702"/>
                    </a:lnTo>
                    <a:lnTo>
                      <a:pt x="724" y="1706"/>
                    </a:lnTo>
                    <a:lnTo>
                      <a:pt x="733" y="1713"/>
                    </a:lnTo>
                    <a:lnTo>
                      <a:pt x="744" y="1718"/>
                    </a:lnTo>
                    <a:lnTo>
                      <a:pt x="754" y="1724"/>
                    </a:lnTo>
                    <a:lnTo>
                      <a:pt x="765" y="1728"/>
                    </a:lnTo>
                    <a:lnTo>
                      <a:pt x="787" y="1737"/>
                    </a:lnTo>
                    <a:lnTo>
                      <a:pt x="807" y="1745"/>
                    </a:lnTo>
                    <a:lnTo>
                      <a:pt x="818" y="1750"/>
                    </a:lnTo>
                    <a:lnTo>
                      <a:pt x="825" y="1754"/>
                    </a:lnTo>
                    <a:lnTo>
                      <a:pt x="833" y="1761"/>
                    </a:lnTo>
                    <a:lnTo>
                      <a:pt x="840" y="1767"/>
                    </a:lnTo>
                    <a:lnTo>
                      <a:pt x="845" y="1774"/>
                    </a:lnTo>
                    <a:lnTo>
                      <a:pt x="850" y="1783"/>
                    </a:lnTo>
                    <a:lnTo>
                      <a:pt x="853" y="1792"/>
                    </a:lnTo>
                    <a:lnTo>
                      <a:pt x="853" y="1797"/>
                    </a:lnTo>
                    <a:lnTo>
                      <a:pt x="853" y="1803"/>
                    </a:lnTo>
                    <a:lnTo>
                      <a:pt x="853" y="1808"/>
                    </a:lnTo>
                    <a:lnTo>
                      <a:pt x="853" y="1812"/>
                    </a:lnTo>
                    <a:lnTo>
                      <a:pt x="849" y="1820"/>
                    </a:lnTo>
                    <a:lnTo>
                      <a:pt x="845" y="1826"/>
                    </a:lnTo>
                    <a:lnTo>
                      <a:pt x="840" y="1832"/>
                    </a:lnTo>
                    <a:lnTo>
                      <a:pt x="835" y="1838"/>
                    </a:lnTo>
                    <a:lnTo>
                      <a:pt x="828" y="1844"/>
                    </a:lnTo>
                    <a:lnTo>
                      <a:pt x="821" y="1850"/>
                    </a:lnTo>
                    <a:lnTo>
                      <a:pt x="815" y="1857"/>
                    </a:lnTo>
                    <a:lnTo>
                      <a:pt x="802" y="1874"/>
                    </a:lnTo>
                    <a:lnTo>
                      <a:pt x="795" y="1883"/>
                    </a:lnTo>
                    <a:lnTo>
                      <a:pt x="789" y="1891"/>
                    </a:lnTo>
                    <a:lnTo>
                      <a:pt x="782" y="1898"/>
                    </a:lnTo>
                    <a:lnTo>
                      <a:pt x="774" y="1903"/>
                    </a:lnTo>
                    <a:lnTo>
                      <a:pt x="769" y="1904"/>
                    </a:lnTo>
                    <a:lnTo>
                      <a:pt x="765" y="1906"/>
                    </a:lnTo>
                    <a:lnTo>
                      <a:pt x="759" y="1907"/>
                    </a:lnTo>
                    <a:lnTo>
                      <a:pt x="753" y="1907"/>
                    </a:lnTo>
                    <a:lnTo>
                      <a:pt x="745" y="1907"/>
                    </a:lnTo>
                    <a:lnTo>
                      <a:pt x="737" y="1906"/>
                    </a:lnTo>
                    <a:lnTo>
                      <a:pt x="730" y="1903"/>
                    </a:lnTo>
                    <a:lnTo>
                      <a:pt x="724" y="1900"/>
                    </a:lnTo>
                    <a:lnTo>
                      <a:pt x="717" y="1896"/>
                    </a:lnTo>
                    <a:lnTo>
                      <a:pt x="712" y="1892"/>
                    </a:lnTo>
                    <a:lnTo>
                      <a:pt x="707" y="1887"/>
                    </a:lnTo>
                    <a:lnTo>
                      <a:pt x="701" y="1882"/>
                    </a:lnTo>
                    <a:lnTo>
                      <a:pt x="698" y="1877"/>
                    </a:lnTo>
                    <a:lnTo>
                      <a:pt x="692" y="1870"/>
                    </a:lnTo>
                    <a:lnTo>
                      <a:pt x="684" y="1855"/>
                    </a:lnTo>
                    <a:lnTo>
                      <a:pt x="676" y="1841"/>
                    </a:lnTo>
                    <a:lnTo>
                      <a:pt x="670" y="1826"/>
                    </a:lnTo>
                    <a:lnTo>
                      <a:pt x="663" y="1812"/>
                    </a:lnTo>
                    <a:lnTo>
                      <a:pt x="655" y="1796"/>
                    </a:lnTo>
                    <a:lnTo>
                      <a:pt x="647" y="1783"/>
                    </a:lnTo>
                    <a:lnTo>
                      <a:pt x="642" y="1776"/>
                    </a:lnTo>
                    <a:lnTo>
                      <a:pt x="638" y="1771"/>
                    </a:lnTo>
                    <a:lnTo>
                      <a:pt x="633" y="1766"/>
                    </a:lnTo>
                    <a:lnTo>
                      <a:pt x="628" y="1761"/>
                    </a:lnTo>
                    <a:lnTo>
                      <a:pt x="622" y="1757"/>
                    </a:lnTo>
                    <a:lnTo>
                      <a:pt x="616" y="1753"/>
                    </a:lnTo>
                    <a:lnTo>
                      <a:pt x="609" y="1750"/>
                    </a:lnTo>
                    <a:lnTo>
                      <a:pt x="603" y="1747"/>
                    </a:lnTo>
                    <a:lnTo>
                      <a:pt x="595" y="1746"/>
                    </a:lnTo>
                    <a:lnTo>
                      <a:pt x="587" y="1746"/>
                    </a:lnTo>
                    <a:lnTo>
                      <a:pt x="580" y="1746"/>
                    </a:lnTo>
                    <a:lnTo>
                      <a:pt x="575" y="1747"/>
                    </a:lnTo>
                    <a:lnTo>
                      <a:pt x="566" y="1751"/>
                    </a:lnTo>
                    <a:lnTo>
                      <a:pt x="555" y="1755"/>
                    </a:lnTo>
                    <a:lnTo>
                      <a:pt x="550" y="1757"/>
                    </a:lnTo>
                    <a:lnTo>
                      <a:pt x="545" y="1757"/>
                    </a:lnTo>
                    <a:lnTo>
                      <a:pt x="534" y="1755"/>
                    </a:lnTo>
                    <a:lnTo>
                      <a:pt x="530" y="1755"/>
                    </a:lnTo>
                    <a:lnTo>
                      <a:pt x="525" y="1754"/>
                    </a:lnTo>
                    <a:lnTo>
                      <a:pt x="517" y="1750"/>
                    </a:lnTo>
                    <a:lnTo>
                      <a:pt x="509" y="1746"/>
                    </a:lnTo>
                    <a:lnTo>
                      <a:pt x="502" y="1741"/>
                    </a:lnTo>
                    <a:lnTo>
                      <a:pt x="496" y="1735"/>
                    </a:lnTo>
                    <a:lnTo>
                      <a:pt x="484" y="1722"/>
                    </a:lnTo>
                    <a:lnTo>
                      <a:pt x="473" y="1706"/>
                    </a:lnTo>
                    <a:lnTo>
                      <a:pt x="461" y="1691"/>
                    </a:lnTo>
                    <a:lnTo>
                      <a:pt x="455" y="1683"/>
                    </a:lnTo>
                    <a:lnTo>
                      <a:pt x="448" y="1676"/>
                    </a:lnTo>
                    <a:lnTo>
                      <a:pt x="442" y="1668"/>
                    </a:lnTo>
                    <a:lnTo>
                      <a:pt x="434" y="1662"/>
                    </a:lnTo>
                    <a:lnTo>
                      <a:pt x="417" y="1648"/>
                    </a:lnTo>
                    <a:lnTo>
                      <a:pt x="401" y="1635"/>
                    </a:lnTo>
                    <a:lnTo>
                      <a:pt x="388" y="1622"/>
                    </a:lnTo>
                    <a:lnTo>
                      <a:pt x="374" y="1609"/>
                    </a:lnTo>
                    <a:lnTo>
                      <a:pt x="348" y="1581"/>
                    </a:lnTo>
                    <a:lnTo>
                      <a:pt x="335" y="1567"/>
                    </a:lnTo>
                    <a:lnTo>
                      <a:pt x="319" y="1551"/>
                    </a:lnTo>
                    <a:lnTo>
                      <a:pt x="310" y="1542"/>
                    </a:lnTo>
                    <a:lnTo>
                      <a:pt x="303" y="1532"/>
                    </a:lnTo>
                    <a:lnTo>
                      <a:pt x="290" y="1514"/>
                    </a:lnTo>
                    <a:lnTo>
                      <a:pt x="283" y="1505"/>
                    </a:lnTo>
                    <a:lnTo>
                      <a:pt x="275" y="1495"/>
                    </a:lnTo>
                    <a:lnTo>
                      <a:pt x="268" y="1488"/>
                    </a:lnTo>
                    <a:lnTo>
                      <a:pt x="264" y="1482"/>
                    </a:lnTo>
                    <a:lnTo>
                      <a:pt x="258" y="1478"/>
                    </a:lnTo>
                    <a:lnTo>
                      <a:pt x="212" y="1444"/>
                    </a:lnTo>
                    <a:lnTo>
                      <a:pt x="191" y="1428"/>
                    </a:lnTo>
                    <a:lnTo>
                      <a:pt x="182" y="1419"/>
                    </a:lnTo>
                    <a:lnTo>
                      <a:pt x="173" y="1410"/>
                    </a:lnTo>
                    <a:lnTo>
                      <a:pt x="163" y="1400"/>
                    </a:lnTo>
                    <a:lnTo>
                      <a:pt x="157" y="1391"/>
                    </a:lnTo>
                    <a:lnTo>
                      <a:pt x="150" y="1381"/>
                    </a:lnTo>
                    <a:lnTo>
                      <a:pt x="144" y="1370"/>
                    </a:lnTo>
                    <a:lnTo>
                      <a:pt x="140" y="1358"/>
                    </a:lnTo>
                    <a:lnTo>
                      <a:pt x="137" y="1346"/>
                    </a:lnTo>
                    <a:lnTo>
                      <a:pt x="136" y="1340"/>
                    </a:lnTo>
                    <a:lnTo>
                      <a:pt x="134" y="1333"/>
                    </a:lnTo>
                    <a:lnTo>
                      <a:pt x="133" y="1319"/>
                    </a:lnTo>
                    <a:lnTo>
                      <a:pt x="134" y="1307"/>
                    </a:lnTo>
                    <a:lnTo>
                      <a:pt x="134" y="1295"/>
                    </a:lnTo>
                    <a:lnTo>
                      <a:pt x="136" y="1283"/>
                    </a:lnTo>
                    <a:lnTo>
                      <a:pt x="138" y="1273"/>
                    </a:lnTo>
                    <a:lnTo>
                      <a:pt x="140" y="1262"/>
                    </a:lnTo>
                    <a:lnTo>
                      <a:pt x="144" y="1253"/>
                    </a:lnTo>
                    <a:lnTo>
                      <a:pt x="146" y="1242"/>
                    </a:lnTo>
                    <a:lnTo>
                      <a:pt x="150" y="1233"/>
                    </a:lnTo>
                    <a:lnTo>
                      <a:pt x="154" y="1224"/>
                    </a:lnTo>
                    <a:lnTo>
                      <a:pt x="159" y="1215"/>
                    </a:lnTo>
                    <a:lnTo>
                      <a:pt x="170" y="1197"/>
                    </a:lnTo>
                    <a:lnTo>
                      <a:pt x="183" y="1180"/>
                    </a:lnTo>
                    <a:lnTo>
                      <a:pt x="198" y="1164"/>
                    </a:lnTo>
                    <a:lnTo>
                      <a:pt x="195" y="1159"/>
                    </a:lnTo>
                    <a:lnTo>
                      <a:pt x="194" y="1153"/>
                    </a:lnTo>
                    <a:lnTo>
                      <a:pt x="192" y="1146"/>
                    </a:lnTo>
                    <a:lnTo>
                      <a:pt x="192" y="1139"/>
                    </a:lnTo>
                    <a:lnTo>
                      <a:pt x="192" y="1133"/>
                    </a:lnTo>
                    <a:lnTo>
                      <a:pt x="194" y="1130"/>
                    </a:lnTo>
                    <a:lnTo>
                      <a:pt x="195" y="1126"/>
                    </a:lnTo>
                    <a:lnTo>
                      <a:pt x="198" y="1121"/>
                    </a:lnTo>
                    <a:lnTo>
                      <a:pt x="202" y="1116"/>
                    </a:lnTo>
                    <a:lnTo>
                      <a:pt x="210" y="1105"/>
                    </a:lnTo>
                    <a:lnTo>
                      <a:pt x="217" y="1093"/>
                    </a:lnTo>
                    <a:lnTo>
                      <a:pt x="221" y="1084"/>
                    </a:lnTo>
                    <a:lnTo>
                      <a:pt x="224" y="1073"/>
                    </a:lnTo>
                    <a:lnTo>
                      <a:pt x="229" y="1054"/>
                    </a:lnTo>
                    <a:lnTo>
                      <a:pt x="232" y="1044"/>
                    </a:lnTo>
                    <a:lnTo>
                      <a:pt x="237" y="1035"/>
                    </a:lnTo>
                    <a:lnTo>
                      <a:pt x="240" y="1031"/>
                    </a:lnTo>
                    <a:lnTo>
                      <a:pt x="243" y="1029"/>
                    </a:lnTo>
                    <a:lnTo>
                      <a:pt x="246" y="1025"/>
                    </a:lnTo>
                    <a:lnTo>
                      <a:pt x="250" y="1022"/>
                    </a:lnTo>
                    <a:lnTo>
                      <a:pt x="272" y="1010"/>
                    </a:lnTo>
                    <a:lnTo>
                      <a:pt x="293" y="1000"/>
                    </a:lnTo>
                    <a:lnTo>
                      <a:pt x="312" y="989"/>
                    </a:lnTo>
                    <a:lnTo>
                      <a:pt x="331" y="978"/>
                    </a:lnTo>
                    <a:lnTo>
                      <a:pt x="339" y="973"/>
                    </a:lnTo>
                    <a:lnTo>
                      <a:pt x="347" y="967"/>
                    </a:lnTo>
                    <a:lnTo>
                      <a:pt x="353" y="959"/>
                    </a:lnTo>
                    <a:lnTo>
                      <a:pt x="359" y="952"/>
                    </a:lnTo>
                    <a:lnTo>
                      <a:pt x="364" y="943"/>
                    </a:lnTo>
                    <a:lnTo>
                      <a:pt x="365" y="939"/>
                    </a:lnTo>
                    <a:lnTo>
                      <a:pt x="366" y="934"/>
                    </a:lnTo>
                    <a:lnTo>
                      <a:pt x="369" y="923"/>
                    </a:lnTo>
                    <a:lnTo>
                      <a:pt x="369" y="913"/>
                    </a:lnTo>
                    <a:lnTo>
                      <a:pt x="369" y="839"/>
                    </a:lnTo>
                    <a:lnTo>
                      <a:pt x="370" y="827"/>
                    </a:lnTo>
                    <a:lnTo>
                      <a:pt x="374" y="814"/>
                    </a:lnTo>
                    <a:lnTo>
                      <a:pt x="378" y="800"/>
                    </a:lnTo>
                    <a:lnTo>
                      <a:pt x="385" y="789"/>
                    </a:lnTo>
                    <a:lnTo>
                      <a:pt x="392" y="777"/>
                    </a:lnTo>
                    <a:lnTo>
                      <a:pt x="399" y="765"/>
                    </a:lnTo>
                    <a:lnTo>
                      <a:pt x="409" y="754"/>
                    </a:lnTo>
                    <a:lnTo>
                      <a:pt x="417" y="744"/>
                    </a:lnTo>
                    <a:lnTo>
                      <a:pt x="434" y="725"/>
                    </a:lnTo>
                    <a:lnTo>
                      <a:pt x="443" y="719"/>
                    </a:lnTo>
                    <a:lnTo>
                      <a:pt x="450" y="712"/>
                    </a:lnTo>
                    <a:lnTo>
                      <a:pt x="460" y="703"/>
                    </a:lnTo>
                    <a:lnTo>
                      <a:pt x="464" y="700"/>
                    </a:lnTo>
                    <a:lnTo>
                      <a:pt x="341" y="555"/>
                    </a:lnTo>
                    <a:lnTo>
                      <a:pt x="323" y="534"/>
                    </a:lnTo>
                    <a:lnTo>
                      <a:pt x="305" y="517"/>
                    </a:lnTo>
                    <a:lnTo>
                      <a:pt x="286" y="500"/>
                    </a:lnTo>
                    <a:lnTo>
                      <a:pt x="269" y="485"/>
                    </a:lnTo>
                    <a:lnTo>
                      <a:pt x="252" y="469"/>
                    </a:lnTo>
                    <a:lnTo>
                      <a:pt x="235" y="452"/>
                    </a:lnTo>
                    <a:lnTo>
                      <a:pt x="227" y="443"/>
                    </a:lnTo>
                    <a:lnTo>
                      <a:pt x="219" y="433"/>
                    </a:lnTo>
                    <a:lnTo>
                      <a:pt x="211" y="422"/>
                    </a:lnTo>
                    <a:lnTo>
                      <a:pt x="203" y="410"/>
                    </a:lnTo>
                    <a:lnTo>
                      <a:pt x="199" y="402"/>
                    </a:lnTo>
                    <a:lnTo>
                      <a:pt x="196" y="396"/>
                    </a:lnTo>
                    <a:lnTo>
                      <a:pt x="191" y="382"/>
                    </a:lnTo>
                    <a:lnTo>
                      <a:pt x="186" y="369"/>
                    </a:lnTo>
                    <a:lnTo>
                      <a:pt x="181" y="355"/>
                    </a:lnTo>
                    <a:lnTo>
                      <a:pt x="178" y="349"/>
                    </a:lnTo>
                    <a:lnTo>
                      <a:pt x="175" y="347"/>
                    </a:lnTo>
                    <a:lnTo>
                      <a:pt x="173" y="344"/>
                    </a:lnTo>
                    <a:lnTo>
                      <a:pt x="169" y="342"/>
                    </a:lnTo>
                    <a:lnTo>
                      <a:pt x="165" y="340"/>
                    </a:lnTo>
                    <a:lnTo>
                      <a:pt x="161" y="339"/>
                    </a:lnTo>
                    <a:lnTo>
                      <a:pt x="152" y="338"/>
                    </a:lnTo>
                    <a:lnTo>
                      <a:pt x="142" y="336"/>
                    </a:lnTo>
                    <a:lnTo>
                      <a:pt x="132" y="335"/>
                    </a:lnTo>
                    <a:lnTo>
                      <a:pt x="128" y="334"/>
                    </a:lnTo>
                    <a:lnTo>
                      <a:pt x="124" y="332"/>
                    </a:lnTo>
                    <a:lnTo>
                      <a:pt x="120" y="330"/>
                    </a:lnTo>
                    <a:lnTo>
                      <a:pt x="116" y="327"/>
                    </a:lnTo>
                    <a:lnTo>
                      <a:pt x="90" y="301"/>
                    </a:lnTo>
                    <a:lnTo>
                      <a:pt x="78" y="287"/>
                    </a:lnTo>
                    <a:lnTo>
                      <a:pt x="67" y="274"/>
                    </a:lnTo>
                    <a:lnTo>
                      <a:pt x="57" y="261"/>
                    </a:lnTo>
                    <a:lnTo>
                      <a:pt x="47" y="248"/>
                    </a:lnTo>
                    <a:lnTo>
                      <a:pt x="38" y="233"/>
                    </a:lnTo>
                    <a:lnTo>
                      <a:pt x="30" y="220"/>
                    </a:lnTo>
                    <a:lnTo>
                      <a:pt x="24" y="206"/>
                    </a:lnTo>
                    <a:lnTo>
                      <a:pt x="17" y="191"/>
                    </a:lnTo>
                    <a:lnTo>
                      <a:pt x="12" y="175"/>
                    </a:lnTo>
                    <a:lnTo>
                      <a:pt x="8" y="160"/>
                    </a:lnTo>
                    <a:lnTo>
                      <a:pt x="4" y="144"/>
                    </a:lnTo>
                    <a:lnTo>
                      <a:pt x="1" y="127"/>
                    </a:lnTo>
                    <a:lnTo>
                      <a:pt x="0" y="108"/>
                    </a:lnTo>
                    <a:lnTo>
                      <a:pt x="0" y="90"/>
                    </a:lnTo>
                    <a:lnTo>
                      <a:pt x="1" y="75"/>
                    </a:lnTo>
                    <a:lnTo>
                      <a:pt x="3" y="69"/>
                    </a:lnTo>
                    <a:lnTo>
                      <a:pt x="4" y="62"/>
                    </a:lnTo>
                    <a:lnTo>
                      <a:pt x="8" y="49"/>
                    </a:lnTo>
                    <a:lnTo>
                      <a:pt x="14" y="36"/>
                    </a:lnTo>
                    <a:lnTo>
                      <a:pt x="18" y="30"/>
                    </a:lnTo>
                    <a:lnTo>
                      <a:pt x="22" y="25"/>
                    </a:lnTo>
                    <a:lnTo>
                      <a:pt x="28" y="20"/>
                    </a:lnTo>
                    <a:lnTo>
                      <a:pt x="33" y="16"/>
                    </a:lnTo>
                    <a:lnTo>
                      <a:pt x="38" y="12"/>
                    </a:lnTo>
                    <a:lnTo>
                      <a:pt x="43" y="8"/>
                    </a:lnTo>
                    <a:lnTo>
                      <a:pt x="49" y="5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721560" y="1103400"/>
                <a:ext cx="1103400" cy="981000"/>
              </a:xfrm>
              <a:custGeom>
                <a:avLst/>
                <a:gdLst/>
                <a:ahLst/>
                <a:rect l="l" t="t" r="r" b="b"/>
                <a:pathLst>
                  <a:path w="2143" h="1901">
                    <a:moveTo>
                      <a:pt x="887" y="653"/>
                    </a:moveTo>
                    <a:lnTo>
                      <a:pt x="891" y="640"/>
                    </a:lnTo>
                    <a:lnTo>
                      <a:pt x="895" y="628"/>
                    </a:lnTo>
                    <a:lnTo>
                      <a:pt x="901" y="615"/>
                    </a:lnTo>
                    <a:lnTo>
                      <a:pt x="908" y="604"/>
                    </a:lnTo>
                    <a:lnTo>
                      <a:pt x="911" y="599"/>
                    </a:lnTo>
                    <a:lnTo>
                      <a:pt x="916" y="595"/>
                    </a:lnTo>
                    <a:lnTo>
                      <a:pt x="920" y="591"/>
                    </a:lnTo>
                    <a:lnTo>
                      <a:pt x="926" y="588"/>
                    </a:lnTo>
                    <a:lnTo>
                      <a:pt x="931" y="586"/>
                    </a:lnTo>
                    <a:lnTo>
                      <a:pt x="936" y="583"/>
                    </a:lnTo>
                    <a:lnTo>
                      <a:pt x="943" y="582"/>
                    </a:lnTo>
                    <a:lnTo>
                      <a:pt x="949" y="582"/>
                    </a:lnTo>
                    <a:lnTo>
                      <a:pt x="953" y="582"/>
                    </a:lnTo>
                    <a:lnTo>
                      <a:pt x="956" y="583"/>
                    </a:lnTo>
                    <a:lnTo>
                      <a:pt x="961" y="586"/>
                    </a:lnTo>
                    <a:lnTo>
                      <a:pt x="966" y="590"/>
                    </a:lnTo>
                    <a:lnTo>
                      <a:pt x="969" y="595"/>
                    </a:lnTo>
                    <a:lnTo>
                      <a:pt x="976" y="608"/>
                    </a:lnTo>
                    <a:lnTo>
                      <a:pt x="978" y="615"/>
                    </a:lnTo>
                    <a:lnTo>
                      <a:pt x="982" y="621"/>
                    </a:lnTo>
                    <a:lnTo>
                      <a:pt x="985" y="624"/>
                    </a:lnTo>
                    <a:lnTo>
                      <a:pt x="988" y="627"/>
                    </a:lnTo>
                    <a:lnTo>
                      <a:pt x="990" y="629"/>
                    </a:lnTo>
                    <a:lnTo>
                      <a:pt x="994" y="631"/>
                    </a:lnTo>
                    <a:lnTo>
                      <a:pt x="1001" y="632"/>
                    </a:lnTo>
                    <a:lnTo>
                      <a:pt x="1010" y="633"/>
                    </a:lnTo>
                    <a:lnTo>
                      <a:pt x="1026" y="633"/>
                    </a:lnTo>
                    <a:lnTo>
                      <a:pt x="1031" y="633"/>
                    </a:lnTo>
                    <a:lnTo>
                      <a:pt x="1035" y="635"/>
                    </a:lnTo>
                    <a:lnTo>
                      <a:pt x="1039" y="636"/>
                    </a:lnTo>
                    <a:lnTo>
                      <a:pt x="1043" y="639"/>
                    </a:lnTo>
                    <a:lnTo>
                      <a:pt x="1048" y="643"/>
                    </a:lnTo>
                    <a:lnTo>
                      <a:pt x="1054" y="646"/>
                    </a:lnTo>
                    <a:lnTo>
                      <a:pt x="1056" y="652"/>
                    </a:lnTo>
                    <a:lnTo>
                      <a:pt x="1060" y="657"/>
                    </a:lnTo>
                    <a:lnTo>
                      <a:pt x="1063" y="662"/>
                    </a:lnTo>
                    <a:lnTo>
                      <a:pt x="1067" y="668"/>
                    </a:lnTo>
                    <a:lnTo>
                      <a:pt x="1071" y="672"/>
                    </a:lnTo>
                    <a:lnTo>
                      <a:pt x="1076" y="677"/>
                    </a:lnTo>
                    <a:lnTo>
                      <a:pt x="1083" y="662"/>
                    </a:lnTo>
                    <a:lnTo>
                      <a:pt x="1088" y="650"/>
                    </a:lnTo>
                    <a:lnTo>
                      <a:pt x="1098" y="628"/>
                    </a:lnTo>
                    <a:lnTo>
                      <a:pt x="1102" y="616"/>
                    </a:lnTo>
                    <a:lnTo>
                      <a:pt x="1106" y="604"/>
                    </a:lnTo>
                    <a:lnTo>
                      <a:pt x="1109" y="591"/>
                    </a:lnTo>
                    <a:lnTo>
                      <a:pt x="1109" y="583"/>
                    </a:lnTo>
                    <a:lnTo>
                      <a:pt x="1109" y="577"/>
                    </a:lnTo>
                    <a:lnTo>
                      <a:pt x="1127" y="577"/>
                    </a:lnTo>
                    <a:lnTo>
                      <a:pt x="1127" y="599"/>
                    </a:lnTo>
                    <a:lnTo>
                      <a:pt x="1127" y="610"/>
                    </a:lnTo>
                    <a:lnTo>
                      <a:pt x="1127" y="621"/>
                    </a:lnTo>
                    <a:lnTo>
                      <a:pt x="1133" y="619"/>
                    </a:lnTo>
                    <a:lnTo>
                      <a:pt x="1137" y="616"/>
                    </a:lnTo>
                    <a:lnTo>
                      <a:pt x="1142" y="610"/>
                    </a:lnTo>
                    <a:lnTo>
                      <a:pt x="1145" y="606"/>
                    </a:lnTo>
                    <a:lnTo>
                      <a:pt x="1147" y="602"/>
                    </a:lnTo>
                    <a:lnTo>
                      <a:pt x="1148" y="598"/>
                    </a:lnTo>
                    <a:lnTo>
                      <a:pt x="1150" y="592"/>
                    </a:lnTo>
                    <a:lnTo>
                      <a:pt x="1154" y="573"/>
                    </a:lnTo>
                    <a:lnTo>
                      <a:pt x="1156" y="562"/>
                    </a:lnTo>
                    <a:lnTo>
                      <a:pt x="1160" y="552"/>
                    </a:lnTo>
                    <a:lnTo>
                      <a:pt x="1154" y="549"/>
                    </a:lnTo>
                    <a:lnTo>
                      <a:pt x="1148" y="546"/>
                    </a:lnTo>
                    <a:lnTo>
                      <a:pt x="1143" y="541"/>
                    </a:lnTo>
                    <a:lnTo>
                      <a:pt x="1139" y="537"/>
                    </a:lnTo>
                    <a:lnTo>
                      <a:pt x="1135" y="533"/>
                    </a:lnTo>
                    <a:lnTo>
                      <a:pt x="1130" y="529"/>
                    </a:lnTo>
                    <a:lnTo>
                      <a:pt x="1125" y="528"/>
                    </a:lnTo>
                    <a:lnTo>
                      <a:pt x="1118" y="526"/>
                    </a:lnTo>
                    <a:lnTo>
                      <a:pt x="1112" y="526"/>
                    </a:lnTo>
                    <a:lnTo>
                      <a:pt x="1108" y="529"/>
                    </a:lnTo>
                    <a:lnTo>
                      <a:pt x="1102" y="530"/>
                    </a:lnTo>
                    <a:lnTo>
                      <a:pt x="1098" y="534"/>
                    </a:lnTo>
                    <a:lnTo>
                      <a:pt x="1096" y="538"/>
                    </a:lnTo>
                    <a:lnTo>
                      <a:pt x="1092" y="542"/>
                    </a:lnTo>
                    <a:lnTo>
                      <a:pt x="1085" y="552"/>
                    </a:lnTo>
                    <a:lnTo>
                      <a:pt x="1084" y="545"/>
                    </a:lnTo>
                    <a:lnTo>
                      <a:pt x="1081" y="538"/>
                    </a:lnTo>
                    <a:lnTo>
                      <a:pt x="1080" y="532"/>
                    </a:lnTo>
                    <a:lnTo>
                      <a:pt x="1080" y="524"/>
                    </a:lnTo>
                    <a:lnTo>
                      <a:pt x="1080" y="520"/>
                    </a:lnTo>
                    <a:lnTo>
                      <a:pt x="1080" y="516"/>
                    </a:lnTo>
                    <a:lnTo>
                      <a:pt x="1084" y="509"/>
                    </a:lnTo>
                    <a:lnTo>
                      <a:pt x="1088" y="503"/>
                    </a:lnTo>
                    <a:lnTo>
                      <a:pt x="1092" y="497"/>
                    </a:lnTo>
                    <a:lnTo>
                      <a:pt x="1104" y="487"/>
                    </a:lnTo>
                    <a:lnTo>
                      <a:pt x="1108" y="480"/>
                    </a:lnTo>
                    <a:lnTo>
                      <a:pt x="1110" y="476"/>
                    </a:lnTo>
                    <a:lnTo>
                      <a:pt x="1112" y="474"/>
                    </a:lnTo>
                    <a:lnTo>
                      <a:pt x="1118" y="476"/>
                    </a:lnTo>
                    <a:lnTo>
                      <a:pt x="1123" y="480"/>
                    </a:lnTo>
                    <a:lnTo>
                      <a:pt x="1133" y="490"/>
                    </a:lnTo>
                    <a:lnTo>
                      <a:pt x="1137" y="494"/>
                    </a:lnTo>
                    <a:lnTo>
                      <a:pt x="1142" y="496"/>
                    </a:lnTo>
                    <a:lnTo>
                      <a:pt x="1145" y="497"/>
                    </a:lnTo>
                    <a:lnTo>
                      <a:pt x="1147" y="497"/>
                    </a:lnTo>
                    <a:lnTo>
                      <a:pt x="1154" y="499"/>
                    </a:lnTo>
                    <a:lnTo>
                      <a:pt x="1159" y="499"/>
                    </a:lnTo>
                    <a:lnTo>
                      <a:pt x="1166" y="497"/>
                    </a:lnTo>
                    <a:lnTo>
                      <a:pt x="1170" y="496"/>
                    </a:lnTo>
                    <a:lnTo>
                      <a:pt x="1175" y="495"/>
                    </a:lnTo>
                    <a:lnTo>
                      <a:pt x="1184" y="490"/>
                    </a:lnTo>
                    <a:lnTo>
                      <a:pt x="1188" y="487"/>
                    </a:lnTo>
                    <a:lnTo>
                      <a:pt x="1192" y="483"/>
                    </a:lnTo>
                    <a:lnTo>
                      <a:pt x="1196" y="480"/>
                    </a:lnTo>
                    <a:lnTo>
                      <a:pt x="1200" y="476"/>
                    </a:lnTo>
                    <a:lnTo>
                      <a:pt x="1205" y="467"/>
                    </a:lnTo>
                    <a:lnTo>
                      <a:pt x="1209" y="457"/>
                    </a:lnTo>
                    <a:lnTo>
                      <a:pt x="1213" y="446"/>
                    </a:lnTo>
                    <a:lnTo>
                      <a:pt x="1207" y="443"/>
                    </a:lnTo>
                    <a:lnTo>
                      <a:pt x="1200" y="441"/>
                    </a:lnTo>
                    <a:lnTo>
                      <a:pt x="1193" y="437"/>
                    </a:lnTo>
                    <a:lnTo>
                      <a:pt x="1188" y="432"/>
                    </a:lnTo>
                    <a:lnTo>
                      <a:pt x="1184" y="428"/>
                    </a:lnTo>
                    <a:lnTo>
                      <a:pt x="1180" y="422"/>
                    </a:lnTo>
                    <a:lnTo>
                      <a:pt x="1176" y="416"/>
                    </a:lnTo>
                    <a:lnTo>
                      <a:pt x="1174" y="410"/>
                    </a:lnTo>
                    <a:lnTo>
                      <a:pt x="1171" y="404"/>
                    </a:lnTo>
                    <a:lnTo>
                      <a:pt x="1168" y="397"/>
                    </a:lnTo>
                    <a:lnTo>
                      <a:pt x="1164" y="383"/>
                    </a:lnTo>
                    <a:lnTo>
                      <a:pt x="1163" y="368"/>
                    </a:lnTo>
                    <a:lnTo>
                      <a:pt x="1163" y="352"/>
                    </a:lnTo>
                    <a:lnTo>
                      <a:pt x="1163" y="344"/>
                    </a:lnTo>
                    <a:lnTo>
                      <a:pt x="1164" y="338"/>
                    </a:lnTo>
                    <a:lnTo>
                      <a:pt x="1166" y="331"/>
                    </a:lnTo>
                    <a:lnTo>
                      <a:pt x="1168" y="326"/>
                    </a:lnTo>
                    <a:lnTo>
                      <a:pt x="1175" y="314"/>
                    </a:lnTo>
                    <a:lnTo>
                      <a:pt x="1183" y="301"/>
                    </a:lnTo>
                    <a:lnTo>
                      <a:pt x="1180" y="286"/>
                    </a:lnTo>
                    <a:lnTo>
                      <a:pt x="1176" y="286"/>
                    </a:lnTo>
                    <a:lnTo>
                      <a:pt x="1174" y="285"/>
                    </a:lnTo>
                    <a:lnTo>
                      <a:pt x="1170" y="285"/>
                    </a:lnTo>
                    <a:lnTo>
                      <a:pt x="1166" y="284"/>
                    </a:lnTo>
                    <a:lnTo>
                      <a:pt x="1163" y="284"/>
                    </a:lnTo>
                    <a:lnTo>
                      <a:pt x="1159" y="285"/>
                    </a:lnTo>
                    <a:lnTo>
                      <a:pt x="1156" y="286"/>
                    </a:lnTo>
                    <a:lnTo>
                      <a:pt x="1154" y="288"/>
                    </a:lnTo>
                    <a:lnTo>
                      <a:pt x="1150" y="292"/>
                    </a:lnTo>
                    <a:lnTo>
                      <a:pt x="1146" y="292"/>
                    </a:lnTo>
                    <a:lnTo>
                      <a:pt x="1143" y="293"/>
                    </a:lnTo>
                    <a:lnTo>
                      <a:pt x="1137" y="292"/>
                    </a:lnTo>
                    <a:lnTo>
                      <a:pt x="1133" y="290"/>
                    </a:lnTo>
                    <a:lnTo>
                      <a:pt x="1127" y="288"/>
                    </a:lnTo>
                    <a:lnTo>
                      <a:pt x="1123" y="284"/>
                    </a:lnTo>
                    <a:lnTo>
                      <a:pt x="1116" y="279"/>
                    </a:lnTo>
                    <a:lnTo>
                      <a:pt x="1110" y="276"/>
                    </a:lnTo>
                    <a:lnTo>
                      <a:pt x="1105" y="276"/>
                    </a:lnTo>
                    <a:lnTo>
                      <a:pt x="1097" y="276"/>
                    </a:lnTo>
                    <a:lnTo>
                      <a:pt x="1090" y="277"/>
                    </a:lnTo>
                    <a:lnTo>
                      <a:pt x="1085" y="279"/>
                    </a:lnTo>
                    <a:lnTo>
                      <a:pt x="1080" y="281"/>
                    </a:lnTo>
                    <a:lnTo>
                      <a:pt x="1073" y="285"/>
                    </a:lnTo>
                    <a:lnTo>
                      <a:pt x="1069" y="289"/>
                    </a:lnTo>
                    <a:lnTo>
                      <a:pt x="1064" y="293"/>
                    </a:lnTo>
                    <a:lnTo>
                      <a:pt x="1060" y="298"/>
                    </a:lnTo>
                    <a:lnTo>
                      <a:pt x="1055" y="290"/>
                    </a:lnTo>
                    <a:lnTo>
                      <a:pt x="1051" y="283"/>
                    </a:lnTo>
                    <a:lnTo>
                      <a:pt x="1050" y="280"/>
                    </a:lnTo>
                    <a:lnTo>
                      <a:pt x="1050" y="275"/>
                    </a:lnTo>
                    <a:lnTo>
                      <a:pt x="1048" y="271"/>
                    </a:lnTo>
                    <a:lnTo>
                      <a:pt x="1048" y="267"/>
                    </a:lnTo>
                    <a:lnTo>
                      <a:pt x="1048" y="263"/>
                    </a:lnTo>
                    <a:lnTo>
                      <a:pt x="1050" y="259"/>
                    </a:lnTo>
                    <a:lnTo>
                      <a:pt x="1052" y="252"/>
                    </a:lnTo>
                    <a:lnTo>
                      <a:pt x="1055" y="246"/>
                    </a:lnTo>
                    <a:lnTo>
                      <a:pt x="1060" y="239"/>
                    </a:lnTo>
                    <a:lnTo>
                      <a:pt x="1050" y="234"/>
                    </a:lnTo>
                    <a:lnTo>
                      <a:pt x="1046" y="231"/>
                    </a:lnTo>
                    <a:lnTo>
                      <a:pt x="1039" y="231"/>
                    </a:lnTo>
                    <a:lnTo>
                      <a:pt x="1034" y="231"/>
                    </a:lnTo>
                    <a:lnTo>
                      <a:pt x="1028" y="232"/>
                    </a:lnTo>
                    <a:lnTo>
                      <a:pt x="1018" y="236"/>
                    </a:lnTo>
                    <a:lnTo>
                      <a:pt x="1017" y="232"/>
                    </a:lnTo>
                    <a:lnTo>
                      <a:pt x="1014" y="230"/>
                    </a:lnTo>
                    <a:lnTo>
                      <a:pt x="1013" y="227"/>
                    </a:lnTo>
                    <a:lnTo>
                      <a:pt x="1011" y="223"/>
                    </a:lnTo>
                    <a:lnTo>
                      <a:pt x="1013" y="221"/>
                    </a:lnTo>
                    <a:lnTo>
                      <a:pt x="1013" y="218"/>
                    </a:lnTo>
                    <a:lnTo>
                      <a:pt x="1015" y="213"/>
                    </a:lnTo>
                    <a:lnTo>
                      <a:pt x="1018" y="209"/>
                    </a:lnTo>
                    <a:lnTo>
                      <a:pt x="1022" y="205"/>
                    </a:lnTo>
                    <a:lnTo>
                      <a:pt x="1026" y="199"/>
                    </a:lnTo>
                    <a:lnTo>
                      <a:pt x="1028" y="195"/>
                    </a:lnTo>
                    <a:lnTo>
                      <a:pt x="1031" y="192"/>
                    </a:lnTo>
                    <a:lnTo>
                      <a:pt x="1031" y="189"/>
                    </a:lnTo>
                    <a:lnTo>
                      <a:pt x="1032" y="185"/>
                    </a:lnTo>
                    <a:lnTo>
                      <a:pt x="1031" y="181"/>
                    </a:lnTo>
                    <a:lnTo>
                      <a:pt x="1031" y="178"/>
                    </a:lnTo>
                    <a:lnTo>
                      <a:pt x="1030" y="174"/>
                    </a:lnTo>
                    <a:lnTo>
                      <a:pt x="1027" y="172"/>
                    </a:lnTo>
                    <a:lnTo>
                      <a:pt x="1025" y="169"/>
                    </a:lnTo>
                    <a:lnTo>
                      <a:pt x="1022" y="168"/>
                    </a:lnTo>
                    <a:lnTo>
                      <a:pt x="1017" y="164"/>
                    </a:lnTo>
                    <a:lnTo>
                      <a:pt x="1003" y="156"/>
                    </a:lnTo>
                    <a:lnTo>
                      <a:pt x="997" y="151"/>
                    </a:lnTo>
                    <a:lnTo>
                      <a:pt x="990" y="145"/>
                    </a:lnTo>
                    <a:lnTo>
                      <a:pt x="993" y="127"/>
                    </a:lnTo>
                    <a:lnTo>
                      <a:pt x="1035" y="127"/>
                    </a:lnTo>
                    <a:lnTo>
                      <a:pt x="1065" y="136"/>
                    </a:lnTo>
                    <a:lnTo>
                      <a:pt x="1083" y="136"/>
                    </a:lnTo>
                    <a:lnTo>
                      <a:pt x="1085" y="115"/>
                    </a:lnTo>
                    <a:lnTo>
                      <a:pt x="1079" y="114"/>
                    </a:lnTo>
                    <a:lnTo>
                      <a:pt x="1073" y="111"/>
                    </a:lnTo>
                    <a:lnTo>
                      <a:pt x="1068" y="110"/>
                    </a:lnTo>
                    <a:lnTo>
                      <a:pt x="1063" y="106"/>
                    </a:lnTo>
                    <a:lnTo>
                      <a:pt x="1059" y="103"/>
                    </a:lnTo>
                    <a:lnTo>
                      <a:pt x="1054" y="99"/>
                    </a:lnTo>
                    <a:lnTo>
                      <a:pt x="1051" y="94"/>
                    </a:lnTo>
                    <a:lnTo>
                      <a:pt x="1047" y="90"/>
                    </a:lnTo>
                    <a:lnTo>
                      <a:pt x="1042" y="79"/>
                    </a:lnTo>
                    <a:lnTo>
                      <a:pt x="1039" y="74"/>
                    </a:lnTo>
                    <a:lnTo>
                      <a:pt x="1038" y="68"/>
                    </a:lnTo>
                    <a:lnTo>
                      <a:pt x="1035" y="56"/>
                    </a:lnTo>
                    <a:lnTo>
                      <a:pt x="1035" y="49"/>
                    </a:lnTo>
                    <a:lnTo>
                      <a:pt x="1035" y="42"/>
                    </a:lnTo>
                    <a:lnTo>
                      <a:pt x="1035" y="37"/>
                    </a:lnTo>
                    <a:lnTo>
                      <a:pt x="1035" y="32"/>
                    </a:lnTo>
                    <a:lnTo>
                      <a:pt x="1038" y="21"/>
                    </a:lnTo>
                    <a:lnTo>
                      <a:pt x="1040" y="11"/>
                    </a:lnTo>
                    <a:lnTo>
                      <a:pt x="1043" y="0"/>
                    </a:lnTo>
                    <a:lnTo>
                      <a:pt x="1047" y="2"/>
                    </a:lnTo>
                    <a:lnTo>
                      <a:pt x="1051" y="3"/>
                    </a:lnTo>
                    <a:lnTo>
                      <a:pt x="1056" y="7"/>
                    </a:lnTo>
                    <a:lnTo>
                      <a:pt x="1063" y="11"/>
                    </a:lnTo>
                    <a:lnTo>
                      <a:pt x="1067" y="16"/>
                    </a:lnTo>
                    <a:lnTo>
                      <a:pt x="1071" y="23"/>
                    </a:lnTo>
                    <a:lnTo>
                      <a:pt x="1075" y="29"/>
                    </a:lnTo>
                    <a:lnTo>
                      <a:pt x="1076" y="37"/>
                    </a:lnTo>
                    <a:lnTo>
                      <a:pt x="1076" y="45"/>
                    </a:lnTo>
                    <a:lnTo>
                      <a:pt x="1079" y="44"/>
                    </a:lnTo>
                    <a:lnTo>
                      <a:pt x="1080" y="41"/>
                    </a:lnTo>
                    <a:lnTo>
                      <a:pt x="1084" y="39"/>
                    </a:lnTo>
                    <a:lnTo>
                      <a:pt x="1087" y="35"/>
                    </a:lnTo>
                    <a:lnTo>
                      <a:pt x="1088" y="35"/>
                    </a:lnTo>
                    <a:lnTo>
                      <a:pt x="1090" y="33"/>
                    </a:lnTo>
                    <a:lnTo>
                      <a:pt x="1096" y="35"/>
                    </a:lnTo>
                    <a:lnTo>
                      <a:pt x="1101" y="35"/>
                    </a:lnTo>
                    <a:lnTo>
                      <a:pt x="1105" y="37"/>
                    </a:lnTo>
                    <a:lnTo>
                      <a:pt x="1109" y="39"/>
                    </a:lnTo>
                    <a:lnTo>
                      <a:pt x="1113" y="41"/>
                    </a:lnTo>
                    <a:lnTo>
                      <a:pt x="1117" y="44"/>
                    </a:lnTo>
                    <a:lnTo>
                      <a:pt x="1119" y="48"/>
                    </a:lnTo>
                    <a:lnTo>
                      <a:pt x="1123" y="52"/>
                    </a:lnTo>
                    <a:lnTo>
                      <a:pt x="1129" y="60"/>
                    </a:lnTo>
                    <a:lnTo>
                      <a:pt x="1133" y="69"/>
                    </a:lnTo>
                    <a:lnTo>
                      <a:pt x="1141" y="90"/>
                    </a:lnTo>
                    <a:lnTo>
                      <a:pt x="1148" y="110"/>
                    </a:lnTo>
                    <a:lnTo>
                      <a:pt x="1154" y="119"/>
                    </a:lnTo>
                    <a:lnTo>
                      <a:pt x="1156" y="123"/>
                    </a:lnTo>
                    <a:lnTo>
                      <a:pt x="1159" y="127"/>
                    </a:lnTo>
                    <a:lnTo>
                      <a:pt x="1166" y="135"/>
                    </a:lnTo>
                    <a:lnTo>
                      <a:pt x="1172" y="140"/>
                    </a:lnTo>
                    <a:lnTo>
                      <a:pt x="1176" y="141"/>
                    </a:lnTo>
                    <a:lnTo>
                      <a:pt x="1181" y="144"/>
                    </a:lnTo>
                    <a:lnTo>
                      <a:pt x="1185" y="144"/>
                    </a:lnTo>
                    <a:lnTo>
                      <a:pt x="1191" y="145"/>
                    </a:lnTo>
                    <a:lnTo>
                      <a:pt x="1216" y="145"/>
                    </a:lnTo>
                    <a:lnTo>
                      <a:pt x="1216" y="123"/>
                    </a:lnTo>
                    <a:lnTo>
                      <a:pt x="1204" y="86"/>
                    </a:lnTo>
                    <a:lnTo>
                      <a:pt x="1204" y="32"/>
                    </a:lnTo>
                    <a:lnTo>
                      <a:pt x="1205" y="27"/>
                    </a:lnTo>
                    <a:lnTo>
                      <a:pt x="1208" y="21"/>
                    </a:lnTo>
                    <a:lnTo>
                      <a:pt x="1210" y="17"/>
                    </a:lnTo>
                    <a:lnTo>
                      <a:pt x="1214" y="15"/>
                    </a:lnTo>
                    <a:lnTo>
                      <a:pt x="1220" y="12"/>
                    </a:lnTo>
                    <a:lnTo>
                      <a:pt x="1225" y="10"/>
                    </a:lnTo>
                    <a:lnTo>
                      <a:pt x="1230" y="8"/>
                    </a:lnTo>
                    <a:lnTo>
                      <a:pt x="1237" y="8"/>
                    </a:lnTo>
                    <a:lnTo>
                      <a:pt x="1242" y="10"/>
                    </a:lnTo>
                    <a:lnTo>
                      <a:pt x="1243" y="10"/>
                    </a:lnTo>
                    <a:lnTo>
                      <a:pt x="1246" y="11"/>
                    </a:lnTo>
                    <a:lnTo>
                      <a:pt x="1250" y="13"/>
                    </a:lnTo>
                    <a:lnTo>
                      <a:pt x="1253" y="17"/>
                    </a:lnTo>
                    <a:lnTo>
                      <a:pt x="1257" y="21"/>
                    </a:lnTo>
                    <a:lnTo>
                      <a:pt x="1259" y="25"/>
                    </a:lnTo>
                    <a:lnTo>
                      <a:pt x="1263" y="28"/>
                    </a:lnTo>
                    <a:lnTo>
                      <a:pt x="1268" y="31"/>
                    </a:lnTo>
                    <a:lnTo>
                      <a:pt x="1296" y="44"/>
                    </a:lnTo>
                    <a:lnTo>
                      <a:pt x="1309" y="50"/>
                    </a:lnTo>
                    <a:lnTo>
                      <a:pt x="1321" y="58"/>
                    </a:lnTo>
                    <a:lnTo>
                      <a:pt x="1327" y="62"/>
                    </a:lnTo>
                    <a:lnTo>
                      <a:pt x="1332" y="66"/>
                    </a:lnTo>
                    <a:lnTo>
                      <a:pt x="1336" y="72"/>
                    </a:lnTo>
                    <a:lnTo>
                      <a:pt x="1340" y="77"/>
                    </a:lnTo>
                    <a:lnTo>
                      <a:pt x="1342" y="83"/>
                    </a:lnTo>
                    <a:lnTo>
                      <a:pt x="1344" y="89"/>
                    </a:lnTo>
                    <a:lnTo>
                      <a:pt x="1345" y="97"/>
                    </a:lnTo>
                    <a:lnTo>
                      <a:pt x="1346" y="103"/>
                    </a:lnTo>
                    <a:lnTo>
                      <a:pt x="1345" y="106"/>
                    </a:lnTo>
                    <a:lnTo>
                      <a:pt x="1344" y="108"/>
                    </a:lnTo>
                    <a:lnTo>
                      <a:pt x="1338" y="112"/>
                    </a:lnTo>
                    <a:lnTo>
                      <a:pt x="1336" y="114"/>
                    </a:lnTo>
                    <a:lnTo>
                      <a:pt x="1334" y="115"/>
                    </a:lnTo>
                    <a:lnTo>
                      <a:pt x="1332" y="118"/>
                    </a:lnTo>
                    <a:lnTo>
                      <a:pt x="1332" y="120"/>
                    </a:lnTo>
                    <a:lnTo>
                      <a:pt x="1332" y="124"/>
                    </a:lnTo>
                    <a:lnTo>
                      <a:pt x="1333" y="128"/>
                    </a:lnTo>
                    <a:lnTo>
                      <a:pt x="1334" y="131"/>
                    </a:lnTo>
                    <a:lnTo>
                      <a:pt x="1336" y="133"/>
                    </a:lnTo>
                    <a:lnTo>
                      <a:pt x="1340" y="137"/>
                    </a:lnTo>
                    <a:lnTo>
                      <a:pt x="1345" y="141"/>
                    </a:lnTo>
                    <a:lnTo>
                      <a:pt x="1358" y="148"/>
                    </a:lnTo>
                    <a:lnTo>
                      <a:pt x="1365" y="152"/>
                    </a:lnTo>
                    <a:lnTo>
                      <a:pt x="1371" y="156"/>
                    </a:lnTo>
                    <a:lnTo>
                      <a:pt x="1383" y="165"/>
                    </a:lnTo>
                    <a:lnTo>
                      <a:pt x="1392" y="174"/>
                    </a:lnTo>
                    <a:lnTo>
                      <a:pt x="1402" y="184"/>
                    </a:lnTo>
                    <a:lnTo>
                      <a:pt x="1410" y="193"/>
                    </a:lnTo>
                    <a:lnTo>
                      <a:pt x="1427" y="213"/>
                    </a:lnTo>
                    <a:lnTo>
                      <a:pt x="1447" y="234"/>
                    </a:lnTo>
                    <a:lnTo>
                      <a:pt x="1450" y="238"/>
                    </a:lnTo>
                    <a:lnTo>
                      <a:pt x="1456" y="240"/>
                    </a:lnTo>
                    <a:lnTo>
                      <a:pt x="1464" y="247"/>
                    </a:lnTo>
                    <a:lnTo>
                      <a:pt x="1468" y="251"/>
                    </a:lnTo>
                    <a:lnTo>
                      <a:pt x="1472" y="255"/>
                    </a:lnTo>
                    <a:lnTo>
                      <a:pt x="1473" y="257"/>
                    </a:lnTo>
                    <a:lnTo>
                      <a:pt x="1473" y="259"/>
                    </a:lnTo>
                    <a:lnTo>
                      <a:pt x="1474" y="265"/>
                    </a:lnTo>
                    <a:lnTo>
                      <a:pt x="1473" y="269"/>
                    </a:lnTo>
                    <a:lnTo>
                      <a:pt x="1472" y="272"/>
                    </a:lnTo>
                    <a:lnTo>
                      <a:pt x="1470" y="276"/>
                    </a:lnTo>
                    <a:lnTo>
                      <a:pt x="1469" y="280"/>
                    </a:lnTo>
                    <a:lnTo>
                      <a:pt x="1469" y="284"/>
                    </a:lnTo>
                    <a:lnTo>
                      <a:pt x="1470" y="286"/>
                    </a:lnTo>
                    <a:lnTo>
                      <a:pt x="1472" y="288"/>
                    </a:lnTo>
                    <a:lnTo>
                      <a:pt x="1477" y="293"/>
                    </a:lnTo>
                    <a:lnTo>
                      <a:pt x="1483" y="298"/>
                    </a:lnTo>
                    <a:lnTo>
                      <a:pt x="1486" y="301"/>
                    </a:lnTo>
                    <a:lnTo>
                      <a:pt x="1487" y="305"/>
                    </a:lnTo>
                    <a:lnTo>
                      <a:pt x="1480" y="339"/>
                    </a:lnTo>
                    <a:lnTo>
                      <a:pt x="1480" y="401"/>
                    </a:lnTo>
                    <a:lnTo>
                      <a:pt x="1490" y="400"/>
                    </a:lnTo>
                    <a:lnTo>
                      <a:pt x="1499" y="400"/>
                    </a:lnTo>
                    <a:lnTo>
                      <a:pt x="1509" y="401"/>
                    </a:lnTo>
                    <a:lnTo>
                      <a:pt x="1519" y="401"/>
                    </a:lnTo>
                    <a:lnTo>
                      <a:pt x="1526" y="401"/>
                    </a:lnTo>
                    <a:lnTo>
                      <a:pt x="1531" y="400"/>
                    </a:lnTo>
                    <a:lnTo>
                      <a:pt x="1535" y="399"/>
                    </a:lnTo>
                    <a:lnTo>
                      <a:pt x="1540" y="396"/>
                    </a:lnTo>
                    <a:lnTo>
                      <a:pt x="1548" y="391"/>
                    </a:lnTo>
                    <a:lnTo>
                      <a:pt x="1557" y="384"/>
                    </a:lnTo>
                    <a:lnTo>
                      <a:pt x="1565" y="377"/>
                    </a:lnTo>
                    <a:lnTo>
                      <a:pt x="1573" y="372"/>
                    </a:lnTo>
                    <a:lnTo>
                      <a:pt x="1578" y="371"/>
                    </a:lnTo>
                    <a:lnTo>
                      <a:pt x="1582" y="368"/>
                    </a:lnTo>
                    <a:lnTo>
                      <a:pt x="1588" y="368"/>
                    </a:lnTo>
                    <a:lnTo>
                      <a:pt x="1594" y="367"/>
                    </a:lnTo>
                    <a:lnTo>
                      <a:pt x="1594" y="347"/>
                    </a:lnTo>
                    <a:lnTo>
                      <a:pt x="1596" y="335"/>
                    </a:lnTo>
                    <a:lnTo>
                      <a:pt x="1597" y="325"/>
                    </a:lnTo>
                    <a:lnTo>
                      <a:pt x="1600" y="315"/>
                    </a:lnTo>
                    <a:lnTo>
                      <a:pt x="1601" y="305"/>
                    </a:lnTo>
                    <a:lnTo>
                      <a:pt x="1605" y="296"/>
                    </a:lnTo>
                    <a:lnTo>
                      <a:pt x="1607" y="286"/>
                    </a:lnTo>
                    <a:lnTo>
                      <a:pt x="1611" y="277"/>
                    </a:lnTo>
                    <a:lnTo>
                      <a:pt x="1617" y="269"/>
                    </a:lnTo>
                    <a:lnTo>
                      <a:pt x="1619" y="265"/>
                    </a:lnTo>
                    <a:lnTo>
                      <a:pt x="1622" y="263"/>
                    </a:lnTo>
                    <a:lnTo>
                      <a:pt x="1626" y="259"/>
                    </a:lnTo>
                    <a:lnTo>
                      <a:pt x="1629" y="256"/>
                    </a:lnTo>
                    <a:lnTo>
                      <a:pt x="1636" y="252"/>
                    </a:lnTo>
                    <a:lnTo>
                      <a:pt x="1644" y="248"/>
                    </a:lnTo>
                    <a:lnTo>
                      <a:pt x="1652" y="246"/>
                    </a:lnTo>
                    <a:lnTo>
                      <a:pt x="1658" y="246"/>
                    </a:lnTo>
                    <a:lnTo>
                      <a:pt x="1663" y="246"/>
                    </a:lnTo>
                    <a:lnTo>
                      <a:pt x="1671" y="246"/>
                    </a:lnTo>
                    <a:lnTo>
                      <a:pt x="1677" y="248"/>
                    </a:lnTo>
                    <a:lnTo>
                      <a:pt x="1685" y="252"/>
                    </a:lnTo>
                    <a:lnTo>
                      <a:pt x="1688" y="253"/>
                    </a:lnTo>
                    <a:lnTo>
                      <a:pt x="1691" y="256"/>
                    </a:lnTo>
                    <a:lnTo>
                      <a:pt x="1693" y="259"/>
                    </a:lnTo>
                    <a:lnTo>
                      <a:pt x="1696" y="261"/>
                    </a:lnTo>
                    <a:lnTo>
                      <a:pt x="1700" y="269"/>
                    </a:lnTo>
                    <a:lnTo>
                      <a:pt x="1701" y="272"/>
                    </a:lnTo>
                    <a:lnTo>
                      <a:pt x="1702" y="276"/>
                    </a:lnTo>
                    <a:lnTo>
                      <a:pt x="1702" y="284"/>
                    </a:lnTo>
                    <a:lnTo>
                      <a:pt x="1702" y="288"/>
                    </a:lnTo>
                    <a:lnTo>
                      <a:pt x="1701" y="292"/>
                    </a:lnTo>
                    <a:lnTo>
                      <a:pt x="1700" y="294"/>
                    </a:lnTo>
                    <a:lnTo>
                      <a:pt x="1698" y="297"/>
                    </a:lnTo>
                    <a:lnTo>
                      <a:pt x="1696" y="300"/>
                    </a:lnTo>
                    <a:lnTo>
                      <a:pt x="1693" y="302"/>
                    </a:lnTo>
                    <a:lnTo>
                      <a:pt x="1687" y="308"/>
                    </a:lnTo>
                    <a:lnTo>
                      <a:pt x="1681" y="313"/>
                    </a:lnTo>
                    <a:lnTo>
                      <a:pt x="1679" y="314"/>
                    </a:lnTo>
                    <a:lnTo>
                      <a:pt x="1676" y="318"/>
                    </a:lnTo>
                    <a:lnTo>
                      <a:pt x="1673" y="323"/>
                    </a:lnTo>
                    <a:lnTo>
                      <a:pt x="1672" y="327"/>
                    </a:lnTo>
                    <a:lnTo>
                      <a:pt x="1672" y="331"/>
                    </a:lnTo>
                    <a:lnTo>
                      <a:pt x="1672" y="333"/>
                    </a:lnTo>
                    <a:lnTo>
                      <a:pt x="1672" y="334"/>
                    </a:lnTo>
                    <a:lnTo>
                      <a:pt x="1675" y="337"/>
                    </a:lnTo>
                    <a:lnTo>
                      <a:pt x="1676" y="339"/>
                    </a:lnTo>
                    <a:lnTo>
                      <a:pt x="1677" y="341"/>
                    </a:lnTo>
                    <a:lnTo>
                      <a:pt x="1677" y="342"/>
                    </a:lnTo>
                    <a:lnTo>
                      <a:pt x="1676" y="346"/>
                    </a:lnTo>
                    <a:lnTo>
                      <a:pt x="1675" y="348"/>
                    </a:lnTo>
                    <a:lnTo>
                      <a:pt x="1672" y="351"/>
                    </a:lnTo>
                    <a:lnTo>
                      <a:pt x="1669" y="354"/>
                    </a:lnTo>
                    <a:lnTo>
                      <a:pt x="1665" y="359"/>
                    </a:lnTo>
                    <a:lnTo>
                      <a:pt x="1664" y="362"/>
                    </a:lnTo>
                    <a:lnTo>
                      <a:pt x="1663" y="366"/>
                    </a:lnTo>
                    <a:lnTo>
                      <a:pt x="1663" y="368"/>
                    </a:lnTo>
                    <a:lnTo>
                      <a:pt x="1664" y="371"/>
                    </a:lnTo>
                    <a:lnTo>
                      <a:pt x="1667" y="376"/>
                    </a:lnTo>
                    <a:lnTo>
                      <a:pt x="1669" y="381"/>
                    </a:lnTo>
                    <a:lnTo>
                      <a:pt x="1672" y="387"/>
                    </a:lnTo>
                    <a:lnTo>
                      <a:pt x="1665" y="389"/>
                    </a:lnTo>
                    <a:lnTo>
                      <a:pt x="1660" y="392"/>
                    </a:lnTo>
                    <a:lnTo>
                      <a:pt x="1656" y="396"/>
                    </a:lnTo>
                    <a:lnTo>
                      <a:pt x="1652" y="400"/>
                    </a:lnTo>
                    <a:lnTo>
                      <a:pt x="1648" y="404"/>
                    </a:lnTo>
                    <a:lnTo>
                      <a:pt x="1647" y="409"/>
                    </a:lnTo>
                    <a:lnTo>
                      <a:pt x="1644" y="414"/>
                    </a:lnTo>
                    <a:lnTo>
                      <a:pt x="1644" y="421"/>
                    </a:lnTo>
                    <a:lnTo>
                      <a:pt x="1646" y="428"/>
                    </a:lnTo>
                    <a:lnTo>
                      <a:pt x="1646" y="430"/>
                    </a:lnTo>
                    <a:lnTo>
                      <a:pt x="1647" y="433"/>
                    </a:lnTo>
                    <a:lnTo>
                      <a:pt x="1648" y="435"/>
                    </a:lnTo>
                    <a:lnTo>
                      <a:pt x="1650" y="438"/>
                    </a:lnTo>
                    <a:lnTo>
                      <a:pt x="1654" y="443"/>
                    </a:lnTo>
                    <a:lnTo>
                      <a:pt x="1661" y="451"/>
                    </a:lnTo>
                    <a:lnTo>
                      <a:pt x="1672" y="462"/>
                    </a:lnTo>
                    <a:lnTo>
                      <a:pt x="1668" y="466"/>
                    </a:lnTo>
                    <a:lnTo>
                      <a:pt x="1663" y="470"/>
                    </a:lnTo>
                    <a:lnTo>
                      <a:pt x="1654" y="476"/>
                    </a:lnTo>
                    <a:lnTo>
                      <a:pt x="1644" y="468"/>
                    </a:lnTo>
                    <a:lnTo>
                      <a:pt x="1636" y="462"/>
                    </a:lnTo>
                    <a:lnTo>
                      <a:pt x="1632" y="459"/>
                    </a:lnTo>
                    <a:lnTo>
                      <a:pt x="1627" y="458"/>
                    </a:lnTo>
                    <a:lnTo>
                      <a:pt x="1622" y="455"/>
                    </a:lnTo>
                    <a:lnTo>
                      <a:pt x="1615" y="455"/>
                    </a:lnTo>
                    <a:lnTo>
                      <a:pt x="1619" y="459"/>
                    </a:lnTo>
                    <a:lnTo>
                      <a:pt x="1623" y="463"/>
                    </a:lnTo>
                    <a:lnTo>
                      <a:pt x="1631" y="471"/>
                    </a:lnTo>
                    <a:lnTo>
                      <a:pt x="1640" y="478"/>
                    </a:lnTo>
                    <a:lnTo>
                      <a:pt x="1648" y="483"/>
                    </a:lnTo>
                    <a:lnTo>
                      <a:pt x="1656" y="490"/>
                    </a:lnTo>
                    <a:lnTo>
                      <a:pt x="1663" y="496"/>
                    </a:lnTo>
                    <a:lnTo>
                      <a:pt x="1665" y="500"/>
                    </a:lnTo>
                    <a:lnTo>
                      <a:pt x="1667" y="504"/>
                    </a:lnTo>
                    <a:lnTo>
                      <a:pt x="1668" y="509"/>
                    </a:lnTo>
                    <a:lnTo>
                      <a:pt x="1668" y="515"/>
                    </a:lnTo>
                    <a:lnTo>
                      <a:pt x="1668" y="517"/>
                    </a:lnTo>
                    <a:lnTo>
                      <a:pt x="1668" y="520"/>
                    </a:lnTo>
                    <a:lnTo>
                      <a:pt x="1665" y="525"/>
                    </a:lnTo>
                    <a:lnTo>
                      <a:pt x="1664" y="529"/>
                    </a:lnTo>
                    <a:lnTo>
                      <a:pt x="1663" y="532"/>
                    </a:lnTo>
                    <a:lnTo>
                      <a:pt x="1663" y="534"/>
                    </a:lnTo>
                    <a:lnTo>
                      <a:pt x="1663" y="537"/>
                    </a:lnTo>
                    <a:lnTo>
                      <a:pt x="1664" y="538"/>
                    </a:lnTo>
                    <a:lnTo>
                      <a:pt x="1665" y="541"/>
                    </a:lnTo>
                    <a:lnTo>
                      <a:pt x="1669" y="542"/>
                    </a:lnTo>
                    <a:lnTo>
                      <a:pt x="1673" y="544"/>
                    </a:lnTo>
                    <a:lnTo>
                      <a:pt x="1676" y="545"/>
                    </a:lnTo>
                    <a:lnTo>
                      <a:pt x="1680" y="546"/>
                    </a:lnTo>
                    <a:lnTo>
                      <a:pt x="1683" y="549"/>
                    </a:lnTo>
                    <a:lnTo>
                      <a:pt x="1683" y="550"/>
                    </a:lnTo>
                    <a:lnTo>
                      <a:pt x="1683" y="552"/>
                    </a:lnTo>
                    <a:lnTo>
                      <a:pt x="1683" y="558"/>
                    </a:lnTo>
                    <a:lnTo>
                      <a:pt x="1680" y="565"/>
                    </a:lnTo>
                    <a:lnTo>
                      <a:pt x="1679" y="570"/>
                    </a:lnTo>
                    <a:lnTo>
                      <a:pt x="1676" y="575"/>
                    </a:lnTo>
                    <a:lnTo>
                      <a:pt x="1673" y="581"/>
                    </a:lnTo>
                    <a:lnTo>
                      <a:pt x="1671" y="586"/>
                    </a:lnTo>
                    <a:lnTo>
                      <a:pt x="1669" y="591"/>
                    </a:lnTo>
                    <a:lnTo>
                      <a:pt x="1668" y="598"/>
                    </a:lnTo>
                    <a:lnTo>
                      <a:pt x="1669" y="603"/>
                    </a:lnTo>
                    <a:lnTo>
                      <a:pt x="1669" y="608"/>
                    </a:lnTo>
                    <a:lnTo>
                      <a:pt x="1672" y="617"/>
                    </a:lnTo>
                    <a:lnTo>
                      <a:pt x="1676" y="616"/>
                    </a:lnTo>
                    <a:lnTo>
                      <a:pt x="1680" y="615"/>
                    </a:lnTo>
                    <a:lnTo>
                      <a:pt x="1688" y="611"/>
                    </a:lnTo>
                    <a:lnTo>
                      <a:pt x="1696" y="608"/>
                    </a:lnTo>
                    <a:lnTo>
                      <a:pt x="1701" y="607"/>
                    </a:lnTo>
                    <a:lnTo>
                      <a:pt x="1705" y="607"/>
                    </a:lnTo>
                    <a:lnTo>
                      <a:pt x="1709" y="607"/>
                    </a:lnTo>
                    <a:lnTo>
                      <a:pt x="1710" y="610"/>
                    </a:lnTo>
                    <a:lnTo>
                      <a:pt x="1713" y="611"/>
                    </a:lnTo>
                    <a:lnTo>
                      <a:pt x="1716" y="612"/>
                    </a:lnTo>
                    <a:lnTo>
                      <a:pt x="1716" y="616"/>
                    </a:lnTo>
                    <a:lnTo>
                      <a:pt x="1713" y="620"/>
                    </a:lnTo>
                    <a:lnTo>
                      <a:pt x="1709" y="627"/>
                    </a:lnTo>
                    <a:lnTo>
                      <a:pt x="1704" y="632"/>
                    </a:lnTo>
                    <a:lnTo>
                      <a:pt x="1698" y="637"/>
                    </a:lnTo>
                    <a:lnTo>
                      <a:pt x="1692" y="641"/>
                    </a:lnTo>
                    <a:lnTo>
                      <a:pt x="1688" y="646"/>
                    </a:lnTo>
                    <a:lnTo>
                      <a:pt x="1685" y="650"/>
                    </a:lnTo>
                    <a:lnTo>
                      <a:pt x="1684" y="653"/>
                    </a:lnTo>
                    <a:lnTo>
                      <a:pt x="1683" y="657"/>
                    </a:lnTo>
                    <a:lnTo>
                      <a:pt x="1683" y="661"/>
                    </a:lnTo>
                    <a:lnTo>
                      <a:pt x="1683" y="669"/>
                    </a:lnTo>
                    <a:lnTo>
                      <a:pt x="1684" y="677"/>
                    </a:lnTo>
                    <a:lnTo>
                      <a:pt x="1687" y="685"/>
                    </a:lnTo>
                    <a:lnTo>
                      <a:pt x="1689" y="691"/>
                    </a:lnTo>
                    <a:lnTo>
                      <a:pt x="1693" y="698"/>
                    </a:lnTo>
                    <a:lnTo>
                      <a:pt x="1696" y="705"/>
                    </a:lnTo>
                    <a:lnTo>
                      <a:pt x="1701" y="711"/>
                    </a:lnTo>
                    <a:lnTo>
                      <a:pt x="1706" y="716"/>
                    </a:lnTo>
                    <a:lnTo>
                      <a:pt x="1717" y="727"/>
                    </a:lnTo>
                    <a:lnTo>
                      <a:pt x="1730" y="736"/>
                    </a:lnTo>
                    <a:lnTo>
                      <a:pt x="1743" y="745"/>
                    </a:lnTo>
                    <a:lnTo>
                      <a:pt x="1756" y="755"/>
                    </a:lnTo>
                    <a:lnTo>
                      <a:pt x="1784" y="772"/>
                    </a:lnTo>
                    <a:lnTo>
                      <a:pt x="1796" y="782"/>
                    </a:lnTo>
                    <a:lnTo>
                      <a:pt x="1808" y="793"/>
                    </a:lnTo>
                    <a:lnTo>
                      <a:pt x="1812" y="798"/>
                    </a:lnTo>
                    <a:lnTo>
                      <a:pt x="1817" y="803"/>
                    </a:lnTo>
                    <a:lnTo>
                      <a:pt x="1821" y="810"/>
                    </a:lnTo>
                    <a:lnTo>
                      <a:pt x="1824" y="817"/>
                    </a:lnTo>
                    <a:lnTo>
                      <a:pt x="1826" y="823"/>
                    </a:lnTo>
                    <a:lnTo>
                      <a:pt x="1829" y="831"/>
                    </a:lnTo>
                    <a:lnTo>
                      <a:pt x="1830" y="839"/>
                    </a:lnTo>
                    <a:lnTo>
                      <a:pt x="1830" y="848"/>
                    </a:lnTo>
                    <a:lnTo>
                      <a:pt x="1830" y="868"/>
                    </a:lnTo>
                    <a:lnTo>
                      <a:pt x="1878" y="868"/>
                    </a:lnTo>
                    <a:lnTo>
                      <a:pt x="1882" y="868"/>
                    </a:lnTo>
                    <a:lnTo>
                      <a:pt x="1886" y="865"/>
                    </a:lnTo>
                    <a:lnTo>
                      <a:pt x="1888" y="864"/>
                    </a:lnTo>
                    <a:lnTo>
                      <a:pt x="1891" y="861"/>
                    </a:lnTo>
                    <a:lnTo>
                      <a:pt x="1895" y="859"/>
                    </a:lnTo>
                    <a:lnTo>
                      <a:pt x="1898" y="856"/>
                    </a:lnTo>
                    <a:lnTo>
                      <a:pt x="1902" y="855"/>
                    </a:lnTo>
                    <a:lnTo>
                      <a:pt x="1905" y="854"/>
                    </a:lnTo>
                    <a:lnTo>
                      <a:pt x="1916" y="855"/>
                    </a:lnTo>
                    <a:lnTo>
                      <a:pt x="1925" y="855"/>
                    </a:lnTo>
                    <a:lnTo>
                      <a:pt x="1936" y="857"/>
                    </a:lnTo>
                    <a:lnTo>
                      <a:pt x="1944" y="860"/>
                    </a:lnTo>
                    <a:lnTo>
                      <a:pt x="1953" y="863"/>
                    </a:lnTo>
                    <a:lnTo>
                      <a:pt x="1961" y="865"/>
                    </a:lnTo>
                    <a:lnTo>
                      <a:pt x="1969" y="869"/>
                    </a:lnTo>
                    <a:lnTo>
                      <a:pt x="1977" y="875"/>
                    </a:lnTo>
                    <a:lnTo>
                      <a:pt x="1991" y="884"/>
                    </a:lnTo>
                    <a:lnTo>
                      <a:pt x="2007" y="894"/>
                    </a:lnTo>
                    <a:lnTo>
                      <a:pt x="2024" y="905"/>
                    </a:lnTo>
                    <a:lnTo>
                      <a:pt x="2041" y="916"/>
                    </a:lnTo>
                    <a:lnTo>
                      <a:pt x="2040" y="918"/>
                    </a:lnTo>
                    <a:lnTo>
                      <a:pt x="2039" y="921"/>
                    </a:lnTo>
                    <a:lnTo>
                      <a:pt x="2037" y="923"/>
                    </a:lnTo>
                    <a:lnTo>
                      <a:pt x="2035" y="925"/>
                    </a:lnTo>
                    <a:lnTo>
                      <a:pt x="2025" y="933"/>
                    </a:lnTo>
                    <a:lnTo>
                      <a:pt x="2022" y="935"/>
                    </a:lnTo>
                    <a:lnTo>
                      <a:pt x="2019" y="938"/>
                    </a:lnTo>
                    <a:lnTo>
                      <a:pt x="2018" y="939"/>
                    </a:lnTo>
                    <a:lnTo>
                      <a:pt x="2015" y="945"/>
                    </a:lnTo>
                    <a:lnTo>
                      <a:pt x="2015" y="947"/>
                    </a:lnTo>
                    <a:lnTo>
                      <a:pt x="2014" y="950"/>
                    </a:lnTo>
                    <a:lnTo>
                      <a:pt x="2015" y="952"/>
                    </a:lnTo>
                    <a:lnTo>
                      <a:pt x="2016" y="956"/>
                    </a:lnTo>
                    <a:lnTo>
                      <a:pt x="2020" y="960"/>
                    </a:lnTo>
                    <a:lnTo>
                      <a:pt x="2024" y="966"/>
                    </a:lnTo>
                    <a:lnTo>
                      <a:pt x="2025" y="968"/>
                    </a:lnTo>
                    <a:lnTo>
                      <a:pt x="2025" y="971"/>
                    </a:lnTo>
                    <a:lnTo>
                      <a:pt x="2025" y="976"/>
                    </a:lnTo>
                    <a:lnTo>
                      <a:pt x="2024" y="980"/>
                    </a:lnTo>
                    <a:lnTo>
                      <a:pt x="2023" y="985"/>
                    </a:lnTo>
                    <a:lnTo>
                      <a:pt x="2020" y="989"/>
                    </a:lnTo>
                    <a:lnTo>
                      <a:pt x="2015" y="996"/>
                    </a:lnTo>
                    <a:lnTo>
                      <a:pt x="2008" y="1003"/>
                    </a:lnTo>
                    <a:lnTo>
                      <a:pt x="2002" y="1009"/>
                    </a:lnTo>
                    <a:lnTo>
                      <a:pt x="1996" y="1016"/>
                    </a:lnTo>
                    <a:lnTo>
                      <a:pt x="1993" y="1024"/>
                    </a:lnTo>
                    <a:lnTo>
                      <a:pt x="1991" y="1029"/>
                    </a:lnTo>
                    <a:lnTo>
                      <a:pt x="1991" y="1034"/>
                    </a:lnTo>
                    <a:lnTo>
                      <a:pt x="1991" y="1043"/>
                    </a:lnTo>
                    <a:lnTo>
                      <a:pt x="1993" y="1051"/>
                    </a:lnTo>
                    <a:lnTo>
                      <a:pt x="1994" y="1059"/>
                    </a:lnTo>
                    <a:lnTo>
                      <a:pt x="1995" y="1066"/>
                    </a:lnTo>
                    <a:lnTo>
                      <a:pt x="1999" y="1082"/>
                    </a:lnTo>
                    <a:lnTo>
                      <a:pt x="1999" y="1090"/>
                    </a:lnTo>
                    <a:lnTo>
                      <a:pt x="2000" y="1099"/>
                    </a:lnTo>
                    <a:lnTo>
                      <a:pt x="1970" y="1099"/>
                    </a:lnTo>
                    <a:lnTo>
                      <a:pt x="1965" y="1099"/>
                    </a:lnTo>
                    <a:lnTo>
                      <a:pt x="1960" y="1097"/>
                    </a:lnTo>
                    <a:lnTo>
                      <a:pt x="1954" y="1095"/>
                    </a:lnTo>
                    <a:lnTo>
                      <a:pt x="1949" y="1094"/>
                    </a:lnTo>
                    <a:lnTo>
                      <a:pt x="1941" y="1087"/>
                    </a:lnTo>
                    <a:lnTo>
                      <a:pt x="1933" y="1079"/>
                    </a:lnTo>
                    <a:lnTo>
                      <a:pt x="1924" y="1072"/>
                    </a:lnTo>
                    <a:lnTo>
                      <a:pt x="1916" y="1066"/>
                    </a:lnTo>
                    <a:lnTo>
                      <a:pt x="1911" y="1063"/>
                    </a:lnTo>
                    <a:lnTo>
                      <a:pt x="1907" y="1062"/>
                    </a:lnTo>
                    <a:lnTo>
                      <a:pt x="1900" y="1061"/>
                    </a:lnTo>
                    <a:lnTo>
                      <a:pt x="1895" y="1061"/>
                    </a:lnTo>
                    <a:lnTo>
                      <a:pt x="1879" y="1061"/>
                    </a:lnTo>
                    <a:lnTo>
                      <a:pt x="1866" y="1063"/>
                    </a:lnTo>
                    <a:lnTo>
                      <a:pt x="1853" y="1067"/>
                    </a:lnTo>
                    <a:lnTo>
                      <a:pt x="1840" y="1071"/>
                    </a:lnTo>
                    <a:lnTo>
                      <a:pt x="1828" y="1078"/>
                    </a:lnTo>
                    <a:lnTo>
                      <a:pt x="1817" y="1083"/>
                    </a:lnTo>
                    <a:lnTo>
                      <a:pt x="1795" y="1097"/>
                    </a:lnTo>
                    <a:lnTo>
                      <a:pt x="1774" y="1113"/>
                    </a:lnTo>
                    <a:lnTo>
                      <a:pt x="1763" y="1121"/>
                    </a:lnTo>
                    <a:lnTo>
                      <a:pt x="1752" y="1128"/>
                    </a:lnTo>
                    <a:lnTo>
                      <a:pt x="1742" y="1134"/>
                    </a:lnTo>
                    <a:lnTo>
                      <a:pt x="1735" y="1138"/>
                    </a:lnTo>
                    <a:lnTo>
                      <a:pt x="1730" y="1141"/>
                    </a:lnTo>
                    <a:lnTo>
                      <a:pt x="1718" y="1146"/>
                    </a:lnTo>
                    <a:lnTo>
                      <a:pt x="1705" y="1150"/>
                    </a:lnTo>
                    <a:lnTo>
                      <a:pt x="1555" y="1163"/>
                    </a:lnTo>
                    <a:lnTo>
                      <a:pt x="1741" y="1403"/>
                    </a:lnTo>
                    <a:lnTo>
                      <a:pt x="1723" y="1425"/>
                    </a:lnTo>
                    <a:lnTo>
                      <a:pt x="1734" y="1428"/>
                    </a:lnTo>
                    <a:lnTo>
                      <a:pt x="1743" y="1435"/>
                    </a:lnTo>
                    <a:lnTo>
                      <a:pt x="1752" y="1442"/>
                    </a:lnTo>
                    <a:lnTo>
                      <a:pt x="1758" y="1446"/>
                    </a:lnTo>
                    <a:lnTo>
                      <a:pt x="1762" y="1451"/>
                    </a:lnTo>
                    <a:lnTo>
                      <a:pt x="1766" y="1455"/>
                    </a:lnTo>
                    <a:lnTo>
                      <a:pt x="1768" y="1460"/>
                    </a:lnTo>
                    <a:lnTo>
                      <a:pt x="1770" y="1464"/>
                    </a:lnTo>
                    <a:lnTo>
                      <a:pt x="1770" y="1469"/>
                    </a:lnTo>
                    <a:lnTo>
                      <a:pt x="1768" y="1471"/>
                    </a:lnTo>
                    <a:lnTo>
                      <a:pt x="1768" y="1473"/>
                    </a:lnTo>
                    <a:lnTo>
                      <a:pt x="1767" y="1476"/>
                    </a:lnTo>
                    <a:lnTo>
                      <a:pt x="1764" y="1479"/>
                    </a:lnTo>
                    <a:lnTo>
                      <a:pt x="1747" y="1497"/>
                    </a:lnTo>
                    <a:lnTo>
                      <a:pt x="1730" y="1514"/>
                    </a:lnTo>
                    <a:lnTo>
                      <a:pt x="1714" y="1533"/>
                    </a:lnTo>
                    <a:lnTo>
                      <a:pt x="1723" y="1617"/>
                    </a:lnTo>
                    <a:lnTo>
                      <a:pt x="1909" y="1641"/>
                    </a:lnTo>
                    <a:lnTo>
                      <a:pt x="1974" y="1587"/>
                    </a:lnTo>
                    <a:lnTo>
                      <a:pt x="1996" y="1521"/>
                    </a:lnTo>
                    <a:lnTo>
                      <a:pt x="2031" y="1559"/>
                    </a:lnTo>
                    <a:lnTo>
                      <a:pt x="2031" y="1629"/>
                    </a:lnTo>
                    <a:lnTo>
                      <a:pt x="2031" y="1634"/>
                    </a:lnTo>
                    <a:lnTo>
                      <a:pt x="2029" y="1639"/>
                    </a:lnTo>
                    <a:lnTo>
                      <a:pt x="2027" y="1645"/>
                    </a:lnTo>
                    <a:lnTo>
                      <a:pt x="2024" y="1649"/>
                    </a:lnTo>
                    <a:lnTo>
                      <a:pt x="2018" y="1657"/>
                    </a:lnTo>
                    <a:lnTo>
                      <a:pt x="2011" y="1663"/>
                    </a:lnTo>
                    <a:lnTo>
                      <a:pt x="2003" y="1671"/>
                    </a:lnTo>
                    <a:lnTo>
                      <a:pt x="1999" y="1675"/>
                    </a:lnTo>
                    <a:lnTo>
                      <a:pt x="1996" y="1679"/>
                    </a:lnTo>
                    <a:lnTo>
                      <a:pt x="1994" y="1683"/>
                    </a:lnTo>
                    <a:lnTo>
                      <a:pt x="1993" y="1688"/>
                    </a:lnTo>
                    <a:lnTo>
                      <a:pt x="1991" y="1694"/>
                    </a:lnTo>
                    <a:lnTo>
                      <a:pt x="1990" y="1699"/>
                    </a:lnTo>
                    <a:lnTo>
                      <a:pt x="1991" y="1705"/>
                    </a:lnTo>
                    <a:lnTo>
                      <a:pt x="1993" y="1711"/>
                    </a:lnTo>
                    <a:lnTo>
                      <a:pt x="1994" y="1717"/>
                    </a:lnTo>
                    <a:lnTo>
                      <a:pt x="1996" y="1721"/>
                    </a:lnTo>
                    <a:lnTo>
                      <a:pt x="2000" y="1727"/>
                    </a:lnTo>
                    <a:lnTo>
                      <a:pt x="2004" y="1730"/>
                    </a:lnTo>
                    <a:lnTo>
                      <a:pt x="2008" y="1733"/>
                    </a:lnTo>
                    <a:lnTo>
                      <a:pt x="2014" y="1737"/>
                    </a:lnTo>
                    <a:lnTo>
                      <a:pt x="2025" y="1742"/>
                    </a:lnTo>
                    <a:lnTo>
                      <a:pt x="2039" y="1748"/>
                    </a:lnTo>
                    <a:lnTo>
                      <a:pt x="2052" y="1752"/>
                    </a:lnTo>
                    <a:lnTo>
                      <a:pt x="2066" y="1754"/>
                    </a:lnTo>
                    <a:lnTo>
                      <a:pt x="2081" y="1758"/>
                    </a:lnTo>
                    <a:lnTo>
                      <a:pt x="2094" y="1762"/>
                    </a:lnTo>
                    <a:lnTo>
                      <a:pt x="2107" y="1767"/>
                    </a:lnTo>
                    <a:lnTo>
                      <a:pt x="2119" y="1773"/>
                    </a:lnTo>
                    <a:lnTo>
                      <a:pt x="2123" y="1775"/>
                    </a:lnTo>
                    <a:lnTo>
                      <a:pt x="2128" y="1779"/>
                    </a:lnTo>
                    <a:lnTo>
                      <a:pt x="2132" y="1783"/>
                    </a:lnTo>
                    <a:lnTo>
                      <a:pt x="2136" y="1787"/>
                    </a:lnTo>
                    <a:lnTo>
                      <a:pt x="2139" y="1792"/>
                    </a:lnTo>
                    <a:lnTo>
                      <a:pt x="2140" y="1798"/>
                    </a:lnTo>
                    <a:lnTo>
                      <a:pt x="2142" y="1804"/>
                    </a:lnTo>
                    <a:lnTo>
                      <a:pt x="2143" y="1811"/>
                    </a:lnTo>
                    <a:lnTo>
                      <a:pt x="2142" y="1815"/>
                    </a:lnTo>
                    <a:lnTo>
                      <a:pt x="2140" y="1818"/>
                    </a:lnTo>
                    <a:lnTo>
                      <a:pt x="2140" y="1819"/>
                    </a:lnTo>
                    <a:lnTo>
                      <a:pt x="2138" y="1821"/>
                    </a:lnTo>
                    <a:lnTo>
                      <a:pt x="2134" y="1825"/>
                    </a:lnTo>
                    <a:lnTo>
                      <a:pt x="2128" y="1831"/>
                    </a:lnTo>
                    <a:lnTo>
                      <a:pt x="2127" y="1835"/>
                    </a:lnTo>
                    <a:lnTo>
                      <a:pt x="2126" y="1839"/>
                    </a:lnTo>
                    <a:lnTo>
                      <a:pt x="2127" y="1845"/>
                    </a:lnTo>
                    <a:lnTo>
                      <a:pt x="2128" y="1848"/>
                    </a:lnTo>
                    <a:lnTo>
                      <a:pt x="2128" y="1850"/>
                    </a:lnTo>
                    <a:lnTo>
                      <a:pt x="2134" y="1860"/>
                    </a:lnTo>
                    <a:lnTo>
                      <a:pt x="2140" y="1869"/>
                    </a:lnTo>
                    <a:lnTo>
                      <a:pt x="2142" y="1874"/>
                    </a:lnTo>
                    <a:lnTo>
                      <a:pt x="2143" y="1880"/>
                    </a:lnTo>
                    <a:lnTo>
                      <a:pt x="2142" y="1885"/>
                    </a:lnTo>
                    <a:lnTo>
                      <a:pt x="2142" y="1886"/>
                    </a:lnTo>
                    <a:lnTo>
                      <a:pt x="2140" y="1889"/>
                    </a:lnTo>
                    <a:lnTo>
                      <a:pt x="2138" y="1891"/>
                    </a:lnTo>
                    <a:lnTo>
                      <a:pt x="2134" y="1895"/>
                    </a:lnTo>
                    <a:lnTo>
                      <a:pt x="2130" y="1897"/>
                    </a:lnTo>
                    <a:lnTo>
                      <a:pt x="2124" y="1899"/>
                    </a:lnTo>
                    <a:lnTo>
                      <a:pt x="2119" y="1899"/>
                    </a:lnTo>
                    <a:lnTo>
                      <a:pt x="2114" y="1901"/>
                    </a:lnTo>
                    <a:lnTo>
                      <a:pt x="2093" y="1899"/>
                    </a:lnTo>
                    <a:lnTo>
                      <a:pt x="2082" y="1898"/>
                    </a:lnTo>
                    <a:lnTo>
                      <a:pt x="2073" y="1898"/>
                    </a:lnTo>
                    <a:lnTo>
                      <a:pt x="2053" y="1894"/>
                    </a:lnTo>
                    <a:lnTo>
                      <a:pt x="2035" y="1890"/>
                    </a:lnTo>
                    <a:lnTo>
                      <a:pt x="2016" y="1885"/>
                    </a:lnTo>
                    <a:lnTo>
                      <a:pt x="2008" y="1881"/>
                    </a:lnTo>
                    <a:lnTo>
                      <a:pt x="2000" y="1877"/>
                    </a:lnTo>
                    <a:lnTo>
                      <a:pt x="1983" y="1869"/>
                    </a:lnTo>
                    <a:lnTo>
                      <a:pt x="1967" y="1860"/>
                    </a:lnTo>
                    <a:lnTo>
                      <a:pt x="1953" y="1850"/>
                    </a:lnTo>
                    <a:lnTo>
                      <a:pt x="1937" y="1839"/>
                    </a:lnTo>
                    <a:lnTo>
                      <a:pt x="1923" y="1827"/>
                    </a:lnTo>
                    <a:lnTo>
                      <a:pt x="1909" y="1814"/>
                    </a:lnTo>
                    <a:lnTo>
                      <a:pt x="1895" y="1799"/>
                    </a:lnTo>
                    <a:lnTo>
                      <a:pt x="1882" y="1785"/>
                    </a:lnTo>
                    <a:lnTo>
                      <a:pt x="1855" y="1752"/>
                    </a:lnTo>
                    <a:lnTo>
                      <a:pt x="1840" y="1730"/>
                    </a:lnTo>
                    <a:lnTo>
                      <a:pt x="1825" y="1712"/>
                    </a:lnTo>
                    <a:lnTo>
                      <a:pt x="1811" y="1694"/>
                    </a:lnTo>
                    <a:lnTo>
                      <a:pt x="1804" y="1684"/>
                    </a:lnTo>
                    <a:lnTo>
                      <a:pt x="1796" y="1676"/>
                    </a:lnTo>
                    <a:lnTo>
                      <a:pt x="1788" y="1670"/>
                    </a:lnTo>
                    <a:lnTo>
                      <a:pt x="1779" y="1663"/>
                    </a:lnTo>
                    <a:lnTo>
                      <a:pt x="1771" y="1658"/>
                    </a:lnTo>
                    <a:lnTo>
                      <a:pt x="1762" y="1653"/>
                    </a:lnTo>
                    <a:lnTo>
                      <a:pt x="1751" y="1649"/>
                    </a:lnTo>
                    <a:lnTo>
                      <a:pt x="1741" y="1646"/>
                    </a:lnTo>
                    <a:lnTo>
                      <a:pt x="1729" y="1643"/>
                    </a:lnTo>
                    <a:lnTo>
                      <a:pt x="1717" y="1643"/>
                    </a:lnTo>
                    <a:lnTo>
                      <a:pt x="1712" y="1645"/>
                    </a:lnTo>
                    <a:lnTo>
                      <a:pt x="1709" y="1646"/>
                    </a:lnTo>
                    <a:lnTo>
                      <a:pt x="1705" y="1650"/>
                    </a:lnTo>
                    <a:lnTo>
                      <a:pt x="1702" y="1654"/>
                    </a:lnTo>
                    <a:lnTo>
                      <a:pt x="1700" y="1658"/>
                    </a:lnTo>
                    <a:lnTo>
                      <a:pt x="1696" y="1661"/>
                    </a:lnTo>
                    <a:lnTo>
                      <a:pt x="1692" y="1663"/>
                    </a:lnTo>
                    <a:lnTo>
                      <a:pt x="1688" y="1663"/>
                    </a:lnTo>
                    <a:lnTo>
                      <a:pt x="1681" y="1663"/>
                    </a:lnTo>
                    <a:lnTo>
                      <a:pt x="1676" y="1662"/>
                    </a:lnTo>
                    <a:lnTo>
                      <a:pt x="1671" y="1661"/>
                    </a:lnTo>
                    <a:lnTo>
                      <a:pt x="1665" y="1658"/>
                    </a:lnTo>
                    <a:lnTo>
                      <a:pt x="1661" y="1655"/>
                    </a:lnTo>
                    <a:lnTo>
                      <a:pt x="1658" y="1651"/>
                    </a:lnTo>
                    <a:lnTo>
                      <a:pt x="1650" y="1643"/>
                    </a:lnTo>
                    <a:lnTo>
                      <a:pt x="1644" y="1633"/>
                    </a:lnTo>
                    <a:lnTo>
                      <a:pt x="1639" y="1622"/>
                    </a:lnTo>
                    <a:lnTo>
                      <a:pt x="1630" y="1599"/>
                    </a:lnTo>
                    <a:lnTo>
                      <a:pt x="1625" y="1600"/>
                    </a:lnTo>
                    <a:lnTo>
                      <a:pt x="1621" y="1600"/>
                    </a:lnTo>
                    <a:lnTo>
                      <a:pt x="1618" y="1599"/>
                    </a:lnTo>
                    <a:lnTo>
                      <a:pt x="1614" y="1597"/>
                    </a:lnTo>
                    <a:lnTo>
                      <a:pt x="1607" y="1595"/>
                    </a:lnTo>
                    <a:lnTo>
                      <a:pt x="1605" y="1592"/>
                    </a:lnTo>
                    <a:lnTo>
                      <a:pt x="1602" y="1589"/>
                    </a:lnTo>
                    <a:lnTo>
                      <a:pt x="1590" y="1578"/>
                    </a:lnTo>
                    <a:lnTo>
                      <a:pt x="1585" y="1571"/>
                    </a:lnTo>
                    <a:lnTo>
                      <a:pt x="1578" y="1566"/>
                    </a:lnTo>
                    <a:lnTo>
                      <a:pt x="1569" y="1560"/>
                    </a:lnTo>
                    <a:lnTo>
                      <a:pt x="1565" y="1558"/>
                    </a:lnTo>
                    <a:lnTo>
                      <a:pt x="1560" y="1556"/>
                    </a:lnTo>
                    <a:lnTo>
                      <a:pt x="1551" y="1555"/>
                    </a:lnTo>
                    <a:lnTo>
                      <a:pt x="1540" y="1554"/>
                    </a:lnTo>
                    <a:lnTo>
                      <a:pt x="1531" y="1552"/>
                    </a:lnTo>
                    <a:lnTo>
                      <a:pt x="1522" y="1551"/>
                    </a:lnTo>
                    <a:lnTo>
                      <a:pt x="1518" y="1551"/>
                    </a:lnTo>
                    <a:lnTo>
                      <a:pt x="1512" y="1549"/>
                    </a:lnTo>
                    <a:lnTo>
                      <a:pt x="1509" y="1547"/>
                    </a:lnTo>
                    <a:lnTo>
                      <a:pt x="1505" y="1545"/>
                    </a:lnTo>
                    <a:lnTo>
                      <a:pt x="1483" y="1545"/>
                    </a:lnTo>
                    <a:lnTo>
                      <a:pt x="1485" y="1537"/>
                    </a:lnTo>
                    <a:lnTo>
                      <a:pt x="1486" y="1530"/>
                    </a:lnTo>
                    <a:lnTo>
                      <a:pt x="1489" y="1523"/>
                    </a:lnTo>
                    <a:lnTo>
                      <a:pt x="1493" y="1517"/>
                    </a:lnTo>
                    <a:lnTo>
                      <a:pt x="1497" y="1512"/>
                    </a:lnTo>
                    <a:lnTo>
                      <a:pt x="1502" y="1506"/>
                    </a:lnTo>
                    <a:lnTo>
                      <a:pt x="1511" y="1496"/>
                    </a:lnTo>
                    <a:lnTo>
                      <a:pt x="1520" y="1485"/>
                    </a:lnTo>
                    <a:lnTo>
                      <a:pt x="1528" y="1475"/>
                    </a:lnTo>
                    <a:lnTo>
                      <a:pt x="1532" y="1468"/>
                    </a:lnTo>
                    <a:lnTo>
                      <a:pt x="1535" y="1463"/>
                    </a:lnTo>
                    <a:lnTo>
                      <a:pt x="1536" y="1455"/>
                    </a:lnTo>
                    <a:lnTo>
                      <a:pt x="1536" y="1447"/>
                    </a:lnTo>
                    <a:lnTo>
                      <a:pt x="1536" y="1443"/>
                    </a:lnTo>
                    <a:lnTo>
                      <a:pt x="1535" y="1442"/>
                    </a:lnTo>
                    <a:lnTo>
                      <a:pt x="1534" y="1439"/>
                    </a:lnTo>
                    <a:lnTo>
                      <a:pt x="1531" y="1436"/>
                    </a:lnTo>
                    <a:lnTo>
                      <a:pt x="1528" y="1434"/>
                    </a:lnTo>
                    <a:lnTo>
                      <a:pt x="1524" y="1430"/>
                    </a:lnTo>
                    <a:lnTo>
                      <a:pt x="1522" y="1427"/>
                    </a:lnTo>
                    <a:lnTo>
                      <a:pt x="1520" y="1423"/>
                    </a:lnTo>
                    <a:lnTo>
                      <a:pt x="1519" y="1419"/>
                    </a:lnTo>
                    <a:lnTo>
                      <a:pt x="1519" y="1414"/>
                    </a:lnTo>
                    <a:lnTo>
                      <a:pt x="1520" y="1410"/>
                    </a:lnTo>
                    <a:lnTo>
                      <a:pt x="1522" y="1402"/>
                    </a:lnTo>
                    <a:lnTo>
                      <a:pt x="1524" y="1394"/>
                    </a:lnTo>
                    <a:lnTo>
                      <a:pt x="1524" y="1390"/>
                    </a:lnTo>
                    <a:lnTo>
                      <a:pt x="1526" y="1385"/>
                    </a:lnTo>
                    <a:lnTo>
                      <a:pt x="1524" y="1381"/>
                    </a:lnTo>
                    <a:lnTo>
                      <a:pt x="1523" y="1377"/>
                    </a:lnTo>
                    <a:lnTo>
                      <a:pt x="1520" y="1370"/>
                    </a:lnTo>
                    <a:lnTo>
                      <a:pt x="1515" y="1365"/>
                    </a:lnTo>
                    <a:lnTo>
                      <a:pt x="1509" y="1359"/>
                    </a:lnTo>
                    <a:lnTo>
                      <a:pt x="1502" y="1353"/>
                    </a:lnTo>
                    <a:lnTo>
                      <a:pt x="1497" y="1348"/>
                    </a:lnTo>
                    <a:lnTo>
                      <a:pt x="1495" y="1347"/>
                    </a:lnTo>
                    <a:lnTo>
                      <a:pt x="1495" y="1344"/>
                    </a:lnTo>
                    <a:lnTo>
                      <a:pt x="1493" y="1341"/>
                    </a:lnTo>
                    <a:lnTo>
                      <a:pt x="1493" y="1338"/>
                    </a:lnTo>
                    <a:lnTo>
                      <a:pt x="1491" y="1334"/>
                    </a:lnTo>
                    <a:lnTo>
                      <a:pt x="1493" y="1324"/>
                    </a:lnTo>
                    <a:lnTo>
                      <a:pt x="1494" y="1318"/>
                    </a:lnTo>
                    <a:lnTo>
                      <a:pt x="1495" y="1311"/>
                    </a:lnTo>
                    <a:lnTo>
                      <a:pt x="1498" y="1302"/>
                    </a:lnTo>
                    <a:lnTo>
                      <a:pt x="1487" y="1301"/>
                    </a:lnTo>
                    <a:lnTo>
                      <a:pt x="1477" y="1297"/>
                    </a:lnTo>
                    <a:lnTo>
                      <a:pt x="1468" y="1293"/>
                    </a:lnTo>
                    <a:lnTo>
                      <a:pt x="1460" y="1287"/>
                    </a:lnTo>
                    <a:lnTo>
                      <a:pt x="1456" y="1285"/>
                    </a:lnTo>
                    <a:lnTo>
                      <a:pt x="1453" y="1281"/>
                    </a:lnTo>
                    <a:lnTo>
                      <a:pt x="1450" y="1278"/>
                    </a:lnTo>
                    <a:lnTo>
                      <a:pt x="1448" y="1274"/>
                    </a:lnTo>
                    <a:lnTo>
                      <a:pt x="1445" y="1270"/>
                    </a:lnTo>
                    <a:lnTo>
                      <a:pt x="1445" y="1265"/>
                    </a:lnTo>
                    <a:lnTo>
                      <a:pt x="1444" y="1261"/>
                    </a:lnTo>
                    <a:lnTo>
                      <a:pt x="1444" y="1256"/>
                    </a:lnTo>
                    <a:lnTo>
                      <a:pt x="1433" y="1253"/>
                    </a:lnTo>
                    <a:lnTo>
                      <a:pt x="1424" y="1258"/>
                    </a:lnTo>
                    <a:lnTo>
                      <a:pt x="1423" y="1260"/>
                    </a:lnTo>
                    <a:lnTo>
                      <a:pt x="1420" y="1260"/>
                    </a:lnTo>
                    <a:lnTo>
                      <a:pt x="1419" y="1261"/>
                    </a:lnTo>
                    <a:lnTo>
                      <a:pt x="1416" y="1261"/>
                    </a:lnTo>
                    <a:lnTo>
                      <a:pt x="1410" y="1260"/>
                    </a:lnTo>
                    <a:lnTo>
                      <a:pt x="1406" y="1258"/>
                    </a:lnTo>
                    <a:lnTo>
                      <a:pt x="1400" y="1256"/>
                    </a:lnTo>
                    <a:lnTo>
                      <a:pt x="1394" y="1256"/>
                    </a:lnTo>
                    <a:lnTo>
                      <a:pt x="1387" y="1257"/>
                    </a:lnTo>
                    <a:lnTo>
                      <a:pt x="1382" y="1260"/>
                    </a:lnTo>
                    <a:lnTo>
                      <a:pt x="1377" y="1264"/>
                    </a:lnTo>
                    <a:lnTo>
                      <a:pt x="1374" y="1266"/>
                    </a:lnTo>
                    <a:lnTo>
                      <a:pt x="1373" y="1269"/>
                    </a:lnTo>
                    <a:lnTo>
                      <a:pt x="1369" y="1276"/>
                    </a:lnTo>
                    <a:lnTo>
                      <a:pt x="1366" y="1282"/>
                    </a:lnTo>
                    <a:lnTo>
                      <a:pt x="1363" y="1290"/>
                    </a:lnTo>
                    <a:lnTo>
                      <a:pt x="1361" y="1297"/>
                    </a:lnTo>
                    <a:lnTo>
                      <a:pt x="1358" y="1293"/>
                    </a:lnTo>
                    <a:lnTo>
                      <a:pt x="1354" y="1289"/>
                    </a:lnTo>
                    <a:lnTo>
                      <a:pt x="1349" y="1282"/>
                    </a:lnTo>
                    <a:lnTo>
                      <a:pt x="1345" y="1279"/>
                    </a:lnTo>
                    <a:lnTo>
                      <a:pt x="1344" y="1276"/>
                    </a:lnTo>
                    <a:lnTo>
                      <a:pt x="1341" y="1272"/>
                    </a:lnTo>
                    <a:lnTo>
                      <a:pt x="1341" y="1266"/>
                    </a:lnTo>
                    <a:lnTo>
                      <a:pt x="1341" y="1261"/>
                    </a:lnTo>
                    <a:lnTo>
                      <a:pt x="1344" y="1257"/>
                    </a:lnTo>
                    <a:lnTo>
                      <a:pt x="1348" y="1249"/>
                    </a:lnTo>
                    <a:lnTo>
                      <a:pt x="1353" y="1243"/>
                    </a:lnTo>
                    <a:lnTo>
                      <a:pt x="1354" y="1237"/>
                    </a:lnTo>
                    <a:lnTo>
                      <a:pt x="1356" y="1233"/>
                    </a:lnTo>
                    <a:lnTo>
                      <a:pt x="1356" y="1227"/>
                    </a:lnTo>
                    <a:lnTo>
                      <a:pt x="1354" y="1221"/>
                    </a:lnTo>
                    <a:lnTo>
                      <a:pt x="1353" y="1216"/>
                    </a:lnTo>
                    <a:lnTo>
                      <a:pt x="1352" y="1211"/>
                    </a:lnTo>
                    <a:lnTo>
                      <a:pt x="1349" y="1206"/>
                    </a:lnTo>
                    <a:lnTo>
                      <a:pt x="1346" y="1200"/>
                    </a:lnTo>
                    <a:lnTo>
                      <a:pt x="1342" y="1195"/>
                    </a:lnTo>
                    <a:lnTo>
                      <a:pt x="1340" y="1191"/>
                    </a:lnTo>
                    <a:lnTo>
                      <a:pt x="1336" y="1187"/>
                    </a:lnTo>
                    <a:lnTo>
                      <a:pt x="1330" y="1185"/>
                    </a:lnTo>
                    <a:lnTo>
                      <a:pt x="1327" y="1181"/>
                    </a:lnTo>
                    <a:lnTo>
                      <a:pt x="1321" y="1178"/>
                    </a:lnTo>
                    <a:lnTo>
                      <a:pt x="1316" y="1177"/>
                    </a:lnTo>
                    <a:lnTo>
                      <a:pt x="1311" y="1175"/>
                    </a:lnTo>
                    <a:lnTo>
                      <a:pt x="1305" y="1174"/>
                    </a:lnTo>
                    <a:lnTo>
                      <a:pt x="1300" y="1174"/>
                    </a:lnTo>
                    <a:lnTo>
                      <a:pt x="1299" y="1174"/>
                    </a:lnTo>
                    <a:lnTo>
                      <a:pt x="1298" y="1175"/>
                    </a:lnTo>
                    <a:lnTo>
                      <a:pt x="1296" y="1178"/>
                    </a:lnTo>
                    <a:lnTo>
                      <a:pt x="1294" y="1181"/>
                    </a:lnTo>
                    <a:lnTo>
                      <a:pt x="1292" y="1182"/>
                    </a:lnTo>
                    <a:lnTo>
                      <a:pt x="1291" y="1182"/>
                    </a:lnTo>
                    <a:lnTo>
                      <a:pt x="1286" y="1182"/>
                    </a:lnTo>
                    <a:lnTo>
                      <a:pt x="1280" y="1181"/>
                    </a:lnTo>
                    <a:lnTo>
                      <a:pt x="1275" y="1178"/>
                    </a:lnTo>
                    <a:lnTo>
                      <a:pt x="1270" y="1177"/>
                    </a:lnTo>
                    <a:lnTo>
                      <a:pt x="1267" y="1167"/>
                    </a:lnTo>
                    <a:lnTo>
                      <a:pt x="1267" y="1163"/>
                    </a:lnTo>
                    <a:lnTo>
                      <a:pt x="1266" y="1158"/>
                    </a:lnTo>
                    <a:lnTo>
                      <a:pt x="1267" y="1154"/>
                    </a:lnTo>
                    <a:lnTo>
                      <a:pt x="1267" y="1152"/>
                    </a:lnTo>
                    <a:lnTo>
                      <a:pt x="1268" y="1149"/>
                    </a:lnTo>
                    <a:lnTo>
                      <a:pt x="1271" y="1146"/>
                    </a:lnTo>
                    <a:lnTo>
                      <a:pt x="1275" y="1141"/>
                    </a:lnTo>
                    <a:lnTo>
                      <a:pt x="1280" y="1137"/>
                    </a:lnTo>
                    <a:lnTo>
                      <a:pt x="1286" y="1133"/>
                    </a:lnTo>
                    <a:lnTo>
                      <a:pt x="1288" y="1130"/>
                    </a:lnTo>
                    <a:lnTo>
                      <a:pt x="1290" y="1128"/>
                    </a:lnTo>
                    <a:lnTo>
                      <a:pt x="1294" y="1123"/>
                    </a:lnTo>
                    <a:lnTo>
                      <a:pt x="1294" y="1120"/>
                    </a:lnTo>
                    <a:lnTo>
                      <a:pt x="1294" y="1116"/>
                    </a:lnTo>
                    <a:lnTo>
                      <a:pt x="1294" y="1111"/>
                    </a:lnTo>
                    <a:lnTo>
                      <a:pt x="1294" y="1104"/>
                    </a:lnTo>
                    <a:lnTo>
                      <a:pt x="1291" y="1099"/>
                    </a:lnTo>
                    <a:lnTo>
                      <a:pt x="1290" y="1094"/>
                    </a:lnTo>
                    <a:lnTo>
                      <a:pt x="1287" y="1090"/>
                    </a:lnTo>
                    <a:lnTo>
                      <a:pt x="1284" y="1084"/>
                    </a:lnTo>
                    <a:lnTo>
                      <a:pt x="1280" y="1080"/>
                    </a:lnTo>
                    <a:lnTo>
                      <a:pt x="1278" y="1076"/>
                    </a:lnTo>
                    <a:lnTo>
                      <a:pt x="1268" y="1070"/>
                    </a:lnTo>
                    <a:lnTo>
                      <a:pt x="1259" y="1063"/>
                    </a:lnTo>
                    <a:lnTo>
                      <a:pt x="1238" y="1051"/>
                    </a:lnTo>
                    <a:lnTo>
                      <a:pt x="1217" y="1041"/>
                    </a:lnTo>
                    <a:lnTo>
                      <a:pt x="1207" y="1036"/>
                    </a:lnTo>
                    <a:lnTo>
                      <a:pt x="1196" y="1029"/>
                    </a:lnTo>
                    <a:lnTo>
                      <a:pt x="1192" y="1026"/>
                    </a:lnTo>
                    <a:lnTo>
                      <a:pt x="1187" y="1022"/>
                    </a:lnTo>
                    <a:lnTo>
                      <a:pt x="1179" y="1014"/>
                    </a:lnTo>
                    <a:lnTo>
                      <a:pt x="1174" y="1007"/>
                    </a:lnTo>
                    <a:lnTo>
                      <a:pt x="1171" y="1001"/>
                    </a:lnTo>
                    <a:lnTo>
                      <a:pt x="1168" y="996"/>
                    </a:lnTo>
                    <a:lnTo>
                      <a:pt x="1160" y="1010"/>
                    </a:lnTo>
                    <a:lnTo>
                      <a:pt x="1159" y="1014"/>
                    </a:lnTo>
                    <a:lnTo>
                      <a:pt x="1158" y="1018"/>
                    </a:lnTo>
                    <a:lnTo>
                      <a:pt x="1155" y="1020"/>
                    </a:lnTo>
                    <a:lnTo>
                      <a:pt x="1152" y="1020"/>
                    </a:lnTo>
                    <a:lnTo>
                      <a:pt x="1150" y="1021"/>
                    </a:lnTo>
                    <a:lnTo>
                      <a:pt x="1147" y="1021"/>
                    </a:lnTo>
                    <a:lnTo>
                      <a:pt x="1142" y="1021"/>
                    </a:lnTo>
                    <a:lnTo>
                      <a:pt x="1137" y="1020"/>
                    </a:lnTo>
                    <a:lnTo>
                      <a:pt x="1133" y="1018"/>
                    </a:lnTo>
                    <a:lnTo>
                      <a:pt x="1129" y="1016"/>
                    </a:lnTo>
                    <a:lnTo>
                      <a:pt x="1126" y="1013"/>
                    </a:lnTo>
                    <a:lnTo>
                      <a:pt x="1123" y="1009"/>
                    </a:lnTo>
                    <a:lnTo>
                      <a:pt x="1119" y="1000"/>
                    </a:lnTo>
                    <a:lnTo>
                      <a:pt x="1117" y="995"/>
                    </a:lnTo>
                    <a:lnTo>
                      <a:pt x="1116" y="989"/>
                    </a:lnTo>
                    <a:lnTo>
                      <a:pt x="1116" y="984"/>
                    </a:lnTo>
                    <a:lnTo>
                      <a:pt x="1114" y="979"/>
                    </a:lnTo>
                    <a:lnTo>
                      <a:pt x="1112" y="954"/>
                    </a:lnTo>
                    <a:lnTo>
                      <a:pt x="1110" y="941"/>
                    </a:lnTo>
                    <a:lnTo>
                      <a:pt x="1109" y="929"/>
                    </a:lnTo>
                    <a:lnTo>
                      <a:pt x="1106" y="917"/>
                    </a:lnTo>
                    <a:lnTo>
                      <a:pt x="1104" y="906"/>
                    </a:lnTo>
                    <a:lnTo>
                      <a:pt x="1100" y="898"/>
                    </a:lnTo>
                    <a:lnTo>
                      <a:pt x="1097" y="894"/>
                    </a:lnTo>
                    <a:lnTo>
                      <a:pt x="1096" y="893"/>
                    </a:lnTo>
                    <a:lnTo>
                      <a:pt x="1093" y="892"/>
                    </a:lnTo>
                    <a:lnTo>
                      <a:pt x="1090" y="889"/>
                    </a:lnTo>
                    <a:lnTo>
                      <a:pt x="1087" y="888"/>
                    </a:lnTo>
                    <a:lnTo>
                      <a:pt x="1081" y="886"/>
                    </a:lnTo>
                    <a:lnTo>
                      <a:pt x="1076" y="885"/>
                    </a:lnTo>
                    <a:lnTo>
                      <a:pt x="1068" y="886"/>
                    </a:lnTo>
                    <a:lnTo>
                      <a:pt x="1061" y="888"/>
                    </a:lnTo>
                    <a:lnTo>
                      <a:pt x="1056" y="890"/>
                    </a:lnTo>
                    <a:lnTo>
                      <a:pt x="1051" y="894"/>
                    </a:lnTo>
                    <a:lnTo>
                      <a:pt x="1046" y="900"/>
                    </a:lnTo>
                    <a:lnTo>
                      <a:pt x="1042" y="904"/>
                    </a:lnTo>
                    <a:lnTo>
                      <a:pt x="1038" y="910"/>
                    </a:lnTo>
                    <a:lnTo>
                      <a:pt x="1034" y="917"/>
                    </a:lnTo>
                    <a:lnTo>
                      <a:pt x="1027" y="930"/>
                    </a:lnTo>
                    <a:lnTo>
                      <a:pt x="1021" y="945"/>
                    </a:lnTo>
                    <a:lnTo>
                      <a:pt x="1014" y="959"/>
                    </a:lnTo>
                    <a:lnTo>
                      <a:pt x="1009" y="966"/>
                    </a:lnTo>
                    <a:lnTo>
                      <a:pt x="1005" y="972"/>
                    </a:lnTo>
                    <a:lnTo>
                      <a:pt x="998" y="979"/>
                    </a:lnTo>
                    <a:lnTo>
                      <a:pt x="992" y="985"/>
                    </a:lnTo>
                    <a:lnTo>
                      <a:pt x="977" y="999"/>
                    </a:lnTo>
                    <a:lnTo>
                      <a:pt x="964" y="1009"/>
                    </a:lnTo>
                    <a:lnTo>
                      <a:pt x="951" y="1021"/>
                    </a:lnTo>
                    <a:lnTo>
                      <a:pt x="940" y="1033"/>
                    </a:lnTo>
                    <a:lnTo>
                      <a:pt x="936" y="1039"/>
                    </a:lnTo>
                    <a:lnTo>
                      <a:pt x="932" y="1046"/>
                    </a:lnTo>
                    <a:lnTo>
                      <a:pt x="928" y="1054"/>
                    </a:lnTo>
                    <a:lnTo>
                      <a:pt x="926" y="1062"/>
                    </a:lnTo>
                    <a:lnTo>
                      <a:pt x="924" y="1070"/>
                    </a:lnTo>
                    <a:lnTo>
                      <a:pt x="924" y="1080"/>
                    </a:lnTo>
                    <a:lnTo>
                      <a:pt x="924" y="1084"/>
                    </a:lnTo>
                    <a:lnTo>
                      <a:pt x="924" y="1087"/>
                    </a:lnTo>
                    <a:lnTo>
                      <a:pt x="927" y="1095"/>
                    </a:lnTo>
                    <a:lnTo>
                      <a:pt x="928" y="1101"/>
                    </a:lnTo>
                    <a:lnTo>
                      <a:pt x="930" y="1105"/>
                    </a:lnTo>
                    <a:lnTo>
                      <a:pt x="930" y="1109"/>
                    </a:lnTo>
                    <a:lnTo>
                      <a:pt x="930" y="1115"/>
                    </a:lnTo>
                    <a:lnTo>
                      <a:pt x="928" y="1121"/>
                    </a:lnTo>
                    <a:lnTo>
                      <a:pt x="927" y="1127"/>
                    </a:lnTo>
                    <a:lnTo>
                      <a:pt x="924" y="1132"/>
                    </a:lnTo>
                    <a:lnTo>
                      <a:pt x="922" y="1136"/>
                    </a:lnTo>
                    <a:lnTo>
                      <a:pt x="918" y="1140"/>
                    </a:lnTo>
                    <a:lnTo>
                      <a:pt x="914" y="1144"/>
                    </a:lnTo>
                    <a:lnTo>
                      <a:pt x="910" y="1148"/>
                    </a:lnTo>
                    <a:lnTo>
                      <a:pt x="799" y="1406"/>
                    </a:lnTo>
                    <a:lnTo>
                      <a:pt x="795" y="1409"/>
                    </a:lnTo>
                    <a:lnTo>
                      <a:pt x="791" y="1411"/>
                    </a:lnTo>
                    <a:lnTo>
                      <a:pt x="787" y="1415"/>
                    </a:lnTo>
                    <a:lnTo>
                      <a:pt x="782" y="1417"/>
                    </a:lnTo>
                    <a:lnTo>
                      <a:pt x="777" y="1418"/>
                    </a:lnTo>
                    <a:lnTo>
                      <a:pt x="771" y="1417"/>
                    </a:lnTo>
                    <a:lnTo>
                      <a:pt x="770" y="1415"/>
                    </a:lnTo>
                    <a:lnTo>
                      <a:pt x="767" y="1414"/>
                    </a:lnTo>
                    <a:lnTo>
                      <a:pt x="765" y="1410"/>
                    </a:lnTo>
                    <a:lnTo>
                      <a:pt x="759" y="1406"/>
                    </a:lnTo>
                    <a:lnTo>
                      <a:pt x="744" y="1397"/>
                    </a:lnTo>
                    <a:lnTo>
                      <a:pt x="701" y="1372"/>
                    </a:lnTo>
                    <a:lnTo>
                      <a:pt x="661" y="1349"/>
                    </a:lnTo>
                    <a:lnTo>
                      <a:pt x="642" y="1339"/>
                    </a:lnTo>
                    <a:lnTo>
                      <a:pt x="489" y="1434"/>
                    </a:lnTo>
                    <a:lnTo>
                      <a:pt x="428" y="1494"/>
                    </a:lnTo>
                    <a:lnTo>
                      <a:pt x="426" y="1496"/>
                    </a:lnTo>
                    <a:lnTo>
                      <a:pt x="422" y="1497"/>
                    </a:lnTo>
                    <a:lnTo>
                      <a:pt x="418" y="1497"/>
                    </a:lnTo>
                    <a:lnTo>
                      <a:pt x="414" y="1497"/>
                    </a:lnTo>
                    <a:lnTo>
                      <a:pt x="409" y="1496"/>
                    </a:lnTo>
                    <a:lnTo>
                      <a:pt x="403" y="1494"/>
                    </a:lnTo>
                    <a:lnTo>
                      <a:pt x="397" y="1492"/>
                    </a:lnTo>
                    <a:lnTo>
                      <a:pt x="393" y="1490"/>
                    </a:lnTo>
                    <a:lnTo>
                      <a:pt x="392" y="1490"/>
                    </a:lnTo>
                    <a:lnTo>
                      <a:pt x="390" y="1490"/>
                    </a:lnTo>
                    <a:lnTo>
                      <a:pt x="388" y="1493"/>
                    </a:lnTo>
                    <a:lnTo>
                      <a:pt x="386" y="1497"/>
                    </a:lnTo>
                    <a:lnTo>
                      <a:pt x="384" y="1508"/>
                    </a:lnTo>
                    <a:lnTo>
                      <a:pt x="382" y="1514"/>
                    </a:lnTo>
                    <a:lnTo>
                      <a:pt x="381" y="1517"/>
                    </a:lnTo>
                    <a:lnTo>
                      <a:pt x="378" y="1519"/>
                    </a:lnTo>
                    <a:lnTo>
                      <a:pt x="374" y="1523"/>
                    </a:lnTo>
                    <a:lnTo>
                      <a:pt x="369" y="1526"/>
                    </a:lnTo>
                    <a:lnTo>
                      <a:pt x="364" y="1527"/>
                    </a:lnTo>
                    <a:lnTo>
                      <a:pt x="359" y="1527"/>
                    </a:lnTo>
                    <a:lnTo>
                      <a:pt x="348" y="1526"/>
                    </a:lnTo>
                    <a:lnTo>
                      <a:pt x="341" y="1527"/>
                    </a:lnTo>
                    <a:lnTo>
                      <a:pt x="336" y="1529"/>
                    </a:lnTo>
                    <a:lnTo>
                      <a:pt x="331" y="1531"/>
                    </a:lnTo>
                    <a:lnTo>
                      <a:pt x="326" y="1534"/>
                    </a:lnTo>
                    <a:lnTo>
                      <a:pt x="323" y="1538"/>
                    </a:lnTo>
                    <a:lnTo>
                      <a:pt x="319" y="1545"/>
                    </a:lnTo>
                    <a:lnTo>
                      <a:pt x="311" y="1559"/>
                    </a:lnTo>
                    <a:lnTo>
                      <a:pt x="299" y="1579"/>
                    </a:lnTo>
                    <a:lnTo>
                      <a:pt x="297" y="1584"/>
                    </a:lnTo>
                    <a:lnTo>
                      <a:pt x="297" y="1588"/>
                    </a:lnTo>
                    <a:lnTo>
                      <a:pt x="297" y="1592"/>
                    </a:lnTo>
                    <a:lnTo>
                      <a:pt x="298" y="1596"/>
                    </a:lnTo>
                    <a:lnTo>
                      <a:pt x="302" y="1603"/>
                    </a:lnTo>
                    <a:lnTo>
                      <a:pt x="304" y="1605"/>
                    </a:lnTo>
                    <a:lnTo>
                      <a:pt x="306" y="1608"/>
                    </a:lnTo>
                    <a:lnTo>
                      <a:pt x="307" y="1610"/>
                    </a:lnTo>
                    <a:lnTo>
                      <a:pt x="308" y="1613"/>
                    </a:lnTo>
                    <a:lnTo>
                      <a:pt x="308" y="1617"/>
                    </a:lnTo>
                    <a:lnTo>
                      <a:pt x="306" y="1620"/>
                    </a:lnTo>
                    <a:lnTo>
                      <a:pt x="302" y="1622"/>
                    </a:lnTo>
                    <a:lnTo>
                      <a:pt x="297" y="1626"/>
                    </a:lnTo>
                    <a:lnTo>
                      <a:pt x="289" y="1630"/>
                    </a:lnTo>
                    <a:lnTo>
                      <a:pt x="278" y="1634"/>
                    </a:lnTo>
                    <a:lnTo>
                      <a:pt x="257" y="1643"/>
                    </a:lnTo>
                    <a:lnTo>
                      <a:pt x="241" y="1650"/>
                    </a:lnTo>
                    <a:lnTo>
                      <a:pt x="229" y="1657"/>
                    </a:lnTo>
                    <a:lnTo>
                      <a:pt x="221" y="1662"/>
                    </a:lnTo>
                    <a:lnTo>
                      <a:pt x="217" y="1666"/>
                    </a:lnTo>
                    <a:lnTo>
                      <a:pt x="215" y="1669"/>
                    </a:lnTo>
                    <a:lnTo>
                      <a:pt x="213" y="1670"/>
                    </a:lnTo>
                    <a:lnTo>
                      <a:pt x="210" y="1675"/>
                    </a:lnTo>
                    <a:lnTo>
                      <a:pt x="199" y="1687"/>
                    </a:lnTo>
                    <a:lnTo>
                      <a:pt x="183" y="1701"/>
                    </a:lnTo>
                    <a:lnTo>
                      <a:pt x="174" y="1709"/>
                    </a:lnTo>
                    <a:lnTo>
                      <a:pt x="165" y="1717"/>
                    </a:lnTo>
                    <a:lnTo>
                      <a:pt x="157" y="1723"/>
                    </a:lnTo>
                    <a:lnTo>
                      <a:pt x="148" y="1728"/>
                    </a:lnTo>
                    <a:lnTo>
                      <a:pt x="140" y="1732"/>
                    </a:lnTo>
                    <a:lnTo>
                      <a:pt x="136" y="1732"/>
                    </a:lnTo>
                    <a:lnTo>
                      <a:pt x="133" y="1732"/>
                    </a:lnTo>
                    <a:lnTo>
                      <a:pt x="129" y="1732"/>
                    </a:lnTo>
                    <a:lnTo>
                      <a:pt x="126" y="1730"/>
                    </a:lnTo>
                    <a:lnTo>
                      <a:pt x="124" y="1728"/>
                    </a:lnTo>
                    <a:lnTo>
                      <a:pt x="122" y="1725"/>
                    </a:lnTo>
                    <a:lnTo>
                      <a:pt x="121" y="1721"/>
                    </a:lnTo>
                    <a:lnTo>
                      <a:pt x="120" y="1716"/>
                    </a:lnTo>
                    <a:lnTo>
                      <a:pt x="119" y="1711"/>
                    </a:lnTo>
                    <a:lnTo>
                      <a:pt x="119" y="1703"/>
                    </a:lnTo>
                    <a:lnTo>
                      <a:pt x="119" y="1695"/>
                    </a:lnTo>
                    <a:lnTo>
                      <a:pt x="119" y="1686"/>
                    </a:lnTo>
                    <a:lnTo>
                      <a:pt x="117" y="1663"/>
                    </a:lnTo>
                    <a:lnTo>
                      <a:pt x="113" y="1638"/>
                    </a:lnTo>
                    <a:lnTo>
                      <a:pt x="108" y="1609"/>
                    </a:lnTo>
                    <a:lnTo>
                      <a:pt x="96" y="1546"/>
                    </a:lnTo>
                    <a:lnTo>
                      <a:pt x="82" y="1480"/>
                    </a:lnTo>
                    <a:lnTo>
                      <a:pt x="55" y="1364"/>
                    </a:lnTo>
                    <a:lnTo>
                      <a:pt x="50" y="1343"/>
                    </a:lnTo>
                    <a:lnTo>
                      <a:pt x="47" y="1326"/>
                    </a:lnTo>
                    <a:lnTo>
                      <a:pt x="45" y="1314"/>
                    </a:lnTo>
                    <a:lnTo>
                      <a:pt x="45" y="1311"/>
                    </a:lnTo>
                    <a:lnTo>
                      <a:pt x="45" y="1308"/>
                    </a:lnTo>
                    <a:lnTo>
                      <a:pt x="46" y="1303"/>
                    </a:lnTo>
                    <a:lnTo>
                      <a:pt x="50" y="1297"/>
                    </a:lnTo>
                    <a:lnTo>
                      <a:pt x="59" y="1279"/>
                    </a:lnTo>
                    <a:lnTo>
                      <a:pt x="72" y="1258"/>
                    </a:lnTo>
                    <a:lnTo>
                      <a:pt x="72" y="1253"/>
                    </a:lnTo>
                    <a:lnTo>
                      <a:pt x="74" y="1241"/>
                    </a:lnTo>
                    <a:lnTo>
                      <a:pt x="72" y="1233"/>
                    </a:lnTo>
                    <a:lnTo>
                      <a:pt x="71" y="1229"/>
                    </a:lnTo>
                    <a:lnTo>
                      <a:pt x="70" y="1225"/>
                    </a:lnTo>
                    <a:lnTo>
                      <a:pt x="68" y="1221"/>
                    </a:lnTo>
                    <a:lnTo>
                      <a:pt x="66" y="1218"/>
                    </a:lnTo>
                    <a:lnTo>
                      <a:pt x="63" y="1215"/>
                    </a:lnTo>
                    <a:lnTo>
                      <a:pt x="60" y="1211"/>
                    </a:lnTo>
                    <a:lnTo>
                      <a:pt x="57" y="1207"/>
                    </a:lnTo>
                    <a:lnTo>
                      <a:pt x="53" y="1203"/>
                    </a:lnTo>
                    <a:lnTo>
                      <a:pt x="45" y="1190"/>
                    </a:lnTo>
                    <a:lnTo>
                      <a:pt x="37" y="1177"/>
                    </a:lnTo>
                    <a:lnTo>
                      <a:pt x="29" y="1161"/>
                    </a:lnTo>
                    <a:lnTo>
                      <a:pt x="16" y="1136"/>
                    </a:lnTo>
                    <a:lnTo>
                      <a:pt x="10" y="1124"/>
                    </a:lnTo>
                    <a:lnTo>
                      <a:pt x="6" y="1115"/>
                    </a:lnTo>
                    <a:lnTo>
                      <a:pt x="4" y="1105"/>
                    </a:lnTo>
                    <a:lnTo>
                      <a:pt x="1" y="1092"/>
                    </a:lnTo>
                    <a:lnTo>
                      <a:pt x="0" y="1084"/>
                    </a:lnTo>
                    <a:lnTo>
                      <a:pt x="0" y="1076"/>
                    </a:lnTo>
                    <a:lnTo>
                      <a:pt x="0" y="1068"/>
                    </a:lnTo>
                    <a:lnTo>
                      <a:pt x="1" y="1061"/>
                    </a:lnTo>
                    <a:lnTo>
                      <a:pt x="2" y="1053"/>
                    </a:lnTo>
                    <a:lnTo>
                      <a:pt x="5" y="1043"/>
                    </a:lnTo>
                    <a:lnTo>
                      <a:pt x="8" y="1036"/>
                    </a:lnTo>
                    <a:lnTo>
                      <a:pt x="13" y="1028"/>
                    </a:lnTo>
                    <a:lnTo>
                      <a:pt x="60" y="955"/>
                    </a:lnTo>
                    <a:lnTo>
                      <a:pt x="86" y="916"/>
                    </a:lnTo>
                    <a:lnTo>
                      <a:pt x="95" y="905"/>
                    </a:lnTo>
                    <a:lnTo>
                      <a:pt x="117" y="881"/>
                    </a:lnTo>
                    <a:lnTo>
                      <a:pt x="132" y="867"/>
                    </a:lnTo>
                    <a:lnTo>
                      <a:pt x="148" y="854"/>
                    </a:lnTo>
                    <a:lnTo>
                      <a:pt x="155" y="848"/>
                    </a:lnTo>
                    <a:lnTo>
                      <a:pt x="162" y="843"/>
                    </a:lnTo>
                    <a:lnTo>
                      <a:pt x="170" y="839"/>
                    </a:lnTo>
                    <a:lnTo>
                      <a:pt x="178" y="835"/>
                    </a:lnTo>
                    <a:lnTo>
                      <a:pt x="195" y="828"/>
                    </a:lnTo>
                    <a:lnTo>
                      <a:pt x="217" y="821"/>
                    </a:lnTo>
                    <a:lnTo>
                      <a:pt x="229" y="818"/>
                    </a:lnTo>
                    <a:lnTo>
                      <a:pt x="242" y="815"/>
                    </a:lnTo>
                    <a:lnTo>
                      <a:pt x="254" y="813"/>
                    </a:lnTo>
                    <a:lnTo>
                      <a:pt x="265" y="813"/>
                    </a:lnTo>
                    <a:lnTo>
                      <a:pt x="275" y="813"/>
                    </a:lnTo>
                    <a:lnTo>
                      <a:pt x="281" y="814"/>
                    </a:lnTo>
                    <a:lnTo>
                      <a:pt x="285" y="815"/>
                    </a:lnTo>
                    <a:lnTo>
                      <a:pt x="289" y="818"/>
                    </a:lnTo>
                    <a:lnTo>
                      <a:pt x="291" y="821"/>
                    </a:lnTo>
                    <a:lnTo>
                      <a:pt x="295" y="825"/>
                    </a:lnTo>
                    <a:lnTo>
                      <a:pt x="297" y="828"/>
                    </a:lnTo>
                    <a:lnTo>
                      <a:pt x="299" y="832"/>
                    </a:lnTo>
                    <a:lnTo>
                      <a:pt x="301" y="838"/>
                    </a:lnTo>
                    <a:lnTo>
                      <a:pt x="301" y="844"/>
                    </a:lnTo>
                    <a:lnTo>
                      <a:pt x="301" y="851"/>
                    </a:lnTo>
                    <a:lnTo>
                      <a:pt x="299" y="859"/>
                    </a:lnTo>
                    <a:lnTo>
                      <a:pt x="298" y="868"/>
                    </a:lnTo>
                    <a:lnTo>
                      <a:pt x="295" y="877"/>
                    </a:lnTo>
                    <a:lnTo>
                      <a:pt x="291" y="888"/>
                    </a:lnTo>
                    <a:lnTo>
                      <a:pt x="283" y="912"/>
                    </a:lnTo>
                    <a:lnTo>
                      <a:pt x="275" y="933"/>
                    </a:lnTo>
                    <a:lnTo>
                      <a:pt x="271" y="952"/>
                    </a:lnTo>
                    <a:lnTo>
                      <a:pt x="268" y="970"/>
                    </a:lnTo>
                    <a:lnTo>
                      <a:pt x="268" y="984"/>
                    </a:lnTo>
                    <a:lnTo>
                      <a:pt x="268" y="991"/>
                    </a:lnTo>
                    <a:lnTo>
                      <a:pt x="269" y="997"/>
                    </a:lnTo>
                    <a:lnTo>
                      <a:pt x="270" y="1004"/>
                    </a:lnTo>
                    <a:lnTo>
                      <a:pt x="271" y="1009"/>
                    </a:lnTo>
                    <a:lnTo>
                      <a:pt x="274" y="1014"/>
                    </a:lnTo>
                    <a:lnTo>
                      <a:pt x="278" y="1018"/>
                    </a:lnTo>
                    <a:lnTo>
                      <a:pt x="286" y="1028"/>
                    </a:lnTo>
                    <a:lnTo>
                      <a:pt x="295" y="1036"/>
                    </a:lnTo>
                    <a:lnTo>
                      <a:pt x="315" y="1050"/>
                    </a:lnTo>
                    <a:lnTo>
                      <a:pt x="332" y="1062"/>
                    </a:lnTo>
                    <a:lnTo>
                      <a:pt x="339" y="1067"/>
                    </a:lnTo>
                    <a:lnTo>
                      <a:pt x="344" y="1072"/>
                    </a:lnTo>
                    <a:lnTo>
                      <a:pt x="351" y="1079"/>
                    </a:lnTo>
                    <a:lnTo>
                      <a:pt x="357" y="1091"/>
                    </a:lnTo>
                    <a:lnTo>
                      <a:pt x="377" y="1119"/>
                    </a:lnTo>
                    <a:lnTo>
                      <a:pt x="401" y="1156"/>
                    </a:lnTo>
                    <a:lnTo>
                      <a:pt x="406" y="1165"/>
                    </a:lnTo>
                    <a:lnTo>
                      <a:pt x="411" y="1174"/>
                    </a:lnTo>
                    <a:lnTo>
                      <a:pt x="419" y="1186"/>
                    </a:lnTo>
                    <a:lnTo>
                      <a:pt x="427" y="1196"/>
                    </a:lnTo>
                    <a:lnTo>
                      <a:pt x="436" y="1204"/>
                    </a:lnTo>
                    <a:lnTo>
                      <a:pt x="440" y="1208"/>
                    </a:lnTo>
                    <a:lnTo>
                      <a:pt x="446" y="1211"/>
                    </a:lnTo>
                    <a:lnTo>
                      <a:pt x="450" y="1211"/>
                    </a:lnTo>
                    <a:lnTo>
                      <a:pt x="453" y="1211"/>
                    </a:lnTo>
                    <a:lnTo>
                      <a:pt x="456" y="1210"/>
                    </a:lnTo>
                    <a:lnTo>
                      <a:pt x="459" y="1208"/>
                    </a:lnTo>
                    <a:lnTo>
                      <a:pt x="464" y="1202"/>
                    </a:lnTo>
                    <a:lnTo>
                      <a:pt x="469" y="1192"/>
                    </a:lnTo>
                    <a:lnTo>
                      <a:pt x="476" y="1182"/>
                    </a:lnTo>
                    <a:lnTo>
                      <a:pt x="486" y="1157"/>
                    </a:lnTo>
                    <a:lnTo>
                      <a:pt x="496" y="1132"/>
                    </a:lnTo>
                    <a:lnTo>
                      <a:pt x="494" y="1083"/>
                    </a:lnTo>
                    <a:lnTo>
                      <a:pt x="496" y="1079"/>
                    </a:lnTo>
                    <a:lnTo>
                      <a:pt x="496" y="1075"/>
                    </a:lnTo>
                    <a:lnTo>
                      <a:pt x="498" y="1070"/>
                    </a:lnTo>
                    <a:lnTo>
                      <a:pt x="504" y="1065"/>
                    </a:lnTo>
                    <a:lnTo>
                      <a:pt x="508" y="1059"/>
                    </a:lnTo>
                    <a:lnTo>
                      <a:pt x="513" y="1055"/>
                    </a:lnTo>
                    <a:lnTo>
                      <a:pt x="517" y="1050"/>
                    </a:lnTo>
                    <a:lnTo>
                      <a:pt x="518" y="1047"/>
                    </a:lnTo>
                    <a:lnTo>
                      <a:pt x="519" y="1043"/>
                    </a:lnTo>
                    <a:lnTo>
                      <a:pt x="521" y="1041"/>
                    </a:lnTo>
                    <a:lnTo>
                      <a:pt x="521" y="1037"/>
                    </a:lnTo>
                    <a:lnTo>
                      <a:pt x="521" y="983"/>
                    </a:lnTo>
                    <a:lnTo>
                      <a:pt x="522" y="976"/>
                    </a:lnTo>
                    <a:lnTo>
                      <a:pt x="523" y="970"/>
                    </a:lnTo>
                    <a:lnTo>
                      <a:pt x="526" y="964"/>
                    </a:lnTo>
                    <a:lnTo>
                      <a:pt x="530" y="959"/>
                    </a:lnTo>
                    <a:lnTo>
                      <a:pt x="534" y="955"/>
                    </a:lnTo>
                    <a:lnTo>
                      <a:pt x="539" y="951"/>
                    </a:lnTo>
                    <a:lnTo>
                      <a:pt x="544" y="948"/>
                    </a:lnTo>
                    <a:lnTo>
                      <a:pt x="551" y="946"/>
                    </a:lnTo>
                    <a:lnTo>
                      <a:pt x="558" y="945"/>
                    </a:lnTo>
                    <a:lnTo>
                      <a:pt x="564" y="942"/>
                    </a:lnTo>
                    <a:lnTo>
                      <a:pt x="580" y="941"/>
                    </a:lnTo>
                    <a:lnTo>
                      <a:pt x="595" y="939"/>
                    </a:lnTo>
                    <a:lnTo>
                      <a:pt x="609" y="941"/>
                    </a:lnTo>
                    <a:lnTo>
                      <a:pt x="659" y="943"/>
                    </a:lnTo>
                    <a:lnTo>
                      <a:pt x="684" y="943"/>
                    </a:lnTo>
                    <a:lnTo>
                      <a:pt x="708" y="942"/>
                    </a:lnTo>
                    <a:lnTo>
                      <a:pt x="720" y="941"/>
                    </a:lnTo>
                    <a:lnTo>
                      <a:pt x="732" y="938"/>
                    </a:lnTo>
                    <a:lnTo>
                      <a:pt x="742" y="935"/>
                    </a:lnTo>
                    <a:lnTo>
                      <a:pt x="754" y="933"/>
                    </a:lnTo>
                    <a:lnTo>
                      <a:pt x="765" y="929"/>
                    </a:lnTo>
                    <a:lnTo>
                      <a:pt x="775" y="923"/>
                    </a:lnTo>
                    <a:lnTo>
                      <a:pt x="786" y="917"/>
                    </a:lnTo>
                    <a:lnTo>
                      <a:pt x="796" y="910"/>
                    </a:lnTo>
                    <a:lnTo>
                      <a:pt x="804" y="902"/>
                    </a:lnTo>
                    <a:lnTo>
                      <a:pt x="812" y="894"/>
                    </a:lnTo>
                    <a:lnTo>
                      <a:pt x="820" y="885"/>
                    </a:lnTo>
                    <a:lnTo>
                      <a:pt x="828" y="876"/>
                    </a:lnTo>
                    <a:lnTo>
                      <a:pt x="835" y="865"/>
                    </a:lnTo>
                    <a:lnTo>
                      <a:pt x="840" y="855"/>
                    </a:lnTo>
                    <a:lnTo>
                      <a:pt x="845" y="844"/>
                    </a:lnTo>
                    <a:lnTo>
                      <a:pt x="850" y="834"/>
                    </a:lnTo>
                    <a:lnTo>
                      <a:pt x="860" y="815"/>
                    </a:lnTo>
                    <a:lnTo>
                      <a:pt x="865" y="799"/>
                    </a:lnTo>
                    <a:lnTo>
                      <a:pt x="870" y="785"/>
                    </a:lnTo>
                    <a:lnTo>
                      <a:pt x="875" y="778"/>
                    </a:lnTo>
                    <a:lnTo>
                      <a:pt x="885" y="760"/>
                    </a:lnTo>
                    <a:lnTo>
                      <a:pt x="891" y="749"/>
                    </a:lnTo>
                    <a:lnTo>
                      <a:pt x="895" y="739"/>
                    </a:lnTo>
                    <a:lnTo>
                      <a:pt x="898" y="732"/>
                    </a:lnTo>
                    <a:lnTo>
                      <a:pt x="899" y="727"/>
                    </a:lnTo>
                    <a:lnTo>
                      <a:pt x="902" y="718"/>
                    </a:lnTo>
                    <a:lnTo>
                      <a:pt x="883" y="718"/>
                    </a:lnTo>
                    <a:lnTo>
                      <a:pt x="864" y="718"/>
                    </a:lnTo>
                    <a:lnTo>
                      <a:pt x="844" y="718"/>
                    </a:lnTo>
                    <a:lnTo>
                      <a:pt x="823" y="716"/>
                    </a:lnTo>
                    <a:lnTo>
                      <a:pt x="814" y="715"/>
                    </a:lnTo>
                    <a:lnTo>
                      <a:pt x="804" y="712"/>
                    </a:lnTo>
                    <a:lnTo>
                      <a:pt x="795" y="711"/>
                    </a:lnTo>
                    <a:lnTo>
                      <a:pt x="787" y="707"/>
                    </a:lnTo>
                    <a:lnTo>
                      <a:pt x="783" y="706"/>
                    </a:lnTo>
                    <a:lnTo>
                      <a:pt x="781" y="703"/>
                    </a:lnTo>
                    <a:lnTo>
                      <a:pt x="774" y="699"/>
                    </a:lnTo>
                    <a:lnTo>
                      <a:pt x="771" y="697"/>
                    </a:lnTo>
                    <a:lnTo>
                      <a:pt x="769" y="694"/>
                    </a:lnTo>
                    <a:lnTo>
                      <a:pt x="765" y="687"/>
                    </a:lnTo>
                    <a:lnTo>
                      <a:pt x="763" y="679"/>
                    </a:lnTo>
                    <a:lnTo>
                      <a:pt x="762" y="675"/>
                    </a:lnTo>
                    <a:lnTo>
                      <a:pt x="762" y="670"/>
                    </a:lnTo>
                    <a:lnTo>
                      <a:pt x="762" y="658"/>
                    </a:lnTo>
                    <a:lnTo>
                      <a:pt x="761" y="648"/>
                    </a:lnTo>
                    <a:lnTo>
                      <a:pt x="757" y="629"/>
                    </a:lnTo>
                    <a:lnTo>
                      <a:pt x="753" y="610"/>
                    </a:lnTo>
                    <a:lnTo>
                      <a:pt x="752" y="599"/>
                    </a:lnTo>
                    <a:lnTo>
                      <a:pt x="752" y="588"/>
                    </a:lnTo>
                    <a:lnTo>
                      <a:pt x="752" y="583"/>
                    </a:lnTo>
                    <a:lnTo>
                      <a:pt x="753" y="579"/>
                    </a:lnTo>
                    <a:lnTo>
                      <a:pt x="754" y="575"/>
                    </a:lnTo>
                    <a:lnTo>
                      <a:pt x="757" y="573"/>
                    </a:lnTo>
                    <a:lnTo>
                      <a:pt x="759" y="569"/>
                    </a:lnTo>
                    <a:lnTo>
                      <a:pt x="763" y="567"/>
                    </a:lnTo>
                    <a:lnTo>
                      <a:pt x="766" y="566"/>
                    </a:lnTo>
                    <a:lnTo>
                      <a:pt x="770" y="565"/>
                    </a:lnTo>
                    <a:lnTo>
                      <a:pt x="779" y="566"/>
                    </a:lnTo>
                    <a:lnTo>
                      <a:pt x="788" y="569"/>
                    </a:lnTo>
                    <a:lnTo>
                      <a:pt x="798" y="571"/>
                    </a:lnTo>
                    <a:lnTo>
                      <a:pt x="802" y="574"/>
                    </a:lnTo>
                    <a:lnTo>
                      <a:pt x="804" y="577"/>
                    </a:lnTo>
                    <a:lnTo>
                      <a:pt x="808" y="579"/>
                    </a:lnTo>
                    <a:lnTo>
                      <a:pt x="811" y="582"/>
                    </a:lnTo>
                    <a:lnTo>
                      <a:pt x="816" y="590"/>
                    </a:lnTo>
                    <a:lnTo>
                      <a:pt x="819" y="598"/>
                    </a:lnTo>
                    <a:lnTo>
                      <a:pt x="820" y="607"/>
                    </a:lnTo>
                    <a:lnTo>
                      <a:pt x="816" y="615"/>
                    </a:lnTo>
                    <a:lnTo>
                      <a:pt x="815" y="620"/>
                    </a:lnTo>
                    <a:lnTo>
                      <a:pt x="815" y="625"/>
                    </a:lnTo>
                    <a:lnTo>
                      <a:pt x="815" y="631"/>
                    </a:lnTo>
                    <a:lnTo>
                      <a:pt x="816" y="636"/>
                    </a:lnTo>
                    <a:lnTo>
                      <a:pt x="817" y="641"/>
                    </a:lnTo>
                    <a:lnTo>
                      <a:pt x="820" y="645"/>
                    </a:lnTo>
                    <a:lnTo>
                      <a:pt x="823" y="649"/>
                    </a:lnTo>
                    <a:lnTo>
                      <a:pt x="827" y="652"/>
                    </a:lnTo>
                    <a:lnTo>
                      <a:pt x="831" y="654"/>
                    </a:lnTo>
                    <a:lnTo>
                      <a:pt x="835" y="657"/>
                    </a:lnTo>
                    <a:lnTo>
                      <a:pt x="845" y="662"/>
                    </a:lnTo>
                    <a:lnTo>
                      <a:pt x="856" y="665"/>
                    </a:lnTo>
                    <a:lnTo>
                      <a:pt x="881" y="670"/>
                    </a:lnTo>
                    <a:lnTo>
                      <a:pt x="887" y="65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608880" y="4319640"/>
                <a:ext cx="299880" cy="135000"/>
              </a:xfrm>
              <a:custGeom>
                <a:avLst/>
                <a:gdLst/>
                <a:ahLst/>
                <a:rect l="l" t="t" r="r" b="b"/>
                <a:pathLst>
                  <a:path w="583" h="262">
                    <a:moveTo>
                      <a:pt x="472" y="214"/>
                    </a:moveTo>
                    <a:lnTo>
                      <a:pt x="583" y="16"/>
                    </a:lnTo>
                    <a:lnTo>
                      <a:pt x="546" y="0"/>
                    </a:lnTo>
                    <a:lnTo>
                      <a:pt x="516" y="49"/>
                    </a:lnTo>
                    <a:lnTo>
                      <a:pt x="464" y="28"/>
                    </a:lnTo>
                    <a:lnTo>
                      <a:pt x="442" y="105"/>
                    </a:lnTo>
                    <a:lnTo>
                      <a:pt x="186" y="69"/>
                    </a:lnTo>
                    <a:lnTo>
                      <a:pt x="186" y="29"/>
                    </a:lnTo>
                    <a:lnTo>
                      <a:pt x="25" y="125"/>
                    </a:lnTo>
                    <a:lnTo>
                      <a:pt x="0" y="208"/>
                    </a:lnTo>
                    <a:lnTo>
                      <a:pt x="9" y="262"/>
                    </a:lnTo>
                    <a:lnTo>
                      <a:pt x="41" y="262"/>
                    </a:lnTo>
                    <a:lnTo>
                      <a:pt x="112" y="261"/>
                    </a:lnTo>
                    <a:lnTo>
                      <a:pt x="149" y="260"/>
                    </a:lnTo>
                    <a:lnTo>
                      <a:pt x="183" y="257"/>
                    </a:lnTo>
                    <a:lnTo>
                      <a:pt x="207" y="256"/>
                    </a:lnTo>
                    <a:lnTo>
                      <a:pt x="214" y="254"/>
                    </a:lnTo>
                    <a:lnTo>
                      <a:pt x="218" y="253"/>
                    </a:lnTo>
                    <a:lnTo>
                      <a:pt x="218" y="249"/>
                    </a:lnTo>
                    <a:lnTo>
                      <a:pt x="219" y="247"/>
                    </a:lnTo>
                    <a:lnTo>
                      <a:pt x="219" y="243"/>
                    </a:lnTo>
                    <a:lnTo>
                      <a:pt x="219" y="239"/>
                    </a:lnTo>
                    <a:lnTo>
                      <a:pt x="218" y="229"/>
                    </a:lnTo>
                    <a:lnTo>
                      <a:pt x="293" y="224"/>
                    </a:lnTo>
                    <a:lnTo>
                      <a:pt x="293" y="244"/>
                    </a:lnTo>
                    <a:lnTo>
                      <a:pt x="357" y="247"/>
                    </a:lnTo>
                    <a:lnTo>
                      <a:pt x="356" y="244"/>
                    </a:lnTo>
                    <a:lnTo>
                      <a:pt x="356" y="239"/>
                    </a:lnTo>
                    <a:lnTo>
                      <a:pt x="357" y="235"/>
                    </a:lnTo>
                    <a:lnTo>
                      <a:pt x="357" y="232"/>
                    </a:lnTo>
                    <a:lnTo>
                      <a:pt x="359" y="231"/>
                    </a:lnTo>
                    <a:lnTo>
                      <a:pt x="361" y="229"/>
                    </a:lnTo>
                    <a:lnTo>
                      <a:pt x="399" y="232"/>
                    </a:lnTo>
                    <a:lnTo>
                      <a:pt x="403" y="236"/>
                    </a:lnTo>
                    <a:lnTo>
                      <a:pt x="411" y="244"/>
                    </a:lnTo>
                    <a:lnTo>
                      <a:pt x="417" y="249"/>
                    </a:lnTo>
                    <a:lnTo>
                      <a:pt x="422" y="252"/>
                    </a:lnTo>
                    <a:lnTo>
                      <a:pt x="425" y="253"/>
                    </a:lnTo>
                    <a:lnTo>
                      <a:pt x="427" y="253"/>
                    </a:lnTo>
                    <a:lnTo>
                      <a:pt x="429" y="253"/>
                    </a:lnTo>
                    <a:lnTo>
                      <a:pt x="431" y="253"/>
                    </a:lnTo>
                    <a:lnTo>
                      <a:pt x="436" y="249"/>
                    </a:lnTo>
                    <a:lnTo>
                      <a:pt x="443" y="244"/>
                    </a:lnTo>
                    <a:lnTo>
                      <a:pt x="456" y="231"/>
                    </a:lnTo>
                    <a:lnTo>
                      <a:pt x="472" y="21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850080" y="4327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119" h="205">
                    <a:moveTo>
                      <a:pt x="0" y="198"/>
                    </a:moveTo>
                    <a:lnTo>
                      <a:pt x="8" y="205"/>
                    </a:lnTo>
                    <a:lnTo>
                      <a:pt x="119" y="7"/>
                    </a:lnTo>
                    <a:lnTo>
                      <a:pt x="111" y="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888240" y="43182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37" y="25"/>
                    </a:moveTo>
                    <a:lnTo>
                      <a:pt x="42" y="16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37" y="2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907320" y="4326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8"/>
                    </a:moveTo>
                    <a:lnTo>
                      <a:pt x="10" y="2"/>
                    </a:lnTo>
                    <a:lnTo>
                      <a:pt x="6" y="0"/>
                    </a:lnTo>
                    <a:lnTo>
                      <a:pt x="1" y="9"/>
                    </a:lnTo>
                    <a:lnTo>
                      <a:pt x="0" y="1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870600" y="43182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40" y="6"/>
                    </a:moveTo>
                    <a:lnTo>
                      <a:pt x="31" y="0"/>
                    </a:lnTo>
                    <a:lnTo>
                      <a:pt x="0" y="49"/>
                    </a:lnTo>
                    <a:lnTo>
                      <a:pt x="10" y="54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86440" y="43164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3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lnTo>
                      <a:pt x="2" y="12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846840" y="433224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52" y="30"/>
                    </a:moveTo>
                    <a:lnTo>
                      <a:pt x="57" y="2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52" y="3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870600" y="43419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6"/>
                    </a:moveTo>
                    <a:lnTo>
                      <a:pt x="7" y="10"/>
                    </a:lnTo>
                    <a:lnTo>
                      <a:pt x="3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832440" y="4332240"/>
                <a:ext cx="17640" cy="43200"/>
              </a:xfrm>
              <a:custGeom>
                <a:avLst/>
                <a:gdLst/>
                <a:ahLst/>
                <a:rect l="l" t="t" r="r" b="b"/>
                <a:pathLst>
                  <a:path w="33" h="81">
                    <a:moveTo>
                      <a:pt x="33" y="3"/>
                    </a:moveTo>
                    <a:lnTo>
                      <a:pt x="23" y="0"/>
                    </a:lnTo>
                    <a:lnTo>
                      <a:pt x="0" y="78"/>
                    </a:lnTo>
                    <a:lnTo>
                      <a:pt x="11" y="81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845400" y="433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3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0" y="8"/>
                    </a:lnTo>
                    <a:lnTo>
                      <a:pt x="2" y="12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703920" y="4353120"/>
                <a:ext cx="133560" cy="23760"/>
              </a:xfrm>
              <a:custGeom>
                <a:avLst/>
                <a:gdLst/>
                <a:ahLst/>
                <a:rect l="l" t="t" r="r" b="b"/>
                <a:pathLst>
                  <a:path w="258" h="46">
                    <a:moveTo>
                      <a:pt x="255" y="46"/>
                    </a:moveTo>
                    <a:lnTo>
                      <a:pt x="258" y="37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255" y="4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832440" y="4372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5"/>
                    </a:moveTo>
                    <a:lnTo>
                      <a:pt x="10" y="10"/>
                    </a:lnTo>
                    <a:lnTo>
                      <a:pt x="4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700680" y="4353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4" y="9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6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620040" y="433224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167" h="104">
                    <a:moveTo>
                      <a:pt x="167" y="8"/>
                    </a:moveTo>
                    <a:lnTo>
                      <a:pt x="161" y="0"/>
                    </a:lnTo>
                    <a:lnTo>
                      <a:pt x="0" y="96"/>
                    </a:lnTo>
                    <a:lnTo>
                      <a:pt x="7" y="104"/>
                    </a:lnTo>
                    <a:lnTo>
                      <a:pt x="16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700680" y="4330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9"/>
                    </a:moveTo>
                    <a:lnTo>
                      <a:pt x="10" y="0"/>
                    </a:lnTo>
                    <a:lnTo>
                      <a:pt x="1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605640" y="43848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35" h="86">
                    <a:moveTo>
                      <a:pt x="35" y="3"/>
                    </a:moveTo>
                    <a:lnTo>
                      <a:pt x="25" y="0"/>
                    </a:lnTo>
                    <a:lnTo>
                      <a:pt x="0" y="83"/>
                    </a:lnTo>
                    <a:lnTo>
                      <a:pt x="10" y="86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620040" y="4383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0"/>
                    </a:moveTo>
                    <a:lnTo>
                      <a:pt x="0" y="3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605640" y="44276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10" y="0"/>
                    </a:moveTo>
                    <a:lnTo>
                      <a:pt x="0" y="2"/>
                    </a:lnTo>
                    <a:lnTo>
                      <a:pt x="9" y="56"/>
                    </a:lnTo>
                    <a:lnTo>
                      <a:pt x="19" y="5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605640" y="44262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613560" y="4448160"/>
                <a:ext cx="108000" cy="9720"/>
              </a:xfrm>
              <a:custGeom>
                <a:avLst/>
                <a:gdLst/>
                <a:ahLst/>
                <a:rect l="l" t="t" r="r" b="b"/>
                <a:pathLst>
                  <a:path w="209" h="20">
                    <a:moveTo>
                      <a:pt x="0" y="9"/>
                    </a:moveTo>
                    <a:lnTo>
                      <a:pt x="103" y="6"/>
                    </a:lnTo>
                    <a:lnTo>
                      <a:pt x="174" y="4"/>
                    </a:lnTo>
                    <a:lnTo>
                      <a:pt x="207" y="0"/>
                    </a:lnTo>
                    <a:lnTo>
                      <a:pt x="209" y="10"/>
                    </a:lnTo>
                    <a:lnTo>
                      <a:pt x="174" y="14"/>
                    </a:lnTo>
                    <a:lnTo>
                      <a:pt x="103" y="17"/>
                    </a:lnTo>
                    <a:lnTo>
                      <a:pt x="0" y="2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610320" y="44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1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716880" y="443736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2" h="28">
                    <a:moveTo>
                      <a:pt x="0" y="24"/>
                    </a:moveTo>
                    <a:lnTo>
                      <a:pt x="3" y="17"/>
                    </a:lnTo>
                    <a:lnTo>
                      <a:pt x="3" y="11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2" y="11"/>
                    </a:lnTo>
                    <a:lnTo>
                      <a:pt x="12" y="20"/>
                    </a:lnTo>
                    <a:lnTo>
                      <a:pt x="9" y="2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716880" y="4448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719760" y="44323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77" h="16">
                    <a:moveTo>
                      <a:pt x="0" y="5"/>
                    </a:moveTo>
                    <a:lnTo>
                      <a:pt x="0" y="16"/>
                    </a:lnTo>
                    <a:lnTo>
                      <a:pt x="77" y="10"/>
                    </a:lnTo>
                    <a:lnTo>
                      <a:pt x="7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716880" y="4435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11"/>
                    </a:lnTo>
                    <a:lnTo>
                      <a:pt x="1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756480" y="4432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11" y="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759720" y="444348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0"/>
                    </a:moveTo>
                    <a:lnTo>
                      <a:pt x="0" y="10"/>
                    </a:lnTo>
                    <a:lnTo>
                      <a:pt x="64" y="13"/>
                    </a:lnTo>
                    <a:lnTo>
                      <a:pt x="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756480" y="444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789600" y="443556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" y="22"/>
                    </a:moveTo>
                    <a:lnTo>
                      <a:pt x="0" y="14"/>
                    </a:lnTo>
                    <a:lnTo>
                      <a:pt x="1" y="4"/>
                    </a:lnTo>
                    <a:lnTo>
                      <a:pt x="6" y="0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9" y="14"/>
                    </a:lnTo>
                    <a:lnTo>
                      <a:pt x="10" y="22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789600" y="4445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5" y="11"/>
                    </a:moveTo>
                    <a:lnTo>
                      <a:pt x="9" y="11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794640" y="443556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8" y="3"/>
                    </a:lnTo>
                    <a:lnTo>
                      <a:pt x="38" y="13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792840" y="4435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811920" y="443880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7" y="0"/>
                    </a:moveTo>
                    <a:lnTo>
                      <a:pt x="18" y="11"/>
                    </a:lnTo>
                    <a:lnTo>
                      <a:pt x="27" y="19"/>
                    </a:lnTo>
                    <a:lnTo>
                      <a:pt x="30" y="19"/>
                    </a:lnTo>
                    <a:lnTo>
                      <a:pt x="35" y="19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2" y="28"/>
                    </a:lnTo>
                    <a:lnTo>
                      <a:pt x="11" y="19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811920" y="4437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0"/>
                    </a:moveTo>
                    <a:lnTo>
                      <a:pt x="5" y="0"/>
                    </a:lnTo>
                    <a:lnTo>
                      <a:pt x="7" y="2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827760" y="442764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39"/>
                    </a:moveTo>
                    <a:lnTo>
                      <a:pt x="12" y="30"/>
                    </a:lnTo>
                    <a:lnTo>
                      <a:pt x="25" y="17"/>
                    </a:lnTo>
                    <a:lnTo>
                      <a:pt x="41" y="0"/>
                    </a:lnTo>
                    <a:lnTo>
                      <a:pt x="48" y="8"/>
                    </a:lnTo>
                    <a:lnTo>
                      <a:pt x="32" y="25"/>
                    </a:lnTo>
                    <a:lnTo>
                      <a:pt x="19" y="38"/>
                    </a:lnTo>
                    <a:lnTo>
                      <a:pt x="7" y="4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827760" y="4448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0"/>
                    </a:moveTo>
                    <a:lnTo>
                      <a:pt x="7" y="9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850080" y="4427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8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404040" y="4632480"/>
                <a:ext cx="237960" cy="209520"/>
              </a:xfrm>
              <a:custGeom>
                <a:avLst/>
                <a:gdLst/>
                <a:ahLst/>
                <a:rect l="l" t="t" r="r" b="b"/>
                <a:pathLst>
                  <a:path w="463" h="405">
                    <a:moveTo>
                      <a:pt x="190" y="20"/>
                    </a:moveTo>
                    <a:lnTo>
                      <a:pt x="194" y="20"/>
                    </a:lnTo>
                    <a:lnTo>
                      <a:pt x="203" y="17"/>
                    </a:lnTo>
                    <a:lnTo>
                      <a:pt x="224" y="10"/>
                    </a:lnTo>
                    <a:lnTo>
                      <a:pt x="253" y="0"/>
                    </a:lnTo>
                    <a:lnTo>
                      <a:pt x="262" y="14"/>
                    </a:lnTo>
                    <a:lnTo>
                      <a:pt x="281" y="46"/>
                    </a:lnTo>
                    <a:lnTo>
                      <a:pt x="293" y="62"/>
                    </a:lnTo>
                    <a:lnTo>
                      <a:pt x="302" y="76"/>
                    </a:lnTo>
                    <a:lnTo>
                      <a:pt x="310" y="87"/>
                    </a:lnTo>
                    <a:lnTo>
                      <a:pt x="312" y="90"/>
                    </a:lnTo>
                    <a:lnTo>
                      <a:pt x="314" y="91"/>
                    </a:lnTo>
                    <a:lnTo>
                      <a:pt x="322" y="88"/>
                    </a:lnTo>
                    <a:lnTo>
                      <a:pt x="338" y="80"/>
                    </a:lnTo>
                    <a:lnTo>
                      <a:pt x="384" y="58"/>
                    </a:lnTo>
                    <a:lnTo>
                      <a:pt x="450" y="24"/>
                    </a:lnTo>
                    <a:lnTo>
                      <a:pt x="463" y="55"/>
                    </a:lnTo>
                    <a:lnTo>
                      <a:pt x="397" y="96"/>
                    </a:lnTo>
                    <a:lnTo>
                      <a:pt x="351" y="125"/>
                    </a:lnTo>
                    <a:lnTo>
                      <a:pt x="326" y="142"/>
                    </a:lnTo>
                    <a:lnTo>
                      <a:pt x="320" y="149"/>
                    </a:lnTo>
                    <a:lnTo>
                      <a:pt x="312" y="161"/>
                    </a:lnTo>
                    <a:lnTo>
                      <a:pt x="290" y="194"/>
                    </a:lnTo>
                    <a:lnTo>
                      <a:pt x="261" y="240"/>
                    </a:lnTo>
                    <a:lnTo>
                      <a:pt x="261" y="241"/>
                    </a:lnTo>
                    <a:lnTo>
                      <a:pt x="258" y="245"/>
                    </a:lnTo>
                    <a:lnTo>
                      <a:pt x="256" y="248"/>
                    </a:lnTo>
                    <a:lnTo>
                      <a:pt x="253" y="250"/>
                    </a:lnTo>
                    <a:lnTo>
                      <a:pt x="248" y="252"/>
                    </a:lnTo>
                    <a:lnTo>
                      <a:pt x="243" y="254"/>
                    </a:lnTo>
                    <a:lnTo>
                      <a:pt x="228" y="257"/>
                    </a:lnTo>
                    <a:lnTo>
                      <a:pt x="219" y="260"/>
                    </a:lnTo>
                    <a:lnTo>
                      <a:pt x="192" y="244"/>
                    </a:lnTo>
                    <a:lnTo>
                      <a:pt x="149" y="264"/>
                    </a:lnTo>
                    <a:lnTo>
                      <a:pt x="137" y="295"/>
                    </a:lnTo>
                    <a:lnTo>
                      <a:pt x="96" y="314"/>
                    </a:lnTo>
                    <a:lnTo>
                      <a:pt x="76" y="373"/>
                    </a:lnTo>
                    <a:lnTo>
                      <a:pt x="28" y="405"/>
                    </a:lnTo>
                    <a:lnTo>
                      <a:pt x="0" y="307"/>
                    </a:lnTo>
                    <a:lnTo>
                      <a:pt x="104" y="223"/>
                    </a:lnTo>
                    <a:lnTo>
                      <a:pt x="141" y="195"/>
                    </a:lnTo>
                    <a:lnTo>
                      <a:pt x="166" y="175"/>
                    </a:lnTo>
                    <a:lnTo>
                      <a:pt x="175" y="167"/>
                    </a:lnTo>
                    <a:lnTo>
                      <a:pt x="179" y="163"/>
                    </a:lnTo>
                    <a:lnTo>
                      <a:pt x="179" y="161"/>
                    </a:lnTo>
                    <a:lnTo>
                      <a:pt x="179" y="156"/>
                    </a:lnTo>
                    <a:lnTo>
                      <a:pt x="181" y="138"/>
                    </a:lnTo>
                    <a:lnTo>
                      <a:pt x="183" y="90"/>
                    </a:lnTo>
                    <a:lnTo>
                      <a:pt x="186" y="42"/>
                    </a:lnTo>
                    <a:lnTo>
                      <a:pt x="189" y="26"/>
                    </a:lnTo>
                    <a:lnTo>
                      <a:pt x="189" y="21"/>
                    </a:lnTo>
                    <a:lnTo>
                      <a:pt x="190" y="2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502320" y="463104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65" h="30">
                    <a:moveTo>
                      <a:pt x="0" y="19"/>
                    </a:moveTo>
                    <a:lnTo>
                      <a:pt x="34" y="10"/>
                    </a:lnTo>
                    <a:lnTo>
                      <a:pt x="63" y="0"/>
                    </a:lnTo>
                    <a:lnTo>
                      <a:pt x="65" y="10"/>
                    </a:lnTo>
                    <a:lnTo>
                      <a:pt x="36" y="21"/>
                    </a:lnTo>
                    <a:lnTo>
                      <a:pt x="2" y="3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531120" y="4631040"/>
                <a:ext cx="37800" cy="52200"/>
              </a:xfrm>
              <a:custGeom>
                <a:avLst/>
                <a:gdLst/>
                <a:ahLst/>
                <a:rect l="l" t="t" r="r" b="b"/>
                <a:pathLst>
                  <a:path w="70" h="98">
                    <a:moveTo>
                      <a:pt x="9" y="0"/>
                    </a:moveTo>
                    <a:lnTo>
                      <a:pt x="37" y="45"/>
                    </a:lnTo>
                    <a:lnTo>
                      <a:pt x="58" y="77"/>
                    </a:lnTo>
                    <a:lnTo>
                      <a:pt x="70" y="91"/>
                    </a:lnTo>
                    <a:lnTo>
                      <a:pt x="62" y="98"/>
                    </a:lnTo>
                    <a:lnTo>
                      <a:pt x="50" y="83"/>
                    </a:lnTo>
                    <a:lnTo>
                      <a:pt x="28" y="50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531120" y="4631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4" y="2"/>
                    </a:moveTo>
                    <a:lnTo>
                      <a:pt x="6" y="0"/>
                    </a:lnTo>
                    <a:lnTo>
                      <a:pt x="9" y="4"/>
                    </a:lnTo>
                    <a:lnTo>
                      <a:pt x="0" y="10"/>
                    </a:lnTo>
                    <a:lnTo>
                      <a:pt x="6" y="1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564240" y="464364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140" h="76">
                    <a:moveTo>
                      <a:pt x="0" y="67"/>
                    </a:moveTo>
                    <a:lnTo>
                      <a:pt x="70" y="33"/>
                    </a:lnTo>
                    <a:lnTo>
                      <a:pt x="135" y="0"/>
                    </a:lnTo>
                    <a:lnTo>
                      <a:pt x="140" y="9"/>
                    </a:lnTo>
                    <a:lnTo>
                      <a:pt x="75" y="42"/>
                    </a:lnTo>
                    <a:lnTo>
                      <a:pt x="5" y="76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564240" y="46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8"/>
                    </a:moveTo>
                    <a:lnTo>
                      <a:pt x="2" y="10"/>
                    </a:lnTo>
                    <a:lnTo>
                      <a:pt x="6" y="9"/>
                    </a:lnTo>
                    <a:lnTo>
                      <a:pt x="1" y="0"/>
                    </a:lnTo>
                    <a:lnTo>
                      <a:pt x="8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30840" y="464364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9" y="0"/>
                    </a:moveTo>
                    <a:lnTo>
                      <a:pt x="0" y="5"/>
                    </a:lnTo>
                    <a:lnTo>
                      <a:pt x="15" y="37"/>
                    </a:lnTo>
                    <a:lnTo>
                      <a:pt x="24" y="3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630840" y="46418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3" y="3"/>
                    </a:moveTo>
                    <a:lnTo>
                      <a:pt x="8" y="0"/>
                    </a:lnTo>
                    <a:lnTo>
                      <a:pt x="9" y="4"/>
                    </a:lnTo>
                    <a:lnTo>
                      <a:pt x="0" y="9"/>
                    </a:lnTo>
                    <a:lnTo>
                      <a:pt x="8" y="1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568920" y="4659480"/>
                <a:ext cx="74880" cy="49320"/>
              </a:xfrm>
              <a:custGeom>
                <a:avLst/>
                <a:gdLst/>
                <a:ahLst/>
                <a:rect l="l" t="t" r="r" b="b"/>
                <a:pathLst>
                  <a:path w="143" h="95">
                    <a:moveTo>
                      <a:pt x="143" y="8"/>
                    </a:moveTo>
                    <a:lnTo>
                      <a:pt x="78" y="49"/>
                    </a:lnTo>
                    <a:lnTo>
                      <a:pt x="6" y="95"/>
                    </a:lnTo>
                    <a:lnTo>
                      <a:pt x="0" y="87"/>
                    </a:lnTo>
                    <a:lnTo>
                      <a:pt x="71" y="41"/>
                    </a:lnTo>
                    <a:lnTo>
                      <a:pt x="137" y="0"/>
                    </a:lnTo>
                    <a:lnTo>
                      <a:pt x="143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638760" y="46594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2"/>
                    </a:moveTo>
                    <a:lnTo>
                      <a:pt x="11" y="6"/>
                    </a:lnTo>
                    <a:lnTo>
                      <a:pt x="7" y="8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535800" y="4705560"/>
                <a:ext cx="38160" cy="52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74" y="5"/>
                    </a:moveTo>
                    <a:lnTo>
                      <a:pt x="38" y="56"/>
                    </a:lnTo>
                    <a:lnTo>
                      <a:pt x="9" y="103"/>
                    </a:lnTo>
                    <a:lnTo>
                      <a:pt x="0" y="97"/>
                    </a:lnTo>
                    <a:lnTo>
                      <a:pt x="29" y="51"/>
                    </a:lnTo>
                    <a:lnTo>
                      <a:pt x="64" y="0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568920" y="47037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2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527880" y="47545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5" y="6"/>
                    </a:moveTo>
                    <a:lnTo>
                      <a:pt x="22" y="12"/>
                    </a:lnTo>
                    <a:lnTo>
                      <a:pt x="16" y="16"/>
                    </a:lnTo>
                    <a:lnTo>
                      <a:pt x="5" y="23"/>
                    </a:lnTo>
                    <a:lnTo>
                      <a:pt x="0" y="13"/>
                    </a:lnTo>
                    <a:lnTo>
                      <a:pt x="9" y="8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535800" y="4754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9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513480" y="47610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10"/>
                    </a:moveTo>
                    <a:lnTo>
                      <a:pt x="4" y="14"/>
                    </a:lnTo>
                    <a:lnTo>
                      <a:pt x="0" y="4"/>
                    </a:lnTo>
                    <a:lnTo>
                      <a:pt x="25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527880" y="47610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10"/>
                    </a:moveTo>
                    <a:lnTo>
                      <a:pt x="4" y="10"/>
                    </a:lnTo>
                    <a:lnTo>
                      <a:pt x="0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500880" y="47563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27" y="22"/>
                    </a:moveTo>
                    <a:lnTo>
                      <a:pt x="33" y="14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513480" y="4764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0"/>
                    </a:moveTo>
                    <a:lnTo>
                      <a:pt x="2" y="10"/>
                    </a:lnTo>
                    <a:lnTo>
                      <a:pt x="0" y="8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478560" y="47563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48" y="9"/>
                    </a:moveTo>
                    <a:lnTo>
                      <a:pt x="43" y="0"/>
                    </a:lnTo>
                    <a:lnTo>
                      <a:pt x="0" y="20"/>
                    </a:lnTo>
                    <a:lnTo>
                      <a:pt x="6" y="29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500880" y="4756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7" y="10"/>
                    </a:lnTo>
                    <a:lnTo>
                      <a:pt x="0" y="9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472080" y="47674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4"/>
                    </a:moveTo>
                    <a:lnTo>
                      <a:pt x="12" y="0"/>
                    </a:lnTo>
                    <a:lnTo>
                      <a:pt x="0" y="32"/>
                    </a:lnTo>
                    <a:lnTo>
                      <a:pt x="9" y="36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478560" y="4767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9" y="6"/>
                    </a:lnTo>
                    <a:lnTo>
                      <a:pt x="8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451560" y="478332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46" y="10"/>
                    </a:moveTo>
                    <a:lnTo>
                      <a:pt x="40" y="0"/>
                    </a:lnTo>
                    <a:lnTo>
                      <a:pt x="0" y="19"/>
                    </a:lnTo>
                    <a:lnTo>
                      <a:pt x="5" y="28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472080" y="4783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8" y="1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440400" y="479448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30" h="62">
                    <a:moveTo>
                      <a:pt x="30" y="3"/>
                    </a:moveTo>
                    <a:lnTo>
                      <a:pt x="20" y="0"/>
                    </a:lnTo>
                    <a:lnTo>
                      <a:pt x="0" y="60"/>
                    </a:lnTo>
                    <a:lnTo>
                      <a:pt x="11" y="62"/>
                    </a:ln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450120" y="4792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415200" y="482292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57" h="40">
                    <a:moveTo>
                      <a:pt x="57" y="8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7" y="40"/>
                    </a:lnTo>
                    <a:lnTo>
                      <a:pt x="5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440400" y="48229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5"/>
                    </a:moveTo>
                    <a:lnTo>
                      <a:pt x="11" y="7"/>
                    </a:lnTo>
                    <a:lnTo>
                      <a:pt x="8" y="8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400800" y="479124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35" h="101">
                    <a:moveTo>
                      <a:pt x="26" y="101"/>
                    </a:moveTo>
                    <a:lnTo>
                      <a:pt x="35" y="97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26" y="10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415200" y="4840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8"/>
                    </a:moveTo>
                    <a:lnTo>
                      <a:pt x="1" y="12"/>
                    </a:lnTo>
                    <a:lnTo>
                      <a:pt x="0" y="6"/>
                    </a:lnTo>
                    <a:lnTo>
                      <a:pt x="9" y="2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400800" y="474660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109" h="92">
                    <a:moveTo>
                      <a:pt x="0" y="84"/>
                    </a:moveTo>
                    <a:lnTo>
                      <a:pt x="7" y="92"/>
                    </a:lnTo>
                    <a:lnTo>
                      <a:pt x="109" y="8"/>
                    </a:lnTo>
                    <a:lnTo>
                      <a:pt x="103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399360" y="4789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" y="8"/>
                    </a:lnTo>
                    <a:lnTo>
                      <a:pt x="11" y="3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454800" y="471492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0" y="60"/>
                    </a:moveTo>
                    <a:lnTo>
                      <a:pt x="37" y="32"/>
                    </a:lnTo>
                    <a:lnTo>
                      <a:pt x="76" y="0"/>
                    </a:lnTo>
                    <a:lnTo>
                      <a:pt x="83" y="8"/>
                    </a:lnTo>
                    <a:lnTo>
                      <a:pt x="43" y="40"/>
                    </a:lnTo>
                    <a:lnTo>
                      <a:pt x="6" y="68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454800" y="4746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494400" y="4641840"/>
                <a:ext cx="9720" cy="7488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5"/>
                    </a:moveTo>
                    <a:lnTo>
                      <a:pt x="4" y="72"/>
                    </a:lnTo>
                    <a:lnTo>
                      <a:pt x="7" y="21"/>
                    </a:lnTo>
                    <a:lnTo>
                      <a:pt x="11" y="0"/>
                    </a:lnTo>
                    <a:lnTo>
                      <a:pt x="20" y="3"/>
                    </a:lnTo>
                    <a:lnTo>
                      <a:pt x="16" y="24"/>
                    </a:lnTo>
                    <a:lnTo>
                      <a:pt x="13" y="72"/>
                    </a:lnTo>
                    <a:lnTo>
                      <a:pt x="9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494400" y="4714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8"/>
                    </a:moveTo>
                    <a:lnTo>
                      <a:pt x="9" y="7"/>
                    </a:lnTo>
                    <a:lnTo>
                      <a:pt x="9" y="4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499080" y="46404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6" y="11"/>
                    </a:lnTo>
                    <a:lnTo>
                      <a:pt x="9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961240" y="4781520"/>
                <a:ext cx="350640" cy="106560"/>
              </a:xfrm>
              <a:custGeom>
                <a:avLst/>
                <a:gdLst/>
                <a:ahLst/>
                <a:rect l="l" t="t" r="r" b="b"/>
                <a:pathLst>
                  <a:path w="682" h="207">
                    <a:moveTo>
                      <a:pt x="679" y="0"/>
                    </a:moveTo>
                    <a:lnTo>
                      <a:pt x="682" y="83"/>
                    </a:lnTo>
                    <a:lnTo>
                      <a:pt x="587" y="129"/>
                    </a:lnTo>
                    <a:lnTo>
                      <a:pt x="434" y="178"/>
                    </a:lnTo>
                    <a:lnTo>
                      <a:pt x="426" y="141"/>
                    </a:lnTo>
                    <a:lnTo>
                      <a:pt x="369" y="151"/>
                    </a:lnTo>
                    <a:lnTo>
                      <a:pt x="243" y="176"/>
                    </a:lnTo>
                    <a:lnTo>
                      <a:pt x="175" y="190"/>
                    </a:lnTo>
                    <a:lnTo>
                      <a:pt x="117" y="199"/>
                    </a:lnTo>
                    <a:lnTo>
                      <a:pt x="95" y="203"/>
                    </a:lnTo>
                    <a:lnTo>
                      <a:pt x="77" y="205"/>
                    </a:lnTo>
                    <a:lnTo>
                      <a:pt x="66" y="207"/>
                    </a:lnTo>
                    <a:lnTo>
                      <a:pt x="63" y="207"/>
                    </a:lnTo>
                    <a:lnTo>
                      <a:pt x="62" y="207"/>
                    </a:lnTo>
                    <a:lnTo>
                      <a:pt x="62" y="205"/>
                    </a:lnTo>
                    <a:lnTo>
                      <a:pt x="62" y="204"/>
                    </a:lnTo>
                    <a:lnTo>
                      <a:pt x="59" y="203"/>
                    </a:lnTo>
                    <a:lnTo>
                      <a:pt x="52" y="198"/>
                    </a:lnTo>
                    <a:lnTo>
                      <a:pt x="41" y="192"/>
                    </a:lnTo>
                    <a:lnTo>
                      <a:pt x="28" y="186"/>
                    </a:lnTo>
                    <a:lnTo>
                      <a:pt x="5" y="175"/>
                    </a:lnTo>
                    <a:lnTo>
                      <a:pt x="0" y="172"/>
                    </a:lnTo>
                    <a:lnTo>
                      <a:pt x="1" y="172"/>
                    </a:lnTo>
                    <a:lnTo>
                      <a:pt x="8" y="172"/>
                    </a:lnTo>
                    <a:lnTo>
                      <a:pt x="24" y="170"/>
                    </a:lnTo>
                    <a:lnTo>
                      <a:pt x="71" y="165"/>
                    </a:lnTo>
                    <a:lnTo>
                      <a:pt x="137" y="155"/>
                    </a:lnTo>
                    <a:lnTo>
                      <a:pt x="211" y="145"/>
                    </a:lnTo>
                    <a:lnTo>
                      <a:pt x="410" y="117"/>
                    </a:lnTo>
                    <a:lnTo>
                      <a:pt x="421" y="87"/>
                    </a:lnTo>
                    <a:lnTo>
                      <a:pt x="446" y="83"/>
                    </a:lnTo>
                    <a:lnTo>
                      <a:pt x="452" y="2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308640" y="4781520"/>
                <a:ext cx="6480" cy="43200"/>
              </a:xfrm>
              <a:custGeom>
                <a:avLst/>
                <a:gdLst/>
                <a:ahLst/>
                <a:rect l="l" t="t" r="r" b="b"/>
                <a:pathLst>
                  <a:path w="13" h="83">
                    <a:moveTo>
                      <a:pt x="11" y="0"/>
                    </a:moveTo>
                    <a:lnTo>
                      <a:pt x="0" y="0"/>
                    </a:lnTo>
                    <a:lnTo>
                      <a:pt x="3" y="83"/>
                    </a:lnTo>
                    <a:lnTo>
                      <a:pt x="13" y="8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262560" y="482292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101" h="55">
                    <a:moveTo>
                      <a:pt x="101" y="9"/>
                    </a:moveTo>
                    <a:lnTo>
                      <a:pt x="95" y="0"/>
                    </a:lnTo>
                    <a:lnTo>
                      <a:pt x="0" y="46"/>
                    </a:lnTo>
                    <a:lnTo>
                      <a:pt x="6" y="55"/>
                    </a:lnTo>
                    <a:lnTo>
                      <a:pt x="101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310440" y="4822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8"/>
                    </a:lnTo>
                    <a:lnTo>
                      <a:pt x="8" y="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183360" y="4846680"/>
                <a:ext cx="81000" cy="28800"/>
              </a:xfrm>
              <a:custGeom>
                <a:avLst/>
                <a:gdLst/>
                <a:ahLst/>
                <a:rect l="l" t="t" r="r" b="b"/>
                <a:pathLst>
                  <a:path w="157" h="58">
                    <a:moveTo>
                      <a:pt x="157" y="9"/>
                    </a:moveTo>
                    <a:lnTo>
                      <a:pt x="153" y="0"/>
                    </a:lnTo>
                    <a:lnTo>
                      <a:pt x="0" y="49"/>
                    </a:lnTo>
                    <a:lnTo>
                      <a:pt x="4" y="58"/>
                    </a:lnTo>
                    <a:lnTo>
                      <a:pt x="157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176880" y="48546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8" y="40"/>
                    </a:moveTo>
                    <a:lnTo>
                      <a:pt x="17" y="37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8" y="4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181560" y="48704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6" y="9"/>
                    </a:moveTo>
                    <a:lnTo>
                      <a:pt x="1" y="10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992920" y="4853160"/>
                <a:ext cx="187200" cy="38160"/>
              </a:xfrm>
              <a:custGeom>
                <a:avLst/>
                <a:gdLst/>
                <a:ahLst/>
                <a:rect l="l" t="t" r="r" b="b"/>
                <a:pathLst>
                  <a:path w="365" h="75">
                    <a:moveTo>
                      <a:pt x="365" y="9"/>
                    </a:moveTo>
                    <a:lnTo>
                      <a:pt x="182" y="45"/>
                    </a:lnTo>
                    <a:lnTo>
                      <a:pt x="57" y="67"/>
                    </a:lnTo>
                    <a:lnTo>
                      <a:pt x="16" y="74"/>
                    </a:lnTo>
                    <a:lnTo>
                      <a:pt x="0" y="75"/>
                    </a:lnTo>
                    <a:lnTo>
                      <a:pt x="0" y="66"/>
                    </a:lnTo>
                    <a:lnTo>
                      <a:pt x="13" y="64"/>
                    </a:lnTo>
                    <a:lnTo>
                      <a:pt x="54" y="58"/>
                    </a:lnTo>
                    <a:lnTo>
                      <a:pt x="178" y="35"/>
                    </a:lnTo>
                    <a:lnTo>
                      <a:pt x="361" y="0"/>
                    </a:lnTo>
                    <a:lnTo>
                      <a:pt x="365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176880" y="485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3"/>
                    </a:moveTo>
                    <a:lnTo>
                      <a:pt x="8" y="0"/>
                    </a:lnTo>
                    <a:lnTo>
                      <a:pt x="2" y="1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958000" y="48690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71" h="44">
                    <a:moveTo>
                      <a:pt x="63" y="44"/>
                    </a:moveTo>
                    <a:lnTo>
                      <a:pt x="60" y="40"/>
                    </a:lnTo>
                    <a:lnTo>
                      <a:pt x="54" y="36"/>
                    </a:lnTo>
                    <a:lnTo>
                      <a:pt x="30" y="24"/>
                    </a:lnTo>
                    <a:lnTo>
                      <a:pt x="8" y="13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8" y="11"/>
                    </a:lnTo>
                    <a:lnTo>
                      <a:pt x="9" y="8"/>
                    </a:lnTo>
                    <a:lnTo>
                      <a:pt x="13" y="4"/>
                    </a:lnTo>
                    <a:lnTo>
                      <a:pt x="35" y="15"/>
                    </a:lnTo>
                    <a:lnTo>
                      <a:pt x="59" y="27"/>
                    </a:lnTo>
                    <a:lnTo>
                      <a:pt x="67" y="32"/>
                    </a:lnTo>
                    <a:lnTo>
                      <a:pt x="71" y="37"/>
                    </a:lnTo>
                    <a:lnTo>
                      <a:pt x="63" y="4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5989680" y="48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9"/>
                    </a:moveTo>
                    <a:lnTo>
                      <a:pt x="1" y="9"/>
                    </a:lnTo>
                    <a:lnTo>
                      <a:pt x="0" y="8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961240" y="4840560"/>
                <a:ext cx="210960" cy="33120"/>
              </a:xfrm>
              <a:custGeom>
                <a:avLst/>
                <a:gdLst/>
                <a:ahLst/>
                <a:rect l="l" t="t" r="r" b="b"/>
                <a:pathLst>
                  <a:path w="411" h="66">
                    <a:moveTo>
                      <a:pt x="0" y="55"/>
                    </a:moveTo>
                    <a:lnTo>
                      <a:pt x="70" y="47"/>
                    </a:lnTo>
                    <a:lnTo>
                      <a:pt x="210" y="27"/>
                    </a:lnTo>
                    <a:lnTo>
                      <a:pt x="409" y="0"/>
                    </a:lnTo>
                    <a:lnTo>
                      <a:pt x="411" y="10"/>
                    </a:lnTo>
                    <a:lnTo>
                      <a:pt x="211" y="38"/>
                    </a:lnTo>
                    <a:lnTo>
                      <a:pt x="72" y="58"/>
                    </a:lnTo>
                    <a:lnTo>
                      <a:pt x="0" y="66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961240" y="48690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168960" y="48261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31"/>
                    </a:moveTo>
                    <a:lnTo>
                      <a:pt x="9" y="35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68960" y="484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10"/>
                    </a:moveTo>
                    <a:lnTo>
                      <a:pt x="8" y="10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176880" y="482148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3"/>
                    </a:moveTo>
                    <a:lnTo>
                      <a:pt x="1" y="14"/>
                    </a:lnTo>
                    <a:lnTo>
                      <a:pt x="26" y="10"/>
                    </a:lnTo>
                    <a:lnTo>
                      <a:pt x="2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175440" y="48229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1" y="0"/>
                    </a:lnTo>
                    <a:lnTo>
                      <a:pt x="5" y="0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188040" y="4783320"/>
                <a:ext cx="7920" cy="41400"/>
              </a:xfrm>
              <a:custGeom>
                <a:avLst/>
                <a:gdLst/>
                <a:ahLst/>
                <a:rect l="l" t="t" r="r" b="b"/>
                <a:pathLst>
                  <a:path w="15" h="83">
                    <a:moveTo>
                      <a:pt x="0" y="80"/>
                    </a:moveTo>
                    <a:lnTo>
                      <a:pt x="9" y="83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188040" y="48214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6" y="10"/>
                    </a:moveTo>
                    <a:lnTo>
                      <a:pt x="9" y="10"/>
                    </a:lnTo>
                    <a:lnTo>
                      <a:pt x="9" y="6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194520" y="4778640"/>
                <a:ext cx="115920" cy="7920"/>
              </a:xfrm>
              <a:custGeom>
                <a:avLst/>
                <a:gdLst/>
                <a:ahLst/>
                <a:rect l="l" t="t" r="r" b="b"/>
                <a:pathLst>
                  <a:path w="227" h="14">
                    <a:moveTo>
                      <a:pt x="0" y="3"/>
                    </a:moveTo>
                    <a:lnTo>
                      <a:pt x="0" y="14"/>
                    </a:lnTo>
                    <a:lnTo>
                      <a:pt x="227" y="11"/>
                    </a:lnTo>
                    <a:lnTo>
                      <a:pt x="22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191280" y="4780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308640" y="4778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0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477040" y="463248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102" h="143">
                    <a:moveTo>
                      <a:pt x="2" y="0"/>
                    </a:moveTo>
                    <a:lnTo>
                      <a:pt x="6" y="0"/>
                    </a:lnTo>
                    <a:lnTo>
                      <a:pt x="10" y="1"/>
                    </a:lnTo>
                    <a:lnTo>
                      <a:pt x="22" y="5"/>
                    </a:lnTo>
                    <a:lnTo>
                      <a:pt x="37" y="11"/>
                    </a:lnTo>
                    <a:lnTo>
                      <a:pt x="78" y="37"/>
                    </a:lnTo>
                    <a:lnTo>
                      <a:pt x="82" y="76"/>
                    </a:lnTo>
                    <a:lnTo>
                      <a:pt x="102" y="80"/>
                    </a:lnTo>
                    <a:lnTo>
                      <a:pt x="93" y="113"/>
                    </a:lnTo>
                    <a:lnTo>
                      <a:pt x="58" y="141"/>
                    </a:lnTo>
                    <a:lnTo>
                      <a:pt x="16" y="143"/>
                    </a:lnTo>
                    <a:lnTo>
                      <a:pt x="6" y="66"/>
                    </a:lnTo>
                    <a:lnTo>
                      <a:pt x="4" y="55"/>
                    </a:lnTo>
                    <a:lnTo>
                      <a:pt x="2" y="33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477040" y="463104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3" y="0"/>
                    </a:moveTo>
                    <a:lnTo>
                      <a:pt x="23" y="6"/>
                    </a:lnTo>
                    <a:lnTo>
                      <a:pt x="39" y="12"/>
                    </a:lnTo>
                    <a:lnTo>
                      <a:pt x="36" y="23"/>
                    </a:lnTo>
                    <a:lnTo>
                      <a:pt x="20" y="16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495760" y="46357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5" y="0"/>
                    </a:moveTo>
                    <a:lnTo>
                      <a:pt x="0" y="10"/>
                    </a:lnTo>
                    <a:lnTo>
                      <a:pt x="41" y="35"/>
                    </a:lnTo>
                    <a:lnTo>
                      <a:pt x="46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495760" y="4635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5" y="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514840" y="465156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1" y="0"/>
                    </a:moveTo>
                    <a:lnTo>
                      <a:pt x="0" y="1"/>
                    </a:lnTo>
                    <a:lnTo>
                      <a:pt x="4" y="40"/>
                    </a:lnTo>
                    <a:lnTo>
                      <a:pt x="14" y="3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514840" y="46497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8" y="0"/>
                    </a:moveTo>
                    <a:lnTo>
                      <a:pt x="11" y="1"/>
                    </a:lnTo>
                    <a:lnTo>
                      <a:pt x="11" y="4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518080" y="46688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3" y="0"/>
                    </a:moveTo>
                    <a:lnTo>
                      <a:pt x="0" y="10"/>
                    </a:lnTo>
                    <a:lnTo>
                      <a:pt x="20" y="14"/>
                    </a:lnTo>
                    <a:lnTo>
                      <a:pt x="22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16640" y="4668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6"/>
                    </a:moveTo>
                    <a:lnTo>
                      <a:pt x="0" y="9"/>
                    </a:lnTo>
                    <a:lnTo>
                      <a:pt x="4" y="10"/>
                    </a:lnTo>
                    <a:lnTo>
                      <a:pt x="7" y="0"/>
                    </a:lnTo>
                    <a:lnTo>
                      <a:pt x="1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521320" y="4673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20" y="2"/>
                    </a:moveTo>
                    <a:lnTo>
                      <a:pt x="10" y="0"/>
                    </a:lnTo>
                    <a:lnTo>
                      <a:pt x="0" y="33"/>
                    </a:lnTo>
                    <a:lnTo>
                      <a:pt x="11" y="35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527800" y="46720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6" y="0"/>
                    </a:moveTo>
                    <a:lnTo>
                      <a:pt x="12" y="1"/>
                    </a:lnTo>
                    <a:lnTo>
                      <a:pt x="10" y="6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504040" y="468972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41" y="8"/>
                    </a:moveTo>
                    <a:lnTo>
                      <a:pt x="35" y="0"/>
                    </a:lnTo>
                    <a:lnTo>
                      <a:pt x="0" y="28"/>
                    </a:lnTo>
                    <a:lnTo>
                      <a:pt x="7" y="36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521320" y="4689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5"/>
                    </a:moveTo>
                    <a:lnTo>
                      <a:pt x="8" y="8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486400" y="47023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42" y="9"/>
                    </a:moveTo>
                    <a:lnTo>
                      <a:pt x="42" y="0"/>
                    </a:lnTo>
                    <a:lnTo>
                      <a:pt x="0" y="2"/>
                    </a:lnTo>
                    <a:lnTo>
                      <a:pt x="0" y="12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504040" y="4702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8"/>
                    </a:moveTo>
                    <a:lnTo>
                      <a:pt x="6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477040" y="466596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20" h="81">
                    <a:moveTo>
                      <a:pt x="11" y="81"/>
                    </a:moveTo>
                    <a:lnTo>
                      <a:pt x="20" y="78"/>
                    </a:lnTo>
                    <a:lnTo>
                      <a:pt x="10" y="0"/>
                    </a:lnTo>
                    <a:lnTo>
                      <a:pt x="0" y="3"/>
                    </a:lnTo>
                    <a:lnTo>
                      <a:pt x="11" y="8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483160" y="4703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0" y="10"/>
                    </a:lnTo>
                    <a:lnTo>
                      <a:pt x="0" y="6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475240" y="46310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15" h="69">
                    <a:moveTo>
                      <a:pt x="5" y="69"/>
                    </a:moveTo>
                    <a:lnTo>
                      <a:pt x="1" y="35"/>
                    </a:lnTo>
                    <a:lnTo>
                      <a:pt x="0" y="12"/>
                    </a:lnTo>
                    <a:lnTo>
                      <a:pt x="1" y="0"/>
                    </a:lnTo>
                    <a:lnTo>
                      <a:pt x="11" y="3"/>
                    </a:lnTo>
                    <a:lnTo>
                      <a:pt x="11" y="12"/>
                    </a:lnTo>
                    <a:lnTo>
                      <a:pt x="11" y="35"/>
                    </a:lnTo>
                    <a:lnTo>
                      <a:pt x="15" y="66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477040" y="4665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1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475240" y="462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2" y="0"/>
                    </a:lnTo>
                    <a:lnTo>
                      <a:pt x="7" y="1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083200" y="48117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2" y="16"/>
                    </a:moveTo>
                    <a:lnTo>
                      <a:pt x="11" y="1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084640" y="4778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0" y="63"/>
                    </a:moveTo>
                    <a:lnTo>
                      <a:pt x="7" y="70"/>
                    </a:lnTo>
                    <a:lnTo>
                      <a:pt x="54" y="7"/>
                    </a:lnTo>
                    <a:lnTo>
                      <a:pt x="46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083200" y="4810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9" y="7"/>
                    </a:lnTo>
                    <a:lnTo>
                      <a:pt x="9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106960" y="477864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5" y="0"/>
                    </a:moveTo>
                    <a:lnTo>
                      <a:pt x="0" y="9"/>
                    </a:lnTo>
                    <a:lnTo>
                      <a:pt x="41" y="35"/>
                    </a:lnTo>
                    <a:lnTo>
                      <a:pt x="46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106960" y="4776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2" y="0"/>
                    </a:lnTo>
                    <a:lnTo>
                      <a:pt x="6" y="3"/>
                    </a:lnTo>
                    <a:lnTo>
                      <a:pt x="1" y="12"/>
                    </a:lnTo>
                    <a:lnTo>
                      <a:pt x="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129280" y="4791240"/>
                <a:ext cx="50760" cy="15840"/>
              </a:xfrm>
              <a:custGeom>
                <a:avLst/>
                <a:gdLst/>
                <a:ahLst/>
                <a:rect l="l" t="t" r="r" b="b"/>
                <a:pathLst>
                  <a:path w="99" h="28">
                    <a:moveTo>
                      <a:pt x="5" y="0"/>
                    </a:moveTo>
                    <a:lnTo>
                      <a:pt x="13" y="4"/>
                    </a:lnTo>
                    <a:lnTo>
                      <a:pt x="33" y="9"/>
                    </a:lnTo>
                    <a:lnTo>
                      <a:pt x="62" y="16"/>
                    </a:lnTo>
                    <a:lnTo>
                      <a:pt x="79" y="17"/>
                    </a:lnTo>
                    <a:lnTo>
                      <a:pt x="99" y="16"/>
                    </a:lnTo>
                    <a:lnTo>
                      <a:pt x="99" y="27"/>
                    </a:lnTo>
                    <a:lnTo>
                      <a:pt x="79" y="28"/>
                    </a:lnTo>
                    <a:lnTo>
                      <a:pt x="61" y="27"/>
                    </a:lnTo>
                    <a:lnTo>
                      <a:pt x="30" y="20"/>
                    </a:lnTo>
                    <a:lnTo>
                      <a:pt x="8" y="13"/>
                    </a:lnTo>
                    <a:lnTo>
                      <a:pt x="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129280" y="4791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180040" y="4789440"/>
                <a:ext cx="47520" cy="16200"/>
              </a:xfrm>
              <a:custGeom>
                <a:avLst/>
                <a:gdLst/>
                <a:ahLst/>
                <a:rect l="l" t="t" r="r" b="b"/>
                <a:pathLst>
                  <a:path w="92" h="32">
                    <a:moveTo>
                      <a:pt x="0" y="21"/>
                    </a:moveTo>
                    <a:lnTo>
                      <a:pt x="64" y="6"/>
                    </a:lnTo>
                    <a:lnTo>
                      <a:pt x="91" y="0"/>
                    </a:lnTo>
                    <a:lnTo>
                      <a:pt x="92" y="10"/>
                    </a:lnTo>
                    <a:lnTo>
                      <a:pt x="66" y="17"/>
                    </a:lnTo>
                    <a:lnTo>
                      <a:pt x="1" y="3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180040" y="480060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1"/>
                    </a:moveTo>
                    <a:lnTo>
                      <a:pt x="1" y="11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226120" y="4789440"/>
                <a:ext cx="39600" cy="6480"/>
              </a:xfrm>
              <a:custGeom>
                <a:avLst/>
                <a:gdLst/>
                <a:ahLst/>
                <a:rect l="l" t="t" r="r" b="b"/>
                <a:pathLst>
                  <a:path w="76" h="14">
                    <a:moveTo>
                      <a:pt x="0" y="0"/>
                    </a:moveTo>
                    <a:lnTo>
                      <a:pt x="76" y="4"/>
                    </a:lnTo>
                    <a:lnTo>
                      <a:pt x="76" y="14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381800" y="5342040"/>
                <a:ext cx="23760" cy="468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207040" y="49690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2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1" name=""/>
            <p:cNvSpPr/>
            <p:nvPr/>
          </p:nvSpPr>
          <p:spPr>
            <a:xfrm>
              <a:off x="0" y="4367520"/>
              <a:ext cx="3009960" cy="3373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reas de Aplicación Fu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0" y="4691160"/>
              <a:ext cx="4838760" cy="0"/>
            </a:xfrm>
            <a:prstGeom prst="line">
              <a:avLst/>
            </a:prstGeom>
            <a:ln w="936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0" y="1450800"/>
            <a:ext cx="8462880" cy="4122720"/>
            <a:chOff x="0" y="1450800"/>
            <a:chExt cx="8462880" cy="4122720"/>
          </a:xfrm>
        </p:grpSpPr>
        <p:grpSp>
          <p:nvGrpSpPr>
            <p:cNvPr id="2394" name=""/>
            <p:cNvGrpSpPr/>
            <p:nvPr/>
          </p:nvGrpSpPr>
          <p:grpSpPr>
            <a:xfrm>
              <a:off x="5084640" y="1450800"/>
              <a:ext cx="3378240" cy="4122720"/>
              <a:chOff x="5084640" y="1450800"/>
              <a:chExt cx="3378240" cy="4122720"/>
            </a:xfrm>
          </p:grpSpPr>
          <p:sp>
            <p:nvSpPr>
              <p:cNvPr id="2395" name=""/>
              <p:cNvSpPr/>
              <p:nvPr/>
            </p:nvSpPr>
            <p:spPr>
              <a:xfrm>
                <a:off x="5084640" y="4768560"/>
                <a:ext cx="336600" cy="212760"/>
              </a:xfrm>
              <a:custGeom>
                <a:avLst/>
                <a:gdLst/>
                <a:ahLst/>
                <a:rect l="l" t="t" r="r" b="b"/>
                <a:pathLst>
                  <a:path w="654" h="413">
                    <a:moveTo>
                      <a:pt x="38" y="79"/>
                    </a:moveTo>
                    <a:lnTo>
                      <a:pt x="36" y="63"/>
                    </a:lnTo>
                    <a:lnTo>
                      <a:pt x="83" y="0"/>
                    </a:lnTo>
                    <a:lnTo>
                      <a:pt x="124" y="26"/>
                    </a:lnTo>
                    <a:lnTo>
                      <a:pt x="131" y="30"/>
                    </a:lnTo>
                    <a:lnTo>
                      <a:pt x="141" y="33"/>
                    </a:lnTo>
                    <a:lnTo>
                      <a:pt x="153" y="38"/>
                    </a:lnTo>
                    <a:lnTo>
                      <a:pt x="166" y="41"/>
                    </a:lnTo>
                    <a:lnTo>
                      <a:pt x="183" y="43"/>
                    </a:lnTo>
                    <a:lnTo>
                      <a:pt x="192" y="45"/>
                    </a:lnTo>
                    <a:lnTo>
                      <a:pt x="201" y="45"/>
                    </a:lnTo>
                    <a:lnTo>
                      <a:pt x="211" y="45"/>
                    </a:lnTo>
                    <a:lnTo>
                      <a:pt x="220" y="43"/>
                    </a:lnTo>
                    <a:lnTo>
                      <a:pt x="240" y="39"/>
                    </a:lnTo>
                    <a:lnTo>
                      <a:pt x="257" y="37"/>
                    </a:lnTo>
                    <a:lnTo>
                      <a:pt x="284" y="30"/>
                    </a:lnTo>
                    <a:lnTo>
                      <a:pt x="304" y="23"/>
                    </a:lnTo>
                    <a:lnTo>
                      <a:pt x="311" y="22"/>
                    </a:lnTo>
                    <a:lnTo>
                      <a:pt x="344" y="23"/>
                    </a:lnTo>
                    <a:lnTo>
                      <a:pt x="369" y="25"/>
                    </a:lnTo>
                    <a:lnTo>
                      <a:pt x="387" y="26"/>
                    </a:lnTo>
                    <a:lnTo>
                      <a:pt x="394" y="26"/>
                    </a:lnTo>
                    <a:lnTo>
                      <a:pt x="406" y="26"/>
                    </a:lnTo>
                    <a:lnTo>
                      <a:pt x="432" y="26"/>
                    </a:lnTo>
                    <a:lnTo>
                      <a:pt x="477" y="23"/>
                    </a:lnTo>
                    <a:lnTo>
                      <a:pt x="488" y="23"/>
                    </a:lnTo>
                    <a:lnTo>
                      <a:pt x="507" y="20"/>
                    </a:lnTo>
                    <a:lnTo>
                      <a:pt x="563" y="12"/>
                    </a:lnTo>
                    <a:lnTo>
                      <a:pt x="640" y="0"/>
                    </a:lnTo>
                    <a:lnTo>
                      <a:pt x="654" y="99"/>
                    </a:lnTo>
                    <a:lnTo>
                      <a:pt x="590" y="132"/>
                    </a:lnTo>
                    <a:lnTo>
                      <a:pt x="534" y="143"/>
                    </a:lnTo>
                    <a:lnTo>
                      <a:pt x="532" y="112"/>
                    </a:lnTo>
                    <a:lnTo>
                      <a:pt x="485" y="136"/>
                    </a:lnTo>
                    <a:lnTo>
                      <a:pt x="465" y="167"/>
                    </a:lnTo>
                    <a:lnTo>
                      <a:pt x="407" y="176"/>
                    </a:lnTo>
                    <a:lnTo>
                      <a:pt x="402" y="179"/>
                    </a:lnTo>
                    <a:lnTo>
                      <a:pt x="398" y="183"/>
                    </a:lnTo>
                    <a:lnTo>
                      <a:pt x="393" y="188"/>
                    </a:lnTo>
                    <a:lnTo>
                      <a:pt x="386" y="196"/>
                    </a:lnTo>
                    <a:lnTo>
                      <a:pt x="381" y="207"/>
                    </a:lnTo>
                    <a:lnTo>
                      <a:pt x="378" y="212"/>
                    </a:lnTo>
                    <a:lnTo>
                      <a:pt x="375" y="219"/>
                    </a:lnTo>
                    <a:lnTo>
                      <a:pt x="373" y="225"/>
                    </a:lnTo>
                    <a:lnTo>
                      <a:pt x="371" y="233"/>
                    </a:lnTo>
                    <a:lnTo>
                      <a:pt x="365" y="262"/>
                    </a:lnTo>
                    <a:lnTo>
                      <a:pt x="361" y="283"/>
                    </a:lnTo>
                    <a:lnTo>
                      <a:pt x="358" y="298"/>
                    </a:lnTo>
                    <a:lnTo>
                      <a:pt x="357" y="303"/>
                    </a:lnTo>
                    <a:lnTo>
                      <a:pt x="357" y="306"/>
                    </a:lnTo>
                    <a:lnTo>
                      <a:pt x="356" y="315"/>
                    </a:lnTo>
                    <a:lnTo>
                      <a:pt x="354" y="322"/>
                    </a:lnTo>
                    <a:lnTo>
                      <a:pt x="352" y="327"/>
                    </a:lnTo>
                    <a:lnTo>
                      <a:pt x="348" y="333"/>
                    </a:lnTo>
                    <a:lnTo>
                      <a:pt x="346" y="335"/>
                    </a:lnTo>
                    <a:lnTo>
                      <a:pt x="344" y="336"/>
                    </a:lnTo>
                    <a:lnTo>
                      <a:pt x="341" y="339"/>
                    </a:lnTo>
                    <a:lnTo>
                      <a:pt x="337" y="340"/>
                    </a:lnTo>
                    <a:lnTo>
                      <a:pt x="333" y="341"/>
                    </a:lnTo>
                    <a:lnTo>
                      <a:pt x="328" y="343"/>
                    </a:lnTo>
                    <a:lnTo>
                      <a:pt x="323" y="344"/>
                    </a:lnTo>
                    <a:lnTo>
                      <a:pt x="311" y="344"/>
                    </a:lnTo>
                    <a:lnTo>
                      <a:pt x="300" y="344"/>
                    </a:lnTo>
                    <a:lnTo>
                      <a:pt x="282" y="343"/>
                    </a:lnTo>
                    <a:lnTo>
                      <a:pt x="275" y="341"/>
                    </a:lnTo>
                    <a:lnTo>
                      <a:pt x="271" y="341"/>
                    </a:lnTo>
                    <a:lnTo>
                      <a:pt x="269" y="343"/>
                    </a:lnTo>
                    <a:lnTo>
                      <a:pt x="269" y="344"/>
                    </a:lnTo>
                    <a:lnTo>
                      <a:pt x="270" y="345"/>
                    </a:lnTo>
                    <a:lnTo>
                      <a:pt x="270" y="348"/>
                    </a:lnTo>
                    <a:lnTo>
                      <a:pt x="271" y="354"/>
                    </a:lnTo>
                    <a:lnTo>
                      <a:pt x="273" y="374"/>
                    </a:lnTo>
                    <a:lnTo>
                      <a:pt x="273" y="393"/>
                    </a:lnTo>
                    <a:lnTo>
                      <a:pt x="273" y="405"/>
                    </a:lnTo>
                    <a:lnTo>
                      <a:pt x="273" y="406"/>
                    </a:lnTo>
                    <a:lnTo>
                      <a:pt x="271" y="406"/>
                    </a:lnTo>
                    <a:lnTo>
                      <a:pt x="265" y="409"/>
                    </a:lnTo>
                    <a:lnTo>
                      <a:pt x="257" y="410"/>
                    </a:lnTo>
                    <a:lnTo>
                      <a:pt x="249" y="410"/>
                    </a:lnTo>
                    <a:lnTo>
                      <a:pt x="232" y="411"/>
                    </a:lnTo>
                    <a:lnTo>
                      <a:pt x="224" y="413"/>
                    </a:lnTo>
                    <a:lnTo>
                      <a:pt x="228" y="360"/>
                    </a:lnTo>
                    <a:lnTo>
                      <a:pt x="188" y="318"/>
                    </a:lnTo>
                    <a:lnTo>
                      <a:pt x="184" y="286"/>
                    </a:lnTo>
                    <a:lnTo>
                      <a:pt x="127" y="257"/>
                    </a:lnTo>
                    <a:lnTo>
                      <a:pt x="35" y="216"/>
                    </a:lnTo>
                    <a:lnTo>
                      <a:pt x="18" y="216"/>
                    </a:lnTo>
                    <a:lnTo>
                      <a:pt x="18" y="137"/>
                    </a:lnTo>
                    <a:lnTo>
                      <a:pt x="7" y="134"/>
                    </a:lnTo>
                    <a:lnTo>
                      <a:pt x="5" y="132"/>
                    </a:lnTo>
                    <a:lnTo>
                      <a:pt x="2" y="120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7"/>
                    </a:lnTo>
                    <a:lnTo>
                      <a:pt x="0" y="83"/>
                    </a:lnTo>
                    <a:lnTo>
                      <a:pt x="1" y="82"/>
                    </a:lnTo>
                    <a:lnTo>
                      <a:pt x="2" y="80"/>
                    </a:lnTo>
                    <a:lnTo>
                      <a:pt x="22" y="80"/>
                    </a:lnTo>
                    <a:lnTo>
                      <a:pt x="38" y="79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6" name=""/>
              <p:cNvGrpSpPr/>
              <p:nvPr/>
            </p:nvGrpSpPr>
            <p:grpSpPr>
              <a:xfrm>
                <a:off x="5084640" y="1450800"/>
                <a:ext cx="3378240" cy="4122720"/>
                <a:chOff x="5084640" y="1450800"/>
                <a:chExt cx="3378240" cy="4122720"/>
              </a:xfrm>
            </p:grpSpPr>
            <p:sp>
              <p:nvSpPr>
                <p:cNvPr id="2397" name=""/>
                <p:cNvSpPr/>
                <p:nvPr/>
              </p:nvSpPr>
              <p:spPr>
                <a:xfrm>
                  <a:off x="7661160" y="503208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115" h="91">
                      <a:moveTo>
                        <a:pt x="38" y="0"/>
                      </a:moveTo>
                      <a:lnTo>
                        <a:pt x="80" y="2"/>
                      </a:lnTo>
                      <a:lnTo>
                        <a:pt x="113" y="25"/>
                      </a:lnTo>
                      <a:lnTo>
                        <a:pt x="115" y="74"/>
                      </a:lnTo>
                      <a:lnTo>
                        <a:pt x="96" y="91"/>
                      </a:lnTo>
                      <a:lnTo>
                        <a:pt x="9" y="85"/>
                      </a:lnTo>
                      <a:lnTo>
                        <a:pt x="0" y="45"/>
                      </a:lnTo>
                      <a:lnTo>
                        <a:pt x="30" y="39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6997680" y="4079520"/>
                  <a:ext cx="187200" cy="174600"/>
                </a:xfrm>
                <a:custGeom>
                  <a:avLst/>
                  <a:gdLst/>
                  <a:ahLst/>
                  <a:rect l="l" t="t" r="r" b="b"/>
                  <a:pathLst>
                    <a:path w="364" h="336">
                      <a:moveTo>
                        <a:pt x="3" y="314"/>
                      </a:moveTo>
                      <a:lnTo>
                        <a:pt x="27" y="336"/>
                      </a:lnTo>
                      <a:lnTo>
                        <a:pt x="73" y="276"/>
                      </a:lnTo>
                      <a:lnTo>
                        <a:pt x="79" y="285"/>
                      </a:lnTo>
                      <a:lnTo>
                        <a:pt x="86" y="294"/>
                      </a:lnTo>
                      <a:lnTo>
                        <a:pt x="94" y="305"/>
                      </a:lnTo>
                      <a:lnTo>
                        <a:pt x="102" y="314"/>
                      </a:lnTo>
                      <a:lnTo>
                        <a:pt x="106" y="318"/>
                      </a:lnTo>
                      <a:lnTo>
                        <a:pt x="110" y="322"/>
                      </a:lnTo>
                      <a:lnTo>
                        <a:pt x="111" y="323"/>
                      </a:lnTo>
                      <a:lnTo>
                        <a:pt x="114" y="323"/>
                      </a:lnTo>
                      <a:lnTo>
                        <a:pt x="116" y="325"/>
                      </a:lnTo>
                      <a:lnTo>
                        <a:pt x="119" y="326"/>
                      </a:lnTo>
                      <a:lnTo>
                        <a:pt x="122" y="323"/>
                      </a:lnTo>
                      <a:lnTo>
                        <a:pt x="128" y="317"/>
                      </a:lnTo>
                      <a:lnTo>
                        <a:pt x="140" y="303"/>
                      </a:lnTo>
                      <a:lnTo>
                        <a:pt x="172" y="272"/>
                      </a:lnTo>
                      <a:lnTo>
                        <a:pt x="215" y="230"/>
                      </a:lnTo>
                      <a:lnTo>
                        <a:pt x="238" y="252"/>
                      </a:lnTo>
                      <a:lnTo>
                        <a:pt x="265" y="203"/>
                      </a:lnTo>
                      <a:lnTo>
                        <a:pt x="335" y="243"/>
                      </a:lnTo>
                      <a:lnTo>
                        <a:pt x="364" y="215"/>
                      </a:lnTo>
                      <a:lnTo>
                        <a:pt x="239" y="70"/>
                      </a:lnTo>
                      <a:lnTo>
                        <a:pt x="148" y="154"/>
                      </a:lnTo>
                      <a:lnTo>
                        <a:pt x="93" y="83"/>
                      </a:lnTo>
                      <a:lnTo>
                        <a:pt x="140" y="25"/>
                      </a:lnTo>
                      <a:lnTo>
                        <a:pt x="126" y="0"/>
                      </a:lnTo>
                      <a:lnTo>
                        <a:pt x="0" y="112"/>
                      </a:lnTo>
                      <a:lnTo>
                        <a:pt x="83" y="212"/>
                      </a:lnTo>
                      <a:lnTo>
                        <a:pt x="3" y="3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681680" y="502884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2" y="14"/>
                      </a:lnTo>
                      <a:lnTo>
                        <a:pt x="4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13480" y="5208480"/>
                  <a:ext cx="60120" cy="79200"/>
                </a:xfrm>
                <a:custGeom>
                  <a:avLst/>
                  <a:gdLst/>
                  <a:ahLst/>
                  <a:rect l="l" t="t" r="r" b="b"/>
                  <a:pathLst>
                    <a:path w="119" h="158">
                      <a:moveTo>
                        <a:pt x="11" y="10"/>
                      </a:moveTo>
                      <a:lnTo>
                        <a:pt x="45" y="14"/>
                      </a:lnTo>
                      <a:lnTo>
                        <a:pt x="53" y="42"/>
                      </a:lnTo>
                      <a:lnTo>
                        <a:pt x="106" y="0"/>
                      </a:lnTo>
                      <a:lnTo>
                        <a:pt x="119" y="31"/>
                      </a:lnTo>
                      <a:lnTo>
                        <a:pt x="49" y="88"/>
                      </a:lnTo>
                      <a:lnTo>
                        <a:pt x="45" y="158"/>
                      </a:lnTo>
                      <a:lnTo>
                        <a:pt x="0" y="158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6980040" y="2244600"/>
                  <a:ext cx="82440" cy="110880"/>
                </a:xfrm>
                <a:custGeom>
                  <a:avLst/>
                  <a:gdLst/>
                  <a:ahLst/>
                  <a:rect l="l" t="t" r="r" b="b"/>
                  <a:pathLst>
                    <a:path w="162" h="217">
                      <a:moveTo>
                        <a:pt x="126" y="197"/>
                      </a:moveTo>
                      <a:lnTo>
                        <a:pt x="76" y="217"/>
                      </a:lnTo>
                      <a:lnTo>
                        <a:pt x="0" y="143"/>
                      </a:lnTo>
                      <a:lnTo>
                        <a:pt x="47" y="91"/>
                      </a:lnTo>
                      <a:lnTo>
                        <a:pt x="38" y="44"/>
                      </a:lnTo>
                      <a:lnTo>
                        <a:pt x="37" y="14"/>
                      </a:lnTo>
                      <a:lnTo>
                        <a:pt x="130" y="0"/>
                      </a:lnTo>
                      <a:lnTo>
                        <a:pt x="150" y="58"/>
                      </a:lnTo>
                      <a:lnTo>
                        <a:pt x="162" y="98"/>
                      </a:lnTo>
                      <a:lnTo>
                        <a:pt x="111" y="139"/>
                      </a:lnTo>
                      <a:lnTo>
                        <a:pt x="126" y="19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289480" y="479088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90" h="13">
                      <a:moveTo>
                        <a:pt x="0" y="3"/>
                      </a:moveTo>
                      <a:lnTo>
                        <a:pt x="45" y="2"/>
                      </a:lnTo>
                      <a:lnTo>
                        <a:pt x="90" y="0"/>
                      </a:lnTo>
                      <a:lnTo>
                        <a:pt x="90" y="11"/>
                      </a:lnTo>
                      <a:lnTo>
                        <a:pt x="45" y="12"/>
                      </a:lnTo>
                      <a:lnTo>
                        <a:pt x="0" y="1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289480" y="479232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335560" y="4777920"/>
                  <a:ext cx="83880" cy="19080"/>
                </a:xfrm>
                <a:custGeom>
                  <a:avLst/>
                  <a:gdLst/>
                  <a:ahLst/>
                  <a:rect l="l" t="t" r="r" b="b"/>
                  <a:pathLst>
                    <a:path w="165" h="35">
                      <a:moveTo>
                        <a:pt x="0" y="24"/>
                      </a:moveTo>
                      <a:lnTo>
                        <a:pt x="86" y="12"/>
                      </a:lnTo>
                      <a:lnTo>
                        <a:pt x="163" y="0"/>
                      </a:lnTo>
                      <a:lnTo>
                        <a:pt x="165" y="11"/>
                      </a:lnTo>
                      <a:lnTo>
                        <a:pt x="87" y="23"/>
                      </a:lnTo>
                      <a:lnTo>
                        <a:pt x="1" y="3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414760" y="4781160"/>
                  <a:ext cx="12600" cy="50760"/>
                </a:xfrm>
                <a:custGeom>
                  <a:avLst/>
                  <a:gdLst/>
                  <a:ahLst/>
                  <a:rect l="l" t="t" r="r" b="b"/>
                  <a:pathLst>
                    <a:path w="24" h="100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13" y="100"/>
                      </a:lnTo>
                      <a:lnTo>
                        <a:pt x="24" y="9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414760" y="47779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9" y="0"/>
                      </a:lnTo>
                      <a:lnTo>
                        <a:pt x="11" y="6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392440" y="48304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68" h="42">
                      <a:moveTo>
                        <a:pt x="68" y="9"/>
                      </a:moveTo>
                      <a:lnTo>
                        <a:pt x="63" y="0"/>
                      </a:lnTo>
                      <a:lnTo>
                        <a:pt x="0" y="33"/>
                      </a:lnTo>
                      <a:lnTo>
                        <a:pt x="5" y="42"/>
                      </a:lnTo>
                      <a:lnTo>
                        <a:pt x="68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422680" y="4830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362560" y="484812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1" h="21">
                      <a:moveTo>
                        <a:pt x="61" y="9"/>
                      </a:moveTo>
                      <a:lnTo>
                        <a:pt x="57" y="0"/>
                      </a:lnTo>
                      <a:lnTo>
                        <a:pt x="0" y="12"/>
                      </a:lnTo>
                      <a:lnTo>
                        <a:pt x="4" y="21"/>
                      </a:lnTo>
                      <a:lnTo>
                        <a:pt x="61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359320" y="4838400"/>
                  <a:ext cx="6120" cy="1764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2" y="31"/>
                      </a:moveTo>
                      <a:lnTo>
                        <a:pt x="12" y="3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3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360760" y="4854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9"/>
                      </a:move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337000" y="4836960"/>
                  <a:ext cx="27000" cy="17280"/>
                </a:xfrm>
                <a:custGeom>
                  <a:avLst/>
                  <a:gdLst/>
                  <a:ahLst/>
                  <a:rect l="l" t="t" r="r" b="b"/>
                  <a:pathLst>
                    <a:path w="52" h="33">
                      <a:moveTo>
                        <a:pt x="52" y="9"/>
                      </a:moveTo>
                      <a:lnTo>
                        <a:pt x="46" y="0"/>
                      </a:lnTo>
                      <a:lnTo>
                        <a:pt x="0" y="24"/>
                      </a:lnTo>
                      <a:lnTo>
                        <a:pt x="6" y="33"/>
                      </a:lnTo>
                      <a:lnTo>
                        <a:pt x="52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359320" y="48351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7"/>
                      </a:move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8" y="12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325840" y="4849560"/>
                  <a:ext cx="15840" cy="19080"/>
                </a:xfrm>
                <a:custGeom>
                  <a:avLst/>
                  <a:gdLst/>
                  <a:ahLst/>
                  <a:rect l="l" t="t" r="r" b="b"/>
                  <a:pathLst>
                    <a:path w="29" h="37">
                      <a:moveTo>
                        <a:pt x="29" y="5"/>
                      </a:moveTo>
                      <a:lnTo>
                        <a:pt x="20" y="0"/>
                      </a:lnTo>
                      <a:lnTo>
                        <a:pt x="0" y="32"/>
                      </a:lnTo>
                      <a:lnTo>
                        <a:pt x="9" y="37"/>
                      </a:lnTo>
                      <a:lnTo>
                        <a:pt x="29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337000" y="4849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9" y="6"/>
                      </a:lnTo>
                      <a:lnTo>
                        <a:pt x="8" y="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297400" y="486396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0" h="19">
                      <a:moveTo>
                        <a:pt x="60" y="10"/>
                      </a:moveTo>
                      <a:lnTo>
                        <a:pt x="58" y="0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6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325840" y="4863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7"/>
                      </a:move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278320" y="4870080"/>
                  <a:ext cx="20520" cy="3168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44" y="7"/>
                      </a:moveTo>
                      <a:lnTo>
                        <a:pt x="38" y="10"/>
                      </a:lnTo>
                      <a:lnTo>
                        <a:pt x="31" y="19"/>
                      </a:lnTo>
                      <a:lnTo>
                        <a:pt x="19" y="35"/>
                      </a:lnTo>
                      <a:lnTo>
                        <a:pt x="15" y="47"/>
                      </a:lnTo>
                      <a:lnTo>
                        <a:pt x="11" y="61"/>
                      </a:lnTo>
                      <a:lnTo>
                        <a:pt x="0" y="59"/>
                      </a:lnTo>
                      <a:lnTo>
                        <a:pt x="4" y="44"/>
                      </a:lnTo>
                      <a:lnTo>
                        <a:pt x="9" y="30"/>
                      </a:lnTo>
                      <a:lnTo>
                        <a:pt x="23" y="13"/>
                      </a:lnTo>
                      <a:lnTo>
                        <a:pt x="32" y="2"/>
                      </a:lnTo>
                      <a:lnTo>
                        <a:pt x="37" y="0"/>
                      </a:lnTo>
                      <a:lnTo>
                        <a:pt x="44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295600" y="48700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270400" y="49003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25" y="1"/>
                      </a:moveTo>
                      <a:lnTo>
                        <a:pt x="13" y="51"/>
                      </a:lnTo>
                      <a:lnTo>
                        <a:pt x="10" y="74"/>
                      </a:lnTo>
                      <a:lnTo>
                        <a:pt x="0" y="72"/>
                      </a:lnTo>
                      <a:lnTo>
                        <a:pt x="2" y="50"/>
                      </a:lnTo>
                      <a:lnTo>
                        <a:pt x="14" y="0"/>
                      </a:lnTo>
                      <a:lnTo>
                        <a:pt x="25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254560" y="493848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41" y="0"/>
                      </a:moveTo>
                      <a:lnTo>
                        <a:pt x="40" y="10"/>
                      </a:lnTo>
                      <a:lnTo>
                        <a:pt x="35" y="23"/>
                      </a:lnTo>
                      <a:lnTo>
                        <a:pt x="29" y="31"/>
                      </a:lnTo>
                      <a:lnTo>
                        <a:pt x="23" y="35"/>
                      </a:lnTo>
                      <a:lnTo>
                        <a:pt x="14" y="41"/>
                      </a:lnTo>
                      <a:lnTo>
                        <a:pt x="3" y="43"/>
                      </a:lnTo>
                      <a:lnTo>
                        <a:pt x="0" y="34"/>
                      </a:lnTo>
                      <a:lnTo>
                        <a:pt x="10" y="31"/>
                      </a:lnTo>
                      <a:lnTo>
                        <a:pt x="16" y="27"/>
                      </a:lnTo>
                      <a:lnTo>
                        <a:pt x="21" y="25"/>
                      </a:lnTo>
                      <a:lnTo>
                        <a:pt x="25" y="18"/>
                      </a:lnTo>
                      <a:lnTo>
                        <a:pt x="29" y="8"/>
                      </a:lnTo>
                      <a:lnTo>
                        <a:pt x="3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224320" y="495432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60" y="13"/>
                      </a:moveTo>
                      <a:lnTo>
                        <a:pt x="37" y="13"/>
                      </a:lnTo>
                      <a:lnTo>
                        <a:pt x="19" y="12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1" y="8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8" y="0"/>
                      </a:lnTo>
                      <a:lnTo>
                        <a:pt x="19" y="3"/>
                      </a:lnTo>
                      <a:lnTo>
                        <a:pt x="37" y="4"/>
                      </a:lnTo>
                      <a:lnTo>
                        <a:pt x="60" y="3"/>
                      </a:lnTo>
                      <a:lnTo>
                        <a:pt x="60" y="1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254560" y="4955760"/>
                  <a:ext cx="1440" cy="50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224320" y="4957560"/>
                  <a:ext cx="7920" cy="31680"/>
                </a:xfrm>
                <a:custGeom>
                  <a:avLst/>
                  <a:gdLst/>
                  <a:ahLst/>
                  <a:rect l="l" t="t" r="r" b="b"/>
                  <a:pathLst>
                    <a:path w="15" h="62">
                      <a:moveTo>
                        <a:pt x="11" y="0"/>
                      </a:moveTo>
                      <a:lnTo>
                        <a:pt x="14" y="11"/>
                      </a:lnTo>
                      <a:lnTo>
                        <a:pt x="15" y="31"/>
                      </a:lnTo>
                      <a:lnTo>
                        <a:pt x="15" y="62"/>
                      </a:lnTo>
                      <a:lnTo>
                        <a:pt x="4" y="62"/>
                      </a:lnTo>
                      <a:lnTo>
                        <a:pt x="4" y="31"/>
                      </a:lnTo>
                      <a:lnTo>
                        <a:pt x="3" y="13"/>
                      </a:lnTo>
                      <a:lnTo>
                        <a:pt x="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203800" y="498780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53" y="9"/>
                      </a:moveTo>
                      <a:lnTo>
                        <a:pt x="44" y="12"/>
                      </a:lnTo>
                      <a:lnTo>
                        <a:pt x="28" y="14"/>
                      </a:lnTo>
                      <a:lnTo>
                        <a:pt x="3" y="17"/>
                      </a:lnTo>
                      <a:lnTo>
                        <a:pt x="0" y="8"/>
                      </a:lnTo>
                      <a:lnTo>
                        <a:pt x="25" y="5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227560" y="4987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200560" y="4965480"/>
                  <a:ext cx="7920" cy="28440"/>
                </a:xfrm>
                <a:custGeom>
                  <a:avLst/>
                  <a:gdLst/>
                  <a:ahLst/>
                  <a:rect l="l" t="t" r="r" b="b"/>
                  <a:pathLst>
                    <a:path w="14" h="56">
                      <a:moveTo>
                        <a:pt x="0" y="53"/>
                      </a:moveTo>
                      <a:lnTo>
                        <a:pt x="10" y="56"/>
                      </a:lnTo>
                      <a:lnTo>
                        <a:pt x="14" y="3"/>
                      </a:lnTo>
                      <a:lnTo>
                        <a:pt x="4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200560" y="499068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7" y="9"/>
                      </a:moveTo>
                      <a:lnTo>
                        <a:pt x="0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lnTo>
                        <a:pt x="4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182920" y="4943160"/>
                  <a:ext cx="23760" cy="2556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0" y="50"/>
                      </a:moveTo>
                      <a:lnTo>
                        <a:pt x="46" y="4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0" y="5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203800" y="49654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10" y="5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2" y="8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179680" y="4927320"/>
                  <a:ext cx="7920" cy="1764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4" y="32"/>
                      </a:moveTo>
                      <a:lnTo>
                        <a:pt x="13" y="3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182920" y="49431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8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152680" y="4911480"/>
                  <a:ext cx="32040" cy="1908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57" y="38"/>
                      </a:moveTo>
                      <a:lnTo>
                        <a:pt x="62" y="29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57" y="3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179680" y="49258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4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106960" y="4890960"/>
                  <a:ext cx="48960" cy="25200"/>
                </a:xfrm>
                <a:custGeom>
                  <a:avLst/>
                  <a:gdLst/>
                  <a:ahLst/>
                  <a:rect l="l" t="t" r="r" b="b"/>
                  <a:pathLst>
                    <a:path w="97" h="50">
                      <a:moveTo>
                        <a:pt x="92" y="50"/>
                      </a:moveTo>
                      <a:lnTo>
                        <a:pt x="97" y="41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92" y="5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5152680" y="49114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5106960" y="488916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5094000" y="4852800"/>
                  <a:ext cx="6480" cy="3960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5094000" y="48891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10"/>
                      </a:move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11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5090760" y="484812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12"/>
                      </a:moveTo>
                      <a:lnTo>
                        <a:pt x="13" y="3"/>
                      </a:ln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9" y="1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5094000" y="48495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5089320" y="4848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3" y="10"/>
                      </a:move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0" y="8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5090760" y="484812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1" y="10"/>
                      </a:move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5084640" y="4821120"/>
                  <a:ext cx="9360" cy="28440"/>
                </a:xfrm>
                <a:custGeom>
                  <a:avLst/>
                  <a:gdLst/>
                  <a:ahLst/>
                  <a:rect l="l" t="t" r="r" b="b"/>
                  <a:pathLst>
                    <a:path w="16" h="55">
                      <a:moveTo>
                        <a:pt x="7" y="55"/>
                      </a:moveTo>
                      <a:lnTo>
                        <a:pt x="1" y="26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12" y="5"/>
                      </a:lnTo>
                      <a:lnTo>
                        <a:pt x="9" y="10"/>
                      </a:lnTo>
                      <a:lnTo>
                        <a:pt x="11" y="23"/>
                      </a:lnTo>
                      <a:lnTo>
                        <a:pt x="16" y="52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5089320" y="48481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5089320" y="481932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0" y="1"/>
                      </a:moveTo>
                      <a:lnTo>
                        <a:pt x="37" y="0"/>
                      </a:lnTo>
                      <a:lnTo>
                        <a:pt x="37" y="10"/>
                      </a:lnTo>
                      <a:lnTo>
                        <a:pt x="0" y="1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5086080" y="4819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5106960" y="4819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789600" y="5074920"/>
                  <a:ext cx="93600" cy="149400"/>
                </a:xfrm>
                <a:custGeom>
                  <a:avLst/>
                  <a:gdLst/>
                  <a:ahLst/>
                  <a:rect l="l" t="t" r="r" b="b"/>
                  <a:pathLst>
                    <a:path w="185" h="291">
                      <a:moveTo>
                        <a:pt x="79" y="6"/>
                      </a:moveTo>
                      <a:lnTo>
                        <a:pt x="179" y="48"/>
                      </a:lnTo>
                      <a:lnTo>
                        <a:pt x="185" y="105"/>
                      </a:lnTo>
                      <a:lnTo>
                        <a:pt x="167" y="134"/>
                      </a:lnTo>
                      <a:lnTo>
                        <a:pt x="126" y="200"/>
                      </a:lnTo>
                      <a:lnTo>
                        <a:pt x="105" y="234"/>
                      </a:lnTo>
                      <a:lnTo>
                        <a:pt x="85" y="263"/>
                      </a:lnTo>
                      <a:lnTo>
                        <a:pt x="71" y="284"/>
                      </a:lnTo>
                      <a:lnTo>
                        <a:pt x="65" y="289"/>
                      </a:lnTo>
                      <a:lnTo>
                        <a:pt x="64" y="291"/>
                      </a:lnTo>
                      <a:lnTo>
                        <a:pt x="55" y="288"/>
                      </a:lnTo>
                      <a:lnTo>
                        <a:pt x="43" y="284"/>
                      </a:lnTo>
                      <a:lnTo>
                        <a:pt x="38" y="283"/>
                      </a:lnTo>
                      <a:lnTo>
                        <a:pt x="33" y="280"/>
                      </a:lnTo>
                      <a:lnTo>
                        <a:pt x="30" y="277"/>
                      </a:lnTo>
                      <a:lnTo>
                        <a:pt x="30" y="276"/>
                      </a:lnTo>
                      <a:lnTo>
                        <a:pt x="30" y="275"/>
                      </a:lnTo>
                      <a:lnTo>
                        <a:pt x="44" y="248"/>
                      </a:lnTo>
                      <a:lnTo>
                        <a:pt x="48" y="240"/>
                      </a:lnTo>
                      <a:lnTo>
                        <a:pt x="51" y="233"/>
                      </a:lnTo>
                      <a:lnTo>
                        <a:pt x="51" y="230"/>
                      </a:lnTo>
                      <a:lnTo>
                        <a:pt x="51" y="229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38" y="221"/>
                      </a:lnTo>
                      <a:lnTo>
                        <a:pt x="18" y="211"/>
                      </a:lnTo>
                      <a:lnTo>
                        <a:pt x="10" y="206"/>
                      </a:lnTo>
                      <a:lnTo>
                        <a:pt x="2" y="200"/>
                      </a:lnTo>
                      <a:lnTo>
                        <a:pt x="0" y="196"/>
                      </a:lnTo>
                      <a:lnTo>
                        <a:pt x="0" y="193"/>
                      </a:lnTo>
                      <a:lnTo>
                        <a:pt x="1" y="190"/>
                      </a:lnTo>
                      <a:lnTo>
                        <a:pt x="3" y="186"/>
                      </a:lnTo>
                      <a:lnTo>
                        <a:pt x="6" y="180"/>
                      </a:lnTo>
                      <a:lnTo>
                        <a:pt x="17" y="157"/>
                      </a:lnTo>
                      <a:lnTo>
                        <a:pt x="44" y="91"/>
                      </a:lnTo>
                      <a:lnTo>
                        <a:pt x="81" y="0"/>
                      </a:lnTo>
                      <a:lnTo>
                        <a:pt x="79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827760" y="5074920"/>
                  <a:ext cx="54000" cy="25560"/>
                </a:xfrm>
                <a:custGeom>
                  <a:avLst/>
                  <a:gdLst/>
                  <a:ahLst/>
                  <a:rect l="l" t="t" r="r" b="b"/>
                  <a:pathLst>
                    <a:path w="106" h="5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00" y="51"/>
                      </a:lnTo>
                      <a:lnTo>
                        <a:pt x="106" y="4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878520" y="5098680"/>
                  <a:ext cx="7920" cy="3024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10" y="0"/>
                      </a:moveTo>
                      <a:lnTo>
                        <a:pt x="0" y="1"/>
                      </a:lnTo>
                      <a:lnTo>
                        <a:pt x="5" y="58"/>
                      </a:lnTo>
                      <a:lnTo>
                        <a:pt x="15" y="5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878520" y="50954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0"/>
                      </a:moveTo>
                      <a:lnTo>
                        <a:pt x="10" y="1"/>
                      </a:lnTo>
                      <a:lnTo>
                        <a:pt x="10" y="4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819840" y="5127480"/>
                  <a:ext cx="64800" cy="98280"/>
                </a:xfrm>
                <a:custGeom>
                  <a:avLst/>
                  <a:gdLst/>
                  <a:ahLst/>
                  <a:rect l="l" t="t" r="r" b="b"/>
                  <a:pathLst>
                    <a:path w="128" h="193">
                      <a:moveTo>
                        <a:pt x="128" y="5"/>
                      </a:moveTo>
                      <a:lnTo>
                        <a:pt x="70" y="100"/>
                      </a:lnTo>
                      <a:lnTo>
                        <a:pt x="29" y="164"/>
                      </a:lnTo>
                      <a:lnTo>
                        <a:pt x="15" y="186"/>
                      </a:lnTo>
                      <a:lnTo>
                        <a:pt x="8" y="193"/>
                      </a:lnTo>
                      <a:lnTo>
                        <a:pt x="0" y="186"/>
                      </a:lnTo>
                      <a:lnTo>
                        <a:pt x="7" y="179"/>
                      </a:lnTo>
                      <a:lnTo>
                        <a:pt x="20" y="158"/>
                      </a:lnTo>
                      <a:lnTo>
                        <a:pt x="61" y="95"/>
                      </a:lnTo>
                      <a:lnTo>
                        <a:pt x="119" y="0"/>
                      </a:lnTo>
                      <a:lnTo>
                        <a:pt x="128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879960" y="512748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3"/>
                      </a:moveTo>
                      <a:lnTo>
                        <a:pt x="9" y="5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800760" y="5214600"/>
                  <a:ext cx="20520" cy="1116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37" y="21"/>
                      </a:moveTo>
                      <a:lnTo>
                        <a:pt x="27" y="18"/>
                      </a:lnTo>
                      <a:lnTo>
                        <a:pt x="15" y="14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9" y="5"/>
                      </a:lnTo>
                      <a:lnTo>
                        <a:pt x="31" y="9"/>
                      </a:lnTo>
                      <a:lnTo>
                        <a:pt x="40" y="12"/>
                      </a:lnTo>
                      <a:lnTo>
                        <a:pt x="37" y="2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819840" y="5221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8"/>
                      </a:moveTo>
                      <a:lnTo>
                        <a:pt x="5" y="10"/>
                      </a:lnTo>
                      <a:lnTo>
                        <a:pt x="2" y="9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800760" y="5189400"/>
                  <a:ext cx="15840" cy="27000"/>
                </a:xfrm>
                <a:custGeom>
                  <a:avLst/>
                  <a:gdLst/>
                  <a:ahLst/>
                  <a:rect l="l" t="t" r="r" b="b"/>
                  <a:pathLst>
                    <a:path w="30" h="54">
                      <a:moveTo>
                        <a:pt x="0" y="49"/>
                      </a:moveTo>
                      <a:lnTo>
                        <a:pt x="14" y="23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9" y="0"/>
                      </a:lnTo>
                      <a:lnTo>
                        <a:pt x="30" y="3"/>
                      </a:lnTo>
                      <a:lnTo>
                        <a:pt x="30" y="12"/>
                      </a:lnTo>
                      <a:lnTo>
                        <a:pt x="23" y="28"/>
                      </a:lnTo>
                      <a:lnTo>
                        <a:pt x="9" y="54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800760" y="52131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786360" y="5171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53" y="42"/>
                      </a:moveTo>
                      <a:lnTo>
                        <a:pt x="41" y="37"/>
                      </a:lnTo>
                      <a:lnTo>
                        <a:pt x="20" y="26"/>
                      </a:lnTo>
                      <a:lnTo>
                        <a:pt x="4" y="1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11" y="7"/>
                      </a:lnTo>
                      <a:lnTo>
                        <a:pt x="27" y="18"/>
                      </a:lnTo>
                      <a:lnTo>
                        <a:pt x="46" y="28"/>
                      </a:lnTo>
                      <a:lnTo>
                        <a:pt x="57" y="33"/>
                      </a:lnTo>
                      <a:lnTo>
                        <a:pt x="53" y="4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811920" y="5189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1"/>
                      </a:moveTo>
                      <a:lnTo>
                        <a:pt x="5" y="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786360" y="5073480"/>
                  <a:ext cx="46080" cy="100080"/>
                </a:xfrm>
                <a:custGeom>
                  <a:avLst/>
                  <a:gdLst/>
                  <a:ahLst/>
                  <a:rect l="l" t="t" r="r" b="b"/>
                  <a:pathLst>
                    <a:path w="90" h="195">
                      <a:moveTo>
                        <a:pt x="0" y="190"/>
                      </a:moveTo>
                      <a:lnTo>
                        <a:pt x="17" y="155"/>
                      </a:lnTo>
                      <a:lnTo>
                        <a:pt x="45" y="91"/>
                      </a:lnTo>
                      <a:lnTo>
                        <a:pt x="81" y="0"/>
                      </a:lnTo>
                      <a:lnTo>
                        <a:pt x="90" y="5"/>
                      </a:lnTo>
                      <a:lnTo>
                        <a:pt x="54" y="96"/>
                      </a:lnTo>
                      <a:lnTo>
                        <a:pt x="27" y="161"/>
                      </a:lnTo>
                      <a:lnTo>
                        <a:pt x="9" y="195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786360" y="51703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825960" y="507348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3"/>
                      </a:move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11" y="8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827760" y="50734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0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9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825960" y="50749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2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9" y="0"/>
                      </a:lnTo>
                      <a:lnTo>
                        <a:pt x="12" y="5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610320" y="5148000"/>
                  <a:ext cx="114120" cy="201600"/>
                </a:xfrm>
                <a:custGeom>
                  <a:avLst/>
                  <a:gdLst/>
                  <a:ahLst/>
                  <a:rect l="l" t="t" r="r" b="b"/>
                  <a:pathLst>
                    <a:path w="223" h="389">
                      <a:moveTo>
                        <a:pt x="112" y="0"/>
                      </a:moveTo>
                      <a:lnTo>
                        <a:pt x="223" y="59"/>
                      </a:lnTo>
                      <a:lnTo>
                        <a:pt x="187" y="151"/>
                      </a:lnTo>
                      <a:lnTo>
                        <a:pt x="175" y="209"/>
                      </a:lnTo>
                      <a:lnTo>
                        <a:pt x="167" y="250"/>
                      </a:lnTo>
                      <a:lnTo>
                        <a:pt x="163" y="272"/>
                      </a:lnTo>
                      <a:lnTo>
                        <a:pt x="159" y="292"/>
                      </a:lnTo>
                      <a:lnTo>
                        <a:pt x="151" y="332"/>
                      </a:lnTo>
                      <a:lnTo>
                        <a:pt x="146" y="353"/>
                      </a:lnTo>
                      <a:lnTo>
                        <a:pt x="141" y="371"/>
                      </a:lnTo>
                      <a:lnTo>
                        <a:pt x="138" y="378"/>
                      </a:lnTo>
                      <a:lnTo>
                        <a:pt x="136" y="383"/>
                      </a:lnTo>
                      <a:lnTo>
                        <a:pt x="134" y="387"/>
                      </a:lnTo>
                      <a:lnTo>
                        <a:pt x="132" y="389"/>
                      </a:lnTo>
                      <a:lnTo>
                        <a:pt x="124" y="387"/>
                      </a:lnTo>
                      <a:lnTo>
                        <a:pt x="116" y="386"/>
                      </a:lnTo>
                      <a:lnTo>
                        <a:pt x="107" y="385"/>
                      </a:lnTo>
                      <a:lnTo>
                        <a:pt x="97" y="365"/>
                      </a:lnTo>
                      <a:lnTo>
                        <a:pt x="95" y="357"/>
                      </a:lnTo>
                      <a:lnTo>
                        <a:pt x="92" y="350"/>
                      </a:lnTo>
                      <a:lnTo>
                        <a:pt x="91" y="344"/>
                      </a:lnTo>
                      <a:lnTo>
                        <a:pt x="91" y="341"/>
                      </a:lnTo>
                      <a:lnTo>
                        <a:pt x="91" y="333"/>
                      </a:lnTo>
                      <a:lnTo>
                        <a:pt x="91" y="319"/>
                      </a:lnTo>
                      <a:lnTo>
                        <a:pt x="92" y="275"/>
                      </a:lnTo>
                      <a:lnTo>
                        <a:pt x="92" y="236"/>
                      </a:lnTo>
                      <a:lnTo>
                        <a:pt x="93" y="222"/>
                      </a:lnTo>
                      <a:lnTo>
                        <a:pt x="93" y="220"/>
                      </a:lnTo>
                      <a:lnTo>
                        <a:pt x="95" y="220"/>
                      </a:lnTo>
                      <a:lnTo>
                        <a:pt x="95" y="221"/>
                      </a:lnTo>
                      <a:lnTo>
                        <a:pt x="92" y="221"/>
                      </a:lnTo>
                      <a:lnTo>
                        <a:pt x="85" y="222"/>
                      </a:lnTo>
                      <a:lnTo>
                        <a:pt x="74" y="224"/>
                      </a:lnTo>
                      <a:lnTo>
                        <a:pt x="62" y="224"/>
                      </a:lnTo>
                      <a:lnTo>
                        <a:pt x="37" y="224"/>
                      </a:lnTo>
                      <a:lnTo>
                        <a:pt x="26" y="224"/>
                      </a:lnTo>
                      <a:lnTo>
                        <a:pt x="0" y="209"/>
                      </a:lnTo>
                      <a:lnTo>
                        <a:pt x="0" y="170"/>
                      </a:lnTo>
                      <a:lnTo>
                        <a:pt x="23" y="166"/>
                      </a:lnTo>
                      <a:lnTo>
                        <a:pt x="23" y="121"/>
                      </a:lnTo>
                      <a:lnTo>
                        <a:pt x="47" y="125"/>
                      </a:lnTo>
                      <a:lnTo>
                        <a:pt x="48" y="120"/>
                      </a:lnTo>
                      <a:lnTo>
                        <a:pt x="50" y="108"/>
                      </a:lnTo>
                      <a:lnTo>
                        <a:pt x="51" y="101"/>
                      </a:lnTo>
                      <a:lnTo>
                        <a:pt x="51" y="96"/>
                      </a:lnTo>
                      <a:lnTo>
                        <a:pt x="50" y="92"/>
                      </a:lnTo>
                      <a:lnTo>
                        <a:pt x="47" y="92"/>
                      </a:lnTo>
                      <a:lnTo>
                        <a:pt x="43" y="92"/>
                      </a:lnTo>
                      <a:lnTo>
                        <a:pt x="38" y="92"/>
                      </a:lnTo>
                      <a:lnTo>
                        <a:pt x="23" y="92"/>
                      </a:lnTo>
                      <a:lnTo>
                        <a:pt x="6" y="89"/>
                      </a:lnTo>
                      <a:lnTo>
                        <a:pt x="8" y="32"/>
                      </a:lnTo>
                      <a:lnTo>
                        <a:pt x="84" y="3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665760" y="5148000"/>
                  <a:ext cx="60120" cy="34920"/>
                </a:xfrm>
                <a:custGeom>
                  <a:avLst/>
                  <a:gdLst/>
                  <a:ahLst/>
                  <a:rect l="l" t="t" r="r" b="b"/>
                  <a:pathLst>
                    <a:path w="116" h="68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11" y="68"/>
                      </a:lnTo>
                      <a:lnTo>
                        <a:pt x="116" y="5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702120" y="5179680"/>
                  <a:ext cx="25560" cy="4932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47" y="3"/>
                      </a:moveTo>
                      <a:lnTo>
                        <a:pt x="37" y="0"/>
                      </a:lnTo>
                      <a:lnTo>
                        <a:pt x="0" y="92"/>
                      </a:lnTo>
                      <a:lnTo>
                        <a:pt x="10" y="96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721200" y="5178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0"/>
                      </a:moveTo>
                      <a:lnTo>
                        <a:pt x="11" y="1"/>
                      </a:lnTo>
                      <a:lnTo>
                        <a:pt x="10" y="6"/>
                      </a:lnTo>
                      <a:lnTo>
                        <a:pt x="0" y="3"/>
                      </a:lnTo>
                      <a:lnTo>
                        <a:pt x="3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690960" y="5225760"/>
                  <a:ext cx="17640" cy="63360"/>
                </a:xfrm>
                <a:custGeom>
                  <a:avLst/>
                  <a:gdLst/>
                  <a:ahLst/>
                  <a:rect l="l" t="t" r="r" b="b"/>
                  <a:pathLst>
                    <a:path w="33" h="122">
                      <a:moveTo>
                        <a:pt x="33" y="1"/>
                      </a:moveTo>
                      <a:lnTo>
                        <a:pt x="11" y="122"/>
                      </a:lnTo>
                      <a:lnTo>
                        <a:pt x="0" y="121"/>
                      </a:lnTo>
                      <a:lnTo>
                        <a:pt x="22" y="0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675120" y="5289120"/>
                  <a:ext cx="20880" cy="61920"/>
                </a:xfrm>
                <a:custGeom>
                  <a:avLst/>
                  <a:gdLst/>
                  <a:ahLst/>
                  <a:rect l="l" t="t" r="r" b="b"/>
                  <a:pathLst>
                    <a:path w="41" h="121">
                      <a:moveTo>
                        <a:pt x="41" y="1"/>
                      </a:moveTo>
                      <a:lnTo>
                        <a:pt x="29" y="61"/>
                      </a:lnTo>
                      <a:lnTo>
                        <a:pt x="18" y="102"/>
                      </a:lnTo>
                      <a:lnTo>
                        <a:pt x="11" y="115"/>
                      </a:lnTo>
                      <a:lnTo>
                        <a:pt x="8" y="121"/>
                      </a:lnTo>
                      <a:lnTo>
                        <a:pt x="0" y="115"/>
                      </a:lnTo>
                      <a:lnTo>
                        <a:pt x="2" y="110"/>
                      </a:lnTo>
                      <a:lnTo>
                        <a:pt x="8" y="99"/>
                      </a:lnTo>
                      <a:lnTo>
                        <a:pt x="18" y="60"/>
                      </a:lnTo>
                      <a:lnTo>
                        <a:pt x="30" y="0"/>
                      </a:lnTo>
                      <a:lnTo>
                        <a:pt x="4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690960" y="528912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11" h="1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664320" y="53449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8" y="13"/>
                      </a:moveTo>
                      <a:lnTo>
                        <a:pt x="9" y="10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12" y="1"/>
                      </a:lnTo>
                      <a:lnTo>
                        <a:pt x="28" y="4"/>
                      </a:lnTo>
                      <a:lnTo>
                        <a:pt x="28" y="1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675120" y="534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7"/>
                      </a:move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653160" y="5324040"/>
                  <a:ext cx="12600" cy="2412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16" y="46"/>
                      </a:moveTo>
                      <a:lnTo>
                        <a:pt x="8" y="26"/>
                      </a:lnTo>
                      <a:lnTo>
                        <a:pt x="3" y="12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1" y="1"/>
                      </a:lnTo>
                      <a:lnTo>
                        <a:pt x="12" y="8"/>
                      </a:lnTo>
                      <a:lnTo>
                        <a:pt x="17" y="21"/>
                      </a:lnTo>
                      <a:lnTo>
                        <a:pt x="25" y="41"/>
                      </a:lnTo>
                      <a:lnTo>
                        <a:pt x="16" y="4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661080" y="53449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9"/>
                      </a:move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653160" y="5260680"/>
                  <a:ext cx="6120" cy="63360"/>
                </a:xfrm>
                <a:custGeom>
                  <a:avLst/>
                  <a:gdLst/>
                  <a:ahLst/>
                  <a:rect l="l" t="t" r="r" b="b"/>
                  <a:pathLst>
                    <a:path w="13" h="124">
                      <a:moveTo>
                        <a:pt x="0" y="124"/>
                      </a:moveTo>
                      <a:lnTo>
                        <a:pt x="1" y="58"/>
                      </a:lnTo>
                      <a:lnTo>
                        <a:pt x="3" y="1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2" y="17"/>
                      </a:lnTo>
                      <a:lnTo>
                        <a:pt x="11" y="58"/>
                      </a:lnTo>
                      <a:lnTo>
                        <a:pt x="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653160" y="532404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621120" y="5260680"/>
                  <a:ext cx="38160" cy="6480"/>
                </a:xfrm>
                <a:custGeom>
                  <a:avLst/>
                  <a:gdLst/>
                  <a:ahLst/>
                  <a:rect l="l" t="t" r="r" b="b"/>
                  <a:pathLst>
                    <a:path w="72" h="12">
                      <a:moveTo>
                        <a:pt x="72" y="7"/>
                      </a:moveTo>
                      <a:lnTo>
                        <a:pt x="70" y="9"/>
                      </a:lnTo>
                      <a:lnTo>
                        <a:pt x="62" y="11"/>
                      </a:lnTo>
                      <a:lnTo>
                        <a:pt x="37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37" y="3"/>
                      </a:lnTo>
                      <a:lnTo>
                        <a:pt x="59" y="1"/>
                      </a:lnTo>
                      <a:lnTo>
                        <a:pt x="64" y="0"/>
                      </a:lnTo>
                      <a:lnTo>
                        <a:pt x="64" y="0"/>
                      </a:lnTo>
                      <a:lnTo>
                        <a:pt x="72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654600" y="526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5"/>
                      </a:moveTo>
                      <a:lnTo>
                        <a:pt x="1" y="0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608520" y="5256000"/>
                  <a:ext cx="14400" cy="11160"/>
                </a:xfrm>
                <a:custGeom>
                  <a:avLst/>
                  <a:gdLst/>
                  <a:ahLst/>
                  <a:rect l="l" t="t" r="r" b="b"/>
                  <a:pathLst>
                    <a:path w="30" h="24">
                      <a:moveTo>
                        <a:pt x="25" y="24"/>
                      </a:moveTo>
                      <a:lnTo>
                        <a:pt x="30" y="15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25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619680" y="52606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3" y="11"/>
                      </a:moveTo>
                      <a:lnTo>
                        <a:pt x="0" y="11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607080" y="5256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9"/>
                      </a:move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610320" y="52322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4"/>
                      </a:moveTo>
                      <a:lnTo>
                        <a:pt x="1" y="15"/>
                      </a:lnTo>
                      <a:lnTo>
                        <a:pt x="25" y="11"/>
                      </a:lnTo>
                      <a:lnTo>
                        <a:pt x="2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607080" y="5233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6"/>
                      </a:moveTo>
                      <a:lnTo>
                        <a:pt x="0" y="2"/>
                      </a:lnTo>
                      <a:lnTo>
                        <a:pt x="6" y="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618240" y="5211360"/>
                  <a:ext cx="6120" cy="2376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618240" y="52322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7" y="11"/>
                      </a:moveTo>
                      <a:lnTo>
                        <a:pt x="11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619680" y="520848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24" y="14"/>
                      </a:lnTo>
                      <a:lnTo>
                        <a:pt x="25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618240" y="52084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630840" y="5195520"/>
                  <a:ext cx="6480" cy="17640"/>
                </a:xfrm>
                <a:custGeom>
                  <a:avLst/>
                  <a:gdLst/>
                  <a:ahLst/>
                  <a:rect l="l" t="t" r="r" b="b"/>
                  <a:pathLst>
                    <a:path w="13" h="38">
                      <a:moveTo>
                        <a:pt x="0" y="35"/>
                      </a:moveTo>
                      <a:lnTo>
                        <a:pt x="3" y="18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9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8"/>
                      </a:lnTo>
                      <a:lnTo>
                        <a:pt x="12" y="21"/>
                      </a:lnTo>
                      <a:lnTo>
                        <a:pt x="9" y="38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630840" y="52099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4" y="10"/>
                      </a:moveTo>
                      <a:lnTo>
                        <a:pt x="8" y="11"/>
                      </a:lnTo>
                      <a:lnTo>
                        <a:pt x="9" y="6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611760" y="5194080"/>
                  <a:ext cx="22320" cy="6120"/>
                </a:xfrm>
                <a:custGeom>
                  <a:avLst/>
                  <a:gdLst/>
                  <a:ahLst/>
                  <a:rect l="l" t="t" r="r" b="b"/>
                  <a:pathLst>
                    <a:path w="42" h="12">
                      <a:moveTo>
                        <a:pt x="42" y="12"/>
                      </a:moveTo>
                      <a:lnTo>
                        <a:pt x="18" y="11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18" y="2"/>
                      </a:lnTo>
                      <a:lnTo>
                        <a:pt x="42" y="2"/>
                      </a:lnTo>
                      <a:lnTo>
                        <a:pt x="42" y="1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632280" y="5194080"/>
                  <a:ext cx="1800" cy="61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610320" y="5165280"/>
                  <a:ext cx="4680" cy="30240"/>
                </a:xfrm>
                <a:custGeom>
                  <a:avLst/>
                  <a:gdLst/>
                  <a:ahLst/>
                  <a:rect l="l" t="t" r="r" b="b"/>
                  <a:pathLst>
                    <a:path w="12" h="57">
                      <a:moveTo>
                        <a:pt x="0" y="57"/>
                      </a:moveTo>
                      <a:lnTo>
                        <a:pt x="9" y="57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610320" y="519408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5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613200" y="516240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76" y="15"/>
                      </a:lnTo>
                      <a:lnTo>
                        <a:pt x="7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611760" y="516240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1"/>
                      </a:lnTo>
                      <a:lnTo>
                        <a:pt x="1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651360" y="514800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36" h="43">
                      <a:moveTo>
                        <a:pt x="0" y="37"/>
                      </a:moveTo>
                      <a:lnTo>
                        <a:pt x="8" y="43"/>
                      </a:lnTo>
                      <a:lnTo>
                        <a:pt x="36" y="6"/>
                      </a:lnTo>
                      <a:lnTo>
                        <a:pt x="28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651360" y="516528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4" y="11"/>
                      </a:move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665760" y="5146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1" y="12"/>
                      </a:lnTo>
                      <a:lnTo>
                        <a:pt x="8" y="1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7367400" y="5454360"/>
                  <a:ext cx="169920" cy="117360"/>
                </a:xfrm>
                <a:custGeom>
                  <a:avLst/>
                  <a:gdLst/>
                  <a:ahLst/>
                  <a:rect l="l" t="t" r="r" b="b"/>
                  <a:pathLst>
                    <a:path w="331" h="228">
                      <a:moveTo>
                        <a:pt x="327" y="0"/>
                      </a:moveTo>
                      <a:lnTo>
                        <a:pt x="324" y="1"/>
                      </a:lnTo>
                      <a:lnTo>
                        <a:pt x="319" y="1"/>
                      </a:lnTo>
                      <a:lnTo>
                        <a:pt x="304" y="2"/>
                      </a:lnTo>
                      <a:lnTo>
                        <a:pt x="262" y="4"/>
                      </a:lnTo>
                      <a:lnTo>
                        <a:pt x="204" y="4"/>
                      </a:lnTo>
                      <a:lnTo>
                        <a:pt x="194" y="50"/>
                      </a:lnTo>
                      <a:lnTo>
                        <a:pt x="141" y="54"/>
                      </a:lnTo>
                      <a:lnTo>
                        <a:pt x="141" y="48"/>
                      </a:lnTo>
                      <a:lnTo>
                        <a:pt x="142" y="37"/>
                      </a:lnTo>
                      <a:lnTo>
                        <a:pt x="142" y="30"/>
                      </a:lnTo>
                      <a:lnTo>
                        <a:pt x="142" y="27"/>
                      </a:lnTo>
                      <a:lnTo>
                        <a:pt x="142" y="25"/>
                      </a:lnTo>
                      <a:lnTo>
                        <a:pt x="141" y="23"/>
                      </a:lnTo>
                      <a:lnTo>
                        <a:pt x="140" y="21"/>
                      </a:lnTo>
                      <a:lnTo>
                        <a:pt x="138" y="21"/>
                      </a:lnTo>
                      <a:lnTo>
                        <a:pt x="137" y="19"/>
                      </a:lnTo>
                      <a:lnTo>
                        <a:pt x="101" y="18"/>
                      </a:lnTo>
                      <a:lnTo>
                        <a:pt x="74" y="15"/>
                      </a:lnTo>
                      <a:lnTo>
                        <a:pt x="68" y="55"/>
                      </a:lnTo>
                      <a:lnTo>
                        <a:pt x="17" y="54"/>
                      </a:lnTo>
                      <a:lnTo>
                        <a:pt x="0" y="175"/>
                      </a:lnTo>
                      <a:lnTo>
                        <a:pt x="43" y="175"/>
                      </a:lnTo>
                      <a:lnTo>
                        <a:pt x="42" y="200"/>
                      </a:lnTo>
                      <a:lnTo>
                        <a:pt x="42" y="209"/>
                      </a:lnTo>
                      <a:lnTo>
                        <a:pt x="43" y="217"/>
                      </a:lnTo>
                      <a:lnTo>
                        <a:pt x="45" y="224"/>
                      </a:lnTo>
                      <a:lnTo>
                        <a:pt x="46" y="225"/>
                      </a:lnTo>
                      <a:lnTo>
                        <a:pt x="47" y="226"/>
                      </a:lnTo>
                      <a:lnTo>
                        <a:pt x="53" y="226"/>
                      </a:lnTo>
                      <a:lnTo>
                        <a:pt x="62" y="228"/>
                      </a:lnTo>
                      <a:lnTo>
                        <a:pt x="87" y="228"/>
                      </a:lnTo>
                      <a:lnTo>
                        <a:pt x="121" y="228"/>
                      </a:lnTo>
                      <a:lnTo>
                        <a:pt x="142" y="167"/>
                      </a:lnTo>
                      <a:lnTo>
                        <a:pt x="169" y="167"/>
                      </a:lnTo>
                      <a:lnTo>
                        <a:pt x="166" y="102"/>
                      </a:lnTo>
                      <a:lnTo>
                        <a:pt x="196" y="104"/>
                      </a:lnTo>
                      <a:lnTo>
                        <a:pt x="196" y="72"/>
                      </a:lnTo>
                      <a:lnTo>
                        <a:pt x="330" y="58"/>
                      </a:lnTo>
                      <a:lnTo>
                        <a:pt x="330" y="48"/>
                      </a:lnTo>
                      <a:lnTo>
                        <a:pt x="331" y="27"/>
                      </a:lnTo>
                      <a:lnTo>
                        <a:pt x="331" y="17"/>
                      </a:lnTo>
                      <a:lnTo>
                        <a:pt x="331" y="8"/>
                      </a:lnTo>
                      <a:lnTo>
                        <a:pt x="330" y="1"/>
                      </a:lnTo>
                      <a:lnTo>
                        <a:pt x="328" y="0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7472160" y="5451120"/>
                  <a:ext cx="63360" cy="7920"/>
                </a:xfrm>
                <a:custGeom>
                  <a:avLst/>
                  <a:gdLst/>
                  <a:ahLst/>
                  <a:rect l="l" t="t" r="r" b="b"/>
                  <a:pathLst>
                    <a:path w="124" h="13">
                      <a:moveTo>
                        <a:pt x="124" y="9"/>
                      </a:moveTo>
                      <a:lnTo>
                        <a:pt x="100" y="12"/>
                      </a:lnTo>
                      <a:lnTo>
                        <a:pt x="58" y="13"/>
                      </a:lnTo>
                      <a:lnTo>
                        <a:pt x="0" y="13"/>
                      </a:lnTo>
                      <a:lnTo>
                        <a:pt x="0" y="2"/>
                      </a:lnTo>
                      <a:lnTo>
                        <a:pt x="58" y="4"/>
                      </a:lnTo>
                      <a:lnTo>
                        <a:pt x="100" y="2"/>
                      </a:lnTo>
                      <a:lnTo>
                        <a:pt x="122" y="0"/>
                      </a:lnTo>
                      <a:lnTo>
                        <a:pt x="124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462800" y="5454360"/>
                  <a:ext cx="12600" cy="2556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22" y="2"/>
                      </a:moveTo>
                      <a:lnTo>
                        <a:pt x="11" y="0"/>
                      </a:lnTo>
                      <a:lnTo>
                        <a:pt x="0" y="46"/>
                      </a:lnTo>
                      <a:lnTo>
                        <a:pt x="11" y="48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7468920" y="5452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1" y="6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7438680" y="5478120"/>
                  <a:ext cx="28800" cy="6480"/>
                </a:xfrm>
                <a:custGeom>
                  <a:avLst/>
                  <a:gdLst/>
                  <a:ahLst/>
                  <a:rect l="l" t="t" r="r" b="b"/>
                  <a:pathLst>
                    <a:path w="57" h="13">
                      <a:moveTo>
                        <a:pt x="57" y="9"/>
                      </a:moveTo>
                      <a:lnTo>
                        <a:pt x="54" y="0"/>
                      </a:lnTo>
                      <a:lnTo>
                        <a:pt x="0" y="4"/>
                      </a:lnTo>
                      <a:lnTo>
                        <a:pt x="3" y="13"/>
                      </a:lnTo>
                      <a:lnTo>
                        <a:pt x="5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7462800" y="54781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0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7435800" y="546228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13" h="40">
                      <a:moveTo>
                        <a:pt x="1" y="37"/>
                      </a:moveTo>
                      <a:lnTo>
                        <a:pt x="4" y="22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lnTo>
                        <a:pt x="9" y="2"/>
                      </a:lnTo>
                      <a:lnTo>
                        <a:pt x="13" y="8"/>
                      </a:lnTo>
                      <a:lnTo>
                        <a:pt x="13" y="22"/>
                      </a:lnTo>
                      <a:lnTo>
                        <a:pt x="11" y="40"/>
                      </a:lnTo>
                      <a:lnTo>
                        <a:pt x="1" y="3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7435800" y="54799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9"/>
                      </a:move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7403760" y="545904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62" y="4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7435800" y="546228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7397640" y="5460840"/>
                  <a:ext cx="9360" cy="219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0"/>
                      </a:lnTo>
                      <a:lnTo>
                        <a:pt x="10" y="41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7400880" y="5459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4"/>
                      </a:lnTo>
                      <a:lnTo>
                        <a:pt x="6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7375320" y="547992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0" y="10"/>
                      </a:moveTo>
                      <a:lnTo>
                        <a:pt x="5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5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7397640" y="54813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7364160" y="5481360"/>
                  <a:ext cx="14400" cy="63360"/>
                </a:xfrm>
                <a:custGeom>
                  <a:avLst/>
                  <a:gdLst/>
                  <a:ahLst/>
                  <a:rect l="l" t="t" r="r" b="b"/>
                  <a:pathLst>
                    <a:path w="27" h="123">
                      <a:moveTo>
                        <a:pt x="27" y="2"/>
                      </a:moveTo>
                      <a:lnTo>
                        <a:pt x="17" y="0"/>
                      </a:lnTo>
                      <a:lnTo>
                        <a:pt x="0" y="122"/>
                      </a:lnTo>
                      <a:lnTo>
                        <a:pt x="10" y="123"/>
                      </a:lnTo>
                      <a:lnTo>
                        <a:pt x="27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7373880" y="54799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7367400" y="5541840"/>
                  <a:ext cx="22320" cy="468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7364160" y="5541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4"/>
                      </a:move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5" y="0"/>
                      </a:lnTo>
                      <a:lnTo>
                        <a:pt x="1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386480" y="5544720"/>
                  <a:ext cx="6480" cy="2700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12" y="0"/>
                      </a:moveTo>
                      <a:lnTo>
                        <a:pt x="10" y="25"/>
                      </a:lnTo>
                      <a:lnTo>
                        <a:pt x="12" y="42"/>
                      </a:lnTo>
                      <a:lnTo>
                        <a:pt x="12" y="46"/>
                      </a:lnTo>
                      <a:lnTo>
                        <a:pt x="14" y="49"/>
                      </a:lnTo>
                      <a:lnTo>
                        <a:pt x="6" y="55"/>
                      </a:lnTo>
                      <a:lnTo>
                        <a:pt x="2" y="51"/>
                      </a:lnTo>
                      <a:lnTo>
                        <a:pt x="1" y="44"/>
                      </a:lnTo>
                      <a:lnTo>
                        <a:pt x="0" y="25"/>
                      </a:lnTo>
                      <a:lnTo>
                        <a:pt x="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386480" y="5541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5" y="0"/>
                      </a:move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389720" y="5567040"/>
                  <a:ext cx="39600" cy="6480"/>
                </a:xfrm>
                <a:custGeom>
                  <a:avLst/>
                  <a:gdLst/>
                  <a:ahLst/>
                  <a:rect l="l" t="t" r="r" b="b"/>
                  <a:pathLst>
                    <a:path w="74" h="12">
                      <a:moveTo>
                        <a:pt x="0" y="0"/>
                      </a:moveTo>
                      <a:lnTo>
                        <a:pt x="40" y="1"/>
                      </a:lnTo>
                      <a:lnTo>
                        <a:pt x="74" y="1"/>
                      </a:lnTo>
                      <a:lnTo>
                        <a:pt x="74" y="12"/>
                      </a:lnTo>
                      <a:lnTo>
                        <a:pt x="40" y="12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389720" y="55670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9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4" y="0"/>
                      </a:lnTo>
                      <a:lnTo>
                        <a:pt x="8" y="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426080" y="553860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30" h="66">
                      <a:moveTo>
                        <a:pt x="0" y="61"/>
                      </a:moveTo>
                      <a:lnTo>
                        <a:pt x="9" y="66"/>
                      </a:lnTo>
                      <a:lnTo>
                        <a:pt x="30" y="6"/>
                      </a:lnTo>
                      <a:lnTo>
                        <a:pt x="21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426080" y="5568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8" y="11"/>
                      </a:lnTo>
                      <a:lnTo>
                        <a:pt x="9" y="8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437240" y="5538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7448400" y="5506920"/>
                  <a:ext cx="6480" cy="33120"/>
                </a:xfrm>
                <a:custGeom>
                  <a:avLst/>
                  <a:gdLst/>
                  <a:ahLst/>
                  <a:rect l="l" t="t" r="r" b="b"/>
                  <a:pathLst>
                    <a:path w="12" h="65">
                      <a:moveTo>
                        <a:pt x="2" y="65"/>
                      </a:moveTo>
                      <a:lnTo>
                        <a:pt x="12" y="6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6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7449840" y="55386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10"/>
                      </a:moveTo>
                      <a:lnTo>
                        <a:pt x="10" y="1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7451640" y="5503680"/>
                  <a:ext cx="15840" cy="612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30" y="12"/>
                      </a:lnTo>
                      <a:lnTo>
                        <a:pt x="3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7448400" y="5503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1"/>
                      </a:lnTo>
                      <a:lnTo>
                        <a:pt x="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7464240" y="55051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10"/>
                      </a:moveTo>
                      <a:lnTo>
                        <a:pt x="11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7467480" y="548136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132" h="25">
                      <a:moveTo>
                        <a:pt x="0" y="15"/>
                      </a:moveTo>
                      <a:lnTo>
                        <a:pt x="0" y="25"/>
                      </a:lnTo>
                      <a:lnTo>
                        <a:pt x="132" y="11"/>
                      </a:lnTo>
                      <a:lnTo>
                        <a:pt x="132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464240" y="54878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532640" y="5451120"/>
                  <a:ext cx="6120" cy="33480"/>
                </a:xfrm>
                <a:custGeom>
                  <a:avLst/>
                  <a:gdLst/>
                  <a:ahLst/>
                  <a:rect l="l" t="t" r="r" b="b"/>
                  <a:pathLst>
                    <a:path w="12" h="63">
                      <a:moveTo>
                        <a:pt x="0" y="60"/>
                      </a:moveTo>
                      <a:lnTo>
                        <a:pt x="3" y="31"/>
                      </a:lnTo>
                      <a:lnTo>
                        <a:pt x="3" y="12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12"/>
                      </a:lnTo>
                      <a:lnTo>
                        <a:pt x="12" y="31"/>
                      </a:lnTo>
                      <a:lnTo>
                        <a:pt x="9" y="63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532640" y="5481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9" y="11"/>
                      </a:lnTo>
                      <a:lnTo>
                        <a:pt x="9" y="7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534080" y="545112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4" y="9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316640" y="4949640"/>
                  <a:ext cx="141120" cy="223920"/>
                </a:xfrm>
                <a:custGeom>
                  <a:avLst/>
                  <a:gdLst/>
                  <a:ahLst/>
                  <a:rect l="l" t="t" r="r" b="b"/>
                  <a:pathLst>
                    <a:path w="277" h="436">
                      <a:moveTo>
                        <a:pt x="185" y="0"/>
                      </a:moveTo>
                      <a:lnTo>
                        <a:pt x="219" y="63"/>
                      </a:lnTo>
                      <a:lnTo>
                        <a:pt x="200" y="109"/>
                      </a:lnTo>
                      <a:lnTo>
                        <a:pt x="223" y="163"/>
                      </a:lnTo>
                      <a:lnTo>
                        <a:pt x="252" y="163"/>
                      </a:lnTo>
                      <a:lnTo>
                        <a:pt x="277" y="163"/>
                      </a:lnTo>
                      <a:lnTo>
                        <a:pt x="272" y="258"/>
                      </a:lnTo>
                      <a:lnTo>
                        <a:pt x="265" y="300"/>
                      </a:lnTo>
                      <a:lnTo>
                        <a:pt x="212" y="303"/>
                      </a:lnTo>
                      <a:lnTo>
                        <a:pt x="212" y="316"/>
                      </a:lnTo>
                      <a:lnTo>
                        <a:pt x="211" y="344"/>
                      </a:lnTo>
                      <a:lnTo>
                        <a:pt x="211" y="358"/>
                      </a:lnTo>
                      <a:lnTo>
                        <a:pt x="210" y="372"/>
                      </a:lnTo>
                      <a:lnTo>
                        <a:pt x="207" y="382"/>
                      </a:lnTo>
                      <a:lnTo>
                        <a:pt x="206" y="385"/>
                      </a:lnTo>
                      <a:lnTo>
                        <a:pt x="204" y="385"/>
                      </a:lnTo>
                      <a:lnTo>
                        <a:pt x="190" y="386"/>
                      </a:lnTo>
                      <a:lnTo>
                        <a:pt x="163" y="389"/>
                      </a:lnTo>
                      <a:lnTo>
                        <a:pt x="128" y="393"/>
                      </a:lnTo>
                      <a:lnTo>
                        <a:pt x="91" y="436"/>
                      </a:lnTo>
                      <a:lnTo>
                        <a:pt x="46" y="395"/>
                      </a:lnTo>
                      <a:lnTo>
                        <a:pt x="51" y="368"/>
                      </a:lnTo>
                      <a:lnTo>
                        <a:pt x="61" y="368"/>
                      </a:lnTo>
                      <a:lnTo>
                        <a:pt x="80" y="366"/>
                      </a:lnTo>
                      <a:lnTo>
                        <a:pt x="92" y="365"/>
                      </a:lnTo>
                      <a:lnTo>
                        <a:pt x="101" y="364"/>
                      </a:lnTo>
                      <a:lnTo>
                        <a:pt x="108" y="361"/>
                      </a:lnTo>
                      <a:lnTo>
                        <a:pt x="109" y="360"/>
                      </a:lnTo>
                      <a:lnTo>
                        <a:pt x="111" y="358"/>
                      </a:lnTo>
                      <a:lnTo>
                        <a:pt x="112" y="324"/>
                      </a:lnTo>
                      <a:lnTo>
                        <a:pt x="115" y="297"/>
                      </a:lnTo>
                      <a:lnTo>
                        <a:pt x="71" y="287"/>
                      </a:lnTo>
                      <a:lnTo>
                        <a:pt x="8" y="283"/>
                      </a:lnTo>
                      <a:lnTo>
                        <a:pt x="0" y="252"/>
                      </a:lnTo>
                      <a:lnTo>
                        <a:pt x="28" y="228"/>
                      </a:lnTo>
                      <a:lnTo>
                        <a:pt x="72" y="236"/>
                      </a:lnTo>
                      <a:lnTo>
                        <a:pt x="69" y="212"/>
                      </a:lnTo>
                      <a:lnTo>
                        <a:pt x="153" y="130"/>
                      </a:lnTo>
                      <a:lnTo>
                        <a:pt x="136" y="39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407000" y="494784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44" h="69">
                      <a:moveTo>
                        <a:pt x="10" y="0"/>
                      </a:moveTo>
                      <a:lnTo>
                        <a:pt x="0" y="5"/>
                      </a:lnTo>
                      <a:lnTo>
                        <a:pt x="35" y="69"/>
                      </a:lnTo>
                      <a:lnTo>
                        <a:pt x="44" y="6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16720" y="4981320"/>
                  <a:ext cx="14040" cy="25200"/>
                </a:xfrm>
                <a:custGeom>
                  <a:avLst/>
                  <a:gdLst/>
                  <a:ahLst/>
                  <a:rect l="l" t="t" r="r" b="b"/>
                  <a:pathLst>
                    <a:path w="28" h="50">
                      <a:moveTo>
                        <a:pt x="28" y="4"/>
                      </a:moveTo>
                      <a:lnTo>
                        <a:pt x="19" y="0"/>
                      </a:lnTo>
                      <a:lnTo>
                        <a:pt x="0" y="46"/>
                      </a:lnTo>
                      <a:lnTo>
                        <a:pt x="9" y="50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7426080" y="497988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9" y="0"/>
                      </a:moveTo>
                      <a:lnTo>
                        <a:pt x="10" y="3"/>
                      </a:lnTo>
                      <a:lnTo>
                        <a:pt x="9" y="6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7416720" y="5005080"/>
                  <a:ext cx="15840" cy="28440"/>
                </a:xfrm>
                <a:custGeom>
                  <a:avLst/>
                  <a:gdLst/>
                  <a:ahLst/>
                  <a:rect l="l" t="t" r="r" b="b"/>
                  <a:pathLst>
                    <a:path w="32" h="59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3" y="59"/>
                      </a:lnTo>
                      <a:lnTo>
                        <a:pt x="32" y="5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7414920" y="500508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7430760" y="5032080"/>
                  <a:ext cx="14400" cy="324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7427880" y="50320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8"/>
                      </a:moveTo>
                      <a:lnTo>
                        <a:pt x="1" y="11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9" y="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7445160" y="5032080"/>
                  <a:ext cx="12600" cy="324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7445160" y="50320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7451640" y="5033520"/>
                  <a:ext cx="9360" cy="49320"/>
                </a:xfrm>
                <a:custGeom>
                  <a:avLst/>
                  <a:gdLst/>
                  <a:ahLst/>
                  <a:rect l="l" t="t" r="r" b="b"/>
                  <a:pathLst>
                    <a:path w="16" h="95">
                      <a:moveTo>
                        <a:pt x="16" y="0"/>
                      </a:moveTo>
                      <a:lnTo>
                        <a:pt x="6" y="0"/>
                      </a:lnTo>
                      <a:lnTo>
                        <a:pt x="0" y="95"/>
                      </a:lnTo>
                      <a:lnTo>
                        <a:pt x="11" y="9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7454880" y="50320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7448400" y="5082840"/>
                  <a:ext cx="9360" cy="2052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2"/>
                      </a:lnTo>
                      <a:lnTo>
                        <a:pt x="10" y="43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7424640" y="5101920"/>
                  <a:ext cx="27000" cy="6480"/>
                </a:xfrm>
                <a:custGeom>
                  <a:avLst/>
                  <a:gdLst/>
                  <a:ahLst/>
                  <a:rect l="l" t="t" r="r" b="b"/>
                  <a:pathLst>
                    <a:path w="53" h="11">
                      <a:moveTo>
                        <a:pt x="53" y="9"/>
                      </a:moveTo>
                      <a:lnTo>
                        <a:pt x="53" y="0"/>
                      </a:lnTo>
                      <a:lnTo>
                        <a:pt x="0" y="2"/>
                      </a:lnTo>
                      <a:lnTo>
                        <a:pt x="0" y="11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7448400" y="51019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3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7418160" y="5105160"/>
                  <a:ext cx="9720" cy="42840"/>
                </a:xfrm>
                <a:custGeom>
                  <a:avLst/>
                  <a:gdLst/>
                  <a:ahLst/>
                  <a:rect l="l" t="t" r="r" b="b"/>
                  <a:pathLst>
                    <a:path w="19" h="83">
                      <a:moveTo>
                        <a:pt x="19" y="0"/>
                      </a:moveTo>
                      <a:lnTo>
                        <a:pt x="17" y="41"/>
                      </a:lnTo>
                      <a:lnTo>
                        <a:pt x="15" y="69"/>
                      </a:lnTo>
                      <a:lnTo>
                        <a:pt x="11" y="83"/>
                      </a:lnTo>
                      <a:lnTo>
                        <a:pt x="0" y="81"/>
                      </a:lnTo>
                      <a:lnTo>
                        <a:pt x="4" y="67"/>
                      </a:lnTo>
                      <a:lnTo>
                        <a:pt x="7" y="41"/>
                      </a:lnTo>
                      <a:lnTo>
                        <a:pt x="8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7422840" y="51033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7381800" y="514656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79" h="17">
                      <a:moveTo>
                        <a:pt x="79" y="9"/>
                      </a:moveTo>
                      <a:lnTo>
                        <a:pt x="2" y="17"/>
                      </a:lnTo>
                      <a:lnTo>
                        <a:pt x="0" y="8"/>
                      </a:lnTo>
                      <a:lnTo>
                        <a:pt x="76" y="0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7418160" y="5146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5"/>
                      </a:move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7359480" y="514944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6" y="7"/>
                      </a:moveTo>
                      <a:lnTo>
                        <a:pt x="38" y="0"/>
                      </a:lnTo>
                      <a:lnTo>
                        <a:pt x="0" y="44"/>
                      </a:lnTo>
                      <a:lnTo>
                        <a:pt x="8" y="50"/>
                      </a:lnTo>
                      <a:lnTo>
                        <a:pt x="46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7380000" y="514944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7337160" y="514944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44" y="49"/>
                      </a:moveTo>
                      <a:lnTo>
                        <a:pt x="50" y="41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4" y="4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7359480" y="51717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8" y="8"/>
                      </a:moveTo>
                      <a:lnTo>
                        <a:pt x="4" y="12"/>
                      </a:ln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7335720" y="5138280"/>
                  <a:ext cx="7920" cy="1620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28"/>
                      </a:moveTo>
                      <a:lnTo>
                        <a:pt x="9" y="32"/>
                      </a:lnTo>
                      <a:lnTo>
                        <a:pt x="14" y="4"/>
                      </a:lnTo>
                      <a:lnTo>
                        <a:pt x="5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7335720" y="51494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8"/>
                      </a:move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10" y="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7341840" y="513360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6"/>
                      </a:moveTo>
                      <a:lnTo>
                        <a:pt x="29" y="5"/>
                      </a:lnTo>
                      <a:lnTo>
                        <a:pt x="50" y="2"/>
                      </a:lnTo>
                      <a:lnTo>
                        <a:pt x="53" y="1"/>
                      </a:lnTo>
                      <a:lnTo>
                        <a:pt x="56" y="0"/>
                      </a:lnTo>
                      <a:lnTo>
                        <a:pt x="64" y="6"/>
                      </a:lnTo>
                      <a:lnTo>
                        <a:pt x="60" y="9"/>
                      </a:lnTo>
                      <a:lnTo>
                        <a:pt x="52" y="13"/>
                      </a:lnTo>
                      <a:lnTo>
                        <a:pt x="29" y="16"/>
                      </a:lnTo>
                      <a:lnTo>
                        <a:pt x="0" y="1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7338960" y="5136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4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lnTo>
                        <a:pt x="9" y="8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7370640" y="5100480"/>
                  <a:ext cx="6120" cy="34920"/>
                </a:xfrm>
                <a:custGeom>
                  <a:avLst/>
                  <a:gdLst/>
                  <a:ahLst/>
                  <a:rect l="l" t="t" r="r" b="b"/>
                  <a:pathLst>
                    <a:path w="14" h="65">
                      <a:moveTo>
                        <a:pt x="0" y="62"/>
                      </a:moveTo>
                      <a:lnTo>
                        <a:pt x="4" y="0"/>
                      </a:lnTo>
                      <a:lnTo>
                        <a:pt x="14" y="3"/>
                      </a:lnTo>
                      <a:lnTo>
                        <a:pt x="10" y="65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7370640" y="51336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7351560" y="509400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4" y="19"/>
                      </a:moveTo>
                      <a:lnTo>
                        <a:pt x="47" y="10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44" y="1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7372080" y="5100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5"/>
                      </a:move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7319880" y="5092560"/>
                  <a:ext cx="316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62" y="4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7351560" y="509400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2" h="10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7313400" y="5078160"/>
                  <a:ext cx="9720" cy="17280"/>
                </a:xfrm>
                <a:custGeom>
                  <a:avLst/>
                  <a:gdLst/>
                  <a:ahLst/>
                  <a:rect l="l" t="t" r="r" b="b"/>
                  <a:pathLst>
                    <a:path w="17" h="35">
                      <a:moveTo>
                        <a:pt x="8" y="35"/>
                      </a:moveTo>
                      <a:lnTo>
                        <a:pt x="17" y="3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7318080" y="509256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7313400" y="5065560"/>
                  <a:ext cx="17640" cy="15840"/>
                </a:xfrm>
                <a:custGeom>
                  <a:avLst/>
                  <a:gdLst/>
                  <a:ahLst/>
                  <a:rect l="l" t="t" r="r" b="b"/>
                  <a:pathLst>
                    <a:path w="34" h="32">
                      <a:moveTo>
                        <a:pt x="0" y="24"/>
                      </a:moveTo>
                      <a:lnTo>
                        <a:pt x="7" y="32"/>
                      </a:lnTo>
                      <a:lnTo>
                        <a:pt x="34" y="8"/>
                      </a:lnTo>
                      <a:lnTo>
                        <a:pt x="28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7311960" y="507816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5"/>
                      </a:move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10" y="8"/>
                      </a:lnTo>
                      <a:lnTo>
                        <a:pt x="11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7329240" y="5063760"/>
                  <a:ext cx="23760" cy="97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45" y="18"/>
                      </a:lnTo>
                      <a:lnTo>
                        <a:pt x="46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7329240" y="506376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7348320" y="5057640"/>
                  <a:ext cx="6480" cy="1404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4" y="26"/>
                      </a:moveTo>
                      <a:lnTo>
                        <a:pt x="13" y="24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7350120" y="50684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10"/>
                      </a:moveTo>
                      <a:lnTo>
                        <a:pt x="11" y="11"/>
                      </a:lnTo>
                      <a:lnTo>
                        <a:pt x="9" y="4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7348320" y="5014800"/>
                  <a:ext cx="47520" cy="45720"/>
                </a:xfrm>
                <a:custGeom>
                  <a:avLst/>
                  <a:gdLst/>
                  <a:ahLst/>
                  <a:rect l="l" t="t" r="r" b="b"/>
                  <a:pathLst>
                    <a:path w="91" h="90">
                      <a:moveTo>
                        <a:pt x="0" y="82"/>
                      </a:moveTo>
                      <a:lnTo>
                        <a:pt x="6" y="90"/>
                      </a:lnTo>
                      <a:lnTo>
                        <a:pt x="91" y="8"/>
                      </a:lnTo>
                      <a:lnTo>
                        <a:pt x="84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7348320" y="5055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8"/>
                      </a:lnTo>
                      <a:lnTo>
                        <a:pt x="9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7383240" y="4970160"/>
                  <a:ext cx="12600" cy="4752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8" y="94"/>
                      </a:moveTo>
                      <a:lnTo>
                        <a:pt x="27" y="91"/>
                      </a:lnTo>
                      <a:lnTo>
                        <a:pt x="10" y="0"/>
                      </a:lnTo>
                      <a:lnTo>
                        <a:pt x="0" y="3"/>
                      </a:lnTo>
                      <a:lnTo>
                        <a:pt x="18" y="9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7391160" y="5014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8"/>
                      </a:moveTo>
                      <a:lnTo>
                        <a:pt x="9" y="7"/>
                      </a:lnTo>
                      <a:lnTo>
                        <a:pt x="9" y="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385040" y="4947840"/>
                  <a:ext cx="26640" cy="237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0" y="39"/>
                      </a:moveTo>
                      <a:lnTo>
                        <a:pt x="6" y="47"/>
                      </a:lnTo>
                      <a:lnTo>
                        <a:pt x="55" y="8"/>
                      </a:lnTo>
                      <a:lnTo>
                        <a:pt x="49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383240" y="49687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1" y="6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9" y="8"/>
                      </a:lnTo>
                      <a:lnTo>
                        <a:pt x="11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7407000" y="49449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2" y="4"/>
                      </a:moveTo>
                      <a:lnTo>
                        <a:pt x="7" y="0"/>
                      </a:lnTo>
                      <a:lnTo>
                        <a:pt x="10" y="5"/>
                      </a:lnTo>
                      <a:lnTo>
                        <a:pt x="0" y="10"/>
                      </a:lnTo>
                      <a:lnTo>
                        <a:pt x="8" y="12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7167240" y="5035320"/>
                  <a:ext cx="101880" cy="82440"/>
                </a:xfrm>
                <a:custGeom>
                  <a:avLst/>
                  <a:gdLst/>
                  <a:ahLst/>
                  <a:rect l="l" t="t" r="r" b="b"/>
                  <a:pathLst>
                    <a:path w="196" h="160">
                      <a:moveTo>
                        <a:pt x="105" y="7"/>
                      </a:moveTo>
                      <a:lnTo>
                        <a:pt x="96" y="8"/>
                      </a:lnTo>
                      <a:lnTo>
                        <a:pt x="84" y="10"/>
                      </a:lnTo>
                      <a:lnTo>
                        <a:pt x="71" y="11"/>
                      </a:lnTo>
                      <a:lnTo>
                        <a:pt x="0" y="61"/>
                      </a:lnTo>
                      <a:lnTo>
                        <a:pt x="2" y="85"/>
                      </a:lnTo>
                      <a:lnTo>
                        <a:pt x="56" y="87"/>
                      </a:lnTo>
                      <a:lnTo>
                        <a:pt x="60" y="104"/>
                      </a:lnTo>
                      <a:lnTo>
                        <a:pt x="35" y="103"/>
                      </a:lnTo>
                      <a:lnTo>
                        <a:pt x="35" y="126"/>
                      </a:lnTo>
                      <a:lnTo>
                        <a:pt x="68" y="132"/>
                      </a:lnTo>
                      <a:lnTo>
                        <a:pt x="67" y="136"/>
                      </a:lnTo>
                      <a:lnTo>
                        <a:pt x="64" y="145"/>
                      </a:lnTo>
                      <a:lnTo>
                        <a:pt x="64" y="151"/>
                      </a:lnTo>
                      <a:lnTo>
                        <a:pt x="64" y="155"/>
                      </a:lnTo>
                      <a:lnTo>
                        <a:pt x="66" y="159"/>
                      </a:lnTo>
                      <a:lnTo>
                        <a:pt x="67" y="160"/>
                      </a:lnTo>
                      <a:lnTo>
                        <a:pt x="68" y="160"/>
                      </a:lnTo>
                      <a:lnTo>
                        <a:pt x="80" y="159"/>
                      </a:lnTo>
                      <a:lnTo>
                        <a:pt x="95" y="157"/>
                      </a:lnTo>
                      <a:lnTo>
                        <a:pt x="113" y="156"/>
                      </a:lnTo>
                      <a:lnTo>
                        <a:pt x="112" y="130"/>
                      </a:lnTo>
                      <a:lnTo>
                        <a:pt x="121" y="132"/>
                      </a:lnTo>
                      <a:lnTo>
                        <a:pt x="130" y="132"/>
                      </a:lnTo>
                      <a:lnTo>
                        <a:pt x="136" y="132"/>
                      </a:lnTo>
                      <a:lnTo>
                        <a:pt x="141" y="132"/>
                      </a:lnTo>
                      <a:lnTo>
                        <a:pt x="147" y="130"/>
                      </a:lnTo>
                      <a:lnTo>
                        <a:pt x="155" y="123"/>
                      </a:lnTo>
                      <a:lnTo>
                        <a:pt x="165" y="115"/>
                      </a:lnTo>
                      <a:lnTo>
                        <a:pt x="174" y="106"/>
                      </a:lnTo>
                      <a:lnTo>
                        <a:pt x="190" y="89"/>
                      </a:lnTo>
                      <a:lnTo>
                        <a:pt x="196" y="81"/>
                      </a:lnTo>
                      <a:lnTo>
                        <a:pt x="179" y="28"/>
                      </a:lnTo>
                      <a:lnTo>
                        <a:pt x="104" y="32"/>
                      </a:lnTo>
                      <a:lnTo>
                        <a:pt x="104" y="0"/>
                      </a:lnTo>
                      <a:lnTo>
                        <a:pt x="105" y="2"/>
                      </a:lnTo>
                      <a:lnTo>
                        <a:pt x="108" y="3"/>
                      </a:lnTo>
                      <a:lnTo>
                        <a:pt x="109" y="4"/>
                      </a:lnTo>
                      <a:lnTo>
                        <a:pt x="108" y="6"/>
                      </a:lnTo>
                      <a:lnTo>
                        <a:pt x="105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7205400" y="5036760"/>
                  <a:ext cx="17640" cy="648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37" y="9"/>
                      </a:moveTo>
                      <a:lnTo>
                        <a:pt x="2" y="13"/>
                      </a:lnTo>
                      <a:lnTo>
                        <a:pt x="0" y="4"/>
                      </a:lnTo>
                      <a:lnTo>
                        <a:pt x="34" y="0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7165800" y="5038560"/>
                  <a:ext cx="41400" cy="29880"/>
                </a:xfrm>
                <a:custGeom>
                  <a:avLst/>
                  <a:gdLst/>
                  <a:ahLst/>
                  <a:rect l="l" t="t" r="r" b="b"/>
                  <a:pathLst>
                    <a:path w="78" h="58">
                      <a:moveTo>
                        <a:pt x="78" y="8"/>
                      </a:moveTo>
                      <a:lnTo>
                        <a:pt x="71" y="0"/>
                      </a:lnTo>
                      <a:lnTo>
                        <a:pt x="0" y="50"/>
                      </a:lnTo>
                      <a:lnTo>
                        <a:pt x="6" y="58"/>
                      </a:lnTo>
                      <a:lnTo>
                        <a:pt x="7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7203960" y="50385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7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7164360" y="50670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3" y="25"/>
                      </a:lnTo>
                      <a:lnTo>
                        <a:pt x="14" y="2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7164360" y="506556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11" y="4"/>
                      </a:lnTo>
                      <a:lnTo>
                        <a:pt x="8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5440320" y="3215880"/>
                  <a:ext cx="244440" cy="174600"/>
                </a:xfrm>
                <a:custGeom>
                  <a:avLst/>
                  <a:gdLst/>
                  <a:ahLst/>
                  <a:rect l="l" t="t" r="r" b="b"/>
                  <a:pathLst>
                    <a:path w="474" h="340">
                      <a:moveTo>
                        <a:pt x="268" y="0"/>
                      </a:moveTo>
                      <a:lnTo>
                        <a:pt x="327" y="19"/>
                      </a:lnTo>
                      <a:lnTo>
                        <a:pt x="323" y="58"/>
                      </a:lnTo>
                      <a:lnTo>
                        <a:pt x="382" y="63"/>
                      </a:lnTo>
                      <a:lnTo>
                        <a:pt x="382" y="22"/>
                      </a:lnTo>
                      <a:lnTo>
                        <a:pt x="401" y="17"/>
                      </a:lnTo>
                      <a:lnTo>
                        <a:pt x="469" y="75"/>
                      </a:lnTo>
                      <a:lnTo>
                        <a:pt x="474" y="106"/>
                      </a:lnTo>
                      <a:lnTo>
                        <a:pt x="449" y="130"/>
                      </a:lnTo>
                      <a:lnTo>
                        <a:pt x="469" y="134"/>
                      </a:lnTo>
                      <a:lnTo>
                        <a:pt x="469" y="154"/>
                      </a:lnTo>
                      <a:lnTo>
                        <a:pt x="347" y="266"/>
                      </a:lnTo>
                      <a:lnTo>
                        <a:pt x="260" y="286"/>
                      </a:lnTo>
                      <a:lnTo>
                        <a:pt x="184" y="306"/>
                      </a:lnTo>
                      <a:lnTo>
                        <a:pt x="173" y="340"/>
                      </a:lnTo>
                      <a:lnTo>
                        <a:pt x="56" y="331"/>
                      </a:lnTo>
                      <a:lnTo>
                        <a:pt x="47" y="331"/>
                      </a:lnTo>
                      <a:lnTo>
                        <a:pt x="28" y="329"/>
                      </a:lnTo>
                      <a:lnTo>
                        <a:pt x="18" y="329"/>
                      </a:lnTo>
                      <a:lnTo>
                        <a:pt x="10" y="328"/>
                      </a:lnTo>
                      <a:lnTo>
                        <a:pt x="3" y="325"/>
                      </a:lnTo>
                      <a:lnTo>
                        <a:pt x="2" y="324"/>
                      </a:lnTo>
                      <a:lnTo>
                        <a:pt x="0" y="323"/>
                      </a:lnTo>
                      <a:lnTo>
                        <a:pt x="2" y="310"/>
                      </a:lnTo>
                      <a:lnTo>
                        <a:pt x="4" y="290"/>
                      </a:lnTo>
                      <a:lnTo>
                        <a:pt x="7" y="263"/>
                      </a:lnTo>
                      <a:lnTo>
                        <a:pt x="39" y="261"/>
                      </a:lnTo>
                      <a:lnTo>
                        <a:pt x="12" y="212"/>
                      </a:lnTo>
                      <a:lnTo>
                        <a:pt x="12" y="162"/>
                      </a:lnTo>
                      <a:lnTo>
                        <a:pt x="97" y="151"/>
                      </a:lnTo>
                      <a:lnTo>
                        <a:pt x="123" y="162"/>
                      </a:lnTo>
                      <a:lnTo>
                        <a:pt x="164" y="162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7210080" y="2514240"/>
                  <a:ext cx="125640" cy="108000"/>
                </a:xfrm>
                <a:custGeom>
                  <a:avLst/>
                  <a:gdLst/>
                  <a:ahLst/>
                  <a:rect l="l" t="t" r="r" b="b"/>
                  <a:pathLst>
                    <a:path w="243" h="208">
                      <a:moveTo>
                        <a:pt x="1" y="207"/>
                      </a:moveTo>
                      <a:lnTo>
                        <a:pt x="6" y="206"/>
                      </a:lnTo>
                      <a:lnTo>
                        <a:pt x="11" y="202"/>
                      </a:lnTo>
                      <a:lnTo>
                        <a:pt x="19" y="195"/>
                      </a:lnTo>
                      <a:lnTo>
                        <a:pt x="27" y="187"/>
                      </a:lnTo>
                      <a:lnTo>
                        <a:pt x="34" y="179"/>
                      </a:lnTo>
                      <a:lnTo>
                        <a:pt x="39" y="170"/>
                      </a:lnTo>
                      <a:lnTo>
                        <a:pt x="46" y="162"/>
                      </a:lnTo>
                      <a:lnTo>
                        <a:pt x="50" y="158"/>
                      </a:lnTo>
                      <a:lnTo>
                        <a:pt x="54" y="156"/>
                      </a:lnTo>
                      <a:lnTo>
                        <a:pt x="59" y="152"/>
                      </a:lnTo>
                      <a:lnTo>
                        <a:pt x="63" y="149"/>
                      </a:lnTo>
                      <a:lnTo>
                        <a:pt x="75" y="142"/>
                      </a:lnTo>
                      <a:lnTo>
                        <a:pt x="88" y="132"/>
                      </a:lnTo>
                      <a:lnTo>
                        <a:pt x="102" y="120"/>
                      </a:lnTo>
                      <a:lnTo>
                        <a:pt x="108" y="117"/>
                      </a:lnTo>
                      <a:lnTo>
                        <a:pt x="121" y="110"/>
                      </a:lnTo>
                      <a:lnTo>
                        <a:pt x="134" y="99"/>
                      </a:lnTo>
                      <a:lnTo>
                        <a:pt x="141" y="94"/>
                      </a:lnTo>
                      <a:lnTo>
                        <a:pt x="146" y="88"/>
                      </a:lnTo>
                      <a:lnTo>
                        <a:pt x="164" y="65"/>
                      </a:lnTo>
                      <a:lnTo>
                        <a:pt x="172" y="54"/>
                      </a:lnTo>
                      <a:lnTo>
                        <a:pt x="178" y="45"/>
                      </a:lnTo>
                      <a:lnTo>
                        <a:pt x="188" y="24"/>
                      </a:lnTo>
                      <a:lnTo>
                        <a:pt x="192" y="19"/>
                      </a:lnTo>
                      <a:lnTo>
                        <a:pt x="196" y="13"/>
                      </a:lnTo>
                      <a:lnTo>
                        <a:pt x="200" y="9"/>
                      </a:lnTo>
                      <a:lnTo>
                        <a:pt x="204" y="7"/>
                      </a:lnTo>
                      <a:lnTo>
                        <a:pt x="209" y="5"/>
                      </a:lnTo>
                      <a:lnTo>
                        <a:pt x="214" y="3"/>
                      </a:lnTo>
                      <a:lnTo>
                        <a:pt x="228" y="1"/>
                      </a:lnTo>
                      <a:lnTo>
                        <a:pt x="242" y="0"/>
                      </a:lnTo>
                      <a:lnTo>
                        <a:pt x="243" y="11"/>
                      </a:lnTo>
                      <a:lnTo>
                        <a:pt x="214" y="11"/>
                      </a:lnTo>
                      <a:lnTo>
                        <a:pt x="207" y="16"/>
                      </a:lnTo>
                      <a:lnTo>
                        <a:pt x="201" y="21"/>
                      </a:lnTo>
                      <a:lnTo>
                        <a:pt x="197" y="25"/>
                      </a:lnTo>
                      <a:lnTo>
                        <a:pt x="192" y="34"/>
                      </a:lnTo>
                      <a:lnTo>
                        <a:pt x="189" y="40"/>
                      </a:lnTo>
                      <a:lnTo>
                        <a:pt x="182" y="61"/>
                      </a:lnTo>
                      <a:lnTo>
                        <a:pt x="163" y="90"/>
                      </a:lnTo>
                      <a:lnTo>
                        <a:pt x="156" y="96"/>
                      </a:lnTo>
                      <a:lnTo>
                        <a:pt x="150" y="102"/>
                      </a:lnTo>
                      <a:lnTo>
                        <a:pt x="142" y="108"/>
                      </a:lnTo>
                      <a:lnTo>
                        <a:pt x="137" y="115"/>
                      </a:lnTo>
                      <a:lnTo>
                        <a:pt x="133" y="120"/>
                      </a:lnTo>
                      <a:lnTo>
                        <a:pt x="129" y="124"/>
                      </a:lnTo>
                      <a:lnTo>
                        <a:pt x="126" y="127"/>
                      </a:lnTo>
                      <a:lnTo>
                        <a:pt x="123" y="128"/>
                      </a:lnTo>
                      <a:lnTo>
                        <a:pt x="110" y="133"/>
                      </a:lnTo>
                      <a:lnTo>
                        <a:pt x="102" y="135"/>
                      </a:lnTo>
                      <a:lnTo>
                        <a:pt x="98" y="139"/>
                      </a:lnTo>
                      <a:lnTo>
                        <a:pt x="93" y="141"/>
                      </a:lnTo>
                      <a:lnTo>
                        <a:pt x="89" y="142"/>
                      </a:lnTo>
                      <a:lnTo>
                        <a:pt x="80" y="146"/>
                      </a:lnTo>
                      <a:lnTo>
                        <a:pt x="72" y="149"/>
                      </a:lnTo>
                      <a:lnTo>
                        <a:pt x="58" y="152"/>
                      </a:lnTo>
                      <a:lnTo>
                        <a:pt x="47" y="161"/>
                      </a:lnTo>
                      <a:lnTo>
                        <a:pt x="25" y="182"/>
                      </a:lnTo>
                      <a:lnTo>
                        <a:pt x="3" y="201"/>
                      </a:lnTo>
                      <a:lnTo>
                        <a:pt x="0" y="207"/>
                      </a:lnTo>
                      <a:lnTo>
                        <a:pt x="0" y="208"/>
                      </a:lnTo>
                      <a:lnTo>
                        <a:pt x="1" y="20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680160" y="2552400"/>
                  <a:ext cx="133200" cy="106560"/>
                </a:xfrm>
                <a:custGeom>
                  <a:avLst/>
                  <a:gdLst/>
                  <a:ahLst/>
                  <a:rect l="l" t="t" r="r" b="b"/>
                  <a:pathLst>
                    <a:path w="258" h="205">
                      <a:moveTo>
                        <a:pt x="70" y="205"/>
                      </a:moveTo>
                      <a:lnTo>
                        <a:pt x="258" y="164"/>
                      </a:lnTo>
                      <a:lnTo>
                        <a:pt x="251" y="146"/>
                      </a:lnTo>
                      <a:lnTo>
                        <a:pt x="244" y="131"/>
                      </a:lnTo>
                      <a:lnTo>
                        <a:pt x="241" y="124"/>
                      </a:lnTo>
                      <a:lnTo>
                        <a:pt x="237" y="118"/>
                      </a:lnTo>
                      <a:lnTo>
                        <a:pt x="233" y="114"/>
                      </a:lnTo>
                      <a:lnTo>
                        <a:pt x="231" y="112"/>
                      </a:lnTo>
                      <a:lnTo>
                        <a:pt x="229" y="110"/>
                      </a:lnTo>
                      <a:lnTo>
                        <a:pt x="225" y="109"/>
                      </a:lnTo>
                      <a:lnTo>
                        <a:pt x="221" y="108"/>
                      </a:lnTo>
                      <a:lnTo>
                        <a:pt x="218" y="108"/>
                      </a:lnTo>
                      <a:lnTo>
                        <a:pt x="215" y="108"/>
                      </a:lnTo>
                      <a:lnTo>
                        <a:pt x="213" y="108"/>
                      </a:lnTo>
                      <a:lnTo>
                        <a:pt x="210" y="109"/>
                      </a:lnTo>
                      <a:lnTo>
                        <a:pt x="204" y="112"/>
                      </a:lnTo>
                      <a:lnTo>
                        <a:pt x="201" y="112"/>
                      </a:lnTo>
                      <a:lnTo>
                        <a:pt x="197" y="112"/>
                      </a:lnTo>
                      <a:lnTo>
                        <a:pt x="194" y="109"/>
                      </a:lnTo>
                      <a:lnTo>
                        <a:pt x="194" y="108"/>
                      </a:lnTo>
                      <a:lnTo>
                        <a:pt x="193" y="106"/>
                      </a:lnTo>
                      <a:lnTo>
                        <a:pt x="193" y="102"/>
                      </a:lnTo>
                      <a:lnTo>
                        <a:pt x="193" y="100"/>
                      </a:lnTo>
                      <a:lnTo>
                        <a:pt x="196" y="96"/>
                      </a:lnTo>
                      <a:lnTo>
                        <a:pt x="196" y="95"/>
                      </a:lnTo>
                      <a:lnTo>
                        <a:pt x="196" y="93"/>
                      </a:lnTo>
                      <a:lnTo>
                        <a:pt x="189" y="87"/>
                      </a:lnTo>
                      <a:lnTo>
                        <a:pt x="180" y="81"/>
                      </a:lnTo>
                      <a:lnTo>
                        <a:pt x="173" y="79"/>
                      </a:lnTo>
                      <a:lnTo>
                        <a:pt x="172" y="77"/>
                      </a:lnTo>
                      <a:lnTo>
                        <a:pt x="169" y="76"/>
                      </a:lnTo>
                      <a:lnTo>
                        <a:pt x="169" y="75"/>
                      </a:lnTo>
                      <a:lnTo>
                        <a:pt x="168" y="71"/>
                      </a:lnTo>
                      <a:lnTo>
                        <a:pt x="169" y="67"/>
                      </a:lnTo>
                      <a:lnTo>
                        <a:pt x="169" y="66"/>
                      </a:lnTo>
                      <a:lnTo>
                        <a:pt x="172" y="63"/>
                      </a:lnTo>
                      <a:lnTo>
                        <a:pt x="172" y="60"/>
                      </a:lnTo>
                      <a:lnTo>
                        <a:pt x="172" y="59"/>
                      </a:lnTo>
                      <a:lnTo>
                        <a:pt x="171" y="56"/>
                      </a:lnTo>
                      <a:lnTo>
                        <a:pt x="168" y="52"/>
                      </a:lnTo>
                      <a:lnTo>
                        <a:pt x="165" y="47"/>
                      </a:lnTo>
                      <a:lnTo>
                        <a:pt x="163" y="43"/>
                      </a:lnTo>
                      <a:lnTo>
                        <a:pt x="157" y="39"/>
                      </a:lnTo>
                      <a:lnTo>
                        <a:pt x="155" y="37"/>
                      </a:lnTo>
                      <a:lnTo>
                        <a:pt x="152" y="34"/>
                      </a:lnTo>
                      <a:lnTo>
                        <a:pt x="151" y="31"/>
                      </a:lnTo>
                      <a:lnTo>
                        <a:pt x="151" y="29"/>
                      </a:lnTo>
                      <a:lnTo>
                        <a:pt x="150" y="22"/>
                      </a:lnTo>
                      <a:lnTo>
                        <a:pt x="148" y="18"/>
                      </a:lnTo>
                      <a:lnTo>
                        <a:pt x="148" y="14"/>
                      </a:lnTo>
                      <a:lnTo>
                        <a:pt x="146" y="11"/>
                      </a:lnTo>
                      <a:lnTo>
                        <a:pt x="144" y="10"/>
                      </a:lnTo>
                      <a:lnTo>
                        <a:pt x="142" y="7"/>
                      </a:lnTo>
                      <a:lnTo>
                        <a:pt x="139" y="7"/>
                      </a:lnTo>
                      <a:lnTo>
                        <a:pt x="134" y="5"/>
                      </a:lnTo>
                      <a:lnTo>
                        <a:pt x="131" y="4"/>
                      </a:lnTo>
                      <a:lnTo>
                        <a:pt x="128" y="4"/>
                      </a:lnTo>
                      <a:lnTo>
                        <a:pt x="124" y="2"/>
                      </a:lnTo>
                      <a:lnTo>
                        <a:pt x="111" y="2"/>
                      </a:lnTo>
                      <a:lnTo>
                        <a:pt x="81" y="5"/>
                      </a:lnTo>
                      <a:lnTo>
                        <a:pt x="69" y="5"/>
                      </a:lnTo>
                      <a:lnTo>
                        <a:pt x="64" y="5"/>
                      </a:lnTo>
                      <a:lnTo>
                        <a:pt x="60" y="4"/>
                      </a:lnTo>
                      <a:lnTo>
                        <a:pt x="47" y="1"/>
                      </a:lnTo>
                      <a:lnTo>
                        <a:pt x="40" y="0"/>
                      </a:lnTo>
                      <a:lnTo>
                        <a:pt x="0" y="27"/>
                      </a:lnTo>
                      <a:lnTo>
                        <a:pt x="12" y="42"/>
                      </a:lnTo>
                      <a:lnTo>
                        <a:pt x="23" y="54"/>
                      </a:lnTo>
                      <a:lnTo>
                        <a:pt x="27" y="60"/>
                      </a:lnTo>
                      <a:lnTo>
                        <a:pt x="30" y="66"/>
                      </a:lnTo>
                      <a:lnTo>
                        <a:pt x="35" y="81"/>
                      </a:lnTo>
                      <a:lnTo>
                        <a:pt x="39" y="97"/>
                      </a:lnTo>
                      <a:lnTo>
                        <a:pt x="41" y="105"/>
                      </a:lnTo>
                      <a:lnTo>
                        <a:pt x="43" y="118"/>
                      </a:lnTo>
                      <a:lnTo>
                        <a:pt x="45" y="129"/>
                      </a:lnTo>
                      <a:lnTo>
                        <a:pt x="48" y="135"/>
                      </a:lnTo>
                      <a:lnTo>
                        <a:pt x="49" y="142"/>
                      </a:lnTo>
                      <a:lnTo>
                        <a:pt x="49" y="150"/>
                      </a:lnTo>
                      <a:lnTo>
                        <a:pt x="49" y="160"/>
                      </a:lnTo>
                      <a:lnTo>
                        <a:pt x="51" y="164"/>
                      </a:lnTo>
                      <a:lnTo>
                        <a:pt x="52" y="171"/>
                      </a:lnTo>
                      <a:lnTo>
                        <a:pt x="57" y="182"/>
                      </a:lnTo>
                      <a:lnTo>
                        <a:pt x="62" y="192"/>
                      </a:lnTo>
                      <a:lnTo>
                        <a:pt x="70" y="20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7094520" y="2796840"/>
                  <a:ext cx="1368360" cy="1797120"/>
                </a:xfrm>
                <a:custGeom>
                  <a:avLst/>
                  <a:gdLst/>
                  <a:ahLst/>
                  <a:rect l="l" t="t" r="r" b="b"/>
                  <a:pathLst>
                    <a:path w="2655" h="3486">
                      <a:moveTo>
                        <a:pt x="1208" y="532"/>
                      </a:moveTo>
                      <a:lnTo>
                        <a:pt x="1198" y="501"/>
                      </a:lnTo>
                      <a:lnTo>
                        <a:pt x="1153" y="484"/>
                      </a:lnTo>
                      <a:lnTo>
                        <a:pt x="1111" y="480"/>
                      </a:lnTo>
                      <a:lnTo>
                        <a:pt x="1084" y="474"/>
                      </a:lnTo>
                      <a:lnTo>
                        <a:pt x="1082" y="474"/>
                      </a:lnTo>
                      <a:lnTo>
                        <a:pt x="1072" y="472"/>
                      </a:lnTo>
                      <a:lnTo>
                        <a:pt x="1067" y="470"/>
                      </a:lnTo>
                      <a:lnTo>
                        <a:pt x="1061" y="468"/>
                      </a:lnTo>
                      <a:lnTo>
                        <a:pt x="1058" y="465"/>
                      </a:lnTo>
                      <a:lnTo>
                        <a:pt x="1055" y="464"/>
                      </a:lnTo>
                      <a:lnTo>
                        <a:pt x="1051" y="459"/>
                      </a:lnTo>
                      <a:lnTo>
                        <a:pt x="1043" y="447"/>
                      </a:lnTo>
                      <a:lnTo>
                        <a:pt x="1037" y="437"/>
                      </a:lnTo>
                      <a:lnTo>
                        <a:pt x="1033" y="428"/>
                      </a:lnTo>
                      <a:lnTo>
                        <a:pt x="1030" y="423"/>
                      </a:lnTo>
                      <a:lnTo>
                        <a:pt x="1029" y="418"/>
                      </a:lnTo>
                      <a:lnTo>
                        <a:pt x="1026" y="407"/>
                      </a:lnTo>
                      <a:lnTo>
                        <a:pt x="1024" y="398"/>
                      </a:lnTo>
                      <a:lnTo>
                        <a:pt x="1021" y="389"/>
                      </a:lnTo>
                      <a:lnTo>
                        <a:pt x="1018" y="378"/>
                      </a:lnTo>
                      <a:lnTo>
                        <a:pt x="1018" y="373"/>
                      </a:lnTo>
                      <a:lnTo>
                        <a:pt x="1018" y="368"/>
                      </a:lnTo>
                      <a:lnTo>
                        <a:pt x="1020" y="358"/>
                      </a:lnTo>
                      <a:lnTo>
                        <a:pt x="1020" y="354"/>
                      </a:lnTo>
                      <a:lnTo>
                        <a:pt x="1020" y="353"/>
                      </a:lnTo>
                      <a:lnTo>
                        <a:pt x="1018" y="352"/>
                      </a:lnTo>
                      <a:lnTo>
                        <a:pt x="1014" y="350"/>
                      </a:lnTo>
                      <a:lnTo>
                        <a:pt x="1008" y="350"/>
                      </a:lnTo>
                      <a:lnTo>
                        <a:pt x="978" y="349"/>
                      </a:lnTo>
                      <a:lnTo>
                        <a:pt x="954" y="365"/>
                      </a:lnTo>
                      <a:lnTo>
                        <a:pt x="925" y="353"/>
                      </a:lnTo>
                      <a:lnTo>
                        <a:pt x="887" y="348"/>
                      </a:lnTo>
                      <a:lnTo>
                        <a:pt x="879" y="387"/>
                      </a:lnTo>
                      <a:lnTo>
                        <a:pt x="855" y="419"/>
                      </a:lnTo>
                      <a:lnTo>
                        <a:pt x="836" y="406"/>
                      </a:lnTo>
                      <a:lnTo>
                        <a:pt x="810" y="374"/>
                      </a:lnTo>
                      <a:lnTo>
                        <a:pt x="773" y="373"/>
                      </a:lnTo>
                      <a:lnTo>
                        <a:pt x="749" y="385"/>
                      </a:lnTo>
                      <a:lnTo>
                        <a:pt x="741" y="412"/>
                      </a:lnTo>
                      <a:lnTo>
                        <a:pt x="738" y="432"/>
                      </a:lnTo>
                      <a:lnTo>
                        <a:pt x="730" y="441"/>
                      </a:lnTo>
                      <a:lnTo>
                        <a:pt x="726" y="445"/>
                      </a:lnTo>
                      <a:lnTo>
                        <a:pt x="722" y="449"/>
                      </a:lnTo>
                      <a:lnTo>
                        <a:pt x="716" y="452"/>
                      </a:lnTo>
                      <a:lnTo>
                        <a:pt x="711" y="456"/>
                      </a:lnTo>
                      <a:lnTo>
                        <a:pt x="706" y="459"/>
                      </a:lnTo>
                      <a:lnTo>
                        <a:pt x="702" y="464"/>
                      </a:lnTo>
                      <a:lnTo>
                        <a:pt x="699" y="468"/>
                      </a:lnTo>
                      <a:lnTo>
                        <a:pt x="698" y="473"/>
                      </a:lnTo>
                      <a:lnTo>
                        <a:pt x="697" y="477"/>
                      </a:lnTo>
                      <a:lnTo>
                        <a:pt x="695" y="480"/>
                      </a:lnTo>
                      <a:lnTo>
                        <a:pt x="695" y="484"/>
                      </a:lnTo>
                      <a:lnTo>
                        <a:pt x="657" y="498"/>
                      </a:lnTo>
                      <a:lnTo>
                        <a:pt x="635" y="482"/>
                      </a:lnTo>
                      <a:lnTo>
                        <a:pt x="608" y="470"/>
                      </a:lnTo>
                      <a:lnTo>
                        <a:pt x="590" y="426"/>
                      </a:lnTo>
                      <a:lnTo>
                        <a:pt x="567" y="410"/>
                      </a:lnTo>
                      <a:lnTo>
                        <a:pt x="515" y="405"/>
                      </a:lnTo>
                      <a:lnTo>
                        <a:pt x="492" y="432"/>
                      </a:lnTo>
                      <a:lnTo>
                        <a:pt x="454" y="466"/>
                      </a:lnTo>
                      <a:lnTo>
                        <a:pt x="446" y="466"/>
                      </a:lnTo>
                      <a:lnTo>
                        <a:pt x="438" y="466"/>
                      </a:lnTo>
                      <a:lnTo>
                        <a:pt x="429" y="468"/>
                      </a:lnTo>
                      <a:lnTo>
                        <a:pt x="421" y="470"/>
                      </a:lnTo>
                      <a:lnTo>
                        <a:pt x="417" y="472"/>
                      </a:lnTo>
                      <a:lnTo>
                        <a:pt x="413" y="474"/>
                      </a:lnTo>
                      <a:lnTo>
                        <a:pt x="410" y="477"/>
                      </a:lnTo>
                      <a:lnTo>
                        <a:pt x="409" y="481"/>
                      </a:lnTo>
                      <a:lnTo>
                        <a:pt x="408" y="484"/>
                      </a:lnTo>
                      <a:lnTo>
                        <a:pt x="408" y="485"/>
                      </a:lnTo>
                      <a:lnTo>
                        <a:pt x="408" y="490"/>
                      </a:lnTo>
                      <a:lnTo>
                        <a:pt x="409" y="499"/>
                      </a:lnTo>
                      <a:lnTo>
                        <a:pt x="409" y="506"/>
                      </a:lnTo>
                      <a:lnTo>
                        <a:pt x="409" y="514"/>
                      </a:lnTo>
                      <a:lnTo>
                        <a:pt x="408" y="518"/>
                      </a:lnTo>
                      <a:lnTo>
                        <a:pt x="410" y="538"/>
                      </a:lnTo>
                      <a:lnTo>
                        <a:pt x="388" y="573"/>
                      </a:lnTo>
                      <a:lnTo>
                        <a:pt x="338" y="568"/>
                      </a:lnTo>
                      <a:lnTo>
                        <a:pt x="305" y="568"/>
                      </a:lnTo>
                      <a:lnTo>
                        <a:pt x="289" y="588"/>
                      </a:lnTo>
                      <a:lnTo>
                        <a:pt x="289" y="608"/>
                      </a:lnTo>
                      <a:lnTo>
                        <a:pt x="300" y="635"/>
                      </a:lnTo>
                      <a:lnTo>
                        <a:pt x="306" y="667"/>
                      </a:lnTo>
                      <a:lnTo>
                        <a:pt x="268" y="695"/>
                      </a:lnTo>
                      <a:lnTo>
                        <a:pt x="242" y="721"/>
                      </a:lnTo>
                      <a:lnTo>
                        <a:pt x="256" y="758"/>
                      </a:lnTo>
                      <a:lnTo>
                        <a:pt x="285" y="813"/>
                      </a:lnTo>
                      <a:lnTo>
                        <a:pt x="269" y="829"/>
                      </a:lnTo>
                      <a:lnTo>
                        <a:pt x="269" y="892"/>
                      </a:lnTo>
                      <a:lnTo>
                        <a:pt x="294" y="914"/>
                      </a:lnTo>
                      <a:lnTo>
                        <a:pt x="325" y="925"/>
                      </a:lnTo>
                      <a:lnTo>
                        <a:pt x="337" y="894"/>
                      </a:lnTo>
                      <a:lnTo>
                        <a:pt x="360" y="858"/>
                      </a:lnTo>
                      <a:lnTo>
                        <a:pt x="405" y="875"/>
                      </a:lnTo>
                      <a:lnTo>
                        <a:pt x="393" y="911"/>
                      </a:lnTo>
                      <a:lnTo>
                        <a:pt x="434" y="932"/>
                      </a:lnTo>
                      <a:lnTo>
                        <a:pt x="487" y="952"/>
                      </a:lnTo>
                      <a:lnTo>
                        <a:pt x="491" y="969"/>
                      </a:lnTo>
                      <a:lnTo>
                        <a:pt x="400" y="974"/>
                      </a:lnTo>
                      <a:lnTo>
                        <a:pt x="362" y="986"/>
                      </a:lnTo>
                      <a:lnTo>
                        <a:pt x="309" y="973"/>
                      </a:lnTo>
                      <a:lnTo>
                        <a:pt x="298" y="937"/>
                      </a:lnTo>
                      <a:lnTo>
                        <a:pt x="260" y="936"/>
                      </a:lnTo>
                      <a:lnTo>
                        <a:pt x="260" y="964"/>
                      </a:lnTo>
                      <a:lnTo>
                        <a:pt x="240" y="987"/>
                      </a:lnTo>
                      <a:lnTo>
                        <a:pt x="203" y="983"/>
                      </a:lnTo>
                      <a:lnTo>
                        <a:pt x="207" y="923"/>
                      </a:lnTo>
                      <a:lnTo>
                        <a:pt x="174" y="927"/>
                      </a:lnTo>
                      <a:lnTo>
                        <a:pt x="157" y="1010"/>
                      </a:lnTo>
                      <a:lnTo>
                        <a:pt x="160" y="1109"/>
                      </a:lnTo>
                      <a:lnTo>
                        <a:pt x="231" y="1122"/>
                      </a:lnTo>
                      <a:lnTo>
                        <a:pt x="261" y="1123"/>
                      </a:lnTo>
                      <a:lnTo>
                        <a:pt x="284" y="1103"/>
                      </a:lnTo>
                      <a:lnTo>
                        <a:pt x="285" y="1068"/>
                      </a:lnTo>
                      <a:lnTo>
                        <a:pt x="304" y="1060"/>
                      </a:lnTo>
                      <a:lnTo>
                        <a:pt x="310" y="1140"/>
                      </a:lnTo>
                      <a:lnTo>
                        <a:pt x="333" y="1172"/>
                      </a:lnTo>
                      <a:lnTo>
                        <a:pt x="317" y="1188"/>
                      </a:lnTo>
                      <a:lnTo>
                        <a:pt x="280" y="1175"/>
                      </a:lnTo>
                      <a:lnTo>
                        <a:pt x="264" y="1159"/>
                      </a:lnTo>
                      <a:lnTo>
                        <a:pt x="242" y="1155"/>
                      </a:lnTo>
                      <a:lnTo>
                        <a:pt x="205" y="1150"/>
                      </a:lnTo>
                      <a:lnTo>
                        <a:pt x="173" y="1233"/>
                      </a:lnTo>
                      <a:lnTo>
                        <a:pt x="214" y="1262"/>
                      </a:lnTo>
                      <a:lnTo>
                        <a:pt x="236" y="1285"/>
                      </a:lnTo>
                      <a:lnTo>
                        <a:pt x="223" y="1337"/>
                      </a:lnTo>
                      <a:lnTo>
                        <a:pt x="223" y="1372"/>
                      </a:lnTo>
                      <a:lnTo>
                        <a:pt x="250" y="1382"/>
                      </a:lnTo>
                      <a:lnTo>
                        <a:pt x="203" y="1388"/>
                      </a:lnTo>
                      <a:lnTo>
                        <a:pt x="170" y="1367"/>
                      </a:lnTo>
                      <a:lnTo>
                        <a:pt x="178" y="1332"/>
                      </a:lnTo>
                      <a:lnTo>
                        <a:pt x="126" y="1312"/>
                      </a:lnTo>
                      <a:lnTo>
                        <a:pt x="118" y="1351"/>
                      </a:lnTo>
                      <a:lnTo>
                        <a:pt x="116" y="1387"/>
                      </a:lnTo>
                      <a:lnTo>
                        <a:pt x="124" y="1423"/>
                      </a:lnTo>
                      <a:lnTo>
                        <a:pt x="147" y="1411"/>
                      </a:lnTo>
                      <a:lnTo>
                        <a:pt x="181" y="1404"/>
                      </a:lnTo>
                      <a:lnTo>
                        <a:pt x="176" y="1460"/>
                      </a:lnTo>
                      <a:lnTo>
                        <a:pt x="232" y="1477"/>
                      </a:lnTo>
                      <a:lnTo>
                        <a:pt x="236" y="1508"/>
                      </a:lnTo>
                      <a:lnTo>
                        <a:pt x="277" y="1524"/>
                      </a:lnTo>
                      <a:lnTo>
                        <a:pt x="322" y="1549"/>
                      </a:lnTo>
                      <a:lnTo>
                        <a:pt x="370" y="1685"/>
                      </a:lnTo>
                      <a:lnTo>
                        <a:pt x="391" y="1718"/>
                      </a:lnTo>
                      <a:lnTo>
                        <a:pt x="346" y="1744"/>
                      </a:lnTo>
                      <a:lnTo>
                        <a:pt x="356" y="1792"/>
                      </a:lnTo>
                      <a:lnTo>
                        <a:pt x="371" y="1825"/>
                      </a:lnTo>
                      <a:lnTo>
                        <a:pt x="329" y="1835"/>
                      </a:lnTo>
                      <a:lnTo>
                        <a:pt x="325" y="1863"/>
                      </a:lnTo>
                      <a:lnTo>
                        <a:pt x="301" y="1891"/>
                      </a:lnTo>
                      <a:lnTo>
                        <a:pt x="210" y="1925"/>
                      </a:lnTo>
                      <a:lnTo>
                        <a:pt x="188" y="1937"/>
                      </a:lnTo>
                      <a:lnTo>
                        <a:pt x="198" y="1992"/>
                      </a:lnTo>
                      <a:lnTo>
                        <a:pt x="160" y="1999"/>
                      </a:lnTo>
                      <a:lnTo>
                        <a:pt x="118" y="2007"/>
                      </a:lnTo>
                      <a:lnTo>
                        <a:pt x="110" y="2042"/>
                      </a:lnTo>
                      <a:lnTo>
                        <a:pt x="112" y="2090"/>
                      </a:lnTo>
                      <a:lnTo>
                        <a:pt x="86" y="2114"/>
                      </a:lnTo>
                      <a:lnTo>
                        <a:pt x="40" y="2128"/>
                      </a:lnTo>
                      <a:lnTo>
                        <a:pt x="46" y="2183"/>
                      </a:lnTo>
                      <a:lnTo>
                        <a:pt x="101" y="2173"/>
                      </a:lnTo>
                      <a:lnTo>
                        <a:pt x="110" y="2242"/>
                      </a:lnTo>
                      <a:lnTo>
                        <a:pt x="148" y="2285"/>
                      </a:lnTo>
                      <a:lnTo>
                        <a:pt x="120" y="2317"/>
                      </a:lnTo>
                      <a:lnTo>
                        <a:pt x="78" y="2339"/>
                      </a:lnTo>
                      <a:lnTo>
                        <a:pt x="112" y="2376"/>
                      </a:lnTo>
                      <a:lnTo>
                        <a:pt x="155" y="2336"/>
                      </a:lnTo>
                      <a:lnTo>
                        <a:pt x="201" y="2286"/>
                      </a:lnTo>
                      <a:lnTo>
                        <a:pt x="235" y="2259"/>
                      </a:lnTo>
                      <a:lnTo>
                        <a:pt x="260" y="2307"/>
                      </a:lnTo>
                      <a:lnTo>
                        <a:pt x="199" y="2342"/>
                      </a:lnTo>
                      <a:lnTo>
                        <a:pt x="173" y="2373"/>
                      </a:lnTo>
                      <a:lnTo>
                        <a:pt x="168" y="2405"/>
                      </a:lnTo>
                      <a:lnTo>
                        <a:pt x="89" y="2439"/>
                      </a:lnTo>
                      <a:lnTo>
                        <a:pt x="0" y="2509"/>
                      </a:lnTo>
                      <a:lnTo>
                        <a:pt x="60" y="2582"/>
                      </a:lnTo>
                      <a:lnTo>
                        <a:pt x="132" y="2540"/>
                      </a:lnTo>
                      <a:lnTo>
                        <a:pt x="155" y="2516"/>
                      </a:lnTo>
                      <a:lnTo>
                        <a:pt x="189" y="2541"/>
                      </a:lnTo>
                      <a:lnTo>
                        <a:pt x="265" y="2462"/>
                      </a:lnTo>
                      <a:lnTo>
                        <a:pt x="310" y="2487"/>
                      </a:lnTo>
                      <a:lnTo>
                        <a:pt x="352" y="2449"/>
                      </a:lnTo>
                      <a:lnTo>
                        <a:pt x="397" y="2472"/>
                      </a:lnTo>
                      <a:lnTo>
                        <a:pt x="447" y="2406"/>
                      </a:lnTo>
                      <a:lnTo>
                        <a:pt x="407" y="2362"/>
                      </a:lnTo>
                      <a:lnTo>
                        <a:pt x="385" y="2334"/>
                      </a:lnTo>
                      <a:lnTo>
                        <a:pt x="420" y="2282"/>
                      </a:lnTo>
                      <a:lnTo>
                        <a:pt x="458" y="2290"/>
                      </a:lnTo>
                      <a:lnTo>
                        <a:pt x="504" y="2248"/>
                      </a:lnTo>
                      <a:lnTo>
                        <a:pt x="533" y="2268"/>
                      </a:lnTo>
                      <a:lnTo>
                        <a:pt x="495" y="2327"/>
                      </a:lnTo>
                      <a:lnTo>
                        <a:pt x="524" y="2364"/>
                      </a:lnTo>
                      <a:lnTo>
                        <a:pt x="490" y="2402"/>
                      </a:lnTo>
                      <a:lnTo>
                        <a:pt x="508" y="2420"/>
                      </a:lnTo>
                      <a:lnTo>
                        <a:pt x="619" y="2284"/>
                      </a:lnTo>
                      <a:lnTo>
                        <a:pt x="712" y="2352"/>
                      </a:lnTo>
                      <a:lnTo>
                        <a:pt x="702" y="2402"/>
                      </a:lnTo>
                      <a:lnTo>
                        <a:pt x="693" y="2450"/>
                      </a:lnTo>
                      <a:lnTo>
                        <a:pt x="673" y="2513"/>
                      </a:lnTo>
                      <a:lnTo>
                        <a:pt x="718" y="2530"/>
                      </a:lnTo>
                      <a:lnTo>
                        <a:pt x="698" y="2598"/>
                      </a:lnTo>
                      <a:lnTo>
                        <a:pt x="728" y="2605"/>
                      </a:lnTo>
                      <a:lnTo>
                        <a:pt x="697" y="2704"/>
                      </a:lnTo>
                      <a:lnTo>
                        <a:pt x="734" y="2714"/>
                      </a:lnTo>
                      <a:lnTo>
                        <a:pt x="744" y="2777"/>
                      </a:lnTo>
                      <a:lnTo>
                        <a:pt x="747" y="2836"/>
                      </a:lnTo>
                      <a:lnTo>
                        <a:pt x="740" y="2988"/>
                      </a:lnTo>
                      <a:lnTo>
                        <a:pt x="732" y="3083"/>
                      </a:lnTo>
                      <a:lnTo>
                        <a:pt x="741" y="3182"/>
                      </a:lnTo>
                      <a:lnTo>
                        <a:pt x="759" y="3298"/>
                      </a:lnTo>
                      <a:lnTo>
                        <a:pt x="796" y="3315"/>
                      </a:lnTo>
                      <a:lnTo>
                        <a:pt x="802" y="3355"/>
                      </a:lnTo>
                      <a:lnTo>
                        <a:pt x="840" y="3370"/>
                      </a:lnTo>
                      <a:lnTo>
                        <a:pt x="860" y="3315"/>
                      </a:lnTo>
                      <a:lnTo>
                        <a:pt x="923" y="3360"/>
                      </a:lnTo>
                      <a:lnTo>
                        <a:pt x="980" y="3377"/>
                      </a:lnTo>
                      <a:lnTo>
                        <a:pt x="996" y="3349"/>
                      </a:lnTo>
                      <a:lnTo>
                        <a:pt x="989" y="3282"/>
                      </a:lnTo>
                      <a:lnTo>
                        <a:pt x="1034" y="3283"/>
                      </a:lnTo>
                      <a:lnTo>
                        <a:pt x="1021" y="3207"/>
                      </a:lnTo>
                      <a:lnTo>
                        <a:pt x="1059" y="3196"/>
                      </a:lnTo>
                      <a:lnTo>
                        <a:pt x="1057" y="3121"/>
                      </a:lnTo>
                      <a:lnTo>
                        <a:pt x="1011" y="3108"/>
                      </a:lnTo>
                      <a:lnTo>
                        <a:pt x="1038" y="3029"/>
                      </a:lnTo>
                      <a:lnTo>
                        <a:pt x="1091" y="3038"/>
                      </a:lnTo>
                      <a:lnTo>
                        <a:pt x="1124" y="2931"/>
                      </a:lnTo>
                      <a:lnTo>
                        <a:pt x="1098" y="2910"/>
                      </a:lnTo>
                      <a:lnTo>
                        <a:pt x="1107" y="2839"/>
                      </a:lnTo>
                      <a:lnTo>
                        <a:pt x="1460" y="2909"/>
                      </a:lnTo>
                      <a:lnTo>
                        <a:pt x="1481" y="2766"/>
                      </a:lnTo>
                      <a:lnTo>
                        <a:pt x="1248" y="2707"/>
                      </a:lnTo>
                      <a:lnTo>
                        <a:pt x="1274" y="2541"/>
                      </a:lnTo>
                      <a:lnTo>
                        <a:pt x="1469" y="2583"/>
                      </a:lnTo>
                      <a:lnTo>
                        <a:pt x="1587" y="2562"/>
                      </a:lnTo>
                      <a:lnTo>
                        <a:pt x="1616" y="2627"/>
                      </a:lnTo>
                      <a:lnTo>
                        <a:pt x="1625" y="2781"/>
                      </a:lnTo>
                      <a:lnTo>
                        <a:pt x="1477" y="2814"/>
                      </a:lnTo>
                      <a:lnTo>
                        <a:pt x="1469" y="2849"/>
                      </a:lnTo>
                      <a:lnTo>
                        <a:pt x="1468" y="2852"/>
                      </a:lnTo>
                      <a:lnTo>
                        <a:pt x="1467" y="2855"/>
                      </a:lnTo>
                      <a:lnTo>
                        <a:pt x="1464" y="2859"/>
                      </a:lnTo>
                      <a:lnTo>
                        <a:pt x="1463" y="2865"/>
                      </a:lnTo>
                      <a:lnTo>
                        <a:pt x="1460" y="2873"/>
                      </a:lnTo>
                      <a:lnTo>
                        <a:pt x="1459" y="2884"/>
                      </a:lnTo>
                      <a:lnTo>
                        <a:pt x="1456" y="2897"/>
                      </a:lnTo>
                      <a:lnTo>
                        <a:pt x="1455" y="2913"/>
                      </a:lnTo>
                      <a:lnTo>
                        <a:pt x="1456" y="2897"/>
                      </a:lnTo>
                      <a:lnTo>
                        <a:pt x="1459" y="2969"/>
                      </a:lnTo>
                      <a:lnTo>
                        <a:pt x="1588" y="2975"/>
                      </a:lnTo>
                      <a:lnTo>
                        <a:pt x="1663" y="2952"/>
                      </a:lnTo>
                      <a:lnTo>
                        <a:pt x="1686" y="2993"/>
                      </a:lnTo>
                      <a:lnTo>
                        <a:pt x="1712" y="2991"/>
                      </a:lnTo>
                      <a:lnTo>
                        <a:pt x="1766" y="2987"/>
                      </a:lnTo>
                      <a:lnTo>
                        <a:pt x="1782" y="2959"/>
                      </a:lnTo>
                      <a:lnTo>
                        <a:pt x="1753" y="2803"/>
                      </a:lnTo>
                      <a:lnTo>
                        <a:pt x="1833" y="2777"/>
                      </a:lnTo>
                      <a:lnTo>
                        <a:pt x="1852" y="2826"/>
                      </a:lnTo>
                      <a:lnTo>
                        <a:pt x="1877" y="2881"/>
                      </a:lnTo>
                      <a:lnTo>
                        <a:pt x="1907" y="2849"/>
                      </a:lnTo>
                      <a:lnTo>
                        <a:pt x="1961" y="2835"/>
                      </a:lnTo>
                      <a:lnTo>
                        <a:pt x="2005" y="2919"/>
                      </a:lnTo>
                      <a:lnTo>
                        <a:pt x="1868" y="2964"/>
                      </a:lnTo>
                      <a:lnTo>
                        <a:pt x="1878" y="3053"/>
                      </a:lnTo>
                      <a:lnTo>
                        <a:pt x="1715" y="3082"/>
                      </a:lnTo>
                      <a:lnTo>
                        <a:pt x="1732" y="3184"/>
                      </a:lnTo>
                      <a:lnTo>
                        <a:pt x="1576" y="3194"/>
                      </a:lnTo>
                      <a:lnTo>
                        <a:pt x="1543" y="3149"/>
                      </a:lnTo>
                      <a:lnTo>
                        <a:pt x="1530" y="3236"/>
                      </a:lnTo>
                      <a:lnTo>
                        <a:pt x="1591" y="3265"/>
                      </a:lnTo>
                      <a:lnTo>
                        <a:pt x="1670" y="3268"/>
                      </a:lnTo>
                      <a:lnTo>
                        <a:pt x="1731" y="3268"/>
                      </a:lnTo>
                      <a:lnTo>
                        <a:pt x="1773" y="3249"/>
                      </a:lnTo>
                      <a:lnTo>
                        <a:pt x="1787" y="3285"/>
                      </a:lnTo>
                      <a:lnTo>
                        <a:pt x="1790" y="3348"/>
                      </a:lnTo>
                      <a:lnTo>
                        <a:pt x="1816" y="3369"/>
                      </a:lnTo>
                      <a:lnTo>
                        <a:pt x="1873" y="3355"/>
                      </a:lnTo>
                      <a:lnTo>
                        <a:pt x="1919" y="3323"/>
                      </a:lnTo>
                      <a:lnTo>
                        <a:pt x="1948" y="3344"/>
                      </a:lnTo>
                      <a:lnTo>
                        <a:pt x="1918" y="3366"/>
                      </a:lnTo>
                      <a:lnTo>
                        <a:pt x="1890" y="3406"/>
                      </a:lnTo>
                      <a:lnTo>
                        <a:pt x="1845" y="3418"/>
                      </a:lnTo>
                      <a:lnTo>
                        <a:pt x="1864" y="3461"/>
                      </a:lnTo>
                      <a:lnTo>
                        <a:pt x="1899" y="3486"/>
                      </a:lnTo>
                      <a:lnTo>
                        <a:pt x="1956" y="3469"/>
                      </a:lnTo>
                      <a:lnTo>
                        <a:pt x="2084" y="3436"/>
                      </a:lnTo>
                      <a:lnTo>
                        <a:pt x="2159" y="3413"/>
                      </a:lnTo>
                      <a:lnTo>
                        <a:pt x="2104" y="3265"/>
                      </a:lnTo>
                      <a:lnTo>
                        <a:pt x="2079" y="3227"/>
                      </a:lnTo>
                      <a:lnTo>
                        <a:pt x="2163" y="3196"/>
                      </a:lnTo>
                      <a:lnTo>
                        <a:pt x="2224" y="3170"/>
                      </a:lnTo>
                      <a:lnTo>
                        <a:pt x="2157" y="3086"/>
                      </a:lnTo>
                      <a:lnTo>
                        <a:pt x="2121" y="3005"/>
                      </a:lnTo>
                      <a:lnTo>
                        <a:pt x="2155" y="2977"/>
                      </a:lnTo>
                      <a:lnTo>
                        <a:pt x="2201" y="2927"/>
                      </a:lnTo>
                      <a:lnTo>
                        <a:pt x="2279" y="3024"/>
                      </a:lnTo>
                      <a:lnTo>
                        <a:pt x="2310" y="2992"/>
                      </a:lnTo>
                      <a:lnTo>
                        <a:pt x="2151" y="2776"/>
                      </a:lnTo>
                      <a:lnTo>
                        <a:pt x="2175" y="2708"/>
                      </a:lnTo>
                      <a:lnTo>
                        <a:pt x="2175" y="2665"/>
                      </a:lnTo>
                      <a:lnTo>
                        <a:pt x="2164" y="2624"/>
                      </a:lnTo>
                      <a:lnTo>
                        <a:pt x="2145" y="2460"/>
                      </a:lnTo>
                      <a:lnTo>
                        <a:pt x="2150" y="2365"/>
                      </a:lnTo>
                      <a:lnTo>
                        <a:pt x="2180" y="2335"/>
                      </a:lnTo>
                      <a:lnTo>
                        <a:pt x="2219" y="2335"/>
                      </a:lnTo>
                      <a:lnTo>
                        <a:pt x="2236" y="2201"/>
                      </a:lnTo>
                      <a:lnTo>
                        <a:pt x="2253" y="2078"/>
                      </a:lnTo>
                      <a:lnTo>
                        <a:pt x="2208" y="2057"/>
                      </a:lnTo>
                      <a:lnTo>
                        <a:pt x="2213" y="1962"/>
                      </a:lnTo>
                      <a:lnTo>
                        <a:pt x="2249" y="1859"/>
                      </a:lnTo>
                      <a:lnTo>
                        <a:pt x="2296" y="1748"/>
                      </a:lnTo>
                      <a:lnTo>
                        <a:pt x="2375" y="1761"/>
                      </a:lnTo>
                      <a:lnTo>
                        <a:pt x="2408" y="1607"/>
                      </a:lnTo>
                      <a:lnTo>
                        <a:pt x="2229" y="1586"/>
                      </a:lnTo>
                      <a:lnTo>
                        <a:pt x="2224" y="1481"/>
                      </a:lnTo>
                      <a:lnTo>
                        <a:pt x="2426" y="1469"/>
                      </a:lnTo>
                      <a:lnTo>
                        <a:pt x="2389" y="1456"/>
                      </a:lnTo>
                      <a:lnTo>
                        <a:pt x="2389" y="1436"/>
                      </a:lnTo>
                      <a:lnTo>
                        <a:pt x="2389" y="1404"/>
                      </a:lnTo>
                      <a:lnTo>
                        <a:pt x="2457" y="1405"/>
                      </a:lnTo>
                      <a:lnTo>
                        <a:pt x="2455" y="1362"/>
                      </a:lnTo>
                      <a:lnTo>
                        <a:pt x="2436" y="1326"/>
                      </a:lnTo>
                      <a:lnTo>
                        <a:pt x="2478" y="1287"/>
                      </a:lnTo>
                      <a:lnTo>
                        <a:pt x="2460" y="1239"/>
                      </a:lnTo>
                      <a:lnTo>
                        <a:pt x="2411" y="1246"/>
                      </a:lnTo>
                      <a:lnTo>
                        <a:pt x="2397" y="1210"/>
                      </a:lnTo>
                      <a:lnTo>
                        <a:pt x="2435" y="1175"/>
                      </a:lnTo>
                      <a:lnTo>
                        <a:pt x="2394" y="1106"/>
                      </a:lnTo>
                      <a:lnTo>
                        <a:pt x="2345" y="1063"/>
                      </a:lnTo>
                      <a:lnTo>
                        <a:pt x="2342" y="1014"/>
                      </a:lnTo>
                      <a:lnTo>
                        <a:pt x="2381" y="999"/>
                      </a:lnTo>
                      <a:lnTo>
                        <a:pt x="2430" y="987"/>
                      </a:lnTo>
                      <a:lnTo>
                        <a:pt x="2435" y="952"/>
                      </a:lnTo>
                      <a:lnTo>
                        <a:pt x="2492" y="949"/>
                      </a:lnTo>
                      <a:lnTo>
                        <a:pt x="2518" y="939"/>
                      </a:lnTo>
                      <a:lnTo>
                        <a:pt x="2511" y="902"/>
                      </a:lnTo>
                      <a:lnTo>
                        <a:pt x="2459" y="861"/>
                      </a:lnTo>
                      <a:lnTo>
                        <a:pt x="2398" y="869"/>
                      </a:lnTo>
                      <a:lnTo>
                        <a:pt x="2369" y="824"/>
                      </a:lnTo>
                      <a:lnTo>
                        <a:pt x="2426" y="797"/>
                      </a:lnTo>
                      <a:lnTo>
                        <a:pt x="2476" y="758"/>
                      </a:lnTo>
                      <a:lnTo>
                        <a:pt x="2528" y="728"/>
                      </a:lnTo>
                      <a:lnTo>
                        <a:pt x="2567" y="692"/>
                      </a:lnTo>
                      <a:lnTo>
                        <a:pt x="2546" y="645"/>
                      </a:lnTo>
                      <a:lnTo>
                        <a:pt x="2527" y="609"/>
                      </a:lnTo>
                      <a:lnTo>
                        <a:pt x="2569" y="605"/>
                      </a:lnTo>
                      <a:lnTo>
                        <a:pt x="2614" y="579"/>
                      </a:lnTo>
                      <a:lnTo>
                        <a:pt x="2597" y="498"/>
                      </a:lnTo>
                      <a:lnTo>
                        <a:pt x="2597" y="474"/>
                      </a:lnTo>
                      <a:lnTo>
                        <a:pt x="2651" y="444"/>
                      </a:lnTo>
                      <a:lnTo>
                        <a:pt x="2655" y="416"/>
                      </a:lnTo>
                      <a:lnTo>
                        <a:pt x="2641" y="387"/>
                      </a:lnTo>
                      <a:lnTo>
                        <a:pt x="2600" y="308"/>
                      </a:lnTo>
                      <a:lnTo>
                        <a:pt x="2540" y="303"/>
                      </a:lnTo>
                      <a:lnTo>
                        <a:pt x="2526" y="246"/>
                      </a:lnTo>
                      <a:lnTo>
                        <a:pt x="2527" y="183"/>
                      </a:lnTo>
                      <a:lnTo>
                        <a:pt x="2481" y="183"/>
                      </a:lnTo>
                      <a:lnTo>
                        <a:pt x="2459" y="197"/>
                      </a:lnTo>
                      <a:lnTo>
                        <a:pt x="2435" y="213"/>
                      </a:lnTo>
                      <a:lnTo>
                        <a:pt x="2378" y="220"/>
                      </a:lnTo>
                      <a:lnTo>
                        <a:pt x="2368" y="184"/>
                      </a:lnTo>
                      <a:lnTo>
                        <a:pt x="2369" y="105"/>
                      </a:lnTo>
                      <a:lnTo>
                        <a:pt x="2324" y="100"/>
                      </a:lnTo>
                      <a:lnTo>
                        <a:pt x="2313" y="29"/>
                      </a:lnTo>
                      <a:lnTo>
                        <a:pt x="2250" y="0"/>
                      </a:lnTo>
                      <a:lnTo>
                        <a:pt x="2212" y="34"/>
                      </a:lnTo>
                      <a:lnTo>
                        <a:pt x="2229" y="87"/>
                      </a:lnTo>
                      <a:lnTo>
                        <a:pt x="2211" y="126"/>
                      </a:lnTo>
                      <a:lnTo>
                        <a:pt x="2161" y="161"/>
                      </a:lnTo>
                      <a:lnTo>
                        <a:pt x="2163" y="232"/>
                      </a:lnTo>
                      <a:lnTo>
                        <a:pt x="2212" y="229"/>
                      </a:lnTo>
                      <a:lnTo>
                        <a:pt x="2216" y="194"/>
                      </a:lnTo>
                      <a:lnTo>
                        <a:pt x="2270" y="195"/>
                      </a:lnTo>
                      <a:lnTo>
                        <a:pt x="2277" y="230"/>
                      </a:lnTo>
                      <a:lnTo>
                        <a:pt x="2230" y="245"/>
                      </a:lnTo>
                      <a:lnTo>
                        <a:pt x="2265" y="266"/>
                      </a:lnTo>
                      <a:lnTo>
                        <a:pt x="2294" y="302"/>
                      </a:lnTo>
                      <a:lnTo>
                        <a:pt x="2336" y="323"/>
                      </a:lnTo>
                      <a:lnTo>
                        <a:pt x="2391" y="336"/>
                      </a:lnTo>
                      <a:lnTo>
                        <a:pt x="2373" y="372"/>
                      </a:lnTo>
                      <a:lnTo>
                        <a:pt x="2319" y="366"/>
                      </a:lnTo>
                      <a:lnTo>
                        <a:pt x="2286" y="329"/>
                      </a:lnTo>
                      <a:lnTo>
                        <a:pt x="2251" y="325"/>
                      </a:lnTo>
                      <a:lnTo>
                        <a:pt x="2225" y="332"/>
                      </a:lnTo>
                      <a:lnTo>
                        <a:pt x="2236" y="389"/>
                      </a:lnTo>
                      <a:lnTo>
                        <a:pt x="2205" y="399"/>
                      </a:lnTo>
                      <a:lnTo>
                        <a:pt x="2201" y="448"/>
                      </a:lnTo>
                      <a:lnTo>
                        <a:pt x="2182" y="490"/>
                      </a:lnTo>
                      <a:lnTo>
                        <a:pt x="2166" y="534"/>
                      </a:lnTo>
                      <a:lnTo>
                        <a:pt x="2219" y="531"/>
                      </a:lnTo>
                      <a:lnTo>
                        <a:pt x="2253" y="503"/>
                      </a:lnTo>
                      <a:lnTo>
                        <a:pt x="2313" y="521"/>
                      </a:lnTo>
                      <a:lnTo>
                        <a:pt x="2352" y="490"/>
                      </a:lnTo>
                      <a:lnTo>
                        <a:pt x="2412" y="468"/>
                      </a:lnTo>
                      <a:lnTo>
                        <a:pt x="2423" y="503"/>
                      </a:lnTo>
                      <a:lnTo>
                        <a:pt x="2419" y="539"/>
                      </a:lnTo>
                      <a:lnTo>
                        <a:pt x="2366" y="538"/>
                      </a:lnTo>
                      <a:lnTo>
                        <a:pt x="2346" y="569"/>
                      </a:lnTo>
                      <a:lnTo>
                        <a:pt x="2298" y="576"/>
                      </a:lnTo>
                      <a:lnTo>
                        <a:pt x="2259" y="584"/>
                      </a:lnTo>
                      <a:lnTo>
                        <a:pt x="2225" y="594"/>
                      </a:lnTo>
                      <a:lnTo>
                        <a:pt x="2180" y="559"/>
                      </a:lnTo>
                      <a:lnTo>
                        <a:pt x="2150" y="557"/>
                      </a:lnTo>
                      <a:lnTo>
                        <a:pt x="2138" y="573"/>
                      </a:lnTo>
                      <a:lnTo>
                        <a:pt x="2112" y="597"/>
                      </a:lnTo>
                      <a:lnTo>
                        <a:pt x="2070" y="588"/>
                      </a:lnTo>
                      <a:lnTo>
                        <a:pt x="2037" y="548"/>
                      </a:lnTo>
                      <a:lnTo>
                        <a:pt x="1998" y="555"/>
                      </a:lnTo>
                      <a:lnTo>
                        <a:pt x="2017" y="608"/>
                      </a:lnTo>
                      <a:lnTo>
                        <a:pt x="1967" y="622"/>
                      </a:lnTo>
                      <a:lnTo>
                        <a:pt x="1903" y="633"/>
                      </a:lnTo>
                      <a:lnTo>
                        <a:pt x="1865" y="668"/>
                      </a:lnTo>
                      <a:lnTo>
                        <a:pt x="1831" y="635"/>
                      </a:lnTo>
                      <a:lnTo>
                        <a:pt x="1781" y="666"/>
                      </a:lnTo>
                      <a:lnTo>
                        <a:pt x="1756" y="634"/>
                      </a:lnTo>
                      <a:lnTo>
                        <a:pt x="1709" y="693"/>
                      </a:lnTo>
                      <a:lnTo>
                        <a:pt x="1671" y="708"/>
                      </a:lnTo>
                      <a:lnTo>
                        <a:pt x="1634" y="675"/>
                      </a:lnTo>
                      <a:lnTo>
                        <a:pt x="1626" y="647"/>
                      </a:lnTo>
                      <a:lnTo>
                        <a:pt x="1589" y="631"/>
                      </a:lnTo>
                      <a:lnTo>
                        <a:pt x="1558" y="662"/>
                      </a:lnTo>
                      <a:lnTo>
                        <a:pt x="1546" y="689"/>
                      </a:lnTo>
                      <a:lnTo>
                        <a:pt x="1539" y="638"/>
                      </a:lnTo>
                      <a:lnTo>
                        <a:pt x="1517" y="626"/>
                      </a:lnTo>
                      <a:lnTo>
                        <a:pt x="1472" y="597"/>
                      </a:lnTo>
                      <a:lnTo>
                        <a:pt x="1447" y="556"/>
                      </a:lnTo>
                      <a:lnTo>
                        <a:pt x="1451" y="551"/>
                      </a:lnTo>
                      <a:lnTo>
                        <a:pt x="1460" y="536"/>
                      </a:lnTo>
                      <a:lnTo>
                        <a:pt x="1465" y="527"/>
                      </a:lnTo>
                      <a:lnTo>
                        <a:pt x="1469" y="519"/>
                      </a:lnTo>
                      <a:lnTo>
                        <a:pt x="1472" y="510"/>
                      </a:lnTo>
                      <a:lnTo>
                        <a:pt x="1473" y="506"/>
                      </a:lnTo>
                      <a:lnTo>
                        <a:pt x="1473" y="502"/>
                      </a:lnTo>
                      <a:lnTo>
                        <a:pt x="1473" y="493"/>
                      </a:lnTo>
                      <a:lnTo>
                        <a:pt x="1472" y="482"/>
                      </a:lnTo>
                      <a:lnTo>
                        <a:pt x="1469" y="470"/>
                      </a:lnTo>
                      <a:lnTo>
                        <a:pt x="1467" y="460"/>
                      </a:lnTo>
                      <a:lnTo>
                        <a:pt x="1464" y="456"/>
                      </a:lnTo>
                      <a:lnTo>
                        <a:pt x="1463" y="451"/>
                      </a:lnTo>
                      <a:lnTo>
                        <a:pt x="1460" y="448"/>
                      </a:lnTo>
                      <a:lnTo>
                        <a:pt x="1458" y="445"/>
                      </a:lnTo>
                      <a:lnTo>
                        <a:pt x="1455" y="443"/>
                      </a:lnTo>
                      <a:lnTo>
                        <a:pt x="1451" y="443"/>
                      </a:lnTo>
                      <a:lnTo>
                        <a:pt x="1448" y="443"/>
                      </a:lnTo>
                      <a:lnTo>
                        <a:pt x="1444" y="445"/>
                      </a:lnTo>
                      <a:lnTo>
                        <a:pt x="1440" y="448"/>
                      </a:lnTo>
                      <a:lnTo>
                        <a:pt x="1436" y="451"/>
                      </a:lnTo>
                      <a:lnTo>
                        <a:pt x="1427" y="455"/>
                      </a:lnTo>
                      <a:lnTo>
                        <a:pt x="1407" y="463"/>
                      </a:lnTo>
                      <a:lnTo>
                        <a:pt x="1398" y="466"/>
                      </a:lnTo>
                      <a:lnTo>
                        <a:pt x="1390" y="470"/>
                      </a:lnTo>
                      <a:lnTo>
                        <a:pt x="1388" y="472"/>
                      </a:lnTo>
                      <a:lnTo>
                        <a:pt x="1385" y="474"/>
                      </a:lnTo>
                      <a:lnTo>
                        <a:pt x="1384" y="477"/>
                      </a:lnTo>
                      <a:lnTo>
                        <a:pt x="1384" y="480"/>
                      </a:lnTo>
                      <a:lnTo>
                        <a:pt x="1382" y="486"/>
                      </a:lnTo>
                      <a:lnTo>
                        <a:pt x="1381" y="493"/>
                      </a:lnTo>
                      <a:lnTo>
                        <a:pt x="1375" y="507"/>
                      </a:lnTo>
                      <a:lnTo>
                        <a:pt x="1367" y="522"/>
                      </a:lnTo>
                      <a:lnTo>
                        <a:pt x="1360" y="535"/>
                      </a:lnTo>
                      <a:lnTo>
                        <a:pt x="1347" y="563"/>
                      </a:lnTo>
                      <a:lnTo>
                        <a:pt x="1340" y="579"/>
                      </a:lnTo>
                      <a:lnTo>
                        <a:pt x="1303" y="561"/>
                      </a:lnTo>
                      <a:lnTo>
                        <a:pt x="1273" y="530"/>
                      </a:lnTo>
                      <a:lnTo>
                        <a:pt x="1232" y="528"/>
                      </a:lnTo>
                      <a:lnTo>
                        <a:pt x="1208" y="53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7608600" y="2045880"/>
                  <a:ext cx="130320" cy="150840"/>
                </a:xfrm>
                <a:custGeom>
                  <a:avLst/>
                  <a:gdLst/>
                  <a:ahLst/>
                  <a:rect l="l" t="t" r="r" b="b"/>
                  <a:pathLst>
                    <a:path w="253" h="295">
                      <a:moveTo>
                        <a:pt x="0" y="295"/>
                      </a:moveTo>
                      <a:lnTo>
                        <a:pt x="37" y="294"/>
                      </a:lnTo>
                      <a:lnTo>
                        <a:pt x="37" y="268"/>
                      </a:lnTo>
                      <a:lnTo>
                        <a:pt x="75" y="281"/>
                      </a:lnTo>
                      <a:lnTo>
                        <a:pt x="96" y="261"/>
                      </a:lnTo>
                      <a:lnTo>
                        <a:pt x="98" y="241"/>
                      </a:lnTo>
                      <a:lnTo>
                        <a:pt x="136" y="262"/>
                      </a:lnTo>
                      <a:lnTo>
                        <a:pt x="152" y="220"/>
                      </a:lnTo>
                      <a:lnTo>
                        <a:pt x="193" y="148"/>
                      </a:lnTo>
                      <a:lnTo>
                        <a:pt x="182" y="120"/>
                      </a:lnTo>
                      <a:lnTo>
                        <a:pt x="182" y="93"/>
                      </a:lnTo>
                      <a:lnTo>
                        <a:pt x="189" y="68"/>
                      </a:lnTo>
                      <a:lnTo>
                        <a:pt x="216" y="59"/>
                      </a:lnTo>
                      <a:lnTo>
                        <a:pt x="232" y="24"/>
                      </a:lnTo>
                      <a:lnTo>
                        <a:pt x="253" y="8"/>
                      </a:lnTo>
                      <a:lnTo>
                        <a:pt x="225" y="0"/>
                      </a:lnTo>
                      <a:lnTo>
                        <a:pt x="208" y="17"/>
                      </a:lnTo>
                      <a:lnTo>
                        <a:pt x="179" y="33"/>
                      </a:lnTo>
                      <a:lnTo>
                        <a:pt x="108" y="38"/>
                      </a:lnTo>
                      <a:lnTo>
                        <a:pt x="108" y="62"/>
                      </a:lnTo>
                      <a:lnTo>
                        <a:pt x="58" y="78"/>
                      </a:lnTo>
                      <a:lnTo>
                        <a:pt x="49" y="175"/>
                      </a:lnTo>
                      <a:lnTo>
                        <a:pt x="4" y="211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476760" y="145080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157" h="138">
                      <a:moveTo>
                        <a:pt x="21" y="104"/>
                      </a:moveTo>
                      <a:lnTo>
                        <a:pt x="0" y="67"/>
                      </a:lnTo>
                      <a:lnTo>
                        <a:pt x="0" y="29"/>
                      </a:lnTo>
                      <a:lnTo>
                        <a:pt x="41" y="1"/>
                      </a:lnTo>
                      <a:lnTo>
                        <a:pt x="91" y="0"/>
                      </a:lnTo>
                      <a:lnTo>
                        <a:pt x="90" y="28"/>
                      </a:lnTo>
                      <a:lnTo>
                        <a:pt x="109" y="46"/>
                      </a:lnTo>
                      <a:lnTo>
                        <a:pt x="116" y="80"/>
                      </a:lnTo>
                      <a:lnTo>
                        <a:pt x="145" y="96"/>
                      </a:lnTo>
                      <a:lnTo>
                        <a:pt x="157" y="115"/>
                      </a:lnTo>
                      <a:lnTo>
                        <a:pt x="117" y="137"/>
                      </a:lnTo>
                      <a:lnTo>
                        <a:pt x="59" y="123"/>
                      </a:lnTo>
                      <a:lnTo>
                        <a:pt x="57" y="138"/>
                      </a:lnTo>
                      <a:lnTo>
                        <a:pt x="21" y="10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492600" y="1485720"/>
                  <a:ext cx="76320" cy="106200"/>
                </a:xfrm>
                <a:custGeom>
                  <a:avLst/>
                  <a:gdLst/>
                  <a:ahLst/>
                  <a:rect l="l" t="t" r="r" b="b"/>
                  <a:pathLst>
                    <a:path w="149" h="209">
                      <a:moveTo>
                        <a:pt x="4" y="120"/>
                      </a:moveTo>
                      <a:lnTo>
                        <a:pt x="5" y="167"/>
                      </a:lnTo>
                      <a:lnTo>
                        <a:pt x="20" y="209"/>
                      </a:lnTo>
                      <a:lnTo>
                        <a:pt x="48" y="196"/>
                      </a:lnTo>
                      <a:lnTo>
                        <a:pt x="71" y="196"/>
                      </a:lnTo>
                      <a:lnTo>
                        <a:pt x="107" y="194"/>
                      </a:lnTo>
                      <a:lnTo>
                        <a:pt x="133" y="185"/>
                      </a:lnTo>
                      <a:lnTo>
                        <a:pt x="149" y="119"/>
                      </a:lnTo>
                      <a:lnTo>
                        <a:pt x="147" y="97"/>
                      </a:lnTo>
                      <a:lnTo>
                        <a:pt x="122" y="84"/>
                      </a:lnTo>
                      <a:lnTo>
                        <a:pt x="119" y="37"/>
                      </a:lnTo>
                      <a:lnTo>
                        <a:pt x="81" y="55"/>
                      </a:lnTo>
                      <a:lnTo>
                        <a:pt x="54" y="22"/>
                      </a:lnTo>
                      <a:lnTo>
                        <a:pt x="48" y="0"/>
                      </a:lnTo>
                      <a:lnTo>
                        <a:pt x="23" y="7"/>
                      </a:lnTo>
                      <a:lnTo>
                        <a:pt x="7" y="47"/>
                      </a:lnTo>
                      <a:lnTo>
                        <a:pt x="11" y="78"/>
                      </a:lnTo>
                      <a:lnTo>
                        <a:pt x="0" y="111"/>
                      </a:lnTo>
                      <a:lnTo>
                        <a:pt x="4" y="12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6837120" y="27158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16" y="0"/>
                      </a:moveTo>
                      <a:lnTo>
                        <a:pt x="8" y="13"/>
                      </a:lnTo>
                      <a:lnTo>
                        <a:pt x="0" y="36"/>
                      </a:lnTo>
                      <a:lnTo>
                        <a:pt x="4" y="53"/>
                      </a:lnTo>
                      <a:lnTo>
                        <a:pt x="16" y="70"/>
                      </a:lnTo>
                      <a:lnTo>
                        <a:pt x="32" y="82"/>
                      </a:lnTo>
                      <a:lnTo>
                        <a:pt x="47" y="86"/>
                      </a:lnTo>
                      <a:lnTo>
                        <a:pt x="53" y="74"/>
                      </a:lnTo>
                      <a:lnTo>
                        <a:pt x="64" y="57"/>
                      </a:lnTo>
                      <a:lnTo>
                        <a:pt x="77" y="58"/>
                      </a:lnTo>
                      <a:lnTo>
                        <a:pt x="89" y="5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7557840" y="1509480"/>
                  <a:ext cx="39600" cy="3024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4" y="58"/>
                      </a:moveTo>
                      <a:lnTo>
                        <a:pt x="54" y="37"/>
                      </a:lnTo>
                      <a:lnTo>
                        <a:pt x="76" y="33"/>
                      </a:lnTo>
                      <a:lnTo>
                        <a:pt x="66" y="1"/>
                      </a:lnTo>
                      <a:lnTo>
                        <a:pt x="0" y="0"/>
                      </a:lnTo>
                      <a:lnTo>
                        <a:pt x="4" y="5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6960960" y="2287440"/>
                  <a:ext cx="60480" cy="77760"/>
                </a:xfrm>
                <a:custGeom>
                  <a:avLst/>
                  <a:gdLst/>
                  <a:ahLst/>
                  <a:rect l="l" t="t" r="r" b="b"/>
                  <a:pathLst>
                    <a:path w="115" h="152">
                      <a:moveTo>
                        <a:pt x="90" y="139"/>
                      </a:moveTo>
                      <a:lnTo>
                        <a:pt x="55" y="152"/>
                      </a:lnTo>
                      <a:lnTo>
                        <a:pt x="0" y="101"/>
                      </a:lnTo>
                      <a:lnTo>
                        <a:pt x="35" y="64"/>
                      </a:lnTo>
                      <a:lnTo>
                        <a:pt x="28" y="31"/>
                      </a:lnTo>
                      <a:lnTo>
                        <a:pt x="27" y="11"/>
                      </a:lnTo>
                      <a:lnTo>
                        <a:pt x="91" y="0"/>
                      </a:lnTo>
                      <a:lnTo>
                        <a:pt x="106" y="41"/>
                      </a:lnTo>
                      <a:lnTo>
                        <a:pt x="115" y="69"/>
                      </a:lnTo>
                      <a:lnTo>
                        <a:pt x="78" y="98"/>
                      </a:lnTo>
                      <a:lnTo>
                        <a:pt x="90" y="13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7024680" y="1728360"/>
                  <a:ext cx="69840" cy="147960"/>
                </a:xfrm>
                <a:custGeom>
                  <a:avLst/>
                  <a:gdLst/>
                  <a:ahLst/>
                  <a:rect l="l" t="t" r="r" b="b"/>
                  <a:pathLst>
                    <a:path w="136" h="286">
                      <a:moveTo>
                        <a:pt x="128" y="286"/>
                      </a:moveTo>
                      <a:lnTo>
                        <a:pt x="136" y="0"/>
                      </a:lnTo>
                      <a:lnTo>
                        <a:pt x="97" y="6"/>
                      </a:lnTo>
                      <a:lnTo>
                        <a:pt x="59" y="20"/>
                      </a:lnTo>
                      <a:lnTo>
                        <a:pt x="0" y="82"/>
                      </a:lnTo>
                      <a:lnTo>
                        <a:pt x="128" y="28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684840" y="194616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58" h="96">
                      <a:moveTo>
                        <a:pt x="25" y="96"/>
                      </a:moveTo>
                      <a:lnTo>
                        <a:pt x="58" y="29"/>
                      </a:lnTo>
                      <a:lnTo>
                        <a:pt x="12" y="0"/>
                      </a:lnTo>
                      <a:lnTo>
                        <a:pt x="8" y="12"/>
                      </a:lnTo>
                      <a:lnTo>
                        <a:pt x="6" y="22"/>
                      </a:lnTo>
                      <a:lnTo>
                        <a:pt x="4" y="28"/>
                      </a:lnTo>
                      <a:lnTo>
                        <a:pt x="4" y="30"/>
                      </a:lnTo>
                      <a:lnTo>
                        <a:pt x="4" y="36"/>
                      </a:lnTo>
                      <a:lnTo>
                        <a:pt x="3" y="42"/>
                      </a:lnTo>
                      <a:lnTo>
                        <a:pt x="2" y="47"/>
                      </a:lnTo>
                      <a:lnTo>
                        <a:pt x="0" y="50"/>
                      </a:lnTo>
                      <a:lnTo>
                        <a:pt x="25" y="9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2" name=""/>
            <p:cNvSpPr/>
            <p:nvPr/>
          </p:nvSpPr>
          <p:spPr>
            <a:xfrm>
              <a:off x="4320" y="3566880"/>
              <a:ext cx="24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cc3300"/>
                  </a:solidFill>
                  <a:latin typeface="Arial"/>
                </a:rPr>
                <a:t>Area  Urbana Consol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0" y="3890880"/>
              <a:ext cx="72010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4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5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606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Areas de Aplicación Futura (nuevo Intercomu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902-456D-4BDE-B3AB-3A216CD65BD2}" type="slidenum">
              <a:t>14</a:t>
            </a:fld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"/>
          <p:cNvSpPr/>
          <p:nvPr/>
        </p:nvSpPr>
        <p:spPr>
          <a:xfrm>
            <a:off x="6068880" y="3200400"/>
            <a:ext cx="504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0"/>
                </a:lnTo>
                <a:lnTo>
                  <a:pt x="0" y="2"/>
                </a:lnTo>
                <a:lnTo>
                  <a:pt x="1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035760" y="3328920"/>
            <a:ext cx="612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6058080" y="3392640"/>
            <a:ext cx="612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0" y="0"/>
                </a:lnTo>
                <a:lnTo>
                  <a:pt x="0" y="2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5888160" y="3362400"/>
            <a:ext cx="6120" cy="324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2"/>
                </a:moveTo>
                <a:lnTo>
                  <a:pt x="10" y="0"/>
                </a:lnTo>
                <a:lnTo>
                  <a:pt x="0" y="6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850000" y="3208320"/>
            <a:ext cx="6120" cy="4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850000" y="3213000"/>
            <a:ext cx="6120" cy="1800"/>
          </a:xfrm>
          <a:custGeom>
            <a:avLst/>
            <a:gdLst/>
            <a:ahLst/>
            <a:rect l="l" t="t" r="r" b="b"/>
            <a:pathLst>
              <a:path w="11" h="0">
                <a:moveTo>
                  <a:pt x="9" y="0"/>
                </a:moveTo>
                <a:lnTo>
                  <a:pt x="11" y="0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6191280" y="2922480"/>
            <a:ext cx="6480" cy="85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5583240" y="3046320"/>
            <a:ext cx="6480" cy="129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5583240" y="3046320"/>
            <a:ext cx="648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0" y="0"/>
                </a:lnTo>
                <a:lnTo>
                  <a:pt x="0" y="1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5595840" y="3092400"/>
            <a:ext cx="5040" cy="180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343480" y="3060720"/>
            <a:ext cx="4680" cy="4680"/>
          </a:xfrm>
          <a:custGeom>
            <a:avLst/>
            <a:gdLst/>
            <a:ahLst/>
            <a:rect l="l" t="t" r="r" b="b"/>
            <a:pathLst>
              <a:path w="10" h="7">
                <a:moveTo>
                  <a:pt x="2" y="7"/>
                </a:moveTo>
                <a:lnTo>
                  <a:pt x="0" y="6"/>
                </a:lnTo>
                <a:lnTo>
                  <a:pt x="10" y="0"/>
                </a:lnTo>
                <a:lnTo>
                  <a:pt x="2" y="7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299200" y="2989440"/>
            <a:ext cx="15840" cy="2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332320" y="3164040"/>
            <a:ext cx="71640" cy="61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5354640" y="3559320"/>
            <a:ext cx="1440" cy="6120"/>
          </a:xfrm>
          <a:custGeom>
            <a:avLst/>
            <a:gdLst/>
            <a:ahLst/>
            <a:rect l="l" t="t" r="r" b="b"/>
            <a:pathLst>
              <a:path w="0" h="10">
                <a:moveTo>
                  <a:pt x="0" y="10"/>
                </a:moveTo>
                <a:lnTo>
                  <a:pt x="0" y="0"/>
                </a:lnTo>
                <a:lnTo>
                  <a:pt x="0" y="1"/>
                </a:lnTo>
                <a:lnTo>
                  <a:pt x="0" y="1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292720" y="3487680"/>
            <a:ext cx="648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254560" y="3551400"/>
            <a:ext cx="648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016600" y="3525840"/>
            <a:ext cx="4680" cy="32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2"/>
                </a:moveTo>
                <a:lnTo>
                  <a:pt x="7" y="0"/>
                </a:lnTo>
                <a:lnTo>
                  <a:pt x="0" y="8"/>
                </a:lnTo>
                <a:lnTo>
                  <a:pt x="8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164200" y="336384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1" y="0"/>
                </a:moveTo>
                <a:lnTo>
                  <a:pt x="0" y="10"/>
                </a:lnTo>
                <a:lnTo>
                  <a:pt x="1" y="10"/>
                </a:lnTo>
                <a:lnTo>
                  <a:pt x="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199120" y="3398760"/>
            <a:ext cx="3240" cy="468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8"/>
                </a:moveTo>
                <a:lnTo>
                  <a:pt x="1" y="9"/>
                </a:lnTo>
                <a:lnTo>
                  <a:pt x="6" y="0"/>
                </a:lnTo>
                <a:lnTo>
                  <a:pt x="0" y="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219640" y="3416400"/>
            <a:ext cx="6480" cy="144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286240" y="3394080"/>
            <a:ext cx="180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4048200" y="5745240"/>
            <a:ext cx="612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700680" y="3967200"/>
            <a:ext cx="6480" cy="20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5067360" y="4481640"/>
            <a:ext cx="4680" cy="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7149960" y="4778280"/>
            <a:ext cx="5040" cy="111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7186680" y="4724280"/>
            <a:ext cx="3240" cy="158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600880" y="2916360"/>
            <a:ext cx="6120" cy="2052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5411880" y="2989440"/>
            <a:ext cx="6120" cy="237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5472000" y="2986200"/>
            <a:ext cx="19080" cy="32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194440" y="4662360"/>
            <a:ext cx="4680" cy="1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194440" y="4662360"/>
            <a:ext cx="4680" cy="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095800" y="4676760"/>
            <a:ext cx="6480" cy="3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632640" y="4354560"/>
            <a:ext cx="4680" cy="4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746760" y="4125960"/>
            <a:ext cx="5040" cy="11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667640" y="2514600"/>
            <a:ext cx="6480" cy="3240"/>
          </a:xfrm>
          <a:prstGeom prst="rect">
            <a:avLst/>
          </a:prstGeom>
          <a:solidFill>
            <a:srgbClr val="8db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5861160" y="6342120"/>
            <a:ext cx="3240" cy="14400"/>
          </a:xfrm>
          <a:custGeom>
            <a:avLst/>
            <a:gdLst/>
            <a:ahLst/>
            <a:rect l="l" t="t" r="r" b="b"/>
            <a:pathLst>
              <a:path w="6" h="28">
                <a:moveTo>
                  <a:pt x="6" y="0"/>
                </a:moveTo>
                <a:lnTo>
                  <a:pt x="1" y="28"/>
                </a:lnTo>
                <a:lnTo>
                  <a:pt x="0" y="28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4438800" y="6076800"/>
            <a:ext cx="10800" cy="11160"/>
          </a:xfrm>
          <a:custGeom>
            <a:avLst/>
            <a:gdLst/>
            <a:ahLst/>
            <a:rect l="l" t="t" r="r" b="b"/>
            <a:pathLst>
              <a:path w="20" h="21">
                <a:moveTo>
                  <a:pt x="20" y="0"/>
                </a:moveTo>
                <a:lnTo>
                  <a:pt x="0" y="21"/>
                </a:lnTo>
                <a:lnTo>
                  <a:pt x="0" y="20"/>
                </a:lnTo>
                <a:lnTo>
                  <a:pt x="2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397400" y="6138720"/>
            <a:ext cx="15840" cy="5040"/>
          </a:xfrm>
          <a:custGeom>
            <a:avLst/>
            <a:gdLst/>
            <a:ahLst/>
            <a:rect l="l" t="t" r="r" b="b"/>
            <a:pathLst>
              <a:path w="29" h="7">
                <a:moveTo>
                  <a:pt x="0" y="7"/>
                </a:moveTo>
                <a:lnTo>
                  <a:pt x="29" y="1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127480" y="5092560"/>
            <a:ext cx="12960" cy="792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24" y="17"/>
                </a:lnTo>
                <a:lnTo>
                  <a:pt x="24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230800" y="443556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375160" y="4492800"/>
            <a:ext cx="1800" cy="4680"/>
          </a:xfrm>
          <a:custGeom>
            <a:avLst/>
            <a:gdLst/>
            <a:ahLst/>
            <a:rect l="l" t="t" r="r" b="b"/>
            <a:pathLst>
              <a:path w="5" h="9">
                <a:moveTo>
                  <a:pt x="5" y="9"/>
                </a:moveTo>
                <a:lnTo>
                  <a:pt x="4" y="9"/>
                </a:lnTo>
                <a:lnTo>
                  <a:pt x="0" y="0"/>
                </a:lnTo>
                <a:lnTo>
                  <a:pt x="5" y="9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261040" y="4545000"/>
            <a:ext cx="468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11" y="1"/>
                </a:lnTo>
                <a:lnTo>
                  <a:pt x="11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253120" y="4581360"/>
            <a:ext cx="4680" cy="180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684840" y="4870440"/>
            <a:ext cx="6480" cy="324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0"/>
                </a:moveTo>
                <a:lnTo>
                  <a:pt x="11" y="1"/>
                </a:lnTo>
                <a:lnTo>
                  <a:pt x="1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589800" y="4881600"/>
            <a:ext cx="4680" cy="20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7423200" y="5183280"/>
            <a:ext cx="12600" cy="46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7434360" y="4727520"/>
            <a:ext cx="612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1"/>
                </a:moveTo>
                <a:lnTo>
                  <a:pt x="0" y="0"/>
                </a:lnTo>
                <a:lnTo>
                  <a:pt x="0" y="1"/>
                </a:lnTo>
                <a:lnTo>
                  <a:pt x="11" y="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295280" y="516240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3300"/>
                </a:solidFill>
                <a:latin typeface="Arial"/>
              </a:rPr>
              <a:t>Tendencias hacia mayor potencial desarrollo y localización ligado a redes de transporte regional existentes y proyect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5" name=""/>
          <p:cNvGrpSpPr/>
          <p:nvPr/>
        </p:nvGrpSpPr>
        <p:grpSpPr>
          <a:xfrm>
            <a:off x="4048200" y="1295280"/>
            <a:ext cx="4414680" cy="4681800"/>
            <a:chOff x="4048200" y="1295280"/>
            <a:chExt cx="4414680" cy="4681800"/>
          </a:xfrm>
        </p:grpSpPr>
        <p:sp>
          <p:nvSpPr>
            <p:cNvPr id="2656" name=""/>
            <p:cNvSpPr/>
            <p:nvPr/>
          </p:nvSpPr>
          <p:spPr>
            <a:xfrm>
              <a:off x="6058080" y="3368520"/>
              <a:ext cx="6120" cy="18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0" y="2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143680" y="3179880"/>
              <a:ext cx="2880" cy="2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2" y="3"/>
                  </a:lnTo>
                  <a:lnTo>
                    <a:pt x="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315040" y="3735360"/>
              <a:ext cx="6120" cy="25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315040" y="3735360"/>
              <a:ext cx="61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56480" y="4282920"/>
              <a:ext cx="4680" cy="111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262560" y="4694400"/>
              <a:ext cx="324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4" y="9"/>
                  </a:lnTo>
                  <a:lnTo>
                    <a:pt x="0" y="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537320" y="5637240"/>
              <a:ext cx="5040" cy="1584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9" y="0"/>
                  </a:moveTo>
                  <a:lnTo>
                    <a:pt x="0" y="29"/>
                  </a:lnTo>
                  <a:lnTo>
                    <a:pt x="1" y="2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621560" y="2232000"/>
              <a:ext cx="11160" cy="11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0" y="20"/>
                  </a:lnTo>
                  <a:lnTo>
                    <a:pt x="1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318280" y="4649760"/>
              <a:ext cx="1440" cy="64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1"/>
                  </a:moveTo>
                  <a:lnTo>
                    <a:pt x="1" y="1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079960" y="4748040"/>
              <a:ext cx="9720" cy="6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446960" y="5349960"/>
              <a:ext cx="6480" cy="15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048200" y="5969160"/>
              <a:ext cx="9360" cy="79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10"/>
                  </a:lnTo>
                  <a:lnTo>
                    <a:pt x="8" y="17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48200" y="5959440"/>
              <a:ext cx="9360" cy="1584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8" y="33"/>
                  </a:moveTo>
                  <a:lnTo>
                    <a:pt x="17" y="30"/>
                  </a:lnTo>
                  <a:lnTo>
                    <a:pt x="9" y="0"/>
                  </a:lnTo>
                  <a:lnTo>
                    <a:pt x="0" y="3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52880" y="5973840"/>
              <a:ext cx="4680" cy="3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1" y="7"/>
                  </a:moveTo>
                  <a:lnTo>
                    <a:pt x="9" y="1"/>
                  </a:lnTo>
                  <a:lnTo>
                    <a:pt x="0" y="4"/>
                  </a:lnTo>
                  <a:lnTo>
                    <a:pt x="9" y="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48200" y="5959440"/>
              <a:ext cx="6120" cy="180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9" y="0"/>
                  </a:moveTo>
                  <a:lnTo>
                    <a:pt x="0" y="1"/>
                  </a:lnTo>
                  <a:lnTo>
                    <a:pt x="11" y="1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48200" y="5969160"/>
              <a:ext cx="6120" cy="28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2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9" y="0"/>
                  </a:lnTo>
                  <a:lnTo>
                    <a:pt x="1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2" name=""/>
            <p:cNvGrpSpPr/>
            <p:nvPr/>
          </p:nvGrpSpPr>
          <p:grpSpPr>
            <a:xfrm>
              <a:off x="5084640" y="1298520"/>
              <a:ext cx="3378240" cy="4122720"/>
              <a:chOff x="5084640" y="1298520"/>
              <a:chExt cx="3378240" cy="4122720"/>
            </a:xfrm>
          </p:grpSpPr>
          <p:sp>
            <p:nvSpPr>
              <p:cNvPr id="2673" name=""/>
              <p:cNvSpPr/>
              <p:nvPr/>
            </p:nvSpPr>
            <p:spPr>
              <a:xfrm>
                <a:off x="5084640" y="4616280"/>
                <a:ext cx="336600" cy="212760"/>
              </a:xfrm>
              <a:custGeom>
                <a:avLst/>
                <a:gdLst/>
                <a:ahLst/>
                <a:rect l="l" t="t" r="r" b="b"/>
                <a:pathLst>
                  <a:path w="654" h="413">
                    <a:moveTo>
                      <a:pt x="38" y="79"/>
                    </a:moveTo>
                    <a:lnTo>
                      <a:pt x="36" y="63"/>
                    </a:lnTo>
                    <a:lnTo>
                      <a:pt x="83" y="0"/>
                    </a:lnTo>
                    <a:lnTo>
                      <a:pt x="124" y="26"/>
                    </a:lnTo>
                    <a:lnTo>
                      <a:pt x="131" y="30"/>
                    </a:lnTo>
                    <a:lnTo>
                      <a:pt x="141" y="33"/>
                    </a:lnTo>
                    <a:lnTo>
                      <a:pt x="153" y="38"/>
                    </a:lnTo>
                    <a:lnTo>
                      <a:pt x="166" y="41"/>
                    </a:lnTo>
                    <a:lnTo>
                      <a:pt x="183" y="43"/>
                    </a:lnTo>
                    <a:lnTo>
                      <a:pt x="192" y="45"/>
                    </a:lnTo>
                    <a:lnTo>
                      <a:pt x="201" y="45"/>
                    </a:lnTo>
                    <a:lnTo>
                      <a:pt x="211" y="45"/>
                    </a:lnTo>
                    <a:lnTo>
                      <a:pt x="220" y="43"/>
                    </a:lnTo>
                    <a:lnTo>
                      <a:pt x="240" y="39"/>
                    </a:lnTo>
                    <a:lnTo>
                      <a:pt x="257" y="37"/>
                    </a:lnTo>
                    <a:lnTo>
                      <a:pt x="284" y="30"/>
                    </a:lnTo>
                    <a:lnTo>
                      <a:pt x="304" y="23"/>
                    </a:lnTo>
                    <a:lnTo>
                      <a:pt x="311" y="22"/>
                    </a:lnTo>
                    <a:lnTo>
                      <a:pt x="344" y="23"/>
                    </a:lnTo>
                    <a:lnTo>
                      <a:pt x="369" y="25"/>
                    </a:lnTo>
                    <a:lnTo>
                      <a:pt x="387" y="26"/>
                    </a:lnTo>
                    <a:lnTo>
                      <a:pt x="394" y="26"/>
                    </a:lnTo>
                    <a:lnTo>
                      <a:pt x="406" y="26"/>
                    </a:lnTo>
                    <a:lnTo>
                      <a:pt x="432" y="26"/>
                    </a:lnTo>
                    <a:lnTo>
                      <a:pt x="477" y="23"/>
                    </a:lnTo>
                    <a:lnTo>
                      <a:pt x="488" y="23"/>
                    </a:lnTo>
                    <a:lnTo>
                      <a:pt x="507" y="20"/>
                    </a:lnTo>
                    <a:lnTo>
                      <a:pt x="563" y="12"/>
                    </a:lnTo>
                    <a:lnTo>
                      <a:pt x="640" y="0"/>
                    </a:lnTo>
                    <a:lnTo>
                      <a:pt x="654" y="99"/>
                    </a:lnTo>
                    <a:lnTo>
                      <a:pt x="590" y="132"/>
                    </a:lnTo>
                    <a:lnTo>
                      <a:pt x="534" y="143"/>
                    </a:lnTo>
                    <a:lnTo>
                      <a:pt x="532" y="112"/>
                    </a:lnTo>
                    <a:lnTo>
                      <a:pt x="485" y="136"/>
                    </a:lnTo>
                    <a:lnTo>
                      <a:pt x="465" y="167"/>
                    </a:lnTo>
                    <a:lnTo>
                      <a:pt x="407" y="176"/>
                    </a:lnTo>
                    <a:lnTo>
                      <a:pt x="402" y="179"/>
                    </a:lnTo>
                    <a:lnTo>
                      <a:pt x="398" y="183"/>
                    </a:lnTo>
                    <a:lnTo>
                      <a:pt x="393" y="188"/>
                    </a:lnTo>
                    <a:lnTo>
                      <a:pt x="386" y="196"/>
                    </a:lnTo>
                    <a:lnTo>
                      <a:pt x="381" y="207"/>
                    </a:lnTo>
                    <a:lnTo>
                      <a:pt x="378" y="212"/>
                    </a:lnTo>
                    <a:lnTo>
                      <a:pt x="375" y="219"/>
                    </a:lnTo>
                    <a:lnTo>
                      <a:pt x="373" y="225"/>
                    </a:lnTo>
                    <a:lnTo>
                      <a:pt x="371" y="233"/>
                    </a:lnTo>
                    <a:lnTo>
                      <a:pt x="365" y="262"/>
                    </a:lnTo>
                    <a:lnTo>
                      <a:pt x="361" y="283"/>
                    </a:lnTo>
                    <a:lnTo>
                      <a:pt x="358" y="298"/>
                    </a:lnTo>
                    <a:lnTo>
                      <a:pt x="357" y="303"/>
                    </a:lnTo>
                    <a:lnTo>
                      <a:pt x="357" y="306"/>
                    </a:lnTo>
                    <a:lnTo>
                      <a:pt x="356" y="315"/>
                    </a:lnTo>
                    <a:lnTo>
                      <a:pt x="354" y="322"/>
                    </a:lnTo>
                    <a:lnTo>
                      <a:pt x="352" y="327"/>
                    </a:lnTo>
                    <a:lnTo>
                      <a:pt x="348" y="333"/>
                    </a:lnTo>
                    <a:lnTo>
                      <a:pt x="346" y="335"/>
                    </a:lnTo>
                    <a:lnTo>
                      <a:pt x="344" y="336"/>
                    </a:lnTo>
                    <a:lnTo>
                      <a:pt x="341" y="339"/>
                    </a:lnTo>
                    <a:lnTo>
                      <a:pt x="337" y="340"/>
                    </a:lnTo>
                    <a:lnTo>
                      <a:pt x="333" y="341"/>
                    </a:lnTo>
                    <a:lnTo>
                      <a:pt x="328" y="343"/>
                    </a:lnTo>
                    <a:lnTo>
                      <a:pt x="323" y="344"/>
                    </a:lnTo>
                    <a:lnTo>
                      <a:pt x="311" y="344"/>
                    </a:lnTo>
                    <a:lnTo>
                      <a:pt x="300" y="344"/>
                    </a:lnTo>
                    <a:lnTo>
                      <a:pt x="282" y="343"/>
                    </a:lnTo>
                    <a:lnTo>
                      <a:pt x="275" y="341"/>
                    </a:lnTo>
                    <a:lnTo>
                      <a:pt x="271" y="341"/>
                    </a:lnTo>
                    <a:lnTo>
                      <a:pt x="269" y="343"/>
                    </a:lnTo>
                    <a:lnTo>
                      <a:pt x="269" y="344"/>
                    </a:lnTo>
                    <a:lnTo>
                      <a:pt x="270" y="345"/>
                    </a:lnTo>
                    <a:lnTo>
                      <a:pt x="270" y="348"/>
                    </a:lnTo>
                    <a:lnTo>
                      <a:pt x="271" y="354"/>
                    </a:lnTo>
                    <a:lnTo>
                      <a:pt x="273" y="374"/>
                    </a:lnTo>
                    <a:lnTo>
                      <a:pt x="273" y="393"/>
                    </a:lnTo>
                    <a:lnTo>
                      <a:pt x="273" y="405"/>
                    </a:lnTo>
                    <a:lnTo>
                      <a:pt x="273" y="406"/>
                    </a:lnTo>
                    <a:lnTo>
                      <a:pt x="271" y="406"/>
                    </a:lnTo>
                    <a:lnTo>
                      <a:pt x="265" y="409"/>
                    </a:lnTo>
                    <a:lnTo>
                      <a:pt x="257" y="410"/>
                    </a:lnTo>
                    <a:lnTo>
                      <a:pt x="249" y="410"/>
                    </a:lnTo>
                    <a:lnTo>
                      <a:pt x="232" y="411"/>
                    </a:lnTo>
                    <a:lnTo>
                      <a:pt x="224" y="413"/>
                    </a:lnTo>
                    <a:lnTo>
                      <a:pt x="228" y="360"/>
                    </a:lnTo>
                    <a:lnTo>
                      <a:pt x="188" y="318"/>
                    </a:lnTo>
                    <a:lnTo>
                      <a:pt x="184" y="286"/>
                    </a:lnTo>
                    <a:lnTo>
                      <a:pt x="127" y="257"/>
                    </a:lnTo>
                    <a:lnTo>
                      <a:pt x="35" y="216"/>
                    </a:lnTo>
                    <a:lnTo>
                      <a:pt x="18" y="216"/>
                    </a:lnTo>
                    <a:lnTo>
                      <a:pt x="18" y="137"/>
                    </a:lnTo>
                    <a:lnTo>
                      <a:pt x="7" y="134"/>
                    </a:lnTo>
                    <a:lnTo>
                      <a:pt x="5" y="132"/>
                    </a:lnTo>
                    <a:lnTo>
                      <a:pt x="2" y="120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7"/>
                    </a:lnTo>
                    <a:lnTo>
                      <a:pt x="0" y="83"/>
                    </a:lnTo>
                    <a:lnTo>
                      <a:pt x="1" y="82"/>
                    </a:lnTo>
                    <a:lnTo>
                      <a:pt x="2" y="80"/>
                    </a:lnTo>
                    <a:lnTo>
                      <a:pt x="22" y="80"/>
                    </a:lnTo>
                    <a:lnTo>
                      <a:pt x="38" y="79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4" name=""/>
              <p:cNvGrpSpPr/>
              <p:nvPr/>
            </p:nvGrpSpPr>
            <p:grpSpPr>
              <a:xfrm>
                <a:off x="5084640" y="1298520"/>
                <a:ext cx="3378240" cy="4122720"/>
                <a:chOff x="5084640" y="1298520"/>
                <a:chExt cx="3378240" cy="41227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7661160" y="487980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115" h="91">
                      <a:moveTo>
                        <a:pt x="38" y="0"/>
                      </a:moveTo>
                      <a:lnTo>
                        <a:pt x="80" y="2"/>
                      </a:lnTo>
                      <a:lnTo>
                        <a:pt x="113" y="25"/>
                      </a:lnTo>
                      <a:lnTo>
                        <a:pt x="115" y="74"/>
                      </a:lnTo>
                      <a:lnTo>
                        <a:pt x="96" y="91"/>
                      </a:lnTo>
                      <a:lnTo>
                        <a:pt x="9" y="85"/>
                      </a:lnTo>
                      <a:lnTo>
                        <a:pt x="0" y="45"/>
                      </a:lnTo>
                      <a:lnTo>
                        <a:pt x="30" y="39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6997680" y="3927240"/>
                  <a:ext cx="187200" cy="174600"/>
                </a:xfrm>
                <a:custGeom>
                  <a:avLst/>
                  <a:gdLst/>
                  <a:ahLst/>
                  <a:rect l="l" t="t" r="r" b="b"/>
                  <a:pathLst>
                    <a:path w="364" h="336">
                      <a:moveTo>
                        <a:pt x="3" y="314"/>
                      </a:moveTo>
                      <a:lnTo>
                        <a:pt x="27" y="336"/>
                      </a:lnTo>
                      <a:lnTo>
                        <a:pt x="73" y="276"/>
                      </a:lnTo>
                      <a:lnTo>
                        <a:pt x="79" y="285"/>
                      </a:lnTo>
                      <a:lnTo>
                        <a:pt x="86" y="294"/>
                      </a:lnTo>
                      <a:lnTo>
                        <a:pt x="94" y="305"/>
                      </a:lnTo>
                      <a:lnTo>
                        <a:pt x="102" y="314"/>
                      </a:lnTo>
                      <a:lnTo>
                        <a:pt x="106" y="318"/>
                      </a:lnTo>
                      <a:lnTo>
                        <a:pt x="110" y="322"/>
                      </a:lnTo>
                      <a:lnTo>
                        <a:pt x="111" y="323"/>
                      </a:lnTo>
                      <a:lnTo>
                        <a:pt x="114" y="323"/>
                      </a:lnTo>
                      <a:lnTo>
                        <a:pt x="116" y="325"/>
                      </a:lnTo>
                      <a:lnTo>
                        <a:pt x="119" y="326"/>
                      </a:lnTo>
                      <a:lnTo>
                        <a:pt x="122" y="323"/>
                      </a:lnTo>
                      <a:lnTo>
                        <a:pt x="128" y="317"/>
                      </a:lnTo>
                      <a:lnTo>
                        <a:pt x="140" y="303"/>
                      </a:lnTo>
                      <a:lnTo>
                        <a:pt x="172" y="272"/>
                      </a:lnTo>
                      <a:lnTo>
                        <a:pt x="215" y="230"/>
                      </a:lnTo>
                      <a:lnTo>
                        <a:pt x="238" y="252"/>
                      </a:lnTo>
                      <a:lnTo>
                        <a:pt x="265" y="203"/>
                      </a:lnTo>
                      <a:lnTo>
                        <a:pt x="335" y="243"/>
                      </a:lnTo>
                      <a:lnTo>
                        <a:pt x="364" y="215"/>
                      </a:lnTo>
                      <a:lnTo>
                        <a:pt x="239" y="70"/>
                      </a:lnTo>
                      <a:lnTo>
                        <a:pt x="148" y="154"/>
                      </a:lnTo>
                      <a:lnTo>
                        <a:pt x="93" y="83"/>
                      </a:lnTo>
                      <a:lnTo>
                        <a:pt x="140" y="25"/>
                      </a:lnTo>
                      <a:lnTo>
                        <a:pt x="126" y="0"/>
                      </a:lnTo>
                      <a:lnTo>
                        <a:pt x="0" y="112"/>
                      </a:lnTo>
                      <a:lnTo>
                        <a:pt x="83" y="212"/>
                      </a:lnTo>
                      <a:lnTo>
                        <a:pt x="3" y="31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7681680" y="487656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2" y="14"/>
                      </a:lnTo>
                      <a:lnTo>
                        <a:pt x="4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7413480" y="5056200"/>
                  <a:ext cx="60120" cy="79200"/>
                </a:xfrm>
                <a:custGeom>
                  <a:avLst/>
                  <a:gdLst/>
                  <a:ahLst/>
                  <a:rect l="l" t="t" r="r" b="b"/>
                  <a:pathLst>
                    <a:path w="119" h="158">
                      <a:moveTo>
                        <a:pt x="11" y="10"/>
                      </a:moveTo>
                      <a:lnTo>
                        <a:pt x="45" y="14"/>
                      </a:lnTo>
                      <a:lnTo>
                        <a:pt x="53" y="42"/>
                      </a:lnTo>
                      <a:lnTo>
                        <a:pt x="106" y="0"/>
                      </a:lnTo>
                      <a:lnTo>
                        <a:pt x="119" y="31"/>
                      </a:lnTo>
                      <a:lnTo>
                        <a:pt x="49" y="88"/>
                      </a:lnTo>
                      <a:lnTo>
                        <a:pt x="45" y="158"/>
                      </a:lnTo>
                      <a:lnTo>
                        <a:pt x="0" y="158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980040" y="2092320"/>
                  <a:ext cx="82440" cy="110880"/>
                </a:xfrm>
                <a:custGeom>
                  <a:avLst/>
                  <a:gdLst/>
                  <a:ahLst/>
                  <a:rect l="l" t="t" r="r" b="b"/>
                  <a:pathLst>
                    <a:path w="162" h="217">
                      <a:moveTo>
                        <a:pt x="126" y="197"/>
                      </a:moveTo>
                      <a:lnTo>
                        <a:pt x="76" y="217"/>
                      </a:lnTo>
                      <a:lnTo>
                        <a:pt x="0" y="143"/>
                      </a:lnTo>
                      <a:lnTo>
                        <a:pt x="47" y="91"/>
                      </a:lnTo>
                      <a:lnTo>
                        <a:pt x="38" y="44"/>
                      </a:lnTo>
                      <a:lnTo>
                        <a:pt x="37" y="14"/>
                      </a:lnTo>
                      <a:lnTo>
                        <a:pt x="130" y="0"/>
                      </a:lnTo>
                      <a:lnTo>
                        <a:pt x="150" y="58"/>
                      </a:lnTo>
                      <a:lnTo>
                        <a:pt x="162" y="98"/>
                      </a:lnTo>
                      <a:lnTo>
                        <a:pt x="111" y="139"/>
                      </a:lnTo>
                      <a:lnTo>
                        <a:pt x="126" y="19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5289480" y="463860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90" h="13">
                      <a:moveTo>
                        <a:pt x="0" y="3"/>
                      </a:moveTo>
                      <a:lnTo>
                        <a:pt x="45" y="2"/>
                      </a:lnTo>
                      <a:lnTo>
                        <a:pt x="90" y="0"/>
                      </a:lnTo>
                      <a:lnTo>
                        <a:pt x="90" y="11"/>
                      </a:lnTo>
                      <a:lnTo>
                        <a:pt x="45" y="12"/>
                      </a:lnTo>
                      <a:lnTo>
                        <a:pt x="0" y="1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5289480" y="464004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5335560" y="4625640"/>
                  <a:ext cx="83880" cy="19080"/>
                </a:xfrm>
                <a:custGeom>
                  <a:avLst/>
                  <a:gdLst/>
                  <a:ahLst/>
                  <a:rect l="l" t="t" r="r" b="b"/>
                  <a:pathLst>
                    <a:path w="165" h="35">
                      <a:moveTo>
                        <a:pt x="0" y="24"/>
                      </a:moveTo>
                      <a:lnTo>
                        <a:pt x="86" y="12"/>
                      </a:lnTo>
                      <a:lnTo>
                        <a:pt x="163" y="0"/>
                      </a:lnTo>
                      <a:lnTo>
                        <a:pt x="165" y="11"/>
                      </a:lnTo>
                      <a:lnTo>
                        <a:pt x="87" y="23"/>
                      </a:lnTo>
                      <a:lnTo>
                        <a:pt x="1" y="3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5414760" y="4628880"/>
                  <a:ext cx="12600" cy="50760"/>
                </a:xfrm>
                <a:custGeom>
                  <a:avLst/>
                  <a:gdLst/>
                  <a:ahLst/>
                  <a:rect l="l" t="t" r="r" b="b"/>
                  <a:pathLst>
                    <a:path w="24" h="100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13" y="100"/>
                      </a:lnTo>
                      <a:lnTo>
                        <a:pt x="24" y="9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5414760" y="46256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9" y="0"/>
                      </a:lnTo>
                      <a:lnTo>
                        <a:pt x="11" y="6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5392440" y="46782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68" h="42">
                      <a:moveTo>
                        <a:pt x="68" y="9"/>
                      </a:moveTo>
                      <a:lnTo>
                        <a:pt x="63" y="0"/>
                      </a:lnTo>
                      <a:lnTo>
                        <a:pt x="0" y="33"/>
                      </a:lnTo>
                      <a:lnTo>
                        <a:pt x="5" y="42"/>
                      </a:lnTo>
                      <a:lnTo>
                        <a:pt x="68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5422680" y="46782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5362560" y="469584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1" h="21">
                      <a:moveTo>
                        <a:pt x="61" y="9"/>
                      </a:moveTo>
                      <a:lnTo>
                        <a:pt x="57" y="0"/>
                      </a:lnTo>
                      <a:lnTo>
                        <a:pt x="0" y="12"/>
                      </a:lnTo>
                      <a:lnTo>
                        <a:pt x="4" y="21"/>
                      </a:lnTo>
                      <a:lnTo>
                        <a:pt x="61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5359320" y="4686120"/>
                  <a:ext cx="6120" cy="1764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2" y="31"/>
                      </a:moveTo>
                      <a:lnTo>
                        <a:pt x="12" y="3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3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5360760" y="47019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9"/>
                      </a:move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5337000" y="4684680"/>
                  <a:ext cx="27000" cy="17280"/>
                </a:xfrm>
                <a:custGeom>
                  <a:avLst/>
                  <a:gdLst/>
                  <a:ahLst/>
                  <a:rect l="l" t="t" r="r" b="b"/>
                  <a:pathLst>
                    <a:path w="52" h="33">
                      <a:moveTo>
                        <a:pt x="52" y="9"/>
                      </a:moveTo>
                      <a:lnTo>
                        <a:pt x="46" y="0"/>
                      </a:lnTo>
                      <a:lnTo>
                        <a:pt x="0" y="24"/>
                      </a:lnTo>
                      <a:lnTo>
                        <a:pt x="6" y="33"/>
                      </a:lnTo>
                      <a:lnTo>
                        <a:pt x="52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5359320" y="46828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7"/>
                      </a:move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8" y="12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5325840" y="4697280"/>
                  <a:ext cx="15840" cy="19080"/>
                </a:xfrm>
                <a:custGeom>
                  <a:avLst/>
                  <a:gdLst/>
                  <a:ahLst/>
                  <a:rect l="l" t="t" r="r" b="b"/>
                  <a:pathLst>
                    <a:path w="29" h="37">
                      <a:moveTo>
                        <a:pt x="29" y="5"/>
                      </a:moveTo>
                      <a:lnTo>
                        <a:pt x="20" y="0"/>
                      </a:lnTo>
                      <a:lnTo>
                        <a:pt x="0" y="32"/>
                      </a:lnTo>
                      <a:lnTo>
                        <a:pt x="9" y="37"/>
                      </a:lnTo>
                      <a:lnTo>
                        <a:pt x="29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5337000" y="46972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9" y="6"/>
                      </a:lnTo>
                      <a:lnTo>
                        <a:pt x="8" y="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5297400" y="471168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0" h="19">
                      <a:moveTo>
                        <a:pt x="60" y="10"/>
                      </a:moveTo>
                      <a:lnTo>
                        <a:pt x="58" y="0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6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5325840" y="4711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7"/>
                      </a:move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5278320" y="4717800"/>
                  <a:ext cx="20520" cy="3168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44" y="7"/>
                      </a:moveTo>
                      <a:lnTo>
                        <a:pt x="38" y="10"/>
                      </a:lnTo>
                      <a:lnTo>
                        <a:pt x="31" y="19"/>
                      </a:lnTo>
                      <a:lnTo>
                        <a:pt x="19" y="35"/>
                      </a:lnTo>
                      <a:lnTo>
                        <a:pt x="15" y="47"/>
                      </a:lnTo>
                      <a:lnTo>
                        <a:pt x="11" y="61"/>
                      </a:lnTo>
                      <a:lnTo>
                        <a:pt x="0" y="59"/>
                      </a:lnTo>
                      <a:lnTo>
                        <a:pt x="4" y="44"/>
                      </a:lnTo>
                      <a:lnTo>
                        <a:pt x="9" y="30"/>
                      </a:lnTo>
                      <a:lnTo>
                        <a:pt x="23" y="13"/>
                      </a:lnTo>
                      <a:lnTo>
                        <a:pt x="32" y="2"/>
                      </a:lnTo>
                      <a:lnTo>
                        <a:pt x="37" y="0"/>
                      </a:lnTo>
                      <a:lnTo>
                        <a:pt x="44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5295600" y="471780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5270400" y="474804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25" y="1"/>
                      </a:moveTo>
                      <a:lnTo>
                        <a:pt x="13" y="51"/>
                      </a:lnTo>
                      <a:lnTo>
                        <a:pt x="10" y="74"/>
                      </a:lnTo>
                      <a:lnTo>
                        <a:pt x="0" y="72"/>
                      </a:lnTo>
                      <a:lnTo>
                        <a:pt x="2" y="50"/>
                      </a:lnTo>
                      <a:lnTo>
                        <a:pt x="14" y="0"/>
                      </a:lnTo>
                      <a:lnTo>
                        <a:pt x="25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5254560" y="478620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41" y="0"/>
                      </a:moveTo>
                      <a:lnTo>
                        <a:pt x="40" y="10"/>
                      </a:lnTo>
                      <a:lnTo>
                        <a:pt x="35" y="23"/>
                      </a:lnTo>
                      <a:lnTo>
                        <a:pt x="29" y="31"/>
                      </a:lnTo>
                      <a:lnTo>
                        <a:pt x="23" y="35"/>
                      </a:lnTo>
                      <a:lnTo>
                        <a:pt x="14" y="41"/>
                      </a:lnTo>
                      <a:lnTo>
                        <a:pt x="3" y="43"/>
                      </a:lnTo>
                      <a:lnTo>
                        <a:pt x="0" y="34"/>
                      </a:lnTo>
                      <a:lnTo>
                        <a:pt x="10" y="31"/>
                      </a:lnTo>
                      <a:lnTo>
                        <a:pt x="16" y="27"/>
                      </a:lnTo>
                      <a:lnTo>
                        <a:pt x="21" y="25"/>
                      </a:lnTo>
                      <a:lnTo>
                        <a:pt x="25" y="18"/>
                      </a:lnTo>
                      <a:lnTo>
                        <a:pt x="29" y="8"/>
                      </a:lnTo>
                      <a:lnTo>
                        <a:pt x="3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5224320" y="480204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60" y="13"/>
                      </a:moveTo>
                      <a:lnTo>
                        <a:pt x="37" y="13"/>
                      </a:lnTo>
                      <a:lnTo>
                        <a:pt x="19" y="12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1" y="8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8" y="0"/>
                      </a:lnTo>
                      <a:lnTo>
                        <a:pt x="19" y="3"/>
                      </a:lnTo>
                      <a:lnTo>
                        <a:pt x="37" y="4"/>
                      </a:lnTo>
                      <a:lnTo>
                        <a:pt x="60" y="3"/>
                      </a:lnTo>
                      <a:lnTo>
                        <a:pt x="60" y="1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5254560" y="4803480"/>
                  <a:ext cx="1440" cy="50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5224320" y="4805280"/>
                  <a:ext cx="7920" cy="31680"/>
                </a:xfrm>
                <a:custGeom>
                  <a:avLst/>
                  <a:gdLst/>
                  <a:ahLst/>
                  <a:rect l="l" t="t" r="r" b="b"/>
                  <a:pathLst>
                    <a:path w="15" h="62">
                      <a:moveTo>
                        <a:pt x="11" y="0"/>
                      </a:moveTo>
                      <a:lnTo>
                        <a:pt x="14" y="11"/>
                      </a:lnTo>
                      <a:lnTo>
                        <a:pt x="15" y="31"/>
                      </a:lnTo>
                      <a:lnTo>
                        <a:pt x="15" y="62"/>
                      </a:lnTo>
                      <a:lnTo>
                        <a:pt x="4" y="62"/>
                      </a:lnTo>
                      <a:lnTo>
                        <a:pt x="4" y="31"/>
                      </a:lnTo>
                      <a:lnTo>
                        <a:pt x="3" y="13"/>
                      </a:lnTo>
                      <a:lnTo>
                        <a:pt x="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5203800" y="483552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53" y="9"/>
                      </a:moveTo>
                      <a:lnTo>
                        <a:pt x="44" y="12"/>
                      </a:lnTo>
                      <a:lnTo>
                        <a:pt x="28" y="14"/>
                      </a:lnTo>
                      <a:lnTo>
                        <a:pt x="3" y="17"/>
                      </a:lnTo>
                      <a:lnTo>
                        <a:pt x="0" y="8"/>
                      </a:lnTo>
                      <a:lnTo>
                        <a:pt x="25" y="5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5227560" y="48355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5200560" y="4813200"/>
                  <a:ext cx="7920" cy="28440"/>
                </a:xfrm>
                <a:custGeom>
                  <a:avLst/>
                  <a:gdLst/>
                  <a:ahLst/>
                  <a:rect l="l" t="t" r="r" b="b"/>
                  <a:pathLst>
                    <a:path w="14" h="56">
                      <a:moveTo>
                        <a:pt x="0" y="53"/>
                      </a:moveTo>
                      <a:lnTo>
                        <a:pt x="10" y="56"/>
                      </a:lnTo>
                      <a:lnTo>
                        <a:pt x="14" y="3"/>
                      </a:lnTo>
                      <a:lnTo>
                        <a:pt x="4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5200560" y="483840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7" y="9"/>
                      </a:moveTo>
                      <a:lnTo>
                        <a:pt x="0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lnTo>
                        <a:pt x="4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5182920" y="4790880"/>
                  <a:ext cx="23760" cy="2556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0" y="50"/>
                      </a:moveTo>
                      <a:lnTo>
                        <a:pt x="46" y="4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0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5203800" y="48132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10" y="5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2" y="8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5179680" y="4775040"/>
                  <a:ext cx="7920" cy="1764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4" y="32"/>
                      </a:moveTo>
                      <a:lnTo>
                        <a:pt x="13" y="3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5182920" y="47908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8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5152680" y="4759200"/>
                  <a:ext cx="32040" cy="1908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57" y="38"/>
                      </a:moveTo>
                      <a:lnTo>
                        <a:pt x="62" y="29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57" y="3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5179680" y="47736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4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5106960" y="4738680"/>
                  <a:ext cx="48960" cy="25200"/>
                </a:xfrm>
                <a:custGeom>
                  <a:avLst/>
                  <a:gdLst/>
                  <a:ahLst/>
                  <a:rect l="l" t="t" r="r" b="b"/>
                  <a:pathLst>
                    <a:path w="97" h="50">
                      <a:moveTo>
                        <a:pt x="92" y="50"/>
                      </a:moveTo>
                      <a:lnTo>
                        <a:pt x="97" y="41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92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5152680" y="475920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5106960" y="473688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5094000" y="4700520"/>
                  <a:ext cx="6480" cy="3960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5094000" y="47368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10"/>
                      </a:move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11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5090760" y="469584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12"/>
                      </a:moveTo>
                      <a:lnTo>
                        <a:pt x="13" y="3"/>
                      </a:ln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9" y="1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5094000" y="469728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5089320" y="4695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3" y="10"/>
                      </a:move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0" y="8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5090760" y="469584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1" y="10"/>
                      </a:move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5084640" y="4668840"/>
                  <a:ext cx="9360" cy="28440"/>
                </a:xfrm>
                <a:custGeom>
                  <a:avLst/>
                  <a:gdLst/>
                  <a:ahLst/>
                  <a:rect l="l" t="t" r="r" b="b"/>
                  <a:pathLst>
                    <a:path w="16" h="55">
                      <a:moveTo>
                        <a:pt x="7" y="55"/>
                      </a:moveTo>
                      <a:lnTo>
                        <a:pt x="1" y="26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12" y="5"/>
                      </a:lnTo>
                      <a:lnTo>
                        <a:pt x="9" y="10"/>
                      </a:lnTo>
                      <a:lnTo>
                        <a:pt x="11" y="23"/>
                      </a:lnTo>
                      <a:lnTo>
                        <a:pt x="16" y="52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5089320" y="469584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5089320" y="466704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0" y="1"/>
                      </a:moveTo>
                      <a:lnTo>
                        <a:pt x="37" y="0"/>
                      </a:lnTo>
                      <a:lnTo>
                        <a:pt x="37" y="10"/>
                      </a:lnTo>
                      <a:lnTo>
                        <a:pt x="0" y="1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5086080" y="46670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5106960" y="46670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789600" y="4922640"/>
                  <a:ext cx="93600" cy="149400"/>
                </a:xfrm>
                <a:custGeom>
                  <a:avLst/>
                  <a:gdLst/>
                  <a:ahLst/>
                  <a:rect l="l" t="t" r="r" b="b"/>
                  <a:pathLst>
                    <a:path w="185" h="291">
                      <a:moveTo>
                        <a:pt x="79" y="6"/>
                      </a:moveTo>
                      <a:lnTo>
                        <a:pt x="179" y="48"/>
                      </a:lnTo>
                      <a:lnTo>
                        <a:pt x="185" y="105"/>
                      </a:lnTo>
                      <a:lnTo>
                        <a:pt x="167" y="134"/>
                      </a:lnTo>
                      <a:lnTo>
                        <a:pt x="126" y="200"/>
                      </a:lnTo>
                      <a:lnTo>
                        <a:pt x="105" y="234"/>
                      </a:lnTo>
                      <a:lnTo>
                        <a:pt x="85" y="263"/>
                      </a:lnTo>
                      <a:lnTo>
                        <a:pt x="71" y="284"/>
                      </a:lnTo>
                      <a:lnTo>
                        <a:pt x="65" y="289"/>
                      </a:lnTo>
                      <a:lnTo>
                        <a:pt x="64" y="291"/>
                      </a:lnTo>
                      <a:lnTo>
                        <a:pt x="55" y="288"/>
                      </a:lnTo>
                      <a:lnTo>
                        <a:pt x="43" y="284"/>
                      </a:lnTo>
                      <a:lnTo>
                        <a:pt x="38" y="283"/>
                      </a:lnTo>
                      <a:lnTo>
                        <a:pt x="33" y="280"/>
                      </a:lnTo>
                      <a:lnTo>
                        <a:pt x="30" y="277"/>
                      </a:lnTo>
                      <a:lnTo>
                        <a:pt x="30" y="276"/>
                      </a:lnTo>
                      <a:lnTo>
                        <a:pt x="30" y="275"/>
                      </a:lnTo>
                      <a:lnTo>
                        <a:pt x="44" y="248"/>
                      </a:lnTo>
                      <a:lnTo>
                        <a:pt x="48" y="240"/>
                      </a:lnTo>
                      <a:lnTo>
                        <a:pt x="51" y="233"/>
                      </a:lnTo>
                      <a:lnTo>
                        <a:pt x="51" y="230"/>
                      </a:lnTo>
                      <a:lnTo>
                        <a:pt x="51" y="229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38" y="221"/>
                      </a:lnTo>
                      <a:lnTo>
                        <a:pt x="18" y="211"/>
                      </a:lnTo>
                      <a:lnTo>
                        <a:pt x="10" y="206"/>
                      </a:lnTo>
                      <a:lnTo>
                        <a:pt x="2" y="200"/>
                      </a:lnTo>
                      <a:lnTo>
                        <a:pt x="0" y="196"/>
                      </a:lnTo>
                      <a:lnTo>
                        <a:pt x="0" y="193"/>
                      </a:lnTo>
                      <a:lnTo>
                        <a:pt x="1" y="190"/>
                      </a:lnTo>
                      <a:lnTo>
                        <a:pt x="3" y="186"/>
                      </a:lnTo>
                      <a:lnTo>
                        <a:pt x="6" y="180"/>
                      </a:lnTo>
                      <a:lnTo>
                        <a:pt x="17" y="157"/>
                      </a:lnTo>
                      <a:lnTo>
                        <a:pt x="44" y="91"/>
                      </a:lnTo>
                      <a:lnTo>
                        <a:pt x="81" y="0"/>
                      </a:lnTo>
                      <a:lnTo>
                        <a:pt x="79" y="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827760" y="4922640"/>
                  <a:ext cx="54000" cy="25560"/>
                </a:xfrm>
                <a:custGeom>
                  <a:avLst/>
                  <a:gdLst/>
                  <a:ahLst/>
                  <a:rect l="l" t="t" r="r" b="b"/>
                  <a:pathLst>
                    <a:path w="106" h="5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00" y="51"/>
                      </a:lnTo>
                      <a:lnTo>
                        <a:pt x="106" y="4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878520" y="4946400"/>
                  <a:ext cx="7920" cy="3024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10" y="0"/>
                      </a:moveTo>
                      <a:lnTo>
                        <a:pt x="0" y="1"/>
                      </a:lnTo>
                      <a:lnTo>
                        <a:pt x="5" y="58"/>
                      </a:lnTo>
                      <a:lnTo>
                        <a:pt x="15" y="5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878520" y="494316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0"/>
                      </a:moveTo>
                      <a:lnTo>
                        <a:pt x="10" y="1"/>
                      </a:lnTo>
                      <a:lnTo>
                        <a:pt x="10" y="4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819840" y="4975200"/>
                  <a:ext cx="64800" cy="98280"/>
                </a:xfrm>
                <a:custGeom>
                  <a:avLst/>
                  <a:gdLst/>
                  <a:ahLst/>
                  <a:rect l="l" t="t" r="r" b="b"/>
                  <a:pathLst>
                    <a:path w="128" h="193">
                      <a:moveTo>
                        <a:pt x="128" y="5"/>
                      </a:moveTo>
                      <a:lnTo>
                        <a:pt x="70" y="100"/>
                      </a:lnTo>
                      <a:lnTo>
                        <a:pt x="29" y="164"/>
                      </a:lnTo>
                      <a:lnTo>
                        <a:pt x="15" y="186"/>
                      </a:lnTo>
                      <a:lnTo>
                        <a:pt x="8" y="193"/>
                      </a:lnTo>
                      <a:lnTo>
                        <a:pt x="0" y="186"/>
                      </a:lnTo>
                      <a:lnTo>
                        <a:pt x="7" y="179"/>
                      </a:lnTo>
                      <a:lnTo>
                        <a:pt x="20" y="158"/>
                      </a:lnTo>
                      <a:lnTo>
                        <a:pt x="61" y="95"/>
                      </a:lnTo>
                      <a:lnTo>
                        <a:pt x="119" y="0"/>
                      </a:lnTo>
                      <a:lnTo>
                        <a:pt x="128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879960" y="49752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3"/>
                      </a:moveTo>
                      <a:lnTo>
                        <a:pt x="9" y="5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800760" y="5062320"/>
                  <a:ext cx="20520" cy="1116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37" y="21"/>
                      </a:moveTo>
                      <a:lnTo>
                        <a:pt x="27" y="18"/>
                      </a:lnTo>
                      <a:lnTo>
                        <a:pt x="15" y="14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9" y="5"/>
                      </a:lnTo>
                      <a:lnTo>
                        <a:pt x="31" y="9"/>
                      </a:lnTo>
                      <a:lnTo>
                        <a:pt x="40" y="12"/>
                      </a:lnTo>
                      <a:lnTo>
                        <a:pt x="37" y="2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819840" y="50688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8"/>
                      </a:moveTo>
                      <a:lnTo>
                        <a:pt x="5" y="10"/>
                      </a:lnTo>
                      <a:lnTo>
                        <a:pt x="2" y="9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800760" y="5037120"/>
                  <a:ext cx="15840" cy="27000"/>
                </a:xfrm>
                <a:custGeom>
                  <a:avLst/>
                  <a:gdLst/>
                  <a:ahLst/>
                  <a:rect l="l" t="t" r="r" b="b"/>
                  <a:pathLst>
                    <a:path w="30" h="54">
                      <a:moveTo>
                        <a:pt x="0" y="49"/>
                      </a:moveTo>
                      <a:lnTo>
                        <a:pt x="14" y="23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9" y="0"/>
                      </a:lnTo>
                      <a:lnTo>
                        <a:pt x="30" y="3"/>
                      </a:lnTo>
                      <a:lnTo>
                        <a:pt x="30" y="12"/>
                      </a:lnTo>
                      <a:lnTo>
                        <a:pt x="23" y="28"/>
                      </a:lnTo>
                      <a:lnTo>
                        <a:pt x="9" y="54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800760" y="50608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786360" y="501948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53" y="42"/>
                      </a:moveTo>
                      <a:lnTo>
                        <a:pt x="41" y="37"/>
                      </a:lnTo>
                      <a:lnTo>
                        <a:pt x="20" y="26"/>
                      </a:lnTo>
                      <a:lnTo>
                        <a:pt x="4" y="1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11" y="7"/>
                      </a:lnTo>
                      <a:lnTo>
                        <a:pt x="27" y="18"/>
                      </a:lnTo>
                      <a:lnTo>
                        <a:pt x="46" y="28"/>
                      </a:lnTo>
                      <a:lnTo>
                        <a:pt x="57" y="33"/>
                      </a:lnTo>
                      <a:lnTo>
                        <a:pt x="53" y="4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6811920" y="503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1"/>
                      </a:moveTo>
                      <a:lnTo>
                        <a:pt x="5" y="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6786360" y="4921200"/>
                  <a:ext cx="46080" cy="100080"/>
                </a:xfrm>
                <a:custGeom>
                  <a:avLst/>
                  <a:gdLst/>
                  <a:ahLst/>
                  <a:rect l="l" t="t" r="r" b="b"/>
                  <a:pathLst>
                    <a:path w="90" h="195">
                      <a:moveTo>
                        <a:pt x="0" y="190"/>
                      </a:moveTo>
                      <a:lnTo>
                        <a:pt x="17" y="155"/>
                      </a:lnTo>
                      <a:lnTo>
                        <a:pt x="45" y="91"/>
                      </a:lnTo>
                      <a:lnTo>
                        <a:pt x="81" y="0"/>
                      </a:lnTo>
                      <a:lnTo>
                        <a:pt x="90" y="5"/>
                      </a:lnTo>
                      <a:lnTo>
                        <a:pt x="54" y="96"/>
                      </a:lnTo>
                      <a:lnTo>
                        <a:pt x="27" y="161"/>
                      </a:lnTo>
                      <a:lnTo>
                        <a:pt x="9" y="195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6786360" y="50180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6825960" y="492120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3"/>
                      </a:move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11" y="8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6827760" y="49212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0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9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6825960" y="49226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2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9" y="0"/>
                      </a:lnTo>
                      <a:lnTo>
                        <a:pt x="12" y="5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6610320" y="4995720"/>
                  <a:ext cx="114120" cy="201600"/>
                </a:xfrm>
                <a:custGeom>
                  <a:avLst/>
                  <a:gdLst/>
                  <a:ahLst/>
                  <a:rect l="l" t="t" r="r" b="b"/>
                  <a:pathLst>
                    <a:path w="223" h="389">
                      <a:moveTo>
                        <a:pt x="112" y="0"/>
                      </a:moveTo>
                      <a:lnTo>
                        <a:pt x="223" y="59"/>
                      </a:lnTo>
                      <a:lnTo>
                        <a:pt x="187" y="151"/>
                      </a:lnTo>
                      <a:lnTo>
                        <a:pt x="175" y="209"/>
                      </a:lnTo>
                      <a:lnTo>
                        <a:pt x="167" y="250"/>
                      </a:lnTo>
                      <a:lnTo>
                        <a:pt x="163" y="272"/>
                      </a:lnTo>
                      <a:lnTo>
                        <a:pt x="159" y="292"/>
                      </a:lnTo>
                      <a:lnTo>
                        <a:pt x="151" y="332"/>
                      </a:lnTo>
                      <a:lnTo>
                        <a:pt x="146" y="353"/>
                      </a:lnTo>
                      <a:lnTo>
                        <a:pt x="141" y="371"/>
                      </a:lnTo>
                      <a:lnTo>
                        <a:pt x="138" y="378"/>
                      </a:lnTo>
                      <a:lnTo>
                        <a:pt x="136" y="383"/>
                      </a:lnTo>
                      <a:lnTo>
                        <a:pt x="134" y="387"/>
                      </a:lnTo>
                      <a:lnTo>
                        <a:pt x="132" y="389"/>
                      </a:lnTo>
                      <a:lnTo>
                        <a:pt x="124" y="387"/>
                      </a:lnTo>
                      <a:lnTo>
                        <a:pt x="116" y="386"/>
                      </a:lnTo>
                      <a:lnTo>
                        <a:pt x="107" y="385"/>
                      </a:lnTo>
                      <a:lnTo>
                        <a:pt x="97" y="365"/>
                      </a:lnTo>
                      <a:lnTo>
                        <a:pt x="95" y="357"/>
                      </a:lnTo>
                      <a:lnTo>
                        <a:pt x="92" y="350"/>
                      </a:lnTo>
                      <a:lnTo>
                        <a:pt x="91" y="344"/>
                      </a:lnTo>
                      <a:lnTo>
                        <a:pt x="91" y="341"/>
                      </a:lnTo>
                      <a:lnTo>
                        <a:pt x="91" y="333"/>
                      </a:lnTo>
                      <a:lnTo>
                        <a:pt x="91" y="319"/>
                      </a:lnTo>
                      <a:lnTo>
                        <a:pt x="92" y="275"/>
                      </a:lnTo>
                      <a:lnTo>
                        <a:pt x="92" y="236"/>
                      </a:lnTo>
                      <a:lnTo>
                        <a:pt x="93" y="222"/>
                      </a:lnTo>
                      <a:lnTo>
                        <a:pt x="93" y="220"/>
                      </a:lnTo>
                      <a:lnTo>
                        <a:pt x="95" y="220"/>
                      </a:lnTo>
                      <a:lnTo>
                        <a:pt x="95" y="221"/>
                      </a:lnTo>
                      <a:lnTo>
                        <a:pt x="92" y="221"/>
                      </a:lnTo>
                      <a:lnTo>
                        <a:pt x="85" y="222"/>
                      </a:lnTo>
                      <a:lnTo>
                        <a:pt x="74" y="224"/>
                      </a:lnTo>
                      <a:lnTo>
                        <a:pt x="62" y="224"/>
                      </a:lnTo>
                      <a:lnTo>
                        <a:pt x="37" y="224"/>
                      </a:lnTo>
                      <a:lnTo>
                        <a:pt x="26" y="224"/>
                      </a:lnTo>
                      <a:lnTo>
                        <a:pt x="0" y="209"/>
                      </a:lnTo>
                      <a:lnTo>
                        <a:pt x="0" y="170"/>
                      </a:lnTo>
                      <a:lnTo>
                        <a:pt x="23" y="166"/>
                      </a:lnTo>
                      <a:lnTo>
                        <a:pt x="23" y="121"/>
                      </a:lnTo>
                      <a:lnTo>
                        <a:pt x="47" y="125"/>
                      </a:lnTo>
                      <a:lnTo>
                        <a:pt x="48" y="120"/>
                      </a:lnTo>
                      <a:lnTo>
                        <a:pt x="50" y="108"/>
                      </a:lnTo>
                      <a:lnTo>
                        <a:pt x="51" y="101"/>
                      </a:lnTo>
                      <a:lnTo>
                        <a:pt x="51" y="96"/>
                      </a:lnTo>
                      <a:lnTo>
                        <a:pt x="50" y="92"/>
                      </a:lnTo>
                      <a:lnTo>
                        <a:pt x="47" y="92"/>
                      </a:lnTo>
                      <a:lnTo>
                        <a:pt x="43" y="92"/>
                      </a:lnTo>
                      <a:lnTo>
                        <a:pt x="38" y="92"/>
                      </a:lnTo>
                      <a:lnTo>
                        <a:pt x="23" y="92"/>
                      </a:lnTo>
                      <a:lnTo>
                        <a:pt x="6" y="89"/>
                      </a:lnTo>
                      <a:lnTo>
                        <a:pt x="8" y="32"/>
                      </a:lnTo>
                      <a:lnTo>
                        <a:pt x="84" y="3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6665760" y="4995720"/>
                  <a:ext cx="60120" cy="34920"/>
                </a:xfrm>
                <a:custGeom>
                  <a:avLst/>
                  <a:gdLst/>
                  <a:ahLst/>
                  <a:rect l="l" t="t" r="r" b="b"/>
                  <a:pathLst>
                    <a:path w="116" h="68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11" y="68"/>
                      </a:lnTo>
                      <a:lnTo>
                        <a:pt x="116" y="5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702120" y="5027400"/>
                  <a:ext cx="25560" cy="4932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47" y="3"/>
                      </a:moveTo>
                      <a:lnTo>
                        <a:pt x="37" y="0"/>
                      </a:lnTo>
                      <a:lnTo>
                        <a:pt x="0" y="92"/>
                      </a:lnTo>
                      <a:lnTo>
                        <a:pt x="10" y="96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6721200" y="50259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0"/>
                      </a:moveTo>
                      <a:lnTo>
                        <a:pt x="11" y="1"/>
                      </a:lnTo>
                      <a:lnTo>
                        <a:pt x="10" y="6"/>
                      </a:lnTo>
                      <a:lnTo>
                        <a:pt x="0" y="3"/>
                      </a:lnTo>
                      <a:lnTo>
                        <a:pt x="3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6690960" y="5073480"/>
                  <a:ext cx="17640" cy="63360"/>
                </a:xfrm>
                <a:custGeom>
                  <a:avLst/>
                  <a:gdLst/>
                  <a:ahLst/>
                  <a:rect l="l" t="t" r="r" b="b"/>
                  <a:pathLst>
                    <a:path w="33" h="122">
                      <a:moveTo>
                        <a:pt x="33" y="1"/>
                      </a:moveTo>
                      <a:lnTo>
                        <a:pt x="11" y="122"/>
                      </a:lnTo>
                      <a:lnTo>
                        <a:pt x="0" y="121"/>
                      </a:lnTo>
                      <a:lnTo>
                        <a:pt x="22" y="0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675120" y="5136840"/>
                  <a:ext cx="20880" cy="61920"/>
                </a:xfrm>
                <a:custGeom>
                  <a:avLst/>
                  <a:gdLst/>
                  <a:ahLst/>
                  <a:rect l="l" t="t" r="r" b="b"/>
                  <a:pathLst>
                    <a:path w="41" h="121">
                      <a:moveTo>
                        <a:pt x="41" y="1"/>
                      </a:moveTo>
                      <a:lnTo>
                        <a:pt x="29" y="61"/>
                      </a:lnTo>
                      <a:lnTo>
                        <a:pt x="18" y="102"/>
                      </a:lnTo>
                      <a:lnTo>
                        <a:pt x="11" y="115"/>
                      </a:lnTo>
                      <a:lnTo>
                        <a:pt x="8" y="121"/>
                      </a:lnTo>
                      <a:lnTo>
                        <a:pt x="0" y="115"/>
                      </a:lnTo>
                      <a:lnTo>
                        <a:pt x="2" y="110"/>
                      </a:lnTo>
                      <a:lnTo>
                        <a:pt x="8" y="99"/>
                      </a:lnTo>
                      <a:lnTo>
                        <a:pt x="18" y="60"/>
                      </a:lnTo>
                      <a:lnTo>
                        <a:pt x="30" y="0"/>
                      </a:lnTo>
                      <a:lnTo>
                        <a:pt x="41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690960" y="513684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11" h="1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6664320" y="519264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8" y="13"/>
                      </a:moveTo>
                      <a:lnTo>
                        <a:pt x="9" y="10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12" y="1"/>
                      </a:lnTo>
                      <a:lnTo>
                        <a:pt x="28" y="4"/>
                      </a:lnTo>
                      <a:lnTo>
                        <a:pt x="28" y="1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675120" y="51958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7"/>
                      </a:move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6653160" y="5171760"/>
                  <a:ext cx="12600" cy="2412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16" y="46"/>
                      </a:moveTo>
                      <a:lnTo>
                        <a:pt x="8" y="26"/>
                      </a:lnTo>
                      <a:lnTo>
                        <a:pt x="3" y="12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1" y="1"/>
                      </a:lnTo>
                      <a:lnTo>
                        <a:pt x="12" y="8"/>
                      </a:lnTo>
                      <a:lnTo>
                        <a:pt x="17" y="21"/>
                      </a:lnTo>
                      <a:lnTo>
                        <a:pt x="25" y="41"/>
                      </a:lnTo>
                      <a:lnTo>
                        <a:pt x="16" y="4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661080" y="5192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9"/>
                      </a:move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653160" y="5108400"/>
                  <a:ext cx="6120" cy="63360"/>
                </a:xfrm>
                <a:custGeom>
                  <a:avLst/>
                  <a:gdLst/>
                  <a:ahLst/>
                  <a:rect l="l" t="t" r="r" b="b"/>
                  <a:pathLst>
                    <a:path w="13" h="124">
                      <a:moveTo>
                        <a:pt x="0" y="124"/>
                      </a:moveTo>
                      <a:lnTo>
                        <a:pt x="1" y="58"/>
                      </a:lnTo>
                      <a:lnTo>
                        <a:pt x="3" y="1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2" y="17"/>
                      </a:lnTo>
                      <a:lnTo>
                        <a:pt x="11" y="58"/>
                      </a:lnTo>
                      <a:lnTo>
                        <a:pt x="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6653160" y="517176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6621120" y="5108400"/>
                  <a:ext cx="38160" cy="6480"/>
                </a:xfrm>
                <a:custGeom>
                  <a:avLst/>
                  <a:gdLst/>
                  <a:ahLst/>
                  <a:rect l="l" t="t" r="r" b="b"/>
                  <a:pathLst>
                    <a:path w="72" h="12">
                      <a:moveTo>
                        <a:pt x="72" y="7"/>
                      </a:moveTo>
                      <a:lnTo>
                        <a:pt x="70" y="9"/>
                      </a:lnTo>
                      <a:lnTo>
                        <a:pt x="62" y="11"/>
                      </a:lnTo>
                      <a:lnTo>
                        <a:pt x="37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37" y="3"/>
                      </a:lnTo>
                      <a:lnTo>
                        <a:pt x="59" y="1"/>
                      </a:lnTo>
                      <a:lnTo>
                        <a:pt x="64" y="0"/>
                      </a:lnTo>
                      <a:lnTo>
                        <a:pt x="64" y="0"/>
                      </a:lnTo>
                      <a:lnTo>
                        <a:pt x="72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6654600" y="51084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5"/>
                      </a:moveTo>
                      <a:lnTo>
                        <a:pt x="1" y="0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6608520" y="5103720"/>
                  <a:ext cx="14400" cy="11160"/>
                </a:xfrm>
                <a:custGeom>
                  <a:avLst/>
                  <a:gdLst/>
                  <a:ahLst/>
                  <a:rect l="l" t="t" r="r" b="b"/>
                  <a:pathLst>
                    <a:path w="30" h="24">
                      <a:moveTo>
                        <a:pt x="25" y="24"/>
                      </a:moveTo>
                      <a:lnTo>
                        <a:pt x="30" y="15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25" y="2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6619680" y="510840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3" y="11"/>
                      </a:moveTo>
                      <a:lnTo>
                        <a:pt x="0" y="11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6607080" y="51037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9"/>
                      </a:move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6610320" y="507996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4"/>
                      </a:moveTo>
                      <a:lnTo>
                        <a:pt x="1" y="15"/>
                      </a:lnTo>
                      <a:lnTo>
                        <a:pt x="25" y="11"/>
                      </a:lnTo>
                      <a:lnTo>
                        <a:pt x="2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6607080" y="508140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6"/>
                      </a:moveTo>
                      <a:lnTo>
                        <a:pt x="0" y="2"/>
                      </a:lnTo>
                      <a:lnTo>
                        <a:pt x="6" y="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618240" y="5059080"/>
                  <a:ext cx="6120" cy="2376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618240" y="50799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7" y="11"/>
                      </a:moveTo>
                      <a:lnTo>
                        <a:pt x="11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6619680" y="505620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24" y="14"/>
                      </a:lnTo>
                      <a:lnTo>
                        <a:pt x="25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6618240" y="50562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6630840" y="5043240"/>
                  <a:ext cx="6480" cy="17640"/>
                </a:xfrm>
                <a:custGeom>
                  <a:avLst/>
                  <a:gdLst/>
                  <a:ahLst/>
                  <a:rect l="l" t="t" r="r" b="b"/>
                  <a:pathLst>
                    <a:path w="13" h="38">
                      <a:moveTo>
                        <a:pt x="0" y="35"/>
                      </a:moveTo>
                      <a:lnTo>
                        <a:pt x="3" y="18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9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8"/>
                      </a:lnTo>
                      <a:lnTo>
                        <a:pt x="12" y="21"/>
                      </a:lnTo>
                      <a:lnTo>
                        <a:pt x="9" y="38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6630840" y="505764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4" y="10"/>
                      </a:moveTo>
                      <a:lnTo>
                        <a:pt x="8" y="11"/>
                      </a:lnTo>
                      <a:lnTo>
                        <a:pt x="9" y="6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6611760" y="5041800"/>
                  <a:ext cx="22320" cy="6120"/>
                </a:xfrm>
                <a:custGeom>
                  <a:avLst/>
                  <a:gdLst/>
                  <a:ahLst/>
                  <a:rect l="l" t="t" r="r" b="b"/>
                  <a:pathLst>
                    <a:path w="42" h="12">
                      <a:moveTo>
                        <a:pt x="42" y="12"/>
                      </a:moveTo>
                      <a:lnTo>
                        <a:pt x="18" y="11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18" y="2"/>
                      </a:lnTo>
                      <a:lnTo>
                        <a:pt x="42" y="2"/>
                      </a:lnTo>
                      <a:lnTo>
                        <a:pt x="42" y="1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632280" y="5041800"/>
                  <a:ext cx="1800" cy="61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6610320" y="5013000"/>
                  <a:ext cx="4680" cy="30240"/>
                </a:xfrm>
                <a:custGeom>
                  <a:avLst/>
                  <a:gdLst/>
                  <a:ahLst/>
                  <a:rect l="l" t="t" r="r" b="b"/>
                  <a:pathLst>
                    <a:path w="12" h="57">
                      <a:moveTo>
                        <a:pt x="0" y="57"/>
                      </a:moveTo>
                      <a:lnTo>
                        <a:pt x="9" y="57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610320" y="50418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5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6613200" y="501012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76" y="15"/>
                      </a:lnTo>
                      <a:lnTo>
                        <a:pt x="7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611760" y="501012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1"/>
                      </a:lnTo>
                      <a:lnTo>
                        <a:pt x="1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651360" y="49957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36" h="43">
                      <a:moveTo>
                        <a:pt x="0" y="37"/>
                      </a:moveTo>
                      <a:lnTo>
                        <a:pt x="8" y="43"/>
                      </a:lnTo>
                      <a:lnTo>
                        <a:pt x="36" y="6"/>
                      </a:lnTo>
                      <a:lnTo>
                        <a:pt x="28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651360" y="501300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4" y="11"/>
                      </a:move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665760" y="49942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1" y="12"/>
                      </a:lnTo>
                      <a:lnTo>
                        <a:pt x="8" y="1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7367400" y="5302080"/>
                  <a:ext cx="169920" cy="117360"/>
                </a:xfrm>
                <a:custGeom>
                  <a:avLst/>
                  <a:gdLst/>
                  <a:ahLst/>
                  <a:rect l="l" t="t" r="r" b="b"/>
                  <a:pathLst>
                    <a:path w="331" h="228">
                      <a:moveTo>
                        <a:pt x="327" y="0"/>
                      </a:moveTo>
                      <a:lnTo>
                        <a:pt x="324" y="1"/>
                      </a:lnTo>
                      <a:lnTo>
                        <a:pt x="319" y="1"/>
                      </a:lnTo>
                      <a:lnTo>
                        <a:pt x="304" y="2"/>
                      </a:lnTo>
                      <a:lnTo>
                        <a:pt x="262" y="4"/>
                      </a:lnTo>
                      <a:lnTo>
                        <a:pt x="204" y="4"/>
                      </a:lnTo>
                      <a:lnTo>
                        <a:pt x="194" y="50"/>
                      </a:lnTo>
                      <a:lnTo>
                        <a:pt x="141" y="54"/>
                      </a:lnTo>
                      <a:lnTo>
                        <a:pt x="141" y="48"/>
                      </a:lnTo>
                      <a:lnTo>
                        <a:pt x="142" y="37"/>
                      </a:lnTo>
                      <a:lnTo>
                        <a:pt x="142" y="30"/>
                      </a:lnTo>
                      <a:lnTo>
                        <a:pt x="142" y="27"/>
                      </a:lnTo>
                      <a:lnTo>
                        <a:pt x="142" y="25"/>
                      </a:lnTo>
                      <a:lnTo>
                        <a:pt x="141" y="23"/>
                      </a:lnTo>
                      <a:lnTo>
                        <a:pt x="140" y="21"/>
                      </a:lnTo>
                      <a:lnTo>
                        <a:pt x="138" y="21"/>
                      </a:lnTo>
                      <a:lnTo>
                        <a:pt x="137" y="19"/>
                      </a:lnTo>
                      <a:lnTo>
                        <a:pt x="101" y="18"/>
                      </a:lnTo>
                      <a:lnTo>
                        <a:pt x="74" y="15"/>
                      </a:lnTo>
                      <a:lnTo>
                        <a:pt x="68" y="55"/>
                      </a:lnTo>
                      <a:lnTo>
                        <a:pt x="17" y="54"/>
                      </a:lnTo>
                      <a:lnTo>
                        <a:pt x="0" y="175"/>
                      </a:lnTo>
                      <a:lnTo>
                        <a:pt x="43" y="175"/>
                      </a:lnTo>
                      <a:lnTo>
                        <a:pt x="42" y="200"/>
                      </a:lnTo>
                      <a:lnTo>
                        <a:pt x="42" y="209"/>
                      </a:lnTo>
                      <a:lnTo>
                        <a:pt x="43" y="217"/>
                      </a:lnTo>
                      <a:lnTo>
                        <a:pt x="45" y="224"/>
                      </a:lnTo>
                      <a:lnTo>
                        <a:pt x="46" y="225"/>
                      </a:lnTo>
                      <a:lnTo>
                        <a:pt x="47" y="226"/>
                      </a:lnTo>
                      <a:lnTo>
                        <a:pt x="53" y="226"/>
                      </a:lnTo>
                      <a:lnTo>
                        <a:pt x="62" y="228"/>
                      </a:lnTo>
                      <a:lnTo>
                        <a:pt x="87" y="228"/>
                      </a:lnTo>
                      <a:lnTo>
                        <a:pt x="121" y="228"/>
                      </a:lnTo>
                      <a:lnTo>
                        <a:pt x="142" y="167"/>
                      </a:lnTo>
                      <a:lnTo>
                        <a:pt x="169" y="167"/>
                      </a:lnTo>
                      <a:lnTo>
                        <a:pt x="166" y="102"/>
                      </a:lnTo>
                      <a:lnTo>
                        <a:pt x="196" y="104"/>
                      </a:lnTo>
                      <a:lnTo>
                        <a:pt x="196" y="72"/>
                      </a:lnTo>
                      <a:lnTo>
                        <a:pt x="330" y="58"/>
                      </a:lnTo>
                      <a:lnTo>
                        <a:pt x="330" y="48"/>
                      </a:lnTo>
                      <a:lnTo>
                        <a:pt x="331" y="27"/>
                      </a:lnTo>
                      <a:lnTo>
                        <a:pt x="331" y="17"/>
                      </a:lnTo>
                      <a:lnTo>
                        <a:pt x="331" y="8"/>
                      </a:lnTo>
                      <a:lnTo>
                        <a:pt x="330" y="1"/>
                      </a:lnTo>
                      <a:lnTo>
                        <a:pt x="328" y="0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7472160" y="5298840"/>
                  <a:ext cx="63360" cy="7920"/>
                </a:xfrm>
                <a:custGeom>
                  <a:avLst/>
                  <a:gdLst/>
                  <a:ahLst/>
                  <a:rect l="l" t="t" r="r" b="b"/>
                  <a:pathLst>
                    <a:path w="124" h="13">
                      <a:moveTo>
                        <a:pt x="124" y="9"/>
                      </a:moveTo>
                      <a:lnTo>
                        <a:pt x="100" y="12"/>
                      </a:lnTo>
                      <a:lnTo>
                        <a:pt x="58" y="13"/>
                      </a:lnTo>
                      <a:lnTo>
                        <a:pt x="0" y="13"/>
                      </a:lnTo>
                      <a:lnTo>
                        <a:pt x="0" y="2"/>
                      </a:lnTo>
                      <a:lnTo>
                        <a:pt x="58" y="4"/>
                      </a:lnTo>
                      <a:lnTo>
                        <a:pt x="100" y="2"/>
                      </a:lnTo>
                      <a:lnTo>
                        <a:pt x="122" y="0"/>
                      </a:lnTo>
                      <a:lnTo>
                        <a:pt x="124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7462800" y="5302080"/>
                  <a:ext cx="12600" cy="2556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22" y="2"/>
                      </a:moveTo>
                      <a:lnTo>
                        <a:pt x="11" y="0"/>
                      </a:lnTo>
                      <a:lnTo>
                        <a:pt x="0" y="46"/>
                      </a:lnTo>
                      <a:lnTo>
                        <a:pt x="11" y="48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7468920" y="5300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1" y="6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7438680" y="5325840"/>
                  <a:ext cx="28800" cy="6480"/>
                </a:xfrm>
                <a:custGeom>
                  <a:avLst/>
                  <a:gdLst/>
                  <a:ahLst/>
                  <a:rect l="l" t="t" r="r" b="b"/>
                  <a:pathLst>
                    <a:path w="57" h="13">
                      <a:moveTo>
                        <a:pt x="57" y="9"/>
                      </a:moveTo>
                      <a:lnTo>
                        <a:pt x="54" y="0"/>
                      </a:lnTo>
                      <a:lnTo>
                        <a:pt x="0" y="4"/>
                      </a:lnTo>
                      <a:lnTo>
                        <a:pt x="3" y="13"/>
                      </a:lnTo>
                      <a:lnTo>
                        <a:pt x="57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7462800" y="53258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0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7435800" y="531000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13" h="40">
                      <a:moveTo>
                        <a:pt x="1" y="37"/>
                      </a:moveTo>
                      <a:lnTo>
                        <a:pt x="4" y="22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lnTo>
                        <a:pt x="9" y="2"/>
                      </a:lnTo>
                      <a:lnTo>
                        <a:pt x="13" y="8"/>
                      </a:lnTo>
                      <a:lnTo>
                        <a:pt x="13" y="22"/>
                      </a:lnTo>
                      <a:lnTo>
                        <a:pt x="11" y="40"/>
                      </a:lnTo>
                      <a:lnTo>
                        <a:pt x="1" y="3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7435800" y="53276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9"/>
                      </a:move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7403760" y="530676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62" y="4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7435800" y="5310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7397640" y="5308560"/>
                  <a:ext cx="9360" cy="219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0"/>
                      </a:lnTo>
                      <a:lnTo>
                        <a:pt x="10" y="41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7400880" y="53067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4"/>
                      </a:lnTo>
                      <a:lnTo>
                        <a:pt x="6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7375320" y="532764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0" y="10"/>
                      </a:moveTo>
                      <a:lnTo>
                        <a:pt x="5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5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7397640" y="53290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7364160" y="5329080"/>
                  <a:ext cx="14400" cy="63360"/>
                </a:xfrm>
                <a:custGeom>
                  <a:avLst/>
                  <a:gdLst/>
                  <a:ahLst/>
                  <a:rect l="l" t="t" r="r" b="b"/>
                  <a:pathLst>
                    <a:path w="27" h="123">
                      <a:moveTo>
                        <a:pt x="27" y="2"/>
                      </a:moveTo>
                      <a:lnTo>
                        <a:pt x="17" y="0"/>
                      </a:lnTo>
                      <a:lnTo>
                        <a:pt x="0" y="122"/>
                      </a:lnTo>
                      <a:lnTo>
                        <a:pt x="10" y="123"/>
                      </a:lnTo>
                      <a:lnTo>
                        <a:pt x="27" y="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7373880" y="5327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367400" y="5389560"/>
                  <a:ext cx="22320" cy="46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7364160" y="5389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4"/>
                      </a:move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5" y="0"/>
                      </a:lnTo>
                      <a:lnTo>
                        <a:pt x="1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7386480" y="5392440"/>
                  <a:ext cx="6480" cy="2700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12" y="0"/>
                      </a:moveTo>
                      <a:lnTo>
                        <a:pt x="10" y="25"/>
                      </a:lnTo>
                      <a:lnTo>
                        <a:pt x="12" y="42"/>
                      </a:lnTo>
                      <a:lnTo>
                        <a:pt x="12" y="46"/>
                      </a:lnTo>
                      <a:lnTo>
                        <a:pt x="14" y="49"/>
                      </a:lnTo>
                      <a:lnTo>
                        <a:pt x="6" y="55"/>
                      </a:lnTo>
                      <a:lnTo>
                        <a:pt x="2" y="51"/>
                      </a:lnTo>
                      <a:lnTo>
                        <a:pt x="1" y="44"/>
                      </a:lnTo>
                      <a:lnTo>
                        <a:pt x="0" y="25"/>
                      </a:lnTo>
                      <a:lnTo>
                        <a:pt x="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7386480" y="5389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5" y="0"/>
                      </a:move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7389720" y="5414760"/>
                  <a:ext cx="39600" cy="6480"/>
                </a:xfrm>
                <a:custGeom>
                  <a:avLst/>
                  <a:gdLst/>
                  <a:ahLst/>
                  <a:rect l="l" t="t" r="r" b="b"/>
                  <a:pathLst>
                    <a:path w="74" h="12">
                      <a:moveTo>
                        <a:pt x="0" y="0"/>
                      </a:moveTo>
                      <a:lnTo>
                        <a:pt x="40" y="1"/>
                      </a:lnTo>
                      <a:lnTo>
                        <a:pt x="74" y="1"/>
                      </a:lnTo>
                      <a:lnTo>
                        <a:pt x="74" y="12"/>
                      </a:lnTo>
                      <a:lnTo>
                        <a:pt x="40" y="12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7389720" y="54147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9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4" y="0"/>
                      </a:lnTo>
                      <a:lnTo>
                        <a:pt x="8" y="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7426080" y="538632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30" h="66">
                      <a:moveTo>
                        <a:pt x="0" y="61"/>
                      </a:moveTo>
                      <a:lnTo>
                        <a:pt x="9" y="66"/>
                      </a:lnTo>
                      <a:lnTo>
                        <a:pt x="30" y="6"/>
                      </a:lnTo>
                      <a:lnTo>
                        <a:pt x="21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7426080" y="5416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8" y="11"/>
                      </a:lnTo>
                      <a:lnTo>
                        <a:pt x="9" y="8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7437240" y="5386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7448400" y="5354640"/>
                  <a:ext cx="6480" cy="33120"/>
                </a:xfrm>
                <a:custGeom>
                  <a:avLst/>
                  <a:gdLst/>
                  <a:ahLst/>
                  <a:rect l="l" t="t" r="r" b="b"/>
                  <a:pathLst>
                    <a:path w="12" h="65">
                      <a:moveTo>
                        <a:pt x="2" y="65"/>
                      </a:moveTo>
                      <a:lnTo>
                        <a:pt x="12" y="6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6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7449840" y="538632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10"/>
                      </a:moveTo>
                      <a:lnTo>
                        <a:pt x="10" y="1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7451640" y="5351400"/>
                  <a:ext cx="15840" cy="612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30" y="12"/>
                      </a:lnTo>
                      <a:lnTo>
                        <a:pt x="3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7448400" y="5351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1"/>
                      </a:lnTo>
                      <a:lnTo>
                        <a:pt x="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7464240" y="53528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10"/>
                      </a:moveTo>
                      <a:lnTo>
                        <a:pt x="11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7467480" y="532908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132" h="25">
                      <a:moveTo>
                        <a:pt x="0" y="15"/>
                      </a:moveTo>
                      <a:lnTo>
                        <a:pt x="0" y="25"/>
                      </a:lnTo>
                      <a:lnTo>
                        <a:pt x="132" y="11"/>
                      </a:lnTo>
                      <a:lnTo>
                        <a:pt x="132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7464240" y="53355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7532640" y="5298840"/>
                  <a:ext cx="6120" cy="33480"/>
                </a:xfrm>
                <a:custGeom>
                  <a:avLst/>
                  <a:gdLst/>
                  <a:ahLst/>
                  <a:rect l="l" t="t" r="r" b="b"/>
                  <a:pathLst>
                    <a:path w="12" h="63">
                      <a:moveTo>
                        <a:pt x="0" y="60"/>
                      </a:moveTo>
                      <a:lnTo>
                        <a:pt x="3" y="31"/>
                      </a:lnTo>
                      <a:lnTo>
                        <a:pt x="3" y="12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12"/>
                      </a:lnTo>
                      <a:lnTo>
                        <a:pt x="12" y="31"/>
                      </a:lnTo>
                      <a:lnTo>
                        <a:pt x="9" y="63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7532640" y="53290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9" y="11"/>
                      </a:lnTo>
                      <a:lnTo>
                        <a:pt x="9" y="7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7534080" y="529884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4" y="9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7316640" y="4797360"/>
                  <a:ext cx="141120" cy="223920"/>
                </a:xfrm>
                <a:custGeom>
                  <a:avLst/>
                  <a:gdLst/>
                  <a:ahLst/>
                  <a:rect l="l" t="t" r="r" b="b"/>
                  <a:pathLst>
                    <a:path w="277" h="436">
                      <a:moveTo>
                        <a:pt x="185" y="0"/>
                      </a:moveTo>
                      <a:lnTo>
                        <a:pt x="219" y="63"/>
                      </a:lnTo>
                      <a:lnTo>
                        <a:pt x="200" y="109"/>
                      </a:lnTo>
                      <a:lnTo>
                        <a:pt x="223" y="163"/>
                      </a:lnTo>
                      <a:lnTo>
                        <a:pt x="252" y="163"/>
                      </a:lnTo>
                      <a:lnTo>
                        <a:pt x="277" y="163"/>
                      </a:lnTo>
                      <a:lnTo>
                        <a:pt x="272" y="258"/>
                      </a:lnTo>
                      <a:lnTo>
                        <a:pt x="265" y="300"/>
                      </a:lnTo>
                      <a:lnTo>
                        <a:pt x="212" y="303"/>
                      </a:lnTo>
                      <a:lnTo>
                        <a:pt x="212" y="316"/>
                      </a:lnTo>
                      <a:lnTo>
                        <a:pt x="211" y="344"/>
                      </a:lnTo>
                      <a:lnTo>
                        <a:pt x="211" y="358"/>
                      </a:lnTo>
                      <a:lnTo>
                        <a:pt x="210" y="372"/>
                      </a:lnTo>
                      <a:lnTo>
                        <a:pt x="207" y="382"/>
                      </a:lnTo>
                      <a:lnTo>
                        <a:pt x="206" y="385"/>
                      </a:lnTo>
                      <a:lnTo>
                        <a:pt x="204" y="385"/>
                      </a:lnTo>
                      <a:lnTo>
                        <a:pt x="190" y="386"/>
                      </a:lnTo>
                      <a:lnTo>
                        <a:pt x="163" y="389"/>
                      </a:lnTo>
                      <a:lnTo>
                        <a:pt x="128" y="393"/>
                      </a:lnTo>
                      <a:lnTo>
                        <a:pt x="91" y="436"/>
                      </a:lnTo>
                      <a:lnTo>
                        <a:pt x="46" y="395"/>
                      </a:lnTo>
                      <a:lnTo>
                        <a:pt x="51" y="368"/>
                      </a:lnTo>
                      <a:lnTo>
                        <a:pt x="61" y="368"/>
                      </a:lnTo>
                      <a:lnTo>
                        <a:pt x="80" y="366"/>
                      </a:lnTo>
                      <a:lnTo>
                        <a:pt x="92" y="365"/>
                      </a:lnTo>
                      <a:lnTo>
                        <a:pt x="101" y="364"/>
                      </a:lnTo>
                      <a:lnTo>
                        <a:pt x="108" y="361"/>
                      </a:lnTo>
                      <a:lnTo>
                        <a:pt x="109" y="360"/>
                      </a:lnTo>
                      <a:lnTo>
                        <a:pt x="111" y="358"/>
                      </a:lnTo>
                      <a:lnTo>
                        <a:pt x="112" y="324"/>
                      </a:lnTo>
                      <a:lnTo>
                        <a:pt x="115" y="297"/>
                      </a:lnTo>
                      <a:lnTo>
                        <a:pt x="71" y="287"/>
                      </a:lnTo>
                      <a:lnTo>
                        <a:pt x="8" y="283"/>
                      </a:lnTo>
                      <a:lnTo>
                        <a:pt x="0" y="252"/>
                      </a:lnTo>
                      <a:lnTo>
                        <a:pt x="28" y="228"/>
                      </a:lnTo>
                      <a:lnTo>
                        <a:pt x="72" y="236"/>
                      </a:lnTo>
                      <a:lnTo>
                        <a:pt x="69" y="212"/>
                      </a:lnTo>
                      <a:lnTo>
                        <a:pt x="153" y="130"/>
                      </a:lnTo>
                      <a:lnTo>
                        <a:pt x="136" y="39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7407000" y="479556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44" h="69">
                      <a:moveTo>
                        <a:pt x="10" y="0"/>
                      </a:moveTo>
                      <a:lnTo>
                        <a:pt x="0" y="5"/>
                      </a:lnTo>
                      <a:lnTo>
                        <a:pt x="35" y="69"/>
                      </a:lnTo>
                      <a:lnTo>
                        <a:pt x="44" y="6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7416720" y="4829040"/>
                  <a:ext cx="14040" cy="25200"/>
                </a:xfrm>
                <a:custGeom>
                  <a:avLst/>
                  <a:gdLst/>
                  <a:ahLst/>
                  <a:rect l="l" t="t" r="r" b="b"/>
                  <a:pathLst>
                    <a:path w="28" h="50">
                      <a:moveTo>
                        <a:pt x="28" y="4"/>
                      </a:moveTo>
                      <a:lnTo>
                        <a:pt x="19" y="0"/>
                      </a:lnTo>
                      <a:lnTo>
                        <a:pt x="0" y="46"/>
                      </a:lnTo>
                      <a:lnTo>
                        <a:pt x="9" y="50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7426080" y="482760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9" y="0"/>
                      </a:moveTo>
                      <a:lnTo>
                        <a:pt x="10" y="3"/>
                      </a:lnTo>
                      <a:lnTo>
                        <a:pt x="9" y="6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7416720" y="4852800"/>
                  <a:ext cx="15840" cy="28440"/>
                </a:xfrm>
                <a:custGeom>
                  <a:avLst/>
                  <a:gdLst/>
                  <a:ahLst/>
                  <a:rect l="l" t="t" r="r" b="b"/>
                  <a:pathLst>
                    <a:path w="32" h="59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3" y="59"/>
                      </a:lnTo>
                      <a:lnTo>
                        <a:pt x="32" y="5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7414920" y="48528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7430760" y="4879800"/>
                  <a:ext cx="14400" cy="324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7427880" y="48798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8"/>
                      </a:moveTo>
                      <a:lnTo>
                        <a:pt x="1" y="11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9" y="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7445160" y="4879800"/>
                  <a:ext cx="12600" cy="324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7445160" y="4879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7451640" y="4881240"/>
                  <a:ext cx="9360" cy="49320"/>
                </a:xfrm>
                <a:custGeom>
                  <a:avLst/>
                  <a:gdLst/>
                  <a:ahLst/>
                  <a:rect l="l" t="t" r="r" b="b"/>
                  <a:pathLst>
                    <a:path w="16" h="95">
                      <a:moveTo>
                        <a:pt x="16" y="0"/>
                      </a:moveTo>
                      <a:lnTo>
                        <a:pt x="6" y="0"/>
                      </a:lnTo>
                      <a:lnTo>
                        <a:pt x="0" y="95"/>
                      </a:lnTo>
                      <a:lnTo>
                        <a:pt x="11" y="9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7454880" y="487980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7448400" y="4930560"/>
                  <a:ext cx="9360" cy="2052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2"/>
                      </a:lnTo>
                      <a:lnTo>
                        <a:pt x="10" y="43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7424640" y="4949640"/>
                  <a:ext cx="27000" cy="6480"/>
                </a:xfrm>
                <a:custGeom>
                  <a:avLst/>
                  <a:gdLst/>
                  <a:ahLst/>
                  <a:rect l="l" t="t" r="r" b="b"/>
                  <a:pathLst>
                    <a:path w="53" h="11">
                      <a:moveTo>
                        <a:pt x="53" y="9"/>
                      </a:moveTo>
                      <a:lnTo>
                        <a:pt x="53" y="0"/>
                      </a:lnTo>
                      <a:lnTo>
                        <a:pt x="0" y="2"/>
                      </a:lnTo>
                      <a:lnTo>
                        <a:pt x="0" y="11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7448400" y="49496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3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7418160" y="4952880"/>
                  <a:ext cx="9720" cy="42840"/>
                </a:xfrm>
                <a:custGeom>
                  <a:avLst/>
                  <a:gdLst/>
                  <a:ahLst/>
                  <a:rect l="l" t="t" r="r" b="b"/>
                  <a:pathLst>
                    <a:path w="19" h="83">
                      <a:moveTo>
                        <a:pt x="19" y="0"/>
                      </a:moveTo>
                      <a:lnTo>
                        <a:pt x="17" y="41"/>
                      </a:lnTo>
                      <a:lnTo>
                        <a:pt x="15" y="69"/>
                      </a:lnTo>
                      <a:lnTo>
                        <a:pt x="11" y="83"/>
                      </a:lnTo>
                      <a:lnTo>
                        <a:pt x="0" y="81"/>
                      </a:lnTo>
                      <a:lnTo>
                        <a:pt x="4" y="67"/>
                      </a:lnTo>
                      <a:lnTo>
                        <a:pt x="7" y="41"/>
                      </a:lnTo>
                      <a:lnTo>
                        <a:pt x="8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7422840" y="495108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7381800" y="499428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79" h="17">
                      <a:moveTo>
                        <a:pt x="79" y="9"/>
                      </a:moveTo>
                      <a:lnTo>
                        <a:pt x="2" y="17"/>
                      </a:lnTo>
                      <a:lnTo>
                        <a:pt x="0" y="8"/>
                      </a:lnTo>
                      <a:lnTo>
                        <a:pt x="76" y="0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7418160" y="499428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5"/>
                      </a:move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7359480" y="499716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6" y="7"/>
                      </a:moveTo>
                      <a:lnTo>
                        <a:pt x="38" y="0"/>
                      </a:lnTo>
                      <a:lnTo>
                        <a:pt x="0" y="44"/>
                      </a:lnTo>
                      <a:lnTo>
                        <a:pt x="8" y="50"/>
                      </a:lnTo>
                      <a:lnTo>
                        <a:pt x="46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7380000" y="49971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7337160" y="499716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44" y="49"/>
                      </a:moveTo>
                      <a:lnTo>
                        <a:pt x="50" y="41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4" y="4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7359480" y="50194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8" y="8"/>
                      </a:moveTo>
                      <a:lnTo>
                        <a:pt x="4" y="12"/>
                      </a:ln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7335720" y="4986000"/>
                  <a:ext cx="7920" cy="1620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28"/>
                      </a:moveTo>
                      <a:lnTo>
                        <a:pt x="9" y="32"/>
                      </a:lnTo>
                      <a:lnTo>
                        <a:pt x="14" y="4"/>
                      </a:lnTo>
                      <a:lnTo>
                        <a:pt x="5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7335720" y="499716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8"/>
                      </a:move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10" y="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7341840" y="498132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6"/>
                      </a:moveTo>
                      <a:lnTo>
                        <a:pt x="29" y="5"/>
                      </a:lnTo>
                      <a:lnTo>
                        <a:pt x="50" y="2"/>
                      </a:lnTo>
                      <a:lnTo>
                        <a:pt x="53" y="1"/>
                      </a:lnTo>
                      <a:lnTo>
                        <a:pt x="56" y="0"/>
                      </a:lnTo>
                      <a:lnTo>
                        <a:pt x="64" y="6"/>
                      </a:lnTo>
                      <a:lnTo>
                        <a:pt x="60" y="9"/>
                      </a:lnTo>
                      <a:lnTo>
                        <a:pt x="52" y="13"/>
                      </a:lnTo>
                      <a:lnTo>
                        <a:pt x="29" y="16"/>
                      </a:lnTo>
                      <a:lnTo>
                        <a:pt x="0" y="1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7338960" y="4984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4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lnTo>
                        <a:pt x="9" y="8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7370640" y="4948200"/>
                  <a:ext cx="6120" cy="34920"/>
                </a:xfrm>
                <a:custGeom>
                  <a:avLst/>
                  <a:gdLst/>
                  <a:ahLst/>
                  <a:rect l="l" t="t" r="r" b="b"/>
                  <a:pathLst>
                    <a:path w="14" h="65">
                      <a:moveTo>
                        <a:pt x="0" y="62"/>
                      </a:moveTo>
                      <a:lnTo>
                        <a:pt x="4" y="0"/>
                      </a:lnTo>
                      <a:lnTo>
                        <a:pt x="14" y="3"/>
                      </a:lnTo>
                      <a:lnTo>
                        <a:pt x="10" y="65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7370640" y="49813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7351560" y="494172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4" y="19"/>
                      </a:moveTo>
                      <a:lnTo>
                        <a:pt x="47" y="10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44" y="1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7372080" y="49482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5"/>
                      </a:move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319880" y="4940280"/>
                  <a:ext cx="316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62" y="4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351560" y="494172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2" h="10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313400" y="4925880"/>
                  <a:ext cx="9720" cy="17280"/>
                </a:xfrm>
                <a:custGeom>
                  <a:avLst/>
                  <a:gdLst/>
                  <a:ahLst/>
                  <a:rect l="l" t="t" r="r" b="b"/>
                  <a:pathLst>
                    <a:path w="17" h="35">
                      <a:moveTo>
                        <a:pt x="8" y="35"/>
                      </a:moveTo>
                      <a:lnTo>
                        <a:pt x="17" y="3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318080" y="49402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313400" y="4913280"/>
                  <a:ext cx="17640" cy="15840"/>
                </a:xfrm>
                <a:custGeom>
                  <a:avLst/>
                  <a:gdLst/>
                  <a:ahLst/>
                  <a:rect l="l" t="t" r="r" b="b"/>
                  <a:pathLst>
                    <a:path w="34" h="32">
                      <a:moveTo>
                        <a:pt x="0" y="24"/>
                      </a:moveTo>
                      <a:lnTo>
                        <a:pt x="7" y="32"/>
                      </a:lnTo>
                      <a:lnTo>
                        <a:pt x="34" y="8"/>
                      </a:lnTo>
                      <a:lnTo>
                        <a:pt x="28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311960" y="49258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5"/>
                      </a:move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10" y="8"/>
                      </a:lnTo>
                      <a:lnTo>
                        <a:pt x="11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329240" y="4911480"/>
                  <a:ext cx="23760" cy="97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45" y="18"/>
                      </a:lnTo>
                      <a:lnTo>
                        <a:pt x="46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329240" y="491148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348320" y="4905360"/>
                  <a:ext cx="6480" cy="1404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4" y="26"/>
                      </a:moveTo>
                      <a:lnTo>
                        <a:pt x="13" y="24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350120" y="49161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10"/>
                      </a:moveTo>
                      <a:lnTo>
                        <a:pt x="11" y="11"/>
                      </a:lnTo>
                      <a:lnTo>
                        <a:pt x="9" y="4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348320" y="4862520"/>
                  <a:ext cx="47520" cy="45720"/>
                </a:xfrm>
                <a:custGeom>
                  <a:avLst/>
                  <a:gdLst/>
                  <a:ahLst/>
                  <a:rect l="l" t="t" r="r" b="b"/>
                  <a:pathLst>
                    <a:path w="91" h="90">
                      <a:moveTo>
                        <a:pt x="0" y="82"/>
                      </a:moveTo>
                      <a:lnTo>
                        <a:pt x="6" y="90"/>
                      </a:lnTo>
                      <a:lnTo>
                        <a:pt x="91" y="8"/>
                      </a:lnTo>
                      <a:lnTo>
                        <a:pt x="84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348320" y="4903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8"/>
                      </a:lnTo>
                      <a:lnTo>
                        <a:pt x="9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383240" y="4817880"/>
                  <a:ext cx="12600" cy="4752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8" y="94"/>
                      </a:moveTo>
                      <a:lnTo>
                        <a:pt x="27" y="91"/>
                      </a:lnTo>
                      <a:lnTo>
                        <a:pt x="10" y="0"/>
                      </a:lnTo>
                      <a:lnTo>
                        <a:pt x="0" y="3"/>
                      </a:lnTo>
                      <a:lnTo>
                        <a:pt x="18" y="9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391160" y="48625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8"/>
                      </a:moveTo>
                      <a:lnTo>
                        <a:pt x="9" y="7"/>
                      </a:lnTo>
                      <a:lnTo>
                        <a:pt x="9" y="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385040" y="4795560"/>
                  <a:ext cx="26640" cy="237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0" y="39"/>
                      </a:moveTo>
                      <a:lnTo>
                        <a:pt x="6" y="47"/>
                      </a:lnTo>
                      <a:lnTo>
                        <a:pt x="55" y="8"/>
                      </a:lnTo>
                      <a:lnTo>
                        <a:pt x="49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383240" y="481644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1" y="6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9" y="8"/>
                      </a:lnTo>
                      <a:lnTo>
                        <a:pt x="11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407000" y="47926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2" y="4"/>
                      </a:moveTo>
                      <a:lnTo>
                        <a:pt x="7" y="0"/>
                      </a:lnTo>
                      <a:lnTo>
                        <a:pt x="10" y="5"/>
                      </a:lnTo>
                      <a:lnTo>
                        <a:pt x="0" y="10"/>
                      </a:lnTo>
                      <a:lnTo>
                        <a:pt x="8" y="12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167240" y="4883040"/>
                  <a:ext cx="101880" cy="82440"/>
                </a:xfrm>
                <a:custGeom>
                  <a:avLst/>
                  <a:gdLst/>
                  <a:ahLst/>
                  <a:rect l="l" t="t" r="r" b="b"/>
                  <a:pathLst>
                    <a:path w="196" h="160">
                      <a:moveTo>
                        <a:pt x="105" y="7"/>
                      </a:moveTo>
                      <a:lnTo>
                        <a:pt x="96" y="8"/>
                      </a:lnTo>
                      <a:lnTo>
                        <a:pt x="84" y="10"/>
                      </a:lnTo>
                      <a:lnTo>
                        <a:pt x="71" y="11"/>
                      </a:lnTo>
                      <a:lnTo>
                        <a:pt x="0" y="61"/>
                      </a:lnTo>
                      <a:lnTo>
                        <a:pt x="2" y="85"/>
                      </a:lnTo>
                      <a:lnTo>
                        <a:pt x="56" y="87"/>
                      </a:lnTo>
                      <a:lnTo>
                        <a:pt x="60" y="104"/>
                      </a:lnTo>
                      <a:lnTo>
                        <a:pt x="35" y="103"/>
                      </a:lnTo>
                      <a:lnTo>
                        <a:pt x="35" y="126"/>
                      </a:lnTo>
                      <a:lnTo>
                        <a:pt x="68" y="132"/>
                      </a:lnTo>
                      <a:lnTo>
                        <a:pt x="67" y="136"/>
                      </a:lnTo>
                      <a:lnTo>
                        <a:pt x="64" y="145"/>
                      </a:lnTo>
                      <a:lnTo>
                        <a:pt x="64" y="151"/>
                      </a:lnTo>
                      <a:lnTo>
                        <a:pt x="64" y="155"/>
                      </a:lnTo>
                      <a:lnTo>
                        <a:pt x="66" y="159"/>
                      </a:lnTo>
                      <a:lnTo>
                        <a:pt x="67" y="160"/>
                      </a:lnTo>
                      <a:lnTo>
                        <a:pt x="68" y="160"/>
                      </a:lnTo>
                      <a:lnTo>
                        <a:pt x="80" y="159"/>
                      </a:lnTo>
                      <a:lnTo>
                        <a:pt x="95" y="157"/>
                      </a:lnTo>
                      <a:lnTo>
                        <a:pt x="113" y="156"/>
                      </a:lnTo>
                      <a:lnTo>
                        <a:pt x="112" y="130"/>
                      </a:lnTo>
                      <a:lnTo>
                        <a:pt x="121" y="132"/>
                      </a:lnTo>
                      <a:lnTo>
                        <a:pt x="130" y="132"/>
                      </a:lnTo>
                      <a:lnTo>
                        <a:pt x="136" y="132"/>
                      </a:lnTo>
                      <a:lnTo>
                        <a:pt x="141" y="132"/>
                      </a:lnTo>
                      <a:lnTo>
                        <a:pt x="147" y="130"/>
                      </a:lnTo>
                      <a:lnTo>
                        <a:pt x="155" y="123"/>
                      </a:lnTo>
                      <a:lnTo>
                        <a:pt x="165" y="115"/>
                      </a:lnTo>
                      <a:lnTo>
                        <a:pt x="174" y="106"/>
                      </a:lnTo>
                      <a:lnTo>
                        <a:pt x="190" y="89"/>
                      </a:lnTo>
                      <a:lnTo>
                        <a:pt x="196" y="81"/>
                      </a:lnTo>
                      <a:lnTo>
                        <a:pt x="179" y="28"/>
                      </a:lnTo>
                      <a:lnTo>
                        <a:pt x="104" y="32"/>
                      </a:lnTo>
                      <a:lnTo>
                        <a:pt x="104" y="0"/>
                      </a:lnTo>
                      <a:lnTo>
                        <a:pt x="105" y="2"/>
                      </a:lnTo>
                      <a:lnTo>
                        <a:pt x="108" y="3"/>
                      </a:lnTo>
                      <a:lnTo>
                        <a:pt x="109" y="4"/>
                      </a:lnTo>
                      <a:lnTo>
                        <a:pt x="108" y="6"/>
                      </a:lnTo>
                      <a:lnTo>
                        <a:pt x="105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205400" y="4884480"/>
                  <a:ext cx="17640" cy="648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37" y="9"/>
                      </a:moveTo>
                      <a:lnTo>
                        <a:pt x="2" y="13"/>
                      </a:lnTo>
                      <a:lnTo>
                        <a:pt x="0" y="4"/>
                      </a:lnTo>
                      <a:lnTo>
                        <a:pt x="34" y="0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165800" y="4886280"/>
                  <a:ext cx="41400" cy="29880"/>
                </a:xfrm>
                <a:custGeom>
                  <a:avLst/>
                  <a:gdLst/>
                  <a:ahLst/>
                  <a:rect l="l" t="t" r="r" b="b"/>
                  <a:pathLst>
                    <a:path w="78" h="58">
                      <a:moveTo>
                        <a:pt x="78" y="8"/>
                      </a:moveTo>
                      <a:lnTo>
                        <a:pt x="71" y="0"/>
                      </a:lnTo>
                      <a:lnTo>
                        <a:pt x="0" y="50"/>
                      </a:lnTo>
                      <a:lnTo>
                        <a:pt x="6" y="58"/>
                      </a:lnTo>
                      <a:lnTo>
                        <a:pt x="78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203960" y="48862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7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164360" y="491472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3" y="25"/>
                      </a:lnTo>
                      <a:lnTo>
                        <a:pt x="14" y="2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164360" y="491328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11" y="4"/>
                      </a:lnTo>
                      <a:lnTo>
                        <a:pt x="8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5440320" y="3063600"/>
                  <a:ext cx="244440" cy="174600"/>
                </a:xfrm>
                <a:custGeom>
                  <a:avLst/>
                  <a:gdLst/>
                  <a:ahLst/>
                  <a:rect l="l" t="t" r="r" b="b"/>
                  <a:pathLst>
                    <a:path w="474" h="340">
                      <a:moveTo>
                        <a:pt x="268" y="0"/>
                      </a:moveTo>
                      <a:lnTo>
                        <a:pt x="327" y="19"/>
                      </a:lnTo>
                      <a:lnTo>
                        <a:pt x="323" y="58"/>
                      </a:lnTo>
                      <a:lnTo>
                        <a:pt x="382" y="63"/>
                      </a:lnTo>
                      <a:lnTo>
                        <a:pt x="382" y="22"/>
                      </a:lnTo>
                      <a:lnTo>
                        <a:pt x="401" y="17"/>
                      </a:lnTo>
                      <a:lnTo>
                        <a:pt x="469" y="75"/>
                      </a:lnTo>
                      <a:lnTo>
                        <a:pt x="474" y="106"/>
                      </a:lnTo>
                      <a:lnTo>
                        <a:pt x="449" y="130"/>
                      </a:lnTo>
                      <a:lnTo>
                        <a:pt x="469" y="134"/>
                      </a:lnTo>
                      <a:lnTo>
                        <a:pt x="469" y="154"/>
                      </a:lnTo>
                      <a:lnTo>
                        <a:pt x="347" y="266"/>
                      </a:lnTo>
                      <a:lnTo>
                        <a:pt x="260" y="286"/>
                      </a:lnTo>
                      <a:lnTo>
                        <a:pt x="184" y="306"/>
                      </a:lnTo>
                      <a:lnTo>
                        <a:pt x="173" y="340"/>
                      </a:lnTo>
                      <a:lnTo>
                        <a:pt x="56" y="331"/>
                      </a:lnTo>
                      <a:lnTo>
                        <a:pt x="47" y="331"/>
                      </a:lnTo>
                      <a:lnTo>
                        <a:pt x="28" y="329"/>
                      </a:lnTo>
                      <a:lnTo>
                        <a:pt x="18" y="329"/>
                      </a:lnTo>
                      <a:lnTo>
                        <a:pt x="10" y="328"/>
                      </a:lnTo>
                      <a:lnTo>
                        <a:pt x="3" y="325"/>
                      </a:lnTo>
                      <a:lnTo>
                        <a:pt x="2" y="324"/>
                      </a:lnTo>
                      <a:lnTo>
                        <a:pt x="0" y="323"/>
                      </a:lnTo>
                      <a:lnTo>
                        <a:pt x="2" y="310"/>
                      </a:lnTo>
                      <a:lnTo>
                        <a:pt x="4" y="290"/>
                      </a:lnTo>
                      <a:lnTo>
                        <a:pt x="7" y="263"/>
                      </a:lnTo>
                      <a:lnTo>
                        <a:pt x="39" y="261"/>
                      </a:lnTo>
                      <a:lnTo>
                        <a:pt x="12" y="212"/>
                      </a:lnTo>
                      <a:lnTo>
                        <a:pt x="12" y="162"/>
                      </a:lnTo>
                      <a:lnTo>
                        <a:pt x="97" y="151"/>
                      </a:lnTo>
                      <a:lnTo>
                        <a:pt x="123" y="162"/>
                      </a:lnTo>
                      <a:lnTo>
                        <a:pt x="164" y="162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210080" y="2361960"/>
                  <a:ext cx="125640" cy="108000"/>
                </a:xfrm>
                <a:custGeom>
                  <a:avLst/>
                  <a:gdLst/>
                  <a:ahLst/>
                  <a:rect l="l" t="t" r="r" b="b"/>
                  <a:pathLst>
                    <a:path w="243" h="208">
                      <a:moveTo>
                        <a:pt x="1" y="207"/>
                      </a:moveTo>
                      <a:lnTo>
                        <a:pt x="6" y="206"/>
                      </a:lnTo>
                      <a:lnTo>
                        <a:pt x="11" y="202"/>
                      </a:lnTo>
                      <a:lnTo>
                        <a:pt x="19" y="195"/>
                      </a:lnTo>
                      <a:lnTo>
                        <a:pt x="27" y="187"/>
                      </a:lnTo>
                      <a:lnTo>
                        <a:pt x="34" y="179"/>
                      </a:lnTo>
                      <a:lnTo>
                        <a:pt x="39" y="170"/>
                      </a:lnTo>
                      <a:lnTo>
                        <a:pt x="46" y="162"/>
                      </a:lnTo>
                      <a:lnTo>
                        <a:pt x="50" y="158"/>
                      </a:lnTo>
                      <a:lnTo>
                        <a:pt x="54" y="156"/>
                      </a:lnTo>
                      <a:lnTo>
                        <a:pt x="59" y="152"/>
                      </a:lnTo>
                      <a:lnTo>
                        <a:pt x="63" y="149"/>
                      </a:lnTo>
                      <a:lnTo>
                        <a:pt x="75" y="142"/>
                      </a:lnTo>
                      <a:lnTo>
                        <a:pt x="88" y="132"/>
                      </a:lnTo>
                      <a:lnTo>
                        <a:pt x="102" y="120"/>
                      </a:lnTo>
                      <a:lnTo>
                        <a:pt x="108" y="117"/>
                      </a:lnTo>
                      <a:lnTo>
                        <a:pt x="121" y="110"/>
                      </a:lnTo>
                      <a:lnTo>
                        <a:pt x="134" y="99"/>
                      </a:lnTo>
                      <a:lnTo>
                        <a:pt x="141" y="94"/>
                      </a:lnTo>
                      <a:lnTo>
                        <a:pt x="146" y="88"/>
                      </a:lnTo>
                      <a:lnTo>
                        <a:pt x="164" y="65"/>
                      </a:lnTo>
                      <a:lnTo>
                        <a:pt x="172" y="54"/>
                      </a:lnTo>
                      <a:lnTo>
                        <a:pt x="178" y="45"/>
                      </a:lnTo>
                      <a:lnTo>
                        <a:pt x="188" y="24"/>
                      </a:lnTo>
                      <a:lnTo>
                        <a:pt x="192" y="19"/>
                      </a:lnTo>
                      <a:lnTo>
                        <a:pt x="196" y="13"/>
                      </a:lnTo>
                      <a:lnTo>
                        <a:pt x="200" y="9"/>
                      </a:lnTo>
                      <a:lnTo>
                        <a:pt x="204" y="7"/>
                      </a:lnTo>
                      <a:lnTo>
                        <a:pt x="209" y="5"/>
                      </a:lnTo>
                      <a:lnTo>
                        <a:pt x="214" y="3"/>
                      </a:lnTo>
                      <a:lnTo>
                        <a:pt x="228" y="1"/>
                      </a:lnTo>
                      <a:lnTo>
                        <a:pt x="242" y="0"/>
                      </a:lnTo>
                      <a:lnTo>
                        <a:pt x="243" y="11"/>
                      </a:lnTo>
                      <a:lnTo>
                        <a:pt x="214" y="11"/>
                      </a:lnTo>
                      <a:lnTo>
                        <a:pt x="207" y="16"/>
                      </a:lnTo>
                      <a:lnTo>
                        <a:pt x="201" y="21"/>
                      </a:lnTo>
                      <a:lnTo>
                        <a:pt x="197" y="25"/>
                      </a:lnTo>
                      <a:lnTo>
                        <a:pt x="192" y="34"/>
                      </a:lnTo>
                      <a:lnTo>
                        <a:pt x="189" y="40"/>
                      </a:lnTo>
                      <a:lnTo>
                        <a:pt x="182" y="61"/>
                      </a:lnTo>
                      <a:lnTo>
                        <a:pt x="163" y="90"/>
                      </a:lnTo>
                      <a:lnTo>
                        <a:pt x="156" y="96"/>
                      </a:lnTo>
                      <a:lnTo>
                        <a:pt x="150" y="102"/>
                      </a:lnTo>
                      <a:lnTo>
                        <a:pt x="142" y="108"/>
                      </a:lnTo>
                      <a:lnTo>
                        <a:pt x="137" y="115"/>
                      </a:lnTo>
                      <a:lnTo>
                        <a:pt x="133" y="120"/>
                      </a:lnTo>
                      <a:lnTo>
                        <a:pt x="129" y="124"/>
                      </a:lnTo>
                      <a:lnTo>
                        <a:pt x="126" y="127"/>
                      </a:lnTo>
                      <a:lnTo>
                        <a:pt x="123" y="128"/>
                      </a:lnTo>
                      <a:lnTo>
                        <a:pt x="110" y="133"/>
                      </a:lnTo>
                      <a:lnTo>
                        <a:pt x="102" y="135"/>
                      </a:lnTo>
                      <a:lnTo>
                        <a:pt x="98" y="139"/>
                      </a:lnTo>
                      <a:lnTo>
                        <a:pt x="93" y="141"/>
                      </a:lnTo>
                      <a:lnTo>
                        <a:pt x="89" y="142"/>
                      </a:lnTo>
                      <a:lnTo>
                        <a:pt x="80" y="146"/>
                      </a:lnTo>
                      <a:lnTo>
                        <a:pt x="72" y="149"/>
                      </a:lnTo>
                      <a:lnTo>
                        <a:pt x="58" y="152"/>
                      </a:lnTo>
                      <a:lnTo>
                        <a:pt x="47" y="161"/>
                      </a:lnTo>
                      <a:lnTo>
                        <a:pt x="25" y="182"/>
                      </a:lnTo>
                      <a:lnTo>
                        <a:pt x="3" y="201"/>
                      </a:lnTo>
                      <a:lnTo>
                        <a:pt x="0" y="207"/>
                      </a:lnTo>
                      <a:lnTo>
                        <a:pt x="0" y="208"/>
                      </a:lnTo>
                      <a:lnTo>
                        <a:pt x="1" y="20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6680160" y="2400120"/>
                  <a:ext cx="133200" cy="106560"/>
                </a:xfrm>
                <a:custGeom>
                  <a:avLst/>
                  <a:gdLst/>
                  <a:ahLst/>
                  <a:rect l="l" t="t" r="r" b="b"/>
                  <a:pathLst>
                    <a:path w="258" h="205">
                      <a:moveTo>
                        <a:pt x="70" y="205"/>
                      </a:moveTo>
                      <a:lnTo>
                        <a:pt x="258" y="164"/>
                      </a:lnTo>
                      <a:lnTo>
                        <a:pt x="251" y="146"/>
                      </a:lnTo>
                      <a:lnTo>
                        <a:pt x="244" y="131"/>
                      </a:lnTo>
                      <a:lnTo>
                        <a:pt x="241" y="124"/>
                      </a:lnTo>
                      <a:lnTo>
                        <a:pt x="237" y="118"/>
                      </a:lnTo>
                      <a:lnTo>
                        <a:pt x="233" y="114"/>
                      </a:lnTo>
                      <a:lnTo>
                        <a:pt x="231" y="112"/>
                      </a:lnTo>
                      <a:lnTo>
                        <a:pt x="229" y="110"/>
                      </a:lnTo>
                      <a:lnTo>
                        <a:pt x="225" y="109"/>
                      </a:lnTo>
                      <a:lnTo>
                        <a:pt x="221" y="108"/>
                      </a:lnTo>
                      <a:lnTo>
                        <a:pt x="218" y="108"/>
                      </a:lnTo>
                      <a:lnTo>
                        <a:pt x="215" y="108"/>
                      </a:lnTo>
                      <a:lnTo>
                        <a:pt x="213" y="108"/>
                      </a:lnTo>
                      <a:lnTo>
                        <a:pt x="210" y="109"/>
                      </a:lnTo>
                      <a:lnTo>
                        <a:pt x="204" y="112"/>
                      </a:lnTo>
                      <a:lnTo>
                        <a:pt x="201" y="112"/>
                      </a:lnTo>
                      <a:lnTo>
                        <a:pt x="197" y="112"/>
                      </a:lnTo>
                      <a:lnTo>
                        <a:pt x="194" y="109"/>
                      </a:lnTo>
                      <a:lnTo>
                        <a:pt x="194" y="108"/>
                      </a:lnTo>
                      <a:lnTo>
                        <a:pt x="193" y="106"/>
                      </a:lnTo>
                      <a:lnTo>
                        <a:pt x="193" y="102"/>
                      </a:lnTo>
                      <a:lnTo>
                        <a:pt x="193" y="100"/>
                      </a:lnTo>
                      <a:lnTo>
                        <a:pt x="196" y="96"/>
                      </a:lnTo>
                      <a:lnTo>
                        <a:pt x="196" y="95"/>
                      </a:lnTo>
                      <a:lnTo>
                        <a:pt x="196" y="93"/>
                      </a:lnTo>
                      <a:lnTo>
                        <a:pt x="189" y="87"/>
                      </a:lnTo>
                      <a:lnTo>
                        <a:pt x="180" y="81"/>
                      </a:lnTo>
                      <a:lnTo>
                        <a:pt x="173" y="79"/>
                      </a:lnTo>
                      <a:lnTo>
                        <a:pt x="172" y="77"/>
                      </a:lnTo>
                      <a:lnTo>
                        <a:pt x="169" y="76"/>
                      </a:lnTo>
                      <a:lnTo>
                        <a:pt x="169" y="75"/>
                      </a:lnTo>
                      <a:lnTo>
                        <a:pt x="168" y="71"/>
                      </a:lnTo>
                      <a:lnTo>
                        <a:pt x="169" y="67"/>
                      </a:lnTo>
                      <a:lnTo>
                        <a:pt x="169" y="66"/>
                      </a:lnTo>
                      <a:lnTo>
                        <a:pt x="172" y="63"/>
                      </a:lnTo>
                      <a:lnTo>
                        <a:pt x="172" y="60"/>
                      </a:lnTo>
                      <a:lnTo>
                        <a:pt x="172" y="59"/>
                      </a:lnTo>
                      <a:lnTo>
                        <a:pt x="171" y="56"/>
                      </a:lnTo>
                      <a:lnTo>
                        <a:pt x="168" y="52"/>
                      </a:lnTo>
                      <a:lnTo>
                        <a:pt x="165" y="47"/>
                      </a:lnTo>
                      <a:lnTo>
                        <a:pt x="163" y="43"/>
                      </a:lnTo>
                      <a:lnTo>
                        <a:pt x="157" y="39"/>
                      </a:lnTo>
                      <a:lnTo>
                        <a:pt x="155" y="37"/>
                      </a:lnTo>
                      <a:lnTo>
                        <a:pt x="152" y="34"/>
                      </a:lnTo>
                      <a:lnTo>
                        <a:pt x="151" y="31"/>
                      </a:lnTo>
                      <a:lnTo>
                        <a:pt x="151" y="29"/>
                      </a:lnTo>
                      <a:lnTo>
                        <a:pt x="150" y="22"/>
                      </a:lnTo>
                      <a:lnTo>
                        <a:pt x="148" y="18"/>
                      </a:lnTo>
                      <a:lnTo>
                        <a:pt x="148" y="14"/>
                      </a:lnTo>
                      <a:lnTo>
                        <a:pt x="146" y="11"/>
                      </a:lnTo>
                      <a:lnTo>
                        <a:pt x="144" y="10"/>
                      </a:lnTo>
                      <a:lnTo>
                        <a:pt x="142" y="7"/>
                      </a:lnTo>
                      <a:lnTo>
                        <a:pt x="139" y="7"/>
                      </a:lnTo>
                      <a:lnTo>
                        <a:pt x="134" y="5"/>
                      </a:lnTo>
                      <a:lnTo>
                        <a:pt x="131" y="4"/>
                      </a:lnTo>
                      <a:lnTo>
                        <a:pt x="128" y="4"/>
                      </a:lnTo>
                      <a:lnTo>
                        <a:pt x="124" y="2"/>
                      </a:lnTo>
                      <a:lnTo>
                        <a:pt x="111" y="2"/>
                      </a:lnTo>
                      <a:lnTo>
                        <a:pt x="81" y="5"/>
                      </a:lnTo>
                      <a:lnTo>
                        <a:pt x="69" y="5"/>
                      </a:lnTo>
                      <a:lnTo>
                        <a:pt x="64" y="5"/>
                      </a:lnTo>
                      <a:lnTo>
                        <a:pt x="60" y="4"/>
                      </a:lnTo>
                      <a:lnTo>
                        <a:pt x="47" y="1"/>
                      </a:lnTo>
                      <a:lnTo>
                        <a:pt x="40" y="0"/>
                      </a:lnTo>
                      <a:lnTo>
                        <a:pt x="0" y="27"/>
                      </a:lnTo>
                      <a:lnTo>
                        <a:pt x="12" y="42"/>
                      </a:lnTo>
                      <a:lnTo>
                        <a:pt x="23" y="54"/>
                      </a:lnTo>
                      <a:lnTo>
                        <a:pt x="27" y="60"/>
                      </a:lnTo>
                      <a:lnTo>
                        <a:pt x="30" y="66"/>
                      </a:lnTo>
                      <a:lnTo>
                        <a:pt x="35" y="81"/>
                      </a:lnTo>
                      <a:lnTo>
                        <a:pt x="39" y="97"/>
                      </a:lnTo>
                      <a:lnTo>
                        <a:pt x="41" y="105"/>
                      </a:lnTo>
                      <a:lnTo>
                        <a:pt x="43" y="118"/>
                      </a:lnTo>
                      <a:lnTo>
                        <a:pt x="45" y="129"/>
                      </a:lnTo>
                      <a:lnTo>
                        <a:pt x="48" y="135"/>
                      </a:lnTo>
                      <a:lnTo>
                        <a:pt x="49" y="142"/>
                      </a:lnTo>
                      <a:lnTo>
                        <a:pt x="49" y="150"/>
                      </a:lnTo>
                      <a:lnTo>
                        <a:pt x="49" y="160"/>
                      </a:lnTo>
                      <a:lnTo>
                        <a:pt x="51" y="164"/>
                      </a:lnTo>
                      <a:lnTo>
                        <a:pt x="52" y="171"/>
                      </a:lnTo>
                      <a:lnTo>
                        <a:pt x="57" y="182"/>
                      </a:lnTo>
                      <a:lnTo>
                        <a:pt x="62" y="192"/>
                      </a:lnTo>
                      <a:lnTo>
                        <a:pt x="70" y="20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094520" y="2644560"/>
                  <a:ext cx="1368360" cy="1797120"/>
                </a:xfrm>
                <a:custGeom>
                  <a:avLst/>
                  <a:gdLst/>
                  <a:ahLst/>
                  <a:rect l="l" t="t" r="r" b="b"/>
                  <a:pathLst>
                    <a:path w="2655" h="3486">
                      <a:moveTo>
                        <a:pt x="1208" y="532"/>
                      </a:moveTo>
                      <a:lnTo>
                        <a:pt x="1198" y="501"/>
                      </a:lnTo>
                      <a:lnTo>
                        <a:pt x="1153" y="484"/>
                      </a:lnTo>
                      <a:lnTo>
                        <a:pt x="1111" y="480"/>
                      </a:lnTo>
                      <a:lnTo>
                        <a:pt x="1084" y="474"/>
                      </a:lnTo>
                      <a:lnTo>
                        <a:pt x="1082" y="474"/>
                      </a:lnTo>
                      <a:lnTo>
                        <a:pt x="1072" y="472"/>
                      </a:lnTo>
                      <a:lnTo>
                        <a:pt x="1067" y="470"/>
                      </a:lnTo>
                      <a:lnTo>
                        <a:pt x="1061" y="468"/>
                      </a:lnTo>
                      <a:lnTo>
                        <a:pt x="1058" y="465"/>
                      </a:lnTo>
                      <a:lnTo>
                        <a:pt x="1055" y="464"/>
                      </a:lnTo>
                      <a:lnTo>
                        <a:pt x="1051" y="459"/>
                      </a:lnTo>
                      <a:lnTo>
                        <a:pt x="1043" y="447"/>
                      </a:lnTo>
                      <a:lnTo>
                        <a:pt x="1037" y="437"/>
                      </a:lnTo>
                      <a:lnTo>
                        <a:pt x="1033" y="428"/>
                      </a:lnTo>
                      <a:lnTo>
                        <a:pt x="1030" y="423"/>
                      </a:lnTo>
                      <a:lnTo>
                        <a:pt x="1029" y="418"/>
                      </a:lnTo>
                      <a:lnTo>
                        <a:pt x="1026" y="407"/>
                      </a:lnTo>
                      <a:lnTo>
                        <a:pt x="1024" y="398"/>
                      </a:lnTo>
                      <a:lnTo>
                        <a:pt x="1021" y="389"/>
                      </a:lnTo>
                      <a:lnTo>
                        <a:pt x="1018" y="378"/>
                      </a:lnTo>
                      <a:lnTo>
                        <a:pt x="1018" y="373"/>
                      </a:lnTo>
                      <a:lnTo>
                        <a:pt x="1018" y="368"/>
                      </a:lnTo>
                      <a:lnTo>
                        <a:pt x="1020" y="358"/>
                      </a:lnTo>
                      <a:lnTo>
                        <a:pt x="1020" y="354"/>
                      </a:lnTo>
                      <a:lnTo>
                        <a:pt x="1020" y="353"/>
                      </a:lnTo>
                      <a:lnTo>
                        <a:pt x="1018" y="352"/>
                      </a:lnTo>
                      <a:lnTo>
                        <a:pt x="1014" y="350"/>
                      </a:lnTo>
                      <a:lnTo>
                        <a:pt x="1008" y="350"/>
                      </a:lnTo>
                      <a:lnTo>
                        <a:pt x="978" y="349"/>
                      </a:lnTo>
                      <a:lnTo>
                        <a:pt x="954" y="365"/>
                      </a:lnTo>
                      <a:lnTo>
                        <a:pt x="925" y="353"/>
                      </a:lnTo>
                      <a:lnTo>
                        <a:pt x="887" y="348"/>
                      </a:lnTo>
                      <a:lnTo>
                        <a:pt x="879" y="387"/>
                      </a:lnTo>
                      <a:lnTo>
                        <a:pt x="855" y="419"/>
                      </a:lnTo>
                      <a:lnTo>
                        <a:pt x="836" y="406"/>
                      </a:lnTo>
                      <a:lnTo>
                        <a:pt x="810" y="374"/>
                      </a:lnTo>
                      <a:lnTo>
                        <a:pt x="773" y="373"/>
                      </a:lnTo>
                      <a:lnTo>
                        <a:pt x="749" y="385"/>
                      </a:lnTo>
                      <a:lnTo>
                        <a:pt x="741" y="412"/>
                      </a:lnTo>
                      <a:lnTo>
                        <a:pt x="738" y="432"/>
                      </a:lnTo>
                      <a:lnTo>
                        <a:pt x="730" y="441"/>
                      </a:lnTo>
                      <a:lnTo>
                        <a:pt x="726" y="445"/>
                      </a:lnTo>
                      <a:lnTo>
                        <a:pt x="722" y="449"/>
                      </a:lnTo>
                      <a:lnTo>
                        <a:pt x="716" y="452"/>
                      </a:lnTo>
                      <a:lnTo>
                        <a:pt x="711" y="456"/>
                      </a:lnTo>
                      <a:lnTo>
                        <a:pt x="706" y="459"/>
                      </a:lnTo>
                      <a:lnTo>
                        <a:pt x="702" y="464"/>
                      </a:lnTo>
                      <a:lnTo>
                        <a:pt x="699" y="468"/>
                      </a:lnTo>
                      <a:lnTo>
                        <a:pt x="698" y="473"/>
                      </a:lnTo>
                      <a:lnTo>
                        <a:pt x="697" y="477"/>
                      </a:lnTo>
                      <a:lnTo>
                        <a:pt x="695" y="480"/>
                      </a:lnTo>
                      <a:lnTo>
                        <a:pt x="695" y="484"/>
                      </a:lnTo>
                      <a:lnTo>
                        <a:pt x="657" y="498"/>
                      </a:lnTo>
                      <a:lnTo>
                        <a:pt x="635" y="482"/>
                      </a:lnTo>
                      <a:lnTo>
                        <a:pt x="608" y="470"/>
                      </a:lnTo>
                      <a:lnTo>
                        <a:pt x="590" y="426"/>
                      </a:lnTo>
                      <a:lnTo>
                        <a:pt x="567" y="410"/>
                      </a:lnTo>
                      <a:lnTo>
                        <a:pt x="515" y="405"/>
                      </a:lnTo>
                      <a:lnTo>
                        <a:pt x="492" y="432"/>
                      </a:lnTo>
                      <a:lnTo>
                        <a:pt x="454" y="466"/>
                      </a:lnTo>
                      <a:lnTo>
                        <a:pt x="446" y="466"/>
                      </a:lnTo>
                      <a:lnTo>
                        <a:pt x="438" y="466"/>
                      </a:lnTo>
                      <a:lnTo>
                        <a:pt x="429" y="468"/>
                      </a:lnTo>
                      <a:lnTo>
                        <a:pt x="421" y="470"/>
                      </a:lnTo>
                      <a:lnTo>
                        <a:pt x="417" y="472"/>
                      </a:lnTo>
                      <a:lnTo>
                        <a:pt x="413" y="474"/>
                      </a:lnTo>
                      <a:lnTo>
                        <a:pt x="410" y="477"/>
                      </a:lnTo>
                      <a:lnTo>
                        <a:pt x="409" y="481"/>
                      </a:lnTo>
                      <a:lnTo>
                        <a:pt x="408" y="484"/>
                      </a:lnTo>
                      <a:lnTo>
                        <a:pt x="408" y="485"/>
                      </a:lnTo>
                      <a:lnTo>
                        <a:pt x="408" y="490"/>
                      </a:lnTo>
                      <a:lnTo>
                        <a:pt x="409" y="499"/>
                      </a:lnTo>
                      <a:lnTo>
                        <a:pt x="409" y="506"/>
                      </a:lnTo>
                      <a:lnTo>
                        <a:pt x="409" y="514"/>
                      </a:lnTo>
                      <a:lnTo>
                        <a:pt x="408" y="518"/>
                      </a:lnTo>
                      <a:lnTo>
                        <a:pt x="410" y="538"/>
                      </a:lnTo>
                      <a:lnTo>
                        <a:pt x="388" y="573"/>
                      </a:lnTo>
                      <a:lnTo>
                        <a:pt x="338" y="568"/>
                      </a:lnTo>
                      <a:lnTo>
                        <a:pt x="305" y="568"/>
                      </a:lnTo>
                      <a:lnTo>
                        <a:pt x="289" y="588"/>
                      </a:lnTo>
                      <a:lnTo>
                        <a:pt x="289" y="608"/>
                      </a:lnTo>
                      <a:lnTo>
                        <a:pt x="300" y="635"/>
                      </a:lnTo>
                      <a:lnTo>
                        <a:pt x="306" y="667"/>
                      </a:lnTo>
                      <a:lnTo>
                        <a:pt x="268" y="695"/>
                      </a:lnTo>
                      <a:lnTo>
                        <a:pt x="242" y="721"/>
                      </a:lnTo>
                      <a:lnTo>
                        <a:pt x="256" y="758"/>
                      </a:lnTo>
                      <a:lnTo>
                        <a:pt x="285" y="813"/>
                      </a:lnTo>
                      <a:lnTo>
                        <a:pt x="269" y="829"/>
                      </a:lnTo>
                      <a:lnTo>
                        <a:pt x="269" y="892"/>
                      </a:lnTo>
                      <a:lnTo>
                        <a:pt x="294" y="914"/>
                      </a:lnTo>
                      <a:lnTo>
                        <a:pt x="325" y="925"/>
                      </a:lnTo>
                      <a:lnTo>
                        <a:pt x="337" y="894"/>
                      </a:lnTo>
                      <a:lnTo>
                        <a:pt x="360" y="858"/>
                      </a:lnTo>
                      <a:lnTo>
                        <a:pt x="405" y="875"/>
                      </a:lnTo>
                      <a:lnTo>
                        <a:pt x="393" y="911"/>
                      </a:lnTo>
                      <a:lnTo>
                        <a:pt x="434" y="932"/>
                      </a:lnTo>
                      <a:lnTo>
                        <a:pt x="487" y="952"/>
                      </a:lnTo>
                      <a:lnTo>
                        <a:pt x="491" y="969"/>
                      </a:lnTo>
                      <a:lnTo>
                        <a:pt x="400" y="974"/>
                      </a:lnTo>
                      <a:lnTo>
                        <a:pt x="362" y="986"/>
                      </a:lnTo>
                      <a:lnTo>
                        <a:pt x="309" y="973"/>
                      </a:lnTo>
                      <a:lnTo>
                        <a:pt x="298" y="937"/>
                      </a:lnTo>
                      <a:lnTo>
                        <a:pt x="260" y="936"/>
                      </a:lnTo>
                      <a:lnTo>
                        <a:pt x="260" y="964"/>
                      </a:lnTo>
                      <a:lnTo>
                        <a:pt x="240" y="987"/>
                      </a:lnTo>
                      <a:lnTo>
                        <a:pt x="203" y="983"/>
                      </a:lnTo>
                      <a:lnTo>
                        <a:pt x="207" y="923"/>
                      </a:lnTo>
                      <a:lnTo>
                        <a:pt x="174" y="927"/>
                      </a:lnTo>
                      <a:lnTo>
                        <a:pt x="157" y="1010"/>
                      </a:lnTo>
                      <a:lnTo>
                        <a:pt x="160" y="1109"/>
                      </a:lnTo>
                      <a:lnTo>
                        <a:pt x="231" y="1122"/>
                      </a:lnTo>
                      <a:lnTo>
                        <a:pt x="261" y="1123"/>
                      </a:lnTo>
                      <a:lnTo>
                        <a:pt x="284" y="1103"/>
                      </a:lnTo>
                      <a:lnTo>
                        <a:pt x="285" y="1068"/>
                      </a:lnTo>
                      <a:lnTo>
                        <a:pt x="304" y="1060"/>
                      </a:lnTo>
                      <a:lnTo>
                        <a:pt x="310" y="1140"/>
                      </a:lnTo>
                      <a:lnTo>
                        <a:pt x="333" y="1172"/>
                      </a:lnTo>
                      <a:lnTo>
                        <a:pt x="317" y="1188"/>
                      </a:lnTo>
                      <a:lnTo>
                        <a:pt x="280" y="1175"/>
                      </a:lnTo>
                      <a:lnTo>
                        <a:pt x="264" y="1159"/>
                      </a:lnTo>
                      <a:lnTo>
                        <a:pt x="242" y="1155"/>
                      </a:lnTo>
                      <a:lnTo>
                        <a:pt x="205" y="1150"/>
                      </a:lnTo>
                      <a:lnTo>
                        <a:pt x="173" y="1233"/>
                      </a:lnTo>
                      <a:lnTo>
                        <a:pt x="214" y="1262"/>
                      </a:lnTo>
                      <a:lnTo>
                        <a:pt x="236" y="1285"/>
                      </a:lnTo>
                      <a:lnTo>
                        <a:pt x="223" y="1337"/>
                      </a:lnTo>
                      <a:lnTo>
                        <a:pt x="223" y="1372"/>
                      </a:lnTo>
                      <a:lnTo>
                        <a:pt x="250" y="1382"/>
                      </a:lnTo>
                      <a:lnTo>
                        <a:pt x="203" y="1388"/>
                      </a:lnTo>
                      <a:lnTo>
                        <a:pt x="170" y="1367"/>
                      </a:lnTo>
                      <a:lnTo>
                        <a:pt x="178" y="1332"/>
                      </a:lnTo>
                      <a:lnTo>
                        <a:pt x="126" y="1312"/>
                      </a:lnTo>
                      <a:lnTo>
                        <a:pt x="118" y="1351"/>
                      </a:lnTo>
                      <a:lnTo>
                        <a:pt x="116" y="1387"/>
                      </a:lnTo>
                      <a:lnTo>
                        <a:pt x="124" y="1423"/>
                      </a:lnTo>
                      <a:lnTo>
                        <a:pt x="147" y="1411"/>
                      </a:lnTo>
                      <a:lnTo>
                        <a:pt x="181" y="1404"/>
                      </a:lnTo>
                      <a:lnTo>
                        <a:pt x="176" y="1460"/>
                      </a:lnTo>
                      <a:lnTo>
                        <a:pt x="232" y="1477"/>
                      </a:lnTo>
                      <a:lnTo>
                        <a:pt x="236" y="1508"/>
                      </a:lnTo>
                      <a:lnTo>
                        <a:pt x="277" y="1524"/>
                      </a:lnTo>
                      <a:lnTo>
                        <a:pt x="322" y="1549"/>
                      </a:lnTo>
                      <a:lnTo>
                        <a:pt x="370" y="1685"/>
                      </a:lnTo>
                      <a:lnTo>
                        <a:pt x="391" y="1718"/>
                      </a:lnTo>
                      <a:lnTo>
                        <a:pt x="346" y="1744"/>
                      </a:lnTo>
                      <a:lnTo>
                        <a:pt x="356" y="1792"/>
                      </a:lnTo>
                      <a:lnTo>
                        <a:pt x="371" y="1825"/>
                      </a:lnTo>
                      <a:lnTo>
                        <a:pt x="329" y="1835"/>
                      </a:lnTo>
                      <a:lnTo>
                        <a:pt x="325" y="1863"/>
                      </a:lnTo>
                      <a:lnTo>
                        <a:pt x="301" y="1891"/>
                      </a:lnTo>
                      <a:lnTo>
                        <a:pt x="210" y="1925"/>
                      </a:lnTo>
                      <a:lnTo>
                        <a:pt x="188" y="1937"/>
                      </a:lnTo>
                      <a:lnTo>
                        <a:pt x="198" y="1992"/>
                      </a:lnTo>
                      <a:lnTo>
                        <a:pt x="160" y="1999"/>
                      </a:lnTo>
                      <a:lnTo>
                        <a:pt x="118" y="2007"/>
                      </a:lnTo>
                      <a:lnTo>
                        <a:pt x="110" y="2042"/>
                      </a:lnTo>
                      <a:lnTo>
                        <a:pt x="112" y="2090"/>
                      </a:lnTo>
                      <a:lnTo>
                        <a:pt x="86" y="2114"/>
                      </a:lnTo>
                      <a:lnTo>
                        <a:pt x="40" y="2128"/>
                      </a:lnTo>
                      <a:lnTo>
                        <a:pt x="46" y="2183"/>
                      </a:lnTo>
                      <a:lnTo>
                        <a:pt x="101" y="2173"/>
                      </a:lnTo>
                      <a:lnTo>
                        <a:pt x="110" y="2242"/>
                      </a:lnTo>
                      <a:lnTo>
                        <a:pt x="148" y="2285"/>
                      </a:lnTo>
                      <a:lnTo>
                        <a:pt x="120" y="2317"/>
                      </a:lnTo>
                      <a:lnTo>
                        <a:pt x="78" y="2339"/>
                      </a:lnTo>
                      <a:lnTo>
                        <a:pt x="112" y="2376"/>
                      </a:lnTo>
                      <a:lnTo>
                        <a:pt x="155" y="2336"/>
                      </a:lnTo>
                      <a:lnTo>
                        <a:pt x="201" y="2286"/>
                      </a:lnTo>
                      <a:lnTo>
                        <a:pt x="235" y="2259"/>
                      </a:lnTo>
                      <a:lnTo>
                        <a:pt x="260" y="2307"/>
                      </a:lnTo>
                      <a:lnTo>
                        <a:pt x="199" y="2342"/>
                      </a:lnTo>
                      <a:lnTo>
                        <a:pt x="173" y="2373"/>
                      </a:lnTo>
                      <a:lnTo>
                        <a:pt x="168" y="2405"/>
                      </a:lnTo>
                      <a:lnTo>
                        <a:pt x="89" y="2439"/>
                      </a:lnTo>
                      <a:lnTo>
                        <a:pt x="0" y="2509"/>
                      </a:lnTo>
                      <a:lnTo>
                        <a:pt x="60" y="2582"/>
                      </a:lnTo>
                      <a:lnTo>
                        <a:pt x="132" y="2540"/>
                      </a:lnTo>
                      <a:lnTo>
                        <a:pt x="155" y="2516"/>
                      </a:lnTo>
                      <a:lnTo>
                        <a:pt x="189" y="2541"/>
                      </a:lnTo>
                      <a:lnTo>
                        <a:pt x="265" y="2462"/>
                      </a:lnTo>
                      <a:lnTo>
                        <a:pt x="310" y="2487"/>
                      </a:lnTo>
                      <a:lnTo>
                        <a:pt x="352" y="2449"/>
                      </a:lnTo>
                      <a:lnTo>
                        <a:pt x="397" y="2472"/>
                      </a:lnTo>
                      <a:lnTo>
                        <a:pt x="447" y="2406"/>
                      </a:lnTo>
                      <a:lnTo>
                        <a:pt x="407" y="2362"/>
                      </a:lnTo>
                      <a:lnTo>
                        <a:pt x="385" y="2334"/>
                      </a:lnTo>
                      <a:lnTo>
                        <a:pt x="420" y="2282"/>
                      </a:lnTo>
                      <a:lnTo>
                        <a:pt x="458" y="2290"/>
                      </a:lnTo>
                      <a:lnTo>
                        <a:pt x="504" y="2248"/>
                      </a:lnTo>
                      <a:lnTo>
                        <a:pt x="533" y="2268"/>
                      </a:lnTo>
                      <a:lnTo>
                        <a:pt x="495" y="2327"/>
                      </a:lnTo>
                      <a:lnTo>
                        <a:pt x="524" y="2364"/>
                      </a:lnTo>
                      <a:lnTo>
                        <a:pt x="490" y="2402"/>
                      </a:lnTo>
                      <a:lnTo>
                        <a:pt x="508" y="2420"/>
                      </a:lnTo>
                      <a:lnTo>
                        <a:pt x="619" y="2284"/>
                      </a:lnTo>
                      <a:lnTo>
                        <a:pt x="712" y="2352"/>
                      </a:lnTo>
                      <a:lnTo>
                        <a:pt x="702" y="2402"/>
                      </a:lnTo>
                      <a:lnTo>
                        <a:pt x="693" y="2450"/>
                      </a:lnTo>
                      <a:lnTo>
                        <a:pt x="673" y="2513"/>
                      </a:lnTo>
                      <a:lnTo>
                        <a:pt x="718" y="2530"/>
                      </a:lnTo>
                      <a:lnTo>
                        <a:pt x="698" y="2598"/>
                      </a:lnTo>
                      <a:lnTo>
                        <a:pt x="728" y="2605"/>
                      </a:lnTo>
                      <a:lnTo>
                        <a:pt x="697" y="2704"/>
                      </a:lnTo>
                      <a:lnTo>
                        <a:pt x="734" y="2714"/>
                      </a:lnTo>
                      <a:lnTo>
                        <a:pt x="744" y="2777"/>
                      </a:lnTo>
                      <a:lnTo>
                        <a:pt x="747" y="2836"/>
                      </a:lnTo>
                      <a:lnTo>
                        <a:pt x="740" y="2988"/>
                      </a:lnTo>
                      <a:lnTo>
                        <a:pt x="732" y="3083"/>
                      </a:lnTo>
                      <a:lnTo>
                        <a:pt x="741" y="3182"/>
                      </a:lnTo>
                      <a:lnTo>
                        <a:pt x="759" y="3298"/>
                      </a:lnTo>
                      <a:lnTo>
                        <a:pt x="796" y="3315"/>
                      </a:lnTo>
                      <a:lnTo>
                        <a:pt x="802" y="3355"/>
                      </a:lnTo>
                      <a:lnTo>
                        <a:pt x="840" y="3370"/>
                      </a:lnTo>
                      <a:lnTo>
                        <a:pt x="860" y="3315"/>
                      </a:lnTo>
                      <a:lnTo>
                        <a:pt x="923" y="3360"/>
                      </a:lnTo>
                      <a:lnTo>
                        <a:pt x="980" y="3377"/>
                      </a:lnTo>
                      <a:lnTo>
                        <a:pt x="996" y="3349"/>
                      </a:lnTo>
                      <a:lnTo>
                        <a:pt x="989" y="3282"/>
                      </a:lnTo>
                      <a:lnTo>
                        <a:pt x="1034" y="3283"/>
                      </a:lnTo>
                      <a:lnTo>
                        <a:pt x="1021" y="3207"/>
                      </a:lnTo>
                      <a:lnTo>
                        <a:pt x="1059" y="3196"/>
                      </a:lnTo>
                      <a:lnTo>
                        <a:pt x="1057" y="3121"/>
                      </a:lnTo>
                      <a:lnTo>
                        <a:pt x="1011" y="3108"/>
                      </a:lnTo>
                      <a:lnTo>
                        <a:pt x="1038" y="3029"/>
                      </a:lnTo>
                      <a:lnTo>
                        <a:pt x="1091" y="3038"/>
                      </a:lnTo>
                      <a:lnTo>
                        <a:pt x="1124" y="2931"/>
                      </a:lnTo>
                      <a:lnTo>
                        <a:pt x="1098" y="2910"/>
                      </a:lnTo>
                      <a:lnTo>
                        <a:pt x="1107" y="2839"/>
                      </a:lnTo>
                      <a:lnTo>
                        <a:pt x="1460" y="2909"/>
                      </a:lnTo>
                      <a:lnTo>
                        <a:pt x="1481" y="2766"/>
                      </a:lnTo>
                      <a:lnTo>
                        <a:pt x="1248" y="2707"/>
                      </a:lnTo>
                      <a:lnTo>
                        <a:pt x="1274" y="2541"/>
                      </a:lnTo>
                      <a:lnTo>
                        <a:pt x="1469" y="2583"/>
                      </a:lnTo>
                      <a:lnTo>
                        <a:pt x="1587" y="2562"/>
                      </a:lnTo>
                      <a:lnTo>
                        <a:pt x="1616" y="2627"/>
                      </a:lnTo>
                      <a:lnTo>
                        <a:pt x="1625" y="2781"/>
                      </a:lnTo>
                      <a:lnTo>
                        <a:pt x="1477" y="2814"/>
                      </a:lnTo>
                      <a:lnTo>
                        <a:pt x="1469" y="2849"/>
                      </a:lnTo>
                      <a:lnTo>
                        <a:pt x="1468" y="2852"/>
                      </a:lnTo>
                      <a:lnTo>
                        <a:pt x="1467" y="2855"/>
                      </a:lnTo>
                      <a:lnTo>
                        <a:pt x="1464" y="2859"/>
                      </a:lnTo>
                      <a:lnTo>
                        <a:pt x="1463" y="2865"/>
                      </a:lnTo>
                      <a:lnTo>
                        <a:pt x="1460" y="2873"/>
                      </a:lnTo>
                      <a:lnTo>
                        <a:pt x="1459" y="2884"/>
                      </a:lnTo>
                      <a:lnTo>
                        <a:pt x="1456" y="2897"/>
                      </a:lnTo>
                      <a:lnTo>
                        <a:pt x="1455" y="2913"/>
                      </a:lnTo>
                      <a:lnTo>
                        <a:pt x="1456" y="2897"/>
                      </a:lnTo>
                      <a:lnTo>
                        <a:pt x="1459" y="2969"/>
                      </a:lnTo>
                      <a:lnTo>
                        <a:pt x="1588" y="2975"/>
                      </a:lnTo>
                      <a:lnTo>
                        <a:pt x="1663" y="2952"/>
                      </a:lnTo>
                      <a:lnTo>
                        <a:pt x="1686" y="2993"/>
                      </a:lnTo>
                      <a:lnTo>
                        <a:pt x="1712" y="2991"/>
                      </a:lnTo>
                      <a:lnTo>
                        <a:pt x="1766" y="2987"/>
                      </a:lnTo>
                      <a:lnTo>
                        <a:pt x="1782" y="2959"/>
                      </a:lnTo>
                      <a:lnTo>
                        <a:pt x="1753" y="2803"/>
                      </a:lnTo>
                      <a:lnTo>
                        <a:pt x="1833" y="2777"/>
                      </a:lnTo>
                      <a:lnTo>
                        <a:pt x="1852" y="2826"/>
                      </a:lnTo>
                      <a:lnTo>
                        <a:pt x="1877" y="2881"/>
                      </a:lnTo>
                      <a:lnTo>
                        <a:pt x="1907" y="2849"/>
                      </a:lnTo>
                      <a:lnTo>
                        <a:pt x="1961" y="2835"/>
                      </a:lnTo>
                      <a:lnTo>
                        <a:pt x="2005" y="2919"/>
                      </a:lnTo>
                      <a:lnTo>
                        <a:pt x="1868" y="2964"/>
                      </a:lnTo>
                      <a:lnTo>
                        <a:pt x="1878" y="3053"/>
                      </a:lnTo>
                      <a:lnTo>
                        <a:pt x="1715" y="3082"/>
                      </a:lnTo>
                      <a:lnTo>
                        <a:pt x="1732" y="3184"/>
                      </a:lnTo>
                      <a:lnTo>
                        <a:pt x="1576" y="3194"/>
                      </a:lnTo>
                      <a:lnTo>
                        <a:pt x="1543" y="3149"/>
                      </a:lnTo>
                      <a:lnTo>
                        <a:pt x="1530" y="3236"/>
                      </a:lnTo>
                      <a:lnTo>
                        <a:pt x="1591" y="3265"/>
                      </a:lnTo>
                      <a:lnTo>
                        <a:pt x="1670" y="3268"/>
                      </a:lnTo>
                      <a:lnTo>
                        <a:pt x="1731" y="3268"/>
                      </a:lnTo>
                      <a:lnTo>
                        <a:pt x="1773" y="3249"/>
                      </a:lnTo>
                      <a:lnTo>
                        <a:pt x="1787" y="3285"/>
                      </a:lnTo>
                      <a:lnTo>
                        <a:pt x="1790" y="3348"/>
                      </a:lnTo>
                      <a:lnTo>
                        <a:pt x="1816" y="3369"/>
                      </a:lnTo>
                      <a:lnTo>
                        <a:pt x="1873" y="3355"/>
                      </a:lnTo>
                      <a:lnTo>
                        <a:pt x="1919" y="3323"/>
                      </a:lnTo>
                      <a:lnTo>
                        <a:pt x="1948" y="3344"/>
                      </a:lnTo>
                      <a:lnTo>
                        <a:pt x="1918" y="3366"/>
                      </a:lnTo>
                      <a:lnTo>
                        <a:pt x="1890" y="3406"/>
                      </a:lnTo>
                      <a:lnTo>
                        <a:pt x="1845" y="3418"/>
                      </a:lnTo>
                      <a:lnTo>
                        <a:pt x="1864" y="3461"/>
                      </a:lnTo>
                      <a:lnTo>
                        <a:pt x="1899" y="3486"/>
                      </a:lnTo>
                      <a:lnTo>
                        <a:pt x="1956" y="3469"/>
                      </a:lnTo>
                      <a:lnTo>
                        <a:pt x="2084" y="3436"/>
                      </a:lnTo>
                      <a:lnTo>
                        <a:pt x="2159" y="3413"/>
                      </a:lnTo>
                      <a:lnTo>
                        <a:pt x="2104" y="3265"/>
                      </a:lnTo>
                      <a:lnTo>
                        <a:pt x="2079" y="3227"/>
                      </a:lnTo>
                      <a:lnTo>
                        <a:pt x="2163" y="3196"/>
                      </a:lnTo>
                      <a:lnTo>
                        <a:pt x="2224" y="3170"/>
                      </a:lnTo>
                      <a:lnTo>
                        <a:pt x="2157" y="3086"/>
                      </a:lnTo>
                      <a:lnTo>
                        <a:pt x="2121" y="3005"/>
                      </a:lnTo>
                      <a:lnTo>
                        <a:pt x="2155" y="2977"/>
                      </a:lnTo>
                      <a:lnTo>
                        <a:pt x="2201" y="2927"/>
                      </a:lnTo>
                      <a:lnTo>
                        <a:pt x="2279" y="3024"/>
                      </a:lnTo>
                      <a:lnTo>
                        <a:pt x="2310" y="2992"/>
                      </a:lnTo>
                      <a:lnTo>
                        <a:pt x="2151" y="2776"/>
                      </a:lnTo>
                      <a:lnTo>
                        <a:pt x="2175" y="2708"/>
                      </a:lnTo>
                      <a:lnTo>
                        <a:pt x="2175" y="2665"/>
                      </a:lnTo>
                      <a:lnTo>
                        <a:pt x="2164" y="2624"/>
                      </a:lnTo>
                      <a:lnTo>
                        <a:pt x="2145" y="2460"/>
                      </a:lnTo>
                      <a:lnTo>
                        <a:pt x="2150" y="2365"/>
                      </a:lnTo>
                      <a:lnTo>
                        <a:pt x="2180" y="2335"/>
                      </a:lnTo>
                      <a:lnTo>
                        <a:pt x="2219" y="2335"/>
                      </a:lnTo>
                      <a:lnTo>
                        <a:pt x="2236" y="2201"/>
                      </a:lnTo>
                      <a:lnTo>
                        <a:pt x="2253" y="2078"/>
                      </a:lnTo>
                      <a:lnTo>
                        <a:pt x="2208" y="2057"/>
                      </a:lnTo>
                      <a:lnTo>
                        <a:pt x="2213" y="1962"/>
                      </a:lnTo>
                      <a:lnTo>
                        <a:pt x="2249" y="1859"/>
                      </a:lnTo>
                      <a:lnTo>
                        <a:pt x="2296" y="1748"/>
                      </a:lnTo>
                      <a:lnTo>
                        <a:pt x="2375" y="1761"/>
                      </a:lnTo>
                      <a:lnTo>
                        <a:pt x="2408" y="1607"/>
                      </a:lnTo>
                      <a:lnTo>
                        <a:pt x="2229" y="1586"/>
                      </a:lnTo>
                      <a:lnTo>
                        <a:pt x="2224" y="1481"/>
                      </a:lnTo>
                      <a:lnTo>
                        <a:pt x="2426" y="1469"/>
                      </a:lnTo>
                      <a:lnTo>
                        <a:pt x="2389" y="1456"/>
                      </a:lnTo>
                      <a:lnTo>
                        <a:pt x="2389" y="1436"/>
                      </a:lnTo>
                      <a:lnTo>
                        <a:pt x="2389" y="1404"/>
                      </a:lnTo>
                      <a:lnTo>
                        <a:pt x="2457" y="1405"/>
                      </a:lnTo>
                      <a:lnTo>
                        <a:pt x="2455" y="1362"/>
                      </a:lnTo>
                      <a:lnTo>
                        <a:pt x="2436" y="1326"/>
                      </a:lnTo>
                      <a:lnTo>
                        <a:pt x="2478" y="1287"/>
                      </a:lnTo>
                      <a:lnTo>
                        <a:pt x="2460" y="1239"/>
                      </a:lnTo>
                      <a:lnTo>
                        <a:pt x="2411" y="1246"/>
                      </a:lnTo>
                      <a:lnTo>
                        <a:pt x="2397" y="1210"/>
                      </a:lnTo>
                      <a:lnTo>
                        <a:pt x="2435" y="1175"/>
                      </a:lnTo>
                      <a:lnTo>
                        <a:pt x="2394" y="1106"/>
                      </a:lnTo>
                      <a:lnTo>
                        <a:pt x="2345" y="1063"/>
                      </a:lnTo>
                      <a:lnTo>
                        <a:pt x="2342" y="1014"/>
                      </a:lnTo>
                      <a:lnTo>
                        <a:pt x="2381" y="999"/>
                      </a:lnTo>
                      <a:lnTo>
                        <a:pt x="2430" y="987"/>
                      </a:lnTo>
                      <a:lnTo>
                        <a:pt x="2435" y="952"/>
                      </a:lnTo>
                      <a:lnTo>
                        <a:pt x="2492" y="949"/>
                      </a:lnTo>
                      <a:lnTo>
                        <a:pt x="2518" y="939"/>
                      </a:lnTo>
                      <a:lnTo>
                        <a:pt x="2511" y="902"/>
                      </a:lnTo>
                      <a:lnTo>
                        <a:pt x="2459" y="861"/>
                      </a:lnTo>
                      <a:lnTo>
                        <a:pt x="2398" y="869"/>
                      </a:lnTo>
                      <a:lnTo>
                        <a:pt x="2369" y="824"/>
                      </a:lnTo>
                      <a:lnTo>
                        <a:pt x="2426" y="797"/>
                      </a:lnTo>
                      <a:lnTo>
                        <a:pt x="2476" y="758"/>
                      </a:lnTo>
                      <a:lnTo>
                        <a:pt x="2528" y="728"/>
                      </a:lnTo>
                      <a:lnTo>
                        <a:pt x="2567" y="692"/>
                      </a:lnTo>
                      <a:lnTo>
                        <a:pt x="2546" y="645"/>
                      </a:lnTo>
                      <a:lnTo>
                        <a:pt x="2527" y="609"/>
                      </a:lnTo>
                      <a:lnTo>
                        <a:pt x="2569" y="605"/>
                      </a:lnTo>
                      <a:lnTo>
                        <a:pt x="2614" y="579"/>
                      </a:lnTo>
                      <a:lnTo>
                        <a:pt x="2597" y="498"/>
                      </a:lnTo>
                      <a:lnTo>
                        <a:pt x="2597" y="474"/>
                      </a:lnTo>
                      <a:lnTo>
                        <a:pt x="2651" y="444"/>
                      </a:lnTo>
                      <a:lnTo>
                        <a:pt x="2655" y="416"/>
                      </a:lnTo>
                      <a:lnTo>
                        <a:pt x="2641" y="387"/>
                      </a:lnTo>
                      <a:lnTo>
                        <a:pt x="2600" y="308"/>
                      </a:lnTo>
                      <a:lnTo>
                        <a:pt x="2540" y="303"/>
                      </a:lnTo>
                      <a:lnTo>
                        <a:pt x="2526" y="246"/>
                      </a:lnTo>
                      <a:lnTo>
                        <a:pt x="2527" y="183"/>
                      </a:lnTo>
                      <a:lnTo>
                        <a:pt x="2481" y="183"/>
                      </a:lnTo>
                      <a:lnTo>
                        <a:pt x="2459" y="197"/>
                      </a:lnTo>
                      <a:lnTo>
                        <a:pt x="2435" y="213"/>
                      </a:lnTo>
                      <a:lnTo>
                        <a:pt x="2378" y="220"/>
                      </a:lnTo>
                      <a:lnTo>
                        <a:pt x="2368" y="184"/>
                      </a:lnTo>
                      <a:lnTo>
                        <a:pt x="2369" y="105"/>
                      </a:lnTo>
                      <a:lnTo>
                        <a:pt x="2324" y="100"/>
                      </a:lnTo>
                      <a:lnTo>
                        <a:pt x="2313" y="29"/>
                      </a:lnTo>
                      <a:lnTo>
                        <a:pt x="2250" y="0"/>
                      </a:lnTo>
                      <a:lnTo>
                        <a:pt x="2212" y="34"/>
                      </a:lnTo>
                      <a:lnTo>
                        <a:pt x="2229" y="87"/>
                      </a:lnTo>
                      <a:lnTo>
                        <a:pt x="2211" y="126"/>
                      </a:lnTo>
                      <a:lnTo>
                        <a:pt x="2161" y="161"/>
                      </a:lnTo>
                      <a:lnTo>
                        <a:pt x="2163" y="232"/>
                      </a:lnTo>
                      <a:lnTo>
                        <a:pt x="2212" y="229"/>
                      </a:lnTo>
                      <a:lnTo>
                        <a:pt x="2216" y="194"/>
                      </a:lnTo>
                      <a:lnTo>
                        <a:pt x="2270" y="195"/>
                      </a:lnTo>
                      <a:lnTo>
                        <a:pt x="2277" y="230"/>
                      </a:lnTo>
                      <a:lnTo>
                        <a:pt x="2230" y="245"/>
                      </a:lnTo>
                      <a:lnTo>
                        <a:pt x="2265" y="266"/>
                      </a:lnTo>
                      <a:lnTo>
                        <a:pt x="2294" y="302"/>
                      </a:lnTo>
                      <a:lnTo>
                        <a:pt x="2336" y="323"/>
                      </a:lnTo>
                      <a:lnTo>
                        <a:pt x="2391" y="336"/>
                      </a:lnTo>
                      <a:lnTo>
                        <a:pt x="2373" y="372"/>
                      </a:lnTo>
                      <a:lnTo>
                        <a:pt x="2319" y="366"/>
                      </a:lnTo>
                      <a:lnTo>
                        <a:pt x="2286" y="329"/>
                      </a:lnTo>
                      <a:lnTo>
                        <a:pt x="2251" y="325"/>
                      </a:lnTo>
                      <a:lnTo>
                        <a:pt x="2225" y="332"/>
                      </a:lnTo>
                      <a:lnTo>
                        <a:pt x="2236" y="389"/>
                      </a:lnTo>
                      <a:lnTo>
                        <a:pt x="2205" y="399"/>
                      </a:lnTo>
                      <a:lnTo>
                        <a:pt x="2201" y="448"/>
                      </a:lnTo>
                      <a:lnTo>
                        <a:pt x="2182" y="490"/>
                      </a:lnTo>
                      <a:lnTo>
                        <a:pt x="2166" y="534"/>
                      </a:lnTo>
                      <a:lnTo>
                        <a:pt x="2219" y="531"/>
                      </a:lnTo>
                      <a:lnTo>
                        <a:pt x="2253" y="503"/>
                      </a:lnTo>
                      <a:lnTo>
                        <a:pt x="2313" y="521"/>
                      </a:lnTo>
                      <a:lnTo>
                        <a:pt x="2352" y="490"/>
                      </a:lnTo>
                      <a:lnTo>
                        <a:pt x="2412" y="468"/>
                      </a:lnTo>
                      <a:lnTo>
                        <a:pt x="2423" y="503"/>
                      </a:lnTo>
                      <a:lnTo>
                        <a:pt x="2419" y="539"/>
                      </a:lnTo>
                      <a:lnTo>
                        <a:pt x="2366" y="538"/>
                      </a:lnTo>
                      <a:lnTo>
                        <a:pt x="2346" y="569"/>
                      </a:lnTo>
                      <a:lnTo>
                        <a:pt x="2298" y="576"/>
                      </a:lnTo>
                      <a:lnTo>
                        <a:pt x="2259" y="584"/>
                      </a:lnTo>
                      <a:lnTo>
                        <a:pt x="2225" y="594"/>
                      </a:lnTo>
                      <a:lnTo>
                        <a:pt x="2180" y="559"/>
                      </a:lnTo>
                      <a:lnTo>
                        <a:pt x="2150" y="557"/>
                      </a:lnTo>
                      <a:lnTo>
                        <a:pt x="2138" y="573"/>
                      </a:lnTo>
                      <a:lnTo>
                        <a:pt x="2112" y="597"/>
                      </a:lnTo>
                      <a:lnTo>
                        <a:pt x="2070" y="588"/>
                      </a:lnTo>
                      <a:lnTo>
                        <a:pt x="2037" y="548"/>
                      </a:lnTo>
                      <a:lnTo>
                        <a:pt x="1998" y="555"/>
                      </a:lnTo>
                      <a:lnTo>
                        <a:pt x="2017" y="608"/>
                      </a:lnTo>
                      <a:lnTo>
                        <a:pt x="1967" y="622"/>
                      </a:lnTo>
                      <a:lnTo>
                        <a:pt x="1903" y="633"/>
                      </a:lnTo>
                      <a:lnTo>
                        <a:pt x="1865" y="668"/>
                      </a:lnTo>
                      <a:lnTo>
                        <a:pt x="1831" y="635"/>
                      </a:lnTo>
                      <a:lnTo>
                        <a:pt x="1781" y="666"/>
                      </a:lnTo>
                      <a:lnTo>
                        <a:pt x="1756" y="634"/>
                      </a:lnTo>
                      <a:lnTo>
                        <a:pt x="1709" y="693"/>
                      </a:lnTo>
                      <a:lnTo>
                        <a:pt x="1671" y="708"/>
                      </a:lnTo>
                      <a:lnTo>
                        <a:pt x="1634" y="675"/>
                      </a:lnTo>
                      <a:lnTo>
                        <a:pt x="1626" y="647"/>
                      </a:lnTo>
                      <a:lnTo>
                        <a:pt x="1589" y="631"/>
                      </a:lnTo>
                      <a:lnTo>
                        <a:pt x="1558" y="662"/>
                      </a:lnTo>
                      <a:lnTo>
                        <a:pt x="1546" y="689"/>
                      </a:lnTo>
                      <a:lnTo>
                        <a:pt x="1539" y="638"/>
                      </a:lnTo>
                      <a:lnTo>
                        <a:pt x="1517" y="626"/>
                      </a:lnTo>
                      <a:lnTo>
                        <a:pt x="1472" y="597"/>
                      </a:lnTo>
                      <a:lnTo>
                        <a:pt x="1447" y="556"/>
                      </a:lnTo>
                      <a:lnTo>
                        <a:pt x="1451" y="551"/>
                      </a:lnTo>
                      <a:lnTo>
                        <a:pt x="1460" y="536"/>
                      </a:lnTo>
                      <a:lnTo>
                        <a:pt x="1465" y="527"/>
                      </a:lnTo>
                      <a:lnTo>
                        <a:pt x="1469" y="519"/>
                      </a:lnTo>
                      <a:lnTo>
                        <a:pt x="1472" y="510"/>
                      </a:lnTo>
                      <a:lnTo>
                        <a:pt x="1473" y="506"/>
                      </a:lnTo>
                      <a:lnTo>
                        <a:pt x="1473" y="502"/>
                      </a:lnTo>
                      <a:lnTo>
                        <a:pt x="1473" y="493"/>
                      </a:lnTo>
                      <a:lnTo>
                        <a:pt x="1472" y="482"/>
                      </a:lnTo>
                      <a:lnTo>
                        <a:pt x="1469" y="470"/>
                      </a:lnTo>
                      <a:lnTo>
                        <a:pt x="1467" y="460"/>
                      </a:lnTo>
                      <a:lnTo>
                        <a:pt x="1464" y="456"/>
                      </a:lnTo>
                      <a:lnTo>
                        <a:pt x="1463" y="451"/>
                      </a:lnTo>
                      <a:lnTo>
                        <a:pt x="1460" y="448"/>
                      </a:lnTo>
                      <a:lnTo>
                        <a:pt x="1458" y="445"/>
                      </a:lnTo>
                      <a:lnTo>
                        <a:pt x="1455" y="443"/>
                      </a:lnTo>
                      <a:lnTo>
                        <a:pt x="1451" y="443"/>
                      </a:lnTo>
                      <a:lnTo>
                        <a:pt x="1448" y="443"/>
                      </a:lnTo>
                      <a:lnTo>
                        <a:pt x="1444" y="445"/>
                      </a:lnTo>
                      <a:lnTo>
                        <a:pt x="1440" y="448"/>
                      </a:lnTo>
                      <a:lnTo>
                        <a:pt x="1436" y="451"/>
                      </a:lnTo>
                      <a:lnTo>
                        <a:pt x="1427" y="455"/>
                      </a:lnTo>
                      <a:lnTo>
                        <a:pt x="1407" y="463"/>
                      </a:lnTo>
                      <a:lnTo>
                        <a:pt x="1398" y="466"/>
                      </a:lnTo>
                      <a:lnTo>
                        <a:pt x="1390" y="470"/>
                      </a:lnTo>
                      <a:lnTo>
                        <a:pt x="1388" y="472"/>
                      </a:lnTo>
                      <a:lnTo>
                        <a:pt x="1385" y="474"/>
                      </a:lnTo>
                      <a:lnTo>
                        <a:pt x="1384" y="477"/>
                      </a:lnTo>
                      <a:lnTo>
                        <a:pt x="1384" y="480"/>
                      </a:lnTo>
                      <a:lnTo>
                        <a:pt x="1382" y="486"/>
                      </a:lnTo>
                      <a:lnTo>
                        <a:pt x="1381" y="493"/>
                      </a:lnTo>
                      <a:lnTo>
                        <a:pt x="1375" y="507"/>
                      </a:lnTo>
                      <a:lnTo>
                        <a:pt x="1367" y="522"/>
                      </a:lnTo>
                      <a:lnTo>
                        <a:pt x="1360" y="535"/>
                      </a:lnTo>
                      <a:lnTo>
                        <a:pt x="1347" y="563"/>
                      </a:lnTo>
                      <a:lnTo>
                        <a:pt x="1340" y="579"/>
                      </a:lnTo>
                      <a:lnTo>
                        <a:pt x="1303" y="561"/>
                      </a:lnTo>
                      <a:lnTo>
                        <a:pt x="1273" y="530"/>
                      </a:lnTo>
                      <a:lnTo>
                        <a:pt x="1232" y="528"/>
                      </a:lnTo>
                      <a:lnTo>
                        <a:pt x="1208" y="53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608600" y="1893600"/>
                  <a:ext cx="130320" cy="150840"/>
                </a:xfrm>
                <a:custGeom>
                  <a:avLst/>
                  <a:gdLst/>
                  <a:ahLst/>
                  <a:rect l="l" t="t" r="r" b="b"/>
                  <a:pathLst>
                    <a:path w="253" h="295">
                      <a:moveTo>
                        <a:pt x="0" y="295"/>
                      </a:moveTo>
                      <a:lnTo>
                        <a:pt x="37" y="294"/>
                      </a:lnTo>
                      <a:lnTo>
                        <a:pt x="37" y="268"/>
                      </a:lnTo>
                      <a:lnTo>
                        <a:pt x="75" y="281"/>
                      </a:lnTo>
                      <a:lnTo>
                        <a:pt x="96" y="261"/>
                      </a:lnTo>
                      <a:lnTo>
                        <a:pt x="98" y="241"/>
                      </a:lnTo>
                      <a:lnTo>
                        <a:pt x="136" y="262"/>
                      </a:lnTo>
                      <a:lnTo>
                        <a:pt x="152" y="220"/>
                      </a:lnTo>
                      <a:lnTo>
                        <a:pt x="193" y="148"/>
                      </a:lnTo>
                      <a:lnTo>
                        <a:pt x="182" y="120"/>
                      </a:lnTo>
                      <a:lnTo>
                        <a:pt x="182" y="93"/>
                      </a:lnTo>
                      <a:lnTo>
                        <a:pt x="189" y="68"/>
                      </a:lnTo>
                      <a:lnTo>
                        <a:pt x="216" y="59"/>
                      </a:lnTo>
                      <a:lnTo>
                        <a:pt x="232" y="24"/>
                      </a:lnTo>
                      <a:lnTo>
                        <a:pt x="253" y="8"/>
                      </a:lnTo>
                      <a:lnTo>
                        <a:pt x="225" y="0"/>
                      </a:lnTo>
                      <a:lnTo>
                        <a:pt x="208" y="17"/>
                      </a:lnTo>
                      <a:lnTo>
                        <a:pt x="179" y="33"/>
                      </a:lnTo>
                      <a:lnTo>
                        <a:pt x="108" y="38"/>
                      </a:lnTo>
                      <a:lnTo>
                        <a:pt x="108" y="62"/>
                      </a:lnTo>
                      <a:lnTo>
                        <a:pt x="58" y="78"/>
                      </a:lnTo>
                      <a:lnTo>
                        <a:pt x="49" y="175"/>
                      </a:lnTo>
                      <a:lnTo>
                        <a:pt x="4" y="211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6476760" y="129852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157" h="138">
                      <a:moveTo>
                        <a:pt x="21" y="104"/>
                      </a:moveTo>
                      <a:lnTo>
                        <a:pt x="0" y="67"/>
                      </a:lnTo>
                      <a:lnTo>
                        <a:pt x="0" y="29"/>
                      </a:lnTo>
                      <a:lnTo>
                        <a:pt x="41" y="1"/>
                      </a:lnTo>
                      <a:lnTo>
                        <a:pt x="91" y="0"/>
                      </a:lnTo>
                      <a:lnTo>
                        <a:pt x="90" y="28"/>
                      </a:lnTo>
                      <a:lnTo>
                        <a:pt x="109" y="46"/>
                      </a:lnTo>
                      <a:lnTo>
                        <a:pt x="116" y="80"/>
                      </a:lnTo>
                      <a:lnTo>
                        <a:pt x="145" y="96"/>
                      </a:lnTo>
                      <a:lnTo>
                        <a:pt x="157" y="115"/>
                      </a:lnTo>
                      <a:lnTo>
                        <a:pt x="117" y="137"/>
                      </a:lnTo>
                      <a:lnTo>
                        <a:pt x="59" y="123"/>
                      </a:lnTo>
                      <a:lnTo>
                        <a:pt x="57" y="138"/>
                      </a:lnTo>
                      <a:lnTo>
                        <a:pt x="21" y="10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6492600" y="1333440"/>
                  <a:ext cx="76320" cy="106200"/>
                </a:xfrm>
                <a:custGeom>
                  <a:avLst/>
                  <a:gdLst/>
                  <a:ahLst/>
                  <a:rect l="l" t="t" r="r" b="b"/>
                  <a:pathLst>
                    <a:path w="149" h="209">
                      <a:moveTo>
                        <a:pt x="4" y="120"/>
                      </a:moveTo>
                      <a:lnTo>
                        <a:pt x="5" y="167"/>
                      </a:lnTo>
                      <a:lnTo>
                        <a:pt x="20" y="209"/>
                      </a:lnTo>
                      <a:lnTo>
                        <a:pt x="48" y="196"/>
                      </a:lnTo>
                      <a:lnTo>
                        <a:pt x="71" y="196"/>
                      </a:lnTo>
                      <a:lnTo>
                        <a:pt x="107" y="194"/>
                      </a:lnTo>
                      <a:lnTo>
                        <a:pt x="133" y="185"/>
                      </a:lnTo>
                      <a:lnTo>
                        <a:pt x="149" y="119"/>
                      </a:lnTo>
                      <a:lnTo>
                        <a:pt x="147" y="97"/>
                      </a:lnTo>
                      <a:lnTo>
                        <a:pt x="122" y="84"/>
                      </a:lnTo>
                      <a:lnTo>
                        <a:pt x="119" y="37"/>
                      </a:lnTo>
                      <a:lnTo>
                        <a:pt x="81" y="55"/>
                      </a:lnTo>
                      <a:lnTo>
                        <a:pt x="54" y="22"/>
                      </a:lnTo>
                      <a:lnTo>
                        <a:pt x="48" y="0"/>
                      </a:lnTo>
                      <a:lnTo>
                        <a:pt x="23" y="7"/>
                      </a:lnTo>
                      <a:lnTo>
                        <a:pt x="7" y="47"/>
                      </a:lnTo>
                      <a:lnTo>
                        <a:pt x="11" y="78"/>
                      </a:lnTo>
                      <a:lnTo>
                        <a:pt x="0" y="111"/>
                      </a:lnTo>
                      <a:lnTo>
                        <a:pt x="4" y="12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6837120" y="256356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16" y="0"/>
                      </a:moveTo>
                      <a:lnTo>
                        <a:pt x="8" y="13"/>
                      </a:lnTo>
                      <a:lnTo>
                        <a:pt x="0" y="36"/>
                      </a:lnTo>
                      <a:lnTo>
                        <a:pt x="4" y="53"/>
                      </a:lnTo>
                      <a:lnTo>
                        <a:pt x="16" y="70"/>
                      </a:lnTo>
                      <a:lnTo>
                        <a:pt x="32" y="82"/>
                      </a:lnTo>
                      <a:lnTo>
                        <a:pt x="47" y="86"/>
                      </a:lnTo>
                      <a:lnTo>
                        <a:pt x="53" y="74"/>
                      </a:lnTo>
                      <a:lnTo>
                        <a:pt x="64" y="57"/>
                      </a:lnTo>
                      <a:lnTo>
                        <a:pt x="77" y="58"/>
                      </a:lnTo>
                      <a:lnTo>
                        <a:pt x="89" y="5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557840" y="1357200"/>
                  <a:ext cx="39600" cy="3024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4" y="58"/>
                      </a:moveTo>
                      <a:lnTo>
                        <a:pt x="54" y="37"/>
                      </a:lnTo>
                      <a:lnTo>
                        <a:pt x="76" y="33"/>
                      </a:lnTo>
                      <a:lnTo>
                        <a:pt x="66" y="1"/>
                      </a:lnTo>
                      <a:lnTo>
                        <a:pt x="0" y="0"/>
                      </a:lnTo>
                      <a:lnTo>
                        <a:pt x="4" y="5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6960960" y="2135160"/>
                  <a:ext cx="60480" cy="77760"/>
                </a:xfrm>
                <a:custGeom>
                  <a:avLst/>
                  <a:gdLst/>
                  <a:ahLst/>
                  <a:rect l="l" t="t" r="r" b="b"/>
                  <a:pathLst>
                    <a:path w="115" h="152">
                      <a:moveTo>
                        <a:pt x="90" y="139"/>
                      </a:moveTo>
                      <a:lnTo>
                        <a:pt x="55" y="152"/>
                      </a:lnTo>
                      <a:lnTo>
                        <a:pt x="0" y="101"/>
                      </a:lnTo>
                      <a:lnTo>
                        <a:pt x="35" y="64"/>
                      </a:lnTo>
                      <a:lnTo>
                        <a:pt x="28" y="31"/>
                      </a:lnTo>
                      <a:lnTo>
                        <a:pt x="27" y="11"/>
                      </a:lnTo>
                      <a:lnTo>
                        <a:pt x="91" y="0"/>
                      </a:lnTo>
                      <a:lnTo>
                        <a:pt x="106" y="41"/>
                      </a:lnTo>
                      <a:lnTo>
                        <a:pt x="115" y="69"/>
                      </a:lnTo>
                      <a:lnTo>
                        <a:pt x="78" y="98"/>
                      </a:lnTo>
                      <a:lnTo>
                        <a:pt x="90" y="13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024680" y="1576080"/>
                  <a:ext cx="69840" cy="147960"/>
                </a:xfrm>
                <a:custGeom>
                  <a:avLst/>
                  <a:gdLst/>
                  <a:ahLst/>
                  <a:rect l="l" t="t" r="r" b="b"/>
                  <a:pathLst>
                    <a:path w="136" h="286">
                      <a:moveTo>
                        <a:pt x="128" y="286"/>
                      </a:moveTo>
                      <a:lnTo>
                        <a:pt x="136" y="0"/>
                      </a:lnTo>
                      <a:lnTo>
                        <a:pt x="97" y="6"/>
                      </a:lnTo>
                      <a:lnTo>
                        <a:pt x="59" y="20"/>
                      </a:lnTo>
                      <a:lnTo>
                        <a:pt x="0" y="82"/>
                      </a:lnTo>
                      <a:lnTo>
                        <a:pt x="128" y="28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6684840" y="17938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58" h="96">
                      <a:moveTo>
                        <a:pt x="25" y="96"/>
                      </a:moveTo>
                      <a:lnTo>
                        <a:pt x="58" y="29"/>
                      </a:lnTo>
                      <a:lnTo>
                        <a:pt x="12" y="0"/>
                      </a:lnTo>
                      <a:lnTo>
                        <a:pt x="8" y="12"/>
                      </a:lnTo>
                      <a:lnTo>
                        <a:pt x="6" y="22"/>
                      </a:lnTo>
                      <a:lnTo>
                        <a:pt x="4" y="28"/>
                      </a:lnTo>
                      <a:lnTo>
                        <a:pt x="4" y="30"/>
                      </a:lnTo>
                      <a:lnTo>
                        <a:pt x="4" y="36"/>
                      </a:lnTo>
                      <a:lnTo>
                        <a:pt x="3" y="42"/>
                      </a:lnTo>
                      <a:lnTo>
                        <a:pt x="2" y="47"/>
                      </a:lnTo>
                      <a:lnTo>
                        <a:pt x="0" y="50"/>
                      </a:lnTo>
                      <a:lnTo>
                        <a:pt x="25" y="9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0" name=""/>
            <p:cNvSpPr/>
            <p:nvPr/>
          </p:nvSpPr>
          <p:spPr>
            <a:xfrm>
              <a:off x="6058080" y="3368520"/>
              <a:ext cx="6120" cy="18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0" y="2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143680" y="3179880"/>
              <a:ext cx="2880" cy="2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2" y="3"/>
                  </a:lnTo>
                  <a:lnTo>
                    <a:pt x="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315040" y="3735360"/>
              <a:ext cx="6120" cy="25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315040" y="3735360"/>
              <a:ext cx="61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756480" y="4282920"/>
              <a:ext cx="4680" cy="111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262560" y="4694400"/>
              <a:ext cx="324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4" y="9"/>
                  </a:lnTo>
                  <a:lnTo>
                    <a:pt x="0" y="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537320" y="5637240"/>
              <a:ext cx="5040" cy="1584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9" y="0"/>
                  </a:moveTo>
                  <a:lnTo>
                    <a:pt x="0" y="29"/>
                  </a:lnTo>
                  <a:lnTo>
                    <a:pt x="1" y="2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621560" y="2232000"/>
              <a:ext cx="11160" cy="11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0" y="20"/>
                  </a:lnTo>
                  <a:lnTo>
                    <a:pt x="1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318280" y="4649760"/>
              <a:ext cx="1440" cy="64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1"/>
                  </a:moveTo>
                  <a:lnTo>
                    <a:pt x="1" y="1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079960" y="4748040"/>
              <a:ext cx="9720" cy="6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446960" y="5349960"/>
              <a:ext cx="6480" cy="15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162920" y="24382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934320" y="19810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781680" y="41148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400800" y="45720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781680" y="15238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629400" y="32767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943600" y="32004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315200" y="44197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3888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3888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38880" y="56386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867280" y="45720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181480" y="45720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772400" y="2514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772400" y="21337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410080" y="30481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257800" y="3505320"/>
              <a:ext cx="2362320" cy="1269720"/>
            </a:xfrm>
            <a:custGeom>
              <a:avLst/>
              <a:gdLst/>
              <a:ahLst/>
              <a:rect l="l" t="t" r="r" b="b"/>
              <a:pathLst>
                <a:path w="1488" h="800">
                  <a:moveTo>
                    <a:pt x="1488" y="0"/>
                  </a:moveTo>
                  <a:cubicBezTo>
                    <a:pt x="1388" y="100"/>
                    <a:pt x="1288" y="200"/>
                    <a:pt x="1200" y="288"/>
                  </a:cubicBezTo>
                  <a:cubicBezTo>
                    <a:pt x="1112" y="376"/>
                    <a:pt x="1032" y="448"/>
                    <a:pt x="960" y="528"/>
                  </a:cubicBezTo>
                  <a:cubicBezTo>
                    <a:pt x="888" y="608"/>
                    <a:pt x="880" y="736"/>
                    <a:pt x="768" y="768"/>
                  </a:cubicBezTo>
                  <a:cubicBezTo>
                    <a:pt x="656" y="800"/>
                    <a:pt x="416" y="720"/>
                    <a:pt x="288" y="720"/>
                  </a:cubicBezTo>
                  <a:cubicBezTo>
                    <a:pt x="160" y="720"/>
                    <a:pt x="48" y="760"/>
                    <a:pt x="0" y="768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5486400" y="3200400"/>
              <a:ext cx="1905120" cy="165240"/>
            </a:xfrm>
            <a:custGeom>
              <a:avLst/>
              <a:gdLst/>
              <a:ahLst/>
              <a:rect l="l" t="t" r="r" b="b"/>
              <a:pathLst>
                <a:path w="1200" h="104">
                  <a:moveTo>
                    <a:pt x="1200" y="96"/>
                  </a:moveTo>
                  <a:cubicBezTo>
                    <a:pt x="1056" y="100"/>
                    <a:pt x="912" y="104"/>
                    <a:pt x="768" y="96"/>
                  </a:cubicBezTo>
                  <a:cubicBezTo>
                    <a:pt x="624" y="88"/>
                    <a:pt x="464" y="64"/>
                    <a:pt x="336" y="48"/>
                  </a:cubicBezTo>
                  <a:cubicBezTo>
                    <a:pt x="208" y="32"/>
                    <a:pt x="56" y="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302600" y="3759120"/>
              <a:ext cx="317520" cy="2032200"/>
            </a:xfrm>
            <a:custGeom>
              <a:avLst/>
              <a:gdLst/>
              <a:ahLst/>
              <a:rect l="l" t="t" r="r" b="b"/>
              <a:pathLst>
                <a:path w="200" h="1280">
                  <a:moveTo>
                    <a:pt x="200" y="32"/>
                  </a:moveTo>
                  <a:cubicBezTo>
                    <a:pt x="184" y="16"/>
                    <a:pt x="168" y="0"/>
                    <a:pt x="152" y="80"/>
                  </a:cubicBezTo>
                  <a:cubicBezTo>
                    <a:pt x="136" y="160"/>
                    <a:pt x="128" y="360"/>
                    <a:pt x="104" y="512"/>
                  </a:cubicBezTo>
                  <a:cubicBezTo>
                    <a:pt x="80" y="664"/>
                    <a:pt x="16" y="864"/>
                    <a:pt x="8" y="992"/>
                  </a:cubicBezTo>
                  <a:cubicBezTo>
                    <a:pt x="0" y="1120"/>
                    <a:pt x="48" y="1232"/>
                    <a:pt x="56" y="128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858000" y="1600200"/>
              <a:ext cx="685800" cy="1447920"/>
            </a:xfrm>
            <a:custGeom>
              <a:avLst/>
              <a:gdLst/>
              <a:ahLst/>
              <a:rect l="l" t="t" r="r" b="b"/>
              <a:pathLst>
                <a:path w="480" h="912">
                  <a:moveTo>
                    <a:pt x="480" y="912"/>
                  </a:moveTo>
                  <a:cubicBezTo>
                    <a:pt x="424" y="820"/>
                    <a:pt x="368" y="728"/>
                    <a:pt x="288" y="576"/>
                  </a:cubicBezTo>
                  <a:cubicBezTo>
                    <a:pt x="208" y="424"/>
                    <a:pt x="104" y="212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543800" y="1371600"/>
              <a:ext cx="380880" cy="1676520"/>
            </a:xfrm>
            <a:custGeom>
              <a:avLst/>
              <a:gdLst/>
              <a:ahLst/>
              <a:rect l="l" t="t" r="r" b="b"/>
              <a:pathLst>
                <a:path w="264" h="1056">
                  <a:moveTo>
                    <a:pt x="240" y="1056"/>
                  </a:moveTo>
                  <a:cubicBezTo>
                    <a:pt x="252" y="856"/>
                    <a:pt x="264" y="656"/>
                    <a:pt x="240" y="528"/>
                  </a:cubicBezTo>
                  <a:cubicBezTo>
                    <a:pt x="216" y="400"/>
                    <a:pt x="136" y="376"/>
                    <a:pt x="96" y="288"/>
                  </a:cubicBezTo>
                  <a:cubicBezTo>
                    <a:pt x="56" y="200"/>
                    <a:pt x="28" y="100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543800" y="17524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391520" y="12952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077320" y="48769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 flipV="1">
              <a:off x="8000280" y="4342680"/>
              <a:ext cx="228600" cy="762120"/>
            </a:xfrm>
            <a:custGeom>
              <a:avLst/>
              <a:gdLst/>
              <a:ahLst/>
              <a:rect l="l" t="t" r="r" b="b"/>
              <a:pathLst>
                <a:path w="1200" h="104">
                  <a:moveTo>
                    <a:pt x="1200" y="96"/>
                  </a:moveTo>
                  <a:cubicBezTo>
                    <a:pt x="1056" y="100"/>
                    <a:pt x="912" y="104"/>
                    <a:pt x="768" y="96"/>
                  </a:cubicBezTo>
                  <a:cubicBezTo>
                    <a:pt x="624" y="88"/>
                    <a:pt x="464" y="64"/>
                    <a:pt x="336" y="48"/>
                  </a:cubicBezTo>
                  <a:cubicBezTo>
                    <a:pt x="208" y="32"/>
                    <a:pt x="56" y="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7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18" name=""/>
          <p:cNvSpPr/>
          <p:nvPr/>
        </p:nvSpPr>
        <p:spPr>
          <a:xfrm>
            <a:off x="1295280" y="22860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Esquema Tendencial – Santiago Regional 20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1143000" y="1219320"/>
            <a:ext cx="4572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(+-) 8.150.000 habita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(-+) 90.000 hectáreas urbani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30% fuera de Gran Santi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993-35A2-443F-BC08-7B88AE3ECB97}" type="slidenum">
              <a:t>15</a:t>
            </a:fld>
          </a:p>
        </p:txBody>
      </p:sp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"/>
          <p:cNvSpPr/>
          <p:nvPr/>
        </p:nvSpPr>
        <p:spPr>
          <a:xfrm>
            <a:off x="7162920" y="1523880"/>
            <a:ext cx="1828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1066680" y="1447920"/>
            <a:ext cx="7848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Condicionar la creación de nuevas áreas urbanas a compensaciones y aportes al desarrollo reg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Generar en forma progresiva (según demanda real) nuevas área de desarrollo urbano integrales con altos estándares de equipamiento y servic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Incorporar a la vivienda social a los beneficios de las nuevas á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Incorporar la participación municipal en la gestión de las nuevas áreas de desarrollo urba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Incentivar la participación privada en la creación de nuevos asentamientos humanos y en el financiamiento del desarrollo urbano regional y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Transparentar las formas de asignación pública de normativas de suelos urbanos, creando un mecanismo flexible que elimine las discrecionalidades y no excluya a priori ningún territo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3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24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Objetivos de Modificación 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D01-7434-477C-B70E-C6B3B51A3908}" type="slidenum">
              <a:t>16</a:t>
            </a:fld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"/>
          <p:cNvSpPr/>
          <p:nvPr/>
        </p:nvSpPr>
        <p:spPr>
          <a:xfrm>
            <a:off x="1066680" y="1295280"/>
            <a:ext cx="7696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CRECIMIENTO URBANO CON DÉFICIT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los recursos públicos son insuficientes para responder a tiempo a todas las demandas de construcción de infraestructuras metropolitanas y  equipamientos  urbanos que el crecimiento de Santiago demanda al año, sin afectar los recursos disponibles para otras demandas sociales, funcionamiento de servicios e inversión en los déficit de arrastre en las áreas ya consoli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XPANSIÓN IRREGULA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Al no existir mayor flexibilidad en la generación de nuevas áreas urbanas donde la población lo demanda, muchas de estas demandas metropolitanas se canalizan a través de loteos rurales, creando muchas veces zonas semiurbanas con altos déficit de infraestructuras y una alta subutilización del sue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DESCOORDINACIÓN DE DESARROLLO URBANO Y ACCESIBILIDAD REGIONA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Las actuales formas de zonificación han impulsado zonas urbanas que  no siempre coinciden con las zonas de mayor potencial y demanda y con la localización de las redes de transporte regional, ampliando los tiempos de viaje promedio y creando enormes distorsiones en el costo del desarrol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7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28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Diagnóstic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323-204D-42C3-B829-AFB6263D4F34}" type="slidenum">
              <a:t>17</a:t>
            </a:fld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"/>
          <p:cNvSpPr/>
          <p:nvPr/>
        </p:nvSpPr>
        <p:spPr>
          <a:xfrm>
            <a:off x="1066680" y="129528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SEGREGACIÓN SOCIA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Producto a los valores del suelo los pobres han debido localizarse en los terrenos más baratos y por tal de menor calidad urbana, perdiendo acceso a servicios y equipamientos.  A su vez, la percepción de escasez de suelo urbano creada por la inexistencia de un mecanismo que ajuste permanentemente el suelo normado y factible, reduce la oferta de suelo al mercado y eleva los precios producto a la mayor presión creada por las demandas de los estratos medios por sue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PECULACIÓN NORMATIVA SOBRE EL SUELO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al discriminar subjetivamente en los planos entre que terreno tiene uso urbano y que otro no, se crea un sostenido proceso de especulación de aquellos que tienen terrenos normados y no los venden (stock flow) a espera de mejor precio o de aquellos que presionan por cambios igualmente discrecion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DESEQUILIBRIO EN DISTRIBUCIÓN DE DESARROLLO A NIVEL REGIONAL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el plan metropolitano ha excluido hasta ahora a priori la posibilidad de que otros sectores de la región creen condiciones atractivas de desarrollo urbano y actividad, impulsando la descentralización reg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1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32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Diagnóstic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DB3-DF49-4CFD-9E99-A9FBE794A025}" type="slidenum">
              <a:t>18</a:t>
            </a:fld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"/>
          <p:cNvSpPr/>
          <p:nvPr/>
        </p:nvSpPr>
        <p:spPr>
          <a:xfrm>
            <a:off x="7162920" y="1523880"/>
            <a:ext cx="1828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06668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PLANES MAESTROS URBANOS: Nuevas Comunidades Reg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Proyectos de diseño urbano e inversión privada garantiza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Tamaño mínimo sustentable en materia de servicios (+300 Há., + 30.000 hab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ezcla de usos (empleo, servicios y residenc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Acceso social al suelo urbano (inclusión de 12% de Vivienda Social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Permisos caducables a 1 año si no se materializan obras y garantías de inversiones de mitig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VALUACIÓN DE IMPACTO: local, medio ambiente e 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Aprobación Municip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odelo de transporte regional de evaluación de impac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odelo de evaluación de compensación de suelos de valor agríco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SISTEMA DE MITIGACIÓN: sistema de finaciamiento privado del desarro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Aportes a inversiones regionales en transpor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itigaciones y compensaciones de recuperación de suelos (1,5 ve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itigaciones sobre Areas de ries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itigaciones sobre otras infraestructuras</a:t>
            </a:r>
            <a:r>
              <a:rPr b="1" lang="es-MX" sz="1400" spc="-1" strike="noStrike">
                <a:solidFill>
                  <a:srgbClr val="ff99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6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37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Descripción Bás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Mecanismo de Desarrollos Condicio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831-FD97-458E-9BC8-93ADE6958635}" type="slidenum">
              <a:t>19</a:t>
            </a:fld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Atermo02" descr=""/>
          <p:cNvPicPr/>
          <p:nvPr/>
        </p:nvPicPr>
        <p:blipFill>
          <a:blip r:embed="rId1"/>
          <a:stretch/>
        </p:blipFill>
        <p:spPr>
          <a:xfrm>
            <a:off x="6966000" y="0"/>
            <a:ext cx="217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45160"/>
            <a:ext cx="9144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653904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Secretaría Ministerial Metropolitana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543720"/>
            <a:ext cx="1104840" cy="293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588816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Concertación Público-Priv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Visión Regional del Desarrollo Urb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Regulación Flexible vía mecanismos de evaluación de impac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Integración de desarrollo urbano a inversiones en 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Manejo ambiental del desarrollo mediante compens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Protección de espacios naturales mediante acuerdos público-priv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062000"/>
            <a:ext cx="5486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LINEAMIENTOS DE REFORMAS AL P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Agenda Urb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240-DC4A-4A68-B24F-7869D4CD6D92}" type="slidenum">
              <a:t>2</a:t>
            </a:fld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"/>
          <p:cNvSpPr/>
          <p:nvPr/>
        </p:nvSpPr>
        <p:spPr>
          <a:xfrm>
            <a:off x="7162920" y="1523880"/>
            <a:ext cx="1828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1066680" y="1295280"/>
            <a:ext cx="7848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INFORMES PREV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SEREMI Agricultura:</a:t>
            </a: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informe en </a:t>
            </a:r>
            <a:r>
              <a:rPr b="1" lang="es-MX" sz="1400" spc="-1" strike="noStrike">
                <a:solidFill>
                  <a:srgbClr val="ff9900"/>
                </a:solidFill>
                <a:latin typeface="Century Gothic"/>
              </a:rPr>
              <a:t>Areas de Interés Silvoagropecuario Exclusivo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 sobre la bases  sistema de criterios previamente establecidos para la evaluación de suelos de alta y media prioridad.  Sólo se permitirían proyectos en suelos de media prio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SEREMI MINVU:</a:t>
            </a: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informe de cumplimiento con condiciones básicas y estándares fijados para el Plan Mae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Municipio:</a:t>
            </a: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informe técnico municipal fundado, suscrito por Alcalde con acuerdo de Consejo Comunal, sobre compatibilidad de propuesta con estrategia de desarrollo loca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1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42" name=""/>
          <p:cNvSpPr/>
          <p:nvPr/>
        </p:nvSpPr>
        <p:spPr>
          <a:xfrm>
            <a:off x="1295280" y="304920"/>
            <a:ext cx="708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PROCESO  -  Etapa de factibilidad de pro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BA3-779B-4F3E-9629-4FD94FC0D45A}" type="slidenum">
              <a:t>20</a:t>
            </a:fld>
          </a:p>
        </p:txBody>
      </p:sp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"/>
          <p:cNvSpPr/>
          <p:nvPr/>
        </p:nvSpPr>
        <p:spPr>
          <a:xfrm>
            <a:off x="7162920" y="1523880"/>
            <a:ext cx="1828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10666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INFORME TÉCNICO DEFINI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 de Plan Maestro (Seremi MINVU):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cumplimiento de estándares y etapas de desarro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 Factibilidad de Compensación y Reparación de suelos (Seremi Agricultura): </a:t>
            </a: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se deberá garantizar la recuperación de suelos de alto valor en una relación de 1: 1,5 , además de presentación de planes de manejo y mitigación en sector cuando existan impactos significativ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 Factibilidad de Supresión de Riesgos: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naturales y de actividades peligro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 de Capacidad Vial y Transporte: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Factibilidad de la Vialidad Estructurante sobre la base de estudio “Análisis y Evaluación de la Vialidad y Transporte de las Provincias del Sector Poniente de la Región Metropolitana”,  Estudios de Impacto Vial según EIST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 de Factibilidad de Aguas Lluv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s de Factilidad de Servicios Sani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6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47" name=""/>
          <p:cNvSpPr/>
          <p:nvPr/>
        </p:nvSpPr>
        <p:spPr>
          <a:xfrm>
            <a:off x="1295280" y="304920"/>
            <a:ext cx="708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DUCs - PROCESO APROB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206-FFC6-4691-BDFB-36775E2829D9}" type="slidenum">
              <a:t>21</a:t>
            </a:fld>
          </a:p>
        </p:txBody>
      </p:sp>
    </p:spTree>
  </p:cSld>
  <p:transition spd="med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"/>
          <p:cNvSpPr/>
          <p:nvPr/>
        </p:nvSpPr>
        <p:spPr>
          <a:xfrm>
            <a:off x="7162920" y="1523880"/>
            <a:ext cx="1828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1066680" y="1143000"/>
            <a:ext cx="79250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Incoporación de sistema de mitigaciones regionales y garantías de sustentabilidad al crecimiento metropolit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Racionalización costos de expansión de suelos urbanos y tendencias de localización de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Regulación adaptable de las demandas metropolitanas 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Creación de Nuevas Comunidades Urbanas  planificadas y con un fuerte componente en diseño urb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Mecanismo  de creación de integración de vivienda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Incorporación  de gobiernos locales a gestión regional de sue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Financiamiento adecuado y a tiempo del Desarrollo Urba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Transparencia y competitividad en la asignación normativa de suelos urban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1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52" name=""/>
          <p:cNvSpPr/>
          <p:nvPr/>
        </p:nvSpPr>
        <p:spPr>
          <a:xfrm>
            <a:off x="1295280" y="304920"/>
            <a:ext cx="708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Ventajas de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6C9-ADB9-4128-891C-9683D5297BE4}" type="slidenum">
              <a:t>22</a:t>
            </a:fld>
          </a:p>
        </p:txBody>
      </p:sp>
    </p:spTree>
  </p:cSld>
  <p:transition spd="med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"/>
          <p:cNvSpPr/>
          <p:nvPr/>
        </p:nvSpPr>
        <p:spPr>
          <a:xfrm>
            <a:off x="210024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19144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5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2956" name="RED MODELACION" descr=""/>
            <p:cNvPicPr/>
            <p:nvPr/>
          </p:nvPicPr>
          <p:blipFill>
            <a:blip r:embed="rId1"/>
            <a:srcRect l="13088" t="0" r="13238" b="0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7" name=""/>
            <p:cNvSpPr/>
            <p:nvPr/>
          </p:nvSpPr>
          <p:spPr>
            <a:xfrm>
              <a:off x="374760" y="588960"/>
              <a:ext cx="34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RED DE MODEL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9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809640"/>
          </a:xfrm>
          <a:prstGeom prst="rect">
            <a:avLst/>
          </a:prstGeom>
          <a:ln w="0">
            <a:noFill/>
          </a:ln>
        </p:spPr>
      </p:pic>
      <p:sp>
        <p:nvSpPr>
          <p:cNvPr id="2960" name=""/>
          <p:cNvSpPr/>
          <p:nvPr/>
        </p:nvSpPr>
        <p:spPr>
          <a:xfrm>
            <a:off x="1066680" y="22860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Ej: Modelo de Evaluación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4B7-7474-4649-B65D-FA2015154A00}" type="slidenum">
              <a:t>23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Atermo02" descr=""/>
          <p:cNvPicPr/>
          <p:nvPr/>
        </p:nvPicPr>
        <p:blipFill>
          <a:blip r:embed="rId1"/>
          <a:stretch/>
        </p:blipFill>
        <p:spPr>
          <a:xfrm>
            <a:off x="6966000" y="0"/>
            <a:ext cx="2178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545160"/>
            <a:ext cx="9144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653904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Secretaría Ministerial Metropolitana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543720"/>
            <a:ext cx="1104840" cy="293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905120"/>
            <a:ext cx="5867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Manejo del crecimiento urbano mediante Mecanismos flexibles y de regulación de impa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Recuperación de Areas en Deterioro mediante incentivos y normas flex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Creación de Areas Verdes Metropolitanas mediante acuerdos público-privados y sistemas de compensa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Impulso a modernización de Planes Reguladores Comu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Incentivos creación de  nuevos centros urbanos de empleo y servicios (PTUS)</a:t>
            </a:r>
            <a:r>
              <a:rPr b="1" lang="en-US" sz="1800" spc="-1" strike="noStrike">
                <a:solidFill>
                  <a:srgbClr val="ff990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Agenda Urb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062000"/>
            <a:ext cx="5486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AGENDA DE REFO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C73-3DA5-4CDD-BA79-2FBADDEADE16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HAtermo02" descr=""/>
          <p:cNvPicPr/>
          <p:nvPr/>
        </p:nvPicPr>
        <p:blipFill>
          <a:blip r:embed="rId1"/>
          <a:stretch/>
        </p:blipFill>
        <p:spPr>
          <a:xfrm>
            <a:off x="6966000" y="0"/>
            <a:ext cx="2178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545160"/>
            <a:ext cx="9144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653904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Secretaría Ministerial Metropolitana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6543720"/>
            <a:ext cx="1104840" cy="293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233360"/>
            <a:ext cx="53341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RECIMIENTO METROPOLIT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104480" y="-360"/>
            <a:ext cx="8039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reforma P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057400"/>
            <a:ext cx="5867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EXPANSIÓN URBANA CON DEFICIT EN INVERSIÓN EN INFRAESTRUCTURAS Y EQUIPA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DESINTEGRACIÓN DE DESARROLLO URBANO Y 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SEGREGACIÓN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ESPECULACIÓN NORMATIVA DE SUELO URBANO NORM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DESEQUILIBRIO EN DISTRIBUCIÓN DE DESARROLLO AL INTERIOR DE LA REG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3F7-3522-44AE-B436-C5F8EF1EB11A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HAtermo02" descr=""/>
          <p:cNvPicPr/>
          <p:nvPr/>
        </p:nvPicPr>
        <p:blipFill>
          <a:blip r:embed="rId1"/>
          <a:stretch/>
        </p:blipFill>
        <p:spPr>
          <a:xfrm>
            <a:off x="6966000" y="0"/>
            <a:ext cx="217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545160"/>
            <a:ext cx="9144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653904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Secretaría Ministerial Metropolitana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6543720"/>
            <a:ext cx="1104840" cy="293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04840" y="1428840"/>
            <a:ext cx="52182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TENDENCIAS Y DEMANDAS 20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04480" y="-360"/>
            <a:ext cx="8039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reforma P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4840" y="1962000"/>
            <a:ext cx="5715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2.100.000 NUEVOS HABITANTES (35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700.000 NUEVOS HOGARES (44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UMENTO DE INGRESOS Y DEMANDA POR ESPA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9900"/>
                </a:solidFill>
                <a:latin typeface="Century Gothic"/>
              </a:rPr>
              <a:t>(Tendencias de 12 m2/persona a 20 m2/perso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UMENTO DE MOVILIDAD Y DISPERSIÓN TERRITO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9900"/>
                </a:solidFill>
                <a:latin typeface="Century Gothic"/>
              </a:rPr>
              <a:t>(+ acceso automovil y mejores redes de transpor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UMENTO DE DEMANDAS POR SUELO URB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(+-35.000</a:t>
            </a:r>
            <a:r>
              <a:rPr b="0" lang="es-MX" sz="1600" spc="-1" strike="noStrike">
                <a:solidFill>
                  <a:srgbClr val="ff9900"/>
                </a:solidFill>
                <a:latin typeface="Century Gothic"/>
              </a:rPr>
              <a:t> Nuevas Hectáreas al año 20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A00-AC4E-4857-8569-BF5D9365AFCC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UNTITLED-2" descr=""/>
          <p:cNvPicPr/>
          <p:nvPr/>
        </p:nvPicPr>
        <p:blipFill>
          <a:blip r:embed="rId1"/>
          <a:stretch/>
        </p:blipFill>
        <p:spPr>
          <a:xfrm>
            <a:off x="4419720" y="1598760"/>
            <a:ext cx="4422600" cy="5257800"/>
          </a:xfrm>
          <a:prstGeom prst="rect">
            <a:avLst/>
          </a:prstGeom>
          <a:ln w="0">
            <a:noFill/>
          </a:ln>
        </p:spPr>
      </p:pic>
      <p:pic>
        <p:nvPicPr>
          <p:cNvPr id="152" name="UNTITLED-3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790960" cy="18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logo2" descr=""/>
          <p:cNvPicPr/>
          <p:nvPr/>
        </p:nvPicPr>
        <p:blipFill>
          <a:blip r:embed="rId3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2952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SANTIAGO 2002 – Tasas de Cre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46F-B037-4822-ACDD-F01EAC601DFE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Stgo2000" descr=""/>
          <p:cNvPicPr/>
          <p:nvPr/>
        </p:nvPicPr>
        <p:blipFill>
          <a:blip r:embed="rId1"/>
          <a:stretch/>
        </p:blipFill>
        <p:spPr>
          <a:xfrm>
            <a:off x="457200" y="192240"/>
            <a:ext cx="8282160" cy="6589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6324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Black"/>
              </a:rPr>
              <a:t>SANTIAGO 20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94280" y="5867280"/>
            <a:ext cx="49629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 Black"/>
              </a:rPr>
              <a:t>Situación Existente – Crecimiento de Bo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22096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Suelo Urban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izado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 : 56.000 Hect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4479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Población RM: 6.040.000 H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9718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Gran Santiago: 5.400.0000 Hab.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809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Gran Santiago: 52.000 Hectáreas urban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5720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Tasa de consumo suelo: 1.200 Ha/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04840" y="0"/>
            <a:ext cx="8039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uación Exis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57A-52A1-4E62-B3AE-26EF1A57873B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tgo2025A" descr=""/>
          <p:cNvPicPr/>
          <p:nvPr/>
        </p:nvPicPr>
        <p:blipFill>
          <a:blip r:embed="rId1"/>
          <a:stretch/>
        </p:blipFill>
        <p:spPr>
          <a:xfrm>
            <a:off x="457200" y="190440"/>
            <a:ext cx="8299440" cy="6591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" y="6324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Black"/>
              </a:rPr>
              <a:t>SANTIAGO 2025 – Tend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65040" y="5867280"/>
            <a:ext cx="53424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 Black"/>
              </a:rPr>
              <a:t>Expansión por agregación y parcelación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2096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Suelo Urbano: 120.000 Hect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Población RM: 8.150.000 H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971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Expansión por agregación con deficit urb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09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Intensivo Loteo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4956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Expulsión Social hacia bordes de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04840" y="0"/>
            <a:ext cx="8039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uación sin refo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2C2-6EA3-4E00-83D0-C3DAE9361C2B}" type="slidenum">
              <a:t>8</a:t>
            </a:fld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029200" y="342900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571500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419112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952880"/>
            <a:ext cx="373392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5083200" cy="6697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105520" y="228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PRMS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49528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Rigidez en alternativas de localización de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419112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lta concetración regional del desarrollo</a:t>
            </a: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5867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lto costo público del mod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350532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gotamiento Suelo :  8.000 Há. (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295280"/>
            <a:ext cx="365760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14479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Definición de Suelos:  60.000 Ha.</a:t>
            </a:r>
            <a:r>
              <a:rPr b="0" lang="es-MX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838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057400"/>
            <a:ext cx="365760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20968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Ordenamiento Gran Santiago</a:t>
            </a:r>
            <a:r>
              <a:rPr b="0" lang="es-MX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2971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VENTA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D49-5F2D-4F45-B1F9-37245B91F195}" type="slidenum">
              <a:t>9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20:51:59Z</dcterms:created>
  <dc:creator>Chamisero</dc:creator>
  <dc:description/>
  <dc:language>en-US</dc:language>
  <cp:lastModifiedBy>lebrescia</cp:lastModifiedBy>
  <cp:lastPrinted>2002-01-23T21:39:20Z</cp:lastPrinted>
  <dcterms:modified xsi:type="dcterms:W3CDTF">2002-12-23T22:42:58Z</dcterms:modified>
  <cp:revision>256</cp:revision>
  <dc:subject/>
  <dc:title>Chacabuco</dc:title>
</cp:coreProperties>
</file>