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B5A-5CCA-4CD5-B4E9-64053F43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DF7-B9D5-45C8-973E-1C601511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FDB-6ECC-4043-B5A5-62B3B767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C75-7CFA-433B-ACF1-9D5BA4E5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FD1-D386-4CB8-A157-41BB4602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BB3-3686-4345-AEC2-32031BE5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36C-1ACB-4147-8BDB-F36DCE0F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908-59B0-46CE-8A6B-65F87FCE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2C8-4B13-4D79-AFAF-234FF509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D02-B78B-491F-B5D1-E038A096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E28-E0FA-4915-ADA5-AB6A4C6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82C-789B-4DED-B243-09ACFA6E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A3B3-11F9-4C43-8997-1CA47C4B7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08080"/>
                </a:solidFill>
                <a:latin typeface="Arial Black"/>
              </a:rPr>
              <a:t>Reforma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9760" y="1390680"/>
            <a:ext cx="73152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MODIFICACIÓN DECRETO CON FUERZA DE LEY N° 458, DEL MINISTERIO DE VIVIENDA Y URBANISMO, DE 1975, LEY GENERAL DE URBANISMO Y CONSTRUC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Tahoma"/>
              </a:rPr>
              <a:t>DE LOS  INSTRUMENTOS DE PLANIFICACIÓN URBAN</a:t>
            </a:r>
            <a:r>
              <a:rPr b="1" lang="es-ES_tradnl" sz="4000" spc="-1" strike="noStrike">
                <a:solidFill>
                  <a:srgbClr val="ff3300"/>
                </a:solidFill>
                <a:latin typeface="Tahoma"/>
              </a:rPr>
              <a:t>IS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rincipales Aju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ost Reuniones Prelegisl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1181160"/>
            <a:ext cx="693900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Fijar diferencias entre Areas de Desarrollo Urbano Condicionado y Proyectos Urbanos Condicion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 </a:t>
            </a: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Límites claros a las condiciones que los Planes establecen para Areas de Desarrollo Urbano Condicionado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incorporan rangos minimos de tamaño, % minimos de Vivienda Social, % mínimos de suelos para actividad productiva, equipamientos y servi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Duplican estándares de provisión de areas verdes y equipamientos en Areas de Desarrollo Urbano Condicionado: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proyecto anterior exigía materializar sólo los equipamientos y areas verdes de conjuntos exigidos hoy por ley (1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Localización de Proyectos Urbanos Condicionados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limita la localización de PUC a Areas previamente definidas por cada plan regulador, denominadas Areas de Extensión Urbana Condicion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1181160"/>
            <a:ext cx="693900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Resolución de Aprobación de Planes Regio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Resolución de diferencias entre servicios regionales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incorporan al Intendente Regional a la resolución de diferencias entre servicios respecto a propuesta de Plan que se envía al C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Ambito de la Planificación Terr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Planificación Urbanística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reemplaza el término TERRITORIAL, y se enfatisa el ambito de regulación en materia de desarrollo urbano, evitando afectar materias territoriales de otros ambitos sectoriales y económ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rincipales Aju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ost Reuniones Prelegisl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1181160"/>
            <a:ext cx="6939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Flexibilidad a Viviendas Sociales en Areas R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fortalece la facultad de aprobar viviendas sociales en suelo rural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incorporan explicitamente las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vi</a:t>
            </a:r>
            <a:r>
              <a:rPr b="0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vi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endas sociales </a:t>
            </a:r>
            <a:r>
              <a:rPr b="0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(400 UF) cuando complementan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actividades agrícolas, ganaderas, forestales, pesqueras y mineras, que no originen nuevas áreas urbanas</a:t>
            </a:r>
            <a:r>
              <a:rPr b="0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.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Exigencias de Mitigaciones de Aguas Lluv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explicita la exigencia de  estudios de mitigación en Aguas lluvias en las Areas Condicionadas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incorporó al listado de estudios y exigencias para aprobar estas áreas la formulación de estos estud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rincipales Aju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ost Reuniones Prelegisl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3:08:34Z</dcterms:created>
  <dc:creator>LUIS EDUARDO BRESCIANI</dc:creator>
  <dc:description/>
  <dc:language>en-US</dc:language>
  <cp:lastModifiedBy>lebrescia</cp:lastModifiedBy>
  <dcterms:modified xsi:type="dcterms:W3CDTF">2004-06-22T15:12:57Z</dcterms:modified>
  <cp:revision>118</cp:revision>
  <dc:subject/>
  <dc:title>Estado reforma Urbana</dc:title>
</cp:coreProperties>
</file>