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3CC-D81E-4BA4-B4E8-F8ED18C8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D8B-D81C-4B78-92C8-F4F33CB7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9C2-3C41-4EE5-BBAA-8265C01F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D3E-F72E-4E8B-9A4F-98912672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F6C-9DF3-40C9-A5D2-C95E4C5C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592-2D41-4237-8A6F-91B3D013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AB1-3062-430C-A1A6-C3168154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9CE-1B1E-48A3-A50D-302C4B75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0CF-42FD-4D77-AA57-81F6B7E6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E33-A8CD-4C37-8DB0-FF7F31F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5D2-4896-4E37-A732-E2BC69A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868-E10C-42F6-9C8E-9FC70226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7276-7E44-4981-9EBB-6B931492E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08080"/>
                </a:solidFill>
                <a:latin typeface="Arial Black"/>
              </a:rPr>
              <a:t>Reforma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9760" y="1390680"/>
            <a:ext cx="73152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MODIFICACIÓN DECRETO CON FUERZA DE LEY N° 458, DEL MINISTERIO DE VIVIENDA Y URBANISMO, DE 1975, LEY GENERAL DE URBANISMO Y CONSTRUC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Tahoma"/>
              </a:rPr>
              <a:t>DE LOS  INSTRUMENTOS DE PLANIFICACIÓN URBAN</a:t>
            </a:r>
            <a:r>
              <a:rPr b="1" lang="es-ES_tradnl" sz="4000" spc="-1" strike="noStrike">
                <a:solidFill>
                  <a:srgbClr val="ff3300"/>
                </a:solidFill>
                <a:latin typeface="Tahoma"/>
              </a:rPr>
              <a:t>IS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erfeccionamient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428840" y="1170000"/>
            <a:ext cx="744840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Plan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Regional de Desarrollo Urbano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Precisa las facultades de planificación regional a nivel territorial en el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 “Plan Regional de Desarrollo Urban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ff3300"/>
                </a:solidFill>
                <a:latin typeface="Century Gothic"/>
                <a:ea typeface="Arial"/>
              </a:rPr>
              <a:t>Hoy la Ley no entrega ninguna facultad a este nivel de planifica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2.    Este Plan permite dar coherencia al ordenamiento territorial regional.  Establecie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centros poblados </a:t>
            </a: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exist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zonas de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zonas de protección de patrimonio </a:t>
            </a: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o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infraestructura exist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áreas de conservación de recursos natur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áreas </a:t>
            </a: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preferentemente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agrícola</a:t>
            </a: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s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Normas para aprobación de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instrumentos menores: Planes Intercomunales, Planes comunales y Áreas de Desarrollo Urbano Condicion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23920" y="1066680"/>
            <a:ext cx="775332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es</a:t>
            </a:r>
            <a:r>
              <a:rPr b="1" lang="es-ES_tradnl" sz="2400" spc="-1" strike="noStrike">
                <a:solidFill>
                  <a:srgbClr val="ff3300"/>
                </a:solidFill>
                <a:latin typeface="Century Gothic"/>
              </a:rPr>
              <a:t>  </a:t>
            </a: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Reguladores Intercomunale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es</a:t>
            </a:r>
            <a:r>
              <a:rPr b="1" lang="es-ES_tradnl" sz="2400" spc="-1" strike="noStrike">
                <a:solidFill>
                  <a:srgbClr val="ff3300"/>
                </a:solidFill>
                <a:latin typeface="Century Gothic"/>
              </a:rPr>
              <a:t>  </a:t>
            </a: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Reguladores Comu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Se separan 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por ley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las materias 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que pueden regular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el nivel Intercomunal 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y el nivel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Comunal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, para evitar interfere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buClr>
                <a:srgbClr val="cc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entury Gothic"/>
              </a:rPr>
              <a:t>Hoy la ley no distingue diferencias de conte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2. Se definen formas de ajuste y modificación de cada Plan más expeditas y conforme a realidades locales específ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entury Gothic"/>
              </a:rPr>
              <a:t>Hoy la ley no distingue tipos de modif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entury Gothic"/>
              </a:rPr>
              <a:t>Para hacer ajustes menores a un plan se sigue el mismo procedimiento de hacer un Plan Regulador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erfeccionamient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  <a:ea typeface="Times New Roman"/>
              </a:rPr>
              <a:t>Diferenciación Pl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  <a:ea typeface="Times New Roman"/>
              </a:rPr>
              <a:t>Intercomunales y Comunales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066680"/>
            <a:ext cx="33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Proyecto de Ley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1600200"/>
            <a:ext cx="33530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1620720"/>
            <a:ext cx="3340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INTERCOMU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En Area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Límites de extensión urb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Áreas de Extensión Condicionada con </a:t>
            </a: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Proyectos Urbanos Condicionados</a:t>
            </a: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Vías expresas y tronc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Densidades promed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Áreas verdes intercomu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Condiciones para la localización de 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Condiciones industrias molest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En Área R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Condiciones ADU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Condiciones localización industrias peligros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Condiciones accesos a los Bienes Nacionales de Uso Públic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18280" y="1617840"/>
            <a:ext cx="330192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  <a:ea typeface="Arial"/>
              </a:rPr>
              <a:t>COMU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En Area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Sistema de centros poblados; </a:t>
            </a:r>
            <a:r>
              <a:rPr b="0" lang="es-CL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y </a:t>
            </a: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Límites urbano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La infraestructura y vi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Areas verdes y equipa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Zonificación de u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constructibilidad, densidades, condiciones de subdiv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Las condiciones para los Proyectos Urbanos Condicionados (cuando no hay Plan Intercomu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1619280"/>
            <a:ext cx="3352680" cy="470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123920" y="1066680"/>
            <a:ext cx="77533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entury Gothic"/>
              </a:rPr>
              <a:t>Instrumentos Menores de Ajuste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entury Gothic"/>
              </a:rPr>
              <a:t>Planes Reguladores Comu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 Sec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ermite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modificación de sectores o contenidos de los Planes Reguladores Comunale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Participación ciudadana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los grupos o sectores directa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e aprueba a nivel comunal y su trámite es simplific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Enmien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Procedimiento simplificado de la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orreccione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menores a un Plan Regulador Comun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de procedimiento ráp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os de Detalle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tall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sin modificar materias de un Plan Regul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erfeccionamient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162080" y="1170000"/>
            <a:ext cx="7715160" cy="53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 de Diseño Urb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ermite regular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o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normas de diseño para las edificaciones y/o para el espacio público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permitiendo elevar la calidad urbana de sec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regula a nivel local y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plican a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un sector específico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n Plan Regulador Comun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máticas de interés comunal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: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Normas de arquitectura en un barrio cívico, de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onservación patrimonial,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o normas de desarrollo del espacio publico: arborización, iluminación, pavimentos, normas de discapacitados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,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</a:rPr>
              <a:t>Hoy la Ley no permite regular dis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erfeccionamient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399360" y="1066680"/>
            <a:ext cx="2744640" cy="16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338120" y="201780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MO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A L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QUE CREA NUEVOS INSTRUMENTOS </a:t>
            </a: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PLANIFICACIÓN</a:t>
            </a: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CONDICIONADA DE ÁREAS URB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2480" y="1733400"/>
            <a:ext cx="69390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entury Gothic"/>
              </a:rPr>
              <a:t>Nuevo Articulo 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Century Gothic"/>
              </a:rPr>
              <a:t>AREA DE DESARROLLO URBANO CONDI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Century Gothic"/>
              </a:rPr>
              <a:t>PROYECTOS URBANOS CONDI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Mo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Desarrollo Urbano </a:t>
            </a:r>
            <a:r>
              <a:rPr b="0" lang="es-ES" sz="2800" spc="-1" strike="noStrike">
                <a:solidFill>
                  <a:srgbClr val="4d4d4d"/>
                </a:solidFill>
                <a:latin typeface="Arial Black"/>
              </a:rPr>
              <a:t>Condi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123920" y="1066680"/>
            <a:ext cx="775332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Aspectos Bás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ejoran las actuales facultades regionales y locales para planificar el crecimient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ondicionan la  expansión urbana a mayores estándares urbanísticos y obras de mejoramient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Orientan el desarrollo urbano e inmobiliario mediante mayores obligaciones de mitigación de los impactos ambientales y urb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Proyecto de Ley proponen dos mecanism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Proyectos Urbanos Condicion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Areas de Desarrollo Urbano 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08000" y="1066680"/>
            <a:ext cx="769644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ara manejar la extensión orgánica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as áreas urban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por medio de exigencias en sus zonas de exten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a autoridad regional o local define en los Planes las </a:t>
            </a: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Areas de Extensión Condicionad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donde se aprueban  los PU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on proyectos de construcción simultáne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 Su urbanización y edificaciones se aprueban y construyen de una ve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e deben mitigar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odo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os impactos negativ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ben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ser autosuficiente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fraestructur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,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equipamiento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y áreas verdes, cediendo y construyendo  su 10% de áreas verdes y equipamientos de salud, educación y segu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Planes Reguladore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los qu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stablecen superficies mínimas y máximas de proyecto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  (ley fija un rango de 5 a 50 Há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Arial Black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Arial Black"/>
              </a:rPr>
              <a:t>ÁREAS DE DESARROLLO URBANO CONDICIONADO</a:t>
            </a:r>
            <a:r>
              <a:rPr b="0" lang="es-ES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123920" y="1262160"/>
            <a:ext cx="8020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strument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planificació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nuevas zonas urbanas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propuestas por la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iciativa privad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os parámetr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aprobación se establecen a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travé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los Planes Regionales e Intercomunales a nivel reg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a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DUC s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prueba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a nivel municip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Nuevas áreas urbana pasan a formar parte de los planes reguladores comunales y a domini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xigencias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obras de mitigació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: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e aprueban  descentralizadamente por regiones por organismos públicos conforme estudios establecidos en la ley y reglamentados por la Ordenanza Gene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unicipios no puede otorgar permisos de edificación si las exigencias y mitigaciones no se cumplen en cad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08080"/>
                </a:solidFill>
                <a:latin typeface="Arial Black"/>
              </a:rPr>
              <a:t>Inicio Proceso Refo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1257480"/>
            <a:ext cx="739152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21 Mayo 2000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   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Presidente convoca a “Reforma de la Ciu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Octubre 2000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Por instrucción presidencial, Ministro Orrego convoca al “Grupo de Trabajo para la Reforma Urbana – GTRU”.</a:t>
            </a:r>
            <a:r>
              <a:rPr b="1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 (dirige el ex ministro Carlos Hurtado y participan más de 100 personalidades de diferentes sect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Junio 2001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Ministro Jaime Ravinet entrega conclusiones a Presidente de la República: 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80 Medid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Destacan en materia de Planific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 </a:t>
            </a: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Modernizar Ley con los nuevos mecanism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- Implementación de Planes Reg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- Actualización Planes Reguladores Comunales e Intercomu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-Promover Buenas Prácticas Urb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Octubre 2001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Presidente de la República crea el “Consejo Nacional de la Reforma Urbana” y le encarga supervigilar ejecución de 80 med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123920" y="1066680"/>
            <a:ext cx="80200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Establecidos regionalmente en los Pla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uperficie Mínima (min. 100Há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uotas de Viviendas Sociales y de Subsidio (min. 20% de subsidio y min. 5% sociales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orcentajes de Áreas destinadas a Equipamientos de Salud, Educación, Seguridad y Parques de acceso público. (min. 10% de superficie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orcentajes de superficies para Áreas Generadoras de Empl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nsidades prome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Áreas de Restricción por riesgo u otras para ocup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Parámetros ADU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52480" y="1170000"/>
            <a:ext cx="7391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cc0000"/>
                </a:solidFill>
                <a:latin typeface="Century Gothic"/>
              </a:rPr>
              <a:t>Exigencias en Areas verdes y Equipamientos se construyen y a lo menos se duplica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Estándares AD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3632040" y="3067200"/>
            <a:ext cx="3181680" cy="30225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7007400" y="3133800"/>
            <a:ext cx="213660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20%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10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Equipamientos escala comunal y par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7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</a:t>
            </a: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construidas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de Areas Ver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3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Municipales para Equip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52480" y="3070080"/>
            <a:ext cx="189072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Century Gothic"/>
              </a:rPr>
              <a:t>10%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7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 Áreas Ver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3% 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Cesiones Municipales para Equip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29760" y="31860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92240" y="32353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AD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Instrumentos Condi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123920" y="1066680"/>
            <a:ext cx="7753320" cy="46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MODELOS DE REFERENCIA INTERNACIONALES</a:t>
            </a:r>
            <a:r>
              <a:rPr b="0" lang="es-ES" sz="24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FRANCI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ZAC, Zonas de Ordenación Concert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(“Zones d`aménagement Concerté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PAU, “Programas de Actuación Urbanística”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ESTADOS U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MPC, Comunidades Planific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(“Master Planned Communities”)</a:t>
            </a:r>
            <a:r>
              <a:rPr b="1" i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de Redacción Priv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Century Gothic"/>
              </a:rPr>
              <a:t>(Baugesetzb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123920" y="1836720"/>
            <a:ext cx="77342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rogación de todas las norma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obr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edio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rústic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(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creto Ley Nº 3.516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hibición de subdividir en men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d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2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hectáre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Registro obligatorio de construcciones y subdivisione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n la Dirección de Obras Municip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 eximen tamaños mínim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lo usos públicos o comunitarios, infraestructuras y viviendas r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ODA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as construcciones deberán contar con permiso de constr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umento de estándare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 construcción de las subdivisiones y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yecto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n el área ru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2480" y="1066680"/>
            <a:ext cx="48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Nuevas normas en suelo ru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Normas Area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1066680"/>
            <a:ext cx="62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Excepciones a subdivisión mínima de 2 hectáreas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52480" y="1822320"/>
            <a:ext cx="714384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Afectuadas por el SAG para asignar o enajenar tierras provenientes del proceso de Reforma Agr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Realizadas por el Ministerio de BB.NN. para regularizar la posesión de la pequeña propiedad raíz o para otorgar títulos de domin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Objeto de anexar al predio vecino la porción segreg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Construir infraestructu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Para transferir terrenos al Fisco, a las Municipalidades y a los Gobiernos Reg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Para transferir a organizaciones comunitarias, deportiv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Para acoger en forma individual al subsidio habitacional rural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Normas Area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409760" y="1066680"/>
            <a:ext cx="744840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Desincentivo y Exigencias a p</a:t>
            </a:r>
            <a:r>
              <a:rPr b="1" lang="es-ES" sz="2400" spc="-1" strike="noStrike">
                <a:solidFill>
                  <a:srgbClr val="cc0000"/>
                </a:solidFill>
                <a:latin typeface="Century Gothic"/>
              </a:rPr>
              <a:t>arcelaciones rural ya inscritas  (DL Nº35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Exigencias obligatorias para obtener permisos de construcción ell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nfraestructura vi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interna y de conex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otació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gua po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isposición de aguas servidas o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lcantarill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ectricidad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Hoy estas parcelaciones no están obligadas a proveer de mínimos de urbanización a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Normas Area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royectos de ley Aprob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52480" y="1066680"/>
            <a:ext cx="7391520" cy="55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Agosto 2001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Descongelamiento de  actividades productivas mediante mitigaciones (Art. 6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Octubre 2001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Descentralización de aprobaciones de Planes reguladores (Art. 33 y 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Mayo 2003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P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ublicidad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de permisos de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 construcción.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(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Art 4, 116 y 116 Bis C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Enero 2003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Construcción en el área rural de conjuntos de viviendas sociales y económicas de hasta 1.000 UF. y exigencias de urbanización. (Art 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Abril 200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Ley de Financiamiento Urbano Compart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Febrero 2004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Plazos para declaratorias de utilidad pública en Planes Reguladores. (Art. 59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Agenda de Proyectos de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46320" y="1066680"/>
            <a:ext cx="7897680" cy="52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entury Gothic"/>
              </a:rPr>
              <a:t>Proyecto 1 Planificación Urban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</a:rPr>
              <a:t>Fortalecimiento de Planificación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</a:rPr>
              <a:t>Perfeccionamiento de Planes Reguladores y sus modific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</a:rPr>
              <a:t>Crecimiento Urbano Condicion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</a:rPr>
              <a:t>Regulación de áreas rur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Century Gothic"/>
              </a:rPr>
              <a:t>Proyecto 2  Aportes por Impacto Vial:</a:t>
            </a:r>
            <a:r>
              <a:rPr b="1" lang="es-CL" sz="18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Mitigaciones de impacto de proyectos Inmobiliarios sobre infraestructuras de v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Century Gothic"/>
              </a:rPr>
              <a:t>Proyecto 3  Modernización Gestión Urbana Municip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Modernización de gestión de Direcciones de Obras (indicaciones Ley C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Agilización de aprobación proyectos.(indicaciones Ley C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Creación de Direcciones de Urbani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Creación de Comisiones Comunales de Urbanismo para particip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Century Gothic"/>
              </a:rPr>
              <a:t>Proyecto 4 Incentivos de Desarrollo Urb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Derechos Transable de Desarrollo Urbano para la protección de areas o bienes de interés públ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Incentivos constructivos ligados a exigencias de obras de mejoramiento urb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76520" y="1181160"/>
            <a:ext cx="7014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d4d4d"/>
                </a:solidFill>
                <a:latin typeface="Century Gothic"/>
              </a:rPr>
              <a:t>OBJETIVO DE PROYECTO DE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00"/>
                </a:solidFill>
                <a:latin typeface="Century Gothic"/>
              </a:rPr>
              <a:t>Actualizar y perfeccionar la Ley General de Urbanismo y Construcción en materia de </a:t>
            </a:r>
            <a:r>
              <a:rPr b="1" i="1" lang="es-ES_tradnl" sz="2400" spc="-1" strike="noStrike">
                <a:solidFill>
                  <a:srgbClr val="cc0000"/>
                </a:solidFill>
                <a:latin typeface="Century Gothic"/>
              </a:rPr>
              <a:t>Planes Reguladores, fortaleciendo la gestión regional y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entury Gothic"/>
              </a:rPr>
              <a:t>REFORMAS A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Century Gothic"/>
              </a:rPr>
              <a:t>1931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del D.F.L Nº345, “Ley de Construcción y Urbanizació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Century Gothic"/>
              </a:rPr>
              <a:t>1975</a:t>
            </a:r>
            <a:r>
              <a:rPr b="1" lang="es-ES" sz="1800" spc="-1" strike="noStrike">
                <a:solidFill>
                  <a:srgbClr val="ff3300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mediante el D.S. Nº458, “Ley General de Urbanismo y Construcciones”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Arial"/>
              </a:rPr>
              <a:t>Ninguna de esta leyes  pasó por el Congreso 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15228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Proyecto de Le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de </a:t>
            </a: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Planificación Urban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Contexto Urb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38400" y="1593720"/>
            <a:ext cx="790560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87%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 los chilenos viviendo en áreas urban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scentralización a los gobiernos municipales y reg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xigencias por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 transparencia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y participación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en decisiones de planificación urba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stenida 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gregación social y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cceso desigual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 de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los más pobres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a los beneficios del desarroll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lta capacidad de la iniciativ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privada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de invertir en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obras urbanas de interés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éficit Urbanos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y fuerte impacto sobre el medio ambiente y las redes de transporte de actuales formas de Crecimiento urban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Principale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de actuales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38400" y="1542960"/>
            <a:ext cx="790560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lta rigidez de planes reguladores para ajustarse a nuevas demandas de los habit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nexistenci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d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ecanismos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mitigación y compensación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frente efectos negativos del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desarrollo urbano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Falta de Integración urbana y social producto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normas de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zonificació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xcluyentes de uso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y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 tipos de viviend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a lentitud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y alto costo par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actualización los Planes Reguladore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Comu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ndefinición de formas de participación multisectorial en decisiones de planif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sarrollo urbano irregular y deficitario al margen de la leyes urbanas (D.S.3516 </a:t>
            </a:r>
            <a:r>
              <a:rPr b="1" i="1" lang="es-ES_tradnl" sz="1800" spc="-1" strike="noStrike">
                <a:solidFill>
                  <a:srgbClr val="4d4d4d"/>
                </a:solidFill>
                <a:latin typeface="Century Gothic"/>
              </a:rPr>
              <a:t>de Predios Rústico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Contenidos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16000" y="1066680"/>
            <a:ext cx="802800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scentraliza y delimita las competencias de los tipos planes reguladores por nivel: Regional, Intercomunal, Comu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ncorpor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ayor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participación multisectorial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y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ciudadan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en la elaboración de los pla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re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nuevos instrumentos de planificación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urbana condicionada a elevandos estándares urbanos, integración social y el diseño de áreas urbanas integ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e crean obligaciones de mitigación urbana que racionalizan el funcionamiento del desarrollo inmobili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Perfecciona los mecanismos d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juste y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ctualización de l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Comunale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híbe la ocupación irregular de áreas rurales, mediante nueva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normas sobre construcción en el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área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rur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s y la derogación la Ley de “Predios Rústicos” (D.L.351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522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57480" y="175248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MODIFICA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A L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QUE PERFECCIONAN ACTUALES INSTRUMENTOS DE 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3:08:34Z</dcterms:created>
  <dc:creator>LUIS EDUARDO BRESCIANI</dc:creator>
  <dc:description/>
  <dc:language>en-US</dc:language>
  <cp:lastModifiedBy>lebrescia</cp:lastModifiedBy>
  <dcterms:modified xsi:type="dcterms:W3CDTF">2004-06-21T18:43:54Z</dcterms:modified>
  <cp:revision>119</cp:revision>
  <dc:subject/>
  <dc:title>Estado reforma Urbana</dc:title>
</cp:coreProperties>
</file>