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909-3ED6-47C6-AF4C-394C9FC5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C13-5407-4767-BD20-EB68CEC7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351-2ED0-4A8E-A6F2-023FFBA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E48-40D4-49F1-ACD9-A6A33296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D54-C7B2-4E80-BC1E-7A507D0D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D20-5A07-4DF1-8A5B-29E5D1F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7B8-26C1-4ACB-B174-ED22DC2D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B4C-E3AC-4CA0-BA64-BF2AC435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22D-9806-4565-AB5D-7A5A5819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D34-2EA1-4F36-9DA3-CD4C38C5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2EF-BF4A-4818-B937-AEEE4D3B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F62-5A44-44EF-9B9B-575A25B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36A2-01CE-4A45-B882-B4A65A73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7480" y="2476440"/>
            <a:ext cx="75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Century Gothic"/>
              </a:rPr>
              <a:t>INSTRUMENTOS PLANIFICACIÓN URBANA</a:t>
            </a:r>
            <a:r>
              <a:rPr b="1" lang="es-ES_tradnl" sz="3200" spc="-1" strike="noStrike">
                <a:solidFill>
                  <a:srgbClr val="4d4d4d"/>
                </a:solidFill>
                <a:latin typeface="Century Gothic"/>
              </a:rPr>
              <a:t> CONDICIO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15228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Proyecto de Le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de </a:t>
            </a: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lanificación Urban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Area de Desarrollo Urbano Condicionado (AD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54680" cy="2705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52480" y="1170000"/>
            <a:ext cx="712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PROYECTO DE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puestas de Areas Integrales de Desarrollo Urbano condicio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amañp sustentables fijado por Planes (min.= 100 Há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tinación de % usos produ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sarrollo de Equipamientos Urbanos y Parques adicionales a cesiones de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rovisión de Vivienda Social por etap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Inversiones en Transporte y medio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880" y="59529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ADU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25280" y="51912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ADU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49600" y="4286160"/>
            <a:ext cx="1035000" cy="1508040"/>
          </a:xfrm>
          <a:custGeom>
            <a:avLst/>
            <a:gdLst/>
            <a:ahLst/>
            <a:rect l="l" t="t" r="r" b="b"/>
            <a:pathLst>
              <a:path w="652" h="950">
                <a:moveTo>
                  <a:pt x="610" y="942"/>
                </a:moveTo>
                <a:cubicBezTo>
                  <a:pt x="606" y="918"/>
                  <a:pt x="596" y="898"/>
                  <a:pt x="582" y="878"/>
                </a:cubicBezTo>
                <a:cubicBezTo>
                  <a:pt x="578" y="872"/>
                  <a:pt x="578" y="864"/>
                  <a:pt x="572" y="858"/>
                </a:cubicBezTo>
                <a:cubicBezTo>
                  <a:pt x="557" y="843"/>
                  <a:pt x="541" y="822"/>
                  <a:pt x="536" y="800"/>
                </a:cubicBezTo>
                <a:cubicBezTo>
                  <a:pt x="537" y="775"/>
                  <a:pt x="536" y="758"/>
                  <a:pt x="542" y="736"/>
                </a:cubicBezTo>
                <a:cubicBezTo>
                  <a:pt x="547" y="720"/>
                  <a:pt x="540" y="735"/>
                  <a:pt x="552" y="712"/>
                </a:cubicBezTo>
                <a:cubicBezTo>
                  <a:pt x="553" y="709"/>
                  <a:pt x="556" y="704"/>
                  <a:pt x="556" y="704"/>
                </a:cubicBezTo>
                <a:cubicBezTo>
                  <a:pt x="563" y="670"/>
                  <a:pt x="588" y="642"/>
                  <a:pt x="600" y="610"/>
                </a:cubicBezTo>
                <a:cubicBezTo>
                  <a:pt x="607" y="591"/>
                  <a:pt x="612" y="569"/>
                  <a:pt x="624" y="552"/>
                </a:cubicBezTo>
                <a:cubicBezTo>
                  <a:pt x="627" y="542"/>
                  <a:pt x="632" y="533"/>
                  <a:pt x="636" y="524"/>
                </a:cubicBezTo>
                <a:cubicBezTo>
                  <a:pt x="644" y="506"/>
                  <a:pt x="648" y="484"/>
                  <a:pt x="652" y="464"/>
                </a:cubicBezTo>
                <a:cubicBezTo>
                  <a:pt x="648" y="443"/>
                  <a:pt x="627" y="441"/>
                  <a:pt x="614" y="428"/>
                </a:cubicBezTo>
                <a:cubicBezTo>
                  <a:pt x="611" y="418"/>
                  <a:pt x="617" y="413"/>
                  <a:pt x="620" y="404"/>
                </a:cubicBezTo>
                <a:cubicBezTo>
                  <a:pt x="612" y="398"/>
                  <a:pt x="604" y="395"/>
                  <a:pt x="594" y="392"/>
                </a:cubicBezTo>
                <a:cubicBezTo>
                  <a:pt x="564" y="372"/>
                  <a:pt x="533" y="345"/>
                  <a:pt x="498" y="336"/>
                </a:cubicBezTo>
                <a:cubicBezTo>
                  <a:pt x="491" y="332"/>
                  <a:pt x="485" y="330"/>
                  <a:pt x="478" y="326"/>
                </a:cubicBezTo>
                <a:cubicBezTo>
                  <a:pt x="469" y="313"/>
                  <a:pt x="491" y="284"/>
                  <a:pt x="496" y="270"/>
                </a:cubicBezTo>
                <a:cubicBezTo>
                  <a:pt x="499" y="260"/>
                  <a:pt x="499" y="254"/>
                  <a:pt x="508" y="248"/>
                </a:cubicBezTo>
                <a:cubicBezTo>
                  <a:pt x="524" y="224"/>
                  <a:pt x="535" y="203"/>
                  <a:pt x="544" y="176"/>
                </a:cubicBezTo>
                <a:cubicBezTo>
                  <a:pt x="537" y="154"/>
                  <a:pt x="509" y="142"/>
                  <a:pt x="492" y="130"/>
                </a:cubicBezTo>
                <a:cubicBezTo>
                  <a:pt x="472" y="116"/>
                  <a:pt x="448" y="112"/>
                  <a:pt x="426" y="102"/>
                </a:cubicBezTo>
                <a:cubicBezTo>
                  <a:pt x="408" y="94"/>
                  <a:pt x="391" y="83"/>
                  <a:pt x="374" y="74"/>
                </a:cubicBezTo>
                <a:cubicBezTo>
                  <a:pt x="356" y="65"/>
                  <a:pt x="336" y="60"/>
                  <a:pt x="318" y="52"/>
                </a:cubicBezTo>
                <a:cubicBezTo>
                  <a:pt x="294" y="42"/>
                  <a:pt x="273" y="27"/>
                  <a:pt x="250" y="16"/>
                </a:cubicBezTo>
                <a:cubicBezTo>
                  <a:pt x="242" y="13"/>
                  <a:pt x="236" y="7"/>
                  <a:pt x="228" y="4"/>
                </a:cubicBezTo>
                <a:cubicBezTo>
                  <a:pt x="224" y="2"/>
                  <a:pt x="216" y="0"/>
                  <a:pt x="216" y="0"/>
                </a:cubicBezTo>
                <a:cubicBezTo>
                  <a:pt x="197" y="9"/>
                  <a:pt x="196" y="37"/>
                  <a:pt x="176" y="42"/>
                </a:cubicBezTo>
                <a:cubicBezTo>
                  <a:pt x="166" y="37"/>
                  <a:pt x="156" y="35"/>
                  <a:pt x="146" y="32"/>
                </a:cubicBezTo>
                <a:cubicBezTo>
                  <a:pt x="123" y="40"/>
                  <a:pt x="115" y="72"/>
                  <a:pt x="104" y="90"/>
                </a:cubicBezTo>
                <a:cubicBezTo>
                  <a:pt x="86" y="118"/>
                  <a:pt x="66" y="146"/>
                  <a:pt x="46" y="172"/>
                </a:cubicBezTo>
                <a:cubicBezTo>
                  <a:pt x="35" y="186"/>
                  <a:pt x="29" y="204"/>
                  <a:pt x="18" y="218"/>
                </a:cubicBezTo>
                <a:cubicBezTo>
                  <a:pt x="16" y="225"/>
                  <a:pt x="8" y="236"/>
                  <a:pt x="8" y="236"/>
                </a:cubicBezTo>
                <a:cubicBezTo>
                  <a:pt x="6" y="244"/>
                  <a:pt x="5" y="249"/>
                  <a:pt x="0" y="256"/>
                </a:cubicBezTo>
                <a:cubicBezTo>
                  <a:pt x="0" y="260"/>
                  <a:pt x="0" y="298"/>
                  <a:pt x="8" y="306"/>
                </a:cubicBezTo>
                <a:cubicBezTo>
                  <a:pt x="12" y="310"/>
                  <a:pt x="20" y="318"/>
                  <a:pt x="20" y="318"/>
                </a:cubicBezTo>
                <a:cubicBezTo>
                  <a:pt x="23" y="327"/>
                  <a:pt x="31" y="335"/>
                  <a:pt x="38" y="342"/>
                </a:cubicBezTo>
                <a:cubicBezTo>
                  <a:pt x="41" y="350"/>
                  <a:pt x="45" y="353"/>
                  <a:pt x="52" y="358"/>
                </a:cubicBezTo>
                <a:cubicBezTo>
                  <a:pt x="59" y="379"/>
                  <a:pt x="80" y="387"/>
                  <a:pt x="100" y="392"/>
                </a:cubicBezTo>
                <a:cubicBezTo>
                  <a:pt x="121" y="413"/>
                  <a:pt x="134" y="442"/>
                  <a:pt x="152" y="466"/>
                </a:cubicBezTo>
                <a:cubicBezTo>
                  <a:pt x="155" y="476"/>
                  <a:pt x="164" y="482"/>
                  <a:pt x="168" y="492"/>
                </a:cubicBezTo>
                <a:cubicBezTo>
                  <a:pt x="171" y="499"/>
                  <a:pt x="176" y="512"/>
                  <a:pt x="176" y="512"/>
                </a:cubicBezTo>
                <a:cubicBezTo>
                  <a:pt x="174" y="531"/>
                  <a:pt x="166" y="543"/>
                  <a:pt x="162" y="562"/>
                </a:cubicBezTo>
                <a:cubicBezTo>
                  <a:pt x="167" y="639"/>
                  <a:pt x="166" y="771"/>
                  <a:pt x="234" y="824"/>
                </a:cubicBezTo>
                <a:cubicBezTo>
                  <a:pt x="241" y="829"/>
                  <a:pt x="242" y="837"/>
                  <a:pt x="250" y="842"/>
                </a:cubicBezTo>
                <a:cubicBezTo>
                  <a:pt x="267" y="868"/>
                  <a:pt x="318" y="917"/>
                  <a:pt x="352" y="918"/>
                </a:cubicBezTo>
                <a:cubicBezTo>
                  <a:pt x="369" y="919"/>
                  <a:pt x="387" y="919"/>
                  <a:pt x="404" y="920"/>
                </a:cubicBezTo>
                <a:cubicBezTo>
                  <a:pt x="481" y="939"/>
                  <a:pt x="517" y="950"/>
                  <a:pt x="610" y="942"/>
                </a:cubicBezTo>
                <a:close/>
              </a:path>
            </a:pathLst>
          </a:custGeom>
          <a:noFill/>
          <a:ln w="9360">
            <a:solidFill>
              <a:srgbClr val="4d4d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40320" y="4419720"/>
            <a:ext cx="965520" cy="603000"/>
          </a:xfrm>
          <a:custGeom>
            <a:avLst/>
            <a:gdLst/>
            <a:ahLst/>
            <a:rect l="l" t="t" r="r" b="b"/>
            <a:pathLst>
              <a:path w="608" h="380">
                <a:moveTo>
                  <a:pt x="24" y="380"/>
                </a:moveTo>
                <a:lnTo>
                  <a:pt x="608" y="340"/>
                </a:lnTo>
                <a:lnTo>
                  <a:pt x="584" y="0"/>
                </a:lnTo>
                <a:lnTo>
                  <a:pt x="0" y="32"/>
                </a:lnTo>
                <a:lnTo>
                  <a:pt x="24" y="380"/>
                </a:lnTo>
                <a:close/>
              </a:path>
            </a:pathLst>
          </a:custGeom>
          <a:noFill/>
          <a:ln w="9360">
            <a:solidFill>
              <a:srgbClr val="4d4d4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170000"/>
            <a:ext cx="7391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cc0000"/>
                </a:solidFill>
                <a:latin typeface="Century Gothic"/>
              </a:rPr>
              <a:t>Exigencias en Areas verdes y Equipamientos se construyen y a lo menos se duplica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Estándares AD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3632040" y="3067200"/>
            <a:ext cx="3181680" cy="3022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007400" y="3133800"/>
            <a:ext cx="213660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20%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Equipamientos escala comunal y par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</a:t>
            </a: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construidas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de A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3070080"/>
            <a:ext cx="189072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Century Gothic"/>
              </a:rPr>
              <a:t>10%</a:t>
            </a: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7%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 Cesiones  Áreas Ve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0000"/>
                </a:solidFill>
                <a:latin typeface="Century Gothic"/>
              </a:rPr>
              <a:t>3% </a:t>
            </a:r>
            <a:r>
              <a:rPr b="1" lang="es-ES_tradnl" sz="1200" spc="-1" strike="noStrike">
                <a:solidFill>
                  <a:srgbClr val="4d4d4d"/>
                </a:solidFill>
                <a:latin typeface="Century Gothic"/>
              </a:rPr>
              <a:t>Cesiones Municipales para Equipa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760" y="31860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92240" y="32353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A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 Black"/>
              </a:rPr>
              <a:t>Instrumentos Condi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123920" y="1066680"/>
            <a:ext cx="7753320" cy="46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Century Gothic"/>
              </a:rPr>
              <a:t>MODELOS DE REFERENCIA INTERNACIONALES</a:t>
            </a:r>
            <a:r>
              <a:rPr b="0" lang="es-ES" sz="24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33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FRANCIA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ZAC, Zonas de Ordenación Concert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4d4d4d"/>
                </a:solidFill>
                <a:latin typeface="Arial"/>
                <a:ea typeface="Arial"/>
              </a:rPr>
              <a:t>(“Zones d`aménagement Concerté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PAU, “Programas de Actuación Urbanística”</a:t>
            </a:r>
            <a:r>
              <a:rPr b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ESTADOS U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MPC, Comunidades Planific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Arial"/>
                <a:ea typeface="Times New Roman"/>
              </a:rPr>
              <a:t>(“Master Planned Communities”)</a:t>
            </a:r>
            <a:r>
              <a:rPr b="1" i="1" lang="es-ES" sz="18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"/>
              </a:rPr>
              <a:t>ALE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de Redacción Priv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4d4d4d"/>
                </a:solidFill>
                <a:latin typeface="Century Gothic"/>
              </a:rPr>
              <a:t>(Baugesetzb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Mo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Desarrollo Urbano </a:t>
            </a:r>
            <a:r>
              <a:rPr b="0" lang="es-ES" sz="2800" spc="-1" strike="noStrike">
                <a:solidFill>
                  <a:srgbClr val="4d4d4d"/>
                </a:solidFill>
                <a:latin typeface="Arial Black"/>
              </a:rPr>
              <a:t>Condi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3920" y="1066680"/>
            <a:ext cx="775332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Aspecto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ejoran las actuales facultades regionales y locales para planificar el creci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ondicionan la  expansión urbana a mayores estándares urbanísticos y obras de mejoramiento urb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Orientan el desarrollo urbano e inmobiliario mediante mayores obligaciones de mitigación de los impactos ambientales y urb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Proyecto de Ley proponen dos mecanism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Proyectos Urbanos Condicion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Desarrollo Urbano 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08000" y="1066680"/>
            <a:ext cx="769644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ara manejar la extensión orgánica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as áreas urban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, por medio de exigencias en sus zonas de exten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 autoridad regional o local define en los Planes las </a:t>
            </a:r>
            <a:r>
              <a:rPr b="1" lang="es-ES_tradnl" sz="1800" spc="-1" strike="noStrike">
                <a:solidFill>
                  <a:srgbClr val="cc0000"/>
                </a:solidFill>
                <a:latin typeface="Century Gothic"/>
              </a:rPr>
              <a:t>Areas de Extensión Condicionada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donde se aprueban  los PU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on proyectos de construcción simultáne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Su urbanización y edificaciones se aprueban y construyen de una ve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Se deben mitigar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todos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los impactos negativ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ben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ser autosuficient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fraestructur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,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equipamiento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y áreas verdes, cediendo y construyendo  su 10% de áreas verdes y equipamientos de salud, educación y 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Planes Reguladore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los qu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establecen superficies mínimas y máximas de proyectos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  (ley fija un rango de 5 a 50 Há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3828960"/>
            <a:ext cx="5816880" cy="2768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Century Gothic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170000"/>
            <a:ext cx="712476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ACTUAL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fijan Áreas Urbanas, definidas por Intercomunal y por Plan Regulador Comu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ormas de edificación y subdivisión sin condiciona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20800" y="5553000"/>
            <a:ext cx="178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entury Gothic"/>
              </a:rPr>
              <a:t>Área Urb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057200" y="5238720"/>
            <a:ext cx="1352520" cy="419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8024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52480" y="1170000"/>
            <a:ext cx="712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ACTUAL L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pueden  fijar Areas de Extensión Urbana, para resolver crecimiento natu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75080" y="555300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Century Gothic"/>
              </a:rPr>
              <a:t>Área Extensión Urb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552560" y="4781520"/>
            <a:ext cx="857160" cy="8762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Proyectos Urbanos Condi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54680" cy="2705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52480" y="1170000"/>
            <a:ext cx="712476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PROYECTO DE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mantiene facultad de fijar Areas de Extensión Urb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pueden fijar AREAS DE EXTENSIÓN CONDICIONADA, desarrollables sólo vía Proyectos Urbanos Condicionados (nuevos barr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1520" y="5572080"/>
            <a:ext cx="42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Century Gothic"/>
              </a:rPr>
              <a:t>Area de Extensión Condici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219640" y="4800240"/>
            <a:ext cx="38160" cy="8190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Arial Black"/>
              </a:rPr>
              <a:t>ÁREAS DE DESARROLLO URBANO CONDICIONADO</a:t>
            </a:r>
            <a:r>
              <a:rPr b="0" lang="es-ES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23920" y="1262160"/>
            <a:ext cx="8020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strumento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planificación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de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nuevas zonas urbanas.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on propuestas por l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iniciativa privada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os parámetro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aprobación se establecen a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través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 los Planes Regionales e Intercomunales a nivel reg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Las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ADUC s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aprueba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a nivel municip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Nuevas áreas urbana pasan a formar parte de los planes reguladores comunales y a domini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Exigencias de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obras de mitigación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: </a:t>
            </a:r>
            <a:r>
              <a:rPr b="1" lang="es-ES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e aprueban  descentralizadamente por regiones por organismos públicos conforme estudios establecidos en la ley y reglamentados por la Ordenanza Gene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Municipios no puede otorgar permisos de edificación si las exigencias y mitigaciones no se cumplen en cada et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90720" indent="-457200">
              <a:lnSpc>
                <a:spcPct val="100000"/>
              </a:lnSpc>
              <a:spcBef>
                <a:spcPts val="1576"/>
              </a:spcBef>
              <a:buClr>
                <a:srgbClr val="4d4d4d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123920" y="1066680"/>
            <a:ext cx="80200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Century Gothic"/>
              </a:rPr>
              <a:t>Establecidos regionalmente en los Pla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Superficie Mínima (min. 100Há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Cuotas de Viviendas Sociales y de Subsidio (min. 20% de subsidio y min. 5% sociales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Áreas destinadas a Equipamientos de Salud, Educación, Seguridad y Parques de acceso público. (min. 10% de superficie por 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orcentajes de superficies para Áreas Generadoras de Empl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Densidades promed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Áreas de Restricción por riesgo u otras para ocup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457200">
              <a:lnSpc>
                <a:spcPct val="100000"/>
              </a:lnSpc>
              <a:spcBef>
                <a:spcPts val="1463"/>
              </a:spcBef>
              <a:buClr>
                <a:srgbClr val="4d4d4d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1522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Arial Black"/>
              </a:rPr>
              <a:t>Parámetros ADU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52480" y="3828960"/>
            <a:ext cx="5829480" cy="2654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752480" y="1170000"/>
            <a:ext cx="712476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Century Gothic"/>
              </a:rPr>
              <a:t>ACTUAL 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Planes Reguladores fijan Áreas de Extensión Urbana en continuidad o discontinuidad con la ciudad, incorporando suelo normado por extensos perío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Regulación Urbana sin compensaciones, discrecional en asignación, con déficit urbanos, crecimiento en su interior en pequeños proyectos, sin diseño de sectores y mejoramiento de estánda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14280" y="55720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8e41"/>
                </a:solidFill>
                <a:latin typeface="Century Gothic"/>
              </a:rPr>
              <a:t>Areas de Extensión Urb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4686480" y="4762440"/>
            <a:ext cx="380880" cy="876240"/>
          </a:xfrm>
          <a:prstGeom prst="line">
            <a:avLst/>
          </a:prstGeom>
          <a:ln w="3816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Century Gothic"/>
                <a:ea typeface="Times New Roman"/>
              </a:rPr>
              <a:t>Area de Desarrollo Urbano Condicionado (ADU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3:08:34Z</dcterms:created>
  <dc:creator>LUIS EDUARDO BRESCIANI</dc:creator>
  <dc:description/>
  <dc:language>en-US</dc:language>
  <cp:lastModifiedBy>lebrescia</cp:lastModifiedBy>
  <dcterms:modified xsi:type="dcterms:W3CDTF">2004-06-22T13:01:24Z</dcterms:modified>
  <cp:revision>70</cp:revision>
  <dc:subject/>
  <dc:title>Presentación Ley Planificación</dc:title>
</cp:coreProperties>
</file>