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9A0C-465C-40F7-B77D-BCAFA9FB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410B-83D4-4662-A044-25F45469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0DBD-6B62-46C7-B2B7-DE048BA8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D188-B2EC-44CF-A595-2601EAD8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C2D2-F07A-4613-B2F5-B583BD1E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F589-D360-4E7A-83CB-88F83AA1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FCE2-7C51-4A9A-B574-EBDC3E6A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EC03-0D4F-426A-B3E4-93850D7D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D4B0-BE68-432C-9F6D-C6407BEE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FC4-C0BE-467F-946D-86D4C57A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BE85-5BF7-4F05-B933-767E8718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5E07-6DDE-44E8-9158-9996610D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5CFD-550D-45CB-A84A-96CF3A596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08080"/>
                </a:solidFill>
                <a:latin typeface="Arial Black"/>
              </a:rPr>
              <a:t>Reforma Urb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52480" y="652140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9760" y="1390680"/>
            <a:ext cx="73152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d4d4d"/>
                </a:solidFill>
                <a:latin typeface="Century Gothic"/>
              </a:rPr>
              <a:t>MODIFICACIÓN DECRETO CON FUERZA DE LEY N° 458, DEL MINISTERIO DE VIVIENDA Y URBANISMO, DE 1975, LEY GENERAL DE URBANISMO Y CONSTRUCCI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Tahoma"/>
              </a:rPr>
              <a:t>DE LOS  INSTRUMENTOS DE PLANIFICACIÓN URBAN</a:t>
            </a:r>
            <a:r>
              <a:rPr b="1" lang="es-ES_tradnl" sz="4000" spc="-1" strike="noStrike">
                <a:solidFill>
                  <a:srgbClr val="ff3300"/>
                </a:solidFill>
                <a:latin typeface="Tahoma"/>
              </a:rPr>
              <a:t>IS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Arial Black"/>
              </a:rPr>
              <a:t>Principales Ajus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Arial Black"/>
              </a:rPr>
              <a:t>Post Reuniones Prelegisl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52480" y="1181160"/>
            <a:ext cx="6939000" cy="51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c0000"/>
                </a:solidFill>
                <a:latin typeface="Century Gothic"/>
                <a:ea typeface="Times New Roman"/>
              </a:rPr>
              <a:t>Observación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c0000"/>
                </a:solidFill>
                <a:latin typeface="Century Gothic"/>
                <a:ea typeface="Times New Roman"/>
              </a:rPr>
              <a:t>Fijar diferencias entre Areas de Desarrollo Urbano Condicionado y Proyectos Urbanos Condicion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 </a:t>
            </a: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Límites claros a las condiciones que los Planes establecen para Areas de Desarrollo Urbano Condicionado:  </a:t>
            </a:r>
            <a:r>
              <a:rPr b="0" lang="es-CL" sz="16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Se incorporan rangos minimos de tamaño, % minimos de Vivienda Social, % mínimos de suelos para actividad productiva, equipamientos y servic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  </a:t>
            </a: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Duplican estándares de provisión de areas verdes y equipamientos en Areas de Desarrollo Urbano Condicionado: </a:t>
            </a:r>
            <a:r>
              <a:rPr b="0" lang="es-CL" sz="16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proyecto anterior exigía materializar sólo los equipamientos y areas verdes de conjuntos exigidos hoy por ley (10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  </a:t>
            </a: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Localización de Proyectos Urbanos Condicionados:  </a:t>
            </a:r>
            <a:r>
              <a:rPr b="0" lang="es-CL" sz="16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Se limita la localización de PUC a Areas previamente definidas por cada plan regulador, denominadas Areas de Extensión Urbana Condiciona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52480" y="1181160"/>
            <a:ext cx="6939000" cy="44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c0000"/>
                </a:solidFill>
                <a:latin typeface="Century Gothic"/>
                <a:ea typeface="Times New Roman"/>
              </a:rPr>
              <a:t>Observación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c0000"/>
                </a:solidFill>
                <a:latin typeface="Century Gothic"/>
                <a:ea typeface="Times New Roman"/>
              </a:rPr>
              <a:t>Resolución de Aprobación de Planes Region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Resolución de diferencias entre servicios regionales:  </a:t>
            </a:r>
            <a:r>
              <a:rPr b="0" lang="es-CL" sz="16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Se incorporan al Intendente Regional a la resolución de diferencias entre servicios respecto a propuesta de Plan que se envía al C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c0000"/>
                </a:solidFill>
                <a:latin typeface="Century Gothic"/>
                <a:ea typeface="Times New Roman"/>
              </a:rPr>
              <a:t>Observación 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c0000"/>
                </a:solidFill>
                <a:latin typeface="Century Gothic"/>
                <a:ea typeface="Times New Roman"/>
              </a:rPr>
              <a:t>Ambito de la Planificación Terr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Planificación Urbanística:  </a:t>
            </a:r>
            <a:r>
              <a:rPr b="0" lang="es-CL" sz="16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Se reemplaza el término TERRITORIAL, y se enfatisa el ambito de regulación en materia de desarrollo urbano, evitando afectar materias territoriales de otros ambitos sectoriales y económic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Arial Black"/>
              </a:rPr>
              <a:t>Principales Ajus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Arial Black"/>
              </a:rPr>
              <a:t>Post Reuniones Prelegisl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-6858000" y="68580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6102360" y="528804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12" y="0"/>
                </a:moveTo>
                <a:lnTo>
                  <a:pt x="11" y="0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5927760" y="466092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1" y="0"/>
                </a:moveTo>
                <a:lnTo>
                  <a:pt x="0" y="12"/>
                </a:lnTo>
                <a:lnTo>
                  <a:pt x="1" y="12"/>
                </a:lnTo>
                <a:lnTo>
                  <a:pt x="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5311800" y="4497480"/>
            <a:ext cx="8244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5248440" y="4579920"/>
            <a:ext cx="97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5175360" y="46404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4859280" y="4648320"/>
            <a:ext cx="7920" cy="1440"/>
          </a:xfrm>
          <a:custGeom>
            <a:avLst/>
            <a:gdLst/>
            <a:ahLst/>
            <a:rect l="l" t="t" r="r" b="b"/>
            <a:pathLst>
              <a:path w="12" h="2">
                <a:moveTo>
                  <a:pt x="0" y="0"/>
                </a:moveTo>
                <a:lnTo>
                  <a:pt x="0" y="2"/>
                </a:ln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562640" y="5124600"/>
            <a:ext cx="1800" cy="9360"/>
          </a:xfrm>
          <a:custGeom>
            <a:avLst/>
            <a:gdLst/>
            <a:ahLst/>
            <a:rect l="l" t="t" r="r" b="b"/>
            <a:pathLst>
              <a:path w="1" h="12">
                <a:moveTo>
                  <a:pt x="0" y="12"/>
                </a:moveTo>
                <a:lnTo>
                  <a:pt x="1" y="12"/>
                </a:lnTo>
                <a:lnTo>
                  <a:pt x="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4317840" y="4878360"/>
            <a:ext cx="1440" cy="972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0" y="12"/>
                </a:lnTo>
                <a:lnTo>
                  <a:pt x="2" y="12"/>
                </a:lnTo>
                <a:lnTo>
                  <a:pt x="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4280040" y="4997520"/>
            <a:ext cx="972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0" y="1"/>
                </a:lnTo>
                <a:lnTo>
                  <a:pt x="1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4197240" y="5181480"/>
            <a:ext cx="7920" cy="180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0"/>
                </a:moveTo>
                <a:lnTo>
                  <a:pt x="0" y="0"/>
                </a:lnTo>
                <a:lnTo>
                  <a:pt x="0" y="2"/>
                </a:lnTo>
                <a:lnTo>
                  <a:pt x="12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4921200" y="6140520"/>
            <a:ext cx="58680" cy="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4921200" y="6140520"/>
            <a:ext cx="1440" cy="9360"/>
          </a:xfrm>
          <a:custGeom>
            <a:avLst/>
            <a:gdLst/>
            <a:ahLst/>
            <a:rect l="l" t="t" r="r" b="b"/>
            <a:pathLst>
              <a:path w="0" h="12">
                <a:moveTo>
                  <a:pt x="0" y="12"/>
                </a:moveTo>
                <a:lnTo>
                  <a:pt x="0" y="2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535800"/>
            <a:ext cx="914400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537240"/>
            <a:ext cx="1143000" cy="304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220320" cy="10666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65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52480" y="1181160"/>
            <a:ext cx="6939000" cy="46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c0000"/>
                </a:solidFill>
                <a:latin typeface="Century Gothic"/>
                <a:ea typeface="Times New Roman"/>
              </a:rPr>
              <a:t>Observación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c0000"/>
                </a:solidFill>
                <a:latin typeface="Century Gothic"/>
                <a:ea typeface="Times New Roman"/>
              </a:rPr>
              <a:t>Flexibilidad a Viviendas Sociales en Areas R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Se fortalece la facultad de aprobar viviendas sociales en suelo rural:  </a:t>
            </a:r>
            <a:r>
              <a:rPr b="0" lang="es-CL" sz="16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Se incorporan explicitamente las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vi</a:t>
            </a:r>
            <a:r>
              <a:rPr b="0" lang="es-ES_tradnl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vi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endas sociales </a:t>
            </a:r>
            <a:r>
              <a:rPr b="0" lang="es-ES_tradnl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(400 UF) cuando complementan 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actividades agrícolas, ganaderas, forestales, pesqueras y mineras, que no originen nuevas áreas urbanas</a:t>
            </a:r>
            <a:r>
              <a:rPr b="0" lang="es-ES_tradnl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.</a:t>
            </a:r>
            <a:r>
              <a:rPr b="0" lang="es-ES" sz="1600" spc="-1" strike="noStrike">
                <a:solidFill>
                  <a:srgbClr val="4d4d4d"/>
                </a:solidFill>
                <a:latin typeface="Century Gothic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c0000"/>
                </a:solidFill>
                <a:latin typeface="Century Gothic"/>
                <a:ea typeface="Times New Roman"/>
              </a:rPr>
              <a:t>Observación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c0000"/>
                </a:solidFill>
                <a:latin typeface="Century Gothic"/>
                <a:ea typeface="Times New Roman"/>
              </a:rPr>
              <a:t>Exigencias de Mitigaciones de Aguas Lluv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Se explicita la exigencia de  estudios de mitigación en Aguas lluvias en las Areas Condicionadas:  </a:t>
            </a:r>
            <a:r>
              <a:rPr b="0" lang="es-CL" sz="1600" spc="-1" strike="noStrike">
                <a:solidFill>
                  <a:srgbClr val="4d4d4d"/>
                </a:solidFill>
                <a:latin typeface="Century Gothic"/>
                <a:ea typeface="Times New Roman"/>
              </a:rPr>
              <a:t>Se incorporó al listado de estudios y exigencias para aprobar estas áreas la formulación de estos estud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652140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 Black"/>
              </a:rPr>
              <a:t>MINISTERIO DE VIVIENDA Y URB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1522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Arial Black"/>
              </a:rPr>
              <a:t>Principales Ajus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Arial Black"/>
              </a:rPr>
              <a:t>Post Reuniones Prelegisl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03:08:34Z</dcterms:created>
  <dc:creator>LUIS EDUARDO BRESCIANI</dc:creator>
  <dc:description/>
  <dc:language>en-US</dc:language>
  <cp:lastModifiedBy>lebrescia</cp:lastModifiedBy>
  <dcterms:modified xsi:type="dcterms:W3CDTF">2004-06-22T15:12:57Z</dcterms:modified>
  <cp:revision>118</cp:revision>
  <dc:subject/>
  <dc:title>Estado reforma Urbana</dc:title>
</cp:coreProperties>
</file>