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C9D-46B7-416C-9327-8976AE8C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3FD-28C1-4D73-A8E9-68147397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3C4-D4A8-4636-A31D-3B423FA2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442-6F43-4B82-AF6D-81AFA3E6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1488-B529-4C6D-9858-C672E7A4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9038-449C-4EA4-952D-ED7FB6A9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1025-FACA-4671-AC86-AA2C31CA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D4D0-B4C3-4CC5-AA60-21B3EC65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955F-476A-47DE-A104-68F417AF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323F-8CD4-4812-9F96-D2018C0C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32BC-234E-42E1-A74E-F77B5A5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34B-852D-4A78-982E-897895A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876E-D9AA-4029-AB4F-784E0CAA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91B4-6B6A-43B0-ACEF-8D4A3624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EB09-B6FD-4DB5-BDFD-78BB0D77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0A26-6E66-4354-89FC-2050D848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9283-18CA-4F7A-BEC5-BA30A5B9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31B-4B55-4AB4-8FBB-2F7241F9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454-30E0-4C8A-80E0-86521380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637-626C-42D4-8AF9-4AE7E7B1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A6A-951F-417E-968C-267FC8D4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CFF-A1E7-4AA4-A3E4-30BD8DE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410-641E-4E29-8CD6-7B43555C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E64-2682-4FC0-8818-1B35A4E4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1C96-6796-42E7-A923-CDBE74FF6574}" type="slidenum">
              <a:rPr b="0" lang="es-MX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3F3B-CC44-439E-B6EE-B3EE15420F07}" type="slidenum">
              <a:rPr b="0" lang="es-MX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335320"/>
            <a:ext cx="777240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ccecff"/>
                </a:solidFill>
                <a:latin typeface="Arial"/>
              </a:rPr>
              <a:t>MARCO ECONÓMICO DE LAS POLÍTICAS HABITACIONA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1523880"/>
            <a:ext cx="8382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Facilitar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el crecimiento sostenible de ciudades y pueblos que cumplan la promesa de desarrollo contraida hacia sus habitantes –fundamentalmente mejorando la vida de los pobres y promoviendo la equidad- a la vez que contribuyen al progreso del país en su conju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políticas públicas –sumadas a la acción de las comunidades, el compromiso del sector privado, un gobierno local responsable y el respaldo del gobierno central- pueden producir una gran diferencia en como alcanzar este obje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iudades en Transi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Banco Mundial,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4640" y="673200"/>
            <a:ext cx="53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Verdana"/>
              </a:rPr>
              <a:t>EL MERCADO DE LA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1523880"/>
            <a:ext cx="8382240" cy="46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Elementos “facilitadores” para la participación del sector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sarrollo de los derechos de propi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inanciamiento hipotec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sidios foc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nfraestructura para el desarrollo del suelo urb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forma de la norm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rganización de la industria de la constr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sarrollo institu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an Gilbert, B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4640" y="673200"/>
            <a:ext cx="53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Verdana"/>
              </a:rPr>
              <a:t>EL MERCADO DE LA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1523880"/>
            <a:ext cx="838224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BANCO MUN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Permitir que los mercados “trabajen”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3840" indent="-203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sector de la vivienda es un componente clave de la economía. La inversión en vivienda tipicamente compromete entre un 2 a un 8% del PNB y un 30% de la formación de capital bruto y provee un flujo de servicios igual a un 5 a 10% del PN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3840" indent="-203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cio y acceso a la vivienda están determinados por la oferta y demanda.  La demanda de viviendas, entre otras variables, está fuertemente correlacionada por condiciones macroeconómicas que afectan los ingresos familia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3840" indent="-203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3840" indent="-20340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ousing,  Enabling Markets to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3840" indent="-20340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tephen Mayo, Shlomo Ang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3840" indent="-203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3840" indent="-203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3840" indent="-203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4760" y="673200"/>
            <a:ext cx="53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Verdana"/>
              </a:rPr>
              <a:t>EL MERCADO DE LA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1523880"/>
            <a:ext cx="838224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BANCO MUN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Permitir que los mercados “trabajen”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comend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sarrollar los derechos de propi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acionalizar y/o transparentar los subsidios.  Focalizar el financiamiento en los mas pob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ministro de Infraestructura con recuperación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lexibilización de las normas urba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oporte al sector construcción para una mayor efici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4760" y="673200"/>
            <a:ext cx="53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Verdana"/>
              </a:rPr>
              <a:t>EL MERCADO DE LA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71680" y="1371600"/>
            <a:ext cx="8001000" cy="59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1a. Generación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entrada en programas de financiamiento de la oferta, construcción de grandes conjuntos habitacionales realizado por grandes empresas constructoras y entregadas llave-en-m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2da. Generación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picia que en los programas masivos entregar “lotes con servicios”, programas en pequeñas escalas con el involucramiento de los pobladores y gestionados por las comunidades u ONG´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¿3a. Generación?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aracteriza a políticas habitacionales más fragmentadas, contradictorias en un contexto de privatización de los servicios urbanos, de cambios en el mercado inmobiliario y de transferencia de responsabilidades a los gobiernos loc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9000" y="571680"/>
            <a:ext cx="56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Verdana"/>
              </a:rPr>
              <a:t>Políticas Habitacion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65320" y="196920"/>
            <a:ext cx="56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Verdana"/>
              </a:rPr>
              <a:t>Políticas Habitacion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resentación1_sur" descr=""/>
          <p:cNvPicPr/>
          <p:nvPr/>
        </p:nvPicPr>
        <p:blipFill>
          <a:blip r:embed="rId1"/>
          <a:stretch/>
        </p:blipFill>
        <p:spPr>
          <a:xfrm>
            <a:off x="380880" y="85716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65320" y="196920"/>
            <a:ext cx="56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Verdana"/>
              </a:rPr>
              <a:t>Políticas Habitacion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1600200"/>
            <a:ext cx="3962160" cy="99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66"/>
                </a:solidFill>
                <a:latin typeface="Verdana"/>
              </a:rPr>
              <a:t>Sistema de Acción Lo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66"/>
                </a:solidFill>
                <a:latin typeface="Verdana"/>
              </a:rPr>
              <a:t>del Hábit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29000"/>
            <a:ext cx="1828800" cy="1523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ff"/>
                </a:solidFill>
                <a:latin typeface="Verdana"/>
              </a:rPr>
              <a:t>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ff"/>
                </a:solidFill>
                <a:latin typeface="Verdana"/>
              </a:rPr>
              <a:t>Urba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4724280"/>
            <a:ext cx="2133360" cy="15242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ff"/>
                </a:solidFill>
                <a:latin typeface="Verdana"/>
              </a:rPr>
              <a:t>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ff"/>
                </a:solidFill>
                <a:latin typeface="Verdana"/>
              </a:rPr>
              <a:t>Habit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3505320"/>
            <a:ext cx="182880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ff"/>
                </a:solidFill>
                <a:latin typeface="Verdana"/>
              </a:rPr>
              <a:t>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ff"/>
                </a:solidFill>
                <a:latin typeface="Verdana"/>
              </a:rPr>
              <a:t>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2743200"/>
            <a:ext cx="0" cy="1752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4572000"/>
            <a:ext cx="9144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714640" y="4648320"/>
            <a:ext cx="76212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057400" y="2590920"/>
            <a:ext cx="83808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8380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4640" y="563400"/>
            <a:ext cx="5289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Gasto Social Sector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Arial"/>
              </a:rPr>
              <a:t>(En millones de pesos  de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43080" y="1981080"/>
          <a:ext cx="8458200" cy="32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981080"/>
                    <a:ext cx="8458200" cy="3245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3b76"/>
                    </a:outerShdw>
                  </a:effectLst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03240" y="534024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Fuente: MIDE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4640" y="56340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Elasticidades Vivi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63720" y="1828800"/>
          <a:ext cx="7215120" cy="35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828800"/>
                    <a:ext cx="721512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62120" y="2057400"/>
            <a:ext cx="80769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  <a:ea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Un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 acción de colaboración permanente entre los agentes públicos y privados -estos últimos construyendo y desarrollando proyectos con subsidios estatales y contribuyendo a su financiamiento- es condición indispensable para los avances sistemáticos en el enfrentamiento de los déficit cuantitativos y cualitativos de viviend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Intervención del Ministro de Vivienda, Urbanismo y Bienes Nacionales de Chil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Sr. Jaime Ravinet.</a:t>
            </a:r>
            <a:br>
              <a:rPr sz="1600"/>
            </a:br>
            <a:r>
              <a:rPr b="0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Nueva York, 7 de Junio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Período extraordinario la Conferencia de las Naciones Unid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bre los Asentamientos Humanos (Habitat II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6094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800" spc="-1" strike="noStrike">
                <a:solidFill>
                  <a:srgbClr val="ffffff"/>
                </a:solidFill>
                <a:latin typeface="Verdana"/>
              </a:rPr>
              <a:t>ISIÓN DE CHILE EN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371600"/>
            <a:ext cx="320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800" y="1135080"/>
            <a:ext cx="310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43080" y="1981080"/>
          <a:ext cx="8458200" cy="464976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  <a:gridCol w="2819520"/>
              </a:tblGrid>
              <a:tr h="465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vivienda debe ser tratado como un activo  y el acceso a ella es el resultado entre oferta y demanda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demanda efectiva es resultado de la capacidad de compra, que poseen las familias, junto a la reducción de los costo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inversionista privado es autor de las soluciones propuest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3333ff"/>
                          </a:solidFill>
                          <a:latin typeface="Arial"/>
                          <a:ea typeface="Arial"/>
                        </a:rPr>
                        <a:t>Es resultado de la distribución inequitativa de los ingresos en la sociedad y su solución constituye una respon-sabilidad socia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3333ff"/>
                          </a:solidFill>
                          <a:latin typeface="Arial"/>
                          <a:ea typeface="Arial"/>
                        </a:rPr>
                        <a:t>El Estado debe garan-tizar el derecho igualita-rio al acceso a la vivien-da y asumir un rol prota-gónico en la construcción de las soluciones como en su financiamient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b76"/>
                          </a:solidFill>
                          <a:latin typeface="Arial"/>
                          <a:ea typeface="Arial"/>
                        </a:rPr>
                        <a:t>Es producto de  fallas en la implementación de los modelos de desarrollo económic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b76"/>
                          </a:solidFill>
                          <a:latin typeface="Arial"/>
                          <a:ea typeface="Arial"/>
                        </a:rPr>
                        <a:t>La solución estará en relación con las posibili-dades de alcanzar nive-les de desarrollo econó-mico más altos que per-mitirían la elevación del estándard de vida de toda la població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b76"/>
                          </a:solidFill>
                          <a:latin typeface="Arial"/>
                          <a:ea typeface="Arial"/>
                        </a:rPr>
                        <a:t>La responsabilidad es compartida  tanto del sector público como priva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66cc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1347840" y="1295280"/>
            <a:ext cx="6446880" cy="642600"/>
            <a:chOff x="1347840" y="1295280"/>
            <a:chExt cx="6446880" cy="642600"/>
          </a:xfrm>
        </p:grpSpPr>
        <p:sp>
          <p:nvSpPr>
            <p:cNvPr id="161" name=""/>
            <p:cNvSpPr/>
            <p:nvPr/>
          </p:nvSpPr>
          <p:spPr>
            <a:xfrm>
              <a:off x="1347840" y="129528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600" spc="-1" strike="noStrike">
                  <a:solidFill>
                    <a:srgbClr val="ffff66"/>
                  </a:solidFill>
                  <a:latin typeface="Verdana"/>
                </a:rPr>
                <a:t>I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1400" y="129528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600" spc="-1" strike="noStrike">
                  <a:solidFill>
                    <a:srgbClr val="ffff66"/>
                  </a:solidFill>
                  <a:latin typeface="Verdana"/>
                </a:rPr>
                <a:t>II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34240" y="129528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600" spc="-1" strike="noStrike">
                  <a:solidFill>
                    <a:srgbClr val="ffff66"/>
                  </a:solidFill>
                  <a:latin typeface="Verdana"/>
                </a:rPr>
                <a:t>III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572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ecff"/>
                </a:solidFill>
                <a:latin typeface="Verdana"/>
              </a:rPr>
              <a:t>EL PROBLEMA DE LA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44640" y="365040"/>
            <a:ext cx="72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DISTRIBUCIÓN DE FUNCIONES Y RESPONSABI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2247840"/>
          <a:ext cx="811512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2247840"/>
                    <a:ext cx="8115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2057400" y="5105520"/>
            <a:ext cx="380880" cy="38088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5638680"/>
            <a:ext cx="38088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4880" y="5181480"/>
            <a:ext cx="23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RESPONSABILIDAD ESTA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53360" y="571500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RESPONSABILIDAD PRI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00280" y="533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INVERSIÓN EN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(En Millones de US$ de 200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0" y="1295280"/>
          <a:ext cx="611496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61149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752480" y="4191120"/>
          <a:ext cx="6858000" cy="233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191120"/>
                    <a:ext cx="6858000" cy="23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1965240" y="6583320"/>
            <a:ext cx="329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Fuente:  Cámara Chilena de la Construc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2120" y="2286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INDUSTRIA DEL FINANCIAMIENTO HABIT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447920"/>
            <a:ext cx="1486080" cy="1287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ERC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FINANCIE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5410080"/>
            <a:ext cx="1349280" cy="1295640"/>
          </a:xfrm>
          <a:prstGeom prst="ellipse">
            <a:avLst/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ROL 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77960" y="3589200"/>
            <a:ext cx="1600200" cy="9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ERCAD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SEGU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54640" y="3513240"/>
            <a:ext cx="1847880" cy="10666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ERC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HABIT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800" y="1684440"/>
            <a:ext cx="16002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ERCAD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CAPIT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778280" y="2827080"/>
            <a:ext cx="1526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600200" y="5867280"/>
            <a:ext cx="3527280" cy="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577880" y="4579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77880" y="267444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171840" y="21337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2339640" y="4351320"/>
            <a:ext cx="2917800" cy="1287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514600" y="4038480"/>
            <a:ext cx="1851120" cy="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09680" y="2514240"/>
            <a:ext cx="236232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492280" y="221760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387760" y="4600080"/>
            <a:ext cx="418680" cy="704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22960" y="282744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40000" y="1913040"/>
            <a:ext cx="22096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50160" y="5907240"/>
            <a:ext cx="13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REGULAC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78400" y="4495680"/>
            <a:ext cx="140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REASEGUR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ATASTRÓFIC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35360" y="366552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EGUR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5680" y="297972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EGUR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06760" y="282744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EGUR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960" y="313200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AHOR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01440" y="22496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TÍTULOS VAL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55160" y="3436920"/>
            <a:ext cx="118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ROVIS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DE RECUR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FINANCIER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1840" y="1608120"/>
            <a:ext cx="15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FINANCIAM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05040" y="2827440"/>
            <a:ext cx="15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FINANCIAM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238880" y="2133360"/>
            <a:ext cx="0" cy="3733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18760" y="48006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UBSID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705360" y="58672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47640" y="365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LOSE – UP DEL MERCADO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295280"/>
            <a:ext cx="5639040" cy="5486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50120" y="3733920"/>
            <a:ext cx="164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ORIGIN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DE CRÉDI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ncos Comerci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misores de Mutu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oc. de Lea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44600" y="2209680"/>
            <a:ext cx="190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BANCA 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SEGUNDO PIS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ESTA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ubsidio a Origin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riv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8680" y="1905120"/>
            <a:ext cx="172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SOCIE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SUCURITIZADOR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mpaquetan carter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de Crédi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6400" y="5257800"/>
            <a:ext cx="1666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ADMINISTR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DE AHOR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ncos Comerci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AF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AF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44160" y="5334120"/>
            <a:ext cx="1666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ADMINISTR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DE CRÉDI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Recaud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y Cobranza 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rédi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9091400">
            <a:off x="3124080" y="480024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7468800">
            <a:off x="5181120" y="35049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8607800">
            <a:off x="4899240" y="3320280"/>
            <a:ext cx="780840" cy="228600"/>
          </a:xfrm>
          <a:prstGeom prst="rightArrow">
            <a:avLst>
              <a:gd name="adj1" fmla="val 50000"/>
              <a:gd name="adj2" fmla="val 85394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2963400">
            <a:off x="4038120" y="30477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4032800">
            <a:off x="3429000" y="30477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3207000">
            <a:off x="4838760" y="491472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3882200">
            <a:off x="5181120" y="47998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a Política Habitacional, para ser sustentable en el tiempo debe ser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cialmente equitativa, 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Técnica y económicamente eficient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omento y Valoración del Ahorro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ubsidio a la Demand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cceso al Mercado de Financiamiento Habitacion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ctiva Participación del Sector Privado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09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La Política Habitacional en C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roblema habitacional debe enfocarse desde una perspectiva de desarrollo, como una actividad económica viable, más que desde una visión de bienestar soci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be ser compatible con el sistema socio-económic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be constituir una red amplia e integrada que llegue a todos los sectores socia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be ser de largo plazo y lo suficientemente flexible para permitir cambi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La Política Habitacional en C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80880" y="25905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495360" y="2209680"/>
            <a:ext cx="81532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alorar las propiedades financieras de la viviend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exión del Mercado Habitacional con los Mercados Financiero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tilizar el sistema de precios como un mecanismo eficiente de asignación de recurso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quilibrios financieros en las tasas de interés, tanto para ahorrantes y prestatar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La Política Habitacional en C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1371600"/>
            <a:ext cx="320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" y="1135080"/>
            <a:ext cx="310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ecff"/>
                </a:solidFill>
                <a:latin typeface="Verdana"/>
              </a:rPr>
              <a:t>EL PROBLEMA DE LA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80" y="1371600"/>
            <a:ext cx="8001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BANCO INTERAMERICANO DE DESARRO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ercados ineficientes en la asignación de los recursos y en la produc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as intervenciones del sector publico suelen ser contraproduc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illones de familias no pueden pagar el costo de una vivienda mínimamente adecu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eficiencias del mercado por altos costos de transacción, información deficiente y asimétr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oncentración de las invers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istorsión del mercado de suelo urb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as actividades del gobierno no compensan plenamente las fallas del merc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6824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BID, Guía Operativa para Vivienda (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1371600"/>
            <a:ext cx="320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1800" y="1135080"/>
            <a:ext cx="310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ecff"/>
                </a:solidFill>
                <a:latin typeface="Verdana"/>
              </a:rPr>
              <a:t>EL PROBLEMA DE LA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1680" y="1981080"/>
            <a:ext cx="8001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BANCO INTERAMERICANO DE DESARRO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versos factores explican el problema de la vivien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68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falta de una demanda efectiva como consecuencia de los bajos ingresos de los hogares constituye el impedimento principal para que el sector privado provea viviendas por los canales formales a la mayoría de la pob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BID,  Guía operativa para vivienda (199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71680" y="1371600"/>
            <a:ext cx="8001000" cy="48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mportancia Estratégica de las Ciuda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rticulan la economía global (conectan redes de inform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on centros de poder (concentran las funciones de coman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entran las comunicaciones y los medios de comun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entran el conocimiento (universidades y centros de investig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387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tienen mayor capacidad simbólica y mensajes domin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91600" y="673200"/>
            <a:ext cx="53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Verdana"/>
              </a:rPr>
              <a:t>GLOBALIZACIÓN  Y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1523880"/>
            <a:ext cx="8382240" cy="29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3480" indent="-288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genda Urbana Banco Mundial (19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j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abi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mpeti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Buen Gobierno y Administ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288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fiabilidad Financiera (Banka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91600" y="673200"/>
            <a:ext cx="53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Verdana"/>
              </a:rPr>
              <a:t>GLOBALIZACIÓN  Y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71680" y="1371600"/>
            <a:ext cx="800100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276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El fin de las Políticas de Vivienda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rocesos asociados a la globalización están afectando a las políticas habitacionales en que estas ya no son “políticas de vivienda” sino que son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olíticas soci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olíticas urbana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 asociadas a la mercantilización del acceso a los servicios habitacionales y están asociados a las políticas de “reducción de la pobreza”, con objetivos de garantizar la gobernabilidad urbana y el posicionamiento de la ciudad en la economía urb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761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udad Inclus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761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Gobernabilidad Urb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91600" y="673200"/>
            <a:ext cx="53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Verdana"/>
              </a:rPr>
              <a:t>GLOBALIZACIÓN  Y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1523880"/>
            <a:ext cx="800100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l mercado de la vivienda está amparado y controlado, directa e indirectamente por los poderes públ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5640" indent="-4856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l Estado fija sus reglas de funcionamiento a través de una serie de reglamentaciones específicas que se suman a la jurídica (derecho de propiedad, derecho mercantil, etc.) y a la reglamentación gene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5640" indent="-4856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ay pocos mercados como el de la vivienda que estén no sólo controlados por el Estado sino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verdaderamente construidos por 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5640" indent="-48564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ierre Bourd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5640" indent="-48564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estructuras sociales de la econom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4760" y="673200"/>
            <a:ext cx="53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Verdana"/>
              </a:rPr>
              <a:t>EL MERCADO DE LA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2120" y="1523880"/>
            <a:ext cx="8001000" cy="51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Facilitació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aciones Unidas (19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476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inanciar pequeñas acciones, asistir técnicamente la gestión habitacional, flexiblilzar normas y reglamentos, asegurar la provisión de tierra adecuada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Banco Mundial (199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4762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sestimar toda intervención directa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4762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Estado asume un rol facilitador del funcionamiento del Mercado Habit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4762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Mercado es el mejor asignador de 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4640" y="673200"/>
            <a:ext cx="53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Verdana"/>
              </a:rPr>
              <a:t>EL MERCADO DE LA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20:24:22Z</dcterms:created>
  <dc:creator>utfsm</dc:creator>
  <dc:description/>
  <dc:language>en-US</dc:language>
  <cp:lastModifiedBy>Alejandra</cp:lastModifiedBy>
  <dcterms:modified xsi:type="dcterms:W3CDTF">2005-08-04T20:23:07Z</dcterms:modified>
  <cp:revision>45</cp:revision>
  <dc:subject/>
  <dc:title>MEDICION  DEL  PIB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2567910</vt:r8>
  </property>
  <property fmtid="{D5CDD505-2E9C-101B-9397-08002B2CF9AE}" pid="3" name="_AuthorEmail">
    <vt:lpwstr>alejandro.corvalan@ind.utfsm.cl</vt:lpwstr>
  </property>
  <property fmtid="{D5CDD505-2E9C-101B-9397-08002B2CF9AE}" pid="4" name="_AuthorEmailDisplayName">
    <vt:lpwstr>alejandro corvalan</vt:lpwstr>
  </property>
  <property fmtid="{D5CDD505-2E9C-101B-9397-08002B2CF9AE}" pid="5" name="_EmailSubject">
    <vt:lpwstr>Economía II</vt:lpwstr>
  </property>
</Properties>
</file>